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굴림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相关概念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综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方法与过程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主要结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若是系统开发者，则需要提前做好安装好演示准备，在答辩时对主要模块作一演示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－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问题讨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致谢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答辩每个人最多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分钟，最好限制在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d16f"/>
                </a:solidFill>
                <a:latin typeface="Verdana"/>
              </a:rPr>
              <a:t>接下来是大家可以参考的答辩模板。</a:t>
            </a:r>
            <a:r>
              <a:rPr b="1" lang="en-US" sz="1800" spc="-1" strike="noStrike">
                <a:solidFill>
                  <a:srgbClr val="bad16f"/>
                </a:solidFill>
                <a:latin typeface="Verdana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答辩人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XXX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专业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教育技术学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指导老师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王佑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qiboren</cp:lastModifiedBy>
  <dcterms:modified xsi:type="dcterms:W3CDTF">2010-06-11T01:17:35Z</dcterms:modified>
  <cp:revision>80</cp:revision>
  <dc:subject/>
  <dc:title>PowerPoint Template</dc:title>
</cp:coreProperties>
</file>