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3147-9CB3-4607-9F76-01F682031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9CB1-49EA-4A3D-B5E1-653B0734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6244-114F-4517-A89A-9EF77D591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618E-DF9F-46CE-8939-92B3378CA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7F67-AAD6-4C6B-B84B-1C4A003A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D06A-04EF-4334-995D-0F052ED3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520A-2373-4D51-B237-0BB90D1E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8559-745E-4A83-A496-C35801D2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1123-344E-45D9-8989-1BC794B1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A45F-96C0-49CF-BB4D-4BD11C43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AECB-2F21-4879-88D5-63AF7D04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4A32-3290-4CAA-8302-6BEC49C1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Adobe 黑体 Std R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EE2D-4D05-42C9-9B51-E0ADC265573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Adobe 黑体 Std R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Adobe 黑体 Std 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0B4C-02E3-43BE-A61A-6D62C344812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Adobe 黑体 Std 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"/>
          <p:cNvGrpSpPr/>
          <p:nvPr/>
        </p:nvGrpSpPr>
        <p:grpSpPr>
          <a:xfrm>
            <a:off x="7397640" y="-1300320"/>
            <a:ext cx="6207120" cy="8077320"/>
            <a:chOff x="7397640" y="-1300320"/>
            <a:chExt cx="6207120" cy="8077320"/>
          </a:xfrm>
        </p:grpSpPr>
        <p:sp>
          <p:nvSpPr>
            <p:cNvPr id="42" name="流程图: 数据 13"/>
            <p:cNvSpPr/>
            <p:nvPr/>
          </p:nvSpPr>
          <p:spPr>
            <a:xfrm>
              <a:off x="7397640" y="3903120"/>
              <a:ext cx="3010680" cy="1199880"/>
            </a:xfrm>
            <a:prstGeom prst="flowChartInputOutput">
              <a:avLst/>
            </a:prstGeom>
            <a:solidFill>
              <a:srgbClr val="ddeaf6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5"/>
            <p:cNvSpPr/>
            <p:nvPr/>
          </p:nvSpPr>
          <p:spPr>
            <a:xfrm>
              <a:off x="11266200" y="739440"/>
              <a:ext cx="1730160" cy="4590360"/>
            </a:xfrm>
            <a:prstGeom prst="pie">
              <a:avLst/>
            </a:prstGeom>
            <a:solidFill>
              <a:srgbClr val="ddeaf6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>
              <a:off x="8295840" y="5190480"/>
              <a:ext cx="4799160" cy="621720"/>
            </a:xfrm>
            <a:prstGeom prst="pie">
              <a:avLst/>
            </a:prstGeom>
            <a:solidFill>
              <a:srgbClr val="ddeaf6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7"/>
            <p:cNvSpPr/>
            <p:nvPr/>
          </p:nvSpPr>
          <p:spPr>
            <a:xfrm>
              <a:off x="7787880" y="6056640"/>
              <a:ext cx="5816880" cy="720360"/>
            </a:xfrm>
            <a:prstGeom prst="pie">
              <a:avLst/>
            </a:prstGeom>
            <a:solidFill>
              <a:srgbClr val="ddeaf6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8"/>
            <p:cNvSpPr/>
            <p:nvPr/>
          </p:nvSpPr>
          <p:spPr>
            <a:xfrm>
              <a:off x="8499240" y="4028760"/>
              <a:ext cx="3110040" cy="274320"/>
            </a:xfrm>
            <a:prstGeom prst="pie">
              <a:avLst/>
            </a:prstGeom>
            <a:solidFill>
              <a:srgbClr val="ddeaf6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9"/>
            <p:cNvSpPr/>
            <p:nvPr/>
          </p:nvSpPr>
          <p:spPr>
            <a:xfrm>
              <a:off x="8841960" y="4427280"/>
              <a:ext cx="2430360" cy="232920"/>
            </a:xfrm>
            <a:prstGeom prst="pie">
              <a:avLst/>
            </a:prstGeom>
            <a:solidFill>
              <a:srgbClr val="ddeaf6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0"/>
            <p:cNvSpPr/>
            <p:nvPr/>
          </p:nvSpPr>
          <p:spPr>
            <a:xfrm>
              <a:off x="9272160" y="-936000"/>
              <a:ext cx="2919600" cy="3574800"/>
            </a:xfrm>
            <a:prstGeom prst="pie">
              <a:avLst/>
            </a:prstGeom>
            <a:solidFill>
              <a:srgbClr val="ddeaf6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2"/>
            <p:cNvSpPr/>
            <p:nvPr/>
          </p:nvSpPr>
          <p:spPr>
            <a:xfrm>
              <a:off x="8810280" y="2202480"/>
              <a:ext cx="1241280" cy="1031400"/>
            </a:xfrm>
            <a:prstGeom prst="pie">
              <a:avLst/>
            </a:prstGeom>
            <a:solidFill>
              <a:srgbClr val="ddeaf6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11542680" y="-1300320"/>
              <a:ext cx="857160" cy="752040"/>
            </a:xfrm>
            <a:prstGeom prst="pie">
              <a:avLst/>
            </a:prstGeom>
            <a:solidFill>
              <a:srgbClr val="dde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矩形 11"/>
          <p:cNvSpPr/>
          <p:nvPr/>
        </p:nvSpPr>
        <p:spPr>
          <a:xfrm>
            <a:off x="0" y="1289160"/>
            <a:ext cx="9793440" cy="327636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"/>
          <p:cNvSpPr/>
          <p:nvPr/>
        </p:nvSpPr>
        <p:spPr>
          <a:xfrm>
            <a:off x="60480" y="1359000"/>
            <a:ext cx="11428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afafa"/>
                </a:solidFill>
                <a:latin typeface="Arial"/>
                <a:ea typeface="Adobe 黑体 Std R"/>
              </a:rPr>
              <a:t>大气简约毕业论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afafa"/>
                </a:solidFill>
                <a:latin typeface="Arial"/>
                <a:ea typeface="Adobe 黑体 Std R"/>
              </a:rPr>
              <a:t>答辩模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2"/>
          <p:cNvSpPr/>
          <p:nvPr/>
        </p:nvSpPr>
        <p:spPr>
          <a:xfrm>
            <a:off x="119160" y="3778200"/>
            <a:ext cx="973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afa"/>
                </a:solidFill>
                <a:latin typeface="Arial Unicode MS"/>
                <a:ea typeface="Arial Unicode MS"/>
              </a:rPr>
              <a:t>The graduation thesis plea of XXX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6"/>
          <p:cNvSpPr/>
          <p:nvPr/>
        </p:nvSpPr>
        <p:spPr>
          <a:xfrm>
            <a:off x="7051680" y="46418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e4e79"/>
                </a:solidFill>
                <a:latin typeface="Adobe 黑体 Std R"/>
                <a:ea typeface="Adobe 黑体 Std R"/>
              </a:rPr>
              <a:t>指导老师：律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7"/>
          <p:cNvSpPr/>
          <p:nvPr/>
        </p:nvSpPr>
        <p:spPr>
          <a:xfrm>
            <a:off x="3175560" y="4641840"/>
            <a:ext cx="25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e4e79"/>
                </a:solidFill>
                <a:latin typeface="Adobe 黑体 Std R"/>
                <a:ea typeface="Adobe 黑体 Std R"/>
              </a:rPr>
              <a:t>答辩人：</a:t>
            </a:r>
            <a:r>
              <a:rPr b="0" lang="en-US" sz="2800" spc="-1" strike="noStrike">
                <a:solidFill>
                  <a:srgbClr val="1e4e79"/>
                </a:solidFill>
                <a:latin typeface="Adobe 黑体 Std R"/>
                <a:ea typeface="Adobe 黑体 Std R"/>
              </a:rPr>
              <a:t>Do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平行四边形 10"/>
          <p:cNvSpPr/>
          <p:nvPr/>
        </p:nvSpPr>
        <p:spPr>
          <a:xfrm rot="5400000">
            <a:off x="8618400" y="5472000"/>
            <a:ext cx="1216080" cy="914400"/>
          </a:xfrm>
          <a:prstGeom prst="parallelogram">
            <a:avLst>
              <a:gd name="adj" fmla="val 24998"/>
            </a:avLst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"/>
          <p:cNvSpPr/>
          <p:nvPr/>
        </p:nvSpPr>
        <p:spPr>
          <a:xfrm>
            <a:off x="0" y="-6480"/>
            <a:ext cx="12192120" cy="59688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5"/>
          <p:cNvSpPr/>
          <p:nvPr/>
        </p:nvSpPr>
        <p:spPr>
          <a:xfrm>
            <a:off x="1339920" y="-284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主要结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49360" y="1000080"/>
            <a:ext cx="8128080" cy="5419800"/>
            <a:chOff x="549360" y="1000080"/>
            <a:chExt cx="8128080" cy="5419800"/>
          </a:xfrm>
        </p:grpSpPr>
        <p:sp>
          <p:nvSpPr>
            <p:cNvPr id="197" name=""/>
            <p:cNvSpPr/>
            <p:nvPr/>
          </p:nvSpPr>
          <p:spPr>
            <a:xfrm>
              <a:off x="549360" y="1000080"/>
              <a:ext cx="8128080" cy="1624680"/>
            </a:xfrm>
            <a:prstGeom prst="rightArrow">
              <a:avLst>
                <a:gd name="adj1" fmla="val 50000"/>
                <a:gd name="adj2" fmla="val 36410"/>
              </a:avLst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9360" y="1406160"/>
              <a:ext cx="783216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254160" tIns="79920" bIns="187920" anchor="ctr">
              <a:noAutofit/>
            </a:bodyPr>
            <a:p>
              <a:pPr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在这里输入文字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9360" y="2252880"/>
              <a:ext cx="2503440" cy="312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9360" y="2252880"/>
              <a:ext cx="2503440" cy="31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t">
              <a:noAutofit/>
            </a:bodyPr>
            <a:p>
              <a:pPr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3a3838"/>
                  </a:solidFill>
                  <a:latin typeface="Arial Unicode MS"/>
                  <a:ea typeface="Arial Unicode MS"/>
                </a:rPr>
                <a:t>This is a sample text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3a3838"/>
                  </a:solidFill>
                  <a:latin typeface="Arial Unicode MS"/>
                  <a:ea typeface="Arial Unicode MS"/>
                </a:rPr>
                <a:t>Insert your desired text here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52800" y="1541520"/>
              <a:ext cx="5624640" cy="1624680"/>
            </a:xfrm>
            <a:prstGeom prst="rightArrow">
              <a:avLst>
                <a:gd name="adj1" fmla="val 50000"/>
                <a:gd name="adj2" fmla="val 36415"/>
              </a:avLst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52800" y="1947600"/>
              <a:ext cx="532872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254160" tIns="79920" bIns="187920" anchor="ctr">
              <a:noAutofit/>
            </a:bodyPr>
            <a:p>
              <a:pPr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在这里输入文字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52800" y="2794320"/>
              <a:ext cx="2503440" cy="312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52800" y="2794320"/>
              <a:ext cx="2503440" cy="31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t">
              <a:noAutofit/>
            </a:bodyPr>
            <a:p>
              <a:pPr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3a3838"/>
                  </a:solidFill>
                  <a:latin typeface="Arial Unicode MS"/>
                  <a:ea typeface="Arial Unicode MS"/>
                </a:rPr>
                <a:t>This is a sample text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3a3838"/>
                  </a:solidFill>
                  <a:latin typeface="Arial Unicode MS"/>
                  <a:ea typeface="Arial Unicode MS"/>
                </a:rPr>
                <a:t>Insert your desired text here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56240" y="2082960"/>
              <a:ext cx="3121200" cy="1624680"/>
            </a:xfrm>
            <a:prstGeom prst="rightArrow">
              <a:avLst>
                <a:gd name="adj1" fmla="val 50000"/>
                <a:gd name="adj2" fmla="val 36430"/>
              </a:avLst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56240" y="2489400"/>
              <a:ext cx="282528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254160" tIns="79920" bIns="187920" anchor="ctr">
              <a:noAutofit/>
            </a:bodyPr>
            <a:p>
              <a:pPr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在这里输入文字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56240" y="3336120"/>
              <a:ext cx="2503440" cy="308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56240" y="3336120"/>
              <a:ext cx="2503440" cy="308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t">
              <a:noAutofit/>
            </a:bodyPr>
            <a:p>
              <a:pPr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1e4e79"/>
                  </a:solidFill>
                  <a:latin typeface="Arial Unicode MS"/>
                  <a:ea typeface="Arial Unicode MS"/>
                </a:rPr>
                <a:t>This is a sample text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1e4e79"/>
                  </a:solidFill>
                  <a:latin typeface="Arial Unicode MS"/>
                  <a:ea typeface="Arial Unicode MS"/>
                </a:rPr>
                <a:t>Insert your desired text here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矩形 7"/>
          <p:cNvSpPr/>
          <p:nvPr/>
        </p:nvSpPr>
        <p:spPr>
          <a:xfrm>
            <a:off x="8769240" y="1228680"/>
            <a:ext cx="3048120" cy="503244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8"/>
          <p:cNvSpPr/>
          <p:nvPr/>
        </p:nvSpPr>
        <p:spPr>
          <a:xfrm>
            <a:off x="9347040" y="2381400"/>
            <a:ext cx="2597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你的结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组合 11"/>
          <p:cNvGrpSpPr/>
          <p:nvPr/>
        </p:nvGrpSpPr>
        <p:grpSpPr>
          <a:xfrm>
            <a:off x="549360" y="-6480"/>
            <a:ext cx="1266480" cy="1236960"/>
            <a:chOff x="549360" y="-6480"/>
            <a:chExt cx="1266480" cy="1236960"/>
          </a:xfrm>
        </p:grpSpPr>
        <p:sp>
          <p:nvSpPr>
            <p:cNvPr id="212" name="流程图: 数据 12"/>
            <p:cNvSpPr/>
            <p:nvPr/>
          </p:nvSpPr>
          <p:spPr>
            <a:xfrm rot="10800000">
              <a:off x="862200" y="592920"/>
              <a:ext cx="953640" cy="637200"/>
            </a:xfrm>
            <a:prstGeom prst="flowChartInputOutpu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矩形 13"/>
            <p:cNvSpPr/>
            <p:nvPr/>
          </p:nvSpPr>
          <p:spPr>
            <a:xfrm rot="16200000">
              <a:off x="473040" y="69840"/>
              <a:ext cx="1236960" cy="108432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矩形 1"/>
          <p:cNvSpPr/>
          <p:nvPr/>
        </p:nvSpPr>
        <p:spPr>
          <a:xfrm>
            <a:off x="0" y="-6480"/>
            <a:ext cx="12192120" cy="59688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5"/>
          <p:cNvSpPr/>
          <p:nvPr/>
        </p:nvSpPr>
        <p:spPr>
          <a:xfrm>
            <a:off x="1339920" y="-284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分析与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213000" y="1555920"/>
            <a:ext cx="5693040" cy="4120920"/>
            <a:chOff x="3213000" y="1555920"/>
            <a:chExt cx="5693040" cy="4120920"/>
          </a:xfrm>
        </p:grpSpPr>
        <p:sp>
          <p:nvSpPr>
            <p:cNvPr id="217" name=""/>
            <p:cNvSpPr/>
            <p:nvPr/>
          </p:nvSpPr>
          <p:spPr>
            <a:xfrm>
              <a:off x="3492000" y="1555920"/>
              <a:ext cx="5414040" cy="3981600"/>
            </a:xfrm>
            <a:prstGeom prst="pie">
              <a:avLst/>
            </a:prstGeom>
            <a:solidFill>
              <a:srgbClr val="2e75b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35720" y="2290320"/>
              <a:ext cx="1836720" cy="13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19120" y="1653120"/>
              <a:ext cx="5401800" cy="4023720"/>
            </a:xfrm>
            <a:prstGeom prst="pie">
              <a:avLst/>
            </a:prstGeom>
            <a:solidFill>
              <a:srgbClr val="1e4e7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98000" y="4192200"/>
              <a:ext cx="2443680" cy="12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13000" y="1674360"/>
              <a:ext cx="5414040" cy="3981600"/>
            </a:xfrm>
            <a:prstGeom prst="pie">
              <a:avLst/>
            </a:prstGeom>
            <a:solidFill>
              <a:srgbClr val="9cc2e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92960" y="2456280"/>
              <a:ext cx="1836720" cy="13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3" name="肘形连接符 8"/>
          <p:cNvCxnSpPr/>
          <p:nvPr/>
        </p:nvCxnSpPr>
        <p:spPr>
          <a:xfrm flipV="1">
            <a:off x="7338600" y="1640880"/>
            <a:ext cx="1360800" cy="773640"/>
          </a:xfrm>
          <a:prstGeom prst="bentConnector3">
            <a:avLst>
              <a:gd name="adj1" fmla="val 49986"/>
            </a:avLst>
          </a:prstGeom>
          <a:ln w="6480">
            <a:solidFill>
              <a:srgbClr val="1e4e79"/>
            </a:solidFill>
            <a:miter/>
          </a:ln>
        </p:spPr>
      </p:cxnSp>
      <p:cxnSp>
        <p:nvCxnSpPr>
          <p:cNvPr id="224" name="肘形连接符 10"/>
          <p:cNvCxnSpPr/>
          <p:nvPr/>
        </p:nvCxnSpPr>
        <p:spPr>
          <a:xfrm>
            <a:off x="6059160" y="5416200"/>
            <a:ext cx="2158200" cy="469080"/>
          </a:xfrm>
          <a:prstGeom prst="bentConnector3">
            <a:avLst>
              <a:gd name="adj1" fmla="val 50000"/>
            </a:avLst>
          </a:prstGeom>
          <a:ln w="6480">
            <a:solidFill>
              <a:srgbClr val="1e4e79"/>
            </a:solidFill>
            <a:miter/>
          </a:ln>
        </p:spPr>
      </p:cxnSp>
      <p:cxnSp>
        <p:nvCxnSpPr>
          <p:cNvPr id="225" name="肘形连接符 12"/>
          <p:cNvCxnSpPr/>
          <p:nvPr/>
        </p:nvCxnSpPr>
        <p:spPr>
          <a:xfrm rot="10800000">
            <a:off x="2579040" y="2766240"/>
            <a:ext cx="1878840" cy="699120"/>
          </a:xfrm>
          <a:prstGeom prst="bentConnector3">
            <a:avLst>
              <a:gd name="adj1" fmla="val 98658"/>
            </a:avLst>
          </a:prstGeom>
          <a:ln w="6480">
            <a:solidFill>
              <a:srgbClr val="1e4e79"/>
            </a:solidFill>
            <a:miter/>
          </a:ln>
        </p:spPr>
      </p:cxnSp>
      <p:sp>
        <p:nvSpPr>
          <p:cNvPr id="226" name="文本框 13"/>
          <p:cNvSpPr/>
          <p:nvPr/>
        </p:nvSpPr>
        <p:spPr>
          <a:xfrm>
            <a:off x="8697960" y="1379520"/>
            <a:ext cx="65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Arial"/>
                <a:ea typeface="Adobe 黑体 Std R"/>
              </a:rPr>
              <a:t>在这里输入你的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14"/>
          <p:cNvSpPr/>
          <p:nvPr/>
        </p:nvSpPr>
        <p:spPr>
          <a:xfrm>
            <a:off x="8217000" y="5649840"/>
            <a:ext cx="653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Arial"/>
                <a:ea typeface="Adobe 黑体 Std R"/>
              </a:rPr>
              <a:t>在这里输入你的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15"/>
          <p:cNvSpPr/>
          <p:nvPr/>
        </p:nvSpPr>
        <p:spPr>
          <a:xfrm>
            <a:off x="252360" y="1954080"/>
            <a:ext cx="65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Arial"/>
                <a:ea typeface="Adobe 黑体 Std R"/>
              </a:rPr>
              <a:t>在这里输入你的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17"/>
          <p:cNvSpPr/>
          <p:nvPr/>
        </p:nvSpPr>
        <p:spPr>
          <a:xfrm>
            <a:off x="252360" y="4765680"/>
            <a:ext cx="780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4e79"/>
                </a:solidFill>
                <a:latin typeface="Arial Unicode MS"/>
                <a:ea typeface="Arial Unicode MS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8"/>
          <p:cNvSpPr/>
          <p:nvPr/>
        </p:nvSpPr>
        <p:spPr>
          <a:xfrm>
            <a:off x="279360" y="534348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e79"/>
                </a:solidFill>
                <a:latin typeface="Arial Unicode MS"/>
                <a:ea typeface="Arial Unicode MS"/>
              </a:rPr>
              <a:t>This is a sample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e79"/>
                </a:solidFill>
                <a:latin typeface="Arial Unicode MS"/>
                <a:ea typeface="Arial Unicode MS"/>
              </a:rPr>
              <a:t>Insert your desired text 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组合 16"/>
          <p:cNvGrpSpPr/>
          <p:nvPr/>
        </p:nvGrpSpPr>
        <p:grpSpPr>
          <a:xfrm>
            <a:off x="549360" y="-6480"/>
            <a:ext cx="1266480" cy="1236960"/>
            <a:chOff x="549360" y="-6480"/>
            <a:chExt cx="1266480" cy="1236960"/>
          </a:xfrm>
        </p:grpSpPr>
        <p:sp>
          <p:nvSpPr>
            <p:cNvPr id="232" name="流程图: 数据 19"/>
            <p:cNvSpPr/>
            <p:nvPr/>
          </p:nvSpPr>
          <p:spPr>
            <a:xfrm rot="10800000">
              <a:off x="862200" y="592920"/>
              <a:ext cx="953640" cy="637200"/>
            </a:xfrm>
            <a:prstGeom prst="flowChartInputOutpu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矩形 20"/>
            <p:cNvSpPr/>
            <p:nvPr/>
          </p:nvSpPr>
          <p:spPr>
            <a:xfrm rot="16200000">
              <a:off x="473040" y="69840"/>
              <a:ext cx="1236960" cy="108432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5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矩形 1"/>
          <p:cNvSpPr/>
          <p:nvPr/>
        </p:nvSpPr>
        <p:spPr>
          <a:xfrm>
            <a:off x="0" y="-6480"/>
            <a:ext cx="12192120" cy="59688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5"/>
          <p:cNvSpPr/>
          <p:nvPr/>
        </p:nvSpPr>
        <p:spPr>
          <a:xfrm>
            <a:off x="1339920" y="-284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分析与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895040" y="1633680"/>
            <a:ext cx="8401320" cy="5418000"/>
            <a:chOff x="1895040" y="1633680"/>
            <a:chExt cx="8401320" cy="5418000"/>
          </a:xfrm>
        </p:grpSpPr>
        <p:sp>
          <p:nvSpPr>
            <p:cNvPr id="237" name=""/>
            <p:cNvSpPr/>
            <p:nvPr/>
          </p:nvSpPr>
          <p:spPr>
            <a:xfrm rot="5400000">
              <a:off x="1916280" y="4209840"/>
              <a:ext cx="1902960" cy="1945800"/>
            </a:xfrm>
            <a:custGeom>
              <a:avLst/>
              <a:gdLst>
                <a:gd name="textAreaLeft" fmla="*/ 0 w 1902960"/>
                <a:gd name="textAreaRight" fmla="*/ 1903320 w 1902960"/>
                <a:gd name="textAreaTop" fmla="*/ 0 h 1945800"/>
                <a:gd name="textAreaBottom" fmla="*/ 1946160 h 1945800"/>
              </a:gdLst>
              <a:ahLst/>
              <a:rect l="textAreaLeft" t="textAreaTop" r="textAreaRight" b="textAreaBottom"/>
              <a:pathLst>
                <a:path w="1168193" h="1943848">
                  <a:moveTo>
                    <a:pt x="0" y="0"/>
                  </a:moveTo>
                  <a:lnTo>
                    <a:pt x="188195" y="0"/>
                  </a:lnTo>
                  <a:lnTo>
                    <a:pt x="188195" y="1755535"/>
                  </a:lnTo>
                  <a:lnTo>
                    <a:pt x="1168193" y="1755535"/>
                  </a:lnTo>
                  <a:lnTo>
                    <a:pt x="1168193" y="1943848"/>
                  </a:lnTo>
                  <a:lnTo>
                    <a:pt x="0" y="1943848"/>
                  </a:lnTo>
                  <a:close/>
                </a:path>
              </a:pathLst>
            </a:cu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88360" y="4546080"/>
              <a:ext cx="1756440" cy="25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88360" y="4546080"/>
              <a:ext cx="1756440" cy="25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e4e79"/>
                  </a:solidFill>
                  <a:latin typeface="宋体"/>
                  <a:ea typeface="宋体"/>
                </a:rPr>
                <a:t>在这里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13600" y="3366720"/>
              <a:ext cx="331200" cy="539280"/>
            </a:xfrm>
            <a:prstGeom prst="triangle">
              <a:avLst>
                <a:gd name="adj" fmla="val 100000"/>
              </a:avLst>
            </a:prstGeom>
            <a:solidFill>
              <a:srgbClr val="9cc2e5"/>
            </a:solidFill>
            <a:ln w="12600">
              <a:solidFill>
                <a:srgbClr val="70ad47">
                  <a:alpha val="8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5400000">
              <a:off x="4066560" y="3344040"/>
              <a:ext cx="1902960" cy="1945800"/>
            </a:xfrm>
            <a:custGeom>
              <a:avLst/>
              <a:gdLst>
                <a:gd name="textAreaLeft" fmla="*/ 0 w 1902960"/>
                <a:gd name="textAreaRight" fmla="*/ 1903320 w 1902960"/>
                <a:gd name="textAreaTop" fmla="*/ 0 h 1945800"/>
                <a:gd name="textAreaBottom" fmla="*/ 1946160 h 1945800"/>
              </a:gdLst>
              <a:ahLst/>
              <a:rect l="textAreaLeft" t="textAreaTop" r="textAreaRight" b="textAreaBottom"/>
              <a:pathLst>
                <a:path w="1168193" h="1943848">
                  <a:moveTo>
                    <a:pt x="0" y="0"/>
                  </a:moveTo>
                  <a:lnTo>
                    <a:pt x="188195" y="0"/>
                  </a:lnTo>
                  <a:lnTo>
                    <a:pt x="188195" y="1755535"/>
                  </a:lnTo>
                  <a:lnTo>
                    <a:pt x="1168193" y="1755535"/>
                  </a:lnTo>
                  <a:lnTo>
                    <a:pt x="1168193" y="1943848"/>
                  </a:lnTo>
                  <a:lnTo>
                    <a:pt x="0" y="1943848"/>
                  </a:lnTo>
                  <a:close/>
                </a:path>
              </a:pathLst>
            </a:cu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38640" y="3679920"/>
              <a:ext cx="1756440" cy="25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38640" y="3679920"/>
              <a:ext cx="1756440" cy="25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e4e79"/>
                  </a:solidFill>
                  <a:latin typeface="宋体"/>
                  <a:ea typeface="宋体"/>
                </a:rPr>
                <a:t>在这里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63880" y="2500560"/>
              <a:ext cx="331200" cy="539280"/>
            </a:xfrm>
            <a:prstGeom prst="triangle">
              <a:avLst>
                <a:gd name="adj" fmla="val 100000"/>
              </a:avLst>
            </a:prstGeom>
            <a:solidFill>
              <a:srgbClr val="9cc2e5"/>
            </a:solidFill>
            <a:ln w="12600">
              <a:solidFill>
                <a:srgbClr val="70ad47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5400000">
              <a:off x="6217200" y="2477880"/>
              <a:ext cx="1902960" cy="1945800"/>
            </a:xfrm>
            <a:custGeom>
              <a:avLst/>
              <a:gdLst>
                <a:gd name="textAreaLeft" fmla="*/ 0 w 1902960"/>
                <a:gd name="textAreaRight" fmla="*/ 1903320 w 1902960"/>
                <a:gd name="textAreaTop" fmla="*/ 0 h 1945800"/>
                <a:gd name="textAreaBottom" fmla="*/ 1946160 h 1945800"/>
              </a:gdLst>
              <a:ahLst/>
              <a:rect l="textAreaLeft" t="textAreaTop" r="textAreaRight" b="textAreaBottom"/>
              <a:pathLst>
                <a:path w="1168193" h="1943848">
                  <a:moveTo>
                    <a:pt x="0" y="0"/>
                  </a:moveTo>
                  <a:lnTo>
                    <a:pt x="188195" y="0"/>
                  </a:lnTo>
                  <a:lnTo>
                    <a:pt x="188195" y="1755535"/>
                  </a:lnTo>
                  <a:lnTo>
                    <a:pt x="1168193" y="1755535"/>
                  </a:lnTo>
                  <a:lnTo>
                    <a:pt x="1168193" y="1943848"/>
                  </a:lnTo>
                  <a:lnTo>
                    <a:pt x="0" y="1943848"/>
                  </a:lnTo>
                  <a:close/>
                </a:path>
              </a:pathLst>
            </a:cu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89280" y="2813760"/>
              <a:ext cx="1756440" cy="25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89280" y="2813760"/>
              <a:ext cx="1756440" cy="25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e4e79"/>
                  </a:solidFill>
                  <a:latin typeface="宋体"/>
                  <a:ea typeface="宋体"/>
                </a:rPr>
                <a:t>在这里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14520" y="1634760"/>
              <a:ext cx="331200" cy="539280"/>
            </a:xfrm>
            <a:prstGeom prst="triangle">
              <a:avLst>
                <a:gd name="adj" fmla="val 100000"/>
              </a:avLst>
            </a:prstGeom>
            <a:solidFill>
              <a:srgbClr val="9cc2e5"/>
            </a:solidFill>
            <a:ln w="12600">
              <a:solidFill>
                <a:srgbClr val="70ad47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5400000">
              <a:off x="8367840" y="1612080"/>
              <a:ext cx="1902960" cy="1945800"/>
            </a:xfrm>
            <a:custGeom>
              <a:avLst/>
              <a:gdLst>
                <a:gd name="textAreaLeft" fmla="*/ 0 w 1902960"/>
                <a:gd name="textAreaRight" fmla="*/ 1903320 w 1902960"/>
                <a:gd name="textAreaTop" fmla="*/ 0 h 1945800"/>
                <a:gd name="textAreaBottom" fmla="*/ 1946160 h 1945800"/>
              </a:gdLst>
              <a:ahLst/>
              <a:rect l="textAreaLeft" t="textAreaTop" r="textAreaRight" b="textAreaBottom"/>
              <a:pathLst>
                <a:path w="1168193" h="1943848">
                  <a:moveTo>
                    <a:pt x="0" y="0"/>
                  </a:moveTo>
                  <a:lnTo>
                    <a:pt x="188195" y="0"/>
                  </a:lnTo>
                  <a:lnTo>
                    <a:pt x="188195" y="1755535"/>
                  </a:lnTo>
                  <a:lnTo>
                    <a:pt x="1168193" y="1755535"/>
                  </a:lnTo>
                  <a:lnTo>
                    <a:pt x="1168193" y="1943848"/>
                  </a:lnTo>
                  <a:lnTo>
                    <a:pt x="0" y="1943848"/>
                  </a:lnTo>
                  <a:close/>
                </a:path>
              </a:pathLst>
            </a:cu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539920" y="1947960"/>
              <a:ext cx="1756440" cy="25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539920" y="1947960"/>
              <a:ext cx="1756440" cy="25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e4e79"/>
                  </a:solidFill>
                  <a:latin typeface="宋体"/>
                  <a:ea typeface="宋体"/>
                </a:rPr>
                <a:t>在这里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文本框 11"/>
          <p:cNvSpPr/>
          <p:nvPr/>
        </p:nvSpPr>
        <p:spPr>
          <a:xfrm>
            <a:off x="6048360" y="5656320"/>
            <a:ext cx="780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e4e79"/>
                </a:solidFill>
                <a:latin typeface="Arial Unicode MS"/>
                <a:ea typeface="Arial Unicode MS"/>
              </a:rPr>
              <a:t>Click to edit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12"/>
          <p:cNvSpPr/>
          <p:nvPr/>
        </p:nvSpPr>
        <p:spPr>
          <a:xfrm>
            <a:off x="1816200" y="5629320"/>
            <a:ext cx="65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e4e79"/>
                </a:solidFill>
                <a:latin typeface="Arial"/>
                <a:ea typeface="Adobe 黑体 Std R"/>
              </a:rPr>
              <a:t>在这里输入你的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组合 16"/>
          <p:cNvGrpSpPr/>
          <p:nvPr/>
        </p:nvGrpSpPr>
        <p:grpSpPr>
          <a:xfrm>
            <a:off x="549360" y="-6480"/>
            <a:ext cx="1266480" cy="1236960"/>
            <a:chOff x="549360" y="-6480"/>
            <a:chExt cx="1266480" cy="1236960"/>
          </a:xfrm>
        </p:grpSpPr>
        <p:sp>
          <p:nvSpPr>
            <p:cNvPr id="255" name="流程图: 数据 17"/>
            <p:cNvSpPr/>
            <p:nvPr/>
          </p:nvSpPr>
          <p:spPr>
            <a:xfrm rot="10800000">
              <a:off x="862200" y="592920"/>
              <a:ext cx="953640" cy="637200"/>
            </a:xfrm>
            <a:prstGeom prst="flowChartInputOutpu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18"/>
            <p:cNvSpPr/>
            <p:nvPr/>
          </p:nvSpPr>
          <p:spPr>
            <a:xfrm rot="16200000">
              <a:off x="473040" y="69840"/>
              <a:ext cx="1236960" cy="108432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5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组合 27"/>
          <p:cNvGrpSpPr/>
          <p:nvPr/>
        </p:nvGrpSpPr>
        <p:grpSpPr>
          <a:xfrm>
            <a:off x="8943840" y="909720"/>
            <a:ext cx="966960" cy="1533600"/>
            <a:chOff x="8943840" y="909720"/>
            <a:chExt cx="966960" cy="1533600"/>
          </a:xfrm>
        </p:grpSpPr>
        <p:sp>
          <p:nvSpPr>
            <p:cNvPr id="258" name="Freeform 5"/>
            <p:cNvSpPr/>
            <p:nvPr/>
          </p:nvSpPr>
          <p:spPr>
            <a:xfrm>
              <a:off x="8943840" y="1003320"/>
              <a:ext cx="966960" cy="1440000"/>
            </a:xfrm>
            <a:prstGeom prst="pie">
              <a:avLst/>
            </a:prstGeom>
            <a:solidFill>
              <a:srgbClr val="bb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6"/>
            <p:cNvSpPr/>
            <p:nvPr/>
          </p:nvSpPr>
          <p:spPr>
            <a:xfrm>
              <a:off x="9200880" y="909720"/>
              <a:ext cx="455760" cy="133200"/>
            </a:xfrm>
            <a:prstGeom prst="pie">
              <a:avLst/>
            </a:prstGeom>
            <a:solidFill>
              <a:srgbClr val="bb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7"/>
            <p:cNvSpPr/>
            <p:nvPr/>
          </p:nvSpPr>
          <p:spPr>
            <a:xfrm>
              <a:off x="9073800" y="1557360"/>
              <a:ext cx="709920" cy="771480"/>
            </a:xfrm>
            <a:prstGeom prst="pie">
              <a:avLst/>
            </a:prstGeom>
            <a:solidFill>
              <a:srgbClr val="bb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合 29"/>
          <p:cNvGrpSpPr/>
          <p:nvPr/>
        </p:nvGrpSpPr>
        <p:grpSpPr>
          <a:xfrm>
            <a:off x="6681960" y="1557360"/>
            <a:ext cx="966600" cy="1533600"/>
            <a:chOff x="6681960" y="1557360"/>
            <a:chExt cx="966600" cy="1533600"/>
          </a:xfrm>
        </p:grpSpPr>
        <p:sp>
          <p:nvSpPr>
            <p:cNvPr id="262" name="Freeform 5"/>
            <p:cNvSpPr/>
            <p:nvPr/>
          </p:nvSpPr>
          <p:spPr>
            <a:xfrm>
              <a:off x="6681960" y="1650960"/>
              <a:ext cx="966600" cy="1440000"/>
            </a:xfrm>
            <a:prstGeom prst="pie">
              <a:avLst/>
            </a:prstGeom>
            <a:solidFill>
              <a:srgbClr val="bb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6"/>
            <p:cNvSpPr/>
            <p:nvPr/>
          </p:nvSpPr>
          <p:spPr>
            <a:xfrm>
              <a:off x="6939000" y="1557360"/>
              <a:ext cx="455400" cy="133200"/>
            </a:xfrm>
            <a:prstGeom prst="pie">
              <a:avLst/>
            </a:prstGeom>
            <a:solidFill>
              <a:srgbClr val="bb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7"/>
            <p:cNvSpPr/>
            <p:nvPr/>
          </p:nvSpPr>
          <p:spPr>
            <a:xfrm>
              <a:off x="6811920" y="2205000"/>
              <a:ext cx="709560" cy="771480"/>
            </a:xfrm>
            <a:prstGeom prst="pie">
              <a:avLst/>
            </a:prstGeom>
            <a:solidFill>
              <a:srgbClr val="bb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33"/>
          <p:cNvGrpSpPr/>
          <p:nvPr/>
        </p:nvGrpSpPr>
        <p:grpSpPr>
          <a:xfrm>
            <a:off x="4413240" y="2038320"/>
            <a:ext cx="966960" cy="1533600"/>
            <a:chOff x="4413240" y="2038320"/>
            <a:chExt cx="966960" cy="1533600"/>
          </a:xfrm>
        </p:grpSpPr>
        <p:sp>
          <p:nvSpPr>
            <p:cNvPr id="266" name="Freeform 5"/>
            <p:cNvSpPr/>
            <p:nvPr/>
          </p:nvSpPr>
          <p:spPr>
            <a:xfrm>
              <a:off x="4413240" y="2131920"/>
              <a:ext cx="966960" cy="1440000"/>
            </a:xfrm>
            <a:prstGeom prst="pie">
              <a:avLst/>
            </a:prstGeom>
            <a:solidFill>
              <a:srgbClr val="bb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6"/>
            <p:cNvSpPr/>
            <p:nvPr/>
          </p:nvSpPr>
          <p:spPr>
            <a:xfrm>
              <a:off x="4670280" y="2038320"/>
              <a:ext cx="455760" cy="133200"/>
            </a:xfrm>
            <a:prstGeom prst="pie">
              <a:avLst/>
            </a:prstGeom>
            <a:solidFill>
              <a:srgbClr val="bb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7"/>
            <p:cNvSpPr/>
            <p:nvPr/>
          </p:nvSpPr>
          <p:spPr>
            <a:xfrm>
              <a:off x="4543200" y="2685960"/>
              <a:ext cx="709920" cy="771480"/>
            </a:xfrm>
            <a:prstGeom prst="pie">
              <a:avLst/>
            </a:prstGeom>
            <a:solidFill>
              <a:srgbClr val="bb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组合 37"/>
          <p:cNvGrpSpPr/>
          <p:nvPr/>
        </p:nvGrpSpPr>
        <p:grpSpPr>
          <a:xfrm>
            <a:off x="2292480" y="2625840"/>
            <a:ext cx="966600" cy="1533240"/>
            <a:chOff x="2292480" y="2625840"/>
            <a:chExt cx="966600" cy="1533240"/>
          </a:xfrm>
        </p:grpSpPr>
        <p:sp>
          <p:nvSpPr>
            <p:cNvPr id="270" name="Freeform 5"/>
            <p:cNvSpPr/>
            <p:nvPr/>
          </p:nvSpPr>
          <p:spPr>
            <a:xfrm>
              <a:off x="2292480" y="2719440"/>
              <a:ext cx="966600" cy="1439640"/>
            </a:xfrm>
            <a:prstGeom prst="pie">
              <a:avLst/>
            </a:prstGeom>
            <a:solidFill>
              <a:srgbClr val="bb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"/>
            <p:cNvSpPr/>
            <p:nvPr/>
          </p:nvSpPr>
          <p:spPr>
            <a:xfrm>
              <a:off x="2549520" y="2625840"/>
              <a:ext cx="455400" cy="133200"/>
            </a:xfrm>
            <a:prstGeom prst="pie">
              <a:avLst/>
            </a:prstGeom>
            <a:solidFill>
              <a:srgbClr val="bb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7"/>
            <p:cNvSpPr/>
            <p:nvPr/>
          </p:nvSpPr>
          <p:spPr>
            <a:xfrm>
              <a:off x="2422440" y="3273480"/>
              <a:ext cx="709560" cy="771480"/>
            </a:xfrm>
            <a:prstGeom prst="pie">
              <a:avLst/>
            </a:prstGeom>
            <a:solidFill>
              <a:srgbClr val="bb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矩形 1"/>
          <p:cNvSpPr/>
          <p:nvPr/>
        </p:nvSpPr>
        <p:spPr>
          <a:xfrm>
            <a:off x="0" y="-6480"/>
            <a:ext cx="12192120" cy="59688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5"/>
          <p:cNvSpPr/>
          <p:nvPr/>
        </p:nvSpPr>
        <p:spPr>
          <a:xfrm>
            <a:off x="1339920" y="-284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分析与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708280" y="1593720"/>
            <a:ext cx="6700680" cy="4467240"/>
            <a:chOff x="2708280" y="1593720"/>
            <a:chExt cx="6700680" cy="4467240"/>
          </a:xfrm>
        </p:grpSpPr>
        <p:sp>
          <p:nvSpPr>
            <p:cNvPr id="276" name=""/>
            <p:cNvSpPr/>
            <p:nvPr/>
          </p:nvSpPr>
          <p:spPr>
            <a:xfrm>
              <a:off x="5082480" y="1593720"/>
              <a:ext cx="1952280" cy="1348200"/>
            </a:xfrm>
            <a:prstGeom prst="ellipse">
              <a:avLst/>
            </a:prstGeom>
            <a:solidFill>
              <a:srgbClr val="2e75b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368320" y="1791000"/>
              <a:ext cx="1380240" cy="95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ctr">
              <a:noAutofit/>
            </a:bodyPr>
            <a:p>
              <a:pPr algn="ctr">
                <a:lnSpc>
                  <a:spcPct val="90000"/>
                </a:lnSpc>
                <a:spcAft>
                  <a:spcPts val="12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2160000">
              <a:off x="6973560" y="2629800"/>
              <a:ext cx="520560" cy="455040"/>
            </a:xfrm>
            <a:prstGeom prst="rightArrow">
              <a:avLst>
                <a:gd name="adj1" fmla="val 60000"/>
                <a:gd name="adj2" fmla="val 57199"/>
              </a:avLst>
            </a:prstGeom>
            <a:solidFill>
              <a:srgbClr val="b3c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2160000">
              <a:off x="6987960" y="2689200"/>
              <a:ext cx="3643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456680" y="2784960"/>
              <a:ext cx="1952280" cy="1348200"/>
            </a:xfrm>
            <a:prstGeom prst="ellipse">
              <a:avLst/>
            </a:prstGeom>
            <a:solidFill>
              <a:srgbClr val="2e75b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42880" y="2982600"/>
              <a:ext cx="1380240" cy="95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ctr">
              <a:noAutofit/>
            </a:bodyPr>
            <a:p>
              <a:pPr algn="ctr">
                <a:lnSpc>
                  <a:spcPct val="90000"/>
                </a:lnSpc>
                <a:spcAft>
                  <a:spcPts val="12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6480000">
              <a:off x="7803720" y="4083840"/>
              <a:ext cx="359640" cy="6588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b3c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7280000">
              <a:off x="7882200" y="4163760"/>
              <a:ext cx="251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49840" y="4712760"/>
              <a:ext cx="1952280" cy="1348200"/>
            </a:xfrm>
            <a:prstGeom prst="ellipse">
              <a:avLst/>
            </a:prstGeom>
            <a:solidFill>
              <a:srgbClr val="2e75b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835680" y="4910040"/>
              <a:ext cx="1380240" cy="95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ctr">
              <a:noAutofit/>
            </a:bodyPr>
            <a:p>
              <a:pPr algn="ctr">
                <a:lnSpc>
                  <a:spcPct val="90000"/>
                </a:lnSpc>
                <a:spcAft>
                  <a:spcPts val="12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0800000">
              <a:off x="5812920" y="5159520"/>
              <a:ext cx="520560" cy="455040"/>
            </a:xfrm>
            <a:prstGeom prst="rightArrow">
              <a:avLst>
                <a:gd name="adj1" fmla="val 60000"/>
                <a:gd name="adj2" fmla="val 57199"/>
              </a:avLst>
            </a:prstGeom>
            <a:solidFill>
              <a:srgbClr val="b3c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969160" y="5250240"/>
              <a:ext cx="3643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15120" y="4712760"/>
              <a:ext cx="1952280" cy="1348200"/>
            </a:xfrm>
            <a:prstGeom prst="ellipse">
              <a:avLst/>
            </a:prstGeom>
            <a:solidFill>
              <a:srgbClr val="2e75b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00960" y="4910040"/>
              <a:ext cx="1380240" cy="95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ctr">
              <a:noAutofit/>
            </a:bodyPr>
            <a:p>
              <a:pPr algn="ctr">
                <a:lnSpc>
                  <a:spcPct val="90000"/>
                </a:lnSpc>
                <a:spcAft>
                  <a:spcPts val="12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15120000">
              <a:off x="3962160" y="4102920"/>
              <a:ext cx="359640" cy="6588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b3c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4320000">
              <a:off x="4040280" y="4286160"/>
              <a:ext cx="251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08280" y="2784960"/>
              <a:ext cx="1952280" cy="1348200"/>
            </a:xfrm>
            <a:prstGeom prst="ellipse">
              <a:avLst/>
            </a:prstGeom>
            <a:solidFill>
              <a:srgbClr val="2e75b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94120" y="2982600"/>
              <a:ext cx="1380240" cy="95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ctr">
              <a:noAutofit/>
            </a:bodyPr>
            <a:p>
              <a:pPr algn="ctr">
                <a:lnSpc>
                  <a:spcPct val="90000"/>
                </a:lnSpc>
                <a:spcAft>
                  <a:spcPts val="12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19440000">
              <a:off x="4599000" y="2642040"/>
              <a:ext cx="520560" cy="455040"/>
            </a:xfrm>
            <a:prstGeom prst="rightArrow">
              <a:avLst>
                <a:gd name="adj1" fmla="val 60000"/>
                <a:gd name="adj2" fmla="val 57199"/>
              </a:avLst>
            </a:prstGeom>
            <a:solidFill>
              <a:srgbClr val="b3c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9440000">
              <a:off x="4614120" y="2764800"/>
              <a:ext cx="3643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组合 7"/>
          <p:cNvGrpSpPr/>
          <p:nvPr/>
        </p:nvGrpSpPr>
        <p:grpSpPr>
          <a:xfrm>
            <a:off x="7448400" y="1611360"/>
            <a:ext cx="2921040" cy="963720"/>
            <a:chOff x="7448400" y="1611360"/>
            <a:chExt cx="2921040" cy="963720"/>
          </a:xfrm>
        </p:grpSpPr>
        <p:sp>
          <p:nvSpPr>
            <p:cNvPr id="297" name="矩形 8"/>
            <p:cNvSpPr/>
            <p:nvPr/>
          </p:nvSpPr>
          <p:spPr>
            <a:xfrm>
              <a:off x="7448400" y="1611360"/>
              <a:ext cx="292104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矩形 9"/>
            <p:cNvSpPr/>
            <p:nvPr/>
          </p:nvSpPr>
          <p:spPr>
            <a:xfrm>
              <a:off x="7448400" y="1611360"/>
              <a:ext cx="292104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240" rIns="39240" tIns="39240" bIns="39240" anchor="ctr">
              <a:noAutofit/>
            </a:bodyPr>
            <a:p>
              <a:pPr algn="ctr"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1e4e79"/>
                  </a:solidFill>
                  <a:latin typeface="Arial"/>
                  <a:ea typeface="Adobe 黑体 Std R"/>
                </a:rPr>
                <a:t>在这里输入文字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组合 10"/>
          <p:cNvGrpSpPr/>
          <p:nvPr/>
        </p:nvGrpSpPr>
        <p:grpSpPr>
          <a:xfrm>
            <a:off x="8621640" y="3112920"/>
            <a:ext cx="2919600" cy="963720"/>
            <a:chOff x="8621640" y="3112920"/>
            <a:chExt cx="2919600" cy="963720"/>
          </a:xfrm>
        </p:grpSpPr>
        <p:sp>
          <p:nvSpPr>
            <p:cNvPr id="300" name="矩形 11"/>
            <p:cNvSpPr/>
            <p:nvPr/>
          </p:nvSpPr>
          <p:spPr>
            <a:xfrm>
              <a:off x="8621640" y="3112920"/>
              <a:ext cx="291960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矩形 12"/>
            <p:cNvSpPr/>
            <p:nvPr/>
          </p:nvSpPr>
          <p:spPr>
            <a:xfrm>
              <a:off x="8621640" y="3112920"/>
              <a:ext cx="291960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240" rIns="39240" tIns="39240" bIns="39240" anchor="ctr">
              <a:noAutofit/>
            </a:bodyPr>
            <a:p>
              <a:pPr algn="ctr"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1e4e79"/>
                  </a:solidFill>
                  <a:latin typeface="Arial"/>
                  <a:ea typeface="Adobe 黑体 Std R"/>
                </a:rPr>
                <a:t>在这里输入文字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组合 13"/>
          <p:cNvGrpSpPr/>
          <p:nvPr/>
        </p:nvGrpSpPr>
        <p:grpSpPr>
          <a:xfrm>
            <a:off x="7988400" y="5097600"/>
            <a:ext cx="2921040" cy="961920"/>
            <a:chOff x="7988400" y="5097600"/>
            <a:chExt cx="2921040" cy="961920"/>
          </a:xfrm>
        </p:grpSpPr>
        <p:sp>
          <p:nvSpPr>
            <p:cNvPr id="303" name="矩形 14"/>
            <p:cNvSpPr/>
            <p:nvPr/>
          </p:nvSpPr>
          <p:spPr>
            <a:xfrm>
              <a:off x="7988400" y="5097600"/>
              <a:ext cx="29210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矩形 15"/>
            <p:cNvSpPr/>
            <p:nvPr/>
          </p:nvSpPr>
          <p:spPr>
            <a:xfrm>
              <a:off x="7988400" y="5097600"/>
              <a:ext cx="29210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240" rIns="39240" tIns="39240" bIns="39240" anchor="ctr">
              <a:noAutofit/>
            </a:bodyPr>
            <a:p>
              <a:pPr algn="ctr"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1e4e79"/>
                  </a:solidFill>
                  <a:latin typeface="Arial"/>
                  <a:ea typeface="Adobe 黑体 Std R"/>
                </a:rPr>
                <a:t>在这里输入文字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组合 16"/>
          <p:cNvGrpSpPr/>
          <p:nvPr/>
        </p:nvGrpSpPr>
        <p:grpSpPr>
          <a:xfrm>
            <a:off x="1339920" y="4870440"/>
            <a:ext cx="2921040" cy="961920"/>
            <a:chOff x="1339920" y="4870440"/>
            <a:chExt cx="2921040" cy="961920"/>
          </a:xfrm>
        </p:grpSpPr>
        <p:sp>
          <p:nvSpPr>
            <p:cNvPr id="306" name="矩形 17"/>
            <p:cNvSpPr/>
            <p:nvPr/>
          </p:nvSpPr>
          <p:spPr>
            <a:xfrm>
              <a:off x="1339920" y="4870440"/>
              <a:ext cx="29210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矩形 18"/>
            <p:cNvSpPr/>
            <p:nvPr/>
          </p:nvSpPr>
          <p:spPr>
            <a:xfrm>
              <a:off x="1339920" y="4870440"/>
              <a:ext cx="29210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240" rIns="39240" tIns="39240" bIns="39240" anchor="ctr">
              <a:noAutofit/>
            </a:bodyPr>
            <a:p>
              <a:pPr algn="ctr"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1e4e79"/>
                  </a:solidFill>
                  <a:latin typeface="Arial"/>
                  <a:ea typeface="Adobe 黑体 Std R"/>
                </a:rPr>
                <a:t>在这里输入文字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组合 19"/>
          <p:cNvGrpSpPr/>
          <p:nvPr/>
        </p:nvGrpSpPr>
        <p:grpSpPr>
          <a:xfrm>
            <a:off x="1092240" y="2260440"/>
            <a:ext cx="2919240" cy="962280"/>
            <a:chOff x="1092240" y="2260440"/>
            <a:chExt cx="2919240" cy="962280"/>
          </a:xfrm>
        </p:grpSpPr>
        <p:sp>
          <p:nvSpPr>
            <p:cNvPr id="309" name="矩形 20"/>
            <p:cNvSpPr/>
            <p:nvPr/>
          </p:nvSpPr>
          <p:spPr>
            <a:xfrm>
              <a:off x="1092240" y="2260440"/>
              <a:ext cx="291924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矩形 21"/>
            <p:cNvSpPr/>
            <p:nvPr/>
          </p:nvSpPr>
          <p:spPr>
            <a:xfrm>
              <a:off x="1092240" y="2260440"/>
              <a:ext cx="291924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240" rIns="39240" tIns="39240" bIns="39240" anchor="ctr">
              <a:noAutofit/>
            </a:bodyPr>
            <a:p>
              <a:pPr algn="ctr"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1e4e79"/>
                  </a:solidFill>
                  <a:latin typeface="Arial"/>
                  <a:ea typeface="Adobe 黑体 Std R"/>
                </a:rPr>
                <a:t>在这里输入文字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组合 22"/>
          <p:cNvGrpSpPr/>
          <p:nvPr/>
        </p:nvGrpSpPr>
        <p:grpSpPr>
          <a:xfrm>
            <a:off x="549360" y="-6480"/>
            <a:ext cx="1266480" cy="1236960"/>
            <a:chOff x="549360" y="-6480"/>
            <a:chExt cx="1266480" cy="1236960"/>
          </a:xfrm>
        </p:grpSpPr>
        <p:sp>
          <p:nvSpPr>
            <p:cNvPr id="312" name="流程图: 数据 23"/>
            <p:cNvSpPr/>
            <p:nvPr/>
          </p:nvSpPr>
          <p:spPr>
            <a:xfrm rot="10800000">
              <a:off x="862200" y="592920"/>
              <a:ext cx="953640" cy="637200"/>
            </a:xfrm>
            <a:prstGeom prst="flowChartInputOutpu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矩形 24"/>
            <p:cNvSpPr/>
            <p:nvPr/>
          </p:nvSpPr>
          <p:spPr>
            <a:xfrm rot="16200000">
              <a:off x="473040" y="69840"/>
              <a:ext cx="1236960" cy="108432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5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矩形 1"/>
          <p:cNvSpPr/>
          <p:nvPr/>
        </p:nvSpPr>
        <p:spPr>
          <a:xfrm>
            <a:off x="0" y="-6480"/>
            <a:ext cx="12192120" cy="59688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5"/>
          <p:cNvSpPr/>
          <p:nvPr/>
        </p:nvSpPr>
        <p:spPr>
          <a:xfrm>
            <a:off x="1339920" y="-284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分析与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995480" y="1619280"/>
            <a:ext cx="8128080" cy="5418000"/>
            <a:chOff x="1995480" y="1619280"/>
            <a:chExt cx="8128080" cy="5418000"/>
          </a:xfrm>
        </p:grpSpPr>
        <p:sp>
          <p:nvSpPr>
            <p:cNvPr id="317" name=""/>
            <p:cNvSpPr/>
            <p:nvPr/>
          </p:nvSpPr>
          <p:spPr>
            <a:xfrm>
              <a:off x="2162520" y="2776320"/>
              <a:ext cx="294228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62520" y="2776320"/>
              <a:ext cx="294228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240" rIns="39240" tIns="39240" bIns="39240" anchor="ctr">
              <a:noAutofit/>
            </a:bodyPr>
            <a:p>
              <a:pPr algn="ctr"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在这里输入文字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162520" y="5032800"/>
              <a:ext cx="2942280" cy="20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162520" y="5032800"/>
              <a:ext cx="2942280" cy="20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在这里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159280" y="2450880"/>
              <a:ext cx="234000" cy="258120"/>
            </a:xfrm>
            <a:prstGeom prst="ellipse">
              <a:avLst/>
            </a:prstGeom>
            <a:solidFill>
              <a:srgbClr val="3a67b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23080" y="2089080"/>
              <a:ext cx="234000" cy="258120"/>
            </a:xfrm>
            <a:prstGeom prst="ellipse">
              <a:avLst/>
            </a:prstGeom>
            <a:solidFill>
              <a:srgbClr val="3c67b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16200" y="2161440"/>
              <a:ext cx="367560" cy="405720"/>
            </a:xfrm>
            <a:prstGeom prst="ellipse">
              <a:avLst/>
            </a:prstGeom>
            <a:solidFill>
              <a:srgbClr val="3d69b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43800" y="1763640"/>
              <a:ext cx="234000" cy="258120"/>
            </a:xfrm>
            <a:prstGeom prst="ellipse">
              <a:avLst/>
            </a:prstGeom>
            <a:solidFill>
              <a:srgbClr val="426db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469680" y="1619280"/>
              <a:ext cx="234000" cy="258120"/>
            </a:xfrm>
            <a:prstGeom prst="ellipse">
              <a:avLst/>
            </a:prstGeom>
            <a:solidFill>
              <a:srgbClr val="466f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994200" y="1872360"/>
              <a:ext cx="234000" cy="258120"/>
            </a:xfrm>
            <a:prstGeom prst="ellipse">
              <a:avLst/>
            </a:prstGeom>
            <a:solidFill>
              <a:srgbClr val="4e74c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21800" y="2053080"/>
              <a:ext cx="367560" cy="405720"/>
            </a:xfrm>
            <a:prstGeom prst="ellipse">
              <a:avLst/>
            </a:prstGeom>
            <a:solidFill>
              <a:srgbClr val="5377c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80440" y="2450880"/>
              <a:ext cx="234000" cy="258120"/>
            </a:xfrm>
            <a:prstGeom prst="ellipse">
              <a:avLst/>
            </a:prstGeom>
            <a:solidFill>
              <a:srgbClr val="5a7cc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977000" y="2848680"/>
              <a:ext cx="234000" cy="258120"/>
            </a:xfrm>
            <a:prstGeom prst="ellipse">
              <a:avLst/>
            </a:prstGeom>
            <a:solidFill>
              <a:srgbClr val="5e7fc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73120" y="2089080"/>
              <a:ext cx="601560" cy="663840"/>
            </a:xfrm>
            <a:prstGeom prst="ellipse">
              <a:avLst/>
            </a:prstGeom>
            <a:solidFill>
              <a:srgbClr val="6685c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95480" y="3463200"/>
              <a:ext cx="234000" cy="258120"/>
            </a:xfrm>
            <a:prstGeom prst="ellipse">
              <a:avLst/>
            </a:prstGeom>
            <a:solidFill>
              <a:srgbClr val="6a87c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92040" y="3788640"/>
              <a:ext cx="367560" cy="405720"/>
            </a:xfrm>
            <a:prstGeom prst="ellipse">
              <a:avLst/>
            </a:prstGeom>
            <a:solidFill>
              <a:srgbClr val="718d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83440" y="4078080"/>
              <a:ext cx="534960" cy="590040"/>
            </a:xfrm>
            <a:prstGeom prst="ellipse">
              <a:avLst/>
            </a:prstGeom>
            <a:solidFill>
              <a:srgbClr val="768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71400" y="4548240"/>
              <a:ext cx="234000" cy="258120"/>
            </a:xfrm>
            <a:prstGeom prst="ellipse">
              <a:avLst/>
            </a:prstGeom>
            <a:solidFill>
              <a:srgbClr val="7d95c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02440" y="4078080"/>
              <a:ext cx="367560" cy="405720"/>
            </a:xfrm>
            <a:prstGeom prst="ellipse">
              <a:avLst/>
            </a:prstGeom>
            <a:solidFill>
              <a:srgbClr val="8198d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830400" y="4584240"/>
              <a:ext cx="234000" cy="258120"/>
            </a:xfrm>
            <a:prstGeom prst="ellipse">
              <a:avLst/>
            </a:prstGeom>
            <a:solidFill>
              <a:srgbClr val="899ed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125240" y="4005720"/>
              <a:ext cx="534960" cy="590040"/>
            </a:xfrm>
            <a:prstGeom prst="ellipse">
              <a:avLst/>
            </a:prstGeom>
            <a:solidFill>
              <a:srgbClr val="8da1d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845960" y="3861000"/>
              <a:ext cx="367560" cy="405720"/>
            </a:xfrm>
            <a:prstGeom prst="ellipse">
              <a:avLst/>
            </a:prstGeom>
            <a:solidFill>
              <a:srgbClr val="94a6d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213880" y="2161080"/>
              <a:ext cx="1080000" cy="2275560"/>
            </a:xfrm>
            <a:custGeom>
              <a:avLst/>
              <a:gdLst>
                <a:gd name="textAreaLeft" fmla="*/ 0 w 1080000"/>
                <a:gd name="textAreaRight" fmla="*/ 1080360 w 1080000"/>
                <a:gd name="textAreaTop" fmla="*/ 0 h 2275560"/>
                <a:gd name="textAreaBottom" fmla="*/ 2275560 h 227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42" y="0"/>
                  </a:lnTo>
                  <a:lnTo>
                    <a:pt x="21600" y="10800"/>
                  </a:lnTo>
                  <a:lnTo>
                    <a:pt x="8142" y="21600"/>
                  </a:lnTo>
                  <a:lnTo>
                    <a:pt x="0" y="21600"/>
                  </a:lnTo>
                  <a:lnTo>
                    <a:pt x="13458" y="10800"/>
                  </a:lnTo>
                  <a:close/>
                </a:path>
              </a:pathLst>
            </a:custGeom>
            <a:solidFill>
              <a:srgbClr val="406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97680" y="2161080"/>
              <a:ext cx="1080000" cy="2275560"/>
            </a:xfrm>
            <a:custGeom>
              <a:avLst/>
              <a:gdLst>
                <a:gd name="textAreaLeft" fmla="*/ 0 w 1080000"/>
                <a:gd name="textAreaRight" fmla="*/ 1080360 w 1080000"/>
                <a:gd name="textAreaTop" fmla="*/ 0 h 2275560"/>
                <a:gd name="textAreaBottom" fmla="*/ 2275560 h 227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42" y="0"/>
                  </a:lnTo>
                  <a:lnTo>
                    <a:pt x="21600" y="10800"/>
                  </a:lnTo>
                  <a:lnTo>
                    <a:pt x="8142" y="21600"/>
                  </a:lnTo>
                  <a:lnTo>
                    <a:pt x="0" y="21600"/>
                  </a:lnTo>
                  <a:lnTo>
                    <a:pt x="13458" y="10800"/>
                  </a:lnTo>
                  <a:close/>
                </a:path>
              </a:pathLst>
            </a:custGeom>
            <a:solidFill>
              <a:srgbClr val="97a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8720" y="1999440"/>
              <a:ext cx="2503800" cy="2763360"/>
            </a:xfrm>
            <a:prstGeom prst="ellipse">
              <a:avLst/>
            </a:prstGeom>
            <a:solidFill>
              <a:srgbClr val="99a9d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765560" y="2404080"/>
              <a:ext cx="1770480" cy="19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在这里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177680" y="5032800"/>
              <a:ext cx="2945880" cy="20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177680" y="5032800"/>
              <a:ext cx="2945880" cy="20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在这里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组合 7"/>
          <p:cNvGrpSpPr/>
          <p:nvPr/>
        </p:nvGrpSpPr>
        <p:grpSpPr>
          <a:xfrm>
            <a:off x="549360" y="-6480"/>
            <a:ext cx="1266480" cy="1236960"/>
            <a:chOff x="549360" y="-6480"/>
            <a:chExt cx="1266480" cy="1236960"/>
          </a:xfrm>
        </p:grpSpPr>
        <p:sp>
          <p:nvSpPr>
            <p:cNvPr id="346" name="流程图: 数据 9"/>
            <p:cNvSpPr/>
            <p:nvPr/>
          </p:nvSpPr>
          <p:spPr>
            <a:xfrm rot="10800000">
              <a:off x="862200" y="592920"/>
              <a:ext cx="953640" cy="637200"/>
            </a:xfrm>
            <a:prstGeom prst="flowChartInputOutpu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 10"/>
            <p:cNvSpPr/>
            <p:nvPr/>
          </p:nvSpPr>
          <p:spPr>
            <a:xfrm rot="16200000">
              <a:off x="473040" y="69840"/>
              <a:ext cx="1236960" cy="108432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5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矩形 1"/>
          <p:cNvSpPr/>
          <p:nvPr/>
        </p:nvSpPr>
        <p:spPr>
          <a:xfrm>
            <a:off x="0" y="-6480"/>
            <a:ext cx="12192120" cy="59688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2"/>
          <p:cNvSpPr/>
          <p:nvPr/>
        </p:nvSpPr>
        <p:spPr>
          <a:xfrm>
            <a:off x="1339920" y="-284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结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组合 3"/>
          <p:cNvGrpSpPr/>
          <p:nvPr/>
        </p:nvGrpSpPr>
        <p:grpSpPr>
          <a:xfrm>
            <a:off x="549360" y="-6480"/>
            <a:ext cx="1266480" cy="1236960"/>
            <a:chOff x="549360" y="-6480"/>
            <a:chExt cx="1266480" cy="1236960"/>
          </a:xfrm>
        </p:grpSpPr>
        <p:sp>
          <p:nvSpPr>
            <p:cNvPr id="351" name="流程图: 数据 4"/>
            <p:cNvSpPr/>
            <p:nvPr/>
          </p:nvSpPr>
          <p:spPr>
            <a:xfrm rot="10800000">
              <a:off x="862200" y="592920"/>
              <a:ext cx="953640" cy="637200"/>
            </a:xfrm>
            <a:prstGeom prst="flowChartInputOutpu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矩形 5"/>
            <p:cNvSpPr/>
            <p:nvPr/>
          </p:nvSpPr>
          <p:spPr>
            <a:xfrm rot="16200000">
              <a:off x="473040" y="69840"/>
              <a:ext cx="1236960" cy="108432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6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863640" y="-28440"/>
            <a:ext cx="10863360" cy="7997760"/>
            <a:chOff x="863640" y="-28440"/>
            <a:chExt cx="10863360" cy="7997760"/>
          </a:xfrm>
        </p:grpSpPr>
        <p:sp>
          <p:nvSpPr>
            <p:cNvPr id="354" name=""/>
            <p:cNvSpPr/>
            <p:nvPr/>
          </p:nvSpPr>
          <p:spPr>
            <a:xfrm>
              <a:off x="863640" y="874800"/>
              <a:ext cx="10863360" cy="154224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06520" y="-28440"/>
              <a:ext cx="7604280" cy="18064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51160" y="59400"/>
              <a:ext cx="7515000" cy="16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7280" rIns="2872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在这输入你的文字</a:t>
              </a:r>
              <a:r>
                <a:rPr b="1" lang="en-US" sz="31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Click to edit title style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63640" y="3651120"/>
              <a:ext cx="10863360" cy="154224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06520" y="2747520"/>
              <a:ext cx="7604280" cy="18064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451160" y="2835720"/>
              <a:ext cx="7515000" cy="16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7280" rIns="2872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在这输入你的文字</a:t>
              </a:r>
              <a:r>
                <a:rPr b="1" lang="en-US" sz="31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Click to edit title style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63640" y="6427080"/>
              <a:ext cx="10863360" cy="154224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06520" y="5523840"/>
              <a:ext cx="7604280" cy="18064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51160" y="5612040"/>
              <a:ext cx="7515000" cy="16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7280" rIns="2872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在这输入你的文字</a:t>
              </a:r>
              <a:r>
                <a:rPr b="1" lang="en-US" sz="31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Click to edit title style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矩形 1"/>
          <p:cNvSpPr/>
          <p:nvPr/>
        </p:nvSpPr>
        <p:spPr>
          <a:xfrm>
            <a:off x="0" y="-6480"/>
            <a:ext cx="12192120" cy="59688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5"/>
          <p:cNvSpPr/>
          <p:nvPr/>
        </p:nvSpPr>
        <p:spPr>
          <a:xfrm>
            <a:off x="1339920" y="-284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结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组合 11"/>
          <p:cNvGrpSpPr/>
          <p:nvPr/>
        </p:nvGrpSpPr>
        <p:grpSpPr>
          <a:xfrm>
            <a:off x="6059520" y="1228680"/>
            <a:ext cx="5294160" cy="5408640"/>
            <a:chOff x="6059520" y="1228680"/>
            <a:chExt cx="5294160" cy="5408640"/>
          </a:xfrm>
        </p:grpSpPr>
        <p:sp>
          <p:nvSpPr>
            <p:cNvPr id="366" name="流程图: 数据 12"/>
            <p:cNvSpPr/>
            <p:nvPr/>
          </p:nvSpPr>
          <p:spPr>
            <a:xfrm rot="16200000">
              <a:off x="5387760" y="3238200"/>
              <a:ext cx="4070880" cy="2727360"/>
            </a:xfrm>
            <a:prstGeom prst="flowChartInputOutpu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13"/>
            <p:cNvSpPr/>
            <p:nvPr/>
          </p:nvSpPr>
          <p:spPr>
            <a:xfrm>
              <a:off x="6059520" y="1228680"/>
              <a:ext cx="5294160" cy="462888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文本框 16"/>
          <p:cNvSpPr/>
          <p:nvPr/>
        </p:nvSpPr>
        <p:spPr>
          <a:xfrm>
            <a:off x="6448320" y="1463760"/>
            <a:ext cx="65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你的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文本框 18"/>
          <p:cNvSpPr/>
          <p:nvPr/>
        </p:nvSpPr>
        <p:spPr>
          <a:xfrm>
            <a:off x="6448320" y="2016000"/>
            <a:ext cx="65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你的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文本框 19"/>
          <p:cNvSpPr/>
          <p:nvPr/>
        </p:nvSpPr>
        <p:spPr>
          <a:xfrm>
            <a:off x="6448320" y="2647800"/>
            <a:ext cx="65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你的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文本框 20"/>
          <p:cNvSpPr/>
          <p:nvPr/>
        </p:nvSpPr>
        <p:spPr>
          <a:xfrm>
            <a:off x="6448320" y="3213000"/>
            <a:ext cx="65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你的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文本框 21"/>
          <p:cNvSpPr/>
          <p:nvPr/>
        </p:nvSpPr>
        <p:spPr>
          <a:xfrm>
            <a:off x="6448320" y="3795840"/>
            <a:ext cx="65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你的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22"/>
          <p:cNvSpPr/>
          <p:nvPr/>
        </p:nvSpPr>
        <p:spPr>
          <a:xfrm>
            <a:off x="6448320" y="4411800"/>
            <a:ext cx="65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你的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23"/>
          <p:cNvSpPr/>
          <p:nvPr/>
        </p:nvSpPr>
        <p:spPr>
          <a:xfrm>
            <a:off x="6448320" y="5010120"/>
            <a:ext cx="65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你的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组合 17"/>
          <p:cNvGrpSpPr/>
          <p:nvPr/>
        </p:nvGrpSpPr>
        <p:grpSpPr>
          <a:xfrm>
            <a:off x="549360" y="-6480"/>
            <a:ext cx="1266480" cy="1236960"/>
            <a:chOff x="549360" y="-6480"/>
            <a:chExt cx="1266480" cy="1236960"/>
          </a:xfrm>
        </p:grpSpPr>
        <p:sp>
          <p:nvSpPr>
            <p:cNvPr id="376" name="流程图: 数据 24"/>
            <p:cNvSpPr/>
            <p:nvPr/>
          </p:nvSpPr>
          <p:spPr>
            <a:xfrm rot="10800000">
              <a:off x="862200" y="592920"/>
              <a:ext cx="953640" cy="637200"/>
            </a:xfrm>
            <a:prstGeom prst="flowChartInputOutpu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矩形 25"/>
            <p:cNvSpPr/>
            <p:nvPr/>
          </p:nvSpPr>
          <p:spPr>
            <a:xfrm rot="16200000">
              <a:off x="473040" y="69840"/>
              <a:ext cx="1236960" cy="108432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6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组合 31"/>
          <p:cNvGrpSpPr/>
          <p:nvPr/>
        </p:nvGrpSpPr>
        <p:grpSpPr>
          <a:xfrm>
            <a:off x="2022480" y="1177920"/>
            <a:ext cx="2457360" cy="3587760"/>
            <a:chOff x="2022480" y="1177920"/>
            <a:chExt cx="2457360" cy="3587760"/>
          </a:xfrm>
        </p:grpSpPr>
        <p:sp>
          <p:nvSpPr>
            <p:cNvPr id="379" name="Freeform 5"/>
            <p:cNvSpPr/>
            <p:nvPr/>
          </p:nvSpPr>
          <p:spPr>
            <a:xfrm>
              <a:off x="2022480" y="1494000"/>
              <a:ext cx="2457360" cy="3271680"/>
            </a:xfrm>
            <a:prstGeom prst="pie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6"/>
            <p:cNvSpPr/>
            <p:nvPr/>
          </p:nvSpPr>
          <p:spPr>
            <a:xfrm>
              <a:off x="2740320" y="1177920"/>
              <a:ext cx="1018440" cy="391680"/>
            </a:xfrm>
            <a:prstGeom prst="pie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7"/>
            <p:cNvSpPr/>
            <p:nvPr/>
          </p:nvSpPr>
          <p:spPr>
            <a:xfrm>
              <a:off x="2423160" y="2060280"/>
              <a:ext cx="1653480" cy="85680"/>
            </a:xfrm>
            <a:prstGeom prst="pie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8"/>
            <p:cNvSpPr/>
            <p:nvPr/>
          </p:nvSpPr>
          <p:spPr>
            <a:xfrm>
              <a:off x="2423160" y="2374920"/>
              <a:ext cx="1653480" cy="85680"/>
            </a:xfrm>
            <a:prstGeom prst="pie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423160" y="2664000"/>
              <a:ext cx="1653480" cy="85680"/>
            </a:xfrm>
            <a:prstGeom prst="pie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423160" y="2950200"/>
              <a:ext cx="1653480" cy="83160"/>
            </a:xfrm>
            <a:prstGeom prst="pie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423160" y="3250800"/>
              <a:ext cx="1653480" cy="85680"/>
            </a:xfrm>
            <a:prstGeom prst="pie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423160" y="3568680"/>
              <a:ext cx="1653480" cy="83160"/>
            </a:xfrm>
            <a:prstGeom prst="pie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419200" y="3865320"/>
              <a:ext cx="803880" cy="84240"/>
            </a:xfrm>
            <a:prstGeom prst="pie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文本框 32"/>
          <p:cNvSpPr/>
          <p:nvPr/>
        </p:nvSpPr>
        <p:spPr>
          <a:xfrm>
            <a:off x="1633680" y="5056200"/>
            <a:ext cx="35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e4e79"/>
                </a:solidFill>
                <a:latin typeface="Arial"/>
                <a:ea typeface="Adobe 黑体 Std R"/>
              </a:rPr>
              <a:t>参考文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平行四边形 3"/>
          <p:cNvSpPr/>
          <p:nvPr/>
        </p:nvSpPr>
        <p:spPr>
          <a:xfrm rot="7726800">
            <a:off x="3573000" y="-873000"/>
            <a:ext cx="9110880" cy="13533120"/>
          </a:xfrm>
          <a:prstGeom prst="pie">
            <a:avLst/>
          </a:prstGeom>
          <a:solidFill>
            <a:srgbClr val="ddea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矩形 11"/>
          <p:cNvSpPr/>
          <p:nvPr/>
        </p:nvSpPr>
        <p:spPr>
          <a:xfrm>
            <a:off x="0" y="1289160"/>
            <a:ext cx="9793440" cy="39160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文本框 1"/>
          <p:cNvSpPr/>
          <p:nvPr/>
        </p:nvSpPr>
        <p:spPr>
          <a:xfrm>
            <a:off x="60480" y="1359000"/>
            <a:ext cx="11428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fafafa"/>
                </a:solidFill>
                <a:latin typeface="Arial"/>
                <a:ea typeface="Adobe 黑体 Std R"/>
              </a:rPr>
              <a:t>THANKS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2"/>
          <p:cNvSpPr/>
          <p:nvPr/>
        </p:nvSpPr>
        <p:spPr>
          <a:xfrm>
            <a:off x="95400" y="3778200"/>
            <a:ext cx="973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afafa"/>
                </a:solidFill>
                <a:latin typeface="Arial Unicode MS"/>
                <a:ea typeface="Arial Unicode MS"/>
              </a:rPr>
              <a:t>感谢老师的批评与指正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"/>
          <p:cNvPicPr/>
          <p:nvPr/>
        </p:nvPicPr>
        <p:blipFill>
          <a:blip r:embed="rId1"/>
          <a:stretch/>
        </p:blipFill>
        <p:spPr>
          <a:xfrm>
            <a:off x="0" y="-230040"/>
            <a:ext cx="12192120" cy="7324560"/>
          </a:xfrm>
          <a:prstGeom prst="rect">
            <a:avLst/>
          </a:prstGeom>
          <a:ln w="0">
            <a:noFill/>
          </a:ln>
        </p:spPr>
      </p:pic>
      <p:sp>
        <p:nvSpPr>
          <p:cNvPr id="57" name="矩形 15"/>
          <p:cNvSpPr/>
          <p:nvPr/>
        </p:nvSpPr>
        <p:spPr>
          <a:xfrm>
            <a:off x="0" y="-230040"/>
            <a:ext cx="12192120" cy="7324560"/>
          </a:xfrm>
          <a:prstGeom prst="rect">
            <a:avLst/>
          </a:prstGeom>
          <a:solidFill>
            <a:srgbClr val="2e75b5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组合 20"/>
          <p:cNvGrpSpPr/>
          <p:nvPr/>
        </p:nvGrpSpPr>
        <p:grpSpPr>
          <a:xfrm>
            <a:off x="1213920" y="1812960"/>
            <a:ext cx="3515400" cy="3220200"/>
            <a:chOff x="1213920" y="1812960"/>
            <a:chExt cx="3515400" cy="3220200"/>
          </a:xfrm>
        </p:grpSpPr>
        <p:sp>
          <p:nvSpPr>
            <p:cNvPr id="59" name="文本框 7"/>
            <p:cNvSpPr/>
            <p:nvPr/>
          </p:nvSpPr>
          <p:spPr>
            <a:xfrm>
              <a:off x="1829880" y="1812960"/>
              <a:ext cx="2283840" cy="21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</a:t>
              </a:r>
              <a:endParaRPr b="0" lang="en-US" sz="1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8"/>
            <p:cNvSpPr/>
            <p:nvPr/>
          </p:nvSpPr>
          <p:spPr>
            <a:xfrm>
              <a:off x="1213920" y="3720240"/>
              <a:ext cx="3515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content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直接连接符 2"/>
          <p:cNvSpPr/>
          <p:nvPr/>
        </p:nvSpPr>
        <p:spPr>
          <a:xfrm>
            <a:off x="6529320" y="546120"/>
            <a:ext cx="15840" cy="569268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5"/>
          <p:cNvSpPr/>
          <p:nvPr/>
        </p:nvSpPr>
        <p:spPr>
          <a:xfrm>
            <a:off x="7110360" y="457200"/>
            <a:ext cx="33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Adobe 黑体 Std R"/>
              </a:rPr>
              <a:t>研究概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0"/>
          <p:cNvSpPr/>
          <p:nvPr/>
        </p:nvSpPr>
        <p:spPr>
          <a:xfrm>
            <a:off x="7110360" y="1492200"/>
            <a:ext cx="33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Adobe 黑体 Std R"/>
              </a:rPr>
              <a:t>研究框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11"/>
          <p:cNvSpPr/>
          <p:nvPr/>
        </p:nvSpPr>
        <p:spPr>
          <a:xfrm>
            <a:off x="7110360" y="2489040"/>
            <a:ext cx="33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Adobe 黑体 Std R"/>
              </a:rPr>
              <a:t>研究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12"/>
          <p:cNvSpPr/>
          <p:nvPr/>
        </p:nvSpPr>
        <p:spPr>
          <a:xfrm>
            <a:off x="7140600" y="3517920"/>
            <a:ext cx="33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Adobe 黑体 Std R"/>
              </a:rPr>
              <a:t>主要结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13"/>
          <p:cNvSpPr/>
          <p:nvPr/>
        </p:nvSpPr>
        <p:spPr>
          <a:xfrm>
            <a:off x="7140600" y="4513320"/>
            <a:ext cx="33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Adobe 黑体 Std R"/>
              </a:rPr>
              <a:t>分析与讨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14"/>
          <p:cNvSpPr/>
          <p:nvPr/>
        </p:nvSpPr>
        <p:spPr>
          <a:xfrm>
            <a:off x="7140600" y="5600880"/>
            <a:ext cx="33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Adobe 黑体 Std R"/>
              </a:rPr>
              <a:t>结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A5BA-27DF-42B2-AE35-F4B09F2955C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5"/>
          <p:cNvSpPr/>
          <p:nvPr/>
        </p:nvSpPr>
        <p:spPr>
          <a:xfrm>
            <a:off x="0" y="-6480"/>
            <a:ext cx="12192120" cy="59688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3"/>
          <p:cNvGrpSpPr/>
          <p:nvPr/>
        </p:nvGrpSpPr>
        <p:grpSpPr>
          <a:xfrm>
            <a:off x="549360" y="-6480"/>
            <a:ext cx="1266480" cy="1236960"/>
            <a:chOff x="549360" y="-6480"/>
            <a:chExt cx="1266480" cy="1236960"/>
          </a:xfrm>
        </p:grpSpPr>
        <p:sp>
          <p:nvSpPr>
            <p:cNvPr id="70" name="流程图: 数据 1"/>
            <p:cNvSpPr/>
            <p:nvPr/>
          </p:nvSpPr>
          <p:spPr>
            <a:xfrm rot="10800000">
              <a:off x="862200" y="592920"/>
              <a:ext cx="953640" cy="637200"/>
            </a:xfrm>
            <a:prstGeom prst="flowChartInputOutpu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2"/>
            <p:cNvSpPr/>
            <p:nvPr/>
          </p:nvSpPr>
          <p:spPr>
            <a:xfrm rot="16200000">
              <a:off x="473040" y="69840"/>
              <a:ext cx="1236960" cy="108432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文本框 4"/>
          <p:cNvSpPr/>
          <p:nvPr/>
        </p:nvSpPr>
        <p:spPr>
          <a:xfrm>
            <a:off x="1339920" y="-284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研究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1"/>
          <p:cNvSpPr/>
          <p:nvPr/>
        </p:nvSpPr>
        <p:spPr>
          <a:xfrm>
            <a:off x="1781280" y="1262160"/>
            <a:ext cx="353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Adobe 黑体 Std R"/>
              </a:rPr>
              <a:t>国内研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2"/>
          <p:cNvSpPr/>
          <p:nvPr/>
        </p:nvSpPr>
        <p:spPr>
          <a:xfrm>
            <a:off x="6810480" y="1262160"/>
            <a:ext cx="353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Adobe 黑体 Std R"/>
              </a:rPr>
              <a:t>国外研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1781280" y="1346040"/>
            <a:ext cx="8535960" cy="220356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4"/>
          <p:cNvSpPr/>
          <p:nvPr/>
        </p:nvSpPr>
        <p:spPr>
          <a:xfrm>
            <a:off x="1746360" y="3978360"/>
            <a:ext cx="8535960" cy="220320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5"/>
          <p:cNvSpPr/>
          <p:nvPr/>
        </p:nvSpPr>
        <p:spPr>
          <a:xfrm>
            <a:off x="725400" y="13273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你的文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6"/>
          <p:cNvSpPr/>
          <p:nvPr/>
        </p:nvSpPr>
        <p:spPr>
          <a:xfrm>
            <a:off x="1758960" y="4141800"/>
            <a:ext cx="780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lick to edit title sty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7"/>
          <p:cNvSpPr/>
          <p:nvPr/>
        </p:nvSpPr>
        <p:spPr>
          <a:xfrm>
            <a:off x="1816200" y="5010120"/>
            <a:ext cx="1460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is is a sample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sert your desired text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7"/>
          <p:cNvSpPr/>
          <p:nvPr/>
        </p:nvSpPr>
        <p:spPr>
          <a:xfrm>
            <a:off x="1866960" y="2219400"/>
            <a:ext cx="845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dobe 黑体 Std R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Adobe 黑体 Std R"/>
              </a:rPr>
              <a:t>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dobe 黑体 Std R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Adobe 黑体 Std R"/>
              </a:rPr>
              <a:t>中文字体为“黑体”，英文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dobe 黑体 Std R"/>
              </a:rPr>
              <a:t>A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dobe 黑体 Std R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Adobe 黑体 Std R"/>
              </a:rPr>
              <a:t>如在购买中有任何问题，可以邮件联系我，注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dobe 黑体 Std R"/>
              </a:rPr>
              <a:t>PPTstore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Adobe 黑体 Std R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流程图: 过程 6"/>
          <p:cNvSpPr/>
          <p:nvPr/>
        </p:nvSpPr>
        <p:spPr>
          <a:xfrm>
            <a:off x="6059520" y="0"/>
            <a:ext cx="6132600" cy="6858000"/>
          </a:xfrm>
          <a:prstGeom prst="flowChartProcess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0" y="-6480"/>
            <a:ext cx="12192120" cy="59688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3"/>
          <p:cNvGrpSpPr/>
          <p:nvPr/>
        </p:nvGrpSpPr>
        <p:grpSpPr>
          <a:xfrm>
            <a:off x="549360" y="-6480"/>
            <a:ext cx="1266480" cy="1236960"/>
            <a:chOff x="549360" y="-6480"/>
            <a:chExt cx="1266480" cy="1236960"/>
          </a:xfrm>
        </p:grpSpPr>
        <p:sp>
          <p:nvSpPr>
            <p:cNvPr id="84" name="流程图: 数据 1"/>
            <p:cNvSpPr/>
            <p:nvPr/>
          </p:nvSpPr>
          <p:spPr>
            <a:xfrm rot="10800000">
              <a:off x="862200" y="592920"/>
              <a:ext cx="953640" cy="637200"/>
            </a:xfrm>
            <a:prstGeom prst="flowChartInputOutpu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2"/>
            <p:cNvSpPr/>
            <p:nvPr/>
          </p:nvSpPr>
          <p:spPr>
            <a:xfrm rot="16200000">
              <a:off x="473040" y="69840"/>
              <a:ext cx="1236960" cy="108432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文本框 4"/>
          <p:cNvSpPr/>
          <p:nvPr/>
        </p:nvSpPr>
        <p:spPr>
          <a:xfrm>
            <a:off x="1339920" y="-284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研究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1"/>
          <p:cNvSpPr/>
          <p:nvPr/>
        </p:nvSpPr>
        <p:spPr>
          <a:xfrm>
            <a:off x="1781280" y="1262160"/>
            <a:ext cx="353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Adobe 黑体 Std R"/>
              </a:rPr>
              <a:t>国内研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30"/>
          <p:cNvGrpSpPr/>
          <p:nvPr/>
        </p:nvGrpSpPr>
        <p:grpSpPr>
          <a:xfrm>
            <a:off x="1592640" y="1198080"/>
            <a:ext cx="8946360" cy="5034960"/>
            <a:chOff x="1592640" y="1198080"/>
            <a:chExt cx="8946360" cy="5034960"/>
          </a:xfrm>
        </p:grpSpPr>
        <p:sp>
          <p:nvSpPr>
            <p:cNvPr id="89" name="矩形 14"/>
            <p:cNvSpPr/>
            <p:nvPr/>
          </p:nvSpPr>
          <p:spPr>
            <a:xfrm rot="344400">
              <a:off x="1584000" y="5547240"/>
              <a:ext cx="8569080" cy="257760"/>
            </a:xfrm>
            <a:prstGeom prst="rect">
              <a:avLst/>
            </a:prstGeom>
            <a:solidFill>
              <a:srgbClr val="75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流程图: 联系 27"/>
            <p:cNvSpPr/>
            <p:nvPr/>
          </p:nvSpPr>
          <p:spPr>
            <a:xfrm rot="344400">
              <a:off x="1819080" y="1372680"/>
              <a:ext cx="3680640" cy="3682440"/>
            </a:xfrm>
            <a:prstGeom prst="flowChartConnector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流程图: 联系 29"/>
            <p:cNvSpPr/>
            <p:nvPr/>
          </p:nvSpPr>
          <p:spPr>
            <a:xfrm rot="344400">
              <a:off x="6683040" y="1861560"/>
              <a:ext cx="3680640" cy="368244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31"/>
          <p:cNvSpPr/>
          <p:nvPr/>
        </p:nvSpPr>
        <p:spPr>
          <a:xfrm>
            <a:off x="2703600" y="173520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Adobe 黑体 Std R"/>
              </a:rPr>
              <a:t>国内研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32"/>
          <p:cNvSpPr/>
          <p:nvPr/>
        </p:nvSpPr>
        <p:spPr>
          <a:xfrm>
            <a:off x="7475400" y="2212920"/>
            <a:ext cx="297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e75b5"/>
                </a:solidFill>
                <a:latin typeface="Arial"/>
                <a:ea typeface="Adobe 黑体 Std R"/>
              </a:rPr>
              <a:t>国外研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等腰三角形 15"/>
          <p:cNvSpPr/>
          <p:nvPr/>
        </p:nvSpPr>
        <p:spPr>
          <a:xfrm>
            <a:off x="5673600" y="5815080"/>
            <a:ext cx="844560" cy="726840"/>
          </a:xfrm>
          <a:prstGeom prst="triangle">
            <a:avLst>
              <a:gd name="adj" fmla="val 50000"/>
            </a:avLst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17"/>
          <p:cNvSpPr/>
          <p:nvPr/>
        </p:nvSpPr>
        <p:spPr>
          <a:xfrm>
            <a:off x="0" y="-6480"/>
            <a:ext cx="12192120" cy="59688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2"/>
          <p:cNvGrpSpPr/>
          <p:nvPr/>
        </p:nvGrpSpPr>
        <p:grpSpPr>
          <a:xfrm>
            <a:off x="549360" y="-6480"/>
            <a:ext cx="1266480" cy="1236960"/>
            <a:chOff x="549360" y="-6480"/>
            <a:chExt cx="1266480" cy="1236960"/>
          </a:xfrm>
        </p:grpSpPr>
        <p:sp>
          <p:nvSpPr>
            <p:cNvPr id="97" name="流程图: 数据 3"/>
            <p:cNvSpPr/>
            <p:nvPr/>
          </p:nvSpPr>
          <p:spPr>
            <a:xfrm rot="10800000">
              <a:off x="862200" y="592920"/>
              <a:ext cx="953640" cy="637200"/>
            </a:xfrm>
            <a:prstGeom prst="flowChartInputOutpu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4"/>
            <p:cNvSpPr/>
            <p:nvPr/>
          </p:nvSpPr>
          <p:spPr>
            <a:xfrm rot="16200000">
              <a:off x="473040" y="69840"/>
              <a:ext cx="1236960" cy="108432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文本框 5"/>
          <p:cNvSpPr/>
          <p:nvPr/>
        </p:nvSpPr>
        <p:spPr>
          <a:xfrm>
            <a:off x="1339920" y="-284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研究框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流程图: 数据 6"/>
          <p:cNvSpPr/>
          <p:nvPr/>
        </p:nvSpPr>
        <p:spPr>
          <a:xfrm rot="16200000">
            <a:off x="51480" y="3385440"/>
            <a:ext cx="3011760" cy="2016000"/>
          </a:xfrm>
          <a:prstGeom prst="flowChartInputOutpu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549360" y="1898640"/>
            <a:ext cx="3914640" cy="342432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11"/>
          <p:cNvGrpSpPr/>
          <p:nvPr/>
        </p:nvGrpSpPr>
        <p:grpSpPr>
          <a:xfrm>
            <a:off x="4924440" y="1898640"/>
            <a:ext cx="6775560" cy="3424320"/>
            <a:chOff x="4924440" y="1898640"/>
            <a:chExt cx="6775560" cy="3424320"/>
          </a:xfrm>
        </p:grpSpPr>
        <p:sp>
          <p:nvSpPr>
            <p:cNvPr id="103" name="矩形 8"/>
            <p:cNvSpPr/>
            <p:nvPr/>
          </p:nvSpPr>
          <p:spPr>
            <a:xfrm>
              <a:off x="4924440" y="1898640"/>
              <a:ext cx="6775560" cy="105624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 9"/>
            <p:cNvSpPr/>
            <p:nvPr/>
          </p:nvSpPr>
          <p:spPr>
            <a:xfrm>
              <a:off x="4924440" y="3095280"/>
              <a:ext cx="6775560" cy="105624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10"/>
            <p:cNvSpPr/>
            <p:nvPr/>
          </p:nvSpPr>
          <p:spPr>
            <a:xfrm>
              <a:off x="4924440" y="4266720"/>
              <a:ext cx="6775560" cy="105624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文本框 12"/>
          <p:cNvSpPr/>
          <p:nvPr/>
        </p:nvSpPr>
        <p:spPr>
          <a:xfrm>
            <a:off x="-195120" y="1992240"/>
            <a:ext cx="536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Arial"/>
                <a:ea typeface="Adobe 黑体 Std R"/>
              </a:rPr>
              <a:t>中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Arial"/>
                <a:ea typeface="Adobe 黑体 Std R"/>
              </a:rPr>
              <a:t>论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4"/>
          <p:cNvSpPr/>
          <p:nvPr/>
        </p:nvSpPr>
        <p:spPr>
          <a:xfrm>
            <a:off x="5168880" y="1895400"/>
            <a:ext cx="653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小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5"/>
          <p:cNvSpPr/>
          <p:nvPr/>
        </p:nvSpPr>
        <p:spPr>
          <a:xfrm>
            <a:off x="5168880" y="3135240"/>
            <a:ext cx="653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小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6"/>
          <p:cNvSpPr/>
          <p:nvPr/>
        </p:nvSpPr>
        <p:spPr>
          <a:xfrm>
            <a:off x="5168880" y="4262400"/>
            <a:ext cx="653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小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1"/>
          <p:cNvSpPr/>
          <p:nvPr/>
        </p:nvSpPr>
        <p:spPr>
          <a:xfrm>
            <a:off x="0" y="-6480"/>
            <a:ext cx="12192120" cy="59688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组合 2"/>
          <p:cNvGrpSpPr/>
          <p:nvPr/>
        </p:nvGrpSpPr>
        <p:grpSpPr>
          <a:xfrm>
            <a:off x="549360" y="-6480"/>
            <a:ext cx="1266480" cy="1236960"/>
            <a:chOff x="549360" y="-6480"/>
            <a:chExt cx="1266480" cy="1236960"/>
          </a:xfrm>
        </p:grpSpPr>
        <p:sp>
          <p:nvSpPr>
            <p:cNvPr id="112" name="流程图: 数据 3"/>
            <p:cNvSpPr/>
            <p:nvPr/>
          </p:nvSpPr>
          <p:spPr>
            <a:xfrm rot="10800000">
              <a:off x="862200" y="592920"/>
              <a:ext cx="953640" cy="637200"/>
            </a:xfrm>
            <a:prstGeom prst="flowChartInputOutpu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矩形 4"/>
            <p:cNvSpPr/>
            <p:nvPr/>
          </p:nvSpPr>
          <p:spPr>
            <a:xfrm rot="16200000">
              <a:off x="473040" y="69840"/>
              <a:ext cx="1236960" cy="108432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文本框 5"/>
          <p:cNvSpPr/>
          <p:nvPr/>
        </p:nvSpPr>
        <p:spPr>
          <a:xfrm>
            <a:off x="1339920" y="-284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研究框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7"/>
          <p:cNvSpPr/>
          <p:nvPr/>
        </p:nvSpPr>
        <p:spPr>
          <a:xfrm>
            <a:off x="1190880" y="1898640"/>
            <a:ext cx="27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e4e79"/>
                </a:solidFill>
                <a:latin typeface="Arial"/>
                <a:ea typeface="Adobe 黑体 Std R"/>
              </a:rPr>
              <a:t>在这里输入小标题</a:t>
            </a:r>
            <a:r>
              <a:rPr b="0" lang="en-US" sz="3600" spc="-1" strike="noStrike">
                <a:solidFill>
                  <a:srgbClr val="1e4e79"/>
                </a:solidFill>
                <a:latin typeface="Arial"/>
                <a:ea typeface="Adobe 黑体 Std R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任意多边形 10"/>
          <p:cNvSpPr/>
          <p:nvPr/>
        </p:nvSpPr>
        <p:spPr>
          <a:xfrm>
            <a:off x="4735440" y="1228680"/>
            <a:ext cx="3353040" cy="4937040"/>
          </a:xfrm>
          <a:prstGeom prst="pi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任意多边形 11"/>
          <p:cNvSpPr/>
          <p:nvPr/>
        </p:nvSpPr>
        <p:spPr>
          <a:xfrm>
            <a:off x="8088480" y="1228680"/>
            <a:ext cx="3352680" cy="4937040"/>
          </a:xfrm>
          <a:prstGeom prst="pie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2"/>
          <p:cNvSpPr/>
          <p:nvPr/>
        </p:nvSpPr>
        <p:spPr>
          <a:xfrm>
            <a:off x="466560" y="2516040"/>
            <a:ext cx="780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4e79"/>
                </a:solidFill>
                <a:latin typeface="Arial Unicode MS"/>
                <a:ea typeface="Arial Unicode MS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493560" y="3094200"/>
            <a:ext cx="60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e79"/>
                </a:solidFill>
                <a:latin typeface="Arial Unicode MS"/>
                <a:ea typeface="Arial Unicode MS"/>
              </a:rPr>
              <a:t>This is a sample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e79"/>
                </a:solidFill>
                <a:latin typeface="Arial Unicode MS"/>
                <a:ea typeface="Arial Unicode MS"/>
              </a:rPr>
              <a:t>Insert your desired text 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5499360" y="2543040"/>
            <a:ext cx="1826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7070"/>
                </a:solidFill>
                <a:latin typeface="Arial"/>
                <a:ea typeface="Adobe 黑体 Std R"/>
              </a:rPr>
              <a:t>在这里输入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7070"/>
                </a:solidFill>
                <a:latin typeface="Arial"/>
                <a:ea typeface="Adobe 黑体 Std R"/>
              </a:rPr>
              <a:t>在这里输入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7070"/>
                </a:solidFill>
                <a:latin typeface="Arial"/>
                <a:ea typeface="Adobe 黑体 Std R"/>
              </a:rPr>
              <a:t>在这里输入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7070"/>
                </a:solidFill>
                <a:latin typeface="Arial"/>
                <a:ea typeface="Adobe 黑体 Std R"/>
              </a:rPr>
              <a:t>在这里输入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7070"/>
                </a:solidFill>
                <a:latin typeface="Arial"/>
                <a:ea typeface="Adobe 黑体 Std R"/>
              </a:rPr>
              <a:t>在这里输入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7070"/>
                </a:solidFill>
                <a:latin typeface="Arial"/>
                <a:ea typeface="Adobe 黑体 Std R"/>
              </a:rPr>
              <a:t>在这里输入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7070"/>
                </a:solidFill>
                <a:latin typeface="Arial"/>
                <a:ea typeface="Adobe 黑体 Std R"/>
              </a:rPr>
              <a:t>在这里输入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4"/>
          <p:cNvSpPr/>
          <p:nvPr/>
        </p:nvSpPr>
        <p:spPr>
          <a:xfrm>
            <a:off x="8800560" y="2557440"/>
            <a:ext cx="1826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7070"/>
                </a:solidFill>
                <a:latin typeface="Arial"/>
                <a:ea typeface="Adobe 黑体 Std R"/>
              </a:rPr>
              <a:t>在这里输入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7070"/>
                </a:solidFill>
                <a:latin typeface="Arial"/>
                <a:ea typeface="Adobe 黑体 Std R"/>
              </a:rPr>
              <a:t>在这里输入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7070"/>
                </a:solidFill>
                <a:latin typeface="Arial"/>
                <a:ea typeface="Adobe 黑体 Std R"/>
              </a:rPr>
              <a:t>在这里输入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7070"/>
                </a:solidFill>
                <a:latin typeface="Arial"/>
                <a:ea typeface="Adobe 黑体 Std R"/>
              </a:rPr>
              <a:t>在这里输入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7070"/>
                </a:solidFill>
                <a:latin typeface="Arial"/>
                <a:ea typeface="Adobe 黑体 Std R"/>
              </a:rPr>
              <a:t>在这里输入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7070"/>
                </a:solidFill>
                <a:latin typeface="Arial"/>
                <a:ea typeface="Adobe 黑体 Std R"/>
              </a:rPr>
              <a:t>在这里输入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7070"/>
                </a:solidFill>
                <a:latin typeface="Arial"/>
                <a:ea typeface="Adobe 黑体 Std R"/>
              </a:rPr>
              <a:t>在这里输入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3133800" y="1000080"/>
            <a:ext cx="8128080" cy="5419800"/>
            <a:chOff x="3133800" y="1000080"/>
            <a:chExt cx="8128080" cy="5419800"/>
          </a:xfrm>
        </p:grpSpPr>
        <p:sp>
          <p:nvSpPr>
            <p:cNvPr id="123" name=""/>
            <p:cNvSpPr/>
            <p:nvPr/>
          </p:nvSpPr>
          <p:spPr>
            <a:xfrm>
              <a:off x="3133800" y="1000080"/>
              <a:ext cx="4181040" cy="5419800"/>
            </a:xfrm>
            <a:prstGeom prst="blockArc">
              <a:avLst>
                <a:gd name="adj1" fmla="val 18900000"/>
                <a:gd name="adj2" fmla="val 2700000"/>
                <a:gd name="adj3" fmla="val 292"/>
              </a:avLst>
            </a:prstGeom>
            <a:noFill/>
            <a:ln w="12600">
              <a:solidFill>
                <a:srgbClr val="1e4e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76520" y="2146320"/>
              <a:ext cx="4185360" cy="805320"/>
            </a:xfrm>
            <a:prstGeom prst="rect">
              <a:avLst/>
            </a:prstGeom>
            <a:solidFill>
              <a:srgbClr val="2e75b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76520" y="2146320"/>
              <a:ext cx="4185360" cy="8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004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在这里输入文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88080" y="2045880"/>
              <a:ext cx="776520" cy="100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2e7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02240" y="3354480"/>
              <a:ext cx="3959640" cy="805320"/>
            </a:xfrm>
            <a:prstGeom prst="rect">
              <a:avLst/>
            </a:prstGeom>
            <a:solidFill>
              <a:srgbClr val="2e75b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02240" y="3354480"/>
              <a:ext cx="3959640" cy="8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004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在这里输入文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13800" y="3254040"/>
              <a:ext cx="776520" cy="100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2e7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76520" y="4562640"/>
              <a:ext cx="4185360" cy="805320"/>
            </a:xfrm>
            <a:prstGeom prst="rect">
              <a:avLst/>
            </a:prstGeom>
            <a:solidFill>
              <a:srgbClr val="2e75b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76520" y="4562640"/>
              <a:ext cx="4185360" cy="8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004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在这里输入文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88080" y="4461840"/>
              <a:ext cx="776520" cy="100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2e7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文本框 15"/>
          <p:cNvSpPr/>
          <p:nvPr/>
        </p:nvSpPr>
        <p:spPr>
          <a:xfrm>
            <a:off x="943920" y="2933640"/>
            <a:ext cx="196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e4e79"/>
                </a:solidFill>
                <a:latin typeface="Arial"/>
                <a:ea typeface="Adobe 黑体 Std R"/>
              </a:rPr>
              <a:t>在这里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e4e79"/>
                </a:solidFill>
                <a:latin typeface="Arial"/>
                <a:ea typeface="Adobe 黑体 Std R"/>
              </a:rPr>
              <a:t>入小标题</a:t>
            </a:r>
            <a:r>
              <a:rPr b="0" lang="en-US" sz="4400" spc="-1" strike="noStrike">
                <a:solidFill>
                  <a:srgbClr val="1e4e79"/>
                </a:solidFill>
                <a:latin typeface="Arial"/>
                <a:ea typeface="Adobe 黑体 Std R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3"/>
          <p:cNvSpPr/>
          <p:nvPr/>
        </p:nvSpPr>
        <p:spPr>
          <a:xfrm>
            <a:off x="0" y="-6480"/>
            <a:ext cx="12192120" cy="59688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16"/>
          <p:cNvGrpSpPr/>
          <p:nvPr/>
        </p:nvGrpSpPr>
        <p:grpSpPr>
          <a:xfrm>
            <a:off x="549360" y="-6480"/>
            <a:ext cx="1266480" cy="1236960"/>
            <a:chOff x="549360" y="-6480"/>
            <a:chExt cx="1266480" cy="1236960"/>
          </a:xfrm>
        </p:grpSpPr>
        <p:sp>
          <p:nvSpPr>
            <p:cNvPr id="136" name="流程图: 数据 17"/>
            <p:cNvSpPr/>
            <p:nvPr/>
          </p:nvSpPr>
          <p:spPr>
            <a:xfrm rot="10800000">
              <a:off x="862200" y="592920"/>
              <a:ext cx="953640" cy="637200"/>
            </a:xfrm>
            <a:prstGeom prst="flowChartInputOutpu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18"/>
            <p:cNvSpPr/>
            <p:nvPr/>
          </p:nvSpPr>
          <p:spPr>
            <a:xfrm rot="16200000">
              <a:off x="473040" y="69840"/>
              <a:ext cx="1236960" cy="108432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文本框 19"/>
          <p:cNvSpPr/>
          <p:nvPr/>
        </p:nvSpPr>
        <p:spPr>
          <a:xfrm>
            <a:off x="1339920" y="-284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研究框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1428840" y="612720"/>
            <a:ext cx="9261360" cy="6402600"/>
            <a:chOff x="1428840" y="612720"/>
            <a:chExt cx="9261360" cy="6402600"/>
          </a:xfrm>
        </p:grpSpPr>
        <p:sp>
          <p:nvSpPr>
            <p:cNvPr id="140" name=""/>
            <p:cNvSpPr/>
            <p:nvPr/>
          </p:nvSpPr>
          <p:spPr>
            <a:xfrm>
              <a:off x="1428840" y="5094720"/>
              <a:ext cx="9261360" cy="1920600"/>
            </a:xfrm>
            <a:prstGeom prst="roundRect">
              <a:avLst>
                <a:gd name="adj" fmla="val 10000"/>
              </a:avLst>
            </a:prstGeom>
            <a:solidFill>
              <a:srgbClr val="d4e3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28840" y="5094720"/>
              <a:ext cx="277848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8760" rIns="248760" tIns="248760" bIns="24876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三层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28840" y="2853720"/>
              <a:ext cx="9261360" cy="1920600"/>
            </a:xfrm>
            <a:prstGeom prst="roundRect">
              <a:avLst>
                <a:gd name="adj" fmla="val 10000"/>
              </a:avLst>
            </a:prstGeom>
            <a:solidFill>
              <a:srgbClr val="d4e3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28840" y="2853720"/>
              <a:ext cx="277848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8760" rIns="248760" tIns="248760" bIns="24876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二层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28840" y="612720"/>
              <a:ext cx="9261360" cy="1920600"/>
            </a:xfrm>
            <a:prstGeom prst="roundRect">
              <a:avLst>
                <a:gd name="adj" fmla="val 10000"/>
              </a:avLst>
            </a:prstGeom>
            <a:solidFill>
              <a:srgbClr val="d4e3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28840" y="612720"/>
              <a:ext cx="277848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8760" rIns="248760" tIns="248760" bIns="24876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一层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14000" y="772560"/>
              <a:ext cx="1284120" cy="1600560"/>
            </a:xfrm>
            <a:custGeom>
              <a:avLst/>
              <a:gdLst>
                <a:gd name="textAreaLeft" fmla="*/ 37440 w 1284120"/>
                <a:gd name="textAreaRight" fmla="*/ 1246680 w 1284120"/>
                <a:gd name="textAreaTop" fmla="*/ 37440 h 1600560"/>
                <a:gd name="textAreaBottom" fmla="*/ 1563120 h 1600560"/>
              </a:gdLst>
              <a:ahLst/>
              <a:rect l="textAreaLeft" t="textAreaTop" r="textAreaRight" b="textAreaBottom"/>
              <a:pathLst>
                <a:path w="21600" h="26921">
                  <a:moveTo>
                    <a:pt x="2160" y="0"/>
                  </a:moveTo>
                  <a:arcTo wR="2160" hR="2160" stAng="16200000" swAng="-5400000"/>
                  <a:lnTo>
                    <a:pt x="0" y="24761"/>
                  </a:lnTo>
                  <a:arcTo wR="2160" hR="2160" stAng="10800000" swAng="-5400000"/>
                  <a:lnTo>
                    <a:pt x="19440" y="2692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39200" y="819360"/>
              <a:ext cx="1234080" cy="15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在这里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入小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86560" y="2373480"/>
              <a:ext cx="1669320" cy="640080"/>
            </a:xfrm>
            <a:custGeom>
              <a:avLst/>
              <a:gdLst>
                <a:gd name="textAreaLeft" fmla="*/ 0 w 1669320"/>
                <a:gd name="textAreaRight" fmla="*/ 1669680 w 166932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w="1669459" h="342453">
                  <a:moveTo>
                    <a:pt x="1669459" y="0"/>
                  </a:moveTo>
                  <a:lnTo>
                    <a:pt x="1669459" y="171226"/>
                  </a:lnTo>
                  <a:lnTo>
                    <a:pt x="0" y="171226"/>
                  </a:lnTo>
                  <a:lnTo>
                    <a:pt x="0" y="342453"/>
                  </a:lnTo>
                </a:path>
              </a:pathLst>
            </a:custGeom>
            <a:noFill/>
            <a:ln w="12600">
              <a:solidFill>
                <a:srgbClr val="5889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44320" y="3013560"/>
              <a:ext cx="1284120" cy="1600560"/>
            </a:xfrm>
            <a:custGeom>
              <a:avLst/>
              <a:gdLst>
                <a:gd name="textAreaLeft" fmla="*/ 37440 w 1284120"/>
                <a:gd name="textAreaRight" fmla="*/ 1246680 w 1284120"/>
                <a:gd name="textAreaTop" fmla="*/ 37440 h 1600560"/>
                <a:gd name="textAreaBottom" fmla="*/ 1563120 h 1600560"/>
              </a:gdLst>
              <a:ahLst/>
              <a:rect l="textAreaLeft" t="textAreaTop" r="textAreaRight" b="textAreaBottom"/>
              <a:pathLst>
                <a:path w="21600" h="26921">
                  <a:moveTo>
                    <a:pt x="2160" y="0"/>
                  </a:moveTo>
                  <a:arcTo wR="2160" hR="2160" stAng="16200000" swAng="-5400000"/>
                  <a:lnTo>
                    <a:pt x="0" y="24761"/>
                  </a:lnTo>
                  <a:arcTo wR="2160" hR="2160" stAng="10800000" swAng="-5400000"/>
                  <a:lnTo>
                    <a:pt x="19440" y="2692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69520" y="3060360"/>
              <a:ext cx="1234080" cy="15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在这输入你的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51720" y="4614480"/>
              <a:ext cx="834480" cy="640080"/>
            </a:xfrm>
            <a:custGeom>
              <a:avLst/>
              <a:gdLst>
                <a:gd name="textAreaLeft" fmla="*/ 0 w 834480"/>
                <a:gd name="textAreaRight" fmla="*/ 834840 w 83448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w="834729" h="342453">
                  <a:moveTo>
                    <a:pt x="834729" y="0"/>
                  </a:moveTo>
                  <a:lnTo>
                    <a:pt x="834729" y="171226"/>
                  </a:lnTo>
                  <a:lnTo>
                    <a:pt x="0" y="171226"/>
                  </a:lnTo>
                  <a:lnTo>
                    <a:pt x="0" y="342453"/>
                  </a:lnTo>
                </a:path>
              </a:pathLst>
            </a:custGeom>
            <a:noFill/>
            <a:ln w="12600">
              <a:solidFill>
                <a:srgbClr val="659c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09480" y="5254560"/>
              <a:ext cx="1284120" cy="1600560"/>
            </a:xfrm>
            <a:custGeom>
              <a:avLst/>
              <a:gdLst>
                <a:gd name="textAreaLeft" fmla="*/ 37440 w 1284120"/>
                <a:gd name="textAreaRight" fmla="*/ 1246680 w 1284120"/>
                <a:gd name="textAreaTop" fmla="*/ 37440 h 1600560"/>
                <a:gd name="textAreaBottom" fmla="*/ 1563120 h 1600560"/>
              </a:gdLst>
              <a:ahLst/>
              <a:rect l="textAreaLeft" t="textAreaTop" r="textAreaRight" b="textAreaBottom"/>
              <a:pathLst>
                <a:path w="21600" h="26921">
                  <a:moveTo>
                    <a:pt x="2160" y="0"/>
                  </a:moveTo>
                  <a:arcTo wR="2160" hR="2160" stAng="16200000" swAng="-5400000"/>
                  <a:lnTo>
                    <a:pt x="0" y="24761"/>
                  </a:lnTo>
                  <a:arcTo wR="2160" hR="2160" stAng="10800000" swAng="-5400000"/>
                  <a:lnTo>
                    <a:pt x="19440" y="2692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34680" y="5301720"/>
              <a:ext cx="1234080" cy="15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在这输入你的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86560" y="4614480"/>
              <a:ext cx="834480" cy="640080"/>
            </a:xfrm>
            <a:custGeom>
              <a:avLst/>
              <a:gdLst>
                <a:gd name="textAreaLeft" fmla="*/ 0 w 834480"/>
                <a:gd name="textAreaRight" fmla="*/ 834840 w 83448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w="834729" h="342453">
                  <a:moveTo>
                    <a:pt x="0" y="0"/>
                  </a:moveTo>
                  <a:lnTo>
                    <a:pt x="0" y="171226"/>
                  </a:lnTo>
                  <a:lnTo>
                    <a:pt x="834729" y="171226"/>
                  </a:lnTo>
                  <a:lnTo>
                    <a:pt x="834729" y="342453"/>
                  </a:lnTo>
                </a:path>
              </a:pathLst>
            </a:custGeom>
            <a:noFill/>
            <a:ln w="12600">
              <a:solidFill>
                <a:srgbClr val="659c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79160" y="5254560"/>
              <a:ext cx="1284120" cy="1600560"/>
            </a:xfrm>
            <a:custGeom>
              <a:avLst/>
              <a:gdLst>
                <a:gd name="textAreaLeft" fmla="*/ 37440 w 1284120"/>
                <a:gd name="textAreaRight" fmla="*/ 1246680 w 1284120"/>
                <a:gd name="textAreaTop" fmla="*/ 37440 h 1600560"/>
                <a:gd name="textAreaBottom" fmla="*/ 1563120 h 1600560"/>
              </a:gdLst>
              <a:ahLst/>
              <a:rect l="textAreaLeft" t="textAreaTop" r="textAreaRight" b="textAreaBottom"/>
              <a:pathLst>
                <a:path w="21600" h="26921">
                  <a:moveTo>
                    <a:pt x="2160" y="0"/>
                  </a:moveTo>
                  <a:arcTo wR="2160" hR="2160" stAng="16200000" swAng="-5400000"/>
                  <a:lnTo>
                    <a:pt x="0" y="24761"/>
                  </a:lnTo>
                  <a:arcTo wR="2160" hR="2160" stAng="10800000" swAng="-5400000"/>
                  <a:lnTo>
                    <a:pt x="19440" y="2692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04360" y="5301720"/>
              <a:ext cx="1234080" cy="15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在这输入你的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56240" y="2373480"/>
              <a:ext cx="1669320" cy="640080"/>
            </a:xfrm>
            <a:custGeom>
              <a:avLst/>
              <a:gdLst>
                <a:gd name="textAreaLeft" fmla="*/ 0 w 1669320"/>
                <a:gd name="textAreaRight" fmla="*/ 1669680 w 166932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w="1669459" h="342453">
                  <a:moveTo>
                    <a:pt x="0" y="0"/>
                  </a:moveTo>
                  <a:lnTo>
                    <a:pt x="0" y="171226"/>
                  </a:lnTo>
                  <a:lnTo>
                    <a:pt x="1669459" y="171226"/>
                  </a:lnTo>
                  <a:lnTo>
                    <a:pt x="1669459" y="342453"/>
                  </a:lnTo>
                </a:path>
              </a:pathLst>
            </a:custGeom>
            <a:noFill/>
            <a:ln w="12600">
              <a:solidFill>
                <a:srgbClr val="5889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383680" y="3013560"/>
              <a:ext cx="1284120" cy="1600560"/>
            </a:xfrm>
            <a:custGeom>
              <a:avLst/>
              <a:gdLst>
                <a:gd name="textAreaLeft" fmla="*/ 37440 w 1284120"/>
                <a:gd name="textAreaRight" fmla="*/ 1246680 w 1284120"/>
                <a:gd name="textAreaTop" fmla="*/ 37440 h 1600560"/>
                <a:gd name="textAreaBottom" fmla="*/ 1563120 h 1600560"/>
              </a:gdLst>
              <a:ahLst/>
              <a:rect l="textAreaLeft" t="textAreaTop" r="textAreaRight" b="textAreaBottom"/>
              <a:pathLst>
                <a:path w="21600" h="26921">
                  <a:moveTo>
                    <a:pt x="2160" y="0"/>
                  </a:moveTo>
                  <a:arcTo wR="2160" hR="2160" stAng="16200000" swAng="-5400000"/>
                  <a:lnTo>
                    <a:pt x="0" y="24761"/>
                  </a:lnTo>
                  <a:arcTo wR="2160" hR="2160" stAng="10800000" swAng="-5400000"/>
                  <a:lnTo>
                    <a:pt x="19440" y="2692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408880" y="3060360"/>
              <a:ext cx="1234080" cy="15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在这输入你的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91080" y="4614480"/>
              <a:ext cx="834480" cy="640080"/>
            </a:xfrm>
            <a:custGeom>
              <a:avLst/>
              <a:gdLst>
                <a:gd name="textAreaLeft" fmla="*/ 0 w 834480"/>
                <a:gd name="textAreaRight" fmla="*/ 834840 w 83448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w="834729" h="342453">
                  <a:moveTo>
                    <a:pt x="834729" y="0"/>
                  </a:moveTo>
                  <a:lnTo>
                    <a:pt x="834729" y="171226"/>
                  </a:lnTo>
                  <a:lnTo>
                    <a:pt x="0" y="171226"/>
                  </a:lnTo>
                  <a:lnTo>
                    <a:pt x="0" y="342453"/>
                  </a:lnTo>
                </a:path>
              </a:pathLst>
            </a:custGeom>
            <a:noFill/>
            <a:ln w="12600">
              <a:solidFill>
                <a:srgbClr val="659c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48840" y="5254560"/>
              <a:ext cx="1284120" cy="1600560"/>
            </a:xfrm>
            <a:custGeom>
              <a:avLst/>
              <a:gdLst>
                <a:gd name="textAreaLeft" fmla="*/ 37440 w 1284120"/>
                <a:gd name="textAreaRight" fmla="*/ 1246680 w 1284120"/>
                <a:gd name="textAreaTop" fmla="*/ 37440 h 1600560"/>
                <a:gd name="textAreaBottom" fmla="*/ 1563120 h 1600560"/>
              </a:gdLst>
              <a:ahLst/>
              <a:rect l="textAreaLeft" t="textAreaTop" r="textAreaRight" b="textAreaBottom"/>
              <a:pathLst>
                <a:path w="21600" h="26921">
                  <a:moveTo>
                    <a:pt x="2160" y="0"/>
                  </a:moveTo>
                  <a:arcTo wR="2160" hR="2160" stAng="16200000" swAng="-5400000"/>
                  <a:lnTo>
                    <a:pt x="0" y="24761"/>
                  </a:lnTo>
                  <a:arcTo wR="2160" hR="2160" stAng="10800000" swAng="-5400000"/>
                  <a:lnTo>
                    <a:pt x="19440" y="2692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74040" y="5301720"/>
              <a:ext cx="1234080" cy="15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在这输入你的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025920" y="4614480"/>
              <a:ext cx="834480" cy="640080"/>
            </a:xfrm>
            <a:custGeom>
              <a:avLst/>
              <a:gdLst>
                <a:gd name="textAreaLeft" fmla="*/ 0 w 834480"/>
                <a:gd name="textAreaRight" fmla="*/ 834840 w 83448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w="834729" h="342453">
                  <a:moveTo>
                    <a:pt x="0" y="0"/>
                  </a:moveTo>
                  <a:lnTo>
                    <a:pt x="0" y="171226"/>
                  </a:lnTo>
                  <a:lnTo>
                    <a:pt x="834729" y="171226"/>
                  </a:lnTo>
                  <a:lnTo>
                    <a:pt x="834729" y="342453"/>
                  </a:lnTo>
                </a:path>
              </a:pathLst>
            </a:custGeom>
            <a:noFill/>
            <a:ln w="12600">
              <a:solidFill>
                <a:srgbClr val="659c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218520" y="5254560"/>
              <a:ext cx="1284120" cy="1600560"/>
            </a:xfrm>
            <a:custGeom>
              <a:avLst/>
              <a:gdLst>
                <a:gd name="textAreaLeft" fmla="*/ 37440 w 1284120"/>
                <a:gd name="textAreaRight" fmla="*/ 1246680 w 1284120"/>
                <a:gd name="textAreaTop" fmla="*/ 37440 h 1600560"/>
                <a:gd name="textAreaBottom" fmla="*/ 1563120 h 1600560"/>
              </a:gdLst>
              <a:ahLst/>
              <a:rect l="textAreaLeft" t="textAreaTop" r="textAreaRight" b="textAreaBottom"/>
              <a:pathLst>
                <a:path w="21600" h="26921">
                  <a:moveTo>
                    <a:pt x="2160" y="0"/>
                  </a:moveTo>
                  <a:arcTo wR="2160" hR="2160" stAng="16200000" swAng="-5400000"/>
                  <a:lnTo>
                    <a:pt x="0" y="24761"/>
                  </a:lnTo>
                  <a:arcTo wR="2160" hR="2160" stAng="10800000" swAng="-5400000"/>
                  <a:lnTo>
                    <a:pt x="19440" y="2692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243360" y="5301720"/>
              <a:ext cx="1234080" cy="15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在这输入你的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矩形 7"/>
          <p:cNvSpPr/>
          <p:nvPr/>
        </p:nvSpPr>
        <p:spPr>
          <a:xfrm>
            <a:off x="0" y="-6480"/>
            <a:ext cx="12192120" cy="59688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组合 9"/>
          <p:cNvGrpSpPr/>
          <p:nvPr/>
        </p:nvGrpSpPr>
        <p:grpSpPr>
          <a:xfrm>
            <a:off x="549360" y="-6480"/>
            <a:ext cx="1266480" cy="1236960"/>
            <a:chOff x="549360" y="-6480"/>
            <a:chExt cx="1266480" cy="1236960"/>
          </a:xfrm>
        </p:grpSpPr>
        <p:sp>
          <p:nvSpPr>
            <p:cNvPr id="168" name="流程图: 数据 10"/>
            <p:cNvSpPr/>
            <p:nvPr/>
          </p:nvSpPr>
          <p:spPr>
            <a:xfrm rot="10800000">
              <a:off x="862200" y="592920"/>
              <a:ext cx="953640" cy="637200"/>
            </a:xfrm>
            <a:prstGeom prst="flowChartInputOutpu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11"/>
            <p:cNvSpPr/>
            <p:nvPr/>
          </p:nvSpPr>
          <p:spPr>
            <a:xfrm rot="16200000">
              <a:off x="473040" y="69840"/>
              <a:ext cx="1236960" cy="108432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文本框 12"/>
          <p:cNvSpPr/>
          <p:nvPr/>
        </p:nvSpPr>
        <p:spPr>
          <a:xfrm>
            <a:off x="1339920" y="-284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研究框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1"/>
          <p:cNvSpPr/>
          <p:nvPr/>
        </p:nvSpPr>
        <p:spPr>
          <a:xfrm>
            <a:off x="0" y="-6480"/>
            <a:ext cx="12192120" cy="59688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5"/>
          <p:cNvSpPr/>
          <p:nvPr/>
        </p:nvSpPr>
        <p:spPr>
          <a:xfrm>
            <a:off x="1339920" y="-284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研究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-1058760" y="1716120"/>
            <a:ext cx="6562800" cy="3967200"/>
            <a:chOff x="-1058760" y="1716120"/>
            <a:chExt cx="6562800" cy="3967200"/>
          </a:xfrm>
        </p:grpSpPr>
        <p:sp>
          <p:nvSpPr>
            <p:cNvPr id="174" name=""/>
            <p:cNvSpPr/>
            <p:nvPr/>
          </p:nvSpPr>
          <p:spPr>
            <a:xfrm>
              <a:off x="1379520" y="3468240"/>
              <a:ext cx="3431520" cy="1960560"/>
            </a:xfrm>
            <a:prstGeom prst="pie">
              <a:avLst/>
            </a:prstGeom>
            <a:solidFill>
              <a:srgbClr val="2e75b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69640" y="3927600"/>
              <a:ext cx="205164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理论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-616680" y="3004920"/>
              <a:ext cx="2495520" cy="1425960"/>
            </a:xfrm>
            <a:prstGeom prst="pie">
              <a:avLst/>
            </a:prstGeom>
            <a:solidFill>
              <a:srgbClr val="2e75b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160" y="3366000"/>
              <a:ext cx="1238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理论</a:t>
              </a: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20700000">
              <a:off x="780840" y="2020680"/>
              <a:ext cx="2445120" cy="1397160"/>
            </a:xfrm>
            <a:prstGeom prst="pie">
              <a:avLst/>
            </a:prstGeom>
            <a:solidFill>
              <a:srgbClr val="2e75b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17240" y="2327400"/>
              <a:ext cx="137232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理论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11680" y="3173760"/>
              <a:ext cx="4392360" cy="2509560"/>
            </a:xfrm>
            <a:custGeom>
              <a:avLst/>
              <a:gdLst>
                <a:gd name="textAreaLeft" fmla="*/ 0 w 4392360"/>
                <a:gd name="textAreaRight" fmla="*/ 4392720 w 4392360"/>
                <a:gd name="textAreaTop" fmla="*/ 0 h 2509560"/>
                <a:gd name="textAreaBottom" fmla="*/ 2509920 h 25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08" y="4270"/>
                  </a:moveTo>
                  <a:arcTo wR="-9788" hR="-9788" stAng="-8289372" swAng="-8237371"/>
                  <a:lnTo>
                    <a:pt x="9775" y="49"/>
                  </a:lnTo>
                  <a:arcTo wR="10800" hR="10800" stAng="-5726743" swAng="8237371"/>
                  <a:lnTo>
                    <a:pt x="20857" y="19806"/>
                  </a:lnTo>
                  <a:lnTo>
                    <a:pt x="16330" y="20056"/>
                  </a:lnTo>
                  <a:lnTo>
                    <a:pt x="16080" y="15528"/>
                  </a:lnTo>
                  <a:close/>
                </a:path>
              </a:pathLst>
            </a:cu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-1058760" y="2690280"/>
              <a:ext cx="3191040" cy="1823400"/>
            </a:xfrm>
            <a:custGeom>
              <a:avLst/>
              <a:gdLst>
                <a:gd name="textAreaLeft" fmla="*/ 0 w 3191040"/>
                <a:gd name="textAreaRight" fmla="*/ 3191400 w 3191040"/>
                <a:gd name="textAreaTop" fmla="*/ 0 h 1823400"/>
                <a:gd name="textAreaBottom" fmla="*/ 1823760 h 182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169" y="9950"/>
                  </a:moveTo>
                  <a:arcTo wR="-9407" hR="-9407" stAng="-310876" swAng="-17251318"/>
                  <a:lnTo>
                    <a:pt x="6632" y="837"/>
                  </a:lnTo>
                  <a:arcTo wR="10800" hR="10800" stAng="-6762195" swAng="17251318"/>
                  <a:lnTo>
                    <a:pt x="-2645" y="12019"/>
                  </a:lnTo>
                  <a:lnTo>
                    <a:pt x="431" y="8330"/>
                  </a:lnTo>
                  <a:lnTo>
                    <a:pt x="4120" y="11406"/>
                  </a:lnTo>
                  <a:close/>
                </a:path>
              </a:pathLst>
            </a:cu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5280" y="1716120"/>
              <a:ext cx="3440880" cy="1965960"/>
            </a:xfrm>
            <a:custGeom>
              <a:avLst/>
              <a:gdLst>
                <a:gd name="textAreaLeft" fmla="*/ 0 w 3440880"/>
                <a:gd name="textAreaRight" fmla="*/ 3441240 w 3440880"/>
                <a:gd name="textAreaTop" fmla="*/ 0 h 1965960"/>
                <a:gd name="textAreaBottom" fmla="*/ 1966320 h 196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77" y="17149"/>
                  </a:moveTo>
                  <a:arcTo wR="-9508" hR="-9508" stAng="2513824" swAng="-2805603"/>
                  <a:lnTo>
                    <a:pt x="39" y="11716"/>
                  </a:lnTo>
                  <a:arcTo wR="10800" hR="10800" stAng="10508221" swAng="2805603"/>
                  <a:lnTo>
                    <a:pt x="751" y="1785"/>
                  </a:lnTo>
                  <a:lnTo>
                    <a:pt x="5476" y="1529"/>
                  </a:lnTo>
                  <a:lnTo>
                    <a:pt x="5732" y="6254"/>
                  </a:lnTo>
                  <a:close/>
                </a:path>
              </a:pathLst>
            </a:cu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组合 7"/>
          <p:cNvGrpSpPr/>
          <p:nvPr/>
        </p:nvGrpSpPr>
        <p:grpSpPr>
          <a:xfrm>
            <a:off x="4703760" y="1987560"/>
            <a:ext cx="6777000" cy="3424320"/>
            <a:chOff x="4703760" y="1987560"/>
            <a:chExt cx="6777000" cy="3424320"/>
          </a:xfrm>
        </p:grpSpPr>
        <p:sp>
          <p:nvSpPr>
            <p:cNvPr id="184" name="矩形 9"/>
            <p:cNvSpPr/>
            <p:nvPr/>
          </p:nvSpPr>
          <p:spPr>
            <a:xfrm>
              <a:off x="4703760" y="1987560"/>
              <a:ext cx="6777000" cy="105624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矩形 10"/>
            <p:cNvSpPr/>
            <p:nvPr/>
          </p:nvSpPr>
          <p:spPr>
            <a:xfrm>
              <a:off x="4703760" y="3184200"/>
              <a:ext cx="6777000" cy="105624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矩形 11"/>
            <p:cNvSpPr/>
            <p:nvPr/>
          </p:nvSpPr>
          <p:spPr>
            <a:xfrm>
              <a:off x="4703760" y="4355640"/>
              <a:ext cx="6777000" cy="105624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文本框 12"/>
          <p:cNvSpPr/>
          <p:nvPr/>
        </p:nvSpPr>
        <p:spPr>
          <a:xfrm>
            <a:off x="4948200" y="2116080"/>
            <a:ext cx="653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你的文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13"/>
          <p:cNvSpPr/>
          <p:nvPr/>
        </p:nvSpPr>
        <p:spPr>
          <a:xfrm>
            <a:off x="4948200" y="3273480"/>
            <a:ext cx="653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你的文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14"/>
          <p:cNvSpPr/>
          <p:nvPr/>
        </p:nvSpPr>
        <p:spPr>
          <a:xfrm>
            <a:off x="4948200" y="4437000"/>
            <a:ext cx="653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你的文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组合 15"/>
          <p:cNvGrpSpPr/>
          <p:nvPr/>
        </p:nvGrpSpPr>
        <p:grpSpPr>
          <a:xfrm>
            <a:off x="549360" y="-6480"/>
            <a:ext cx="1266480" cy="1236960"/>
            <a:chOff x="549360" y="-6480"/>
            <a:chExt cx="1266480" cy="1236960"/>
          </a:xfrm>
        </p:grpSpPr>
        <p:sp>
          <p:nvSpPr>
            <p:cNvPr id="191" name="流程图: 数据 16"/>
            <p:cNvSpPr/>
            <p:nvPr/>
          </p:nvSpPr>
          <p:spPr>
            <a:xfrm rot="10800000">
              <a:off x="862200" y="592920"/>
              <a:ext cx="953640" cy="637200"/>
            </a:xfrm>
            <a:prstGeom prst="flowChartInputOutpu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矩形 17"/>
            <p:cNvSpPr/>
            <p:nvPr/>
          </p:nvSpPr>
          <p:spPr>
            <a:xfrm rot="16200000">
              <a:off x="473040" y="69840"/>
              <a:ext cx="1236960" cy="108432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3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9T06:29:00Z</dcterms:created>
  <dc:creator>深度联盟http:/sdwm.org</dc:creator>
  <dc:description/>
  <dc:language>en-US</dc:language>
  <cp:lastModifiedBy>深度联盟http:/sdwm.org</cp:lastModifiedBy>
  <dcterms:modified xsi:type="dcterms:W3CDTF">2014-12-08T12:25:12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