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3E7-76BA-4E0F-A7AF-E8813D25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0D5-26A3-403A-AD9D-D273349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D49-BEDF-4D54-861A-6DCC5F36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0FC-A275-4829-AF04-55A6BC1D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EFA0-D991-48FA-BCB1-8CEA6096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A07D-B44C-47C4-B36B-81C3F08E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D15-BB69-4527-8F8A-4A599F3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C94B-F304-4D41-8074-4610C5F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2C9E-2C0C-4478-BC85-C02393E8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6DE-DD0F-4326-9461-AA3881C7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4546-0378-4F11-8AE0-F06D1656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419-5545-4497-8495-82841F1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83D1-9396-4A50-ADF7-3A7568D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6743-809D-407B-AE40-53415B8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53F8-6AA1-4EEE-8F42-15CBB14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6D0F-DE49-4A45-B6B8-899796BC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555B-A780-41A4-999C-1BD41421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F6A-EB14-4546-9C9F-9F810E61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1AB-C12B-4C54-B63D-149B9582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0AD-C65A-4BF7-A2DE-D02BB1DC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443-1B10-4876-8702-414E4C4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7A8-7F8C-47A3-A787-28EBD989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545-7071-4021-805E-B8EAE65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498-EDFF-49EC-AECA-FE84249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35A-90BD-44BA-9D23-8643005D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622-8FB6-426E-ACCE-F9DB37AD7A0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0&amp;tn=baiduimagedetail&amp;word=&#1322;%B5%A9&#892;&#428;&amp;in=11317&amp;cl=2&amp;cm=1&amp;sc=0&amp;lm=-1&amp;pn=7&amp;rn=1&amp;di=1811587848&amp;ln=2000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0&amp;tn=baiduimagedetail&amp;word=%B1%B1%BE%A9%B5&#308;%BA%BD%DA%C0%FA&#695;&amp;in=28015&amp;cl=2&amp;cm=1&amp;sc=0&amp;lm=-1&amp;pn=0&amp;rn=1&amp;di=2659659092&amp;ln=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766.com/www/detailhtml/1101145778.htm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pic/1/11959199616317255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4840" y="1699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方正超粗黑简体"/>
                <a:ea typeface="方正超粗黑简体"/>
              </a:rPr>
              <a:t>北京的春节</a:t>
            </a:r>
            <a:endParaRPr b="0" lang="en-US" sz="8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4" name="矩形 7" descr=""/>
          <p:cNvPicPr/>
          <p:nvPr/>
        </p:nvPicPr>
        <p:blipFill>
          <a:blip r:embed="rId2"/>
          <a:stretch/>
        </p:blipFill>
        <p:spPr>
          <a:xfrm>
            <a:off x="2320920" y="5587920"/>
            <a:ext cx="26510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971640" y="3106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64000" y="765000"/>
            <a:ext cx="45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4720" y="1988640"/>
            <a:ext cx="42688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春节习俗是我国最大的传统民俗节日。春节在古都更受到人们，由此也形成普遍重视了一套完整的春节习俗。农历的正月初一为春节，俗称“过年”。春节原起于殷商时期年头岁尾的祭神祭祖活动。古代的春节称：“元日”、“元旦”。辛亥革命后，才把正月初一正式定名为春节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3132000" y="549360"/>
            <a:ext cx="5185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北京的春节历史</a:t>
            </a:r>
            <a:endParaRPr b="0" lang="en-US" sz="9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Picture 10" descr="u=3448669748,1432821404&amp;gp=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2133720"/>
            <a:ext cx="32180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843280" y="549360"/>
            <a:ext cx="568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北京的春节习俗</a:t>
            </a:r>
            <a:endParaRPr b="0" lang="en-US" sz="9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4360" y="1981080"/>
            <a:ext cx="45608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北京人总是把“福”倒着贴在门里、衣柜里，寓意着福到了。贴春联也有许多讲究，一般百姓家贴红色春联，门楣上贴“横批”，内廷、王公府第，一律用白宣纸镶红边；有父、母丧者则要用蓝纸；庙宇用黄纸。北京人喜欢在屋内廷贴上“抬头见喜”，屋外贴上“出门见喜”，院内贴“全院生辉”等春条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8" descr="u=3724530761,681092716&amp;gp=-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9920" y="2060640"/>
            <a:ext cx="2998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5" descr="2008春节北京庙会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6551640" cy="144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971640" y="46454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庙会是旧时北京过年的主要习俗。除了人们所熟悉的“厂甸”之外，“五显财神庙”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初二至十六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、“东岳庙”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初一至十五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、“白云观”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初一至十九</a:t>
            </a:r>
            <a:r>
              <a:rPr b="0" lang="en-US" sz="2800" spc="-1" strike="noStrike">
                <a:solidFill>
                  <a:srgbClr val="007572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都是有名的庙会，最富有北京过年的特色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3276720" y="692280"/>
            <a:ext cx="47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北京春节的庙会</a:t>
            </a:r>
            <a:endParaRPr b="0" lang="en-US" sz="9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27640" y="2204640"/>
            <a:ext cx="414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Picture 8" descr="11959199616317255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05000"/>
            <a:ext cx="326232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4356000" y="3447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老舍（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899.2.3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966.8.24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），原名舒庆春，字舍予，现代著名作家、杰出的语言大师，被誉为“人民艺术家”。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913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年考入北京师范学校。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918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年毕业后任北京市方家胡同小学校长。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922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年任南开中学国文教员。 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930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年回到祖国，任济南齐鲁大学文学院副教授，并编辑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齐鲁月刊</a:t>
            </a: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2987640" y="54936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作者老舍</a:t>
            </a:r>
            <a:endParaRPr b="0" lang="en-US" sz="9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2133360"/>
            <a:ext cx="854064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色如翡翠      色味双美     零七八碎     万年更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灯火通宵      日夜不绝     万不得以     娴熟技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腊七腊八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冻死寒鸭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是一年里最冷的时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除夕夜家家灯火通宵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许间断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鞭炮日夜不绝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眨眼，到了残灯末庙，春节在正月十九结束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3348000" y="549360"/>
            <a:ext cx="439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好词好句</a:t>
            </a:r>
            <a:endParaRPr b="0" lang="en-US" sz="96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2:00:18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3-21T09:37:51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