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771-6AF1-4831-B560-C49AA0F8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753-76E7-4F7A-9252-75840821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796-FCD7-40D8-A749-226C6EA9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A4F-E522-4D2B-B2C5-537C4DA4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1BE-E2C9-478E-96B5-F27CEA0B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6B8-756C-4EDD-A633-54661F72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E32-63BC-43AA-A379-95328FEF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DE9-33D3-47FF-BDC0-EC95FA39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84C3-8245-46D0-AE35-D215176F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22E-4965-4271-A33E-63C42979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107-FA3A-402F-B144-1AE634EF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E31D-0BA9-47CC-86B1-9AB7BD26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17A-6BFC-4E27-ACF4-0A6A499396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_RTUUQUOER"/>
          <p:cNvPicPr/>
          <p:nvPr/>
        </p:nvPicPr>
        <p:blipFill>
          <a:blip r:embed="rId1"/>
          <a:stretch/>
        </p:blipFill>
        <p:spPr>
          <a:xfrm>
            <a:off x="0" y="-241200"/>
            <a:ext cx="9539280" cy="7153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411280" y="227664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黑体"/>
              </a:rPr>
              <a:t>泊船瓜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979640" y="414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07898249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489760" y="981000"/>
            <a:ext cx="371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春风又    江南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006800" y="981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02_7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1428120" y="189000"/>
            <a:ext cx="632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着这句诗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脑海中出现了怎样的景色呢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过的成语或四字词语说一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742400" y="2205000"/>
            <a:ext cx="561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了同学们的精彩发言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仿佛看见了草长莺飞满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新绿的江南的春天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再仔细观察下面几幅图画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能让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更深入的理解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花1"/>
          <p:cNvPicPr/>
          <p:nvPr/>
        </p:nvPicPr>
        <p:blipFill>
          <a:blip r:embed="rId1"/>
          <a:stretch/>
        </p:blipFill>
        <p:spPr>
          <a:xfrm>
            <a:off x="464328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绿4"/>
          <p:cNvPicPr/>
          <p:nvPr/>
        </p:nvPicPr>
        <p:blipFill>
          <a:blip r:embed="rId2"/>
          <a:stretch/>
        </p:blipFill>
        <p:spPr>
          <a:xfrm>
            <a:off x="0" y="3443400"/>
            <a:ext cx="4643280" cy="34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10a61ff197c1fe207d597d97580d7f0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343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106503"/>
          <p:cNvPicPr/>
          <p:nvPr/>
        </p:nvPicPr>
        <p:blipFill>
          <a:blip r:embed="rId4"/>
          <a:stretch/>
        </p:blipFill>
        <p:spPr>
          <a:xfrm>
            <a:off x="0" y="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12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14290972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露"/>
          <p:cNvPicPr/>
          <p:nvPr/>
        </p:nvPicPr>
        <p:blipFill>
          <a:blip r:embed="rId2"/>
          <a:stretch/>
        </p:blipFill>
        <p:spPr>
          <a:xfrm>
            <a:off x="0" y="0"/>
            <a:ext cx="3645000" cy="3933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诗人"/>
          <p:cNvPicPr/>
          <p:nvPr/>
        </p:nvPicPr>
        <p:blipFill>
          <a:blip r:embed="rId3"/>
          <a:stretch/>
        </p:blipFill>
        <p:spPr>
          <a:xfrm>
            <a:off x="3635280" y="1773360"/>
            <a:ext cx="5508720" cy="4951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577080" y="4581360"/>
            <a:ext cx="2438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望着这一轮明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诗人想些什么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如果是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您又会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说什么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741560" y="549360"/>
            <a:ext cx="292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华文行楷"/>
                <a:ea typeface="华文行楷"/>
              </a:rPr>
              <a:t>明月何时照我还</a:t>
            </a:r>
            <a:r>
              <a:rPr b="1" lang="zh-CN" sz="4400" spc="-1" strike="noStrike">
                <a:solidFill>
                  <a:srgbClr val="990099"/>
                </a:solidFill>
                <a:latin typeface="华文行楷"/>
                <a:ea typeface="华文行楷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0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1311480" y="692280"/>
            <a:ext cx="62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整首诗主要通过描写                  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景物来表达诗人                    之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64000" y="692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黑体"/>
              </a:rPr>
              <a:t>春风、月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995640" y="126828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00"/>
                </a:solidFill>
                <a:latin typeface="Arial"/>
                <a:ea typeface="黑体"/>
              </a:rPr>
              <a:t>浓浓的思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2480" y="3429000"/>
            <a:ext cx="575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00"/>
                </a:solidFill>
                <a:latin typeface="Arial"/>
                <a:ea typeface="华文行楷"/>
              </a:rPr>
              <a:t> 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同学们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我们还学过哪些表达思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之情或思念亲人的古诗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华文行楷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月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2395800" y="1989000"/>
            <a:ext cx="62751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静夜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床前明月光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疑是地上霜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举头望明月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低头思故乡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707920" y="59400"/>
            <a:ext cx="34722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九月九日忆山东兄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王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独在异乡为异客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每逢佳节倍思亲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遥知兄弟登高处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遍插茱萸少一人</a:t>
            </a: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00703071112557823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0" y="98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课外你们再搜集表达思乡情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诗词或歌曲，读一读或唱一唱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48400" y="31417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Arial"/>
                <a:ea typeface="楷体_GB2312"/>
              </a:rPr>
              <a:t>再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月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2704680" y="78228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露从今夜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784320" y="78228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月是故乡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95280" y="981000"/>
            <a:ext cx="83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离故土的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会思念自己的家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人世间最美好最真挚的情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们学过哪些与”月”有关的诗词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643040" y="3141720"/>
            <a:ext cx="581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古到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亮总是让人情不自禁思念家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再来学习一首关于月亮的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_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167280" y="19764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泊船瓜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772720" y="162864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b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463480" y="3500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710080" y="342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7440" y="33577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b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99744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泊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3276360" y="400536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  <a:ea typeface="Arial"/>
              </a:rPr>
              <a:t>р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  <a:ea typeface="Arial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984840" y="4005360"/>
            <a:ext cx="10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湖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00602828432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诗2"/>
          <p:cNvPicPr/>
          <p:nvPr/>
        </p:nvPicPr>
        <p:blipFill>
          <a:blip r:embed="rId2"/>
          <a:stretch/>
        </p:blipFill>
        <p:spPr>
          <a:xfrm>
            <a:off x="356400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324000" y="476280"/>
            <a:ext cx="43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宋神宗熙宁二年（</a:t>
            </a:r>
            <a:r>
              <a:rPr b="1" lang="zh-CN" sz="2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069</a:t>
            </a:r>
            <a:r>
              <a:rPr b="1" lang="zh-CN" sz="2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），王安石当宰相后，决心改革，推行新法，遭到大地主、大官僚的坚决反对，没几年就被罢了官。他在京城闭居无聊，决意回南京去看看妻儿。 </a:t>
            </a:r>
            <a:br>
              <a:rPr sz="2000"/>
            </a:br>
            <a:r>
              <a:rPr b="1" lang="zh-CN" sz="20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    第二年春天，王安石由汴京南下扬州，又乘船西上回金陵（令江苏省南京市），路过于京口（令江苏省镇江市）到了隔江相望的瓜洲时，船靠码头，不再走了。他站在船头上，极目西望，但见青山隐隐，江水滔滔，春风绿野，皓月当空，触景生情，更加怀念起金陵钟山（又名紫金山）的亲人来了。他走进船舶，拿出纸笔，略一思索，就写了一首题名《泊船瓜洲》的诗。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诗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574080" y="587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泊船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3756960" y="119700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【宋】王安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233880" y="1628640"/>
            <a:ext cx="185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京口瓜洲一水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钟山只隔数重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风又绿江南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月何时照我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083680" y="549360"/>
            <a:ext cx="13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会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476360" y="184464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403280" y="1413000"/>
            <a:ext cx="1152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340000" y="1557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j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à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340000" y="23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jiā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859280" y="184464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788000" y="1413000"/>
            <a:ext cx="115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5796000" y="1484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sh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3419640" y="1557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间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419640" y="234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房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6516720" y="14842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5796000" y="234936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sh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659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1258920" y="4221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1116000" y="3789360"/>
            <a:ext cx="10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2124000" y="39337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chó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3348000" y="3860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重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2124000" y="472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zhò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3635280" y="4724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 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5076720" y="422100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>
            <a:off x="5724360" y="414972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5003640" y="3789360"/>
            <a:ext cx="115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6012000" y="3860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há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6948360" y="3860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5940360" y="4724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Arial"/>
              </a:rPr>
              <a:t>huá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7020000" y="47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归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页脚占位符 3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romantic_mood_wallpaper_RO01-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卡通"/>
          <p:cNvPicPr/>
          <p:nvPr/>
        </p:nvPicPr>
        <p:blipFill>
          <a:blip r:embed="rId2"/>
          <a:stretch/>
        </p:blipFill>
        <p:spPr>
          <a:xfrm>
            <a:off x="0" y="0"/>
            <a:ext cx="435600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4999680" y="2440080"/>
            <a:ext cx="21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是自学小行家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427640" y="3068640"/>
            <a:ext cx="45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自己多读几遍这首诗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课文注释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想想诗句的意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并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体会诗人所要表达的感情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: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四人小组讨论诗句的意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并说说你最欣赏诗中哪一句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0070203034851137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141720" y="882720"/>
            <a:ext cx="257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京口瓜洲一水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钟山只隔数重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板书"/>
          <p:cNvPicPr/>
          <p:nvPr/>
        </p:nvPicPr>
        <p:blipFill>
          <a:blip r:embed="rId2"/>
          <a:srcRect l="0" t="0" r="-87" b="0"/>
          <a:stretch/>
        </p:blipFill>
        <p:spPr>
          <a:xfrm>
            <a:off x="2340000" y="2492280"/>
            <a:ext cx="4422600" cy="2805120"/>
          </a:xfrm>
          <a:prstGeom prst="rect">
            <a:avLst/>
          </a:prstGeom>
          <a:ln w="0">
            <a:noFill/>
          </a:ln>
        </p:spPr>
      </p:pic>
      <p:sp>
        <p:nvSpPr>
          <p:cNvPr id="108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教学资源网整理发布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1jiao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5:13:25Z</dcterms:created>
  <dc:creator>WwW.YlmF.CoM</dc:creator>
  <dc:description/>
  <cp:keywords/>
  <dc:language>en-US</dc:language>
  <cp:lastModifiedBy>User</cp:lastModifiedBy>
  <cp:lastPrinted>1899-12-30T00:00:00Z</cp:lastPrinted>
  <dcterms:modified xsi:type="dcterms:W3CDTF">2015-08-02T03:59:23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