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DD6D-CEAC-4F19-BCCF-8CA15504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E9ED-5147-4828-8385-54DE2630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236BC-CA03-4AF3-8C5F-A105BD57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D4D74-B06B-4B00-BE9F-4D915ECA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7B513-EF33-461D-AD1B-A1838B98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31EB4-CAAB-4DD9-8675-6A38E9E9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06C46-C160-46C0-9EC9-9AD7B6FE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01E5B-CB9C-4972-8F34-687AD9C2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4ABED-B7AF-40C1-BDCB-2EAC1364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7593E-3437-4061-BFF2-100EA1E3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2583D-E5A3-488A-A644-8B43D742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767D4-C50D-4B13-BD88-4D6D7905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41FB-4963-477A-8F79-F00F6481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1C04E-2EE8-4054-B2AB-6067D2F0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C1CE7-9D4C-4832-A65D-5575B7B9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F783D-3E82-4C5B-BDBA-52828C86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0155A-0455-4520-8CBE-454F95BC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9CA5C-CA48-4C8D-8AAE-FD785406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CC3CD-F6BE-4930-AF1A-5C2023E1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791EC-0397-4C2F-873F-6384CCDE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55EC1-C96A-46F7-98E7-F723E146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E48CE-A3FC-4540-9F74-A4172915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0C7C5-B1FA-4332-BF38-69EA2D5D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7F7-6CEC-4141-8063-096BA96A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48F07-1759-48B3-8E08-E5E76013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4D9A4-C0C8-44A1-8429-DA8BC279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B7F38-F03D-463C-8951-A9E8A7BB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B1B24-1216-4D16-844A-0C44C8BB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595F5-5C14-4F79-8138-86A68F74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FEBF3-4132-44AB-9316-77AE2A68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0D236-A22C-42DF-A108-157FA315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818BA-2DAB-4AC2-BD45-647B4AF5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8E172-5249-44A0-B6C8-3F2CEE7A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339CB-FE7B-48E9-8FC8-31B46863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A821-EB1F-494C-A706-0B43E631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BD201-C429-4477-A163-588BCC8C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73FAD-36FC-4351-9BDB-1E8AAA10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F3F81-E7F7-462C-B0BA-043E2844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D22A6-CC6A-4234-AF6B-DC619EB1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06D60-F10F-4C80-99F7-36D9C6ED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63A4F-2867-436E-9F1A-47DA8706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33408-7597-492B-AD61-2A9C7BE0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28E37-3A83-44DC-A933-83F69DBD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389ED-6355-4162-9CA0-BDEB84F2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5FE49-E1DC-455E-A3AE-6DEA7B1D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3CB6-B021-4C42-B01A-737F0094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5AF9A-8971-435E-B781-98CFE4EE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56C84-DF72-42FA-9AFE-373F8898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F077B4-4630-4EA5-B9F2-75D05DD9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D8919-EDC5-4E0F-B6F0-5CC84AE0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31ABE-7510-4358-B417-82F2B30D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62F3-9836-4312-B4D1-ABB794AA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22F2-A215-466A-8B12-18D47B20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E63E-41A7-4D69-8EC7-ECD81F3B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A9BC-9A0A-49CE-8946-5F85ED1A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ECBC-79A3-4D69-A6FF-DA470F59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AF99-4A83-44FA-84BA-79D3FFB3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9778-2F12-4D3A-80A4-E0F0E8B6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76B1-09DE-42DC-B8FC-66AFCE34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D9EA-8102-41DD-B6EB-93DD30C3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6EF5-92F1-47D7-BE01-8262DCC6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3D09-D87A-4E4E-AC0E-437E720D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D2ED7-A18A-42BB-8BDC-0593A7DB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88FCB-9435-4C3E-8B0B-53294389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1D536-20FD-4754-B13A-F299F784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13C28-8529-4A0A-B7C7-F5AD0E4D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6574F-2252-430E-BF62-5411D304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153C-7634-404E-B324-3CD2EF5C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B3ED8-C4EA-4E16-AAAD-82D29DEA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E0F4B-1F55-408D-B45C-0793F89A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F9658-9411-429C-815E-82A65C58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DCF0D-A723-481C-8F86-35DEFE96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71187-5A54-44B1-8FB0-FB64ABE5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CD51A-D20D-43F5-BF9E-51267E5A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E9157-EA1A-47B4-B1F2-DC016A78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9A8EE-B4AD-400A-B949-FB7EBCF2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3C2E4-3265-4B48-80BC-467FE1D0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B2AA1-9407-48CC-BBB0-8C91C7A8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A7BF-0CF9-4715-90EC-CCF19BE6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85025-581C-441A-B48A-EC6B002C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6D6AC-9081-44AC-B969-FF345445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FA67C-D14E-4069-82B6-0149E03B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DC845-8099-41C8-9E1A-CF6C85C4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96956-4297-421D-818D-A40A865E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7D740-9443-47BE-B50D-F2C758D1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C0073-DEB8-441D-898A-11E9B5EA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CB767-C774-41E0-8991-30AD609F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D2B92-EDDE-4FA3-8819-0AA111EF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27B29-8B46-485F-BBD0-7FBEA164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4D74-6D64-42DF-BB40-94A07D8C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1A0EC-9212-429C-904F-DF76165F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37E73-6118-42E3-9ADF-BC36772F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A315E-5956-4BE8-A1BD-D544F1F0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7068E-69DE-4C12-999B-B07B5774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D6B19-2918-4F4D-AFA8-85E3B96E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A54E5-0467-48C9-9BF0-173FEF18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59125-F1E5-4A11-93CC-8AAF480E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350FC-7F8B-4A84-961A-A67A9FB9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6B485-A425-4302-95DD-70E22FB3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AF79E-138F-4F55-83AA-7E9CBD41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AF5F-0951-4DF2-91DF-1FDB98D3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50CEF-82CC-4D94-A6CC-AC26D029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3555F-D1C8-4F2C-B5B4-A30405B16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E04E3-CD7B-4F88-A859-8D297485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CC586-DCE0-4C63-9A1D-D5066B20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32105-6BF2-4A06-B041-DC23B823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4671F-97B5-4459-8E7E-3D893951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5AA16-CD96-409F-903B-C40DE113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55A59-FD57-4426-B4D7-41A0D491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2DF69-2569-4FBB-B354-DB4850D7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AB378-FF1C-48F3-9C8B-05F95755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1CEF-58A3-4544-9DDB-A20AC6A3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8EEEF-43D0-4702-88A3-9432DA97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6509D-34F3-4C1B-922A-6BC9ABF5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D87A1-77D2-4874-8902-6F29B46A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8B229-CC3C-4C82-B4CB-96F07AEC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FE187-ECBC-492B-BF07-74EC78A2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78E69-C691-4E43-AC64-21B75E47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6A761-40B4-46FB-9AA9-7D4FE100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4A8EC-EFE3-42A8-9FAB-999B17FF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E98FA-56EA-4119-9D59-E1F0BA31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E37B0-8931-4D40-9214-E09B5F39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F589-9FA5-4E37-B28F-7D05FE71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7CDEC-C0B6-4977-A60B-5C663990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808B6-F20C-43D4-A132-F8944DBB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BA5B3-1947-44A1-BB87-447C6401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7CA61-C5FB-47D7-8961-FC071E24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92295-DFA5-46BF-977C-219DFA46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1DA9E-D0ED-48D0-838C-A6BFABC5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C5C15-3A6C-4D20-9267-20E6DEC8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49A1D-C8D4-4340-A8FD-CE1809F9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945BB-F638-4C47-AD80-95B02623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B541F-8F40-44DE-97C8-A3868246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9FF1-A9FF-4C04-B677-DF54BE55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0168E-7853-4FFC-BDC3-01D2C0D5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09DDB-3826-4973-8B82-64D71C1F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B5891-F5F5-4B00-B4FB-1A5F90F1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3DD77-2741-41D6-9941-E7B20C01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EB592-256A-4A57-A1DF-FF16F484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1B45A-D04E-4D85-B8B9-7FE97CC24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6C64B-EE52-4619-8959-47B22F58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5E778-0D27-4106-B8F9-D4C9D0EE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F288A-282E-482B-90A2-50A1C4DF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08D50-C641-461C-9305-AC9748F6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BD63-189F-4C45-8147-3E1E99669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官方logo"/>
          <p:cNvPicPr/>
          <p:nvPr/>
        </p:nvPicPr>
        <p:blipFill>
          <a:blip r:embed="rId3"/>
          <a:stretch/>
        </p:blipFill>
        <p:spPr>
          <a:xfrm>
            <a:off x="0" y="6080040"/>
            <a:ext cx="1619280" cy="77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706F-8CED-41DA-8C64-4F43F42CD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E248-5A09-4378-9734-F3688E7CF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7835-3B51-407F-8C3C-D5B63D7FBA9E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6819-82B5-48FF-9E09-80B8F2067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D8B2-FB2E-4599-96AA-148F359C3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6404-3363-42C6-9016-613986496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21A4-BB5E-4722-8B83-B00631F2A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A4C5-8C1F-4AE2-9E43-AFBA8EB4C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6A18-A645-4FE5-8C91-16C3C1733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CFC0-DCCE-40B3-983E-6AD7D09DA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27A0-F584-4DDD-BB81-CD676F2BB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WordArt 6" descr=""/>
          <p:cNvPicPr/>
          <p:nvPr/>
        </p:nvPicPr>
        <p:blipFill>
          <a:blip r:embed="rId2"/>
          <a:stretch/>
        </p:blipFill>
        <p:spPr>
          <a:xfrm>
            <a:off x="1322280" y="2127240"/>
            <a:ext cx="6278760" cy="18115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" descr="9"/>
          <p:cNvPicPr/>
          <p:nvPr/>
        </p:nvPicPr>
        <p:blipFill>
          <a:blip r:embed="rId3"/>
          <a:stretch/>
        </p:blipFill>
        <p:spPr>
          <a:xfrm>
            <a:off x="5867280" y="3978360"/>
            <a:ext cx="2738520" cy="2538360"/>
          </a:xfrm>
          <a:prstGeom prst="rect">
            <a:avLst/>
          </a:prstGeom>
          <a:ln w="0">
            <a:noFill/>
          </a:ln>
        </p:spPr>
      </p:pic>
      <p:sp>
        <p:nvSpPr>
          <p:cNvPr id="495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4"/>
          <p:cNvSpPr/>
          <p:nvPr/>
        </p:nvSpPr>
        <p:spPr>
          <a:xfrm>
            <a:off x="1116000" y="1628640"/>
            <a:ext cx="6840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学们思考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诗句“春风又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江南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的“绿”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可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用“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过、到、入”字来代替吗？为什么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2700360" y="2637000"/>
            <a:ext cx="619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971640" y="836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想意境，悟诗情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3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4"/>
          <p:cNvSpPr/>
          <p:nvPr/>
        </p:nvSpPr>
        <p:spPr>
          <a:xfrm>
            <a:off x="324000" y="1484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诗人从距离感写出了对故乡的一片深深的眷恋之情。京口与瓜洲仅一水之隔，钟山（南京）与镇江也只隔着数重山。故乡虽与自己近在咫尺，却是天涯。因为诗人正奉诏晋京，离乡北上，实现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兼济天下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的理想。他所能做的惟有再多望一望故乡的山，故乡的水，故乡的云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1187280" y="620640"/>
            <a:ext cx="60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想意境，悟诗情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6" name="页脚占位符 3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1187280" y="13413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人教新课标 五年级 语文 上册 第二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48" name="WordArt 3" descr=""/>
          <p:cNvPicPr/>
          <p:nvPr/>
        </p:nvPicPr>
        <p:blipFill>
          <a:blip r:embed="rId2"/>
          <a:stretch/>
        </p:blipFill>
        <p:spPr>
          <a:xfrm>
            <a:off x="1322280" y="2127240"/>
            <a:ext cx="6310440" cy="1841400"/>
          </a:xfrm>
          <a:prstGeom prst="rect">
            <a:avLst/>
          </a:prstGeom>
          <a:ln w="0">
            <a:noFill/>
          </a:ln>
        </p:spPr>
      </p:pic>
      <p:sp>
        <p:nvSpPr>
          <p:cNvPr id="549" name="页脚占位符 3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4" descr="88"/>
          <p:cNvPicPr/>
          <p:nvPr/>
        </p:nvPicPr>
        <p:blipFill>
          <a:blip r:embed="rId2"/>
          <a:stretch/>
        </p:blipFill>
        <p:spPr>
          <a:xfrm>
            <a:off x="2411280" y="2492280"/>
            <a:ext cx="4467240" cy="1743120"/>
          </a:xfrm>
          <a:prstGeom prst="rect">
            <a:avLst/>
          </a:prstGeom>
          <a:ln w="0">
            <a:noFill/>
          </a:ln>
        </p:spPr>
      </p:pic>
      <p:sp>
        <p:nvSpPr>
          <p:cNvPr id="551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320" y="685440"/>
            <a:ext cx="470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三步读诗法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560" y="3741840"/>
            <a:ext cx="7421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1835280" y="227664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知诗人，解诗题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1476360" y="321300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抓字眼，明诗意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1187280" y="4149720"/>
            <a:ext cx="60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想意境，悟诗情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1" name="页脚占位符 6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9"/>
          <p:cNvSpPr/>
          <p:nvPr/>
        </p:nvSpPr>
        <p:spPr>
          <a:xfrm>
            <a:off x="755640" y="9079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一）知诗人，解诗题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0" y="1700280"/>
            <a:ext cx="88200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21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86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字介甫，晚号半山，北宋著名的政治家、文学家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唐宋八大家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之一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王安石曾于宋神宗时任宰相，推行新法，遭到大官僚的反对，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没几年就被罢官了。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后来又被重新任命为宰相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这首诗是他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再次上任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离开家乡金陵，路过京口，停留在瓜洲时写的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4" name="Text Box 11"/>
          <p:cNvSpPr/>
          <p:nvPr/>
        </p:nvSpPr>
        <p:spPr>
          <a:xfrm>
            <a:off x="900000" y="1700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王安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5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8"/>
          <p:cNvSpPr/>
          <p:nvPr/>
        </p:nvSpPr>
        <p:spPr>
          <a:xfrm>
            <a:off x="611280" y="501336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华文中宋"/>
              </a:rPr>
              <a:t>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7" name="Text Box 9"/>
          <p:cNvSpPr/>
          <p:nvPr/>
        </p:nvSpPr>
        <p:spPr>
          <a:xfrm>
            <a:off x="900000" y="1341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一）知诗人，解诗题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684360" y="2205000"/>
            <a:ext cx="8064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华文中宋"/>
              </a:rPr>
              <a:t>    </a:t>
            </a:r>
            <a:r>
              <a:rPr b="1" lang="en-US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泊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”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：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中宋"/>
              </a:rPr>
              <a:t>停船靠岸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泊船瓜洲：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中宋"/>
              </a:rPr>
              <a:t>把船停靠在瓜洲的江岸上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9" name="页脚占位符 4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4"/>
          <p:cNvSpPr/>
          <p:nvPr/>
        </p:nvSpPr>
        <p:spPr>
          <a:xfrm>
            <a:off x="2484360" y="69228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1" name="Text Box 9"/>
          <p:cNvSpPr/>
          <p:nvPr/>
        </p:nvSpPr>
        <p:spPr>
          <a:xfrm>
            <a:off x="2050920" y="350028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2" name="Text Box 14">
            <a:hlinkClick r:id="rId2" action="ppaction://hlinksldjump"/>
          </p:cNvPr>
          <p:cNvSpPr/>
          <p:nvPr/>
        </p:nvSpPr>
        <p:spPr>
          <a:xfrm>
            <a:off x="755640" y="69228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（二）抓字眼，明诗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3" name="Text Box 15"/>
          <p:cNvSpPr/>
          <p:nvPr/>
        </p:nvSpPr>
        <p:spPr>
          <a:xfrm>
            <a:off x="1476360" y="1773360"/>
            <a:ext cx="6408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泊船瓜洲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                 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王安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京口瓜洲一水间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钟山只隔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数重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山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春风又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绿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江南岸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明月何时照我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还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4" name="页脚占位符 5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" dur="1" fill="hold"/>
                                  <p:tgtEl>
                                    <p:spTgt spid="5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5"/>
          <p:cNvSpPr/>
          <p:nvPr/>
        </p:nvSpPr>
        <p:spPr>
          <a:xfrm>
            <a:off x="1743120" y="1700280"/>
            <a:ext cx="4181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755640" y="692280"/>
            <a:ext cx="7632720" cy="5473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7" name="Text Box 7"/>
          <p:cNvSpPr/>
          <p:nvPr/>
        </p:nvSpPr>
        <p:spPr>
          <a:xfrm>
            <a:off x="4140360" y="692280"/>
            <a:ext cx="4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8" name="Text Box 9"/>
          <p:cNvSpPr/>
          <p:nvPr/>
        </p:nvSpPr>
        <p:spPr>
          <a:xfrm>
            <a:off x="4427640" y="566100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9" name="Text Box 10"/>
          <p:cNvSpPr/>
          <p:nvPr/>
        </p:nvSpPr>
        <p:spPr>
          <a:xfrm>
            <a:off x="684360" y="3213000"/>
            <a:ext cx="5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西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0" name="Text Box 11"/>
          <p:cNvSpPr/>
          <p:nvPr/>
        </p:nvSpPr>
        <p:spPr>
          <a:xfrm>
            <a:off x="7740720" y="28526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1" name="Freeform 12"/>
          <p:cNvSpPr/>
          <p:nvPr/>
        </p:nvSpPr>
        <p:spPr>
          <a:xfrm>
            <a:off x="1763640" y="2421000"/>
            <a:ext cx="5349960" cy="2260440"/>
          </a:xfrm>
          <a:prstGeom prst="pie">
            <a:avLst/>
          </a:prstGeom>
          <a:noFill/>
          <a:ln w="76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2" name="Text Box 13"/>
          <p:cNvSpPr/>
          <p:nvPr/>
        </p:nvSpPr>
        <p:spPr>
          <a:xfrm>
            <a:off x="2944800" y="4221000"/>
            <a:ext cx="5461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Arial"/>
              </a:rPr>
              <a:t>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3" name="Text Box 15"/>
          <p:cNvSpPr/>
          <p:nvPr/>
        </p:nvSpPr>
        <p:spPr>
          <a:xfrm>
            <a:off x="5292720" y="2492280"/>
            <a:ext cx="171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瓜  洲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4" name="Text Box 17"/>
          <p:cNvSpPr/>
          <p:nvPr/>
        </p:nvSpPr>
        <p:spPr>
          <a:xfrm>
            <a:off x="5796000" y="3860640"/>
            <a:ext cx="125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京口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5" name="Text Box 19"/>
          <p:cNvSpPr/>
          <p:nvPr/>
        </p:nvSpPr>
        <p:spPr>
          <a:xfrm>
            <a:off x="3564000" y="4869000"/>
            <a:ext cx="11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钟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6" name="Freeform 21"/>
          <p:cNvSpPr/>
          <p:nvPr/>
        </p:nvSpPr>
        <p:spPr>
          <a:xfrm>
            <a:off x="4356000" y="4437000"/>
            <a:ext cx="1849680" cy="959040"/>
          </a:xfrm>
          <a:prstGeom prst="pie">
            <a:avLst/>
          </a:pr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7" name="AutoShape 25"/>
          <p:cNvSpPr/>
          <p:nvPr/>
        </p:nvSpPr>
        <p:spPr>
          <a:xfrm>
            <a:off x="3851280" y="5445000"/>
            <a:ext cx="330120" cy="3207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8" name="AutoShape 26"/>
          <p:cNvSpPr/>
          <p:nvPr/>
        </p:nvSpPr>
        <p:spPr>
          <a:xfrm>
            <a:off x="5580000" y="2997360"/>
            <a:ext cx="528840" cy="320400"/>
          </a:xfrm>
          <a:prstGeom prst="pie">
            <a:avLst/>
          </a:pr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9" name="AutoShape 27"/>
          <p:cNvSpPr/>
          <p:nvPr/>
        </p:nvSpPr>
        <p:spPr>
          <a:xfrm>
            <a:off x="5651640" y="4437000"/>
            <a:ext cx="528480" cy="320760"/>
          </a:xfrm>
          <a:prstGeom prst="pie">
            <a:avLst/>
          </a:pr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0" name="Text Box 30"/>
          <p:cNvSpPr/>
          <p:nvPr/>
        </p:nvSpPr>
        <p:spPr>
          <a:xfrm>
            <a:off x="6338160" y="3141720"/>
            <a:ext cx="4546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ff"/>
                </a:solidFill>
                <a:latin typeface="Arial"/>
              </a:rPr>
              <a:t>长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1" name="页脚占位符 17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4"/>
          <p:cNvSpPr/>
          <p:nvPr/>
        </p:nvSpPr>
        <p:spPr>
          <a:xfrm>
            <a:off x="900000" y="1052640"/>
            <a:ext cx="770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瓜洲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：在现在江苏省长江北岸，扬州市南面。　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京口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：今江苏省镇江市，在长江南岸，与瓜州隔江相望。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钟山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：即南京市紫金山，是王安石在江宁（南京市）的住处，在长江南岸。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数重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：几层。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绿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：吹绿了。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还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：指的是回到紫金山下的家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3" name="页脚占位符 2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4"/>
          <p:cNvSpPr/>
          <p:nvPr/>
        </p:nvSpPr>
        <p:spPr>
          <a:xfrm>
            <a:off x="1258920" y="1484280"/>
            <a:ext cx="69120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京口瓜洲一水间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钟山只隔数重山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京口与瓜洲之间不过一水之遥，与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山也只有几山之隔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5" name="Text Box 14">
            <a:hlinkClick r:id="rId2" action="ppaction://hlinksldjump"/>
          </p:cNvPr>
          <p:cNvSpPr/>
          <p:nvPr/>
        </p:nvSpPr>
        <p:spPr>
          <a:xfrm>
            <a:off x="1042920" y="69228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明诗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6" name="页脚占位符 3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14">
            <a:hlinkClick r:id="rId2" action="ppaction://hlinksldjump"/>
          </p:cNvPr>
          <p:cNvSpPr/>
          <p:nvPr/>
        </p:nvSpPr>
        <p:spPr>
          <a:xfrm>
            <a:off x="1332000" y="105264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明诗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1116000" y="1916280"/>
            <a:ext cx="712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春风又</a:t>
            </a:r>
            <a:r>
              <a:rPr b="1" lang="zh-CN" sz="28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绿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江南岸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明月何时照我还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哎！和煦的春风又一次吹绿了大江南岸，天上的明月呀，你什么时候才能陪着我一起回家呢？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9" name="页脚占位符 3"/>
          <p:cNvSpPr/>
          <p:nvPr/>
        </p:nvSpPr>
        <p:spPr>
          <a:xfrm>
            <a:off x="3124080" y="60199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3:45:31Z</dcterms:created>
  <dc:creator>鱼锋</dc:creator>
  <dc:description/>
  <dc:language>en-US</dc:language>
  <cp:lastModifiedBy>User</cp:lastModifiedBy>
  <dcterms:modified xsi:type="dcterms:W3CDTF">2015-08-02T03:59:31Z</dcterms:modified>
  <cp:revision>106</cp:revision>
  <dc:subject/>
  <dc:title>幻灯片 1</dc:title>
</cp:coreProperties>
</file>