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9FA3-BD67-4C42-9BAE-63A2271006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3DFC-C999-4268-8FF8-5E97A899B1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2EA-B94D-4F9A-9E3D-2E155E5DEF4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0C6B-584F-49A5-BEF8-90C07C9A8E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BE8C-E088-412B-BF63-495964F925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AEB-10EC-42DA-9FE6-5BE2822C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DE3-9510-4EBF-B94C-1F95579C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27D-2D5B-43DC-9269-C79402B7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850-361E-4844-98A4-4597D204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534-DF4F-4500-8931-B15D7FDE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A43-AF6B-4B0E-8CA9-FE15B3E9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43FC-F609-49E4-B6C7-2FB1BCBF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699-8B6A-4013-B1C8-E2EFDA55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772-ABE7-4530-BAF8-7FA12CC1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63D-8CE6-4196-A739-11AFDF30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892-3DAD-434D-A80D-D7040C4A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6FE-72D8-4C83-9B04-EA9D484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75B4-8EAA-417E-9CF9-5B9C78E9D8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03280" y="2852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ff"/>
                </a:solidFill>
                <a:latin typeface="Arial"/>
              </a:rPr>
              <a:t>泊 船 瓜 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284720" y="4292640"/>
            <a:ext cx="35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宋 王安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9640" y="189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教版小学语文第十一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瓜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2195640" y="443700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京口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124000" y="458136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京口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600200" y="55832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908000" y="5121360"/>
            <a:ext cx="58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从京口到瓜洲仅是一江之隔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而京口到钟山也只隔着几座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268360" y="765000"/>
            <a:ext cx="33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979640" y="2421000"/>
            <a:ext cx="662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京口瓜洲一水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间</a:t>
            </a:r>
            <a:r>
              <a:rPr b="1" lang="en-US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钟山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隔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数重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风又绿江南岸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月何时照我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还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7236000" y="2421000"/>
            <a:ext cx="152280" cy="152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京口"/>
          <p:cNvPicPr/>
          <p:nvPr/>
        </p:nvPicPr>
        <p:blipFill>
          <a:blip r:embed="rId1"/>
          <a:stretch/>
        </p:blipFill>
        <p:spPr>
          <a:xfrm>
            <a:off x="1476360" y="3500280"/>
            <a:ext cx="6033960" cy="4526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196320" y="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汴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6012000" y="404640"/>
            <a:ext cx="144360" cy="21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5448240" y="187200"/>
            <a:ext cx="716040" cy="415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2"/>
          <p:cNvSpPr/>
          <p:nvPr/>
        </p:nvSpPr>
        <p:spPr>
          <a:xfrm>
            <a:off x="5219640" y="237960"/>
            <a:ext cx="696960" cy="400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081400" y="59472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京杭大运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84360" y="2781360"/>
            <a:ext cx="77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明月何时照我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707jyttou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95280" y="1773360"/>
            <a:ext cx="80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绿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0707jyttou18"/>
          <p:cNvPicPr/>
          <p:nvPr/>
        </p:nvPicPr>
        <p:blipFill>
          <a:blip r:embed="rId1"/>
          <a:stretch/>
        </p:blipFill>
        <p:spPr>
          <a:xfrm>
            <a:off x="-108000" y="-27000"/>
            <a:ext cx="9286920" cy="692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684360" y="1484280"/>
            <a:ext cx="80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</a:t>
            </a:r>
            <a:r>
              <a:rPr b="0" lang="zh-CN" sz="8000" spc="-1" strike="noStrike">
                <a:solidFill>
                  <a:srgbClr val="009999"/>
                </a:solidFill>
                <a:latin typeface="Arial"/>
              </a:rPr>
              <a:t>绿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11280" y="2708280"/>
            <a:ext cx="801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到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过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满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0707jyttou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116000" y="1268280"/>
            <a:ext cx="77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春风又绿江南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桃花又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江南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江南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484360" y="836640"/>
            <a:ext cx="2952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泊船瓜洲</a:t>
            </a:r>
            <a:br>
              <a:rPr sz="5400"/>
            </a:b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  王安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908000" y="2492280"/>
            <a:ext cx="51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京口瓜洲一水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钟山只隔数重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春风又绿江南岸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明月何时照我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84360" y="2781360"/>
            <a:ext cx="77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明月何时照我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0707jyttou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79280" y="0"/>
            <a:ext cx="896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安石是北宋著名的政治改革家，任宰相期间，积极推行变法。变法对富国强兵起到了积极的作用，但是守旧派反对改革，制造谣言诬蔑他，设计陷害他，王安石被逼辞去宰相之职。一年后宋神宗深感变法少不了王安石，于是王安石又被恢复了相位，但仕途的坎坷，官场的黑暗，前途的迷茫，让王安石很不情愿去复职，他两次请求辞去宰相之职，但宋神宗都不准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7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春，迫于无奈，王安石只好勉强上任。北上京城途经瓜洲时，他写下了这首著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泊船瓜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11280" y="3933720"/>
            <a:ext cx="748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684360" y="2781360"/>
            <a:ext cx="77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明月何时照我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99cc00"/>
                </a:solidFill>
                <a:latin typeface="Arial"/>
              </a:rPr>
              <a:t>春风又吹绿了长江两岸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99cc00"/>
                </a:solidFill>
                <a:latin typeface="Arial"/>
              </a:rPr>
              <a:t>明月什么时候才能照着我回到家乡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268360" y="765000"/>
            <a:ext cx="33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979640" y="2421000"/>
            <a:ext cx="662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京口瓜洲一水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间</a:t>
            </a:r>
            <a:r>
              <a:rPr b="1" lang="en-US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钟山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隔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数重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风又绿江南岸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月何时照我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还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7236000" y="2421000"/>
            <a:ext cx="152280" cy="152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tt"/>
          <p:cNvPicPr/>
          <p:nvPr/>
        </p:nvPicPr>
        <p:blipFill>
          <a:blip r:embed="rId1"/>
          <a:stretch/>
        </p:blipFill>
        <p:spPr>
          <a:xfrm>
            <a:off x="-612720" y="-100080"/>
            <a:ext cx="9936000" cy="7002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84360" y="2781360"/>
            <a:ext cx="77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600200" y="2343240"/>
            <a:ext cx="5203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042920" y="2997360"/>
            <a:ext cx="638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4920" y="404640"/>
            <a:ext cx="943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举头望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明月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，低头思故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露从今夜白，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是故乡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海上生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明月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，天涯共此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今夜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明人尽忘，不知秋思落谁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无言独上西楼，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如钩，寂寞梧桐深院锁清秋。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340000" y="836640"/>
            <a:ext cx="33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 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835280" y="2492280"/>
            <a:ext cx="468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京口瓜洲一水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间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钟山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只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隔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数重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春风又绿江南岸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明月何时照我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还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27160" y="2001960"/>
            <a:ext cx="481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读准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43000" y="335268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下面的字在诗中的正确读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泊（           ）、间（ 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重（           ）、还（ 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43000" y="51814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读流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 rot="21231000">
            <a:off x="1143000" y="457200"/>
            <a:ext cx="6095880" cy="1371600"/>
          </a:xfrm>
          <a:prstGeom prst="foldedCorner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一、读 诗 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393920" y="3192480"/>
            <a:ext cx="15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泊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429000" y="32004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停船靠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371600" y="4267080"/>
            <a:ext cx="138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瓜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505320" y="42670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在长江北岸，和镇江隔江相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066680" y="2362320"/>
            <a:ext cx="637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宋体"/>
              </a:rPr>
              <a:t>根据注释理解题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20867400">
            <a:off x="1025280" y="384120"/>
            <a:ext cx="6248160" cy="1981080"/>
          </a:xfrm>
          <a:prstGeom prst="hexagon">
            <a:avLst>
              <a:gd name="adj" fmla="val 1576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二、解题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202840" y="203400"/>
            <a:ext cx="58683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[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注释</a:t>
            </a: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]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1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泊：停船靠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瓜洲：在现在江苏省长江北岸，扬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市南面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京口：在长江南岸，现在的江苏省镇江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4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钟山：现在南京市的紫金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5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数重：几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6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绿：吹绿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7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还：归、回。指的是回到紫金山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家里</a:t>
            </a:r>
            <a:r>
              <a:rPr b="0" lang="zh-CN" sz="44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268360" y="765000"/>
            <a:ext cx="33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979640" y="2421000"/>
            <a:ext cx="662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京口瓜洲一水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间</a:t>
            </a:r>
            <a:r>
              <a:rPr b="1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钟山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隔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数重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风又绿江南岸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月何时照我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还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7236000" y="2421000"/>
            <a:ext cx="152280" cy="152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wl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763640" y="393372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3:45:31Z</dcterms:created>
  <dc:creator>鱼锋</dc:creator>
  <dc:description/>
  <dc:language>en-US</dc:language>
  <cp:lastModifiedBy>Administrator</cp:lastModifiedBy>
  <dcterms:modified xsi:type="dcterms:W3CDTF">2014-10-20T14:08:34Z</dcterms:modified>
  <cp:revision>28</cp:revision>
  <dc:subject/>
  <dc:title>幻灯片 1</dc:title>
</cp:coreProperties>
</file>