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1B6B-D221-4F4F-B08F-D1D9EF6F05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BE47-4513-4DB5-970E-802563A4C4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AEB4-ADE7-44F1-82E7-D06E787DEF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67E-B8F0-46E6-B24F-6258930A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65F-BCFD-4C16-860E-FFD92B7B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E6CD-4946-4616-8DBC-AE6D75E9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074-E74A-4113-AC35-B412C169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A7C-984E-462D-A008-BFDAC01C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3E9-CD1F-438C-A913-2DB81BD4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765-4DDD-4C8E-B2AE-5C283C74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E4CB-C0C1-4F4E-8D67-0E7E5E58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E41-1626-4E02-A218-A63C58AD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BA2F-75E5-49FB-A7A0-389BD455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346C-95F2-45CF-9787-99A1DDFB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EFC-5207-456D-8D91-AAA65087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A88F-6A39-400D-A383-1924BA141D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h0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28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古诗三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京口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2124000" y="4581360"/>
            <a:ext cx="59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京口瓜洲一水间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京口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600200" y="55832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908000" y="5121360"/>
            <a:ext cx="581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钟山只隔数重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京口"/>
          <p:cNvPicPr/>
          <p:nvPr/>
        </p:nvPicPr>
        <p:blipFill>
          <a:blip r:embed="rId1"/>
          <a:stretch/>
        </p:blipFill>
        <p:spPr>
          <a:xfrm>
            <a:off x="1258920" y="278136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6196320" y="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汴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6012000" y="404640"/>
            <a:ext cx="144360" cy="216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8"/>
          <p:cNvSpPr/>
          <p:nvPr/>
        </p:nvSpPr>
        <p:spPr>
          <a:xfrm>
            <a:off x="5580000" y="-171360"/>
            <a:ext cx="716040" cy="4159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2"/>
          <p:cNvSpPr/>
          <p:nvPr/>
        </p:nvSpPr>
        <p:spPr>
          <a:xfrm>
            <a:off x="5219640" y="0"/>
            <a:ext cx="696960" cy="400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4647960" y="60120"/>
            <a:ext cx="72900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京杭大运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0707jyttou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395280" y="1773360"/>
            <a:ext cx="80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春风又绿江南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0707jyttou18"/>
          <p:cNvPicPr/>
          <p:nvPr/>
        </p:nvPicPr>
        <p:blipFill>
          <a:blip r:embed="rId1"/>
          <a:stretch/>
        </p:blipFill>
        <p:spPr>
          <a:xfrm>
            <a:off x="-108000" y="-27000"/>
            <a:ext cx="9286920" cy="6929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684360" y="1484280"/>
            <a:ext cx="80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春风又</a:t>
            </a:r>
            <a:r>
              <a:rPr b="0" lang="zh-CN" sz="8000" spc="-1" strike="noStrike">
                <a:solidFill>
                  <a:srgbClr val="009999"/>
                </a:solidFill>
                <a:latin typeface="Arial"/>
              </a:rPr>
              <a:t>绿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江南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11280" y="2708280"/>
            <a:ext cx="801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春风又到江南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春风又过江南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春风又满江南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t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684360" y="2781360"/>
            <a:ext cx="77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明月何时照我还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0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2340000" y="836640"/>
            <a:ext cx="33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泊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船瓜洲</a:t>
            </a:r>
            <a:br>
              <a:rPr sz="4800"/>
            </a:b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宋 王安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835280" y="2492280"/>
            <a:ext cx="4680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京口瓜洲一水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间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钟山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只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隔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数重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春风又绿江南岸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明月何时照我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还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0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8099be172cf87f4f5baf5348"/>
          <p:cNvPicPr/>
          <p:nvPr/>
        </p:nvPicPr>
        <p:blipFill>
          <a:blip r:embed="rId2"/>
          <a:stretch/>
        </p:blipFill>
        <p:spPr>
          <a:xfrm>
            <a:off x="-252360" y="0"/>
            <a:ext cx="9217080" cy="6902280"/>
          </a:xfrm>
          <a:prstGeom prst="rect">
            <a:avLst/>
          </a:prstGeom>
          <a:ln w="0">
            <a:noFill/>
          </a:ln>
        </p:spPr>
      </p:pic>
      <p:sp>
        <p:nvSpPr>
          <p:cNvPr id="11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0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0" y="267948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忽然，一阵微风拂来，王安石从沉思中清醒过来，感受到了春天温暖的气息。他仿佛来到了充满绿色的江南大地，仿佛漫步在桃红柳绿的家乡。池塘里的鱼儿在自由自在地游来游去，河岸边的柳树吐出了嫩芽，千万条柳枝在微风中摇曳，小鸟在柳条中穿行，还不时传来“叽叽喳喳”的鸣叫声。满山的花草经过春雨的滋润变得更加的精神。山野中小孩在兴高采烈地嬉戏、玩耍，好一幅和谐的江南山村春景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完全被这美好的回忆陶醉了。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1403280" y="2852640"/>
            <a:ext cx="748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ff"/>
                </a:solidFill>
                <a:latin typeface="Arial"/>
              </a:rPr>
              <a:t>泊</a:t>
            </a:r>
            <a:r>
              <a:rPr b="0" lang="en-US" sz="8800" spc="-1" strike="noStrike">
                <a:solidFill>
                  <a:srgbClr val="ff00ff"/>
                </a:solidFill>
                <a:latin typeface="Arial"/>
              </a:rPr>
              <a:t>(bó) </a:t>
            </a:r>
            <a:r>
              <a:rPr b="0" lang="zh-CN" sz="8800" spc="-1" strike="noStrike">
                <a:solidFill>
                  <a:srgbClr val="ff00ff"/>
                </a:solidFill>
                <a:latin typeface="Arial"/>
              </a:rPr>
              <a:t>船瓜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284720" y="4292640"/>
            <a:ext cx="358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</a:rPr>
              <a:t>宋 王安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0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泊（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ó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）停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泊（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ō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） 湖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1403280" y="2852640"/>
            <a:ext cx="748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ff"/>
                </a:solidFill>
                <a:latin typeface="Arial"/>
              </a:rPr>
              <a:t>泊</a:t>
            </a:r>
            <a:r>
              <a:rPr b="0" lang="en-US" sz="8800" spc="-1" strike="noStrike">
                <a:solidFill>
                  <a:srgbClr val="ff00ff"/>
                </a:solidFill>
                <a:latin typeface="Arial"/>
              </a:rPr>
              <a:t>(bó) </a:t>
            </a:r>
            <a:r>
              <a:rPr b="0" lang="zh-CN" sz="8800" spc="-1" strike="noStrike">
                <a:solidFill>
                  <a:srgbClr val="ff00ff"/>
                </a:solidFill>
                <a:latin typeface="Arial"/>
              </a:rPr>
              <a:t>船瓜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284720" y="4292640"/>
            <a:ext cx="358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</a:rPr>
              <a:t>宋 王安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0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2340000" y="836640"/>
            <a:ext cx="33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泊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船瓜洲</a:t>
            </a:r>
            <a:br>
              <a:rPr sz="4800"/>
            </a:b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宋 王安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835280" y="2492280"/>
            <a:ext cx="4680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京口瓜洲一水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间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钟山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只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隔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数重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春风又绿江南岸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明月何时照我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还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0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1547640" y="765000"/>
            <a:ext cx="41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泊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船瓜洲</a:t>
            </a:r>
            <a:br>
              <a:rPr sz="4800"/>
            </a:b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宋  王安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50920" y="2708280"/>
            <a:ext cx="921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京口瓜洲一水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间</a:t>
            </a:r>
            <a:r>
              <a:rPr b="1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(ji</a:t>
            </a:r>
            <a:r>
              <a:rPr b="1" lang="en-US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à</a:t>
            </a:r>
            <a:r>
              <a:rPr b="1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n)</a:t>
            </a:r>
            <a:r>
              <a:rPr b="1" lang="en-US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钟山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只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隔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数（</a:t>
            </a:r>
            <a:r>
              <a:rPr b="1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sh</a:t>
            </a:r>
            <a:r>
              <a:rPr b="0" lang="en-US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ù</a:t>
            </a:r>
            <a:r>
              <a:rPr b="0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重</a:t>
            </a:r>
            <a:r>
              <a:rPr b="1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(ch</a:t>
            </a:r>
            <a:r>
              <a:rPr b="1" lang="en-US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ó</a:t>
            </a:r>
            <a:r>
              <a:rPr b="1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ng)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春风又绿江南岸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明月何时照我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还</a:t>
            </a:r>
            <a:r>
              <a:rPr b="1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(hu</a:t>
            </a:r>
            <a:r>
              <a:rPr b="1" lang="en-US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á</a:t>
            </a:r>
            <a:r>
              <a:rPr b="1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n)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4200" y="731520"/>
            <a:ext cx="7192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多  音  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914400" y="1752480"/>
            <a:ext cx="7086600" cy="3886200"/>
          </a:xfrm>
          <a:prstGeom prst="rect">
            <a:avLst/>
          </a:prstGeom>
          <a:ln w="0">
            <a:noFill/>
          </a:ln>
        </p:spPr>
      </p:pic>
      <p:sp>
        <p:nvSpPr>
          <p:cNvPr id="7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0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547640" y="765000"/>
            <a:ext cx="41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泊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船瓜洲</a:t>
            </a:r>
            <a:br>
              <a:rPr sz="4800"/>
            </a:b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宋  王安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50920" y="2708280"/>
            <a:ext cx="921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京口瓜洲一水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间</a:t>
            </a:r>
            <a:r>
              <a:rPr b="1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(ji</a:t>
            </a:r>
            <a:r>
              <a:rPr b="1" lang="en-US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à</a:t>
            </a:r>
            <a:r>
              <a:rPr b="1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n)</a:t>
            </a:r>
            <a:r>
              <a:rPr b="1" lang="en-US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钟山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只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隔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数（</a:t>
            </a:r>
            <a:r>
              <a:rPr b="1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sh</a:t>
            </a:r>
            <a:r>
              <a:rPr b="0" lang="en-US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ù</a:t>
            </a:r>
            <a:r>
              <a:rPr b="0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重</a:t>
            </a:r>
            <a:r>
              <a:rPr b="1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(ch</a:t>
            </a:r>
            <a:r>
              <a:rPr b="1" lang="en-US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ó</a:t>
            </a:r>
            <a:r>
              <a:rPr b="1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ng)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春风又绿江南岸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明月何时照我</a:t>
            </a: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还</a:t>
            </a:r>
            <a:r>
              <a:rPr b="1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(hu</a:t>
            </a:r>
            <a:r>
              <a:rPr b="1" lang="en-US" sz="4800" spc="-1" strike="noStrike">
                <a:solidFill>
                  <a:srgbClr val="3333cc"/>
                </a:solidFill>
                <a:latin typeface="Arial"/>
                <a:ea typeface="楷体_GB2312"/>
              </a:rPr>
              <a:t>á</a:t>
            </a:r>
            <a:r>
              <a:rPr b="1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n)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瓜洲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324000" y="11592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交流与讨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755640" y="981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自由朗读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句，在下图上标出京口和钟山的位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3:45:31Z</dcterms:created>
  <dc:creator>鱼锋</dc:creator>
  <dc:description/>
  <dc:language>en-US</dc:language>
  <cp:lastModifiedBy>Administrator</cp:lastModifiedBy>
  <dcterms:modified xsi:type="dcterms:W3CDTF">2014-10-20T14:08:43Z</dcterms:modified>
  <cp:revision>65</cp:revision>
  <dc:subject/>
  <dc:title>幻灯片 1</dc:title>
</cp:coreProperties>
</file>