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C6C-BC2C-44E9-8CBD-8BBD1ECF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71F9-3433-43A5-96D5-9B78D9EB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44E-E9A7-4AE1-9216-D0A5CCC7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CB7-76ED-4374-B008-63BD311B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C26A-78EB-453F-8D8D-1B6A129E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877E-26E4-4195-9F75-0F48F72D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9A1B-011E-46E5-B6FB-2A759EAA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79E0-096B-4A30-9379-C813869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93A5-11C5-4653-9199-ED40BCD0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44B-241F-4A07-A5A2-13CA329A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0A8F-C993-4662-911E-AC2EECB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3E7-B0E8-4B6C-81D2-6D2D7A4A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D210-0D05-4402-A90D-95A2BCBA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3EC0-CDCD-4C98-84CE-452B773E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F905-494F-46AC-A822-D41FA986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A487-D6B5-4CC8-8473-6EF20F30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40EB-7719-4931-B285-5E4C81D7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C12-EE21-4625-A657-F3425C44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7C7-184F-463A-B2B3-9B256368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684-BA49-4DD2-BD08-20A8D1B9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D4E-B412-4D0A-9A60-B2FBC1CD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2D7-FC6C-4703-8E44-FA54394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E7B-65D4-4322-B195-8BF69E2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A29-069F-4478-9591-329FF716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EFED-AA06-4DCA-AF49-234BE84C3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D853-7797-485C-B3F6-99FB0AE286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hatu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489600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Tahoma"/>
                <a:ea typeface="楷体_GB2312"/>
              </a:rPr>
              <a:t>泊 船 瓜 洲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809880" y="29707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宋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】 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</a:rPr>
              <a:t>王安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页脚占位符 7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这首诗是作者从江西出发，乘船经长江前往京城为官，途经</a:t>
            </a:r>
            <a:r>
              <a:rPr b="0" lang="zh-CN" sz="3200" spc="-1" strike="noStrike" u="sng">
                <a:solidFill>
                  <a:srgbClr val="000066"/>
                </a:solidFill>
                <a:uFillTx/>
                <a:latin typeface="Tahoma"/>
              </a:rPr>
              <a:t>   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080" y="798120"/>
            <a:ext cx="681192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多  音  字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914400" y="1752480"/>
            <a:ext cx="7086600" cy="3886200"/>
          </a:xfrm>
          <a:prstGeom prst="rect">
            <a:avLst/>
          </a:prstGeom>
          <a:ln w="0">
            <a:noFill/>
          </a:ln>
        </p:spPr>
      </p:pic>
      <p:sp>
        <p:nvSpPr>
          <p:cNvPr id="128" name="页脚占位符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hatu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228600" y="838080"/>
            <a:ext cx="59752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楷体_GB2312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28600" y="3505320"/>
            <a:ext cx="4876920" cy="2666880"/>
          </a:xfrm>
          <a:prstGeom prst="rect">
            <a:avLst/>
          </a:prstGeom>
          <a:ln w="0">
            <a:noFill/>
          </a:ln>
        </p:spPr>
      </p:pic>
      <p:sp>
        <p:nvSpPr>
          <p:cNvPr id="132" name="页脚占位符 6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瓜洲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和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京口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只隔着一条长江，离诗人的家乡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Tahoma"/>
              </a:rPr>
              <a:t>钟山</a:t>
            </a: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也不过隔着几座山而已，可以说，诗人身在瓜洲，已设计好回家的路线。可诗人虽然离家乡这样的近，他是否准备回到家乡呢？从哪里知道？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648320" y="434340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495680" cy="243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3"/>
          <a:stretch/>
        </p:blipFill>
        <p:spPr>
          <a:xfrm>
            <a:off x="0" y="1828800"/>
            <a:ext cx="4495680" cy="2446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4"/>
          <a:stretch/>
        </p:blipFill>
        <p:spPr>
          <a:xfrm>
            <a:off x="0" y="4343400"/>
            <a:ext cx="4495680" cy="25146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1752480" y="228600"/>
            <a:ext cx="59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春风又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楷体_GB2312"/>
              </a:rPr>
              <a:t>绿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江南岸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明月何时照我还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页脚占位符 8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77200"/>
          </a:xfrm>
          <a:prstGeom prst="rect">
            <a:avLst/>
          </a:prstGeom>
          <a:ln w="0">
            <a:noFill/>
          </a:ln>
        </p:spPr>
      </p:pic>
      <p:pic>
        <p:nvPicPr>
          <p:cNvPr id="142" name="gsx.MP3" descr=""/>
          <p:cNvPicPr/>
          <p:nvPr/>
        </p:nvPicPr>
        <p:blipFill>
          <a:blip r:embed="rId2"/>
          <a:stretch/>
        </p:blipFill>
        <p:spPr>
          <a:xfrm>
            <a:off x="8567640" y="6165720"/>
            <a:ext cx="576360" cy="549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838080" y="838080"/>
            <a:ext cx="777240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春风又绿江南岸，江南多美呀！花红柳绿，莺歌燕舞，一派生机勃勃、春意盎然的景象，而诗人只用了一个字就表现出来了，那就是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——“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绿”，可见诗人用字之精妙。其实，诗人曾用过“满”“到”“过”十几个字，经过反复推敲，最终定为“绿”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诗人为何独独钟情于一个“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绿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”字呢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页脚占位符 6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320818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69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春天来了，春风仅仅吹绿了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江南岸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？作者为什么这样说呢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（从地理位置而言，江南春天固然早于江北，但也不可能一江分成两世界；因为诗人平生际遇、此时境况，使得诗人所思尽在江南，故心中只有江南之春。）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990720" y="2362320"/>
            <a:ext cx="6705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诗人乘船路过瓜洲，怀念金陵（南京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故居，而作此诗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京口和瓜洲之间只隔着一条长江，我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居住的钟山隐没在几座山峦的后面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暖和的春风啊，吹绿了江南的田野；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明月啊，什么时候才能照着我回到钟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下的家里？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作者在此地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瓜洲；此时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明月；此景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春；自然想到了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还；抒发了作者思念家乡的情感 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560" y="914040"/>
            <a:ext cx="2687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测  试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34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王安石，（　）代人，曾推行（　　　　），功绩不裴。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泊船瓜洲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》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表达了真挚的（　　　　　　）之情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、解释诗句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春风又绿江南岸，明月何时照我还。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绿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 还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___</a:t>
            </a:r>
            <a:br>
              <a:rPr sz="2400"/>
            </a:b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　全句诗意：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_____________________________________________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这首是写的是诗人路过（  ），怀念（  ），抒发诗人（  ）的思想感情，这感情是在（  ）中流露出来的。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页脚占位符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2012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页脚占位符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8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ahoma"/>
              </a:rPr>
              <a:t>面对明月，你还能想起哪些思乡诗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页脚占位符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4648320"/>
          </a:xfrm>
          <a:prstGeom prst="rect">
            <a:avLst/>
          </a:prstGeom>
          <a:ln w="0">
            <a:noFill/>
          </a:ln>
        </p:spPr>
      </p:pic>
      <p:sp>
        <p:nvSpPr>
          <p:cNvPr id="107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3886200"/>
          </a:xfrm>
          <a:prstGeom prst="rect">
            <a:avLst/>
          </a:prstGeom>
          <a:ln w="0">
            <a:noFill/>
          </a:ln>
        </p:spPr>
      </p:pic>
      <p:sp>
        <p:nvSpPr>
          <p:cNvPr id="109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14800" y="2972880"/>
            <a:ext cx="4572000" cy="388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     </a:t>
            </a:r>
            <a:br>
              <a:rPr sz="18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王安石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102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1086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）北宋时期著名的政治家、文学家，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字介甫，号半山。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江西临川人。他的诗歌、散文都很出色，是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66ff"/>
                </a:solidFill>
                <a:latin typeface="Tahoma"/>
              </a:rPr>
              <a:t>唐宋八大家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之一。青少年时代随父亲在钟山（今南京）居住，视钟山为第二故乡。</a:t>
            </a:r>
            <a:br>
              <a:rPr sz="2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676520" y="10666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阅读资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页脚占位符 6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4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42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王安石入朝为官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69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调王安石任参知政事，第二年升任宰相。王安石任宰相期间，大刀阔斧地推行</a:t>
            </a:r>
            <a:r>
              <a:rPr b="1" lang="zh-CN" sz="2000" spc="-1" strike="noStrike">
                <a:solidFill>
                  <a:srgbClr val="0066ff"/>
                </a:solidFill>
                <a:latin typeface="Tahoma"/>
              </a:rPr>
              <a:t>新法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。但王安石推行的变法因触犯了大地主、大官僚的利益，所以遭到朝廷内外保守势力的极力反对。他们千方百计地排斥他，打击他。皇帝也逐渐对王安石失去了信任。王安石万般无奈，三年后，他辞去了宰相的职务，回到了南京的家中，从此寄情于山水。</a:t>
            </a:r>
            <a:br>
              <a:rPr sz="2000"/>
            </a:b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        一年后，皇帝又招王安石进京任宰相，他两次推辞而未获批准。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075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年春天，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55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岁的王安石从钟山出发，上京赴任。他知道这一去是凶多吉少，因为只要他坚持变法，就会受到保守派的打击、排斥，而皇帝又反复无常，所以他忧心忡忡，更加思念家乡。这一天晚上，王安石夜宿瓜洲江边，感时伤景，写下了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《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泊船瓜洲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》</a:t>
            </a:r>
            <a:r>
              <a:rPr b="1" lang="zh-CN" sz="2000" spc="-1" strike="noStrike">
                <a:solidFill>
                  <a:srgbClr val="000066"/>
                </a:solidFill>
                <a:latin typeface="Tahoma"/>
              </a:rPr>
              <a:t>这首诗。重任宰相一年后，王安石再次被罢免，又回到了南京，过起了隐居生活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3"/>
          <p:cNvSpPr txBox="1"/>
          <p:nvPr/>
        </p:nvSpPr>
        <p:spPr>
          <a:xfrm>
            <a:off x="1752480" y="2743200"/>
            <a:ext cx="56390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cc99ff"/>
                </a:solidFill>
                <a:latin typeface="楷体_GB2312"/>
              </a:rPr>
              <a:t>请欣赏古诗并朗读</a:t>
            </a:r>
            <a:endParaRPr b="0" lang="en-US" sz="1800" spc="1" strike="noStrike">
              <a:ln w="9360">
                <a:solidFill>
                  <a:srgbClr val="0066ff"/>
                </a:solidFill>
                <a:miter/>
              </a:ln>
              <a:solidFill>
                <a:srgbClr val="cc99ff"/>
              </a:solidFill>
              <a:latin typeface="楷体_GB2312"/>
              <a:ea typeface="楷体_GB2312"/>
            </a:endParaRPr>
          </a:p>
        </p:txBody>
      </p:sp>
      <p:sp>
        <p:nvSpPr>
          <p:cNvPr id="117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6"/>
          <p:cNvSpPr/>
          <p:nvPr/>
        </p:nvSpPr>
        <p:spPr>
          <a:xfrm>
            <a:off x="838080" y="27432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京口瓜洲一水间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j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钟山只隔数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ù 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重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山。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春风又绿江南岸，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明月何时照我还（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2895480" y="10666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泊 船 瓜 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3684240" y="198108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宋  王安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页脚占位符 6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533520" y="882000"/>
            <a:ext cx="830556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[</a:t>
            </a:r>
            <a:r>
              <a:rPr b="1" lang="zh-CN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释</a:t>
            </a:r>
            <a:r>
              <a:rPr b="1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]</a:t>
            </a:r>
            <a:r>
              <a:rPr b="0" lang="en-US" sz="36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泊：停船靠岸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瓜洲：在现在江苏省长江北岸，扬州市南面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京口：在长江南岸，现在的江苏省镇江市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钟山：现在南京市的紫金山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数重：几层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绿：吹绿了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7. </a:t>
            </a:r>
            <a:r>
              <a:rPr b="1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还：归、回。指的是回到紫金山下的家里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页脚占位符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10-20T14:08:4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