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93F-4776-4D7F-AA0A-D1F59687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5C3-C761-479C-9F82-E4B5E463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64B73-4139-4BD8-9659-F394161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4C30-6FE0-4C1C-9A95-2015A21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B6261-D3FE-427E-BFE3-A501590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B7B50-2B6D-4BD7-BBD3-D83C513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83855-BDC9-46C7-B8CB-095FC66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15049-69BA-45FF-A771-92A7A6E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1B44-07C1-4124-A7ED-168F867F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BE4F2-A215-4CC7-A6C9-7820BF6E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94F0-097E-432F-888D-7C6D83E5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C0B28-C546-42D5-956F-34B29D6F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2C2-7EA1-4150-8E40-076DDE1D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E8A0-7C62-42E2-BC0E-B5B0955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C1E96-8809-4F82-B7BD-B18CA8D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831DC-2597-4F9B-84F6-701E304C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C92A5-5B81-4E17-9534-6993119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9A02D-B936-49D0-A3F7-9B27AF2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731A7-A0C3-4D3F-9CF2-EAA8042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273D5-AFDE-4A3A-B2B4-4E95370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A1ACA-E7C4-43EC-ADB2-B7B7D6E7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948C9-1397-4957-B6E3-CD378FA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93910-60B5-4887-B3A5-E57A79BD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F40-3A55-4B77-BE11-E9B64E1D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A91D-575D-4AFE-A900-4F3EB82B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89BF4-CEDB-4B0E-A32D-D6B0B602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F5580-3068-4C76-AEDD-327642CB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5809-945F-4E60-8319-3B7FA89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31178-E844-45B7-9224-FB9C7AF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ED97A-8E04-4DB9-9B4B-700AF46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A360D-3588-4093-AC54-CE35CC7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9B90-DE23-4947-B333-D37AC42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8A05-F88D-4EAC-9875-4CDA600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E17C7-473A-46D0-8A91-7470192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70A-6B18-4860-93CA-26B17E5F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FDE4C-3139-4A2F-BDB5-AF8709F5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99B98-627A-4CAC-961C-0649177A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CCA28-7A70-434D-99EB-137CEAC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242A6-5977-47DC-9529-C7A19918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8880-3ED3-4E80-AF8E-3B2A36D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55A99-F083-4BB5-8C53-6F345A8C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0FFEB-CD09-4F6C-99E4-D6F0BA1B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BCAE1-BAE2-45AB-8F44-46812D4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69363-5CBB-4CCE-B37E-AAA6183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F1238-45B0-498F-96D1-3100434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3E5C-B113-4021-AE71-D2CD9033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FE852-9180-407B-91E6-16D92F3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D8E7-C3AD-4079-9868-E72C751F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DEB0A-296D-47E0-B8F7-6DAE88DC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175D-CCF8-4F38-9D4D-D385C93C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F4EF0-4DC4-4C3B-9BC9-606B02B2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A9CA-67C8-4FAF-90D0-35984B89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36E-7548-41D5-A9D5-87039BE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5DF-45F1-4B9A-98FB-563494A7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CE1-FCB3-478E-8476-D1F4667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00E2-9ECC-4F1D-830E-C4BC09CE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043-AE8E-4527-A658-E1AA3CB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364-2FD3-47CB-A0DB-6F3BC13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7AE-879C-45B8-86D3-E1FBBA9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6B8-9190-4270-B2A5-17F6101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F25-B9F3-4260-80E2-99A2E742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82B7-DF5E-4187-BF16-38FAB80D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DFFE-327A-46BE-B066-A7E67AB9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CCC3-42FC-48D5-B34C-2E103FDE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B062-D394-40A0-863B-E244CBC2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56AF-D85B-41C5-BD45-7F7B88D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C99C-03E2-4FDC-A44F-1019CD0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51B-CBDB-4350-9320-C1F0023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99B3-97AC-43DF-814F-2DE134C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9970-7971-4ADF-9DD6-AA2216A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C5A2-CF80-4EE7-836D-6E1DDD6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B1C8-8C3F-4576-934F-8B818AA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D5E7-9C98-4DF7-92B3-5976F9C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7377-C0D2-4508-B734-DCCE5AF3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F2FB-3DA8-43D7-81E1-B31C314C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3685F-BFBC-4B59-9CF4-A4918D6C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08CC3-1D4B-4750-90A1-EAD7BB8A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67961-1C9C-463D-B6EB-A239513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D78-2221-476E-89FE-2A7ABA2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5A7CA-6B33-4DB4-8380-087F160C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54457-C43B-4873-99EB-B0CD105A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5E101-979B-4906-8893-58CA7F9C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EFAE6-131A-4E8C-B4BC-7A67728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6E402-DBF2-4720-B333-7B547DE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D3C26-B74A-41E2-92A5-3F25A06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59E7A-0579-4339-A588-F591AFC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1094E-37BB-4BAE-8D4B-970F1236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6DE0E-56B2-48A9-8E31-99CDA890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CD37E-8E34-4E8E-8159-4A32188A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A33-8855-4FE5-9197-4D4E6CD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AC0DEE-7207-46F5-BC94-BB63EAF1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C0BE0-F48E-449E-8242-D7CCF5C2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DCE63-1A65-496C-8ECC-C5FFBDA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9CD8F-21E2-4058-A5A5-806A7F33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7FE8B-63FC-48E1-8DE7-71299D95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FB5BA-CACE-4680-8BB8-DE0ACC8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E6F07-118F-4708-A735-BE7D587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7A43F-7D5A-4290-B345-15D662EC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89959-1C89-474E-9314-88A8A2D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50AAB-52E2-4335-9218-424EFBD2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E2E-7F20-4903-B81B-8BCD305C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12D6B-6551-4E4E-B5B1-83884C64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E4B3-3C22-45E8-BEE0-9B535A51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4D4F-C53D-4D9E-B400-DBA68D1C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DC84-FD82-492E-941F-D82526A2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7AD0-4B78-4CFF-9C61-F981A42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B65F4-0FFA-41C1-AC35-5D1AC4AB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F286-7D7F-40E6-A2F2-A281633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410D-CA06-4329-A0DA-32B7584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9919-B6B1-45C3-8962-344DAF1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D9F4-F5DB-466F-9300-C71CD1F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5AC-0008-4F0D-8DB8-F67D397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C225-96EC-4E1B-8ECF-B95DC2C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A421-400B-4D20-9C24-98F44943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C2A0-DB49-4D16-9BC1-F972ABCD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3168-4258-4BA7-BDC0-A8B5DA4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E5A94-719C-4BAA-8289-3A48B7EB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29D4-2DF7-4933-9024-9F224C0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E91D-BD1F-4FC1-A79E-DF62259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6861-B4FC-45B2-A136-0744B5D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AEB9-5C2B-4E32-8B4C-8C7A7CE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F712-5E3D-46DC-808E-EDFF8E6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3D9-4510-4B36-9049-D144CBB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77CE-D857-4B75-8642-AA2C42D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6724-5BDC-45B6-AB11-43884A7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13F00-E11D-4921-BB2C-49B958B1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F8BE-FD2F-43A4-A8E2-059AB1D8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1BFA-BD2E-42E1-92F9-3DFECF6D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38702-64B9-47A5-92E4-D43BF64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C39FE-012F-4B1E-8FA2-1DDC3483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68B2A5-1505-44B5-91B1-E7FC21B4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ED530-02CE-4B3B-B100-DFAE0028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C0739-8508-44FD-9996-476E4DF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A3A-C32A-4244-97D6-E57799A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A9E81-C13B-49FD-83D8-0782D3D6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93970-F8BD-4307-9F3E-CB2F2B3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2C4EE-77ED-44B2-8B08-BB7E777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B1CE7-8AE6-4B6D-B00D-8E196E7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2BB62-AD9B-4300-9748-E545E8C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97E9B-7D38-4529-9003-A820839E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EB9D7-EFE4-439A-85E4-AEBBDA90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A5A4-D5DB-447D-9108-442E6A99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51C5F-3C90-4705-8D75-904B09E7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4E4AE-80D3-4A9E-B682-8F55AEBF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AE5-35BF-4A28-A81F-ED5A7596C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2F6-3E6F-47C8-AB8F-1E8995FED9C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E1E2-70E5-45AF-8FE2-799EBED68E9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5CF-A5FC-43A4-802A-9F68F964918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09E4-96CB-464E-8F1A-95D82431DC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DCC8-BCF0-4320-B4FB-B05491711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CAC7-3712-4719-90A4-087998F2B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DCD-3A7D-4CD0-B58C-57CD6A993D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9A2-A734-4B07-A091-D8765F8F12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8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AFE-9FD9-4206-A879-7C6AFFFD390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4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7C6B-5D51-4860-9430-184113F7F9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4AF-8853-4841-8942-5B166F61506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  <a:ea typeface="楷体"/>
              </a:rPr>
              <a:t>伯牙绝弦</a:t>
            </a:r>
            <a:endParaRPr b="0" lang="en-US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"/>
              </a:rPr>
              <a:t>知音难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仁者乐山，智者乐水。伯牙琴弹高山流水，高山流水喻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琴艺高超的伯牙除了山水还能弹出什么？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展示交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各组主持人大胆、正确、完整的展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达标检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给汉字注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）    （    ）    （    ）        （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哉            兮           峨     峨         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按课文填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伯牙鼓琴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钟子期曰：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！”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钟子期曰：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达标检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子期死，伯牙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用自己的话讲讲这个故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1c0f6b"/>
                </a:solidFill>
                <a:latin typeface="Arial"/>
                <a:ea typeface="楷体"/>
              </a:rPr>
              <a:t>谢谢观看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艺术是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启人智慧、愉悦心灵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艺术等于美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Arial"/>
              </a:rPr>
              <a:t>艺术的种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绘画、音乐、舞蹈、书法、文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雕塑等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古代的乐器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古琴、古筝、埙、笛、箫、琵琶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字经中提到八种乐器，可以演奏天籁之音。天籁是最美、最和谐的自然之声，能感受到天籁之音的人寥寥无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读顺课文，用自己的话说出文章大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再认绝、鼓、哉、兮、峨峨、洋洋这些字词的意思，并独立翻译文章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理解伯牙与钟子期之间的情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背诵课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感受古琴的艺术美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自主学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背诵“伯牙古琴至钟子期必得之”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翻译全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给句子画出停顿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伯牙善鼓琴，钟子期善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峨峨细若泰山，洋洋兮若江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子期死，伯牙谓世再无知音，乃破琴绝弦，终身不复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解释下列词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善（伯牙善鼓琴）：        鼓琴：      志：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曰：      峨峨：     兮：     若：      洋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情感体验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想象着伯牙的琴声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根据“峨峨兮若泰山” 想象，你想象到了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----------------------------------------------------------------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感受了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根据“洋洋兮若江河”想象，你想象到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感受到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听到子期去世的消息，伯牙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用文中的话说），他心情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伯牙是春秋时著名的乐师，喜欢他的人不计其数，他为什么为了一个钟子期而终身不再弹琴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答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----------------------------------------------------------------------------------------------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2:35:50Z</dcterms:created>
  <dc:creator>Administrator</dc:creator>
  <dc:description/>
  <dc:language>en-US</dc:language>
  <cp:lastModifiedBy>User</cp:lastModifiedBy>
  <dcterms:modified xsi:type="dcterms:W3CDTF">2012-12-19T06:23:1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