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B22-A60E-4C62-A33D-8FCBAEEC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03D-C544-4C00-954E-CF74CB2E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74D-DA60-4582-B941-4BD77FD4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E5C-DCFA-4504-B983-6DC397BB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B00-80DF-44A0-B65C-0F245B84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4CF-9D78-4387-8FCE-E8B0CFEF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90B-4714-40C9-8638-A4DDEBEE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5887-EC26-435C-97EF-D5E5C9C5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991-0DE7-44BF-AE8D-9912C53D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389-B706-4E0F-93A2-64E31301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854-E56B-40B3-A304-CCB725AE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30F-B828-44B8-9B83-1E51E477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0057-BE72-448C-A965-67B3C8A741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ZMM-200661214657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15" descr=""/>
          <p:cNvPicPr/>
          <p:nvPr/>
        </p:nvPicPr>
        <p:blipFill>
          <a:blip r:embed="rId2"/>
          <a:stretch/>
        </p:blipFill>
        <p:spPr>
          <a:xfrm>
            <a:off x="523800" y="1285920"/>
            <a:ext cx="126864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次先学后教  解读伯牙绝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820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自学指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默读课文，思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“伯牙绝弦”是什么意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还在哪里提到了伯牙绝弦？伯牙为何要绝弦呢？为何钟子期死，伯牙就要绝弦呢？什么是知音，知音是普通朋友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哪里可以看出钟子期是他的知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划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里的“绝弦”等于是向世人宣告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、同桌之间交流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时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611280" y="-36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课堂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拓展延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古人也常以琴言志，将自己的心声、志向融入琴声中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然说伯牙善鼓琴，那么他的琴声一定不只表现了高山流水，除了峨峨泰山、洋洋江河，他的琴声还会表现哪些动人的景物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起想象这样一幅画面：伯牙正在鼓琴，子期正在听琴。当伯牙鼓琴志在明月、志在杨柳、志在白雪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期会怎样赞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1280" y="1341360"/>
            <a:ext cx="79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袅袅炊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清风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    明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春雨                    白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芳草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     杨柳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云雾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     霞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466560" y="1844640"/>
            <a:ext cx="79200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徐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潇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萋萋                   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蒙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76364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皎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皑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依依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灼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6840" y="3913200"/>
            <a:ext cx="621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滚滚波涛    淙淙流水    绵绵春雨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隆隆雷声    萋萋芳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悠悠白云    苍苍大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00200" y="2641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197000"/>
            <a:ext cx="792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伯牙鼓琴志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钟子期曰：“善哉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兮若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”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志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钟子期曰：“善哉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兮若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”志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钟子期曰：“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！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2200" y="185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4508640"/>
            <a:ext cx="64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伯牙所念，钟子期必得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1197000"/>
            <a:ext cx="76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4000" spc="-1" strike="noStrike">
                <a:solidFill>
                  <a:srgbClr val="3399ff"/>
                </a:solidFill>
                <a:latin typeface="Arial"/>
              </a:rPr>
              <a:t>明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3399ff"/>
                </a:solidFill>
                <a:latin typeface="Arial"/>
              </a:rPr>
              <a:t>皎皎         明月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99ff"/>
                </a:solidFill>
                <a:latin typeface="Arial"/>
              </a:rPr>
              <a:t>清风                               徐徐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99ff"/>
                </a:solidFill>
                <a:latin typeface="Arial"/>
              </a:rPr>
              <a:t>清风             竹叶                      善哉，萧萧兮若竹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10520" y="3645000"/>
            <a:ext cx="263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… … …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360" y="580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3160" y="53737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知我者，子期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8800" y="260280"/>
            <a:ext cx="399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根据句式说句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次先学后教 比背诵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自学指导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尝试背诵课文，看谁背得又快又熟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时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88640"/>
            <a:ext cx="8820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课下积累与友情有关的句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朋自远方来，不亦乐乎。        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生得一知己足矣，斯世当以同怀视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内存知已，天涯若比邻（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勃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劝君更尽一杯酒，西出阳关无故人（唐 王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花潭水深千尺，不及汪伦送我情。（唐 李白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莫愁前路无知己， 天下谁人不识君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 高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生所贵在知已，四海相逢骨肉亲（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生知心者，屈指能几人？（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居易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祝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在座的每一个人都能找到自己的知音</a:t>
            </a:r>
            <a:r>
              <a:rPr b="1" lang="zh-CN" sz="6000" spc="-1" strike="noStrike">
                <a:solidFill>
                  <a:srgbClr val="cc3300"/>
                </a:solidFill>
                <a:latin typeface="Arial"/>
              </a:rPr>
              <a:t>！</a:t>
            </a:r>
            <a:r>
              <a:rPr b="1" lang="zh-CN" sz="6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 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200651143358"/>
          <p:cNvPicPr/>
          <p:nvPr/>
        </p:nvPicPr>
        <p:blipFill>
          <a:blip r:embed="rId1"/>
          <a:stretch/>
        </p:blipFill>
        <p:spPr>
          <a:xfrm>
            <a:off x="250920" y="333360"/>
            <a:ext cx="8435880" cy="6523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49240" y="4726080"/>
            <a:ext cx="100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课前欣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高山流水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高山流水.wma" descr=""/>
          <p:cNvPicPr/>
          <p:nvPr/>
        </p:nvPicPr>
        <p:blipFill>
          <a:blip r:embed="rId2"/>
          <a:stretch/>
        </p:blipFill>
        <p:spPr>
          <a:xfrm>
            <a:off x="7669080" y="6021360"/>
            <a:ext cx="31140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9796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906560" y="4042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流利地朗读课文，背诵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能根据注释和课外资料理解词句的意思，能用自己的话讲讲这个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累中华经典诗文，感受朋友间真挚的友情，体会知音难觅，珍惜知音的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第一次先学后教 比朗读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56944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自学指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由读课文。注意：读准字音，读通句子，尤其要读出词句内部的停顿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读书时应该音停而意不断，才能读出古文的韵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内轮读后推出读得最好的，在全班展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提示朗读节奏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牙／善／鼓琴，钟子期／善听。伯牙鼓琴，志在高山，钟子期曰：“善哉，峨峨兮／若／泰山！”志在流水，钟子期曰：“善哉，洋洋兮／若／江河！”伯牙／所念，钟子期／必得之。子期死，伯牙／谓／世／再无知音，乃／破琴／绝弦，终身／不复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第二次先学后教 比理解文章大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自学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注释和资料理解文章的意思。对于个人不能解决的难词难句，小组内互助合作共同解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自己的话正确流利地叙述故事的内容。之后小组内推出一名最佳讲故事能手，在全班展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课堂检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解释红字部分并说出句子的意思。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伯牙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善鼓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琴，钟子期善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”，善于，擅长。 “鼓”，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牙善于弹琴，钟子期善于欣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伯牙鼓琴，志在高山，钟子期曰：“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善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峨峨兮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泰山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哉”，太好了。“峨峨”，高。“兮”，啊。“若”，好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牙弹琴的时候，心里想到高山，钟子期（听了）说：“太好了！简直就像高大的泰山啊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志在流水，钟子期曰：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善哉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洋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兮若江河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洋洋”，广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伯牙心里想到流水，钟子期说：“妙极了！这琴声宛如奔腾不息的江河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伯牙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所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钟子期必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所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所想到的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懂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管伯牙心里想到什么，钟子期都能准确地道出他的心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子期死，伯牙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再无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知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乃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破琴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绝弦，终身不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复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谓”，觉得。“知音”，理解自己心意、有共同语言的人。“破琴”，把琴摔碎。 “复”，再，重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期死后，伯牙觉得世界上再也找不到知音了，于是，他把琴摔碎，终身不再弹琴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14:04:06Z</dcterms:created>
  <dc:creator>YlmF</dc:creator>
  <dc:description>淘课件网 http://www.taokejian.com</dc:description>
  <cp:keywords/>
  <dc:language>en-US</dc:language>
  <cp:lastModifiedBy>未知用户</cp:lastModifiedBy>
  <cp:lastPrinted>1899-12-30T00:00:00Z</cp:lastPrinted>
  <dcterms:modified xsi:type="dcterms:W3CDTF">2012-04-17T03:43:15Z</dcterms:modified>
  <cp:revision>92</cp:revision>
  <dc:subject/>
  <dc:title>淘课件网 http://www.taokej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