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512-B83E-410D-8FD9-F760B5A8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F7C-C958-423B-BF5D-6480BD48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0D6-2656-4BE5-8F0F-A6015C88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9C6-FCB8-4969-9667-EDA8D014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E0C-81B5-4CE4-96DA-3F3D633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A6C-F555-4781-9007-6045FF1A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00D-5E18-47F9-9CBB-DB45E775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CDB-D9F0-4FB6-A400-CBFC8F33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43D-C30F-4E3B-A3C0-EB8040D5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687-859F-4C87-B4EA-62F7A28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5EE-5137-42B3-BE5D-4156AD0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7F4-1893-480F-93E5-60E1268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35B5-0EA4-4210-A60B-BD1C76E41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hyperlink" Target="file:///&#12298;&#20271;&#29273;&#32477;&#24358;&#12299;&#35838;&#25991;&#26391;&#35835;&#35270;&#39057;_&#39640;&#28165;.mp4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885080" y="306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95280" y="549360"/>
            <a:ext cx="835344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鼓琴，志在高山，钟子期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峨峨兮若泰山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志在流水，钟子期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8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印章"/>
          <p:cNvPicPr/>
          <p:nvPr/>
        </p:nvPicPr>
        <p:blipFill>
          <a:blip r:embed="rId2"/>
          <a:stretch/>
        </p:blipFill>
        <p:spPr>
          <a:xfrm>
            <a:off x="8101080" y="5373720"/>
            <a:ext cx="777960" cy="1308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258920" y="1314720"/>
            <a:ext cx="788508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楷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伯牙所念，钟子期必得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8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印章"/>
          <p:cNvPicPr/>
          <p:nvPr/>
        </p:nvPicPr>
        <p:blipFill>
          <a:blip r:embed="rId2"/>
          <a:stretch/>
        </p:blipFill>
        <p:spPr>
          <a:xfrm>
            <a:off x="8101080" y="5373720"/>
            <a:ext cx="777960" cy="1308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0" y="33300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伯牙得遇钟子期，感慨道：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善哉！善哉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_______________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8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印章"/>
          <p:cNvPicPr/>
          <p:nvPr/>
        </p:nvPicPr>
        <p:blipFill>
          <a:blip r:embed="rId2"/>
          <a:stretch/>
        </p:blipFill>
        <p:spPr>
          <a:xfrm>
            <a:off x="8101080" y="5373720"/>
            <a:ext cx="777960" cy="1308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0" y="675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善哉！善哉！子之听夫，志想像犹吾心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列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汤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95280" y="0"/>
            <a:ext cx="835344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善鼓琴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钟子期善听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鼓琴，志在高山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钟子期曰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哉，峨峨兮若泰山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志在流水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伯牙所念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子期必得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纯音乐-高山流水.wma" descr=""/>
          <p:cNvPicPr/>
          <p:nvPr/>
        </p:nvPicPr>
        <p:blipFill>
          <a:blip r:embed="rId3"/>
          <a:stretch/>
        </p:blipFill>
        <p:spPr>
          <a:xfrm>
            <a:off x="8501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3056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3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前的春秋时期，享受得起音乐的只是那些达官贵人，可谓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曲只是宫廷有，民间难得几回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能欣赏高雅音乐的人则少之又少。瑶琴大师伯牙师从成连学艺三年，又亲临蓬莱受大海熏陶后琴艺大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高超的琴技却无人能懂，伯牙内心是多么痛苦与孤独啊？知音是可遇而不可求的！中秋那天，伯牙乘船至汉江边上，与樵夫钟子期不期而遇，因琴结缘，成为知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印章"/>
          <p:cNvPicPr/>
          <p:nvPr/>
        </p:nvPicPr>
        <p:blipFill>
          <a:blip r:embed="rId2"/>
          <a:stretch/>
        </p:blipFill>
        <p:spPr>
          <a:xfrm>
            <a:off x="8366040" y="5877000"/>
            <a:ext cx="77796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042920" y="772920"/>
            <a:ext cx="7201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子期死，伯牙谓世再无知音，乃破琴绝弦，终身不复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4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印章"/>
          <p:cNvPicPr/>
          <p:nvPr/>
        </p:nvPicPr>
        <p:blipFill>
          <a:blip r:embed="rId2"/>
          <a:stretch/>
        </p:blipFill>
        <p:spPr>
          <a:xfrm>
            <a:off x="8101080" y="5229360"/>
            <a:ext cx="839880" cy="1414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611280" y="105264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闻噩耗，伯牙五脏崩裂，泪如泉涌，傍山崖跌倒，昏绝于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良久。伯牙苏醒，坐于地下，双手捶胸，恸哭不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042920" y="772920"/>
            <a:ext cx="7201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子期死，伯牙谓世再无知音，乃破琴绝弦，终身不复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pic>
        <p:nvPicPr>
          <p:cNvPr id="99" name="古乐大师-长亭怨慢.wma" descr=""/>
          <p:cNvPicPr/>
          <p:nvPr/>
        </p:nvPicPr>
        <p:blipFill>
          <a:blip r:embed="rId3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3001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95280" y="0"/>
            <a:ext cx="835344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善鼓琴，钟子期善听。伯牙鼓琴，志在高山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峨峨兮若泰山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志在流水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所念，钟子期必得之。子期死，伯牙谓世再无知音，乃破琴绝弦，终身不复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纯音乐-高山流水.wma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056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纯音乐-高山流水.wma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305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高山流水.mp3" descr=""/>
          <p:cNvPicPr/>
          <p:nvPr/>
        </p:nvPicPr>
        <p:blipFill>
          <a:blip r:embed="rId1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高山流水.mp3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4000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971640" y="1773360"/>
            <a:ext cx="77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Arial"/>
                <a:ea typeface="楷体_GB2312"/>
              </a:rPr>
              <a:t>知音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403280" y="2852640"/>
            <a:ext cx="65534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为    ②认为，以为    ③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55640" y="10249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子期死，伯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世再无知音，乃破琴绝弦，终身不复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835280" y="476280"/>
            <a:ext cx="48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哉，峨峨兮若泰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1773360"/>
            <a:ext cx="83534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善鼓琴，钟子期善听。伯牙鼓琴，志在高山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峨峨兮若泰山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志在流水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印章"/>
          <p:cNvPicPr/>
          <p:nvPr/>
        </p:nvPicPr>
        <p:blipFill>
          <a:blip r:embed="rId3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95280" y="0"/>
            <a:ext cx="835344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善鼓琴，钟子期善听。伯牙鼓琴，志在高山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峨峨兮若泰山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志在流水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所念，钟子期必得之。子期死，伯牙谓世再无知音，乃破琴绝弦，终身不复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纯音乐-高山流水.wma" descr=""/>
          <p:cNvPicPr/>
          <p:nvPr/>
        </p:nvPicPr>
        <p:blipFill>
          <a:blip r:embed="rId4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24720" y="61657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范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3056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5280" y="0"/>
            <a:ext cx="835344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善鼓琴，钟子期善听。伯牙鼓琴，志在高山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峨峨兮若泰山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志在流水，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所念，钟子期必得之。子期死，伯牙谓世再无知音，乃破琴绝弦，终身不复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印章"/>
          <p:cNvPicPr/>
          <p:nvPr/>
        </p:nvPicPr>
        <p:blipFill>
          <a:blip r:embed="rId2"/>
          <a:stretch/>
        </p:blipFill>
        <p:spPr>
          <a:xfrm>
            <a:off x="324000" y="5300640"/>
            <a:ext cx="777600" cy="1308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258920" y="909000"/>
            <a:ext cx="6769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峨峨兮若泰山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洋洋兮若江河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8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印章"/>
          <p:cNvPicPr/>
          <p:nvPr/>
        </p:nvPicPr>
        <p:blipFill>
          <a:blip r:embed="rId2"/>
          <a:stretch/>
        </p:blipFill>
        <p:spPr>
          <a:xfrm>
            <a:off x="8101080" y="5373720"/>
            <a:ext cx="777960" cy="1308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395280" y="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所念，除了高山流水还可能会有什么？展开想象，补充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鼓琴，志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兮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40002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印章"/>
          <p:cNvPicPr/>
          <p:nvPr/>
        </p:nvPicPr>
        <p:blipFill>
          <a:blip r:embed="rId2"/>
          <a:stretch/>
        </p:blipFill>
        <p:spPr>
          <a:xfrm>
            <a:off x="8101080" y="5229360"/>
            <a:ext cx="839880" cy="1414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3000240" y="857160"/>
            <a:ext cx="288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61616"/>
                </a:solidFill>
                <a:latin typeface="Arial"/>
                <a:ea typeface="华文楷体"/>
              </a:rPr>
              <a:t>杨柳依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华文楷体"/>
              </a:rPr>
              <a:t>炊烟袅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华文楷体"/>
              </a:rPr>
              <a:t>白雪皑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清风徐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溪水潺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0240" y="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61616"/>
                </a:solidFill>
                <a:latin typeface="Arial"/>
                <a:ea typeface="华文楷体"/>
              </a:rPr>
              <a:t>明月皎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57120" y="47149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牙鼓琴，志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子期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哉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兮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纯音乐-高山流水.wma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3056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2:49:54Z</dcterms:created>
  <dc:creator>lcj</dc:creator>
  <dc:description/>
  <cp:keywords/>
  <dc:language>en-US</dc:language>
  <cp:lastModifiedBy>Microsoft</cp:lastModifiedBy>
  <dcterms:modified xsi:type="dcterms:W3CDTF">2015-12-08T14:14:07Z</dcterms:modified>
  <cp:revision>30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