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4B0-C3B6-450E-BBC2-6FFB295B1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7907-B649-4837-B354-2081E525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E631-98E7-4F33-AD3A-C9BAA8ED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75FF-F2E3-4E06-9873-6925394F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EF88-CF61-4E3E-B39B-609E07BD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0D3-6C85-4E4E-9C51-62A4E10E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5E90-9F3B-4003-9841-66603E0A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061-237B-48BB-BBD0-F5F3AF40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45A-184E-4597-93BA-8E1E9F4C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4DB-497C-4CD6-B6AF-73239C9F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0C1-772F-480B-A435-789C139D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57C8-7748-47D3-BD84-1C884F76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1362-83C5-4C85-8321-5F3CD4CA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7F0A-D438-4ADA-A970-3CE68458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EDFE-019C-458D-85C2-DAA93309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0BEC-2F10-4068-AFE4-5CA9F4CD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CC2-1051-47B7-AB60-4E13758D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B683-4C0A-4297-872A-14763801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F74-0F77-4540-9206-CEA8A80D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F8D2-473C-4202-8955-DAA8122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DF98-3CB2-454E-B73B-8F566C3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D359-77A0-4B1A-A80B-44808D1A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9BAE-C004-468C-B901-2BB0332F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AFE1-39FF-403F-A51C-4A3008CB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EDA-E459-4BBA-A79B-165431A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AF1-4A15-4795-8FC6-640F68C0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B39-2FCF-4C04-B3C4-E1A79BE2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8CE-5424-44E9-A6D9-809B2081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E35-161E-4BA6-8C1B-AFD6231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806-09A6-4FD3-9E65-F2F63A9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3DA-E288-493C-AB05-A63B99D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5E09-05B8-4B58-A25B-29BDB094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1BA7-F0F8-4887-9ECC-4BCE76FC3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2"/>
          <p:cNvSpPr/>
          <p:nvPr/>
        </p:nvSpPr>
        <p:spPr>
          <a:xfrm>
            <a:off x="2700360" y="9810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计信系信息管理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级专科生毕业论文答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30560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答辩人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2627280" y="1197000"/>
            <a:ext cx="3162240" cy="6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971640" y="19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浅谈计算机病毒的解析与防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1258920" y="406080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班    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1258920" y="371628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指导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258920" y="335772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学    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1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简  介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yno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9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75" name="Text Box 30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1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2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41"/>
          <p:cNvSpPr/>
          <p:nvPr/>
        </p:nvSpPr>
        <p:spPr>
          <a:xfrm>
            <a:off x="1116000" y="1628640"/>
            <a:ext cx="6902640" cy="34768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1270080" y="1787400"/>
            <a:ext cx="6902280" cy="3476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未命名-1"/>
          <p:cNvPicPr/>
          <p:nvPr/>
        </p:nvPicPr>
        <p:blipFill>
          <a:blip r:embed="rId3"/>
          <a:stretch/>
        </p:blipFill>
        <p:spPr>
          <a:xfrm>
            <a:off x="1476360" y="198900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4"/>
          <p:cNvSpPr/>
          <p:nvPr/>
        </p:nvSpPr>
        <p:spPr>
          <a:xfrm>
            <a:off x="1908000" y="216684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随着计算机在社会生活各个领域的广泛运用，以及电脑的普及和网络的迅猛发展，计算机病毒呈现愈演愈烈的趋势，严重地干扰了正常的人类社会生活，给计算机系统带来了巨大的潜在威胁和破坏。目前，病毒已成为困扰计算机系统安全和计算机应用的重大问题。为了确保信息的安全与畅通，从计算机病毒的概念入手，分析计算机病毒的内涵及类型，并对计算机病毒来源进行分析，最后介绍计算机病毒的主要防治措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4500720" y="6467400"/>
            <a:ext cx="43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框   架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1" descr="5 horiz glass bars"/>
          <p:cNvPicPr/>
          <p:nvPr/>
        </p:nvPicPr>
        <p:blipFill>
          <a:blip r:embed="rId2"/>
          <a:stretch/>
        </p:blipFill>
        <p:spPr>
          <a:xfrm>
            <a:off x="755640" y="1341360"/>
            <a:ext cx="7201080" cy="431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5" descr="未命名-1"/>
          <p:cNvPicPr/>
          <p:nvPr/>
        </p:nvPicPr>
        <p:blipFill>
          <a:blip r:embed="rId3"/>
          <a:stretch/>
        </p:blipFill>
        <p:spPr>
          <a:xfrm>
            <a:off x="1042920" y="16272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6" descr="未命名-1"/>
          <p:cNvPicPr/>
          <p:nvPr/>
        </p:nvPicPr>
        <p:blipFill>
          <a:blip r:embed="rId4"/>
          <a:stretch/>
        </p:blipFill>
        <p:spPr>
          <a:xfrm>
            <a:off x="1042920" y="2492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7" descr="未命名-1"/>
          <p:cNvPicPr/>
          <p:nvPr/>
        </p:nvPicPr>
        <p:blipFill>
          <a:blip r:embed="rId5"/>
          <a:stretch/>
        </p:blipFill>
        <p:spPr>
          <a:xfrm>
            <a:off x="1042920" y="33764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8" descr="未命名-1"/>
          <p:cNvPicPr/>
          <p:nvPr/>
        </p:nvPicPr>
        <p:blipFill>
          <a:blip r:embed="rId6"/>
          <a:stretch/>
        </p:blipFill>
        <p:spPr>
          <a:xfrm>
            <a:off x="1042920" y="42195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9" descr="未命名-1"/>
          <p:cNvPicPr/>
          <p:nvPr/>
        </p:nvPicPr>
        <p:blipFill>
          <a:blip r:embed="rId7"/>
          <a:stretch/>
        </p:blipFill>
        <p:spPr>
          <a:xfrm>
            <a:off x="1042920" y="50958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7"/>
          <p:cNvSpPr/>
          <p:nvPr/>
        </p:nvSpPr>
        <p:spPr>
          <a:xfrm>
            <a:off x="1908000" y="1460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的类型及其内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8"/>
          <p:cNvSpPr/>
          <p:nvPr/>
        </p:nvSpPr>
        <p:spPr>
          <a:xfrm>
            <a:off x="1908000" y="2314440"/>
            <a:ext cx="5688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</a:rPr>
              <a:t>计算机病毒的主要来源与主要症状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9"/>
          <p:cNvSpPr/>
          <p:nvPr/>
        </p:nvSpPr>
        <p:spPr>
          <a:xfrm>
            <a:off x="1908000" y="31878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防治措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0"/>
          <p:cNvSpPr/>
          <p:nvPr/>
        </p:nvSpPr>
        <p:spPr>
          <a:xfrm>
            <a:off x="1908000" y="4043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结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1"/>
          <p:cNvSpPr/>
          <p:nvPr/>
        </p:nvSpPr>
        <p:spPr>
          <a:xfrm>
            <a:off x="1908000" y="48942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参考文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wenhuayongpinyi2_0016"/>
          <p:cNvPicPr/>
          <p:nvPr/>
        </p:nvPicPr>
        <p:blipFill>
          <a:blip r:embed="rId8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62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98" name="Text Box 63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4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5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66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95"/>
          <p:cNvGrpSpPr/>
          <p:nvPr/>
        </p:nvGrpSpPr>
        <p:grpSpPr>
          <a:xfrm>
            <a:off x="3203640" y="1314360"/>
            <a:ext cx="4968720" cy="2160720"/>
            <a:chOff x="3203640" y="1314360"/>
            <a:chExt cx="4968720" cy="2160720"/>
          </a:xfrm>
        </p:grpSpPr>
        <p:sp>
          <p:nvSpPr>
            <p:cNvPr id="203" name="AutoShape 85"/>
            <p:cNvSpPr/>
            <p:nvPr/>
          </p:nvSpPr>
          <p:spPr>
            <a:xfrm>
              <a:off x="3203640" y="1314360"/>
              <a:ext cx="4968720" cy="2160720"/>
            </a:xfrm>
            <a:prstGeom prst="roundRect">
              <a:avLst>
                <a:gd name="adj" fmla="val 6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7"/>
            <p:cNvSpPr/>
            <p:nvPr/>
          </p:nvSpPr>
          <p:spPr>
            <a:xfrm>
              <a:off x="3335400" y="20019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8"/>
            <p:cNvSpPr/>
            <p:nvPr/>
          </p:nvSpPr>
          <p:spPr>
            <a:xfrm>
              <a:off x="3355920" y="2637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9"/>
            <p:cNvSpPr/>
            <p:nvPr/>
          </p:nvSpPr>
          <p:spPr>
            <a:xfrm>
              <a:off x="3348000" y="3238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86"/>
            <p:cNvSpPr/>
            <p:nvPr/>
          </p:nvSpPr>
          <p:spPr>
            <a:xfrm>
              <a:off x="3335400" y="1366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59" descr="图片1"/>
          <p:cNvPicPr/>
          <p:nvPr/>
        </p:nvPicPr>
        <p:blipFill>
          <a:blip r:embed="rId2"/>
          <a:stretch/>
        </p:blipFill>
        <p:spPr>
          <a:xfrm>
            <a:off x="770040" y="1703520"/>
            <a:ext cx="1511280" cy="14922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方  案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wenhuayongpinyi2_0016"/>
          <p:cNvPicPr/>
          <p:nvPr/>
        </p:nvPicPr>
        <p:blipFill>
          <a:blip r:embed="rId3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11" name="Line 61"/>
          <p:cNvSpPr/>
          <p:nvPr/>
        </p:nvSpPr>
        <p:spPr>
          <a:xfrm>
            <a:off x="324000" y="3860640"/>
            <a:ext cx="8508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4"/>
          <p:cNvSpPr/>
          <p:nvPr/>
        </p:nvSpPr>
        <p:spPr>
          <a:xfrm>
            <a:off x="950760" y="1446120"/>
            <a:ext cx="2448000" cy="4320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cc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65"/>
          <p:cNvSpPr/>
          <p:nvPr/>
        </p:nvSpPr>
        <p:spPr>
          <a:xfrm flipV="1">
            <a:off x="887400" y="3068640"/>
            <a:ext cx="2519280" cy="24768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6"/>
          <p:cNvSpPr/>
          <p:nvPr/>
        </p:nvSpPr>
        <p:spPr>
          <a:xfrm>
            <a:off x="2017800" y="2717640"/>
            <a:ext cx="1401840" cy="3114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0099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7"/>
          <p:cNvSpPr/>
          <p:nvPr/>
        </p:nvSpPr>
        <p:spPr>
          <a:xfrm flipV="1">
            <a:off x="2052720" y="1923480"/>
            <a:ext cx="1366920" cy="14436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8" descr="未命名-1"/>
          <p:cNvPicPr/>
          <p:nvPr/>
        </p:nvPicPr>
        <p:blipFill>
          <a:blip r:embed="rId4"/>
          <a:stretch/>
        </p:blipFill>
        <p:spPr>
          <a:xfrm>
            <a:off x="90000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9" descr="未命名-1"/>
          <p:cNvPicPr/>
          <p:nvPr/>
        </p:nvPicPr>
        <p:blipFill>
          <a:blip r:embed="rId5"/>
          <a:stretch/>
        </p:blipFill>
        <p:spPr>
          <a:xfrm>
            <a:off x="900000" y="486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0" descr="未命名-1"/>
          <p:cNvPicPr/>
          <p:nvPr/>
        </p:nvPicPr>
        <p:blipFill>
          <a:blip r:embed="rId6"/>
          <a:stretch/>
        </p:blipFill>
        <p:spPr>
          <a:xfrm>
            <a:off x="900000" y="5589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1"/>
          <p:cNvSpPr/>
          <p:nvPr/>
        </p:nvSpPr>
        <p:spPr>
          <a:xfrm>
            <a:off x="3924360" y="2035080"/>
            <a:ext cx="381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病毒预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杀毒措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1332000" y="41022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养成良好的安全习惯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1339920" y="48355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注意系统的运行状况从而判断是否中毒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1332000" y="55674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学会基础的查杀和装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6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24" name="Text Box 97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8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9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00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3"/>
          <p:cNvSpPr/>
          <p:nvPr/>
        </p:nvSpPr>
        <p:spPr>
          <a:xfrm>
            <a:off x="1403280" y="1773360"/>
            <a:ext cx="6842160" cy="3168360"/>
          </a:xfrm>
          <a:prstGeom prst="roundRect">
            <a:avLst>
              <a:gd name="adj" fmla="val 57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病毒防治，重在防范。随着计算机技术的发展，计算机病毒的传播途径和破坏手段也在逐渐的升级。作为使用者，面对纷繁复杂的网络世界时，一定要倍加小心，随时更新自己的杀毒软件，了解病毒的发展最新动态，做到防患于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3276720" y="336600"/>
            <a:ext cx="49086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结  论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0" y="0"/>
                <a:ext cx="266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Group 18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34" name="Text Box 19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1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2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971640" y="1989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55520" y="2852640"/>
            <a:ext cx="22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-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246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9:26:55Z</dcterms:created>
  <dc:creator>HanXi</dc:creator>
  <dc:description/>
  <dc:language>en-US</dc:language>
  <cp:lastModifiedBy>内酷PPT</cp:lastModifiedBy>
  <dcterms:modified xsi:type="dcterms:W3CDTF">2011-06-10T03:22:43Z</dcterms:modified>
  <cp:revision>45</cp:revision>
  <dc:subject/>
  <dc:title>奇特核电形状因子的研究</dc:title>
</cp:coreProperties>
</file>