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9"/>
          <p:cNvSpPr/>
          <p:nvPr/>
        </p:nvSpPr>
        <p:spPr>
          <a:xfrm>
            <a:off x="7516080" y="612144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80"/>
          <p:cNvSpPr/>
          <p:nvPr/>
        </p:nvSpPr>
        <p:spPr>
          <a:xfrm>
            <a:off x="3630600" y="3095640"/>
            <a:ext cx="421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</a:rPr>
              <a:t>指导教师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6800" y="2282760"/>
            <a:ext cx="662472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13b41"/>
                </a:solidFill>
                <a:latin typeface="Verdana"/>
                <a:ea typeface="굴림"/>
              </a:rPr>
              <a:t>论文题目</a:t>
            </a:r>
            <a:endParaRPr b="1" lang="en-US" sz="36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530520" y="4762440"/>
            <a:ext cx="49006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굴림"/>
              </a:rPr>
              <a:t>班级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굴림"/>
              </a:rPr>
              <a:t>学生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굴림"/>
              </a:rPr>
              <a:t>学号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椭圆形标注 7"/>
          <p:cNvSpPr/>
          <p:nvPr/>
        </p:nvSpPr>
        <p:spPr>
          <a:xfrm>
            <a:off x="1676520" y="3200400"/>
            <a:ext cx="1066680" cy="11430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研究概述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：一张幻灯片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简明扼要（一两句话）说明：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背景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意义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目标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问题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研究框架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的展开思路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和论文结构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右边是一个例子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4000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相关概念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若有特别专业或者要特别说明的概念，可以解释。一般无须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研究综述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简要说明国内外相关研究成果，谁、什么时间、什么成果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最后很简要述评，引出自己的研究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研究方法与过程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  <a:ea typeface="宋体"/>
              </a:rPr>
              <a:t>1-2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采用了什么方法？在哪里展开？如何实施？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主要结论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  <a:ea typeface="宋体"/>
              </a:rPr>
              <a:t>3-5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自己研究的成果，条理清晰，简明扼要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多用图表、数据来说明和论证你的结果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系统演示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若是系统开发者，则需要提前做好安装好演示准备，在答辩时对主要模块作一演示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－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分钟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问题讨论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有待进一步讨论和研究的课题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致谢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致谢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请各位老师批评指正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声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468360" y="2166840"/>
            <a:ext cx="4103640" cy="169092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可以在下列情况使用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不限次数的用于您个人</a:t>
            </a: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/</a:t>
            </a: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公司、企业的商业演示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修改模板中的内容包括，图片，数据，文本的替换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拷贝模板中的内容用于其它幻灯片母版中使用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572000" y="2160720"/>
            <a:ext cx="4103640" cy="169056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不可以在以下情况使用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用于任何形式的在线付费下载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用于各种形式的付费下载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刻录光碟销售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468360" y="4194000"/>
            <a:ext cx="8207280" cy="110016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10" descr="png-0644"/>
          <p:cNvPicPr/>
          <p:nvPr/>
        </p:nvPicPr>
        <p:blipFill>
          <a:blip r:embed="rId1"/>
          <a:stretch/>
        </p:blipFill>
        <p:spPr>
          <a:xfrm>
            <a:off x="3703680" y="2262240"/>
            <a:ext cx="393480" cy="393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png-0652"/>
          <p:cNvPicPr/>
          <p:nvPr/>
        </p:nvPicPr>
        <p:blipFill>
          <a:blip r:embed="rId2"/>
          <a:stretch/>
        </p:blipFill>
        <p:spPr>
          <a:xfrm>
            <a:off x="7645320" y="2262240"/>
            <a:ext cx="393840" cy="393480"/>
          </a:xfrm>
          <a:prstGeom prst="rect">
            <a:avLst/>
          </a:prstGeom>
          <a:ln w="0">
            <a:noFill/>
          </a:ln>
        </p:spPr>
      </p:pic>
      <p:sp>
        <p:nvSpPr>
          <p:cNvPr id="204" name="矩形 2"/>
          <p:cNvSpPr/>
          <p:nvPr/>
        </p:nvSpPr>
        <p:spPr>
          <a:xfrm>
            <a:off x="2624400" y="4319640"/>
            <a:ext cx="394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微软雅黑"/>
                <a:ea typeface="微软雅黑"/>
              </a:rPr>
              <a:t>随时欢迎您访问 </a:t>
            </a:r>
            <a:r>
              <a:rPr b="1" lang="en-US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教程网 </a:t>
            </a:r>
            <a:r>
              <a:rPr b="1" lang="en-GB" sz="1400" spc="-1" strike="noStrike" u="sng">
                <a:solidFill>
                  <a:srgbClr val="800000"/>
                </a:solidFill>
                <a:uFillTx/>
                <a:latin typeface="微软雅黑"/>
                <a:ea typeface="微软雅黑"/>
              </a:rPr>
              <a:t>http://www.pptok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9" descr=""/>
          <p:cNvPicPr/>
          <p:nvPr/>
        </p:nvPicPr>
        <p:blipFill>
          <a:blip r:embed="rId3"/>
          <a:stretch/>
        </p:blipFill>
        <p:spPr>
          <a:xfrm>
            <a:off x="3192480" y="4608360"/>
            <a:ext cx="2809800" cy="7257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"/>
          <p:cNvSpPr/>
          <p:nvPr/>
        </p:nvSpPr>
        <p:spPr>
          <a:xfrm>
            <a:off x="468360" y="1450080"/>
            <a:ext cx="5703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本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由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教程网收集整理，版权属原作者所有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468360" y="1495440"/>
            <a:ext cx="8207280" cy="35100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57320" y="492120"/>
            <a:ext cx="615456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4d4d4d"/>
                </a:solidFill>
                <a:latin typeface="Verdana"/>
                <a:ea typeface="宋体"/>
              </a:rPr>
              <a:t>背景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Verdana"/>
                <a:ea typeface="宋体"/>
              </a:rPr>
              <a:t>意义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系统的背景及意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论文的结构和主要内容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58760" y="100476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一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二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三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四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系统需求分析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宋体"/>
              </a:rPr>
              <a:t>1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宋体"/>
              </a:rPr>
              <a:t>2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宋体"/>
              </a:rPr>
              <a:t>3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宋体"/>
              </a:rPr>
              <a:t>4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博客系统总体结构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全文总结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大学本科的学习生活即将结束。在此，我要感谢所有曾经教导过我的老师和关心过我的同学，他们在我成长过程中给予了我很大的帮助。本文能够顺利完成，要特别感谢我的导师</a:t>
            </a: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宋体"/>
              </a:rPr>
              <a:t>***</a:t>
            </a: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老师，感谢各位系的老师的关心和帮助。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最后向所有关心和帮助过我的人表示真心的感谢。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致谢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特别说明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大家需要对自己的论文选题、方法、结论、相关文献非常熟悉。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答辩每个人最多</a:t>
            </a:r>
            <a:r>
              <a:rPr b="1" lang="en-US" sz="1800" spc="-1" strike="noStrike">
                <a:solidFill>
                  <a:srgbClr val="507800"/>
                </a:solidFill>
                <a:latin typeface="Verdana"/>
                <a:ea typeface="宋体"/>
              </a:rPr>
              <a:t>10</a:t>
            </a: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分钟，最好限制在</a:t>
            </a:r>
            <a:r>
              <a:rPr b="1" lang="en-US" sz="1800" spc="-1" strike="noStrike">
                <a:solidFill>
                  <a:srgbClr val="507800"/>
                </a:solidFill>
                <a:latin typeface="Verdana"/>
                <a:ea typeface="宋体"/>
              </a:rPr>
              <a:t>8</a:t>
            </a: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分钟之内，讲清楚后面幻灯片上的内容。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回答老师问题有理有据，因为是自己完成的，你理所当然最权威，但不能狡辩。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演示文稿尽量做得简洁、漂亮、得体。答辩自信、表达流利、有理有据。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ad16f"/>
                </a:solidFill>
                <a:latin typeface="Verdana"/>
                <a:ea typeface="宋体"/>
              </a:rPr>
              <a:t>接下来是大家可以参考的答辩模板。</a:t>
            </a:r>
            <a:r>
              <a:rPr b="1" lang="en-US" sz="1800" spc="-1" strike="noStrike">
                <a:solidFill>
                  <a:srgbClr val="bad16f"/>
                </a:solidFill>
                <a:latin typeface="Verdana"/>
                <a:ea typeface="宋体"/>
              </a:rPr>
              <a:t>&gt;&gt;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Verdana"/>
                <a:ea typeface="黑体"/>
              </a:rPr>
              <a:t>论文题目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195880" y="0"/>
            <a:ext cx="39481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fefff"/>
                </a:solidFill>
                <a:latin typeface="宋体"/>
                <a:ea typeface="宋体"/>
              </a:rPr>
              <a:t>温州大学</a:t>
            </a:r>
            <a:r>
              <a:rPr b="1" lang="en-US" sz="2000" spc="-1" strike="noStrike">
                <a:solidFill>
                  <a:srgbClr val="efefff"/>
                </a:solidFill>
                <a:latin typeface="宋体"/>
                <a:ea typeface="宋体"/>
              </a:rPr>
              <a:t>2006</a:t>
            </a:r>
            <a:r>
              <a:rPr b="1" lang="zh-TW" sz="2000" spc="-1" strike="noStrike">
                <a:solidFill>
                  <a:srgbClr val="efefff"/>
                </a:solidFill>
                <a:latin typeface="宋体"/>
                <a:ea typeface="宋体"/>
              </a:rPr>
              <a:t>届</a:t>
            </a:r>
            <a:r>
              <a:rPr b="1" lang="zh-CN" sz="2000" spc="-1" strike="noStrike">
                <a:solidFill>
                  <a:srgbClr val="efefff"/>
                </a:solidFill>
                <a:latin typeface="宋体"/>
                <a:ea typeface="宋体"/>
              </a:rPr>
              <a:t>本科</a:t>
            </a:r>
            <a:r>
              <a:rPr b="1" lang="zh-TW" sz="2000" spc="-1" strike="noStrike">
                <a:solidFill>
                  <a:srgbClr val="efefff"/>
                </a:solidFill>
                <a:latin typeface="宋体"/>
                <a:ea typeface="宋体"/>
              </a:rPr>
              <a:t>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fefff"/>
                </a:solidFill>
                <a:latin typeface="宋体"/>
                <a:ea typeface="宋体"/>
              </a:rPr>
              <a:t>学位论文</a:t>
            </a:r>
            <a:r>
              <a:rPr b="1" lang="zh-CN" sz="2000" spc="-1" strike="noStrike">
                <a:solidFill>
                  <a:srgbClr val="efefff"/>
                </a:solidFill>
                <a:latin typeface="宋体"/>
                <a:ea typeface="宋体"/>
              </a:rPr>
              <a:t>答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769200" y="5791320"/>
            <a:ext cx="1713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日期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XXXXXX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dc:language>en-US</dc:language>
  <cp:lastModifiedBy>内酷PPT</cp:lastModifiedBy>
  <dcterms:modified xsi:type="dcterms:W3CDTF">2011-06-10T03:30:16Z</dcterms:modified>
  <cp:revision>82</cp:revision>
  <dc:subject/>
  <dc:title>PowerPoint Template</dc:title>
</cp:coreProperties>
</file>