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C951-418D-46CB-B2D8-5307D343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EB9C-E1DA-4766-82B7-50269BCC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41E2-E601-43CC-BDD7-AAA269FF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E5E4-5A2C-4E6F-9CB7-8932BA088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9E18-864C-4DF5-B31B-F4888A43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E3E2-691F-4E64-A133-53B54317D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A753-AA5E-4E72-8126-9F727228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E39C-FCE6-445E-95B2-48A685B2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9F99-AFB1-4D9B-B755-A8137369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57FE-F53E-4728-AC90-75028D56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7C1A-CDBC-4DA1-9A6C-D623151B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2A8B-96A7-4186-B8EE-EC58F040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5BC5-6BBF-4708-91D4-AE9241BE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757B-9BD7-40D1-8046-6D5CC312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D442-77E0-482A-ACF4-60873880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7EED-3CFB-421E-B438-523994B0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7B68-C9DF-4B67-B205-80F294EE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6D3D-5C5B-492A-B2A6-3AD7B60F4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7282-C62D-4817-9E0F-90E3A884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5DC2-D6A5-4224-B841-C8B04D06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B25F-79A2-4528-B15D-D5E303E8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022C-F469-449E-8222-891AADC5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7534-A947-49FB-B07D-BBC04C25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040D-3F01-4F10-A5BB-A740FFD4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" name="Object 3"/>
          <p:cNvGraphicFramePr/>
          <p:nvPr/>
        </p:nvGraphicFramePr>
        <p:xfrm>
          <a:off x="0" y="0"/>
          <a:ext cx="3848040" cy="379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384804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Line 4"/>
          <p:cNvSpPr/>
          <p:nvPr/>
        </p:nvSpPr>
        <p:spPr>
          <a:xfrm>
            <a:off x="304920" y="6508800"/>
            <a:ext cx="86104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8461440" y="-6480"/>
            <a:ext cx="539640" cy="835200"/>
          </a:xfrm>
          <a:custGeom>
            <a:avLst/>
            <a:gdLst>
              <a:gd name="textAreaLeft" fmla="*/ 0 w 539640"/>
              <a:gd name="textAreaRight" fmla="*/ 540000 w 539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8145360" y="-6480"/>
            <a:ext cx="540000" cy="835200"/>
          </a:xfrm>
          <a:custGeom>
            <a:avLst/>
            <a:gdLst>
              <a:gd name="textAreaLeft" fmla="*/ 0 w 540000"/>
              <a:gd name="textAreaRight" fmla="*/ 540360 w 54000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" name="Group 7"/>
          <p:cNvGrpSpPr/>
          <p:nvPr/>
        </p:nvGrpSpPr>
        <p:grpSpPr>
          <a:xfrm>
            <a:off x="3851280" y="0"/>
            <a:ext cx="4463640" cy="836280"/>
            <a:chOff x="3851280" y="0"/>
            <a:chExt cx="4463640" cy="836280"/>
          </a:xfrm>
        </p:grpSpPr>
        <p:sp>
          <p:nvSpPr>
            <p:cNvPr id="7" name="Rectangle 8"/>
            <p:cNvSpPr/>
            <p:nvPr/>
          </p:nvSpPr>
          <p:spPr>
            <a:xfrm>
              <a:off x="3851280" y="2520"/>
              <a:ext cx="4207680" cy="833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a5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>
              <a:off x="7888680" y="0"/>
              <a:ext cx="426240" cy="835200"/>
            </a:xfrm>
            <a:custGeom>
              <a:avLst/>
              <a:gdLst>
                <a:gd name="textAreaLeft" fmla="*/ 0 w 426240"/>
                <a:gd name="textAreaRight" fmla="*/ 426600 w 42624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d4bc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5b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878fa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5d4bc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318600" y="652428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601956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4284720" y="6552720"/>
            <a:ext cx="66816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d4bc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5b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878fa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5d4bc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32412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32412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32412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7048-B3CE-40FC-8D88-0869C299AAEC}" type="slidenum">
              <a:rPr b="0" lang="zh-CN" sz="14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8120" y="2437920"/>
            <a:ext cx="5790960" cy="20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Times New Roman"/>
              </a:rPr>
              <a:t>论文名称</a:t>
            </a: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779640" y="4508280"/>
            <a:ext cx="489564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导   师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答辩人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专    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论文框架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AutoShape 24"/>
          <p:cNvSpPr/>
          <p:nvPr/>
        </p:nvSpPr>
        <p:spPr>
          <a:xfrm>
            <a:off x="2438280" y="2014560"/>
            <a:ext cx="685800" cy="685800"/>
          </a:xfrm>
          <a:prstGeom prst="diamond">
            <a:avLst/>
          </a:prstGeom>
          <a:solidFill>
            <a:srgbClr val="6ca5d8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Text Box 25"/>
          <p:cNvSpPr/>
          <p:nvPr/>
        </p:nvSpPr>
        <p:spPr>
          <a:xfrm>
            <a:off x="3276720" y="1773360"/>
            <a:ext cx="3429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研究背景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课题方向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论文要点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结论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Text Box 26"/>
          <p:cNvSpPr/>
          <p:nvPr/>
        </p:nvSpPr>
        <p:spPr>
          <a:xfrm>
            <a:off x="2594160" y="2112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AutoShape 28"/>
          <p:cNvSpPr/>
          <p:nvPr/>
        </p:nvSpPr>
        <p:spPr>
          <a:xfrm>
            <a:off x="2438280" y="2852640"/>
            <a:ext cx="685800" cy="685800"/>
          </a:xfrm>
          <a:prstGeom prst="diamond">
            <a:avLst/>
          </a:prstGeom>
          <a:solidFill>
            <a:srgbClr val="cbb61d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Text Box 30"/>
          <p:cNvSpPr/>
          <p:nvPr/>
        </p:nvSpPr>
        <p:spPr>
          <a:xfrm>
            <a:off x="2594160" y="2951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AutoShape 32"/>
          <p:cNvSpPr/>
          <p:nvPr/>
        </p:nvSpPr>
        <p:spPr>
          <a:xfrm>
            <a:off x="2438280" y="3691080"/>
            <a:ext cx="685800" cy="685800"/>
          </a:xfrm>
          <a:prstGeom prst="diamond">
            <a:avLst/>
          </a:prstGeom>
          <a:solidFill>
            <a:srgbClr val="5d4bc7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Text Box 34"/>
          <p:cNvSpPr/>
          <p:nvPr/>
        </p:nvSpPr>
        <p:spPr>
          <a:xfrm>
            <a:off x="25941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AutoShape 36"/>
          <p:cNvSpPr/>
          <p:nvPr/>
        </p:nvSpPr>
        <p:spPr>
          <a:xfrm>
            <a:off x="2438280" y="4605480"/>
            <a:ext cx="685800" cy="685800"/>
          </a:xfrm>
          <a:prstGeom prst="diamond">
            <a:avLst/>
          </a:prstGeom>
          <a:solidFill>
            <a:srgbClr val="878fa5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Text Box 38"/>
          <p:cNvSpPr/>
          <p:nvPr/>
        </p:nvSpPr>
        <p:spPr>
          <a:xfrm>
            <a:off x="2594160" y="4703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研究背景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68480" y="1306440"/>
            <a:ext cx="65930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课题方向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68480" y="1306440"/>
            <a:ext cx="65930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论文要点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68480" y="1306440"/>
            <a:ext cx="65930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2640" y="43920"/>
            <a:ext cx="7162920" cy="79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结论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68480" y="1306440"/>
            <a:ext cx="65930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3"/>
          <p:cNvSpPr txBox="1"/>
          <p:nvPr/>
        </p:nvSpPr>
        <p:spPr>
          <a:xfrm>
            <a:off x="3205080" y="3079800"/>
            <a:ext cx="539928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28440">
                  <a:solidFill>
                    <a:srgbClr val="fefefe"/>
                  </a:solidFill>
                  <a:miter/>
                </a:ln>
                <a:gradFill rotWithShape="0">
                  <a:gsLst>
                    <a:gs pos="0">
                      <a:srgbClr val="6ca5d8"/>
                    </a:gs>
                    <a:gs pos="100000">
                      <a:srgbClr val="cbb61d"/>
                    </a:gs>
                  </a:gsLst>
                  <a:lin ang="0"/>
                </a:gradFill>
                <a:effectLst>
                  <a:outerShdw dist="71785" dir="2700000" blurRad="0" rotWithShape="0">
                    <a:srgbClr val="080808">
                      <a:alpha val="50000"/>
                    </a:srgbClr>
                  </a:outerShdw>
                </a:effectLst>
                <a:latin typeface="黑体"/>
              </a:rPr>
              <a:t>谢谢大家！</a:t>
            </a:r>
            <a:endParaRPr b="1" lang="en-US" sz="5400" spc="1" strike="noStrike">
              <a:ln w="28440">
                <a:solidFill>
                  <a:srgbClr val="fefefe"/>
                </a:solidFill>
                <a:miter/>
              </a:ln>
              <a:gradFill rotWithShape="0">
                <a:gsLst>
                  <a:gs pos="0">
                    <a:srgbClr val="6ca5d8"/>
                  </a:gs>
                  <a:gs pos="100000">
                    <a:srgbClr val="cbb61d"/>
                  </a:gs>
                </a:gsLst>
                <a:lin ang="0"/>
              </a:gradFill>
              <a:effectLst>
                <a:outerShdw dist="71785" dir="2700000" blurRad="0" rotWithShape="0">
                  <a:srgbClr val="080808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声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468360" y="2166840"/>
            <a:ext cx="4103640" cy="1690920"/>
          </a:xfrm>
          <a:prstGeom prst="rect">
            <a:avLst/>
          </a:prstGeom>
          <a:noFill/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可以在下列情况使用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不限次数的用于您个人</a:t>
            </a: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/</a:t>
            </a: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公司、企业的商业演示。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修改模板中的内容包括，图片，数据，文本的替换。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拷贝模板中的内容用于其它幻灯片母版中使用。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4572000" y="2160720"/>
            <a:ext cx="4103640" cy="1690560"/>
          </a:xfrm>
          <a:prstGeom prst="rect">
            <a:avLst/>
          </a:prstGeom>
          <a:noFill/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不可以在以下情况使用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用于任何形式的在线付费下载。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收集整理我们发布的免费资源后，用于各种形式的付费下载。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收集整理我们发布的免费资源后，刻录光碟销售。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468360" y="4194000"/>
            <a:ext cx="8207280" cy="110016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3" name="Picture 10" descr="png-0644"/>
          <p:cNvPicPr/>
          <p:nvPr/>
        </p:nvPicPr>
        <p:blipFill>
          <a:blip r:embed="rId1"/>
          <a:stretch/>
        </p:blipFill>
        <p:spPr>
          <a:xfrm>
            <a:off x="3703680" y="2262240"/>
            <a:ext cx="393480" cy="3934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1" descr="png-0652"/>
          <p:cNvPicPr/>
          <p:nvPr/>
        </p:nvPicPr>
        <p:blipFill>
          <a:blip r:embed="rId2"/>
          <a:stretch/>
        </p:blipFill>
        <p:spPr>
          <a:xfrm>
            <a:off x="7645320" y="2262240"/>
            <a:ext cx="393840" cy="393480"/>
          </a:xfrm>
          <a:prstGeom prst="rect">
            <a:avLst/>
          </a:prstGeom>
          <a:ln w="0">
            <a:noFill/>
          </a:ln>
        </p:spPr>
      </p:pic>
      <p:sp>
        <p:nvSpPr>
          <p:cNvPr id="195" name="矩形 2"/>
          <p:cNvSpPr/>
          <p:nvPr/>
        </p:nvSpPr>
        <p:spPr>
          <a:xfrm>
            <a:off x="2624400" y="4319640"/>
            <a:ext cx="394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微软雅黑"/>
                <a:ea typeface="微软雅黑"/>
              </a:rPr>
              <a:t>随时欢迎您访问 </a:t>
            </a:r>
            <a:r>
              <a:rPr b="1" lang="en-US" sz="1600" spc="-1" strike="noStrike">
                <a:solidFill>
                  <a:srgbClr val="cc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cc0000"/>
                </a:solidFill>
                <a:latin typeface="微软雅黑"/>
                <a:ea typeface="微软雅黑"/>
              </a:rPr>
              <a:t>教程网 </a:t>
            </a:r>
            <a:r>
              <a:rPr b="1" lang="en-GB" sz="1400" spc="-1" strike="noStrike" u="sng">
                <a:solidFill>
                  <a:srgbClr val="800000"/>
                </a:solidFill>
                <a:uFillTx/>
                <a:latin typeface="微软雅黑"/>
                <a:ea typeface="微软雅黑"/>
              </a:rPr>
              <a:t>http://www.pptok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6" name="Picture 9" descr=""/>
          <p:cNvPicPr/>
          <p:nvPr/>
        </p:nvPicPr>
        <p:blipFill>
          <a:blip r:embed="rId3"/>
          <a:stretch/>
        </p:blipFill>
        <p:spPr>
          <a:xfrm>
            <a:off x="3192480" y="4608360"/>
            <a:ext cx="2809800" cy="7257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1"/>
          <p:cNvSpPr/>
          <p:nvPr/>
        </p:nvSpPr>
        <p:spPr>
          <a:xfrm>
            <a:off x="468360" y="1450080"/>
            <a:ext cx="57038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本</a:t>
            </a:r>
            <a:r>
              <a:rPr b="1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由</a:t>
            </a:r>
            <a:r>
              <a:rPr b="1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教程网收集整理，版权属原作者所有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矩形 2"/>
          <p:cNvSpPr/>
          <p:nvPr/>
        </p:nvSpPr>
        <p:spPr>
          <a:xfrm>
            <a:off x="468360" y="1495440"/>
            <a:ext cx="8207280" cy="351000"/>
          </a:xfrm>
          <a:prstGeom prst="rect">
            <a:avLst/>
          </a:prstGeom>
          <a:noFill/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05:12:10Z</dcterms:created>
  <dc:creator>微软用户</dc:creator>
  <dc:description/>
  <dc:language>en-US</dc:language>
  <cp:lastModifiedBy>内酷PPT</cp:lastModifiedBy>
  <dcterms:modified xsi:type="dcterms:W3CDTF">2011-06-10T03:30:53Z</dcterms:modified>
  <cp:revision>5</cp:revision>
  <dc:subject/>
  <dc:title>论文名称</dc:title>
</cp:coreProperties>
</file>