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C40-8F93-433A-AD06-B19A66C1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170-075A-4989-AF88-1A96BFB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8BF-F232-4A77-A3FC-69311ADC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FF0-364C-4BFC-B6B0-624BC4C9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0F9-9608-451E-9153-04FEF3D0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685-E33A-4AEF-BD67-0B7A5EC8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168-0737-4D03-BC3B-333A7D7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656-40A5-45BD-BB7A-85B4E69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83B-8CAD-4660-AACC-55723CB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793-D60A-4A24-ABDB-C0F0F56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BC4-4EF7-461B-9B41-4392C99D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D5F-4F32-4193-9F8B-BF105AB2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E44-A4B6-470C-B697-CCB600D6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993400" y="405936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隶书"/>
                <a:ea typeface="隶书"/>
              </a:rPr>
              <a:t>小雅</a:t>
            </a:r>
            <a:r>
              <a:rPr b="1" lang="en-US" sz="66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en-US" sz="6600" spc="-1" strike="noStrike">
                <a:solidFill>
                  <a:srgbClr val="000099"/>
                </a:solidFill>
                <a:latin typeface="隶书"/>
                <a:ea typeface="隶书"/>
              </a:rPr>
              <a:t>采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1877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昔我往矣，杨柳依依。今我来思，雨雪霏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行道迟迟，载渴载饥。我心伤悲，莫知我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末章忆昔伤今。“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昔我往矣，杨柳依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两句以乐景写哀，“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今我来思，雨雪霏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两句以哀景写乐。（这是</a:t>
            </a:r>
            <a:r>
              <a:rPr b="1" lang="en-US" sz="2400" spc="-1" strike="noStrike">
                <a:solidFill>
                  <a:srgbClr val="800080"/>
                </a:solidFill>
                <a:latin typeface="黑体"/>
                <a:ea typeface="黑体"/>
              </a:rPr>
              <a:t>以景衬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的手法）然而在九死一生归来之际，庆幸之余，难免痛定思痛；加之归途艰难，又饥又渴，怎不悲从中来呢！此外，</a:t>
            </a:r>
            <a:r>
              <a:rPr b="1" lang="en-US" sz="2400" spc="-1" strike="noStrike">
                <a:solidFill>
                  <a:srgbClr val="800080"/>
                </a:solidFill>
                <a:latin typeface="黑体"/>
                <a:ea typeface="黑体"/>
              </a:rPr>
              <a:t>对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中含着深沉的</a:t>
            </a:r>
            <a:r>
              <a:rPr b="1" lang="en-US" sz="2400" spc="-1" strike="noStrike">
                <a:solidFill>
                  <a:srgbClr val="800080"/>
                </a:solidFill>
                <a:latin typeface="宋体"/>
              </a:rPr>
              <a:t>不胜今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之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2492280"/>
            <a:ext cx="7418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　这是一位戍边战士在归途中所赋之诗，诗中叙述了他转战边陲的艰苦生活和内心伤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字里行间表达了对战争的不满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他爱国恋家、忧时伤事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0"/>
            <a:ext cx="868680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前三章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薇菜的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薇亦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薇亦柔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薇亦刚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0"/>
            <a:ext cx="281952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时令的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岁亦莫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岁亦阳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73800" y="2362320"/>
            <a:ext cx="20995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心情的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心亦忧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忧心烈烈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忧心孔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四，写作手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比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重章叠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情景交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昔我往矣，杨柳依依。今我来思，雨雪菲菲。”自《诗经》始，</a:t>
            </a:r>
            <a:r>
              <a:rPr b="1" lang="en-US" sz="2400" spc="-1" strike="noStrike">
                <a:solidFill>
                  <a:srgbClr val="800080"/>
                </a:solidFill>
                <a:latin typeface="宋体"/>
              </a:rPr>
              <a:t>杨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成为中国古典文学歌咏的对象。《小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采薇》篇里的句子，不仅富有节奏音律之美，而且开创了杨柳怀人的先河，在后世的诗词之中，青青杨柳枝成为牵绊游子、离愁别绪的象征性植物。垂柳枝条千万条，软柔下垂，随风飞扬，婀娜多姿，为文人墨客喜爱，多见于具有雅趣意境的诗画中。每当古人送别离人时，杨柳便出现在渡口、驿站、城外，杨柳多情，似要挽留行人。每当古人怀人思亲时，杨柳出现在亭台楼榭，杨柳依依，似乎解人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260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，知识拓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772400" cy="277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4038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一、“</a:t>
            </a:r>
            <a:r>
              <a:rPr b="0" lang="en-US" sz="2800" spc="-1" strike="noStrike">
                <a:solidFill>
                  <a:srgbClr val="ff3399"/>
                </a:solidFill>
                <a:latin typeface="隶书"/>
                <a:ea typeface="隶书"/>
              </a:rPr>
              <a:t>左公柳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。清人杨昌浚在赞誉骁骑将军左宗棠的诗中云：“新栽杨柳三千里，引得春风度玉关。”</a:t>
            </a:r>
            <a:r>
              <a:rPr b="0" lang="en-US" sz="2800" spc="-1" strike="noStrike">
                <a:solidFill>
                  <a:srgbClr val="800080"/>
                </a:solidFill>
                <a:latin typeface="隶书"/>
                <a:ea typeface="隶书"/>
              </a:rPr>
              <a:t>以柳示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绿柳就是春天的标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444636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066680"/>
            <a:ext cx="3581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二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灞陵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李白诗云：“秦楼月，年年柳色，灞陵伤别。”唐人送别，折柳相赠，意欲“挽留”。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与“留”谐音，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象征友情绵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，，永志不忘。清人周志蕙名句“古渡欲牵游子棹，离亭留赠旅人鞭”，就是描摹折柳赠别之俗的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990720"/>
          <a:ext cx="822960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229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4343400"/>
            <a:ext cx="8153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三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隋堤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李商隐《隋宫》中云：“于今腐草无萤火，终古垂杨有暮鸦。”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吊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，发年华易逝、世事频更之感慨。韦庄“无情最是台城柳，依旧烟笼十里堤”，就是对六朝的怀故发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0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采薇采薇，薇亦作止。曰归曰归，岁亦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莫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靡室靡家，猃狁之故。不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遑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启居，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玁狁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之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采薇采薇，薇亦柔止。曰归曰归，心亦忧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忧心烈烈，载饥载渴。我戍未定，靡使归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聘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采薇采薇，薇亦刚止。曰归曰归，岁亦阳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王事靡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盬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，不遑启处。忧心孔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疚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，我行不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33360"/>
            <a:ext cx="24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读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556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76920" y="1066680"/>
            <a:ext cx="36576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四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宛城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贺铸诗云：“宛溪杨柳，依旧青青为谁好？”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喻相思春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。吴文英有“一丝柳、一寸柔情”词句。朱淑真的“月上柳梢头，人约黄昏后”更是妙笔生花，以柳暗示爱情初萌的欢悦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77240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434340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五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沈园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陆游《绝句》云：“梦断香销四十年，沈园柳老不飞绵。”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怀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、伤情难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3520" y="990720"/>
          <a:ext cx="807696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80769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5800" y="472428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六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章台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韩翊诗云：“章台柳、章台柳，昔日青青今在否？”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暗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其宠妓。“眠花卧柳”、“烟花柳巷”，柳即指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落入烟花的妓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07960" y="965160"/>
          <a:ext cx="8153280" cy="322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60" y="965160"/>
                    <a:ext cx="815328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4267080"/>
            <a:ext cx="7925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七、“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寒食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”。据《荆楚岁时记》载：“寒食日，皆折柳插门。”张炎诗云：“折得一枝杨柳，归来插向谁家？”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隶书"/>
              </a:rPr>
              <a:t>以柳寄思亲恋乡之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。倪瓒“旧家应在，梧桐霞井，杨柳藏门。”以柳感怀游子乡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3520" y="990720"/>
          <a:ext cx="4572000" cy="55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45720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4120" y="1066680"/>
            <a:ext cx="3276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八、“</a:t>
            </a:r>
            <a:r>
              <a:rPr b="0" lang="en-US" sz="2800" spc="-1" strike="noStrike">
                <a:solidFill>
                  <a:srgbClr val="ff3399"/>
                </a:solidFill>
                <a:latin typeface="隶书"/>
                <a:ea typeface="隶书"/>
              </a:rPr>
              <a:t>金雪柳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。李清照《永遇乐》中云：“铺翠冠儿、拈金雪柳，簇带争济楚。”</a:t>
            </a:r>
            <a:r>
              <a:rPr b="0" lang="en-US" sz="2800" spc="-1" strike="noStrike">
                <a:solidFill>
                  <a:srgbClr val="800080"/>
                </a:solidFill>
                <a:latin typeface="隶书"/>
                <a:ea typeface="隶书"/>
              </a:rPr>
              <a:t>以柳妆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更添女儿几分娇美。常言道“清明不戴柳，红颜成皓首”，就是这个道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维何？维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之华。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斯何？君子之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戎车既驾，四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业业。岂敢定居，一月三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驾彼四牡，四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骙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。君子所依，小人所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四牡翼翼，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鱼服。岂不日戒，猃狁孔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昔我往矣，杨柳依依。今我来思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雪霏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行道迟迟，载渴载饥。我心伤悲，莫知我哀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619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诵读正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岁亦莫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暮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m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止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玁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xiǎn yǔn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玁狁孔棘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(</a:t>
            </a: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载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zài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饥载渴      王事靡盬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g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四牡騤騤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kuí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  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小人所腓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féi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象弭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mǐ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鱼服       雨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y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雪霏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结合注释，翻译诗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292400"/>
            <a:ext cx="77058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采薇采薇，薇亦作止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曰归曰归，岁亦暮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靡室靡家，猃狁之故。不遑启居，猃狁之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采薇采薇，薇亦柔止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曰归曰归，心亦忧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忧心烈烈，载饥载渴。我戍未定，靡使归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采薇采薇，薇亦刚止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曰归曰归，岁亦阳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王事靡盬，不遑启处。忧心孔疚，我行不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—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重章叠唱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33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三，赏析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00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前三章以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倒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的方式，回忆了征战的苦况。这位戍边战士长期远离家室，戎马倥偬。军旅生活是那么艰苦，驻守地转移不定，王室公事无休无止，战士们无暇休息，有时还得采薇充饥。对此，难免怨嗟，产生渴望返回故乡之情，但为了抵御狁的侵扰，为了实现边境早日安定，战士们坚持下来，恰当地处理了个人忧伤痛苦与保卫疆土的矛盾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7524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彼尔维何？维常之华。彼路斯何？君子之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戎车既驾，四牡业业。岂敢定居，一月三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驾彼四牡，四牡骙骙。君子所依，小人所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四牡翼翼，象弭鱼服。岂不日戒，猃狁孔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四、五两章笔锋陡转，描写边防将士出征威仪，全篇气势为之一振。先以自问自答的形式，流露出出征将士们雄纠纠气昂昂的自豪感。接下来对战车以及弓箭的描写，显示出将士们装备的精良和高度警惕的精神状态，使主人公的爱国思想得到了充分的体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8:47:11Z</dcterms:created>
  <dc:creator>wj</dc:creator>
  <dc:description/>
  <dc:language>en-US</dc:language>
  <cp:lastModifiedBy>微软拥护</cp:lastModifiedBy>
  <dcterms:modified xsi:type="dcterms:W3CDTF">2011-10-15T00:54:29Z</dcterms:modified>
  <cp:revision>150</cp:revision>
  <dc:subject/>
  <dc:title>PowerPoint 演示文稿</dc:title>
</cp:coreProperties>
</file>