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8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9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微软雅黑"/>
              </a:rPr>
              <a:t>Click to move the slide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396037-654E-442B-A133-38AEA19AC6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大家好，欢迎大家来到我的新课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接口详解。在上一个课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绚丽的倒计时效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与动画基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中，我已经简单地向大家介绍了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的基础内容以及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制作动画的基础内容。当然，在那个课程中，内容相对比较基本，只是让大家对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使用有一个了解，很多更加深入的知识没有介绍。后续，我们将对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绘制和动画这两部分内容进行更加有针对性地，分别地介绍。那么这一课，就是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的第二课。在这一课里，我们将深入、系统地介绍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的几乎是所有相关接口的使用。相信大家在学完这一课后，就能使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更加随心所欲地进行绘制了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不过友情提醒一下，这一课对于上一课所讲的一些基本内容虽然还会有所提及，但还是建议没有学习上一课的同学能够看一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《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绚丽的倒计时效果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——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与动画基础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》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这门课程，尤其是第二章的内容，其中对于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创建、直线的绘制、弧线及圆的绘制有详细的介绍。至于更加高级的动画课程，还请大家耐下心来，细细学习完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制，我们再来一起攻克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动画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另外，由于这节课程要介绍很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的接口，所以我们很难把所有的知识点柔和进一个程序里使用。但是，我还是争取在每一个接口下，为大家准备了一个小的示范程序，启示大家如何将这些接口使用在真实的环境里。有兴趣的同学，也可以在学完这一课后，思考如何综合运用这些接口，用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做一个有意思的小程序。相信大家能够创造出让人惊讶的互联网应用的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好了，那么现在，就让我们一起进入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vas</a:t>
            </a: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绘图之旅吧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3D4DA9-4E38-4B7F-8995-C757FBFCDC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D7644-AF71-48D2-91A6-6B55FC0B54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AEEE9-1548-43C5-8692-378C3B8BD7B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DB842-07C0-40CF-84CA-D626B95411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5D8AA3-D68D-493F-9A37-CBC051A8235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2C65D-9E84-43A6-8985-51CCCEFD44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E2771D-B770-4BC2-AE63-B96F078290D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EBDC0-B905-4E58-9AF6-3B97A3DE22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62AACF-E427-4669-B248-AF060B2DF3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BC2C0-BAC4-4C52-AB6F-9C46095907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8D4E3-BCD1-40EA-9B1C-CDECAF3FFA1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4D5E2-74D6-4E58-93F2-D8FCADDD87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30B3E-2525-4E39-9675-6BEF41B1E87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4455E-516E-4513-8481-3FD2197C4A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874A4-AD50-42D2-81DB-C5FC70BC138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2DE6-D65E-4C76-A8F7-6CBD5BA10E4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CDD9E-A0F6-493F-92BE-E20912DA97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5DFDF-B29E-4AC1-9B67-08085C9AF0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6C6A15-B659-4ACD-956F-B0B656E52A7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B2690-BDA2-4815-99B2-27395CDEFB7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68608A-CE4A-408D-9B04-0599E581042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65FEF-723D-4B13-A7CD-03B0E805EBB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DEF90-DE56-4E59-BC7A-FE5E516DAA5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23B82-7AB1-4830-B0B8-0B92A5A977F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153D7-DBF7-47CC-92D1-875B1A430BD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6B0FF-7674-4F45-8DB3-63081AEF0CC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E97B3-C9FC-48DC-835E-803D03DB233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288021-0381-4DA2-B7FF-C3F69293E7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9642C-7941-4E00-8349-FBC8B05A09A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E861E-C361-4B28-A56B-34D59B64FE8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B08A-27A8-4300-8EAE-00CF936FBAE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AC9C7-97DA-43D4-94E2-5F39ADBAB6D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1A725-DC9F-4893-ABD8-D70B02B2A83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082CF-77F1-4E0C-9738-EBC76721DF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5802B4-3A17-4B86-99FD-83261E8AE62B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B0BF2-258D-4719-9304-2B8FD41DD9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707FA-B3C4-4C09-90CF-E766D197952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97899-EDDA-430A-B90B-BDE9844D2C5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76462-1B1F-4CEB-A8E1-20771DBD766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7679F4-B1E1-4F0E-A26B-D2E647A6CDB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0916E-9485-42C9-98AA-29CD08D7E6E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20E7D-9712-4770-AE79-D10EC0AD774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712D1-4243-4863-A4B1-D7510C7BA19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06550-0E6A-47C9-BD98-870AA6473B5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04AA25-6E8E-4B79-809B-4533BCCB9DE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A36A1-1E70-4E80-AC17-94579B09A56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D1CF-7842-46AB-A9C3-43072A3C40A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98DA92-C22F-47B2-85D9-D0E35BFB23A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73158-75E7-4F5C-9F26-AC43090095E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CCE9A-8E49-447B-930C-FDCFCB0B429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F6167-430A-4418-9903-51AEC52E920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9B0EB-8C7E-43A5-8E15-557D4F1D49F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C0085-7701-4BAE-BEF9-90B087CE382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3639D-3357-4D67-9432-B8079B4FAC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A5AC6-F27C-4584-9803-6FB160C9E44C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EB86D-D9EF-46A7-815C-1A0F5824FA0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50492-315F-4F21-BD26-4989C292E3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6034E7-D6C8-4FE7-A651-AFE1B2757B60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401E37-C599-4407-909D-29959376B2B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356B3-0945-406D-BE2C-2E9ED37FB2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5D83E5-2CE8-4C75-B7A4-361991350B1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96997-C746-4AAF-BFD4-09D0A93F50A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BD90D-63C5-4D45-BE36-C4E7991B0A3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8C6B8-23CE-49D4-B491-2C64440C756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95C6DC-31D0-40D8-BFFC-0B439412003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8F74BC-9F6D-4005-9A65-A9E2E122785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5FCD-9D5A-4F06-B5E4-C32F250EB2A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62772-60AE-4E6A-BA28-C38CCFA55C41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EF6D73-6B3F-46DD-86AF-4DF800028A98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01C87-52DB-4782-8282-28B059DCFF0D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DEAC54-F06B-48AD-A9FC-40849EBD1B7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1A36-0048-4856-A9F1-CA55F92D6EB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40EC7-1281-4D83-B472-E3DBE4FA541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5B77A-7889-4EF8-9F8A-37D3A0C7EB19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DF3A4-5B02-44FA-B04C-5B45091D5AB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75843-4C7F-443D-AAFB-D493AB30C65F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6A65F-D170-4D4C-A58E-15E822D260B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CA844-AE9F-4B56-903D-C13241D6E85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ACD8B-31BC-4AA0-8897-45F19A9613F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D132D4-DE4E-4119-858F-B5298710E08A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B356C-04EC-4A66-B18E-28070A70A25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59383-EF70-4838-9B0B-A34EC9A2AF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4AAC2-D7D6-4D75-9771-7439F8B6DD36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232DF-367C-4F2C-BD60-A82FF24A71E5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93645-1B39-46C6-B7B6-4E657757442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5" descr="C:\Users\open\Desktop\PPT16;9内文02.jpg"/>
          <p:cNvPicPr/>
          <p:nvPr/>
        </p:nvPicPr>
        <p:blipFill>
          <a:blip r:embed="rId2"/>
          <a:stretch/>
        </p:blipFill>
        <p:spPr>
          <a:xfrm>
            <a:off x="-9360" y="0"/>
            <a:ext cx="9153360" cy="51483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微软雅黑"/>
              </a:rPr>
              <a:t>Click to edit the title text forma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微软雅黑"/>
              </a:rPr>
              <a:t>Click to edit the outline text format</a:t>
            </a: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  <a:p>
            <a:pPr lvl="1" marL="743040" indent="-285840">
              <a:spcBef>
                <a:spcPts val="451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微软雅黑"/>
              </a:rPr>
              <a:t>Second Outline Level</a:t>
            </a: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  <a:p>
            <a:pPr lvl="2" marL="1143000" indent="-228600">
              <a:spcBef>
                <a:spcPts val="451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微软雅黑"/>
              </a:rPr>
              <a:t>Third Outline Level</a:t>
            </a: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  <a:p>
            <a:pPr lvl="3" marL="1600200" indent="-228600">
              <a:spcBef>
                <a:spcPts val="451"/>
              </a:spcBef>
              <a:buClr>
                <a:srgbClr val="565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微软雅黑"/>
              </a:rPr>
              <a:t>Fourth Outline Level</a:t>
            </a: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  <a:p>
            <a:pPr lvl="4" marL="2057400" indent="-228600">
              <a:spcBef>
                <a:spcPts val="451"/>
              </a:spcBef>
              <a:buClr>
                <a:srgbClr val="56565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微软雅黑"/>
              </a:rPr>
              <a:t>Fifth Outline Level</a:t>
            </a: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  <a:p>
            <a:pPr lvl="5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微软雅黑"/>
              </a:rPr>
              <a:t>Sixth Outline Level</a:t>
            </a: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  <a:p>
            <a:pPr lvl="6" marL="2057400" indent="-22860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65656"/>
                </a:solidFill>
                <a:latin typeface="微软雅黑"/>
              </a:rPr>
              <a:t>Seventh Outline Level</a:t>
            </a: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文本框 1"/>
          <p:cNvSpPr/>
          <p:nvPr/>
        </p:nvSpPr>
        <p:spPr>
          <a:xfrm>
            <a:off x="2271240" y="1924200"/>
            <a:ext cx="467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Canvas 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绘图接口详解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微软雅黑"/>
              </a:rPr>
              <a:t>HTML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&lt;canvas id=“canvas”&gt;&lt;/canvas&gt;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微软雅黑"/>
              </a:rPr>
              <a:t>Javascrip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var canvas = document.getElementById(‘canvas’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var context = canvas.getContext(‘2d’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//</a:t>
            </a:r>
            <a:r>
              <a:rPr b="0" lang="zh-CN" sz="2400" spc="-1" strike="noStrike">
                <a:solidFill>
                  <a:srgbClr val="565656"/>
                </a:solidFill>
                <a:latin typeface="Calibri"/>
              </a:rPr>
              <a:t>使用</a:t>
            </a: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context</a:t>
            </a:r>
            <a:r>
              <a:rPr b="0" lang="zh-CN" sz="2400" spc="-1" strike="noStrike">
                <a:solidFill>
                  <a:srgbClr val="565656"/>
                </a:solidFill>
                <a:latin typeface="Calibri"/>
              </a:rPr>
              <a:t>进行绘制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anvas.width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anvas.height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565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anvas.getContext(‘2d’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 txBox="1"/>
          <p:nvPr/>
        </p:nvSpPr>
        <p:spPr>
          <a:xfrm>
            <a:off x="457200" y="103500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moveTo( x , y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lineTo( x , y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beginPath(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losePath(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457200" y="103500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lineWidth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trokeStyl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illStyl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troke(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ill(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 txBox="1"/>
          <p:nvPr/>
        </p:nvSpPr>
        <p:spPr>
          <a:xfrm>
            <a:off x="457200" y="103500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ect( x , y , width , height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illRect( x , y , width , height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trokeRect( x , y , width , height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文本框 1"/>
          <p:cNvSpPr/>
          <p:nvPr/>
        </p:nvSpPr>
        <p:spPr>
          <a:xfrm>
            <a:off x="2593080" y="1924200"/>
            <a:ext cx="34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3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章：线条的属性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lineWidth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butt (default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ound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quar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lineCap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图片 4" descr=""/>
          <p:cNvPicPr/>
          <p:nvPr/>
        </p:nvPicPr>
        <p:blipFill>
          <a:blip r:embed="rId1"/>
          <a:srcRect l="2627" t="4153" r="2278" b="3774"/>
          <a:stretch/>
        </p:blipFill>
        <p:spPr>
          <a:xfrm>
            <a:off x="3027240" y="403200"/>
            <a:ext cx="4321440" cy="4103640"/>
          </a:xfrm>
          <a:prstGeom prst="rect">
            <a:avLst/>
          </a:prstGeom>
          <a:ln w="0">
            <a:noFill/>
          </a:ln>
        </p:spPr>
      </p:pic>
      <p:sp>
        <p:nvSpPr>
          <p:cNvPr id="87" name="椭圆 6"/>
          <p:cNvSpPr/>
          <p:nvPr/>
        </p:nvSpPr>
        <p:spPr>
          <a:xfrm>
            <a:off x="2916360" y="403200"/>
            <a:ext cx="4487760" cy="447192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06280"/>
            <a:ext cx="226548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Draw a Star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89" name="椭圆 3"/>
          <p:cNvSpPr/>
          <p:nvPr/>
        </p:nvSpPr>
        <p:spPr>
          <a:xfrm>
            <a:off x="4116240" y="1603440"/>
            <a:ext cx="2087640" cy="208764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直接连接符 7"/>
          <p:cNvSpPr/>
          <p:nvPr/>
        </p:nvSpPr>
        <p:spPr>
          <a:xfrm flipH="1">
            <a:off x="5148000" y="1940040"/>
            <a:ext cx="2151000" cy="703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直接连接符 9"/>
          <p:cNvSpPr/>
          <p:nvPr/>
        </p:nvSpPr>
        <p:spPr>
          <a:xfrm flipV="1">
            <a:off x="5148360" y="1779120"/>
            <a:ext cx="647640" cy="863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2" name="直接箭头连接符 13"/>
          <p:cNvCxnSpPr/>
          <p:nvPr/>
        </p:nvCxnSpPr>
        <p:spPr>
          <a:xfrm flipV="1">
            <a:off x="1479600" y="2603160"/>
            <a:ext cx="7417440" cy="72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93" name="直接箭头连接符 15"/>
          <p:cNvCxnSpPr/>
          <p:nvPr/>
        </p:nvCxnSpPr>
        <p:spPr>
          <a:xfrm flipH="1">
            <a:off x="5147640" y="-360"/>
            <a:ext cx="11880" cy="50727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94" name="弧形 17"/>
          <p:cNvSpPr/>
          <p:nvPr/>
        </p:nvSpPr>
        <p:spPr>
          <a:xfrm>
            <a:off x="5527800" y="2479680"/>
            <a:ext cx="268200" cy="339840"/>
          </a:xfrm>
          <a:custGeom>
            <a:avLst/>
            <a:gdLst/>
            <a:ahLst/>
            <a:rect l="l" t="t" r="r" b="b"/>
            <a:pathLst>
              <a:path stroke="0" w="268288" h="339725">
                <a:moveTo>
                  <a:pt x="134144" y="0"/>
                </a:moveTo>
                <a:cubicBezTo>
                  <a:pt x="208230" y="0"/>
                  <a:pt x="268288" y="76050"/>
                  <a:pt x="268288" y="169863"/>
                </a:cubicBezTo>
                <a:lnTo>
                  <a:pt x="134144" y="169863"/>
                </a:lnTo>
                <a:lnTo>
                  <a:pt x="134144" y="0"/>
                </a:lnTo>
                <a:close/>
              </a:path>
              <a:path fill="none" w="268288" h="339725">
                <a:moveTo>
                  <a:pt x="134144" y="0"/>
                </a:moveTo>
                <a:cubicBezTo>
                  <a:pt x="208230" y="0"/>
                  <a:pt x="268288" y="76050"/>
                  <a:pt x="268288" y="169863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5" name="曲线连接符 19"/>
          <p:cNvCxnSpPr/>
          <p:nvPr/>
        </p:nvCxnSpPr>
        <p:spPr>
          <a:xfrm flipV="1">
            <a:off x="5657400" y="1464480"/>
            <a:ext cx="2259720" cy="110556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6" name="文本框 22"/>
          <p:cNvSpPr/>
          <p:nvPr/>
        </p:nvSpPr>
        <p:spPr>
          <a:xfrm>
            <a:off x="7916760" y="1276200"/>
            <a:ext cx="11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8 d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弧形 23"/>
          <p:cNvSpPr/>
          <p:nvPr/>
        </p:nvSpPr>
        <p:spPr>
          <a:xfrm>
            <a:off x="5143680" y="2084400"/>
            <a:ext cx="857160" cy="1095480"/>
          </a:xfrm>
          <a:custGeom>
            <a:avLst/>
            <a:gdLst/>
            <a:ahLst/>
            <a:rect l="l" t="t" r="r" b="b"/>
            <a:pathLst>
              <a:path stroke="0" w="857250" h="1095375">
                <a:moveTo>
                  <a:pt x="428625" y="0"/>
                </a:moveTo>
                <a:cubicBezTo>
                  <a:pt x="665348" y="0"/>
                  <a:pt x="857250" y="245208"/>
                  <a:pt x="857250" y="547688"/>
                </a:cubicBezTo>
                <a:lnTo>
                  <a:pt x="428625" y="547688"/>
                </a:lnTo>
                <a:lnTo>
                  <a:pt x="428625" y="0"/>
                </a:lnTo>
                <a:close/>
              </a:path>
              <a:path fill="none" w="857250" h="1095375">
                <a:moveTo>
                  <a:pt x="428625" y="0"/>
                </a:moveTo>
                <a:cubicBezTo>
                  <a:pt x="665348" y="0"/>
                  <a:pt x="857250" y="245208"/>
                  <a:pt x="857250" y="547688"/>
                </a:cubicBezTo>
              </a:path>
            </a:pathLst>
          </a:custGeom>
          <a:noFill/>
          <a:ln w="9360">
            <a:solidFill>
              <a:srgbClr val="4a7ebb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8" name="曲线连接符 25"/>
          <p:cNvCxnSpPr/>
          <p:nvPr/>
        </p:nvCxnSpPr>
        <p:spPr>
          <a:xfrm flipV="1">
            <a:off x="5657400" y="842760"/>
            <a:ext cx="1507320" cy="1450080"/>
          </a:xfrm>
          <a:prstGeom prst="curvedConnector5">
            <a:avLst>
              <a:gd name="adj1" fmla="val 50000"/>
              <a:gd name="adj2" fmla="val 49987"/>
              <a:gd name="adj3" fmla="val 50000"/>
            </a:avLst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99" name="文本框 27"/>
          <p:cNvSpPr/>
          <p:nvPr/>
        </p:nvSpPr>
        <p:spPr>
          <a:xfrm>
            <a:off x="7264440" y="657360"/>
            <a:ext cx="11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54 de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6"/>
          <p:cNvSpPr/>
          <p:nvPr/>
        </p:nvSpPr>
        <p:spPr>
          <a:xfrm>
            <a:off x="7292880" y="1830240"/>
            <a:ext cx="184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: cos(18deg) * 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: -sin(18deg) * 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29"/>
          <p:cNvSpPr/>
          <p:nvPr/>
        </p:nvSpPr>
        <p:spPr>
          <a:xfrm>
            <a:off x="5769000" y="1098720"/>
            <a:ext cx="177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: cos(54deg) * 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: -sin(54deg) * 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30"/>
          <p:cNvSpPr/>
          <p:nvPr/>
        </p:nvSpPr>
        <p:spPr>
          <a:xfrm>
            <a:off x="3305160" y="34920"/>
            <a:ext cx="1874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: cos(90deg) * 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: -sin(90deg) * 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31"/>
          <p:cNvSpPr/>
          <p:nvPr/>
        </p:nvSpPr>
        <p:spPr>
          <a:xfrm>
            <a:off x="2727360" y="1063800"/>
            <a:ext cx="1888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x: cos(126deg) * 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y: -sin(126deg) * 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miter (default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bevel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ound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lineJoin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文本框 1"/>
          <p:cNvSpPr/>
          <p:nvPr/>
        </p:nvSpPr>
        <p:spPr>
          <a:xfrm>
            <a:off x="2593080" y="1924200"/>
            <a:ext cx="34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2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章：从线条开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miterLimi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grpSp>
        <p:nvGrpSpPr>
          <p:cNvPr id="107" name="组合 3"/>
          <p:cNvGrpSpPr/>
          <p:nvPr/>
        </p:nvGrpSpPr>
        <p:grpSpPr>
          <a:xfrm>
            <a:off x="501480" y="1347840"/>
            <a:ext cx="8141040" cy="2952720"/>
            <a:chOff x="501480" y="1347840"/>
            <a:chExt cx="8141040" cy="2952720"/>
          </a:xfrm>
        </p:grpSpPr>
        <p:pic>
          <p:nvPicPr>
            <p:cNvPr id="108" name="Picture 13" descr="http://doc.qt.digia.com/4.4/images/qpen-miterlimit.png"/>
            <p:cNvPicPr/>
            <p:nvPr/>
          </p:nvPicPr>
          <p:blipFill>
            <a:blip r:embed="rId1"/>
            <a:stretch/>
          </p:blipFill>
          <p:spPr>
            <a:xfrm>
              <a:off x="501480" y="1347840"/>
              <a:ext cx="8141040" cy="2952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9" name="文本框 1"/>
            <p:cNvSpPr/>
            <p:nvPr/>
          </p:nvSpPr>
          <p:spPr>
            <a:xfrm>
              <a:off x="1150200" y="3580560"/>
              <a:ext cx="17856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文本框 13"/>
            <p:cNvSpPr/>
            <p:nvPr/>
          </p:nvSpPr>
          <p:spPr>
            <a:xfrm>
              <a:off x="7940520" y="3364560"/>
              <a:ext cx="178560" cy="432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457200" y="103500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lineWidth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lineCap =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“butt” (default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ound”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quare”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 txBox="1"/>
          <p:nvPr/>
        </p:nvSpPr>
        <p:spPr>
          <a:xfrm>
            <a:off x="457200" y="103500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lineJoin =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“miter” (default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bevel”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ound”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miterLimit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2606040" y="1924200"/>
            <a:ext cx="4136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4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章：星空和图形变换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457200" y="103500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65656"/>
                </a:solidFill>
                <a:latin typeface="Calibri"/>
              </a:rPr>
              <a:t>位移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translate( x , y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65656"/>
                </a:solidFill>
                <a:latin typeface="Calibri"/>
              </a:rPr>
              <a:t>旋转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otate( deg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65656"/>
                </a:solidFill>
                <a:latin typeface="Calibri"/>
              </a:rPr>
              <a:t>缩放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cale( sx , sy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图形变换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457200" y="103500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save(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restore(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Canvas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状态的保存和恢复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3780000" y="1418760"/>
            <a:ext cx="50400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a </a:t>
            </a:r>
            <a:r>
              <a:rPr b="0" lang="zh-CN" sz="2800" spc="-1" strike="noStrike">
                <a:solidFill>
                  <a:srgbClr val="565656"/>
                </a:solidFill>
                <a:latin typeface="Calibri"/>
              </a:rPr>
              <a:t>水平缩放 </a:t>
            </a: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( 1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b </a:t>
            </a:r>
            <a:r>
              <a:rPr b="0" lang="zh-CN" sz="2800" spc="-1" strike="noStrike">
                <a:solidFill>
                  <a:srgbClr val="565656"/>
                </a:solidFill>
                <a:latin typeface="Calibri"/>
              </a:rPr>
              <a:t>水平倾斜 </a:t>
            </a: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( 0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c </a:t>
            </a:r>
            <a:r>
              <a:rPr b="0" lang="zh-CN" sz="2800" spc="-1" strike="noStrike">
                <a:solidFill>
                  <a:srgbClr val="565656"/>
                </a:solidFill>
                <a:latin typeface="Calibri"/>
              </a:rPr>
              <a:t>垂直倾斜 </a:t>
            </a: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( 0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d </a:t>
            </a:r>
            <a:r>
              <a:rPr b="0" lang="zh-CN" sz="2800" spc="-1" strike="noStrike">
                <a:solidFill>
                  <a:srgbClr val="565656"/>
                </a:solidFill>
                <a:latin typeface="Calibri"/>
              </a:rPr>
              <a:t>垂直缩放 </a:t>
            </a: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( 1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e </a:t>
            </a:r>
            <a:r>
              <a:rPr b="0" lang="zh-CN" sz="2800" spc="-1" strike="noStrike">
                <a:solidFill>
                  <a:srgbClr val="565656"/>
                </a:solidFill>
                <a:latin typeface="Calibri"/>
              </a:rPr>
              <a:t>水平位移 </a:t>
            </a: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( 0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f  </a:t>
            </a:r>
            <a:r>
              <a:rPr b="0" lang="zh-CN" sz="2800" spc="-1" strike="noStrike">
                <a:solidFill>
                  <a:srgbClr val="565656"/>
                </a:solidFill>
                <a:latin typeface="Calibri"/>
              </a:rPr>
              <a:t>垂直位移 </a:t>
            </a: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( 0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变换矩阵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pic>
        <p:nvPicPr>
          <p:cNvPr id="122" name="文本框 2" descr=""/>
          <p:cNvPicPr/>
          <p:nvPr/>
        </p:nvPicPr>
        <p:blipFill>
          <a:blip r:embed="rId1"/>
          <a:stretch/>
        </p:blipFill>
        <p:spPr>
          <a:xfrm>
            <a:off x="457200" y="1420920"/>
            <a:ext cx="2097000" cy="168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457200" y="1418760"/>
            <a:ext cx="8362800" cy="32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transform( a , b , c , d , e , f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setTransform( a , b , c , d , e , f ) 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设置变换矩阵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457200" y="987120"/>
            <a:ext cx="82296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ave(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estore(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translate( x , y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otate( deg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cale( sx , sy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347840"/>
            <a:ext cx="82296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transform( a , b , c , d , e , f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etTransform( a , b , c , d , e , f )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 txBox="1"/>
          <p:nvPr/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微软雅黑"/>
              </a:rPr>
              <a:t>HTML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&lt;canvas id=“canvas”&gt;&lt;/canvas&gt;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spcBef>
                <a:spcPts val="700"/>
              </a:spcBef>
              <a:buClr>
                <a:srgbClr val="2159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15968"/>
                </a:solidFill>
                <a:latin typeface="微软雅黑"/>
              </a:rPr>
              <a:t>Javascrip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var canvas = document.getElementById(‘canvas’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var context = canvas.getContext(‘2d’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//</a:t>
            </a:r>
            <a:r>
              <a:rPr b="0" lang="zh-CN" sz="2400" spc="-1" strike="noStrike">
                <a:solidFill>
                  <a:srgbClr val="565656"/>
                </a:solidFill>
                <a:latin typeface="Calibri"/>
              </a:rPr>
              <a:t>使用</a:t>
            </a: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context</a:t>
            </a:r>
            <a:r>
              <a:rPr b="0" lang="zh-CN" sz="2400" spc="-1" strike="noStrike">
                <a:solidFill>
                  <a:srgbClr val="565656"/>
                </a:solidFill>
                <a:latin typeface="Calibri"/>
              </a:rPr>
              <a:t>进行绘制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Canvas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500"/>
                                        <p:tgtEl>
                                          <p:spTgt spid="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" dur="5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文本框 1"/>
          <p:cNvSpPr/>
          <p:nvPr/>
        </p:nvSpPr>
        <p:spPr>
          <a:xfrm>
            <a:off x="2838240" y="1924200"/>
            <a:ext cx="31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5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章：填充样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 txBox="1"/>
          <p:nvPr/>
        </p:nvSpPr>
        <p:spPr>
          <a:xfrm>
            <a:off x="457200" y="1203120"/>
            <a:ext cx="82296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tep 1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var grd = context.createLinearGradient(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start , ystart, xend , yend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tep 2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grd.addColorStop( stop , color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illStyle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nodeType="clickEffect" fill="hold">
                      <p:stCondLst>
                        <p:cond delay="indefinite"/>
                      </p:stCondLst>
                      <p:childTnLst>
                        <p:par>
                          <p:cTn id="1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457200" y="1203120"/>
            <a:ext cx="82296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tep 1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var grd = context.createRadialGradient(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0 , y0, r0 , x1 , y1 , r1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tep 2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grd.addColorStop( stop , color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Radial Gradien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457200" y="1203120"/>
            <a:ext cx="82296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Pattern( img , repeat-style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-style : no-repeat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-x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-y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                   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eat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createPattern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457200" y="1203120"/>
            <a:ext cx="82296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Pattern( canvas , repeat-style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createPattern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457200" y="1203120"/>
            <a:ext cx="8229600" cy="362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Pattern( video , repeat-style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createPattern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457200" y="1347840"/>
            <a:ext cx="82296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illStyle =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lor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gradient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imag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anvas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video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457200" y="1347840"/>
            <a:ext cx="82296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微软雅黑"/>
              </a:rPr>
              <a:t>#ffffff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微软雅黑"/>
              </a:rPr>
              <a:t>#642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微软雅黑"/>
              </a:rPr>
              <a:t>rgb( 255 , 128 , 0 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微软雅黑"/>
              </a:rPr>
              <a:t>rgba( 100 , 100 , 100 , 0.8 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微软雅黑"/>
              </a:rPr>
              <a:t>hsl( 20 , 62% , 28% 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微软雅黑"/>
              </a:rPr>
              <a:t>hsla( 40 , 82% , 33% , 0.6 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微软雅黑"/>
              </a:rPr>
              <a:t>red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illStyle = color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 txBox="1"/>
          <p:nvPr/>
        </p:nvSpPr>
        <p:spPr>
          <a:xfrm>
            <a:off x="457200" y="1063440"/>
            <a:ext cx="8229600" cy="354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9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</a:rPr>
              <a:t>Linear Gradient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var grd = context.createLinearGradient( 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	</a:t>
            </a: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	</a:t>
            </a: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	</a:t>
            </a: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xstart , ystart, xend , yend );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70c0"/>
                </a:solidFill>
                <a:latin typeface="微软雅黑"/>
              </a:rPr>
              <a:t>Radial Gradient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var grd = context.createRadialGradient( 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	</a:t>
            </a: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	</a:t>
            </a: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	</a:t>
            </a: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x0 , y0, r0 , x1 , y1 , r1 );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656"/>
                </a:solidFill>
                <a:latin typeface="微软雅黑"/>
              </a:rPr>
              <a:t>grd.addColorStop( stop , color );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illStyle = gradien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 txBox="1"/>
          <p:nvPr/>
        </p:nvSpPr>
        <p:spPr>
          <a:xfrm>
            <a:off x="457200" y="1347840"/>
            <a:ext cx="82296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reatePattern( img      , repeat-style )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reatePattern( canvas , repeat-style )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createPattern( video   , repeat-style )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repeat-style :    no-repeat 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repeat-x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repeat-y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   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</a:rPr>
              <a:t>repeat 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illStyle = image || canvas || video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moveTo(100,100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lineTo(700,700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stroke(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Draw one line 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52" name="右大括号 2"/>
          <p:cNvSpPr/>
          <p:nvPr/>
        </p:nvSpPr>
        <p:spPr>
          <a:xfrm>
            <a:off x="5364000" y="1563840"/>
            <a:ext cx="144720" cy="936360"/>
          </a:xfrm>
          <a:custGeom>
            <a:avLst/>
            <a:gdLst>
              <a:gd name="textAreaLeft" fmla="*/ 0 w 144720"/>
              <a:gd name="textAreaRight" fmla="*/ 52200 w 144720"/>
              <a:gd name="textAreaTop" fmla="*/ 3600 h 936360"/>
              <a:gd name="textAreaBottom" fmla="*/ 932760 h 93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139"/>
                  <a:pt x="10800" y="278"/>
                </a:cubicBezTo>
                <a:lnTo>
                  <a:pt x="10800" y="10522"/>
                </a:lnTo>
                <a:cubicBezTo>
                  <a:pt x="10800" y="10661"/>
                  <a:pt x="16200" y="10800"/>
                  <a:pt x="21600" y="10800"/>
                </a:cubicBezTo>
                <a:cubicBezTo>
                  <a:pt x="16200" y="10800"/>
                  <a:pt x="10800" y="10939"/>
                  <a:pt x="10800" y="11078"/>
                </a:cubicBezTo>
                <a:lnTo>
                  <a:pt x="10800" y="21322"/>
                </a:lnTo>
                <a:cubicBezTo>
                  <a:pt x="10800" y="2146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文本框 3"/>
          <p:cNvSpPr/>
          <p:nvPr/>
        </p:nvSpPr>
        <p:spPr>
          <a:xfrm>
            <a:off x="6192360" y="180036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态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右大括号 5"/>
          <p:cNvSpPr/>
          <p:nvPr/>
        </p:nvSpPr>
        <p:spPr>
          <a:xfrm>
            <a:off x="5364000" y="3292560"/>
            <a:ext cx="154080" cy="280800"/>
          </a:xfrm>
          <a:custGeom>
            <a:avLst/>
            <a:gdLst>
              <a:gd name="textAreaLeft" fmla="*/ 0 w 154080"/>
              <a:gd name="textAreaRight" fmla="*/ 55440 w 154080"/>
              <a:gd name="textAreaTop" fmla="*/ 3960 h 280800"/>
              <a:gd name="textAreaBottom" fmla="*/ 27684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3"/>
                  <a:pt x="10800" y="986"/>
                </a:cubicBezTo>
                <a:lnTo>
                  <a:pt x="10800" y="9814"/>
                </a:lnTo>
                <a:cubicBezTo>
                  <a:pt x="10800" y="10307"/>
                  <a:pt x="16200" y="10800"/>
                  <a:pt x="21600" y="10800"/>
                </a:cubicBezTo>
                <a:cubicBezTo>
                  <a:pt x="16200" y="10800"/>
                  <a:pt x="10800" y="11293"/>
                  <a:pt x="10800" y="11786"/>
                </a:cubicBezTo>
                <a:lnTo>
                  <a:pt x="10800" y="20614"/>
                </a:lnTo>
                <a:cubicBezTo>
                  <a:pt x="10800" y="211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文本框 6"/>
          <p:cNvSpPr/>
          <p:nvPr/>
        </p:nvSpPr>
        <p:spPr>
          <a:xfrm>
            <a:off x="5940360" y="3197160"/>
            <a:ext cx="15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 txBox="1"/>
          <p:nvPr/>
        </p:nvSpPr>
        <p:spPr>
          <a:xfrm>
            <a:off x="457200" y="1347840"/>
            <a:ext cx="8229600" cy="32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8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illStyle =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lor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gradient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imag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anvas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video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本章小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50" name="文本框 2"/>
          <p:cNvSpPr/>
          <p:nvPr/>
        </p:nvSpPr>
        <p:spPr>
          <a:xfrm>
            <a:off x="463680" y="4257720"/>
            <a:ext cx="302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Calibri"/>
                <a:ea typeface="宋体"/>
              </a:rPr>
              <a:t>strokestyl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文本框 1"/>
          <p:cNvSpPr/>
          <p:nvPr/>
        </p:nvSpPr>
        <p:spPr>
          <a:xfrm>
            <a:off x="2665080" y="1924200"/>
            <a:ext cx="34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6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章：曲线的绘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arc(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enterx, centery, radius,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tartingAngle, endingAngle,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anticlockwise = fals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Draw an Arc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Draw an Arc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55" name="椭圆 2"/>
          <p:cNvSpPr/>
          <p:nvPr/>
        </p:nvSpPr>
        <p:spPr>
          <a:xfrm>
            <a:off x="2771640" y="1276200"/>
            <a:ext cx="3313080" cy="3167280"/>
          </a:xfrm>
          <a:prstGeom prst="ellipse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直接连接符 4"/>
          <p:cNvSpPr/>
          <p:nvPr/>
        </p:nvSpPr>
        <p:spPr>
          <a:xfrm>
            <a:off x="2556000" y="2859120"/>
            <a:ext cx="367164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直接连接符 7"/>
          <p:cNvSpPr/>
          <p:nvPr/>
        </p:nvSpPr>
        <p:spPr>
          <a:xfrm>
            <a:off x="4427640" y="1131840"/>
            <a:ext cx="73080" cy="3527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8"/>
          <p:cNvSpPr/>
          <p:nvPr/>
        </p:nvSpPr>
        <p:spPr>
          <a:xfrm>
            <a:off x="6113520" y="285912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0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4500720" y="4543560"/>
            <a:ext cx="11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0.5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1693800" y="285444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文本框 12"/>
          <p:cNvSpPr/>
          <p:nvPr/>
        </p:nvSpPr>
        <p:spPr>
          <a:xfrm>
            <a:off x="4170240" y="71928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1.5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6113520" y="2525760"/>
            <a:ext cx="115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2 pi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Rounded Corner Rectangle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pic>
        <p:nvPicPr>
          <p:cNvPr id="164" name="图片 1" descr=""/>
          <p:cNvPicPr/>
          <p:nvPr/>
        </p:nvPicPr>
        <p:blipFill>
          <a:blip r:embed="rId1"/>
          <a:stretch/>
        </p:blipFill>
        <p:spPr>
          <a:xfrm>
            <a:off x="2124000" y="1063800"/>
            <a:ext cx="4576680" cy="3875040"/>
          </a:xfrm>
          <a:prstGeom prst="rect">
            <a:avLst/>
          </a:prstGeom>
          <a:ln w="0">
            <a:noFill/>
          </a:ln>
        </p:spPr>
      </p:pic>
      <p:sp>
        <p:nvSpPr>
          <p:cNvPr id="165" name="直接连接符 5"/>
          <p:cNvSpPr/>
          <p:nvPr/>
        </p:nvSpPr>
        <p:spPr>
          <a:xfrm>
            <a:off x="1547640" y="1492200"/>
            <a:ext cx="590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直接连接符 13"/>
          <p:cNvSpPr/>
          <p:nvPr/>
        </p:nvSpPr>
        <p:spPr>
          <a:xfrm>
            <a:off x="1547640" y="4443480"/>
            <a:ext cx="59040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直接连接符 8"/>
          <p:cNvSpPr/>
          <p:nvPr/>
        </p:nvSpPr>
        <p:spPr>
          <a:xfrm>
            <a:off x="6227640" y="1063800"/>
            <a:ext cx="0" cy="395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直接连接符 16"/>
          <p:cNvSpPr/>
          <p:nvPr/>
        </p:nvSpPr>
        <p:spPr>
          <a:xfrm>
            <a:off x="2556000" y="1063800"/>
            <a:ext cx="0" cy="39560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文本框 9"/>
          <p:cNvSpPr/>
          <p:nvPr/>
        </p:nvSpPr>
        <p:spPr>
          <a:xfrm>
            <a:off x="2616120" y="1554120"/>
            <a:ext cx="16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r , r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文本框 18"/>
          <p:cNvSpPr/>
          <p:nvPr/>
        </p:nvSpPr>
        <p:spPr>
          <a:xfrm>
            <a:off x="4925880" y="1554120"/>
            <a:ext cx="13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width-r , r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文本框 19"/>
          <p:cNvSpPr/>
          <p:nvPr/>
        </p:nvSpPr>
        <p:spPr>
          <a:xfrm>
            <a:off x="2616120" y="4011480"/>
            <a:ext cx="162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r , height - r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文本框 21"/>
          <p:cNvSpPr/>
          <p:nvPr/>
        </p:nvSpPr>
        <p:spPr>
          <a:xfrm>
            <a:off x="4140360" y="4043520"/>
            <a:ext cx="216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width-r , height - r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arcTo(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1 , y1 , x2 , y2 ,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adius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arcTo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pic>
        <p:nvPicPr>
          <p:cNvPr id="175" name="图片 2" descr=""/>
          <p:cNvPicPr/>
          <p:nvPr/>
        </p:nvPicPr>
        <p:blipFill>
          <a:blip r:embed="rId1"/>
          <a:stretch/>
        </p:blipFill>
        <p:spPr>
          <a:xfrm>
            <a:off x="4705200" y="555480"/>
            <a:ext cx="4438800" cy="4395960"/>
          </a:xfrm>
          <a:prstGeom prst="rect">
            <a:avLst/>
          </a:prstGeom>
          <a:ln w="0">
            <a:noFill/>
          </a:ln>
        </p:spPr>
      </p:pic>
      <p:sp>
        <p:nvSpPr>
          <p:cNvPr id="176" name="文本框 3"/>
          <p:cNvSpPr/>
          <p:nvPr/>
        </p:nvSpPr>
        <p:spPr>
          <a:xfrm>
            <a:off x="4032360" y="3715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x0 , y0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文本框 5"/>
          <p:cNvSpPr/>
          <p:nvPr/>
        </p:nvSpPr>
        <p:spPr>
          <a:xfrm>
            <a:off x="8147160" y="371520"/>
            <a:ext cx="107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x1 , y1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6"/>
          <p:cNvSpPr/>
          <p:nvPr/>
        </p:nvSpPr>
        <p:spPr>
          <a:xfrm>
            <a:off x="8067600" y="4687920"/>
            <a:ext cx="10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 x2 , y2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图片 1" descr=""/>
          <p:cNvPicPr/>
          <p:nvPr/>
        </p:nvPicPr>
        <p:blipFill>
          <a:blip r:embed="rId1"/>
          <a:stretch/>
        </p:blipFill>
        <p:spPr>
          <a:xfrm>
            <a:off x="2484360" y="771480"/>
            <a:ext cx="4335480" cy="438624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Draw a Moon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181" name="文本框 33"/>
          <p:cNvSpPr/>
          <p:nvPr/>
        </p:nvSpPr>
        <p:spPr>
          <a:xfrm>
            <a:off x="4591080" y="2997360"/>
            <a:ext cx="10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400,4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文本框 40"/>
          <p:cNvSpPr/>
          <p:nvPr/>
        </p:nvSpPr>
        <p:spPr>
          <a:xfrm>
            <a:off x="8028000" y="3030480"/>
            <a:ext cx="11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1200,4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文本框 41"/>
          <p:cNvSpPr/>
          <p:nvPr/>
        </p:nvSpPr>
        <p:spPr>
          <a:xfrm>
            <a:off x="4532400" y="835200"/>
            <a:ext cx="119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400,1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文本框 42"/>
          <p:cNvSpPr/>
          <p:nvPr/>
        </p:nvSpPr>
        <p:spPr>
          <a:xfrm>
            <a:off x="4651200" y="484344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(400,700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5" name="组合 37"/>
          <p:cNvGrpSpPr/>
          <p:nvPr/>
        </p:nvGrpSpPr>
        <p:grpSpPr>
          <a:xfrm>
            <a:off x="3492360" y="1203480"/>
            <a:ext cx="5680080" cy="3671640"/>
            <a:chOff x="3492360" y="1203480"/>
            <a:chExt cx="5680080" cy="3671640"/>
          </a:xfrm>
        </p:grpSpPr>
        <p:sp>
          <p:nvSpPr>
            <p:cNvPr id="186" name="直接连接符 16"/>
            <p:cNvSpPr/>
            <p:nvPr/>
          </p:nvSpPr>
          <p:spPr>
            <a:xfrm>
              <a:off x="4716360" y="1203480"/>
              <a:ext cx="0" cy="3671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7" name="直接连接符 5"/>
            <p:cNvSpPr/>
            <p:nvPr/>
          </p:nvSpPr>
          <p:spPr>
            <a:xfrm>
              <a:off x="4716360" y="1203480"/>
              <a:ext cx="4103640" cy="1871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8" name="直接连接符 8"/>
            <p:cNvSpPr/>
            <p:nvPr/>
          </p:nvSpPr>
          <p:spPr>
            <a:xfrm flipV="1">
              <a:off x="4716360" y="2930400"/>
              <a:ext cx="4103640" cy="1944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9" name="直接连接符 13"/>
            <p:cNvSpPr/>
            <p:nvPr/>
          </p:nvSpPr>
          <p:spPr>
            <a:xfrm>
              <a:off x="3492360" y="2963880"/>
              <a:ext cx="5680080" cy="378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直接连接符 29"/>
            <p:cNvSpPr/>
            <p:nvPr/>
          </p:nvSpPr>
          <p:spPr>
            <a:xfrm flipH="1">
              <a:off x="3852360" y="1203480"/>
              <a:ext cx="863640" cy="216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1" name="直接连接符 32"/>
            <p:cNvSpPr/>
            <p:nvPr/>
          </p:nvSpPr>
          <p:spPr>
            <a:xfrm flipH="1" flipV="1">
              <a:off x="3852360" y="2571840"/>
              <a:ext cx="863640" cy="2303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2" name="文本框 34"/>
            <p:cNvSpPr/>
            <p:nvPr/>
          </p:nvSpPr>
          <p:spPr>
            <a:xfrm>
              <a:off x="3852360" y="303912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  <a:ea typeface="宋体"/>
                </a:rPr>
                <a:t>O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3" name="文本框 44"/>
          <p:cNvSpPr/>
          <p:nvPr/>
        </p:nvSpPr>
        <p:spPr>
          <a:xfrm>
            <a:off x="4716360" y="120348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文本框 45"/>
          <p:cNvSpPr/>
          <p:nvPr/>
        </p:nvSpPr>
        <p:spPr>
          <a:xfrm>
            <a:off x="4700520" y="453852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文本框 46"/>
          <p:cNvSpPr/>
          <p:nvPr/>
        </p:nvSpPr>
        <p:spPr>
          <a:xfrm>
            <a:off x="8523360" y="268596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文本框 47"/>
          <p:cNvSpPr/>
          <p:nvPr/>
        </p:nvSpPr>
        <p:spPr>
          <a:xfrm>
            <a:off x="4749840" y="2624040"/>
            <a:ext cx="33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宋体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7" name="文本框 35" descr=""/>
          <p:cNvPicPr/>
          <p:nvPr/>
        </p:nvPicPr>
        <p:blipFill>
          <a:blip r:embed="rId2"/>
          <a:stretch/>
        </p:blipFill>
        <p:spPr>
          <a:xfrm>
            <a:off x="536400" y="2620800"/>
            <a:ext cx="281016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68360" y="199512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贝塞尔曲线  </a:t>
            </a: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Bezier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456840" y="1419120"/>
            <a:ext cx="469116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moveTo( x0 , y0 )  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arcTo(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1 , y1 ,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2 , y2 ,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adius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arcTo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01" name="Content Placeholder 1"/>
          <p:cNvSpPr/>
          <p:nvPr/>
        </p:nvSpPr>
        <p:spPr>
          <a:xfrm>
            <a:off x="5003640" y="1563840"/>
            <a:ext cx="3313440" cy="32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65656"/>
                </a:solidFill>
                <a:latin typeface="Calibri"/>
                <a:ea typeface="微软雅黑"/>
              </a:rPr>
              <a:t>开始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65656"/>
                </a:solidFill>
                <a:latin typeface="Calibri"/>
                <a:ea typeface="微软雅黑"/>
              </a:rPr>
              <a:t>控制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65656"/>
                </a:solidFill>
                <a:latin typeface="Calibri"/>
                <a:ea typeface="微软雅黑"/>
              </a:rPr>
              <a:t>结束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" dur="indefinite" restart="never" nodeType="tmRoot">
          <p:childTnLst>
            <p:seq>
              <p:cTn id="208" dur="indefinite" nodeType="mainSeq">
                <p:childTnLst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moveTo( x0 , y0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quadraticCurveTo(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1, y1,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2, y2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http://tinyurl.com/html5quadratic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QuadraticCurveTo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moveTo(100,100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lineTo(700,700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lineWidth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= 10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trokeStyle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= “#058”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stroke(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Draw one line 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58" name="右大括号 2"/>
          <p:cNvSpPr/>
          <p:nvPr/>
        </p:nvSpPr>
        <p:spPr>
          <a:xfrm>
            <a:off x="5364000" y="1563840"/>
            <a:ext cx="144720" cy="2087280"/>
          </a:xfrm>
          <a:custGeom>
            <a:avLst/>
            <a:gdLst>
              <a:gd name="textAreaLeft" fmla="*/ 0 w 144720"/>
              <a:gd name="textAreaRight" fmla="*/ 52200 w 144720"/>
              <a:gd name="textAreaTop" fmla="*/ 3600 h 2087280"/>
              <a:gd name="textAreaBottom" fmla="*/ 2083680 h 20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3"/>
                  <a:pt x="10800" y="125"/>
                </a:cubicBezTo>
                <a:lnTo>
                  <a:pt x="10800" y="10675"/>
                </a:lnTo>
                <a:cubicBezTo>
                  <a:pt x="10800" y="10738"/>
                  <a:pt x="16200" y="10800"/>
                  <a:pt x="21600" y="10800"/>
                </a:cubicBezTo>
                <a:cubicBezTo>
                  <a:pt x="16200" y="10800"/>
                  <a:pt x="10800" y="10863"/>
                  <a:pt x="10800" y="10925"/>
                </a:cubicBezTo>
                <a:lnTo>
                  <a:pt x="10800" y="21475"/>
                </a:lnTo>
                <a:cubicBezTo>
                  <a:pt x="10800" y="21538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文本框 3"/>
          <p:cNvSpPr/>
          <p:nvPr/>
        </p:nvSpPr>
        <p:spPr>
          <a:xfrm>
            <a:off x="6192360" y="235584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状态设置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右大括号 5"/>
          <p:cNvSpPr/>
          <p:nvPr/>
        </p:nvSpPr>
        <p:spPr>
          <a:xfrm>
            <a:off x="5364000" y="4467240"/>
            <a:ext cx="154080" cy="280800"/>
          </a:xfrm>
          <a:custGeom>
            <a:avLst/>
            <a:gdLst>
              <a:gd name="textAreaLeft" fmla="*/ 0 w 154080"/>
              <a:gd name="textAreaRight" fmla="*/ 55440 w 154080"/>
              <a:gd name="textAreaTop" fmla="*/ 3960 h 280800"/>
              <a:gd name="textAreaBottom" fmla="*/ 276840 h 28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493"/>
                  <a:pt x="10800" y="986"/>
                </a:cubicBezTo>
                <a:lnTo>
                  <a:pt x="10800" y="9814"/>
                </a:lnTo>
                <a:cubicBezTo>
                  <a:pt x="10800" y="10307"/>
                  <a:pt x="16200" y="10800"/>
                  <a:pt x="21600" y="10800"/>
                </a:cubicBezTo>
                <a:cubicBezTo>
                  <a:pt x="16200" y="10800"/>
                  <a:pt x="10800" y="11293"/>
                  <a:pt x="10800" y="11786"/>
                </a:cubicBezTo>
                <a:lnTo>
                  <a:pt x="10800" y="20614"/>
                </a:lnTo>
                <a:cubicBezTo>
                  <a:pt x="10800" y="21107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文本框 6"/>
          <p:cNvSpPr/>
          <p:nvPr/>
        </p:nvSpPr>
        <p:spPr>
          <a:xfrm>
            <a:off x="5940360" y="4371840"/>
            <a:ext cx="1509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绘制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 txBox="1"/>
          <p:nvPr/>
        </p:nvSpPr>
        <p:spPr>
          <a:xfrm>
            <a:off x="457200" y="1131840"/>
            <a:ext cx="8229600" cy="36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moveTo( x0 , y0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bezierCurveTo(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1, y1,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2, y2,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                  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3, y3 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http://tinyurl.com/html5bezier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BezierCurveTo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arc( centerx, centery, radius,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tartingAngle, endingAngle,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anticlockwise = false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arcTo( x1 , y1 , x2 , y2 , radius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曲线的绘制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457200" y="140508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quadraticCurveTo(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1, y1 ,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2 , y2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bezeirCurveTo(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1 , y1 , x2 , y2 ,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3, y3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曲线的绘制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10" name="文本框 2"/>
          <p:cNvSpPr/>
          <p:nvPr/>
        </p:nvSpPr>
        <p:spPr>
          <a:xfrm>
            <a:off x="7442280" y="2192400"/>
            <a:ext cx="2746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控制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束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直接连接符 5"/>
          <p:cNvSpPr/>
          <p:nvPr/>
        </p:nvSpPr>
        <p:spPr>
          <a:xfrm>
            <a:off x="5626080" y="2355840"/>
            <a:ext cx="1728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直接连接符 7"/>
          <p:cNvSpPr/>
          <p:nvPr/>
        </p:nvSpPr>
        <p:spPr>
          <a:xfrm>
            <a:off x="5626080" y="2932200"/>
            <a:ext cx="172872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文本框 8"/>
          <p:cNvSpPr/>
          <p:nvPr/>
        </p:nvSpPr>
        <p:spPr>
          <a:xfrm>
            <a:off x="7453440" y="3875040"/>
            <a:ext cx="2746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控制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结束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直接连接符 9"/>
          <p:cNvSpPr/>
          <p:nvPr/>
        </p:nvSpPr>
        <p:spPr>
          <a:xfrm>
            <a:off x="5638680" y="4038480"/>
            <a:ext cx="1727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直接连接符 10"/>
          <p:cNvSpPr/>
          <p:nvPr/>
        </p:nvSpPr>
        <p:spPr>
          <a:xfrm>
            <a:off x="5638680" y="4614840"/>
            <a:ext cx="172728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文本框 1"/>
          <p:cNvSpPr/>
          <p:nvPr/>
        </p:nvSpPr>
        <p:spPr>
          <a:xfrm>
            <a:off x="2665080" y="1924200"/>
            <a:ext cx="3465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7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章：文字的渲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font = "bold 40px Arial"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fillText( string , x , y , [maxlen]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strokeText( string , x , y  , [maxlen]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文字渲染基础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65656"/>
                </a:solidFill>
                <a:latin typeface="Calibri"/>
              </a:rPr>
              <a:t>默认值：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“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20px sans-serif”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font =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ont-style   font-variant   font-weight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ont-size     font-family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on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ont-style: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normal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( Default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     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italic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( </a:t>
            </a:r>
            <a:r>
              <a:rPr b="0" lang="zh-CN" sz="2800" spc="-1" strike="noStrike">
                <a:solidFill>
                  <a:srgbClr val="565656"/>
                </a:solidFill>
                <a:latin typeface="Calibri"/>
              </a:rPr>
              <a:t>斜体字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oblique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( </a:t>
            </a:r>
            <a:r>
              <a:rPr b="0" lang="zh-CN" sz="2800" spc="-1" strike="noStrike">
                <a:solidFill>
                  <a:srgbClr val="565656"/>
                </a:solidFill>
                <a:latin typeface="Calibri"/>
              </a:rPr>
              <a:t>倾斜字体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ont-style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ont-variant: normal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( Default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mall-caps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ont-varian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457200" y="1063440"/>
            <a:ext cx="8229600" cy="37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ont-weight: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lighter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normal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1859c"/>
                </a:solidFill>
                <a:latin typeface="Calibri"/>
              </a:rPr>
              <a:t>( Default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  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bold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bolder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100 , 200 , 300 , 400 (normal) ,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500 , 600 , 700 (bold) ,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800 , 900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ont-weigh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 txBox="1"/>
          <p:nvPr/>
        </p:nvSpPr>
        <p:spPr>
          <a:xfrm>
            <a:off x="457200" y="1063440"/>
            <a:ext cx="8229600" cy="37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ont-size: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20px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31859c"/>
                </a:solidFill>
                <a:latin typeface="微软雅黑"/>
              </a:rPr>
              <a:t>( Default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2em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150%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ont-size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微软雅黑"/>
              </a:rPr>
              <a:t>context.beginPath(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微软雅黑"/>
              </a:rPr>
              <a:t>context.closePath()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19512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Draw more lines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 txBox="1"/>
          <p:nvPr/>
        </p:nvSpPr>
        <p:spPr>
          <a:xfrm>
            <a:off x="457200" y="1063440"/>
            <a:ext cx="8229600" cy="37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ont-size: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x-small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-small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medium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larg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-larg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xx-larg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ont-size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 txBox="1"/>
          <p:nvPr/>
        </p:nvSpPr>
        <p:spPr>
          <a:xfrm>
            <a:off x="457200" y="1063440"/>
            <a:ext cx="8229600" cy="3749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65656"/>
                </a:solidFill>
                <a:latin typeface="Calibri"/>
              </a:rPr>
              <a:t>设置多种字体备选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565656"/>
                </a:solidFill>
                <a:latin typeface="Calibri"/>
              </a:rPr>
              <a:t>支持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@font-fac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Web</a:t>
            </a:r>
            <a:r>
              <a:rPr b="0" lang="zh-CN" sz="3200" spc="-1" strike="noStrike">
                <a:solidFill>
                  <a:srgbClr val="565656"/>
                </a:solidFill>
                <a:latin typeface="Calibri"/>
              </a:rPr>
              <a:t>安全字体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ont-family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font =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ont-style   font-variant   font-weight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         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font-size     font-family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on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textAlign =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left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enter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right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文本对齐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 txBox="1"/>
          <p:nvPr/>
        </p:nvSpPr>
        <p:spPr>
          <a:xfrm>
            <a:off x="457200" y="1203120"/>
            <a:ext cx="83628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textBaseline = 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top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middle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bottom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alphabetic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(Default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ideographic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hanging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文本对齐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"/>
          <p:cNvSpPr txBox="1"/>
          <p:nvPr/>
        </p:nvSpPr>
        <p:spPr>
          <a:xfrm>
            <a:off x="457200" y="1203120"/>
            <a:ext cx="8362800" cy="360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measureText( string ).width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         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文本的度量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文本框 1"/>
          <p:cNvSpPr/>
          <p:nvPr/>
        </p:nvSpPr>
        <p:spPr>
          <a:xfrm>
            <a:off x="2832840" y="1924200"/>
            <a:ext cx="3130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8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章：高级内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457200" y="1203480"/>
            <a:ext cx="822960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shadowColor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shadowOffsetX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shadowOffsetY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shadowBlur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阴影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 txBox="1"/>
          <p:nvPr/>
        </p:nvSpPr>
        <p:spPr>
          <a:xfrm>
            <a:off x="457200" y="14922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globalAlpha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globleCompositeOperation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global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 txBox="1"/>
          <p:nvPr/>
        </p:nvSpPr>
        <p:spPr>
          <a:xfrm>
            <a:off x="457200" y="14922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globalAlpha = 1 (Default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globalAlpha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xt.moveTo( x , y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xt.lineTo( x + width , y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xt.lineTo( x + width , y + height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xt.lineTo( x , y + height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xt.</a:t>
            </a:r>
            <a:r>
              <a:rPr b="0" lang="en-US" sz="3200" spc="-1" strike="noStrike">
                <a:solidFill>
                  <a:srgbClr val="ff0000"/>
                </a:solidFill>
                <a:latin typeface="Calibri"/>
              </a:rPr>
              <a:t>rect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( x , y , width , height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Draw a Rectangle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66" name="下箭头 3"/>
          <p:cNvSpPr/>
          <p:nvPr/>
        </p:nvSpPr>
        <p:spPr>
          <a:xfrm>
            <a:off x="2556000" y="3940200"/>
            <a:ext cx="360360" cy="360360"/>
          </a:xfrm>
          <a:prstGeom prst="down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457200" y="14922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globalCompositeOperation 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	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= “source-over”    (Default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globalCompositeOperation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 txBox="1"/>
          <p:nvPr/>
        </p:nvSpPr>
        <p:spPr>
          <a:xfrm>
            <a:off x="457200" y="1492200"/>
            <a:ext cx="23860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ource-over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ource-atop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ource-in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source-out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globalCompositeOperation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52" name="Content Placeholder 1"/>
          <p:cNvSpPr/>
          <p:nvPr/>
        </p:nvSpPr>
        <p:spPr>
          <a:xfrm>
            <a:off x="3564000" y="1488960"/>
            <a:ext cx="331164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  <a:ea typeface="微软雅黑"/>
              </a:rPr>
              <a:t>destination-ov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  <a:ea typeface="微软雅黑"/>
              </a:rPr>
              <a:t>destination-ato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  <a:ea typeface="微软雅黑"/>
              </a:rPr>
              <a:t>destination-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  <a:ea typeface="微软雅黑"/>
              </a:rPr>
              <a:t>destination-ou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Content Placeholder 1"/>
          <p:cNvSpPr/>
          <p:nvPr/>
        </p:nvSpPr>
        <p:spPr>
          <a:xfrm>
            <a:off x="7380360" y="1488960"/>
            <a:ext cx="1655640" cy="34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  <a:ea typeface="微软雅黑"/>
              </a:rPr>
              <a:t>ligh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  <a:ea typeface="微软雅黑"/>
              </a:rPr>
              <a:t>cop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  <a:ea typeface="微软雅黑"/>
              </a:rPr>
              <a:t>x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 txBox="1"/>
          <p:nvPr/>
        </p:nvSpPr>
        <p:spPr>
          <a:xfrm>
            <a:off x="456840" y="1492200"/>
            <a:ext cx="7859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clip(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剪辑区域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交点一定在顶点？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57" name="直接连接符 3"/>
          <p:cNvSpPr/>
          <p:nvPr/>
        </p:nvSpPr>
        <p:spPr>
          <a:xfrm flipV="1">
            <a:off x="539640" y="1275840"/>
            <a:ext cx="1511280" cy="158292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直接连接符 5"/>
          <p:cNvSpPr/>
          <p:nvPr/>
        </p:nvSpPr>
        <p:spPr>
          <a:xfrm>
            <a:off x="2050920" y="1276200"/>
            <a:ext cx="1081080" cy="107964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直接连接符 7"/>
          <p:cNvSpPr/>
          <p:nvPr/>
        </p:nvSpPr>
        <p:spPr>
          <a:xfrm>
            <a:off x="3132000" y="2355840"/>
            <a:ext cx="144720" cy="180036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直接连接符 9"/>
          <p:cNvSpPr/>
          <p:nvPr/>
        </p:nvSpPr>
        <p:spPr>
          <a:xfrm flipH="1" flipV="1">
            <a:off x="539280" y="3508200"/>
            <a:ext cx="2737080" cy="64800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直接连接符 11"/>
          <p:cNvSpPr/>
          <p:nvPr/>
        </p:nvSpPr>
        <p:spPr>
          <a:xfrm flipV="1">
            <a:off x="539640" y="2858760"/>
            <a:ext cx="0" cy="649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2" name="组合 25"/>
          <p:cNvGrpSpPr/>
          <p:nvPr/>
        </p:nvGrpSpPr>
        <p:grpSpPr>
          <a:xfrm>
            <a:off x="4932000" y="987120"/>
            <a:ext cx="3754800" cy="3529440"/>
            <a:chOff x="4932000" y="987120"/>
            <a:chExt cx="3754800" cy="3529440"/>
          </a:xfrm>
        </p:grpSpPr>
        <p:sp>
          <p:nvSpPr>
            <p:cNvPr id="263" name="直接连接符 13"/>
            <p:cNvSpPr/>
            <p:nvPr/>
          </p:nvSpPr>
          <p:spPr>
            <a:xfrm flipV="1">
              <a:off x="4932360" y="2787480"/>
              <a:ext cx="3384720" cy="43164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4" name="直接连接符 15"/>
            <p:cNvSpPr/>
            <p:nvPr/>
          </p:nvSpPr>
          <p:spPr>
            <a:xfrm flipH="1" flipV="1">
              <a:off x="7812360" y="987120"/>
              <a:ext cx="504720" cy="180036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5" name="直接连接符 17"/>
            <p:cNvSpPr/>
            <p:nvPr/>
          </p:nvSpPr>
          <p:spPr>
            <a:xfrm flipH="1">
              <a:off x="6948000" y="987480"/>
              <a:ext cx="863640" cy="35290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直接连接符 19"/>
            <p:cNvSpPr/>
            <p:nvPr/>
          </p:nvSpPr>
          <p:spPr>
            <a:xfrm flipH="1" flipV="1">
              <a:off x="6227640" y="1131840"/>
              <a:ext cx="720720" cy="338472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7" name="直接连接符 21"/>
            <p:cNvSpPr/>
            <p:nvPr/>
          </p:nvSpPr>
          <p:spPr>
            <a:xfrm>
              <a:off x="6227640" y="1131840"/>
              <a:ext cx="2459160" cy="5760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8" name="直接连接符 24"/>
            <p:cNvSpPr/>
            <p:nvPr/>
          </p:nvSpPr>
          <p:spPr>
            <a:xfrm flipH="1">
              <a:off x="4932000" y="1708200"/>
              <a:ext cx="3754440" cy="151128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非零环绕原则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pic>
        <p:nvPicPr>
          <p:cNvPr id="270" name="图片 29" descr=""/>
          <p:cNvPicPr/>
          <p:nvPr/>
        </p:nvPicPr>
        <p:blipFill>
          <a:blip r:embed="rId1"/>
          <a:stretch/>
        </p:blipFill>
        <p:spPr>
          <a:xfrm>
            <a:off x="1332000" y="1063800"/>
            <a:ext cx="6210360" cy="347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非零环绕原则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72" name="椭圆 1"/>
          <p:cNvSpPr/>
          <p:nvPr/>
        </p:nvSpPr>
        <p:spPr>
          <a:xfrm>
            <a:off x="2411280" y="1203480"/>
            <a:ext cx="3816360" cy="37954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椭圆 2"/>
          <p:cNvSpPr/>
          <p:nvPr/>
        </p:nvSpPr>
        <p:spPr>
          <a:xfrm>
            <a:off x="2843280" y="1635120"/>
            <a:ext cx="2952720" cy="2952720"/>
          </a:xfrm>
          <a:prstGeom prst="ellipse">
            <a:avLst/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4" name="直接箭头连接符 10"/>
          <p:cNvCxnSpPr/>
          <p:nvPr/>
        </p:nvCxnSpPr>
        <p:spPr>
          <a:xfrm flipV="1">
            <a:off x="2050560" y="2211120"/>
            <a:ext cx="1080" cy="1800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cxnSp>
        <p:nvCxnSpPr>
          <p:cNvPr id="275" name="直接箭头连接符 12"/>
          <p:cNvCxnSpPr/>
          <p:nvPr/>
        </p:nvCxnSpPr>
        <p:spPr>
          <a:xfrm>
            <a:off x="3419280" y="2211480"/>
            <a:ext cx="1080" cy="1800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triangle" w="med"/>
          </a:ln>
        </p:spPr>
      </p:cxnSp>
      <p:sp>
        <p:nvSpPr>
          <p:cNvPr id="276" name="椭圆 14"/>
          <p:cNvSpPr/>
          <p:nvPr/>
        </p:nvSpPr>
        <p:spPr>
          <a:xfrm>
            <a:off x="4248000" y="3040200"/>
            <a:ext cx="144720" cy="144360"/>
          </a:xfrm>
          <a:prstGeom prst="ellipse">
            <a:avLst/>
          </a:prstGeom>
          <a:solidFill>
            <a:srgbClr val="9bbb59"/>
          </a:solidFill>
          <a:ln w="25560">
            <a:solidFill>
              <a:srgbClr val="71893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77" name="直接箭头连接符 16"/>
          <p:cNvCxnSpPr>
            <a:stCxn id="276" idx="2"/>
          </p:cNvCxnSpPr>
          <p:nvPr/>
        </p:nvCxnSpPr>
        <p:spPr>
          <a:xfrm flipH="1" flipV="1">
            <a:off x="1042200" y="3101760"/>
            <a:ext cx="3205800" cy="10080"/>
          </a:xfrm>
          <a:prstGeom prst="straightConnector1">
            <a:avLst/>
          </a:prstGeom>
          <a:ln w="25560">
            <a:solidFill>
              <a:srgbClr val="98b954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nodeType="clickEffect" fill="hold">
                      <p:stCondLst>
                        <p:cond delay="indefinite"/>
                      </p:stCondLst>
                      <p:childTnLst>
                        <p:par>
                          <p:cTn id="2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 txBox="1"/>
          <p:nvPr/>
        </p:nvSpPr>
        <p:spPr>
          <a:xfrm>
            <a:off x="456840" y="1492200"/>
            <a:ext cx="7859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clearRect( x , y , width , height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clearRect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 txBox="1"/>
          <p:nvPr/>
        </p:nvSpPr>
        <p:spPr>
          <a:xfrm>
            <a:off x="456840" y="1492200"/>
            <a:ext cx="7859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ontext.isPointInPath( x , y )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isPointInPath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文本框 1"/>
          <p:cNvSpPr/>
          <p:nvPr/>
        </p:nvSpPr>
        <p:spPr>
          <a:xfrm>
            <a:off x="1357560" y="1924200"/>
            <a:ext cx="608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第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9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章：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Canvas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之旅仍在继续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文本框 1"/>
          <p:cNvSpPr/>
          <p:nvPr/>
        </p:nvSpPr>
        <p:spPr>
          <a:xfrm>
            <a:off x="1827000" y="1924200"/>
            <a:ext cx="5142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在</a:t>
            </a: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Canvas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上使用其他控件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 txBox="1"/>
          <p:nvPr/>
        </p:nvSpPr>
        <p:spPr>
          <a:xfrm>
            <a:off x="457200" y="141912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xt.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fillRect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( x , y , width , height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cxt.</a:t>
            </a:r>
            <a:r>
              <a:rPr b="0" lang="en-US" sz="3200" spc="-1" strike="noStrike">
                <a:solidFill>
                  <a:srgbClr val="0070c0"/>
                </a:solidFill>
                <a:latin typeface="Calibri"/>
              </a:rPr>
              <a:t>strokeRect</a:t>
            </a: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( x , y , width , height );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Draw a Rectangle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文本框 1"/>
          <p:cNvSpPr/>
          <p:nvPr/>
        </p:nvSpPr>
        <p:spPr>
          <a:xfrm>
            <a:off x="2955240" y="1924200"/>
            <a:ext cx="2885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Canvas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标准一直在更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 txBox="1"/>
          <p:nvPr/>
        </p:nvSpPr>
        <p:spPr>
          <a:xfrm>
            <a:off x="456840" y="1492200"/>
            <a:ext cx="7859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W3C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http://www.w3.org/TR/2dcontext/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WHATWG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https://html.spec.whatwg.org/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Canvas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标准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文本框 1"/>
          <p:cNvSpPr/>
          <p:nvPr/>
        </p:nvSpPr>
        <p:spPr>
          <a:xfrm>
            <a:off x="2229120" y="1924200"/>
            <a:ext cx="433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Canvas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与浏览器兼容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"/>
          <p:cNvSpPr txBox="1"/>
          <p:nvPr/>
        </p:nvSpPr>
        <p:spPr>
          <a:xfrm>
            <a:off x="456840" y="1492200"/>
            <a:ext cx="785988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explorecanvas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65656"/>
                </a:solidFill>
                <a:latin typeface="Calibri"/>
              </a:rPr>
              <a:t>https://code.google.com/p/explorercanvas/</a:t>
            </a: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Canvas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与</a:t>
            </a: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IE6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、</a:t>
            </a: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7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、</a:t>
            </a: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8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等浏览器的兼容性问题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文本框 1"/>
          <p:cNvSpPr/>
          <p:nvPr/>
        </p:nvSpPr>
        <p:spPr>
          <a:xfrm>
            <a:off x="2732040" y="1924200"/>
            <a:ext cx="3332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0c0"/>
                </a:solidFill>
                <a:latin typeface="黑体"/>
                <a:ea typeface="黑体"/>
              </a:rPr>
              <a:t>Canvas</a:t>
            </a:r>
            <a:r>
              <a:rPr b="0" lang="zh-CN" sz="4400" spc="-1" strike="noStrike">
                <a:solidFill>
                  <a:srgbClr val="0070c0"/>
                </a:solidFill>
                <a:latin typeface="黑体"/>
                <a:ea typeface="黑体"/>
              </a:rPr>
              <a:t>图形库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"/>
          <p:cNvSpPr txBox="1"/>
          <p:nvPr/>
        </p:nvSpPr>
        <p:spPr>
          <a:xfrm>
            <a:off x="456840" y="1063800"/>
            <a:ext cx="7859880" cy="388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canvasplus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https://code.google.com/p/canvasplus/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Artisan JS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http://artisanjs.com/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Rgraph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65656"/>
                </a:solidFill>
                <a:latin typeface="Calibri"/>
              </a:rPr>
              <a:t>https://roopons.com.au/wp-content/plugins/viral-optins/js/rgraph/</a:t>
            </a: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Canvas</a:t>
            </a:r>
            <a:r>
              <a:rPr b="0" lang="zh-CN" sz="2800" spc="-1" strike="noStrike">
                <a:solidFill>
                  <a:srgbClr val="0070c0"/>
                </a:solidFill>
                <a:latin typeface="微软雅黑"/>
              </a:rPr>
              <a:t>图形库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 txBox="1"/>
          <p:nvPr/>
        </p:nvSpPr>
        <p:spPr>
          <a:xfrm>
            <a:off x="457200" y="1035000"/>
            <a:ext cx="8229600" cy="36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#ffffff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#642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rgb( 255 , 128 , 0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rgba( 100 , 100 , 100 , 0.8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hsl( 20 , 62% , 28%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hsla( 40 , 82% , 33% , 0.6 )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65656"/>
                </a:solidFill>
                <a:latin typeface="Calibri"/>
              </a:rPr>
              <a:t>red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65656"/>
              </a:solidFill>
              <a:latin typeface="微软雅黑"/>
            </a:endParaRPr>
          </a:p>
        </p:txBody>
      </p:sp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70c0"/>
                </a:solidFill>
                <a:latin typeface="微软雅黑"/>
              </a:rPr>
              <a:t>fillStyle , strokeStyle</a:t>
            </a:r>
            <a:endParaRPr b="0" lang="en-US" sz="2800" spc="-1" strike="noStrike">
              <a:solidFill>
                <a:srgbClr val="565656"/>
              </a:solidFill>
              <a:latin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7-23T05:57:56Z</dcterms:created>
  <dc:creator>open</dc:creator>
  <dc:description/>
  <dc:language>en-US</dc:language>
  <cp:lastModifiedBy>刘宇波</cp:lastModifiedBy>
  <dcterms:modified xsi:type="dcterms:W3CDTF">2014-10-03T22:47:02Z</dcterms:modified>
  <cp:revision>267</cp:revision>
  <dc:subject/>
  <dc:title>PowerPoint 演示文稿</dc:title>
</cp:coreProperties>
</file>