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F3C-3E0D-4C5F-AE18-2DBF000B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466-D2CD-41A4-B1A5-F9B30704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A59-D9B3-47BA-9A05-7F9CF280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31B-8E22-40CE-8D27-2192C53B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BB48-6137-4703-B43F-134647A3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5E66-67E1-4DAA-93DF-870F10E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F61-0261-48A1-BFE8-B296B49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3B63-A0B8-4F87-9EF8-8DAED152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2583-F353-45E6-B004-C857F1ED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7BEF-F5EC-49D8-8330-3A8FBA63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8115-57F8-4AC4-B04D-12B2801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987-2184-4B44-AEDC-8B169CE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473A-DDBC-422F-A1B3-05327DA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25D-3AC2-4251-8B65-8D921E2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D7A-8A1B-41F9-AB3F-0072AF7F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36D4-604F-4145-B376-FC6AC35F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D65A-E79A-4CFE-BE64-840BA899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C33-2242-419B-8C6B-3F98107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478-E8D9-44F5-A51B-8AABBA60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ECA-CBD4-4F08-AEEE-05185E46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C1F-CD5C-40DD-827F-4C8AF53E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EBD-3A8A-4C97-B669-C23DE61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74E-8D15-4466-A1D8-B304D1F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BDE-59D3-48FB-9904-1B31001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C20C-DE48-4972-859A-D7B7A5BBD6B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461A-1755-477E-8381-DCB7FEC727B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" Target="slide23.xml"/><Relationship Id="rId4" Type="http://schemas.openxmlformats.org/officeDocument/2006/relationships/slide" Target="slide21.xml"/><Relationship Id="rId5" Type="http://schemas.openxmlformats.org/officeDocument/2006/relationships/slide" Target="slide24.xml"/><Relationship Id="rId6" Type="http://schemas.openxmlformats.org/officeDocument/2006/relationships/slide" Target="slide14.xml"/><Relationship Id="rId7" Type="http://schemas.openxmlformats.org/officeDocument/2006/relationships/slide" Target="slide29.xml"/><Relationship Id="rId8" Type="http://schemas.openxmlformats.org/officeDocument/2006/relationships/slide" Target="slide26.xml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演奏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劳动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6" action="ppaction://hlinksldjump"/>
          </p:cNvPr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分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7" action="ppaction://hlinksldjump"/>
          </p:cNvPr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回应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8" action="ppaction://hlinksldjump"/>
          </p:cNvPr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拓展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9" action="ppaction://hlinksldjump"/>
          </p:cNvPr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升华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907920"/>
            <a:ext cx="66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草虫的村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76720" y="55627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你看见了什么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98680" y="1828800"/>
            <a:ext cx="56246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茂盛的“森林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游侠”以及它的同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草虫的“村落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熙熙攘攘的黑甲虫“村民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街道”“小巷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像南国少女般的花色斑斓的小圆虫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像庞然大物似的来访者──蜥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甲虫“音乐家”的演奏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村民们”的劳动生活</a:t>
            </a:r>
            <a:r>
              <a:rPr b="1" lang="zh-CN" sz="1800" spc="-1" strike="noStrike">
                <a:solidFill>
                  <a:srgbClr val="0000ff"/>
                </a:solidFill>
                <a:latin typeface="Comic Sans MS"/>
                <a:ea typeface="华文仿宋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904760" cy="2438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19047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Comic Sans MS"/>
                <a:ea typeface="方正姚体"/>
              </a:rPr>
              <a:t>提问：</a:t>
            </a:r>
            <a:br>
              <a:rPr sz="4000"/>
            </a:b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华文仿宋"/>
              </a:rPr>
              <a:t>这个村落是怎样出现在作者眼前的呢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133720" y="434340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仿宋"/>
              </a:rPr>
              <a:t>想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仿宋"/>
              <a:ea typeface="华文仿宋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5029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38120" y="55627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Comic Sans MS"/>
                <a:ea typeface="华文新魏"/>
              </a:rPr>
              <a:t>丰富的想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仿宋"/>
              </a:rPr>
              <a:t>看到细密的草茎，把它想象成茂密的“森林”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华文仿宋"/>
              </a:rPr>
              <a:t>作者看到一只孤零零地在草丛中爬行的小虫，把它想象成了一位“游侠”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仿宋"/>
              </a:rPr>
              <a:t>看到花色斑斓的小圆虫，把它们想象成“南国的少女”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华文仿宋"/>
              </a:rPr>
              <a:t>看到振动翅膀的甲虫，把它们想象成“音乐家”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仿宋"/>
              </a:rPr>
              <a:t>看到推着食物行走的甲虫，把它们想象成从远方归来的“劳动者”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华文仿宋"/>
              </a:rPr>
              <a:t>文章中还有哪些想象呢？请把它们找出来吧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95480" y="182880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Comic Sans MS"/>
                <a:ea typeface="方正姚体"/>
              </a:rPr>
              <a:t>给课文划分层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2971800"/>
            <a:ext cx="6096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层（第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总起全文，交待了这次奇异游历的特殊氛围和心情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层（第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－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自然段）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叙写了奇异游历的全过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层（末尾两个自然段）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表达了作者对草虫村落的依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51460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60520" y="771480"/>
            <a:ext cx="637920" cy="64260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0bdf"/>
                </a:solidFill>
                <a:latin typeface="Arial"/>
                <a:ea typeface="华文新魏"/>
              </a:rPr>
              <a:t>一次奇异游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417680"/>
            <a:ext cx="196560" cy="792000"/>
          </a:xfrm>
          <a:prstGeom prst="downArrow">
            <a:avLst>
              <a:gd name="adj1" fmla="val 50000"/>
              <a:gd name="adj2" fmla="val 1007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0680" y="2209680"/>
            <a:ext cx="12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草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4560" y="220968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森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95520" y="2209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 rot="10857600">
            <a:off x="5161680" y="220896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村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77240" y="220968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大街小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66720" y="2433600"/>
            <a:ext cx="447840" cy="236520"/>
          </a:xfrm>
          <a:prstGeom prst="rightArrow">
            <a:avLst>
              <a:gd name="adj1" fmla="val 50000"/>
              <a:gd name="adj2" fmla="val 47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66720" y="3622680"/>
            <a:ext cx="447840" cy="236520"/>
          </a:xfrm>
          <a:prstGeom prst="rightArrow">
            <a:avLst>
              <a:gd name="adj1" fmla="val 50000"/>
              <a:gd name="adj2" fmla="val 47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2467080"/>
            <a:ext cx="750960" cy="236520"/>
          </a:xfrm>
          <a:prstGeom prst="rightArrow">
            <a:avLst>
              <a:gd name="adj1" fmla="val 50000"/>
              <a:gd name="adj2" fmla="val 7937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62560" y="2433600"/>
            <a:ext cx="637920" cy="236520"/>
          </a:xfrm>
          <a:prstGeom prst="rightArrow">
            <a:avLst>
              <a:gd name="adj1" fmla="val 50000"/>
              <a:gd name="adj2" fmla="val 6742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14640" y="2433600"/>
            <a:ext cx="447840" cy="236520"/>
          </a:xfrm>
          <a:prstGeom prst="rightArrow">
            <a:avLst>
              <a:gd name="adj1" fmla="val 50000"/>
              <a:gd name="adj2" fmla="val 47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6640" y="3398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14560" y="3398760"/>
            <a:ext cx="13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游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95520" y="33987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迎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3398760"/>
            <a:ext cx="19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演奏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77240" y="339876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工劳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40480" y="3656160"/>
            <a:ext cx="536760" cy="236520"/>
          </a:xfrm>
          <a:prstGeom prst="rightArrow">
            <a:avLst>
              <a:gd name="adj1" fmla="val 50000"/>
              <a:gd name="adj2" fmla="val 5673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95960" y="3656160"/>
            <a:ext cx="447480" cy="236520"/>
          </a:xfrm>
          <a:prstGeom prst="rightArrow">
            <a:avLst>
              <a:gd name="adj1" fmla="val 50000"/>
              <a:gd name="adj2" fmla="val 4729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48040" y="3622680"/>
            <a:ext cx="447480" cy="236520"/>
          </a:xfrm>
          <a:prstGeom prst="rightArrow">
            <a:avLst>
              <a:gd name="adj1" fmla="val 50000"/>
              <a:gd name="adj2" fmla="val 4729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78928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5268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716040"/>
            <a:ext cx="1704600" cy="703440"/>
          </a:xfrm>
          <a:prstGeom prst="rect">
            <a:avLst/>
          </a:prstGeom>
          <a:solidFill>
            <a:srgbClr val="2d4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d600"/>
                </a:solidFill>
                <a:latin typeface="Arial"/>
                <a:ea typeface="华文新魏"/>
              </a:rPr>
              <a:t>草虫的村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95520" y="987480"/>
            <a:ext cx="1525680" cy="288720"/>
          </a:xfrm>
          <a:prstGeom prst="leftArrow">
            <a:avLst>
              <a:gd name="adj1" fmla="val 50000"/>
              <a:gd name="adj2" fmla="val 13210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36760" y="142092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追随、想、看见、吸引、探索、迷惑、漫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9724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d600"/>
                </a:solidFill>
                <a:latin typeface="Arial"/>
                <a:ea typeface="华文新魏"/>
              </a:rPr>
              <a:t>平 等</a:t>
            </a:r>
            <a:r>
              <a:rPr b="1" lang="zh-CN" sz="4800" spc="-1" strike="noStrike">
                <a:solidFill>
                  <a:srgbClr val="001e00"/>
                </a:solidFill>
                <a:latin typeface="Arial"/>
                <a:ea typeface="华文新魏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38680" y="5197320"/>
            <a:ext cx="27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d600"/>
                </a:solidFill>
                <a:latin typeface="Arial"/>
                <a:ea typeface="华文新魏"/>
              </a:rPr>
              <a:t>和 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28800" y="472428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6800" y="4610160"/>
            <a:ext cx="659160" cy="1174680"/>
          </a:xfrm>
          <a:custGeom>
            <a:avLst/>
            <a:gdLst>
              <a:gd name="textAreaLeft" fmla="*/ 421200 w 659160"/>
              <a:gd name="textAreaRight" fmla="*/ 659520 w 659160"/>
              <a:gd name="textAreaTop" fmla="*/ 30600 h 1174680"/>
              <a:gd name="textAreaBottom" fmla="*/ 1144080 h 117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924680" y="774720"/>
            <a:ext cx="838440" cy="501480"/>
          </a:xfrm>
          <a:custGeom>
            <a:avLst/>
            <a:gdLst>
              <a:gd name="textAreaLeft" fmla="*/ 32400 w 838440"/>
              <a:gd name="textAreaRight" fmla="*/ 806040 w 83844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36103" h="21600">
                <a:moveTo>
                  <a:pt x="0" y="0"/>
                </a:moveTo>
                <a:lnTo>
                  <a:pt x="36103" y="0"/>
                </a:lnTo>
                <a:lnTo>
                  <a:pt x="36103" y="21600"/>
                </a:lnTo>
                <a:lnTo>
                  <a:pt x="0" y="21600"/>
                </a:lnTo>
                <a:close/>
              </a:path>
              <a:path fill="lightenLess" w="36103" h="21600">
                <a:moveTo>
                  <a:pt x="0" y="0"/>
                </a:moveTo>
                <a:lnTo>
                  <a:pt x="36103" y="0"/>
                </a:lnTo>
                <a:lnTo>
                  <a:pt x="34703" y="1400"/>
                </a:lnTo>
                <a:lnTo>
                  <a:pt x="1400" y="1400"/>
                </a:lnTo>
                <a:close/>
              </a:path>
              <a:path fill="darken" w="36103" h="21600">
                <a:moveTo>
                  <a:pt x="36103" y="0"/>
                </a:moveTo>
                <a:lnTo>
                  <a:pt x="36103" y="21600"/>
                </a:lnTo>
                <a:lnTo>
                  <a:pt x="34703" y="20200"/>
                </a:lnTo>
                <a:lnTo>
                  <a:pt x="34703" y="1400"/>
                </a:lnTo>
                <a:close/>
              </a:path>
              <a:path fill="darkenLess" w="36103" h="21600">
                <a:moveTo>
                  <a:pt x="36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3" y="20200"/>
                </a:lnTo>
                <a:close/>
              </a:path>
              <a:path fill="lighten" w="36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3" h="21600">
                <a:moveTo>
                  <a:pt x="21551" y="10800"/>
                </a:moveTo>
                <a:lnTo>
                  <a:pt x="11045" y="17806"/>
                </a:lnTo>
                <a:lnTo>
                  <a:pt x="11045" y="3794"/>
                </a:lnTo>
                <a:close/>
              </a:path>
              <a:path fill="darken" w="36103" h="21600">
                <a:moveTo>
                  <a:pt x="23396" y="3794"/>
                </a:moveTo>
                <a:lnTo>
                  <a:pt x="23396" y="17806"/>
                </a:lnTo>
                <a:lnTo>
                  <a:pt x="25058" y="17806"/>
                </a:lnTo>
                <a:lnTo>
                  <a:pt x="25058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85800" y="12193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原来，在小虫子的世界中，蕴藏着多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297180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我眼中，草虫的村落就是 </a:t>
            </a:r>
            <a:r>
              <a:rPr b="1" lang="zh-CN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229600" cy="50115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99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考考你</a:t>
            </a:r>
            <a:r>
              <a:rPr b="1" lang="zh-CN" sz="6000" spc="-1" strike="noStrike">
                <a:solidFill>
                  <a:srgbClr val="3333ff"/>
                </a:solidFill>
                <a:latin typeface="Comic Sans MS"/>
                <a:ea typeface="仿宋_GB2312"/>
              </a:rPr>
              <a:t>的想象力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380988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它们意味深长地对视良久，然后一齐欢跃地走回洞穴里去。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华文仿宋"/>
              </a:rPr>
              <a:t>它们在倾诉些什么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33920" y="289548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（一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229600" cy="5011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6324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蜥蜴面前围拢了一群黑甲虫，对这庞然大物投以好奇的目光。它们友好地交流着，好像攀谈得很投机似的。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华文仿宋"/>
              </a:rPr>
              <a:t>黑甲虫看着“庞然大物”为什么会感到好奇？蜥蜴和小甲虫在交流些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581280" y="152388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（二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229600" cy="5011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85480" y="2811240"/>
            <a:ext cx="634212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我还看见了许多许多……”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华文仿宋"/>
              </a:rPr>
              <a:t>我”还看见了什么呢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352680" y="16002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（三）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8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8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4496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Comic Sans MS"/>
                <a:ea typeface="黑体"/>
              </a:rPr>
              <a:t>作者在文中表达了怎样的思想感情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2400" y="4168440"/>
            <a:ext cx="520236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Comic Sans MS"/>
                <a:ea typeface="华文仿宋"/>
              </a:rPr>
              <a:t>表达了对大自然、对小生命的喜爱之情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41144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4000" spc="-1" strike="noStrike">
                <a:solidFill>
                  <a:srgbClr val="0099ff"/>
                </a:solidFill>
                <a:latin typeface="Comic Sans MS"/>
              </a:rPr>
              <a:t>同学们，你观察过虫子吗？那你看到过“草虫的村落”吗？“草虫的村落”是怎样的呢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04920" y="1523880"/>
            <a:ext cx="7086240" cy="2467080"/>
            <a:chOff x="304920" y="1523880"/>
            <a:chExt cx="7086240" cy="24670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304920" y="1523880"/>
              <a:ext cx="3070800" cy="24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4005360" y="2286000"/>
              <a:ext cx="3385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导入新课</a:t>
              </a:r>
              <a:endPara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229600" cy="4981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5105520" y="3505320"/>
            <a:ext cx="3047760" cy="14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细心品味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09680" y="18284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Comic Sans MS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ff"/>
                </a:solidFill>
                <a:latin typeface="Comic Sans MS"/>
                <a:ea typeface="黑体"/>
              </a:rPr>
              <a:t>今天，我又躺在田野里，在无限的静谧中，忘了世界，也忘了自己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3246120"/>
            <a:ext cx="634356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　　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这是开篇的第一句，一个“又”和一个“躺”字，点出作者与田野不寻常的关系；“静谧”不仅是环境的清幽，更是心境的宁静，在这样的环境与心境中，作者才与大自然相融为一，才有了这一次对草虫村落的奇异的游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828800" cy="13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黑体"/>
              </a:rPr>
              <a:t>②</a:t>
            </a: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黑体"/>
              </a:rPr>
              <a:t>空间在我眼前扩大了，细密的草茎组成了茂盛的森林。一只小虫，一只生着坚硬黑甲的小虫，迷失在这座森林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19160" y="3581280"/>
            <a:ext cx="5105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Comic Sans MS"/>
                <a:ea typeface="华文仿宋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这是作者奇异的游历所展示的第一个空间，这个空间是在作者的想象中通过放大构筑而成的。也因为这样，才有了作者这次对草虫村落的游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4386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87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它们的村子散布在森林边缘的小丘上。这里，很多黑甲虫村民，熙熙攘攘地往来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82680" y="1949040"/>
            <a:ext cx="55562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      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这是作者奇异的游历所展示的第二个空间，也是本文的主体部分。 “在森林边缘的小丘上”也就是草丛边上的一些小土堆，这是最适合草虫聚居的洞穴群的形成之处，所以也就可以看到熙熙攘攘往来的那些黑甲虫村民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6002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0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甲虫音乐家们全神贯注地振着翅膀，优美的音韵，像灵泉一般流了出来。此时，我觉得它们的音乐优于人间的一切音乐，这是只有虫子们才能演奏出来的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98560" y="3432240"/>
            <a:ext cx="6557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　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华文仿宋"/>
              </a:rPr>
              <a:t>“灵泉”，形容泉水非同一般，具有灵性。这些甲虫竟然还是音乐爱好者，它们振动翅膀发出声音的时候，便有最优美的音韵像灵泉一般流出来。从这段话及末尾的感叹号里，我们可以感受到作者对大自然小生灵的赞美之情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黑体"/>
              </a:rPr>
              <a:t>⑤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  <a:ea typeface="黑体"/>
              </a:rPr>
              <a:t>现在它们归来了，每一个都用前肢推着大过身体两三倍的食物，行色匆匆地赶着路。是什么力量使它们这么勤勉地奔忙呢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44720" y="3738240"/>
            <a:ext cx="59846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  <a:ea typeface="华文仿宋"/>
              </a:rPr>
              <a:t>一幅甲虫“村民们”的劳动图生动地展现在大家面前。一个问句可以引发读者的思考，促使读者不断地想象开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9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4495680"/>
            <a:ext cx="5715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⑥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我悠悠忽忽地漫游了一个下午，直至夕阳亲吻着西山的时候，红鸠鸟的歌声才把我的心灵唤回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8400" y="2197080"/>
            <a:ext cx="577044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  <a:ea typeface="华文仿宋"/>
              </a:rPr>
              <a:t>这一句表现作者对草虫的村落的沉醉和痴迷，一句“才把我的心灵唤回来”更点明了作者心灵沉浸在奇异游历中的欢快和得意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9228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山上来，我最喜欢的事就是听鸟叫。……鸟儿的鸣声是世间最美的语言 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……我想做一只鸟，在山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空山鸟语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41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爱听蝉，打从很小的时候起。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河之水天上来，绿阴天上来，蝉儿们的鸣声天上来。                                                           ——《蝉声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486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来要偕同二三知己，归隐于此。数亩田、几架书、一卷诗，生活像舒卷自如的云彩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生命的一抹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39360" y="3432240"/>
            <a:ext cx="577404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zh-CN" sz="4000" spc="-1" strike="noStrike">
                <a:solidFill>
                  <a:srgbClr val="0099ff"/>
                </a:solidFill>
                <a:latin typeface="Comic Sans MS"/>
                <a:ea typeface="黑体"/>
              </a:rPr>
              <a:t>写一写自己观察过的小虫，注意展开想象，融入自己的感受哦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80880" y="1752480"/>
            <a:ext cx="6858000" cy="1523880"/>
            <a:chOff x="380880" y="1752480"/>
            <a:chExt cx="6858000" cy="152388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380880" y="1752480"/>
              <a:ext cx="327672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 txBox="1"/>
            <p:nvPr/>
          </p:nvSpPr>
          <p:spPr>
            <a:xfrm>
              <a:off x="3809880" y="2200680"/>
              <a:ext cx="3429000" cy="98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宋体"/>
                </a:rPr>
                <a:t>随堂小练笔</a:t>
              </a:r>
              <a:endPara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590920" y="289548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ff"/>
                </a:solidFill>
                <a:latin typeface="Comic Sans MS"/>
                <a:ea typeface="黑体"/>
              </a:rPr>
              <a:t>丰富知识</a:t>
            </a:r>
            <a:r>
              <a:rPr b="1" lang="zh-CN" sz="4000" spc="-1" strike="noStrike">
                <a:solidFill>
                  <a:srgbClr val="0099ff"/>
                </a:solidFill>
                <a:latin typeface="Comic Sans MS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近甲     虫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15328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甲虫是鞘翅目的昆虫。鞘翅目是昆虫纲中最大的一个目。本目昆虫体壁坚硬，特别是前翅角质化，所以通称甲虫。世界已知约 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33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万种，约占世界已知昆虫总数的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1/3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，中国已知约近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7000</a:t>
            </a:r>
            <a:r>
              <a:rPr b="1" lang="zh-CN" sz="2300" spc="-1" strike="noStrike">
                <a:solidFill>
                  <a:srgbClr val="0033cc"/>
                </a:solidFill>
                <a:latin typeface="华文仿宋"/>
                <a:ea typeface="华文仿宋"/>
              </a:rPr>
              <a:t>种。 除海洋外，陆地、空中和各种水域均有分布，尤以陆生种类最多。有的寄生于其他昆虫的体内，有的寄生于哺乳动物的体外，有的在动物粪便、尸体、枯枝落叶或土壤中生活，也有的寄居在鸟类或鼠类的巢穴中，或寄居于某些社会性昆虫（如蚁类或蜂类）的巢内，还有的是仓库害虫。 甲虫的食性很复杂，包括腐食性、粪食性、 尸食性、 植食性、捕食性和寄生性等。植食性的种类有很多是农林业的重要害虫。捕食性的甲虫中，有很多是对人类有益的，如瓢虫科、步甲科和虎甲科等。有些甲虫具有医药价值，如：芫菁科的一些甲虫能分泌芫菁素（亦称斑蝥素），可以用来治疗某些癌症。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52388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6705360" cy="1689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5562720" y="137160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字音过关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467480" y="5257800"/>
            <a:ext cx="1447920" cy="1089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228600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m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静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1143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x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小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2286000"/>
            <a:ext cx="106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q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俏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2860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d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逗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22860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p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庞然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876920"/>
            <a:ext cx="1905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hōng k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烘       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4876920"/>
            <a:ext cx="106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音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48769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qín m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勤      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876920"/>
            <a:ext cx="1219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w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亲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7240" y="3004920"/>
            <a:ext cx="23371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静谧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熙熙攘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花色斑斓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驻足痴望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3048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安宁而平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3733920"/>
            <a:ext cx="5334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形容人来人往，非常热闹。文中指的是黑甲虫来来往往的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952880"/>
            <a:ext cx="3886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色彩艳丽，灿烂夺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5562720"/>
            <a:ext cx="4191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指停下脚步痴痴地看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38280" y="160020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词义过关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352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寒暄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野灌丛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行色匆匆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蕴藏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Comic Sans MS"/>
                <a:ea typeface="黑体"/>
              </a:rPr>
              <a:t>悠悠忽忽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447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见面时谈天气冷暖之类的应酬话。暄：温暖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666880"/>
            <a:ext cx="487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野生的灌木丛。灌木：一种比较矮小，丛生的木本植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962520"/>
            <a:ext cx="4876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匆忙赶路的神态。色：这里指神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5029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蓄积而未显露或未被发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56386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本文有形容神志恍惚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752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0020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从文中找出一句话来概括</a:t>
            </a:r>
            <a:br>
              <a:rPr sz="4400"/>
            </a:b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文章的主要内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我目光追随着爬行的小虫，作了一次奇异的游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137160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朗读课文，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想一想：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“草虫的村落”在哪儿？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华文仿宋"/>
              </a:rPr>
              <a:t>你在那儿看见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2438640" cy="1743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343400" y="4419720"/>
            <a:ext cx="25909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04920" y="1600200"/>
            <a:ext cx="5333760" cy="1295280"/>
            <a:chOff x="304920" y="1600200"/>
            <a:chExt cx="5333760" cy="1295280"/>
          </a:xfrm>
        </p:grpSpPr>
        <p:sp>
          <p:nvSpPr>
            <p:cNvPr id="208" name=""/>
            <p:cNvSpPr/>
            <p:nvPr/>
          </p:nvSpPr>
          <p:spPr>
            <a:xfrm>
              <a:off x="304920" y="1600200"/>
              <a:ext cx="5105160" cy="12952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1600200"/>
              <a:ext cx="525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它们的村子散布在森林边缘的小丘上。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809880" y="3048120"/>
            <a:ext cx="6098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7150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07T13:40:27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