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10.png" ContentType="image/png"/>
  <Override PartName="/ppt/media/image9.jpeg" ContentType="image/jpeg"/>
  <Override PartName="/ppt/media/image8.jpeg" ContentType="image/jpeg"/>
  <Override PartName="/ppt/media/image6.gif" ContentType="image/gif"/>
  <Override PartName="/ppt/media/image5.gif" ContentType="image/gif"/>
  <Override PartName="/ppt/media/image1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3.gif" ContentType="image/gif"/>
  <Override PartName="/ppt/media/image7.png" ContentType="image/png"/>
  <Override PartName="/ppt/media/image17.jpeg" ContentType="image/jpeg"/>
  <Override PartName="/ppt/media/image4.jpeg" ContentType="image/jpeg"/>
  <Override PartName="/ppt/media/image22.gif" ContentType="image/gif"/>
  <Override PartName="/ppt/media/image15.jpeg" ContentType="image/jpeg"/>
  <Override PartName="/ppt/media/image12.png" ContentType="image/png"/>
  <Override PartName="/ppt/media/image20.jpeg" ContentType="image/jpeg"/>
  <Override PartName="/ppt/media/image19.gif" ContentType="image/gif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635-37B8-4579-B831-523FCEDD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897-82E4-4D9C-AFCD-610D9DC6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7AF-5DEF-4A5A-88C5-5FE85C31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442-BCC7-4A7D-91E4-E72E8706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5413-EB14-46F7-B6F6-18CFDF1C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C2BB-1497-4F37-B884-38A2E46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25D0-E870-4D3E-9071-55D1F7AC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B984-3A7F-4B9D-A3D0-B75CEDFB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20B3-000C-49B1-A247-41ABDBA5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F712-1BD2-4C20-AF2D-21BE0BB3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F74E-279F-45CC-8A92-61E57362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950-6572-4341-A523-CA237D5D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55FB-73B1-4448-8B34-8CD4280B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67E5-44B8-47D8-B2AA-0AB56213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CD80-340E-4885-952B-84F08CE0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F5E0-BE72-491E-A5B0-5D56F6A6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A410-2334-4AAB-BF93-9C9B5523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D32A-4C7B-4EA1-A944-EFEF8985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A52A1-5441-47E0-A96E-F79C416F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CA61D-192D-4140-83A1-51F6CF5B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8150-1F60-417D-B045-9510FF56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2D43-C5E9-46CD-BF7E-7ECF0F16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075-BA8F-4FC2-9F60-B9BCF885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4418-F222-4302-8A13-5FAC66CF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0BC0-ECD1-4735-A06F-4BD7B3E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4BD6A-D547-4D14-B387-31A8049F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BB187-15AA-443F-A8DB-CEEAAFE3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2595-2DC1-41E8-8D81-0F489D50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F417-30BC-494E-953E-FAB71E23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09DE3-C24E-49FD-AAD2-66141E6D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48684-57E5-4D1A-826E-5772CAC4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B7EE4-EF4A-411E-8DBB-8B242F5D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B6188-11E0-495F-918E-A0BB9A6E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0E5-97F4-4F82-B58B-78ED0D87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BE0D8-D5E3-4543-8E2B-7953A730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C51A-3F2A-48D3-8148-BCC49D7F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5C8A-2C7E-4604-86DB-B054B0F0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FC114-A52B-47F4-A0B3-F41255DA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DF64D-87D4-42CC-8850-636E2AFF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95E65-DE12-4D84-B7BA-3CCC3FEA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AC64E-B94C-46E4-89B9-1906BA51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89AB1-F6F9-493F-8E3A-CF3DE8DF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E4412-1CBC-4052-ABDE-B506FD07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C4A-CAA2-4364-9D50-E7500386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53C-D27B-4418-85D3-6D85A1D6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9C6-04CB-48EC-8085-4C2FAB7D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EDD-B9C4-4ED4-8557-8E7AAB59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4C1-4E1C-4BA8-BAE9-DC7A196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CF21-06C0-47B2-971B-8B9D7D771D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79AC-1BDE-41F9-9180-8CEFE25B79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83" name="未知"/>
            <p:cNvSpPr/>
            <p:nvPr/>
          </p:nvSpPr>
          <p:spPr>
            <a:xfrm>
              <a:off x="790200" y="0"/>
              <a:ext cx="629280" cy="62136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160920" y="8280"/>
              <a:ext cx="798840" cy="6213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0" y="774000"/>
              <a:ext cx="637560" cy="6296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11560" y="241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560" y="3139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717320" y="0"/>
              <a:ext cx="635760" cy="62136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8175600" y="8280"/>
              <a:ext cx="798840" cy="6213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8505720" y="774000"/>
              <a:ext cx="637560" cy="6296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790200" y="6236280"/>
              <a:ext cx="629280" cy="62136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0" y="5453280"/>
              <a:ext cx="637560" cy="6296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11560" y="6567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11560" y="64947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2200" y="1395360"/>
              <a:ext cx="48600" cy="40662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9840" y="1395360"/>
              <a:ext cx="48600" cy="40662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73200" y="1395360"/>
              <a:ext cx="48600" cy="40662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44840" y="1395360"/>
              <a:ext cx="48600" cy="40662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7717320" y="6236280"/>
              <a:ext cx="635760" cy="62136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8505720" y="5453280"/>
              <a:ext cx="637560" cy="6296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013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8C29-3B9D-4AA3-A4D0-A5E8D1801F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9" name="未知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244" name="未知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3886200" y="3072600"/>
              <a:ext cx="9000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504432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3886200" y="3699360"/>
              <a:ext cx="9000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504432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7FC4-EC6F-4705-9D34-AD95351179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5.xml"/><Relationship Id="rId3" Type="http://schemas.openxmlformats.org/officeDocument/2006/relationships/image" Target="../media/image19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7027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244000" y="609300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1083"/>
                </a:moveTo>
                <a:lnTo>
                  <a:pt x="8224" y="11083"/>
                </a:lnTo>
                <a:lnTo>
                  <a:pt x="12645" y="6470"/>
                </a:lnTo>
                <a:lnTo>
                  <a:pt x="12645" y="20483"/>
                </a:lnTo>
                <a:lnTo>
                  <a:pt x="8224" y="15870"/>
                </a:lnTo>
                <a:lnTo>
                  <a:pt x="3794" y="15870"/>
                </a:lnTo>
                <a:close/>
              </a:path>
              <a:path fill="darken" w="21600" h="26953">
                <a:moveTo>
                  <a:pt x="14299" y="13476"/>
                </a:moveTo>
                <a:lnTo>
                  <a:pt x="17806" y="13476"/>
                </a:lnTo>
              </a:path>
              <a:path fill="darken" w="21600" h="26953">
                <a:moveTo>
                  <a:pt x="14299" y="11083"/>
                </a:moveTo>
                <a:lnTo>
                  <a:pt x="17806" y="8315"/>
                </a:lnTo>
              </a:path>
              <a:path fill="darken" w="21600" h="26953">
                <a:moveTo>
                  <a:pt x="14299" y="15870"/>
                </a:moveTo>
                <a:lnTo>
                  <a:pt x="17806" y="18638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57bd"/>
                </a:solidFill>
                <a:latin typeface="Arial Black"/>
              </a:rPr>
              <a:t>草船借箭成功的因素：</a:t>
            </a:r>
            <a:br>
              <a:rPr sz="4000"/>
            </a:br>
            <a:endParaRPr b="0" lang="en-US" sz="40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56240" y="1749600"/>
            <a:ext cx="41860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天后江上有大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船身相连容易受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曹操多疑不敢出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士兵擂鼓虚张声势，引敌射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刮西北风，使船回去顺风顺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3313080" cy="3241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88452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高度概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41600" y="20606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组合作学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出课文中高度评价诸葛亮的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71480" y="566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16200" y="24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23040" y="36450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Sylfaen"/>
                <a:ea typeface="黑体"/>
              </a:rPr>
              <a:t>神机妙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63800" y="7650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诸葛亮的神机妙算表现在哪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4360" y="2421000"/>
            <a:ext cx="7848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组合作学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出课文中有关的句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Sylfaen"/>
              </a:rPr>
              <a:t>讨论借箭的妙处</a:t>
            </a:r>
            <a:r>
              <a:rPr b="1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71480" y="566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16200" y="24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11280" y="981000"/>
            <a:ext cx="8218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诸葛亮选择的是怎样的天气？说明什  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诸葛亮为什么“把二十条船用绳索连接 起来”， “一字摆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诸葛亮让军士擂鼓呐喊的幕目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为什么要掉转船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63840" y="220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87320" y="1628640"/>
            <a:ext cx="28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大雾漫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知天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60520" y="3068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受箭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面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02680" y="4581360"/>
            <a:ext cx="35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虚张声势，让曹军射中草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66920" y="6040440"/>
            <a:ext cx="35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撤离时顺风顺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晓地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8000" y="115920"/>
            <a:ext cx="863640" cy="792000"/>
          </a:xfrm>
          <a:custGeom>
            <a:avLst/>
            <a:gdLst>
              <a:gd name="textAreaLeft" fmla="*/ 202680 w 863640"/>
              <a:gd name="textAreaRight" fmla="*/ 660960 w 863640"/>
              <a:gd name="textAreaTop" fmla="*/ 185760 h 792000"/>
              <a:gd name="textAreaBottom" fmla="*/ 6062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09548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05800" y="9810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草船借箭成功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原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什么？说明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4365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诸葛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25440" y="328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人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12720" y="299736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周瑜：心胸狭窄，阴险狡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肃：正直老实，顾全大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曹操：生性多疑，用兵谨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2544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晓地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97080" y="45086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天有大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船顺风顺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31000" y="551664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胆识     有胸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176680" y="352368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机妙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372360" y="5084640"/>
            <a:ext cx="1323720" cy="10288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763640" y="3284640"/>
            <a:ext cx="144360" cy="2736720"/>
          </a:xfrm>
          <a:custGeom>
            <a:avLst/>
            <a:gdLst>
              <a:gd name="textAreaLeft" fmla="*/ 92160 w 144360"/>
              <a:gd name="textAreaRight" fmla="*/ 144360 w 144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32000" y="3141720"/>
            <a:ext cx="144720" cy="107928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48000" y="4581360"/>
            <a:ext cx="144360" cy="863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885080" y="3068640"/>
            <a:ext cx="216000" cy="3168720"/>
          </a:xfrm>
          <a:custGeom>
            <a:avLst/>
            <a:gdLst>
              <a:gd name="textAreaLeft" fmla="*/ 0 w 216000"/>
              <a:gd name="textAreaRight" fmla="*/ 78120 w 21600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8000" y="4437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lfaen"/>
              </a:rPr>
              <a:t>通天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50920" y="620640"/>
            <a:ext cx="26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Sylfaen"/>
                <a:ea typeface="黑体"/>
              </a:rPr>
              <a:t>拓展延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2560" y="2133720"/>
            <a:ext cx="7848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lfaen"/>
                <a:ea typeface="黑体"/>
              </a:rPr>
              <a:t>▲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草船借箭”中的“借”字可以换成什么字呢？为什么课文用借而不用其它字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96360" y="0"/>
            <a:ext cx="1547640" cy="14130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7596360" y="5373720"/>
            <a:ext cx="1323720" cy="102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556000" y="2781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Sylfaen"/>
                <a:ea typeface="黑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抓住人物的性格特点写一个小片段。（如：熟悉的、敬佩的、难忘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348000" y="1773360"/>
            <a:ext cx="302436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我是小作家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6804000" y="4724280"/>
            <a:ext cx="1324080" cy="10288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74664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课堂检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08000" y="1341360"/>
            <a:ext cx="712980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Sylfaen"/>
                <a:ea typeface="黑体"/>
              </a:rPr>
              <a:t>有关三国的歇后语考考你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草船借箭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张飞穿针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关公赴会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孔明借东风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徐庶进曹营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周瑜打黄盖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刘备借荆州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刘备请诸葛亮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刘关张桃园三结义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6372360" y="177336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372360" y="189000"/>
            <a:ext cx="1008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3333cc"/>
                </a:solidFill>
                <a:latin typeface="Sylfaen"/>
                <a:ea typeface="黑体"/>
              </a:rPr>
              <a:t>？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24000" y="1197000"/>
            <a:ext cx="83754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文章的开头和结尾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认为周瑜哪些地方不如诸葛亮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有感情地朗读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复述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640" y="189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课后巩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76720" y="189000"/>
            <a:ext cx="934920" cy="865080"/>
          </a:xfrm>
          <a:prstGeom prst="smileyFace">
            <a:avLst>
              <a:gd name="adj" fmla="val 4653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1324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816200" y="105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957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回顾旧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56640" y="1550880"/>
            <a:ext cx="43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回顾“草船借箭”这个故事的起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6920" y="2997360"/>
            <a:ext cx="7777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因为（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以诸葛亮用草船向曹操借十万只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1680" y="299736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Sylfaen"/>
              </a:rPr>
              <a:t>周瑜妒忌诸葛亮的才干，设计十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Sylfaen"/>
              </a:rPr>
              <a:t>赶造十万支箭来陷害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1212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57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4360" y="1268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Sylfaen"/>
                <a:ea typeface="隶书"/>
              </a:rPr>
              <a:t>分析事情的前因后果</a:t>
            </a:r>
            <a:r>
              <a:rPr b="0" lang="en-US" sz="3600" spc="-1" strike="noStrike">
                <a:solidFill>
                  <a:srgbClr val="000000"/>
                </a:solidFill>
                <a:latin typeface="Sylfae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43280" y="2205000"/>
            <a:ext cx="54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5640" y="2060640"/>
            <a:ext cx="777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１因为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以诸葛亮用草船向曹操借了十万只箭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2060640"/>
            <a:ext cx="69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隶书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Sylfaen"/>
                <a:ea typeface="隶书"/>
              </a:rPr>
              <a:t>周瑜妒忌诸葛亮的才干，设计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Sylfaen"/>
                <a:ea typeface="隶书"/>
              </a:rPr>
              <a:t>日内造十万只箭来陷害他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0920" y="5516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Sylfaen"/>
                <a:ea typeface="隶书"/>
              </a:rPr>
              <a:t>周瑜自叹不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20000" y="189000"/>
            <a:ext cx="1727280" cy="1584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900000" y="4572000"/>
            <a:ext cx="7272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lfaen"/>
              </a:rPr>
              <a:t>２因为诸葛亮借箭成功，三天后如期交箭，有力地挫败了周瑜的暗算　　　　　　　　　　　　　　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lfaen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189000"/>
            <a:ext cx="263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理清条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476280"/>
            <a:ext cx="77724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Sylfaen"/>
                <a:ea typeface="黑体"/>
              </a:rPr>
              <a:t>▲</a:t>
            </a:r>
            <a:r>
              <a:rPr b="1" lang="zh-CN" sz="4400" spc="-1" strike="noStrike">
                <a:solidFill>
                  <a:srgbClr val="000000"/>
                </a:solidFill>
                <a:latin typeface="Sylfaen"/>
              </a:rPr>
              <a:t>草船借箭的结果如何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Sylfaen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2268360" y="1484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自读结果部分，请思考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5013360"/>
            <a:ext cx="2916360" cy="1844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835280" y="5084640"/>
            <a:ext cx="69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57bd"/>
                </a:solidFill>
                <a:latin typeface="Times New Roman"/>
              </a:rPr>
              <a:t>诸葛亮三天后如期交箭，有力地挫败了周瑜的暗算，使周瑜自叹不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7164360" y="260280"/>
            <a:ext cx="1871640" cy="14544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rcRect l="1965" t="538" r="3543" b="0"/>
          <a:stretch/>
        </p:blipFill>
        <p:spPr>
          <a:xfrm>
            <a:off x="2484360" y="2276640"/>
            <a:ext cx="4680000" cy="262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364000" y="515772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63640" y="112536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Sylfaen"/>
                <a:ea typeface="黑体"/>
              </a:rPr>
              <a:t>精读课文借箭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Sylfaen"/>
                <a:ea typeface="黑体"/>
              </a:rPr>
              <a:t>理清思路，说说借箭经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7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-179280" y="0"/>
            <a:ext cx="914220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948360" y="115920"/>
            <a:ext cx="1873440" cy="1455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3882960"/>
            <a:ext cx="3564000" cy="2768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859280" y="2060640"/>
            <a:ext cx="1930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长江</a:t>
            </a:r>
            <a:endParaRPr b="0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8153280" y="-360"/>
            <a:ext cx="0" cy="12193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57960" y="304920"/>
            <a:ext cx="729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162864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249228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178200 h 685800"/>
              <a:gd name="textAreaBottom" fmla="*/ 5076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101080" y="573408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158400 h 609480"/>
              <a:gd name="textAreaBottom" fmla="*/ 451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835280" y="258840"/>
            <a:ext cx="2735280" cy="2160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93960" y="40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10680" y="400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未知"/>
          <p:cNvSpPr/>
          <p:nvPr/>
        </p:nvSpPr>
        <p:spPr>
          <a:xfrm>
            <a:off x="3341520" y="685800"/>
            <a:ext cx="1828800" cy="1406520"/>
          </a:xfrm>
          <a:custGeom>
            <a:avLst/>
            <a:gdLst/>
            <a:ahLst/>
            <a:rect l="l" t="t" r="r" b="b"/>
            <a:pathLst>
              <a:path w="1152" h="886">
                <a:moveTo>
                  <a:pt x="0" y="0"/>
                </a:moveTo>
                <a:cubicBezTo>
                  <a:pt x="22" y="4"/>
                  <a:pt x="45" y="2"/>
                  <a:pt x="66" y="11"/>
                </a:cubicBezTo>
                <a:cubicBezTo>
                  <a:pt x="91" y="21"/>
                  <a:pt x="133" y="55"/>
                  <a:pt x="133" y="55"/>
                </a:cubicBezTo>
                <a:cubicBezTo>
                  <a:pt x="148" y="85"/>
                  <a:pt x="171" y="112"/>
                  <a:pt x="177" y="144"/>
                </a:cubicBezTo>
                <a:cubicBezTo>
                  <a:pt x="178" y="147"/>
                  <a:pt x="190" y="222"/>
                  <a:pt x="199" y="233"/>
                </a:cubicBezTo>
                <a:cubicBezTo>
                  <a:pt x="215" y="253"/>
                  <a:pt x="271" y="269"/>
                  <a:pt x="288" y="277"/>
                </a:cubicBezTo>
                <a:cubicBezTo>
                  <a:pt x="340" y="300"/>
                  <a:pt x="326" y="293"/>
                  <a:pt x="365" y="332"/>
                </a:cubicBezTo>
                <a:cubicBezTo>
                  <a:pt x="383" y="387"/>
                  <a:pt x="413" y="455"/>
                  <a:pt x="465" y="487"/>
                </a:cubicBezTo>
                <a:cubicBezTo>
                  <a:pt x="514" y="517"/>
                  <a:pt x="588" y="525"/>
                  <a:pt x="642" y="543"/>
                </a:cubicBezTo>
                <a:cubicBezTo>
                  <a:pt x="696" y="625"/>
                  <a:pt x="777" y="648"/>
                  <a:pt x="864" y="676"/>
                </a:cubicBezTo>
                <a:cubicBezTo>
                  <a:pt x="908" y="720"/>
                  <a:pt x="941" y="776"/>
                  <a:pt x="985" y="820"/>
                </a:cubicBezTo>
                <a:cubicBezTo>
                  <a:pt x="1016" y="851"/>
                  <a:pt x="1024" y="838"/>
                  <a:pt x="1063" y="853"/>
                </a:cubicBezTo>
                <a:cubicBezTo>
                  <a:pt x="1094" y="865"/>
                  <a:pt x="1118" y="886"/>
                  <a:pt x="1152" y="88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01080" y="5084640"/>
            <a:ext cx="4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lfaen"/>
                <a:ea typeface="黑体"/>
              </a:rPr>
              <a:t>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3492360" y="2349360"/>
            <a:ext cx="719280" cy="559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3995640" y="2781360"/>
            <a:ext cx="720720" cy="560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25653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08360" y="263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40360" y="2781360"/>
            <a:ext cx="1425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88000" y="3500280"/>
            <a:ext cx="2142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56000" y="306864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328464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3851280" y="2781360"/>
            <a:ext cx="720720" cy="5601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4427640" y="3213000"/>
            <a:ext cx="720720" cy="560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4356000" y="3213000"/>
            <a:ext cx="720720" cy="560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4716360" y="3500280"/>
            <a:ext cx="720720" cy="5605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9"/>
          <a:stretch/>
        </p:blipFill>
        <p:spPr>
          <a:xfrm>
            <a:off x="5075280" y="3860640"/>
            <a:ext cx="720720" cy="560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0"/>
          <a:stretch/>
        </p:blipFill>
        <p:spPr>
          <a:xfrm>
            <a:off x="3132000" y="2133720"/>
            <a:ext cx="720720" cy="5601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4427640" y="3213000"/>
            <a:ext cx="720720" cy="560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2"/>
          <a:stretch/>
        </p:blipFill>
        <p:spPr>
          <a:xfrm>
            <a:off x="4643280" y="3429000"/>
            <a:ext cx="720720" cy="5605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3"/>
          <a:stretch/>
        </p:blipFill>
        <p:spPr>
          <a:xfrm>
            <a:off x="4859280" y="3645000"/>
            <a:ext cx="720720" cy="5601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4"/>
          <a:stretch/>
        </p:blipFill>
        <p:spPr>
          <a:xfrm>
            <a:off x="5075280" y="3860640"/>
            <a:ext cx="720720" cy="5605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5"/>
          <a:stretch/>
        </p:blipFill>
        <p:spPr>
          <a:xfrm>
            <a:off x="5291280" y="4076640"/>
            <a:ext cx="720720" cy="5605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6"/>
          <a:stretch/>
        </p:blipFill>
        <p:spPr>
          <a:xfrm>
            <a:off x="5506920" y="4292640"/>
            <a:ext cx="720720" cy="5605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7"/>
          <a:stretch/>
        </p:blipFill>
        <p:spPr>
          <a:xfrm>
            <a:off x="5722920" y="4508640"/>
            <a:ext cx="720720" cy="5601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8"/>
          <a:stretch/>
        </p:blipFill>
        <p:spPr>
          <a:xfrm>
            <a:off x="5938920" y="4724280"/>
            <a:ext cx="720720" cy="5605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9"/>
          <a:stretch/>
        </p:blipFill>
        <p:spPr>
          <a:xfrm>
            <a:off x="6154560" y="4940280"/>
            <a:ext cx="721080" cy="5605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0"/>
          <a:stretch/>
        </p:blipFill>
        <p:spPr>
          <a:xfrm>
            <a:off x="6370560" y="5156280"/>
            <a:ext cx="720720" cy="5601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1"/>
          <a:stretch/>
        </p:blipFill>
        <p:spPr>
          <a:xfrm>
            <a:off x="6586560" y="5372280"/>
            <a:ext cx="720720" cy="5601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2"/>
          <a:stretch/>
        </p:blipFill>
        <p:spPr>
          <a:xfrm>
            <a:off x="4140360" y="2924280"/>
            <a:ext cx="720720" cy="5601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924360" y="2781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95640" y="2997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21300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56000" y="3429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3280" y="3645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88000" y="386064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76720" y="4005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92720" y="4149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64000" y="4365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0000" y="4581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24360" y="4653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40360" y="5013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12000" y="52293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88000" y="5661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51280" y="3068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08360" y="28526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92360" y="263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96000" y="4869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00720" y="544500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27640" y="5373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08720" y="43657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00720" y="5373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08360" y="28526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24360" y="3068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40360" y="328464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56000" y="35002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3716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88000" y="393228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03640" y="414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19640" y="436392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35640" y="457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47959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50115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83280" y="52275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299280" y="54435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15280" y="56595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59640" y="5516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4005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35640" y="4076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88000" y="35002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12000" y="47973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810560" y="69548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24360" y="4508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72360" y="5229360"/>
            <a:ext cx="21564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27640" y="494172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84720" y="50846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40360" y="4869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588000" y="522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40360" y="292428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56000" y="3141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0" y="35002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59280" y="3645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16360" y="3284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211640" y="3068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95640" y="27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27640" y="33577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3"/>
          <a:stretch/>
        </p:blipFill>
        <p:spPr>
          <a:xfrm>
            <a:off x="3924360" y="2708280"/>
            <a:ext cx="720720" cy="5605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4"/>
          <a:stretch/>
        </p:blipFill>
        <p:spPr>
          <a:xfrm>
            <a:off x="3708360" y="2492280"/>
            <a:ext cx="720720" cy="5605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5"/>
          <a:stretch/>
        </p:blipFill>
        <p:spPr>
          <a:xfrm>
            <a:off x="3924360" y="2708280"/>
            <a:ext cx="720720" cy="5605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132000" y="2421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03640" y="256536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348000" y="2421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92360" y="2349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51280" y="24922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51280" y="292428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67280" y="2924280"/>
            <a:ext cx="217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40360" y="285264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24360" y="2997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6"/>
          <a:stretch/>
        </p:blipFill>
        <p:spPr>
          <a:xfrm>
            <a:off x="4140360" y="2924280"/>
            <a:ext cx="720720" cy="5601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419640" y="270828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35280" y="2421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80000" y="29973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00720" y="31417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56000" y="321300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76720" y="38606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48360" y="371628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84720" y="472428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72360" y="51577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51640" y="429264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7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1:43:49Z</dcterms:created>
  <dc:creator>wangliping</dc:creator>
  <dc:description/>
  <cp:keywords/>
  <dc:language>en-US</dc:language>
  <cp:lastModifiedBy>User</cp:lastModifiedBy>
  <dcterms:modified xsi:type="dcterms:W3CDTF">2014-12-10T14:50:21Z</dcterms:modified>
  <cp:revision>1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