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IVEBY.WAV" ContentType="audio/x-wav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4.wmf" ContentType="image/x-wmf"/>
  <Override PartName="/ppt/media/image15.jpeg" ContentType="image/jpeg"/>
  <Override PartName="/ppt/media/image13.jpeg" ContentType="image/jpeg"/>
  <Override PartName="/ppt/media/image12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chimes.wav" ContentType="audio/x-wav"/>
  <Override PartName="/ppt/media/image8.png" ContentType="image/png"/>
  <Override PartName="/ppt/media/image4.png" ContentType="image/pn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B13E-EC61-4891-998C-26B644F4BA4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D488-DE1D-4645-A5AE-E1F9160070B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41EE-3F19-4791-8955-058B951F76F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1DAE-5306-400C-BC3E-85467A46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F0A8-E27B-4BB2-A265-0465A07B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751D-FA71-40DC-A3E2-4CB7EBE6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19D7-FCB4-4A74-B4C3-F0B97BE6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788-13A5-4D21-958E-145FA713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4560-ADF2-44BC-A2D3-6A492202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493-6CF0-49FF-A0CF-ADAA88F9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0E0-7D00-4490-A7A7-848E1D55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4E9-1D8B-4390-A325-1CC0AB2A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005D-5780-493A-A6A0-789B68F9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D79-77E0-417A-822B-6346A054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9D4A-FC50-49A8-9999-3770703C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04BD-8A37-4C94-B110-5CA698B91D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audio" Target="../media/DRIVEBY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76360" y="4941720"/>
            <a:ext cx="6095880" cy="154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草船借箭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8110440" y="620640"/>
            <a:ext cx="10335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石埠子镇石埠子小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马希玉  崔坤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835280" y="1484280"/>
            <a:ext cx="4895640" cy="2928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35840" y="40464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</a:rPr>
              <a:t>人教新课标 五年级语文下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362320" y="2895480"/>
            <a:ext cx="3962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长江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4419720"/>
            <a:ext cx="281952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8153280" y="-360"/>
            <a:ext cx="0" cy="1219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157960" y="304920"/>
            <a:ext cx="729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6765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96080" y="5029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349360"/>
            <a:ext cx="685800" cy="685800"/>
          </a:xfrm>
          <a:custGeom>
            <a:avLst/>
            <a:gdLst>
              <a:gd name="textAreaLeft" fmla="*/ 0 w 685800"/>
              <a:gd name="textAreaRight" fmla="*/ 686160 w 685800"/>
              <a:gd name="textAreaTop" fmla="*/ 88920 h 685800"/>
              <a:gd name="textAreaBottom" fmla="*/ 596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924680" y="5638680"/>
            <a:ext cx="609840" cy="609840"/>
          </a:xfrm>
          <a:custGeom>
            <a:avLst/>
            <a:gdLst>
              <a:gd name="textAreaLeft" fmla="*/ 0 w 609840"/>
              <a:gd name="textAreaRight" fmla="*/ 610200 w 609840"/>
              <a:gd name="textAreaTop" fmla="*/ 78840 h 609840"/>
              <a:gd name="textAreaBottom" fmla="*/ 531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2362320" cy="198900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0" y="3352680"/>
            <a:ext cx="1828800" cy="609480"/>
            <a:chOff x="0" y="3352680"/>
            <a:chExt cx="1828800" cy="609480"/>
          </a:xfrm>
        </p:grpSpPr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533160" cy="26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431640" y="3468600"/>
              <a:ext cx="1397160" cy="493560"/>
              <a:chOff x="431640" y="3468600"/>
              <a:chExt cx="1397160" cy="493560"/>
            </a:xfrm>
          </p:grpSpPr>
          <p:pic>
            <p:nvPicPr>
              <p:cNvPr id="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31640" y="3468600"/>
                <a:ext cx="533520" cy="26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3280" y="3584520"/>
                <a:ext cx="533520" cy="26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295280" y="3700800"/>
                <a:ext cx="533520" cy="26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181080" y="-747720"/>
            <a:ext cx="10223640" cy="7845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-73080" y="2781360"/>
            <a:ext cx="92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诸葛亮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笑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说：“雾这样大，曹操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一定不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派兵出来。我们只管饮酒取乐，天亮了就回去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19700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曹操听到鼓声和呐喊声，就下令说：“江上雾很大，敌人忽然来攻，我们看不清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虚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不要轻易出动。只叫弓弩手朝他们射箭，不让他们近前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260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品读感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438280" y="61722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诸葛亮鲁肃在船内饮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2836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115920"/>
            <a:ext cx="882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瑜到底哪些地方不如诸葛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981000"/>
          <a:ext cx="6791040" cy="3743280"/>
        </p:xfrm>
        <a:graphic>
          <a:graphicData uri="http://schemas.openxmlformats.org/drawingml/2006/table">
            <a:tbl>
              <a:tblPr/>
              <a:tblGrid>
                <a:gridCol w="2263680"/>
                <a:gridCol w="2263680"/>
                <a:gridCol w="226368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诸葛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周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智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借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造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胸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宽厚待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把握全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心胸狭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嫉贤妒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才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运筹帷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神机妙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79640" y="9079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诸葛亮神机妙算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真比不上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9280" y="2781360"/>
            <a:ext cx="84247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诸葛亮上知天文，下晓地理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己知彼，周密谋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他足智多谋，具有非凡的才干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1700280"/>
            <a:ext cx="129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7554" t="0" r="2828" b="6584"/>
          <a:stretch/>
        </p:blipFill>
        <p:spPr>
          <a:xfrm>
            <a:off x="1187280" y="692280"/>
            <a:ext cx="6840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26920" y="765000"/>
            <a:ext cx="756144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当堂检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一</a:t>
            </a:r>
            <a:r>
              <a:rPr b="1" lang="en-US" sz="2400" spc="-1" strike="noStrike">
                <a:solidFill>
                  <a:srgbClr val="00808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按课文内容填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808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诸葛亮下令把（    ），（    ），（    ），又叫船上的军士一边（    ），一边大声（    ）。</a:t>
            </a:r>
            <a:br>
              <a:rPr sz="2400"/>
            </a:b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808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诸葛亮借箭成功的原因是（      ）、（    ）、（    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808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草船借箭</a:t>
            </a:r>
            <a:r>
              <a:rPr b="1" lang="en-US" sz="2400" spc="-1" strike="noStrike">
                <a:solidFill>
                  <a:srgbClr val="00808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一文是按照（                ）顺序记叙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二</a:t>
            </a:r>
            <a:r>
              <a:rPr b="1" lang="en-US" sz="2400" spc="-1" strike="noStrike">
                <a:solidFill>
                  <a:srgbClr val="00808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你认为诸葛亮是一个怎样的人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56000" y="1916280"/>
            <a:ext cx="554508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4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搜集故事</a:t>
            </a:r>
            <a:r>
              <a:rPr b="1" lang="en-US" sz="2400" spc="-1" strike="noStrike">
                <a:solidFill>
                  <a:srgbClr val="00808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草船借箭</a:t>
            </a:r>
            <a:r>
              <a:rPr b="1" lang="en-US" sz="2400" spc="-1" strike="noStrike">
                <a:solidFill>
                  <a:srgbClr val="00808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的图片。 　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复述 表现诸葛亮神机妙算的故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340000" y="1484280"/>
            <a:ext cx="10573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作业：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wheel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411280" y="2060640"/>
            <a:ext cx="4753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292720" y="0"/>
            <a:ext cx="3743280" cy="581400"/>
          </a:xfrm>
          <a:prstGeom prst="rect">
            <a:avLst/>
          </a:prstGeom>
          <a:solidFill>
            <a:srgbClr val="0000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这篇课文讲的是我国著名长篇历史小说《三国演义》中的一个故事。故事发生在东汉末年，当时曹操刚刚打败刘备，又派兵进攻孙权。于是刘备和孙权联合起来抵抗曹操。刘备派诸葛亮到孙权那里帮助作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81080" y="-10008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83664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83664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981000"/>
            <a:ext cx="70038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课前巩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黑体"/>
                <a:ea typeface="黑体"/>
              </a:rPr>
              <a:t>1.</a:t>
            </a:r>
            <a:r>
              <a:rPr b="1" lang="en-US" sz="2400" spc="-1" strike="noStrike">
                <a:solidFill>
                  <a:srgbClr val="00808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草船借箭</a:t>
            </a:r>
            <a:r>
              <a:rPr b="1" lang="en-US" sz="2400" spc="-1" strike="noStrike">
                <a:solidFill>
                  <a:srgbClr val="00808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一文是按照什么顺序记叙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课文告诉我们一件什么事？事情的起因是什么？结果怎样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56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97080" y="1412640"/>
            <a:ext cx="8856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瑜长叹一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：“诸葛亮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神机妙算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我真比不上他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8360" y="293688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12120" y="653400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56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680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读课文，体会诸葛亮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神机妙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39640" y="1628280"/>
            <a:ext cx="7920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请同学们大声朗读课文，把你认为最能表现诸葛亮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神机妙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的句子画出来，仔细体会、感悟，然后小组讨论，看看诸葛亮到底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在哪儿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在哪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56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280" y="1989000"/>
            <a:ext cx="8425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一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不见诸葛亮有什么动静；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二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仍然不见诸葛亮有什么动静；直到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三天四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候，诸葛亮秘密地把鲁肃请到船里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515772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14130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时候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大雾漫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江上连面对面都看不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620640"/>
            <a:ext cx="216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品读感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564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诸葛亮说：“你借给我二十条船，每条船上要三十名军士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船用青布幔子遮起来，还要一千多个草把子，排在船的两边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自有妙用。第三天管保有十万支箭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诸葛亮吩咐把二十条船用绳索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起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朝北岸开去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诸葛亮下令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船头朝西，船尾朝东，一字摆开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又叫船上的军士一边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擂鼓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一边大声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呐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8900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品读感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285264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诸葛亮又下令把船掉过头来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船头朝东，船尾朝西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仍旧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擂鼓呐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逼近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曹军水寨受箭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曹操知道上了当，可是这边的船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顺风顺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已经驶出二十多里，要追也来不及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5621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484360" y="602136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许多草船连成一排受箭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037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05120" y="617220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许多草船连成一排受箭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01:43:49Z</dcterms:created>
  <dc:creator/>
  <dc:description/>
  <dc:language>en-US</dc:language>
  <cp:lastModifiedBy>User</cp:lastModifiedBy>
  <dcterms:modified xsi:type="dcterms:W3CDTF">2014-12-10T14:49:52Z</dcterms:modified>
  <cp:revision>93</cp:revision>
  <dc:subject/>
  <dc:title>PowerPoint 演示文稿</dc:title>
</cp:coreProperties>
</file>