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png" ContentType="image/png"/>
  <Override PartName="/ppt/media/image12.jpeg" ContentType="image/jpeg"/>
  <Override PartName="/ppt/media/image8.png" ContentType="image/png"/>
  <Override PartName="/ppt/media/image5.gif" ContentType="image/gif"/>
  <Override PartName="/ppt/media/image7.jpeg" ContentType="image/jpeg"/>
  <Override PartName="/ppt/media/image11.gif" ContentType="image/gif"/>
  <Override PartName="/ppt/media/image10.jpeg" ContentType="image/jpeg"/>
  <Override PartName="/ppt/media/image25.gif" ContentType="image/gif"/>
  <Override PartName="/ppt/media/image6.gif" ContentType="image/gif"/>
  <Override PartName="/ppt/media/image4.png" ContentType="image/png"/>
  <Override PartName="/ppt/media/image2.png" ContentType="image/png"/>
  <Override PartName="/ppt/media/image23.gif" ContentType="image/gif"/>
  <Override PartName="/ppt/media/image22.jpeg" ContentType="image/jpeg"/>
  <Override PartName="/ppt/media/image20.gif" ContentType="image/gif"/>
  <Override PartName="/ppt/media/image18.jpeg" ContentType="image/jpeg"/>
  <Override PartName="/ppt/media/image19.jpeg" ContentType="image/jpeg"/>
  <Override PartName="/ppt/media/image17.gif" ContentType="image/gif"/>
  <Override PartName="/ppt/media/image16.gif" ContentType="image/gif"/>
  <Override PartName="/ppt/media/image15.jpeg" ContentType="image/jpeg"/>
  <Override PartName="/ppt/media/image14.gif" ContentType="image/gif"/>
  <Override PartName="/ppt/media/image21.gif" ContentType="image/gif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B08F-AD5D-497C-8819-3E5392C6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4273-703E-49C1-9E16-4F186836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2A84-6911-42A3-B59A-2A2EE038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7E32-AD8D-4421-BD6F-1220826B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B2F5-44B0-4DF9-A6E1-7B5E9250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2C45-7198-4DEB-A528-7D3886F6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95B0-5E21-41AF-927A-8339A254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BACB-87E6-4DE2-A86D-5B1AC8D0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D49D-15AB-4A66-98FA-F5E77831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7B65-3302-432C-842B-DF839F4E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9333-3E27-45AC-AC63-70D33249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ADEF-9565-4745-8462-87186F2B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4578-EC2E-40FE-86DF-56C51D94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62C2-93D6-4514-9D29-D8B7E0C1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1F4A-C6EB-4F2F-A60B-4728F241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39F4-FDE4-4BB3-8F25-B3CA6D34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90A2-3903-400B-8D04-7CC500DA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63F-2398-4ED1-A9B4-E83861DE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5AAE-858A-4FA9-9510-422A1938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B64E-BB20-471C-97FF-F4708A67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7AEC-636A-4AA5-BE4F-32869D58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A075-7FC6-443F-966B-0DDE7176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7AC9-D68A-443C-8154-EC86779C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A76C-124E-4A7E-AFF1-AD3467E6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A32D-A807-4BE8-A084-59A3DCD509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FA48-4F0F-471B-B463-1936A1174B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9.xml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9.xml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3.xml"/><Relationship Id="rId11" Type="http://schemas.openxmlformats.org/officeDocument/2006/relationships/image" Target="../media/image9.gif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9.xml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2843280" y="2276640"/>
            <a:ext cx="4038480" cy="13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9999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草船借箭</a:t>
            </a:r>
            <a:endParaRPr b="1" lang="en-US" sz="2400" spc="1" strike="noStrike">
              <a:ln w="12600">
                <a:solidFill>
                  <a:srgbClr val="009999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05" name=""/>
          <p:cNvSpPr/>
          <p:nvPr/>
        </p:nvSpPr>
        <p:spPr>
          <a:xfrm>
            <a:off x="2700360" y="44370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选自长篇历史小说《三国演义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79280" y="5013360"/>
            <a:ext cx="2664000" cy="1844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2303280" cy="1727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1692360" y="5445000"/>
            <a:ext cx="814320" cy="649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324000" y="5734080"/>
            <a:ext cx="81432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6d8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4360" y="907920"/>
            <a:ext cx="7920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ff"/>
                </a:solidFill>
                <a:latin typeface="Sylfaen"/>
                <a:ea typeface="隶书"/>
              </a:rPr>
              <a:t>周瑜（明知故问）；“我们就要跟曹军交战．．．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ff"/>
                </a:solidFill>
                <a:latin typeface="Sylfaen"/>
                <a:ea typeface="隶书"/>
              </a:rPr>
              <a:t>周瑜（                ）说：“对，先生跟我想的一样．．．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ff"/>
                </a:solidFill>
                <a:latin typeface="Sylfaen"/>
                <a:ea typeface="隶书"/>
              </a:rPr>
              <a:t>周瑜（　　　　）说：“十天造的好吗？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ff"/>
                </a:solidFill>
                <a:latin typeface="Sylfaen"/>
                <a:ea typeface="隶书"/>
              </a:rPr>
              <a:t>周瑜（　　　　）说：“先生预计几天可以造好？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ff"/>
                </a:solidFill>
                <a:latin typeface="Sylfaen"/>
                <a:ea typeface="隶书"/>
              </a:rPr>
              <a:t>周瑜（　　　　）说：“军情紧急，可不能开玩笑．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ff"/>
                </a:solidFill>
                <a:latin typeface="Sylfaen"/>
                <a:ea typeface="隶书"/>
              </a:rPr>
              <a:t>讨论填词．（试探</a:t>
            </a:r>
            <a:r>
              <a:rPr b="0" lang="en-US" sz="2400" spc="-1" strike="noStrike">
                <a:solidFill>
                  <a:srgbClr val="6666ff"/>
                </a:solidFill>
                <a:latin typeface="Sylfaen"/>
                <a:ea typeface="隶书"/>
              </a:rPr>
              <a:t>;</a:t>
            </a:r>
            <a:r>
              <a:rPr b="0" lang="zh-CN" sz="2400" spc="-1" strike="noStrike">
                <a:solidFill>
                  <a:srgbClr val="6666ff"/>
                </a:solidFill>
                <a:latin typeface="Sylfaen"/>
                <a:ea typeface="隶书"/>
              </a:rPr>
              <a:t>心中暗喜；威胁</a:t>
            </a:r>
            <a:r>
              <a:rPr b="0" lang="en-US" sz="2400" spc="-1" strike="noStrike">
                <a:solidFill>
                  <a:srgbClr val="6666ff"/>
                </a:solidFill>
                <a:latin typeface="Sylfaen"/>
                <a:ea typeface="隶书"/>
              </a:rPr>
              <a:t>;</a:t>
            </a:r>
            <a:r>
              <a:rPr b="0" lang="zh-CN" sz="2400" spc="-1" strike="noStrike">
                <a:solidFill>
                  <a:srgbClr val="6666ff"/>
                </a:solidFill>
                <a:latin typeface="Sylfaen"/>
                <a:ea typeface="隶书"/>
              </a:rPr>
              <a:t>迫不及待；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4210200"/>
            <a:ext cx="76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ff"/>
                </a:solidFill>
                <a:latin typeface="Sylfaen"/>
                <a:ea typeface="隶书"/>
              </a:rPr>
              <a:t>诸葛亮（脱口而出）“用弓箭最好．”　　　　　　　　　　　　　诸葛亮（　　　　）说；“都督委托，当然办．．．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ff"/>
                </a:solidFill>
                <a:latin typeface="Sylfaen"/>
                <a:ea typeface="隶书"/>
              </a:rPr>
              <a:t>诸葛亮（　　　　）说；“既然就要交战，十天造好，　　　　　　　　　　必然误了大事．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ff"/>
                </a:solidFill>
                <a:latin typeface="Sylfaen"/>
                <a:ea typeface="隶书"/>
              </a:rPr>
              <a:t>诸葛亮（　　　　）说；“只要三天．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ff"/>
                </a:solidFill>
                <a:latin typeface="Sylfaen"/>
                <a:ea typeface="隶书"/>
              </a:rPr>
              <a:t>诸葛亮（　　　　）说；“．．．我愿立军状．．．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ff"/>
                </a:solidFill>
                <a:latin typeface="Sylfaen"/>
                <a:ea typeface="隶书"/>
              </a:rPr>
              <a:t>讨论填词</a:t>
            </a:r>
            <a:r>
              <a:rPr b="0" lang="en-US" sz="2400" spc="-1" strike="noStrike">
                <a:solidFill>
                  <a:srgbClr val="6666ff"/>
                </a:solidFill>
                <a:latin typeface="Sylfaen"/>
                <a:ea typeface="隶书"/>
              </a:rPr>
              <a:t>.(</a:t>
            </a:r>
            <a:r>
              <a:rPr b="0" lang="zh-CN" sz="2400" spc="-1" strike="noStrike">
                <a:solidFill>
                  <a:srgbClr val="6666ff"/>
                </a:solidFill>
                <a:latin typeface="Sylfaen"/>
                <a:ea typeface="隶书"/>
              </a:rPr>
              <a:t>将计就计，态度坚决</a:t>
            </a:r>
            <a:r>
              <a:rPr b="0" lang="en-US" sz="2400" spc="-1" strike="noStrike">
                <a:solidFill>
                  <a:srgbClr val="6666ff"/>
                </a:solidFill>
                <a:latin typeface="Sylfaen"/>
                <a:ea typeface="隶书"/>
              </a:rPr>
              <a:t>,</a:t>
            </a:r>
            <a:r>
              <a:rPr b="0" lang="zh-CN" sz="2400" spc="-1" strike="noStrike">
                <a:solidFill>
                  <a:srgbClr val="6666ff"/>
                </a:solidFill>
                <a:latin typeface="Sylfaen"/>
                <a:ea typeface="隶书"/>
              </a:rPr>
              <a:t>笑了笑</a:t>
            </a:r>
            <a:r>
              <a:rPr b="0" lang="en-US" sz="2400" spc="-1" strike="noStrike">
                <a:solidFill>
                  <a:srgbClr val="6666ff"/>
                </a:solidFill>
                <a:latin typeface="Sylfaen"/>
                <a:ea typeface="隶书"/>
              </a:rPr>
              <a:t>,</a:t>
            </a:r>
            <a:r>
              <a:rPr b="0" lang="zh-CN" sz="2400" spc="-1" strike="noStrike">
                <a:solidFill>
                  <a:srgbClr val="6666ff"/>
                </a:solidFill>
                <a:latin typeface="Sylfaen"/>
                <a:ea typeface="隶书"/>
              </a:rPr>
              <a:t>胸有成竹，</a:t>
            </a: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隶书"/>
              </a:rPr>
              <a:t> </a:t>
            </a:r>
            <a:r>
              <a:rPr b="0" lang="zh-CN" sz="2400" spc="-1" strike="noStrike">
                <a:solidFill>
                  <a:srgbClr val="6666ff"/>
                </a:solidFill>
                <a:latin typeface="Sylfaen"/>
                <a:ea typeface="隶书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92360" y="155736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47640" y="1484280"/>
            <a:ext cx="1584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Sylfaen"/>
                <a:ea typeface="隶书"/>
              </a:rPr>
              <a:t>心中暗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Sylfaen"/>
                <a:ea typeface="隶书"/>
              </a:rPr>
              <a:t>迫不及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Sylfaen"/>
                <a:ea typeface="隶书"/>
              </a:rPr>
              <a:t>试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Sylfaen"/>
                <a:ea typeface="隶书"/>
              </a:rPr>
              <a:t>威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979640" y="4653000"/>
            <a:ext cx="1512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Sylfaen"/>
                <a:ea typeface="隶书"/>
              </a:rPr>
              <a:t>笑了笑  将计就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Sylfaen"/>
                <a:ea typeface="隶书"/>
              </a:rPr>
              <a:t>胸有成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Sylfaen"/>
                <a:ea typeface="隶书"/>
              </a:rPr>
              <a:t>态度坚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9640" y="404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Sylfaen"/>
                <a:ea typeface="隶书"/>
              </a:rPr>
              <a:t>分析人物的心理</a:t>
            </a:r>
            <a:r>
              <a:rPr b="0" lang="en-US" sz="3600" spc="-1" strike="noStrike">
                <a:solidFill>
                  <a:srgbClr val="000000"/>
                </a:solidFill>
                <a:latin typeface="Sylfaen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>
            <a:hlinkClick r:id="rId2" action="ppaction://hlinksldjump"/>
          </p:cNvPr>
          <p:cNvSpPr/>
          <p:nvPr/>
        </p:nvSpPr>
        <p:spPr>
          <a:xfrm>
            <a:off x="1371600" y="18511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自读经过部分，请你思考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2797200"/>
            <a:ext cx="723888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Sylfaen"/>
              </a:rPr>
              <a:t>         </a:t>
            </a:r>
            <a:r>
              <a:rPr b="1" lang="zh-CN" sz="3200" spc="-1" strike="noStrike">
                <a:solidFill>
                  <a:srgbClr val="6666ff"/>
                </a:solidFill>
                <a:latin typeface="Sylfaen"/>
              </a:rPr>
              <a:t>1</a:t>
            </a:r>
            <a:r>
              <a:rPr b="1" lang="zh-CN" sz="3200" spc="-1" strike="noStrike">
                <a:solidFill>
                  <a:srgbClr val="6666ff"/>
                </a:solidFill>
                <a:latin typeface="Sylfaen"/>
              </a:rPr>
              <a:t>、为什么诸葛亮直到第三天四更才去开船借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Sylfaen"/>
              </a:rPr>
              <a:t>        </a:t>
            </a:r>
            <a:r>
              <a:rPr b="1" lang="zh-CN" sz="3200" spc="-1" strike="noStrike">
                <a:solidFill>
                  <a:srgbClr val="6666ff"/>
                </a:solidFill>
                <a:latin typeface="Sylfaen"/>
              </a:rPr>
              <a:t>2</a:t>
            </a:r>
            <a:r>
              <a:rPr b="1" lang="zh-CN" sz="3200" spc="-1" strike="noStrike">
                <a:solidFill>
                  <a:srgbClr val="6666ff"/>
                </a:solidFill>
                <a:latin typeface="Sylfaen"/>
              </a:rPr>
              <a:t>、他怎么知道三天之内必有大雾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Sylfaen"/>
              </a:rPr>
              <a:t>       </a:t>
            </a:r>
            <a:r>
              <a:rPr b="1" lang="en-US" sz="3200" spc="-1" strike="noStrike">
                <a:solidFill>
                  <a:srgbClr val="6666ff"/>
                </a:solidFill>
                <a:latin typeface="Sylfaen"/>
              </a:rPr>
              <a:t>3     </a:t>
            </a:r>
            <a:r>
              <a:rPr b="1" lang="zh-CN" sz="3200" spc="-1" strike="noStrike">
                <a:solidFill>
                  <a:srgbClr val="6666ff"/>
                </a:solidFill>
                <a:latin typeface="Sylfaen"/>
              </a:rPr>
              <a:t>谁能复述借箭的经过</a:t>
            </a:r>
            <a:r>
              <a:rPr b="1" lang="en-US" sz="3200" spc="-1" strike="noStrike">
                <a:solidFill>
                  <a:srgbClr val="6666ff"/>
                </a:solidFill>
                <a:latin typeface="Sylfae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6732720" y="0"/>
            <a:ext cx="2411280" cy="17146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自读故事经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5800" y="2556000"/>
            <a:ext cx="7772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Sylfaen"/>
              </a:rPr>
              <a:t>         </a:t>
            </a:r>
            <a:r>
              <a:rPr b="1" lang="en-US" sz="3200" spc="-1" strike="noStrike">
                <a:solidFill>
                  <a:srgbClr val="6666ff"/>
                </a:solidFill>
                <a:latin typeface="Sylfaen"/>
              </a:rPr>
              <a:t>1</a:t>
            </a:r>
            <a:r>
              <a:rPr b="1" lang="zh-CN" sz="3200" spc="-1" strike="noStrike">
                <a:solidFill>
                  <a:srgbClr val="6666ff"/>
                </a:solidFill>
                <a:latin typeface="Sylfaen"/>
              </a:rPr>
              <a:t>、草船借箭的结果怎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Sylfaen"/>
              </a:rPr>
              <a:t>         </a:t>
            </a:r>
            <a:r>
              <a:rPr b="1" lang="zh-CN" sz="3200" spc="-1" strike="noStrike">
                <a:solidFill>
                  <a:srgbClr val="6666ff"/>
                </a:solidFill>
                <a:latin typeface="Sylfaen"/>
              </a:rPr>
              <a:t>2</a:t>
            </a:r>
            <a:r>
              <a:rPr b="1" lang="zh-CN" sz="3200" spc="-1" strike="noStrike">
                <a:solidFill>
                  <a:srgbClr val="6666ff"/>
                </a:solidFill>
                <a:latin typeface="Sylfaen"/>
              </a:rPr>
              <a:t>、这时周瑜的心里是什么滋味？为什么长叹一声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Sylfaen"/>
              </a:rPr>
              <a:t>         </a:t>
            </a:r>
            <a:r>
              <a:rPr b="1" lang="zh-CN" sz="3200" spc="-1" strike="noStrike">
                <a:solidFill>
                  <a:srgbClr val="6666ff"/>
                </a:solidFill>
                <a:latin typeface="Sylfaen"/>
              </a:rPr>
              <a:t>3</a:t>
            </a:r>
            <a:r>
              <a:rPr b="1" lang="zh-CN" sz="3200" spc="-1" strike="noStrike">
                <a:solidFill>
                  <a:srgbClr val="6666ff"/>
                </a:solidFill>
                <a:latin typeface="Sylfaen"/>
              </a:rPr>
              <a:t>、从哪里看出周瑜的沮丧、惭愧</a:t>
            </a:r>
            <a:r>
              <a:rPr b="1" lang="en-US" sz="3200" spc="-1" strike="noStrike">
                <a:solidFill>
                  <a:srgbClr val="6666ff"/>
                </a:solidFill>
                <a:latin typeface="Sylfae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1371600" y="179064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自读结果部分，请思考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0" y="5013360"/>
            <a:ext cx="2916360" cy="18446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自读故事结果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100"/>
                            </p:stCondLst>
                            <p:childTnLst>
                              <p:par>
                                <p:cTn id="3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fd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11280" y="76500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Sylfaen"/>
                <a:ea typeface="隶书"/>
              </a:rPr>
              <a:t>分析事情的前因后果</a:t>
            </a:r>
            <a:r>
              <a:rPr b="0" lang="en-US" sz="5400" spc="-1" strike="noStrike">
                <a:solidFill>
                  <a:srgbClr val="ff3300"/>
                </a:solidFill>
                <a:latin typeface="Sylfaen"/>
                <a:ea typeface="隶书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43280" y="2205000"/>
            <a:ext cx="54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5640" y="2060640"/>
            <a:ext cx="77770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宋体"/>
              </a:rPr>
              <a:t>１因为（　　　　　　　　　　　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宋体"/>
              </a:rPr>
              <a:t>                           </a:t>
            </a:r>
            <a:r>
              <a:rPr b="0" lang="zh-CN" sz="3200" spc="-1" strike="noStrike">
                <a:solidFill>
                  <a:srgbClr val="9933ff"/>
                </a:solidFill>
                <a:latin typeface="宋体"/>
              </a:rPr>
              <a:t>）所以诸葛亮用草船向曹操借十万只箭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宋体"/>
              </a:rPr>
              <a:t>２诸葛亮用草船向曹操借十万只箭，结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0" lang="zh-CN" sz="3200" spc="-1" strike="noStrike">
                <a:solidFill>
                  <a:srgbClr val="9933ff"/>
                </a:solidFill>
                <a:latin typeface="宋体"/>
              </a:rPr>
              <a:t>　　　　　　　　　　　　　　　　　　　　　　　　　　　　　　　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47640" y="2060640"/>
            <a:ext cx="691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隶书"/>
              </a:rPr>
              <a:t>　　　</a:t>
            </a:r>
            <a:r>
              <a:rPr b="0" lang="zh-CN" sz="3200" spc="-1" strike="noStrike">
                <a:solidFill>
                  <a:srgbClr val="ff3300"/>
                </a:solidFill>
                <a:latin typeface="Sylfaen"/>
                <a:ea typeface="隶书"/>
              </a:rPr>
              <a:t>周瑜妒忌诸葛亮的才干，设计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Sylfaen"/>
                <a:ea typeface="隶书"/>
              </a:rPr>
              <a:t>日内造十万只箭来陷害他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87280" y="458136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Sylfaen"/>
                <a:ea typeface="隶书"/>
              </a:rPr>
              <a:t>三天后如期交箭，有力地挫败了周瑜的暗算，使周瑜自叹不如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7269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4360" y="620640"/>
            <a:ext cx="55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Sylfaen"/>
                <a:ea typeface="黑体"/>
              </a:rPr>
              <a:t>拓展延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5640" y="4149720"/>
            <a:ext cx="7848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ff"/>
                </a:solidFill>
                <a:latin typeface="隶书"/>
                <a:ea typeface="隶书"/>
              </a:rPr>
              <a:t>2.“</a:t>
            </a:r>
            <a:r>
              <a:rPr b="0" lang="zh-CN" sz="4000" spc="-1" strike="noStrike">
                <a:solidFill>
                  <a:srgbClr val="6666ff"/>
                </a:solidFill>
                <a:latin typeface="隶书"/>
                <a:ea typeface="隶书"/>
              </a:rPr>
              <a:t>草船借箭”中的“借”字可以换成什麽字呢？为什麽课文用借而不用其它字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6920" y="1989000"/>
            <a:ext cx="734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隶书"/>
                <a:ea typeface="隶书"/>
              </a:rPr>
              <a:t>1.</a:t>
            </a:r>
            <a:r>
              <a:rPr b="0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设想一下当诸葛亮归来时与周瑜相见</a:t>
            </a:r>
            <a:r>
              <a:rPr b="0" lang="en-US" sz="4000" spc="-1" strike="noStrike">
                <a:solidFill>
                  <a:srgbClr val="ff00ff"/>
                </a:solidFill>
                <a:latin typeface="隶书"/>
                <a:ea typeface="隶书"/>
              </a:rPr>
              <a:t>,</a:t>
            </a:r>
            <a:r>
              <a:rPr b="0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周瑜会怎麽说</a:t>
            </a:r>
            <a:r>
              <a:rPr b="0" lang="en-US" sz="4000" spc="-1" strike="noStrike">
                <a:solidFill>
                  <a:srgbClr val="ff00ff"/>
                </a:solidFill>
                <a:latin typeface="隶书"/>
                <a:ea typeface="隶书"/>
              </a:rPr>
              <a:t>?</a:t>
            </a:r>
            <a:r>
              <a:rPr b="0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诸葛亮又会怎麽说呢</a:t>
            </a:r>
            <a:r>
              <a:rPr b="0" lang="en-US" sz="4000" spc="-1" strike="noStrike">
                <a:solidFill>
                  <a:srgbClr val="ff00ff"/>
                </a:solidFill>
                <a:latin typeface="隶书"/>
                <a:ea typeface="隶书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7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843280" y="1484280"/>
            <a:ext cx="32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Sylfaen"/>
                <a:ea typeface="黑体"/>
              </a:rPr>
              <a:t>草船借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58920" y="2349360"/>
            <a:ext cx="6842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Sylfaen"/>
                <a:ea typeface="黑体"/>
              </a:rPr>
              <a:t>接受任务          诸葛亮              有知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Sylfaen"/>
                <a:ea typeface="黑体"/>
              </a:rPr>
              <a:t>借箭准备                                    有胆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Sylfaen"/>
                <a:ea typeface="黑体"/>
              </a:rPr>
              <a:t>草船借箭         神机妙算           有肚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Sylfaen"/>
                <a:ea typeface="黑体"/>
              </a:rPr>
              <a:t>如期交箭                                    有计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87640" y="2565360"/>
            <a:ext cx="86364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16360" y="342900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059280" y="4076280"/>
            <a:ext cx="865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2987640" y="4076640"/>
            <a:ext cx="863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508720" y="2636640"/>
            <a:ext cx="115092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508720" y="3428640"/>
            <a:ext cx="1150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508720" y="4005360"/>
            <a:ext cx="1079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508720" y="4005360"/>
            <a:ext cx="11509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43280" y="2852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7740720" y="260280"/>
            <a:ext cx="1224000" cy="136836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课堂小结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0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3" dur="2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6" dur="2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9" dur="2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740720" y="260280"/>
            <a:ext cx="1224000" cy="1368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62984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目   录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050920" y="907920"/>
            <a:ext cx="388800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情景导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学习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介绍背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介绍三国形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词语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整体感知课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默读故事起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析人物的心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自读故事经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自读故事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分析事情的前因后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课堂小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4360" y="136224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我国四大名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" y="2403360"/>
            <a:ext cx="51829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cc33"/>
                </a:solidFill>
                <a:latin typeface="黑体"/>
                <a:ea typeface="黑体"/>
              </a:rPr>
              <a:t>三国演义     罗贯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cc33"/>
                </a:solidFill>
                <a:latin typeface="黑体"/>
                <a:ea typeface="黑体"/>
              </a:rPr>
              <a:t>水浒传       施耐庵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cc33"/>
                </a:solidFill>
                <a:latin typeface="黑体"/>
                <a:ea typeface="黑体"/>
              </a:rPr>
              <a:t>红楼梦       曹雪芹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cc33"/>
                </a:solidFill>
                <a:latin typeface="黑体"/>
                <a:ea typeface="黑体"/>
              </a:rPr>
              <a:t>西游记       吴承恩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35480" y="-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-252360" y="5668920"/>
            <a:ext cx="9144000" cy="1189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39640" y="533412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Sylfaen"/>
                <a:ea typeface="黑体"/>
              </a:rPr>
              <a:t>《</a:t>
            </a:r>
            <a:r>
              <a:rPr b="0" lang="zh-CN" sz="3600" spc="-1" strike="noStrike">
                <a:solidFill>
                  <a:srgbClr val="ff00ff"/>
                </a:solidFill>
                <a:latin typeface="Sylfaen"/>
                <a:ea typeface="黑体"/>
              </a:rPr>
              <a:t>赤壁之战</a:t>
            </a:r>
            <a:r>
              <a:rPr b="0" lang="en-US" sz="3600" spc="-1" strike="noStrike">
                <a:solidFill>
                  <a:srgbClr val="ff00ff"/>
                </a:solidFill>
                <a:latin typeface="Sylfaen"/>
                <a:ea typeface="黑体"/>
              </a:rPr>
              <a:t>》</a:t>
            </a:r>
            <a:r>
              <a:rPr b="0" lang="zh-CN" sz="3600" spc="-1" strike="noStrike">
                <a:solidFill>
                  <a:srgbClr val="ff00ff"/>
                </a:solidFill>
                <a:latin typeface="Sylfaen"/>
                <a:ea typeface="黑体"/>
              </a:rPr>
              <a:t>中的人物谁给你留下的印象最深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情景导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2627280" y="404640"/>
            <a:ext cx="2952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习目标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00280"/>
            <a:ext cx="8388360" cy="30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  <a:ea typeface="黑体"/>
              </a:rPr>
              <a:t>  </a:t>
            </a:r>
            <a:r>
              <a:rPr b="0" lang="zh-CN" sz="4000" spc="-1" strike="noStrike">
                <a:solidFill>
                  <a:srgbClr val="ff00ff"/>
                </a:solidFill>
                <a:latin typeface="Sylfaen"/>
                <a:ea typeface="隶书"/>
              </a:rPr>
              <a:t>知识目标：</a:t>
            </a: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    </a:t>
            </a:r>
            <a:r>
              <a:rPr b="0" lang="en-US" sz="2800" spc="-1" strike="noStrike">
                <a:solidFill>
                  <a:srgbClr val="ffcc66"/>
                </a:solidFill>
                <a:latin typeface="Sylfaen"/>
                <a:ea typeface="黑体"/>
              </a:rPr>
              <a:t>1.</a:t>
            </a:r>
            <a:r>
              <a:rPr b="0" lang="zh-CN" sz="2800" spc="-1" strike="noStrike">
                <a:solidFill>
                  <a:srgbClr val="ffcc66"/>
                </a:solidFill>
                <a:latin typeface="Sylfaen"/>
                <a:ea typeface="黑体"/>
              </a:rPr>
              <a:t>学会本课的生字新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Sylfaen"/>
                <a:ea typeface="黑体"/>
              </a:rPr>
              <a:t>                                  </a:t>
            </a:r>
            <a:r>
              <a:rPr b="0" lang="en-US" sz="2800" spc="-1" strike="noStrike">
                <a:solidFill>
                  <a:srgbClr val="ffcc66"/>
                </a:solidFill>
                <a:latin typeface="Sylfaen"/>
                <a:ea typeface="黑体"/>
              </a:rPr>
              <a:t>2.</a:t>
            </a:r>
            <a:r>
              <a:rPr b="0" lang="zh-CN" sz="2800" spc="-1" strike="noStrike">
                <a:solidFill>
                  <a:srgbClr val="ffcc66"/>
                </a:solidFill>
                <a:latin typeface="Sylfaen"/>
                <a:ea typeface="黑体"/>
              </a:rPr>
              <a:t>了解故事的起因，经过，结果，学习分清事情的前因后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Sylfaen"/>
                <a:ea typeface="隶书"/>
              </a:rPr>
              <a:t>技能目标 </a:t>
            </a:r>
            <a:r>
              <a:rPr b="0" lang="en-US" sz="2800" spc="-1" strike="noStrike">
                <a:solidFill>
                  <a:srgbClr val="ffcc66"/>
                </a:solidFill>
                <a:latin typeface="Sylfaen"/>
                <a:ea typeface="黑体"/>
              </a:rPr>
              <a:t>3.</a:t>
            </a:r>
            <a:r>
              <a:rPr b="0" lang="zh-CN" sz="2800" spc="-1" strike="noStrike">
                <a:solidFill>
                  <a:srgbClr val="ffcc66"/>
                </a:solidFill>
                <a:latin typeface="Sylfaen"/>
                <a:ea typeface="黑体"/>
              </a:rPr>
              <a:t>学习通过人物的语言描写刻画人物的写作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  <a:ea typeface="黑体"/>
              </a:rPr>
              <a:t>  </a:t>
            </a:r>
            <a:r>
              <a:rPr b="0" lang="zh-CN" sz="4000" spc="-1" strike="noStrike">
                <a:solidFill>
                  <a:srgbClr val="ff00ff"/>
                </a:solidFill>
                <a:latin typeface="Sylfaen"/>
                <a:ea typeface="隶书"/>
              </a:rPr>
              <a:t>情感目 ：</a:t>
            </a: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   </a:t>
            </a:r>
            <a:r>
              <a:rPr b="0" lang="en-US" sz="2800" spc="-1" strike="noStrike">
                <a:solidFill>
                  <a:srgbClr val="ffcc66"/>
                </a:solidFill>
                <a:latin typeface="Sylfaen"/>
                <a:ea typeface="黑体"/>
              </a:rPr>
              <a:t>4.</a:t>
            </a:r>
            <a:r>
              <a:rPr b="0" lang="zh-CN" sz="2800" spc="-1" strike="noStrike">
                <a:solidFill>
                  <a:srgbClr val="ffcc66"/>
                </a:solidFill>
                <a:latin typeface="Sylfaen"/>
                <a:ea typeface="黑体"/>
              </a:rPr>
              <a:t>体会诸葛亮的神机妙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7308720" y="260280"/>
            <a:ext cx="1600200" cy="1447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7238880" y="6237360"/>
            <a:ext cx="19051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95280" y="14842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篇课文讲的是我国著名长篇历史小说《三国演义》中的一个故事。故事发生在东汉末年，当时曹操刚刚打败刘备，又派兵进攻孙权。于是刘备和孙权联合起来抵抗曹操。刘备派诸葛亮到孙权那里帮助作战。认真读读课文，看看草船借箭这件事的起因是什么，经过怎样，结果又如何。弄清“神机妙算”这个词语的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40000" y="33336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Sylfaen"/>
                <a:ea typeface="隶书"/>
              </a:rPr>
              <a:t>介绍背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308720" y="260280"/>
            <a:ext cx="1835280" cy="1152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79280" y="5705640"/>
            <a:ext cx="1440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16000" y="213372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                                </a:t>
            </a:r>
            <a:r>
              <a:rPr b="0" lang="zh-CN" sz="2400" spc="-1" strike="noStrike">
                <a:solidFill>
                  <a:srgbClr val="ff3399"/>
                </a:solidFill>
                <a:latin typeface="Sylfaen"/>
                <a:ea typeface="黑体"/>
              </a:rPr>
              <a:t>北魏（曹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Sylfaen"/>
                <a:ea typeface="黑体"/>
              </a:rPr>
              <a:t>                    </a:t>
            </a:r>
            <a:r>
              <a:rPr b="0" lang="zh-CN" sz="2400" spc="-1" strike="noStrike">
                <a:solidFill>
                  <a:srgbClr val="ff3399"/>
                </a:solidFill>
                <a:latin typeface="Sylfaen"/>
                <a:ea typeface="黑体"/>
              </a:rPr>
              <a:t>打败                                 攻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Sylfae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Sylfaen"/>
                <a:ea typeface="黑体"/>
              </a:rPr>
              <a:t>西蜀（刘备）              联合                  东吴（周瑜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Sylfae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ff3399"/>
                </a:solidFill>
                <a:latin typeface="Sylfaen"/>
                <a:ea typeface="黑体"/>
              </a:rPr>
              <a:t>（诸葛亮）      派诸葛亮                      （鲁肃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834920" y="2492280"/>
            <a:ext cx="187308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03640" y="2565360"/>
            <a:ext cx="180036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3640" y="465300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556000" y="692280"/>
            <a:ext cx="3960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介绍三国形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3036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1187280" y="256536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诸葛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rId2" action="ppaction://hlinksldjump"/>
          </p:cNvPr>
          <p:cNvSpPr/>
          <p:nvPr/>
        </p:nvSpPr>
        <p:spPr>
          <a:xfrm>
            <a:off x="1066680" y="3824280"/>
            <a:ext cx="144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妒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3" action="ppaction://hlinksldjump"/>
          </p:cNvPr>
          <p:cNvSpPr/>
          <p:nvPr/>
        </p:nvSpPr>
        <p:spPr>
          <a:xfrm>
            <a:off x="1042920" y="515772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惩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3733920" y="25909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水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5" action="ppaction://hlinksldjump"/>
          </p:cNvPr>
          <p:cNvSpPr/>
          <p:nvPr/>
        </p:nvSpPr>
        <p:spPr>
          <a:xfrm>
            <a:off x="3733920" y="3824280"/>
            <a:ext cx="144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擂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6" action="ppaction://hlinksldjump"/>
          </p:cNvPr>
          <p:cNvSpPr/>
          <p:nvPr/>
        </p:nvSpPr>
        <p:spPr>
          <a:xfrm>
            <a:off x="3733920" y="511956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呐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rId7" action="ppaction://hlinksldjump"/>
          </p:cNvPr>
          <p:cNvSpPr/>
          <p:nvPr/>
        </p:nvSpPr>
        <p:spPr>
          <a:xfrm>
            <a:off x="5867280" y="263700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丞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rId8" action="ppaction://hlinksldjump"/>
          </p:cNvPr>
          <p:cNvSpPr/>
          <p:nvPr/>
        </p:nvSpPr>
        <p:spPr>
          <a:xfrm>
            <a:off x="5867280" y="3824280"/>
            <a:ext cx="144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都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rId9" action="ppaction://hlinksldjump"/>
          </p:cNvPr>
          <p:cNvSpPr/>
          <p:nvPr/>
        </p:nvSpPr>
        <p:spPr>
          <a:xfrm>
            <a:off x="5867280" y="511956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神机妙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10" action="ppaction://hlinksldjump"/>
          </p:cNvPr>
          <p:cNvSpPr/>
          <p:nvPr/>
        </p:nvSpPr>
        <p:spPr>
          <a:xfrm>
            <a:off x="8458200" y="6324480"/>
            <a:ext cx="457200" cy="304920"/>
          </a:xfrm>
          <a:custGeom>
            <a:avLst/>
            <a:gdLst>
              <a:gd name="textAreaLeft" fmla="*/ 76320 w 457200"/>
              <a:gd name="textAreaRight" fmla="*/ 38124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6975" y="5400"/>
                </a:lnTo>
                <a:lnTo>
                  <a:pt x="5400" y="5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6975" y="16200"/>
                </a:lnTo>
                <a:lnTo>
                  <a:pt x="26975" y="5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6975" y="16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2375" h="21600">
                <a:moveTo>
                  <a:pt x="14177" y="10800"/>
                </a:moveTo>
                <a:lnTo>
                  <a:pt x="20212" y="6775"/>
                </a:lnTo>
                <a:lnTo>
                  <a:pt x="20212" y="14825"/>
                </a:lnTo>
                <a:close/>
              </a:path>
              <a:path fill="darken" w="32375" h="21600">
                <a:moveTo>
                  <a:pt x="12162" y="6775"/>
                </a:moveTo>
                <a:lnTo>
                  <a:pt x="13117" y="6775"/>
                </a:lnTo>
                <a:lnTo>
                  <a:pt x="13117" y="14825"/>
                </a:lnTo>
                <a:lnTo>
                  <a:pt x="12162" y="14825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1"/>
          <a:stretch/>
        </p:blipFill>
        <p:spPr>
          <a:xfrm>
            <a:off x="7164360" y="189000"/>
            <a:ext cx="1800360" cy="1423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2484360" y="549360"/>
            <a:ext cx="381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词语学习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826920" y="6922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99"/>
                </a:solidFill>
                <a:latin typeface="Sylfaen"/>
                <a:ea typeface="黑体"/>
              </a:rPr>
              <a:t>整体感知课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00000" y="1773360"/>
            <a:ext cx="7632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 </a:t>
            </a:r>
            <a:r>
              <a:rPr b="0" lang="en-US" sz="3200" spc="-1" strike="noStrike">
                <a:solidFill>
                  <a:srgbClr val="6666ff"/>
                </a:solidFill>
                <a:latin typeface="隶书"/>
                <a:ea typeface="隶书"/>
              </a:rPr>
              <a:t>1.</a:t>
            </a:r>
            <a:r>
              <a:rPr b="0" lang="zh-CN" sz="3200" spc="-1" strike="noStrike">
                <a:solidFill>
                  <a:srgbClr val="6666ff"/>
                </a:solidFill>
                <a:latin typeface="隶书"/>
                <a:ea typeface="隶书"/>
              </a:rPr>
              <a:t>文中写到了哪几个人物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隶书"/>
                <a:ea typeface="隶书"/>
              </a:rPr>
              <a:t>2.</a:t>
            </a:r>
            <a:r>
              <a:rPr b="0" lang="zh-CN" sz="3200" spc="-1" strike="noStrike">
                <a:solidFill>
                  <a:srgbClr val="6666ff"/>
                </a:solidFill>
                <a:latin typeface="隶书"/>
                <a:ea typeface="隶书"/>
              </a:rPr>
              <a:t>在文中找出“草船借箭”的起因，经过和结果，各在哪几个自然段讲到的？除此还讲到了什麽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84360" y="4292640"/>
            <a:ext cx="5112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66"/>
                </a:solidFill>
                <a:latin typeface="Sylfaen"/>
                <a:ea typeface="黑体"/>
              </a:rPr>
              <a:t>起因（</a:t>
            </a:r>
            <a:r>
              <a:rPr b="0" lang="en-US" sz="3200" spc="-1" strike="noStrike">
                <a:solidFill>
                  <a:srgbClr val="ff9966"/>
                </a:solidFill>
                <a:latin typeface="Sylfaen"/>
                <a:ea typeface="黑体"/>
              </a:rPr>
              <a:t>1—2</a:t>
            </a:r>
            <a:r>
              <a:rPr b="0" lang="zh-CN" sz="3200" spc="-1" strike="noStrike">
                <a:solidFill>
                  <a:srgbClr val="ff9966"/>
                </a:solidFill>
                <a:latin typeface="Sylfaen"/>
                <a:ea typeface="黑体"/>
              </a:rPr>
              <a:t>）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66"/>
                </a:solidFill>
                <a:latin typeface="Sylfaen"/>
                <a:ea typeface="黑体"/>
              </a:rPr>
              <a:t>准备（</a:t>
            </a:r>
            <a:r>
              <a:rPr b="0" lang="en-US" sz="3200" spc="-1" strike="noStrike">
                <a:solidFill>
                  <a:srgbClr val="ff9966"/>
                </a:solidFill>
                <a:latin typeface="Sylfaen"/>
                <a:ea typeface="黑体"/>
              </a:rPr>
              <a:t>3—5</a:t>
            </a:r>
            <a:r>
              <a:rPr b="0" lang="zh-CN" sz="3200" spc="-1" strike="noStrike">
                <a:solidFill>
                  <a:srgbClr val="ff9966"/>
                </a:solidFill>
                <a:latin typeface="Sylfaen"/>
                <a:ea typeface="黑体"/>
              </a:rPr>
              <a:t>）                        经过（</a:t>
            </a:r>
            <a:r>
              <a:rPr b="0" lang="en-US" sz="3200" spc="-1" strike="noStrike">
                <a:solidFill>
                  <a:srgbClr val="ff9966"/>
                </a:solidFill>
                <a:latin typeface="Sylfaen"/>
                <a:ea typeface="黑体"/>
              </a:rPr>
              <a:t>6—9</a:t>
            </a:r>
            <a:r>
              <a:rPr b="0" lang="zh-CN" sz="3200" spc="-1" strike="noStrike">
                <a:solidFill>
                  <a:srgbClr val="ff9966"/>
                </a:solidFill>
                <a:latin typeface="Sylfaen"/>
                <a:ea typeface="黑体"/>
              </a:rPr>
              <a:t>）                        结果（</a:t>
            </a:r>
            <a:r>
              <a:rPr b="0" lang="en-US" sz="3200" spc="-1" strike="noStrike">
                <a:solidFill>
                  <a:srgbClr val="ff9966"/>
                </a:solidFill>
                <a:latin typeface="Sylfaen"/>
                <a:ea typeface="黑体"/>
              </a:rPr>
              <a:t>10</a:t>
            </a:r>
            <a:r>
              <a:rPr b="0" lang="zh-CN" sz="3200" spc="-1" strike="noStrike">
                <a:solidFill>
                  <a:srgbClr val="ff9966"/>
                </a:solidFill>
                <a:latin typeface="Sylfae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 rot="21591000">
            <a:off x="892080" y="4279320"/>
            <a:ext cx="11552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Sylfaen"/>
                <a:ea typeface="黑体"/>
              </a:rPr>
              <a:t>按事情发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580000" y="5229360"/>
            <a:ext cx="33447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>
            <a:hlinkClick r:id="rId2" action="ppaction://hlinksldjump"/>
          </p:cNvPr>
          <p:cNvSpPr/>
          <p:nvPr/>
        </p:nvSpPr>
        <p:spPr>
          <a:xfrm>
            <a:off x="1476360" y="14922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默读起因部分，请你思考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9640" y="2349360"/>
            <a:ext cx="80773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Sylfaen"/>
              </a:rPr>
              <a:t>         </a:t>
            </a:r>
            <a:r>
              <a:rPr b="1" lang="zh-CN" sz="3600" spc="-1" strike="noStrike">
                <a:solidFill>
                  <a:srgbClr val="6666ff"/>
                </a:solidFill>
                <a:latin typeface="Sylfaen"/>
              </a:rPr>
              <a:t>1</a:t>
            </a:r>
            <a:r>
              <a:rPr b="1" lang="zh-CN" sz="3600" spc="-1" strike="noStrike">
                <a:solidFill>
                  <a:srgbClr val="6666ff"/>
                </a:solidFill>
                <a:latin typeface="Sylfaen"/>
              </a:rPr>
              <a:t>、周瑜是怎样“请”诸葛亮商议军事的？他的真正目的是什么，从哪儿看出来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ff"/>
                </a:solidFill>
                <a:latin typeface="Sylfaen"/>
              </a:rPr>
              <a:t>         </a:t>
            </a:r>
            <a:r>
              <a:rPr b="1" lang="zh-CN" sz="3600" spc="-1" strike="noStrike">
                <a:solidFill>
                  <a:srgbClr val="6666ff"/>
                </a:solidFill>
                <a:latin typeface="Sylfaen"/>
              </a:rPr>
              <a:t>2</a:t>
            </a:r>
            <a:r>
              <a:rPr b="1" lang="zh-CN" sz="3600" spc="-1" strike="noStrike">
                <a:solidFill>
                  <a:srgbClr val="6666ff"/>
                </a:solidFill>
                <a:latin typeface="Sylfaen"/>
              </a:rPr>
              <a:t>、诸葛亮为什么不揭穿他，反而接受赶造十万枝箭的任务，并且立下军令状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7740720" y="260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默读故事起因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5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5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01:43:49Z</dcterms:created>
  <dc:creator>wangliping</dc:creator>
  <dc:description/>
  <dc:language>en-US</dc:language>
  <cp:lastModifiedBy>微软用户</cp:lastModifiedBy>
  <dcterms:modified xsi:type="dcterms:W3CDTF">2010-11-28T05:55:28Z</dcterms:modified>
  <cp:revision>117</cp:revision>
  <dc:subject/>
  <dc:title>PowerPoint 演示文稿</dc:title>
</cp:coreProperties>
</file>