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3.gif" ContentType="image/gif"/>
  <Override PartName="/ppt/media/image7.png" ContentType="image/png"/>
  <Override PartName="/ppt/media/image9.png" ContentType="image/png"/>
  <Override PartName="/ppt/media/image5.gif" ContentType="image/gif"/>
  <Override PartName="/ppt/media/type.wav" ContentType="audio/x-wav"/>
  <Override PartName="/ppt/media/image8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6.png" ContentType="image/png"/>
  <Override PartName="/ppt/media/camera.wav" ContentType="audio/x-wav"/>
  <Override PartName="/ppt/media/image17.gif" ContentType="image/gif"/>
  <Override PartName="/ppt/media/image21.jpeg" ContentType="image/jpeg"/>
  <Override PartName="/ppt/media/image18.gif" ContentType="image/gif"/>
  <Override PartName="/ppt/media/image16.gif" ContentType="image/gif"/>
  <Override PartName="/ppt/media/%E9%92%9F2.wav" ContentType="audio/x-wav"/>
  <Override PartName="/ppt/media/image20.png" ContentType="image/png"/>
  <Override PartName="/ppt/media/image15.gif" ContentType="image/gif"/>
  <Override PartName="/ppt/media/image14.png" ContentType="image/png"/>
  <Override PartName="/ppt/media/cashreg.wav" ContentType="audio/x-wav"/>
  <Override PartName="/ppt/media/image12.png" ContentType="image/png"/>
  <Override PartName="/ppt/media/image11.png" ContentType="image/png"/>
  <Override PartName="/ppt/media/applause.wav" ContentType="audio/x-wav"/>
  <Override PartName="/ppt/media/image10.png" ContentType="image/png"/>
  <Override PartName="/ppt/media/image1.png" ContentType="image/png"/>
  <Override PartName="/ppt/media/image19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C46D-A22C-4086-BDDD-F0CE97AB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F94-5EE1-45BF-80A7-976E0202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A58-D01B-40D4-ADB8-E2453C12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E088-7F80-48D6-8137-A8F0CDB4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164-E0EB-4875-8D12-715D8B74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BBF3-62C1-46EA-81DF-2A31E77D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13A-D7D2-4850-B6EF-AF667973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F3C-F8B7-4398-BAEA-3D7EDBDD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C407-435E-467C-98FB-7E07246E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0DC-5C5A-42D3-95FC-C65717CE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36C-109D-40D5-B5B2-1A1EBB2A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C2CC-AF01-46A6-8386-92477630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AC0D-F236-4B8A-9A19-D2951BF2DD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&#38047;2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&#38047;2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&#38047;2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&#38047;2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&#38047;2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&#38047;2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audio" Target="../media/&#38047;2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&#38047;2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&#38047;2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audio" Target="../media/&#38047;2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&#38047;2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&#38047;2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&#38047;2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&#38047;2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&#38047;2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shreg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&#38047;2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a"/>
          <p:cNvPicPr/>
          <p:nvPr/>
        </p:nvPicPr>
        <p:blipFill>
          <a:blip r:embed="rId1"/>
          <a:stretch/>
        </p:blipFill>
        <p:spPr>
          <a:xfrm>
            <a:off x="-609480" y="3240"/>
            <a:ext cx="975348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-343656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403280" y="1066680"/>
            <a:ext cx="64454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曹刿论战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-5029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左传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黑体"/>
                <a:ea typeface="黑体"/>
              </a:rPr>
              <a:t>小知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990000"/>
                </a:solidFill>
                <a:latin typeface="黑体"/>
                <a:ea typeface="黑体"/>
              </a:rPr>
              <a:t>春秋时代的战争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01360"/>
            <a:ext cx="82072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　　春秋时代大多没有常备军，有战事时，国君亲任统帅，贵族任各级军官，而士兵则临时从奴隶中征集。曹刿说的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民弗从也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就是针对这种征集工作来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%E9%92%9F2.wav"/>
      </p:stSnd>
    </p:sndAc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Arial"/>
                <a:ea typeface="黑体"/>
              </a:rPr>
              <a:t>注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8920" y="907560"/>
            <a:ext cx="842472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　　问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何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以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战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？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公曰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衣食所安，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弗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敢</a:t>
            </a:r>
            <a:r>
              <a:rPr b="1" lang="zh-CN" sz="3600" spc="-1" strike="noStrike" u="sng">
                <a:solidFill>
                  <a:srgbClr val="ff6600"/>
                </a:solidFill>
                <a:uFillTx/>
                <a:latin typeface="Arial"/>
                <a:ea typeface="黑体"/>
              </a:rPr>
              <a:t>专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也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，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必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以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分人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对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曰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小惠未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徧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，民弗从也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4920" y="3428640"/>
            <a:ext cx="8496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　　（曹刿）问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您凭什么跟齐国打仗？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庄公说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衣食这类养生的东西，不敢独自享受，一定要把它分给别人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（曹刿）回答说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这种小恩小惠，不能遍及百姓，老百姓是不会听从您的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706920" y="476280"/>
            <a:ext cx="865080" cy="671400"/>
          </a:xfrm>
          <a:prstGeom prst="wedgeRoundRectCallout">
            <a:avLst>
              <a:gd name="adj1" fmla="val -70365"/>
              <a:gd name="adj2" fmla="val 90425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4572000" y="476280"/>
            <a:ext cx="865080" cy="671400"/>
          </a:xfrm>
          <a:prstGeom prst="wedgeRoundRectCallout">
            <a:avLst>
              <a:gd name="adj1" fmla="val -73671"/>
              <a:gd name="adj2" fmla="val 194916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1476360" y="549360"/>
            <a:ext cx="936720" cy="671400"/>
          </a:xfrm>
          <a:prstGeom prst="wedgeRoundRectCallout">
            <a:avLst>
              <a:gd name="adj1" fmla="val -32375"/>
              <a:gd name="adj2" fmla="val 158037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2411280" y="0"/>
            <a:ext cx="1262160" cy="1197000"/>
          </a:xfrm>
          <a:prstGeom prst="wedgeRoundRectCallout">
            <a:avLst>
              <a:gd name="adj1" fmla="val -37671"/>
              <a:gd name="adj2" fmla="val 113527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个人专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6012000" y="476280"/>
            <a:ext cx="1261800" cy="671400"/>
          </a:xfrm>
          <a:prstGeom prst="wedgeRoundRectCallout">
            <a:avLst>
              <a:gd name="adj1" fmla="val -4967"/>
              <a:gd name="adj2" fmla="val 176476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回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3"/>
          <p:cNvSpPr/>
          <p:nvPr/>
        </p:nvSpPr>
        <p:spPr>
          <a:xfrm>
            <a:off x="0" y="0"/>
            <a:ext cx="1728720" cy="1147680"/>
          </a:xfrm>
          <a:prstGeom prst="wedgeRoundRectCallout">
            <a:avLst>
              <a:gd name="adj1" fmla="val 96925"/>
              <a:gd name="adj2" fmla="val 188037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同“遍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普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%E9%92%9F2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8920" y="1268280"/>
            <a:ext cx="84247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　　公曰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牺牲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玉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帛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，弗敢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加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也，必以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信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对曰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小信未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，神弗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福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也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3428640"/>
            <a:ext cx="86104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　　庄公说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祭祀的猪、牛、羊、玉器和丝织品，（我）从来不敢虚报数目，一定要做到诚实可信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（曹刿）回答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（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这只是）小信用，未能让神灵信服，神是不会赐福给你的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1547640" y="0"/>
            <a:ext cx="2160720" cy="1197000"/>
          </a:xfrm>
          <a:prstGeom prst="wedgeRoundRectCallout">
            <a:avLst>
              <a:gd name="adj1" fmla="val 43314"/>
              <a:gd name="adj2" fmla="val 91379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祭祀用的猪牛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3672000" y="549360"/>
            <a:ext cx="1800000" cy="671400"/>
          </a:xfrm>
          <a:prstGeom prst="wedgeRoundRectCallout">
            <a:avLst>
              <a:gd name="adj1" fmla="val 13050"/>
              <a:gd name="adj2" fmla="val 121393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丝织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0" y="907920"/>
            <a:ext cx="1262160" cy="792360"/>
          </a:xfrm>
          <a:prstGeom prst="wedgeRoundRectCallout">
            <a:avLst>
              <a:gd name="adj1" fmla="val 45347"/>
              <a:gd name="adj2" fmla="val 100101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实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6372360" y="476280"/>
            <a:ext cx="1261800" cy="747720"/>
          </a:xfrm>
          <a:prstGeom prst="wedgeRoundRectCallout">
            <a:avLst>
              <a:gd name="adj1" fmla="val -24717"/>
              <a:gd name="adj2" fmla="val 109662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虚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5292720" y="0"/>
            <a:ext cx="1542960" cy="1224000"/>
          </a:xfrm>
          <a:prstGeom prst="wedgeRoundRectCallout">
            <a:avLst>
              <a:gd name="adj1" fmla="val -13773"/>
              <a:gd name="adj2" fmla="val 126652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为人所信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7596360" y="0"/>
            <a:ext cx="1261800" cy="1174680"/>
          </a:xfrm>
          <a:prstGeom prst="wedgeRoundRectCallout">
            <a:avLst>
              <a:gd name="adj1" fmla="val -48365"/>
              <a:gd name="adj2" fmla="val 128916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赐福保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%E9%92%9F2.wav"/>
      </p:stSnd>
    </p:sndAc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9280" y="3645000"/>
            <a:ext cx="828036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　　庄公说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大大小小的案件，即使不能明察详审，但一定依据实情判断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（曹刿）说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这是尽了职分的事情。可以凭这个条件打仗。（如果）作战，就请允许（我）跟随着去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4572000" y="0"/>
            <a:ext cx="1262160" cy="671400"/>
          </a:xfrm>
          <a:prstGeom prst="wedgeRoundRectCallout">
            <a:avLst>
              <a:gd name="adj1" fmla="val -10629"/>
              <a:gd name="adj2" fmla="val 174115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案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5724360" y="0"/>
            <a:ext cx="1262160" cy="671400"/>
          </a:xfrm>
          <a:prstGeom prst="wedgeRoundRectCallout">
            <a:avLst>
              <a:gd name="adj1" fmla="val -31509"/>
              <a:gd name="adj2" fmla="val 171749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即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468360" y="0"/>
            <a:ext cx="1262160" cy="1152360"/>
          </a:xfrm>
          <a:prstGeom prst="wedgeRoundRectCallout">
            <a:avLst>
              <a:gd name="adj1" fmla="val 25222"/>
              <a:gd name="adj2" fmla="val 108814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实情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2374920" y="0"/>
            <a:ext cx="2197080" cy="1197000"/>
          </a:xfrm>
          <a:prstGeom prst="wedgeRoundRectCallout">
            <a:avLst>
              <a:gd name="adj1" fmla="val 51444"/>
              <a:gd name="adj2" fmla="val 123870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尽力做好分内的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516720" y="2757600"/>
            <a:ext cx="936720" cy="671400"/>
          </a:xfrm>
          <a:prstGeom prst="wedgeRoundRectCallout">
            <a:avLst>
              <a:gd name="adj1" fmla="val 30171"/>
              <a:gd name="adj2" fmla="val -121629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4572000" y="2757600"/>
            <a:ext cx="1655640" cy="671400"/>
          </a:xfrm>
          <a:prstGeom prst="wedgeRoundRectCallout">
            <a:avLst>
              <a:gd name="adj1" fmla="val -199759"/>
              <a:gd name="adj2" fmla="val -54490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请让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9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1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10920" y="1267920"/>
            <a:ext cx="80629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　　公曰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小大之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狱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虽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不能察，必以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情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对曰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忠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之属也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。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可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以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一战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。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战则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请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从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%E9%92%9F2.wav"/>
      </p:stSnd>
    </p:sndAc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Arial"/>
                <a:ea typeface="黑体"/>
              </a:rPr>
              <a:t>难句翻译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忠之属也，可以一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06292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忠之属也，可以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（此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（这是）尽了本职的一类事情，可以凭（这个条件）打一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Arial"/>
                <a:ea typeface="黑体"/>
              </a:rPr>
              <a:t>注意：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“可以”是两个词：可，可以。以，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%E9%92%9F2.wav"/>
      </p:stSnd>
    </p:sndAc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1840" y="1125000"/>
            <a:ext cx="84978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　　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公与之乘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。战于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长勺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。公将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鼓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之。刿曰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未可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齐人三鼓。刿曰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可矣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3429000"/>
            <a:ext cx="8424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　　鲁庄公和他共坐一辆战车，在长勺和齐军作战。庄公（一上阵）就要击鼓进军。曹刿说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（现在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不行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齐军擂了三通战鼓后。曹刿说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可以击鼓进军了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6084720" y="404640"/>
            <a:ext cx="1262160" cy="720720"/>
          </a:xfrm>
          <a:prstGeom prst="wedgeRoundRectCallout">
            <a:avLst>
              <a:gd name="adj1" fmla="val 19310"/>
              <a:gd name="adj2" fmla="val 92069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击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%E9%92%9F2.wav"/>
      </p:stSnd>
    </p:sndAc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1680" y="54900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十年春，齐师伐我。公将战。曹刿请见。其乡人曰：“肉食者谋之，又何间焉？”刿曰：“肉食者鄙，未能远谋。”乃入见。问：“何以战？”公曰：“衣食所安，弗敢专也，必以分人。”对曰：“小惠未徧，民弗从也。”公曰：“牺牲玉帛，弗敢加也，必以信。”对曰：“小信未孚，神弗福也。”公曰：“小大之狱，虽不能察，必以情。”对曰：“忠之属也。可以一战。战则请从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　　公与之乘。战于长勺。公将鼓之。刿曰：“未可。”齐人三鼓。刿曰：“可矣。”齐师败绩。公将驰之。刿曰：“未可。”下视其辙，登轼而望之，曰：“可矣。”遂逐齐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　　既克，公问其故。对曰：“夫战，勇气也。一鼓作气，再而衰，三而竭。彼竭我盈，故克之。夫大国，难测也，惧有伏焉。吾视其辙乱，望其旗靡，故逐之。”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人教版九年级(下)曹刿论战.mp3" descr=""/>
          <p:cNvPicPr/>
          <p:nvPr/>
        </p:nvPicPr>
        <p:blipFill>
          <a:blip r:embed="rId1"/>
          <a:stretch/>
        </p:blipFill>
        <p:spPr>
          <a:xfrm>
            <a:off x="815328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图片4"/>
          <p:cNvPicPr/>
          <p:nvPr/>
        </p:nvPicPr>
        <p:blipFill>
          <a:blip r:embed="rId2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4" dur="indefinite" restart="never" nodeType="tmRoot">
          <p:childTnLst>
            <p:seq>
              <p:cTn id="515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16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9" dur="129280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28195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Arial"/>
                <a:ea typeface="黑体"/>
              </a:rPr>
              <a:t>说文解字</a:t>
            </a:r>
            <a:r>
              <a:rPr b="1" lang="zh-CN" sz="8000" spc="-1" strike="noStrike">
                <a:solidFill>
                  <a:srgbClr val="cc3300"/>
                </a:solidFill>
                <a:latin typeface="Arial"/>
                <a:ea typeface="黑体"/>
              </a:rPr>
              <a:t>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3733560"/>
            <a:ext cx="8062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左边是鼓形，上有装饰，下有鼓座；右边是一只手拿鼓棰击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5111640" y="493560"/>
          <a:ext cx="3276720" cy="29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1640" y="493560"/>
                    <a:ext cx="3276720" cy="29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5"/>
          <p:cNvGraphicFramePr/>
          <p:nvPr/>
        </p:nvGraphicFramePr>
        <p:xfrm>
          <a:off x="3505320" y="533520"/>
          <a:ext cx="1030320" cy="12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533520"/>
                    <a:ext cx="103032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6"/>
          <p:cNvGraphicFramePr/>
          <p:nvPr/>
        </p:nvGraphicFramePr>
        <p:xfrm>
          <a:off x="3489480" y="2133720"/>
          <a:ext cx="1082520" cy="12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89480" y="2133720"/>
                    <a:ext cx="108252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7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8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7" name="%E9%92%9F2.wav"/>
      </p:stSnd>
    </p:sndAc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黑体"/>
                <a:ea typeface="黑体"/>
              </a:rPr>
              <a:t>小知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990000"/>
                </a:solidFill>
                <a:latin typeface="黑体"/>
                <a:ea typeface="黑体"/>
              </a:rPr>
              <a:t>春秋时代的战争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　　春秋时代的作战方式是车战：一车四马，上乘三个甲士（一人驾车，左右各一），车后还有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72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步卒。击鼓是进攻的信号。进攻时战车冲锋在前，步卒紧跟其后。打败的一方往往离开车辙，人仰马翻，落荒而逃。所以本文有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公与之乘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登轼而望之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视其辙乱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等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%E9%92%9F2.wav"/>
      </p:stSnd>
    </p:sndAc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1840" y="1268280"/>
            <a:ext cx="84978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　　齐师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败绩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。公将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驰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之。刿曰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未可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下视其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辙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登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轼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而望之，曰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可矣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遂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逐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齐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6200" y="3428640"/>
            <a:ext cx="8209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　　齐国军队大败。庄公正要下令追击。曹刿说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还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不行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（说完就）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下车去察看齐军的车印，又登上车前的横木瞭望齐军（的队形），说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可以追击了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于是追击齐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1692360" y="333360"/>
            <a:ext cx="1332000" cy="763560"/>
          </a:xfrm>
          <a:prstGeom prst="wedgeRoundRectCallout">
            <a:avLst>
              <a:gd name="adj1" fmla="val 22347"/>
              <a:gd name="adj2" fmla="val 100726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4140360" y="0"/>
            <a:ext cx="1622160" cy="1176480"/>
          </a:xfrm>
          <a:prstGeom prst="wedgeRoundRectCallout">
            <a:avLst>
              <a:gd name="adj1" fmla="val -10370"/>
              <a:gd name="adj2" fmla="val 85222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驱车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追赶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2916360" y="333360"/>
            <a:ext cx="1261800" cy="792000"/>
          </a:xfrm>
          <a:prstGeom prst="wedgeRoundRectCallout">
            <a:avLst>
              <a:gd name="adj1" fmla="val -19310"/>
              <a:gd name="adj2" fmla="val 168837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车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5508720" y="0"/>
            <a:ext cx="1584360" cy="1152360"/>
          </a:xfrm>
          <a:prstGeom prst="wedgeRoundRectCallout">
            <a:avLst>
              <a:gd name="adj1" fmla="val -93986"/>
              <a:gd name="adj2" fmla="val 128787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车前的横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395280" y="0"/>
            <a:ext cx="1262160" cy="1150920"/>
          </a:xfrm>
          <a:prstGeom prst="wedgeRoundRectCallout">
            <a:avLst>
              <a:gd name="adj1" fmla="val 108995"/>
              <a:gd name="adj2" fmla="val 184759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追赶追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9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0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%E9%92%9F2.wav"/>
      </p:stSnd>
    </p:sndAc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79280" y="476280"/>
            <a:ext cx="805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左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又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春秋左氏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左氏春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是记载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春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时期各诸侯国的政治、经济、军事、外交、文化等方面的一部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编年体史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相传是春秋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时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鲁国史官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左丘明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作。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是我国第一部叙事详细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编年体史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书中保存了大量古代史料，文字简练生动，尤其善于描写战争及复杂事件，善于通过对话和行动表现人物性格，对后代散文发展有很大影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8037360" y="1341360"/>
            <a:ext cx="1143000" cy="381636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左传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172200"/>
            <a:ext cx="95248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66ff"/>
                </a:solidFill>
                <a:latin typeface="黑体"/>
                <a:ea typeface="黑体"/>
              </a:rPr>
              <a:t>左传</a:t>
            </a:r>
            <a:r>
              <a:rPr b="1" lang="en-US" sz="3200" spc="-1" strike="noStrike">
                <a:solidFill>
                  <a:srgbClr val="ff66ff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ff66ff"/>
                </a:solidFill>
                <a:latin typeface="黑体"/>
                <a:ea typeface="黑体"/>
              </a:rPr>
              <a:t>公羊传</a:t>
            </a:r>
            <a:r>
              <a:rPr b="1" lang="en-US" sz="3200" spc="-1" strike="noStrike">
                <a:solidFill>
                  <a:srgbClr val="ff66ff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ff66ff"/>
                </a:solidFill>
                <a:latin typeface="黑体"/>
                <a:ea typeface="黑体"/>
              </a:rPr>
              <a:t>谷梁传</a:t>
            </a:r>
            <a:r>
              <a:rPr b="1" lang="en-US" sz="3200" spc="-1" strike="noStrike">
                <a:solidFill>
                  <a:srgbClr val="ff66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66ff"/>
                </a:solidFill>
                <a:latin typeface="黑体"/>
                <a:ea typeface="黑体"/>
              </a:rPr>
              <a:t>合称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66ff"/>
                </a:solidFill>
                <a:latin typeface="黑体"/>
                <a:ea typeface="黑体"/>
              </a:rPr>
              <a:t>春秋三传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6091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琥珀简体"/>
                <a:ea typeface="黑体"/>
              </a:rPr>
              <a:t>请你指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方正琥珀简体"/>
                <a:ea typeface="黑体"/>
              </a:rPr>
              <a:t>轼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方正琥珀简体"/>
                <a:ea typeface="黑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3"/>
          <p:cNvGraphicFramePr/>
          <p:nvPr/>
        </p:nvGraphicFramePr>
        <p:xfrm>
          <a:off x="623880" y="1935000"/>
          <a:ext cx="7894800" cy="40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935000"/>
                    <a:ext cx="7894800" cy="40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AutoShape 4"/>
          <p:cNvSpPr/>
          <p:nvPr/>
        </p:nvSpPr>
        <p:spPr>
          <a:xfrm>
            <a:off x="4038480" y="1752480"/>
            <a:ext cx="533520" cy="1676520"/>
          </a:xfrm>
          <a:prstGeom prst="downArrow">
            <a:avLst>
              <a:gd name="adj1" fmla="val 50000"/>
              <a:gd name="adj2" fmla="val 78559"/>
            </a:avLst>
          </a:prstGeom>
          <a:solidFill>
            <a:srgbClr val="ff33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%E9%92%9F2.wav"/>
      </p:stSnd>
    </p:sndAc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80629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　　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既克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，公问其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故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。对曰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夫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战，勇气也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。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一鼓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作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气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，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再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而衰，三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竭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。彼竭我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盈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，故克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3429000"/>
            <a:ext cx="80629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　　战胜齐军以后，庄公询问取胜的原因。（曹刿）回答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作战，靠的是勇气。第一次击鼓能振作士气，第二通击鼓时勇气减弱，第三通击鼓时勇气就枯竭了。敌方的勇气已经枯竭而我方的勇气正旺盛，所以战胜了他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7020000" y="2709720"/>
            <a:ext cx="1152360" cy="719280"/>
          </a:xfrm>
          <a:prstGeom prst="wedgeRoundRectCallout">
            <a:avLst>
              <a:gd name="adj1" fmla="val 22726"/>
              <a:gd name="adj2" fmla="val -83111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1332000" y="404640"/>
            <a:ext cx="1261800" cy="671760"/>
          </a:xfrm>
          <a:prstGeom prst="wedgeRoundRectCallout">
            <a:avLst>
              <a:gd name="adj1" fmla="val -64"/>
              <a:gd name="adj2" fmla="val 117138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已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2340000" y="404640"/>
            <a:ext cx="1262160" cy="671760"/>
          </a:xfrm>
          <a:prstGeom prst="wedgeRoundRectCallout">
            <a:avLst>
              <a:gd name="adj1" fmla="val -46981"/>
              <a:gd name="adj2" fmla="val 124231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战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572000" y="333360"/>
            <a:ext cx="1262160" cy="671400"/>
          </a:xfrm>
          <a:prstGeom prst="wedgeRoundRectCallout">
            <a:avLst>
              <a:gd name="adj1" fmla="val -44467"/>
              <a:gd name="adj2" fmla="val 124231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缘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7524720" y="0"/>
            <a:ext cx="1619280" cy="1224000"/>
          </a:xfrm>
          <a:prstGeom prst="wedgeRoundRectCallout">
            <a:avLst>
              <a:gd name="adj1" fmla="val -47060"/>
              <a:gd name="adj2" fmla="val 69453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发语词无实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3419640" y="333360"/>
            <a:ext cx="1152360" cy="671400"/>
          </a:xfrm>
          <a:prstGeom prst="wedgeRoundRectCallout">
            <a:avLst>
              <a:gd name="adj1" fmla="val -23967"/>
              <a:gd name="adj2" fmla="val 218560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振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4859280" y="2757600"/>
            <a:ext cx="1584360" cy="671400"/>
          </a:xfrm>
          <a:prstGeom prst="wedgeRoundRectCallout">
            <a:avLst>
              <a:gd name="adj1" fmla="val -31361"/>
              <a:gd name="adj2" fmla="val -89953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第二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0" y="1125360"/>
            <a:ext cx="1262160" cy="671760"/>
          </a:xfrm>
          <a:prstGeom prst="wedgeRoundRectCallout">
            <a:avLst>
              <a:gd name="adj1" fmla="val 120689"/>
              <a:gd name="adj2" fmla="val 174587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充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%E9%92%9F2.wav"/>
      </p:stSnd>
    </p:sndAc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Arial"/>
                <a:ea typeface="黑体"/>
              </a:rPr>
              <a:t>难句翻译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夫战，勇气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作战，要靠勇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打仗，是靠勇气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打仗，靠的是勇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%E9%92%9F2.wav"/>
      </p:stSnd>
    </p:sndAc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0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5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98984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　　夫大国，难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测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也，惧有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伏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焉。吾视其辙乱，望其旗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靡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，故逐之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0920" y="3429000"/>
            <a:ext cx="806292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　　齐国是大国，难以预测，怕的是有埋伏。我发现他们的车印混乱，望见他们的旗帜也倒下了，所以才下令追击他们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4572000" y="260280"/>
            <a:ext cx="1262160" cy="671760"/>
          </a:xfrm>
          <a:prstGeom prst="wedgeRoundRectCallout">
            <a:avLst>
              <a:gd name="adj1" fmla="val -56416"/>
              <a:gd name="adj2" fmla="val 230143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倒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%E9%92%9F2.wav"/>
      </p:stSnd>
    </p:sndAc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0" y="404640"/>
            <a:ext cx="885672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注意归纳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: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说出下列词的古今异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古义                今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牺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狱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692360" y="1773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4716360" y="1700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隔开，不连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763640" y="2492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可以凭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643280" y="2492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表示可能、许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600200" y="38862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祭祀用的猪牛羊等祭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4716360" y="3645000"/>
            <a:ext cx="327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为正义事业舍生，引申为丢弃某种利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1835280" y="537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案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4876920" y="5410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监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3"/>
          <p:cNvSpPr/>
          <p:nvPr/>
        </p:nvSpPr>
        <p:spPr>
          <a:xfrm>
            <a:off x="0" y="50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0" y="5300640"/>
            <a:ext cx="9144000" cy="0"/>
          </a:xfrm>
          <a:prstGeom prst="line">
            <a:avLst/>
          </a:prstGeom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5"/>
          <p:cNvSpPr/>
          <p:nvPr/>
        </p:nvSpPr>
        <p:spPr>
          <a:xfrm>
            <a:off x="4500720" y="1052640"/>
            <a:ext cx="0" cy="5256000"/>
          </a:xfrm>
          <a:prstGeom prst="line">
            <a:avLst/>
          </a:prstGeom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6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1258920" y="1125360"/>
            <a:ext cx="0" cy="518328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9" descr="shu5"/>
          <p:cNvPicPr/>
          <p:nvPr/>
        </p:nvPicPr>
        <p:blipFill>
          <a:blip r:embed="rId1"/>
          <a:stretch/>
        </p:blipFill>
        <p:spPr>
          <a:xfrm>
            <a:off x="7164360" y="189000"/>
            <a:ext cx="1325520" cy="1125360"/>
          </a:xfrm>
          <a:prstGeom prst="rect">
            <a:avLst/>
          </a:prstGeom>
          <a:ln w="0">
            <a:noFill/>
          </a:ln>
        </p:spPr>
      </p:pic>
      <p:sp>
        <p:nvSpPr>
          <p:cNvPr id="248" name="Line 20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84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312480" y="1752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8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8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1403280" y="3330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古今词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539640" y="1056960"/>
            <a:ext cx="5112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伐  齐师伐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今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间  又何间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今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2340000" y="2205000"/>
            <a:ext cx="30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攻打、讨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268360" y="3141720"/>
            <a:ext cx="2159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砍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2268360" y="4869000"/>
            <a:ext cx="2016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参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2195640" y="5734080"/>
            <a:ext cx="1763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中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611280" y="408960"/>
            <a:ext cx="4248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鄙  肉食者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今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牺牲  牺牲玉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今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411280" y="1628640"/>
            <a:ext cx="407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鄙陋，目光短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2340000" y="2492280"/>
            <a:ext cx="2087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卑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2340000" y="4221000"/>
            <a:ext cx="502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指猪、牛、羊等祭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2374920" y="5013360"/>
            <a:ext cx="565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为了正义的目的舍弃自己的生命或利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8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8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8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755640" y="497880"/>
            <a:ext cx="395928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加  弗敢加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今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信  必以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今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2340000" y="1628640"/>
            <a:ext cx="4822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虚报，以少报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2411280" y="2500200"/>
            <a:ext cx="2460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增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2411280" y="4227480"/>
            <a:ext cx="3462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实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2411280" y="5157720"/>
            <a:ext cx="1847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书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900000" y="728280"/>
            <a:ext cx="403236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狱  小大之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今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虽  虽不能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今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2484360" y="1844640"/>
            <a:ext cx="2205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案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2556000" y="2716200"/>
            <a:ext cx="1749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监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2556000" y="4508640"/>
            <a:ext cx="180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即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2556000" y="5373720"/>
            <a:ext cx="187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虽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826920" y="553680"/>
            <a:ext cx="395928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再  再而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今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忠  忠之属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今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2411280" y="1700280"/>
            <a:ext cx="219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二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2411280" y="2565360"/>
            <a:ext cx="5559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表示事情或行为重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2484360" y="4292640"/>
            <a:ext cx="4646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尽力做本分的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2556000" y="5229360"/>
            <a:ext cx="1717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忠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26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451640" y="6356520"/>
            <a:ext cx="1692360" cy="50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622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关于历史散文体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50920" y="620640"/>
            <a:ext cx="864216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历史散文也称史传文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它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国别、编年、纪传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体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国别体：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通过各国史事个别独立地排列载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以完成对某一历史进程的叙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国别体史书有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国语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战国策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》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.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国语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是以记言为主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兼及记事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;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战国策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是以记事为主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年体：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即以时间为经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以事件为纬来叙写史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它的优点是线索清楚、背景明确、系统性较好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;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不足是不便于集中而广泛地描写人物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.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春秋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左传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资治通鉴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都是编年体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纪传体：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即以人物为中心叙写历史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为司马迁所独创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古代官方编辑的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二十四史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用的都是纪传体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这种体例对后世影响很大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1187280" y="62028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词性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324000" y="1616760"/>
            <a:ext cx="324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神弗福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公将鼓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1547640" y="2565360"/>
            <a:ext cx="7824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福，名词用为动词，赐福 保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1476360" y="5300640"/>
            <a:ext cx="684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鼓，名词用为动词。击鼓进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26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451640" y="6356520"/>
            <a:ext cx="1692360" cy="50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755640" y="25992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词多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611280" y="722880"/>
            <a:ext cx="352728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曹刿请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战则请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战则请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民弗从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公问其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故克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3276720" y="1484280"/>
            <a:ext cx="1876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请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3276720" y="2133720"/>
            <a:ext cx="2284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请让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276720" y="3435480"/>
            <a:ext cx="1871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跟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276720" y="4114800"/>
            <a:ext cx="21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服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3276720" y="5445000"/>
            <a:ext cx="3555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缘故、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3270240" y="6093000"/>
            <a:ext cx="1733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所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0" descr="26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451640" y="6356520"/>
            <a:ext cx="1692360" cy="50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8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8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8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8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1116000" y="333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虚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468360" y="1147680"/>
            <a:ext cx="34560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何以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必以分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肉食者谋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大之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公与之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2771640" y="1989000"/>
            <a:ext cx="1020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048120" y="2743200"/>
            <a:ext cx="981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3564000" y="4149720"/>
            <a:ext cx="4403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代词，指这件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564000" y="4875120"/>
            <a:ext cx="2693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助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3564000" y="5516640"/>
            <a:ext cx="414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代词他，指曹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9" descr="26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451640" y="6356520"/>
            <a:ext cx="1692360" cy="50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900000" y="1882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句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250920" y="872640"/>
            <a:ext cx="4248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判断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夫战，勇气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省略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再而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倒装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何以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3708360" y="1995480"/>
            <a:ext cx="543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作战（是靠）勇气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2340000" y="3606840"/>
            <a:ext cx="6443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二次（击鼓进军）（士气）衰弱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2556000" y="5524560"/>
            <a:ext cx="3795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凭借什么作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26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451640" y="6356520"/>
            <a:ext cx="1692360" cy="50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1143000" y="0"/>
            <a:ext cx="4952880" cy="69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9999"/>
                </a:solidFill>
                <a:latin typeface="黑体"/>
                <a:ea typeface="黑体"/>
              </a:rPr>
              <a:t>、辨析古今异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en-US" sz="3600" spc="-1" strike="noStrike">
                <a:solidFill>
                  <a:srgbClr val="c8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牺牲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玉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1" lang="en-US" sz="3600" spc="-1" strike="noStrike">
                <a:solidFill>
                  <a:srgbClr val="0099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大之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5)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必以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6)</a:t>
            </a:r>
            <a:r>
              <a:rPr b="1" lang="en-US" sz="3600" spc="-1" strike="noStrike">
                <a:solidFill>
                  <a:srgbClr val="0099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属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7)</a:t>
            </a:r>
            <a:r>
              <a:rPr b="1" lang="en-US" sz="3600" spc="-1" strike="noStrike">
                <a:solidFill>
                  <a:srgbClr val="0000aa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可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886200" y="7621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4191120" y="10666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今义：为正义事业献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4191120" y="5335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古义：</a:t>
            </a:r>
            <a:r>
              <a:rPr b="1" lang="zh-CN" sz="3200" spc="-1" strike="noStrike">
                <a:solidFill>
                  <a:srgbClr val="0000aa"/>
                </a:solidFill>
                <a:latin typeface="黑体"/>
                <a:ea typeface="黑体"/>
              </a:rPr>
              <a:t>祭祀用的祭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3886200" y="182880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3505320" y="30481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8"/>
          <p:cNvSpPr/>
          <p:nvPr/>
        </p:nvSpPr>
        <p:spPr>
          <a:xfrm>
            <a:off x="3886200" y="41911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9"/>
          <p:cNvSpPr/>
          <p:nvPr/>
        </p:nvSpPr>
        <p:spPr>
          <a:xfrm>
            <a:off x="3962520" y="53341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4114800" y="17524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古义：</a:t>
            </a:r>
            <a:r>
              <a:rPr b="1" lang="zh-CN" sz="3200" spc="-1" strike="noStrike">
                <a:solidFill>
                  <a:srgbClr val="0000aa"/>
                </a:solidFill>
                <a:latin typeface="黑体"/>
                <a:ea typeface="黑体"/>
              </a:rPr>
              <a:t>案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3581280" y="28954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古义：</a:t>
            </a:r>
            <a:r>
              <a:rPr b="1" lang="zh-CN" sz="3200" spc="-1" strike="noStrike">
                <a:solidFill>
                  <a:srgbClr val="0000aa"/>
                </a:solidFill>
                <a:latin typeface="黑体"/>
                <a:ea typeface="黑体"/>
              </a:rPr>
              <a:t>实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4114800" y="4038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古义：</a:t>
            </a:r>
            <a:r>
              <a:rPr b="1" lang="zh-CN" sz="3200" spc="-1" strike="noStrike">
                <a:solidFill>
                  <a:srgbClr val="0000aa"/>
                </a:solidFill>
                <a:latin typeface="黑体"/>
                <a:ea typeface="黑体"/>
              </a:rPr>
              <a:t>尽力做好本分的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4267080" y="5181480"/>
            <a:ext cx="570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古义：</a:t>
            </a:r>
            <a:r>
              <a:rPr b="1" lang="zh-CN" sz="3200" spc="-1" strike="noStrike">
                <a:solidFill>
                  <a:srgbClr val="0000aa"/>
                </a:solidFill>
                <a:latin typeface="黑体"/>
                <a:ea typeface="黑体"/>
              </a:rPr>
              <a:t>可以凭借</a:t>
            </a:r>
            <a:r>
              <a:rPr b="1" lang="zh-CN" sz="3200" spc="-1" strike="noStrike">
                <a:solidFill>
                  <a:srgbClr val="c80000"/>
                </a:solidFill>
                <a:latin typeface="黑体"/>
                <a:ea typeface="黑体"/>
              </a:rPr>
              <a:t>（两个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4114800" y="22860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今义：监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3581280" y="34290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今义：感情、情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4114800" y="46483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今义：忠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"/>
          <p:cNvSpPr/>
          <p:nvPr/>
        </p:nvSpPr>
        <p:spPr>
          <a:xfrm>
            <a:off x="4267080" y="5715000"/>
            <a:ext cx="59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今义：表示同意（一个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8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61" h="21600">
                <a:moveTo>
                  <a:pt x="14986" y="14281"/>
                </a:moveTo>
                <a:lnTo>
                  <a:pt x="14986" y="12323"/>
                </a:lnTo>
                <a:cubicBezTo>
                  <a:pt x="14986" y="11496"/>
                  <a:pt x="15317" y="10800"/>
                  <a:pt x="15917" y="10800"/>
                </a:cubicBezTo>
                <a:cubicBezTo>
                  <a:pt x="17049" y="10800"/>
                  <a:pt x="17945" y="9434"/>
                  <a:pt x="17945" y="7849"/>
                </a:cubicBezTo>
                <a:cubicBezTo>
                  <a:pt x="17945" y="5534"/>
                  <a:pt x="16091" y="3794"/>
                  <a:pt x="13881" y="3794"/>
                </a:cubicBezTo>
                <a:cubicBezTo>
                  <a:pt x="11670" y="3794"/>
                  <a:pt x="9999" y="5534"/>
                  <a:pt x="9999" y="7849"/>
                </a:cubicBezTo>
                <a:lnTo>
                  <a:pt x="11853" y="7849"/>
                </a:lnTo>
                <a:cubicBezTo>
                  <a:pt x="11853" y="6709"/>
                  <a:pt x="12775" y="5821"/>
                  <a:pt x="13881" y="5821"/>
                </a:cubicBezTo>
                <a:cubicBezTo>
                  <a:pt x="14986" y="5821"/>
                  <a:pt x="15917" y="6709"/>
                  <a:pt x="15917" y="7849"/>
                </a:cubicBezTo>
                <a:cubicBezTo>
                  <a:pt x="15917" y="8589"/>
                  <a:pt x="15447" y="9320"/>
                  <a:pt x="14986" y="9320"/>
                </a:cubicBezTo>
                <a:cubicBezTo>
                  <a:pt x="13881" y="9320"/>
                  <a:pt x="12775" y="10800"/>
                  <a:pt x="12775" y="12323"/>
                </a:cubicBezTo>
                <a:lnTo>
                  <a:pt x="12775" y="1428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"/>
          <p:cNvSpPr/>
          <p:nvPr/>
        </p:nvSpPr>
        <p:spPr>
          <a:xfrm>
            <a:off x="1332000" y="1988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惠未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87280" y="765000"/>
            <a:ext cx="25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通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1619280" y="3357720"/>
            <a:ext cx="460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徧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，遍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26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451640" y="6356520"/>
            <a:ext cx="1692360" cy="50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省略句式理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鼓作气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再而衰，三而竭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0" y="1295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再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鼓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衰，三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鼓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0" y="2057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忠之属也，</a:t>
            </a: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可以一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52280" y="2666880"/>
            <a:ext cx="797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可以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之（这个条件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0" y="3505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衣食所安，弗敢专也，</a:t>
            </a: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必以分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必以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之（衣食这类养生的东西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304920" y="0"/>
            <a:ext cx="8839080" cy="63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结构层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一、写鲁国战前的政治准备。（详写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曹刿跟乡人的对话，说明曹刿请见的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曹刿跟鲁庄公的对话，说明政治上取信于民是作战的先决条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二、叙述长勺之战的全过程。（略写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三、曹刿论述鲁国取胜的原因。（详写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论述反攻敌人的有利时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论述追击敌人的有利时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250920" y="333360"/>
            <a:ext cx="858816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第一段哪句问话反映了曹刿有远见卓识？哪句话体现了他的政治主张？政治主张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从两人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对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可以看出庄公把战胜的希望寄托在什么上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268360" y="2549520"/>
            <a:ext cx="3827520" cy="642600"/>
          </a:xfrm>
          <a:prstGeom prst="rect">
            <a:avLst/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何以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324000" y="3448080"/>
            <a:ext cx="4679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小大之狱，虽不能察，必以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5292720" y="3952800"/>
            <a:ext cx="576360" cy="71640"/>
          </a:xfrm>
          <a:custGeom>
            <a:avLst/>
            <a:gdLst>
              <a:gd name="textAreaLeft" fmla="*/ 72000 w 576360"/>
              <a:gd name="textAreaRight" fmla="*/ 504360 w 576360"/>
              <a:gd name="textAreaTop" fmla="*/ 18000 h 71640"/>
              <a:gd name="textAreaBottom" fmla="*/ 54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6084720" y="3808440"/>
            <a:ext cx="2124360" cy="64260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取信于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2343600" y="59436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把战争寄托在近臣和神灵身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5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755640" y="45482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971640" y="31798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468360" y="692280"/>
            <a:ext cx="71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忠之属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指的是哪一类事情？表现了曹刿什么样的战略思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4427640" y="765000"/>
            <a:ext cx="4392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1763640" y="1628640"/>
            <a:ext cx="640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684360" y="19605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小大之狱，虽不能察，必以情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1042920" y="26352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取信于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539640" y="32846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根据第一段课文说说庄公和曹刿分别是什么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1042920" y="5013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热爱国家、深谋远虑、重视人民的力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1116000" y="43657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目光短浅，勇于纳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be0e3"/>
                </a:solidFill>
                <a:latin typeface="黑体"/>
                <a:ea typeface="黑体"/>
              </a:rPr>
              <a:t>解题：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曹刿是什么人物？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是什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0920" y="2276280"/>
            <a:ext cx="784692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也叫曹沫，春秋时代鲁国大夫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他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论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的是齐鲁长勺之战</a:t>
            </a:r>
            <a:r>
              <a:rPr b="1" lang="en-US" sz="4000" spc="-1" strike="noStrike">
                <a:solidFill>
                  <a:srgbClr val="333399"/>
                </a:solidFill>
                <a:latin typeface="宋体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春秋时代以弱胜强的三大战役之一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齐鲁长勺之战（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8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） 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晋楚城濮之战（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）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秦晋崤之战  （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%E9%92%9F2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250920" y="763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讨论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ef0346"/>
                </a:solidFill>
                <a:latin typeface="黑体"/>
                <a:ea typeface="黑体"/>
              </a:rPr>
              <a:t>第二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1996200" y="80316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段中可以看出曹刿是怎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2363400" y="152388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临阵从容，胸有成竹，有卓越的军事才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24000" y="2133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讨论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ef0346"/>
                </a:solidFill>
                <a:latin typeface="黑体"/>
                <a:ea typeface="黑体"/>
              </a:rPr>
              <a:t>第三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283920" y="2750760"/>
            <a:ext cx="12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曹刿认为取胜的原因有哪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539640" y="40665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用文中语句回答：进攻时的最佳战机什么时候？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辙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旗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怎么发现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1287000" y="5334120"/>
            <a:ext cx="234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f0346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ef0346"/>
                </a:solidFill>
                <a:latin typeface="黑体"/>
                <a:ea typeface="黑体"/>
              </a:rPr>
              <a:t>彼竭我盈</a:t>
            </a:r>
            <a:r>
              <a:rPr b="1" lang="zh-CN" sz="3600" spc="-1" strike="noStrike">
                <a:solidFill>
                  <a:srgbClr val="ef0346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ef0346"/>
                </a:solidFill>
                <a:latin typeface="黑体"/>
                <a:ea typeface="黑体"/>
              </a:rPr>
              <a:t>之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4800600" y="5181480"/>
            <a:ext cx="37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f0346"/>
                </a:solidFill>
                <a:latin typeface="黑体"/>
                <a:ea typeface="黑体"/>
              </a:rPr>
              <a:t>下视其辙，登轼而望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8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9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0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3"/>
          <p:cNvSpPr/>
          <p:nvPr/>
        </p:nvSpPr>
        <p:spPr>
          <a:xfrm>
            <a:off x="1050840" y="0"/>
            <a:ext cx="63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围绕着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论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字，在战争的前前后后，曹刿做了什么分析？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971640" y="1628640"/>
            <a:ext cx="91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战争胜利的因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1491840" y="3675600"/>
            <a:ext cx="521640" cy="38448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 flipV="1">
            <a:off x="1545840" y="2587680"/>
            <a:ext cx="597600" cy="27828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2130480" y="1747800"/>
            <a:ext cx="201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战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因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2050920" y="3817800"/>
            <a:ext cx="194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战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因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/>
          <p:cNvSpPr/>
          <p:nvPr/>
        </p:nvSpPr>
        <p:spPr>
          <a:xfrm>
            <a:off x="3220920" y="2133720"/>
            <a:ext cx="304920" cy="792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/>
          <p:cNvSpPr/>
          <p:nvPr/>
        </p:nvSpPr>
        <p:spPr>
          <a:xfrm>
            <a:off x="3191040" y="3995640"/>
            <a:ext cx="304560" cy="1008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WordArt 11" descr=""/>
          <p:cNvPicPr/>
          <p:nvPr/>
        </p:nvPicPr>
        <p:blipFill>
          <a:blip r:embed="rId1"/>
          <a:stretch/>
        </p:blipFill>
        <p:spPr>
          <a:xfrm>
            <a:off x="-165240" y="2523960"/>
            <a:ext cx="1371600" cy="253548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2"/>
          <p:cNvSpPr/>
          <p:nvPr/>
        </p:nvSpPr>
        <p:spPr>
          <a:xfrm>
            <a:off x="3448080" y="1844640"/>
            <a:ext cx="52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政治准备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----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取信于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3510000" y="2421000"/>
            <a:ext cx="49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有利阵地</a:t>
            </a:r>
            <a:r>
              <a:rPr b="1" lang="en-US" sz="3600" spc="-1" strike="noStrike">
                <a:solidFill>
                  <a:srgbClr val="ff66ff"/>
                </a:solidFill>
                <a:latin typeface="黑体"/>
                <a:ea typeface="黑体"/>
              </a:rPr>
              <a:t>----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战于长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3551400" y="3852720"/>
            <a:ext cx="47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反攻时机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----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彼竭我盈</a:t>
            </a:r>
            <a:r>
              <a:rPr b="1" lang="zh-CN" sz="3600" spc="-1" strike="noStrike">
                <a:solidFill>
                  <a:srgbClr val="ff66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3551400" y="4429080"/>
            <a:ext cx="51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追击时机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----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辙乱旗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6"/>
          <p:cNvSpPr/>
          <p:nvPr/>
        </p:nvSpPr>
        <p:spPr>
          <a:xfrm>
            <a:off x="8167680" y="6372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0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3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3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3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3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4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3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3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3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3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162000" y="1411200"/>
            <a:ext cx="91440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战前的政治准备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取信于民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抓住进攻的时机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——“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彼竭我盈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之时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抓住追击的时机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——“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辙乱旗靡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之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（军事上抓住时机、后发制人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1961640" y="539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以弱胜强的原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guqi_s4"/>
          <p:cNvPicPr/>
          <p:nvPr/>
        </p:nvPicPr>
        <p:blipFill>
          <a:blip r:embed="rId1"/>
          <a:stretch/>
        </p:blipFill>
        <p:spPr>
          <a:xfrm>
            <a:off x="7667640" y="5788080"/>
            <a:ext cx="1476360" cy="1069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%E9%92%9F2.wav"/>
      </p:stSnd>
    </p:sndAc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8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3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8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3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685800" y="3049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内容小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68360" y="90792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课文中指出了战前的政治准备－－，叙述了利于转入反攻的阵地－－ ，叙述了利于反攻的时机－－    之时，叙述了追击开始的时机－－                 之时。这次战役，采取了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敌疲我打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的方针，成为中国战史中弱军战胜强军的有名战例。长勺之战表现了曹刿政治上的           和军事上      ，说明必须       ，运用正确的          ，并掌握       ，才能取得战争胜利的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"/>
          <p:cNvSpPr/>
          <p:nvPr/>
        </p:nvSpPr>
        <p:spPr>
          <a:xfrm>
            <a:off x="6804000" y="1341360"/>
            <a:ext cx="137160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5"/>
          <p:cNvSpPr/>
          <p:nvPr/>
        </p:nvSpPr>
        <p:spPr>
          <a:xfrm>
            <a:off x="6372360" y="1916280"/>
            <a:ext cx="99036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>
            <a:off x="4859280" y="2421000"/>
            <a:ext cx="137160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"/>
          <p:cNvSpPr/>
          <p:nvPr/>
        </p:nvSpPr>
        <p:spPr>
          <a:xfrm>
            <a:off x="3059280" y="4365720"/>
            <a:ext cx="152388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7020000" y="4365720"/>
            <a:ext cx="121896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1619280" y="5445000"/>
            <a:ext cx="76212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0"/>
          <p:cNvSpPr/>
          <p:nvPr/>
        </p:nvSpPr>
        <p:spPr>
          <a:xfrm>
            <a:off x="4500720" y="2924280"/>
            <a:ext cx="137160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6504120" y="900000"/>
            <a:ext cx="26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取信于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4800600" y="1676520"/>
            <a:ext cx="1143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5824440" y="1444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长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4"/>
          <p:cNvSpPr/>
          <p:nvPr/>
        </p:nvSpPr>
        <p:spPr>
          <a:xfrm>
            <a:off x="3706920" y="2108160"/>
            <a:ext cx="23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彼竭我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4048200" y="2676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辙乱旗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1449360" y="46306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远见卓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5388120" y="4794120"/>
            <a:ext cx="37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杰出才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8"/>
          <p:cNvSpPr/>
          <p:nvPr/>
        </p:nvSpPr>
        <p:spPr>
          <a:xfrm>
            <a:off x="1065240" y="5346720"/>
            <a:ext cx="29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取信于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9"/>
          <p:cNvSpPr/>
          <p:nvPr/>
        </p:nvSpPr>
        <p:spPr>
          <a:xfrm>
            <a:off x="5321160" y="5351400"/>
            <a:ext cx="28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战略战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0"/>
          <p:cNvSpPr/>
          <p:nvPr/>
        </p:nvSpPr>
        <p:spPr>
          <a:xfrm>
            <a:off x="1560600" y="5978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战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1"/>
          <p:cNvSpPr/>
          <p:nvPr/>
        </p:nvSpPr>
        <p:spPr>
          <a:xfrm>
            <a:off x="2340000" y="4869000"/>
            <a:ext cx="137160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22"/>
          <p:cNvSpPr/>
          <p:nvPr/>
        </p:nvSpPr>
        <p:spPr>
          <a:xfrm>
            <a:off x="6443640" y="4869000"/>
            <a:ext cx="1371600" cy="0"/>
          </a:xfrm>
          <a:prstGeom prst="line">
            <a:avLst/>
          </a:prstGeom>
          <a:ln w="158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533520" y="620640"/>
            <a:ext cx="84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归纳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: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曹刿、鲁庄公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这两个人物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539640" y="1628640"/>
            <a:ext cx="8326440" cy="253188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曹刿</a:t>
            </a:r>
            <a:r>
              <a:rPr b="1" i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：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在政治上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取信于民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在军事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善于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把握战机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详察敌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具有爱国精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533520" y="4419720"/>
            <a:ext cx="7308720" cy="1922400"/>
          </a:xfrm>
          <a:prstGeom prst="rect">
            <a:avLst/>
          </a:prstGeom>
          <a:noFill/>
          <a:ln cap="rnd" w="5724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庄公</a:t>
            </a:r>
            <a:r>
              <a:rPr b="1" i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：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在政治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昏庸无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在军事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急躁冒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但能勇于纳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7620120" y="2286000"/>
            <a:ext cx="1224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f0346"/>
                </a:solidFill>
                <a:latin typeface="黑体"/>
                <a:ea typeface="黑体"/>
              </a:rPr>
              <a:t>（远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6"/>
          <p:cNvSpPr/>
          <p:nvPr/>
        </p:nvSpPr>
        <p:spPr>
          <a:xfrm>
            <a:off x="7696080" y="4419720"/>
            <a:ext cx="129708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鄙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7979400" y="3408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 rot="16200000">
            <a:off x="8036640" y="3918600"/>
            <a:ext cx="532080" cy="486000"/>
          </a:xfrm>
          <a:custGeom>
            <a:avLst/>
            <a:gdLst>
              <a:gd name="textAreaLeft" fmla="*/ 66240 w 532080"/>
              <a:gd name="textAreaRight" fmla="*/ 465840 w 53208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9"/>
          <p:cNvSpPr/>
          <p:nvPr/>
        </p:nvSpPr>
        <p:spPr>
          <a:xfrm rot="5400000">
            <a:off x="7986600" y="2968560"/>
            <a:ext cx="587520" cy="486000"/>
          </a:xfrm>
          <a:custGeom>
            <a:avLst/>
            <a:gdLst>
              <a:gd name="textAreaLeft" fmla="*/ 73440 w 587520"/>
              <a:gd name="textAreaRight" fmla="*/ 514080 w 5875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6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nodeType="clickEffect" fill="hold">
                      <p:stCondLst>
                        <p:cond delay="indefinite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nodeType="clickEffect" fill="hold">
                      <p:stCondLst>
                        <p:cond delay="indefinite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0" y="-76680"/>
            <a:ext cx="701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二、归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179280" y="9907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文论述了必须取信于民并运用正确的战略战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掌握战机、详察敌情才能取得战争胜利的道理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179280" y="3352680"/>
            <a:ext cx="8433000" cy="119124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章围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论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来组织材料，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详略得当，重点突出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虽写战争，但战争的过程写得十分简略，紧扣曹刿这一人物，运用对话来写论作战前的政治准备及战胜齐国的原因，重点突出，中心明确，详略得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0" y="380880"/>
            <a:ext cx="259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主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0" y="2743200"/>
            <a:ext cx="38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写作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306360" y="2592360"/>
            <a:ext cx="808344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运用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对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手法，把鲁庄公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曹刿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远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进行对比，突出曹刿政治上的远见卓识与军事上的卓越才能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26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451640" y="6356520"/>
            <a:ext cx="1692360" cy="50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404640"/>
            <a:ext cx="39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成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0" y="139392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鼓作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76320" y="282564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彼竭我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250920" y="489096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辙乱旗靡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2771640" y="119700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比喻趁劲头大的时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鼓起干劲一口气把工作做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2700360" y="2565360"/>
            <a:ext cx="63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彼：他，对方；竭：尽；盈：充满。他们的勇气已丧失，我们的士气正旺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2843280" y="472428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辙：车辙；靡：倒下。车辙错乱，旗子倒下。形容军队溃败逃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0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1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2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nodeType="clickEffect" fill="hold">
                      <p:stCondLst>
                        <p:cond delay="indefinite"/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7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8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9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ff"/>
                </a:solidFill>
                <a:latin typeface="黑体"/>
                <a:ea typeface="黑体"/>
              </a:rPr>
              <a:t>一、本文线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0" y="274284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事件发展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战前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战中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战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曹刿活动 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请见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参战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论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2606760" y="22860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00"/>
                </a:solidFill>
                <a:latin typeface="黑体"/>
                <a:ea typeface="黑体"/>
              </a:rPr>
              <a:t>文章内容理解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5" descr="QT_041"/>
          <p:cNvPicPr/>
          <p:nvPr/>
        </p:nvPicPr>
        <p:blipFill>
          <a:blip r:embed="rId1"/>
          <a:stretch/>
        </p:blipFill>
        <p:spPr>
          <a:xfrm>
            <a:off x="0" y="1522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QT_041"/>
          <p:cNvPicPr/>
          <p:nvPr/>
        </p:nvPicPr>
        <p:blipFill>
          <a:blip r:embed="rId2"/>
          <a:stretch/>
        </p:blipFill>
        <p:spPr>
          <a:xfrm>
            <a:off x="8077320" y="2286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20" dur="indefinite" restart="never" nodeType="tmRoot">
          <p:childTnLst>
            <p:seq>
              <p:cTn id="1521" dur="indefinite" nodeType="mainSeq">
                <p:childTnLst>
                  <p:par>
                    <p:cTn id="1522" nodeType="clickEffect" fill="hold">
                      <p:stCondLst>
                        <p:cond delay="indefinite"/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-360" y="1676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黑体"/>
                <a:ea typeface="黑体"/>
              </a:rPr>
              <a:t>二、鲁国取胜的原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0" y="320040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、政治上：取信于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、军事上：正确的指挥和灵活的战略战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2683080" y="22860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00"/>
                </a:solidFill>
                <a:latin typeface="黑体"/>
                <a:ea typeface="黑体"/>
              </a:rPr>
              <a:t>文章内容理解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5" descr="QT_041"/>
          <p:cNvPicPr/>
          <p:nvPr/>
        </p:nvPicPr>
        <p:blipFill>
          <a:blip r:embed="rId1"/>
          <a:stretch/>
        </p:blipFill>
        <p:spPr>
          <a:xfrm>
            <a:off x="0" y="1522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QT_041"/>
          <p:cNvPicPr/>
          <p:nvPr/>
        </p:nvPicPr>
        <p:blipFill>
          <a:blip r:embed="rId2"/>
          <a:stretch/>
        </p:blipFill>
        <p:spPr>
          <a:xfrm>
            <a:off x="8077320" y="2286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46" dur="indefinite" restart="never" nodeType="tmRoot">
          <p:childTnLst>
            <p:seq>
              <p:cTn id="1547" dur="indefinite" nodeType="mainSeq">
                <p:childTnLst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nodeType="clickEffect" fill="hold">
                      <p:stCondLst>
                        <p:cond delay="indefinite"/>
                      </p:stCondLst>
                      <p:childTnLst>
                        <p:par>
                          <p:cTn id="1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95280" y="-221184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660066"/>
              </a:solidFill>
              <a:latin typeface="黑体"/>
              <a:ea typeface="黑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7308720" cy="23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读准字音，声音响亮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把握朗读节奏和停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读出不同人物的语气。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79280" y="3357720"/>
            <a:ext cx="896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凡读书，须要读得字字响亮，不可误一字，不可少一字，不可多一字，不可倒一字，多诵数遍，自然上口，久远不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               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（宋） 朱 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朱熹"/>
          <p:cNvPicPr/>
          <p:nvPr/>
        </p:nvPicPr>
        <p:blipFill>
          <a:blip r:embed="rId1"/>
          <a:stretch/>
        </p:blipFill>
        <p:spPr>
          <a:xfrm>
            <a:off x="6627960" y="189000"/>
            <a:ext cx="2516040" cy="3311280"/>
          </a:xfrm>
          <a:prstGeom prst="rect">
            <a:avLst/>
          </a:prstGeom>
          <a:ln w="0">
            <a:noFill/>
          </a:ln>
        </p:spPr>
      </p:pic>
      <p:sp>
        <p:nvSpPr>
          <p:cNvPr id="60" name="WordArt 7"/>
          <p:cNvSpPr txBox="1"/>
          <p:nvPr/>
        </p:nvSpPr>
        <p:spPr>
          <a:xfrm>
            <a:off x="1835280" y="189000"/>
            <a:ext cx="4260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朗读课文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1" name="zmj-2599-7797.mp3" descr=""/>
          <p:cNvPicPr/>
          <p:nvPr/>
        </p:nvPicPr>
        <p:blipFill>
          <a:blip r:embed="rId4"/>
          <a:stretch/>
        </p:blipFill>
        <p:spPr>
          <a:xfrm>
            <a:off x="8513640" y="6354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2929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黑体"/>
                <a:ea typeface="黑体"/>
              </a:rPr>
              <a:t>三、详略安排原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-360" y="4419360"/>
            <a:ext cx="89154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战前论战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详写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从战克敌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略写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战后论战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详写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QT_041"/>
          <p:cNvPicPr/>
          <p:nvPr/>
        </p:nvPicPr>
        <p:blipFill>
          <a:blip r:embed="rId1"/>
          <a:stretch/>
        </p:blipFill>
        <p:spPr>
          <a:xfrm>
            <a:off x="0" y="1522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QT_041"/>
          <p:cNvPicPr/>
          <p:nvPr/>
        </p:nvPicPr>
        <p:blipFill>
          <a:blip r:embed="rId2"/>
          <a:stretch/>
        </p:blipFill>
        <p:spPr>
          <a:xfrm>
            <a:off x="807732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6"/>
          <p:cNvSpPr/>
          <p:nvPr/>
        </p:nvSpPr>
        <p:spPr>
          <a:xfrm>
            <a:off x="0" y="2637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有利于展现曹刿形象，突出文章中心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2606760" y="30492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00"/>
                </a:solidFill>
                <a:latin typeface="黑体"/>
                <a:ea typeface="黑体"/>
              </a:rPr>
              <a:t>文章内容理解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00"/>
                </a:solidFill>
                <a:latin typeface="黑体"/>
                <a:ea typeface="黑体"/>
              </a:rPr>
              <a:t>文章内容理解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黑体"/>
                <a:ea typeface="黑体"/>
              </a:rPr>
              <a:t>四、人物形象分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0" y="22096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以国事为重，深谋远虑，有卓越的军事才能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0" y="38098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政治上平庸，不懂军事，但善于纳谏，能用贤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0" y="571500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黑体"/>
                <a:ea typeface="黑体"/>
              </a:rPr>
              <a:t>写作手法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3505320" y="57150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对比    衬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0" y="22096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黑体"/>
                <a:ea typeface="黑体"/>
              </a:rPr>
              <a:t>曹刿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1"/>
          <p:cNvSpPr/>
          <p:nvPr/>
        </p:nvSpPr>
        <p:spPr>
          <a:xfrm>
            <a:off x="0" y="373392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黑体"/>
                <a:ea typeface="黑体"/>
              </a:rPr>
              <a:t>庄公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nodeType="clickEffect" fill="hold">
                      <p:stCondLst>
                        <p:cond delay="indefinite"/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nodeType="clickEffect" fill="hold">
                      <p:stCondLst>
                        <p:cond delay="indefinite"/>
                      </p:stCondLst>
                      <p:childTnLst>
                        <p:par>
                          <p:cTn id="1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delay="indefinite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00"/>
                </a:solidFill>
                <a:latin typeface="黑体"/>
                <a:ea typeface="黑体"/>
              </a:rPr>
              <a:t>文章内容理解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黑体"/>
                <a:ea typeface="黑体"/>
              </a:rPr>
              <a:t>五、本文语言特色：精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0" y="3048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将鼓、将驰    庄公：急躁冒进、急功近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0" y="426708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请见            国难当头，挺身而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曹刿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未可、可矣          从容镇定、胸有成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2592360" y="43434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黑体"/>
                <a:ea typeface="黑体"/>
              </a:rPr>
              <a:t>｝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3666600" y="4343400"/>
            <a:ext cx="11181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300" spc="-1" strike="noStrike">
                <a:solidFill>
                  <a:srgbClr val="ff0066"/>
                </a:solidFill>
                <a:latin typeface="黑体"/>
                <a:ea typeface="黑体"/>
              </a:rPr>
              <a:t>｛</a:t>
            </a: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4" dur="indefinite" restart="never" nodeType="tmRoot">
          <p:childTnLst>
            <p:seq>
              <p:cTn id="1625" dur="indefinite" nodeType="mainSeq">
                <p:childTnLst>
                  <p:par>
                    <p:cTn id="1626" nodeType="clickEffect" fill="hold">
                      <p:stCondLst>
                        <p:cond delay="indefinite"/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小大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之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用法相同的一项是：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78850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、肉食者谋</a:t>
            </a:r>
            <a:r>
              <a:rPr b="1" lang="zh-CN" sz="6600" spc="-1" strike="noStrike">
                <a:solidFill>
                  <a:srgbClr val="ff0066"/>
                </a:solidFill>
                <a:latin typeface="黑体"/>
                <a:ea typeface="黑体"/>
              </a:rPr>
              <a:t>之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、忠</a:t>
            </a:r>
            <a:r>
              <a:rPr b="1" lang="zh-CN" sz="6600" spc="-1" strike="noStrike">
                <a:solidFill>
                  <a:srgbClr val="ff0066"/>
                </a:solidFill>
                <a:latin typeface="黑体"/>
                <a:ea typeface="黑体"/>
              </a:rPr>
              <a:t>之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属也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、公与</a:t>
            </a:r>
            <a:r>
              <a:rPr b="1" lang="zh-CN" sz="6600" spc="-1" strike="noStrike">
                <a:solidFill>
                  <a:srgbClr val="ff0066"/>
                </a:solidFill>
                <a:latin typeface="黑体"/>
                <a:ea typeface="黑体"/>
              </a:rPr>
              <a:t>之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乘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、公将鼓</a:t>
            </a:r>
            <a:r>
              <a:rPr b="1" lang="zh-CN" sz="6600" spc="-1" strike="noStrike">
                <a:solidFill>
                  <a:srgbClr val="ff0066"/>
                </a:solidFill>
                <a:latin typeface="黑体"/>
                <a:ea typeface="黑体"/>
              </a:rPr>
              <a:t>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WordArt 4"/>
          <p:cNvSpPr txBox="1"/>
          <p:nvPr/>
        </p:nvSpPr>
        <p:spPr>
          <a:xfrm rot="5400000">
            <a:off x="5706360" y="2798640"/>
            <a:ext cx="5329440" cy="97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竞技擂台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pic>
        <p:nvPicPr>
          <p:cNvPr id="451" name="Picture 5" descr="LINE05"/>
          <p:cNvPicPr/>
          <p:nvPr/>
        </p:nvPicPr>
        <p:blipFill>
          <a:blip r:embed="rId1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8" descr="67"/>
          <p:cNvPicPr/>
          <p:nvPr/>
        </p:nvPicPr>
        <p:blipFill>
          <a:blip r:embed="rId2"/>
          <a:stretch/>
        </p:blipFill>
        <p:spPr>
          <a:xfrm>
            <a:off x="-257040" y="2855880"/>
            <a:ext cx="1095120" cy="10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8" dur="indefinite" restart="never" nodeType="tmRoot">
          <p:childTnLst>
            <p:seq>
              <p:cTn id="1639" dur="indefinite" nodeType="mainSeq">
                <p:childTnLst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下列理解正确的一项是：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028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肉食者谋之，又何间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此句应读出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反对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的语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小惠未徧，民弗从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此句应读出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肯定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的语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忠之属也，可以一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此句应读出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抒情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的语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夫大国，难测也，惧有伏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此句应读出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感叹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的语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WordArt 5"/>
          <p:cNvSpPr txBox="1"/>
          <p:nvPr/>
        </p:nvSpPr>
        <p:spPr>
          <a:xfrm rot="5400000">
            <a:off x="5922720" y="3301920"/>
            <a:ext cx="5329080" cy="830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竞技擂台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pic>
        <p:nvPicPr>
          <p:cNvPr id="456" name="Picture 6" descr="67"/>
          <p:cNvPicPr/>
          <p:nvPr/>
        </p:nvPicPr>
        <p:blipFill>
          <a:blip r:embed="rId1"/>
          <a:stretch/>
        </p:blipFill>
        <p:spPr>
          <a:xfrm>
            <a:off x="0" y="941400"/>
            <a:ext cx="738360" cy="73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黑体"/>
                <a:ea typeface="黑体"/>
              </a:rPr>
              <a:t>下面句子跟现代汉语习惯一致的一项是：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7812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、何以战？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、可以一战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、夫战，勇气也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、吾视其辙乱，望其旗靡，故逐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WordArt 5"/>
          <p:cNvSpPr txBox="1"/>
          <p:nvPr/>
        </p:nvSpPr>
        <p:spPr>
          <a:xfrm rot="5400000">
            <a:off x="5742360" y="3339360"/>
            <a:ext cx="5329440" cy="90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竞技擂台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pic>
        <p:nvPicPr>
          <p:cNvPr id="460" name="Picture 6" descr="67"/>
          <p:cNvPicPr/>
          <p:nvPr/>
        </p:nvPicPr>
        <p:blipFill>
          <a:blip r:embed="rId1"/>
          <a:stretch/>
        </p:blipFill>
        <p:spPr>
          <a:xfrm>
            <a:off x="-227160" y="4916520"/>
            <a:ext cx="1167120" cy="11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2" dur="indefinite" restart="never" nodeType="tmRoot">
          <p:childTnLst>
            <p:seq>
              <p:cTn id="1673" dur="indefinite" nodeType="mainSeq">
                <p:childTnLst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黑体"/>
                <a:ea typeface="黑体"/>
              </a:rPr>
              <a:t>补充下列省略句的省略内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一鼓作气，再而衰，三而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忠之属也，可以一战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0" y="1916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一鼓作气，再</a:t>
            </a:r>
            <a:r>
              <a:rPr b="1" lang="zh-CN" sz="6000" spc="-1" strike="noStrike">
                <a:solidFill>
                  <a:srgbClr val="cc0000"/>
                </a:solidFill>
                <a:latin typeface="黑体"/>
                <a:ea typeface="黑体"/>
              </a:rPr>
              <a:t>鼓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6000" spc="-1" strike="noStrike">
                <a:solidFill>
                  <a:srgbClr val="cc0000"/>
                </a:solidFill>
                <a:latin typeface="黑体"/>
                <a:ea typeface="黑体"/>
              </a:rPr>
              <a:t>气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衰，三</a:t>
            </a:r>
            <a:r>
              <a:rPr b="1" lang="zh-CN" sz="6000" spc="-1" strike="noStrike">
                <a:solidFill>
                  <a:srgbClr val="cc0000"/>
                </a:solidFill>
                <a:latin typeface="黑体"/>
                <a:ea typeface="黑体"/>
              </a:rPr>
              <a:t>鼓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6000" spc="-1" strike="noStrike">
                <a:solidFill>
                  <a:srgbClr val="cc0000"/>
                </a:solidFill>
                <a:latin typeface="黑体"/>
                <a:ea typeface="黑体"/>
              </a:rPr>
              <a:t>气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竭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0" y="4365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忠之属也，可以</a:t>
            </a:r>
            <a:r>
              <a:rPr b="1" lang="zh-CN" sz="6000" spc="-1" strike="noStrike">
                <a:solidFill>
                  <a:srgbClr val="cc0000"/>
                </a:solidFill>
                <a:latin typeface="黑体"/>
                <a:ea typeface="黑体"/>
              </a:rPr>
              <a:t>之（这个条件）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一战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6" descr="LINE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0" dur="indefinite" restart="never" nodeType="tmRoot">
          <p:childTnLst>
            <p:seq>
              <p:cTn id="1681" dur="indefinite" nodeType="mainSeq">
                <p:childTnLst>
                  <p:par>
                    <p:cTn id="1682" nodeType="clickEffect" fill="hold">
                      <p:stCondLst>
                        <p:cond delay="indefinite"/>
                      </p:stCondLst>
                      <p:childTnLst>
                        <p:par>
                          <p:cTn id="1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nodeType="clickEffect" fill="hold">
                      <p:stCondLst>
                        <p:cond delay="indefinite"/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请用原文填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曹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请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原因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曹刿认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可以一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条件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曹刿认为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反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最佳时机是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时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追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最佳时机是         之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曹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下视其辙，登轼而望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才同意追击的理由是：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由本文引申出的一个成语是：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755640" y="12682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肉食者鄙，未能远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684360" y="234936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小大之狱，虽不能察，必以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6"/>
          <p:cNvSpPr/>
          <p:nvPr/>
        </p:nvSpPr>
        <p:spPr>
          <a:xfrm>
            <a:off x="6227640" y="292428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彼竭我盈（齐人三鼓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7"/>
          <p:cNvSpPr/>
          <p:nvPr/>
        </p:nvSpPr>
        <p:spPr>
          <a:xfrm>
            <a:off x="5148360" y="4076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辙乱旗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8"/>
          <p:cNvSpPr/>
          <p:nvPr/>
        </p:nvSpPr>
        <p:spPr>
          <a:xfrm>
            <a:off x="3059280" y="5157720"/>
            <a:ext cx="59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夫大国，难测也，惧有伏焉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6516720" y="5805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鼓作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4" dur="indefinite" restart="never" nodeType="tmRoot">
          <p:childTnLst>
            <p:seq>
              <p:cTn id="1695" dur="indefinite" nodeType="mainSeq">
                <p:childTnLst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nodeType="clickEffect" fill="hold">
                      <p:stCondLst>
                        <p:cond delay="indefinite"/>
                      </p:stCondLst>
                      <p:childTnLst>
                        <p:par>
                          <p:cTn id="1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nodeType="clickEffect" fill="hold">
                      <p:stCondLst>
                        <p:cond delay="indefinite"/>
                      </p:stCondLst>
                      <p:childTnLst>
                        <p:par>
                          <p:cTn id="1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nodeType="clickEffect" fill="hold">
                      <p:stCondLst>
                        <p:cond delay="indefinite"/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WordArt 2"/>
          <p:cNvSpPr txBox="1"/>
          <p:nvPr/>
        </p:nvSpPr>
        <p:spPr>
          <a:xfrm>
            <a:off x="468360" y="476280"/>
            <a:ext cx="23335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合作交流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3203640" y="54936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研读课文，把握曹刿战略、战术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468360" y="1628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346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ef0346"/>
                </a:solidFill>
                <a:latin typeface="黑体"/>
                <a:ea typeface="黑体"/>
              </a:rPr>
              <a:t>鲁庄公认为战前需作哪几方面的准备？曹刿是如何进行评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684360" y="2637000"/>
            <a:ext cx="51116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衣食所安，弗敢专也，必以分人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684360" y="3141720"/>
            <a:ext cx="51116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牺牲玉帛，弗敢加也，必以信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684360" y="3645000"/>
            <a:ext cx="51116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大之狱，虽不能察，必以情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黑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1258920" y="458136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-195592"/>
              <a:gd name="adj4" fmla="val -7032"/>
            </a:avLst>
          </a:prstGeom>
          <a:solidFill>
            <a:srgbClr val="ffff00"/>
          </a:solidFill>
          <a:ln w="28440">
            <a:solidFill>
              <a:srgbClr val="ff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借小惠赢得近臣的拥护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3203640" y="4653000"/>
            <a:ext cx="1512720" cy="719280"/>
          </a:xfrm>
          <a:prstGeom prst="borderCallout1">
            <a:avLst>
              <a:gd name="adj1" fmla="val 18750"/>
              <a:gd name="adj2" fmla="val -8333"/>
              <a:gd name="adj3" fmla="val -154305"/>
              <a:gd name="adj4" fmla="val -18782"/>
            </a:avLst>
          </a:prstGeom>
          <a:solidFill>
            <a:srgbClr val="ffff00"/>
          </a:solidFill>
          <a:ln w="28440">
            <a:solidFill>
              <a:srgbClr val="ff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借小信赢得神灵的保护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5076720" y="4724280"/>
            <a:ext cx="2016360" cy="576360"/>
          </a:xfrm>
          <a:prstGeom prst="borderCallout1">
            <a:avLst>
              <a:gd name="adj1" fmla="val 18750"/>
              <a:gd name="adj2" fmla="val -8333"/>
              <a:gd name="adj3" fmla="val -114601"/>
              <a:gd name="adj4" fmla="val -21023"/>
            </a:avLst>
          </a:prstGeom>
          <a:solidFill>
            <a:srgbClr val="ffff00"/>
          </a:solidFill>
          <a:ln w="28440">
            <a:solidFill>
              <a:srgbClr val="ff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取信于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1476360" y="4365720"/>
            <a:ext cx="10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3419640" y="4365720"/>
            <a:ext cx="102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5580000" y="4292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4"/>
          <p:cNvSpPr/>
          <p:nvPr/>
        </p:nvSpPr>
        <p:spPr>
          <a:xfrm>
            <a:off x="3564000" y="573408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f0346"/>
                </a:solidFill>
                <a:latin typeface="黑体"/>
                <a:ea typeface="黑体"/>
              </a:rPr>
              <a:t>作战的先决条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5"/>
          <p:cNvSpPr/>
          <p:nvPr/>
        </p:nvSpPr>
        <p:spPr>
          <a:xfrm>
            <a:off x="6012000" y="5373720"/>
            <a:ext cx="288720" cy="503280"/>
          </a:xfrm>
          <a:prstGeom prst="upArrow">
            <a:avLst>
              <a:gd name="adj1" fmla="val 50000"/>
              <a:gd name="adj2" fmla="val 4357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Object 16"/>
          <p:cNvGraphicFramePr/>
          <p:nvPr/>
        </p:nvGraphicFramePr>
        <p:xfrm>
          <a:off x="7740720" y="5589720"/>
          <a:ext cx="466560" cy="51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0720" y="5589720"/>
                    <a:ext cx="46656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Text Box 17"/>
          <p:cNvSpPr/>
          <p:nvPr/>
        </p:nvSpPr>
        <p:spPr>
          <a:xfrm>
            <a:off x="5646600" y="2637000"/>
            <a:ext cx="349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小惠未徧，民弗从也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5681520" y="3068640"/>
            <a:ext cx="3462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小信未孚，神弗福也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9"/>
          <p:cNvSpPr/>
          <p:nvPr/>
        </p:nvSpPr>
        <p:spPr>
          <a:xfrm>
            <a:off x="5646600" y="3573360"/>
            <a:ext cx="349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忠之属也。可以一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nodeType="clickEffect" fill="hold">
                      <p:stCondLst>
                        <p:cond delay="indefinite"/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nodeType="clickEffect" fill="hold">
                      <p:stCondLst>
                        <p:cond delay="indefinite"/>
                      </p:stCondLst>
                      <p:childTnLst>
                        <p:par>
                          <p:cTn id="1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nodeType="clickEffect" fill="hold">
                      <p:stCondLst>
                        <p:cond delay="indefinite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nodeType="clickEffect" fill="hold">
                      <p:stCondLst>
                        <p:cond delay="indefinite"/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nodeType="clickEffect" fill="hold">
                      <p:stCondLst>
                        <p:cond delay="indefinite"/>
                      </p:stCondLst>
                      <p:childTnLst>
                        <p:par>
                          <p:cTn id="1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nodeType="clickEffect" fill="hold">
                      <p:stCondLst>
                        <p:cond delay="indefinite"/>
                      </p:stCondLst>
                      <p:childTnLst>
                        <p:par>
                          <p:cTn id="1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0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1835280" y="620640"/>
            <a:ext cx="62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、本文作者的观点与哪篇文章的观点有相似之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3"/>
          <p:cNvSpPr/>
          <p:nvPr/>
        </p:nvSpPr>
        <p:spPr>
          <a:xfrm>
            <a:off x="2700360" y="3645000"/>
            <a:ext cx="3816360" cy="64764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取信于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＝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人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1" dur="indefinite" restart="never" nodeType="tmRoot">
          <p:childTnLst>
            <p:seq>
              <p:cTn id="1822" dur="indefinite" nodeType="mainSeq">
                <p:childTnLst>
                  <p:par>
                    <p:cTn id="1823" nodeType="clickEffect" fill="hold">
                      <p:stCondLst>
                        <p:cond delay="indefinite"/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447920" y="228600"/>
            <a:ext cx="65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99"/>
                </a:solidFill>
                <a:uFillTx/>
                <a:latin typeface="黑体"/>
                <a:ea typeface="黑体"/>
              </a:rPr>
              <a:t>掌握下列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黑色</a:t>
            </a:r>
            <a:r>
              <a:rPr b="1" lang="zh-CN" sz="3600" spc="-1" strike="noStrike" u="sng">
                <a:solidFill>
                  <a:srgbClr val="000099"/>
                </a:solidFill>
                <a:uFillTx/>
                <a:latin typeface="黑体"/>
                <a:ea typeface="黑体"/>
              </a:rPr>
              <a:t>字词的读音</a:t>
            </a:r>
            <a:r>
              <a:rPr b="1" lang="zh-CN" sz="3600" spc="-1" strike="noStrike">
                <a:solidFill>
                  <a:srgbClr val="9900cc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332000" y="907920"/>
            <a:ext cx="7056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 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刿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 又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间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 肉食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鄙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弗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     ）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敢加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 小惠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徧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小信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孚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 公与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乘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 战于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勺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 下视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辙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轼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     ）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而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彼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竭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     ）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我盈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望其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靡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夫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   ）战        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牺牲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帛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shu5"/>
          <p:cNvPicPr/>
          <p:nvPr/>
        </p:nvPicPr>
        <p:blipFill>
          <a:blip r:embed="rId1"/>
          <a:stretch/>
        </p:blipFill>
        <p:spPr>
          <a:xfrm>
            <a:off x="6948360" y="333360"/>
            <a:ext cx="1828800" cy="17146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492360" y="8366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gu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708360" y="1341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j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à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211640" y="1700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392640" y="2300400"/>
            <a:ext cx="5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4278240" y="25797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à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4211640" y="299736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4460040" y="347040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é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4249800" y="3887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s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á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4351320" y="42782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z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3492360" y="4724280"/>
            <a:ext cx="13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s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3492360" y="5157720"/>
            <a:ext cx="15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j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5435640" y="5157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í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463640" y="5562720"/>
            <a:ext cx="6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m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6804000" y="56610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4722840" y="60339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395280" y="141048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了这则短文，鲁国获胜给你启示最深的一点是什么呢？请联系生活实际简要谈谈你的看法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910080" y="47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拓展延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395280" y="2565360"/>
            <a:ext cx="78026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鲁国获胜的主要启示有：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获胜的根本是取信于民，获得人民的支持。 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  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战争中要善于分析敌情，把握战机。 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  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统治者应善于听取并采纳群众的意见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……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  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结合文章任选一个角度，联系实际谈出看法，言之成理即可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9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395280" y="1197000"/>
            <a:ext cx="84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古人记叙这场战争，用“齐鲁长勺之战”为题，而后人却改用“曹刿论战”为题，为什么要作这样的改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533520" y="358128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全篇以曹刿的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言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为主组织记事材料，而记事的中心又处落在曹刿的 “论” “谋” 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1208880" y="4316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三、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5"/>
          <p:cNvSpPr/>
          <p:nvPr/>
        </p:nvSpPr>
        <p:spPr>
          <a:xfrm>
            <a:off x="4648320" y="563868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nodeType="clickEffect" fill="hold">
                      <p:stCondLst>
                        <p:cond delay="indefinite"/>
                      </p:stCondLst>
                      <p:childTnLst>
                        <p:par>
                          <p:cTn id="1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8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klj"/>
          <p:cNvPicPr/>
          <p:nvPr/>
        </p:nvPicPr>
        <p:blipFill>
          <a:blip r:embed="rId1"/>
          <a:stretch/>
        </p:blipFill>
        <p:spPr>
          <a:xfrm>
            <a:off x="0" y="-73080"/>
            <a:ext cx="9145440" cy="6854760"/>
          </a:xfrm>
          <a:prstGeom prst="rect">
            <a:avLst/>
          </a:prstGeom>
          <a:ln w="0">
            <a:noFill/>
          </a:ln>
        </p:spPr>
      </p:pic>
      <p:sp>
        <p:nvSpPr>
          <p:cNvPr id="503" name="WordArt 4"/>
          <p:cNvSpPr txBox="1"/>
          <p:nvPr/>
        </p:nvSpPr>
        <p:spPr>
          <a:xfrm>
            <a:off x="3352680" y="2895480"/>
            <a:ext cx="51055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9" dur="indefinite" restart="never" nodeType="tmRoot">
          <p:childTnLst>
            <p:seq>
              <p:cTn id="1860" dur="indefinite" nodeType="mainSeq">
                <p:childTnLst>
                  <p:par>
                    <p:cTn id="1861" nodeType="clickEffect" fill="hold">
                      <p:stCondLst>
                        <p:cond delay="indefinite"/>
                      </p:stCondLst>
                      <p:childTnLst>
                        <p:par>
                          <p:cTn id="1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49640" y="-20674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ff"/>
              </a:solidFill>
              <a:latin typeface="黑体"/>
              <a:ea typeface="黑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10080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55640" y="234936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684360" y="3429000"/>
            <a:ext cx="158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500720" y="5445000"/>
            <a:ext cx="20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755640" y="443700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500720" y="119700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4500720" y="220500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4500720" y="3284640"/>
            <a:ext cx="23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684360" y="544500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4427640" y="4365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3"/>
          <p:cNvSpPr txBox="1"/>
          <p:nvPr/>
        </p:nvSpPr>
        <p:spPr>
          <a:xfrm>
            <a:off x="1763640" y="189000"/>
            <a:ext cx="5400720" cy="72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生字词回顾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763640" y="1125360"/>
            <a:ext cx="15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gu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ì</a:t>
            </a:r>
            <a:r>
              <a:rPr b="1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1692360" y="2349360"/>
            <a:ext cx="194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黑体"/>
                <a:ea typeface="黑体"/>
              </a:rPr>
              <a:t>ji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  <a:ea typeface="黑体"/>
              </a:rPr>
              <a:t>à</a:t>
            </a:r>
            <a:r>
              <a:rPr b="1" lang="en-US" sz="6000" spc="-1" strike="noStrike">
                <a:solidFill>
                  <a:srgbClr val="ff0066"/>
                </a:solidFill>
                <a:latin typeface="黑体"/>
                <a:ea typeface="黑体"/>
              </a:rPr>
              <a:t>n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619280" y="342900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ó</a:t>
            </a:r>
            <a:r>
              <a:rPr b="1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1692360" y="4437000"/>
            <a:ext cx="20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黑体"/>
                <a:ea typeface="黑体"/>
              </a:rPr>
              <a:t>f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  <a:ea typeface="黑体"/>
              </a:rPr>
              <a:t>ú</a:t>
            </a:r>
            <a:r>
              <a:rPr b="1" lang="en-US" sz="60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5724360" y="4365720"/>
            <a:ext cx="16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f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ú</a:t>
            </a:r>
            <a:r>
              <a:rPr b="1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1692360" y="551664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su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ì</a:t>
            </a:r>
            <a:r>
              <a:rPr b="1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5580000" y="1268280"/>
            <a:ext cx="18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黑体"/>
                <a:ea typeface="黑体"/>
              </a:rPr>
              <a:t>bi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  <a:ea typeface="黑体"/>
              </a:rPr>
              <a:t>à</a:t>
            </a:r>
            <a:r>
              <a:rPr b="1" lang="en-US" sz="6000" spc="-1" strike="noStrike">
                <a:solidFill>
                  <a:srgbClr val="ff0066"/>
                </a:solidFill>
                <a:latin typeface="黑体"/>
                <a:ea typeface="黑体"/>
              </a:rPr>
              <a:t>n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5651640" y="220500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黑体"/>
                <a:ea typeface="黑体"/>
              </a:rPr>
              <a:t>zh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é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5796000" y="3213000"/>
            <a:ext cx="165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黑体"/>
                <a:ea typeface="黑体"/>
              </a:rPr>
              <a:t>sh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  <a:ea typeface="黑体"/>
              </a:rPr>
              <a:t>ì</a:t>
            </a:r>
            <a:r>
              <a:rPr b="1" lang="en-US" sz="60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5651640" y="5445000"/>
            <a:ext cx="165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黑体"/>
                <a:ea typeface="黑体"/>
              </a:rPr>
              <a:t>mǐ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0629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be0e3"/>
                </a:solidFill>
                <a:latin typeface="Arial"/>
                <a:ea typeface="黑体"/>
              </a:rPr>
              <a:t>注释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　　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十年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春，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师伐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我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。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公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将战。曹刿请见。其乡人曰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肉食者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谋之，又何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间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焉？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刿曰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肉食者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鄙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，未能远谋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乃入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3715920"/>
            <a:ext cx="8424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　</a:t>
            </a:r>
            <a:r>
              <a:rPr b="1" lang="zh-CN" sz="3600" spc="-1" strike="noStrike">
                <a:solidFill>
                  <a:srgbClr val="bbe0e3"/>
                </a:solidFill>
                <a:latin typeface="Arial"/>
                <a:ea typeface="黑体"/>
              </a:rPr>
              <a:t>译文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鲁庄公十年春天，齐国军队攻打我们鲁国。鲁庄公将要迎战。曹刿请求庄公接见。他的同乡说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大官们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谋划这件事的，你又何必参与呢？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曹刿说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大官们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目光短浅，不能深谋远虑。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于是入（宫）去拜见（庄公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2916360" y="0"/>
            <a:ext cx="1261800" cy="671400"/>
          </a:xfrm>
          <a:prstGeom prst="wedgeRoundRectCallout">
            <a:avLst>
              <a:gd name="adj1" fmla="val 37800"/>
              <a:gd name="adj2" fmla="val 113120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军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3708360" y="0"/>
            <a:ext cx="1208160" cy="671400"/>
          </a:xfrm>
          <a:prstGeom prst="wedgeRoundRectCallout">
            <a:avLst>
              <a:gd name="adj1" fmla="val 12416"/>
              <a:gd name="adj2" fmla="val 111939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攻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4572000" y="0"/>
            <a:ext cx="1584360" cy="671400"/>
          </a:xfrm>
          <a:prstGeom prst="wedgeRoundRectCallout">
            <a:avLst>
              <a:gd name="adj1" fmla="val 28458"/>
              <a:gd name="adj2" fmla="val 119504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鲁庄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34920" y="0"/>
            <a:ext cx="1262160" cy="671400"/>
          </a:xfrm>
          <a:prstGeom prst="wedgeRoundRectCallout">
            <a:avLst>
              <a:gd name="adj1" fmla="val 16791"/>
              <a:gd name="adj2" fmla="val 278606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参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5940360" y="0"/>
            <a:ext cx="1622520" cy="1197000"/>
          </a:xfrm>
          <a:prstGeom prst="wedgeRoundRectCallout">
            <a:avLst>
              <a:gd name="adj1" fmla="val -38847"/>
              <a:gd name="adj2" fmla="val 92439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高官厚禄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7093080" y="0"/>
            <a:ext cx="2050920" cy="1220760"/>
          </a:xfrm>
          <a:prstGeom prst="wedgeRoundRectCallout">
            <a:avLst>
              <a:gd name="adj1" fmla="val -90013"/>
              <a:gd name="adj2" fmla="val 140375"/>
              <a:gd name="adj3" fmla="val 16667"/>
            </a:avLst>
          </a:prstGeom>
          <a:solidFill>
            <a:srgbClr val="cc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鄙陋，见识短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%E9%92%9F2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2720" y="259920"/>
            <a:ext cx="388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黑体"/>
                <a:ea typeface="黑体"/>
              </a:rPr>
              <a:t>说文解字</a:t>
            </a:r>
            <a:r>
              <a:rPr b="1" lang="zh-CN" sz="4800" spc="-1" strike="noStrike">
                <a:solidFill>
                  <a:srgbClr val="bbe0e3"/>
                </a:solidFill>
                <a:latin typeface="黑体"/>
                <a:ea typeface="黑体"/>
              </a:rPr>
              <a:t>：</a:t>
            </a:r>
            <a:r>
              <a:rPr b="1" lang="zh-CN" sz="4800" spc="-1" strike="noStrike">
                <a:solidFill>
                  <a:srgbClr val="cc3300"/>
                </a:solidFill>
                <a:latin typeface="黑体"/>
                <a:ea typeface="黑体"/>
              </a:rPr>
              <a:t>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2636640"/>
            <a:ext cx="806436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37296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最早写做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閒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从门缝中能看到月亮，表示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门缝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引申为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缝隙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空儿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有缝便可插入东西，引申为插入、参与。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又何间焉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的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间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即参与之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1292400" cy="151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6753240" y="549360"/>
            <a:ext cx="1203480" cy="151272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himes.wav"/>
      </p:stSnd>
    </p:sndAc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Lenovo User</cp:lastModifiedBy>
  <dcterms:modified xsi:type="dcterms:W3CDTF">2015-12-09T09:50:11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  <property fmtid="{D5CDD505-2E9C-101B-9397-08002B2CF9AE}" pid="3" name="Version">
    <vt:r8>1</vt:r8>
  </property>
</Properties>
</file>