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5.png" ContentType="image/png"/>
  <Override PartName="/ppt/media/image19.jpeg" ContentType="image/jpeg"/>
  <Override PartName="/ppt/media/image22.gif" ContentType="image/gif"/>
  <Override PartName="/ppt/media/image15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20.jpeg" ContentType="image/jpeg"/>
  <Override PartName="/ppt/media/image16.png" ContentType="image/png"/>
  <Override PartName="/ppt/media/image23.gif" ContentType="image/gif"/>
  <Override PartName="/ppt/media/image1.jpeg" ContentType="image/jpeg"/>
  <Override PartName="/ppt/media/image47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0.gif" ContentType="image/gif"/>
  <Override PartName="/ppt/media/image27.png" ContentType="image/png"/>
  <Override PartName="/ppt/media/image34.gif" ContentType="image/gif"/>
  <Override PartName="/ppt/media/image4.png" ContentType="image/png"/>
  <Override PartName="/ppt/media/image12.jpeg" ContentType="image/jpeg"/>
  <Override PartName="/ppt/media/projctor.wav" ContentType="audio/x-wav"/>
  <Override PartName="/ppt/media/image39.png" ContentType="image/png"/>
  <Override PartName="/ppt/media/image31.jpeg" ContentType="image/jpeg"/>
  <Override PartName="/ppt/media/image32.jpeg" ContentType="image/jpeg"/>
  <Override PartName="/ppt/media/image11.gif" ContentType="image/gif"/>
  <Override PartName="/ppt/media/image49.png" ContentType="image/png"/>
  <Override PartName="/ppt/media/image41.jpeg" ContentType="image/jpeg"/>
  <Override PartName="/ppt/media/image45.png" ContentType="image/png"/>
  <Override PartName="/ppt/media/image46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50.gif" ContentType="image/gif"/>
  <Override PartName="/ppt/media/image10.gif" ContentType="image/gif"/>
  <Override PartName="/ppt/media/image48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18.png" ContentType="image/png"/>
  <Override PartName="/ppt/media/image28.png" ContentType="image/png"/>
  <Override PartName="/ppt/media/image35.gif" ContentType="image/gif"/>
  <Override PartName="/ppt/media/image7.jpeg" ContentType="image/jpeg"/>
  <Override PartName="/ppt/media/image36.png" ContentType="image/png"/>
  <Override PartName="/ppt/media/image6.png" ContentType="image/png"/>
  <Override PartName="/ppt/media/image44.png" ContentType="image/png"/>
  <Override PartName="/ppt/media/image51.gif" ContentType="image/gif"/>
  <Override PartName="/ppt/media/image13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939-3EB6-449F-8EB1-6826641F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356-66B2-4833-A755-4695DD3E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D6E-F151-4CFB-82E8-4E525E7F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5D9-5378-4D9B-A104-43468E17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219-80C8-42E0-BB8D-F192E97D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FE2-F558-405A-A798-702203E6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653-C252-4866-BDDD-D3EF6EDB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41BA-176B-4F14-B470-FDCB1C71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479F-8C81-4F07-8196-53B5AA10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774-8559-453C-AA57-D51F9C8E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649-F4E5-49DE-B8E2-26EC5D0E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865-E38D-4155-86A3-C45CB8D6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A611-F72E-45EB-9017-702BB8F80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58,3,&#31532;1&#35838;&#26102;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258,3,&#31532;1&#35838;&#26102;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258,26,&#24187;&#28783;&#29255; 26" TargetMode="External"/><Relationship Id="rId2" Type="http://schemas.openxmlformats.org/officeDocument/2006/relationships/hyperlink" Target="258,26,&#24187;&#28783;&#29255; 26" TargetMode="External"/><Relationship Id="rId3" Type="http://schemas.openxmlformats.org/officeDocument/2006/relationships/hyperlink" Target="258,27,&#24187;&#28783;&#29255; 27" TargetMode="External"/><Relationship Id="rId4" Type="http://schemas.openxmlformats.org/officeDocument/2006/relationships/hyperlink" Target="258,27,&#24187;&#28783;&#29255; 27" TargetMode="External"/><Relationship Id="rId5" Type="http://schemas.openxmlformats.org/officeDocument/2006/relationships/hyperlink" Target="283,28,&#24187;&#28783;&#29255; 28" TargetMode="External"/><Relationship Id="rId6" Type="http://schemas.openxmlformats.org/officeDocument/2006/relationships/hyperlink" Target="283,28,&#24187;&#28783;&#29255; 28" TargetMode="External"/><Relationship Id="rId7" Type="http://schemas.openxmlformats.org/officeDocument/2006/relationships/hyperlink" Target="258,29,&#24187;&#28783;&#29255; 29" TargetMode="External"/><Relationship Id="rId8" Type="http://schemas.openxmlformats.org/officeDocument/2006/relationships/hyperlink" Target="258,29,&#24187;&#28783;&#29255; 29" TargetMode="External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-1,8,&#24187;&#28783;&#29255; 8" TargetMode="External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k12.com.cn/teacher/resource/sucai/scinfo.php3?id=13467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5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5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6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5.png"/><Relationship Id="rId9" Type="http://schemas.openxmlformats.org/officeDocument/2006/relationships/image" Target="../media/image42.png"/><Relationship Id="rId10" Type="http://schemas.openxmlformats.org/officeDocument/2006/relationships/image" Target="../media/image42.png"/><Relationship Id="rId1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258,3,&#31532;1&#35838;&#26102;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258,3,&#31532;1&#35838;&#26102;" TargetMode="Externa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258,3,&#31532;1&#35838;&#26102;" TargetMode="Externa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1.gif"/><Relationship Id="rId3" Type="http://schemas.openxmlformats.org/officeDocument/2006/relationships/image" Target="../media/image5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cw2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343400" cy="4876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4114800" cy="4876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981080" y="228600"/>
            <a:ext cx="51436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从百草园到三味书屋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762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鲁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1333440"/>
            <a:ext cx="423720" cy="557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423720" cy="557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423720" cy="556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143000" y="609480"/>
            <a:ext cx="2819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讨论与理解：</a:t>
            </a:r>
            <a:endParaRPr b="1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1219320"/>
            <a:ext cx="6629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标题分析，文章以什么为写作顺序？内容可分哪两部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2289240"/>
            <a:ext cx="6781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文章哪几节文字写百草园？哪几节文章写三味书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3389400"/>
            <a:ext cx="6705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百草园和三味书屋，作者更喜欢哪一个？结合课文内容谈谈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62120" y="4495680"/>
            <a:ext cx="423720" cy="557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19320" y="4495680"/>
            <a:ext cx="6172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文章的中心意思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391520" y="571500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762120" y="5257800"/>
            <a:ext cx="423720" cy="557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19320" y="5257800"/>
            <a:ext cx="6172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九节在全文中起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3190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题目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84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讨论并归纳</a:t>
            </a:r>
            <a:r>
              <a:rPr b="0" lang="zh-CN" sz="3200" spc="-1" strike="noStrike">
                <a:solidFill>
                  <a:srgbClr val="000066"/>
                </a:solidFill>
                <a:latin typeface="Times New Roman"/>
              </a:rPr>
              <a:t>：文题出现两处地名“百草园”和“三味书屋”，这些都是作者童年生活、学习的场所。作者用“从……到……”的词语把它们联系在一起，由此，可以发现，课文大致分为两个部分，反映了作者由童年的游戏、玩耍到长大读书的成长过程。同时也表明了文章主要是以空间变换为顺序记叙的。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1341360"/>
            <a:ext cx="4590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2920" y="1197000"/>
            <a:ext cx="87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本文题为“从百草园到三味书屋”，从这个题目我们可以得到哪些信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56720" y="6093000"/>
            <a:ext cx="792000" cy="43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920" y="152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理清文章思路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9144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以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空间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变化为顺序安排材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527280" cy="4248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341520" cy="4175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9480" y="62485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百草园的生活（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1—8</a:t>
            </a:r>
            <a:r>
              <a:rPr b="1" lang="zh-CN" sz="2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3505320"/>
            <a:ext cx="1218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过渡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承上启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cc99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cc99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971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61722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三味书屋的生活（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10—</a:t>
            </a:r>
            <a:r>
              <a:rPr b="1" lang="zh-CN" sz="20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尾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24160"/>
            <a:ext cx="3454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15328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、指导学生快速默读课文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段，并思考这部分内容中主要记叙了哪三个令作者难以忘怀的内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明确：          景  物   —— （美好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百草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故  事   —— （神奇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捕  鸟   —— （有趣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27280" y="3357720"/>
            <a:ext cx="287280" cy="1441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3284640"/>
            <a:ext cx="287280" cy="143964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33720" y="3627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乐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12000" y="5950080"/>
            <a:ext cx="79236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0160"/>
            <a:ext cx="5867280" cy="61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　　　　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段　落　层　次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回忆百草园的有趣生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总说百草园是乐园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百草园的景物美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美女蛇故事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冬天雪地捕鸟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告别百草园去书塾读书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回忆在三味书屋读书的经历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84720" y="907920"/>
            <a:ext cx="29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1—9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413000"/>
            <a:ext cx="20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8720" y="1989000"/>
            <a:ext cx="23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256536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3—6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9360" y="3068640"/>
            <a:ext cx="19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7—8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6440" y="3645000"/>
            <a:ext cx="13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62560" y="4724280"/>
            <a:ext cx="24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段—结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09120" y="549000"/>
            <a:ext cx="8153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百草园“似乎确凿只有一些野草，但那时却是我的乐园”，这两句话有没有矛盾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前一句话是用大人的眼光来看的。“确凿只有”，断定其中不会有什么动人之处；“似乎”，又对这断定有踌躇，这是表示是否记得清楚还不敢说。后一句是从小孩子的眼光来看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者回忆童年在百草园玩耍，一切都那么新奇有趣，确是儿童的乐园。所以不矛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、重点研读第二段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思考：课文写了百草园的哪些美好的景物？它们各抓住了静物、动物的什么特点来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1280" y="2445840"/>
            <a:ext cx="7424640" cy="33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明确</a:t>
            </a: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形：高大、臃肿、小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球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色：碧绿、紫红、菜花</a:t>
            </a:r>
            <a:r>
              <a:rPr b="1" lang="zh-CN" sz="1800" spc="-1" strike="noStrike">
                <a:solidFill>
                  <a:srgbClr val="3333ff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景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味（覆盆子）又酸又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：肥胖、轻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物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声：长吟、低唱、弹琴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：伏、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278136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44720" y="4653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3141720"/>
            <a:ext cx="368640" cy="2016000"/>
          </a:xfrm>
          <a:custGeom>
            <a:avLst/>
            <a:gdLst>
              <a:gd name="textAreaLeft" fmla="*/ 235440 w 368640"/>
              <a:gd name="textAreaRight" fmla="*/ 369000 w 36864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67240" y="304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百草园的自然景物和乐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80320" y="1123920"/>
            <a:ext cx="820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菜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石井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皂荚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桑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鸣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黄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叫天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1197000"/>
            <a:ext cx="152280" cy="1676520"/>
          </a:xfrm>
          <a:custGeom>
            <a:avLst/>
            <a:gdLst>
              <a:gd name="textAreaLeft" fmla="*/ 0 w 152280"/>
              <a:gd name="textAreaRight" fmla="*/ 5508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306864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4400" y="1676520"/>
            <a:ext cx="60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静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12680" y="301644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76080" y="184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2060640"/>
            <a:ext cx="3812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2440" y="184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1123920"/>
            <a:ext cx="266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95640" y="2924280"/>
            <a:ext cx="16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11960" y="1123920"/>
            <a:ext cx="820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碧绿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光滑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高大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紫红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肥胖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轻捷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84720" y="2852640"/>
            <a:ext cx="12193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长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楷体_GB2312"/>
              </a:rPr>
              <a:t>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07680" y="327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3505320"/>
            <a:ext cx="3808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22080" y="327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35040" y="44211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描写景物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4956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黑体"/>
              </a:rPr>
              <a:t>有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5029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多角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37280" y="56386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0000"/>
                </a:solidFill>
                <a:uFillTx/>
                <a:latin typeface="Times New Roman"/>
                <a:ea typeface="黑体"/>
              </a:rPr>
              <a:t>精选词语形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5638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借助“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准确的形容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”即能表情达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895120" y="6019920"/>
            <a:ext cx="83844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20" y="2276640"/>
            <a:ext cx="14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必说，也不必说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1197000"/>
            <a:ext cx="152280" cy="2879640"/>
          </a:xfrm>
          <a:custGeom>
            <a:avLst/>
            <a:gdLst>
              <a:gd name="textAreaLeft" fmla="*/ 97200 w 152280"/>
              <a:gd name="textAreaRight" fmla="*/ 152640 w 15228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96"/>
                </a:lnTo>
                <a:cubicBezTo>
                  <a:pt x="10800" y="9996"/>
                  <a:pt x="5400" y="10896"/>
                  <a:pt x="0" y="10896"/>
                </a:cubicBezTo>
                <a:cubicBezTo>
                  <a:pt x="5400" y="10896"/>
                  <a:pt x="10800" y="11796"/>
                  <a:pt x="10800" y="126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04812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华文行楷"/>
              </a:rPr>
              <a:t>单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华文行楷"/>
              </a:rPr>
              <a:t>就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8720" y="342900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219320"/>
            <a:ext cx="152280" cy="4724280"/>
          </a:xfrm>
          <a:custGeom>
            <a:avLst/>
            <a:gdLst>
              <a:gd name="textAreaLeft" fmla="*/ 97200 w 152280"/>
              <a:gd name="textAreaRight" fmla="*/ 152640 w 15228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96"/>
                </a:lnTo>
                <a:cubicBezTo>
                  <a:pt x="10800" y="9996"/>
                  <a:pt x="5400" y="10896"/>
                  <a:pt x="0" y="10896"/>
                </a:cubicBezTo>
                <a:cubicBezTo>
                  <a:pt x="5400" y="10896"/>
                  <a:pt x="10800" y="11796"/>
                  <a:pt x="10800" y="126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19240" y="1052640"/>
            <a:ext cx="1155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油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蟋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蜈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斑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何首乌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木莲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木莲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何首乌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覆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78960" y="1066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低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1447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10666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声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190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78960" y="16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弹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6920" y="16002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声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7240" y="1828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819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28600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304812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31160" y="304812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作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3886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581280" y="41144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3809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缠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状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29000" y="4800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4419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像莲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4952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臃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8120" y="47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5486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像小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57913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6019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酸又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状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91320" y="4952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状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9600" y="548640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状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8120" y="525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1295280"/>
            <a:ext cx="152280" cy="221004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3809880"/>
            <a:ext cx="152640" cy="2819520"/>
          </a:xfrm>
          <a:custGeom>
            <a:avLst/>
            <a:gdLst>
              <a:gd name="textAreaLeft" fmla="*/ 0 w 152640"/>
              <a:gd name="textAreaRight" fmla="*/ 55080 w 1526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98200" y="1905120"/>
            <a:ext cx="115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动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3720" y="4800600"/>
            <a:ext cx="667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植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52000" y="1447920"/>
            <a:ext cx="549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6019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味道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28195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99400" y="243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2438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声音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华文行楷"/>
              </a:rPr>
              <a:t>百草园的自然景物和乐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8380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477120" cy="10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62120" y="228600"/>
            <a:ext cx="838080" cy="6858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29600" y="205740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情景交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559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段在结构上有什么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先用两个“不必说”从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整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写百草园，再写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局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“泥墙根一带”；由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写静物，再由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写动物；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整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从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植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动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局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从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动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植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层次井然，条理分明，活泼多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1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1" dur="2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24360" y="765000"/>
            <a:ext cx="47908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鲁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88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6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原名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周树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浙江绍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伟大的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文学家、思想家、革命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著有杂文、小说、散文、诗歌等。《从百草园到三味书屋》选自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朝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夕拾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　　　　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143000"/>
            <a:ext cx="3581280" cy="4648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648320" y="618336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715000" y="618336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172200" y="6173640"/>
            <a:ext cx="674640" cy="675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8469360" y="618336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7315200" y="6173640"/>
            <a:ext cx="674640" cy="67500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228600" y="685800"/>
            <a:ext cx="8915400" cy="5321160"/>
            <a:chOff x="228600" y="685800"/>
            <a:chExt cx="8915400" cy="5321160"/>
          </a:xfrm>
        </p:grpSpPr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228600" y="762120"/>
              <a:ext cx="254160" cy="2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629400" y="39625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何首乌和木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5638680" y="685800"/>
              <a:ext cx="76320" cy="1066680"/>
              <a:chOff x="5638680" y="685800"/>
              <a:chExt cx="76320" cy="1066680"/>
            </a:xfrm>
          </p:grpSpPr>
          <p:sp>
            <p:nvSpPr>
              <p:cNvPr id="255" name=""/>
              <p:cNvSpPr/>
              <p:nvPr/>
            </p:nvSpPr>
            <p:spPr>
              <a:xfrm>
                <a:off x="5638680" y="685800"/>
                <a:ext cx="0" cy="106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715000" y="685800"/>
                <a:ext cx="0" cy="106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685800" y="762120"/>
              <a:ext cx="4724280" cy="761760"/>
              <a:chOff x="685800" y="762120"/>
              <a:chExt cx="4724280" cy="761760"/>
            </a:xfrm>
          </p:grpSpPr>
          <p:sp>
            <p:nvSpPr>
              <p:cNvPr id="258" name=""/>
              <p:cNvSpPr/>
              <p:nvPr/>
            </p:nvSpPr>
            <p:spPr>
              <a:xfrm>
                <a:off x="762120" y="914040"/>
                <a:ext cx="457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“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不必说 ……也不必说……”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5800" y="762120"/>
                <a:ext cx="4724280" cy="761760"/>
              </a:xfrm>
              <a:prstGeom prst="rect">
                <a:avLst/>
              </a:prstGeom>
              <a:noFill/>
              <a:ln w="572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943600" y="762120"/>
              <a:ext cx="2057400" cy="763560"/>
              <a:chOff x="5943600" y="762120"/>
              <a:chExt cx="2057400" cy="763560"/>
            </a:xfrm>
          </p:grpSpPr>
          <p:sp>
            <p:nvSpPr>
              <p:cNvPr id="261" name=""/>
              <p:cNvSpPr/>
              <p:nvPr/>
            </p:nvSpPr>
            <p:spPr>
              <a:xfrm>
                <a:off x="5943600" y="762120"/>
                <a:ext cx="2057400" cy="763560"/>
              </a:xfrm>
              <a:prstGeom prst="rect">
                <a:avLst/>
              </a:prstGeom>
              <a:noFill/>
              <a:ln w="572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019920" y="900720"/>
                <a:ext cx="1904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“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单是……”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743200" y="1600200"/>
              <a:ext cx="4038480" cy="609480"/>
              <a:chOff x="2743200" y="1600200"/>
              <a:chExt cx="4038480" cy="609480"/>
            </a:xfrm>
          </p:grpSpPr>
          <p:sp>
            <p:nvSpPr>
              <p:cNvPr id="264" name=""/>
              <p:cNvSpPr/>
              <p:nvPr/>
            </p:nvSpPr>
            <p:spPr>
              <a:xfrm>
                <a:off x="2743200" y="160020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81680" y="160020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2057400" y="2209680"/>
              <a:ext cx="1295280" cy="6098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整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2200" y="2209680"/>
              <a:ext cx="1295280" cy="6098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局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52680" y="2590920"/>
              <a:ext cx="2743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33920" y="20574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写作顺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90720" y="3352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先静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00400" y="3352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后动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05520" y="33526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先动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2920" y="33526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后静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66680" y="39625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菜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4470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石井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66680" y="497844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皂荚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4864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桑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76720" y="39625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鸣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76720" y="49784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叫天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6720" y="44704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7800" y="39625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油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57800" y="44704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蟋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57800" y="49784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蜈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54864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29400" y="44704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覆盆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76520" y="1371600"/>
              <a:ext cx="18208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0" spc="-1" strike="noStrike">
                  <a:solidFill>
                    <a:srgbClr val="000000"/>
                  </a:solidFill>
                  <a:latin typeface="Times New Roman"/>
                </a:rPr>
                <a:t>︷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75480" y="1371600"/>
              <a:ext cx="19969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0" spc="-1" strike="noStrike">
                  <a:solidFill>
                    <a:srgbClr val="000000"/>
                  </a:solidFill>
                  <a:latin typeface="Times New Roman"/>
                </a:rPr>
                <a:t>︷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763640" y="206064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不必说”撇开一些东西，是为了突出“单是”的内容。既然“单是”这一点已经趣味无穷了，那么园中的乐趣比比皆是了。这样写，突出了百草园的无穷乐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4360" y="1413000"/>
            <a:ext cx="7696080" cy="5105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2920" y="0"/>
            <a:ext cx="7632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必说……也不必说……单是……”这个句式在文章中起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696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段在语言上有什么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从修辞手法的角度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比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覆盆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像小珊瑚珠攒成   的小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拟人：油蛉在这里低唱，蟋蟀们在这里弹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3240" y="1998720"/>
            <a:ext cx="358920" cy="2016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486900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写出孩子心中奇妙的想象和特殊的感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6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1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6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1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093080" y="189000"/>
            <a:ext cx="16952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百草园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95" name=""/>
          <p:cNvSpPr/>
          <p:nvPr/>
        </p:nvSpPr>
        <p:spPr>
          <a:xfrm>
            <a:off x="1042920" y="9079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重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然段的写景是全文精彩之笔，不仅形、声、色、味俱全，春、夏、秋景皆备，而且层次井然，条理分明。齐读并思考下列问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9640" y="2924280"/>
            <a:ext cx="76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771480" cy="642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11280" y="3294000"/>
            <a:ext cx="8305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菜畦的“碧绿”，桑葚的“紫红”、菜花和蜂的“黄”是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“肥胖”“高大”“臃肿”“像小珊瑚珠攒成的小球”是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这两者都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觉上写；鸣蝉的“长吟”，蟋蟀的“弹琴”，是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写；覆盆子“又酸又甜”写的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所以说它有声有色、有滋有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这里又包括了春、夏、秋三个季节的景物，桑葚、菜花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，蝉鸣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蟋蟀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才叫；这与下文写到的冬天的百草园合起来成为完整的四季图，可见作者构思的精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1280" y="2708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颜色 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3068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形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3640" y="306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24000" y="3429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听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51640" y="3429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味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76360" y="5300640"/>
            <a:ext cx="107964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春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56000" y="5300640"/>
            <a:ext cx="9352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盛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77080" y="5300640"/>
            <a:ext cx="9367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秋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900000" y="620640"/>
            <a:ext cx="7693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写了百草园的景物后，为什么要写美女蛇的故事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讨论并归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1640" y="3370320"/>
            <a:ext cx="741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美女蛇的故事很吸引孩子，给百草园增添了神秘色彩，丰富了百草园作为儿童乐园的情趣。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740720" y="1125360"/>
            <a:ext cx="857160" cy="10814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596360" y="1916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00000" y="333360"/>
            <a:ext cx="64818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美女蛇的故事本来与文中提到的百草园中的赤练蛇没有直接关系，但作者却由此生发联想。你认为作者为什么要写这一内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5640" y="2708280"/>
            <a:ext cx="792000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长妈妈的迷信思想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寄托善良制服邪恶的愿望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人们从中得到一些教训，悟出一些道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百草园增添更多的神秘色彩以及对孩子的吸引力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50920" y="692280"/>
            <a:ext cx="771480" cy="642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7093080" y="189000"/>
            <a:ext cx="16952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百草园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冬天的百草园最有趣的是什么事？文章是怎样描写的，运用了哪些动词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为什么要写捕鸟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先写捕鸟的时间、条件、方法，然后写捕鸟的收获、经验教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动词有：“扫开”、“露出”、“支起”、“撒”、“系”、“牵”、“看”、“拉”、“罩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写捕鸟也是写百草园给爱玩的儿童带来的无穷乐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9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2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2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16000" y="3333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第七节，思考下列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114300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先写百草园冬天的“无味”，然后写下雪带来的乐趣，这是什么写法？起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32767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找出表示捕鸟动作的词，说说这些词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54864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用最短的时间背诵这段文字，并把背诵方法介绍给同学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469360" y="618336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322" name=""/>
          <p:cNvGrpSpPr/>
          <p:nvPr/>
        </p:nvGrpSpPr>
        <p:grpSpPr>
          <a:xfrm>
            <a:off x="457200" y="2590920"/>
            <a:ext cx="7467480" cy="532800"/>
            <a:chOff x="457200" y="2590920"/>
            <a:chExt cx="7467480" cy="532800"/>
          </a:xfrm>
        </p:grpSpPr>
        <p:sp>
          <p:nvSpPr>
            <p:cNvPr id="323" name=""/>
            <p:cNvSpPr/>
            <p:nvPr/>
          </p:nvSpPr>
          <p:spPr>
            <a:xfrm>
              <a:off x="1066680" y="259092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以没有雪的无味来衬托下雪带来的乐趣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457200" y="2666880"/>
              <a:ext cx="457200" cy="45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457200" y="5486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047600" y="3809880"/>
            <a:ext cx="6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30320" y="380988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28800" y="3809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16480" y="380988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5880" y="3809880"/>
            <a:ext cx="5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40440" y="38098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49920" y="380988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00760" y="38098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380988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4343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九个表述动作的词，准确而生动地表现了雪地捕鸟的过程，写出了雪后捕鸟的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4572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457200" y="388620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457200" y="2057400"/>
            <a:ext cx="7467480" cy="533520"/>
            <a:chOff x="457200" y="2057400"/>
            <a:chExt cx="7467480" cy="533520"/>
          </a:xfrm>
        </p:grpSpPr>
        <p:sp>
          <p:nvSpPr>
            <p:cNvPr id="339" name=""/>
            <p:cNvSpPr/>
            <p:nvPr/>
          </p:nvSpPr>
          <p:spPr>
            <a:xfrm>
              <a:off x="1066680" y="20574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先抑后扬，欲扬先抑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7"/>
            <a:stretch/>
          </p:blipFill>
          <p:spPr>
            <a:xfrm>
              <a:off x="457200" y="21337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1" name="" descr=""/>
          <p:cNvPicPr/>
          <p:nvPr/>
        </p:nvPicPr>
        <p:blipFill>
          <a:blip r:embed="rId8"/>
          <a:stretch/>
        </p:blipFill>
        <p:spPr>
          <a:xfrm>
            <a:off x="457200" y="441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9"/>
          <a:stretch/>
        </p:blipFill>
        <p:spPr>
          <a:xfrm>
            <a:off x="7162920" y="618336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7315200" y="6183360"/>
            <a:ext cx="674640" cy="6746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47920" y="1981080"/>
            <a:ext cx="1295280" cy="6858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扫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1981080"/>
            <a:ext cx="1295280" cy="6858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露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1981080"/>
            <a:ext cx="1295640" cy="6858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支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3581280"/>
            <a:ext cx="1295280" cy="6858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撒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14800" y="5181480"/>
            <a:ext cx="1295280" cy="6858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3581280"/>
            <a:ext cx="1295280" cy="6858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81680" y="3581280"/>
            <a:ext cx="1295640" cy="6858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牵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5181480"/>
            <a:ext cx="1295640" cy="6858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5181480"/>
            <a:ext cx="1295280" cy="6858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125" y="0"/>
                </a:lnTo>
                <a:lnTo>
                  <a:pt x="21600" y="10800"/>
                </a:lnTo>
                <a:lnTo>
                  <a:pt x="101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看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09480"/>
            <a:ext cx="45720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文鼎粗魏碑简"/>
              </a:rPr>
              <a:t>抓住关键动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8469360" y="6173640"/>
            <a:ext cx="674640" cy="675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09480" y="3484440"/>
            <a:ext cx="5105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百草园的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声有色，充满乐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2920" y="981000"/>
            <a:ext cx="4317840" cy="2519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78200" y="981000"/>
            <a:ext cx="4318200" cy="2519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354816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85960" y="4535640"/>
            <a:ext cx="11307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美女蛇故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增添了神秘色彩，丰富了情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46440" y="505944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32440" y="3543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雪地捕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带来无穷乐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54800" y="354816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516720" y="4581360"/>
            <a:ext cx="2475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自由快乐的乐园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64" name=""/>
          <p:cNvSpPr/>
          <p:nvPr/>
        </p:nvSpPr>
        <p:spPr>
          <a:xfrm>
            <a:off x="179280" y="4222800"/>
            <a:ext cx="4318200" cy="25192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9640" y="115920"/>
            <a:ext cx="38880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百草园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6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3000"/>
                            </p:stCondLst>
                            <p:childTnLst>
                              <p:par>
                                <p:cTn id="974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7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4500"/>
                            </p:stCondLst>
                            <p:childTnLst>
                              <p:par>
                                <p:cTn id="9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24360" y="304920"/>
            <a:ext cx="4321080" cy="633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3003480" cy="6119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922560" y="260280"/>
            <a:ext cx="4321440" cy="63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93360" y="610920"/>
            <a:ext cx="25369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74674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我”即将结束在百草园的生活，要去私塾读书，“我”是怎么想的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我”为何留恋百草园的生活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00000" y="24210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三个“也许”，他在反复揣测，认为可能是做错了事所受的惩罚。可见他对百草园是多么的留恋。预示着三味书屋与百草园将是截然不同的一块天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26920" y="505764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由由自在，无拘无束。在这里，“我”学到了许多知识。这是从“我”从老师和书本中学不到的东西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8286840" y="6370560"/>
            <a:ext cx="857160" cy="479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2" name="projctor.wav"/>
      </p:stSnd>
    </p:sndAc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7360" y="-52174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06400" y="764640"/>
            <a:ext cx="8229600" cy="57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我”到底知不知道被送到私塾去的原因呢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你是从哪些词语看出来的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知道，从“也许是……也许是……也许是……都无从知道”可以看出，三个“也许是”表示尽管猜测的原因很多，但一个也无法肯定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      “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de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，我的蟋蟀们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!Ade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，我的覆盆子们和木莲们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!”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这句话运用什么修辞手法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表达了作者什么心理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用拟人，表达了“我”对百草园的依恋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2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849240" y="524160"/>
            <a:ext cx="3494160" cy="759960"/>
          </a:xfrm>
          <a:custGeom>
            <a:avLst/>
            <a:gdLst>
              <a:gd name="textAreaLeft" fmla="*/ 89280 w 3494160"/>
              <a:gd name="textAreaRight" fmla="*/ 3404880 w 3494160"/>
              <a:gd name="textAreaTop" fmla="*/ 89280 h 759960"/>
              <a:gd name="textAreaBottom" fmla="*/ 670680 h 759960"/>
            </a:gdLst>
            <a:ahLst/>
            <a:rect l="textAreaLeft" t="textAreaTop" r="textAreaRight" b="textAreaBottom"/>
            <a:pathLst>
              <a:path w="992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5676" y="21600"/>
                </a:lnTo>
                <a:arcTo wR="3600" hR="3600" stAng="10800000" swAng="5400000"/>
                <a:lnTo>
                  <a:pt x="992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结构上的作用：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52388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句 “不知道”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字，表明了去三味书屋是被迫的。第二句三个“也许”，猜测原因，推断去三味书屋是一种惩罚，预示了三味书屋的生活让人反感。最后三句直接抒发了对百草园的难分难舍的感情。因此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第九节表达了“我”对百草园的依恋和对三味书屋的反感之情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3400" y="685800"/>
            <a:ext cx="44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承上启下的过渡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1667160"/>
            <a:ext cx="3417840" cy="759960"/>
          </a:xfrm>
          <a:custGeom>
            <a:avLst/>
            <a:gdLst>
              <a:gd name="textAreaLeft" fmla="*/ 89280 w 3417840"/>
              <a:gd name="textAreaRight" fmla="*/ 3328560 w 3417840"/>
              <a:gd name="textAreaTop" fmla="*/ 89280 h 759960"/>
              <a:gd name="textAreaBottom" fmla="*/ 670680 h 759960"/>
            </a:gdLst>
            <a:ahLst/>
            <a:rect l="textAreaLeft" t="textAreaTop" r="textAreaRight" b="textAreaBottom"/>
            <a:pathLst>
              <a:path w="971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3508" y="21600"/>
                </a:lnTo>
                <a:arcTo wR="3600" hR="3600" stAng="10800000" swAng="5400000"/>
                <a:lnTo>
                  <a:pt x="971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表情达意的作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629400" y="57913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7772400" y="57913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533520" y="457200"/>
            <a:ext cx="739116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第二课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〖教学要点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学习“三味书屋”部分，体会文章对三味书屋环境和先生的描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讨论文章的主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581280" cy="3057480"/>
          </a:xfrm>
          <a:prstGeom prst="rect">
            <a:avLst/>
          </a:prstGeom>
          <a:ln w="0">
            <a:noFill/>
          </a:ln>
        </p:spPr>
      </p:pic>
      <p:pic>
        <p:nvPicPr>
          <p:cNvPr id="381" name="sanweishuwu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3657600" cy="29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04920" y="380880"/>
            <a:ext cx="339084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轻松讨论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83" name=""/>
          <p:cNvSpPr/>
          <p:nvPr/>
        </p:nvSpPr>
        <p:spPr>
          <a:xfrm>
            <a:off x="5294520" y="5796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两人一组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1752480"/>
            <a:ext cx="982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1"/>
              </a:rPr>
              <a:t>1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2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鲁迅对三味书屋有哪些不满意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3"/>
              </a:rPr>
              <a:t>2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4"/>
              </a:rPr>
              <a:t>、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你怎样认识百草园和三味书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、鲁迅可以逃避烦恼不去上学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什么是真正的成长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5"/>
              </a:rPr>
              <a:t>5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6"/>
              </a:rPr>
              <a:t>、</a:t>
            </a:r>
            <a:r>
              <a:rPr b="1" lang="zh-CN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寿静吾是怎样的老师？你怎样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7"/>
              </a:rPr>
              <a:t>6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楷体_GB2312"/>
                <a:ea typeface="楷体_GB2312"/>
                <a:hlinkClick r:id="rId8"/>
              </a:rPr>
              <a:t>、</a:t>
            </a:r>
            <a:r>
              <a:rPr b="1" lang="zh-CN" sz="44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三味书屋中有哪些趣事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55640" y="692280"/>
            <a:ext cx="4419720" cy="2698560"/>
          </a:xfrm>
          <a:custGeom>
            <a:avLst/>
            <a:gdLst>
              <a:gd name="textAreaLeft" fmla="*/ 269280 w 4419720"/>
              <a:gd name="textAreaRight" fmla="*/ 4150440 w 4419720"/>
              <a:gd name="textAreaTop" fmla="*/ 269280 h 2698560"/>
              <a:gd name="textAreaBottom" fmla="*/ 2429280 h 2698560"/>
            </a:gdLst>
            <a:ahLst/>
            <a:rect l="textAreaLeft" t="textAreaTop" r="textAreaRight" b="textAreaBottom"/>
            <a:pathLst>
              <a:path w="35375" h="21600">
                <a:moveTo>
                  <a:pt x="3049" y="0"/>
                </a:moveTo>
                <a:arcTo wR="3049" hR="3049" stAng="0" swAng="5400000"/>
                <a:lnTo>
                  <a:pt x="0" y="18551"/>
                </a:lnTo>
                <a:arcTo wR="3049" hR="3049" stAng="16200000" swAng="5400000"/>
                <a:lnTo>
                  <a:pt x="32326" y="21600"/>
                </a:lnTo>
                <a:arcTo wR="3049" hR="3049" stAng="10800000" swAng="5400000"/>
                <a:lnTo>
                  <a:pt x="35375" y="3049"/>
                </a:lnTo>
                <a:arcTo wR="3049" hR="3049" stAng="5400000" swAng="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6200" y="3860640"/>
            <a:ext cx="87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文中找出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味书屋环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句子，说说三味书屋的环境是怎样的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71960" y="1022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三味书屋环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30440" y="5373720"/>
            <a:ext cx="36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点拨：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段、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段的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386320" y="0"/>
            <a:ext cx="3757680" cy="45086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042920" y="10382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二部分是从哪些方面写三味书屋的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48000" y="2852640"/>
            <a:ext cx="280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入学礼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教书先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教学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同窗学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6227640" y="3941640"/>
            <a:ext cx="29163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593640" y="498600"/>
            <a:ext cx="82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少年儿童与大自然接触，不仅增长知识，而且无拘无束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三味书屋学的东西似懂非懂，枯燥无味。这是从儿童无知的视角来写的。生活比较枯燥，学习内容引不起兴趣，教师不允许问课外的知识，原来的贪玩到现在的读书，有趣的故事到听不懂的文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10640" y="1159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你怎样认识百草园和三味书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79480" y="1197000"/>
            <a:ext cx="333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中怎样写先生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2492280"/>
            <a:ext cx="8459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一是知识渊博，但拒绝回答“怪哉”一类的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二是教学认真，不断增加教学内容。学生捧读“四书”“五经”之类的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三是不太束缚学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95280" y="549360"/>
            <a:ext cx="4419720" cy="2698560"/>
          </a:xfrm>
          <a:custGeom>
            <a:avLst/>
            <a:gdLst>
              <a:gd name="textAreaLeft" fmla="*/ 215280 w 4419720"/>
              <a:gd name="textAreaRight" fmla="*/ 4204440 w 4419720"/>
              <a:gd name="textAreaTop" fmla="*/ 215280 h 2698560"/>
              <a:gd name="textAreaBottom" fmla="*/ 2483280 h 2698560"/>
            </a:gdLst>
            <a:ahLst/>
            <a:rect l="textAreaLeft" t="textAreaTop" r="textAreaRight" b="textAreaBottom"/>
            <a:pathLst>
              <a:path w="35375" h="21600">
                <a:moveTo>
                  <a:pt x="2440" y="0"/>
                </a:moveTo>
                <a:arcTo wR="2440" hR="2440" stAng="0" swAng="5400000"/>
                <a:lnTo>
                  <a:pt x="0" y="19160"/>
                </a:lnTo>
                <a:arcTo wR="2440" hR="2440" stAng="16200000" swAng="5400000"/>
                <a:lnTo>
                  <a:pt x="32935" y="21600"/>
                </a:lnTo>
                <a:arcTo wR="2440" hR="2440" stAng="10800000" swAng="5400000"/>
                <a:lnTo>
                  <a:pt x="35375" y="2440"/>
                </a:lnTo>
                <a:arcTo wR="2440" hR="2440" stAng="5400000" swAng="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9640" y="3789360"/>
            <a:ext cx="4419720" cy="2698920"/>
          </a:xfrm>
          <a:custGeom>
            <a:avLst/>
            <a:gdLst>
              <a:gd name="textAreaLeft" fmla="*/ 241200 w 4419720"/>
              <a:gd name="textAreaRight" fmla="*/ 4178520 w 4419720"/>
              <a:gd name="textAreaTop" fmla="*/ 241200 h 2698920"/>
              <a:gd name="textAreaBottom" fmla="*/ 2457720 h 2698920"/>
            </a:gdLst>
            <a:ahLst/>
            <a:rect l="textAreaLeft" t="textAreaTop" r="textAreaRight" b="textAreaBottom"/>
            <a:pathLst>
              <a:path w="35370" h="21600">
                <a:moveTo>
                  <a:pt x="2732" y="0"/>
                </a:moveTo>
                <a:arcTo wR="2732" hR="2732" stAng="0" swAng="5400000"/>
                <a:lnTo>
                  <a:pt x="0" y="18868"/>
                </a:lnTo>
                <a:arcTo wR="2732" hR="2732" stAng="16200000" swAng="5400000"/>
                <a:lnTo>
                  <a:pt x="32638" y="21600"/>
                </a:lnTo>
                <a:arcTo wR="2732" hR="2732" stAng="10800000" swAng="5400000"/>
                <a:lnTo>
                  <a:pt x="35370" y="2732"/>
                </a:lnTo>
                <a:arcTo wR="2732" hR="2732" stAng="5400000" swAng="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1916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怪哉’这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怎么一回事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292720" y="479736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到这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总是微笑起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且将头仰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摇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后面拗过去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5003640" y="1989000"/>
            <a:ext cx="306720" cy="3063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5219640" y="4292640"/>
            <a:ext cx="306360" cy="30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31640" y="1268280"/>
            <a:ext cx="871236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、时间就是生命，无端的空耗别人的时间，其实无异于谋财害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、我们从古以来，就有埋头苦干的人，有拼命硬干的人，有为民请命的人，有舍身求法的人，……这就是中国的脊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、时间就像海绵里的水，只要你愿意挤，总还是有的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、我好象是一只牛，吃的是草，挤出的是牛奶。</a:t>
            </a:r>
            <a:br>
              <a:rPr sz="2400"/>
            </a:b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、不满是向上的车轮，能够载着不自满的人前进。</a:t>
            </a:r>
            <a:br>
              <a:rPr sz="2400"/>
            </a:b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、横眉冷对千夫指，俯首甘为孺子牛。</a:t>
            </a:r>
            <a:br>
              <a:rPr sz="2400"/>
            </a:b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、寄意寒星荃不察，我以我血荐轩辕 。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、哪里有天才，我是把别人喝咖啡的工夫都用在了工作上了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2602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鲁迅名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96360" y="6308640"/>
            <a:ext cx="1331640" cy="368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380360" y="476280"/>
            <a:ext cx="66672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-395280" y="3860640"/>
            <a:ext cx="2620800" cy="2997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527400" y="44280"/>
            <a:ext cx="1643760" cy="825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深入探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00000" y="105264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怎样理解先生对学生提问的态度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16000" y="2349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学生提问应肯定。而先生表示拒绝回答，这是因为学生在不适合的时间提出了不相干的问题，违反了教学的秩序和师道尊严。这在一定的程度上反映了封建制度的弊端，应予否定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24000" y="549360"/>
            <a:ext cx="8820000" cy="3141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极方正、质朴、博学、和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他似乎很不高兴，脸上还有怒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先生最初几天对我很严厉，后来却好起来了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他有一条戒尺，但是不常用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他总是微笑起来，而且将头仰起，摇着，向后面拗过去，拗过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0920" y="46530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在当时比较开明，不打骂学生；对学生既和蔼又严格。但在封建社会里，他的教学内容，教学方式都是守旧</a:t>
            </a: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楷体_GB2312"/>
              </a:rPr>
              <a:t>的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23360" y="115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cc"/>
                </a:solidFill>
                <a:latin typeface="Times New Roman"/>
              </a:rPr>
              <a:t>寿静吾是怎样的老师？你怎样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zh-CN" sz="54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/>
              </a:rPr>
              <a:t>鲁迅的塾师寿镜吾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先生是一位极方正、质朴、博学的人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574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shoujingwu" descr=""/>
          <p:cNvPicPr/>
          <p:nvPr/>
        </p:nvPicPr>
        <p:blipFill>
          <a:blip r:embed="rId2"/>
          <a:stretch/>
        </p:blipFill>
        <p:spPr>
          <a:xfrm>
            <a:off x="4648320" y="1871640"/>
            <a:ext cx="38098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75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75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75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75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62120" y="609480"/>
            <a:ext cx="754380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寿镜吾老先生自二十岁考取秀才后，不再参加考试，远离仕途，自甘淡泊，子承父业坐馆教书达六十年之久。他谙熟四书五经，博学正直，具有反清爱国思想。在封建社会中他还是比较开明的，为人方正、质朴，对学生和蔼，对童年的鲁迅十分关心。他是鲁迅的启蒙老师，鲁迅对他一直很恭敬。鲁迅成年后，师生之间常有书信往来，鲁迅每次回家也都前去看望先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6705720" y="57913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5638680" y="57913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7772400" y="57913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1066680" y="609480"/>
            <a:ext cx="457200" cy="4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sanweishuwu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657600" cy="2992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4356000" y="1628640"/>
            <a:ext cx="42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味书屋的生活枯燥无味吗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哪些趣事呢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87280" y="4221000"/>
            <a:ext cx="7056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有机会就跑出去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折腊梅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寻蝉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座位上做各种游戏，画画儿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755640" y="54936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者为什么要写学生贪玩逃学的情节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4360" y="2060640"/>
            <a:ext cx="77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游戏是孩子的本性，总是要表现出来的，但在课堂上贪玩甚至逃学，一般来说是不允许的。但课文旨在从侧面表现教学内容和教学方式的陈旧，学生对此不感兴趣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938960" y="620640"/>
            <a:ext cx="51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者对三味书屋的感受是什么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1484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与百草园的自由快乐相比，三味书屋显然是太受约束，且令人深感枯燥。但也应看到，孩子们也能随先生有板有眼的学习，并不抵触，况且也有游戏的乐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329904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431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434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1619280" y="260280"/>
            <a:ext cx="59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ahoma"/>
                <a:ea typeface="华文琥珀"/>
              </a:rPr>
              <a:t>三味书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1989000"/>
            <a:ext cx="720720" cy="4032360"/>
          </a:xfrm>
          <a:custGeom>
            <a:avLst/>
            <a:gdLst>
              <a:gd name="textAreaLeft" fmla="*/ 460440 w 720720"/>
              <a:gd name="textAreaRight" fmla="*/ 721080 w 72072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213372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楷体"/>
              </a:rPr>
              <a:t>过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9640" y="3789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楷体"/>
              </a:rPr>
              <a:t>环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5445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楷体"/>
              </a:rPr>
              <a:t>活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35280" y="213372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楷体"/>
              </a:rPr>
              <a:t>留恋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35280" y="378936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楷体"/>
              </a:rPr>
              <a:t>严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08000" y="4941720"/>
            <a:ext cx="208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楷体"/>
              </a:rPr>
              <a:t>枯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楷体"/>
              </a:rPr>
              <a:t>也有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211640" y="1413000"/>
            <a:ext cx="289080" cy="4392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2708280"/>
            <a:ext cx="54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ahoma"/>
                <a:ea typeface="华文琥珀"/>
              </a:rPr>
              <a:t>对老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00720" y="112536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楷体"/>
              </a:rPr>
              <a:t>方正、质朴、博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00720" y="2852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楷体"/>
              </a:rPr>
              <a:t>不回答我”的问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27640" y="4292640"/>
            <a:ext cx="360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楷体"/>
              </a:rPr>
              <a:t>有戒尺不常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楷体"/>
              </a:rPr>
              <a:t>读书入神时学生可画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12000" y="1628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楷体"/>
              </a:rPr>
              <a:t>恭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12000" y="3213000"/>
            <a:ext cx="20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楷体"/>
              </a:rPr>
              <a:t>不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812000" y="4724280"/>
            <a:ext cx="16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楷体"/>
              </a:rPr>
              <a:t>开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0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066680" y="3124080"/>
            <a:ext cx="28195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百草园的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2920" y="533520"/>
            <a:ext cx="4317840" cy="2519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78200" y="533520"/>
            <a:ext cx="4318200" cy="25192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32767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70600" y="4424400"/>
            <a:ext cx="14475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美女蛇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76920" y="396252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5880" y="3200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雪地捕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32004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5715000" y="4038480"/>
            <a:ext cx="2743200" cy="14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8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自由快乐的乐园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4038480"/>
            <a:ext cx="4317840" cy="25196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>
            <a:off x="8164440" y="5952960"/>
            <a:ext cx="674640" cy="6750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6"/>
          <a:stretch/>
        </p:blipFill>
        <p:spPr>
          <a:xfrm>
            <a:off x="7053120" y="5952960"/>
            <a:ext cx="675000" cy="6750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7"/>
          <a:stretch/>
        </p:blipFill>
        <p:spPr>
          <a:xfrm>
            <a:off x="5943600" y="5952960"/>
            <a:ext cx="674640" cy="6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0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4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8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3429000"/>
            <a:ext cx="4419720" cy="2698920"/>
          </a:xfrm>
          <a:custGeom>
            <a:avLst/>
            <a:gdLst>
              <a:gd name="textAreaLeft" fmla="*/ 215280 w 4419720"/>
              <a:gd name="textAreaRight" fmla="*/ 4204440 w 4419720"/>
              <a:gd name="textAreaTop" fmla="*/ 215280 h 2698920"/>
              <a:gd name="textAreaBottom" fmla="*/ 2483640 h 2698920"/>
            </a:gdLst>
            <a:ahLst/>
            <a:rect l="textAreaLeft" t="textAreaTop" r="textAreaRight" b="textAreaBottom"/>
            <a:pathLst>
              <a:path w="35370" h="21600">
                <a:moveTo>
                  <a:pt x="2440" y="0"/>
                </a:moveTo>
                <a:arcTo wR="2440" hR="2440" stAng="0" swAng="5400000"/>
                <a:lnTo>
                  <a:pt x="0" y="19160"/>
                </a:lnTo>
                <a:arcTo wR="2440" hR="2440" stAng="16200000" swAng="5400000"/>
                <a:lnTo>
                  <a:pt x="32930" y="21600"/>
                </a:lnTo>
                <a:arcTo wR="2440" hR="2440" stAng="10800000" swAng="5400000"/>
                <a:lnTo>
                  <a:pt x="35370" y="2440"/>
                </a:lnTo>
                <a:arcTo wR="2440" hR="2440" stAng="5400000" swAng="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457200"/>
            <a:ext cx="4419720" cy="2698920"/>
          </a:xfrm>
          <a:custGeom>
            <a:avLst/>
            <a:gdLst>
              <a:gd name="textAreaLeft" fmla="*/ 241200 w 4419720"/>
              <a:gd name="textAreaRight" fmla="*/ 4178520 w 4419720"/>
              <a:gd name="textAreaTop" fmla="*/ 241200 h 2698920"/>
              <a:gd name="textAreaBottom" fmla="*/ 2457720 h 2698920"/>
            </a:gdLst>
            <a:ahLst/>
            <a:rect l="textAreaLeft" t="textAreaTop" r="textAreaRight" b="textAreaBottom"/>
            <a:pathLst>
              <a:path w="35370" h="21600">
                <a:moveTo>
                  <a:pt x="2732" y="0"/>
                </a:moveTo>
                <a:arcTo wR="2732" hR="2732" stAng="0" swAng="5400000"/>
                <a:lnTo>
                  <a:pt x="0" y="18868"/>
                </a:lnTo>
                <a:arcTo wR="2732" hR="2732" stAng="16200000" swAng="5400000"/>
                <a:lnTo>
                  <a:pt x="32638" y="21600"/>
                </a:lnTo>
                <a:arcTo wR="2732" hR="2732" stAng="10800000" swAng="5400000"/>
                <a:lnTo>
                  <a:pt x="35370" y="2732"/>
                </a:lnTo>
                <a:arcTo wR="2732" hR="2732" stAng="5400000" swAng="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457200"/>
            <a:ext cx="4419720" cy="2698920"/>
          </a:xfrm>
          <a:custGeom>
            <a:avLst/>
            <a:gdLst>
              <a:gd name="textAreaLeft" fmla="*/ 269280 w 4419720"/>
              <a:gd name="textAreaRight" fmla="*/ 4150440 w 4419720"/>
              <a:gd name="textAreaTop" fmla="*/ 269280 h 2698920"/>
              <a:gd name="textAreaBottom" fmla="*/ 2429640 h 2698920"/>
            </a:gdLst>
            <a:ahLst/>
            <a:rect l="textAreaLeft" t="textAreaTop" r="textAreaRight" b="textAreaBottom"/>
            <a:pathLst>
              <a:path w="35370" h="21600">
                <a:moveTo>
                  <a:pt x="3049" y="0"/>
                </a:moveTo>
                <a:arcTo wR="3049" hR="3049" stAng="0" swAng="5400000"/>
                <a:lnTo>
                  <a:pt x="0" y="18551"/>
                </a:lnTo>
                <a:arcTo wR="3049" hR="3049" stAng="16200000" swAng="5400000"/>
                <a:lnTo>
                  <a:pt x="32321" y="21600"/>
                </a:lnTo>
                <a:arcTo wR="3049" hR="3049" stAng="10800000" swAng="5400000"/>
                <a:lnTo>
                  <a:pt x="35370" y="3049"/>
                </a:lnTo>
                <a:arcTo wR="3049" hR="3049" stAng="5400000" swAng="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7086600" y="6183360"/>
            <a:ext cx="674640" cy="6746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5105520" y="3505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味书屋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4038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怪哉’这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怎么一回事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05520" y="48006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到这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总是微笑起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且将头仰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摇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后面拗过去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8153280" y="6183360"/>
            <a:ext cx="674640" cy="674640"/>
          </a:xfrm>
          <a:prstGeom prst="rect">
            <a:avLst/>
          </a:prstGeom>
          <a:ln w="0">
            <a:noFill/>
          </a:ln>
        </p:spPr>
      </p:pic>
      <p:grpSp>
        <p:nvGrpSpPr>
          <p:cNvPr id="476" name=""/>
          <p:cNvGrpSpPr/>
          <p:nvPr/>
        </p:nvGrpSpPr>
        <p:grpSpPr>
          <a:xfrm>
            <a:off x="4191120" y="2895480"/>
            <a:ext cx="763560" cy="687240"/>
            <a:chOff x="4191120" y="2895480"/>
            <a:chExt cx="763560" cy="687240"/>
          </a:xfrm>
        </p:grpSpPr>
        <p:pic>
          <p:nvPicPr>
            <p:cNvPr id="477" name="" descr=""/>
            <p:cNvPicPr/>
            <p:nvPr/>
          </p:nvPicPr>
          <p:blipFill>
            <a:blip r:embed="rId6"/>
            <a:stretch/>
          </p:blipFill>
          <p:spPr>
            <a:xfrm>
              <a:off x="4191120" y="2895480"/>
              <a:ext cx="30636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7"/>
            <a:stretch/>
          </p:blipFill>
          <p:spPr>
            <a:xfrm>
              <a:off x="4267440" y="3276360"/>
              <a:ext cx="30636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8"/>
            <a:stretch/>
          </p:blipFill>
          <p:spPr>
            <a:xfrm>
              <a:off x="4648320" y="2971800"/>
              <a:ext cx="306360" cy="30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0" name="" descr=""/>
          <p:cNvPicPr/>
          <p:nvPr/>
        </p:nvPicPr>
        <p:blipFill>
          <a:blip r:embed="rId9"/>
          <a:stretch/>
        </p:blipFill>
        <p:spPr>
          <a:xfrm>
            <a:off x="4876920" y="365760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0"/>
          <a:stretch/>
        </p:blipFill>
        <p:spPr>
          <a:xfrm>
            <a:off x="4876920" y="419112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1"/>
          <a:stretch/>
        </p:blipFill>
        <p:spPr>
          <a:xfrm>
            <a:off x="4876920" y="4952880"/>
            <a:ext cx="306360" cy="306360"/>
          </a:xfrm>
          <a:prstGeom prst="rect">
            <a:avLst/>
          </a:prstGeom>
          <a:ln w="0">
            <a:noFill/>
          </a:ln>
        </p:spPr>
      </p:pic>
      <p:grpSp>
        <p:nvGrpSpPr>
          <p:cNvPr id="483" name=""/>
          <p:cNvGrpSpPr/>
          <p:nvPr/>
        </p:nvGrpSpPr>
        <p:grpSpPr>
          <a:xfrm>
            <a:off x="4724280" y="3429000"/>
            <a:ext cx="4419720" cy="2698920"/>
            <a:chOff x="4724280" y="3429000"/>
            <a:chExt cx="4419720" cy="2698920"/>
          </a:xfrm>
        </p:grpSpPr>
        <p:sp>
          <p:nvSpPr>
            <p:cNvPr id="484" name=""/>
            <p:cNvSpPr/>
            <p:nvPr/>
          </p:nvSpPr>
          <p:spPr>
            <a:xfrm>
              <a:off x="4724280" y="3429000"/>
              <a:ext cx="4419720" cy="2698920"/>
            </a:xfrm>
            <a:custGeom>
              <a:avLst/>
              <a:gdLst>
                <a:gd name="textAreaLeft" fmla="*/ 228960 w 4419720"/>
                <a:gd name="textAreaRight" fmla="*/ 4190760 w 4419720"/>
                <a:gd name="textAreaTop" fmla="*/ 228960 h 2698920"/>
                <a:gd name="textAreaBottom" fmla="*/ 2469960 h 2698920"/>
              </a:gdLst>
              <a:ahLst/>
              <a:rect l="textAreaLeft" t="textAreaTop" r="textAreaRight" b="textAreaBottom"/>
              <a:pathLst>
                <a:path w="35370" h="21600">
                  <a:moveTo>
                    <a:pt x="2592" y="0"/>
                  </a:moveTo>
                  <a:arcTo wR="2592" hR="2592" stAng="0" swAng="5400000"/>
                  <a:lnTo>
                    <a:pt x="0" y="19008"/>
                  </a:lnTo>
                  <a:arcTo wR="2592" hR="2592" stAng="16200000" swAng="5400000"/>
                  <a:lnTo>
                    <a:pt x="32778" y="21600"/>
                  </a:lnTo>
                  <a:arcTo wR="2592" hR="2592" stAng="10800000" swAng="5400000"/>
                  <a:lnTo>
                    <a:pt x="35370" y="2592"/>
                  </a:lnTo>
                  <a:arcTo wR="2592" hR="2592" stAng="5400000" swAng="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4876560" y="4114800"/>
              <a:ext cx="371952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枯燥无味的书塾</a:t>
              </a:r>
              <a:endParaRPr b="1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pic>
        <p:nvPicPr>
          <p:cNvPr id="486" name="" descr=""/>
          <p:cNvPicPr/>
          <p:nvPr/>
        </p:nvPicPr>
        <p:blipFill>
          <a:blip r:embed="rId12"/>
          <a:stretch/>
        </p:blipFill>
        <p:spPr>
          <a:xfrm>
            <a:off x="5943600" y="6184800"/>
            <a:ext cx="673200" cy="6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0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838080"/>
            <a:ext cx="860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朝花夕拾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是一部散文集，共搜集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篇文章，大部分作品是作者回忆自己童年、少年时代生活的。写本篇文章时鲁迅已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4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多岁了。这部散文集题名为《朝花夕拾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意思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早上的花到晚上才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取，晚年了，回忆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少年时代的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24360" y="3429000"/>
            <a:ext cx="30592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981080" y="685800"/>
            <a:ext cx="1409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隶书"/>
              </a:rPr>
              <a:t>百草园</a:t>
            </a:r>
            <a:endParaRPr b="1" lang="en-US" sz="2400" spc="-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1219320"/>
            <a:ext cx="2133360" cy="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86200" y="762120"/>
            <a:ext cx="1295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宋体"/>
              </a:rPr>
              <a:t>空间顺序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宋体"/>
              <a:ea typeface="华文宋体"/>
            </a:endParaRPr>
          </a:p>
        </p:txBody>
      </p:sp>
      <p:sp>
        <p:nvSpPr>
          <p:cNvPr id="490" name=""/>
          <p:cNvSpPr/>
          <p:nvPr/>
        </p:nvSpPr>
        <p:spPr>
          <a:xfrm>
            <a:off x="6705720" y="4114800"/>
            <a:ext cx="0" cy="3049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2880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ungsuh"/>
                <a:ea typeface="Gungsuh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Gungsuh"/>
                <a:ea typeface="Gungsuh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Gungsuh"/>
                <a:ea typeface="Gungsuh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Gungsuh"/>
                <a:ea typeface="Gungsuh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Gungsuh"/>
                <a:ea typeface="Gungsuh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29480" y="14479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ungsuh"/>
                <a:ea typeface="Gungsuh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Gungsuh"/>
                <a:ea typeface="Gungsuh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Gungsuh"/>
                <a:ea typeface="Gungsuh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Gungsuh"/>
                <a:ea typeface="Gungsuh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Gungsuh"/>
                <a:ea typeface="Gungsuh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1480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ungsuh"/>
                <a:ea typeface="Gungsuh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Gungsuh"/>
                <a:ea typeface="Gungsuh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Gungsuh"/>
                <a:ea typeface="Gungsuh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867280" y="4419720"/>
            <a:ext cx="2351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00ff00"/>
                    </a:gs>
                  </a:gsLst>
                  <a:lin ang="13500000"/>
                </a:gradFill>
                <a:latin typeface="隶书"/>
              </a:rPr>
              <a:t>枯燥无味的书塾</a:t>
            </a:r>
            <a:endParaRPr b="1" lang="en-US" sz="2400" spc="-1" strike="noStrike">
              <a:ln w="93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00ff00"/>
                  </a:gs>
                </a:gsLst>
                <a:lin ang="13500000"/>
              </a:gradFill>
              <a:latin typeface="隶书"/>
              <a:ea typeface="隶书"/>
            </a:endParaRPr>
          </a:p>
        </p:txBody>
      </p:sp>
      <p:sp>
        <p:nvSpPr>
          <p:cNvPr id="495" name=""/>
          <p:cNvSpPr/>
          <p:nvPr/>
        </p:nvSpPr>
        <p:spPr>
          <a:xfrm>
            <a:off x="2666880" y="1752480"/>
            <a:ext cx="0" cy="3812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791320" y="685800"/>
            <a:ext cx="1828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00ff00"/>
                    </a:gs>
                  </a:gsLst>
                  <a:lin ang="13500000"/>
                </a:gradFill>
                <a:latin typeface="隶书"/>
              </a:rPr>
              <a:t>三味书屋</a:t>
            </a:r>
            <a:endParaRPr b="1" lang="en-US" sz="2400" spc="-1" strike="noStrike">
              <a:ln w="93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00ff00"/>
                  </a:gs>
                </a:gsLst>
                <a:lin ang="13500000"/>
              </a:gradFill>
              <a:latin typeface="隶书"/>
              <a:ea typeface="隶书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512720" y="4419720"/>
            <a:ext cx="2067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隶书"/>
              </a:rPr>
              <a:t>自由快乐的乐园</a:t>
            </a:r>
            <a:endParaRPr b="1" lang="en-US" sz="2400" spc="-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066680" y="2133720"/>
            <a:ext cx="4838760" cy="520560"/>
            <a:chOff x="1066680" y="2133720"/>
            <a:chExt cx="4838760" cy="520560"/>
          </a:xfrm>
        </p:grpSpPr>
        <p:sp>
          <p:nvSpPr>
            <p:cNvPr id="499" name=""/>
            <p:cNvSpPr/>
            <p:nvPr/>
          </p:nvSpPr>
          <p:spPr>
            <a:xfrm>
              <a:off x="1333440" y="213372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景物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有声有色，充满乐趣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2"/>
            <a:stretch/>
          </p:blipFill>
          <p:spPr>
            <a:xfrm>
              <a:off x="1066680" y="2210040"/>
              <a:ext cx="289080" cy="32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"/>
          <p:cNvSpPr/>
          <p:nvPr/>
        </p:nvSpPr>
        <p:spPr>
          <a:xfrm>
            <a:off x="990720" y="2133720"/>
            <a:ext cx="4876560" cy="1981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1752480"/>
            <a:ext cx="0" cy="3812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19920" y="2133720"/>
            <a:ext cx="2361960" cy="1981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6134040" y="2209680"/>
            <a:ext cx="2324160" cy="520560"/>
            <a:chOff x="6134040" y="2209680"/>
            <a:chExt cx="2324160" cy="520560"/>
          </a:xfrm>
        </p:grpSpPr>
        <p:sp>
          <p:nvSpPr>
            <p:cNvPr id="505" name=""/>
            <p:cNvSpPr/>
            <p:nvPr/>
          </p:nvSpPr>
          <p:spPr>
            <a:xfrm>
              <a:off x="6400800" y="22096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Times New Roman"/>
                </a:rPr>
                <a:t>内容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枯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6" name="" descr=""/>
            <p:cNvPicPr/>
            <p:nvPr/>
          </p:nvPicPr>
          <p:blipFill>
            <a:blip r:embed="rId3"/>
            <a:stretch/>
          </p:blipFill>
          <p:spPr>
            <a:xfrm>
              <a:off x="6134040" y="2361960"/>
              <a:ext cx="2858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7" name=""/>
          <p:cNvGrpSpPr/>
          <p:nvPr/>
        </p:nvGrpSpPr>
        <p:grpSpPr>
          <a:xfrm>
            <a:off x="1066680" y="2666880"/>
            <a:ext cx="4838760" cy="520560"/>
            <a:chOff x="1066680" y="2666880"/>
            <a:chExt cx="4838760" cy="520560"/>
          </a:xfrm>
        </p:grpSpPr>
        <p:sp>
          <p:nvSpPr>
            <p:cNvPr id="508" name=""/>
            <p:cNvSpPr/>
            <p:nvPr/>
          </p:nvSpPr>
          <p:spPr>
            <a:xfrm>
              <a:off x="1333440" y="266688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美女蛇的故事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增添了神秘色彩，丰富了情趣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9" name="" descr=""/>
            <p:cNvPicPr/>
            <p:nvPr/>
          </p:nvPicPr>
          <p:blipFill>
            <a:blip r:embed="rId4"/>
            <a:stretch/>
          </p:blipFill>
          <p:spPr>
            <a:xfrm>
              <a:off x="1066680" y="2743200"/>
              <a:ext cx="289080" cy="32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0" name=""/>
          <p:cNvGrpSpPr/>
          <p:nvPr/>
        </p:nvGrpSpPr>
        <p:grpSpPr>
          <a:xfrm>
            <a:off x="1066680" y="3581280"/>
            <a:ext cx="4533840" cy="520560"/>
            <a:chOff x="1066680" y="3581280"/>
            <a:chExt cx="4533840" cy="520560"/>
          </a:xfrm>
        </p:grpSpPr>
        <p:sp>
          <p:nvSpPr>
            <p:cNvPr id="511" name=""/>
            <p:cNvSpPr/>
            <p:nvPr/>
          </p:nvSpPr>
          <p:spPr>
            <a:xfrm>
              <a:off x="1333440" y="358128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雪地捕鸟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带来无穷乐趣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2" name="" descr=""/>
            <p:cNvPicPr/>
            <p:nvPr/>
          </p:nvPicPr>
          <p:blipFill>
            <a:blip r:embed="rId5"/>
            <a:stretch/>
          </p:blipFill>
          <p:spPr>
            <a:xfrm>
              <a:off x="1066680" y="3657600"/>
              <a:ext cx="289080" cy="32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3" name=""/>
          <p:cNvGrpSpPr/>
          <p:nvPr/>
        </p:nvGrpSpPr>
        <p:grpSpPr>
          <a:xfrm>
            <a:off x="6134040" y="2819520"/>
            <a:ext cx="2247840" cy="520560"/>
            <a:chOff x="6134040" y="2819520"/>
            <a:chExt cx="2247840" cy="520560"/>
          </a:xfrm>
        </p:grpSpPr>
        <p:sp>
          <p:nvSpPr>
            <p:cNvPr id="514" name=""/>
            <p:cNvSpPr/>
            <p:nvPr/>
          </p:nvSpPr>
          <p:spPr>
            <a:xfrm>
              <a:off x="6400800" y="28195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Times New Roman"/>
                </a:rPr>
                <a:t>形式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单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6"/>
            <a:stretch/>
          </p:blipFill>
          <p:spPr>
            <a:xfrm>
              <a:off x="6134040" y="2895840"/>
              <a:ext cx="2858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6" name=""/>
          <p:cNvGrpSpPr/>
          <p:nvPr/>
        </p:nvGrpSpPr>
        <p:grpSpPr>
          <a:xfrm>
            <a:off x="6134040" y="3352680"/>
            <a:ext cx="2247840" cy="520560"/>
            <a:chOff x="6134040" y="3352680"/>
            <a:chExt cx="2247840" cy="520560"/>
          </a:xfrm>
        </p:grpSpPr>
        <p:sp>
          <p:nvSpPr>
            <p:cNvPr id="517" name=""/>
            <p:cNvSpPr/>
            <p:nvPr/>
          </p:nvSpPr>
          <p:spPr>
            <a:xfrm>
              <a:off x="6400800" y="33526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Times New Roman"/>
                </a:rPr>
                <a:t>环境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压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" descr=""/>
            <p:cNvPicPr/>
            <p:nvPr/>
          </p:nvPicPr>
          <p:blipFill>
            <a:blip r:embed="rId7"/>
            <a:stretch/>
          </p:blipFill>
          <p:spPr>
            <a:xfrm>
              <a:off x="6134040" y="3429000"/>
              <a:ext cx="285840" cy="34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2666880" y="4114800"/>
            <a:ext cx="0" cy="3049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46440" y="4724280"/>
            <a:ext cx="2133720" cy="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179960" y="4343400"/>
            <a:ext cx="761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宋体"/>
              </a:rPr>
              <a:t>对比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宋体"/>
              <a:ea typeface="华文宋体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8"/>
          <a:stretch/>
        </p:blipFill>
        <p:spPr>
          <a:xfrm>
            <a:off x="8077320" y="5943600"/>
            <a:ext cx="674640" cy="674640"/>
          </a:xfrm>
          <a:prstGeom prst="rect">
            <a:avLst/>
          </a:prstGeom>
          <a:ln w="0">
            <a:noFill/>
          </a:ln>
        </p:spPr>
      </p:pic>
      <p:grpSp>
        <p:nvGrpSpPr>
          <p:cNvPr id="523" name=""/>
          <p:cNvGrpSpPr/>
          <p:nvPr/>
        </p:nvGrpSpPr>
        <p:grpSpPr>
          <a:xfrm>
            <a:off x="1066680" y="5334120"/>
            <a:ext cx="6781680" cy="581400"/>
            <a:chOff x="1066680" y="5334120"/>
            <a:chExt cx="6781680" cy="581400"/>
          </a:xfrm>
        </p:grpSpPr>
        <p:sp>
          <p:nvSpPr>
            <p:cNvPr id="524" name=""/>
            <p:cNvSpPr/>
            <p:nvPr/>
          </p:nvSpPr>
          <p:spPr>
            <a:xfrm>
              <a:off x="1600200" y="533412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准确的形容、准确地表述动作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066680" y="5486040"/>
              <a:ext cx="37152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6" name=""/>
          <p:cNvGrpSpPr/>
          <p:nvPr/>
        </p:nvGrpSpPr>
        <p:grpSpPr>
          <a:xfrm>
            <a:off x="1066680" y="4952880"/>
            <a:ext cx="6781680" cy="581400"/>
            <a:chOff x="1066680" y="4952880"/>
            <a:chExt cx="6781680" cy="581400"/>
          </a:xfrm>
        </p:grpSpPr>
        <p:sp>
          <p:nvSpPr>
            <p:cNvPr id="527" name=""/>
            <p:cNvSpPr/>
            <p:nvPr/>
          </p:nvSpPr>
          <p:spPr>
            <a:xfrm>
              <a:off x="1600200" y="495288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通过对比，表达思想感情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8" name="" descr=""/>
            <p:cNvPicPr/>
            <p:nvPr/>
          </p:nvPicPr>
          <p:blipFill>
            <a:blip r:embed="rId10"/>
            <a:stretch/>
          </p:blipFill>
          <p:spPr>
            <a:xfrm>
              <a:off x="1066680" y="5029200"/>
              <a:ext cx="37152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9" name=""/>
          <p:cNvSpPr/>
          <p:nvPr/>
        </p:nvSpPr>
        <p:spPr>
          <a:xfrm>
            <a:off x="1752480" y="5867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第二段、第七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9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4000" y="44280"/>
            <a:ext cx="808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把前后两部分联系起来思考，讨论：这篇文章表现了作者怎样的思想感情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2360" y="1628640"/>
            <a:ext cx="80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通过对百草园和三味书屋的回忆，表现作者儿童时代对自然的热爱，对知识的追求，以及天真、幼稚、欢乐的心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4160" y="3860640"/>
            <a:ext cx="82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用百草园的自由快乐同三味书屋的枯燥无味作对比，表现了儿童热爱大自然、喜欢自由快乐生活的心理，同时对束缚儿童身心发展的封建教育表示不满。 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6877080" y="5151600"/>
            <a:ext cx="2266920" cy="17064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0" y="0"/>
            <a:ext cx="2144880" cy="916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小结</a:t>
            </a:r>
            <a:r>
              <a:rPr b="0" lang="en-US" sz="5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280" y="9684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从百草园到三味书屋》是鲁迅先生儿时生活的一段美好回忆。这段生活经历对鲁迅先生的人生发展产生过巨大的影响。我们要像鲁迅先生一样，保持儿童纯真活泼的天性，要有求知的欲望和进取心。今天，时代变了，我们的生活环境和学习环境也变了，我们的思想行为也应当为之一变。我们要从小努力学习，热爱自然、热爱生活，把自己培养成为对社会有用的人才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676908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课时作业优化设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对“不必说……也不必说……单是……就有”这个句式的作用有四种理解，正确的一句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表明前后内容并列，都有趣味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表明可写的内容很多，前面的略写，后面的详写，是为了突出后面“单是”的内容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表明前面的内容是次要的，后面的内容是主要的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表明前面的内容不需要说，只需要说“单是”后面的内容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23240" y="928800"/>
            <a:ext cx="35164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课文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，回答下列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40720" y="6021360"/>
            <a:ext cx="863640" cy="549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4" dur="1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1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10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10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10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10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10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10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8002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这段百草园的景物描写层次清楚。从描写的对象上看，先写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后写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再 写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从描写的范围看，是先写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再写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从感官的角度看，既有视觉又有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66640" y="333360"/>
            <a:ext cx="7245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课时作业优化设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11280" y="4149720"/>
            <a:ext cx="7777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这段文字中的哪句话可以概括百草园的特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9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-4883760"/>
            <a:ext cx="777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、少年时代的作者，把百草园看成“我的乐园”这是因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．百草园中的草木虫鱼有的色彩鲜明，有的形态有趣，有的叫声动听，这些景象都吸引着他的好奇心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．他热爱大自然，喜欢自由快乐的生活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．他不愿意学习文化知识，把枯燥的学习环境和百草园相比，更觉得百草园是乐园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．在百草园里有各种动植物，有美女蛇的故事，能够捕鸟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2280" y="343080"/>
            <a:ext cx="710244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课时作业优化设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2" dur="10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7" dur="1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0" dur="10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3" dur="10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6" dur="1000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082520" y="-396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分析课文（第二段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31640" y="762120"/>
            <a:ext cx="82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写了百草园中的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动植物，它们分别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泥墙根一带的趣事有：（每件事的概括限七字以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3400" y="68580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8ed"/>
                </a:solidFill>
                <a:latin typeface="Arial"/>
                <a:ea typeface="楷体_GB2312"/>
              </a:rPr>
              <a:t>整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535360" y="68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8ed"/>
                </a:solidFill>
                <a:latin typeface="Arial"/>
                <a:ea typeface="楷体_GB2312"/>
              </a:rPr>
              <a:t>局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990960" y="182880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8ed"/>
                </a:solidFill>
                <a:latin typeface="Arial"/>
                <a:ea typeface="楷体_GB2312"/>
              </a:rPr>
              <a:t>皂荚树、桑椹、菜花、何首乌、木莲、覆盆子、草丛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8ed"/>
                </a:solidFill>
                <a:latin typeface="Arial"/>
                <a:ea typeface="楷体_GB2312"/>
              </a:rPr>
              <a:t>蝉、黄蜂、叫天子、蛉、蟋蟀、蜈蚣、斑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3276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8ed"/>
                </a:solidFill>
                <a:latin typeface="Arial"/>
                <a:ea typeface="楷体_GB2312"/>
              </a:rPr>
              <a:t>听蟋蟀、油蛉弹唱、翻砖找蜈蚣、按斑蝥、拔何首乌、摘覆盆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744720" y="14479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78ed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4000" y="4005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段话的描写角度多变，其中对“泥墙根一带“的描写角度依次是：听觉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331720" y="4365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8ed"/>
                </a:solidFill>
                <a:latin typeface="Arial"/>
                <a:ea typeface="楷体_GB2312"/>
              </a:rPr>
              <a:t>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27360" y="4365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8ed"/>
                </a:solidFill>
                <a:latin typeface="Arial"/>
                <a:ea typeface="楷体_GB2312"/>
              </a:rPr>
              <a:t>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51360" y="4365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8ed"/>
                </a:solidFill>
                <a:latin typeface="Arial"/>
                <a:ea typeface="楷体_GB2312"/>
              </a:rPr>
              <a:t>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52200" y="551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8ed"/>
                </a:solidFill>
                <a:latin typeface="Arial"/>
                <a:ea typeface="楷体_GB2312"/>
              </a:rPr>
              <a:t>形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20560" y="551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8ed"/>
                </a:solidFill>
                <a:latin typeface="Arial"/>
                <a:ea typeface="楷体_GB2312"/>
              </a:rPr>
              <a:t>色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60560" y="551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8ed"/>
                </a:solidFill>
                <a:latin typeface="Arial"/>
                <a:ea typeface="楷体_GB2312"/>
              </a:rPr>
              <a:t>滋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52200" y="587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8ed"/>
                </a:solidFill>
                <a:latin typeface="Arial"/>
                <a:ea typeface="楷体_GB2312"/>
              </a:rPr>
              <a:t>形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393640" y="587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8ed"/>
                </a:solidFill>
                <a:latin typeface="Arial"/>
                <a:ea typeface="楷体_GB2312"/>
              </a:rPr>
              <a:t>声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60560" y="587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8ed"/>
                </a:solidFill>
                <a:latin typeface="Arial"/>
                <a:ea typeface="楷体_GB2312"/>
              </a:rPr>
              <a:t>动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075360" y="4365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78ed"/>
                </a:solidFill>
                <a:latin typeface="Arial"/>
                <a:ea typeface="楷体_GB2312"/>
              </a:rPr>
              <a:t>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4000" y="51577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写景必须抓住特征，这段文字写静物时主要抓住它们的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写，写动物时主要抓住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500"/>
                            </p:stCondLst>
                            <p:childTnLst>
                              <p:par>
                                <p:cTn id="1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75"/>
                            </p:stCondLst>
                            <p:childTnLst>
                              <p:par>
                                <p:cTn id="15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50"/>
                            </p:stCondLst>
                            <p:childTnLst>
                              <p:par>
                                <p:cTn id="15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225"/>
                            </p:stCondLst>
                            <p:childTnLst>
                              <p:par>
                                <p:cTn id="15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87280" y="685800"/>
            <a:ext cx="885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段景物描写，融入了作者丰富的思想感情，下面理解有误的一项是：（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Comic Sans MS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cccc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现“我”对美好的大自然的喜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Comic Sans MS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现“我”对自由自在、无拘无束生活的向往和依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78ed"/>
                </a:solidFill>
                <a:latin typeface="Comic Sans MS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378ed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现“我”对恬淡的田园生活的深切喜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Comic Sans MS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现“我”在百草园所感到的无限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1143000"/>
            <a:ext cx="3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78ed"/>
                </a:solidFill>
                <a:latin typeface="Comic Sans MS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740720" y="6021360"/>
            <a:ext cx="863640" cy="549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18446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写三味书屋的生活，也写了老先生寿镜吾，寿镜吾老先生是怎样的一个人？作者对他是什么态度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79280" y="28526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78ed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378ed"/>
                </a:solidFill>
                <a:latin typeface="楷体_GB2312"/>
                <a:ea typeface="楷体_GB2312"/>
              </a:rPr>
              <a:t>秉性慈祥，为人正直，酷爱读书，可是他不自觉地为旧制度效劳，是封建教育制度的忠实执行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78ed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378ed"/>
                </a:solidFill>
                <a:latin typeface="楷体_GB2312"/>
                <a:ea typeface="楷体_GB2312"/>
              </a:rPr>
              <a:t>鲁迅先生在“恭敬”他的同时，也给予了恰如其分的批判与否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740720" y="6021360"/>
            <a:ext cx="863640" cy="549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468360" y="333360"/>
            <a:ext cx="792000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１、“仁远乎哉我欲仁则斯仁至矣”出自《论语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述而》，应读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仁远乎哉？我欲仁，斯仁至矣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意思是：“仁这东西很遥远吗？我内心想到仁，仁就自然来到了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2565360"/>
            <a:ext cx="7846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、“笑人齿缺曰狗窦大开”出自《幼学琼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体》，应读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笑人齿缺，曰‘狗窦大开’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意思是：“笑人家牙齿缺了，就说‘（那个缺口）就像一个狗洞大开着’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4360" y="4581360"/>
            <a:ext cx="777528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３、“上九潜龙勿用”出自《易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韩卦》，由“初九潜龙勿用”和“上九亢龙有悔”二句爻辞杂糅而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初九潜龙勿用”意思是“君子应韬光隐晦以待时机”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九亢龙有悔”意思是“人应以亢满为戒，注意物极必反的道理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17.gif (1832 bytes)"/>
          <p:cNvPicPr/>
          <p:nvPr/>
        </p:nvPicPr>
        <p:blipFill>
          <a:blip r:embed="rId1"/>
          <a:stretch/>
        </p:blipFill>
        <p:spPr>
          <a:xfrm>
            <a:off x="250920" y="404640"/>
            <a:ext cx="277560" cy="2779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17.gif (1832 bytes)"/>
          <p:cNvPicPr/>
          <p:nvPr/>
        </p:nvPicPr>
        <p:blipFill>
          <a:blip r:embed="rId2"/>
          <a:stretch/>
        </p:blipFill>
        <p:spPr>
          <a:xfrm>
            <a:off x="395280" y="2565360"/>
            <a:ext cx="277920" cy="2779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17.gif (1832 bytes)"/>
          <p:cNvPicPr/>
          <p:nvPr/>
        </p:nvPicPr>
        <p:blipFill>
          <a:blip r:embed="rId3"/>
          <a:stretch/>
        </p:blipFill>
        <p:spPr>
          <a:xfrm>
            <a:off x="324000" y="46530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533520"/>
            <a:ext cx="7696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教学目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识记积累有关字、词和文学文体常识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学习准确的形容，准确的表述动作，体会记叙的感情色彩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124080"/>
            <a:ext cx="822960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通读全文，熟读课文第②段描写百草园自然风貌和第⑦段描写“捕鸟”过程的文字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以《我的乐园》为题写一段话，要求对身边生活作细致观察，写出自己的真实情感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43800" y="4724280"/>
            <a:ext cx="12985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539640" y="260280"/>
            <a:ext cx="799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“厥土下上上错厥贡苞茅橘柚”摘自中国古代典藉文献中最艰涩难懂的《尚书》中的《禹贡》篇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意思是“天下土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分九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上为下等里最上的一级，好坏交错；那  进贡的物品里有茅草、橘柚等物品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可以如下断句：“厥土：下上、上错；厥贡：苞茅、橘柚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9640" y="306864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“铁如意，指挥倜傥，一坐皆惊呢﹏﹏ ；金叵罗，颠倒淋漓噫，千杯未醉嗬﹏﹏”出自清人刘翰的《李克用置酒三垂岗赋》。引文中的声浪号表声音起伏，持续不断“噫”、“嗬”指念书时加在句尾用来加强感情的声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意思是：拿着铁如意，指挥比划，潇洒自如。用金杯喝酒，痛快淋漓，喝得很多而未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引用句子和原文略有出入：“铁如意”原作“玉如意”；“颠倒”原作“倾倒”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" descr="17.gif (1832 bytes)"/>
          <p:cNvPicPr/>
          <p:nvPr/>
        </p:nvPicPr>
        <p:blipFill>
          <a:blip r:embed="rId1"/>
          <a:stretch/>
        </p:blipFill>
        <p:spPr>
          <a:xfrm>
            <a:off x="395280" y="31417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17.gif (1832 bytes)"/>
          <p:cNvPicPr/>
          <p:nvPr/>
        </p:nvPicPr>
        <p:blipFill>
          <a:blip r:embed="rId2"/>
          <a:stretch/>
        </p:blipFill>
        <p:spPr>
          <a:xfrm>
            <a:off x="395280" y="260280"/>
            <a:ext cx="277920" cy="27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3880" y="304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下列词语的字音和字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05120" y="10666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确凿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038480" y="10666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菜畦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5880" y="10666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蟋蟀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05120" y="182088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缠络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038480" y="1819440"/>
            <a:ext cx="900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觅食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5880" y="1819440"/>
            <a:ext cx="900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竹筛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038480" y="2571840"/>
            <a:ext cx="900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渊博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095880" y="2571840"/>
            <a:ext cx="900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鼎沸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905120" y="257328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宿儒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5880" y="33256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倜傥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038480" y="33256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锡箔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32748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珊瑚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5880" y="4078440"/>
            <a:ext cx="44928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攒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72200" y="4832280"/>
            <a:ext cx="4492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敛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05120" y="407988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脑髓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038480" y="4078440"/>
            <a:ext cx="900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蝉蜕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90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zá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990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q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990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uà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17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h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7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1766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ā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254484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54484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u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25448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dǐ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3321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ìtǎ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3321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3210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40989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u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40989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u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4098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u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905120" y="48322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盔甲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038480" y="48322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东方朔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48769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ku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4876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4876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iǎ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694560" y="58579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457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下列词语的字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828800" y="50292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和蔼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828800" y="12952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长吟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56080" y="12952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轻捷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167440" y="12952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云霄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629400" y="12952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弹琴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828800" y="222876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脊梁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56080" y="222876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臃肿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629400" y="2228760"/>
            <a:ext cx="19051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牵连不断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56080" y="316224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无妨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67440" y="5029200"/>
            <a:ext cx="4572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倘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67440" y="222876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机关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67440" y="3162240"/>
            <a:ext cx="9144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无味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56080" y="409572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啄食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629400" y="3162240"/>
            <a:ext cx="16765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枕而卧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828800" y="316224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陌生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828800" y="409572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鉴赏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629400" y="4095720"/>
            <a:ext cx="175248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人迹罕至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629400" y="5029200"/>
            <a:ext cx="5335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躁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167440" y="409572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书塾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56080" y="50292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质朴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705720" y="57913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32360" y="47628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至：少有人来。罕，稀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052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鼎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形容人声喧闹。鼎沸，水开了，发出响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54360" y="3357720"/>
            <a:ext cx="31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寻找）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2050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枕而卧：比喻无所顾忌。今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喻不加警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3240" y="4653000"/>
            <a:ext cx="23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á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凑在一块儿）成小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6880" y="5373720"/>
            <a:ext cx="33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ǎ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力弯曲）过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2920" y="4005360"/>
            <a:ext cx="305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ǎ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放）在盒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0:08:53Z</dcterms:created>
  <dc:creator>fan</dc:creator>
  <dc:description/>
  <dc:language>en-US</dc:language>
  <cp:lastModifiedBy>hasee</cp:lastModifiedBy>
  <dcterms:modified xsi:type="dcterms:W3CDTF">2012-12-30T10:46:24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