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wmf" ContentType="image/x-wmf"/>
  <Override PartName="/ppt/media/image31.jpeg" ContentType="image/jpeg"/>
  <Override PartName="/ppt/media/image4.jpeg" ContentType="image/jpeg"/>
  <Override PartName="/ppt/media/image25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gif" ContentType="image/gif"/>
  <Override PartName="/ppt/media/image38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36.png" ContentType="image/pn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975-2708-4056-B073-032D547F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E5F-DCCB-48E8-8D61-8C7154AA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134-A99B-4CF2-B509-D3F9DF42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17B-7C66-4EC8-887A-40D1CD16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1C58-3960-467C-B332-8F345D2A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1AD9-EBC3-4FBF-8FB5-2FB6F4BF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CFB9-4C8B-4418-8C3D-82120FB5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197A-77E3-4C8B-B6D0-5E7E64E9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1AF-55A6-410A-A19F-2769749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F5F0-9D7F-4CB6-8F83-260E41B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5723-8A2B-4E4F-BD95-BD3D69B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B73-9CFC-4CA7-AE63-5FB20BC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628B-591B-44E1-AB62-1852628C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C726-6C02-417A-8785-31AF8C53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06F-0144-424E-9C4C-993E4F88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631A-0C52-4D5D-9A5E-573199EA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F234-9355-4411-A388-D9DFE757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DE13-D7C5-442A-BFDB-3A331F55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4AF7-8306-475E-8DEA-5E977C2C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8CD7-5342-4EE1-A21E-DC89C502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BF60-5433-47F8-93BB-119AFA2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897A-6681-4BF8-8511-4320456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4F5-813A-4310-85B7-1A093A0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FA75-EC4E-4E82-9C79-42CA26F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4B09-4070-4095-A274-781A2A1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9C6D-C36F-49BB-8769-80FD79C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FD9ED-915B-4860-99E6-C9DFB344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BF1A-C708-4D56-B359-A2B48CFA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6E8C-5EC3-4DD5-AD30-2D0679C4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337C-D2F4-4CC5-BE79-F9001567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CA2-4D43-41E7-94AF-450917B6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489-3671-48F9-8416-EB1BF48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A1B-6157-466C-9F3D-8B132601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2A74-2E3F-40AD-AD62-78C4DAD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C16-F87B-4E90-ABC0-98F0B50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4A0-2C83-4481-AA12-570B765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A7B5-AF69-41D7-94A5-E3B80F09F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ADE-CC43-4375-BC13-97796AF8334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F82-9B7A-497B-B105-7F4B0465FDB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76,12,&#24187;&#28783;&#29255; 12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从百草园到三味书屋"/>
          <p:cNvPicPr/>
          <p:nvPr/>
        </p:nvPicPr>
        <p:blipFill>
          <a:blip r:embed="rId2"/>
          <a:stretch/>
        </p:blipFill>
        <p:spPr>
          <a:xfrm>
            <a:off x="5076720" y="3827520"/>
            <a:ext cx="4067280" cy="255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每个人的童年，都是一片宽阔的原野，在这上面，你可以种植世界上所有的花草，可以放飞所有的希望，可以撒播一生的幸福，可以荡漾一生的笑意。童年是美好的，只要有一颗敏锐易感的心，童年的一切记忆都会深深留在心中。今天我们学习</a:t>
            </a:r>
            <a:r>
              <a:rPr b="1" lang="en-US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《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从百草园到三味书屋</a:t>
            </a:r>
            <a:r>
              <a:rPr b="1" lang="en-US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》</a:t>
            </a:r>
            <a:r>
              <a:rPr b="1" lang="zh-CN" sz="3600" spc="-1" strike="noStrike">
                <a:solidFill>
                  <a:srgbClr val="009900"/>
                </a:solidFill>
                <a:latin typeface="华文隶书"/>
                <a:ea typeface="华文隶书"/>
              </a:rPr>
              <a:t>，了解鲁迅先生童年的记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04200" y="52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1547640" y="549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以</a:t>
            </a:r>
            <a:r>
              <a:rPr b="1" lang="zh-CN" sz="4400" spc="-1" strike="noStrike">
                <a:solidFill>
                  <a:srgbClr val="3399ff"/>
                </a:solidFill>
                <a:latin typeface="Times New Roman"/>
                <a:ea typeface="隶书"/>
              </a:rPr>
              <a:t>空间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</a:rPr>
              <a:t>变化为顺序安排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从百草园到三味书屋-百草园"/>
          <p:cNvPicPr/>
          <p:nvPr/>
        </p:nvPicPr>
        <p:blipFill>
          <a:blip r:embed="rId2"/>
          <a:stretch/>
        </p:blipFill>
        <p:spPr>
          <a:xfrm>
            <a:off x="0" y="1773360"/>
            <a:ext cx="4076640" cy="41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uxun3三味书屋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802480" y="1773360"/>
            <a:ext cx="3341520" cy="41749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6"/>
          <p:cNvSpPr/>
          <p:nvPr/>
        </p:nvSpPr>
        <p:spPr>
          <a:xfrm>
            <a:off x="4500720" y="270828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356000" y="3429000"/>
            <a:ext cx="1219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过渡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承上启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39640" y="59500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百草园的生活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1—8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867280" y="59500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三味书屋的生活（</a:t>
            </a:r>
            <a:r>
              <a:rPr b="1" lang="en-US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10—</a:t>
            </a:r>
            <a:r>
              <a:rPr b="1" lang="zh-CN" sz="20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39320" y="692280"/>
            <a:ext cx="37108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阅读文章第一部分：（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1——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段），回答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79320" y="2349360"/>
            <a:ext cx="545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用“在鲁迅的眼中，百草园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-------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你看那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--------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句式汇报初读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21760" y="765000"/>
            <a:ext cx="17046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美点欣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54760" y="257796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阅读文章的第二自然段，描绘了哪些景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它们的特征分别是什么？作者按怎样的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介绍景物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719440" y="304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60880" y="123984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031200" y="1182600"/>
            <a:ext cx="97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菜    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桑    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鸣    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黄    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华文新魏"/>
                <a:ea typeface="华文新魏"/>
              </a:rPr>
              <a:t>叫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5181480" y="1219320"/>
            <a:ext cx="152640" cy="167616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81480" y="304812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5414400" y="1676520"/>
            <a:ext cx="60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静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439960" y="30085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46128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0076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6477120" y="2057400"/>
            <a:ext cx="38088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69220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143000" y="1143000"/>
            <a:ext cx="266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3886200" y="2819520"/>
            <a:ext cx="16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﹙      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1662840" y="1192320"/>
            <a:ext cx="82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碧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光滑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高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紫红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肥胖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轻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4114800" y="2819520"/>
            <a:ext cx="12193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长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60076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6477120" y="3505320"/>
            <a:ext cx="380880" cy="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6922080" y="327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1511280" y="44211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观察景物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3708360" y="4365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方正姚体"/>
              </a:rPr>
              <a:t>有    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3733920" y="5029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方正姚体"/>
              </a:rPr>
              <a:t>多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4042800" y="5629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00"/>
                </a:solidFill>
                <a:uFillTx/>
                <a:latin typeface="Times New Roman"/>
                <a:ea typeface="方正姚体"/>
              </a:rPr>
              <a:t>形容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4" descr="NA01441_"/>
          <p:cNvPicPr/>
          <p:nvPr/>
        </p:nvPicPr>
        <p:blipFill>
          <a:blip r:embed="rId2"/>
          <a:stretch/>
        </p:blipFill>
        <p:spPr>
          <a:xfrm>
            <a:off x="6659640" y="4508640"/>
            <a:ext cx="1554120" cy="1828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5" descr="BD14711_"/>
          <p:cNvPicPr/>
          <p:nvPr/>
        </p:nvPicPr>
        <p:blipFill>
          <a:blip r:embed="rId3"/>
          <a:stretch/>
        </p:blipFill>
        <p:spPr>
          <a:xfrm>
            <a:off x="1295280" y="99072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6"/>
          <p:cNvSpPr/>
          <p:nvPr/>
        </p:nvSpPr>
        <p:spPr>
          <a:xfrm rot="2671200">
            <a:off x="228600" y="4343040"/>
            <a:ext cx="784080" cy="911160"/>
          </a:xfrm>
          <a:custGeom>
            <a:avLst/>
            <a:gdLst>
              <a:gd name="textAreaLeft" fmla="*/ 316800 w 784080"/>
              <a:gd name="textAreaRight" fmla="*/ 467280 w 784080"/>
              <a:gd name="textAreaTop" fmla="*/ 368280 h 911160"/>
              <a:gd name="textAreaBottom" fmla="*/ 542880 h 911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733" y="8733"/>
                </a:lnTo>
                <a:lnTo>
                  <a:pt x="10800" y="0"/>
                </a:lnTo>
                <a:lnTo>
                  <a:pt x="12867" y="8733"/>
                </a:lnTo>
                <a:lnTo>
                  <a:pt x="21600" y="10800"/>
                </a:lnTo>
                <a:lnTo>
                  <a:pt x="12867" y="12867"/>
                </a:lnTo>
                <a:lnTo>
                  <a:pt x="10800" y="21600"/>
                </a:lnTo>
                <a:lnTo>
                  <a:pt x="8733" y="12867"/>
                </a:lnTo>
                <a:lnTo>
                  <a:pt x="0" y="10800"/>
                </a:lnTo>
                <a:close/>
              </a:path>
            </a:pathLst>
          </a:custGeom>
          <a:solidFill>
            <a:srgbClr val="2fa3eb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27"/>
          <p:cNvSpPr/>
          <p:nvPr/>
        </p:nvSpPr>
        <p:spPr>
          <a:xfrm>
            <a:off x="457200" y="457200"/>
            <a:ext cx="762120" cy="76212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304920" y="5638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借助“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Times New Roman"/>
              </a:rPr>
              <a:t>准确的形容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” 表达喜爱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0"/>
          <p:cNvSpPr/>
          <p:nvPr/>
        </p:nvSpPr>
        <p:spPr>
          <a:xfrm flipH="1">
            <a:off x="2895120" y="6019920"/>
            <a:ext cx="8384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33520" y="380880"/>
            <a:ext cx="8610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为什么百草园是我的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Times New Roman"/>
                <a:ea typeface="华文隶书"/>
                <a:hlinkClick r:id="rId2"/>
              </a:rPr>
              <a:t>乐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？阅读第二节，思考下列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7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、“不必说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也不必说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单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……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这个句式在文章中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2997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不必说”宕开一笔，是为了突出“单是”的内容。既然“单是”这一点已经趣味无穷了，那么园中的乐趣比比皆是了。这样写，突出了百草园的无穷乐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304812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单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767880" y="3429000"/>
            <a:ext cx="9946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62120" y="297180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1600200" y="1219320"/>
            <a:ext cx="152280" cy="4724280"/>
          </a:xfrm>
          <a:custGeom>
            <a:avLst/>
            <a:gdLst>
              <a:gd name="textAreaLeft" fmla="*/ 97200 w 152280"/>
              <a:gd name="textAreaRight" fmla="*/ 152640 w 15228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96"/>
                </a:lnTo>
                <a:cubicBezTo>
                  <a:pt x="10800" y="9996"/>
                  <a:pt x="5400" y="10896"/>
                  <a:pt x="0" y="10896"/>
                </a:cubicBezTo>
                <a:cubicBezTo>
                  <a:pt x="5400" y="10896"/>
                  <a:pt x="10800" y="11796"/>
                  <a:pt x="10800" y="126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003400" y="1066680"/>
            <a:ext cx="1155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油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蟋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何首乌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木莲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木莲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何首乌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覆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114800" y="1066680"/>
            <a:ext cx="10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低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2971800" y="14479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487692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2971800" y="19051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4114800" y="1600200"/>
            <a:ext cx="11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4876920" y="1600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声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2971800" y="23623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3207240" y="182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2971800" y="2819520"/>
            <a:ext cx="8380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3124080" y="228600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4284720" y="306864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5231160" y="304812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动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3581280" y="388620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 flipV="1">
            <a:off x="3581280" y="411444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267080" y="3809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缠    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579132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3429000" y="48006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26708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像莲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3429000" y="525780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4267080" y="4952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臃    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3429000" y="5257800"/>
            <a:ext cx="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3588120" y="4724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3429000" y="5791320"/>
            <a:ext cx="7621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0"/>
          <p:cNvSpPr/>
          <p:nvPr/>
        </p:nvSpPr>
        <p:spPr>
          <a:xfrm>
            <a:off x="42670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像小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1"/>
          <p:cNvSpPr/>
          <p:nvPr/>
        </p:nvSpPr>
        <p:spPr>
          <a:xfrm>
            <a:off x="3429000" y="5791320"/>
            <a:ext cx="762120" cy="6094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4211640" y="6021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酸又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5791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5791320" y="4952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6069600" y="5486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形状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6"/>
          <p:cNvSpPr/>
          <p:nvPr/>
        </p:nvSpPr>
        <p:spPr>
          <a:xfrm>
            <a:off x="35881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37"/>
          <p:cNvSpPr/>
          <p:nvPr/>
        </p:nvSpPr>
        <p:spPr>
          <a:xfrm>
            <a:off x="6629400" y="1295280"/>
            <a:ext cx="152280" cy="221004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7467480" y="3809880"/>
            <a:ext cx="152640" cy="2819520"/>
          </a:xfrm>
          <a:custGeom>
            <a:avLst/>
            <a:gdLst>
              <a:gd name="textAreaLeft" fmla="*/ 0 w 152640"/>
              <a:gd name="textAreaRight" fmla="*/ 5508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9"/>
          <p:cNvSpPr/>
          <p:nvPr/>
        </p:nvSpPr>
        <p:spPr>
          <a:xfrm>
            <a:off x="6298200" y="1905120"/>
            <a:ext cx="11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0"/>
          <p:cNvSpPr/>
          <p:nvPr/>
        </p:nvSpPr>
        <p:spPr>
          <a:xfrm>
            <a:off x="7623720" y="480060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植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7745760" y="1447920"/>
            <a:ext cx="1155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中间结合叙写人的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2"/>
          <p:cNvSpPr/>
          <p:nvPr/>
        </p:nvSpPr>
        <p:spPr>
          <a:xfrm>
            <a:off x="5791320" y="6019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味道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3"/>
          <p:cNvSpPr/>
          <p:nvPr/>
        </p:nvSpPr>
        <p:spPr>
          <a:xfrm>
            <a:off x="2971800" y="2819520"/>
            <a:ext cx="838080" cy="5331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4"/>
          <p:cNvSpPr/>
          <p:nvPr/>
        </p:nvSpPr>
        <p:spPr>
          <a:xfrm>
            <a:off x="4369320" y="242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5"/>
          <p:cNvSpPr/>
          <p:nvPr/>
        </p:nvSpPr>
        <p:spPr>
          <a:xfrm>
            <a:off x="49528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﹙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声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6"/>
          <p:cNvSpPr/>
          <p:nvPr/>
        </p:nvSpPr>
        <p:spPr>
          <a:xfrm>
            <a:off x="182880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c0c0"/>
                </a:solidFill>
                <a:latin typeface="Times New Roman"/>
                <a:ea typeface="华文行楷"/>
              </a:rPr>
              <a:t>百草园的自然景物和乐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7"/>
          <p:cNvSpPr/>
          <p:nvPr/>
        </p:nvSpPr>
        <p:spPr>
          <a:xfrm>
            <a:off x="11430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8" descr="BD14711_"/>
          <p:cNvPicPr/>
          <p:nvPr/>
        </p:nvPicPr>
        <p:blipFill>
          <a:blip r:embed="rId2"/>
          <a:stretch/>
        </p:blipFill>
        <p:spPr>
          <a:xfrm>
            <a:off x="1523880" y="838080"/>
            <a:ext cx="6477120" cy="108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9"/>
          <p:cNvSpPr/>
          <p:nvPr/>
        </p:nvSpPr>
        <p:spPr>
          <a:xfrm>
            <a:off x="762120" y="228600"/>
            <a:ext cx="838080" cy="685800"/>
          </a:xfrm>
          <a:prstGeom prst="irregularSeal1">
            <a:avLst/>
          </a:prstGeom>
          <a:solidFill>
            <a:srgbClr val="cce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gradient5"/>
          <p:cNvPicPr/>
          <p:nvPr/>
        </p:nvPicPr>
        <p:blipFill>
          <a:blip r:embed="rId2"/>
          <a:stretch/>
        </p:blipFill>
        <p:spPr>
          <a:xfrm>
            <a:off x="228600" y="762120"/>
            <a:ext cx="254160" cy="260280"/>
          </a:xfrm>
          <a:prstGeom prst="rect">
            <a:avLst/>
          </a:prstGeom>
          <a:ln w="0">
            <a:noFill/>
          </a:ln>
        </p:spPr>
      </p:pic>
      <p:grpSp>
        <p:nvGrpSpPr>
          <p:cNvPr id="260" name=""/>
          <p:cNvGrpSpPr/>
          <p:nvPr/>
        </p:nvGrpSpPr>
        <p:grpSpPr>
          <a:xfrm>
            <a:off x="5638680" y="685800"/>
            <a:ext cx="76320" cy="1066680"/>
            <a:chOff x="5638680" y="685800"/>
            <a:chExt cx="76320" cy="1066680"/>
          </a:xfrm>
        </p:grpSpPr>
        <p:sp>
          <p:nvSpPr>
            <p:cNvPr id="261" name="Line 4"/>
            <p:cNvSpPr/>
            <p:nvPr/>
          </p:nvSpPr>
          <p:spPr>
            <a:xfrm>
              <a:off x="563868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5715000" y="68580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5800" y="762120"/>
            <a:ext cx="4724280" cy="761760"/>
            <a:chOff x="685800" y="762120"/>
            <a:chExt cx="4724280" cy="761760"/>
          </a:xfrm>
        </p:grpSpPr>
        <p:sp>
          <p:nvSpPr>
            <p:cNvPr id="264" name="Text Box 7"/>
            <p:cNvSpPr/>
            <p:nvPr/>
          </p:nvSpPr>
          <p:spPr>
            <a:xfrm>
              <a:off x="762120" y="914040"/>
              <a:ext cx="45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不必说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也不必说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8"/>
            <p:cNvSpPr/>
            <p:nvPr/>
          </p:nvSpPr>
          <p:spPr>
            <a:xfrm>
              <a:off x="685800" y="762120"/>
              <a:ext cx="4724280" cy="761760"/>
            </a:xfrm>
            <a:prstGeom prst="rect">
              <a:avLst/>
            </a:prstGeom>
            <a:noFill/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943600" y="762120"/>
            <a:ext cx="2588760" cy="763560"/>
            <a:chOff x="5943600" y="762120"/>
            <a:chExt cx="2588760" cy="763560"/>
          </a:xfrm>
        </p:grpSpPr>
        <p:sp>
          <p:nvSpPr>
            <p:cNvPr id="267" name="Rectangle 10"/>
            <p:cNvSpPr/>
            <p:nvPr/>
          </p:nvSpPr>
          <p:spPr>
            <a:xfrm>
              <a:off x="5943600" y="762120"/>
              <a:ext cx="2588760" cy="763560"/>
            </a:xfrm>
            <a:prstGeom prst="rect">
              <a:avLst/>
            </a:prstGeom>
            <a:noFill/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6039360" y="900720"/>
              <a:ext cx="23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单是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……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743200" y="1600200"/>
            <a:ext cx="4038480" cy="609480"/>
            <a:chOff x="2743200" y="1600200"/>
            <a:chExt cx="4038480" cy="609480"/>
          </a:xfrm>
        </p:grpSpPr>
        <p:sp>
          <p:nvSpPr>
            <p:cNvPr id="270" name="Line 13"/>
            <p:cNvSpPr/>
            <p:nvPr/>
          </p:nvSpPr>
          <p:spPr>
            <a:xfrm>
              <a:off x="2743200" y="1600200"/>
              <a:ext cx="0" cy="609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4"/>
            <p:cNvSpPr/>
            <p:nvPr/>
          </p:nvSpPr>
          <p:spPr>
            <a:xfrm>
              <a:off x="6781680" y="1600200"/>
              <a:ext cx="0" cy="609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AutoShape 15"/>
          <p:cNvSpPr/>
          <p:nvPr/>
        </p:nvSpPr>
        <p:spPr>
          <a:xfrm>
            <a:off x="20574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整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16"/>
          <p:cNvSpPr/>
          <p:nvPr/>
        </p:nvSpPr>
        <p:spPr>
          <a:xfrm>
            <a:off x="6172200" y="2209680"/>
            <a:ext cx="1295280" cy="6098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局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3352680" y="259092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37339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黑体"/>
              </a:rPr>
              <a:t>写作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99072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先静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320040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105520" y="3352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先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7162920" y="3352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后植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1066680" y="3962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066680" y="4470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066680" y="49784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066680" y="5486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桑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327672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鸣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3276720" y="49784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叫天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3276720" y="4470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黄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257800" y="3962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油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257800" y="4470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2"/>
          <p:cNvSpPr/>
          <p:nvPr/>
        </p:nvSpPr>
        <p:spPr>
          <a:xfrm>
            <a:off x="5257800" y="4978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蜈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525780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斑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6629400" y="39625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何首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木莲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5"/>
          <p:cNvSpPr/>
          <p:nvPr/>
        </p:nvSpPr>
        <p:spPr>
          <a:xfrm>
            <a:off x="6659640" y="50846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覆盆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6"/>
          <p:cNvSpPr/>
          <p:nvPr/>
        </p:nvSpPr>
        <p:spPr>
          <a:xfrm>
            <a:off x="1476360" y="13716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cc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7"/>
          <p:cNvSpPr/>
          <p:nvPr/>
        </p:nvSpPr>
        <p:spPr>
          <a:xfrm>
            <a:off x="5775480" y="1371600"/>
            <a:ext cx="199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cc"/>
                </a:solidFill>
                <a:latin typeface="Times New Roman"/>
              </a:rPr>
              <a:t>︷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084720" y="4508640"/>
            <a:ext cx="2178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味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116760" y="36576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听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116760" y="2941560"/>
            <a:ext cx="2178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视觉、触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6116760" y="2057400"/>
            <a:ext cx="21780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视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2057400" y="365760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长吟、弹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979560" y="36576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声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2057400" y="454176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又酸又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979560" y="454176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味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2057400" y="2941560"/>
            <a:ext cx="4059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光滑、高大、肥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979560" y="2941560"/>
            <a:ext cx="10778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2057400" y="2057400"/>
            <a:ext cx="40593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碧绿、紫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979560" y="2057400"/>
            <a:ext cx="10778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颜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979560" y="29415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5"/>
          <p:cNvSpPr/>
          <p:nvPr/>
        </p:nvSpPr>
        <p:spPr>
          <a:xfrm>
            <a:off x="979560" y="365760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205740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979560" y="205740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9795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8294760" y="2057400"/>
            <a:ext cx="0" cy="336852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0"/>
          <p:cNvSpPr/>
          <p:nvPr/>
        </p:nvSpPr>
        <p:spPr>
          <a:xfrm>
            <a:off x="990720" y="5410080"/>
            <a:ext cx="73152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979560" y="4541760"/>
            <a:ext cx="7315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2"/>
          <p:cNvSpPr/>
          <p:nvPr/>
        </p:nvSpPr>
        <p:spPr>
          <a:xfrm>
            <a:off x="6116760" y="2057400"/>
            <a:ext cx="0" cy="33685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1143000" y="11430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比喻、拟人、排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24"/>
          <p:cNvSpPr/>
          <p:nvPr/>
        </p:nvSpPr>
        <p:spPr>
          <a:xfrm>
            <a:off x="457200" y="5486400"/>
            <a:ext cx="609480" cy="5335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60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25"/>
          <p:cNvSpPr/>
          <p:nvPr/>
        </p:nvSpPr>
        <p:spPr>
          <a:xfrm>
            <a:off x="457200" y="1295280"/>
            <a:ext cx="609480" cy="53352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604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971640" y="5373720"/>
            <a:ext cx="85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准确的形容、准确地表述动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539640" y="6206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第</a:t>
            </a:r>
            <a:r>
              <a:rPr b="1" lang="en-US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华文隶书"/>
                <a:ea typeface="华文隶书"/>
              </a:rPr>
              <a:t>自然段是全文的精彩之笔，不仅形、声、色、味俱全，春、夏、秋景皆备，而且层次井然，条理分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9640" y="292428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39640" y="2628000"/>
            <a:ext cx="813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菜畦的“碧绿”，桑葚的“紫红”、菜花和蜂的“黄”是写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“肥胖”“高大”“臃肿”“像小珊瑚珠攒成的小球”是写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这两者都从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觉上写；鸣蝉的“长吟”，蟋蟀的“弹琴”，是从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上写；覆盆子“又酸又甜”写的是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所以说有声有色、有滋有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这里包括了春、夏、秋三个季节的景物，桑葚、菜花是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的，蝉鸣在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，蟋蟀到</a:t>
            </a:r>
            <a:r>
              <a:rPr b="1" lang="en-US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______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才叫；这与下文写到的冬天的百草园合起来成为完整的四季图，可见作者构思的精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050920" y="213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颜色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34800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形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6156360" y="24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6084720" y="29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284720" y="3357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1692360" y="4653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春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5076720" y="4653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盛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84360" y="5157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秋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33880" y="1994040"/>
            <a:ext cx="5517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尝试着用“不必说……也不必说……单是……”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关联词语模仿文章仿写一段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41400" y="1041480"/>
            <a:ext cx="2550960" cy="703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cw24" descr=""/>
          <p:cNvPicPr/>
          <p:nvPr/>
        </p:nvPicPr>
        <p:blipFill>
          <a:blip r:embed="rId2"/>
          <a:stretch/>
        </p:blipFill>
        <p:spPr>
          <a:xfrm>
            <a:off x="0" y="64152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116000" y="1916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5920" y="3368520"/>
            <a:ext cx="188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鲁    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693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写了百草园的景物后，为什么要写美女蛇的故事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971640" y="337032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美女蛇的故事很吸引孩子，给百草园增添了神秘色彩，丰富了百草园作为儿童乐园的情趣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11280" y="62064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第二段写了春、夏、秋三个季节的景物，下文有没有写到的冬天的百草园？怎么写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684360" y="1628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先写百草园冬天的“无味”，然后写下雪带来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26920" y="4221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找出表示捕鸟动作的词，说说这些词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39640" y="3573360"/>
            <a:ext cx="7467480" cy="520560"/>
            <a:chOff x="539640" y="3573360"/>
            <a:chExt cx="7467480" cy="520560"/>
          </a:xfrm>
        </p:grpSpPr>
        <p:sp>
          <p:nvSpPr>
            <p:cNvPr id="339" name="Text Box 8"/>
            <p:cNvSpPr/>
            <p:nvPr/>
          </p:nvSpPr>
          <p:spPr>
            <a:xfrm>
              <a:off x="1149120" y="357336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Picture 9" descr="button43"/>
            <p:cNvPicPr/>
            <p:nvPr/>
          </p:nvPicPr>
          <p:blipFill>
            <a:blip r:embed="rId2"/>
            <a:stretch/>
          </p:blipFill>
          <p:spPr>
            <a:xfrm>
              <a:off x="539640" y="3645000"/>
              <a:ext cx="457200" cy="4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Text Box 11"/>
          <p:cNvSpPr/>
          <p:nvPr/>
        </p:nvSpPr>
        <p:spPr>
          <a:xfrm>
            <a:off x="971640" y="479736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835280" y="479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2627280" y="4797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4"/>
          <p:cNvSpPr/>
          <p:nvPr/>
        </p:nvSpPr>
        <p:spPr>
          <a:xfrm>
            <a:off x="3492360" y="4797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4284720" y="479736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076720" y="47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6659640" y="47242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5867280" y="4724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9"/>
          <p:cNvSpPr/>
          <p:nvPr/>
        </p:nvSpPr>
        <p:spPr>
          <a:xfrm>
            <a:off x="7380360" y="4724280"/>
            <a:ext cx="5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250920" y="537372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九个表述动作的词，准确而生动地表现了雪地捕鸟的过程，写出了雪后捕鸟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39640" y="3068640"/>
            <a:ext cx="6912000" cy="533520"/>
            <a:chOff x="539640" y="3068640"/>
            <a:chExt cx="6912000" cy="533520"/>
          </a:xfrm>
        </p:grpSpPr>
        <p:sp>
          <p:nvSpPr>
            <p:cNvPr id="352" name="Text Box 24"/>
            <p:cNvSpPr/>
            <p:nvPr/>
          </p:nvSpPr>
          <p:spPr>
            <a:xfrm>
              <a:off x="1103760" y="3068640"/>
              <a:ext cx="634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，欲扬先抑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Picture 25" descr="button43"/>
            <p:cNvPicPr/>
            <p:nvPr/>
          </p:nvPicPr>
          <p:blipFill>
            <a:blip r:embed="rId3"/>
            <a:stretch/>
          </p:blipFill>
          <p:spPr>
            <a:xfrm>
              <a:off x="539640" y="3144960"/>
              <a:ext cx="423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27"/>
          <p:cNvSpPr/>
          <p:nvPr/>
        </p:nvSpPr>
        <p:spPr>
          <a:xfrm>
            <a:off x="971640" y="26370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这是什么写法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7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8000"/>
                            </p:stCondLst>
                            <p:childTnLst>
                              <p:par>
                                <p:cTn id="8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8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7" name="Picture 4" descr="鲁迅-百草园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鲁迅-百草园3"/>
          <p:cNvPicPr/>
          <p:nvPr/>
        </p:nvPicPr>
        <p:blipFill>
          <a:blip r:embed="rId3"/>
          <a:stretch/>
        </p:blipFill>
        <p:spPr>
          <a:xfrm>
            <a:off x="0" y="-809640"/>
            <a:ext cx="9144000" cy="7667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bai_cao_yua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-812880"/>
            <a:ext cx="9144000" cy="7670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20070508194831729"/>
          <p:cNvPicPr/>
          <p:nvPr/>
        </p:nvPicPr>
        <p:blipFill>
          <a:blip r:embed="rId5"/>
          <a:stretch/>
        </p:blipFill>
        <p:spPr>
          <a:xfrm>
            <a:off x="0" y="1773360"/>
            <a:ext cx="4057560" cy="4633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皂荚树"/>
          <p:cNvPicPr/>
          <p:nvPr/>
        </p:nvPicPr>
        <p:blipFill>
          <a:blip r:embed="rId6"/>
          <a:stretch/>
        </p:blipFill>
        <p:spPr>
          <a:xfrm>
            <a:off x="4067280" y="47628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12"/>
          <p:cNvSpPr/>
          <p:nvPr/>
        </p:nvSpPr>
        <p:spPr>
          <a:xfrm>
            <a:off x="5292720" y="51465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方正姚体"/>
              </a:rPr>
              <a:t>高大的皂荚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3" descr="1161079331609"/>
          <p:cNvPicPr/>
          <p:nvPr/>
        </p:nvPicPr>
        <p:blipFill>
          <a:blip r:embed="rId7"/>
          <a:stretch/>
        </p:blipFill>
        <p:spPr>
          <a:xfrm>
            <a:off x="0" y="476280"/>
            <a:ext cx="4608360" cy="37512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qtsza-x"/>
          <p:cNvPicPr/>
          <p:nvPr/>
        </p:nvPicPr>
        <p:blipFill>
          <a:blip r:embed="rId8"/>
          <a:stretch/>
        </p:blipFill>
        <p:spPr>
          <a:xfrm>
            <a:off x="4572000" y="3213000"/>
            <a:ext cx="4572000" cy="303048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5"/>
          <p:cNvSpPr/>
          <p:nvPr/>
        </p:nvSpPr>
        <p:spPr>
          <a:xfrm>
            <a:off x="684360" y="5013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紫红的桑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油蛉"/>
          <p:cNvPicPr/>
          <p:nvPr/>
        </p:nvPicPr>
        <p:blipFill>
          <a:blip r:embed="rId9"/>
          <a:stretch/>
        </p:blipFill>
        <p:spPr>
          <a:xfrm>
            <a:off x="0" y="333360"/>
            <a:ext cx="3059280" cy="3595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7" descr="图片1"/>
          <p:cNvPicPr/>
          <p:nvPr/>
        </p:nvPicPr>
        <p:blipFill>
          <a:blip r:embed="rId10"/>
          <a:stretch/>
        </p:blipFill>
        <p:spPr>
          <a:xfrm>
            <a:off x="2916360" y="333360"/>
            <a:ext cx="6227640" cy="6002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8" descr="云雀"/>
          <p:cNvPicPr/>
          <p:nvPr/>
        </p:nvPicPr>
        <p:blipFill>
          <a:blip r:embed="rId11"/>
          <a:stretch/>
        </p:blipFill>
        <p:spPr>
          <a:xfrm>
            <a:off x="0" y="3933720"/>
            <a:ext cx="3022560" cy="2373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9" descr="蜈蚣"/>
          <p:cNvPicPr/>
          <p:nvPr/>
        </p:nvPicPr>
        <p:blipFill>
          <a:blip r:embed="rId12"/>
          <a:stretch/>
        </p:blipFill>
        <p:spPr>
          <a:xfrm>
            <a:off x="4500720" y="549360"/>
            <a:ext cx="4643280" cy="582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0" descr="Banmao"/>
          <p:cNvPicPr/>
          <p:nvPr/>
        </p:nvPicPr>
        <p:blipFill>
          <a:blip r:embed="rId13"/>
          <a:stretch/>
        </p:blipFill>
        <p:spPr>
          <a:xfrm>
            <a:off x="0" y="476280"/>
            <a:ext cx="4516560" cy="5761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1" descr="200692917538506"/>
          <p:cNvPicPr/>
          <p:nvPr/>
        </p:nvPicPr>
        <p:blipFill>
          <a:blip r:embed="rId14"/>
          <a:stretch/>
        </p:blipFill>
        <p:spPr>
          <a:xfrm>
            <a:off x="0" y="476280"/>
            <a:ext cx="4287960" cy="590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2" descr="057812567075"/>
          <p:cNvPicPr/>
          <p:nvPr/>
        </p:nvPicPr>
        <p:blipFill>
          <a:blip r:embed="rId15"/>
          <a:stretch/>
        </p:blipFill>
        <p:spPr>
          <a:xfrm>
            <a:off x="4284720" y="476280"/>
            <a:ext cx="4859280" cy="3532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何首乌3"/>
          <p:cNvPicPr/>
          <p:nvPr/>
        </p:nvPicPr>
        <p:blipFill>
          <a:blip r:embed="rId16"/>
          <a:stretch/>
        </p:blipFill>
        <p:spPr>
          <a:xfrm>
            <a:off x="6732720" y="3933720"/>
            <a:ext cx="2244600" cy="24606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5"/>
          <p:cNvSpPr/>
          <p:nvPr/>
        </p:nvSpPr>
        <p:spPr>
          <a:xfrm>
            <a:off x="3924360" y="450864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何首乌的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26" descr="fupengzi"/>
          <p:cNvPicPr/>
          <p:nvPr/>
        </p:nvPicPr>
        <p:blipFill>
          <a:blip r:embed="rId17"/>
          <a:stretch/>
        </p:blipFill>
        <p:spPr>
          <a:xfrm>
            <a:off x="0" y="476280"/>
            <a:ext cx="4473720" cy="5784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7" descr="100440_1"/>
          <p:cNvPicPr/>
          <p:nvPr/>
        </p:nvPicPr>
        <p:blipFill>
          <a:blip r:embed="rId18"/>
          <a:stretch/>
        </p:blipFill>
        <p:spPr>
          <a:xfrm>
            <a:off x="4500720" y="2349360"/>
            <a:ext cx="4643280" cy="3915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8"/>
          <p:cNvSpPr/>
          <p:nvPr/>
        </p:nvSpPr>
        <p:spPr>
          <a:xfrm>
            <a:off x="5724360" y="836640"/>
            <a:ext cx="29750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覆盆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9" descr="wang"/>
          <p:cNvPicPr/>
          <p:nvPr/>
        </p:nvPicPr>
        <p:blipFill>
          <a:blip r:embed="rId19"/>
          <a:stretch/>
        </p:blipFill>
        <p:spPr>
          <a:xfrm>
            <a:off x="0" y="-525600"/>
            <a:ext cx="9144000" cy="631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6000"/>
                            </p:stCondLst>
                            <p:childTnLst>
                              <p:par>
                                <p:cTn id="907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0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5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9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45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0"/>
                            </p:stCondLst>
                            <p:childTnLst>
                              <p:par>
                                <p:cTn id="949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5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5000"/>
                            </p:stCondLst>
                            <p:childTnLst>
                              <p:par>
                                <p:cTn id="957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00"/>
                            </p:stCondLst>
                            <p:childTnLst>
                              <p:par>
                                <p:cTn id="962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10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6000"/>
                            </p:stCondLst>
                            <p:childTnLst>
                              <p:par>
                                <p:cTn id="974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61000"/>
                            </p:stCondLst>
                            <p:childTnLst>
                              <p:par>
                                <p:cTn id="97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66000"/>
                            </p:stCondLst>
                            <p:childTnLst>
                              <p:par>
                                <p:cTn id="989" nodeType="after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02640" y="836640"/>
            <a:ext cx="63792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96800" y="26128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尝试着用一系列动词准确地描述一个游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7"/>
          <p:cNvSpPr/>
          <p:nvPr/>
        </p:nvSpPr>
        <p:spPr>
          <a:xfrm>
            <a:off x="849240" y="523440"/>
            <a:ext cx="7248600" cy="759960"/>
          </a:xfrm>
          <a:custGeom>
            <a:avLst/>
            <a:gdLst>
              <a:gd name="textAreaLeft" fmla="*/ 89280 w 7248600"/>
              <a:gd name="textAreaRight" fmla="*/ 7159320 w 7248600"/>
              <a:gd name="textAreaTop" fmla="*/ 89280 h 759960"/>
              <a:gd name="textAreaBottom" fmla="*/ 670680 h 759960"/>
            </a:gdLst>
            <a:ahLst/>
            <a:rect l="textAreaLeft" t="textAreaTop" r="textAreaRight" b="textAreaBottom"/>
            <a:pathLst>
              <a:path w="2059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2336" y="21600"/>
                </a:lnTo>
                <a:arcTo wR="3600" hR="3600" stAng="10800000" swAng="5400000"/>
                <a:lnTo>
                  <a:pt x="20593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第九段在文章结构上有何作用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755640" y="256536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第一句 “不知道”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个字，表明去三味书屋是被迫的。第二句三个“也许”，猜测原因，推断去三味书屋是一种惩罚。最后三句直接抒发了对百草园的难分难舍的感情。因此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第九节表达了“我”对百草园的深情眷恋和被迫离开它时的依依惜别之情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1835280" y="126828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承上启下的过渡作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900000" y="1907640"/>
            <a:ext cx="3273480" cy="680400"/>
          </a:xfrm>
          <a:custGeom>
            <a:avLst/>
            <a:gdLst>
              <a:gd name="textAreaLeft" fmla="*/ 79920 w 3273480"/>
              <a:gd name="textAreaRight" fmla="*/ 3193560 w 3273480"/>
              <a:gd name="textAreaTop" fmla="*/ 79920 h 680400"/>
              <a:gd name="textAreaBottom" fmla="*/ 600480 h 680400"/>
            </a:gdLst>
            <a:ahLst/>
            <a:rect l="textAreaLeft" t="textAreaTop" r="textAreaRight" b="textAreaBottom"/>
            <a:pathLst>
              <a:path w="103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0276" y="21600"/>
                </a:lnTo>
                <a:arcTo wR="3600" hR="3600" stAng="10800000" swAng="5400000"/>
                <a:lnTo>
                  <a:pt x="103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表情达意的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2004822428164"/>
          <p:cNvPicPr/>
          <p:nvPr/>
        </p:nvPicPr>
        <p:blipFill>
          <a:blip r:embed="rId2"/>
          <a:stretch/>
        </p:blipFill>
        <p:spPr>
          <a:xfrm>
            <a:off x="5386320" y="0"/>
            <a:ext cx="3757680" cy="4508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3"/>
          <p:cNvSpPr/>
          <p:nvPr/>
        </p:nvSpPr>
        <p:spPr>
          <a:xfrm>
            <a:off x="539640" y="148428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华文隶书"/>
                <a:ea typeface="华文隶书"/>
              </a:rPr>
              <a:t>从哪些方面写三味书屋的读书生活的？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5" descr="GIF136"/>
          <p:cNvPicPr/>
          <p:nvPr/>
        </p:nvPicPr>
        <p:blipFill>
          <a:blip r:embed="rId3"/>
          <a:stretch/>
        </p:blipFill>
        <p:spPr>
          <a:xfrm>
            <a:off x="6227640" y="394164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2771640" y="3213000"/>
            <a:ext cx="396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三味书屋的布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入学礼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书先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教学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同窗学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98720" y="863640"/>
            <a:ext cx="59212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读第二部分，回答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9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2"/>
          <p:cNvSpPr/>
          <p:nvPr/>
        </p:nvSpPr>
        <p:spPr>
          <a:xfrm>
            <a:off x="755640" y="692280"/>
            <a:ext cx="4419720" cy="2698560"/>
          </a:xfrm>
          <a:custGeom>
            <a:avLst/>
            <a:gdLst>
              <a:gd name="textAreaLeft" fmla="*/ 269280 w 4419720"/>
              <a:gd name="textAreaRight" fmla="*/ 4150440 w 4419720"/>
              <a:gd name="textAreaTop" fmla="*/ 269280 h 2698560"/>
              <a:gd name="textAreaBottom" fmla="*/ 2429280 h 2698560"/>
            </a:gdLst>
            <a:ahLst/>
            <a:rect l="textAreaLeft" t="textAreaTop" r="textAreaRight" b="textAreaBottom"/>
            <a:pathLst>
              <a:path w="35375" h="21600">
                <a:moveTo>
                  <a:pt x="3049" y="0"/>
                </a:moveTo>
                <a:arcTo wR="3049" hR="3049" stAng="0" swAng="5400000"/>
                <a:lnTo>
                  <a:pt x="0" y="18551"/>
                </a:lnTo>
                <a:arcTo wR="3049" hR="3049" stAng="16200000" swAng="5400000"/>
                <a:lnTo>
                  <a:pt x="32326" y="21600"/>
                </a:lnTo>
                <a:arcTo wR="3049" hR="3049" stAng="10800000" swAng="5400000"/>
                <a:lnTo>
                  <a:pt x="35375" y="3049"/>
                </a:lnTo>
                <a:arcTo wR="3049" hR="3049" stAng="5400000" swAng="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76200" y="3860640"/>
            <a:ext cx="876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从文中找出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味书屋环境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句子，说说三味书屋的环境是怎样的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5323320" y="620640"/>
            <a:ext cx="1277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三味书屋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547640" y="53737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、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段的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sanweishuwu"/>
          <p:cNvPicPr/>
          <p:nvPr/>
        </p:nvPicPr>
        <p:blipFill>
          <a:blip r:embed="rId2"/>
          <a:stretch/>
        </p:blipFill>
        <p:spPr>
          <a:xfrm>
            <a:off x="539640" y="260280"/>
            <a:ext cx="3657600" cy="29926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4427640" y="620640"/>
            <a:ext cx="42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三味书屋的生活枯燥无味吗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有哪些趣事呢</a:t>
            </a:r>
            <a:r>
              <a:rPr b="1" lang="en-US" sz="4000" spc="-1" strike="noStrike">
                <a:solidFill>
                  <a:srgbClr val="0033cc"/>
                </a:solidFill>
                <a:latin typeface="华文楷体"/>
                <a:ea typeface="华文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719280" y="341316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到三味书屋后园寻乐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回忆师生读书的场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华文行楷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座位上做各种游戏，画画儿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3775320" y="1125360"/>
            <a:ext cx="181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到文章中描写寿先生的句子，读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思考：寿先生是怎样一位老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4360" y="836640"/>
            <a:ext cx="8064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寿镜吾老先生自二十岁考取秀才后，不再参加考试，远离仕途，自甘淡泊，子承父业坐馆教书达六十年之久。他谙熟四书五经，博学正直，具有反清爱国思想。在封建社会中他还是比较开明的，为人方正、质朴，对学生和蔼，对童年的鲁迅十分关心。他是鲁迅的启蒙老师，鲁迅对他一直很恭敬。鲁迅成年后，师生之间常有书信往来，鲁迅每次回家也都前去看望先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30840" y="606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幼圆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668600"/>
            <a:ext cx="84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、学习本文具体生动地写景状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的写作方法，体会语言的感情色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、通过朗读和品味，体会作者对美好往事的怀念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527400" y="44280"/>
            <a:ext cx="1643760" cy="825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深入探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900000" y="119700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华文中宋"/>
                <a:ea typeface="华文中宋"/>
              </a:rPr>
              <a:t>怎样理解先生对学生提问的态度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116000" y="270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生提问应肯定。而先生表示拒绝回答，这是因为学生在不适合的时间提出了不相干的问题，违反了教学的秩序和师道尊严。这在一定的程度上反映了封建制度的弊端，应予否定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755640" y="54936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为什么要写学生到三味书屋后园贪玩的情节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684360" y="220032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游戏是孩子的本性，总是要表现出来的，但在课堂上贪玩甚至逃学，一般来说是不允许的。从这几个片段可以看出，当时的私塾教育并不像我们想象得那么严厉，孩子们还是有相当多的自由的，这些地方充满着欢乐，天真的情调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2023560" y="836640"/>
            <a:ext cx="46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作者对三味书屋的感受是什么</a:t>
            </a:r>
            <a:r>
              <a:rPr b="1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324000" y="198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百草园的自由快乐相比，三味书屋显然是受约束，且令人多少有些反感。但也应看到，孩子们也能随先生有板有眼的学习，并不抵触，况且也有游戏的乐趣。这一部分流露出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作者儿童时代热爱大自然、热爱新知识以及天真、欢乐、幼稚的儿童心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68360" y="333360"/>
            <a:ext cx="792000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１、“仁远乎哉我欲仁则斯仁至矣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论语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述而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应读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仁远乎哉？我欲仁，斯仁至矣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意思是：“仁这东西很遥远吗？我内心想到仁，仁就自然来到了”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4360" y="2565360"/>
            <a:ext cx="784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２、“笑人齿缺曰狗窦大开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幼学琼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身体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应读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笑人齿缺，曰‘狗窦大开’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：“笑人家牙齿缺了，就说‘（那个缺口）就像一个狗洞大开着’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4581360"/>
            <a:ext cx="7775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３、“上九潜龙勿用”出自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易经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·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乾卦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由“初九潜龙勿用”和“上九亢龙有悔”二句爻辞杂糅而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初九潜龙勿用”意思是“君子应韬光隐晦以待时机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上九亢龙有悔”意思是“人应以亢满为戒，注意物极必反的道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17.gif (1832 bytes)"/>
          <p:cNvPicPr/>
          <p:nvPr/>
        </p:nvPicPr>
        <p:blipFill>
          <a:blip r:embed="rId2"/>
          <a:stretch/>
        </p:blipFill>
        <p:spPr>
          <a:xfrm>
            <a:off x="250920" y="404640"/>
            <a:ext cx="277560" cy="2779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17.gif (1832 bytes)"/>
          <p:cNvPicPr/>
          <p:nvPr/>
        </p:nvPicPr>
        <p:blipFill>
          <a:blip r:embed="rId3"/>
          <a:stretch/>
        </p:blipFill>
        <p:spPr>
          <a:xfrm>
            <a:off x="395280" y="2565360"/>
            <a:ext cx="277920" cy="2779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17.gif (1832 bytes)"/>
          <p:cNvPicPr/>
          <p:nvPr/>
        </p:nvPicPr>
        <p:blipFill>
          <a:blip r:embed="rId4"/>
          <a:stretch/>
        </p:blipFill>
        <p:spPr>
          <a:xfrm>
            <a:off x="324000" y="46530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9640" y="260280"/>
            <a:ext cx="799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４、“厥土下上上错厥贡苞茅橘柚”摘自中国古代典藉文献中最艰涩难懂的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尚书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中的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禹贡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篇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“天下土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共分九等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上为下等里最上的一级，好坏交错；那  进贡的物品里有茅草、橘柚等物品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我们可以如下断句：“厥土：下上、上错；厥贡：苞茅、橘柚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9640" y="3068640"/>
            <a:ext cx="8353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、“铁如意，指挥倜傥，一坐皆惊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﹏﹏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；金叵罗，颠倒淋漓噫，千杯未醉嗬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﹏﹏”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出自清人刘翰的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李克用置酒三垂岗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。引文中的声浪号表声音起伏，持续不断“噫”、“嗬”指念书时加在句尾用来加强感情的声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思是：拿着铁如意，指挥比划，潇洒自如。用金杯喝酒，痛快淋漓，喝得很多而未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引用句子和原文略有出入：“铁如意”原作“玉如意”；“颠倒”原作“倾倒”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17.gif (1832 bytes)"/>
          <p:cNvPicPr/>
          <p:nvPr/>
        </p:nvPicPr>
        <p:blipFill>
          <a:blip r:embed="rId2"/>
          <a:stretch/>
        </p:blipFill>
        <p:spPr>
          <a:xfrm>
            <a:off x="395280" y="3141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17.gif (1832 bytes)"/>
          <p:cNvPicPr/>
          <p:nvPr/>
        </p:nvPicPr>
        <p:blipFill>
          <a:blip r:embed="rId3"/>
          <a:stretch/>
        </p:blipFill>
        <p:spPr>
          <a:xfrm>
            <a:off x="395280" y="260280"/>
            <a:ext cx="277920" cy="27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826920" y="981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从百草园到三味书屋</a:t>
            </a: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是鲁迅先生儿时生活的一段美好回忆。这段生活经历对鲁迅先生的人生发展产生过巨大的影响。我们要像鲁迅先生一样，保持儿童纯真活泼的天性，要有求知的欲望和进取心。今天，时代变了，我们的生活环境和学习环境也变了，我们的思想行为也应当为之一变。我们要从小努力学习，热爱自然、热爱生活，把自己培养成为对社会有用的人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81560" y="1449720"/>
            <a:ext cx="2305080" cy="3659400"/>
          </a:xfrm>
          <a:prstGeom prst="rect">
            <a:avLst/>
          </a:prstGeom>
          <a:blipFill rotWithShape="0">
            <a:blip r:embed="rId2"/>
            <a:stretch/>
          </a:blipFill>
          <a:ln w="5724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692280"/>
            <a:ext cx="51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鲁迅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(1881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1936)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原名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周树人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浙江绍兴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人，伟大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文学家、思想家、革命家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著有杂文、小说、散文、诗歌等。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从百草园到三味书屋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选自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朝花夕拾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838080"/>
            <a:ext cx="860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朝花夕拾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是一部散文集，共搜集了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篇文章，大部分作品是作者回忆自己童年、少年时代生活的。写本篇文章时鲁迅已经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40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多岁了。这部散文集题名为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朝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夕拾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，意思是</a:t>
            </a:r>
            <a:r>
              <a:rPr b="1" lang="en-US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早上的花到晚上才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取，晚年了，回忆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姚体"/>
                <a:ea typeface="方正姚体"/>
              </a:rPr>
              <a:t>少年时代的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从百草园到三味书屋-朝花夕拾"/>
          <p:cNvPicPr/>
          <p:nvPr/>
        </p:nvPicPr>
        <p:blipFill>
          <a:blip r:embed="rId2"/>
          <a:stretch/>
        </p:blipFill>
        <p:spPr>
          <a:xfrm>
            <a:off x="5076720" y="328464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三味书屋”中的“三味”，是指三种味道。宋代李淑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邯郸书目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书写道：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诗书，味之太羹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ēng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史为杂俎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子为醯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醢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ǎi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），是为书三味。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太羹指的是肉汁，俎就是切肉，醯醢是加佐料做成的肉酱。这里是用三种味道的食物比喻古代的三类书，即经书、史书和诸子百家的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三味书屋对联：上联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至乐无声唯孝悌”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下联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太羹有味是诗书”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意思是最好的音乐是无声的“孝”、“悌”两种道德，而最美味的菜肴应当首推诗书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隶书"/>
              </a:rPr>
              <a:t>下列划线字你能正确地读出来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确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凿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菜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畦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椹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）               轻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捷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蛉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蝥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）             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缠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络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攒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珊瑚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     ）                                          宿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儒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敛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脑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髓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）             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陌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生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觅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食（     ）     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筛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（      ）          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谷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窦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  （     ）      蝉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）    书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塾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 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渊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博（     ）    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倜傥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   ） 人声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鼎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沸（       ）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豁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（     ）人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</a:rPr>
              <a:t>罕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至（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47640" y="981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zá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4500720" y="1773360"/>
            <a:ext cx="21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500720" y="98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q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588000" y="1628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093080" y="98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è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547640" y="148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427640" y="14842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7093080" y="1413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á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403280" y="1916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211640" y="19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u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7093080" y="191628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ā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 h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763640" y="3068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4211640" y="4365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u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284720" y="2421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7164360" y="242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547640" y="29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500720" y="2924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7308720" y="2924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ā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1619280" y="3429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4356000" y="3357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ò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7451640" y="4437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h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7308720" y="3357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u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1476360" y="38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h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435600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yu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2340000" y="4365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ǐ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1547640" y="2421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7201080" y="3933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ì tǎ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5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8720" y="692280"/>
            <a:ext cx="307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解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24240" y="2421000"/>
            <a:ext cx="140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从文章《从百草园到三味书屋》你可以获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那些信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速读课文并思考下列问题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438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文章以什么为写作顺序？内容可分哪两分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文章哪几节文字写百草园？哪几节文章写三味书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5:29:46Z</dcterms:created>
  <dc:creator/>
  <dc:description/>
  <dc:language>en-US</dc:language>
  <cp:lastModifiedBy>zmj</cp:lastModifiedBy>
  <dcterms:modified xsi:type="dcterms:W3CDTF">2013-03-06T00:16:28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