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3.jpeg" ContentType="image/jpeg"/>
  <Override PartName="/ppt/media/image49.png" ContentType="image/png"/>
  <Override PartName="/ppt/media/image56.gif" ContentType="image/gif"/>
  <Override PartName="/ppt/media/image2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2.png" ContentType="image/png"/>
  <Override PartName="/ppt/media/image3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51.png" ContentType="image/png"/>
  <Override PartName="/ppt/media/image9.wmf" ContentType="image/x-wmf"/>
  <Override PartName="/ppt/media/image38.gif" ContentType="image/gif"/>
  <Override PartName="/ppt/media/image43.png" ContentType="image/png"/>
  <Override PartName="/ppt/media/image53.png" ContentType="image/png"/>
  <Override PartName="/ppt/media/image55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3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B65-4476-48C5-938A-F1ACC961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FB0-D4DA-422E-A643-7AE9E2B7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09E-78B3-4AE7-A296-B5BCB06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6E0-1D2C-4FA6-B045-B147508A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6C8-CF0A-4487-A014-8DDE1C1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503-BCC0-4E2A-9939-D452A2B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E41A-4F8E-4913-95FA-C454A598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DA4C-30C3-492A-A374-3B47E739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4A10-A25F-4912-9E86-D060BE2A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4463-99CD-4D8A-8E8C-4440F61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A5CD-A0D4-4BDA-900D-71CBF94E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CD7-E861-4A7B-88C1-71BE0FA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B805-01E2-45C4-A0F1-F7456EA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604B-3A22-4852-B265-EFCC6F9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2C50-A3D0-447E-8AF2-100EDDE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109-2DA5-4C96-9A5F-98ABD8CB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4509-6D7D-48FC-979A-ED2645AC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0E6A-2C50-4FEF-ADEC-5ED87BB4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F9A4-592D-42CB-A94A-E581B941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41E3-3004-4F85-9769-1FA18CF6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B870-3B41-444B-8DC8-BE1F20BE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8A8D-C72F-4A0F-83A2-E3034625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CF9-CA6E-40D9-B402-2F433246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6FB3-F4C8-420A-9F75-A0170BC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10F3-4D08-4B61-A5DA-3BC45EA2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9AFD-D0A5-40A5-98B8-C89DD352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D3BC-108E-4FAC-8FE8-04CDB8E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05C5A-B4D9-4E2D-B10C-F7245160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616C-2B9C-48D2-B6FE-C7370070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3BA4-A9AA-4C46-AAAF-7555E24E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7C9-0559-49F0-8631-0004D9D0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279-5E16-445B-9BDD-4E8116DC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8F7-F16E-4581-BEDF-2A8D2DD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70D-99D7-4A71-A16E-825781B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462-12F5-4884-A2A3-82DBBFB2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20B-BDD4-4A63-9CC9-822A163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2CB0-617C-4EEE-A25D-3FE789CCE3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2B9-D426-4F97-A339-D9C96F7EF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21B9-A61C-4FD8-8DEA-A2C068A10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12,&#24187;&#28783;&#29255; 12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12,&#24187;&#28783;&#29255; 12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pn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jpeg"/><Relationship Id="rId19" Type="http://schemas.openxmlformats.org/officeDocument/2006/relationships/image" Target="../media/image31.jpe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3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33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39.png"/><Relationship Id="rId4" Type="http://schemas.openxmlformats.org/officeDocument/2006/relationships/image" Target="../media/image33.png"/><Relationship Id="rId5" Type="http://schemas.openxmlformats.org/officeDocument/2006/relationships/image" Target="../media/image49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gif"/><Relationship Id="rId3" Type="http://schemas.openxmlformats.org/officeDocument/2006/relationships/image" Target="../media/image5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从百草园到三味书屋"/>
          <p:cNvPicPr/>
          <p:nvPr/>
        </p:nvPicPr>
        <p:blipFill>
          <a:blip r:embed="rId2"/>
          <a:stretch/>
        </p:blipFill>
        <p:spPr>
          <a:xfrm>
            <a:off x="5076720" y="3827520"/>
            <a:ext cx="4067280" cy="255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每个人的童年，都是一片宽阔的原野，在这上面，你可以种植世界上所有的花草，可以放飞所有的希望，可以撒播一生的幸福，可以荡漾一生的笑意。童年是美好的，只要有一颗敏锐易感的心，童年的一切记忆都会深深留在心中。今天我们学习</a:t>
            </a:r>
            <a:r>
              <a:rPr b="1" lang="en-US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《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从百草园到三味书屋</a:t>
            </a:r>
            <a:r>
              <a:rPr b="1" lang="en-US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》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，了解鲁迅先生童年的记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04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华文隶书"/>
              </a:rPr>
              <a:t>第一段似乎没什么精彩内容，能否不写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9528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不能。此段紧扣题目，点明百草园的位置和来龙去脉，突出“我的乐园”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0" y="414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华文新魏"/>
                <a:ea typeface="华文新魏"/>
              </a:rPr>
              <a:t>不矛盾。</a:t>
            </a:r>
            <a:r>
              <a:rPr b="1" lang="zh-CN" sz="4000" spc="-1" strike="noStrike">
                <a:solidFill>
                  <a:srgbClr val="007572"/>
                </a:solidFill>
                <a:latin typeface="宋体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华文新魏"/>
                <a:ea typeface="华文新魏"/>
              </a:rPr>
              <a:t>确凿</a:t>
            </a:r>
            <a:r>
              <a:rPr b="1" lang="zh-CN" sz="4000" spc="-1" strike="noStrike">
                <a:solidFill>
                  <a:srgbClr val="007572"/>
                </a:solidFill>
                <a:latin typeface="宋体"/>
                <a:ea typeface="华文新魏"/>
              </a:rPr>
              <a:t>”是写作此文时，作者用成人的眼光断定的。“</a:t>
            </a:r>
            <a:r>
              <a:rPr b="1" lang="zh-CN" sz="4000" spc="-1" strike="noStrike">
                <a:solidFill>
                  <a:srgbClr val="007572"/>
                </a:solidFill>
                <a:latin typeface="华文新魏"/>
                <a:ea typeface="华文新魏"/>
              </a:rPr>
              <a:t>似乎</a:t>
            </a:r>
            <a:r>
              <a:rPr b="1" lang="zh-CN" sz="4000" spc="-1" strike="noStrike">
                <a:solidFill>
                  <a:srgbClr val="007572"/>
                </a:solidFill>
                <a:latin typeface="宋体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华文新魏"/>
                <a:ea typeface="华文新魏"/>
              </a:rPr>
              <a:t>是因为时隔七八年了，对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确凿”</a:t>
            </a:r>
            <a:r>
              <a:rPr b="1" lang="zh-CN" sz="4000" spc="-1" strike="noStrike">
                <a:solidFill>
                  <a:srgbClr val="007572"/>
                </a:solidFill>
                <a:latin typeface="华文新魏"/>
                <a:ea typeface="华文新魏"/>
              </a:rPr>
              <a:t>断定又有些模糊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2349360"/>
            <a:ext cx="8893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隶书"/>
              </a:rPr>
              <a:t>    “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隶书"/>
              </a:rPr>
              <a:t>其中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Arial"/>
                <a:ea typeface="华文隶书"/>
              </a:rPr>
              <a:t>似乎确凿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华文隶书"/>
              </a:rPr>
              <a:t>只有一些野草，但那时却是我的乐园。”一句，“似乎”“确凿”语意是否矛盾？为什么？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533520" y="380880"/>
            <a:ext cx="8610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为什么百草园是我的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隶书"/>
                <a:hlinkClick r:id="rId2"/>
              </a:rPr>
              <a:t>乐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？阅读第二节，思考下列问题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、“不必说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也不必说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单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这个句式在文章中起什么作用？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997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不必说”宕开一笔，是为了突出“单是”的内容。既然“单是”这一点已经趣味无穷了，那么园中的乐趣比比皆是了。这样写，突出了百草园的无穷乐趣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33520" y="380880"/>
            <a:ext cx="8610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为什么百草园是我的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隶书"/>
                <a:hlinkClick r:id="rId2"/>
              </a:rPr>
              <a:t>乐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？阅读第二节，思考下列问题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0" y="21337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、说说这节文字描写了百草园哪些季节的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哪些景物？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4005360"/>
            <a:ext cx="8353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这段文字用了哪些修辞手法？作者是从哪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几个角度具体描写了百草园的景物？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719440" y="304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260880" y="123984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031200" y="1182600"/>
            <a:ext cx="97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菜    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石井栏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皂荚树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桑    椹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鸣    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黄    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叫天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181480" y="1219320"/>
            <a:ext cx="152640" cy="167616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5181480" y="304812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414400" y="1676520"/>
            <a:ext cx="6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静态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439960" y="30085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动态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646128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0076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9220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3000" y="114300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3886200" y="281952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1662840" y="119232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碧绿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光滑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高大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紫红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肥胖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轻捷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114800" y="2819520"/>
            <a:ext cx="12193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长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伏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窜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60076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6477120" y="3505320"/>
            <a:ext cx="38088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69220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1511280" y="4421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观察景物：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3708360" y="4365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方正姚体"/>
              </a:rPr>
              <a:t>有    序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733920" y="5029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方正姚体"/>
              </a:rPr>
              <a:t>多角度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4042800" y="5629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方正姚体"/>
              </a:rPr>
              <a:t>形容词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07" name="Picture 24" descr="NA01441_"/>
          <p:cNvPicPr/>
          <p:nvPr/>
        </p:nvPicPr>
        <p:blipFill>
          <a:blip r:embed="rId2"/>
          <a:stretch/>
        </p:blipFill>
        <p:spPr>
          <a:xfrm>
            <a:off x="6659640" y="450864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BD14711_"/>
          <p:cNvPicPr/>
          <p:nvPr/>
        </p:nvPicPr>
        <p:blipFill>
          <a:blip r:embed="rId3"/>
          <a:stretch/>
        </p:blipFill>
        <p:spPr>
          <a:xfrm>
            <a:off x="1295280" y="99072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6"/>
          <p:cNvSpPr/>
          <p:nvPr/>
        </p:nvSpPr>
        <p:spPr>
          <a:xfrm rot="2671200">
            <a:off x="228600" y="4343040"/>
            <a:ext cx="784080" cy="911160"/>
          </a:xfrm>
          <a:custGeom>
            <a:avLst/>
            <a:gdLst>
              <a:gd name="textAreaLeft" fmla="*/ 316800 w 784080"/>
              <a:gd name="textAreaRight" fmla="*/ 467280 w 784080"/>
              <a:gd name="textAreaTop" fmla="*/ 368280 h 911160"/>
              <a:gd name="textAreaBottom" fmla="*/ 542880 h 91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33" y="8733"/>
                </a:lnTo>
                <a:lnTo>
                  <a:pt x="10800" y="0"/>
                </a:lnTo>
                <a:lnTo>
                  <a:pt x="12867" y="8733"/>
                </a:lnTo>
                <a:lnTo>
                  <a:pt x="21600" y="10800"/>
                </a:lnTo>
                <a:lnTo>
                  <a:pt x="12867" y="12867"/>
                </a:lnTo>
                <a:lnTo>
                  <a:pt x="10800" y="21600"/>
                </a:lnTo>
                <a:lnTo>
                  <a:pt x="8733" y="12867"/>
                </a:lnTo>
                <a:lnTo>
                  <a:pt x="0" y="10800"/>
                </a:lnTo>
                <a:close/>
              </a:path>
            </a:pathLst>
          </a:custGeom>
          <a:solidFill>
            <a:srgbClr val="2fa3eb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AutoShape 27"/>
          <p:cNvSpPr/>
          <p:nvPr/>
        </p:nvSpPr>
        <p:spPr>
          <a:xfrm>
            <a:off x="457200" y="457200"/>
            <a:ext cx="762120" cy="76212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304920" y="5638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借助“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准确的形容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” 表达喜爱之情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2" name="Line 30"/>
          <p:cNvSpPr/>
          <p:nvPr/>
        </p:nvSpPr>
        <p:spPr>
          <a:xfrm flipH="1">
            <a:off x="2895120" y="6019920"/>
            <a:ext cx="8384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30481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单是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就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767880" y="3429000"/>
            <a:ext cx="9946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62120" y="29718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600200" y="1219320"/>
            <a:ext cx="152280" cy="4724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6"/>
                </a:lnTo>
                <a:cubicBezTo>
                  <a:pt x="10800" y="9996"/>
                  <a:pt x="5400" y="10896"/>
                  <a:pt x="0" y="10896"/>
                </a:cubicBezTo>
                <a:cubicBezTo>
                  <a:pt x="5400" y="10896"/>
                  <a:pt x="10800" y="11796"/>
                  <a:pt x="10800" y="12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003400" y="1066680"/>
            <a:ext cx="1155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油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蟋蟀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蜈蚣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斑蝥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何首乌藤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木莲藤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木莲果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何首乌根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覆盆子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114800" y="106668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低唱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2971800" y="14479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487692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2971800" y="19051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4114800" y="1600200"/>
            <a:ext cx="11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4876920" y="1600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3207240" y="182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翻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6" name="Line 15"/>
          <p:cNvSpPr/>
          <p:nvPr/>
        </p:nvSpPr>
        <p:spPr>
          <a:xfrm>
            <a:off x="2971800" y="28195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3124080" y="2286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4284720" y="3068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喷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5231160" y="30481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动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3581280" y="388620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1" name="Line 20"/>
          <p:cNvSpPr/>
          <p:nvPr/>
        </p:nvSpPr>
        <p:spPr>
          <a:xfrm flipV="1">
            <a:off x="3581280" y="411444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42670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缠    络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79132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429000" y="48006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426708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像莲房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3429000" y="52578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267080" y="4952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臃    肿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3429000" y="525780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35881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429000" y="579132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42670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像小球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429000" y="5791320"/>
            <a:ext cx="762120" cy="609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4211640" y="602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酸又甜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5791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5791320" y="4952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6069600" y="5486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5881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摘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8" name="AutoShape 37"/>
          <p:cNvSpPr/>
          <p:nvPr/>
        </p:nvSpPr>
        <p:spPr>
          <a:xfrm>
            <a:off x="6629400" y="129528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9" name="AutoShape 38"/>
          <p:cNvSpPr/>
          <p:nvPr/>
        </p:nvSpPr>
        <p:spPr>
          <a:xfrm>
            <a:off x="7467480" y="3809880"/>
            <a:ext cx="152640" cy="2819520"/>
          </a:xfrm>
          <a:custGeom>
            <a:avLst/>
            <a:gdLst>
              <a:gd name="textAreaLeft" fmla="*/ 0 w 152640"/>
              <a:gd name="textAreaRight" fmla="*/ 5508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6298200" y="1905120"/>
            <a:ext cx="11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动物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7623720" y="480060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植物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2" name="Text Box 41"/>
          <p:cNvSpPr/>
          <p:nvPr/>
        </p:nvSpPr>
        <p:spPr>
          <a:xfrm>
            <a:off x="7745760" y="1447920"/>
            <a:ext cx="1155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中间结合叙写人的活动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3" name="Text Box 42"/>
          <p:cNvSpPr/>
          <p:nvPr/>
        </p:nvSpPr>
        <p:spPr>
          <a:xfrm>
            <a:off x="5791320" y="6019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味道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Line 43"/>
          <p:cNvSpPr/>
          <p:nvPr/>
        </p:nvSpPr>
        <p:spPr>
          <a:xfrm>
            <a:off x="2971800" y="2819520"/>
            <a:ext cx="838080" cy="5331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5" name="Text Box 44"/>
          <p:cNvSpPr/>
          <p:nvPr/>
        </p:nvSpPr>
        <p:spPr>
          <a:xfrm>
            <a:off x="4369320" y="242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啪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Text Box 45"/>
          <p:cNvSpPr/>
          <p:nvPr/>
        </p:nvSpPr>
        <p:spPr>
          <a:xfrm>
            <a:off x="49528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声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Text Box 46"/>
          <p:cNvSpPr/>
          <p:nvPr/>
        </p:nvSpPr>
        <p:spPr>
          <a:xfrm>
            <a:off x="182880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c0c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8" name="Text Box 47"/>
          <p:cNvSpPr/>
          <p:nvPr/>
        </p:nvSpPr>
        <p:spPr>
          <a:xfrm>
            <a:off x="11430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59" name="Picture 48" descr="BD14711_"/>
          <p:cNvPicPr/>
          <p:nvPr/>
        </p:nvPicPr>
        <p:blipFill>
          <a:blip r:embed="rId2"/>
          <a:stretch/>
        </p:blipFill>
        <p:spPr>
          <a:xfrm>
            <a:off x="1523880" y="83808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49"/>
          <p:cNvSpPr/>
          <p:nvPr/>
        </p:nvSpPr>
        <p:spPr>
          <a:xfrm>
            <a:off x="762120" y="228600"/>
            <a:ext cx="838080" cy="68580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gradient5"/>
          <p:cNvPicPr/>
          <p:nvPr/>
        </p:nvPicPr>
        <p:blipFill>
          <a:blip r:embed="rId2"/>
          <a:stretch/>
        </p:blipFill>
        <p:spPr>
          <a:xfrm>
            <a:off x="228600" y="762120"/>
            <a:ext cx="254160" cy="260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5638680" y="685800"/>
            <a:ext cx="76320" cy="1066680"/>
            <a:chOff x="5638680" y="685800"/>
            <a:chExt cx="76320" cy="1066680"/>
          </a:xfrm>
        </p:grpSpPr>
        <p:sp>
          <p:nvSpPr>
            <p:cNvPr id="263" name="Line 4"/>
            <p:cNvSpPr/>
            <p:nvPr/>
          </p:nvSpPr>
          <p:spPr>
            <a:xfrm>
              <a:off x="563868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>
              <a:off x="571500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85800" y="762120"/>
            <a:ext cx="4724280" cy="761760"/>
            <a:chOff x="685800" y="762120"/>
            <a:chExt cx="4724280" cy="761760"/>
          </a:xfrm>
        </p:grpSpPr>
        <p:sp>
          <p:nvSpPr>
            <p:cNvPr id="266" name="Text Box 7"/>
            <p:cNvSpPr/>
            <p:nvPr/>
          </p:nvSpPr>
          <p:spPr>
            <a:xfrm>
              <a:off x="762120" y="91404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不必说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也不必说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685800" y="762120"/>
              <a:ext cx="4724280" cy="761760"/>
            </a:xfrm>
            <a:prstGeom prst="rect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762120"/>
            <a:ext cx="2588760" cy="763560"/>
            <a:chOff x="5943600" y="762120"/>
            <a:chExt cx="2588760" cy="763560"/>
          </a:xfrm>
        </p:grpSpPr>
        <p:sp>
          <p:nvSpPr>
            <p:cNvPr id="269" name="Rectangle 10"/>
            <p:cNvSpPr/>
            <p:nvPr/>
          </p:nvSpPr>
          <p:spPr>
            <a:xfrm>
              <a:off x="5943600" y="762120"/>
              <a:ext cx="2588760" cy="763560"/>
            </a:xfrm>
            <a:prstGeom prst="rect">
              <a:avLst/>
            </a:prstGeom>
            <a:noFill/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6039360" y="900720"/>
              <a:ext cx="23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单是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43200" y="1600200"/>
            <a:ext cx="4038480" cy="609480"/>
            <a:chOff x="2743200" y="1600200"/>
            <a:chExt cx="4038480" cy="609480"/>
          </a:xfrm>
        </p:grpSpPr>
        <p:sp>
          <p:nvSpPr>
            <p:cNvPr id="272" name="Line 13"/>
            <p:cNvSpPr/>
            <p:nvPr/>
          </p:nvSpPr>
          <p:spPr>
            <a:xfrm>
              <a:off x="2743200" y="1600200"/>
              <a:ext cx="0" cy="609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6781680" y="1600200"/>
              <a:ext cx="0" cy="609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74" name="AutoShape 15"/>
          <p:cNvSpPr/>
          <p:nvPr/>
        </p:nvSpPr>
        <p:spPr>
          <a:xfrm>
            <a:off x="20574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整体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61722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局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3352680" y="259092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37339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写作顺序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99072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先静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320040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动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510552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先动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716292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植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1066680" y="3962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菜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1066680" y="4470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石井栏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1066680" y="49784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皂荚树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066680" y="5486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桑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327672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鸣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276720" y="4978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叫天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3276720" y="4470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黄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25780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油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5257800" y="4470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蟋蟀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5257800" y="4978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蜈蚣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2578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斑蝥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6629400" y="39625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何首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木莲藤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4" name="Text Box 35"/>
          <p:cNvSpPr/>
          <p:nvPr/>
        </p:nvSpPr>
        <p:spPr>
          <a:xfrm>
            <a:off x="6659640" y="50846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覆盆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5" name="Rectangle 36"/>
          <p:cNvSpPr/>
          <p:nvPr/>
        </p:nvSpPr>
        <p:spPr>
          <a:xfrm>
            <a:off x="1476360" y="13716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cc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5775480" y="1371600"/>
            <a:ext cx="199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cc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6084720" y="4508640"/>
            <a:ext cx="2178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味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116760" y="36576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听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6116760" y="2941560"/>
            <a:ext cx="2178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视觉、触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6116760" y="20574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视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2057400" y="365760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长吟、弹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979560" y="36576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声音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2057400" y="454176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又酸又甜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979560" y="454176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味道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2057400" y="2941560"/>
            <a:ext cx="4059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光滑、高大、肥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979560" y="2941560"/>
            <a:ext cx="1077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形状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7" name="Rectangle 12"/>
          <p:cNvSpPr/>
          <p:nvPr/>
        </p:nvSpPr>
        <p:spPr>
          <a:xfrm>
            <a:off x="2057400" y="205740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碧绿、紫红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979560" y="20574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颜色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979560" y="29415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979560" y="365760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1" name="Line 16"/>
          <p:cNvSpPr/>
          <p:nvPr/>
        </p:nvSpPr>
        <p:spPr>
          <a:xfrm>
            <a:off x="205740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2" name="Line 17"/>
          <p:cNvSpPr/>
          <p:nvPr/>
        </p:nvSpPr>
        <p:spPr>
          <a:xfrm>
            <a:off x="979560" y="205740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9795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Line 19"/>
          <p:cNvSpPr/>
          <p:nvPr/>
        </p:nvSpPr>
        <p:spPr>
          <a:xfrm>
            <a:off x="82947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5" name="Line 20"/>
          <p:cNvSpPr/>
          <p:nvPr/>
        </p:nvSpPr>
        <p:spPr>
          <a:xfrm>
            <a:off x="990720" y="541008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979560" y="45417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611676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Text Box 23"/>
          <p:cNvSpPr/>
          <p:nvPr/>
        </p:nvSpPr>
        <p:spPr>
          <a:xfrm>
            <a:off x="1143000" y="11430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比喻、拟人、排比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9" name="AutoShape 24"/>
          <p:cNvSpPr/>
          <p:nvPr/>
        </p:nvSpPr>
        <p:spPr>
          <a:xfrm>
            <a:off x="457200" y="5486400"/>
            <a:ext cx="609480" cy="5335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60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0" name="AutoShape 25"/>
          <p:cNvSpPr/>
          <p:nvPr/>
        </p:nvSpPr>
        <p:spPr>
          <a:xfrm>
            <a:off x="457200" y="1295280"/>
            <a:ext cx="609480" cy="5335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60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971640" y="5373720"/>
            <a:ext cx="85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准确的形容、准确地表述动作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3"/>
          <p:cNvSpPr/>
          <p:nvPr/>
        </p:nvSpPr>
        <p:spPr>
          <a:xfrm>
            <a:off x="539640" y="6206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第</a:t>
            </a:r>
            <a:r>
              <a:rPr b="1" lang="en-US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自然段是全文的精彩之笔，不仅形、声、色、味俱全，春、夏、秋景皆备，而且层次井然，条理分明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539640" y="292428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539640" y="2628000"/>
            <a:ext cx="81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菜畦的“碧绿”，桑葚的“紫红”、菜花和蜂的“黄”是写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“肥胖”“高大”“臃肿”“像小珊瑚珠攒成的小球”是写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这两者都从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觉上写；鸣蝉的“长吟”，蟋蟀的“弹琴”，是从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上写；覆盆子“又酸又甜”写的是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所以说有声有色、有滋有味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里包括了春、夏、秋三个季节的景物，桑葚、菜花是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的，蝉鸣在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蟋蟀到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才叫；这与下文写到的冬天的百草园合起来成为完整的四季图，可见作者构思的精巧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050920" y="21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颜色 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34800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形状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615636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视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84720" y="29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听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284720" y="3357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味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92360" y="4653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春末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507672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盛夏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684360" y="51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秋天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693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写了百草园的景物后，为什么要写美女蛇的故事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971640" y="337032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美女蛇的故事很吸引孩子，给百草园增添了神秘色彩，丰富了百草园作为儿童乐园的情趣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11280" y="620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第二段写了春、夏、秋三个季节的景物，下文有没有写到的冬天的百草园？怎么写的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684360" y="1628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先写百草园冬天的“无味”，然后写下雪带来的乐趣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6920" y="4221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找出表示捕鸟动作的词，说说这些词的作用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39640" y="3573360"/>
            <a:ext cx="7467480" cy="520560"/>
            <a:chOff x="539640" y="3573360"/>
            <a:chExt cx="7467480" cy="520560"/>
          </a:xfrm>
        </p:grpSpPr>
        <p:sp>
          <p:nvSpPr>
            <p:cNvPr id="339" name="Text Box 8"/>
            <p:cNvSpPr/>
            <p:nvPr/>
          </p:nvSpPr>
          <p:spPr>
            <a:xfrm>
              <a:off x="1149120" y="357336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340" name="Picture 9" descr="button43"/>
            <p:cNvPicPr/>
            <p:nvPr/>
          </p:nvPicPr>
          <p:blipFill>
            <a:blip r:embed="rId2"/>
            <a:stretch/>
          </p:blipFill>
          <p:spPr>
            <a:xfrm>
              <a:off x="539640" y="3645000"/>
              <a:ext cx="457200" cy="4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Text Box 11"/>
          <p:cNvSpPr/>
          <p:nvPr/>
        </p:nvSpPr>
        <p:spPr>
          <a:xfrm>
            <a:off x="971640" y="47973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835280" y="479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2627280" y="4797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3492360" y="4797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4284720" y="479736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076720" y="47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6659640" y="47242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5867280" y="4724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7380360" y="4724280"/>
            <a:ext cx="5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250920" y="537372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九个表述动作的词，准确而生动地表现了雪地捕鸟的过程，写出了雪后捕鸟的乐趣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9640" y="3068640"/>
            <a:ext cx="6912000" cy="533520"/>
            <a:chOff x="539640" y="3068640"/>
            <a:chExt cx="6912000" cy="533520"/>
          </a:xfrm>
        </p:grpSpPr>
        <p:sp>
          <p:nvSpPr>
            <p:cNvPr id="352" name="Text Box 24"/>
            <p:cNvSpPr/>
            <p:nvPr/>
          </p:nvSpPr>
          <p:spPr>
            <a:xfrm>
              <a:off x="1103760" y="3068640"/>
              <a:ext cx="634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，欲扬先抑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353" name="Picture 25" descr="button43"/>
            <p:cNvPicPr/>
            <p:nvPr/>
          </p:nvPicPr>
          <p:blipFill>
            <a:blip r:embed="rId3"/>
            <a:stretch/>
          </p:blipFill>
          <p:spPr>
            <a:xfrm>
              <a:off x="539640" y="3144960"/>
              <a:ext cx="423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27"/>
          <p:cNvSpPr/>
          <p:nvPr/>
        </p:nvSpPr>
        <p:spPr>
          <a:xfrm>
            <a:off x="971640" y="2637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这是什么写法？起什么作用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6000"/>
                            </p:stCondLst>
                            <p:childTnLst>
                              <p:par>
                                <p:cTn id="8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8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8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9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cw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1917720"/>
            <a:ext cx="878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从百草园到三味书屋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2760" y="336852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全新硬笔楷书简"/>
                <a:ea typeface="全新硬笔楷书简"/>
              </a:rPr>
              <a:t>鲁  迅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7" name="Picture 4" descr="鲁迅-百草园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鲁迅-百草园3"/>
          <p:cNvPicPr/>
          <p:nvPr/>
        </p:nvPicPr>
        <p:blipFill>
          <a:blip r:embed="rId3"/>
          <a:stretch/>
        </p:blipFill>
        <p:spPr>
          <a:xfrm>
            <a:off x="0" y="-812880"/>
            <a:ext cx="9144000" cy="7670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bai_cao_yua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-816120"/>
            <a:ext cx="9144000" cy="7674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20070508194831729"/>
          <p:cNvPicPr/>
          <p:nvPr/>
        </p:nvPicPr>
        <p:blipFill>
          <a:blip r:embed="rId5"/>
          <a:stretch/>
        </p:blipFill>
        <p:spPr>
          <a:xfrm>
            <a:off x="0" y="1773360"/>
            <a:ext cx="4057560" cy="4633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皂荚树"/>
          <p:cNvPicPr/>
          <p:nvPr/>
        </p:nvPicPr>
        <p:blipFill>
          <a:blip r:embed="rId6"/>
          <a:stretch/>
        </p:blipFill>
        <p:spPr>
          <a:xfrm>
            <a:off x="4067280" y="47628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2"/>
          <p:cNvSpPr/>
          <p:nvPr/>
        </p:nvSpPr>
        <p:spPr>
          <a:xfrm>
            <a:off x="5292720" y="51465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高大的皂荚树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63" name="Picture 13" descr="1161079331609"/>
          <p:cNvPicPr/>
          <p:nvPr/>
        </p:nvPicPr>
        <p:blipFill>
          <a:blip r:embed="rId7"/>
          <a:stretch/>
        </p:blipFill>
        <p:spPr>
          <a:xfrm>
            <a:off x="0" y="476280"/>
            <a:ext cx="4608360" cy="3751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qtsza-x"/>
          <p:cNvPicPr/>
          <p:nvPr/>
        </p:nvPicPr>
        <p:blipFill>
          <a:blip r:embed="rId8"/>
          <a:stretch/>
        </p:blipFill>
        <p:spPr>
          <a:xfrm>
            <a:off x="4572000" y="3213000"/>
            <a:ext cx="4572000" cy="30304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5"/>
          <p:cNvSpPr/>
          <p:nvPr/>
        </p:nvSpPr>
        <p:spPr>
          <a:xfrm>
            <a:off x="684360" y="5013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紫红的桑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66" name="Picture 16" descr="油蛉"/>
          <p:cNvPicPr/>
          <p:nvPr/>
        </p:nvPicPr>
        <p:blipFill>
          <a:blip r:embed="rId9"/>
          <a:stretch/>
        </p:blipFill>
        <p:spPr>
          <a:xfrm>
            <a:off x="0" y="333360"/>
            <a:ext cx="3059280" cy="3595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7" descr="图片1"/>
          <p:cNvPicPr/>
          <p:nvPr/>
        </p:nvPicPr>
        <p:blipFill>
          <a:blip r:embed="rId10"/>
          <a:stretch/>
        </p:blipFill>
        <p:spPr>
          <a:xfrm>
            <a:off x="2916360" y="333360"/>
            <a:ext cx="6227640" cy="6002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8" descr="云雀"/>
          <p:cNvPicPr/>
          <p:nvPr/>
        </p:nvPicPr>
        <p:blipFill>
          <a:blip r:embed="rId11"/>
          <a:stretch/>
        </p:blipFill>
        <p:spPr>
          <a:xfrm>
            <a:off x="0" y="3933720"/>
            <a:ext cx="3022560" cy="2373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蜈蚣"/>
          <p:cNvPicPr/>
          <p:nvPr/>
        </p:nvPicPr>
        <p:blipFill>
          <a:blip r:embed="rId12"/>
          <a:stretch/>
        </p:blipFill>
        <p:spPr>
          <a:xfrm>
            <a:off x="4500720" y="549360"/>
            <a:ext cx="4643280" cy="582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0" descr="Banmao"/>
          <p:cNvPicPr/>
          <p:nvPr/>
        </p:nvPicPr>
        <p:blipFill>
          <a:blip r:embed="rId13"/>
          <a:stretch/>
        </p:blipFill>
        <p:spPr>
          <a:xfrm>
            <a:off x="0" y="476280"/>
            <a:ext cx="4516560" cy="576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1" descr="200692917538506"/>
          <p:cNvPicPr/>
          <p:nvPr/>
        </p:nvPicPr>
        <p:blipFill>
          <a:blip r:embed="rId14"/>
          <a:stretch/>
        </p:blipFill>
        <p:spPr>
          <a:xfrm>
            <a:off x="0" y="476280"/>
            <a:ext cx="4287960" cy="590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2" descr="057812567075"/>
          <p:cNvPicPr/>
          <p:nvPr/>
        </p:nvPicPr>
        <p:blipFill>
          <a:blip r:embed="rId15"/>
          <a:stretch/>
        </p:blipFill>
        <p:spPr>
          <a:xfrm>
            <a:off x="4284720" y="476280"/>
            <a:ext cx="4859280" cy="3532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何首乌3"/>
          <p:cNvPicPr/>
          <p:nvPr/>
        </p:nvPicPr>
        <p:blipFill>
          <a:blip r:embed="rId16"/>
          <a:stretch/>
        </p:blipFill>
        <p:spPr>
          <a:xfrm>
            <a:off x="6732720" y="3933720"/>
            <a:ext cx="2244600" cy="24606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5"/>
          <p:cNvSpPr/>
          <p:nvPr/>
        </p:nvSpPr>
        <p:spPr>
          <a:xfrm>
            <a:off x="3924360" y="450864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何首乌的根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75" name="Picture 26" descr="fupengzi"/>
          <p:cNvPicPr/>
          <p:nvPr/>
        </p:nvPicPr>
        <p:blipFill>
          <a:blip r:embed="rId17"/>
          <a:stretch/>
        </p:blipFill>
        <p:spPr>
          <a:xfrm>
            <a:off x="0" y="476280"/>
            <a:ext cx="4473720" cy="578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7" descr="100440_1"/>
          <p:cNvPicPr/>
          <p:nvPr/>
        </p:nvPicPr>
        <p:blipFill>
          <a:blip r:embed="rId18"/>
          <a:stretch/>
        </p:blipFill>
        <p:spPr>
          <a:xfrm>
            <a:off x="4500720" y="2349360"/>
            <a:ext cx="4643280" cy="3915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8"/>
          <p:cNvSpPr/>
          <p:nvPr/>
        </p:nvSpPr>
        <p:spPr>
          <a:xfrm>
            <a:off x="5724360" y="836640"/>
            <a:ext cx="29750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覆盆子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78" name="Picture 29" descr="wang"/>
          <p:cNvPicPr/>
          <p:nvPr/>
        </p:nvPicPr>
        <p:blipFill>
          <a:blip r:embed="rId19"/>
          <a:stretch/>
        </p:blipFill>
        <p:spPr>
          <a:xfrm>
            <a:off x="0" y="-52848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2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7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967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5000"/>
                            </p:stCondLst>
                            <p:childTnLst>
                              <p:par>
                                <p:cTn id="971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40000"/>
                            </p:stCondLst>
                            <p:childTnLst>
                              <p:par>
                                <p:cTn id="97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5000"/>
                            </p:stCondLst>
                            <p:childTnLst>
                              <p:par>
                                <p:cTn id="979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00"/>
                            </p:stCondLst>
                            <p:childTnLst>
                              <p:par>
                                <p:cTn id="98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6000"/>
                            </p:stCondLst>
                            <p:childTnLst>
                              <p:par>
                                <p:cTn id="996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1000"/>
                            </p:stCondLst>
                            <p:childTnLst>
                              <p:par>
                                <p:cTn id="10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5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11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课文是从一个孩子的角度来描绘百草园景物的，我们不难看出童年时代的“我”是个怎样的孩子？由哪些地方能体现出来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“我”眼里，百草园是“我”的乐园，文章是如何体现这一点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0" y="170028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从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他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用手按住斑蝥的的脊梁，看烟雾从后窍喷出的神态到接连不断地拔起何首乌的动作，我们可以看到童年的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我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是个</a:t>
            </a:r>
            <a:r>
              <a:rPr b="1" i="1" lang="zh-CN" sz="3200" spc="-1" strike="noStrike" u="sng">
                <a:solidFill>
                  <a:srgbClr val="007572"/>
                </a:solidFill>
                <a:uFillTx/>
                <a:latin typeface="宋体"/>
                <a:ea typeface="宋体"/>
              </a:rPr>
              <a:t>热爱大自然、极富好奇心的孩子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50920" y="4570560"/>
            <a:ext cx="86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方正姚体"/>
                <a:ea typeface="方正姚体"/>
              </a:rPr>
              <a:t>    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用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不必说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”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单是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……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就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……”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的句式表达高度赞美之意。运用拟人手法，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低唱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”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弹琴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”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流露出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我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”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对它们的喜爱之情，流露出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“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我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  <a:ea typeface="方正姚体"/>
              </a:rPr>
              <a:t>”</a:t>
            </a:r>
            <a:r>
              <a:rPr b="1" lang="zh-CN" sz="2800" spc="-1" strike="noStrike">
                <a:solidFill>
                  <a:srgbClr val="cc0066"/>
                </a:solidFill>
                <a:latin typeface="方正姚体"/>
                <a:ea typeface="方正姚体"/>
              </a:rPr>
              <a:t>对百草园的热爱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533520" y="380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阅读第七节，思考下列问题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1430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作者先写百草园冬天的“无味”，然后写下雪带来的乐趣，这是什么写法？起什么作用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32767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找出表示捕鸟动作的词，说说这些词的作用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486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请用最短的时间背诵这段文字，并把背诵方法介绍给同学们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469360" y="618336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457200" y="2590920"/>
            <a:ext cx="7467480" cy="532800"/>
            <a:chOff x="457200" y="2590920"/>
            <a:chExt cx="7467480" cy="532800"/>
          </a:xfrm>
        </p:grpSpPr>
        <p:sp>
          <p:nvSpPr>
            <p:cNvPr id="389" name=""/>
            <p:cNvSpPr/>
            <p:nvPr/>
          </p:nvSpPr>
          <p:spPr>
            <a:xfrm>
              <a:off x="1066680" y="25909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4"/>
            <a:stretch/>
          </p:blipFill>
          <p:spPr>
            <a:xfrm>
              <a:off x="457200" y="2666880"/>
              <a:ext cx="457200" cy="45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45720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47600" y="38098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30320" y="38098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288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6480" y="38098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95880" y="38098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0440" y="3809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49920" y="38098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00760" y="38098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67480" y="3809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九个表述动作的词，准确而生动地表现了雪地捕鸟的过程，写出了雪后捕鸟的乐趣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457200" y="2057400"/>
            <a:ext cx="7467480" cy="533520"/>
            <a:chOff x="457200" y="2057400"/>
            <a:chExt cx="7467480" cy="533520"/>
          </a:xfrm>
        </p:grpSpPr>
        <p:sp>
          <p:nvSpPr>
            <p:cNvPr id="405" name=""/>
            <p:cNvSpPr/>
            <p:nvPr/>
          </p:nvSpPr>
          <p:spPr>
            <a:xfrm>
              <a:off x="1066680" y="20574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，欲扬先抑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8"/>
            <a:stretch/>
          </p:blipFill>
          <p:spPr>
            <a:xfrm>
              <a:off x="457200" y="2133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45720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7162920" y="618336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7"/>
          <p:cNvSpPr/>
          <p:nvPr/>
        </p:nvSpPr>
        <p:spPr>
          <a:xfrm>
            <a:off x="849240" y="523440"/>
            <a:ext cx="7248600" cy="759960"/>
          </a:xfrm>
          <a:custGeom>
            <a:avLst/>
            <a:gdLst>
              <a:gd name="textAreaLeft" fmla="*/ 89280 w 7248600"/>
              <a:gd name="textAreaRight" fmla="*/ 7159320 w 7248600"/>
              <a:gd name="textAreaTop" fmla="*/ 89280 h 759960"/>
              <a:gd name="textAreaBottom" fmla="*/ 670680 h 759960"/>
            </a:gdLst>
            <a:ahLst/>
            <a:rect l="textAreaLeft" t="textAreaTop" r="textAreaRight" b="textAreaBottom"/>
            <a:pathLst>
              <a:path w="2059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2336" y="21600"/>
                </a:lnTo>
                <a:arcTo wR="3600" hR="3600" stAng="10800000" swAng="5400000"/>
                <a:lnTo>
                  <a:pt x="20593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九段在文章结构上有何作用？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755640" y="1989000"/>
            <a:ext cx="746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第一句 “不知道”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字，表明去三味书屋是被迫的。第二句三个“也许”，猜测原因，推断去三味书屋是一种惩罚，预示了三味书屋的生活让人反感。最后三句直接抒发了对百草园的难分难舍的感情。因此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九节表达了“我”对百草园的深情眷恋和被迫离开它时的依依惜别之情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835280" y="126828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承上启下的过渡作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900000" y="2123640"/>
            <a:ext cx="3273480" cy="680400"/>
          </a:xfrm>
          <a:custGeom>
            <a:avLst/>
            <a:gdLst>
              <a:gd name="textAreaLeft" fmla="*/ 79920 w 3273480"/>
              <a:gd name="textAreaRight" fmla="*/ 3193560 w 3273480"/>
              <a:gd name="textAreaTop" fmla="*/ 79920 h 680400"/>
              <a:gd name="textAreaBottom" fmla="*/ 600480 h 680400"/>
            </a:gdLst>
            <a:ahLst/>
            <a:rect l="textAreaLeft" t="textAreaTop" r="textAreaRight" b="textAreaBottom"/>
            <a:pathLst>
              <a:path w="103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0276" y="21600"/>
                </a:lnTo>
                <a:arcTo wR="3600" hR="3600" stAng="10800000" swAng="5400000"/>
                <a:lnTo>
                  <a:pt x="103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情达意的作用：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2004822428164"/>
          <p:cNvPicPr/>
          <p:nvPr/>
        </p:nvPicPr>
        <p:blipFill>
          <a:blip r:embed="rId2"/>
          <a:stretch/>
        </p:blipFill>
        <p:spPr>
          <a:xfrm>
            <a:off x="5386320" y="0"/>
            <a:ext cx="3757680" cy="45086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3"/>
          <p:cNvSpPr/>
          <p:nvPr/>
        </p:nvSpPr>
        <p:spPr>
          <a:xfrm>
            <a:off x="539640" y="148428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第二部分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华文隶书"/>
                <a:ea typeface="华文隶书"/>
              </a:rPr>
              <a:t>从哪些方面写三味书屋的读书生活的？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15" name="Picture 5" descr="GIF136"/>
          <p:cNvPicPr/>
          <p:nvPr/>
        </p:nvPicPr>
        <p:blipFill>
          <a:blip r:embed="rId3"/>
          <a:stretch/>
        </p:blipFill>
        <p:spPr>
          <a:xfrm>
            <a:off x="6227640" y="394164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916360" y="3429000"/>
            <a:ext cx="223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入学礼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书先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学内容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窗学友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2"/>
          <p:cNvSpPr/>
          <p:nvPr/>
        </p:nvSpPr>
        <p:spPr>
          <a:xfrm>
            <a:off x="755640" y="692280"/>
            <a:ext cx="4419720" cy="2698560"/>
          </a:xfrm>
          <a:custGeom>
            <a:avLst/>
            <a:gdLst>
              <a:gd name="textAreaLeft" fmla="*/ 269280 w 4419720"/>
              <a:gd name="textAreaRight" fmla="*/ 4150440 w 4419720"/>
              <a:gd name="textAreaTop" fmla="*/ 269280 h 2698560"/>
              <a:gd name="textAreaBottom" fmla="*/ 2429280 h 2698560"/>
            </a:gdLst>
            <a:ahLst/>
            <a:rect l="textAreaLeft" t="textAreaTop" r="textAreaRight" b="textAreaBottom"/>
            <a:pathLst>
              <a:path w="35375" h="21600">
                <a:moveTo>
                  <a:pt x="3049" y="0"/>
                </a:moveTo>
                <a:arcTo wR="3049" hR="3049" stAng="0" swAng="5400000"/>
                <a:lnTo>
                  <a:pt x="0" y="18551"/>
                </a:lnTo>
                <a:arcTo wR="3049" hR="3049" stAng="16200000" swAng="5400000"/>
                <a:lnTo>
                  <a:pt x="32326" y="21600"/>
                </a:lnTo>
                <a:arcTo wR="3049" hR="3049" stAng="10800000" swAng="5400000"/>
                <a:lnTo>
                  <a:pt x="35375" y="3049"/>
                </a:lnTo>
                <a:arcTo wR="3049" hR="3049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76200" y="386064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从文中找出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味书屋环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句子，说说三味书屋的环境是怎样的？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323320" y="620640"/>
            <a:ext cx="1277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三味书屋环境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547640" y="5373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、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的描写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sanweishuwu"/>
          <p:cNvPicPr/>
          <p:nvPr/>
        </p:nvPicPr>
        <p:blipFill>
          <a:blip r:embed="rId2"/>
          <a:stretch/>
        </p:blipFill>
        <p:spPr>
          <a:xfrm>
            <a:off x="539640" y="260280"/>
            <a:ext cx="3657600" cy="29926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4427640" y="620640"/>
            <a:ext cx="42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三味书屋的生活枯燥无味吗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有哪些趣事呢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719280" y="341316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到三味书屋后园寻乐趣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回忆师生读书的场景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座位上做各种游戏，画画儿等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981080" y="685800"/>
            <a:ext cx="1409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隶书"/>
              </a:rPr>
              <a:t>百草园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1219320"/>
            <a:ext cx="213336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6200" y="762120"/>
            <a:ext cx="1295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空间顺序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4114800"/>
            <a:ext cx="0" cy="3049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288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Gungsuh"/>
                <a:ea typeface="Gungsuh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Gungsuh"/>
                <a:ea typeface="Gungsuh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29480" y="144792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Gungsuh"/>
                <a:ea typeface="Gungsuh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－</a:t>
            </a:r>
            <a:r>
              <a:rPr b="0" lang="en-US" sz="2400" spc="-1" strike="noStrike">
                <a:solidFill>
                  <a:srgbClr val="0033cc"/>
                </a:solidFill>
                <a:latin typeface="Gungsuh"/>
                <a:ea typeface="Gungsuh"/>
              </a:rPr>
              <a:t>24</a:t>
            </a:r>
            <a:r>
              <a:rPr b="0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67280" y="148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Gungsuh"/>
                <a:ea typeface="Gungsuh"/>
              </a:rPr>
              <a:t>9</a:t>
            </a:r>
            <a:r>
              <a:rPr b="0" lang="zh-CN" sz="2400" spc="-1" strike="noStrike">
                <a:solidFill>
                  <a:srgbClr val="0033cc"/>
                </a:solidFill>
                <a:latin typeface="Gungsuh"/>
                <a:ea typeface="Gungsuh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867280" y="4419720"/>
            <a:ext cx="2351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隶书"/>
              </a:rPr>
              <a:t>枯燥无味的书塾</a:t>
            </a:r>
            <a:endParaRPr b="1" lang="en-US" sz="2400" spc="-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ff0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432" name=""/>
          <p:cNvSpPr/>
          <p:nvPr/>
        </p:nvSpPr>
        <p:spPr>
          <a:xfrm>
            <a:off x="2666880" y="1752480"/>
            <a:ext cx="0" cy="3812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791320" y="68580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00ff00"/>
                    </a:gs>
                  </a:gsLst>
                  <a:lin ang="13500000"/>
                </a:gradFill>
                <a:latin typeface="隶书"/>
              </a:rPr>
              <a:t>三味书屋</a:t>
            </a:r>
            <a:endParaRPr b="1" lang="en-US" sz="2400" spc="-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00ff0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12720" y="4419720"/>
            <a:ext cx="2067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隶书"/>
              </a:rPr>
              <a:t>自由快乐的乐园</a:t>
            </a:r>
            <a:endParaRPr b="1" lang="en-US" sz="24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2133720"/>
            <a:ext cx="4838760" cy="520560"/>
            <a:chOff x="1066680" y="2133720"/>
            <a:chExt cx="4838760" cy="520560"/>
          </a:xfrm>
        </p:grpSpPr>
        <p:sp>
          <p:nvSpPr>
            <p:cNvPr id="436" name=""/>
            <p:cNvSpPr/>
            <p:nvPr/>
          </p:nvSpPr>
          <p:spPr>
            <a:xfrm>
              <a:off x="1333440" y="213372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景物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有声有色，充满乐趣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>
              <a:off x="1066680" y="221004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"/>
          <p:cNvSpPr/>
          <p:nvPr/>
        </p:nvSpPr>
        <p:spPr>
          <a:xfrm>
            <a:off x="990720" y="2133720"/>
            <a:ext cx="4876560" cy="198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05720" y="1752480"/>
            <a:ext cx="0" cy="3812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2133720"/>
            <a:ext cx="2361960" cy="1981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134040" y="2209680"/>
            <a:ext cx="2324160" cy="520560"/>
            <a:chOff x="6134040" y="2209680"/>
            <a:chExt cx="2324160" cy="520560"/>
          </a:xfrm>
        </p:grpSpPr>
        <p:sp>
          <p:nvSpPr>
            <p:cNvPr id="442" name=""/>
            <p:cNvSpPr/>
            <p:nvPr/>
          </p:nvSpPr>
          <p:spPr>
            <a:xfrm>
              <a:off x="6400800" y="2209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内容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：枯燥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6134040" y="2361960"/>
              <a:ext cx="285840" cy="34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4" name=""/>
          <p:cNvGrpSpPr/>
          <p:nvPr/>
        </p:nvGrpSpPr>
        <p:grpSpPr>
          <a:xfrm>
            <a:off x="1066680" y="2666880"/>
            <a:ext cx="4838760" cy="520560"/>
            <a:chOff x="1066680" y="2666880"/>
            <a:chExt cx="4838760" cy="520560"/>
          </a:xfrm>
        </p:grpSpPr>
        <p:sp>
          <p:nvSpPr>
            <p:cNvPr id="445" name=""/>
            <p:cNvSpPr/>
            <p:nvPr/>
          </p:nvSpPr>
          <p:spPr>
            <a:xfrm>
              <a:off x="1333440" y="266688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美女蛇的故事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，增添了神秘色彩，丰富了情趣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1066680" y="274320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7" name=""/>
          <p:cNvGrpSpPr/>
          <p:nvPr/>
        </p:nvGrpSpPr>
        <p:grpSpPr>
          <a:xfrm>
            <a:off x="1066680" y="3581280"/>
            <a:ext cx="4533840" cy="520560"/>
            <a:chOff x="1066680" y="3581280"/>
            <a:chExt cx="4533840" cy="520560"/>
          </a:xfrm>
        </p:grpSpPr>
        <p:sp>
          <p:nvSpPr>
            <p:cNvPr id="448" name=""/>
            <p:cNvSpPr/>
            <p:nvPr/>
          </p:nvSpPr>
          <p:spPr>
            <a:xfrm>
              <a:off x="1333440" y="358128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雪地捕鸟，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带来无穷乐趣。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5"/>
            <a:stretch/>
          </p:blipFill>
          <p:spPr>
            <a:xfrm>
              <a:off x="1066680" y="3657600"/>
              <a:ext cx="289080" cy="32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"/>
          <p:cNvGrpSpPr/>
          <p:nvPr/>
        </p:nvGrpSpPr>
        <p:grpSpPr>
          <a:xfrm>
            <a:off x="6134040" y="2819520"/>
            <a:ext cx="2247840" cy="520560"/>
            <a:chOff x="6134040" y="2819520"/>
            <a:chExt cx="2247840" cy="520560"/>
          </a:xfrm>
        </p:grpSpPr>
        <p:sp>
          <p:nvSpPr>
            <p:cNvPr id="451" name=""/>
            <p:cNvSpPr/>
            <p:nvPr/>
          </p:nvSpPr>
          <p:spPr>
            <a:xfrm>
              <a:off x="6400800" y="28195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形式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：单调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6134040" y="2895840"/>
              <a:ext cx="285840" cy="34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"/>
          <p:cNvGrpSpPr/>
          <p:nvPr/>
        </p:nvGrpSpPr>
        <p:grpSpPr>
          <a:xfrm>
            <a:off x="6134040" y="3352680"/>
            <a:ext cx="2247840" cy="520560"/>
            <a:chOff x="6134040" y="3352680"/>
            <a:chExt cx="2247840" cy="520560"/>
          </a:xfrm>
        </p:grpSpPr>
        <p:sp>
          <p:nvSpPr>
            <p:cNvPr id="454" name=""/>
            <p:cNvSpPr/>
            <p:nvPr/>
          </p:nvSpPr>
          <p:spPr>
            <a:xfrm>
              <a:off x="6400800" y="33526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环境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：压抑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55" name="" descr=""/>
            <p:cNvPicPr/>
            <p:nvPr/>
          </p:nvPicPr>
          <p:blipFill>
            <a:blip r:embed="rId7"/>
            <a:stretch/>
          </p:blipFill>
          <p:spPr>
            <a:xfrm>
              <a:off x="6134040" y="3429000"/>
              <a:ext cx="285840" cy="34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"/>
          <p:cNvSpPr/>
          <p:nvPr/>
        </p:nvSpPr>
        <p:spPr>
          <a:xfrm>
            <a:off x="2666880" y="4114800"/>
            <a:ext cx="0" cy="30492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46440" y="4724280"/>
            <a:ext cx="2133720" cy="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179960" y="4343400"/>
            <a:ext cx="761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宋体"/>
              </a:rPr>
              <a:t>对比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宋体"/>
              <a:ea typeface="华文宋体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8077320" y="5943600"/>
            <a:ext cx="674640" cy="67464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1066680" y="5334120"/>
            <a:ext cx="6781680" cy="581400"/>
            <a:chOff x="1066680" y="5334120"/>
            <a:chExt cx="6781680" cy="581400"/>
          </a:xfrm>
        </p:grpSpPr>
        <p:sp>
          <p:nvSpPr>
            <p:cNvPr id="461" name=""/>
            <p:cNvSpPr/>
            <p:nvPr/>
          </p:nvSpPr>
          <p:spPr>
            <a:xfrm>
              <a:off x="1600200" y="533412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准确的形容、准确地表述动作。</a:t>
              </a: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62" name="" descr=""/>
            <p:cNvPicPr/>
            <p:nvPr/>
          </p:nvPicPr>
          <p:blipFill>
            <a:blip r:embed="rId9"/>
            <a:stretch/>
          </p:blipFill>
          <p:spPr>
            <a:xfrm>
              <a:off x="1066680" y="5486040"/>
              <a:ext cx="37152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"/>
          <p:cNvGrpSpPr/>
          <p:nvPr/>
        </p:nvGrpSpPr>
        <p:grpSpPr>
          <a:xfrm>
            <a:off x="1066680" y="4952880"/>
            <a:ext cx="6781680" cy="581400"/>
            <a:chOff x="1066680" y="4952880"/>
            <a:chExt cx="6781680" cy="581400"/>
          </a:xfrm>
        </p:grpSpPr>
        <p:sp>
          <p:nvSpPr>
            <p:cNvPr id="464" name=""/>
            <p:cNvSpPr/>
            <p:nvPr/>
          </p:nvSpPr>
          <p:spPr>
            <a:xfrm>
              <a:off x="1600200" y="49528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  <a:ea typeface="隶书"/>
                </a:rPr>
                <a:t>通过对比，表达思想感情。</a:t>
              </a:r>
              <a:endParaRPr b="0" lang="en-US" sz="32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0"/>
            <a:stretch/>
          </p:blipFill>
          <p:spPr>
            <a:xfrm>
              <a:off x="1066680" y="5029200"/>
              <a:ext cx="37152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"/>
          <p:cNvSpPr/>
          <p:nvPr/>
        </p:nvSpPr>
        <p:spPr>
          <a:xfrm>
            <a:off x="1752480" y="5867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第二节、第七节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2885040" y="112536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到文章中描写寿先生的句子，读一读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思考：寿先生是怎样一位老师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684360" y="836640"/>
            <a:ext cx="806436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寿镜吾老先生自二十岁考取秀才后，不再参加考试，远离仕途，自甘淡泊，子承父业坐馆教书达六十年之久。他谙熟四书五经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博学正直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具有反清爱国思想。在封建社会中他还是比较开明的，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为人方正、质朴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对学生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和蔼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，对童年的鲁迅十分关心。他是鲁迅的启蒙老师，鲁迅对他一直很恭敬。鲁迅成年后，师生之间常有书信往来，鲁迅每次回家也都前去看望先生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30840" y="606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教学目标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68600"/>
            <a:ext cx="84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、学习本文具体生动地写景状物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的写作方法，体会语言的感情色彩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、通过朗读和品味，体会作者对美好往事的怀念之情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3"/>
          <p:cNvSpPr/>
          <p:nvPr/>
        </p:nvSpPr>
        <p:spPr>
          <a:xfrm>
            <a:off x="527400" y="44280"/>
            <a:ext cx="1643760" cy="825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深入探讨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900000" y="119700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怎样理解先生对学生提问的态度？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116000" y="270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生提问应肯定。而先生表示拒绝回答，这是因为学生在不适合的时间提出了不相干的问题，违反了教学的秩序和师道尊严。这在一定的程度上反映了封建制度的弊端，应予否定。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755640" y="54936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为什么要写学生到三味书屋后园贪玩的情节？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684360" y="220032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游戏是孩子的本性，总是要表现出来的，但在课堂上贪玩甚至逃学，一般来说是不允许的。从这几个片段可以看出，当时的私塾教育并不像我们想象得那么严厉，孩子们还是有相当多的自由的，这些地方充满着欢乐，天真的情调。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0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023560" y="836640"/>
            <a:ext cx="46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作者对三味书屋的感受是什么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324000" y="198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百草园的自由快乐相比，三味书屋显然是太受约束，且令人深感枯燥。但也应看到，孩子们也能随先生有板有眼的学习，并不抵触，况且也有游戏的乐趣。这一部分流露出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作者儿童时代热爱大自然、热爱新知识以及天真、欢乐、幼稚的儿童心理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066680" y="3124080"/>
            <a:ext cx="28195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百草园的景物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920" y="533520"/>
            <a:ext cx="4317840" cy="2519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78200" y="533520"/>
            <a:ext cx="4318200" cy="25192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70600" y="4424400"/>
            <a:ext cx="1447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美女蛇故事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76920" y="396252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5880" y="3200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雪地捕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32004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5715000" y="4038480"/>
            <a:ext cx="274320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自由快乐的乐园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4038480"/>
            <a:ext cx="4317840" cy="251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5"/>
          <a:stretch/>
        </p:blipFill>
        <p:spPr>
          <a:xfrm>
            <a:off x="8164440" y="5952960"/>
            <a:ext cx="674640" cy="6750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6"/>
          <a:stretch/>
        </p:blipFill>
        <p:spPr>
          <a:xfrm>
            <a:off x="7053120" y="5952960"/>
            <a:ext cx="675000" cy="675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7"/>
          <a:stretch/>
        </p:blipFill>
        <p:spPr>
          <a:xfrm>
            <a:off x="5943600" y="5952960"/>
            <a:ext cx="674640" cy="6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3429000"/>
            <a:ext cx="4419720" cy="2698920"/>
          </a:xfrm>
          <a:custGeom>
            <a:avLst/>
            <a:gdLst>
              <a:gd name="textAreaLeft" fmla="*/ 215280 w 4419720"/>
              <a:gd name="textAreaRight" fmla="*/ 4204440 w 4419720"/>
              <a:gd name="textAreaTop" fmla="*/ 215280 h 2698920"/>
              <a:gd name="textAreaBottom" fmla="*/ 2483640 h 2698920"/>
            </a:gdLst>
            <a:ahLst/>
            <a:rect l="textAreaLeft" t="textAreaTop" r="textAreaRight" b="textAreaBottom"/>
            <a:pathLst>
              <a:path w="35370" h="21600">
                <a:moveTo>
                  <a:pt x="2440" y="0"/>
                </a:moveTo>
                <a:arcTo wR="2440" hR="2440" stAng="0" swAng="5400000"/>
                <a:lnTo>
                  <a:pt x="0" y="19160"/>
                </a:lnTo>
                <a:arcTo wR="2440" hR="2440" stAng="16200000" swAng="5400000"/>
                <a:lnTo>
                  <a:pt x="32930" y="21600"/>
                </a:lnTo>
                <a:arcTo wR="2440" hR="2440" stAng="10800000" swAng="5400000"/>
                <a:lnTo>
                  <a:pt x="35370" y="2440"/>
                </a:lnTo>
                <a:arcTo wR="2440" hR="2440" stAng="5400000" swAng="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24280" y="457200"/>
            <a:ext cx="4419720" cy="2698920"/>
          </a:xfrm>
          <a:custGeom>
            <a:avLst/>
            <a:gdLst>
              <a:gd name="textAreaLeft" fmla="*/ 241200 w 4419720"/>
              <a:gd name="textAreaRight" fmla="*/ 4178520 w 4419720"/>
              <a:gd name="textAreaTop" fmla="*/ 241200 h 2698920"/>
              <a:gd name="textAreaBottom" fmla="*/ 2457720 h 2698920"/>
            </a:gdLst>
            <a:ahLst/>
            <a:rect l="textAreaLeft" t="textAreaTop" r="textAreaRight" b="textAreaBottom"/>
            <a:pathLst>
              <a:path w="35370" h="21600">
                <a:moveTo>
                  <a:pt x="2732" y="0"/>
                </a:moveTo>
                <a:arcTo wR="2732" hR="2732" stAng="0" swAng="5400000"/>
                <a:lnTo>
                  <a:pt x="0" y="18868"/>
                </a:lnTo>
                <a:arcTo wR="2732" hR="2732" stAng="16200000" swAng="5400000"/>
                <a:lnTo>
                  <a:pt x="32638" y="21600"/>
                </a:lnTo>
                <a:arcTo wR="2732" hR="2732" stAng="10800000" swAng="5400000"/>
                <a:lnTo>
                  <a:pt x="35370" y="2732"/>
                </a:lnTo>
                <a:arcTo wR="2732" hR="2732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57200"/>
            <a:ext cx="4419720" cy="2698920"/>
          </a:xfrm>
          <a:custGeom>
            <a:avLst/>
            <a:gdLst>
              <a:gd name="textAreaLeft" fmla="*/ 269280 w 4419720"/>
              <a:gd name="textAreaRight" fmla="*/ 4150440 w 4419720"/>
              <a:gd name="textAreaTop" fmla="*/ 269280 h 2698920"/>
              <a:gd name="textAreaBottom" fmla="*/ 2429640 h 2698920"/>
            </a:gdLst>
            <a:ahLst/>
            <a:rect l="textAreaLeft" t="textAreaTop" r="textAreaRight" b="textAreaBottom"/>
            <a:pathLst>
              <a:path w="35370" h="21600">
                <a:moveTo>
                  <a:pt x="3049" y="0"/>
                </a:moveTo>
                <a:arcTo wR="3049" hR="3049" stAng="0" swAng="5400000"/>
                <a:lnTo>
                  <a:pt x="0" y="18551"/>
                </a:lnTo>
                <a:arcTo wR="3049" hR="3049" stAng="16200000" swAng="5400000"/>
                <a:lnTo>
                  <a:pt x="32321" y="21600"/>
                </a:lnTo>
                <a:arcTo wR="3049" hR="3049" stAng="10800000" swAng="5400000"/>
                <a:lnTo>
                  <a:pt x="35370" y="3049"/>
                </a:lnTo>
                <a:arcTo wR="3049" hR="3049" stAng="5400000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7086600" y="6183360"/>
            <a:ext cx="674640" cy="674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10552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味书屋环境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4038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先生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‘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怪哉’这虫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是怎么一回事？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4800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读到这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他总是微笑起来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而且将头仰起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摇着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向后面拗过去……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8153280" y="6183360"/>
            <a:ext cx="674640" cy="67464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4191120" y="2895480"/>
            <a:ext cx="763560" cy="687240"/>
            <a:chOff x="4191120" y="2895480"/>
            <a:chExt cx="763560" cy="687240"/>
          </a:xfrm>
        </p:grpSpPr>
        <p:pic>
          <p:nvPicPr>
            <p:cNvPr id="498" name="" descr=""/>
            <p:cNvPicPr/>
            <p:nvPr/>
          </p:nvPicPr>
          <p:blipFill>
            <a:blip r:embed="rId6"/>
            <a:stretch/>
          </p:blipFill>
          <p:spPr>
            <a:xfrm>
              <a:off x="4191120" y="2895480"/>
              <a:ext cx="3063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7"/>
            <a:stretch/>
          </p:blipFill>
          <p:spPr>
            <a:xfrm>
              <a:off x="4267440" y="3276360"/>
              <a:ext cx="3063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8"/>
            <a:stretch/>
          </p:blipFill>
          <p:spPr>
            <a:xfrm>
              <a:off x="4648320" y="2971800"/>
              <a:ext cx="306360" cy="30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1" name="" descr=""/>
          <p:cNvPicPr/>
          <p:nvPr/>
        </p:nvPicPr>
        <p:blipFill>
          <a:blip r:embed="rId9"/>
          <a:stretch/>
        </p:blipFill>
        <p:spPr>
          <a:xfrm>
            <a:off x="4876920" y="365760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0"/>
          <a:stretch/>
        </p:blipFill>
        <p:spPr>
          <a:xfrm>
            <a:off x="4876920" y="419112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1"/>
          <a:stretch/>
        </p:blipFill>
        <p:spPr>
          <a:xfrm>
            <a:off x="4876920" y="4952880"/>
            <a:ext cx="306360" cy="30636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4724280" y="3429000"/>
            <a:ext cx="4419720" cy="2698920"/>
            <a:chOff x="4724280" y="3429000"/>
            <a:chExt cx="4419720" cy="2698920"/>
          </a:xfrm>
        </p:grpSpPr>
        <p:sp>
          <p:nvSpPr>
            <p:cNvPr id="505" name=""/>
            <p:cNvSpPr/>
            <p:nvPr/>
          </p:nvSpPr>
          <p:spPr>
            <a:xfrm>
              <a:off x="4724280" y="3429000"/>
              <a:ext cx="4419720" cy="2698920"/>
            </a:xfrm>
            <a:custGeom>
              <a:avLst/>
              <a:gdLst>
                <a:gd name="textAreaLeft" fmla="*/ 228960 w 4419720"/>
                <a:gd name="textAreaRight" fmla="*/ 4190760 w 4419720"/>
                <a:gd name="textAreaTop" fmla="*/ 228960 h 2698920"/>
                <a:gd name="textAreaBottom" fmla="*/ 2469960 h 2698920"/>
              </a:gdLst>
              <a:ahLst/>
              <a:rect l="textAreaLeft" t="textAreaTop" r="textAreaRight" b="textAreaBottom"/>
              <a:pathLst>
                <a:path w="35370" h="21600">
                  <a:moveTo>
                    <a:pt x="2592" y="0"/>
                  </a:moveTo>
                  <a:arcTo wR="2592" hR="2592" stAng="0" swAng="5400000"/>
                  <a:lnTo>
                    <a:pt x="0" y="19008"/>
                  </a:lnTo>
                  <a:arcTo wR="2592" hR="2592" stAng="16200000" swAng="5400000"/>
                  <a:lnTo>
                    <a:pt x="32778" y="21600"/>
                  </a:lnTo>
                  <a:arcTo wR="2592" hR="2592" stAng="10800000" swAng="5400000"/>
                  <a:lnTo>
                    <a:pt x="35370" y="2592"/>
                  </a:lnTo>
                  <a:arcTo wR="2592" hR="2592" stAng="5400000" swAng="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506" name=""/>
            <p:cNvSpPr txBox="1"/>
            <p:nvPr/>
          </p:nvSpPr>
          <p:spPr>
            <a:xfrm>
              <a:off x="4876560" y="4114800"/>
              <a:ext cx="3719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枯燥无味的书塾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12"/>
          <a:stretch/>
        </p:blipFill>
        <p:spPr>
          <a:xfrm>
            <a:off x="5943600" y="6184800"/>
            <a:ext cx="673200" cy="6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0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826920" y="981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是鲁迅先生儿时生活的一段美好回忆。这段生活经历对鲁迅先生的人生发展产生过巨大的影响。我们要像鲁迅先生一样，保持儿童纯真活泼的天性，要有求知的欲望和进取心。今天，时代变了，我们的生活环境和学习环境也变了，我们的思想行为也应当为之一变。我们要从小努力学习，热爱自然、热爱生活，把自己培养成为对社会有用的人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523880" y="1066680"/>
            <a:ext cx="1778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中心意思：</a:t>
            </a:r>
            <a:endParaRPr b="1" lang="en-US" sz="2400" spc="-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7524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文章用百草园自由快乐的生活同三味书屋枯燥无味的生活作对比，表现了儿童热爱大自然，喜欢自由快乐生活的心理，同时对束缚儿童身心发展的封建教育表示不满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77240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838080" y="990720"/>
            <a:ext cx="45720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68360" y="333360"/>
            <a:ext cx="7920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１、“仁远乎哉我欲仁则斯仁至矣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论语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述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应读作：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仁远乎哉？我欲仁，斯仁至矣。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：“仁这东西很遥远吗？我内心想到仁，仁就自然来到了”。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2565360"/>
            <a:ext cx="784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２、“笑人齿缺曰狗窦大开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幼学琼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身体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应读作：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笑人齿缺，曰‘狗窦大开’。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：“笑人家牙齿缺了，就说‘（那个缺口）就像一个狗洞大开着’。”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4360" y="4581360"/>
            <a:ext cx="7775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３、“上九潜龙勿用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易经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韩卦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由“初九潜龙勿用”和“上九亢龙有悔”二句爻辞杂糅而成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初九潜龙勿用”意思是“君子应韬光隐晦以待时机”；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上九亢龙有悔”意思是“人应以亢满为戒，注意物极必反的道理。”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7" name="" descr="17.gif (1832 bytes)"/>
          <p:cNvPicPr/>
          <p:nvPr/>
        </p:nvPicPr>
        <p:blipFill>
          <a:blip r:embed="rId2"/>
          <a:stretch/>
        </p:blipFill>
        <p:spPr>
          <a:xfrm>
            <a:off x="250920" y="404640"/>
            <a:ext cx="277560" cy="2779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17.gif (1832 bytes)"/>
          <p:cNvPicPr/>
          <p:nvPr/>
        </p:nvPicPr>
        <p:blipFill>
          <a:blip r:embed="rId3"/>
          <a:stretch/>
        </p:blipFill>
        <p:spPr>
          <a:xfrm>
            <a:off x="395280" y="2565360"/>
            <a:ext cx="277920" cy="2779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17.gif (1832 bytes)"/>
          <p:cNvPicPr/>
          <p:nvPr/>
        </p:nvPicPr>
        <p:blipFill>
          <a:blip r:embed="rId4"/>
          <a:stretch/>
        </p:blipFill>
        <p:spPr>
          <a:xfrm>
            <a:off x="324000" y="46530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9640" y="260280"/>
            <a:ext cx="799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“厥土下上上错厥贡苞茅橘柚”摘自中国古代典藉文献中最艰涩难懂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尚书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禹贡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篇，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“天下土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共分九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上为下等里最上的一级，好坏交错；那  进贡的物品里有茅草、橘柚等物品。”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可以如下断句：“厥土：下上、上错；厥贡：苞茅、橘柚。”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3068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“铁如意，指挥倜傥，一坐皆惊呢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﹏﹏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；金叵罗，颠倒淋漓噫，千杯未醉嗬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﹏﹏”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出自清人刘翰的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李克用置酒三垂岗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引文中的声浪号表声音起伏，持续不断“噫”、“嗬”指念书时加在句尾用来加强感情的声音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：拿着铁如意，指挥比划，潇洒自如。用金杯喝酒，痛快淋漓，喝得很多而未醉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引用句子和原文略有出入：“铁如意”原作“玉如意”；“颠倒”原作“倾倒”。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3" name="" descr="17.gif (1832 bytes)"/>
          <p:cNvPicPr/>
          <p:nvPr/>
        </p:nvPicPr>
        <p:blipFill>
          <a:blip r:embed="rId2"/>
          <a:stretch/>
        </p:blipFill>
        <p:spPr>
          <a:xfrm>
            <a:off x="395280" y="3141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17.gif (1832 bytes)"/>
          <p:cNvPicPr/>
          <p:nvPr/>
        </p:nvPicPr>
        <p:blipFill>
          <a:blip r:embed="rId3"/>
          <a:stretch/>
        </p:blipFill>
        <p:spPr>
          <a:xfrm>
            <a:off x="395280" y="2602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1560" y="1449720"/>
            <a:ext cx="2305080" cy="365940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5280" y="69228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鲁迅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(188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936)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原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周树人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浙江绍兴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人，伟大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文学家、思想家、革命家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著有杂文、小说、散文、诗歌等。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从百草园到三味书屋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选自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朝花夕拾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838080"/>
            <a:ext cx="860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朝花夕拾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是一部散文集，共搜集了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篇文章，大部分作品是作者回忆自己童年、少年时代生活的。写本篇文章时鲁迅已经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多岁了。这部散文集题名为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朝花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夕拾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，意思是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早上的花到晚上才拾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取，晚年了，回忆起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少年时代的事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5" name="Picture 3" descr="从百草园到三味书屋-朝花夕拾"/>
          <p:cNvPicPr/>
          <p:nvPr/>
        </p:nvPicPr>
        <p:blipFill>
          <a:blip r:embed="rId2"/>
          <a:stretch/>
        </p:blipFill>
        <p:spPr>
          <a:xfrm>
            <a:off x="5076720" y="328464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三味书屋”中的“三味”，是指三种味道。宋代李淑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邯郸书目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书写道：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诗书，味之太羹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ēn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史为杂俎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子为醯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醢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ǎi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是为书三味。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太羹指的是肉汁，俎就是切肉，醯醢是加佐料做成的肉酱。这里是用三种味道的食物比喻古代的三类书，即经书、史书和诸子百家的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三味书屋对联：上联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至乐无声唯孝悌”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下联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羹有味是诗书”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意思是最好的音乐是无声的“孝”、“悌”两种道德，而最美味的菜肴应当首推诗书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隶书"/>
              </a:rPr>
              <a:t>下列划线字你能正确地读出来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确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凿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菜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畦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椹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）               轻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捷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蛉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蝥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）             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缠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络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攒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珊瑚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     ）                                          宿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儒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敛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髓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）             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陌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生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觅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食（     ）     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筛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（      ）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谷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窦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蝉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）    书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塾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渊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博（     ）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倜傥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 ） 人声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沸（       ）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豁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人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至（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47640" y="981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záo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00720" y="177336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00720" y="98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í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588000" y="1628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093080" y="98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è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1547640" y="148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427640" y="1484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7093080" y="1413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áo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403280" y="191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á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211640" y="19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á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7093080" y="1916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 h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763640" y="3068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211640" y="4365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uō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284720" y="2421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ǎ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716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ǐ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547640" y="29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ò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4500720" y="292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308720" y="2924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āi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619280" y="342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ǐ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356000" y="3357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òu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451640" y="4437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ǎ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7308720" y="33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uì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147636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435600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yuān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2340000" y="4365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ǐng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1547640" y="2421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7201080" y="3933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ì tǎng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边读课文边讨论下列问题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438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文章以什么为写作顺序？内容可分哪两分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文章哪几节文字写百草园？哪几节文章写三味书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百草园和三味书屋，作者更喜欢哪一个？结合课文内容谈谈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547640" y="549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3399ff"/>
                </a:solidFill>
                <a:latin typeface="Times New Roman"/>
                <a:ea typeface="隶书"/>
              </a:rPr>
              <a:t>空间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变化为顺序安排材料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9" name="Picture 4" descr="从百草园到三味书屋-百草园"/>
          <p:cNvPicPr/>
          <p:nvPr/>
        </p:nvPicPr>
        <p:blipFill>
          <a:blip r:embed="rId2"/>
          <a:stretch/>
        </p:blipFill>
        <p:spPr>
          <a:xfrm>
            <a:off x="0" y="1773360"/>
            <a:ext cx="4076640" cy="417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luxun3三味书屋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802480" y="1773360"/>
            <a:ext cx="3341520" cy="41749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4500720" y="270828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356000" y="3429000"/>
            <a:ext cx="1219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过渡  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承上启下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9640" y="5950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百草园的生活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1—8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）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867280" y="59500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三味书屋的生活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10—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尾）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5:29:46Z</dcterms:created>
  <dc:creator/>
  <dc:description/>
  <dc:language>en-US</dc:language>
  <cp:lastModifiedBy>zmj</cp:lastModifiedBy>
  <dcterms:modified xsi:type="dcterms:W3CDTF">2013-03-22T03:17:08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