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rojctor.wav" ContentType="audio/x-wav"/>
  <Override PartName="/ppt/media/image22.png" ContentType="image/png"/>
  <Override PartName="/ppt/media/image24.wmf" ContentType="image/x-wmf"/>
  <Override PartName="/ppt/media/image5.jpeg" ContentType="image/jpeg"/>
  <Override PartName="/ppt/media/image26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.jpeg" ContentType="image/jpeg"/>
  <Override PartName="/ppt/media/image28.wmf" ContentType="image/x-wmf"/>
  <Override PartName="/ppt/media/image27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type.wav" ContentType="audio/x-wav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mera.wav" ContentType="audio/x-wav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051-E6E2-4632-9CDC-88D88999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340-C14C-4F28-B334-3FBEDA0E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C89-2999-4617-AB2F-3078A328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5FA-FA38-4A4D-9E3D-D4F6F540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BA2F-D05E-4C31-AD01-FB45566C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454A-620B-4C22-847D-998111F7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6218-3A3C-4F1B-ABD0-9FE40C35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0258-FA9F-4D64-BC62-2A406AC8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F432-24B3-42E8-9308-67A046FF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A556-71CB-479A-8669-8F7F6F11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252C-D635-4A7C-9514-B5692A38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AAE-101B-4ED9-BDF7-20383798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F64E-27A4-47DC-92AD-590A98C7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D1C9-8CD4-40BA-B906-9C018D55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4F38-B4CE-487A-B6FA-40007AD7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1A1A-C4F9-4BB9-BEAB-B471B558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AFF4-253E-45B5-89A2-F0C87A64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555-2A36-4368-BA16-4D8A5AD2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551-7A4E-4099-8FAA-93403B5D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86C-0879-4916-8F79-7420E561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917-BA3F-4349-988B-3F96963C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BD8-E79C-4F9B-87C8-37216662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B20-5E56-45F2-8EED-BF8E7B87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8F4-8F66-4ED4-9E38-BA782CD3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ACF0-076B-4DEC-B1DB-33B64A499A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59B3-5CE1-475E-A7A4-95C277EA7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camera.wav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projctor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projctor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projctor.wav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青玉案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】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元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辛弃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东风夜放花千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更吹落，星如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宝马雕车香满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凤箫声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玉壶光转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一夜鱼龙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蛾儿雪柳黄金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笑语盈盈暗香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众里寻他千百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──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蓦然回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那人却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灯火阑珊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摘、自查、自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字词闯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课堂练习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给下列加点的字注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（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zá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è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ōngzhǒ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uà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i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í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á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ānh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iǎ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ià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u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u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补充完整并造句。（口头或书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窍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倜傥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叵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鼎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淋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á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攒集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住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拗过去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宿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ǎn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积攒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拗口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执拗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星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词语对对碰（写出近义或同义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确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确实） 轻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轻快） 长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长叫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鉴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鉴别欣赏） 消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溶解）收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收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出“机关”一词的几中意思，各写一个例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机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释：①整个机械的关键部分：摇动水车的～，把河水引到田里。②用机械控制的：～枪ㄧ～布景。③办理事务的部门：行政～ㄧ军事～ㄧ～工作。④周密而巧妙的计谋：识破～ㄧ～用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6858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990033"/>
                </a:solidFill>
                <a:latin typeface="华文新魏"/>
                <a:ea typeface="华文新魏"/>
              </a:rPr>
              <a:t>、你从题目上了解了那些信息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523880"/>
            <a:ext cx="77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文章按空间变换为序进行记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1337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本文记叙了两个场景：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百草园、三味书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5053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990033"/>
                </a:solidFill>
                <a:latin typeface="华文新魏"/>
                <a:ea typeface="华文新魏"/>
              </a:rPr>
              <a:t>、理清文章的写作思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34340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一、回忆百草园的有趣生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3020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二、回忆在三味书屋的读书经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79840" y="3086280"/>
            <a:ext cx="18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blinds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485880" cy="3092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181480" y="260280"/>
            <a:ext cx="3422880" cy="2863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81480" y="3736800"/>
            <a:ext cx="3638520" cy="2905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3483000" cy="286848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588000" y="3141720"/>
            <a:ext cx="2233800" cy="280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439640" cy="180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1800000" cy="1498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160360" cy="2201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3132000" y="3284640"/>
            <a:ext cx="2648160" cy="2381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732720" y="260280"/>
            <a:ext cx="1908000" cy="180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2514600" y="45720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p:transition advTm="14000">
    <p:blinds dir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5943600" cy="3065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1143000"/>
            <a:ext cx="7772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作者描写了百草园中的哪些景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作者如何将这些景物联系在一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这个句式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667240" y="304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百草园的自然景物和乐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60880" y="123984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15440" y="1143000"/>
            <a:ext cx="820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菜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石井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皂荚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桑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鸣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黄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叫天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1219320"/>
            <a:ext cx="152640" cy="167616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04812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4400" y="155124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静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4400" y="299880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6128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076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2057400"/>
            <a:ext cx="380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20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1143000"/>
            <a:ext cx="266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819520"/>
            <a:ext cx="16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67520" y="1143000"/>
            <a:ext cx="820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碧绿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光滑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高大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紫红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肥胖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轻捷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2040" y="2819520"/>
            <a:ext cx="6073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长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0768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505320"/>
            <a:ext cx="380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2208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11280" y="44211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观察景物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93400" y="4495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Times New Roman"/>
                <a:ea typeface="黑体"/>
              </a:rPr>
              <a:t>有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14720" y="5029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Times New Roman"/>
                <a:ea typeface="黑体"/>
              </a:rPr>
              <a:t>多角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51520" y="5638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黑体"/>
              </a:rPr>
              <a:t>精选词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1554120" cy="1828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 flipH="1" rot="10800000">
            <a:off x="1295280" y="990360"/>
            <a:ext cx="6477120" cy="10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rot="2671200">
            <a:off x="228600" y="4343040"/>
            <a:ext cx="784080" cy="911160"/>
          </a:xfrm>
          <a:custGeom>
            <a:avLst/>
            <a:gdLst>
              <a:gd name="textAreaLeft" fmla="*/ 316800 w 784080"/>
              <a:gd name="textAreaRight" fmla="*/ 467280 w 784080"/>
              <a:gd name="textAreaTop" fmla="*/ 368280 h 911160"/>
              <a:gd name="textAreaBottom" fmla="*/ 542880 h 911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33" y="8733"/>
                </a:lnTo>
                <a:lnTo>
                  <a:pt x="10800" y="0"/>
                </a:lnTo>
                <a:lnTo>
                  <a:pt x="12867" y="8733"/>
                </a:lnTo>
                <a:lnTo>
                  <a:pt x="21600" y="10800"/>
                </a:lnTo>
                <a:lnTo>
                  <a:pt x="12867" y="12867"/>
                </a:lnTo>
                <a:lnTo>
                  <a:pt x="10800" y="21600"/>
                </a:lnTo>
                <a:lnTo>
                  <a:pt x="8733" y="12867"/>
                </a:lnTo>
                <a:lnTo>
                  <a:pt x="0" y="10800"/>
                </a:lnTo>
                <a:close/>
              </a:path>
            </a:pathLst>
          </a:custGeom>
          <a:solidFill>
            <a:srgbClr val="2fa3eb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57200"/>
            <a:ext cx="762120" cy="76212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30481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单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就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7880" y="3429000"/>
            <a:ext cx="9946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29718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1219320"/>
            <a:ext cx="152280" cy="4724280"/>
          </a:xfrm>
          <a:custGeom>
            <a:avLst/>
            <a:gdLst>
              <a:gd name="textAreaLeft" fmla="*/ 97200 w 152280"/>
              <a:gd name="textAreaRight" fmla="*/ 152640 w 15228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96"/>
                </a:lnTo>
                <a:cubicBezTo>
                  <a:pt x="10800" y="9996"/>
                  <a:pt x="5400" y="10896"/>
                  <a:pt x="0" y="10896"/>
                </a:cubicBezTo>
                <a:cubicBezTo>
                  <a:pt x="5400" y="10896"/>
                  <a:pt x="10800" y="11796"/>
                  <a:pt x="10800" y="126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03400" y="1066680"/>
            <a:ext cx="1155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油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蟋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蜈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斑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何首乌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莲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莲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何首乌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覆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78960" y="1066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低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03800" y="1066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声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7896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弹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03800" y="1600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声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7240" y="1828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2819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28600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04812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31160" y="304812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3886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81280" y="41144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31240" y="3809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缠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69600" y="380988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4800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12600" y="4419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莲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31240" y="4952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擁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812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12600" y="5486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小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57913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3960" y="60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酸又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69600" y="441972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69600" y="495288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69600" y="548640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812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1295280"/>
            <a:ext cx="152280" cy="221004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3809880"/>
            <a:ext cx="152640" cy="2819520"/>
          </a:xfrm>
          <a:custGeom>
            <a:avLst/>
            <a:gdLst>
              <a:gd name="textAreaLeft" fmla="*/ 0 w 152640"/>
              <a:gd name="textAreaRight" fmla="*/ 55080 w 1526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5640" y="17517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动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3720" y="465444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植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45760" y="1447920"/>
            <a:ext cx="1155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Times New Roman"/>
              </a:rPr>
              <a:t>中间结合叙写人的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69600" y="601992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味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28195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76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31160" y="243828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声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百草园的自然景物和乐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838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 flipH="1" rot="10800000">
            <a:off x="1523880" y="837720"/>
            <a:ext cx="6477120" cy="10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62120" y="228600"/>
            <a:ext cx="838080" cy="6858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128080" cy="6502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3097440" cy="453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9640" y="765000"/>
            <a:ext cx="3240360" cy="4751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03640" y="5661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</a:rPr>
              <a:t>忆鲁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故事与百草园是“我”的乐园有什么联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结：其一，故事的内容符合儿童好奇、爱探险的心理。这也是儿时的一种乐趣。其二，听长妈妈的故事后，“长草”是不去的，这就限制了“我”在百草园中活动的范围，极想得到老和尚那样的飞蜈蚣，“走在百草园草丛旁边时，也常常这样想”。这也符合儿童的探险猎奇、战胜邪恶的心理。这就为百草园蒙上了一层神秘的纱，诱导着儿童去涉足认识、了解它。其三，百草园丰富的生活内容和赤链蛇的传说，对儿时的作者有着极大的吸引力，所以这个传说，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增加了百草园是“我”的“乐园”的因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2472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下面这簇 的顺序被打乱，调整后的正确顺序是：（  ）  （）  （）  （）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用一枝短棒，支起一面大的竹筛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扫出一块雪，露出地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棒上系一条长绳，人远远地牵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下面撒些秕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看鸟雀下来啄食，走到竹筛下的时候，将绳子一拉，便罩住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4000" y="476280"/>
            <a:ext cx="2087280" cy="158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4149720"/>
            <a:ext cx="2232000" cy="158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98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百草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472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味书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10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1280" y="1628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549360"/>
            <a:ext cx="217440" cy="201780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560 h 2017800"/>
              <a:gd name="textAreaBottom" fmla="*/ 1965240 h 20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3333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景：菜畦、石井栏、皂荚树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1197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趣闻：美女蛇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1337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趣事：雪地捕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1844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84360" y="5084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59280" y="3860640"/>
            <a:ext cx="288720" cy="2087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3645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书、习字、对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5445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生其人：外貌、人品、教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48000" y="4508640"/>
            <a:ext cx="53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园游戏  、上课、     画画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1989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1989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80160" y="2205000"/>
            <a:ext cx="4852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热爱自然、追求自由快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5240" y="213372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对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77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77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5" dur="77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7" dur="77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77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77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6" dur="77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4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6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8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5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0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5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0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77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6" dur="77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8" dur="77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6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4000" y="333360"/>
            <a:ext cx="8280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课外探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“三味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味书屋正中挂着的“古树与梅花鹿”有何象征意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你知道鲁迅先生哪些名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收集阅读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的人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阿长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海经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〉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0120" y="5867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何谓“三味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味书屋”中的“三味”，是指三种味道。宋代李淑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邯郸书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书写道“诗书，味之太羹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ē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史为折俎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子为醯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醢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ǎ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是为书三味。”这里是用三种味道的食物比喻古代的三类书，即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经书、史书和诸子百家的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果从字面上说，那“三味”是指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肉汁的味道、肉的味道和肉酱的味道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有人认为三味书屋原来叫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三余书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后来书屋的主人将“三余”改成了“三味”。它的原意是在鼓励人们多读书。故事来源于三国时魏国人董遇常。据说董遇常常常教导他的学生注意利用“三余”的时间读书。哪“三余”呢？即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冬者岁之余，夜者日之余，阴雨者时之余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意思是说，要利用冬天、晚上和阴雨天的空闲时间多读书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1116360" y="259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古树与梅花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味书屋正中墙上挂着的那幅画，古树下面一只梅花鹿。由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“古树”与“古书”，“鹿”与“禄”谐音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其含义是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读书好，就会有高官厚禄，能享受荣华富贵，光宗耀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画象征着“学也，禄在其中也”的封建宗旨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sanweishuwu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392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-252360" y="-171360"/>
            <a:ext cx="10363320" cy="8064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076720" y="836640"/>
            <a:ext cx="4562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有的人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他活着别人就不能活；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有的人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他活着为了多数人更好地活。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骑在人民头上的，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人民把他摔垮；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给人民作牛马的，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人民永远记住他！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把名字刻入石头的，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名字比尸首烂得更早；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只要春风吹到的地方，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到处是青青的野草。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他活着别人就不能活的人，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他的下场可以看到；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他活着为了多数人更好活的人，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群众把他抬举得很高，很高。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　　    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949.1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00000" y="692280"/>
            <a:ext cx="4537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纪念鲁迅有感 </a:t>
            </a:r>
            <a:br>
              <a:rPr sz="1800"/>
            </a:br>
            <a:r>
              <a:rPr b="0" lang="zh-CN" sz="1800" spc="-1" strike="noStrike">
                <a:solidFill>
                  <a:srgbClr val="990033"/>
                </a:solidFill>
                <a:latin typeface="Arial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者：臧克家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有的人活着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　　他已经死了；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　　有的人死了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　　他还活着。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　　有的人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　　骑在人民头上：“呵，我多伟大！”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　　有的人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　　俯下身子给人民当牛马。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　　有的人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　　把名字刻入石头想“不朽”；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　　有的人 </a:t>
            </a:r>
            <a:br>
              <a:rPr sz="1800"/>
            </a:br>
            <a:r>
              <a:rPr b="1" lang="zh-CN" sz="1800" spc="-1" strike="noStrike">
                <a:solidFill>
                  <a:srgbClr val="3333cc"/>
                </a:solidFill>
                <a:latin typeface="宋体"/>
              </a:rPr>
              <a:t>　　情愿作野草，等着地下的火烧。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25480" y="981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有的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66680" y="2514600"/>
            <a:ext cx="7250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时间就像海绵里的水，只要愿挤，总还是有的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3124080"/>
            <a:ext cx="678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我好象是一只牛，吃的是草，挤出的是牛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1773360"/>
            <a:ext cx="678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不满是向上的车轮，能够载着不自满的人前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733920"/>
            <a:ext cx="678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横眉冷对千夫指，俯首甘为孺子牛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267080"/>
            <a:ext cx="678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哪里有天才，我是把别人喝咖啡的工夫都用在了工作上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1066680"/>
            <a:ext cx="678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唯有民族魂是值得宝贵的，唯有它发扬起来，中国才有真进步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5105520"/>
            <a:ext cx="678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其实地上本没有路，走的人多了，也便成了路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5791320"/>
            <a:ext cx="678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游戏是儿童最正当的行为，玩具是儿童的天使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228600"/>
            <a:ext cx="678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时间就是性命。无端的空耗别人的时间，其实是无异于谋财害命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 rot="5400000">
            <a:off x="-1562040" y="2705040"/>
            <a:ext cx="44956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新魏"/>
              </a:rPr>
              <a:t>鲁迅名言录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1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1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77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7" dur="77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7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2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7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00400" y="609480"/>
            <a:ext cx="24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自  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514600"/>
            <a:ext cx="876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运交华盖欲何求？未敢翻身已碰头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破帽遮颜过闹市，漏船载酒泛中流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横眉冷对千夫指，俯首甘为孺子牛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躲进小楼成一统，管他冬夏与春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73360" y="1752480"/>
            <a:ext cx="14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鲁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6880" y="586728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方正舒体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仿写“不必说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不必说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是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写出鲁迅名言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—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背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的人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辅导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76720" y="3049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自题小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1600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鲁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2243160"/>
            <a:ext cx="5977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灵台无计逃神矢，风雨如磐暗故园。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寄意寒星荃不察，我以我血荐轩辕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76720" y="0"/>
            <a:ext cx="32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鲁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2255760"/>
            <a:ext cx="83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鲁迅（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881---1936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原名周树人，浙江绍兴人。中国现代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伟大的文学家、思想家、革命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作品有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说集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呐喊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包括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孔乙己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药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故乡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阿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正传等）、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彷徨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包括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祝福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）、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故事新编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散文集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朝花夕拾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包括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藤野先生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从百草园到三味书屋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）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杂文集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华盖集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而已集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且介亭杂文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79640" y="836640"/>
            <a:ext cx="2016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百草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765000"/>
            <a:ext cx="223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三味书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836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9079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82120" cy="7143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9907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05740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关心并认真观察周围的事物，热爱生活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1148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335772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、学习本文具体有层次地描写事物的写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4724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学习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用拟人手法进行描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5516640"/>
            <a:ext cx="60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领悟作者的思想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摘、自查、自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字词闯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课堂练习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给下列加点的字注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确凿（）菜畦（）桑葚（）臃肿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蟋蟀（）攒（）聚皂荚（）树 油蛉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斑蝥（）珊瑚（）收敛（）鉴（）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秕（）谷 蝉蜕（） 盔（）甲 锡箔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补充完整并造句。（口头或书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通       人迹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至       风流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 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人心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测        人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沸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尽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请写出多音字的读音并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攒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系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拗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词语对对碰（写出近义或同义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确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） 轻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）   长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鉴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） 消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）    收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写出“机关”一词的几中意思，各写一个例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验收时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题目，答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以上的为优胜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优胜者完成课后第三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同学完成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课堂练习错漏的部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课后第三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zj027</cp:lastModifiedBy>
  <dcterms:modified xsi:type="dcterms:W3CDTF">2006-02-16T01:10:16Z</dcterms:modified>
  <cp:revision>11</cp:revision>
  <dc:subject/>
  <dc:title>PowerPoint Presentation</dc:title>
</cp:coreProperties>
</file>