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20.png" ContentType="image/png"/>
  <Override PartName="/ppt/media/image23.jpeg" ContentType="image/jpeg"/>
  <Override PartName="/ppt/media/image2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A7B-EA1A-46B3-918C-EB0BF9B9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053-45C7-42A4-98FC-A1049DB7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D49-551C-4D06-B52E-CBE2098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D68-312F-4024-BE9E-190AC34B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EB8-E086-470A-8AB0-B72E6309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12B-9AFA-4AC0-884E-FD32D40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DFF-0281-4903-868A-18CEFB2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399-EFCD-4C83-91A0-08A6846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AC0-3957-4B07-BCE4-890B9D98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290-B41E-40D2-9354-C756B56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193-2A72-4080-9C0D-B9BCF33C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1A7-E18F-4F40-86C9-EEA14CFF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5111-0CE8-4423-8737-259CAA5B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20CF-B935-4F72-AAE8-3C42316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B34-44AA-4D3A-BA8B-D47F7978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A54-CB8D-4ABD-8160-263ECD8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6ADF-F8E7-400D-A5DC-70F29BA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B069-B250-4C63-89FB-03B4E6E1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C18C-1BB7-4460-B4FE-13DAA2AB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017B-0114-435C-B6E1-6A6A21A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C4DF-A70C-4B3A-B52D-16FEDEE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FEF-0B02-457A-9305-0A02AA86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F51D-B179-4018-8C31-E800C268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698-D356-4B34-B7EB-2471DB07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606C-BB4C-4D8D-9F13-810C6FEC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EC84-97A8-4CC8-A8A7-365F476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DD98-EBBF-449A-BCB6-57CEE1A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609D-6AF2-4BA7-A1D2-8FBC457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A27C-B315-4AE1-9025-89D076C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2DE1-BC97-4378-AAE9-553D576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1232-0A02-4AD5-BAC9-5730271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D13A-C5AE-4CDC-8852-E96773D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9DEF-7377-446D-B7E2-3C0F1A9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F04E-CAFE-4948-9A63-697049F2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4B3A-E952-445E-BDA3-5797FF54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1BFE-D465-4DA0-9F58-826502BA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C082F-EF80-4344-A9B7-69746AF5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6D037-4D80-4724-AA1A-A0D9FF8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5CC823-58D4-4DD9-BE68-3C907528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EABB0-B150-4344-9EC9-C6961CBB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87BDC-A865-4E52-9B40-92D9322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630335-DD45-4F99-80B4-4119550D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C25D3-D275-4A42-9DA5-531E83B3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90D488-788E-4A46-B083-220B6FE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44217B-86CB-4D5B-8035-931DB88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DDCC6-72B6-4AFD-AC09-1F9F001C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CD9CA-F9D7-43FF-9DDC-3F6675C4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C13A2-00A2-4777-861D-6D5593CC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33F7D-569C-459E-A4B3-E364F6E5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5B632-C500-40F0-A934-4DDA4D5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34E2D-DBB2-47E6-BC66-F2E80869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7BE9D-AEF4-408C-A563-CE26E6E7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C9A700-7BD2-49DA-A621-247EA328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DDE67-B56E-4FDA-8CA0-49477A7C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FEAAC6-5497-46F6-8D4F-ACC3FEE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E649B-EA19-45FE-95C2-F72BB4A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BDC0F-0FD4-48FE-A541-9454C6A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A4FF71-F969-4004-A6F9-979343E6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BD12B-21AE-4A4E-BE85-043CBA36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0B77E-B2C6-464E-8A1E-EFCADA14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3CF4-FD0A-446B-8E5C-6CF252FAA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未知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E46-2DC1-403F-8AB4-0030F6C052E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未知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未知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8" name="未知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8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99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未知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6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5" name="未知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118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119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121" name="未知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未知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13D3-8053-4AF2-AFFF-21F443E71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未知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6" name="未知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90" name="未知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Group 18"/>
          <p:cNvGrpSpPr/>
          <p:nvPr/>
        </p:nvGrpSpPr>
        <p:grpSpPr>
          <a:xfrm>
            <a:off x="7793280" y="4317840"/>
            <a:ext cx="982440" cy="1161000"/>
            <a:chOff x="7793280" y="4317840"/>
            <a:chExt cx="982440" cy="1161000"/>
          </a:xfrm>
        </p:grpSpPr>
        <p:sp>
          <p:nvSpPr>
            <p:cNvPr id="296" name="未知"/>
            <p:cNvSpPr/>
            <p:nvPr/>
          </p:nvSpPr>
          <p:spPr>
            <a:xfrm rot="7320000">
              <a:off x="7790040" y="4654440"/>
              <a:ext cx="998640" cy="4680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 rot="7320000">
              <a:off x="7770240" y="4634640"/>
              <a:ext cx="995400" cy="4633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 rot="7320000">
              <a:off x="7934040" y="4617720"/>
              <a:ext cx="660240" cy="4233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22"/>
            <p:cNvGrpSpPr/>
            <p:nvPr/>
          </p:nvGrpSpPr>
          <p:grpSpPr>
            <a:xfrm>
              <a:off x="7793280" y="4317840"/>
              <a:ext cx="982440" cy="1161000"/>
              <a:chOff x="7793280" y="4317840"/>
              <a:chExt cx="982440" cy="1161000"/>
            </a:xfrm>
          </p:grpSpPr>
          <p:sp>
            <p:nvSpPr>
              <p:cNvPr id="300" name="未知"/>
              <p:cNvSpPr/>
              <p:nvPr/>
            </p:nvSpPr>
            <p:spPr>
              <a:xfrm rot="7320000">
                <a:off x="7916760" y="5059080"/>
                <a:ext cx="936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 rot="7320000">
                <a:off x="7755120" y="4649760"/>
                <a:ext cx="1058760" cy="49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rot="7320000">
                <a:off x="8038440" y="4757040"/>
                <a:ext cx="749160" cy="28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rot="7320000">
                <a:off x="8513280" y="4556520"/>
                <a:ext cx="100080" cy="18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rot="7320000">
                <a:off x="8150760" y="4756320"/>
                <a:ext cx="306360" cy="16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未知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未知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3E9C-009A-4F6A-B1CB-DE2185C7257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1A38-50B0-49CB-9550-209FDB2E1D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Comic Sans MS"/>
                <a:ea typeface="华文行楷"/>
              </a:rPr>
              <a:t>再见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9" name="Picture 4" descr="a32ec6bff45e201b18d81f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36"/>
          <p:cNvPicPr/>
          <p:nvPr/>
        </p:nvPicPr>
        <p:blipFill>
          <a:blip r:embed="rId2"/>
          <a:stretch/>
        </p:blipFill>
        <p:spPr>
          <a:xfrm>
            <a:off x="0" y="4038480"/>
            <a:ext cx="2952720" cy="25527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pic>
        <p:nvPicPr>
          <p:cNvPr id="432" name="纯音乐-音乐古曲.林海-琵琶语(一个陌生女人的来信)-128x96.avi" descr=""/>
          <p:cNvPicPr/>
          <p:nvPr/>
        </p:nvPicPr>
        <p:blipFill>
          <a:blip r:embed="rId4"/>
          <a:stretch/>
        </p:blipFill>
        <p:spPr>
          <a:xfrm>
            <a:off x="9144000" y="6567480"/>
            <a:ext cx="312840" cy="581040"/>
          </a:xfrm>
          <a:prstGeom prst="rect">
            <a:avLst/>
          </a:prstGeom>
          <a:ln w="0">
            <a:noFill/>
          </a:ln>
        </p:spPr>
      </p:pic>
      <p:sp>
        <p:nvSpPr>
          <p:cNvPr id="433" name="页脚占位符 9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083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2011010921000003"/>
          <p:cNvPicPr/>
          <p:nvPr/>
        </p:nvPicPr>
        <p:blipFill>
          <a:blip r:embed="rId1"/>
          <a:stretch/>
        </p:blipFill>
        <p:spPr>
          <a:xfrm>
            <a:off x="-176040" y="-452520"/>
            <a:ext cx="9840600" cy="73105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7850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思考：身在征途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心却在故园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它连起来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有什么新的发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新的体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468360" y="1916280"/>
            <a:ext cx="66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既想保家卫国，但又很想念自己的家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很久没回家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管在什么地方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心总是在家乡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纯音乐-音乐古曲.林海-琵琶语(一个陌生女人的来信)-128x96.avi" descr=""/>
          <p:cNvPicPr/>
          <p:nvPr/>
        </p:nvPicPr>
        <p:blipFill>
          <a:blip r:embed="rId2"/>
          <a:stretch/>
        </p:blipFill>
        <p:spPr>
          <a:xfrm>
            <a:off x="8931240" y="6308640"/>
            <a:ext cx="423720" cy="363600"/>
          </a:xfrm>
          <a:prstGeom prst="rect">
            <a:avLst/>
          </a:prstGeom>
          <a:ln w="0">
            <a:noFill/>
          </a:ln>
        </p:spPr>
      </p:pic>
      <p:sp>
        <p:nvSpPr>
          <p:cNvPr id="491" name="页脚占位符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59083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4360" y="622440"/>
            <a:ext cx="6840360" cy="54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孤句亮全篇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“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深千帐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漠孤烟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表达比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意境接近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深千帐灯写出作者经过白天跋山涉水的漫长旅程，旷野宿营，夜深不能寐，走出营房，只见上千营帐都亮着过夜的灯火，远接天边，显出恢宏壮阔的气势，壮阔中透露出苍凉、孤寂，引发作者的思乡之情。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雄浑、壮阔正是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孤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落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苍凉、孤寂融为一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表达效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4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夜深千帐灯”，重在通过壮阔的景象写思乡之苦，此情深挚婉丽，较“大漠、大河”一句的雄浑壮阔的景象，更具张力和内涵。而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漠孤烟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则相对纤细、单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e045af86a48e9967c75cc3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250920" y="21337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菩萨蛮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&gt;&gt;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问君何事轻离别，一年能几团圆月？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257120" y="3429000"/>
            <a:ext cx="3283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山一程，水一程，程程都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风一更，雪一更，更更唤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爱故园，爱祖国，字字化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6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我们想一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536400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长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364000" y="42926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长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7093080" y="5373720"/>
            <a:ext cx="136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5364000" y="5157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长相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纯音乐-音乐古曲.林海-琵琶语(一个陌生女人的来信)-128x96.avi" descr=""/>
          <p:cNvPicPr/>
          <p:nvPr/>
        </p:nvPicPr>
        <p:blipFill>
          <a:blip r:embed="rId3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  <p:pic>
        <p:nvPicPr>
          <p:cNvPr id="510" name="纯音乐-音乐古曲.林海-琵琶语(一个陌生女人的来信)-128x96.avi" descr=""/>
          <p:cNvPicPr/>
          <p:nvPr/>
        </p:nvPicPr>
        <p:blipFill>
          <a:blip r:embed="rId4"/>
          <a:stretch/>
        </p:blipFill>
        <p:spPr>
          <a:xfrm>
            <a:off x="8820000" y="6021360"/>
            <a:ext cx="324000" cy="333360"/>
          </a:xfrm>
          <a:prstGeom prst="rect">
            <a:avLst/>
          </a:prstGeom>
          <a:ln w="0">
            <a:noFill/>
          </a:ln>
        </p:spPr>
      </p:pic>
      <p:pic>
        <p:nvPicPr>
          <p:cNvPr id="511" name="纯音乐-音乐古曲.林海-琵琶语(一个陌生女人的来信)-128x96.avi" descr=""/>
          <p:cNvPicPr/>
          <p:nvPr/>
        </p:nvPicPr>
        <p:blipFill>
          <a:blip r:embed="rId5"/>
          <a:stretch/>
        </p:blipFill>
        <p:spPr>
          <a:xfrm>
            <a:off x="8820000" y="6165720"/>
            <a:ext cx="324000" cy="474840"/>
          </a:xfrm>
          <a:prstGeom prst="rect">
            <a:avLst/>
          </a:prstGeom>
          <a:ln w="0">
            <a:noFill/>
          </a:ln>
        </p:spPr>
      </p:pic>
      <p:sp>
        <p:nvSpPr>
          <p:cNvPr id="512" name="页脚占位符 1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59083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59083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59083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2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我们看一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0880" y="2514600"/>
            <a:ext cx="64915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菩萨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纳兰性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问君何事轻离别，一年能几团圆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杨柳乍如丝，故园春尽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归归不得，两桨松花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旧事逐寒潮，啼鹃恨未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1931760" y="6854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七、拓展练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2295000" y="2115000"/>
            <a:ext cx="346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相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相思，在长安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络纬秋啼金井阑， 微霜凄凄簟色寒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孤灯不明思欲绝， 卷帷望月空长叹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人如花隔云端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有青冥之高天， 下有渌水之波澜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长路远魂飞苦， 梦魂不到关山难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相思，摧心肝。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3276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BJ_001"/>
          <p:cNvPicPr/>
          <p:nvPr/>
        </p:nvPicPr>
        <p:blipFill>
          <a:blip r:embed="rId1"/>
          <a:stretch/>
        </p:blipFill>
        <p:spPr>
          <a:xfrm>
            <a:off x="685800" y="1219320"/>
            <a:ext cx="2743200" cy="5029200"/>
          </a:xfrm>
          <a:prstGeom prst="rect">
            <a:avLst/>
          </a:prstGeom>
          <a:ln w="9360">
            <a:solidFill>
              <a:srgbClr val="335363"/>
            </a:solidFill>
            <a:miter/>
          </a:ln>
        </p:spPr>
      </p:pic>
      <p:sp>
        <p:nvSpPr>
          <p:cNvPr id="435" name="Text Box 3"/>
          <p:cNvSpPr/>
          <p:nvPr/>
        </p:nvSpPr>
        <p:spPr>
          <a:xfrm>
            <a:off x="1219320" y="3049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          </a:t>
            </a:r>
            <a:r>
              <a:rPr b="1" lang="zh-CN" sz="4800" spc="-1" strike="noStrike">
                <a:solidFill>
                  <a:srgbClr val="ff7c80"/>
                </a:solidFill>
                <a:latin typeface="Times New Roman"/>
                <a:ea typeface="隶书"/>
              </a:rPr>
              <a:t>学习古诗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733920" y="1219320"/>
            <a:ext cx="4800600" cy="2438280"/>
          </a:xfrm>
          <a:prstGeom prst="rect">
            <a:avLst/>
          </a:prstGeom>
          <a:solidFill>
            <a:srgbClr val="e6eff2"/>
          </a:solidFill>
          <a:ln w="9360">
            <a:solidFill>
              <a:srgbClr val="335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4495680" y="1143000"/>
            <a:ext cx="4191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通读全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逐字、逐句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读懂全诗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背诵、默写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3813840" y="1523880"/>
            <a:ext cx="667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536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隶书"/>
              </a:rPr>
              <a:t>方法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733920" y="3733920"/>
            <a:ext cx="4800600" cy="2057400"/>
          </a:xfrm>
          <a:prstGeom prst="rect">
            <a:avLst/>
          </a:prstGeom>
          <a:solidFill>
            <a:srgbClr val="e6eff2"/>
          </a:solidFill>
          <a:ln w="9360">
            <a:solidFill>
              <a:srgbClr val="335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4419720" y="38098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理解重点词、不理解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说说诗句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感情地朗读、背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3326400" y="4038480"/>
            <a:ext cx="1155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隶书"/>
              </a:rPr>
              <a:t>方法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3733920" y="5867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0c0c"/>
                </a:solidFill>
                <a:latin typeface="Times New Roman"/>
              </a:rPr>
              <a:t>你还有什么好方法？请介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e045af86a48e9967c75cc3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7093080" y="5373720"/>
            <a:ext cx="136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纯音乐-音乐古曲.林海-琵琶语(一个陌生女人的来信)-128x96.avi" descr=""/>
          <p:cNvPicPr/>
          <p:nvPr/>
        </p:nvPicPr>
        <p:blipFill>
          <a:blip r:embed="rId3"/>
          <a:stretch/>
        </p:blipFill>
        <p:spPr>
          <a:xfrm>
            <a:off x="8820000" y="6524640"/>
            <a:ext cx="324000" cy="333360"/>
          </a:xfrm>
          <a:prstGeom prst="rect">
            <a:avLst/>
          </a:prstGeom>
          <a:ln w="0">
            <a:noFill/>
          </a:ln>
        </p:spPr>
      </p:pic>
      <p:pic>
        <p:nvPicPr>
          <p:cNvPr id="447" name="纯音乐-音乐古曲.林海-琵琶语(一个陌生女人的来信)-128x96.avi" descr=""/>
          <p:cNvPicPr/>
          <p:nvPr/>
        </p:nvPicPr>
        <p:blipFill>
          <a:blip r:embed="rId4"/>
          <a:stretch/>
        </p:blipFill>
        <p:spPr>
          <a:xfrm>
            <a:off x="8820000" y="6021360"/>
            <a:ext cx="324000" cy="333360"/>
          </a:xfrm>
          <a:prstGeom prst="rect">
            <a:avLst/>
          </a:prstGeom>
          <a:ln w="0">
            <a:noFill/>
          </a:ln>
        </p:spPr>
      </p:pic>
      <p:pic>
        <p:nvPicPr>
          <p:cNvPr id="448" name="纯音乐-音乐古曲.林海-琵琶语(一个陌生女人的来信)-128x96.avi" descr=""/>
          <p:cNvPicPr/>
          <p:nvPr/>
        </p:nvPicPr>
        <p:blipFill>
          <a:blip r:embed="rId5"/>
          <a:stretch/>
        </p:blipFill>
        <p:spPr>
          <a:xfrm>
            <a:off x="8820000" y="6165720"/>
            <a:ext cx="324000" cy="4748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8"/>
          <p:cNvSpPr/>
          <p:nvPr/>
        </p:nvSpPr>
        <p:spPr>
          <a:xfrm>
            <a:off x="252360" y="4840200"/>
            <a:ext cx="85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纳兰性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9"/>
          <p:cNvSpPr txBox="1"/>
          <p:nvPr/>
        </p:nvSpPr>
        <p:spPr>
          <a:xfrm>
            <a:off x="482760" y="2565360"/>
            <a:ext cx="797688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问君何事轻离别，一年能几团圆月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51" name="页脚占位符 1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9083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9083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59083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18166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9083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50560" y="1343160"/>
            <a:ext cx="8569080" cy="482256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纳兰性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字容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楞伽山人。他的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主要文学成就在于词，尤擅小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一生淡泊名利，喜结名士，推崇李煜词，风格接近李煜，有“清代李后主”之称，其词风格婉丽清新，不事雕琢，颇多伤感情调。他虽侍从帝王，却向往平淡的经历。这一特殊的生活环境与背景，加之他个人的超逸才华，使其诗词的创作呈现独特的个性特征和鲜明的艺术风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康熙十五年进士，不久晋升一等侍卫，文武双全，尤长于词，为清初词坛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擘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被誉为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满清第一词人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宋后第一真词人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朱彝尊、陈维崧并称“清词三大家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词风接近李煜，清新自然，隽永超逸。有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通志堂集》《饮水词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40464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纳兰性德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438280" y="838080"/>
            <a:ext cx="275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长相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]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纳兰性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57200" y="28144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一程，水一程，身向榆关那畔行，夜深千帐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g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风一更，雪一更，聒碎乡心梦不成，故园无此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e045af86a48e9967c75cc380"/>
          <p:cNvPicPr/>
          <p:nvPr/>
        </p:nvPicPr>
        <p:blipFill>
          <a:blip r:embed="rId2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4"/>
          <p:cNvSpPr/>
          <p:nvPr/>
        </p:nvSpPr>
        <p:spPr>
          <a:xfrm>
            <a:off x="304920" y="990720"/>
            <a:ext cx="6476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长相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纳兰性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山一程，水一程，身向榆关那畔行，夜深千帐灯。     风一更，雪一更，聒碎乡心梦不成，故园无此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 flipH="1">
            <a:off x="1371240" y="3276720"/>
            <a:ext cx="14436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1600200" y="39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2209680" y="39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2666880" y="39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 flipH="1">
            <a:off x="4419360" y="3352680"/>
            <a:ext cx="144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4724280" y="403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5257800" y="403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5791320" y="403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 flipH="1">
            <a:off x="6400440" y="4343400"/>
            <a:ext cx="144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4"/>
          <p:cNvSpPr/>
          <p:nvPr/>
        </p:nvSpPr>
        <p:spPr>
          <a:xfrm>
            <a:off x="60948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114300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6"/>
          <p:cNvSpPr/>
          <p:nvPr/>
        </p:nvSpPr>
        <p:spPr>
          <a:xfrm>
            <a:off x="1523880" y="5638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3428640" y="5105520"/>
            <a:ext cx="14436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8"/>
          <p:cNvSpPr/>
          <p:nvPr/>
        </p:nvSpPr>
        <p:spPr>
          <a:xfrm>
            <a:off x="365760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9"/>
          <p:cNvSpPr/>
          <p:nvPr/>
        </p:nvSpPr>
        <p:spPr>
          <a:xfrm>
            <a:off x="419112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472428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纯音乐-音乐古曲.林海-琵琶语(一个陌生女人的来信)-128x96.avi" descr=""/>
          <p:cNvPicPr/>
          <p:nvPr/>
        </p:nvPicPr>
        <p:blipFill>
          <a:blip r:embed="rId3"/>
          <a:stretch/>
        </p:blipFill>
        <p:spPr>
          <a:xfrm>
            <a:off x="8820000" y="6647040"/>
            <a:ext cx="324000" cy="421920"/>
          </a:xfrm>
          <a:prstGeom prst="rect">
            <a:avLst/>
          </a:prstGeom>
          <a:ln w="0">
            <a:noFill/>
          </a:ln>
        </p:spPr>
      </p:pic>
      <p:sp>
        <p:nvSpPr>
          <p:cNvPr id="477" name="页脚占位符 2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59083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28760" y="5716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山一程，水一程，身向榆关那畔行，夜深千账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风一更，雪一更，聒碎乡心梦不成，故园无此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3"/>
          <p:cNvSpPr/>
          <p:nvPr/>
        </p:nvSpPr>
        <p:spPr>
          <a:xfrm>
            <a:off x="785880" y="3429000"/>
            <a:ext cx="7429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作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字朴素精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借景抒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虚实相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开头突兀，景物信手拈来，不显雕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程”用了反复的修辞手法。如此强调出路途遥远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身”：暗示身体虽在榆关，心却未尾随而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虚实结合：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3"/>
          <p:cNvSpPr/>
          <p:nvPr/>
        </p:nvSpPr>
        <p:spPr>
          <a:xfrm>
            <a:off x="1143000" y="6429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山一程，水一程，身向榆关那畔行，夜深千账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一更，雪一更，聒碎乡心梦不成，故园无此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57120" y="214272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了反复，写出塞外恶劣的天气，也侧面反映出作者一夜未眠的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“聒”字解释了一夜难眠的原因。作者将塞外与故园的环境作对比，睡不着不仅是环境的吵闹，更有内心的思乡之念搅得诗人难以平静。结尾直截了当地抒发了 诗人内心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07:14:15Z</dcterms:created>
  <dc:creator>Administrator</dc:creator>
  <dc:description/>
  <cp:keywords/>
  <dc:language>en-US</dc:language>
  <cp:lastModifiedBy>Administrator</cp:lastModifiedBy>
  <dcterms:modified xsi:type="dcterms:W3CDTF">2014-10-20T14:16:1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