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37AC-EDBF-4625-81E8-E87259E5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FCB4-C35D-4D57-BFCD-6DA4DFD1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AB42-E1E2-41D9-8D81-B0FD72E5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2B02-32F6-4280-9B84-1099C9CD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8FEF-73ED-4507-96F3-CDEAF2C8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D6F6-EFBD-4D20-B485-09F7205B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DC03-0C23-40C9-936C-36FF11E1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076C-8610-4777-B09B-9610ACC6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3357-25CF-48B4-AF60-C7267545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28A8-F037-4973-8B1C-2EB8982D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B209-A500-472E-A1D6-136DA6A7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5CC-310A-4A38-817C-AFEA8FC1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84C2-7E4A-4B4A-9A07-8E984154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1737-D1C4-44A4-87AE-D1334994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AEED-50AB-4408-AE38-A1A643E7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2203-C02A-42F6-938E-4136F40C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62D2-37E9-4B6E-AB8D-5C9C6809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17E71-8A98-4513-9BBD-84F3BDB7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3CA33-DDF9-40F0-967D-A1148A71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E1CBE-92C7-4452-92A9-BD34F2FB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47134-F87E-436D-9A24-EF305CE5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21A5D-A79D-41AE-8A2C-1314D6DE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D8CC-64F1-4BE7-A43F-58ACD7A6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16AC6-562C-4FCB-8618-2B6B6FDC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46519-441B-4410-B092-46563D39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DDA0A-0185-4EB5-AA0D-85D521E2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F49CB-A548-4E90-8246-8D14FD4C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D26EF-D831-46D3-99F7-3A80B7FA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7F4A6-FA9B-479F-BBB2-6A2F0D55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70CF9-05C6-4C8B-946E-FCA839CE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CA5-724B-4778-8265-D8E5CDEC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2680-A45F-40DF-9A64-BA429F02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B29-927F-4F22-9978-3F47E983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4F2E-0EEB-4BE1-9D03-F568A7A4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2A62-809F-4D92-B8A5-32489B4D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4DF-29D3-4758-9669-19AB890F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E289-D04B-47CD-8B3A-87E9EBE226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A299-6FF5-4B76-863F-A282E00711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59FF-232B-4054-AD93-584B6581CE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slide" Target="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>
            <a:hlinkClick r:id="" action="ppaction://hlinkshowjump?jump=nextslide"/>
          </p:cNvPr>
          <p:cNvSpPr/>
          <p:nvPr/>
        </p:nvSpPr>
        <p:spPr>
          <a:xfrm>
            <a:off x="73080" y="6427800"/>
            <a:ext cx="826920" cy="314280"/>
          </a:xfrm>
          <a:custGeom>
            <a:avLst/>
            <a:gdLst>
              <a:gd name="textAreaLeft" fmla="*/ 20160 w 826920"/>
              <a:gd name="textAreaRight" fmla="*/ 806760 w 826920"/>
              <a:gd name="textAreaTop" fmla="*/ 20160 h 314280"/>
              <a:gd name="textAreaBottom" fmla="*/ 294120 h 314280"/>
            </a:gdLst>
            <a:ahLst/>
            <a:rect l="textAreaLeft" t="textAreaTop" r="textAreaRight" b="textAreaBottom"/>
            <a:pathLst>
              <a:path w="56793" h="21600">
                <a:moveTo>
                  <a:pt x="0" y="0"/>
                </a:moveTo>
                <a:lnTo>
                  <a:pt x="56793" y="0"/>
                </a:lnTo>
                <a:lnTo>
                  <a:pt x="56793" y="21600"/>
                </a:lnTo>
                <a:lnTo>
                  <a:pt x="0" y="21600"/>
                </a:lnTo>
                <a:close/>
              </a:path>
              <a:path fill="lightenLess" w="56793" h="21600">
                <a:moveTo>
                  <a:pt x="0" y="0"/>
                </a:moveTo>
                <a:lnTo>
                  <a:pt x="56793" y="0"/>
                </a:lnTo>
                <a:lnTo>
                  <a:pt x="55393" y="1400"/>
                </a:lnTo>
                <a:lnTo>
                  <a:pt x="1400" y="1400"/>
                </a:lnTo>
                <a:close/>
              </a:path>
              <a:path fill="darken" w="56793" h="21600">
                <a:moveTo>
                  <a:pt x="56793" y="0"/>
                </a:moveTo>
                <a:lnTo>
                  <a:pt x="56793" y="21600"/>
                </a:lnTo>
                <a:lnTo>
                  <a:pt x="55393" y="20200"/>
                </a:lnTo>
                <a:lnTo>
                  <a:pt x="55393" y="1400"/>
                </a:lnTo>
                <a:close/>
              </a:path>
              <a:path fill="darkenLess" w="56793" h="21600">
                <a:moveTo>
                  <a:pt x="567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93" y="20200"/>
                </a:lnTo>
                <a:close/>
              </a:path>
              <a:path fill="lighten" w="567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预习任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>
            <a:hlinkClick r:id="rId1" action="ppaction://hlinksldjump"/>
          </p:cNvPr>
          <p:cNvSpPr/>
          <p:nvPr/>
        </p:nvSpPr>
        <p:spPr>
          <a:xfrm>
            <a:off x="971640" y="6427800"/>
            <a:ext cx="826920" cy="314280"/>
          </a:xfrm>
          <a:custGeom>
            <a:avLst/>
            <a:gdLst>
              <a:gd name="textAreaLeft" fmla="*/ 20160 w 826920"/>
              <a:gd name="textAreaRight" fmla="*/ 806760 w 826920"/>
              <a:gd name="textAreaTop" fmla="*/ 20160 h 314280"/>
              <a:gd name="textAreaBottom" fmla="*/ 294120 h 314280"/>
            </a:gdLst>
            <a:ahLst/>
            <a:rect l="textAreaLeft" t="textAreaTop" r="textAreaRight" b="textAreaBottom"/>
            <a:pathLst>
              <a:path w="56793" h="21600">
                <a:moveTo>
                  <a:pt x="0" y="0"/>
                </a:moveTo>
                <a:lnTo>
                  <a:pt x="56793" y="0"/>
                </a:lnTo>
                <a:lnTo>
                  <a:pt x="56793" y="21600"/>
                </a:lnTo>
                <a:lnTo>
                  <a:pt x="0" y="21600"/>
                </a:lnTo>
                <a:close/>
              </a:path>
              <a:path fill="lightenLess" w="56793" h="21600">
                <a:moveTo>
                  <a:pt x="0" y="0"/>
                </a:moveTo>
                <a:lnTo>
                  <a:pt x="56793" y="0"/>
                </a:lnTo>
                <a:lnTo>
                  <a:pt x="55393" y="1400"/>
                </a:lnTo>
                <a:lnTo>
                  <a:pt x="1400" y="1400"/>
                </a:lnTo>
                <a:close/>
              </a:path>
              <a:path fill="darken" w="56793" h="21600">
                <a:moveTo>
                  <a:pt x="56793" y="0"/>
                </a:moveTo>
                <a:lnTo>
                  <a:pt x="56793" y="21600"/>
                </a:lnTo>
                <a:lnTo>
                  <a:pt x="55393" y="20200"/>
                </a:lnTo>
                <a:lnTo>
                  <a:pt x="55393" y="1400"/>
                </a:lnTo>
                <a:close/>
              </a:path>
              <a:path fill="darkenLess" w="56793" h="21600">
                <a:moveTo>
                  <a:pt x="567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93" y="20200"/>
                </a:lnTo>
                <a:close/>
              </a:path>
              <a:path fill="lighten" w="567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>
            <a:hlinkClick r:id="rId2" action="ppaction://hlinksldjump"/>
          </p:cNvPr>
          <p:cNvSpPr/>
          <p:nvPr/>
        </p:nvSpPr>
        <p:spPr>
          <a:xfrm>
            <a:off x="1908000" y="6427800"/>
            <a:ext cx="827280" cy="314280"/>
          </a:xfrm>
          <a:custGeom>
            <a:avLst/>
            <a:gdLst>
              <a:gd name="textAreaLeft" fmla="*/ 20160 w 827280"/>
              <a:gd name="textAreaRight" fmla="*/ 807120 w 827280"/>
              <a:gd name="textAreaTop" fmla="*/ 20160 h 314280"/>
              <a:gd name="textAreaBottom" fmla="*/ 294120 h 314280"/>
            </a:gdLst>
            <a:ahLst/>
            <a:rect l="textAreaLeft" t="textAreaTop" r="textAreaRight" b="textAreaBottom"/>
            <a:pathLst>
              <a:path w="56817" h="21600">
                <a:moveTo>
                  <a:pt x="0" y="0"/>
                </a:moveTo>
                <a:lnTo>
                  <a:pt x="56817" y="0"/>
                </a:lnTo>
                <a:lnTo>
                  <a:pt x="56817" y="21600"/>
                </a:lnTo>
                <a:lnTo>
                  <a:pt x="0" y="21600"/>
                </a:lnTo>
                <a:close/>
              </a:path>
              <a:path fill="lightenLess" w="56817" h="21600">
                <a:moveTo>
                  <a:pt x="0" y="0"/>
                </a:moveTo>
                <a:lnTo>
                  <a:pt x="56817" y="0"/>
                </a:lnTo>
                <a:lnTo>
                  <a:pt x="55417" y="1400"/>
                </a:lnTo>
                <a:lnTo>
                  <a:pt x="1400" y="1400"/>
                </a:lnTo>
                <a:close/>
              </a:path>
              <a:path fill="darken" w="56817" h="21600">
                <a:moveTo>
                  <a:pt x="56817" y="0"/>
                </a:moveTo>
                <a:lnTo>
                  <a:pt x="56817" y="21600"/>
                </a:lnTo>
                <a:lnTo>
                  <a:pt x="55417" y="20200"/>
                </a:lnTo>
                <a:lnTo>
                  <a:pt x="55417" y="1400"/>
                </a:lnTo>
                <a:close/>
              </a:path>
              <a:path fill="darkenLess" w="56817" h="21600">
                <a:moveTo>
                  <a:pt x="56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417" y="20200"/>
                </a:lnTo>
                <a:close/>
              </a:path>
              <a:path fill="lighten" w="56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预习检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>
            <a:hlinkClick r:id="rId3" action="ppaction://hlinksldjump"/>
          </p:cNvPr>
          <p:cNvSpPr/>
          <p:nvPr/>
        </p:nvSpPr>
        <p:spPr>
          <a:xfrm>
            <a:off x="3673440" y="6427800"/>
            <a:ext cx="827280" cy="314280"/>
          </a:xfrm>
          <a:custGeom>
            <a:avLst/>
            <a:gdLst>
              <a:gd name="textAreaLeft" fmla="*/ 20160 w 827280"/>
              <a:gd name="textAreaRight" fmla="*/ 807120 w 827280"/>
              <a:gd name="textAreaTop" fmla="*/ 20160 h 314280"/>
              <a:gd name="textAreaBottom" fmla="*/ 294120 h 314280"/>
            </a:gdLst>
            <a:ahLst/>
            <a:rect l="textAreaLeft" t="textAreaTop" r="textAreaRight" b="textAreaBottom"/>
            <a:pathLst>
              <a:path w="56817" h="21600">
                <a:moveTo>
                  <a:pt x="0" y="0"/>
                </a:moveTo>
                <a:lnTo>
                  <a:pt x="56817" y="0"/>
                </a:lnTo>
                <a:lnTo>
                  <a:pt x="56817" y="21600"/>
                </a:lnTo>
                <a:lnTo>
                  <a:pt x="0" y="21600"/>
                </a:lnTo>
                <a:close/>
              </a:path>
              <a:path fill="lightenLess" w="56817" h="21600">
                <a:moveTo>
                  <a:pt x="0" y="0"/>
                </a:moveTo>
                <a:lnTo>
                  <a:pt x="56817" y="0"/>
                </a:lnTo>
                <a:lnTo>
                  <a:pt x="55417" y="1400"/>
                </a:lnTo>
                <a:lnTo>
                  <a:pt x="1400" y="1400"/>
                </a:lnTo>
                <a:close/>
              </a:path>
              <a:path fill="darken" w="56817" h="21600">
                <a:moveTo>
                  <a:pt x="56817" y="0"/>
                </a:moveTo>
                <a:lnTo>
                  <a:pt x="56817" y="21600"/>
                </a:lnTo>
                <a:lnTo>
                  <a:pt x="55417" y="20200"/>
                </a:lnTo>
                <a:lnTo>
                  <a:pt x="55417" y="1400"/>
                </a:lnTo>
                <a:close/>
              </a:path>
              <a:path fill="darkenLess" w="56817" h="21600">
                <a:moveTo>
                  <a:pt x="56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417" y="20200"/>
                </a:lnTo>
                <a:close/>
              </a:path>
              <a:path fill="lighten" w="56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配乐聆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>
            <a:hlinkClick r:id="rId4" action="ppaction://hlinksldjump"/>
          </p:cNvPr>
          <p:cNvSpPr/>
          <p:nvPr/>
        </p:nvSpPr>
        <p:spPr>
          <a:xfrm>
            <a:off x="4572000" y="6427800"/>
            <a:ext cx="826920" cy="314280"/>
          </a:xfrm>
          <a:custGeom>
            <a:avLst/>
            <a:gdLst>
              <a:gd name="textAreaLeft" fmla="*/ 20160 w 826920"/>
              <a:gd name="textAreaRight" fmla="*/ 806760 w 826920"/>
              <a:gd name="textAreaTop" fmla="*/ 20160 h 314280"/>
              <a:gd name="textAreaBottom" fmla="*/ 294120 h 314280"/>
            </a:gdLst>
            <a:ahLst/>
            <a:rect l="textAreaLeft" t="textAreaTop" r="textAreaRight" b="textAreaBottom"/>
            <a:pathLst>
              <a:path w="56793" h="21600">
                <a:moveTo>
                  <a:pt x="0" y="0"/>
                </a:moveTo>
                <a:lnTo>
                  <a:pt x="56793" y="0"/>
                </a:lnTo>
                <a:lnTo>
                  <a:pt x="56793" y="21600"/>
                </a:lnTo>
                <a:lnTo>
                  <a:pt x="0" y="21600"/>
                </a:lnTo>
                <a:close/>
              </a:path>
              <a:path fill="lightenLess" w="56793" h="21600">
                <a:moveTo>
                  <a:pt x="0" y="0"/>
                </a:moveTo>
                <a:lnTo>
                  <a:pt x="56793" y="0"/>
                </a:lnTo>
                <a:lnTo>
                  <a:pt x="55393" y="1400"/>
                </a:lnTo>
                <a:lnTo>
                  <a:pt x="1400" y="1400"/>
                </a:lnTo>
                <a:close/>
              </a:path>
              <a:path fill="darken" w="56793" h="21600">
                <a:moveTo>
                  <a:pt x="56793" y="0"/>
                </a:moveTo>
                <a:lnTo>
                  <a:pt x="56793" y="21600"/>
                </a:lnTo>
                <a:lnTo>
                  <a:pt x="55393" y="20200"/>
                </a:lnTo>
                <a:lnTo>
                  <a:pt x="55393" y="1400"/>
                </a:lnTo>
                <a:close/>
              </a:path>
              <a:path fill="darkenLess" w="56793" h="21600">
                <a:moveTo>
                  <a:pt x="567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93" y="20200"/>
                </a:lnTo>
                <a:close/>
              </a:path>
              <a:path fill="lighten" w="567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自主探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>
            <a:hlinkClick r:id="rId5" action="ppaction://hlinksldjump"/>
          </p:cNvPr>
          <p:cNvSpPr/>
          <p:nvPr/>
        </p:nvSpPr>
        <p:spPr>
          <a:xfrm>
            <a:off x="5508720" y="6427800"/>
            <a:ext cx="826920" cy="314280"/>
          </a:xfrm>
          <a:custGeom>
            <a:avLst/>
            <a:gdLst>
              <a:gd name="textAreaLeft" fmla="*/ 20160 w 826920"/>
              <a:gd name="textAreaRight" fmla="*/ 806760 w 826920"/>
              <a:gd name="textAreaTop" fmla="*/ 20160 h 314280"/>
              <a:gd name="textAreaBottom" fmla="*/ 294120 h 314280"/>
            </a:gdLst>
            <a:ahLst/>
            <a:rect l="textAreaLeft" t="textAreaTop" r="textAreaRight" b="textAreaBottom"/>
            <a:pathLst>
              <a:path w="56793" h="21600">
                <a:moveTo>
                  <a:pt x="0" y="0"/>
                </a:moveTo>
                <a:lnTo>
                  <a:pt x="56793" y="0"/>
                </a:lnTo>
                <a:lnTo>
                  <a:pt x="56793" y="21600"/>
                </a:lnTo>
                <a:lnTo>
                  <a:pt x="0" y="21600"/>
                </a:lnTo>
                <a:close/>
              </a:path>
              <a:path fill="lightenLess" w="56793" h="21600">
                <a:moveTo>
                  <a:pt x="0" y="0"/>
                </a:moveTo>
                <a:lnTo>
                  <a:pt x="56793" y="0"/>
                </a:lnTo>
                <a:lnTo>
                  <a:pt x="55393" y="1400"/>
                </a:lnTo>
                <a:lnTo>
                  <a:pt x="1400" y="1400"/>
                </a:lnTo>
                <a:close/>
              </a:path>
              <a:path fill="darken" w="56793" h="21600">
                <a:moveTo>
                  <a:pt x="56793" y="0"/>
                </a:moveTo>
                <a:lnTo>
                  <a:pt x="56793" y="21600"/>
                </a:lnTo>
                <a:lnTo>
                  <a:pt x="55393" y="20200"/>
                </a:lnTo>
                <a:lnTo>
                  <a:pt x="55393" y="1400"/>
                </a:lnTo>
                <a:close/>
              </a:path>
              <a:path fill="darkenLess" w="56793" h="21600">
                <a:moveTo>
                  <a:pt x="567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93" y="20200"/>
                </a:lnTo>
                <a:close/>
              </a:path>
              <a:path fill="lighten" w="567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>
            <a:hlinkClick r:id="rId6" action="ppaction://hlinksldjump"/>
          </p:cNvPr>
          <p:cNvSpPr/>
          <p:nvPr/>
        </p:nvSpPr>
        <p:spPr>
          <a:xfrm>
            <a:off x="6408720" y="6427800"/>
            <a:ext cx="827280" cy="314280"/>
          </a:xfrm>
          <a:custGeom>
            <a:avLst/>
            <a:gdLst>
              <a:gd name="textAreaLeft" fmla="*/ 20160 w 827280"/>
              <a:gd name="textAreaRight" fmla="*/ 807120 w 827280"/>
              <a:gd name="textAreaTop" fmla="*/ 20160 h 314280"/>
              <a:gd name="textAreaBottom" fmla="*/ 294120 h 314280"/>
            </a:gdLst>
            <a:ahLst/>
            <a:rect l="textAreaLeft" t="textAreaTop" r="textAreaRight" b="textAreaBottom"/>
            <a:pathLst>
              <a:path w="56817" h="21600">
                <a:moveTo>
                  <a:pt x="0" y="0"/>
                </a:moveTo>
                <a:lnTo>
                  <a:pt x="56817" y="0"/>
                </a:lnTo>
                <a:lnTo>
                  <a:pt x="56817" y="21600"/>
                </a:lnTo>
                <a:lnTo>
                  <a:pt x="0" y="21600"/>
                </a:lnTo>
                <a:close/>
              </a:path>
              <a:path fill="lightenLess" w="56817" h="21600">
                <a:moveTo>
                  <a:pt x="0" y="0"/>
                </a:moveTo>
                <a:lnTo>
                  <a:pt x="56817" y="0"/>
                </a:lnTo>
                <a:lnTo>
                  <a:pt x="55417" y="1400"/>
                </a:lnTo>
                <a:lnTo>
                  <a:pt x="1400" y="1400"/>
                </a:lnTo>
                <a:close/>
              </a:path>
              <a:path fill="darken" w="56817" h="21600">
                <a:moveTo>
                  <a:pt x="56817" y="0"/>
                </a:moveTo>
                <a:lnTo>
                  <a:pt x="56817" y="21600"/>
                </a:lnTo>
                <a:lnTo>
                  <a:pt x="55417" y="20200"/>
                </a:lnTo>
                <a:lnTo>
                  <a:pt x="55417" y="1400"/>
                </a:lnTo>
                <a:close/>
              </a:path>
              <a:path fill="darkenLess" w="56817" h="21600">
                <a:moveTo>
                  <a:pt x="56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417" y="20200"/>
                </a:lnTo>
                <a:close/>
              </a:path>
              <a:path fill="lighten" w="56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我来闯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>
            <a:hlinkClick r:id="rId7" action="ppaction://hlinksldjump"/>
          </p:cNvPr>
          <p:cNvSpPr/>
          <p:nvPr/>
        </p:nvSpPr>
        <p:spPr>
          <a:xfrm>
            <a:off x="7308720" y="6427800"/>
            <a:ext cx="827280" cy="314280"/>
          </a:xfrm>
          <a:custGeom>
            <a:avLst/>
            <a:gdLst>
              <a:gd name="textAreaLeft" fmla="*/ 20160 w 827280"/>
              <a:gd name="textAreaRight" fmla="*/ 807120 w 827280"/>
              <a:gd name="textAreaTop" fmla="*/ 20160 h 314280"/>
              <a:gd name="textAreaBottom" fmla="*/ 294120 h 314280"/>
            </a:gdLst>
            <a:ahLst/>
            <a:rect l="textAreaLeft" t="textAreaTop" r="textAreaRight" b="textAreaBottom"/>
            <a:pathLst>
              <a:path w="56817" h="21600">
                <a:moveTo>
                  <a:pt x="0" y="0"/>
                </a:moveTo>
                <a:lnTo>
                  <a:pt x="56817" y="0"/>
                </a:lnTo>
                <a:lnTo>
                  <a:pt x="56817" y="21600"/>
                </a:lnTo>
                <a:lnTo>
                  <a:pt x="0" y="21600"/>
                </a:lnTo>
                <a:close/>
              </a:path>
              <a:path fill="lightenLess" w="56817" h="21600">
                <a:moveTo>
                  <a:pt x="0" y="0"/>
                </a:moveTo>
                <a:lnTo>
                  <a:pt x="56817" y="0"/>
                </a:lnTo>
                <a:lnTo>
                  <a:pt x="55417" y="1400"/>
                </a:lnTo>
                <a:lnTo>
                  <a:pt x="1400" y="1400"/>
                </a:lnTo>
                <a:close/>
              </a:path>
              <a:path fill="darken" w="56817" h="21600">
                <a:moveTo>
                  <a:pt x="56817" y="0"/>
                </a:moveTo>
                <a:lnTo>
                  <a:pt x="56817" y="21600"/>
                </a:lnTo>
                <a:lnTo>
                  <a:pt x="55417" y="20200"/>
                </a:lnTo>
                <a:lnTo>
                  <a:pt x="55417" y="1400"/>
                </a:lnTo>
                <a:close/>
              </a:path>
              <a:path fill="darkenLess" w="56817" h="21600">
                <a:moveTo>
                  <a:pt x="56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417" y="20200"/>
                </a:lnTo>
                <a:close/>
              </a:path>
              <a:path fill="lighten" w="56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自我评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>
            <a:hlinkClick r:id="" action="ppaction://hlinkshowjump?jump=endshow"/>
          </p:cNvPr>
          <p:cNvSpPr/>
          <p:nvPr/>
        </p:nvSpPr>
        <p:spPr>
          <a:xfrm>
            <a:off x="8244000" y="6427800"/>
            <a:ext cx="826920" cy="314280"/>
          </a:xfrm>
          <a:custGeom>
            <a:avLst/>
            <a:gdLst>
              <a:gd name="textAreaLeft" fmla="*/ 20160 w 826920"/>
              <a:gd name="textAreaRight" fmla="*/ 806760 w 826920"/>
              <a:gd name="textAreaTop" fmla="*/ 20160 h 314280"/>
              <a:gd name="textAreaBottom" fmla="*/ 294120 h 314280"/>
            </a:gdLst>
            <a:ahLst/>
            <a:rect l="textAreaLeft" t="textAreaTop" r="textAreaRight" b="textAreaBottom"/>
            <a:pathLst>
              <a:path w="56793" h="21600">
                <a:moveTo>
                  <a:pt x="0" y="0"/>
                </a:moveTo>
                <a:lnTo>
                  <a:pt x="56793" y="0"/>
                </a:lnTo>
                <a:lnTo>
                  <a:pt x="56793" y="21600"/>
                </a:lnTo>
                <a:lnTo>
                  <a:pt x="0" y="21600"/>
                </a:lnTo>
                <a:close/>
              </a:path>
              <a:path fill="lightenLess" w="56793" h="21600">
                <a:moveTo>
                  <a:pt x="0" y="0"/>
                </a:moveTo>
                <a:lnTo>
                  <a:pt x="56793" y="0"/>
                </a:lnTo>
                <a:lnTo>
                  <a:pt x="55393" y="1400"/>
                </a:lnTo>
                <a:lnTo>
                  <a:pt x="1400" y="1400"/>
                </a:lnTo>
                <a:close/>
              </a:path>
              <a:path fill="darken" w="56793" h="21600">
                <a:moveTo>
                  <a:pt x="56793" y="0"/>
                </a:moveTo>
                <a:lnTo>
                  <a:pt x="56793" y="21600"/>
                </a:lnTo>
                <a:lnTo>
                  <a:pt x="55393" y="20200"/>
                </a:lnTo>
                <a:lnTo>
                  <a:pt x="55393" y="1400"/>
                </a:lnTo>
                <a:close/>
              </a:path>
              <a:path fill="darkenLess" w="56793" h="21600">
                <a:moveTo>
                  <a:pt x="567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93" y="20200"/>
                </a:lnTo>
                <a:close/>
              </a:path>
              <a:path fill="lighten" w="567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退  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2268360" y="2421000"/>
            <a:ext cx="33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   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2">
            <a:hlinkClick r:id="rId8" action="ppaction://hlinksldjump"/>
          </p:cNvPr>
          <p:cNvSpPr/>
          <p:nvPr/>
        </p:nvSpPr>
        <p:spPr>
          <a:xfrm>
            <a:off x="2771640" y="6427800"/>
            <a:ext cx="827280" cy="314280"/>
          </a:xfrm>
          <a:custGeom>
            <a:avLst/>
            <a:gdLst>
              <a:gd name="textAreaLeft" fmla="*/ 20160 w 827280"/>
              <a:gd name="textAreaRight" fmla="*/ 807120 w 827280"/>
              <a:gd name="textAreaTop" fmla="*/ 20160 h 314280"/>
              <a:gd name="textAreaBottom" fmla="*/ 294120 h 314280"/>
            </a:gdLst>
            <a:ahLst/>
            <a:rect l="textAreaLeft" t="textAreaTop" r="textAreaRight" b="textAreaBottom"/>
            <a:pathLst>
              <a:path w="56817" h="21600">
                <a:moveTo>
                  <a:pt x="0" y="0"/>
                </a:moveTo>
                <a:lnTo>
                  <a:pt x="56817" y="0"/>
                </a:lnTo>
                <a:lnTo>
                  <a:pt x="56817" y="21600"/>
                </a:lnTo>
                <a:lnTo>
                  <a:pt x="0" y="21600"/>
                </a:lnTo>
                <a:close/>
              </a:path>
              <a:path fill="lightenLess" w="56817" h="21600">
                <a:moveTo>
                  <a:pt x="0" y="0"/>
                </a:moveTo>
                <a:lnTo>
                  <a:pt x="56817" y="0"/>
                </a:lnTo>
                <a:lnTo>
                  <a:pt x="55417" y="1400"/>
                </a:lnTo>
                <a:lnTo>
                  <a:pt x="1400" y="1400"/>
                </a:lnTo>
                <a:close/>
              </a:path>
              <a:path fill="darken" w="56817" h="21600">
                <a:moveTo>
                  <a:pt x="56817" y="0"/>
                </a:moveTo>
                <a:lnTo>
                  <a:pt x="56817" y="21600"/>
                </a:lnTo>
                <a:lnTo>
                  <a:pt x="55417" y="20200"/>
                </a:lnTo>
                <a:lnTo>
                  <a:pt x="55417" y="1400"/>
                </a:lnTo>
                <a:close/>
              </a:path>
              <a:path fill="darkenLess" w="56817" h="21600">
                <a:moveTo>
                  <a:pt x="56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417" y="20200"/>
                </a:lnTo>
                <a:close/>
              </a:path>
              <a:path fill="lighten" w="56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293257"/>
          <p:cNvPicPr/>
          <p:nvPr/>
        </p:nvPicPr>
        <p:blipFill>
          <a:blip r:embed="rId9"/>
          <a:stretch/>
        </p:blipFill>
        <p:spPr>
          <a:xfrm>
            <a:off x="0" y="-25560"/>
            <a:ext cx="9144000" cy="63072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14"/>
          <p:cNvSpPr txBox="1"/>
          <p:nvPr/>
        </p:nvSpPr>
        <p:spPr>
          <a:xfrm>
            <a:off x="2843280" y="1052640"/>
            <a:ext cx="403380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长相思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6" name="WordArt 15"/>
          <p:cNvSpPr txBox="1"/>
          <p:nvPr/>
        </p:nvSpPr>
        <p:spPr>
          <a:xfrm>
            <a:off x="5219640" y="33577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纳兰性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页脚占位符 1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>
            <a:hlinkClick r:id="" action="ppaction://hlinkshowjump?jump=nextslide"/>
          </p:cNvPr>
          <p:cNvSpPr/>
          <p:nvPr/>
        </p:nvSpPr>
        <p:spPr>
          <a:xfrm>
            <a:off x="8388360" y="6408720"/>
            <a:ext cx="431640" cy="40500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3020" h="21600">
                <a:moveTo>
                  <a:pt x="0" y="0"/>
                </a:moveTo>
                <a:lnTo>
                  <a:pt x="23020" y="0"/>
                </a:lnTo>
                <a:lnTo>
                  <a:pt x="23020" y="21600"/>
                </a:lnTo>
                <a:lnTo>
                  <a:pt x="0" y="21600"/>
                </a:lnTo>
                <a:close/>
              </a:path>
              <a:path fill="lightenLess" w="23020" h="21600">
                <a:moveTo>
                  <a:pt x="0" y="0"/>
                </a:moveTo>
                <a:lnTo>
                  <a:pt x="23020" y="0"/>
                </a:lnTo>
                <a:lnTo>
                  <a:pt x="21620" y="1400"/>
                </a:lnTo>
                <a:lnTo>
                  <a:pt x="1400" y="1400"/>
                </a:lnTo>
                <a:close/>
              </a:path>
              <a:path fill="darken" w="23020" h="21600">
                <a:moveTo>
                  <a:pt x="23020" y="0"/>
                </a:moveTo>
                <a:lnTo>
                  <a:pt x="23020" y="21600"/>
                </a:lnTo>
                <a:lnTo>
                  <a:pt x="21620" y="20200"/>
                </a:lnTo>
                <a:lnTo>
                  <a:pt x="21620" y="1400"/>
                </a:lnTo>
                <a:close/>
              </a:path>
              <a:path fill="darkenLess" w="23020" h="21600">
                <a:moveTo>
                  <a:pt x="23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20" y="20200"/>
                </a:lnTo>
                <a:close/>
              </a:path>
              <a:path fill="lighten" w="23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20" h="21600">
                <a:moveTo>
                  <a:pt x="4503" y="3794"/>
                </a:moveTo>
                <a:lnTo>
                  <a:pt x="18516" y="10800"/>
                </a:lnTo>
                <a:lnTo>
                  <a:pt x="45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468360" y="1268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主探索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a54013190542202835fa419b"/>
          <p:cNvPicPr/>
          <p:nvPr/>
        </p:nvPicPr>
        <p:blipFill>
          <a:blip r:embed="rId1"/>
          <a:stretch/>
        </p:blipFill>
        <p:spPr>
          <a:xfrm>
            <a:off x="0" y="-817560"/>
            <a:ext cx="9180360" cy="71247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1740240" y="4762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译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08000" y="3789360"/>
            <a:ext cx="899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入夜，又是刮风，又是下雪，将士们从睡梦中醒来，再也睡不着了，不禁思念起故乡来，因为故乡温暖、宁静，没有寒风朔雪之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>
            <a:hlinkClick r:id="" action="ppaction://hlinkshowjump?jump=nextslide"/>
          </p:cNvPr>
          <p:cNvSpPr/>
          <p:nvPr/>
        </p:nvSpPr>
        <p:spPr>
          <a:xfrm>
            <a:off x="8388360" y="6408720"/>
            <a:ext cx="431640" cy="40500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3020" h="21600">
                <a:moveTo>
                  <a:pt x="0" y="0"/>
                </a:moveTo>
                <a:lnTo>
                  <a:pt x="23020" y="0"/>
                </a:lnTo>
                <a:lnTo>
                  <a:pt x="23020" y="21600"/>
                </a:lnTo>
                <a:lnTo>
                  <a:pt x="0" y="21600"/>
                </a:lnTo>
                <a:close/>
              </a:path>
              <a:path fill="lightenLess" w="23020" h="21600">
                <a:moveTo>
                  <a:pt x="0" y="0"/>
                </a:moveTo>
                <a:lnTo>
                  <a:pt x="23020" y="0"/>
                </a:lnTo>
                <a:lnTo>
                  <a:pt x="21620" y="1400"/>
                </a:lnTo>
                <a:lnTo>
                  <a:pt x="1400" y="1400"/>
                </a:lnTo>
                <a:close/>
              </a:path>
              <a:path fill="darken" w="23020" h="21600">
                <a:moveTo>
                  <a:pt x="23020" y="0"/>
                </a:moveTo>
                <a:lnTo>
                  <a:pt x="23020" y="21600"/>
                </a:lnTo>
                <a:lnTo>
                  <a:pt x="21620" y="20200"/>
                </a:lnTo>
                <a:lnTo>
                  <a:pt x="21620" y="1400"/>
                </a:lnTo>
                <a:close/>
              </a:path>
              <a:path fill="darkenLess" w="23020" h="21600">
                <a:moveTo>
                  <a:pt x="23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20" y="20200"/>
                </a:lnTo>
                <a:close/>
              </a:path>
              <a:path fill="lighten" w="23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20" h="21600">
                <a:moveTo>
                  <a:pt x="4503" y="3794"/>
                </a:moveTo>
                <a:lnTo>
                  <a:pt x="18516" y="10800"/>
                </a:lnTo>
                <a:lnTo>
                  <a:pt x="45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468360" y="1268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主探索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2700360" y="1486080"/>
            <a:ext cx="352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山一程，水一程”说明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87393_6553_1150560004561"/>
          <p:cNvPicPr/>
          <p:nvPr/>
        </p:nvPicPr>
        <p:blipFill>
          <a:blip r:embed="rId1"/>
          <a:stretch/>
        </p:blipFill>
        <p:spPr>
          <a:xfrm>
            <a:off x="1440" y="0"/>
            <a:ext cx="9107640" cy="63324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2104200" y="476280"/>
            <a:ext cx="413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山一程，水一程”说明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609920" y="2924280"/>
            <a:ext cx="427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什么说“故园无此声”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899280" y="2997360"/>
            <a:ext cx="69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>
            <a:hlinkClick r:id="" action="ppaction://hlinkshowjump?jump=nextslide"/>
          </p:cNvPr>
          <p:cNvSpPr/>
          <p:nvPr/>
        </p:nvSpPr>
        <p:spPr>
          <a:xfrm>
            <a:off x="8388360" y="6408720"/>
            <a:ext cx="431640" cy="40500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3020" h="21600">
                <a:moveTo>
                  <a:pt x="0" y="0"/>
                </a:moveTo>
                <a:lnTo>
                  <a:pt x="23020" y="0"/>
                </a:lnTo>
                <a:lnTo>
                  <a:pt x="23020" y="21600"/>
                </a:lnTo>
                <a:lnTo>
                  <a:pt x="0" y="21600"/>
                </a:lnTo>
                <a:close/>
              </a:path>
              <a:path fill="lightenLess" w="23020" h="21600">
                <a:moveTo>
                  <a:pt x="0" y="0"/>
                </a:moveTo>
                <a:lnTo>
                  <a:pt x="23020" y="0"/>
                </a:lnTo>
                <a:lnTo>
                  <a:pt x="21620" y="1400"/>
                </a:lnTo>
                <a:lnTo>
                  <a:pt x="1400" y="1400"/>
                </a:lnTo>
                <a:close/>
              </a:path>
              <a:path fill="darken" w="23020" h="21600">
                <a:moveTo>
                  <a:pt x="23020" y="0"/>
                </a:moveTo>
                <a:lnTo>
                  <a:pt x="23020" y="21600"/>
                </a:lnTo>
                <a:lnTo>
                  <a:pt x="21620" y="20200"/>
                </a:lnTo>
                <a:lnTo>
                  <a:pt x="21620" y="1400"/>
                </a:lnTo>
                <a:close/>
              </a:path>
              <a:path fill="darkenLess" w="23020" h="21600">
                <a:moveTo>
                  <a:pt x="23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20" y="20200"/>
                </a:lnTo>
                <a:close/>
              </a:path>
              <a:path fill="lighten" w="23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20" h="21600">
                <a:moveTo>
                  <a:pt x="4503" y="3794"/>
                </a:moveTo>
                <a:lnTo>
                  <a:pt x="18516" y="10800"/>
                </a:lnTo>
                <a:lnTo>
                  <a:pt x="45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68360" y="1268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主探索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a54013190542202835fa419b"/>
          <p:cNvPicPr/>
          <p:nvPr/>
        </p:nvPicPr>
        <p:blipFill>
          <a:blip r:embed="rId1"/>
          <a:stretch/>
        </p:blipFill>
        <p:spPr>
          <a:xfrm>
            <a:off x="36360" y="-98280"/>
            <a:ext cx="9107640" cy="64036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181080" y="4294080"/>
            <a:ext cx="85485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诗人的“身”在哪里？“心”又在何方呢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2">
            <a:hlinkClick r:id="" action="ppaction://hlinkshowjump?jump=firstslide"/>
          </p:cNvPr>
          <p:cNvSpPr/>
          <p:nvPr/>
        </p:nvSpPr>
        <p:spPr>
          <a:xfrm>
            <a:off x="7954920" y="6408720"/>
            <a:ext cx="433440" cy="405000"/>
          </a:xfrm>
          <a:custGeom>
            <a:avLst/>
            <a:gdLst>
              <a:gd name="textAreaLeft" fmla="*/ 25920 w 433440"/>
              <a:gd name="textAreaRight" fmla="*/ 407520 w 4334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3115" h="21600">
                <a:moveTo>
                  <a:pt x="0" y="0"/>
                </a:moveTo>
                <a:lnTo>
                  <a:pt x="23115" y="0"/>
                </a:lnTo>
                <a:lnTo>
                  <a:pt x="23115" y="21600"/>
                </a:lnTo>
                <a:lnTo>
                  <a:pt x="0" y="21600"/>
                </a:lnTo>
                <a:close/>
              </a:path>
              <a:path fill="lightenLess" w="23115" h="21600">
                <a:moveTo>
                  <a:pt x="0" y="0"/>
                </a:moveTo>
                <a:lnTo>
                  <a:pt x="23115" y="0"/>
                </a:lnTo>
                <a:lnTo>
                  <a:pt x="21715" y="1400"/>
                </a:lnTo>
                <a:lnTo>
                  <a:pt x="1400" y="1400"/>
                </a:lnTo>
                <a:close/>
              </a:path>
              <a:path fill="darken" w="23115" h="21600">
                <a:moveTo>
                  <a:pt x="23115" y="0"/>
                </a:moveTo>
                <a:lnTo>
                  <a:pt x="23115" y="21600"/>
                </a:lnTo>
                <a:lnTo>
                  <a:pt x="21715" y="20200"/>
                </a:lnTo>
                <a:lnTo>
                  <a:pt x="21715" y="1400"/>
                </a:lnTo>
                <a:close/>
              </a:path>
              <a:path fill="darkenLess" w="23115" h="21600">
                <a:moveTo>
                  <a:pt x="23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5" y="20200"/>
                </a:lnTo>
                <a:close/>
              </a:path>
              <a:path fill="lighten" w="23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5" h="21600">
                <a:moveTo>
                  <a:pt x="8059" y="10800"/>
                </a:moveTo>
                <a:lnTo>
                  <a:pt x="18564" y="3794"/>
                </a:lnTo>
                <a:lnTo>
                  <a:pt x="18564" y="17806"/>
                </a:lnTo>
                <a:close/>
              </a:path>
              <a:path fill="darken" w="23115" h="21600">
                <a:moveTo>
                  <a:pt x="4551" y="3794"/>
                </a:moveTo>
                <a:lnTo>
                  <a:pt x="6214" y="3794"/>
                </a:lnTo>
                <a:lnTo>
                  <a:pt x="6214" y="17806"/>
                </a:lnTo>
                <a:lnTo>
                  <a:pt x="45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68360" y="126828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体会作者思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08000" y="2854440"/>
            <a:ext cx="87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这首词抒写军旅思乡之情。上片写奔赴山海关中途夜宿军帐时的苦闷，下片抒思乡之情。语言和谐明快，感情表达率直自然，风格缠绵哀惋，是纳兰性德的代表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2">
            <a:hlinkClick r:id="" action="ppaction://hlinkshowjump?jump=firstslide"/>
          </p:cNvPr>
          <p:cNvSpPr/>
          <p:nvPr/>
        </p:nvSpPr>
        <p:spPr>
          <a:xfrm>
            <a:off x="7954920" y="6408720"/>
            <a:ext cx="433440" cy="405000"/>
          </a:xfrm>
          <a:custGeom>
            <a:avLst/>
            <a:gdLst>
              <a:gd name="textAreaLeft" fmla="*/ 25920 w 433440"/>
              <a:gd name="textAreaRight" fmla="*/ 407520 w 4334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3115" h="21600">
                <a:moveTo>
                  <a:pt x="0" y="0"/>
                </a:moveTo>
                <a:lnTo>
                  <a:pt x="23115" y="0"/>
                </a:lnTo>
                <a:lnTo>
                  <a:pt x="23115" y="21600"/>
                </a:lnTo>
                <a:lnTo>
                  <a:pt x="0" y="21600"/>
                </a:lnTo>
                <a:close/>
              </a:path>
              <a:path fill="lightenLess" w="23115" h="21600">
                <a:moveTo>
                  <a:pt x="0" y="0"/>
                </a:moveTo>
                <a:lnTo>
                  <a:pt x="23115" y="0"/>
                </a:lnTo>
                <a:lnTo>
                  <a:pt x="21715" y="1400"/>
                </a:lnTo>
                <a:lnTo>
                  <a:pt x="1400" y="1400"/>
                </a:lnTo>
                <a:close/>
              </a:path>
              <a:path fill="darken" w="23115" h="21600">
                <a:moveTo>
                  <a:pt x="23115" y="0"/>
                </a:moveTo>
                <a:lnTo>
                  <a:pt x="23115" y="21600"/>
                </a:lnTo>
                <a:lnTo>
                  <a:pt x="21715" y="20200"/>
                </a:lnTo>
                <a:lnTo>
                  <a:pt x="21715" y="1400"/>
                </a:lnTo>
                <a:close/>
              </a:path>
              <a:path fill="darkenLess" w="23115" h="21600">
                <a:moveTo>
                  <a:pt x="23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5" y="20200"/>
                </a:lnTo>
                <a:close/>
              </a:path>
              <a:path fill="lighten" w="23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5" h="21600">
                <a:moveTo>
                  <a:pt x="8059" y="10800"/>
                </a:moveTo>
                <a:lnTo>
                  <a:pt x="18564" y="3794"/>
                </a:lnTo>
                <a:lnTo>
                  <a:pt x="18564" y="17806"/>
                </a:lnTo>
                <a:close/>
              </a:path>
              <a:path fill="darken" w="23115" h="21600">
                <a:moveTo>
                  <a:pt x="4551" y="3794"/>
                </a:moveTo>
                <a:lnTo>
                  <a:pt x="6214" y="3794"/>
                </a:lnTo>
                <a:lnTo>
                  <a:pt x="6214" y="17806"/>
                </a:lnTo>
                <a:lnTo>
                  <a:pt x="45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68360" y="1268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293257"/>
          <p:cNvPicPr/>
          <p:nvPr/>
        </p:nvPicPr>
        <p:blipFill>
          <a:blip r:embed="rId1"/>
          <a:stretch/>
        </p:blipFill>
        <p:spPr>
          <a:xfrm>
            <a:off x="1440" y="1773360"/>
            <a:ext cx="9036360" cy="4608360"/>
          </a:xfrm>
          <a:prstGeom prst="rect">
            <a:avLst/>
          </a:prstGeom>
          <a:ln w="0">
            <a:noFill/>
          </a:ln>
        </p:spPr>
      </p:pic>
      <p:sp>
        <p:nvSpPr>
          <p:cNvPr id="206" name="WordArt 3"/>
          <p:cNvSpPr txBox="1"/>
          <p:nvPr/>
        </p:nvSpPr>
        <p:spPr>
          <a:xfrm>
            <a:off x="4429080" y="2060640"/>
            <a:ext cx="300348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6000"/>
                    </a:srgbClr>
                  </a:outerShdw>
                </a:effectLst>
                <a:latin typeface="宋体"/>
              </a:rPr>
              <a:t>读后感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7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293257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09" name="WordArt 3"/>
          <p:cNvSpPr txBox="1"/>
          <p:nvPr/>
        </p:nvSpPr>
        <p:spPr>
          <a:xfrm>
            <a:off x="4788000" y="1989000"/>
            <a:ext cx="237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6000"/>
                    </a:srgbClr>
                  </a:outerShdw>
                </a:effectLst>
                <a:latin typeface="宋体"/>
              </a:rPr>
              <a:t>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>
            <a:hlinkClick r:id="" action="ppaction://hlinkshowjump?jump=firstslide"/>
          </p:cNvPr>
          <p:cNvSpPr/>
          <p:nvPr/>
        </p:nvSpPr>
        <p:spPr>
          <a:xfrm>
            <a:off x="7954920" y="6408720"/>
            <a:ext cx="433440" cy="405000"/>
          </a:xfrm>
          <a:custGeom>
            <a:avLst/>
            <a:gdLst>
              <a:gd name="textAreaLeft" fmla="*/ 25920 w 433440"/>
              <a:gd name="textAreaRight" fmla="*/ 407520 w 4334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3115" h="21600">
                <a:moveTo>
                  <a:pt x="0" y="0"/>
                </a:moveTo>
                <a:lnTo>
                  <a:pt x="23115" y="0"/>
                </a:lnTo>
                <a:lnTo>
                  <a:pt x="23115" y="21600"/>
                </a:lnTo>
                <a:lnTo>
                  <a:pt x="0" y="21600"/>
                </a:lnTo>
                <a:close/>
              </a:path>
              <a:path fill="lightenLess" w="23115" h="21600">
                <a:moveTo>
                  <a:pt x="0" y="0"/>
                </a:moveTo>
                <a:lnTo>
                  <a:pt x="23115" y="0"/>
                </a:lnTo>
                <a:lnTo>
                  <a:pt x="21715" y="1400"/>
                </a:lnTo>
                <a:lnTo>
                  <a:pt x="1400" y="1400"/>
                </a:lnTo>
                <a:close/>
              </a:path>
              <a:path fill="darken" w="23115" h="21600">
                <a:moveTo>
                  <a:pt x="23115" y="0"/>
                </a:moveTo>
                <a:lnTo>
                  <a:pt x="23115" y="21600"/>
                </a:lnTo>
                <a:lnTo>
                  <a:pt x="21715" y="20200"/>
                </a:lnTo>
                <a:lnTo>
                  <a:pt x="21715" y="1400"/>
                </a:lnTo>
                <a:close/>
              </a:path>
              <a:path fill="darkenLess" w="23115" h="21600">
                <a:moveTo>
                  <a:pt x="23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5" y="20200"/>
                </a:lnTo>
                <a:close/>
              </a:path>
              <a:path fill="lighten" w="23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5" h="21600">
                <a:moveTo>
                  <a:pt x="8059" y="10800"/>
                </a:moveTo>
                <a:lnTo>
                  <a:pt x="18564" y="3794"/>
                </a:lnTo>
                <a:lnTo>
                  <a:pt x="18564" y="17806"/>
                </a:lnTo>
                <a:close/>
              </a:path>
              <a:path fill="darken" w="23115" h="21600">
                <a:moveTo>
                  <a:pt x="4551" y="3794"/>
                </a:moveTo>
                <a:lnTo>
                  <a:pt x="6214" y="3794"/>
                </a:lnTo>
                <a:lnTo>
                  <a:pt x="6214" y="17806"/>
                </a:lnTo>
                <a:lnTo>
                  <a:pt x="45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68360" y="1268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612520" y="2492280"/>
            <a:ext cx="253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、认读词中的生字、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、利用工具书，理解词、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的意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、体会作者的思想之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>
            <a:hlinkClick r:id="" action="ppaction://hlinkshowjump?jump=nextslide"/>
          </p:cNvPr>
          <p:cNvSpPr/>
          <p:nvPr/>
        </p:nvSpPr>
        <p:spPr>
          <a:xfrm>
            <a:off x="8459640" y="6408720"/>
            <a:ext cx="433440" cy="405000"/>
          </a:xfrm>
          <a:custGeom>
            <a:avLst/>
            <a:gdLst>
              <a:gd name="textAreaLeft" fmla="*/ 25920 w 433440"/>
              <a:gd name="textAreaRight" fmla="*/ 407520 w 4334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3115" h="21600">
                <a:moveTo>
                  <a:pt x="0" y="0"/>
                </a:moveTo>
                <a:lnTo>
                  <a:pt x="23115" y="0"/>
                </a:lnTo>
                <a:lnTo>
                  <a:pt x="23115" y="21600"/>
                </a:lnTo>
                <a:lnTo>
                  <a:pt x="0" y="21600"/>
                </a:lnTo>
                <a:close/>
              </a:path>
              <a:path fill="lightenLess" w="23115" h="21600">
                <a:moveTo>
                  <a:pt x="0" y="0"/>
                </a:moveTo>
                <a:lnTo>
                  <a:pt x="23115" y="0"/>
                </a:lnTo>
                <a:lnTo>
                  <a:pt x="21715" y="1400"/>
                </a:lnTo>
                <a:lnTo>
                  <a:pt x="1400" y="1400"/>
                </a:lnTo>
                <a:close/>
              </a:path>
              <a:path fill="darken" w="23115" h="21600">
                <a:moveTo>
                  <a:pt x="23115" y="0"/>
                </a:moveTo>
                <a:lnTo>
                  <a:pt x="23115" y="21600"/>
                </a:lnTo>
                <a:lnTo>
                  <a:pt x="21715" y="20200"/>
                </a:lnTo>
                <a:lnTo>
                  <a:pt x="21715" y="1400"/>
                </a:lnTo>
                <a:close/>
              </a:path>
              <a:path fill="darkenLess" w="23115" h="21600">
                <a:moveTo>
                  <a:pt x="23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5" y="20200"/>
                </a:lnTo>
                <a:close/>
              </a:path>
              <a:path fill="lighten" w="23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5" h="21600">
                <a:moveTo>
                  <a:pt x="4551" y="3794"/>
                </a:moveTo>
                <a:lnTo>
                  <a:pt x="18564" y="10800"/>
                </a:lnTo>
                <a:lnTo>
                  <a:pt x="45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>
            <a:hlinkClick r:id="" action="ppaction://hlinkshowjump?jump=firstslide"/>
          </p:cNvPr>
          <p:cNvSpPr/>
          <p:nvPr/>
        </p:nvSpPr>
        <p:spPr>
          <a:xfrm>
            <a:off x="7667640" y="6408720"/>
            <a:ext cx="433440" cy="405000"/>
          </a:xfrm>
          <a:custGeom>
            <a:avLst/>
            <a:gdLst>
              <a:gd name="textAreaLeft" fmla="*/ 25920 w 433440"/>
              <a:gd name="textAreaRight" fmla="*/ 407520 w 4334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3115" h="21600">
                <a:moveTo>
                  <a:pt x="0" y="0"/>
                </a:moveTo>
                <a:lnTo>
                  <a:pt x="23115" y="0"/>
                </a:lnTo>
                <a:lnTo>
                  <a:pt x="23115" y="21600"/>
                </a:lnTo>
                <a:lnTo>
                  <a:pt x="0" y="21600"/>
                </a:lnTo>
                <a:close/>
              </a:path>
              <a:path fill="lightenLess" w="23115" h="21600">
                <a:moveTo>
                  <a:pt x="0" y="0"/>
                </a:moveTo>
                <a:lnTo>
                  <a:pt x="23115" y="0"/>
                </a:lnTo>
                <a:lnTo>
                  <a:pt x="21715" y="1400"/>
                </a:lnTo>
                <a:lnTo>
                  <a:pt x="1400" y="1400"/>
                </a:lnTo>
                <a:close/>
              </a:path>
              <a:path fill="darken" w="23115" h="21600">
                <a:moveTo>
                  <a:pt x="23115" y="0"/>
                </a:moveTo>
                <a:lnTo>
                  <a:pt x="23115" y="21600"/>
                </a:lnTo>
                <a:lnTo>
                  <a:pt x="21715" y="20200"/>
                </a:lnTo>
                <a:lnTo>
                  <a:pt x="21715" y="1400"/>
                </a:lnTo>
                <a:close/>
              </a:path>
              <a:path fill="darkenLess" w="23115" h="21600">
                <a:moveTo>
                  <a:pt x="23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5" y="20200"/>
                </a:lnTo>
                <a:close/>
              </a:path>
              <a:path fill="lighten" w="23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5" h="21600">
                <a:moveTo>
                  <a:pt x="8059" y="10800"/>
                </a:moveTo>
                <a:lnTo>
                  <a:pt x="18564" y="3794"/>
                </a:lnTo>
                <a:lnTo>
                  <a:pt x="18564" y="17806"/>
                </a:lnTo>
                <a:close/>
              </a:path>
              <a:path fill="darken" w="23115" h="21600">
                <a:moveTo>
                  <a:pt x="4551" y="3794"/>
                </a:moveTo>
                <a:lnTo>
                  <a:pt x="6214" y="3794"/>
                </a:lnTo>
                <a:lnTo>
                  <a:pt x="6214" y="17806"/>
                </a:lnTo>
                <a:lnTo>
                  <a:pt x="45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68360" y="1268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预习任务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187280" y="1341360"/>
            <a:ext cx="745344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体裁是什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诗还是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了解作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理解这些词语的意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榆关         那畔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更             聒碎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乡心         故园       此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理解词句的意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>
            <a:hlinkClick r:id="" action="ppaction://hlinkshowjump?jump=firstslide"/>
          </p:cNvPr>
          <p:cNvSpPr/>
          <p:nvPr/>
        </p:nvSpPr>
        <p:spPr>
          <a:xfrm>
            <a:off x="8388360" y="6408720"/>
            <a:ext cx="431640" cy="40500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3020" h="21600">
                <a:moveTo>
                  <a:pt x="0" y="0"/>
                </a:moveTo>
                <a:lnTo>
                  <a:pt x="23020" y="0"/>
                </a:lnTo>
                <a:lnTo>
                  <a:pt x="23020" y="21600"/>
                </a:lnTo>
                <a:lnTo>
                  <a:pt x="0" y="21600"/>
                </a:lnTo>
                <a:close/>
              </a:path>
              <a:path fill="lightenLess" w="23020" h="21600">
                <a:moveTo>
                  <a:pt x="0" y="0"/>
                </a:moveTo>
                <a:lnTo>
                  <a:pt x="23020" y="0"/>
                </a:lnTo>
                <a:lnTo>
                  <a:pt x="21620" y="1400"/>
                </a:lnTo>
                <a:lnTo>
                  <a:pt x="1400" y="1400"/>
                </a:lnTo>
                <a:close/>
              </a:path>
              <a:path fill="darken" w="23020" h="21600">
                <a:moveTo>
                  <a:pt x="23020" y="0"/>
                </a:moveTo>
                <a:lnTo>
                  <a:pt x="23020" y="21600"/>
                </a:lnTo>
                <a:lnTo>
                  <a:pt x="21620" y="20200"/>
                </a:lnTo>
                <a:lnTo>
                  <a:pt x="21620" y="1400"/>
                </a:lnTo>
                <a:close/>
              </a:path>
              <a:path fill="darkenLess" w="23020" h="21600">
                <a:moveTo>
                  <a:pt x="23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20" y="20200"/>
                </a:lnTo>
                <a:close/>
              </a:path>
              <a:path fill="lighten" w="23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20" h="21600">
                <a:moveTo>
                  <a:pt x="8011" y="10800"/>
                </a:moveTo>
                <a:lnTo>
                  <a:pt x="18516" y="3794"/>
                </a:lnTo>
                <a:lnTo>
                  <a:pt x="18516" y="17806"/>
                </a:lnTo>
                <a:close/>
              </a:path>
              <a:path fill="darken" w="23020" h="21600">
                <a:moveTo>
                  <a:pt x="4503" y="3794"/>
                </a:moveTo>
                <a:lnTo>
                  <a:pt x="6166" y="3794"/>
                </a:lnTo>
                <a:lnTo>
                  <a:pt x="6166" y="17806"/>
                </a:lnTo>
                <a:lnTo>
                  <a:pt x="45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68360" y="1268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预习任务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268360" y="2349360"/>
            <a:ext cx="622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 "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山一程，水一程”说明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“千帐灯”说明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为什么说“故园无此声”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这首词表达了作者什么思想感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">
            <a:hlinkClick r:id="" action="ppaction://hlinkshowjump?jump=firstslide"/>
          </p:cNvPr>
          <p:cNvSpPr/>
          <p:nvPr/>
        </p:nvSpPr>
        <p:spPr>
          <a:xfrm>
            <a:off x="7738920" y="6408720"/>
            <a:ext cx="433440" cy="405000"/>
          </a:xfrm>
          <a:custGeom>
            <a:avLst/>
            <a:gdLst>
              <a:gd name="textAreaLeft" fmla="*/ 25920 w 433440"/>
              <a:gd name="textAreaRight" fmla="*/ 407520 w 4334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3115" h="21600">
                <a:moveTo>
                  <a:pt x="0" y="0"/>
                </a:moveTo>
                <a:lnTo>
                  <a:pt x="23115" y="0"/>
                </a:lnTo>
                <a:lnTo>
                  <a:pt x="23115" y="21600"/>
                </a:lnTo>
                <a:lnTo>
                  <a:pt x="0" y="21600"/>
                </a:lnTo>
                <a:close/>
              </a:path>
              <a:path fill="lightenLess" w="23115" h="21600">
                <a:moveTo>
                  <a:pt x="0" y="0"/>
                </a:moveTo>
                <a:lnTo>
                  <a:pt x="23115" y="0"/>
                </a:lnTo>
                <a:lnTo>
                  <a:pt x="21715" y="1400"/>
                </a:lnTo>
                <a:lnTo>
                  <a:pt x="1400" y="1400"/>
                </a:lnTo>
                <a:close/>
              </a:path>
              <a:path fill="darken" w="23115" h="21600">
                <a:moveTo>
                  <a:pt x="23115" y="0"/>
                </a:moveTo>
                <a:lnTo>
                  <a:pt x="23115" y="21600"/>
                </a:lnTo>
                <a:lnTo>
                  <a:pt x="21715" y="20200"/>
                </a:lnTo>
                <a:lnTo>
                  <a:pt x="21715" y="1400"/>
                </a:lnTo>
                <a:close/>
              </a:path>
              <a:path fill="darkenLess" w="23115" h="21600">
                <a:moveTo>
                  <a:pt x="23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5" y="20200"/>
                </a:lnTo>
                <a:close/>
              </a:path>
              <a:path fill="lighten" w="23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5" h="21600">
                <a:moveTo>
                  <a:pt x="8059" y="10800"/>
                </a:moveTo>
                <a:lnTo>
                  <a:pt x="18564" y="3794"/>
                </a:lnTo>
                <a:lnTo>
                  <a:pt x="18564" y="17806"/>
                </a:lnTo>
                <a:close/>
              </a:path>
              <a:path fill="darken" w="23115" h="21600">
                <a:moveTo>
                  <a:pt x="4551" y="3794"/>
                </a:moveTo>
                <a:lnTo>
                  <a:pt x="6214" y="3794"/>
                </a:lnTo>
                <a:lnTo>
                  <a:pt x="6214" y="17806"/>
                </a:lnTo>
                <a:lnTo>
                  <a:pt x="45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468360" y="1268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6a22e8246d7121138744f916"/>
          <p:cNvPicPr/>
          <p:nvPr/>
        </p:nvPicPr>
        <p:blipFill>
          <a:blip r:embed="rId1"/>
          <a:stretch/>
        </p:blipFill>
        <p:spPr>
          <a:xfrm>
            <a:off x="-106200" y="-25560"/>
            <a:ext cx="4538520" cy="6885000"/>
          </a:xfrm>
          <a:prstGeom prst="rect">
            <a:avLst/>
          </a:prstGeom>
          <a:ln w="0">
            <a:noFill/>
          </a:ln>
        </p:spPr>
      </p:pic>
      <p:sp>
        <p:nvSpPr>
          <p:cNvPr id="154" name="WordArt 2"/>
          <p:cNvSpPr txBox="1"/>
          <p:nvPr/>
        </p:nvSpPr>
        <p:spPr>
          <a:xfrm>
            <a:off x="4788000" y="333360"/>
            <a:ext cx="194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作者简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00720" y="1701720"/>
            <a:ext cx="446544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纳兰性德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清代第一词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词集名为《纳兰词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他的词主要描写离别相思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2">
            <a:hlinkClick r:id="" action="ppaction://hlinkshowjump?jump=nextslide"/>
          </p:cNvPr>
          <p:cNvSpPr/>
          <p:nvPr/>
        </p:nvSpPr>
        <p:spPr>
          <a:xfrm>
            <a:off x="8459640" y="645336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>
            <a:hlinkClick r:id="" action="ppaction://hlinkshowjump?jump=firstslide"/>
          </p:cNvPr>
          <p:cNvSpPr/>
          <p:nvPr/>
        </p:nvSpPr>
        <p:spPr>
          <a:xfrm>
            <a:off x="7812000" y="6453360"/>
            <a:ext cx="432000" cy="33336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84" h="21600">
                <a:moveTo>
                  <a:pt x="0" y="0"/>
                </a:moveTo>
                <a:lnTo>
                  <a:pt x="27984" y="0"/>
                </a:lnTo>
                <a:lnTo>
                  <a:pt x="27984" y="21600"/>
                </a:lnTo>
                <a:lnTo>
                  <a:pt x="0" y="21600"/>
                </a:lnTo>
                <a:close/>
              </a:path>
              <a:path fill="lightenLess" w="27984" h="21600">
                <a:moveTo>
                  <a:pt x="0" y="0"/>
                </a:moveTo>
                <a:lnTo>
                  <a:pt x="27984" y="0"/>
                </a:lnTo>
                <a:lnTo>
                  <a:pt x="26584" y="1400"/>
                </a:lnTo>
                <a:lnTo>
                  <a:pt x="1400" y="1400"/>
                </a:lnTo>
                <a:close/>
              </a:path>
              <a:path fill="darken" w="27984" h="21600">
                <a:moveTo>
                  <a:pt x="27984" y="0"/>
                </a:moveTo>
                <a:lnTo>
                  <a:pt x="27984" y="21600"/>
                </a:lnTo>
                <a:lnTo>
                  <a:pt x="26584" y="20200"/>
                </a:lnTo>
                <a:lnTo>
                  <a:pt x="26584" y="1400"/>
                </a:lnTo>
                <a:close/>
              </a:path>
              <a:path fill="darkenLess" w="27984" h="21600">
                <a:moveTo>
                  <a:pt x="27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84" y="20200"/>
                </a:lnTo>
                <a:close/>
              </a:path>
              <a:path fill="lighten" w="27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84" h="21600">
                <a:moveTo>
                  <a:pt x="10493" y="10800"/>
                </a:moveTo>
                <a:lnTo>
                  <a:pt x="20999" y="3794"/>
                </a:lnTo>
                <a:lnTo>
                  <a:pt x="20999" y="17806"/>
                </a:lnTo>
                <a:close/>
              </a:path>
              <a:path fill="darken" w="27984" h="21600">
                <a:moveTo>
                  <a:pt x="6986" y="3794"/>
                </a:moveTo>
                <a:lnTo>
                  <a:pt x="8648" y="3794"/>
                </a:lnTo>
                <a:lnTo>
                  <a:pt x="8648" y="17806"/>
                </a:lnTo>
                <a:lnTo>
                  <a:pt x="69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68360" y="1268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预习检查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5"/>
          <p:cNvSpPr txBox="1"/>
          <p:nvPr/>
        </p:nvSpPr>
        <p:spPr>
          <a:xfrm>
            <a:off x="3276720" y="1052640"/>
            <a:ext cx="3240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长相思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61" name="WordArt 6"/>
          <p:cNvSpPr txBox="1"/>
          <p:nvPr/>
        </p:nvSpPr>
        <p:spPr>
          <a:xfrm>
            <a:off x="3997440" y="2133720"/>
            <a:ext cx="16542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纳兰性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557440" y="2637000"/>
            <a:ext cx="554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山一程，水一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身向榆关那畔行，夜深千帐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　　风一更，雪一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聒碎乡心梦不成，故园无此声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6516720" y="2565360"/>
            <a:ext cx="2448000" cy="863640"/>
          </a:xfrm>
          <a:prstGeom prst="wedgeRoundRectCallout">
            <a:avLst>
              <a:gd name="adj1" fmla="val -74643"/>
              <a:gd name="adj2" fmla="val -12536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词牌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"/>
                            </p:stCondLst>
                            <p:childTnLst>
                              <p:par>
                                <p:cTn id="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>
            <a:hlinkClick r:id="" action="ppaction://hlinkshowjump?jump=firstslide"/>
          </p:cNvPr>
          <p:cNvSpPr/>
          <p:nvPr/>
        </p:nvSpPr>
        <p:spPr>
          <a:xfrm>
            <a:off x="7810560" y="6408720"/>
            <a:ext cx="433440" cy="405000"/>
          </a:xfrm>
          <a:custGeom>
            <a:avLst/>
            <a:gdLst>
              <a:gd name="textAreaLeft" fmla="*/ 25920 w 433440"/>
              <a:gd name="textAreaRight" fmla="*/ 407520 w 4334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3115" h="21600">
                <a:moveTo>
                  <a:pt x="0" y="0"/>
                </a:moveTo>
                <a:lnTo>
                  <a:pt x="23115" y="0"/>
                </a:lnTo>
                <a:lnTo>
                  <a:pt x="23115" y="21600"/>
                </a:lnTo>
                <a:lnTo>
                  <a:pt x="0" y="21600"/>
                </a:lnTo>
                <a:close/>
              </a:path>
              <a:path fill="lightenLess" w="23115" h="21600">
                <a:moveTo>
                  <a:pt x="0" y="0"/>
                </a:moveTo>
                <a:lnTo>
                  <a:pt x="23115" y="0"/>
                </a:lnTo>
                <a:lnTo>
                  <a:pt x="21715" y="1400"/>
                </a:lnTo>
                <a:lnTo>
                  <a:pt x="1400" y="1400"/>
                </a:lnTo>
                <a:close/>
              </a:path>
              <a:path fill="darken" w="23115" h="21600">
                <a:moveTo>
                  <a:pt x="23115" y="0"/>
                </a:moveTo>
                <a:lnTo>
                  <a:pt x="23115" y="21600"/>
                </a:lnTo>
                <a:lnTo>
                  <a:pt x="21715" y="20200"/>
                </a:lnTo>
                <a:lnTo>
                  <a:pt x="21715" y="1400"/>
                </a:lnTo>
                <a:close/>
              </a:path>
              <a:path fill="darkenLess" w="23115" h="21600">
                <a:moveTo>
                  <a:pt x="23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5" y="20200"/>
                </a:lnTo>
                <a:close/>
              </a:path>
              <a:path fill="lighten" w="23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5" h="21600">
                <a:moveTo>
                  <a:pt x="8059" y="10800"/>
                </a:moveTo>
                <a:lnTo>
                  <a:pt x="18564" y="3794"/>
                </a:lnTo>
                <a:lnTo>
                  <a:pt x="18564" y="17806"/>
                </a:lnTo>
                <a:close/>
              </a:path>
              <a:path fill="darken" w="23115" h="21600">
                <a:moveTo>
                  <a:pt x="4551" y="3794"/>
                </a:moveTo>
                <a:lnTo>
                  <a:pt x="6214" y="3794"/>
                </a:lnTo>
                <a:lnTo>
                  <a:pt x="6214" y="17806"/>
                </a:lnTo>
                <a:lnTo>
                  <a:pt x="45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468360" y="1268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预习检查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2700360" y="1600200"/>
            <a:ext cx="4680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榆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关 ：   山海关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那畔 ： 那边，此处指关外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更：    旧时一夜分成五更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聒碎：声音嘈杂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乡心：指思乡之心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故园 ：故乡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此声：指风雪交加的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>
            <a:hlinkClick r:id="" action="ppaction://hlinkshowjump?jump=firstslide"/>
          </p:cNvPr>
          <p:cNvSpPr/>
          <p:nvPr/>
        </p:nvSpPr>
        <p:spPr>
          <a:xfrm>
            <a:off x="7810560" y="6408720"/>
            <a:ext cx="433440" cy="405000"/>
          </a:xfrm>
          <a:custGeom>
            <a:avLst/>
            <a:gdLst>
              <a:gd name="textAreaLeft" fmla="*/ 25920 w 433440"/>
              <a:gd name="textAreaRight" fmla="*/ 407520 w 4334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3115" h="21600">
                <a:moveTo>
                  <a:pt x="0" y="0"/>
                </a:moveTo>
                <a:lnTo>
                  <a:pt x="23115" y="0"/>
                </a:lnTo>
                <a:lnTo>
                  <a:pt x="23115" y="21600"/>
                </a:lnTo>
                <a:lnTo>
                  <a:pt x="0" y="21600"/>
                </a:lnTo>
                <a:close/>
              </a:path>
              <a:path fill="lightenLess" w="23115" h="21600">
                <a:moveTo>
                  <a:pt x="0" y="0"/>
                </a:moveTo>
                <a:lnTo>
                  <a:pt x="23115" y="0"/>
                </a:lnTo>
                <a:lnTo>
                  <a:pt x="21715" y="1400"/>
                </a:lnTo>
                <a:lnTo>
                  <a:pt x="1400" y="1400"/>
                </a:lnTo>
                <a:close/>
              </a:path>
              <a:path fill="darken" w="23115" h="21600">
                <a:moveTo>
                  <a:pt x="23115" y="0"/>
                </a:moveTo>
                <a:lnTo>
                  <a:pt x="23115" y="21600"/>
                </a:lnTo>
                <a:lnTo>
                  <a:pt x="21715" y="20200"/>
                </a:lnTo>
                <a:lnTo>
                  <a:pt x="21715" y="1400"/>
                </a:lnTo>
                <a:close/>
              </a:path>
              <a:path fill="darkenLess" w="23115" h="21600">
                <a:moveTo>
                  <a:pt x="23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5" y="20200"/>
                </a:lnTo>
                <a:close/>
              </a:path>
              <a:path fill="lighten" w="23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5" h="21600">
                <a:moveTo>
                  <a:pt x="8059" y="10800"/>
                </a:moveTo>
                <a:lnTo>
                  <a:pt x="18564" y="3794"/>
                </a:lnTo>
                <a:lnTo>
                  <a:pt x="18564" y="17806"/>
                </a:lnTo>
                <a:close/>
              </a:path>
              <a:path fill="darken" w="23115" h="21600">
                <a:moveTo>
                  <a:pt x="4551" y="3794"/>
                </a:moveTo>
                <a:lnTo>
                  <a:pt x="6214" y="3794"/>
                </a:lnTo>
                <a:lnTo>
                  <a:pt x="6214" y="17806"/>
                </a:lnTo>
                <a:lnTo>
                  <a:pt x="45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468360" y="1268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配乐聆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87393_6553_1150560004561"/>
          <p:cNvPicPr/>
          <p:nvPr/>
        </p:nvPicPr>
        <p:blipFill>
          <a:blip r:embed="rId1"/>
          <a:stretch/>
        </p:blipFill>
        <p:spPr>
          <a:xfrm>
            <a:off x="-34920" y="-674640"/>
            <a:ext cx="9217080" cy="70531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36360" y="117360"/>
            <a:ext cx="7993080" cy="44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长相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清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纳兰性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山一程，水一程，身向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\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榆关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\\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那畔行，夜深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\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千帐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风一更，雪一更，聒碎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\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乡心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\\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梦不成，故园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\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无此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>
            <a:hlinkClick r:id="" action="ppaction://hlinkshowjump?jump=nextslide"/>
          </p:cNvPr>
          <p:cNvSpPr/>
          <p:nvPr/>
        </p:nvSpPr>
        <p:spPr>
          <a:xfrm>
            <a:off x="8388360" y="6408720"/>
            <a:ext cx="431640" cy="40500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3020" h="21600">
                <a:moveTo>
                  <a:pt x="0" y="0"/>
                </a:moveTo>
                <a:lnTo>
                  <a:pt x="23020" y="0"/>
                </a:lnTo>
                <a:lnTo>
                  <a:pt x="23020" y="21600"/>
                </a:lnTo>
                <a:lnTo>
                  <a:pt x="0" y="21600"/>
                </a:lnTo>
                <a:close/>
              </a:path>
              <a:path fill="lightenLess" w="23020" h="21600">
                <a:moveTo>
                  <a:pt x="0" y="0"/>
                </a:moveTo>
                <a:lnTo>
                  <a:pt x="23020" y="0"/>
                </a:lnTo>
                <a:lnTo>
                  <a:pt x="21620" y="1400"/>
                </a:lnTo>
                <a:lnTo>
                  <a:pt x="1400" y="1400"/>
                </a:lnTo>
                <a:close/>
              </a:path>
              <a:path fill="darken" w="23020" h="21600">
                <a:moveTo>
                  <a:pt x="23020" y="0"/>
                </a:moveTo>
                <a:lnTo>
                  <a:pt x="23020" y="21600"/>
                </a:lnTo>
                <a:lnTo>
                  <a:pt x="21620" y="20200"/>
                </a:lnTo>
                <a:lnTo>
                  <a:pt x="21620" y="1400"/>
                </a:lnTo>
                <a:close/>
              </a:path>
              <a:path fill="darkenLess" w="23020" h="21600">
                <a:moveTo>
                  <a:pt x="23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20" y="20200"/>
                </a:lnTo>
                <a:close/>
              </a:path>
              <a:path fill="lighten" w="23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20" h="21600">
                <a:moveTo>
                  <a:pt x="4503" y="3794"/>
                </a:moveTo>
                <a:lnTo>
                  <a:pt x="18516" y="10800"/>
                </a:lnTo>
                <a:lnTo>
                  <a:pt x="45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68360" y="1268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主探索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a54013190542202835fa419b"/>
          <p:cNvPicPr/>
          <p:nvPr/>
        </p:nvPicPr>
        <p:blipFill>
          <a:blip r:embed="rId1"/>
          <a:stretch/>
        </p:blipFill>
        <p:spPr>
          <a:xfrm>
            <a:off x="-34920" y="-23760"/>
            <a:ext cx="9142560" cy="64054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1308600" y="1197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译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79280" y="4653000"/>
            <a:ext cx="841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将士们跋山涉水，向山海关那边进发，夜里，将士住宿的千余座帐篷里都点起了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2:03:00Z</dcterms:created>
  <dc:creator>微软用户</dc:creator>
  <dc:description/>
  <cp:keywords/>
  <dc:language>en-US</dc:language>
  <cp:lastModifiedBy>Administrator</cp:lastModifiedBy>
  <dcterms:modified xsi:type="dcterms:W3CDTF">2014-10-20T14:16:13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</Properties>
</file>