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493-16D6-48D1-95E0-C6A5944E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E00-4FAF-4144-9BF7-E62AE2E8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A50-CCA5-4EAE-9FD3-C521E6D5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BE0-ECA9-4355-9DCB-F1502912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378B-1451-477F-BB9B-0455D96C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C4EC-DFB7-4EB4-94E1-102A21F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925-F81D-4CF4-A9C2-671866D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B10-F4CE-48FF-9C3F-9B733D36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756B-B55E-405B-A17F-4FA7D96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279E-C90C-493E-9917-D8C0FA57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0006-66F4-4536-B5AD-5227180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5B-E542-4708-9A1A-6E73A54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CE57-0D15-4517-BF88-80A29B4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BE1C-9596-49D8-9B33-FEE4466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CAC-46AE-4A5C-87D8-FFFBEE49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01A9-36D6-4B91-96C3-D981CD0A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11C-EBB0-4D7C-BBEC-423B3A88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BBF-898A-443E-A35C-E671D985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C55-E549-40A7-9BC3-D31903D5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46F-ADD0-45E4-ADFB-0AF57A6C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41C-D70E-4BA9-B1A5-E0C9940A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AD9-5B4B-42A7-94B1-E7C3C1F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920-50F8-44CA-BF5B-38B703E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FFE-7DA3-46A7-8865-9DBA0D2E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B05-381F-40A7-A2AA-71DD7FBB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Times New Roman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4A8-BECA-47D3-8A24-DED39E7837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ffcc"/>
                </a:solidFill>
                <a:latin typeface="Arial"/>
              </a:rPr>
              <a:t>长    相    思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夜 深 千 帐 灯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风一更，雪一更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4" descr="r_DSCF0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聒碎乡心梦不成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故园无此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00491819235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09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4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275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3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TgZ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4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xin_3506012108457651398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3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3_112-3-48-595_2003071813237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714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000" spc="-1" strike="noStrike">
              <a:solidFill>
                <a:srgbClr val="aa845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476360" y="177336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一、教 学 目 标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1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了解作者的身世经历及生活时代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2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掌握词的内容，体会词的意境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3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领会词中作者流露的思想感情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jiang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19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Img223052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24000" y="5516640"/>
            <a:ext cx="3614760" cy="91692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夜深千帐灯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305920" y="4572000"/>
            <a:ext cx="83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ec85e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五、预习指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作者在词中描绘了什么样的景物，你能确定是哪里的景物吗？</a:t>
            </a: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体会出这词中蕴含的思想感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83552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六、感知理解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纳兰性德推崇南唐李煜，词风清丽自然， 缠绵悱恻， 反映到这首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《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长相思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》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上，虽然 写旅途思乡，也写得悠长动情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   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 词的上片从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山一程，水一程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的叠用，来说明身离故乡之远。下片以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风一更，雪一更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气候上的转变来渲染作者此时孤寂情怀。风雪打断了他思乡之梦，懊丧之余，他更加怀念故园的宁静详和，作者于清丽哀婉之中又不乏边寨之雄奇风情的描述，这两者结合到一起，就升华了羁旅怀乡的主题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七、赏析加点字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赏析：上下片的前两句均用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，不但对仗工整，使文字呈连续不绝之势，词风更加缠绵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身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赏析：点明身处之地及方向，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身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与心相对，身向榆关，而心却在关内，表明作者心系故园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八、知识归纳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长相思，词牌名。内容多写男女或朋友久别思念之情，故名。双调三十六字，平韵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九、拓展练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   </a:t>
            </a: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长相思</a:t>
            </a:r>
            <a:br>
              <a:rPr sz="2000"/>
            </a:b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李白</a:t>
            </a:r>
            <a:br>
              <a:rPr sz="2000"/>
            </a:br>
            <a:r>
              <a:rPr b="0" lang="zh-CN" sz="2000" spc="-1" strike="noStrike">
                <a:solidFill>
                  <a:srgbClr val="eaeaea"/>
                </a:solidFill>
                <a:latin typeface="Verdana"/>
              </a:rPr>
              <a:t>　　</a:t>
            </a: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长相思，在长安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络纬秋啼金井阑， 微霜凄凄簟色寒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孤灯不明思欲绝， 卷帷望月空长叹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美人如花隔云端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上有青冥之高天， 下有渌水之波澜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天长路远魂飞苦， 梦魂不到关山难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华文楷体"/>
                <a:ea typeface="华文楷体"/>
              </a:rPr>
              <a:t>长相思，摧心肝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Verdana"/>
                <a:ea typeface="隶书"/>
              </a:rPr>
              <a:t>李白此诗表达了怎样的思想感情？感情基调与纳兰词有何不同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aeaea"/>
                </a:solidFill>
                <a:latin typeface="Arial"/>
              </a:rPr>
              <a:t>二、导 入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eaeaea"/>
                </a:solidFill>
                <a:latin typeface="Verdana"/>
              </a:rPr>
              <a:t>王国维曰：明月照积雪、大江流日夜、澄江静如练、山气日夕佳、落日大旗中、中天悬明月、大漠孤烟直、长河落日圆，此等境界可谓千古奇观。求之于词，则纳兰容若塞上之作，如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《</a:t>
            </a:r>
            <a:r>
              <a:rPr b="0" i="1" lang="zh-CN" sz="3200" spc="-1" strike="noStrike">
                <a:solidFill>
                  <a:srgbClr val="eaeaea"/>
                </a:solidFill>
                <a:latin typeface="Verdana"/>
              </a:rPr>
              <a:t>长相思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》“</a:t>
            </a:r>
            <a:r>
              <a:rPr b="0" i="1" lang="zh-CN" sz="3200" spc="-1" strike="noStrike">
                <a:solidFill>
                  <a:srgbClr val="eaeaea"/>
                </a:solidFill>
                <a:latin typeface="Verdana"/>
              </a:rPr>
              <a:t>夜深千帐灯”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……</a:t>
            </a:r>
            <a:r>
              <a:rPr b="0" i="1" lang="zh-CN" sz="3200" spc="-1" strike="noStrike">
                <a:solidFill>
                  <a:srgbClr val="eaeaea"/>
                </a:solidFill>
                <a:latin typeface="Verdana"/>
              </a:rPr>
              <a:t>差近之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sz607-a"/>
          <p:cNvPicPr/>
          <p:nvPr/>
        </p:nvPicPr>
        <p:blipFill>
          <a:blip r:embed="rId2"/>
          <a:stretch/>
        </p:blipFill>
        <p:spPr>
          <a:xfrm>
            <a:off x="228600" y="1600200"/>
            <a:ext cx="335268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1523880" y="30492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e855b"/>
                </a:solidFill>
                <a:latin typeface="Times New Roman"/>
                <a:ea typeface="华文行楷"/>
              </a:rPr>
              <a:t>作者介绍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733920" y="1676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纳兰性德：本名成德，避太子讳改性德。字容若，满洲正黄旗人。</a:t>
            </a:r>
            <a:r>
              <a:rPr b="0" lang="en-US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岁中进士，官至一等侍卫。生平避谈世事，故词也主要写离别相思及怨夏悲秋等个人生活感受。词的风格直抒胸怀，婉约清新；但过多哀思，情调消沉。被人称为</a:t>
            </a:r>
            <a:r>
              <a:rPr b="0" lang="zh-CN" sz="3200" spc="-1" strike="noStrike">
                <a:solidFill>
                  <a:srgbClr val="5e855b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清代第一词人</a:t>
            </a:r>
            <a:r>
              <a:rPr b="0" lang="zh-CN" sz="3200" spc="-1" strike="noStrike">
                <a:solidFill>
                  <a:srgbClr val="5e855b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305920" y="4572000"/>
            <a:ext cx="83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ec85e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539640" y="765000"/>
            <a:ext cx="7272360" cy="322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朗读及讲解欣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1" name="长相思.mp3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549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长     相     思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纳兰性德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山一程，水一程，身向榆关那畔行，夜深千帐灯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风一更，雪一更，聒碎乡心梦不成，故园无此声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山    一    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18"/>
          <p:cNvPicPr/>
          <p:nvPr/>
        </p:nvPicPr>
        <p:blipFill>
          <a:blip r:embed="rId1"/>
          <a:stretch/>
        </p:blipFill>
        <p:spPr>
          <a:xfrm>
            <a:off x="-541440" y="0"/>
            <a:ext cx="104425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03 曲目 3.WAV" descr=""/>
          <p:cNvPicPr/>
          <p:nvPr/>
        </p:nvPicPr>
        <p:blipFill>
          <a:blip r:embed="rId2"/>
          <a:stretch/>
        </p:blipFill>
        <p:spPr>
          <a:xfrm>
            <a:off x="914400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水 一 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身 向 榆 关 那 畔 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5:30:37Z</dcterms:created>
  <dc:creator>语文教育网 www.yuwen.com.cn</dc:creator>
  <dc:description/>
  <dc:language>en-US</dc:language>
  <cp:lastModifiedBy>Administrator</cp:lastModifiedBy>
  <dcterms:modified xsi:type="dcterms:W3CDTF">2014-10-20T14:15:58Z</dcterms:modified>
  <cp:revision>19</cp:revision>
  <dc:subject/>
  <dc:title>《长相思》.ppt</dc:title>
</cp:coreProperties>
</file>