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FE5E-F464-43A5-A257-22ADCFEA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5831-DEBF-40E6-9AD6-01032117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851B-B9D6-4E96-91E2-A4673020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185-8AAC-40D7-8B70-5B2738FC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136A-DB8F-4B44-B04A-FB5F1C7B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1C25-783A-4498-A964-14FE558F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508E-7B7F-41BD-89CA-B2DEFDEC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0D71-E2E1-48FF-B52C-768C76A3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F5F9-C6EE-4477-9B12-BB0E14D9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7866-274D-403C-93A4-33D310CC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5C8E-AE27-434A-AA50-8189D030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8FF8-37A6-416B-B0E5-C866CAF3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B178-CA88-447C-B6A1-887E5171F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6314400" y="1066680"/>
            <a:ext cx="21913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808"/>
                </a:solidFill>
                <a:latin typeface="Arial"/>
                <a:ea typeface="华文行楷"/>
              </a:rPr>
              <a:t>长相思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5414760" y="1322280"/>
            <a:ext cx="729000" cy="44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仿宋_GB2312"/>
              </a:rPr>
              <a:t>山一程  ， 水一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4881240" y="909360"/>
            <a:ext cx="72900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仿宋_GB2312"/>
              </a:rPr>
              <a:t>身向榆关那畔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4347720" y="2566440"/>
            <a:ext cx="729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仿宋_GB2312"/>
              </a:rPr>
              <a:t>夜深千帐灯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281040" y="1600200"/>
            <a:ext cx="729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仿宋_GB2312"/>
              </a:rPr>
              <a:t>风一更，雪一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747520" y="835560"/>
            <a:ext cx="729000" cy="53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仿宋_GB2312"/>
              </a:rPr>
              <a:t>聒碎乡心梦不成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138040" y="2951640"/>
            <a:ext cx="7290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仿宋_GB2312"/>
              </a:rPr>
              <a:t>故园无此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6481080" y="1440360"/>
            <a:ext cx="78984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808"/>
                </a:solidFill>
                <a:latin typeface="Arial"/>
              </a:rPr>
              <a:t> ———</a:t>
            </a:r>
            <a:r>
              <a:rPr b="0" lang="zh-CN" sz="4000" spc="-1" strike="noStrike">
                <a:solidFill>
                  <a:srgbClr val="000808"/>
                </a:solidFill>
                <a:latin typeface="Arial"/>
              </a:rPr>
              <a:t>纳兰性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114800" y="0"/>
            <a:ext cx="5029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入夜，又是刮风，又是下雪，将士们从睡梦中醒来，再也睡不着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故乡温暖、宁静，是没有寒风朔雪之声的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图片2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35120" y="985680"/>
            <a:ext cx="66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2133720" y="457200"/>
            <a:ext cx="62848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长  相  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隶书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汴水流，泗水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流到瓜洲古渡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吴山点点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思悠悠，恨悠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恨到归时方始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月明人倚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808"/>
                </a:solidFill>
                <a:latin typeface="Arial"/>
                <a:ea typeface="宋体"/>
              </a:rPr>
              <a:t>词人用镜头的方式向我们展现种种景物并蕴含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Arial"/>
                <a:ea typeface="宋体"/>
              </a:rPr>
              <a:t>层层感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Arial"/>
                <a:ea typeface="宋体"/>
              </a:rPr>
              <a:t>                                      </a:t>
            </a:r>
            <a:r>
              <a:rPr b="1" lang="en-US" sz="2800" spc="-1" strike="noStrike">
                <a:solidFill>
                  <a:srgbClr val="000808"/>
                </a:solidFill>
                <a:latin typeface="Arial"/>
                <a:ea typeface="宋体"/>
              </a:rPr>
              <a:t>——     </a:t>
            </a:r>
            <a:r>
              <a:rPr b="1" lang="zh-CN" sz="2800" spc="-1" strike="noStrike">
                <a:solidFill>
                  <a:srgbClr val="000808"/>
                </a:solidFill>
                <a:latin typeface="Arial"/>
                <a:ea typeface="宋体"/>
              </a:rPr>
              <a:t>不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Arial"/>
                <a:ea typeface="宋体"/>
              </a:rPr>
              <a:t>                                     </a:t>
            </a:r>
            <a:r>
              <a:rPr b="1" lang="en-US" sz="2800" spc="-1" strike="noStrike">
                <a:solidFill>
                  <a:srgbClr val="000808"/>
                </a:solidFill>
                <a:latin typeface="Arial"/>
                <a:ea typeface="宋体"/>
              </a:rPr>
              <a:t>——      </a:t>
            </a:r>
            <a:r>
              <a:rPr b="1" lang="zh-CN" sz="2800" spc="-1" strike="noStrike">
                <a:solidFill>
                  <a:srgbClr val="000808"/>
                </a:solidFill>
                <a:latin typeface="Arial"/>
                <a:ea typeface="宋体"/>
              </a:rPr>
              <a:t>孤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Arial"/>
                <a:ea typeface="宋体"/>
              </a:rPr>
              <a:t>                                     </a:t>
            </a:r>
            <a:r>
              <a:rPr b="1" lang="en-US" sz="2800" spc="-1" strike="noStrike">
                <a:solidFill>
                  <a:srgbClr val="000808"/>
                </a:solidFill>
                <a:latin typeface="Arial"/>
                <a:ea typeface="宋体"/>
              </a:rPr>
              <a:t>——       </a:t>
            </a:r>
            <a:r>
              <a:rPr b="1" lang="zh-CN" sz="2800" spc="-1" strike="noStrike">
                <a:solidFill>
                  <a:srgbClr val="000808"/>
                </a:solidFill>
                <a:latin typeface="Arial"/>
                <a:ea typeface="宋体"/>
              </a:rPr>
              <a:t>失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Arial"/>
                <a:ea typeface="宋体"/>
              </a:rPr>
              <a:t>                                     </a:t>
            </a:r>
            <a:r>
              <a:rPr b="1" lang="en-US" sz="2800" spc="-1" strike="noStrike">
                <a:solidFill>
                  <a:srgbClr val="000808"/>
                </a:solidFill>
                <a:latin typeface="Arial"/>
                <a:ea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思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"/>
          <p:cNvSpPr/>
          <p:nvPr/>
        </p:nvSpPr>
        <p:spPr>
          <a:xfrm>
            <a:off x="563868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563868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5638680" y="5105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088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33520" y="1523880"/>
            <a:ext cx="2819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山水、榆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千帐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风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故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10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762120" y="990720"/>
            <a:ext cx="769608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古诗词的方法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解诗题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知诗人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  明诗义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        悟诗情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2007825208526442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609480" y="1600200"/>
            <a:ext cx="799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长相思，词牌名。内容多写男女或朋友久别思念之情，故名。双调三十六字，平韵。 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633920" y="1052640"/>
            <a:ext cx="404172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兰性德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65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85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清代满族词人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原名成德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容若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楞伽山人。其先祖原为蒙古吐默特氏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攻占纳兰部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地为氏，改姓纳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纳兰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初为清太祖努尔哈赤降伏，后属满洲正黄旗。其父明珠为清康熙时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学士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纳兰性德自幼勤于修文习武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中举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赐进士出身。选授三等侍卫，后晋为一等，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扈从于康熙身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康熙非常赏识他的才干，曾委派他到黑龙江呼伦，查勘沙俄侵扰情况，并安抚达斡尔边民。辑有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唐诗选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词韵正略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擅书法，精于书画鉴赏。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3"/>
          <p:cNvSpPr txBox="1"/>
          <p:nvPr/>
        </p:nvSpPr>
        <p:spPr>
          <a:xfrm>
            <a:off x="4643280" y="260280"/>
            <a:ext cx="194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作者简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0" name="长相思.mp3" descr=""/>
          <p:cNvPicPr/>
          <p:nvPr/>
        </p:nvPicPr>
        <p:blipFill>
          <a:blip r:embed="rId1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sp10"/>
          <p:cNvPicPr/>
          <p:nvPr/>
        </p:nvPicPr>
        <p:blipFill>
          <a:blip r:embed="rId2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2007825208526442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304920" y="243828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纳兰性德推崇南唐李煜，词风清丽自然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缠绵悱恻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 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反映到这首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长相思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上，虽然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 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写旅途思乡，也写得悠长动情。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 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7242480" y="1295280"/>
            <a:ext cx="12776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长相思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5642640" y="855360"/>
            <a:ext cx="78984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一程  水一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509280" y="457200"/>
            <a:ext cx="1399320" cy="68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身向榆关那畔行 夜深千帐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594880" y="823680"/>
            <a:ext cx="789840" cy="21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一更  雪一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070640" y="-677160"/>
            <a:ext cx="789840" cy="87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聒碎乡心梦不成 故园无此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8537040" y="254124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词牌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6327000" y="1084680"/>
            <a:ext cx="911880" cy="41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一路走过的风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既感慨又峰回路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"/>
          <p:cNvSpPr/>
          <p:nvPr/>
        </p:nvSpPr>
        <p:spPr>
          <a:xfrm>
            <a:off x="64008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>
            <a:off x="4800600" y="2590920"/>
            <a:ext cx="0" cy="1295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803840" y="1566360"/>
            <a:ext cx="546120" cy="33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俗语   如那厮  那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2"/>
          <p:cNvSpPr/>
          <p:nvPr/>
        </p:nvSpPr>
        <p:spPr>
          <a:xfrm>
            <a:off x="5334120" y="38098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5715000" y="411480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动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4"/>
          <p:cNvSpPr/>
          <p:nvPr/>
        </p:nvSpPr>
        <p:spPr>
          <a:xfrm>
            <a:off x="4191120" y="5410080"/>
            <a:ext cx="0" cy="12193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3508200" y="4088520"/>
            <a:ext cx="546120" cy="29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皇帝远征的浩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6"/>
          <p:cNvSpPr/>
          <p:nvPr/>
        </p:nvSpPr>
        <p:spPr>
          <a:xfrm>
            <a:off x="4191120" y="1676520"/>
            <a:ext cx="0" cy="761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3736800" y="134892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山海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8"/>
          <p:cNvSpPr/>
          <p:nvPr/>
        </p:nvSpPr>
        <p:spPr>
          <a:xfrm>
            <a:off x="3352680" y="0"/>
            <a:ext cx="2286000" cy="609480"/>
          </a:xfrm>
          <a:prstGeom prst="rightArrow">
            <a:avLst>
              <a:gd name="adj1" fmla="val 50000"/>
              <a:gd name="adj2" fmla="val 937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1831320" y="1125720"/>
            <a:ext cx="911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风雪之夜      思乡之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感慨万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0"/>
          <p:cNvSpPr/>
          <p:nvPr/>
        </p:nvSpPr>
        <p:spPr>
          <a:xfrm>
            <a:off x="1143000" y="1523880"/>
            <a:ext cx="0" cy="7621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1"/>
          <p:cNvSpPr/>
          <p:nvPr/>
        </p:nvSpPr>
        <p:spPr>
          <a:xfrm>
            <a:off x="1143000" y="4419720"/>
            <a:ext cx="0" cy="22096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1800" y="4222800"/>
            <a:ext cx="127764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家庭的温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衬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异地他乡的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3"/>
          <p:cNvSpPr/>
          <p:nvPr/>
        </p:nvSpPr>
        <p:spPr>
          <a:xfrm>
            <a:off x="152280" y="3276720"/>
            <a:ext cx="4572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页脚占位符 2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890100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4"/>
          <p:cNvSpPr/>
          <p:nvPr/>
        </p:nvSpPr>
        <p:spPr>
          <a:xfrm>
            <a:off x="7924680" y="6095880"/>
            <a:ext cx="1219320" cy="7621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夜深千帐灯”的鉴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49528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因此“夜深千帐灯”既是上阕感情酝酿的高潮，也是上下阕之间巧妙的过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481200" y="1447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你怎么理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28600" y="19051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荒野有灯，心中无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28600" y="281952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千帐灯”既描绘了皇家出行随从众多的威严场面，也衬托出作者孤寂的心情。 “千帐灯”场面虽然宏大，但作者却倍感孤独思乡之情达到高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8077320" y="380880"/>
            <a:ext cx="685800" cy="6098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734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57120" y="24382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BSPTB"/>
          <p:cNvPicPr/>
          <p:nvPr/>
        </p:nvPicPr>
        <p:blipFill>
          <a:blip r:embed="rId1"/>
          <a:stretch/>
        </p:blipFill>
        <p:spPr>
          <a:xfrm>
            <a:off x="1371600" y="228600"/>
            <a:ext cx="7543800" cy="17524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4466160" y="3276720"/>
            <a:ext cx="7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将士们跋山涉水，向山海关那边进发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4910760" y="4648320"/>
            <a:ext cx="7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夜里，住宿帐篷，每个帐篷里都点起了灯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905760" y="19033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理解课文意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2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4:46:27Z</dcterms:created>
  <dc:creator>windows vista</dc:creator>
  <dc:description/>
  <dc:language>en-US</dc:language>
  <cp:lastModifiedBy>Administrator</cp:lastModifiedBy>
  <dcterms:modified xsi:type="dcterms:W3CDTF">2014-10-20T14:16:1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