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gif" ContentType="image/gif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5BE-E3F5-4D73-BC0B-06E0987E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670-417D-40EB-BE32-A3044CE8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84BA-7E88-4C37-8157-9183203B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4087-D9B7-4899-B5F3-399909B0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AC79-1896-4427-9370-84B9CF6B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698-5306-48F9-A491-C02EC5F7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F63-3AE0-47F5-AD1E-188282E1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A284-D13C-4668-A392-37B36A3A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F7B9-20C4-40CA-81D8-99389D24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EDF-8159-46AB-B12B-EA7C8007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FE00-B43D-48FB-8DBA-397B4C4F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3303-5CCF-43ED-8588-4407FA7E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5BAC-B08D-4E60-B2D1-951320E18F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image" Target="../media/image8.png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35280" y="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6600"/>
                </a:solidFill>
                <a:latin typeface="Arial"/>
              </a:rPr>
              <a:t>《春晓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13600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124000" y="4941720"/>
            <a:ext cx="1081080" cy="5050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46215" h="21600">
                <a:moveTo>
                  <a:pt x="0" y="0"/>
                </a:moveTo>
                <a:lnTo>
                  <a:pt x="46215" y="0"/>
                </a:lnTo>
                <a:lnTo>
                  <a:pt x="46215" y="21600"/>
                </a:lnTo>
                <a:lnTo>
                  <a:pt x="0" y="21600"/>
                </a:lnTo>
                <a:close/>
              </a:path>
              <a:path fill="lightenLess" w="46215" h="21600">
                <a:moveTo>
                  <a:pt x="0" y="0"/>
                </a:moveTo>
                <a:lnTo>
                  <a:pt x="46215" y="0"/>
                </a:lnTo>
                <a:lnTo>
                  <a:pt x="44815" y="1400"/>
                </a:lnTo>
                <a:lnTo>
                  <a:pt x="1400" y="1400"/>
                </a:lnTo>
                <a:close/>
              </a:path>
              <a:path fill="darken" w="46215" h="21600">
                <a:moveTo>
                  <a:pt x="46215" y="0"/>
                </a:moveTo>
                <a:lnTo>
                  <a:pt x="46215" y="21600"/>
                </a:lnTo>
                <a:lnTo>
                  <a:pt x="44815" y="20200"/>
                </a:lnTo>
                <a:lnTo>
                  <a:pt x="44815" y="1400"/>
                </a:lnTo>
                <a:close/>
              </a:path>
              <a:path fill="darkenLess" w="46215" h="21600">
                <a:moveTo>
                  <a:pt x="462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15" y="20200"/>
                </a:lnTo>
                <a:close/>
              </a:path>
              <a:path fill="lighten" w="462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认生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3276720" y="4941720"/>
            <a:ext cx="1944720" cy="505080"/>
          </a:xfrm>
          <a:custGeom>
            <a:avLst/>
            <a:gdLst>
              <a:gd name="textAreaLeft" fmla="*/ 32400 w 1944720"/>
              <a:gd name="textAreaRight" fmla="*/ 1912320 w 194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3123" h="21600">
                <a:moveTo>
                  <a:pt x="0" y="0"/>
                </a:moveTo>
                <a:lnTo>
                  <a:pt x="83123" y="0"/>
                </a:lnTo>
                <a:lnTo>
                  <a:pt x="83123" y="21600"/>
                </a:lnTo>
                <a:lnTo>
                  <a:pt x="0" y="21600"/>
                </a:lnTo>
                <a:close/>
              </a:path>
              <a:path fill="lightenLess" w="83123" h="21600">
                <a:moveTo>
                  <a:pt x="0" y="0"/>
                </a:moveTo>
                <a:lnTo>
                  <a:pt x="83123" y="0"/>
                </a:lnTo>
                <a:lnTo>
                  <a:pt x="81723" y="1400"/>
                </a:lnTo>
                <a:lnTo>
                  <a:pt x="1400" y="1400"/>
                </a:lnTo>
                <a:close/>
              </a:path>
              <a:path fill="darken" w="83123" h="21600">
                <a:moveTo>
                  <a:pt x="83123" y="0"/>
                </a:moveTo>
                <a:lnTo>
                  <a:pt x="83123" y="21600"/>
                </a:lnTo>
                <a:lnTo>
                  <a:pt x="81723" y="20200"/>
                </a:lnTo>
                <a:lnTo>
                  <a:pt x="81723" y="1400"/>
                </a:lnTo>
                <a:close/>
              </a:path>
              <a:path fill="darkenLess" w="83123" h="21600">
                <a:moveTo>
                  <a:pt x="8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3" y="20200"/>
                </a:lnTo>
                <a:close/>
              </a:path>
              <a:path fill="lighten" w="8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读《春晓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79280" y="5589720"/>
            <a:ext cx="1440000" cy="504720"/>
          </a:xfrm>
          <a:custGeom>
            <a:avLst/>
            <a:gdLst>
              <a:gd name="textAreaLeft" fmla="*/ 32400 w 1440000"/>
              <a:gd name="textAreaRight" fmla="*/ 1407600 w 14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1598" h="21600">
                <a:moveTo>
                  <a:pt x="0" y="0"/>
                </a:moveTo>
                <a:lnTo>
                  <a:pt x="61598" y="0"/>
                </a:lnTo>
                <a:lnTo>
                  <a:pt x="61598" y="21600"/>
                </a:lnTo>
                <a:lnTo>
                  <a:pt x="0" y="21600"/>
                </a:lnTo>
                <a:close/>
              </a:path>
              <a:path fill="lightenLess" w="61598" h="21600">
                <a:moveTo>
                  <a:pt x="0" y="0"/>
                </a:moveTo>
                <a:lnTo>
                  <a:pt x="61598" y="0"/>
                </a:lnTo>
                <a:lnTo>
                  <a:pt x="60198" y="1400"/>
                </a:lnTo>
                <a:lnTo>
                  <a:pt x="1400" y="1400"/>
                </a:lnTo>
                <a:close/>
              </a:path>
              <a:path fill="darken" w="61598" h="21600">
                <a:moveTo>
                  <a:pt x="61598" y="0"/>
                </a:moveTo>
                <a:lnTo>
                  <a:pt x="61598" y="21600"/>
                </a:lnTo>
                <a:lnTo>
                  <a:pt x="60198" y="20200"/>
                </a:lnTo>
                <a:lnTo>
                  <a:pt x="60198" y="1400"/>
                </a:lnTo>
                <a:close/>
              </a:path>
              <a:path fill="darkenLess" w="61598" h="21600">
                <a:moveTo>
                  <a:pt x="61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98" y="20200"/>
                </a:lnTo>
                <a:close/>
              </a:path>
              <a:path fill="lighten" w="61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诗人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692360" y="5589720"/>
            <a:ext cx="1871640" cy="503280"/>
          </a:xfrm>
          <a:custGeom>
            <a:avLst/>
            <a:gdLst>
              <a:gd name="textAreaLeft" fmla="*/ 32400 w 1871640"/>
              <a:gd name="textAreaRight" fmla="*/ 1839240 w 1871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80286" h="21600">
                <a:moveTo>
                  <a:pt x="0" y="0"/>
                </a:moveTo>
                <a:lnTo>
                  <a:pt x="80286" y="0"/>
                </a:lnTo>
                <a:lnTo>
                  <a:pt x="80286" y="21600"/>
                </a:lnTo>
                <a:lnTo>
                  <a:pt x="0" y="21600"/>
                </a:lnTo>
                <a:close/>
              </a:path>
              <a:path fill="lightenLess" w="80286" h="21600">
                <a:moveTo>
                  <a:pt x="0" y="0"/>
                </a:moveTo>
                <a:lnTo>
                  <a:pt x="80286" y="0"/>
                </a:lnTo>
                <a:lnTo>
                  <a:pt x="78886" y="1400"/>
                </a:lnTo>
                <a:lnTo>
                  <a:pt x="1400" y="1400"/>
                </a:lnTo>
                <a:close/>
              </a:path>
              <a:path fill="darken" w="80286" h="21600">
                <a:moveTo>
                  <a:pt x="80286" y="0"/>
                </a:moveTo>
                <a:lnTo>
                  <a:pt x="80286" y="21600"/>
                </a:lnTo>
                <a:lnTo>
                  <a:pt x="78886" y="20200"/>
                </a:lnTo>
                <a:lnTo>
                  <a:pt x="78886" y="1400"/>
                </a:lnTo>
                <a:close/>
              </a:path>
              <a:path fill="darkenLess" w="80286" h="21600">
                <a:moveTo>
                  <a:pt x="80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86" y="20200"/>
                </a:lnTo>
                <a:close/>
              </a:path>
              <a:path fill="lighten" w="80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春晓》翻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3635280" y="5589720"/>
            <a:ext cx="1008000" cy="50328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3246" h="21600">
                <a:moveTo>
                  <a:pt x="0" y="0"/>
                </a:moveTo>
                <a:lnTo>
                  <a:pt x="43246" y="0"/>
                </a:lnTo>
                <a:lnTo>
                  <a:pt x="43246" y="21600"/>
                </a:lnTo>
                <a:lnTo>
                  <a:pt x="0" y="21600"/>
                </a:lnTo>
                <a:close/>
              </a:path>
              <a:path fill="lightenLess" w="43246" h="21600">
                <a:moveTo>
                  <a:pt x="0" y="0"/>
                </a:moveTo>
                <a:lnTo>
                  <a:pt x="43246" y="0"/>
                </a:lnTo>
                <a:lnTo>
                  <a:pt x="41846" y="1400"/>
                </a:lnTo>
                <a:lnTo>
                  <a:pt x="1400" y="1400"/>
                </a:lnTo>
                <a:close/>
              </a:path>
              <a:path fill="darken" w="43246" h="21600">
                <a:moveTo>
                  <a:pt x="43246" y="0"/>
                </a:moveTo>
                <a:lnTo>
                  <a:pt x="43246" y="21600"/>
                </a:lnTo>
                <a:lnTo>
                  <a:pt x="41846" y="20200"/>
                </a:lnTo>
                <a:lnTo>
                  <a:pt x="41846" y="1400"/>
                </a:lnTo>
                <a:close/>
              </a:path>
              <a:path fill="darkenLess" w="43246" h="21600">
                <a:moveTo>
                  <a:pt x="43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46" y="20200"/>
                </a:lnTo>
                <a:close/>
              </a:path>
              <a:path fill="lighten" w="43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练习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9" action="ppaction://hlinksldjump"/>
          </p:cNvPr>
          <p:cNvSpPr/>
          <p:nvPr/>
        </p:nvSpPr>
        <p:spPr>
          <a:xfrm>
            <a:off x="5292720" y="494172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lastslide"/>
          </p:cNvPr>
          <p:cNvSpPr/>
          <p:nvPr/>
        </p:nvSpPr>
        <p:spPr>
          <a:xfrm>
            <a:off x="2843280" y="6237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179280" y="4941720"/>
            <a:ext cx="1871640" cy="505080"/>
          </a:xfrm>
          <a:custGeom>
            <a:avLst/>
            <a:gdLst>
              <a:gd name="textAreaLeft" fmla="*/ 32400 w 1871640"/>
              <a:gd name="textAreaRight" fmla="*/ 1839240 w 1871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0000" h="21600">
                <a:moveTo>
                  <a:pt x="0" y="0"/>
                </a:moveTo>
                <a:lnTo>
                  <a:pt x="80000" y="0"/>
                </a:lnTo>
                <a:lnTo>
                  <a:pt x="80000" y="21600"/>
                </a:lnTo>
                <a:lnTo>
                  <a:pt x="0" y="21600"/>
                </a:lnTo>
                <a:close/>
              </a:path>
              <a:path fill="lightenLess" w="80000" h="21600">
                <a:moveTo>
                  <a:pt x="0" y="0"/>
                </a:moveTo>
                <a:lnTo>
                  <a:pt x="80000" y="0"/>
                </a:lnTo>
                <a:lnTo>
                  <a:pt x="78600" y="1400"/>
                </a:lnTo>
                <a:lnTo>
                  <a:pt x="1400" y="1400"/>
                </a:lnTo>
                <a:close/>
              </a:path>
              <a:path fill="darken" w="80000" h="21600">
                <a:moveTo>
                  <a:pt x="80000" y="0"/>
                </a:moveTo>
                <a:lnTo>
                  <a:pt x="80000" y="21600"/>
                </a:lnTo>
                <a:lnTo>
                  <a:pt x="78600" y="20200"/>
                </a:lnTo>
                <a:lnTo>
                  <a:pt x="78600" y="1400"/>
                </a:lnTo>
                <a:close/>
              </a:path>
              <a:path fill="darkenLess" w="80000" h="21600">
                <a:moveTo>
                  <a:pt x="80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600" y="20200"/>
                </a:lnTo>
                <a:close/>
              </a:path>
              <a:path fill="lighten" w="80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初读《春晓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5589720"/>
            <a:ext cx="1871640" cy="503280"/>
          </a:xfrm>
          <a:custGeom>
            <a:avLst/>
            <a:gdLst>
              <a:gd name="textAreaLeft" fmla="*/ 32400 w 1871640"/>
              <a:gd name="textAreaRight" fmla="*/ 1839240 w 1871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80286" h="21600">
                <a:moveTo>
                  <a:pt x="0" y="0"/>
                </a:moveTo>
                <a:lnTo>
                  <a:pt x="80286" y="0"/>
                </a:lnTo>
                <a:lnTo>
                  <a:pt x="80286" y="21600"/>
                </a:lnTo>
                <a:lnTo>
                  <a:pt x="0" y="21600"/>
                </a:lnTo>
                <a:close/>
              </a:path>
              <a:path fill="lightenLess" w="80286" h="21600">
                <a:moveTo>
                  <a:pt x="0" y="0"/>
                </a:moveTo>
                <a:lnTo>
                  <a:pt x="80286" y="0"/>
                </a:lnTo>
                <a:lnTo>
                  <a:pt x="78886" y="1400"/>
                </a:lnTo>
                <a:lnTo>
                  <a:pt x="1400" y="1400"/>
                </a:lnTo>
                <a:close/>
              </a:path>
              <a:path fill="darken" w="80286" h="21600">
                <a:moveTo>
                  <a:pt x="80286" y="0"/>
                </a:moveTo>
                <a:lnTo>
                  <a:pt x="80286" y="21600"/>
                </a:lnTo>
                <a:lnTo>
                  <a:pt x="78886" y="20200"/>
                </a:lnTo>
                <a:lnTo>
                  <a:pt x="78886" y="1400"/>
                </a:lnTo>
                <a:close/>
              </a:path>
              <a:path fill="darkenLess" w="80286" h="21600">
                <a:moveTo>
                  <a:pt x="80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86" y="20200"/>
                </a:lnTo>
                <a:close/>
              </a:path>
              <a:path fill="lighten" w="80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品读《春晓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0000" y="6610320"/>
            <a:ext cx="31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r>
              <a:rPr b="1" lang="zh-CN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31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619280" y="1125360"/>
            <a:ext cx="5832360" cy="35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下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大家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524720" y="5950080"/>
            <a:ext cx="1440000" cy="431640"/>
          </a:xfrm>
          <a:custGeom>
            <a:avLst/>
            <a:gdLst>
              <a:gd name="textAreaLeft" fmla="*/ 27720 w 1440000"/>
              <a:gd name="textAreaRight" fmla="*/ 1412280 w 144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18" h="21600">
                <a:moveTo>
                  <a:pt x="0" y="0"/>
                </a:moveTo>
                <a:lnTo>
                  <a:pt x="72018" y="0"/>
                </a:lnTo>
                <a:lnTo>
                  <a:pt x="72018" y="21600"/>
                </a:lnTo>
                <a:lnTo>
                  <a:pt x="0" y="21600"/>
                </a:lnTo>
                <a:close/>
              </a:path>
              <a:path fill="lightenLess" w="72018" h="21600">
                <a:moveTo>
                  <a:pt x="0" y="0"/>
                </a:moveTo>
                <a:lnTo>
                  <a:pt x="72018" y="0"/>
                </a:lnTo>
                <a:lnTo>
                  <a:pt x="70618" y="1400"/>
                </a:lnTo>
                <a:lnTo>
                  <a:pt x="1400" y="1400"/>
                </a:lnTo>
                <a:close/>
              </a:path>
              <a:path fill="darken" w="72018" h="21600">
                <a:moveTo>
                  <a:pt x="72018" y="0"/>
                </a:moveTo>
                <a:lnTo>
                  <a:pt x="72018" y="21600"/>
                </a:lnTo>
                <a:lnTo>
                  <a:pt x="70618" y="20200"/>
                </a:lnTo>
                <a:lnTo>
                  <a:pt x="70618" y="1400"/>
                </a:lnTo>
                <a:close/>
              </a:path>
              <a:path fill="darkenLess" w="72018" h="21600">
                <a:moveTo>
                  <a:pt x="72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18" y="20200"/>
                </a:lnTo>
                <a:close/>
              </a:path>
              <a:path fill="lighten" w="72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返回首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68360" y="939960"/>
            <a:ext cx="4824720" cy="59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春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孟浩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春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 觉 晓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处 处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夜 来 风 雨 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花 落 知 多 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26920" y="692280"/>
            <a:ext cx="1600200" cy="43488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6732720" y="5950080"/>
            <a:ext cx="1368360" cy="3585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82370" h="21600">
                <a:moveTo>
                  <a:pt x="0" y="0"/>
                </a:moveTo>
                <a:lnTo>
                  <a:pt x="82370" y="0"/>
                </a:lnTo>
                <a:lnTo>
                  <a:pt x="82370" y="21600"/>
                </a:lnTo>
                <a:lnTo>
                  <a:pt x="0" y="21600"/>
                </a:lnTo>
                <a:close/>
              </a:path>
              <a:path fill="lightenLess" w="82370" h="21600">
                <a:moveTo>
                  <a:pt x="0" y="0"/>
                </a:moveTo>
                <a:lnTo>
                  <a:pt x="82370" y="0"/>
                </a:lnTo>
                <a:lnTo>
                  <a:pt x="80970" y="1400"/>
                </a:lnTo>
                <a:lnTo>
                  <a:pt x="1400" y="1400"/>
                </a:lnTo>
                <a:close/>
              </a:path>
              <a:path fill="darken" w="82370" h="21600">
                <a:moveTo>
                  <a:pt x="82370" y="0"/>
                </a:moveTo>
                <a:lnTo>
                  <a:pt x="82370" y="21600"/>
                </a:lnTo>
                <a:lnTo>
                  <a:pt x="80970" y="20200"/>
                </a:lnTo>
                <a:lnTo>
                  <a:pt x="80970" y="1400"/>
                </a:lnTo>
                <a:close/>
              </a:path>
              <a:path fill="darkenLess" w="82370" h="21600">
                <a:moveTo>
                  <a:pt x="823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970" y="20200"/>
                </a:lnTo>
                <a:close/>
              </a:path>
              <a:path fill="lighten" w="823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返回首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87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3638520" y="2349360"/>
          <a:ext cx="4605480" cy="3048120"/>
        </p:xfrm>
        <a:graphic>
          <a:graphicData uri="http://schemas.openxmlformats.org/drawingml/2006/table">
            <a:tbl>
              <a:tblPr/>
              <a:tblGrid>
                <a:gridCol w="1535040"/>
                <a:gridCol w="1535400"/>
                <a:gridCol w="1535040"/>
              </a:tblGrid>
              <a:tr h="60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读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意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iǎ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天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i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睡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wé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听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1600200" cy="434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227640" y="692280"/>
            <a:ext cx="2773080" cy="1600200"/>
            <a:chOff x="6227640" y="692280"/>
            <a:chExt cx="2773080" cy="1600200"/>
          </a:xfrm>
        </p:grpSpPr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6227640" y="1301760"/>
              <a:ext cx="79200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943320" y="692280"/>
              <a:ext cx="2057400" cy="914400"/>
            </a:xfrm>
            <a:prstGeom prst="cloudCallout">
              <a:avLst>
                <a:gd name="adj1" fmla="val -40893"/>
                <a:gd name="adj2" fmla="val 83856"/>
              </a:avLst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我会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84360" y="2852640"/>
            <a:ext cx="2141280" cy="3578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24000" y="2276640"/>
            <a:ext cx="1513080" cy="1081080"/>
          </a:xfrm>
          <a:prstGeom prst="wedgeEllipseCallout">
            <a:avLst>
              <a:gd name="adj1" fmla="val -53254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学们，谁认识这些字啊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6877080" y="5734080"/>
            <a:ext cx="1942920" cy="503280"/>
          </a:xfrm>
          <a:custGeom>
            <a:avLst/>
            <a:gdLst>
              <a:gd name="textAreaLeft" fmla="*/ 32400 w 1942920"/>
              <a:gd name="textAreaRight" fmla="*/ 1910520 w 1942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83343" h="21600">
                <a:moveTo>
                  <a:pt x="0" y="0"/>
                </a:moveTo>
                <a:lnTo>
                  <a:pt x="83343" y="0"/>
                </a:lnTo>
                <a:lnTo>
                  <a:pt x="83343" y="21600"/>
                </a:lnTo>
                <a:lnTo>
                  <a:pt x="0" y="21600"/>
                </a:lnTo>
                <a:close/>
              </a:path>
              <a:path fill="lightenLess" w="83343" h="21600">
                <a:moveTo>
                  <a:pt x="0" y="0"/>
                </a:moveTo>
                <a:lnTo>
                  <a:pt x="83343" y="0"/>
                </a:lnTo>
                <a:lnTo>
                  <a:pt x="81943" y="1400"/>
                </a:lnTo>
                <a:lnTo>
                  <a:pt x="1400" y="1400"/>
                </a:lnTo>
                <a:close/>
              </a:path>
              <a:path fill="darken" w="83343" h="21600">
                <a:moveTo>
                  <a:pt x="83343" y="0"/>
                </a:moveTo>
                <a:lnTo>
                  <a:pt x="83343" y="21600"/>
                </a:lnTo>
                <a:lnTo>
                  <a:pt x="81943" y="20200"/>
                </a:lnTo>
                <a:lnTo>
                  <a:pt x="81943" y="1400"/>
                </a:lnTo>
                <a:close/>
              </a:path>
              <a:path fill="darkenLess" w="83343" h="21600">
                <a:moveTo>
                  <a:pt x="8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943" y="20200"/>
                </a:lnTo>
                <a:close/>
              </a:path>
              <a:path fill="lighten" w="8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返回首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84360" y="907920"/>
            <a:ext cx="4572000" cy="56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春    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           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hlinkClick r:id="rId2" action="ppaction://hlinksldjump"/>
              </a:rPr>
              <a:t>孟 浩 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春 眠 不 觉 晓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处 处 闻 啼 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夜 来 风 雨 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花 落 知 多 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050920" y="620640"/>
            <a:ext cx="1600200" cy="514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12000" y="2781360"/>
            <a:ext cx="287280" cy="3025800"/>
          </a:xfrm>
          <a:custGeom>
            <a:avLst/>
            <a:gdLst>
              <a:gd name="textAreaLeft" fmla="*/ 0 w 287280"/>
              <a:gd name="textAreaRight" fmla="*/ 103680 w 287280"/>
              <a:gd name="textAreaTop" fmla="*/ 78840 h 3025800"/>
              <a:gd name="textAreaBottom" fmla="*/ 2946960 h 302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4" action="ppaction://hlinksldjump"/>
          </p:cNvPr>
          <p:cNvSpPr/>
          <p:nvPr/>
        </p:nvSpPr>
        <p:spPr>
          <a:xfrm>
            <a:off x="6372360" y="407664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翻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093080" y="5805360"/>
            <a:ext cx="1511280" cy="432000"/>
          </a:xfrm>
          <a:custGeom>
            <a:avLst/>
            <a:gdLst>
              <a:gd name="textAreaLeft" fmla="*/ 27720 w 1511280"/>
              <a:gd name="textAreaRight" fmla="*/ 1483560 w 1511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5519" h="21600">
                <a:moveTo>
                  <a:pt x="0" y="0"/>
                </a:moveTo>
                <a:lnTo>
                  <a:pt x="75519" y="0"/>
                </a:lnTo>
                <a:lnTo>
                  <a:pt x="75519" y="21600"/>
                </a:lnTo>
                <a:lnTo>
                  <a:pt x="0" y="21600"/>
                </a:lnTo>
                <a:close/>
              </a:path>
              <a:path fill="lightenLess" w="75519" h="21600">
                <a:moveTo>
                  <a:pt x="0" y="0"/>
                </a:moveTo>
                <a:lnTo>
                  <a:pt x="75519" y="0"/>
                </a:lnTo>
                <a:lnTo>
                  <a:pt x="74119" y="1400"/>
                </a:lnTo>
                <a:lnTo>
                  <a:pt x="1400" y="1400"/>
                </a:lnTo>
                <a:close/>
              </a:path>
              <a:path fill="darken" w="75519" h="21600">
                <a:moveTo>
                  <a:pt x="75519" y="0"/>
                </a:moveTo>
                <a:lnTo>
                  <a:pt x="75519" y="21600"/>
                </a:lnTo>
                <a:lnTo>
                  <a:pt x="74119" y="20200"/>
                </a:lnTo>
                <a:lnTo>
                  <a:pt x="74119" y="1400"/>
                </a:lnTo>
                <a:close/>
              </a:path>
              <a:path fill="darkenLess" w="75519" h="21600">
                <a:moveTo>
                  <a:pt x="75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19" y="20200"/>
                </a:lnTo>
                <a:close/>
              </a:path>
              <a:path fill="lighten" w="75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返回首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51280" y="981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孟浩然：唐代诗人。本名不详（一说名浩），汉族，襄州襄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今湖北襄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。字浩然，世称「孟襄阳」，与另一位山水田园诗人王维合称为“王孟”。以写田园山水诗为主。因他未曾入仕，又称之为孟山人。襄阳南门外背山临江之涧南园有他的故居。曾隐居鹿门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55640" y="2276640"/>
            <a:ext cx="2808360" cy="3024000"/>
          </a:xfrm>
          <a:prstGeom prst="rect">
            <a:avLst/>
          </a:prstGeom>
          <a:ln w="25560">
            <a:solidFill>
              <a:srgbClr val="0033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116000" y="1268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介绍诗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403280" y="692280"/>
            <a:ext cx="1600200" cy="51408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7236000" y="5877000"/>
            <a:ext cx="1511280" cy="431640"/>
          </a:xfrm>
          <a:custGeom>
            <a:avLst/>
            <a:gdLst>
              <a:gd name="textAreaLeft" fmla="*/ 27720 w 1511280"/>
              <a:gd name="textAreaRight" fmla="*/ 1483560 w 1511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5582" h="21600">
                <a:moveTo>
                  <a:pt x="0" y="0"/>
                </a:moveTo>
                <a:lnTo>
                  <a:pt x="75582" y="0"/>
                </a:lnTo>
                <a:lnTo>
                  <a:pt x="75582" y="21600"/>
                </a:lnTo>
                <a:lnTo>
                  <a:pt x="0" y="21600"/>
                </a:lnTo>
                <a:close/>
              </a:path>
              <a:path fill="lightenLess" w="75582" h="21600">
                <a:moveTo>
                  <a:pt x="0" y="0"/>
                </a:moveTo>
                <a:lnTo>
                  <a:pt x="75582" y="0"/>
                </a:lnTo>
                <a:lnTo>
                  <a:pt x="74182" y="1400"/>
                </a:lnTo>
                <a:lnTo>
                  <a:pt x="1400" y="1400"/>
                </a:lnTo>
                <a:close/>
              </a:path>
              <a:path fill="darken" w="75582" h="21600">
                <a:moveTo>
                  <a:pt x="75582" y="0"/>
                </a:moveTo>
                <a:lnTo>
                  <a:pt x="75582" y="21600"/>
                </a:lnTo>
                <a:lnTo>
                  <a:pt x="74182" y="20200"/>
                </a:lnTo>
                <a:lnTo>
                  <a:pt x="74182" y="1400"/>
                </a:lnTo>
                <a:close/>
              </a:path>
              <a:path fill="darkenLess" w="75582" h="21600">
                <a:moveTo>
                  <a:pt x="75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82" y="20200"/>
                </a:lnTo>
                <a:close/>
              </a:path>
              <a:path fill="lighten" w="75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返回首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5877000"/>
            <a:ext cx="1871640" cy="431640"/>
          </a:xfrm>
          <a:custGeom>
            <a:avLst/>
            <a:gdLst>
              <a:gd name="textAreaLeft" fmla="*/ 27720 w 1871640"/>
              <a:gd name="textAreaRight" fmla="*/ 1843920 w 18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3600" h="21600">
                <a:moveTo>
                  <a:pt x="0" y="0"/>
                </a:moveTo>
                <a:lnTo>
                  <a:pt x="93600" y="0"/>
                </a:lnTo>
                <a:lnTo>
                  <a:pt x="93600" y="21600"/>
                </a:lnTo>
                <a:lnTo>
                  <a:pt x="0" y="21600"/>
                </a:lnTo>
                <a:close/>
              </a:path>
              <a:path fill="lightenLess" w="93600" h="21600">
                <a:moveTo>
                  <a:pt x="0" y="0"/>
                </a:moveTo>
                <a:lnTo>
                  <a:pt x="93600" y="0"/>
                </a:lnTo>
                <a:lnTo>
                  <a:pt x="92200" y="1400"/>
                </a:lnTo>
                <a:lnTo>
                  <a:pt x="1400" y="1400"/>
                </a:lnTo>
                <a:close/>
              </a:path>
              <a:path fill="darken" w="93600" h="21600">
                <a:moveTo>
                  <a:pt x="93600" y="0"/>
                </a:moveTo>
                <a:lnTo>
                  <a:pt x="93600" y="21600"/>
                </a:lnTo>
                <a:lnTo>
                  <a:pt x="92200" y="20200"/>
                </a:lnTo>
                <a:lnTo>
                  <a:pt x="92200" y="1400"/>
                </a:lnTo>
                <a:close/>
              </a:path>
              <a:path fill="darkenLess" w="93600" h="21600">
                <a:moveTo>
                  <a:pt x="93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00" y="20200"/>
                </a:lnTo>
                <a:close/>
              </a:path>
              <a:path fill="lighten" w="93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读《春晓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03960" y="1413000"/>
            <a:ext cx="6678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翻         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765000"/>
            <a:ext cx="612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春眠不觉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春意绵绵好睡觉，不知不觉天亮了；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处处闻啼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猛然一觉惊醒来，到处是鸟儿啼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夜来风雨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夜里迷迷胡胡，似乎有沙沙风雨声；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花落知多少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风雨交加，花儿不知被吹落了多少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600200" cy="5144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524720" y="5661000"/>
            <a:ext cx="1295280" cy="432000"/>
          </a:xfrm>
          <a:custGeom>
            <a:avLst/>
            <a:gdLst>
              <a:gd name="textAreaLeft" fmla="*/ 27720 w 1295280"/>
              <a:gd name="textAreaRight" fmla="*/ 1267560 w 1295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返回首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35640" y="5661000"/>
            <a:ext cx="1873080" cy="432000"/>
          </a:xfrm>
          <a:custGeom>
            <a:avLst/>
            <a:gdLst>
              <a:gd name="textAreaLeft" fmla="*/ 27720 w 1873080"/>
              <a:gd name="textAreaRight" fmla="*/ 1845360 w 1873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93594" h="21600">
                <a:moveTo>
                  <a:pt x="0" y="0"/>
                </a:moveTo>
                <a:lnTo>
                  <a:pt x="93594" y="0"/>
                </a:lnTo>
                <a:lnTo>
                  <a:pt x="93594" y="21600"/>
                </a:lnTo>
                <a:lnTo>
                  <a:pt x="0" y="21600"/>
                </a:lnTo>
                <a:close/>
              </a:path>
              <a:path fill="lightenLess" w="93594" h="21600">
                <a:moveTo>
                  <a:pt x="0" y="0"/>
                </a:moveTo>
                <a:lnTo>
                  <a:pt x="93594" y="0"/>
                </a:lnTo>
                <a:lnTo>
                  <a:pt x="92194" y="1400"/>
                </a:lnTo>
                <a:lnTo>
                  <a:pt x="1400" y="1400"/>
                </a:lnTo>
                <a:close/>
              </a:path>
              <a:path fill="darken" w="93594" h="21600">
                <a:moveTo>
                  <a:pt x="93594" y="0"/>
                </a:moveTo>
                <a:lnTo>
                  <a:pt x="93594" y="21600"/>
                </a:lnTo>
                <a:lnTo>
                  <a:pt x="92194" y="20200"/>
                </a:lnTo>
                <a:lnTo>
                  <a:pt x="92194" y="1400"/>
                </a:lnTo>
                <a:close/>
              </a:path>
              <a:path fill="darkenLess" w="93594" h="21600">
                <a:moveTo>
                  <a:pt x="93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94" y="20200"/>
                </a:lnTo>
                <a:close/>
              </a:path>
              <a:path fill="lighten" w="93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读《春晓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195640" y="76500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413000"/>
            <a:ext cx="914400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补全诗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春（ ）不觉晓，处处（ ）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来风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声，花落（ ）多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下面三个字在古诗中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晓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眠：      闻：      啼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组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晓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          眠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         夜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闻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          啼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         春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524720" y="6093000"/>
            <a:ext cx="1368360" cy="504720"/>
          </a:xfrm>
          <a:custGeom>
            <a:avLst/>
            <a:gdLst>
              <a:gd name="textAreaLeft" fmla="*/ 32400 w 1368360"/>
              <a:gd name="textAreaRight" fmla="*/ 1335960 w 1368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8534" h="21600">
                <a:moveTo>
                  <a:pt x="0" y="0"/>
                </a:moveTo>
                <a:lnTo>
                  <a:pt x="58534" y="0"/>
                </a:lnTo>
                <a:lnTo>
                  <a:pt x="58534" y="21600"/>
                </a:lnTo>
                <a:lnTo>
                  <a:pt x="0" y="21600"/>
                </a:lnTo>
                <a:close/>
              </a:path>
              <a:path fill="lightenLess" w="58534" h="21600">
                <a:moveTo>
                  <a:pt x="0" y="0"/>
                </a:moveTo>
                <a:lnTo>
                  <a:pt x="58534" y="0"/>
                </a:lnTo>
                <a:lnTo>
                  <a:pt x="57134" y="1400"/>
                </a:lnTo>
                <a:lnTo>
                  <a:pt x="1400" y="1400"/>
                </a:lnTo>
                <a:close/>
              </a:path>
              <a:path fill="darken" w="58534" h="21600">
                <a:moveTo>
                  <a:pt x="58534" y="0"/>
                </a:moveTo>
                <a:lnTo>
                  <a:pt x="58534" y="21600"/>
                </a:lnTo>
                <a:lnTo>
                  <a:pt x="57134" y="20200"/>
                </a:lnTo>
                <a:lnTo>
                  <a:pt x="57134" y="1400"/>
                </a:lnTo>
                <a:close/>
              </a:path>
              <a:path fill="darkenLess" w="58534" h="21600">
                <a:moveTo>
                  <a:pt x="58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134" y="20200"/>
                </a:lnTo>
                <a:close/>
              </a:path>
              <a:path fill="lighten" w="58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返回首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7236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47720" y="198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0080" y="198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198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100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256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1764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睡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3640" y="38606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听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3860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4941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知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27640" y="49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睡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51640" y="4941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夜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5516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新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27640" y="5516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啼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51640" y="5516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春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38606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天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9640" y="1268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，我们跟着声音再品读一遍《春晓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03280" y="692280"/>
            <a:ext cx="1600200" cy="51408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1368360" cy="431640"/>
          </a:xfrm>
          <a:custGeom>
            <a:avLst/>
            <a:gdLst>
              <a:gd name="textAreaLeft" fmla="*/ 27720 w 1368360"/>
              <a:gd name="textAreaRight" fmla="*/ 1340640 w 13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8436" h="21600">
                <a:moveTo>
                  <a:pt x="0" y="0"/>
                </a:moveTo>
                <a:lnTo>
                  <a:pt x="68436" y="0"/>
                </a:lnTo>
                <a:lnTo>
                  <a:pt x="68436" y="21600"/>
                </a:lnTo>
                <a:lnTo>
                  <a:pt x="0" y="21600"/>
                </a:lnTo>
                <a:close/>
              </a:path>
              <a:path fill="lightenLess" w="68436" h="21600">
                <a:moveTo>
                  <a:pt x="0" y="0"/>
                </a:moveTo>
                <a:lnTo>
                  <a:pt x="68436" y="0"/>
                </a:lnTo>
                <a:lnTo>
                  <a:pt x="67036" y="1400"/>
                </a:lnTo>
                <a:lnTo>
                  <a:pt x="1400" y="1400"/>
                </a:lnTo>
                <a:close/>
              </a:path>
              <a:path fill="darken" w="68436" h="21600">
                <a:moveTo>
                  <a:pt x="68436" y="0"/>
                </a:moveTo>
                <a:lnTo>
                  <a:pt x="68436" y="21600"/>
                </a:lnTo>
                <a:lnTo>
                  <a:pt x="67036" y="20200"/>
                </a:lnTo>
                <a:lnTo>
                  <a:pt x="67036" y="1400"/>
                </a:lnTo>
                <a:close/>
              </a:path>
              <a:path fill="darkenLess" w="68436" h="21600">
                <a:moveTo>
                  <a:pt x="68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036" y="20200"/>
                </a:lnTo>
                <a:close/>
              </a:path>
              <a:path fill="lighten" w="68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返回首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8064720" cy="42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03280" y="155736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庭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492280"/>
            <a:ext cx="75614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熟读古诗《春晓》并背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把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hlinkClick r:id="rId2" action="ppaction://hlinksldjump"/>
              </a:rPr>
              <a:t>练习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作业本上，抄写一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7928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524720" y="5877000"/>
            <a:ext cx="1440000" cy="431640"/>
          </a:xfrm>
          <a:custGeom>
            <a:avLst/>
            <a:gdLst>
              <a:gd name="textAreaLeft" fmla="*/ 27720 w 1440000"/>
              <a:gd name="textAreaRight" fmla="*/ 1412280 w 144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18" h="21600">
                <a:moveTo>
                  <a:pt x="0" y="0"/>
                </a:moveTo>
                <a:lnTo>
                  <a:pt x="72018" y="0"/>
                </a:lnTo>
                <a:lnTo>
                  <a:pt x="72018" y="21600"/>
                </a:lnTo>
                <a:lnTo>
                  <a:pt x="0" y="21600"/>
                </a:lnTo>
                <a:close/>
              </a:path>
              <a:path fill="lightenLess" w="72018" h="21600">
                <a:moveTo>
                  <a:pt x="0" y="0"/>
                </a:moveTo>
                <a:lnTo>
                  <a:pt x="72018" y="0"/>
                </a:lnTo>
                <a:lnTo>
                  <a:pt x="70618" y="1400"/>
                </a:lnTo>
                <a:lnTo>
                  <a:pt x="1400" y="1400"/>
                </a:lnTo>
                <a:close/>
              </a:path>
              <a:path fill="darken" w="72018" h="21600">
                <a:moveTo>
                  <a:pt x="72018" y="0"/>
                </a:moveTo>
                <a:lnTo>
                  <a:pt x="72018" y="21600"/>
                </a:lnTo>
                <a:lnTo>
                  <a:pt x="70618" y="20200"/>
                </a:lnTo>
                <a:lnTo>
                  <a:pt x="70618" y="1400"/>
                </a:lnTo>
                <a:close/>
              </a:path>
              <a:path fill="darkenLess" w="72018" h="21600">
                <a:moveTo>
                  <a:pt x="72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18" y="20200"/>
                </a:lnTo>
                <a:close/>
              </a:path>
              <a:path fill="lighten" w="72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返回首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9592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2:24:27Z</dcterms:created>
  <dc:creator>lenovo</dc:creator>
  <dc:description/>
  <dc:language>en-US</dc:language>
  <cp:lastModifiedBy>User</cp:lastModifiedBy>
  <dcterms:modified xsi:type="dcterms:W3CDTF">2015-08-04T12:14:36Z</dcterms:modified>
  <cp:revision>30</cp:revision>
  <dc:subject/>
  <dc:title>幻灯片 1</dc:title>
</cp:coreProperties>
</file>