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433-620B-483D-B930-8A4F7E48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23F-448C-4522-8948-44D4ABD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DBC-CFD2-4AA4-B70A-46F3EBD3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9A2-A2F0-4673-A6EC-B09F8389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357-99CE-40C9-AD25-4005AF1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4AA-66E2-4DDC-9894-109B5F9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49E-3D00-4834-9FE7-BFCA27A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817-4106-478B-8AC2-BC25CAED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39D-B2B6-4745-9D88-FC0D296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581-17B9-442A-976C-52F148B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05D-B1A5-438E-A7AA-E498ED1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8FD-715C-4EFA-85EA-0BAA14C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2F6-6C30-4F35-8403-4BBCB864A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u.n318.com/xx/tbctk/ynj/xkbywd2c/200606/166197.html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hi.baidu.com/&#39118;&#39128;yu&#39128;/album/item/791c9eb677938bef31add188.html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wendang\My Pictures\sprin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676520" y="52578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万木吐绿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.wav" descr=""/>
          <p:cNvPicPr/>
          <p:nvPr/>
        </p:nvPicPr>
        <p:blipFill>
          <a:blip r:embed="rId3"/>
          <a:stretch/>
        </p:blipFill>
        <p:spPr>
          <a:xfrm>
            <a:off x="60948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838080" y="304920"/>
            <a:ext cx="7620120" cy="5409720"/>
            <a:chOff x="838080" y="304920"/>
            <a:chExt cx="7620120" cy="5409720"/>
          </a:xfrm>
        </p:grpSpPr>
        <p:sp>
          <p:nvSpPr>
            <p:cNvPr id="97" name="Rectangle 4"/>
            <p:cNvSpPr/>
            <p:nvPr/>
          </p:nvSpPr>
          <p:spPr>
            <a:xfrm>
              <a:off x="838080" y="304920"/>
              <a:ext cx="7467840" cy="5232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990720" y="482040"/>
              <a:ext cx="7467480" cy="52326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1676520" y="685800"/>
            <a:ext cx="6095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眠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晓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处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闻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啼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来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风雨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落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多少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781680" y="586728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629400" y="6019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315200" y="5791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返  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0116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22240" y="112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0952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78936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49160" y="39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《春晓》</a:t>
            </a:r>
            <a:br>
              <a:rPr sz="6000"/>
            </a:b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293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4880" cy="293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952488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2819520"/>
            <a:ext cx="952488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32040" y="727200"/>
            <a:ext cx="683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114800" y="1523880"/>
            <a:ext cx="3773520" cy="4953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477120" y="7621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391520" y="228600"/>
            <a:ext cx="380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867280" y="1143000"/>
            <a:ext cx="228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120" name="">
            <a:hlinkClick r:id="rId7" action="ppaction://hlinksldjump"/>
          </p:cNvPr>
          <p:cNvSpPr/>
          <p:nvPr/>
        </p:nvSpPr>
        <p:spPr>
          <a:xfrm>
            <a:off x="914400" y="19810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8" action="ppaction://hlinksldjump"/>
          </p:cNvPr>
          <p:cNvSpPr/>
          <p:nvPr/>
        </p:nvSpPr>
        <p:spPr>
          <a:xfrm>
            <a:off x="914400" y="39625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8569"/>
                </a:moveTo>
                <a:lnTo>
                  <a:pt x="7301" y="8569"/>
                </a:lnTo>
                <a:lnTo>
                  <a:pt x="7301" y="13904"/>
                </a:lnTo>
                <a:cubicBezTo>
                  <a:pt x="7301" y="14826"/>
                  <a:pt x="8102" y="15558"/>
                  <a:pt x="9138" y="15558"/>
                </a:cubicBezTo>
                <a:lnTo>
                  <a:pt x="10800" y="15558"/>
                </a:lnTo>
                <a:cubicBezTo>
                  <a:pt x="11836" y="15558"/>
                  <a:pt x="12636" y="14826"/>
                  <a:pt x="12636" y="13904"/>
                </a:cubicBezTo>
                <a:lnTo>
                  <a:pt x="12636" y="8569"/>
                </a:lnTo>
                <a:lnTo>
                  <a:pt x="10800" y="8569"/>
                </a:lnTo>
                <a:lnTo>
                  <a:pt x="14308" y="5061"/>
                </a:lnTo>
                <a:lnTo>
                  <a:pt x="17981" y="8569"/>
                </a:lnTo>
                <a:lnTo>
                  <a:pt x="16144" y="8569"/>
                </a:lnTo>
                <a:lnTo>
                  <a:pt x="16144" y="13904"/>
                </a:lnTo>
                <a:cubicBezTo>
                  <a:pt x="16144" y="16672"/>
                  <a:pt x="13568" y="19231"/>
                  <a:pt x="10800" y="19231"/>
                </a:cubicBezTo>
                <a:lnTo>
                  <a:pt x="9138" y="19231"/>
                </a:lnTo>
                <a:cubicBezTo>
                  <a:pt x="6370" y="19231"/>
                  <a:pt x="3794" y="16672"/>
                  <a:pt x="3794" y="1390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9" action="ppaction://hlinksldjump"/>
          </p:cNvPr>
          <p:cNvSpPr/>
          <p:nvPr/>
        </p:nvSpPr>
        <p:spPr>
          <a:xfrm>
            <a:off x="914400" y="49528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6"/>
                  <a:pt x="9138" y="14486"/>
                </a:cubicBezTo>
                <a:lnTo>
                  <a:pt x="10800" y="14486"/>
                </a:lnTo>
                <a:cubicBezTo>
                  <a:pt x="11836" y="14486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0"/>
                  <a:pt x="13568" y="18159"/>
                  <a:pt x="10800" y="18159"/>
                </a:cubicBezTo>
                <a:lnTo>
                  <a:pt x="9138" y="18159"/>
                </a:lnTo>
                <a:cubicBezTo>
                  <a:pt x="6370" y="18159"/>
                  <a:pt x="3794" y="15600"/>
                  <a:pt x="3794" y="1283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3560" y="990720"/>
            <a:ext cx="1642680" cy="4952880"/>
          </a:xfrm>
          <a:prstGeom prst="rect">
            <a:avLst/>
          </a:prstGeom>
          <a:solidFill>
            <a:srgbClr val="ff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  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春天的夜晚睡得特別香甜</a:t>
            </a:r>
            <a:r>
              <a:rPr b="1" lang="zh-TW" sz="2800" spc="-1" strike="noStrike">
                <a:solidFill>
                  <a:srgbClr val="ff0066"/>
                </a:solidFill>
                <a:latin typeface="標楷體"/>
                <a:ea typeface="標楷體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连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天亮也察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觉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PMingLiU"/>
              </a:rPr>
              <a:t>不到</a:t>
            </a: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9144000" cy="130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2708280"/>
            <a:ext cx="9144000" cy="130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30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53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3560" y="3049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495680" y="304920"/>
            <a:ext cx="42912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048120" y="5335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標楷體"/>
              </a:rPr>
              <a:t>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標楷體"/>
              <a:ea typeface="標楷體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91120" y="1447920"/>
            <a:ext cx="68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標楷體"/>
              </a:rPr>
              <a:t>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標楷體"/>
              <a:ea typeface="標楷體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2057400"/>
            <a:ext cx="609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標楷體"/>
              </a:rPr>
              <a:t>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標楷體"/>
              <a:ea typeface="標楷體"/>
            </a:endParaRPr>
          </a:p>
        </p:txBody>
      </p:sp>
      <p:sp>
        <p:nvSpPr>
          <p:cNvPr id="134" name=""/>
          <p:cNvSpPr/>
          <p:nvPr/>
        </p:nvSpPr>
        <p:spPr>
          <a:xfrm>
            <a:off x="1989720" y="294840"/>
            <a:ext cx="667800" cy="5641560"/>
          </a:xfrm>
          <a:prstGeom prst="rect">
            <a:avLst/>
          </a:prstGeom>
          <a:solidFill>
            <a:srgbClr val="ff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到处都听见鸟儿的叫声</a:t>
            </a: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990720" y="533520"/>
            <a:ext cx="609480" cy="1752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1752480"/>
              <a:gd name="textAreaBottom" fmla="*/ 1713240 h 1752480"/>
            </a:gdLst>
            <a:ahLst/>
            <a:rect l="textAreaLeft" t="textAreaTop" r="textAreaRight" b="textAreaBottom"/>
            <a:pathLst>
              <a:path w="21600" h="62084">
                <a:moveTo>
                  <a:pt x="0" y="0"/>
                </a:moveTo>
                <a:lnTo>
                  <a:pt x="21600" y="0"/>
                </a:lnTo>
                <a:lnTo>
                  <a:pt x="21600" y="62084"/>
                </a:lnTo>
                <a:lnTo>
                  <a:pt x="0" y="62084"/>
                </a:lnTo>
                <a:close/>
              </a:path>
              <a:path fill="lightenLess" w="21600" h="620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2084">
                <a:moveTo>
                  <a:pt x="21600" y="0"/>
                </a:moveTo>
                <a:lnTo>
                  <a:pt x="21600" y="62084"/>
                </a:lnTo>
                <a:lnTo>
                  <a:pt x="20200" y="60684"/>
                </a:lnTo>
                <a:lnTo>
                  <a:pt x="20200" y="1400"/>
                </a:lnTo>
                <a:close/>
              </a:path>
              <a:path fill="darkenLess" w="21600" h="62084">
                <a:moveTo>
                  <a:pt x="21600" y="62084"/>
                </a:moveTo>
                <a:lnTo>
                  <a:pt x="0" y="62084"/>
                </a:lnTo>
                <a:lnTo>
                  <a:pt x="1400" y="60684"/>
                </a:lnTo>
                <a:lnTo>
                  <a:pt x="20200" y="60684"/>
                </a:lnTo>
                <a:close/>
              </a:path>
              <a:path fill="lighten" w="21600" h="62084">
                <a:moveTo>
                  <a:pt x="0" y="62084"/>
                </a:moveTo>
                <a:lnTo>
                  <a:pt x="0" y="0"/>
                </a:lnTo>
                <a:lnTo>
                  <a:pt x="1400" y="1400"/>
                </a:lnTo>
                <a:lnTo>
                  <a:pt x="1400" y="60684"/>
                </a:lnTo>
                <a:close/>
              </a:path>
              <a:path fill="darken" w="21600" h="62084">
                <a:moveTo>
                  <a:pt x="3794" y="27735"/>
                </a:moveTo>
                <a:lnTo>
                  <a:pt x="7301" y="27735"/>
                </a:lnTo>
                <a:lnTo>
                  <a:pt x="7301" y="33070"/>
                </a:lnTo>
                <a:cubicBezTo>
                  <a:pt x="7301" y="33993"/>
                  <a:pt x="8102" y="34724"/>
                  <a:pt x="9138" y="34724"/>
                </a:cubicBezTo>
                <a:lnTo>
                  <a:pt x="10800" y="34724"/>
                </a:lnTo>
                <a:cubicBezTo>
                  <a:pt x="11836" y="34724"/>
                  <a:pt x="12636" y="33993"/>
                  <a:pt x="12636" y="33070"/>
                </a:cubicBezTo>
                <a:lnTo>
                  <a:pt x="12636" y="27735"/>
                </a:lnTo>
                <a:lnTo>
                  <a:pt x="10800" y="27735"/>
                </a:lnTo>
                <a:lnTo>
                  <a:pt x="14308" y="24227"/>
                </a:lnTo>
                <a:lnTo>
                  <a:pt x="17981" y="27735"/>
                </a:lnTo>
                <a:lnTo>
                  <a:pt x="16144" y="27735"/>
                </a:lnTo>
                <a:lnTo>
                  <a:pt x="16144" y="33070"/>
                </a:lnTo>
                <a:cubicBezTo>
                  <a:pt x="16144" y="35838"/>
                  <a:pt x="13568" y="38397"/>
                  <a:pt x="10800" y="38397"/>
                </a:cubicBezTo>
                <a:lnTo>
                  <a:pt x="9138" y="38397"/>
                </a:lnTo>
                <a:cubicBezTo>
                  <a:pt x="6370" y="38397"/>
                  <a:pt x="3794" y="35838"/>
                  <a:pt x="3794" y="3307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9" action="ppaction://hlinksldjump"/>
          </p:cNvPr>
          <p:cNvSpPr/>
          <p:nvPr/>
        </p:nvSpPr>
        <p:spPr>
          <a:xfrm>
            <a:off x="1066680" y="2666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0" action="ppaction://hlinksldjump"/>
          </p:cNvPr>
          <p:cNvSpPr/>
          <p:nvPr/>
        </p:nvSpPr>
        <p:spPr>
          <a:xfrm>
            <a:off x="990720" y="3657600"/>
            <a:ext cx="685800" cy="17524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752480"/>
              <a:gd name="textAreaBottom" fmla="*/ 1708200 h 1752480"/>
            </a:gdLst>
            <a:ahLst/>
            <a:rect l="textAreaLeft" t="textAreaTop" r="textAreaRight" b="textAreaBottom"/>
            <a:pathLst>
              <a:path w="21600" h="55179">
                <a:moveTo>
                  <a:pt x="0" y="0"/>
                </a:moveTo>
                <a:lnTo>
                  <a:pt x="21600" y="0"/>
                </a:lnTo>
                <a:lnTo>
                  <a:pt x="21600" y="55179"/>
                </a:lnTo>
                <a:lnTo>
                  <a:pt x="0" y="55179"/>
                </a:lnTo>
                <a:close/>
              </a:path>
              <a:path fill="lightenLess" w="21600" h="551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179">
                <a:moveTo>
                  <a:pt x="21600" y="0"/>
                </a:moveTo>
                <a:lnTo>
                  <a:pt x="21600" y="55179"/>
                </a:lnTo>
                <a:lnTo>
                  <a:pt x="20200" y="53779"/>
                </a:lnTo>
                <a:lnTo>
                  <a:pt x="20200" y="1400"/>
                </a:lnTo>
                <a:close/>
              </a:path>
              <a:path fill="darkenLess" w="21600" h="55179">
                <a:moveTo>
                  <a:pt x="21600" y="55179"/>
                </a:moveTo>
                <a:lnTo>
                  <a:pt x="0" y="55179"/>
                </a:lnTo>
                <a:lnTo>
                  <a:pt x="1400" y="53779"/>
                </a:lnTo>
                <a:lnTo>
                  <a:pt x="20200" y="53779"/>
                </a:lnTo>
                <a:close/>
              </a:path>
              <a:path fill="lighten" w="21600" h="55179">
                <a:moveTo>
                  <a:pt x="0" y="55179"/>
                </a:moveTo>
                <a:lnTo>
                  <a:pt x="0" y="0"/>
                </a:lnTo>
                <a:lnTo>
                  <a:pt x="1400" y="1400"/>
                </a:lnTo>
                <a:lnTo>
                  <a:pt x="1400" y="53779"/>
                </a:lnTo>
                <a:close/>
              </a:path>
              <a:path fill="darken" w="21600" h="55179">
                <a:moveTo>
                  <a:pt x="3794" y="24282"/>
                </a:moveTo>
                <a:lnTo>
                  <a:pt x="7301" y="24282"/>
                </a:lnTo>
                <a:lnTo>
                  <a:pt x="7301" y="29617"/>
                </a:lnTo>
                <a:cubicBezTo>
                  <a:pt x="7301" y="30540"/>
                  <a:pt x="8102" y="31271"/>
                  <a:pt x="9138" y="31271"/>
                </a:cubicBezTo>
                <a:lnTo>
                  <a:pt x="10800" y="31271"/>
                </a:lnTo>
                <a:cubicBezTo>
                  <a:pt x="11836" y="31271"/>
                  <a:pt x="12636" y="30540"/>
                  <a:pt x="12636" y="29617"/>
                </a:cubicBezTo>
                <a:lnTo>
                  <a:pt x="12636" y="24282"/>
                </a:lnTo>
                <a:lnTo>
                  <a:pt x="10800" y="24282"/>
                </a:lnTo>
                <a:lnTo>
                  <a:pt x="14308" y="20774"/>
                </a:lnTo>
                <a:lnTo>
                  <a:pt x="17981" y="24282"/>
                </a:lnTo>
                <a:lnTo>
                  <a:pt x="16144" y="24282"/>
                </a:lnTo>
                <a:lnTo>
                  <a:pt x="16144" y="29617"/>
                </a:lnTo>
                <a:cubicBezTo>
                  <a:pt x="16144" y="32385"/>
                  <a:pt x="13568" y="34944"/>
                  <a:pt x="10800" y="34944"/>
                </a:cubicBezTo>
                <a:lnTo>
                  <a:pt x="9138" y="34944"/>
                </a:lnTo>
                <a:cubicBezTo>
                  <a:pt x="6370" y="34944"/>
                  <a:pt x="3794" y="32385"/>
                  <a:pt x="3794" y="296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7240" y="-533160"/>
            <a:ext cx="1521000" cy="76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处处闻啼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0" name="Rectangle 3"/>
          <p:cNvSpPr/>
          <p:nvPr/>
        </p:nvSpPr>
        <p:spPr>
          <a:xfrm>
            <a:off x="3171960" y="1523880"/>
            <a:ext cx="5972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眠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处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闻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啼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362320" y="1905120"/>
            <a:ext cx="533160" cy="2057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6440" y="175248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99"/>
                </a:solidFill>
                <a:latin typeface="隶书"/>
                <a:ea typeface="隶书"/>
              </a:rPr>
              <a:t>所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95440" y="620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</a:rPr>
              <a:t>花落知多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3703680" y="1447920"/>
            <a:ext cx="41655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来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风雨声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落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多少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209680" y="1676520"/>
            <a:ext cx="533520" cy="236196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-179280" y="1676520"/>
            <a:ext cx="2374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经典隶书简"/>
                <a:ea typeface="经典隶书简"/>
              </a:rPr>
              <a:t>所 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Htm\ARRO13W1.GIF"/>
          <p:cNvPicPr/>
          <p:nvPr/>
        </p:nvPicPr>
        <p:blipFill>
          <a:blip r:embed="rId3"/>
          <a:stretch/>
        </p:blipFill>
        <p:spPr>
          <a:xfrm>
            <a:off x="7162920" y="556272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614520"/>
            <a:ext cx="475128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仿宋_GB2312"/>
              </a:rPr>
              <a:t>m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仿宋_GB2312"/>
              </a:rPr>
              <a:t>眠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                            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仿宋_GB2312"/>
              </a:rPr>
              <a:t>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仿宋_GB2312"/>
              </a:rPr>
              <a:t>啼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38480" y="2324160"/>
            <a:ext cx="198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眠（春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（冬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啼（啼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（啼笑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98920" y="620640"/>
            <a:ext cx="4105440" cy="1200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36920" y="1641600"/>
            <a:ext cx="16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:\wendang\My Pictures\b04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14600" y="5257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山花烂漫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.wav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24360" y="836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春晓：春天的早晨。晓，天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200" y="21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眠：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0640" y="312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闻：听见，听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52960" y="363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啼：鸟的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59880" y="2549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觉：感觉，知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27640" y="234324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句讲春天的夜里睡得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香，不知不觉地天已亮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21080" y="41497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二句讲蒙胧中想起昨天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听见刮风下雨的声音，经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吹雨打，不知有多少花朵凋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35280" y="620640"/>
            <a:ext cx="5256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7440" y="1866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7440" y="2637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7080" y="3429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7080" y="4221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20720" y="23385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思考：这首诗表达了作者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么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12400" y="35002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首诗表达了作者热爱春天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珍惜春光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685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04920"/>
            <a:ext cx="52578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经典楷体简"/>
              </a:rPr>
              <a:t>春眠不觉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经典楷体简"/>
              </a:rPr>
              <a:t>处处闻啼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5146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黑体简"/>
              </a:rPr>
              <a:t>    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经典黑体简"/>
              </a:rPr>
              <a:t>春天夜里睡得很熟，天亮了还不知道。醒来以后，听到到处都 是鸟儿的叫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经典仿宋简"/>
              </a:rPr>
              <a:t>夜来风雨声，</a:t>
            </a:r>
            <a:br>
              <a:rPr sz="7200"/>
            </a:b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经典仿宋简"/>
              </a:rPr>
              <a:t>花落知多少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26668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经典楷体简"/>
              </a:rPr>
              <a:t>    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经典楷体简"/>
              </a:rPr>
              <a:t>昨夜里听到一阵阵风雨声，被风吹雨打落下的花儿不知道有多少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近义词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闻</a:t>
            </a: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啼 </a:t>
            </a: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处处</a:t>
            </a: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447920"/>
            <a:ext cx="32004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到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反义词</a:t>
            </a:r>
            <a:r>
              <a:rPr b="0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多</a:t>
            </a: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来</a:t>
            </a: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209680"/>
            <a:ext cx="25146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00"/>
                </a:solidFill>
                <a:latin typeface="Times New Roman"/>
                <a:ea typeface="经典楷体简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00"/>
                </a:solidFill>
                <a:latin typeface="Times New Roman"/>
                <a:ea typeface="经典楷体简"/>
              </a:rPr>
              <a:t>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3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3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把笔画相同的字写在一起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雨 来 春 知 声 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2860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七画    八画    九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2860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 声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 知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42670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 闻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3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Cloud"/>
          <p:cNvSpPr/>
          <p:nvPr/>
        </p:nvSpPr>
        <p:spPr>
          <a:xfrm>
            <a:off x="762120" y="228600"/>
            <a:ext cx="2743200" cy="12193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3960 h 1219320"/>
              <a:gd name="textAreaBottom" fmla="*/ 978840 h 1219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双飞燕子几时回？夹岸桃李蘸水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62120" y="28954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宵一刻值千金，花有清香月有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62120" y="4572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等闲识得东风面，万紫千红总是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952880" y="2209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徐俯《春游湖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95288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苏轼《春宵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0292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朱熹《春日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914400" y="457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咏春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76960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E:\wendang\My Pictures\er_info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流水潺潺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.wav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02" name="WordArt 3"/>
          <p:cNvSpPr txBox="1"/>
          <p:nvPr/>
        </p:nvSpPr>
        <p:spPr>
          <a:xfrm>
            <a:off x="68580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巩固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62120" y="1676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闻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是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2193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闻  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9528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   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7696080" y="57913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3794"/>
                </a:moveTo>
                <a:lnTo>
                  <a:pt x="21861" y="10800"/>
                </a:lnTo>
                <a:lnTo>
                  <a:pt x="784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09" name="Text Box 4"/>
          <p:cNvSpPr/>
          <p:nvPr/>
        </p:nvSpPr>
        <p:spPr>
          <a:xfrm>
            <a:off x="99072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62120" y="1676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啼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是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2193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9528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叫  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38320" y="804960"/>
            <a:ext cx="15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背诵并默写这首古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E:\wendang\My Pictures\sprin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209680" y="53341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繁花满树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4.wav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E:\wendang\编辑\下学期\二册\二单元\2春晓\图片 副本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8580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有一位诗人写下了一首春天的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5.wav" descr=""/>
          <p:cNvPicPr/>
          <p:nvPr/>
        </p:nvPicPr>
        <p:blipFill>
          <a:blip r:embed="rId3"/>
          <a:stretch/>
        </p:blipFill>
        <p:spPr>
          <a:xfrm>
            <a:off x="838080" y="304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06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341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wendang\编辑\下学期\二册\二单元\2春晓\孟浩然(戴敦邦画).jpg"/>
          <p:cNvPicPr/>
          <p:nvPr/>
        </p:nvPicPr>
        <p:blipFill>
          <a:blip r:embed="rId2"/>
          <a:stretch/>
        </p:blipFill>
        <p:spPr>
          <a:xfrm>
            <a:off x="1447920" y="0"/>
            <a:ext cx="51102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471440" y="914400"/>
            <a:ext cx="667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孟浩然：唐代著名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8229600" y="594360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12408"/>
                </a:moveTo>
                <a:lnTo>
                  <a:pt x="17806" y="5402"/>
                </a:lnTo>
                <a:lnTo>
                  <a:pt x="17806" y="194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meng2.wav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wangcui\IMAGES\A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752480" y="380880"/>
            <a:ext cx="5639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春   晓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259056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586728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6668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    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029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   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2666880" y="3962520"/>
            <a:ext cx="3657600" cy="1218960"/>
            <a:chOff x="2666880" y="3962520"/>
            <a:chExt cx="3657600" cy="1218960"/>
          </a:xfrm>
        </p:grpSpPr>
        <p:sp>
          <p:nvSpPr>
            <p:cNvPr id="76" name="Line 9"/>
            <p:cNvSpPr/>
            <p:nvPr/>
          </p:nvSpPr>
          <p:spPr>
            <a:xfrm>
              <a:off x="2666880" y="3962520"/>
              <a:ext cx="167652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H="1">
              <a:off x="4495680" y="3962520"/>
              <a:ext cx="1828800" cy="120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1"/>
          <p:cNvSpPr/>
          <p:nvPr/>
        </p:nvSpPr>
        <p:spPr>
          <a:xfrm>
            <a:off x="2514600" y="51055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66"/>
                </a:solidFill>
                <a:uFillTx/>
                <a:latin typeface="Times New Roman"/>
                <a:ea typeface="楷体_GB2312"/>
              </a:rPr>
              <a:t>春天的早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wendang\编辑\下学期\二册\二单元\2春晓\图片 副本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133720" y="1219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21932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 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219320" y="3048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 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219320" y="3886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 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219320" y="48006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  落 知 多 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06668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zypyyb"/>
                <a:ea typeface="zypyyb"/>
              </a:rPr>
              <a:t>ch&amp;n mi2n b) ju6 xi3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0666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zypyyb"/>
                <a:ea typeface="zypyyb"/>
              </a:rPr>
              <a:t>ch)  ch)  w6n t0 ni3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066680" y="35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zypyyb"/>
                <a:ea typeface="zypyyb"/>
              </a:rPr>
              <a:t>y8   l2i f5ng y( sh5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066680" y="443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zypyyb"/>
                <a:ea typeface="zypyyb"/>
              </a:rPr>
              <a:t>hu3  lu^ zh9 du# sh3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85800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858000" y="2971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8580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扩展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>
            <a:hlinkClick r:id="" action="ppaction://hlinkshowjump?jump=endshow"/>
          </p:cNvPr>
          <p:cNvSpPr/>
          <p:nvPr/>
        </p:nvSpPr>
        <p:spPr>
          <a:xfrm>
            <a:off x="7848720" y="5715000"/>
            <a:ext cx="890640" cy="662040"/>
          </a:xfrm>
          <a:custGeom>
            <a:avLst/>
            <a:gdLst>
              <a:gd name="textAreaLeft" fmla="*/ 42840 w 890640"/>
              <a:gd name="textAreaRight" fmla="*/ 847800 w 890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9054" h="21600">
                <a:moveTo>
                  <a:pt x="0" y="0"/>
                </a:moveTo>
                <a:lnTo>
                  <a:pt x="29054" y="0"/>
                </a:lnTo>
                <a:lnTo>
                  <a:pt x="29054" y="21600"/>
                </a:lnTo>
                <a:lnTo>
                  <a:pt x="0" y="21600"/>
                </a:lnTo>
                <a:close/>
              </a:path>
              <a:path fill="lightenLess" w="29054" h="21600">
                <a:moveTo>
                  <a:pt x="0" y="0"/>
                </a:moveTo>
                <a:lnTo>
                  <a:pt x="29054" y="0"/>
                </a:lnTo>
                <a:lnTo>
                  <a:pt x="27654" y="1400"/>
                </a:lnTo>
                <a:lnTo>
                  <a:pt x="1400" y="1400"/>
                </a:lnTo>
                <a:close/>
              </a:path>
              <a:path fill="darken" w="29054" h="21600">
                <a:moveTo>
                  <a:pt x="29054" y="0"/>
                </a:moveTo>
                <a:lnTo>
                  <a:pt x="29054" y="21600"/>
                </a:lnTo>
                <a:lnTo>
                  <a:pt x="27654" y="20200"/>
                </a:lnTo>
                <a:lnTo>
                  <a:pt x="27654" y="1400"/>
                </a:lnTo>
                <a:close/>
              </a:path>
              <a:path fill="darkenLess" w="29054" h="21600">
                <a:moveTo>
                  <a:pt x="2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4" y="20200"/>
                </a:lnTo>
                <a:close/>
              </a:path>
              <a:path fill="lighten" w="2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78487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9:24:23Z</dcterms:created>
  <dc:creator>微软用户</dc:creator>
  <dc:description/>
  <dc:language>en-US</dc:language>
  <cp:lastModifiedBy>User</cp:lastModifiedBy>
  <dcterms:modified xsi:type="dcterms:W3CDTF">2015-08-04T12:16:01Z</dcterms:modified>
  <cp:revision>20</cp:revision>
  <dc:subject/>
  <dc:title>幻灯片 1</dc:title>
</cp:coreProperties>
</file>