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7D9-8D22-4DF8-B71C-58CE83FD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93A-E2D0-480F-A2BB-A865C8B8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940-7F32-48F7-8E0C-6C601C51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E5C-4323-47A6-B128-6A6746B6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E67-80A2-4ABB-8B3C-F8B44226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4EF-058B-4144-8F29-DF783CE6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A24-4749-4B8A-AE8A-5BA97C89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D96-5AEF-4BF0-92D4-A071362E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A09-1775-4E8C-A835-C5127C6E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59F-8BB7-4C3D-BBAF-8934BD2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CEA-ACBF-4D94-A8C1-1D111F3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6C3-F659-469A-B841-60A34E0F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B0F5-C3BF-4D88-B2B2-0EBA64DA17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DEB1-ED11-4E6E-A7A8-268127C62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hyperlink" Target="file:///&#26149;&#26195;.swf" TargetMode="Externa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wendang\My Pictures\sprin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676520" y="52578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万木吐绿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.wav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04920" y="152388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514600" y="304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眠：睡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146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晓：天亮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514600" y="2362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闻：听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14600" y="3124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啼鸟：鸟啼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鸟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514600" y="990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觉：觉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28600" y="380988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1523880" y="533520"/>
            <a:ext cx="685800" cy="3124080"/>
          </a:xfrm>
          <a:custGeom>
            <a:avLst/>
            <a:gdLst>
              <a:gd name="textAreaLeft" fmla="*/ 438120 w 685800"/>
              <a:gd name="textAreaRight" fmla="*/ 686160 w 6858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1600200" y="40384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春眠不觉晓，处处闻啼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85800" y="5486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释义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：</a:t>
            </a:r>
            <a:r>
              <a:rPr b="0" lang="zh-CN" sz="2400" spc="-1" strike="noStrike" u="sng">
                <a:solidFill>
                  <a:srgbClr val="ffff66"/>
                </a:solidFill>
                <a:uFillTx/>
                <a:latin typeface="Times New Roman"/>
              </a:rPr>
              <a:t>                                                                           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1828800" y="50292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春天的夜里睡的很香，不知不觉地天已亮了，窗外传来一片悦耳的鸟叫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15" name="Rectangle 3"/>
          <p:cNvSpPr/>
          <p:nvPr/>
        </p:nvSpPr>
        <p:spPr>
          <a:xfrm>
            <a:off x="3171960" y="1523880"/>
            <a:ext cx="59720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眠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不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觉晓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处处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闻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啼鸟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2362320" y="1905120"/>
            <a:ext cx="533160" cy="2057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66440" y="1752480"/>
            <a:ext cx="152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99"/>
                </a:solidFill>
                <a:latin typeface="隶书"/>
                <a:ea typeface="隶书"/>
              </a:rPr>
              <a:t>所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19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2860560" cy="23702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5"/>
          <p:cNvSpPr txBox="1"/>
          <p:nvPr/>
        </p:nvSpPr>
        <p:spPr>
          <a:xfrm>
            <a:off x="2590920" y="38088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自  学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209680" y="17524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夜来风雨声，花落知多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62120" y="35812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1600200" y="2971800"/>
            <a:ext cx="380880" cy="2057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133720" y="2819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夜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133720" y="3429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声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2133720" y="3962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落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133720" y="4572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知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685800" y="5562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句：</a:t>
            </a:r>
            <a:r>
              <a:rPr b="1" lang="zh-CN" sz="4800" spc="-1" strike="noStrike" u="sng">
                <a:solidFill>
                  <a:srgbClr val="3333cc"/>
                </a:solidFill>
                <a:uFillTx/>
                <a:latin typeface="Times New Roman"/>
                <a:ea typeface="隶书"/>
              </a:rPr>
              <a:t>                    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3200400" y="2743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夜  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124080" y="3505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3200400" y="3352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声  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320040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落下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00400" y="4495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知   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2057400" y="51814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忽然想起昨夜的风雨声，花儿落下了不知道有多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3703680" y="1447920"/>
            <a:ext cx="41655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夜来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风雨声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花落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多少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209680" y="1676520"/>
            <a:ext cx="533520" cy="236196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-179280" y="1676520"/>
            <a:ext cx="2374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经典隶书简"/>
                <a:ea typeface="经典隶书简"/>
              </a:rPr>
              <a:t>所 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C:\Htm\ARRO13W1.GIF"/>
          <p:cNvPicPr/>
          <p:nvPr/>
        </p:nvPicPr>
        <p:blipFill>
          <a:blip r:embed="rId2"/>
          <a:stretch/>
        </p:blipFill>
        <p:spPr>
          <a:xfrm>
            <a:off x="7162920" y="556272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41" name="WordArt 3"/>
          <p:cNvSpPr txBox="1"/>
          <p:nvPr/>
        </p:nvSpPr>
        <p:spPr>
          <a:xfrm>
            <a:off x="68580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巩固练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62120" y="1676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闻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是（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21932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闻  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505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   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696080" y="57913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3794"/>
                </a:moveTo>
                <a:lnTo>
                  <a:pt x="21861" y="10800"/>
                </a:lnTo>
                <a:lnTo>
                  <a:pt x="784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48" name="Text Box 4"/>
          <p:cNvSpPr/>
          <p:nvPr/>
        </p:nvSpPr>
        <p:spPr>
          <a:xfrm>
            <a:off x="99072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62120" y="1676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啼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是（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1932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4952880" y="3505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叫  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loud"/>
          <p:cNvSpPr/>
          <p:nvPr/>
        </p:nvSpPr>
        <p:spPr>
          <a:xfrm>
            <a:off x="762120" y="228600"/>
            <a:ext cx="2743200" cy="12193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183960 h 1219320"/>
              <a:gd name="textAreaBottom" fmla="*/ 978840 h 1219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62120" y="1447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双飞燕子几时回？夹岸桃李蘸水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2120" y="28954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宵一刻值千金，花有清香月有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62120" y="4572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等闲识得东风面，万紫千红总是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952880" y="2209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徐俯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春游湖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95288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苏轼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春宵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0292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－－朱熹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春日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914400" y="457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咏春名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76960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905120" y="990720"/>
            <a:ext cx="5257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过故人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孟浩然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故人具鸡黍，邀我至田家。绿树村边合，青山郭外斜。 开轩面场圃，把酒话桑麻待到重阳日，还来就菊花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784872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E:\wendang\My Pictures\b0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514600" y="52578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山花烂漫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2.wav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E:\wendang\My Pictures\er_inf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76520" y="4800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流水潺潺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.wav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E:\wendang\My Pictures\sprin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209680" y="53341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繁花满树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4.wav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E:\wendang\编辑\下学期\二册\二单元\2春晓\图片 副本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85800" y="304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有一位诗人写下了一首春天的诗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.wav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752480" y="380880"/>
            <a:ext cx="5639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春   晓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 flipH="1">
            <a:off x="2590560" y="213372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>
            <a:off x="5867280" y="213372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6668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    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029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早   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3"/>
          <p:cNvGrpSpPr/>
          <p:nvPr/>
        </p:nvGrpSpPr>
        <p:grpSpPr>
          <a:xfrm>
            <a:off x="2666880" y="3962520"/>
            <a:ext cx="3657600" cy="1218960"/>
            <a:chOff x="2666880" y="3962520"/>
            <a:chExt cx="3657600" cy="1218960"/>
          </a:xfrm>
        </p:grpSpPr>
        <p:sp>
          <p:nvSpPr>
            <p:cNvPr id="69" name="Line 9"/>
            <p:cNvSpPr/>
            <p:nvPr/>
          </p:nvSpPr>
          <p:spPr>
            <a:xfrm>
              <a:off x="2666880" y="3962520"/>
              <a:ext cx="167652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 flipH="1">
              <a:off x="4495680" y="3962520"/>
              <a:ext cx="1828800" cy="1207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514600" y="510552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66"/>
                </a:solidFill>
                <a:uFillTx/>
                <a:latin typeface="Times New Roman"/>
                <a:ea typeface="楷体_GB2312"/>
              </a:rPr>
              <a:t>春天的早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E:\wendang\编辑\下学期\二册\二单元\2春晓\图片 副本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133720" y="1219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219320" y="22096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  眠 不 觉 晓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219320" y="3048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处  处 闻 啼 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219320" y="38862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夜  来 风 雨 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219320" y="48006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花  落 知 多 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06668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zypyyb"/>
                <a:ea typeface="zypyyb"/>
              </a:rPr>
              <a:t>ch&amp;n mi2n b) ju6 xi3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06668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zypyyb"/>
                <a:ea typeface="zypyyb"/>
              </a:rPr>
              <a:t>ch)  ch)  w6n t0 ni3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066680" y="3595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zypyyb"/>
                <a:ea typeface="zypyyb"/>
              </a:rPr>
              <a:t>y8   l2i f5ng y( sh5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066680" y="44337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zypyyb"/>
                <a:ea typeface="zypyyb"/>
              </a:rPr>
              <a:t>hu3  lu^ zh9 du# sh3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>
            <a:hlinkClick r:id="rId2" action="ppaction://hlinksldjump"/>
          </p:cNvPr>
          <p:cNvSpPr/>
          <p:nvPr/>
        </p:nvSpPr>
        <p:spPr>
          <a:xfrm>
            <a:off x="6858000" y="22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>
            <a:hlinkClick r:id="rId3"/>
          </p:cNvPr>
          <p:cNvSpPr/>
          <p:nvPr/>
        </p:nvSpPr>
        <p:spPr>
          <a:xfrm>
            <a:off x="6858000" y="2971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>
            <a:hlinkClick r:id="rId4" action="ppaction://hlinksldjump"/>
          </p:cNvPr>
          <p:cNvSpPr/>
          <p:nvPr/>
        </p:nvSpPr>
        <p:spPr>
          <a:xfrm>
            <a:off x="6858000" y="36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扩展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7">
            <a:hlinkClick r:id="" action="ppaction://hlinkshowjump?jump=endshow"/>
          </p:cNvPr>
          <p:cNvSpPr/>
          <p:nvPr/>
        </p:nvSpPr>
        <p:spPr>
          <a:xfrm>
            <a:off x="7848720" y="5715000"/>
            <a:ext cx="890640" cy="662040"/>
          </a:xfrm>
          <a:custGeom>
            <a:avLst/>
            <a:gdLst>
              <a:gd name="textAreaLeft" fmla="*/ 42840 w 890640"/>
              <a:gd name="textAreaRight" fmla="*/ 847800 w 890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9054" h="21600">
                <a:moveTo>
                  <a:pt x="0" y="0"/>
                </a:moveTo>
                <a:lnTo>
                  <a:pt x="29054" y="0"/>
                </a:lnTo>
                <a:lnTo>
                  <a:pt x="29054" y="21600"/>
                </a:lnTo>
                <a:lnTo>
                  <a:pt x="0" y="21600"/>
                </a:lnTo>
                <a:close/>
              </a:path>
              <a:path fill="lightenLess" w="29054" h="21600">
                <a:moveTo>
                  <a:pt x="0" y="0"/>
                </a:moveTo>
                <a:lnTo>
                  <a:pt x="29054" y="0"/>
                </a:lnTo>
                <a:lnTo>
                  <a:pt x="27654" y="1400"/>
                </a:lnTo>
                <a:lnTo>
                  <a:pt x="1400" y="1400"/>
                </a:lnTo>
                <a:close/>
              </a:path>
              <a:path fill="darken" w="29054" h="21600">
                <a:moveTo>
                  <a:pt x="29054" y="0"/>
                </a:moveTo>
                <a:lnTo>
                  <a:pt x="29054" y="21600"/>
                </a:lnTo>
                <a:lnTo>
                  <a:pt x="27654" y="20200"/>
                </a:lnTo>
                <a:lnTo>
                  <a:pt x="27654" y="1400"/>
                </a:lnTo>
                <a:close/>
              </a:path>
              <a:path fill="darkenLess" w="29054" h="21600">
                <a:moveTo>
                  <a:pt x="2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4" y="20200"/>
                </a:lnTo>
                <a:close/>
              </a:path>
              <a:path fill="lighten" w="2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78487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3"/>
          <p:cNvGrpSpPr/>
          <p:nvPr/>
        </p:nvGrpSpPr>
        <p:grpSpPr>
          <a:xfrm>
            <a:off x="838080" y="304920"/>
            <a:ext cx="7620120" cy="5409720"/>
            <a:chOff x="838080" y="304920"/>
            <a:chExt cx="7620120" cy="5409720"/>
          </a:xfrm>
        </p:grpSpPr>
        <p:sp>
          <p:nvSpPr>
            <p:cNvPr id="91" name="Rectangle 4"/>
            <p:cNvSpPr/>
            <p:nvPr/>
          </p:nvSpPr>
          <p:spPr>
            <a:xfrm>
              <a:off x="838080" y="304920"/>
              <a:ext cx="7467840" cy="5232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>
              <a:off x="990720" y="482040"/>
              <a:ext cx="7467480" cy="52326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Text Box 6"/>
          <p:cNvSpPr/>
          <p:nvPr/>
        </p:nvSpPr>
        <p:spPr>
          <a:xfrm>
            <a:off x="1676520" y="685800"/>
            <a:ext cx="6095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眠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不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觉晓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处处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闻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啼鸟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夜来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风雨声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花落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多少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781680" y="586728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629400" y="6019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315200" y="5791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返  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E:\wendang\编辑\下学期\二册\二单元\2春晓\孟浩然(戴敦邦画).jpg"/>
          <p:cNvPicPr/>
          <p:nvPr/>
        </p:nvPicPr>
        <p:blipFill>
          <a:blip r:embed="rId2"/>
          <a:stretch/>
        </p:blipFill>
        <p:spPr>
          <a:xfrm>
            <a:off x="1447920" y="0"/>
            <a:ext cx="51102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471440" y="914400"/>
            <a:ext cx="667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孟浩然：唐代著名诗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8229600" y="594360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12408"/>
                </a:moveTo>
                <a:lnTo>
                  <a:pt x="17806" y="5402"/>
                </a:lnTo>
                <a:lnTo>
                  <a:pt x="17806" y="194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meng2.wav" descr=""/>
          <p:cNvPicPr/>
          <p:nvPr/>
        </p:nvPicPr>
        <p:blipFill>
          <a:blip r:embed="rId3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教学资源网整理发布：Http://www.21jiao.net</a:t>
            </a:r>
          </a:p>
        </p:txBody>
      </p:sp>
    </p:spTree>
  </p:cSld>
  <p:transition>
    <p:checker dir="horz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9:31:49Z</dcterms:created>
  <dc:creator>baixiuli</dc:creator>
  <dc:description/>
  <dc:language>en-US</dc:language>
  <cp:lastModifiedBy>User</cp:lastModifiedBy>
  <dcterms:modified xsi:type="dcterms:W3CDTF">2015-08-04T12:14:25Z</dcterms:modified>
  <cp:revision>16</cp:revision>
  <dc:subject/>
  <dc:title>PowerPoint 演示文稿</dc:title>
</cp:coreProperties>
</file>