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1F1-1987-410E-949E-2B723FA0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73D-9227-4D7F-8E4D-859A9A4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F199-25A0-4184-982B-00DD5366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DC32E-0482-41D8-975D-09546784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9FEB5-56E2-4850-B825-188105DF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3AC9D-86C3-46E2-A6BE-A0340BE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9D81B-B695-41E8-91DD-3BC22BD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9EFA-27FC-477E-B295-90180D7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59996-2D49-4E24-A747-6CAFC32B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3B3F4-54D8-455C-9E14-51D846B0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EB2E9-E2F3-4D98-B1ED-0841FBE5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A5D1D-22EF-4202-B738-284D0281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4ED-97F5-4A9B-8D58-C3DBF5B0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D1B35-A3BF-4C87-9633-32054CAC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A89A4-0770-4D6F-90C0-6CCE1FF5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85E0E-BD10-405F-882D-E3D27733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90C57-B129-4439-BAD9-E1B6CBFE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B4270-8676-497D-A7BF-B572937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4825-642F-4157-A873-4D5BA19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048D6-E2E7-4EB6-87E1-B5921D4E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806DF-F493-4995-9A5F-DF1422E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29962-61E7-4DCD-9018-68DB9D6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0EE25-4135-48A9-A4D0-B372F089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218-06A1-44BF-920A-6FACF1B6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2EB9B-9AA7-4345-B91A-0898F97D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A912E-CE2F-451C-9D3C-B80CE8BD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C419C-559C-4FD0-85B5-5AC20C8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D93C5-C45A-4702-A16A-2991CB9D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EF1BC-2178-4CC1-B127-443E0A88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69E2-762A-45F5-B076-FB15FEAA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A859D-705D-4441-925D-32A6492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38F4-4FCF-491E-A91E-745873D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C787-B69D-46AC-AA63-A6AF2E1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F5960-B302-4026-91C4-A769C60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7B32-D9D7-49BC-9CEA-C60CE4BF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54CB8-A466-47C6-B1F6-294E34C9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4A588-55BC-4D91-A532-BC8CF68E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E4A59-A472-4B38-B3FE-0EEEEA73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E4604-73F3-4B61-81CD-DE16E21F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162B4-70FF-41B5-AF22-26F2E81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3BF58-89DF-45F5-8375-619AFD4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929AB-375E-41BA-A0B0-F81D79A9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1725D-28DF-4903-8369-889E2BD4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981A9-8923-40FC-B612-3726D8FE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1047F-1AE0-4EC2-B84E-16E3E01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8957-F800-4868-9FFF-06A23B75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8CAD6-46D3-4CE2-A105-E2D20D3E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49D81-C4A9-4DB5-B31A-6B55653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2CE56-DCC7-4414-AF3C-AC942B82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B9C18-A455-4E00-9E71-0A1E1901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79852-18F1-4F43-ADB6-0FD84862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7BE66-F2AF-44AB-A8D0-9C09E25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EE245-D91C-498A-975A-6D9FE70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324E4-4B26-43C5-AE26-86F3C64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D408C-19E2-4ABD-9599-FF2C753E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0207D-66A0-48B1-B7A2-F7E71AC3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5D0E-F7B8-4525-937F-66851EDA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2F80B-B12C-4971-BC7F-DC7C52A5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47C5E-240C-40CA-8DC9-B6C0FC0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E9B14-16DF-430C-8AFE-1799E1D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DAF68-90C7-4BFF-A539-7098045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E5469-137D-48D4-9E51-0581ECCC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D6DC7-272C-4E7C-93D2-8047FDA5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B7083-D52D-40A3-B235-D09D2F53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D8B37-7D60-4BDD-ACF0-89DE6D24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22896-547F-4BDD-A81F-EC58A2F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7AB22-2776-42D8-B7CB-BF6FE3C6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DFA0-7285-4C8B-AF95-6DECA6C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2DBF4-D8D8-4D81-B790-1DD88784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E71C2-DB18-4EE7-9779-35878CFE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F13DA-1DA5-4CF4-8630-94DAA6F3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4E6B5-4DE8-48DF-8078-FA21426D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4D0BF-3C16-45A9-B12D-4C9A87E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24D0A-E42D-4969-BFAC-99346C1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168F4-831E-4B2D-BD48-B3C49DF8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1C2E4-A305-4CA5-88B8-FC5C409B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21C77-D43B-426E-A7E4-914E3037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16E4F-6ACF-42BB-AF7C-2288119A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37E7-0E0D-4E3A-8667-480E9CE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099DC-B376-4FBB-B97C-2F1ADB8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61FB8-804E-41DA-B1C7-C233D36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64B31-8E21-4052-965D-8A66CC2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418FF-EAAB-4FC9-93EF-DFBC8C9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10B51-8427-4C40-A515-9F93879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32EC0-80FE-4733-BF64-CD31AD8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5FE87-1F87-400E-BF4B-A6B0BB2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39EFA-CC43-4853-B12D-DAA785B9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AFF7F-D31F-4B09-A1AA-FE477E6A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A19CE-E094-46D4-922E-3A16CFBB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889-6E04-4BF1-BD91-2265E91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BB870-A3C4-4838-AE7F-EA1EA032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D8CBA-7434-471A-9987-AF58ABD3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DC2FC-9BC5-4B54-884F-62083243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37F80-A4E6-4A01-A557-9E4A5C03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928C1-A56F-46FE-93F6-05BD1358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F4708-086E-4C2C-8030-DDD82C5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198DF-CFC4-4222-AA01-C03E51B4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79CAA-867A-4BBE-A24C-3424A02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D9C66-B9FC-4D3A-B3B6-D430B61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088D0-8267-412B-A3BF-AC82FFF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446-977F-4DF8-8D09-ADA2B8B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24A9C-9A4E-4E9D-8AEB-5AFE8566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55108-87E4-4644-BC6E-23F7B297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30387-9CD4-425E-945B-89E5B749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D2182-575F-4AFA-9419-3FE31A8D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4BFE1-8E5B-4301-ADEC-709F211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87915-CA38-4391-9936-1CEC2C65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8FCC0-DD2E-454D-AD18-62507E33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B3906-A8BC-46C9-80AA-6CBCB29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5217A-ECAD-4334-A711-FD5FA17A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E8E76-AD2E-4B9A-A18C-96D6DD3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CF6-1B55-44C8-8DF6-24978609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CE72-2722-4A32-92D7-89F4328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B6B44-052A-4C5B-BE5D-428E430C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13800-3318-4337-92B7-2A63C8E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EB31D-54BB-41B7-8A62-E774FD5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743B2-9E14-4EB9-8A23-DF11BBF2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2DA58-16CC-43D2-BC80-92578470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3404B-D58E-4CAE-8793-A260842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CE262-53F7-4AA2-821A-81DF66F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65071-911E-47BE-BC28-9DEF4A2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6E29E-7B70-4B40-B459-0E1FE0DF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28280-5EDF-4AED-A4D4-EDAADA2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1AF3-2E48-4613-A4D6-62EF2B4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D7CD3-247E-4D94-8ED5-C2B4DBE7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2ECD8-E6D7-467E-BB05-7697DD7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5F702-AE75-4376-8523-6174B94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FA291-0FA2-4F45-AECA-DC9B98F4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1ED73-C1FC-4BB3-84AB-4C836848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70474-977F-4EA6-9523-7E2CA5B9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C5DBA-9EAC-4523-BEFF-ACF47139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2246-C3DA-4E34-9D48-F85DEB6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63CA-2DAE-4074-A501-046662B3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13B1-2B6D-45B3-8E10-9120F7B9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424C-8B8E-4591-AB17-1A559D6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39F4-D6C0-4286-88EE-40F84A9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133B-705D-47A0-9A86-69A716E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614D-4F21-47A2-B39C-408DE952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2338-933F-4C01-8965-330B4CF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A2C-DEE4-4E71-95E2-AFEBDBE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E33C-A789-4076-8421-199C803B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353A-B51F-4708-A241-F629AD8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4332-7346-48D0-BCD8-C30BDF1C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B273-ABD8-491F-A51A-18C8CECB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D735-9953-4DEE-B118-5F87D0C6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C12B-9A3D-4BE1-B5C0-866F9903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5AB6-E6B2-4FBC-9F2D-3BD09666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B27D-15F3-40CE-AF27-0A34314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3657-E5AD-47D8-BE91-01D29E49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F053-E36A-4D51-8F85-98249C7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FDF-9D46-4010-ACC9-45E4BF1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B317-F4C6-467D-A97C-65F9AF51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26B5-9DF4-4D63-BE6E-F1A9EF6E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C651-41AC-4493-A43E-7117FE0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8153-A118-40B8-937A-C622915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7CC2-0054-4D89-A95C-ED31BF1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B3CC-1BEE-4409-9EB0-2C36254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3E62-A58C-4F4E-A821-6C546614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6D72-B4EA-4B81-B6AD-031EE9BC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3C66-B304-4048-9C0C-9AA4D0BA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67FE-7382-45ED-BED0-76A3C2DD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23E-1CAB-4797-B049-8A185E2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7B8B-84F8-4985-ADFB-8CDA135F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5910-B641-4B6E-A803-0ECCA68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84589-721D-492E-B3E5-8B8F07D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715C-C864-401F-BA95-06F022F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66F2-00A6-4EF2-BBB1-30A2F11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30999-8B60-4336-B76B-B2364B5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DD9F0-48B4-466C-8321-ED93607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8019-1E1A-4CAD-82D2-C61C405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EDD67-C19B-465A-B6E1-A3F335D4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70AA-1CB6-4528-839A-5EB3FBC1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C37-F65D-4CFA-B41A-0D99D521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0209-B9BF-4E1F-A534-F749256F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099D6-8E86-417B-A841-66A557FE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4CE1-2E7D-4D7C-969E-EB8AE58B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701D-130C-4D2F-A19F-443CB4D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08547-513B-4CD8-94BF-5E553E4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BE61-BE3A-44B5-BF0C-81CBC184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20AF4-C5B6-4E8A-9D18-65FF1BD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437F-447E-46B2-858D-13C44A5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53A35-2D5E-44E9-9619-B506A02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47267-5883-48C3-A94E-7DE9620E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4D2-DD6F-4542-9205-5535882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BB7E7-80EA-421F-B77B-C4240B30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E60D-B12C-4CED-82FA-04D089F3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0D84-854C-40E7-8746-B672C72A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31A1-9B77-4E04-B868-A3236AF6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F29F4-98BC-45DF-994F-700EE711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D96A-1AB8-4BAE-8A57-EC3ADEC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277B-E483-4E51-A3D1-9CE4595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68DA-0AD6-4829-BE4F-70E3E5CB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CDF8A-5139-4E28-9137-AF8E84F3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CCD4D-EE4A-4E68-929F-2ED7852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2BA-5AD3-4C84-BE74-66D2775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AB1B0-FBCF-4CAD-9D0D-BE61715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EE03-17FC-47E9-A8C1-7FC0631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D6AF2-40FD-41DD-B080-C956737D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70538-A298-46AA-998E-D324DD25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EC330-47FD-405E-9BB7-C9677044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E94E-052F-4553-B3F6-C095C065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C8DB5-08C7-4F6D-9738-BFB4B1D1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ED6F6-CBA6-4990-9503-952FFF7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2B1CB-CADC-4DD5-8E2F-A3384A8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6164-AE7D-4D65-85FD-7BB096EF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334-8208-435A-9D5B-D87CB8F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3F73-41B8-4CC2-97A6-12472FC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B684D-8937-41F8-8673-AB1AD50B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9CC4C-9FDA-4374-8B11-C1DAC75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4E7BA-DBA2-4148-ACD2-CE4EB06E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995D0-C717-4A6F-A5E3-8705282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E7B3C-501A-405E-937E-A329F88C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A3EC-CFF3-40B4-A186-EF23209B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9652E-5D2C-40AA-9F6D-2CB5964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2CA3B-DD12-4B6A-90E4-CD97B88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4A634-E550-414A-AC4C-E09C092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C9A0-497F-405B-A7EA-818FAA22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990-E27A-416B-8D33-1593244A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48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49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17"/>
            <p:cNvGrpSpPr/>
            <p:nvPr/>
          </p:nvGrpSpPr>
          <p:grpSpPr>
            <a:xfrm>
              <a:off x="4138920" y="1037520"/>
              <a:ext cx="1017360" cy="1263240"/>
              <a:chOff x="4138920" y="1037520"/>
              <a:chExt cx="1017360" cy="1263240"/>
            </a:xfrm>
          </p:grpSpPr>
          <p:sp>
            <p:nvSpPr>
              <p:cNvPr id="763" name="Freeform 18"/>
              <p:cNvSpPr/>
              <p:nvPr/>
            </p:nvSpPr>
            <p:spPr>
              <a:xfrm rot="3220200">
                <a:off x="4554720" y="10753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"/>
              <p:cNvSpPr/>
              <p:nvPr/>
            </p:nvSpPr>
            <p:spPr>
              <a:xfrm rot="3220200">
                <a:off x="4639680" y="1609200"/>
                <a:ext cx="48924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0"/>
              <p:cNvSpPr/>
              <p:nvPr/>
            </p:nvSpPr>
            <p:spPr>
              <a:xfrm rot="3220200">
                <a:off x="4099320" y="19670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767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71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775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79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5A18-74F4-4136-86DE-A845D7E916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83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46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92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11B-BD01-47B2-A186-EF54C79F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4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234B-B172-4BDF-80C1-79ECF1D9CD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12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0928-74D7-490B-9FA3-9FE895E733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DF09-8B32-478E-B0C6-CD64111133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4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4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4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10CD-AD4B-40E7-83B1-AB32D15F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4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5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5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237-A480-492B-A26D-2C6D7F9DD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A852-492A-486F-A0D3-8DA2C9F7FE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4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9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5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15"/>
              <p:cNvGrpSpPr/>
              <p:nvPr/>
            </p:nvGrpSpPr>
            <p:grpSpPr>
              <a:xfrm>
                <a:off x="852840" y="4055400"/>
                <a:ext cx="1832760" cy="1663200"/>
                <a:chOff x="852840" y="4055400"/>
                <a:chExt cx="1832760" cy="1663200"/>
              </a:xfrm>
            </p:grpSpPr>
            <p:sp>
              <p:nvSpPr>
                <p:cNvPr id="56" name="Freeform 16"/>
                <p:cNvSpPr/>
                <p:nvPr/>
              </p:nvSpPr>
              <p:spPr>
                <a:xfrm flipH="1" rot="7102800">
                  <a:off x="1263240" y="3944880"/>
                  <a:ext cx="474480" cy="1216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7"/>
                <p:cNvSpPr/>
                <p:nvPr/>
              </p:nvSpPr>
              <p:spPr>
                <a:xfrm flipH="1" rot="7102800">
                  <a:off x="2327760" y="497340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8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0153-4969-49BF-944C-85352EC939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6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7" name="Rectangle 1027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28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29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30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1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32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33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34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35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36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37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8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39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0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41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2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3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44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45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6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7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48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49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50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51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52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53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54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55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56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57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58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59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60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61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62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63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64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65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6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7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68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69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70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71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72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73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74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75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76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77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78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79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80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81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82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83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84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85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86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87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8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89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90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91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92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93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94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95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96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97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98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99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00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01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02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03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04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05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06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07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08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09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10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11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12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13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14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15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6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17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8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9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0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21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122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23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24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25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26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27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8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29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30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31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2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33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34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35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36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37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38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39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40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41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42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43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44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45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46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147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48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49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50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51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52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53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54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55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56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57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58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59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60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61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62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63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64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5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66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67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68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69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70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71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72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3" name="Freeform 1173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174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75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76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77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78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79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80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81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82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3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84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85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186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7" name="Freeform 1187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88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89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90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91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92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93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94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95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96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97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98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99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200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01" name="Freeform 1201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02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03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04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05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06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07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208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209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210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11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12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3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214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5" name="Freeform 1215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16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17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18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19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20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21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22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23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24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25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26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27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228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9" name="Freeform 1229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30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31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32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33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34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235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236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237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38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39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40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241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242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3" name="Freeform 1243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244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45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46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47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48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9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0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1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52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53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54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255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256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57" name="Freeform 1257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258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59" name="Freeform 1259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260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61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262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63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264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265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266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267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268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269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270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271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216-9CB5-43A3-A0D9-E0C904BED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192-FC4F-4914-9474-D0BB73CAA3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26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27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3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CA2-2FFC-4EB8-8A32-5486291DA3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033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034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FA8-FE8D-4EAF-BF9B-4150C9E0DD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D28A-6533-4919-9860-5FABE367F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2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24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8EDB-D29C-4DF6-BDEF-0C3DA9483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031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032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033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34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947C-79B3-4C60-B626-F842DB370B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WordArt 4"/>
          <p:cNvSpPr txBox="1"/>
          <p:nvPr/>
        </p:nvSpPr>
        <p:spPr>
          <a:xfrm>
            <a:off x="1258920" y="1125360"/>
            <a:ext cx="568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出师表</a:t>
            </a:r>
            <a:endParaRPr b="1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340" name="Text Box 5"/>
          <p:cNvSpPr/>
          <p:nvPr/>
        </p:nvSpPr>
        <p:spPr>
          <a:xfrm>
            <a:off x="4356000" y="4437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</a:rPr>
              <a:t>诸 葛 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4"/>
          <p:cNvSpPr/>
          <p:nvPr/>
        </p:nvSpPr>
        <p:spPr>
          <a:xfrm>
            <a:off x="0" y="26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听录音朗读课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注意以下字的读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5"/>
          <p:cNvSpPr/>
          <p:nvPr/>
        </p:nvSpPr>
        <p:spPr>
          <a:xfrm>
            <a:off x="228600" y="914400"/>
            <a:ext cx="84391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    陛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      以塞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忠谏                 陟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     臧否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 p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  攸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  以遗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陛下        咨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稗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   阙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漏       颓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桓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        猥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ě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危难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     二十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ò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一年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夙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      驽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     攘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ǎ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彰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  咎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      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涕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4"/>
          <p:cNvSpPr/>
          <p:nvPr/>
        </p:nvSpPr>
        <p:spPr>
          <a:xfrm>
            <a:off x="250920" y="134136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每人小声朗读课文，注意    读准字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思考：此文写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出师表.wav" descr=""/>
          <p:cNvPicPr/>
          <p:nvPr/>
        </p:nvPicPr>
        <p:blipFill>
          <a:blip r:embed="rId1"/>
          <a:stretch/>
        </p:blipFill>
        <p:spPr>
          <a:xfrm>
            <a:off x="1116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99719" fill="hold"/>
                                        <p:tgtEl>
                                          <p:spTgt spid="1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4"/>
          <p:cNvSpPr/>
          <p:nvPr/>
        </p:nvSpPr>
        <p:spPr>
          <a:xfrm>
            <a:off x="250920" y="260280"/>
            <a:ext cx="712764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品读第一小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齐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试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5"/>
          <p:cNvSpPr/>
          <p:nvPr/>
        </p:nvSpPr>
        <p:spPr>
          <a:xfrm>
            <a:off x="380880" y="3124080"/>
            <a:ext cx="8028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诸葛亮在奏表的开头一段向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宋体"/>
              </a:rPr>
              <a:t>刘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什么劝谏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诸葛亮分析形势的利弊，不利条件是什么？有利条件是什么？此段宗旨是什么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6"/>
          <p:cNvSpPr/>
          <p:nvPr/>
        </p:nvSpPr>
        <p:spPr>
          <a:xfrm>
            <a:off x="533520" y="762120"/>
            <a:ext cx="5651280" cy="3382920"/>
          </a:xfrm>
          <a:prstGeom prst="wedgeRectCallout">
            <a:avLst>
              <a:gd name="adj1" fmla="val 72726"/>
              <a:gd name="adj2" fmla="val 34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刘禅，字公嗣，小名阿斗，刘备的大儿子，建安二十四年（公元二一九年）立为太子。刘备死后继位于成都，称帝时十七岁。在位期间，由丞相诸葛亮辅佐执政。诸葛亮死后，因信任宦官黄皓，致使姜维从北伐中原的前线撤回汉中沓中屯田开荒。炎兴元年（公元二六三年）邓艾领军从阴平险道奇袭成都，刘禅出位投降，被封为安乐公。后人作诗叹息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追欢作乐笑颜开，不念危亡半点哀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快乐异乡忘故国，方知后主是庸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" dur="1" fill="hold"/>
                                  <p:tgtEl>
                                    <p:spTgt spid="1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2"/>
          <p:cNvSpPr/>
          <p:nvPr/>
        </p:nvSpPr>
        <p:spPr>
          <a:xfrm>
            <a:off x="914400" y="990720"/>
            <a:ext cx="563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3"/>
          <p:cNvSpPr/>
          <p:nvPr/>
        </p:nvSpPr>
        <p:spPr>
          <a:xfrm>
            <a:off x="0" y="914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此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危急存亡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4"/>
          <p:cNvSpPr/>
          <p:nvPr/>
        </p:nvSpPr>
        <p:spPr>
          <a:xfrm>
            <a:off x="0" y="2133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侍卫之臣不懈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忠志之士忘身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者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追先帝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殊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5"/>
          <p:cNvSpPr/>
          <p:nvPr/>
        </p:nvSpPr>
        <p:spPr>
          <a:xfrm>
            <a:off x="0" y="396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诚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开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圣听，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先帝遗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恢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志士之气，不宜妄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菲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6"/>
          <p:cNvSpPr/>
          <p:nvPr/>
        </p:nvSpPr>
        <p:spPr>
          <a:xfrm>
            <a:off x="1523880" y="0"/>
            <a:ext cx="12193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7"/>
          <p:cNvSpPr/>
          <p:nvPr/>
        </p:nvSpPr>
        <p:spPr>
          <a:xfrm>
            <a:off x="4343400" y="0"/>
            <a:ext cx="12193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8"/>
          <p:cNvSpPr/>
          <p:nvPr/>
        </p:nvSpPr>
        <p:spPr>
          <a:xfrm>
            <a:off x="1066680" y="1295280"/>
            <a:ext cx="12193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然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9"/>
          <p:cNvSpPr/>
          <p:nvPr/>
        </p:nvSpPr>
        <p:spPr>
          <a:xfrm>
            <a:off x="4724280" y="1295280"/>
            <a:ext cx="1600200" cy="762120"/>
          </a:xfrm>
          <a:prstGeom prst="wedgeRoundRectCallout">
            <a:avLst>
              <a:gd name="adj1" fmla="val -45236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宫廷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10"/>
          <p:cNvSpPr/>
          <p:nvPr/>
        </p:nvSpPr>
        <p:spPr>
          <a:xfrm>
            <a:off x="457200" y="3200400"/>
            <a:ext cx="1219320" cy="762120"/>
          </a:xfrm>
          <a:prstGeom prst="wedgeRoundRectCallout">
            <a:avLst>
              <a:gd name="adj1" fmla="val -69791"/>
              <a:gd name="adj2" fmla="val -475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边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1"/>
          <p:cNvSpPr/>
          <p:nvPr/>
        </p:nvSpPr>
        <p:spPr>
          <a:xfrm>
            <a:off x="5791320" y="2666880"/>
            <a:ext cx="2743200" cy="762120"/>
          </a:xfrm>
          <a:prstGeom prst="wedgeRoundRectCallout">
            <a:avLst>
              <a:gd name="adj1" fmla="val -86634"/>
              <a:gd name="adj2" fmla="val 16041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特别厚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12"/>
          <p:cNvSpPr/>
          <p:nvPr/>
        </p:nvSpPr>
        <p:spPr>
          <a:xfrm>
            <a:off x="2971800" y="3352680"/>
            <a:ext cx="4114800" cy="762120"/>
          </a:xfrm>
          <a:prstGeom prst="wedgeRoundRectCallout">
            <a:avLst>
              <a:gd name="adj1" fmla="val -77814"/>
              <a:gd name="adj2" fmla="val -587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表提示原因，不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13"/>
          <p:cNvSpPr/>
          <p:nvPr/>
        </p:nvSpPr>
        <p:spPr>
          <a:xfrm>
            <a:off x="2362320" y="5105520"/>
            <a:ext cx="1218960" cy="761760"/>
          </a:xfrm>
          <a:prstGeom prst="wedgeRoundRectCallout">
            <a:avLst>
              <a:gd name="adj1" fmla="val -83592"/>
              <a:gd name="adj2" fmla="val -128333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14"/>
          <p:cNvSpPr/>
          <p:nvPr/>
        </p:nvSpPr>
        <p:spPr>
          <a:xfrm>
            <a:off x="5410080" y="4952880"/>
            <a:ext cx="3429000" cy="762120"/>
          </a:xfrm>
          <a:prstGeom prst="wedgeRoundRectCallout">
            <a:avLst>
              <a:gd name="adj1" fmla="val -66388"/>
              <a:gd name="adj2" fmla="val -104583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使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发扬光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AutoShape 15"/>
          <p:cNvSpPr/>
          <p:nvPr/>
        </p:nvSpPr>
        <p:spPr>
          <a:xfrm>
            <a:off x="6324480" y="2666880"/>
            <a:ext cx="3429000" cy="762120"/>
          </a:xfrm>
          <a:prstGeom prst="wedgeRoundRectCallout">
            <a:avLst>
              <a:gd name="adj1" fmla="val -12268"/>
              <a:gd name="adj2" fmla="val 1287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使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发扬光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16"/>
          <p:cNvSpPr/>
          <p:nvPr/>
        </p:nvSpPr>
        <p:spPr>
          <a:xfrm>
            <a:off x="4343400" y="5715000"/>
            <a:ext cx="1219320" cy="762120"/>
          </a:xfrm>
          <a:prstGeom prst="wedgeRoundRectCallout">
            <a:avLst>
              <a:gd name="adj1" fmla="val -71222"/>
              <a:gd name="adj2" fmla="val -128541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轻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WordArt 1026"/>
          <p:cNvSpPr txBox="1"/>
          <p:nvPr/>
        </p:nvSpPr>
        <p:spPr>
          <a:xfrm>
            <a:off x="2819520" y="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一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391" name="Text Box 1027"/>
          <p:cNvSpPr/>
          <p:nvPr/>
        </p:nvSpPr>
        <p:spPr>
          <a:xfrm>
            <a:off x="53352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先帝创建统一全国的大业还没有完成一半，就中途去世了。现在天下分裂成三国，我们蜀国贫困衰弱，这真正是形势危急、决定存亡的关头啊。可是，侍卫大臣们在宫廷里毫不懈怠，忠诚的将士们在边境上奋不顾身，这是因为他们追念先帝特别厚待，想要在陛下身上来报答。（陛下）确实应该扩大圣明的听闻，发扬光大先帝遗留下来的美德，发扬扩大有抱负的人们的志气，而不应当随便看轻自己，说话不恰当，以致堵塞忠臣进谏的道路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WordArt 4"/>
          <p:cNvSpPr txBox="1"/>
          <p:nvPr/>
        </p:nvSpPr>
        <p:spPr>
          <a:xfrm rot="669000">
            <a:off x="745920" y="496800"/>
            <a:ext cx="4679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品读第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2</a:t>
            </a: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小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0000"/>
              </a:gradFill>
              <a:latin typeface="宋体"/>
              <a:ea typeface="宋体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539640" y="2060640"/>
            <a:ext cx="77774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1187280" y="4076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诸葛亮向刘禅提出什么谏诫？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6"/>
          <p:cNvSpPr/>
          <p:nvPr/>
        </p:nvSpPr>
        <p:spPr>
          <a:xfrm>
            <a:off x="395280" y="1197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不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异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1027"/>
          <p:cNvSpPr/>
          <p:nvPr/>
        </p:nvSpPr>
        <p:spPr>
          <a:xfrm>
            <a:off x="39528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作奸犯科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忠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AutoShape 1028"/>
          <p:cNvSpPr/>
          <p:nvPr/>
        </p:nvSpPr>
        <p:spPr>
          <a:xfrm>
            <a:off x="1332000" y="1844640"/>
            <a:ext cx="1295280" cy="2160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1029"/>
          <p:cNvSpPr/>
          <p:nvPr/>
        </p:nvSpPr>
        <p:spPr>
          <a:xfrm>
            <a:off x="1908000" y="836640"/>
            <a:ext cx="1151280" cy="431640"/>
          </a:xfrm>
          <a:custGeom>
            <a:avLst/>
            <a:gdLst>
              <a:gd name="textAreaLeft" fmla="*/ 201240 w 1151280"/>
              <a:gd name="textAreaRight" fmla="*/ 834840 w 1151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1031"/>
          <p:cNvSpPr/>
          <p:nvPr/>
        </p:nvSpPr>
        <p:spPr>
          <a:xfrm>
            <a:off x="4356000" y="1844640"/>
            <a:ext cx="576360" cy="0"/>
          </a:xfrm>
          <a:prstGeom prst="line">
            <a:avLst/>
          </a:prstGeom>
          <a:ln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032"/>
          <p:cNvSpPr/>
          <p:nvPr/>
        </p:nvSpPr>
        <p:spPr>
          <a:xfrm>
            <a:off x="90000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宋体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033"/>
          <p:cNvSpPr/>
          <p:nvPr/>
        </p:nvSpPr>
        <p:spPr>
          <a:xfrm>
            <a:off x="435600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宋体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034"/>
          <p:cNvSpPr/>
          <p:nvPr/>
        </p:nvSpPr>
        <p:spPr>
          <a:xfrm>
            <a:off x="601200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Arial"/>
              </a:rPr>
              <a:t>……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宋体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1035"/>
          <p:cNvSpPr/>
          <p:nvPr/>
        </p:nvSpPr>
        <p:spPr>
          <a:xfrm>
            <a:off x="3708360" y="333360"/>
            <a:ext cx="3743280" cy="647640"/>
          </a:xfrm>
          <a:prstGeom prst="wedgeRoundRectCallout">
            <a:avLst>
              <a:gd name="adj1" fmla="val -70481"/>
              <a:gd name="adj2" fmla="val 1014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例如：否极泰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2"/>
          <p:cNvSpPr/>
          <p:nvPr/>
        </p:nvSpPr>
        <p:spPr>
          <a:xfrm>
            <a:off x="914400" y="17524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皇宫中和朝廷中，都是一个整体，奖惩功过、好坏，不应该因在宫中和府中而不同。如果有做奸邪事情、触犯法令以及尽忠办好事的人，应当交给主管的官判定他们受罚或受赏，来显示陛下公平严明的治理，而不应当有偏袒和私心，造成宫廷和朝廷刑赏之法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二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WordArt 4"/>
          <p:cNvSpPr txBox="1"/>
          <p:nvPr/>
        </p:nvSpPr>
        <p:spPr>
          <a:xfrm rot="469200">
            <a:off x="1618920" y="404640"/>
            <a:ext cx="5257800" cy="8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品读第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3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、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4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小节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0000"/>
              </a:gradFill>
              <a:latin typeface="宋体"/>
              <a:ea typeface="宋体"/>
            </a:endParaRPr>
          </a:p>
        </p:txBody>
      </p:sp>
      <p:sp>
        <p:nvSpPr>
          <p:cNvPr id="1411" name="Text Box 5"/>
          <p:cNvSpPr/>
          <p:nvPr/>
        </p:nvSpPr>
        <p:spPr>
          <a:xfrm>
            <a:off x="539640" y="198900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试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6"/>
          <p:cNvSpPr/>
          <p:nvPr/>
        </p:nvSpPr>
        <p:spPr>
          <a:xfrm>
            <a:off x="1187280" y="3933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两段的内容是什么？（要求用一句话作答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页脚占位符 2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2"/>
          <p:cNvSpPr/>
          <p:nvPr/>
        </p:nvSpPr>
        <p:spPr>
          <a:xfrm>
            <a:off x="228600" y="533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侍中、侍郎郭攸之、费祎、董允等人，都善良诚实的人，志向和心思都忠诚无二，因此先帝把他们选拔出来留给陛下（使用）。我以为宫中的事情，不论大小，都拿来问问他们，然后实行，就一定能够补救缺点和疏漏之处，得到更多的成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将军向宠，性情品德善良平正，对军事精通熟练，从前试用他的时候，先帝曾称赞他有才能，因此大家商议推举他做中部督。我认为军队中的事情，都可以拿来跟他商讨，一定能使部队团结一心，才能高的才能低的各得其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三、四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5"/>
          <p:cNvSpPr/>
          <p:nvPr/>
        </p:nvSpPr>
        <p:spPr>
          <a:xfrm>
            <a:off x="4103640" y="1989000"/>
            <a:ext cx="504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的鹅毛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妙莫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三气周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施小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借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借无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挥泪斩马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顾全大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要丑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事业着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6"/>
          <p:cNvSpPr/>
          <p:nvPr/>
        </p:nvSpPr>
        <p:spPr>
          <a:xfrm>
            <a:off x="4500720" y="2349360"/>
            <a:ext cx="446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招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才重于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用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出鬼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的锦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机妙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曹操诸葛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脾气不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隆中对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先见之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7" descr="诸葛像"/>
          <p:cNvPicPr/>
          <p:nvPr/>
        </p:nvPicPr>
        <p:blipFill>
          <a:blip r:embed="rId1"/>
          <a:stretch/>
        </p:blipFill>
        <p:spPr>
          <a:xfrm>
            <a:off x="0" y="533520"/>
            <a:ext cx="3733920" cy="6324480"/>
          </a:xfrm>
          <a:prstGeom prst="rect">
            <a:avLst/>
          </a:prstGeom>
          <a:ln w="0">
            <a:noFill/>
          </a:ln>
        </p:spPr>
      </p:pic>
      <p:sp>
        <p:nvSpPr>
          <p:cNvPr id="1345" name="Text Box 4"/>
          <p:cNvSpPr/>
          <p:nvPr/>
        </p:nvSpPr>
        <p:spPr>
          <a:xfrm>
            <a:off x="284328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诸葛亮这位著名的历史人物，大家比较熟悉。你知道的有关诸葛亮的哪些歇后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WordArt 4"/>
          <p:cNvSpPr txBox="1"/>
          <p:nvPr/>
        </p:nvSpPr>
        <p:spPr>
          <a:xfrm rot="283800">
            <a:off x="2123640" y="333000"/>
            <a:ext cx="410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00000"/>
                </a:gradFill>
                <a:latin typeface="宋体"/>
              </a:rPr>
              <a:t>品读第</a:t>
            </a: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00000"/>
                </a:gradFill>
                <a:latin typeface="宋体"/>
              </a:rPr>
              <a:t>5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00000"/>
                </a:gradFill>
                <a:latin typeface="宋体"/>
              </a:rPr>
              <a:t>小节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00000"/>
              </a:gradFill>
              <a:latin typeface="宋体"/>
              <a:ea typeface="宋体"/>
            </a:endParaRPr>
          </a:p>
        </p:txBody>
      </p:sp>
      <p:sp>
        <p:nvSpPr>
          <p:cNvPr id="1418" name="Text Box 5"/>
          <p:cNvSpPr/>
          <p:nvPr/>
        </p:nvSpPr>
        <p:spPr>
          <a:xfrm>
            <a:off x="611280" y="1700280"/>
            <a:ext cx="259236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齐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6"/>
          <p:cNvSpPr/>
          <p:nvPr/>
        </p:nvSpPr>
        <p:spPr>
          <a:xfrm>
            <a:off x="2556000" y="3500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段的内容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7"/>
          <p:cNvSpPr/>
          <p:nvPr/>
        </p:nvSpPr>
        <p:spPr>
          <a:xfrm>
            <a:off x="755640" y="465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宋体"/>
              </a:rPr>
              <a:t>愿陛下亲之信之，则汉室之隆，可计日而待也。”表达了诸葛亮的怎样的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"/>
          <p:cNvSpPr/>
          <p:nvPr/>
        </p:nvSpPr>
        <p:spPr>
          <a:xfrm>
            <a:off x="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贤臣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"/>
          <p:cNvSpPr/>
          <p:nvPr/>
        </p:nvSpPr>
        <p:spPr>
          <a:xfrm>
            <a:off x="1219320" y="2438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亲近，形作动；远离，形作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5"/>
          <p:cNvSpPr/>
          <p:nvPr/>
        </p:nvSpPr>
        <p:spPr>
          <a:xfrm>
            <a:off x="0" y="3200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此先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兴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6"/>
          <p:cNvSpPr/>
          <p:nvPr/>
        </p:nvSpPr>
        <p:spPr>
          <a:xfrm>
            <a:off x="609480" y="3809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原因        语气词，揭示原因，不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7"/>
          <p:cNvSpPr/>
          <p:nvPr/>
        </p:nvSpPr>
        <p:spPr>
          <a:xfrm>
            <a:off x="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此悉贞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死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之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8"/>
          <p:cNvSpPr/>
          <p:nvPr/>
        </p:nvSpPr>
        <p:spPr>
          <a:xfrm>
            <a:off x="685800" y="5486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为节而死，死，为动用法；节，义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"/>
          <p:cNvSpPr/>
          <p:nvPr/>
        </p:nvSpPr>
        <p:spPr>
          <a:xfrm>
            <a:off x="609480" y="137160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亲近贤臣，疏远小人，这是先汉兴旺发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的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亲近小人，疏远贤臣，这是后汉倾覆衰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的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先帝在世的时候，每逢跟我谈论这些事情，没有一次不对桓、灵二帝的做法感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痛心遗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。侍中、尚书、长史、参军这些人都是坚贞可靠、能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以死报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忠臣，希望陛下亲近他们，信任他们，那么汉朝的兴隆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为期不远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五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2" dur="1" fill="hold"/>
                                  <p:tgtEl>
                                    <p:spTgt spid="1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4"/>
          <p:cNvSpPr/>
          <p:nvPr/>
        </p:nvSpPr>
        <p:spPr>
          <a:xfrm>
            <a:off x="0" y="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归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5"/>
          <p:cNvSpPr/>
          <p:nvPr/>
        </p:nvSpPr>
        <p:spPr>
          <a:xfrm>
            <a:off x="0" y="98100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诸葛亮首先分析当时的政治形势，说明先帝创业的艰辛，然后根据刘禅的弱点提出哪些建议？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6"/>
          <p:cNvSpPr/>
          <p:nvPr/>
        </p:nvSpPr>
        <p:spPr>
          <a:xfrm>
            <a:off x="0" y="2421000"/>
            <a:ext cx="874872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）宜开张圣听，不宜妄自菲薄，引喻失义以塞忠谏之路。 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）提出赏罚严明，宫中府中俱为一体，陟罚臧否，不宜异同。 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亲贤远佞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，亲贤臣，远小人此先汉所以兴隆也，亲小人，远贤臣，此后汉所以倾颓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WordArt 4"/>
          <p:cNvSpPr txBox="1"/>
          <p:nvPr/>
        </p:nvSpPr>
        <p:spPr>
          <a:xfrm rot="700800">
            <a:off x="2195640" y="475920"/>
            <a:ext cx="47527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品读第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6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、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7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0000"/>
                </a:gradFill>
                <a:latin typeface="宋体"/>
              </a:rPr>
              <a:t>小节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0000"/>
              </a:gradFill>
              <a:latin typeface="宋体"/>
              <a:ea typeface="宋体"/>
            </a:endParaRPr>
          </a:p>
        </p:txBody>
      </p:sp>
      <p:sp>
        <p:nvSpPr>
          <p:cNvPr id="1438" name="Text Box 5"/>
          <p:cNvSpPr/>
          <p:nvPr/>
        </p:nvSpPr>
        <p:spPr>
          <a:xfrm>
            <a:off x="324000" y="1773360"/>
            <a:ext cx="78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你能朗读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小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试译，勾出你认为难懂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6"/>
          <p:cNvSpPr/>
          <p:nvPr/>
        </p:nvSpPr>
        <p:spPr>
          <a:xfrm>
            <a:off x="2484360" y="393372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7"/>
          <p:cNvSpPr/>
          <p:nvPr/>
        </p:nvSpPr>
        <p:spPr>
          <a:xfrm>
            <a:off x="2340000" y="35002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两段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8"/>
          <p:cNvSpPr/>
          <p:nvPr/>
        </p:nvSpPr>
        <p:spPr>
          <a:xfrm>
            <a:off x="900000" y="4292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受任于败军之际，奉命于危难之间，尔来二十有一年矣。”这句话表现了诸葛亮怎样的感情？你认为应该怎样朗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"/>
          <p:cNvSpPr/>
          <p:nvPr/>
        </p:nvSpPr>
        <p:spPr>
          <a:xfrm>
            <a:off x="250920" y="170028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性命于乱世，不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闻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于诸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5"/>
          <p:cNvSpPr/>
          <p:nvPr/>
        </p:nvSpPr>
        <p:spPr>
          <a:xfrm>
            <a:off x="324000" y="2924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先帝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卑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6"/>
          <p:cNvSpPr/>
          <p:nvPr/>
        </p:nvSpPr>
        <p:spPr>
          <a:xfrm>
            <a:off x="395280" y="530064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遂许先帝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驱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倾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7"/>
          <p:cNvSpPr/>
          <p:nvPr/>
        </p:nvSpPr>
        <p:spPr>
          <a:xfrm>
            <a:off x="755640" y="234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姑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8"/>
          <p:cNvSpPr/>
          <p:nvPr/>
        </p:nvSpPr>
        <p:spPr>
          <a:xfrm>
            <a:off x="4859280" y="22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闻名显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9"/>
          <p:cNvSpPr/>
          <p:nvPr/>
        </p:nvSpPr>
        <p:spPr>
          <a:xfrm>
            <a:off x="2050920" y="3429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0"/>
          <p:cNvSpPr/>
          <p:nvPr/>
        </p:nvSpPr>
        <p:spPr>
          <a:xfrm>
            <a:off x="3203640" y="3429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身份低微，出身鄙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11"/>
          <p:cNvSpPr/>
          <p:nvPr/>
        </p:nvSpPr>
        <p:spPr>
          <a:xfrm>
            <a:off x="324000" y="4076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枉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2"/>
          <p:cNvSpPr/>
          <p:nvPr/>
        </p:nvSpPr>
        <p:spPr>
          <a:xfrm>
            <a:off x="250920" y="47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辱，降低身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13"/>
          <p:cNvSpPr/>
          <p:nvPr/>
        </p:nvSpPr>
        <p:spPr>
          <a:xfrm>
            <a:off x="2700360" y="4508640"/>
            <a:ext cx="30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委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4"/>
          <p:cNvSpPr/>
          <p:nvPr/>
        </p:nvSpPr>
        <p:spPr>
          <a:xfrm>
            <a:off x="755640" y="59500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以，来。驱驰，奔走效劳。值，碰上，遇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2"/>
          <p:cNvSpPr/>
          <p:nvPr/>
        </p:nvSpPr>
        <p:spPr>
          <a:xfrm>
            <a:off x="685800" y="137160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本来是平民，亲自在南阳耕田，只想在乱世中保全自己，不谋求在诸侯那里扬名做官。先帝不嫌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身份低微，出身鄙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降低自己的身份使自己委屈，三次到茅庐来拜访我，向我询问当代的大事，我因此十分感动而振奋，就答应为先帝奔走效劳。后来遇到兵败，在兵败的时候接受重任，在危难的关头奉命出使，从那时以来，已经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六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1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4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5"/>
          <p:cNvSpPr/>
          <p:nvPr/>
        </p:nvSpPr>
        <p:spPr>
          <a:xfrm>
            <a:off x="250920" y="1844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恐托付不效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以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先帝之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324000" y="306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深入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324000" y="4149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奖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军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定中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庶竭驽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324000" y="5373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此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报先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忠陛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分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9"/>
          <p:cNvSpPr/>
          <p:nvPr/>
        </p:nvSpPr>
        <p:spPr>
          <a:xfrm>
            <a:off x="298764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以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10"/>
          <p:cNvSpPr/>
          <p:nvPr/>
        </p:nvSpPr>
        <p:spPr>
          <a:xfrm>
            <a:off x="4067280" y="2421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受到损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1"/>
          <p:cNvSpPr/>
          <p:nvPr/>
        </p:nvSpPr>
        <p:spPr>
          <a:xfrm>
            <a:off x="205092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名作动，长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12"/>
          <p:cNvSpPr/>
          <p:nvPr/>
        </p:nvSpPr>
        <p:spPr>
          <a:xfrm>
            <a:off x="900000" y="47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激励、率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14"/>
          <p:cNvSpPr/>
          <p:nvPr/>
        </p:nvSpPr>
        <p:spPr>
          <a:xfrm>
            <a:off x="2987640" y="47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名作状，往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"/>
          <p:cNvSpPr/>
          <p:nvPr/>
        </p:nvSpPr>
        <p:spPr>
          <a:xfrm>
            <a:off x="5364000" y="47973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用尽自己平庸的才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16"/>
          <p:cNvSpPr/>
          <p:nvPr/>
        </p:nvSpPr>
        <p:spPr>
          <a:xfrm>
            <a:off x="1042920" y="59832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17"/>
          <p:cNvSpPr/>
          <p:nvPr/>
        </p:nvSpPr>
        <p:spPr>
          <a:xfrm>
            <a:off x="3492360" y="602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表并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18"/>
          <p:cNvSpPr/>
          <p:nvPr/>
        </p:nvSpPr>
        <p:spPr>
          <a:xfrm>
            <a:off x="5580000" y="59500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WordArt 2"/>
          <p:cNvSpPr txBox="1"/>
          <p:nvPr/>
        </p:nvSpPr>
        <p:spPr>
          <a:xfrm>
            <a:off x="2743200" y="0"/>
            <a:ext cx="3086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七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475" name="Text Box 3"/>
          <p:cNvSpPr/>
          <p:nvPr/>
        </p:nvSpPr>
        <p:spPr>
          <a:xfrm>
            <a:off x="152280" y="91764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先帝知道我做事小心谨慎，所以临终时把国家大事托付给我。接受遗命以来，我日夜忧虑叹息，唯恐先帝的托付不能实现，以致损伤先帝的知人之明，所以我五月渡过泸水，深入到寸草不生的地方。现在南方已经平定，兵员装备已经充足，应当激励、率领全军将士向北平定中原，让我能用尽自己平庸的才能，铲除奸邪凶恶的敌人，恢复汉室天下，回到旧日的都城。这就是我用来报答先帝，尽忠陛下的职责。至于处理事务，斟情酌理，掌握分寸，毫无保留的向您提出忠诚的建议，那就是郭攸之、费祎、董允等人的责任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7" dur="1" fill="hold"/>
                                  <p:tgtEl>
                                    <p:spTgt spid="1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WordArt 4"/>
          <p:cNvSpPr txBox="1"/>
          <p:nvPr/>
        </p:nvSpPr>
        <p:spPr>
          <a:xfrm rot="317400">
            <a:off x="2555640" y="404280"/>
            <a:ext cx="4752720" cy="8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40000"/>
                </a:gradFill>
                <a:latin typeface="宋体"/>
              </a:rPr>
              <a:t>品读第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40000"/>
                </a:gradFill>
                <a:latin typeface="宋体"/>
              </a:rPr>
              <a:t>8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40000"/>
                </a:gradFill>
                <a:latin typeface="宋体"/>
              </a:rPr>
              <a:t>、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40000"/>
                </a:gradFill>
                <a:latin typeface="宋体"/>
              </a:rPr>
              <a:t>9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40000"/>
                </a:gradFill>
                <a:latin typeface="宋体"/>
              </a:rPr>
              <a:t>小节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040000"/>
              </a:gradFill>
              <a:latin typeface="宋体"/>
              <a:ea typeface="宋体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250920" y="1628640"/>
            <a:ext cx="78850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试译这二小节，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朗读、背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6"/>
          <p:cNvSpPr/>
          <p:nvPr/>
        </p:nvSpPr>
        <p:spPr>
          <a:xfrm>
            <a:off x="2484360" y="2997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写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7"/>
          <p:cNvSpPr/>
          <p:nvPr/>
        </p:nvSpPr>
        <p:spPr>
          <a:xfrm>
            <a:off x="900000" y="4076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不效则治臣之罪以告先帝之灵”，对这句话你是怎样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矩形 5"/>
          <p:cNvSpPr/>
          <p:nvPr/>
        </p:nvSpPr>
        <p:spPr>
          <a:xfrm>
            <a:off x="2484360" y="1628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Picture 2" descr="古隆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2"/>
          <p:cNvSpPr/>
          <p:nvPr/>
        </p:nvSpPr>
        <p:spPr>
          <a:xfrm>
            <a:off x="380880" y="990720"/>
            <a:ext cx="8153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希望陛下将讨伐曹魏复兴汉朝大业的任务交给我，如果不能实现就治我的罪，来禀告先帝在天之灵。如果没有发扬美德的建议，就应当责备郭攸之、费祎、董允等人的怠慢，揭示他们的过失。陛下也应当亲自多加考虑，（向他们）询问治国的好道理，认识、采纳正确的意见，深切追念先帝的遗命。（这样）我就受恩感激不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我就要远离陛下，面对着这篇表章，我泪流满面，不知说了些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WordArt 3"/>
          <p:cNvSpPr txBox="1"/>
          <p:nvPr/>
        </p:nvSpPr>
        <p:spPr>
          <a:xfrm>
            <a:off x="2743200" y="0"/>
            <a:ext cx="3086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译第八九段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1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页脚占位符 2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4"/>
          <p:cNvSpPr/>
          <p:nvPr/>
        </p:nvSpPr>
        <p:spPr>
          <a:xfrm>
            <a:off x="0" y="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5"/>
          <p:cNvSpPr/>
          <p:nvPr/>
        </p:nvSpPr>
        <p:spPr>
          <a:xfrm>
            <a:off x="1403280" y="1052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形势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Group 11"/>
          <p:cNvGrpSpPr/>
          <p:nvPr/>
        </p:nvGrpSpPr>
        <p:grpSpPr>
          <a:xfrm>
            <a:off x="2340000" y="981000"/>
            <a:ext cx="2592360" cy="863640"/>
            <a:chOff x="2340000" y="981000"/>
            <a:chExt cx="2592360" cy="863640"/>
          </a:xfrm>
        </p:grpSpPr>
        <p:sp>
          <p:nvSpPr>
            <p:cNvPr id="1488" name="Text Box 6"/>
            <p:cNvSpPr/>
            <p:nvPr/>
          </p:nvSpPr>
          <p:spPr>
            <a:xfrm>
              <a:off x="2484360" y="98100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帝死天下三分益州疲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AutoShape 7"/>
            <p:cNvSpPr/>
            <p:nvPr/>
          </p:nvSpPr>
          <p:spPr>
            <a:xfrm>
              <a:off x="2340000" y="119700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Text Box 8"/>
          <p:cNvSpPr/>
          <p:nvPr/>
        </p:nvSpPr>
        <p:spPr>
          <a:xfrm>
            <a:off x="1403280" y="227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提出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Group 36"/>
          <p:cNvGrpSpPr/>
          <p:nvPr/>
        </p:nvGrpSpPr>
        <p:grpSpPr>
          <a:xfrm>
            <a:off x="2340000" y="1989000"/>
            <a:ext cx="1944720" cy="1224000"/>
            <a:chOff x="2340000" y="1989000"/>
            <a:chExt cx="1944720" cy="1224000"/>
          </a:xfrm>
        </p:grpSpPr>
        <p:sp>
          <p:nvSpPr>
            <p:cNvPr id="1492" name="Text Box 9"/>
            <p:cNvSpPr/>
            <p:nvPr/>
          </p:nvSpPr>
          <p:spPr>
            <a:xfrm>
              <a:off x="2484360" y="198900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开张圣听赏罚分明亲贤远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0"/>
            <p:cNvSpPr/>
            <p:nvPr/>
          </p:nvSpPr>
          <p:spPr>
            <a:xfrm>
              <a:off x="2340000" y="220500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Group 37"/>
          <p:cNvGrpSpPr/>
          <p:nvPr/>
        </p:nvGrpSpPr>
        <p:grpSpPr>
          <a:xfrm>
            <a:off x="5003640" y="1197000"/>
            <a:ext cx="2664000" cy="2016000"/>
            <a:chOff x="5003640" y="1197000"/>
            <a:chExt cx="2664000" cy="2016000"/>
          </a:xfrm>
        </p:grpSpPr>
        <p:sp>
          <p:nvSpPr>
            <p:cNvPr id="1495" name="Text Box 12"/>
            <p:cNvSpPr/>
            <p:nvPr/>
          </p:nvSpPr>
          <p:spPr>
            <a:xfrm>
              <a:off x="5435640" y="1628640"/>
              <a:ext cx="223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  <a:ea typeface="宋体"/>
                </a:rPr>
                <a:t>论述透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  <a:ea typeface="宋体"/>
                </a:rPr>
                <a:t>句句在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3"/>
            <p:cNvSpPr/>
            <p:nvPr/>
          </p:nvSpPr>
          <p:spPr>
            <a:xfrm>
              <a:off x="5003640" y="1197000"/>
              <a:ext cx="216000" cy="2016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52200 h 2016000"/>
                <a:gd name="textAreaBottom" fmla="*/ 196380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Text Box 15"/>
          <p:cNvSpPr/>
          <p:nvPr/>
        </p:nvSpPr>
        <p:spPr>
          <a:xfrm>
            <a:off x="3132000" y="4149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身许国  创业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16"/>
          <p:cNvSpPr/>
          <p:nvPr/>
        </p:nvSpPr>
        <p:spPr>
          <a:xfrm>
            <a:off x="3132000" y="458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夙夜忧叹  请命北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17"/>
          <p:cNvSpPr/>
          <p:nvPr/>
        </p:nvSpPr>
        <p:spPr>
          <a:xfrm>
            <a:off x="3132000" y="5013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述职责  诹善纳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oup 39"/>
          <p:cNvGrpSpPr/>
          <p:nvPr/>
        </p:nvGrpSpPr>
        <p:grpSpPr>
          <a:xfrm>
            <a:off x="6372360" y="4292640"/>
            <a:ext cx="2087280" cy="1009440"/>
            <a:chOff x="6372360" y="4292640"/>
            <a:chExt cx="2087280" cy="1009440"/>
          </a:xfrm>
        </p:grpSpPr>
        <p:sp>
          <p:nvSpPr>
            <p:cNvPr id="1501" name="Text Box 18"/>
            <p:cNvSpPr/>
            <p:nvPr/>
          </p:nvSpPr>
          <p:spPr>
            <a:xfrm>
              <a:off x="6516720" y="4292640"/>
              <a:ext cx="19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  <a:ea typeface="宋体"/>
                </a:rPr>
                <a:t>言词恳切字字有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AutoShape 19"/>
            <p:cNvSpPr/>
            <p:nvPr/>
          </p:nvSpPr>
          <p:spPr>
            <a:xfrm>
              <a:off x="6372360" y="4365720"/>
              <a:ext cx="215640" cy="93636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Group 38"/>
          <p:cNvGrpSpPr/>
          <p:nvPr/>
        </p:nvGrpSpPr>
        <p:grpSpPr>
          <a:xfrm>
            <a:off x="1476360" y="4365720"/>
            <a:ext cx="1727280" cy="1008000"/>
            <a:chOff x="1476360" y="4365720"/>
            <a:chExt cx="1727280" cy="1008000"/>
          </a:xfrm>
        </p:grpSpPr>
        <p:sp>
          <p:nvSpPr>
            <p:cNvPr id="1504" name="Text Box 14"/>
            <p:cNvSpPr/>
            <p:nvPr/>
          </p:nvSpPr>
          <p:spPr>
            <a:xfrm>
              <a:off x="1476360" y="4365720"/>
              <a:ext cx="165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  <a:ea typeface="宋体"/>
                </a:rPr>
                <a:t>追述身世表明忠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20"/>
            <p:cNvSpPr/>
            <p:nvPr/>
          </p:nvSpPr>
          <p:spPr>
            <a:xfrm>
              <a:off x="2987640" y="4365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Line 21"/>
          <p:cNvSpPr/>
          <p:nvPr/>
        </p:nvSpPr>
        <p:spPr>
          <a:xfrm>
            <a:off x="1835280" y="3213000"/>
            <a:ext cx="0" cy="1079640"/>
          </a:xfrm>
          <a:prstGeom prst="line">
            <a:avLst/>
          </a:prstGeom>
          <a:ln w="316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Group 42"/>
          <p:cNvGrpSpPr/>
          <p:nvPr/>
        </p:nvGrpSpPr>
        <p:grpSpPr>
          <a:xfrm>
            <a:off x="2050920" y="2852640"/>
            <a:ext cx="4176720" cy="1025640"/>
            <a:chOff x="2050920" y="2852640"/>
            <a:chExt cx="4176720" cy="1025640"/>
          </a:xfrm>
        </p:grpSpPr>
        <p:grpSp>
          <p:nvGrpSpPr>
            <p:cNvPr id="1508" name="Group 41"/>
            <p:cNvGrpSpPr/>
            <p:nvPr/>
          </p:nvGrpSpPr>
          <p:grpSpPr>
            <a:xfrm>
              <a:off x="2050920" y="2852640"/>
              <a:ext cx="4176720" cy="936720"/>
              <a:chOff x="2050920" y="2852640"/>
              <a:chExt cx="4176720" cy="936720"/>
            </a:xfrm>
          </p:grpSpPr>
          <p:sp>
            <p:nvSpPr>
              <p:cNvPr id="1509" name="Line 22"/>
              <p:cNvSpPr/>
              <p:nvPr/>
            </p:nvSpPr>
            <p:spPr>
              <a:xfrm>
                <a:off x="2050920" y="3284640"/>
                <a:ext cx="0" cy="504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Line 23"/>
              <p:cNvSpPr/>
              <p:nvPr/>
            </p:nvSpPr>
            <p:spPr>
              <a:xfrm>
                <a:off x="2050920" y="3789360"/>
                <a:ext cx="4176720" cy="0"/>
              </a:xfrm>
              <a:prstGeom prst="line">
                <a:avLst/>
              </a:prstGeom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25"/>
              <p:cNvSpPr/>
              <p:nvPr/>
            </p:nvSpPr>
            <p:spPr>
              <a:xfrm flipV="1">
                <a:off x="6227640" y="2852640"/>
                <a:ext cx="0" cy="936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Text Box 29"/>
            <p:cNvSpPr/>
            <p:nvPr/>
          </p:nvSpPr>
          <p:spPr>
            <a:xfrm>
              <a:off x="3059280" y="3357720"/>
              <a:ext cx="28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晓 之 以 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43"/>
          <p:cNvGrpSpPr/>
          <p:nvPr/>
        </p:nvGrpSpPr>
        <p:grpSpPr>
          <a:xfrm>
            <a:off x="2268360" y="5229360"/>
            <a:ext cx="4896000" cy="664920"/>
            <a:chOff x="2268360" y="5229360"/>
            <a:chExt cx="4896000" cy="664920"/>
          </a:xfrm>
        </p:grpSpPr>
        <p:sp>
          <p:nvSpPr>
            <p:cNvPr id="1514" name="Line 26"/>
            <p:cNvSpPr/>
            <p:nvPr/>
          </p:nvSpPr>
          <p:spPr>
            <a:xfrm>
              <a:off x="2268360" y="5300640"/>
              <a:ext cx="0" cy="504720"/>
            </a:xfrm>
            <a:prstGeom prst="line">
              <a:avLst/>
            </a:prstGeom>
            <a:ln w="255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7"/>
            <p:cNvSpPr/>
            <p:nvPr/>
          </p:nvSpPr>
          <p:spPr>
            <a:xfrm>
              <a:off x="2268360" y="5805360"/>
              <a:ext cx="4896000" cy="0"/>
            </a:xfrm>
            <a:prstGeom prst="line">
              <a:avLst/>
            </a:prstGeom>
            <a:ln w="255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8"/>
            <p:cNvSpPr/>
            <p:nvPr/>
          </p:nvSpPr>
          <p:spPr>
            <a:xfrm flipV="1">
              <a:off x="7164360" y="5229360"/>
              <a:ext cx="0" cy="576000"/>
            </a:xfrm>
            <a:prstGeom prst="line">
              <a:avLst/>
            </a:prstGeom>
            <a:ln w="255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 Box 30"/>
            <p:cNvSpPr/>
            <p:nvPr/>
          </p:nvSpPr>
          <p:spPr>
            <a:xfrm>
              <a:off x="3492360" y="53737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动 之 以 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8" name="Text Box 31"/>
          <p:cNvSpPr/>
          <p:nvPr/>
        </p:nvSpPr>
        <p:spPr>
          <a:xfrm>
            <a:off x="1116000" y="587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出师一表真名世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千载谁堪伯仲间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Group 44"/>
          <p:cNvGrpSpPr/>
          <p:nvPr/>
        </p:nvGrpSpPr>
        <p:grpSpPr>
          <a:xfrm>
            <a:off x="179280" y="1341360"/>
            <a:ext cx="936720" cy="3743280"/>
            <a:chOff x="179280" y="1341360"/>
            <a:chExt cx="936720" cy="3743280"/>
          </a:xfrm>
        </p:grpSpPr>
        <p:sp>
          <p:nvSpPr>
            <p:cNvPr id="1520" name="AutoShape 32"/>
            <p:cNvSpPr/>
            <p:nvPr/>
          </p:nvSpPr>
          <p:spPr>
            <a:xfrm>
              <a:off x="900000" y="1341360"/>
              <a:ext cx="216000" cy="3743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97560 h 3743280"/>
                <a:gd name="textAreaBottom" fmla="*/ 3645720 h 37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33"/>
            <p:cNvSpPr/>
            <p:nvPr/>
          </p:nvSpPr>
          <p:spPr>
            <a:xfrm>
              <a:off x="179280" y="2349360"/>
              <a:ext cx="827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师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Group 40"/>
          <p:cNvGrpSpPr/>
          <p:nvPr/>
        </p:nvGrpSpPr>
        <p:grpSpPr>
          <a:xfrm>
            <a:off x="7688880" y="1700280"/>
            <a:ext cx="1155240" cy="4176720"/>
            <a:chOff x="7688880" y="1700280"/>
            <a:chExt cx="1155240" cy="4176720"/>
          </a:xfrm>
        </p:grpSpPr>
        <p:sp>
          <p:nvSpPr>
            <p:cNvPr id="1523" name="AutoShape 34"/>
            <p:cNvSpPr/>
            <p:nvPr/>
          </p:nvSpPr>
          <p:spPr>
            <a:xfrm>
              <a:off x="7885080" y="1700280"/>
              <a:ext cx="358920" cy="4176720"/>
            </a:xfrm>
            <a:custGeom>
              <a:avLst/>
              <a:gdLst>
                <a:gd name="textAreaLeft" fmla="*/ 0 w 358920"/>
                <a:gd name="textAreaRight" fmla="*/ 129600 w 35892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315"/>
                  </a:lnTo>
                  <a:cubicBezTo>
                    <a:pt x="10800" y="10215"/>
                    <a:pt x="16200" y="11114"/>
                    <a:pt x="21600" y="11114"/>
                  </a:cubicBezTo>
                  <a:cubicBezTo>
                    <a:pt x="16200" y="11114"/>
                    <a:pt x="10800" y="12014"/>
                    <a:pt x="10800" y="12913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35"/>
            <p:cNvSpPr/>
            <p:nvPr/>
          </p:nvSpPr>
          <p:spPr>
            <a:xfrm>
              <a:off x="7688880" y="2205000"/>
              <a:ext cx="115524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议论叙事抒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WordArt 4"/>
          <p:cNvSpPr txBox="1"/>
          <p:nvPr/>
        </p:nvSpPr>
        <p:spPr>
          <a:xfrm rot="20938200">
            <a:off x="3419280" y="333000"/>
            <a:ext cx="1726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020000"/>
                </a:gradFill>
                <a:latin typeface="隶书"/>
              </a:rPr>
              <a:t>总结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020000"/>
              </a:gradFill>
              <a:latin typeface="隶书"/>
              <a:ea typeface="隶书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0" y="1413000"/>
            <a:ext cx="9144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一、实词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道：① “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崩殂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咨诹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办法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遗：① “以光先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遗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先帝简拔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陛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给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为：① “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体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有作奸犯科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忠善者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做，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众议举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做，担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论：① “宜付有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刑赏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评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与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此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议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4"/>
          <p:cNvSpPr/>
          <p:nvPr/>
        </p:nvSpPr>
        <p:spPr>
          <a:xfrm>
            <a:off x="0" y="765000"/>
            <a:ext cx="806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无：① “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德之言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小，悉以咨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行：① “然后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实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淑均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必能使行阵和睦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行列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益：① “有所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益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至于斟酌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5"/>
          <p:cNvSpPr/>
          <p:nvPr/>
        </p:nvSpPr>
        <p:spPr>
          <a:xfrm>
            <a:off x="0" y="393372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二、古今异义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6"/>
          <p:cNvSpPr/>
          <p:nvPr/>
        </p:nvSpPr>
        <p:spPr>
          <a:xfrm>
            <a:off x="0" y="4724280"/>
            <a:ext cx="41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、诚宜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开张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圣听：开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、不宜妄自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菲薄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：菲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8"/>
          <p:cNvSpPr/>
          <p:nvPr/>
        </p:nvSpPr>
        <p:spPr>
          <a:xfrm>
            <a:off x="3995640" y="465300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扩大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;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铺面开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9"/>
          <p:cNvSpPr/>
          <p:nvPr/>
        </p:nvSpPr>
        <p:spPr>
          <a:xfrm>
            <a:off x="3995640" y="530064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轻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看不起自己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微薄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4"/>
          <p:cNvSpPr/>
          <p:nvPr/>
        </p:nvSpPr>
        <p:spPr>
          <a:xfrm>
            <a:off x="0" y="333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晓畅军事：晓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5"/>
          <p:cNvSpPr/>
          <p:nvPr/>
        </p:nvSpPr>
        <p:spPr>
          <a:xfrm>
            <a:off x="3708360" y="260280"/>
            <a:ext cx="45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精通；今：流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6"/>
          <p:cNvSpPr/>
          <p:nvPr/>
        </p:nvSpPr>
        <p:spPr>
          <a:xfrm>
            <a:off x="0" y="1197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此先汉所以兴隆也：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7"/>
          <p:cNvSpPr/>
          <p:nvPr/>
        </p:nvSpPr>
        <p:spPr>
          <a:xfrm>
            <a:off x="5219640" y="119700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的原因今：表示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9"/>
          <p:cNvSpPr/>
          <p:nvPr/>
        </p:nvSpPr>
        <p:spPr>
          <a:xfrm>
            <a:off x="0" y="234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未尝不叹息痛恨于桓、灵也：痛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10"/>
          <p:cNvSpPr/>
          <p:nvPr/>
        </p:nvSpPr>
        <p:spPr>
          <a:xfrm>
            <a:off x="3132000" y="3068640"/>
            <a:ext cx="52563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痛心遗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今：很不满意或非常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11"/>
          <p:cNvSpPr/>
          <p:nvPr/>
        </p:nvSpPr>
        <p:spPr>
          <a:xfrm>
            <a:off x="0" y="4221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先帝不以臣卑鄙：卑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2"/>
          <p:cNvSpPr/>
          <p:nvPr/>
        </p:nvSpPr>
        <p:spPr>
          <a:xfrm>
            <a:off x="2195640" y="494172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出身低微、目光短小今：行为卑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4"/>
          <p:cNvSpPr/>
          <p:nvPr/>
        </p:nvSpPr>
        <p:spPr>
          <a:xfrm>
            <a:off x="0" y="476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咨臣以当世之事，由是感激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5"/>
          <p:cNvSpPr/>
          <p:nvPr/>
        </p:nvSpPr>
        <p:spPr>
          <a:xfrm>
            <a:off x="2627280" y="1052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感动奋发今：感动感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8"/>
          <p:cNvSpPr/>
          <p:nvPr/>
        </p:nvSpPr>
        <p:spPr>
          <a:xfrm>
            <a:off x="0" y="335772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今当远离，临表涕零：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9"/>
          <p:cNvSpPr/>
          <p:nvPr/>
        </p:nvSpPr>
        <p:spPr>
          <a:xfrm>
            <a:off x="5256360" y="3357720"/>
            <a:ext cx="38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眼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今：鼻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10"/>
          <p:cNvSpPr/>
          <p:nvPr/>
        </p:nvSpPr>
        <p:spPr>
          <a:xfrm>
            <a:off x="0" y="46530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此诚危急存亡之秋也：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11"/>
          <p:cNvSpPr/>
          <p:nvPr/>
        </p:nvSpPr>
        <p:spPr>
          <a:xfrm>
            <a:off x="5651640" y="472428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古：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今：诚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 Box 4"/>
          <p:cNvSpPr/>
          <p:nvPr/>
        </p:nvSpPr>
        <p:spPr>
          <a:xfrm>
            <a:off x="266760" y="260280"/>
            <a:ext cx="864072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而：① “先帝创业未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道崩殂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计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待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连接状语与中心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于：① “然侍卫之臣不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欲报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陛下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及于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尝不叹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桓、灵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对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④ “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旧都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以：① “咨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世之事”：用，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诚直开张圣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光先帝遗德”：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而。“不宜妄自菲薄，引喻失义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塞忠谏之路也。”④表时间、地域等界限。“受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来，夙夜忧叹”。⑤认为。“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宫中之事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Text Box 4098"/>
          <p:cNvSpPr/>
          <p:nvPr/>
        </p:nvSpPr>
        <p:spPr>
          <a:xfrm>
            <a:off x="395280" y="115920"/>
            <a:ext cx="8569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而：① “先帝创业未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道崩殂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计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待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连接状语与中心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于：① “然侍卫之臣不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欲报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陛下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及于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尝不叹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桓、灵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对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④ “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旧都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以：① “咨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世之事”：用，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诚直开张圣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光先帝遗德”：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而。“不宜妄自菲薄，引喻失义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塞忠谏之路也。”④表时间、地域等界限。“受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来，夙夜忧叹”。⑤认为。“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宫中之事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2" descr="白帝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Picture 2" descr="五丈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2" descr="武侯祠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6" name="Picture 2" descr="武侯祠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Picture 2" descr="武侯祠4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3" descr="武侯祠5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6"/>
          <p:cNvSpPr/>
          <p:nvPr/>
        </p:nvSpPr>
        <p:spPr>
          <a:xfrm>
            <a:off x="0" y="1557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诸葛亮辅佐刘备，历尽艰难坎坷，经过多年奋战，终于建立了蜀国，身负丞相重任。蜀国建立后两年，即公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刘备病逝，后主刘禅继位，时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。诸葛亮受遗诏辅佐刘禅，主持蜀国军政大事。公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诸葛亮统率蜀国军队北进，驻军汉中（今陕西南郑县），准备征伐曹魏，夺取中原，复兴汉室。他当时感到刘禅愚昧懦弱，颇有内顾之忧，所以临出发前上书刘禅，恳切劝谏，要刘禅继承刘备遗志，砥砺志行，振作精神，听信忠言，任用贤良，黜斥佞人，严明赏罚，尽心国事，以图完成复兴汉室，统一天下的大业。这就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师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9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你知道写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出师表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的背景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15:08:47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6T02:55:06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