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image11.jpeg" ContentType="image/jpeg"/>
  <Override PartName="/ppt/media/image9.jpeg" ContentType="image/jpeg"/>
  <Override PartName="/ppt/media/image2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cashreg.wav" ContentType="audio/x-wav"/>
  <Override PartName="/ppt/media/image7.jpeg" ContentType="image/jpeg"/>
  <Override PartName="/ppt/media/image6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17.jpeg" ContentType="image/jpeg"/>
  <Override PartName="/ppt/media/image2.png" ContentType="image/png"/>
  <Override PartName="/ppt/media/type.wav" ContentType="audio/x-wav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gif" ContentType="image/gif"/>
  <Override PartName="/ppt/media/image15.png" ContentType="image/png"/>
  <Override PartName="/ppt/media/image22.png" ContentType="image/png"/>
  <Override PartName="/ppt/media/image21.jpeg" ContentType="image/jpeg"/>
  <Override PartName="/ppt/media/camera.wav" ContentType="audio/x-wav"/>
  <Override PartName="/ppt/media/image14.png" ContentType="image/png"/>
  <Override PartName="/ppt/media/projctor.wav" ContentType="audio/x-wav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7DD-A14E-4936-AA46-B94DE7D5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BE7-081A-44E7-8864-73BD28BB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FA4-8995-4007-B87D-18CB3BCB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F32-3FDA-497C-823F-3CCAB78C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D49D-2C8C-41FD-B4C7-7E202682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8B6A-3A04-4219-AA9F-B1AD33AA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5C0C-848A-487E-9A0A-9AE6B64F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05AD-6FBD-4341-8DE2-6F382E2A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A60D-4F60-4397-8B72-5B653001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3578-166A-4768-828E-49D7D328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CD47-C47B-41BD-AF13-92A290FE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194-2739-4581-BC10-E636D4A3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0B0E-334D-4BFE-A19D-D2B27E44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A936-8A58-420B-B312-2E481DA4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DA58-C2BC-497E-8306-52D78315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4849-AC61-48B6-9D0B-256D93EF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9EA3-627E-4C52-ABB1-D064EC4F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F8A11-346D-485E-A500-54AD497A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3EDCB-F83D-464A-9882-2AA6A752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3601-5A55-4E81-BA76-3CDE2F49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71DDE-D838-4C3F-A1CC-1ABD955C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3B315-3ACD-4BD3-9CAF-24ED3B75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D2B-BD94-40C5-9F94-ADB93C69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53872-1D09-458D-BC42-E524F761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909F9-A5FE-43AC-8F3D-382E6E5A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07BF-98E9-405C-839C-BCAC639D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D4091-3F9A-4807-B908-77D23359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50CA9-526B-4C29-8A7E-4AEC82C6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6CA0-AF59-4355-9437-56C8F66F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C4D30-CC62-487E-B78B-78CD5520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2458E-C2E4-4290-ABC1-3E0185DD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1F4792-ED37-4EB1-9225-60631503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C44FA-1DC5-4FEE-9FD3-CD5F0360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146-B19C-48D9-9EBB-499BD10A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93AAD-15C9-4F0E-9027-797843F7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0FA2D5-F60A-45F9-B264-EBD5E38F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E55BF-2B9D-4EC9-A1D6-480ECF1D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6A4E95-BC7F-4D61-9917-50D91569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47989-9CD3-4F00-9B3F-850C48A9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A605AF-F77E-4DC7-B606-BCD05389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143C1-8FBE-44DA-971F-5DFE4868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9F822-ED99-4BE1-8469-F22B288E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044F93-8306-4CCF-9265-7E4A845A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08999-E4D0-40F6-A800-D98E45A2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1A9-ED77-4D7F-8E51-B2907A0D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46D67-8D44-4EA1-AA83-0DF61217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B42D3-8878-47A9-A530-4DA6849B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EAD02-3C29-4918-9075-FCE1134C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84A1A-2429-4B76-8C50-F41F7C45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432A1-3C60-49B7-B2EF-E4DCA678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BBC45-54C6-40FD-90EC-59CB0C30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DEF96-1B5E-4EA3-9D9E-112B8E4D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FCADD-17BC-4F67-AFD4-40811862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29569-D92A-4C8A-AB6F-E4C85ACB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E8EEE-5FB6-42D3-8203-47DD9D3F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655-A942-47AA-B99A-B16F0DEF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8B631-016F-4065-884C-F530DC6E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D15D5-E107-4F67-A23B-0BF7DA2F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AAD1E-0F27-4BA7-B622-3FACB98F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24F33-7352-4A2B-B2F5-DA356146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CC5BA-5A79-46E8-8473-687A499C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D2F0E-F937-40CB-9FC2-C1F159C1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B746E-2F9C-4531-BA04-697D65FF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709BC-5E4E-4BBA-B1A2-0C80425C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247A4-38F4-464A-8D74-75C2B8A9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27C34-13AE-45B3-916C-6009DAED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A0A-B5FF-41AD-A7B6-BDE6F49E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B9690-D60A-4AE7-BBC1-9659A49C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AED0C-DB14-4F18-AA46-E01DD57E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775C9-BEEB-429B-A715-28D56BE4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100C2-D186-4134-AB8E-7E192F10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C0203-876E-46C9-A4E5-383045EB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05213-BB8E-4B66-BE51-247BE30D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51ADD-7B03-4D70-9764-702FE5B4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D64DA-C0FF-4079-A752-D170DBAD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F603C-AA2E-4DCD-8EAC-F411815E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B6D98-74DB-4DEC-AEA0-1A54D563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797-FF64-481D-B394-E22781DB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B84C4-3E7C-47FA-842E-1D328F2B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539E2-9E3E-4BEA-8A78-D6E75B9C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374DE-F1BB-4FA6-8405-D64B15E1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02BDF-7B5B-4CBB-9732-00302017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8ADF6-8A7F-479F-9040-57570ACE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1017-CDFA-4A61-A36C-5E8BE806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未知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未知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未知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8813-E756-422C-8C41-05AFBBE66E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69" name="未知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92" name="未知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B9D6-5689-4B6E-B905-C42077D8FD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622D-A1AC-40B8-AFF1-7CE45E8EB5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2801-F963-4910-8483-3B228451AAAB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8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229" name="未知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5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252" name="未知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A500-69D5-403D-8DEA-5C1A462F0D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297" name="未知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320" name="未知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6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17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744C-309F-4E7C-9532-A91E2DB2F5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68" name="Rectangle 6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71" name="Rectangle 9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6FD9-F56A-4FA6-A363-00653EB9EE03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258,4,&#24187;&#28783;&#29255; 4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258,4,&#24187;&#28783;&#29255; 4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258,4,&#24187;&#28783;&#29255; 4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258,4,&#24187;&#28783;&#29255; 4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5345280" y="981000"/>
            <a:ext cx="3106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Impact"/>
                <a:ea typeface="隶书"/>
              </a:rPr>
              <a:t>出师表</a:t>
            </a:r>
            <a:endParaRPr b="0" lang="en-US" sz="9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5295960" y="3357720"/>
            <a:ext cx="10033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Impact"/>
                <a:ea typeface="隶书"/>
              </a:rPr>
              <a:t>诸葛亮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22" name="Picture 5" descr="km"/>
          <p:cNvPicPr/>
          <p:nvPr/>
        </p:nvPicPr>
        <p:blipFill>
          <a:blip r:embed="rId1"/>
          <a:stretch/>
        </p:blipFill>
        <p:spPr>
          <a:xfrm>
            <a:off x="395280" y="549360"/>
            <a:ext cx="4032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447920" y="228600"/>
            <a:ext cx="5790960" cy="82512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武侯祠匾额对联选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50640" y="1143000"/>
            <a:ext cx="8128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两表酬三顾，一对足千秋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                                             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过厅对联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鞠躬尽瘁兮诸葛武侯诚哉武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公忠体国兮出师两表留楷模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                                             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诸葛亮殿对联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亲贤臣国乃兴，当年三顾频繁，始延得汉家正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济大事人为本，今日四方靡骋，愿佑兹蜀部遗黎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                                             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过厅对联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勤王事大好儿孙，三世忠贞，史笔犹褒陈庶子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出师表惊人文字，千秋涕泪，墨痕同溅岳将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                                             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诸葛亮殿对联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3"/>
          <p:cNvSpPr/>
          <p:nvPr/>
        </p:nvSpPr>
        <p:spPr>
          <a:xfrm>
            <a:off x="2971800" y="5943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岳飞书出师表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Bar dir="vert"/>
    <p:sndAc>
      <p:stSnd>
        <p:snd r:embed="rId2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2666880" y="457200"/>
            <a:ext cx="3353040" cy="100836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学习目标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685800" y="18288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理清作者的写作思路，把握文章结构特点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609480" y="32767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领会文章融议论、记叙、抒情为一体的写法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609480" y="48006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重新认识诸葛亮，并了解其政治主张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1371600" y="0"/>
            <a:ext cx="4640400" cy="76428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文学常识部分：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380880" y="620640"/>
            <a:ext cx="8763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表：古代的一种文体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         “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出师表”是出兵打仗前，主帅给君主上的奏章。这种表，或表明精忠报国之心，或献攻略之策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历来以战名世者甚众，以表传后者颇少。唯独诸葛亮的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出师表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不仅存之典册，而且灿然于文苑。这是因为孔明之作，持论贤明通达，行文情浓义明，因而被奉为理政的规范，为人的圭臬，作文的楷模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533520" y="914400"/>
            <a:ext cx="8153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545472"/>
                </a:solidFill>
                <a:latin typeface="宋体"/>
              </a:rPr>
              <a:t>   </a:t>
            </a:r>
            <a:r>
              <a:rPr b="1" lang="zh-CN" sz="3400" spc="-1" strike="noStrike">
                <a:solidFill>
                  <a:srgbClr val="545472"/>
                </a:solidFill>
                <a:latin typeface="宋体"/>
              </a:rPr>
              <a:t>诸葛亮这篇表文写于蜀汉建兴（后主刘禅年号）五年（</a:t>
            </a:r>
            <a:r>
              <a:rPr b="1" lang="zh-CN" sz="3400" spc="-1" strike="noStrike">
                <a:solidFill>
                  <a:srgbClr val="545472"/>
                </a:solidFill>
                <a:latin typeface="宋体"/>
              </a:rPr>
              <a:t>227</a:t>
            </a:r>
            <a:r>
              <a:rPr b="1" lang="zh-CN" sz="3400" spc="-1" strike="noStrike">
                <a:solidFill>
                  <a:srgbClr val="545472"/>
                </a:solidFill>
                <a:latin typeface="宋体"/>
              </a:rPr>
              <a:t>年）第一次出师伐魏之前。当时蜀汉已从猇</a:t>
            </a:r>
            <a:r>
              <a:rPr b="1" lang="en-US" sz="3400" spc="-1" strike="noStrike">
                <a:solidFill>
                  <a:srgbClr val="545472"/>
                </a:solidFill>
                <a:latin typeface="宋体"/>
              </a:rPr>
              <a:t>(</a:t>
            </a:r>
            <a:r>
              <a:rPr b="1" lang="en-GB" sz="3400" spc="-1" strike="noStrike">
                <a:solidFill>
                  <a:srgbClr val="9900cc"/>
                </a:solidFill>
                <a:latin typeface="宋体"/>
              </a:rPr>
              <a:t>xi</a:t>
            </a:r>
            <a:r>
              <a:rPr b="1" lang="zh-CN" sz="3400" spc="-1" strike="noStrike">
                <a:solidFill>
                  <a:srgbClr val="9900cc"/>
                </a:solidFill>
                <a:latin typeface="宋体"/>
              </a:rPr>
              <a:t>ā</a:t>
            </a:r>
            <a:r>
              <a:rPr b="1" lang="en-GB" sz="3400" spc="-1" strike="noStrike">
                <a:solidFill>
                  <a:srgbClr val="9900cc"/>
                </a:solidFill>
                <a:latin typeface="宋体"/>
              </a:rPr>
              <a:t>o</a:t>
            </a:r>
            <a:r>
              <a:rPr b="1" lang="en-GB" sz="3400" spc="-1" strike="noStrike">
                <a:solidFill>
                  <a:srgbClr val="545472"/>
                </a:solidFill>
                <a:latin typeface="宋体"/>
              </a:rPr>
              <a:t>)</a:t>
            </a:r>
            <a:r>
              <a:rPr b="1" lang="zh-CN" sz="3400" spc="-1" strike="noStrike">
                <a:solidFill>
                  <a:srgbClr val="545472"/>
                </a:solidFill>
                <a:latin typeface="宋体"/>
              </a:rPr>
              <a:t>亭（现在湖北宜都）战役的惨败中恢复过来，既与吴国通好，又平定了南方的叛乱，所以诸葛亮决定北上伐魏，写这篇表文的目的是，希望刘禅任用贤臣，采纳忠言，赏罚分明，国内政治修明，有一个稳定的战略后方，以实现先帝的</a:t>
            </a:r>
            <a:r>
              <a:rPr b="1" lang="zh-CN" sz="34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1" lang="zh-CN" sz="3400" spc="-1" strike="noStrike">
                <a:solidFill>
                  <a:srgbClr val="545472"/>
                </a:solidFill>
                <a:latin typeface="宋体"/>
              </a:rPr>
              <a:t>北定中原</a:t>
            </a:r>
            <a:r>
              <a:rPr b="1" lang="zh-CN" sz="3400" spc="-1" strike="noStrike">
                <a:solidFill>
                  <a:srgbClr val="545472"/>
                </a:solidFill>
                <a:latin typeface="Arial"/>
              </a:rPr>
              <a:t>”</a:t>
            </a:r>
            <a:r>
              <a:rPr b="1" lang="zh-CN" sz="3400" spc="-1" strike="noStrike">
                <a:solidFill>
                  <a:srgbClr val="545472"/>
                </a:solidFill>
                <a:latin typeface="宋体"/>
              </a:rPr>
              <a:t>，</a:t>
            </a:r>
            <a:r>
              <a:rPr b="1" lang="zh-CN" sz="34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1" lang="zh-CN" sz="3400" spc="-1" strike="noStrike">
                <a:solidFill>
                  <a:srgbClr val="545472"/>
                </a:solidFill>
                <a:latin typeface="宋体"/>
              </a:rPr>
              <a:t>兴复汉室</a:t>
            </a:r>
            <a:r>
              <a:rPr b="1" lang="zh-CN" sz="3400" spc="-1" strike="noStrike">
                <a:solidFill>
                  <a:srgbClr val="545472"/>
                </a:solidFill>
                <a:latin typeface="Arial"/>
              </a:rPr>
              <a:t>”</a:t>
            </a:r>
            <a:r>
              <a:rPr b="1" lang="zh-CN" sz="3400" spc="-1" strike="noStrike">
                <a:solidFill>
                  <a:srgbClr val="545472"/>
                </a:solidFill>
                <a:latin typeface="宋体"/>
              </a:rPr>
              <a:t>的宏大理想。 </a:t>
            </a: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611280" y="407160"/>
            <a:ext cx="792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读准下列划线字的音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崩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殂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）   疲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弊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陛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下（    ）   恢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弘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妄自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菲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）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薄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以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塞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）   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驽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钝（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陟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）罚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臧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）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否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裨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）补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阙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 ）漏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2340000" y="1484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ú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5867280" y="1484280"/>
            <a:ext cx="8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2411280" y="2276640"/>
            <a:ext cx="10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5580000" y="2276640"/>
            <a:ext cx="16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óng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2843280" y="3141720"/>
            <a:ext cx="13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fěi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2" name="Rectangle 8"/>
          <p:cNvSpPr/>
          <p:nvPr/>
        </p:nvSpPr>
        <p:spPr>
          <a:xfrm>
            <a:off x="2340000" y="3933720"/>
            <a:ext cx="11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è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3" name="Rectangle 9"/>
          <p:cNvSpPr/>
          <p:nvPr/>
        </p:nvSpPr>
        <p:spPr>
          <a:xfrm>
            <a:off x="5796000" y="393372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ú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4" name="Rectangle 10"/>
          <p:cNvSpPr/>
          <p:nvPr/>
        </p:nvSpPr>
        <p:spPr>
          <a:xfrm>
            <a:off x="1908000" y="4724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ì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5" name="Rectangle 11"/>
          <p:cNvSpPr/>
          <p:nvPr/>
        </p:nvSpPr>
        <p:spPr>
          <a:xfrm>
            <a:off x="4427640" y="47242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āng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6" name="Rectangle 12"/>
          <p:cNvSpPr/>
          <p:nvPr/>
        </p:nvSpPr>
        <p:spPr>
          <a:xfrm>
            <a:off x="1908000" y="5589720"/>
            <a:ext cx="9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4572000" y="558972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uē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8" name="Rectangle 14"/>
          <p:cNvSpPr/>
          <p:nvPr/>
        </p:nvSpPr>
        <p:spPr>
          <a:xfrm>
            <a:off x="7020000" y="47973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pǐ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9" name="Rectangle 15"/>
          <p:cNvSpPr/>
          <p:nvPr/>
        </p:nvSpPr>
        <p:spPr>
          <a:xfrm>
            <a:off x="5148360" y="3141720"/>
            <a:ext cx="9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ó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611280" y="333360"/>
            <a:ext cx="792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郭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攸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）之   费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祎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行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 ）阵和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长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 ）史    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猥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 ）自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夙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）夜忧叹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以彰其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咎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） 咨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诹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以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遗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陛下（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斟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）</a:t>
            </a:r>
            <a:r>
              <a:rPr b="1" lang="zh-CN" sz="3600" spc="-1" strike="noStrike" u="sng">
                <a:solidFill>
                  <a:srgbClr val="545472"/>
                </a:solidFill>
                <a:uFillTx/>
                <a:latin typeface="楷体_GB2312"/>
                <a:ea typeface="楷体_GB2312"/>
              </a:rPr>
              <a:t>酌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）损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2050920" y="620640"/>
            <a:ext cx="12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ōu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6156360" y="620640"/>
            <a:ext cx="12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ī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1476360" y="1413000"/>
            <a:ext cx="15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áng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1403280" y="220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ǎng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5580000" y="2276640"/>
            <a:ext cx="17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ěi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1692360" y="30686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ù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3035160" y="3860640"/>
            <a:ext cx="11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ù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8" name="Rectangle 10"/>
          <p:cNvSpPr/>
          <p:nvPr/>
        </p:nvSpPr>
        <p:spPr>
          <a:xfrm>
            <a:off x="6012000" y="386064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ōu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9" name="Rectangle 11"/>
          <p:cNvSpPr/>
          <p:nvPr/>
        </p:nvSpPr>
        <p:spPr>
          <a:xfrm>
            <a:off x="2843280" y="4653000"/>
            <a:ext cx="14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èi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0" name="Rectangle 12"/>
          <p:cNvSpPr/>
          <p:nvPr/>
        </p:nvSpPr>
        <p:spPr>
          <a:xfrm>
            <a:off x="1403280" y="551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ē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1" name="Rectangle 13"/>
          <p:cNvSpPr/>
          <p:nvPr/>
        </p:nvSpPr>
        <p:spPr>
          <a:xfrm>
            <a:off x="3713040" y="5516640"/>
            <a:ext cx="15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uó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02" name="Picture 14" descr="23"/>
          <p:cNvPicPr/>
          <p:nvPr/>
        </p:nvPicPr>
        <p:blipFill>
          <a:blip r:embed="rId1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15"/>
          <p:cNvSpPr/>
          <p:nvPr/>
        </p:nvSpPr>
        <p:spPr>
          <a:xfrm>
            <a:off x="4876920" y="3048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攘（    ）除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5715000" y="3048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rǎng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250920" y="407520"/>
            <a:ext cx="7345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㈠给下列多音多义字注音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⒈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薄    妄自菲薄（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Arial"/>
                <a:ea typeface="楷体_GB2312"/>
              </a:rPr>
              <a:t>               </a:t>
            </a:r>
            <a:r>
              <a:rPr b="1" lang="zh-CN" sz="3600" spc="-1" strike="noStrike">
                <a:solidFill>
                  <a:srgbClr val="545472"/>
                </a:solidFill>
                <a:latin typeface="Arial"/>
                <a:ea typeface="楷体_GB2312"/>
              </a:rPr>
              <a:t>薄纸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（    </a:t>
            </a:r>
            <a:r>
              <a:rPr b="1" lang="zh-CN" sz="3600" spc="-1" strike="noStrike">
                <a:solidFill>
                  <a:srgbClr val="545472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塞    以塞忠谏之路（ 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堵塞（ 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⒊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行    行阵（ 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性行淑均（ 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⒋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否    陟罚臧否（ 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是否（ 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⒌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遗    以遗陛下（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遗失（ 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4714920" y="981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ó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5796000" y="2060640"/>
            <a:ext cx="151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è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3924360" y="2637000"/>
            <a:ext cx="1681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3708360" y="314172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áng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4716360" y="365112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ìng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4788000" y="422100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pǐ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3844800" y="4797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fǒu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4716360" y="537372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èi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4" name="Rectangle 11"/>
          <p:cNvSpPr/>
          <p:nvPr/>
        </p:nvSpPr>
        <p:spPr>
          <a:xfrm>
            <a:off x="3924360" y="587700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í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3838680" y="148428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á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6" name="Text Box 13"/>
          <p:cNvSpPr/>
          <p:nvPr/>
        </p:nvSpPr>
        <p:spPr>
          <a:xfrm>
            <a:off x="3851280" y="256536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ai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0" y="409680"/>
            <a:ext cx="525636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虚词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以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故临崩寄臣以大事也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先帝不以臣卑鄙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以光先帝遗德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以塞忠谏之路也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受命以来。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5821200" y="2205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词，把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4067280" y="2997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词，因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6107040" y="3789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表目的，来，用来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3851280" y="4581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表结果，以致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4503600" y="5451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表时间，以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3" name="Picture 8" descr="23"/>
          <p:cNvPicPr/>
          <p:nvPr/>
        </p:nvPicPr>
        <p:blipFill>
          <a:blip r:embed="rId1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5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AutoShape 4">
            <a:hlinkClick r:id="rId2"/>
          </p:cNvPr>
          <p:cNvSpPr/>
          <p:nvPr/>
        </p:nvSpPr>
        <p:spPr>
          <a:xfrm>
            <a:off x="324000" y="2565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8406"/>
                </a:moveTo>
                <a:lnTo>
                  <a:pt x="10040" y="8406"/>
                </a:lnTo>
                <a:lnTo>
                  <a:pt x="14462" y="3794"/>
                </a:lnTo>
                <a:lnTo>
                  <a:pt x="14462" y="17806"/>
                </a:lnTo>
                <a:lnTo>
                  <a:pt x="10040" y="13194"/>
                </a:lnTo>
                <a:lnTo>
                  <a:pt x="5610" y="13194"/>
                </a:lnTo>
                <a:close/>
              </a:path>
              <a:path fill="darken" w="25233" h="21600">
                <a:moveTo>
                  <a:pt x="16115" y="10800"/>
                </a:moveTo>
                <a:lnTo>
                  <a:pt x="19623" y="10800"/>
                </a:lnTo>
              </a:path>
              <a:path fill="darken" w="25233" h="21600">
                <a:moveTo>
                  <a:pt x="16115" y="8406"/>
                </a:moveTo>
                <a:lnTo>
                  <a:pt x="19623" y="5639"/>
                </a:lnTo>
              </a:path>
              <a:path fill="darken" w="25233" h="21600">
                <a:moveTo>
                  <a:pt x="16115" y="13194"/>
                </a:moveTo>
                <a:lnTo>
                  <a:pt x="19623" y="15961"/>
                </a:lnTo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179280" y="0"/>
            <a:ext cx="3672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阅读提示，思考：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此表的目的是什么？全文表达的主旨是什么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现代歌曲里的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隶书"/>
                <a:ea typeface="隶书"/>
              </a:rPr>
              <a:t>《</a:t>
            </a:r>
            <a:r>
              <a:rPr b="0" lang="zh-CN" sz="4400" spc="-1" strike="noStrike">
                <a:solidFill>
                  <a:srgbClr val="008000"/>
                </a:solidFill>
                <a:latin typeface="隶书"/>
                <a:ea typeface="隶书"/>
              </a:rPr>
              <a:t>出师表</a:t>
            </a:r>
            <a:r>
              <a:rPr b="0" lang="en-US" sz="4400" spc="-1" strike="noStrike">
                <a:solidFill>
                  <a:srgbClr val="008000"/>
                </a:solidFill>
                <a:latin typeface="隶书"/>
                <a:ea typeface="隶书"/>
              </a:rPr>
              <a:t>》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演唱：陈艺鹏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作词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曲：黄晓亮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尔若　先帝在　关张赵黄马归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分合一而苍生免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今　臣不懈　士不殆　忘身于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蜀汉之兴隆　即日可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箭已在弦　铠已覆肩　酒歃鞘中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十五万将士　身负先王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曹贼未灭　东吴未绝　太平许时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酒落黄土祭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歌曲试听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609480" y="76212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阅读第一段，思考：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作者指出当时的形势如何？值此“危急存亡之秋”，内外大臣表现如何？内外大臣如此，作者希望国君又当如何？由此得出作者提出的第一条建议是什么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2363760" y="304920"/>
            <a:ext cx="86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第一段分析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1979640" y="177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危急存亡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1" name="AutoShape 4"/>
          <p:cNvSpPr/>
          <p:nvPr/>
        </p:nvSpPr>
        <p:spPr>
          <a:xfrm>
            <a:off x="3124080" y="182880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3952080" y="1600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先帝崩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4028040" y="2286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天下三分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4028040" y="3048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益州疲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5" name="AutoShape 8"/>
          <p:cNvSpPr/>
          <p:nvPr/>
        </p:nvSpPr>
        <p:spPr>
          <a:xfrm>
            <a:off x="5715000" y="190512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6053400" y="2286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不利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2113560" y="414972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追殊遇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报陛下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8" name="AutoShape 11"/>
          <p:cNvSpPr/>
          <p:nvPr/>
        </p:nvSpPr>
        <p:spPr>
          <a:xfrm>
            <a:off x="3276720" y="419112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4104360" y="3962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不懈于内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4028040" y="50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忘身于外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1" name="AutoShape 14"/>
          <p:cNvSpPr/>
          <p:nvPr/>
        </p:nvSpPr>
        <p:spPr>
          <a:xfrm>
            <a:off x="5715000" y="42670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2" name="Text Box 15"/>
          <p:cNvSpPr/>
          <p:nvPr/>
        </p:nvSpPr>
        <p:spPr>
          <a:xfrm>
            <a:off x="6129720" y="4495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有利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3" name="AutoShape 16"/>
          <p:cNvSpPr/>
          <p:nvPr/>
        </p:nvSpPr>
        <p:spPr>
          <a:xfrm>
            <a:off x="1600200" y="236232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4" name="AutoShape 17"/>
          <p:cNvSpPr/>
          <p:nvPr/>
        </p:nvSpPr>
        <p:spPr>
          <a:xfrm>
            <a:off x="6934320" y="2590920"/>
            <a:ext cx="228600" cy="2209680"/>
          </a:xfrm>
          <a:custGeom>
            <a:avLst/>
            <a:gdLst>
              <a:gd name="textAreaLeft" fmla="*/ 0 w 228600"/>
              <a:gd name="textAreaRight" fmla="*/ 8244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7379640" y="304812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诚宜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不宜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7495200" y="441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（正反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-281520" y="1773360"/>
            <a:ext cx="2008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（广开言路）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开张圣听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7806240" y="563868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9595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838080" y="1066680"/>
            <a:ext cx="7391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5472"/>
                </a:solidFill>
                <a:latin typeface="Times New Roman"/>
              </a:rPr>
              <a:t>阅读第二段，思考：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作者提出的第二条建议是什么？为什么要提出这条建议？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609480" y="762120"/>
            <a:ext cx="47246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第二段分析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2666880" y="2438280"/>
            <a:ext cx="381240" cy="1905120"/>
          </a:xfrm>
          <a:custGeom>
            <a:avLst/>
            <a:gdLst>
              <a:gd name="textAreaLeft" fmla="*/ 243720 w 381240"/>
              <a:gd name="textAreaRight" fmla="*/ 381600 w 38124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3124080" y="190512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陟罚臧否，不宜异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124080" y="365760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不宜偏私，内外异法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4" name="AutoShape 6"/>
          <p:cNvSpPr/>
          <p:nvPr/>
        </p:nvSpPr>
        <p:spPr>
          <a:xfrm>
            <a:off x="5486400" y="2286000"/>
            <a:ext cx="457200" cy="2590920"/>
          </a:xfrm>
          <a:custGeom>
            <a:avLst/>
            <a:gdLst>
              <a:gd name="textAreaLeft" fmla="*/ 0 w 457200"/>
              <a:gd name="textAreaRight" fmla="*/ 164880 w 4572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5943600" y="281952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以昭陛下平明之理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756720" y="2895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严明赏罚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7824960" y="548640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595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609480" y="1143000"/>
            <a:ext cx="8355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45472"/>
                </a:solidFill>
                <a:latin typeface="Times New Roman"/>
              </a:rPr>
              <a:t>阅读第三、四、五段，思考：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作者提出的第三条建议是什么？这三段是怎样衔接起来的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304920" y="152280"/>
            <a:ext cx="6781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第三四五段关系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2311200" y="1219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宫中之事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2387520" y="2209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营中之事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3733920" y="1523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380988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4" name="Line 7"/>
          <p:cNvSpPr/>
          <p:nvPr/>
        </p:nvSpPr>
        <p:spPr>
          <a:xfrm>
            <a:off x="662940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7111800" y="99072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裨补阙漏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有所广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4537440" y="1219320"/>
            <a:ext cx="1643760" cy="5814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先帝简拔之臣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4613760" y="2209680"/>
            <a:ext cx="1643760" cy="5814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先帝称能之臣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8" name="Line 11"/>
          <p:cNvSpPr/>
          <p:nvPr/>
        </p:nvSpPr>
        <p:spPr>
          <a:xfrm>
            <a:off x="66294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7188120" y="20574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行阵和睦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优劣得所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0" name="AutoShape 13"/>
          <p:cNvSpPr/>
          <p:nvPr/>
        </p:nvSpPr>
        <p:spPr>
          <a:xfrm>
            <a:off x="1828800" y="152388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1375200" y="113868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荐贤臣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2" name="Text Box 15"/>
          <p:cNvSpPr/>
          <p:nvPr/>
        </p:nvSpPr>
        <p:spPr>
          <a:xfrm>
            <a:off x="2709720" y="3276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亲贤臣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，远小人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3" name="Line 16"/>
          <p:cNvSpPr/>
          <p:nvPr/>
        </p:nvSpPr>
        <p:spPr>
          <a:xfrm>
            <a:off x="4952880" y="3581280"/>
            <a:ext cx="457200" cy="0"/>
          </a:xfrm>
          <a:prstGeom prst="line">
            <a:avLst/>
          </a:prstGeom>
          <a:ln w="9360">
            <a:solidFill>
              <a:srgbClr val="54547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4" name="Text Box 17"/>
          <p:cNvSpPr/>
          <p:nvPr/>
        </p:nvSpPr>
        <p:spPr>
          <a:xfrm>
            <a:off x="5587920" y="3276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先汉兴隆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5" name="Text Box 18"/>
          <p:cNvSpPr/>
          <p:nvPr/>
        </p:nvSpPr>
        <p:spPr>
          <a:xfrm>
            <a:off x="2709720" y="4114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亲小人，远贤臣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6" name="Line 19"/>
          <p:cNvSpPr/>
          <p:nvPr/>
        </p:nvSpPr>
        <p:spPr>
          <a:xfrm>
            <a:off x="5029200" y="4419720"/>
            <a:ext cx="380880" cy="0"/>
          </a:xfrm>
          <a:prstGeom prst="line">
            <a:avLst/>
          </a:prstGeom>
          <a:ln w="9360">
            <a:solidFill>
              <a:srgbClr val="54547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7" name="Text Box 20"/>
          <p:cNvSpPr/>
          <p:nvPr/>
        </p:nvSpPr>
        <p:spPr>
          <a:xfrm>
            <a:off x="5663880" y="4114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后汉倾颓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8" name="AutoShape 21"/>
          <p:cNvSpPr/>
          <p:nvPr/>
        </p:nvSpPr>
        <p:spPr>
          <a:xfrm>
            <a:off x="7010280" y="35053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9" name="Text Box 22"/>
          <p:cNvSpPr/>
          <p:nvPr/>
        </p:nvSpPr>
        <p:spPr>
          <a:xfrm>
            <a:off x="7086600" y="335268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正反历史教训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0" name="AutoShape 23"/>
          <p:cNvSpPr/>
          <p:nvPr/>
        </p:nvSpPr>
        <p:spPr>
          <a:xfrm>
            <a:off x="2057400" y="350532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1" name="Text Box 24"/>
          <p:cNvSpPr/>
          <p:nvPr/>
        </p:nvSpPr>
        <p:spPr>
          <a:xfrm>
            <a:off x="1375200" y="319608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引教训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2" name="AutoShape 25"/>
          <p:cNvSpPr/>
          <p:nvPr/>
        </p:nvSpPr>
        <p:spPr>
          <a:xfrm>
            <a:off x="1219320" y="1828800"/>
            <a:ext cx="152280" cy="2743200"/>
          </a:xfrm>
          <a:custGeom>
            <a:avLst/>
            <a:gdLst>
              <a:gd name="textAreaLeft" fmla="*/ 97200 w 152280"/>
              <a:gd name="textAreaRight" fmla="*/ 152640 w 1522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3" name="Text Box 26"/>
          <p:cNvSpPr/>
          <p:nvPr/>
        </p:nvSpPr>
        <p:spPr>
          <a:xfrm>
            <a:off x="155880" y="1156320"/>
            <a:ext cx="115524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（亲贤远佞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亲贤臣，远小人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4" name="AutoShape 27"/>
          <p:cNvSpPr/>
          <p:nvPr/>
        </p:nvSpPr>
        <p:spPr>
          <a:xfrm>
            <a:off x="8610480" y="1905120"/>
            <a:ext cx="304920" cy="2666880"/>
          </a:xfrm>
          <a:custGeom>
            <a:avLst/>
            <a:gdLst>
              <a:gd name="textAreaLeft" fmla="*/ 0 w 304920"/>
              <a:gd name="textAreaRight" fmla="*/ 11016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5" name="Line 28"/>
          <p:cNvSpPr/>
          <p:nvPr/>
        </p:nvSpPr>
        <p:spPr>
          <a:xfrm>
            <a:off x="8915400" y="3276720"/>
            <a:ext cx="0" cy="2209680"/>
          </a:xfrm>
          <a:prstGeom prst="line">
            <a:avLst/>
          </a:prstGeom>
          <a:ln w="9360">
            <a:solidFill>
              <a:srgbClr val="54547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6" name="Line 29"/>
          <p:cNvSpPr/>
          <p:nvPr/>
        </p:nvSpPr>
        <p:spPr>
          <a:xfrm flipH="1">
            <a:off x="7543800" y="5465880"/>
            <a:ext cx="990720" cy="0"/>
          </a:xfrm>
          <a:prstGeom prst="line">
            <a:avLst/>
          </a:prstGeom>
          <a:ln w="9360">
            <a:solidFill>
              <a:srgbClr val="54547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7" name="Text Box 30"/>
          <p:cNvSpPr/>
          <p:nvPr/>
        </p:nvSpPr>
        <p:spPr>
          <a:xfrm>
            <a:off x="3895920" y="5105520"/>
            <a:ext cx="2923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汉室之隆，可计日而待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cxnSp>
        <p:nvCxnSpPr>
          <p:cNvPr id="588" name="AutoShape 32"/>
          <p:cNvCxnSpPr/>
          <p:nvPr/>
        </p:nvCxnSpPr>
        <p:spPr>
          <a:xfrm flipV="1">
            <a:off x="3123720" y="2971080"/>
            <a:ext cx="205776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>
    <p:cut thruBlk="true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826920" y="762120"/>
            <a:ext cx="725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45472"/>
                </a:solidFill>
                <a:latin typeface="Times New Roman"/>
              </a:rPr>
              <a:t>阅读第六、七段，思考：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在表达方式上，这两段与上文有何不同？主要内容应怎样概括？请逐句加以理解。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347840" y="228600"/>
            <a:ext cx="2619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第六七段逐句分析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933480" y="914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第六段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533520" y="1523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叙己志向：身份，生活，追求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品格高远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533520" y="22096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叙“三顾草庐：宽宏大度，不耻下问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由是感激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1716120" y="3352680"/>
            <a:ext cx="50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叙共患难经历：创业艰难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效忠心愿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857520" y="388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第七段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1839960" y="441972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叙托孤之事，提挈全段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2966040" y="49528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受命以来的心情、行动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2085480" y="5486400"/>
            <a:ext cx="45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北定中原，兴复汉室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出师目标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9" name="Text Box 11"/>
          <p:cNvSpPr/>
          <p:nvPr/>
        </p:nvSpPr>
        <p:spPr>
          <a:xfrm>
            <a:off x="1159200" y="6021360"/>
            <a:ext cx="10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补笔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7938000" y="609588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595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380880" y="6094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5472"/>
                </a:solidFill>
                <a:latin typeface="Times New Roman"/>
              </a:rPr>
              <a:t>阅读第八段，思考：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如果将第一句后用“；”，“以彰其咎”后用“。”，好不好？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1275840" y="380880"/>
            <a:ext cx="1704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第八段分析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2709720" y="1371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首先，严于律己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3038040" y="20574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其次，严格要求朝廷诸臣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2946600" y="2708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最后，向后主提出希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971640" y="3357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标点符号不能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304920" y="401940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、不能分清内外责任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、不能突出作者请命出师的决心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、由内大臣“兴德之言”顺势提出希望，不致让刘禅反感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813744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8032320" y="611676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9595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诸葛亮，字        ，是         著名的政治家，军事家。年轻时，       隆中，刻苦攻读史书。刘备三顾茅庐后，诸葛亮        辅助刘备。刘备死后，他受遗诏            后主刘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4604760" y="33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Times New Roman"/>
                <a:ea typeface="黑体"/>
              </a:rPr>
              <a:t>孔明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7125840" y="33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Times New Roman"/>
                <a:ea typeface="黑体"/>
              </a:rPr>
              <a:t>三国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1258920" y="1844640"/>
            <a:ext cx="141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Times New Roman"/>
                <a:ea typeface="黑体"/>
              </a:rPr>
              <a:t>隐居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7413120" y="2565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Times New Roman"/>
                <a:ea typeface="黑体"/>
              </a:rPr>
              <a:t>出山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436040" y="4005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Times New Roman"/>
                <a:ea typeface="黑体"/>
              </a:rPr>
              <a:t>辅助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31" name="Picture 8" descr="诸葛亮2"/>
          <p:cNvPicPr/>
          <p:nvPr/>
        </p:nvPicPr>
        <p:blipFill>
          <a:blip r:embed="rId1"/>
          <a:stretch/>
        </p:blipFill>
        <p:spPr>
          <a:xfrm>
            <a:off x="0" y="508464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9" descr="诸葛亮4"/>
          <p:cNvPicPr/>
          <p:nvPr/>
        </p:nvPicPr>
        <p:blipFill>
          <a:blip r:embed="rId2"/>
          <a:stretch/>
        </p:blipFill>
        <p:spPr>
          <a:xfrm>
            <a:off x="4356000" y="5084640"/>
            <a:ext cx="2438640" cy="1600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0" descr="诸葛亮5"/>
          <p:cNvPicPr/>
          <p:nvPr/>
        </p:nvPicPr>
        <p:blipFill>
          <a:blip r:embed="rId3"/>
          <a:stretch/>
        </p:blipFill>
        <p:spPr>
          <a:xfrm>
            <a:off x="6781680" y="5084640"/>
            <a:ext cx="2362320" cy="16002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" descr="诸葛亮9"/>
          <p:cNvPicPr/>
          <p:nvPr/>
        </p:nvPicPr>
        <p:blipFill>
          <a:blip r:embed="rId4"/>
          <a:stretch/>
        </p:blipFill>
        <p:spPr>
          <a:xfrm>
            <a:off x="2050920" y="508464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3071880" y="228600"/>
            <a:ext cx="31982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理清思路，把握结构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371520" y="1295280"/>
            <a:ext cx="87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部分    段落          要点              表达方式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1982880" y="1981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3647160" y="1981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广开言路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1981080" y="25909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3570840" y="2590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赏罚分明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1677960" y="31240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3--5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3566880" y="3200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亲贤远佞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8" name="AutoShape 10"/>
          <p:cNvSpPr/>
          <p:nvPr/>
        </p:nvSpPr>
        <p:spPr>
          <a:xfrm>
            <a:off x="1371600" y="2133720"/>
            <a:ext cx="304920" cy="1396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6360 h 1396800"/>
              <a:gd name="textAreaBottom" fmla="*/ 1360440 h 139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536040" y="2436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一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1905120" y="38862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1" name="Text Box 13"/>
          <p:cNvSpPr/>
          <p:nvPr/>
        </p:nvSpPr>
        <p:spPr>
          <a:xfrm>
            <a:off x="3193920" y="3886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叙述经历：三顾草庐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190656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3193920" y="4572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效忠心愿：托孤之事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4" name="AutoShape 16"/>
          <p:cNvSpPr/>
          <p:nvPr/>
        </p:nvSpPr>
        <p:spPr>
          <a:xfrm>
            <a:off x="1447920" y="4038480"/>
            <a:ext cx="228600" cy="939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4480 h 939960"/>
              <a:gd name="textAreaBottom" fmla="*/ 915480 h 93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5" name="Text Box 17"/>
          <p:cNvSpPr/>
          <p:nvPr/>
        </p:nvSpPr>
        <p:spPr>
          <a:xfrm>
            <a:off x="703440" y="3960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6" name="Text Box 18"/>
          <p:cNvSpPr/>
          <p:nvPr/>
        </p:nvSpPr>
        <p:spPr>
          <a:xfrm>
            <a:off x="1465200" y="5334120"/>
            <a:ext cx="10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3346200" y="53341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归结责任，结束全篇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703440" y="5334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9" name="AutoShape 21"/>
          <p:cNvSpPr/>
          <p:nvPr/>
        </p:nvSpPr>
        <p:spPr>
          <a:xfrm>
            <a:off x="6019920" y="2108160"/>
            <a:ext cx="152280" cy="1625760"/>
          </a:xfrm>
          <a:custGeom>
            <a:avLst/>
            <a:gdLst>
              <a:gd name="textAreaLeft" fmla="*/ 0 w 152280"/>
              <a:gd name="textAreaRight" fmla="*/ 55080 w 152280"/>
              <a:gd name="textAreaTop" fmla="*/ 42120 h 1625760"/>
              <a:gd name="textAreaBottom" fmla="*/ 1583640 h 162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6923880" y="2360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寓情于议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1" name="AutoShape 23"/>
          <p:cNvSpPr/>
          <p:nvPr/>
        </p:nvSpPr>
        <p:spPr>
          <a:xfrm>
            <a:off x="6705720" y="411480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7304760" y="4114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寓情于叙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3" name="Text Box 25"/>
          <p:cNvSpPr/>
          <p:nvPr/>
        </p:nvSpPr>
        <p:spPr>
          <a:xfrm>
            <a:off x="7228440" y="5257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抒发感情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304920" y="6858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思路：以“出师” 为中心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首先，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危急形势下出师，   提出治国建议；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然后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，陈述出师理由，表达感激之情效忠心愿；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最后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，要求批准出师，表达出师决心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533520" y="380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理解练习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539640" y="1052640"/>
            <a:ext cx="4330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。诸葛亮对当前形势的分析是什么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395280" y="2421000"/>
            <a:ext cx="632448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客观条件：今天下三分，益州疲弊，此诚危急存亡之秋也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250920" y="3860640"/>
            <a:ext cx="647676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观条件：侍卫之臣不懈于内，忠志之士忘身于外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380880" y="4046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。诸葛亮向后主提出的三条建议是什么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380880" y="1295280"/>
            <a:ext cx="4800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开张圣听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陟罚臧否，不宜异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亲贤臣，远小人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1" name="AutoShape 4"/>
          <p:cNvSpPr/>
          <p:nvPr/>
        </p:nvSpPr>
        <p:spPr>
          <a:xfrm>
            <a:off x="4419720" y="26668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2" name="AutoShape 5"/>
          <p:cNvSpPr/>
          <p:nvPr/>
        </p:nvSpPr>
        <p:spPr>
          <a:xfrm>
            <a:off x="3809880" y="20574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3" name="Line 6"/>
          <p:cNvSpPr/>
          <p:nvPr/>
        </p:nvSpPr>
        <p:spPr>
          <a:xfrm>
            <a:off x="4038480" y="2666880"/>
            <a:ext cx="838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4" name="Line 7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5" name="AutoShape 8"/>
          <p:cNvSpPr/>
          <p:nvPr/>
        </p:nvSpPr>
        <p:spPr>
          <a:xfrm>
            <a:off x="4800600" y="2286000"/>
            <a:ext cx="824040" cy="762120"/>
          </a:xfrm>
          <a:custGeom>
            <a:avLst/>
            <a:gdLst>
              <a:gd name="textAreaLeft" fmla="*/ 102960 w 824040"/>
              <a:gd name="textAreaRight" fmla="*/ 721080 w 8240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1" y="5400"/>
                </a:ln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16201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6" name="AutoShape 9"/>
          <p:cNvSpPr/>
          <p:nvPr/>
        </p:nvSpPr>
        <p:spPr>
          <a:xfrm flipH="1">
            <a:off x="5257080" y="21337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7" name="AutoShape 10"/>
          <p:cNvSpPr/>
          <p:nvPr/>
        </p:nvSpPr>
        <p:spPr>
          <a:xfrm>
            <a:off x="5715000" y="1523880"/>
            <a:ext cx="457200" cy="1905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200 h 1905120"/>
              <a:gd name="textAreaBottom" fmla="*/ 18619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7"/>
                  <a:pt x="10800" y="1574"/>
                </a:cubicBezTo>
                <a:lnTo>
                  <a:pt x="10800" y="9226"/>
                </a:lnTo>
                <a:cubicBezTo>
                  <a:pt x="10800" y="10013"/>
                  <a:pt x="5400" y="10800"/>
                  <a:pt x="0" y="10800"/>
                </a:cubicBezTo>
                <a:cubicBezTo>
                  <a:pt x="5400" y="10800"/>
                  <a:pt x="10800" y="11587"/>
                  <a:pt x="10800" y="12374"/>
                </a:cubicBezTo>
                <a:lnTo>
                  <a:pt x="10800" y="20026"/>
                </a:lnTo>
                <a:cubicBezTo>
                  <a:pt x="10800" y="2081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6324480" y="1371600"/>
            <a:ext cx="2286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广开言路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严明赏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亲贤远佞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609480" y="3886200"/>
            <a:ext cx="82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作者自叙志趣过人，不求功名的话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0" name="Text Box 13"/>
          <p:cNvSpPr/>
          <p:nvPr/>
        </p:nvSpPr>
        <p:spPr>
          <a:xfrm>
            <a:off x="914400" y="47242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苟全性命于乱世，不求闻达于诸侯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2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文中两句千古名言，说尽诸葛亮一生的话是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52" name="Picture 3" descr="D611T011"/>
          <p:cNvPicPr/>
          <p:nvPr/>
        </p:nvPicPr>
        <p:blipFill>
          <a:blip r:embed="rId1"/>
          <a:stretch/>
        </p:blipFill>
        <p:spPr>
          <a:xfrm>
            <a:off x="304920" y="3063960"/>
            <a:ext cx="4038480" cy="2882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D611T004"/>
          <p:cNvPicPr/>
          <p:nvPr/>
        </p:nvPicPr>
        <p:blipFill>
          <a:blip r:embed="rId2"/>
          <a:stretch/>
        </p:blipFill>
        <p:spPr>
          <a:xfrm>
            <a:off x="4876920" y="3124080"/>
            <a:ext cx="3886200" cy="281952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5"/>
          <p:cNvSpPr/>
          <p:nvPr/>
        </p:nvSpPr>
        <p:spPr>
          <a:xfrm>
            <a:off x="900000" y="1341360"/>
            <a:ext cx="775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受任于败军之际，奉命于危难之间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457200" y="1981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文中列举的使诸葛亮报先帝忠陛 下的两 件事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143000" y="5943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三顾茅庐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5562720" y="60199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白帝城托孤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0" y="189000"/>
            <a:ext cx="8012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诸葛亮此次出师的目的是什么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324000" y="1052640"/>
            <a:ext cx="4967280" cy="76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今南方已定，兵甲已足。当奖率三军，北定中原，庶竭驽钝，攘除奸凶，兴复汉室，还于旧都。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838080" y="1295280"/>
            <a:ext cx="76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文中隐藏了许多成语，能找出来吗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55468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914400" y="21337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妄自菲薄        三顾茅庐        不知所云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762120" y="289548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还有吗？请你找找看：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914400" y="3733920"/>
            <a:ext cx="6934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引喻失义     作奸犯科     苟全性命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裨补阙漏     指日可待     察纳雅言  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5" name="WordArt 7"/>
          <p:cNvSpPr txBox="1"/>
          <p:nvPr/>
        </p:nvSpPr>
        <p:spPr>
          <a:xfrm>
            <a:off x="6858000" y="2971800"/>
            <a:ext cx="1676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聪明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66" name="Picture 8" descr="lylogo"/>
          <p:cNvPicPr/>
          <p:nvPr/>
        </p:nvPicPr>
        <p:blipFill>
          <a:blip r:embed="rId1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lylogo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380880" y="228600"/>
            <a:ext cx="2895840" cy="7034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课外拓展：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395280" y="14479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5190f"/>
                </a:solidFill>
                <a:latin typeface="Times New Roman"/>
                <a:ea typeface="仿宋_GB2312"/>
              </a:rPr>
              <a:t>下边一副对联概括了诸葛亮一生的功绩，你能说出描写了他的哪些具体的事件吗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533520" y="2971800"/>
            <a:ext cx="8610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收二川，排八阵，六出七擒，五丈原前，点四十九盏明灯，一心只为酬三顾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取西蜀，定南蛮，东和北拒，中军帐里，变金木土爻神卦，水面偏能用火攻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5029200" y="609480"/>
            <a:ext cx="24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22822b"/>
                </a:solidFill>
                <a:latin typeface="Times New Roman"/>
              </a:rPr>
              <a:t>你知道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72" name="Picture 6" descr="PE01832_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2819520" y="838080"/>
            <a:ext cx="4038480" cy="7034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三顾：三顾茅庐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4800600" y="2057400"/>
            <a:ext cx="3809880" cy="7034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六出：六出祁山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685800" y="2057400"/>
            <a:ext cx="3962520" cy="7034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东和：东和东吴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2057400" y="5029200"/>
            <a:ext cx="4876920" cy="7034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收二川：收东川西川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685800" y="2971800"/>
            <a:ext cx="3962520" cy="7034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北拒：北拒曹魏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4800600" y="2971800"/>
            <a:ext cx="3962520" cy="7034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七擒：七擒孟获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2057400" y="4038480"/>
            <a:ext cx="5029200" cy="7034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排八阵：摆设八阵图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2133720" y="0"/>
            <a:ext cx="426708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文章学习拓展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0" y="609480"/>
            <a:ext cx="93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一、中国历史上曾出现过许许多多著名的政治家，如何衡量他们？你认为一个比较完全的政治家，应该具备那些条件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9280" y="2286000"/>
            <a:ext cx="89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应该有远大的抱负，坚强的责任感，以天下为己任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要有敏锐的洞察力，能洞悉当时国家之形势，针对国计民生症结所在，提出兴利除弊的方案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能知人善任，选拔贤才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能集思广益，善于采纳群言，改进工作。请结合本文所学和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三国演义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对诸葛亮进行评价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990720" y="55440"/>
            <a:ext cx="7162560" cy="825120"/>
          </a:xfrm>
          <a:prstGeom prst="rect">
            <a:avLst/>
          </a:prstGeom>
          <a:solidFill>
            <a:srgbClr val="ff9900"/>
          </a:solidFill>
          <a:ln cap="sq"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鞠躬尽瘁死而后已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8315280" y="-352440"/>
            <a:ext cx="1843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-651960" y="1066680"/>
            <a:ext cx="1642680" cy="4800600"/>
          </a:xfrm>
          <a:prstGeom prst="rect">
            <a:avLst/>
          </a:prstGeom>
          <a:solidFill>
            <a:srgbClr val="ffcc00"/>
          </a:solidFill>
          <a:ln cap="sq"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华文新魏"/>
                <a:ea typeface="华文新魏"/>
              </a:rPr>
              <a:t>长使英雄泪满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501320" y="1143000"/>
            <a:ext cx="1642680" cy="4800600"/>
          </a:xfrm>
          <a:prstGeom prst="rect">
            <a:avLst/>
          </a:prstGeom>
          <a:solidFill>
            <a:srgbClr val="ffcc00"/>
          </a:solidFill>
          <a:ln cap="sq"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出师未捷身先死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971640" y="1052640"/>
            <a:ext cx="79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17c1"/>
                </a:solidFill>
                <a:latin typeface="Times New Roman"/>
                <a:ea typeface="幼圆"/>
              </a:rPr>
              <a:t>你能向同学介绍一下诸葛亮的事吗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40" name="Picture 7" descr="天下奇才诸葛亮"/>
          <p:cNvPicPr/>
          <p:nvPr/>
        </p:nvPicPr>
        <p:blipFill>
          <a:blip r:embed="rId1"/>
          <a:stretch/>
        </p:blipFill>
        <p:spPr>
          <a:xfrm>
            <a:off x="1219320" y="1844640"/>
            <a:ext cx="2438280" cy="40226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wuhouci1"/>
          <p:cNvPicPr/>
          <p:nvPr/>
        </p:nvPicPr>
        <p:blipFill>
          <a:blip r:embed="rId2"/>
          <a:stretch/>
        </p:blipFill>
        <p:spPr>
          <a:xfrm>
            <a:off x="3886200" y="2362320"/>
            <a:ext cx="3962520" cy="28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ank  you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！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谢谢观赏！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3222720" y="0"/>
            <a:ext cx="185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诸葛亮年谱</a:t>
            </a:r>
            <a:br>
              <a:rPr sz="4400"/>
            </a:b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4316400" y="685800"/>
            <a:ext cx="7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岁：诸葛亮诞生于琅邪阳都（今山东沂南县）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723040" y="1371600"/>
            <a:ext cx="88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岁：诸葛亮和弟妹移居隆中。</a:t>
            </a:r>
            <a:br>
              <a:rPr sz="32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04920" y="2057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岁：刘备三顾茅庐，诸葛亮对刘备陈说三分  天下之计，即著名的“隆中对”。旋即出山辅助刘备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228600" y="37339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岁：诸葛亮说服孙权与刘备结盟，参与赤壁之战获胜。</a:t>
            </a:r>
            <a:br>
              <a:rPr sz="32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919320" y="4876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岁：刘备登基，建立蜀国。诸葛亮任丞相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380880" y="5562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岁：刘备白帝城托孤诸葛亮。刘禅封诸葛亮为武乡侯，领益州牧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4372920" y="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４５岁：诸葛亮率军南征，稳定南部四郡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533520" y="457200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５４岁：诸葛亮于再次北伐中病故于五丈原。</a:t>
            </a:r>
            <a:br>
              <a:rPr sz="32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609480" y="685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４６岁：诸葛亮准备兴师讨魏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609480" y="1143000"/>
            <a:ext cx="794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４７岁：诸葛亮向后主刘禅呈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出师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进行北伐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2160720" y="220968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４８岁：北伐街亭失守，诸葛亮挥泪斩马谡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自贬为右将军，行丞相事。</a:t>
            </a:r>
            <a:br>
              <a:rPr sz="32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457200" y="3276720"/>
            <a:ext cx="83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４９岁：诸葛亮再次北伐夺取武都、阴平，恢复丞相职位。</a:t>
            </a:r>
            <a:br>
              <a:rPr sz="32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457200" y="4343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５０岁：诸葛亮再次北伐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4146480" y="4952880"/>
            <a:ext cx="132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５１岁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诸葛亮北伐，破司马仲达，大败魏将张合。</a:t>
            </a:r>
            <a:br>
              <a:rPr sz="3200"/>
            </a:b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338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流行体简体"/>
              </a:rPr>
              <a:t>诸葛亮故事汇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547280" y="1483920"/>
            <a:ext cx="4629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流行体简体"/>
                <a:ea typeface="方正流行体简体"/>
              </a:rPr>
              <a:t>三顾茅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流行体简体"/>
                <a:ea typeface="方正流行体简体"/>
              </a:rPr>
              <a:t>舌战群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流行体简体"/>
                <a:ea typeface="方正流行体简体"/>
              </a:rPr>
              <a:t>草船借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流行体简体"/>
                <a:ea typeface="方正流行体简体"/>
              </a:rPr>
              <a:t>借东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流行体简体"/>
                <a:ea typeface="方正流行体简体"/>
              </a:rPr>
              <a:t>三气周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流行体简体"/>
                <a:ea typeface="方正流行体简体"/>
              </a:rPr>
              <a:t>七擒孟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流行体简体"/>
                <a:ea typeface="方正流行体简体"/>
              </a:rPr>
              <a:t>空城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流行体简体"/>
                <a:ea typeface="方正流行体简体"/>
              </a:rPr>
              <a:t>挥泪斩马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流行体简体"/>
                <a:ea typeface="方正流行体简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天下奇才诸葛亮"/>
          <p:cNvPicPr/>
          <p:nvPr/>
        </p:nvPicPr>
        <p:blipFill>
          <a:blip r:embed="rId1"/>
          <a:stretch/>
        </p:blipFill>
        <p:spPr>
          <a:xfrm>
            <a:off x="5508720" y="1341360"/>
            <a:ext cx="28749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"/>
                            </p:stCondLst>
                            <p:childTnLst>
                              <p:par>
                                <p:cTn id="17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2362320" y="1676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61" name="Picture 4" descr="wuhouci1"/>
          <p:cNvPicPr/>
          <p:nvPr/>
        </p:nvPicPr>
        <p:blipFill>
          <a:blip r:embed="rId1"/>
          <a:stretch/>
        </p:blipFill>
        <p:spPr>
          <a:xfrm>
            <a:off x="971640" y="549360"/>
            <a:ext cx="7219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859280" y="1206360"/>
            <a:ext cx="37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成都武侯祠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诸葛亮像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4557600" y="2376360"/>
            <a:ext cx="4191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功盖三分国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名成八阵图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江流石不转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遗恨失吞吴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杜甫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329544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4:50:12Z</dcterms:created>
  <dc:creator>linhui</dc:creator>
  <dc:description/>
  <dc:language>en-US</dc:language>
  <cp:lastModifiedBy>admin</cp:lastModifiedBy>
  <dcterms:modified xsi:type="dcterms:W3CDTF">2017-09-06T02:53:51Z</dcterms:modified>
  <cp:revision>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