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projctor.wav" ContentType="audio/x-wav"/>
  <Override PartName="/ppt/media/image24.jpeg" ContentType="image/jpeg"/>
  <Override PartName="/ppt/media/image21.jpeg" ContentType="image/jpeg"/>
  <Override PartName="/ppt/media/chimes.wav" ContentType="audio/x-wav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type.wav" ContentType="audio/x-wav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8.gif" ContentType="image/gif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543-4C7B-462A-8D8B-6A886D93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255-8221-42B0-8E26-9D4A7C1C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AD604-5632-4E49-8145-BC457237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16E40-1646-40C5-B72D-ED8DD567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9B2A3-41D7-453B-A0E9-3E3D2B54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09028-2B3E-4F58-924D-774B6C7E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DAC8E-30EA-48C6-B319-5967CAAB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D7084-8FD9-4F12-9889-E6615E8C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0302D-F9A9-4F29-8168-03CC2ADA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DE236-2A47-4490-8C0D-EB158561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AA7B9-BE02-4E0A-AA21-BA5B86CB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347-C628-4197-9F48-7F3428D8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B94-6723-448F-8493-75FB1182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A087-0216-474D-966D-B0543DA7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C6AB-4228-4707-85E2-63734D9E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040D-996F-4225-8B8A-0C0433F9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16E0-3585-45EE-A1A8-F59FB2C9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82C4-775C-4AF0-8C43-9611EE1B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538F-CCAF-4642-9662-471580F4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C25B-A6EA-41BA-8505-6370CA8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97B-DA0A-48E6-B82D-746656CC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CB51-91ED-4F9C-9266-C1DE0151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C8AD-E49A-48C8-BB06-198A7E7F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7611-5F34-47A7-9159-F4D073DA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BA30-E589-46D4-9921-28F8893D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161F-530A-4D67-8BD8-26905D09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496A-70C9-4F4B-B26D-C1E47633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290C-40D2-420E-9349-AB792735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9FF15-FADD-4389-9A74-641EB884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90432-FDE6-4209-B21F-82D09C47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B65E-5A31-42DB-BC44-A0D5A9B0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205-2B43-4048-A361-4287C4A6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E742-5AC7-419E-B193-2C085FC1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D6B0-2210-409E-8EA1-98DDC1F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F409-EC3F-48DD-A6FD-2AD56F0A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287F-8086-497F-B2A0-CC48DF63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19703-6451-4DAA-AE43-A60C6F0F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2405-A1D0-405B-959E-068D125F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9F11-CF8A-449A-8B24-7D7EC881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E168C-109B-450A-AED3-8E203C00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E4F9-B915-4BC4-8949-9556C5D5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2F37E-C3A3-4377-886F-5E079339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28B-C68C-4AFD-A3F1-78B0A7D6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EF53-1A56-4EB5-9620-0F55A145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3527-48D0-456E-8928-AE19059F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7050-44F1-4730-8291-73B911F6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CBDAB-7E4D-44C8-9331-317D61BA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6DD7-B584-476D-98B7-B492463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9AB8A-5D27-4507-B9B9-5C6ED42C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E47CD-A668-4070-BA38-0D5EED64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EE5A-B809-4A9E-BED4-A26062F2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58F43-0A3B-4D18-86DF-8B63EA43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996F-455E-4E29-AA8C-1C6C842C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47E-E00E-4ED1-A8C0-7FFFE1D6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1CC46-88BA-48DC-9DB4-F65D0723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E18E4-5434-42A2-AC73-4016E464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4D382-370B-47A0-B5D5-2939A3EF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6BD1D-342F-41AC-BCCC-DCE70EDD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16EE-2852-463F-86B3-B62063ED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0D5C-2E51-4AA9-8418-7D170A2F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7C902-E1AE-418C-8D18-B989B328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9DAD-88D7-4F91-A0F1-232B8EE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A2703-8117-4DCB-9E75-CBD87CFB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F795E-9C3D-41C5-AE46-D74D5BF4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AEE-FECE-45BE-93DE-1FDA7BC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E23C6-BB9D-44D5-8657-A353904F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C9C7-6F45-4CC0-A931-8409BB65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A5FF1-00A4-439C-8C6F-92A10566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E846D-9E0F-40D4-9840-EE1EAF48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425F5-4754-4F8F-A426-CF99B492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E54A2-4469-491F-B60C-E5AA729B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A3D68-5109-4879-8891-35774A0E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91D53-615A-4596-B5A9-A890BB7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D91E9-4AF7-4C30-9EB5-0D489B1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7D60-7E29-4830-A3CF-08047CAE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B72-1F06-42B9-A476-07AF8C56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772EF-1707-4784-8BCB-EFE93951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C1A50-9D60-42E6-A8BA-2DF76D5C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220AF-6456-4E08-8466-956162EE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0B6DF-6490-4F59-9817-7DD6A848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4DE0D-4952-4AB5-AED3-0EA2622F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0A03E-89A0-44AF-A83A-1A20DDF7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4F8C8-87F4-4D9E-976B-486F1C55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8F923-0340-4498-A05C-BA31E509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81280-0BBA-4B89-8F12-584327B9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4AC9B-978C-4F32-ACFD-E0F176F4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0C5-3FA6-4023-B2AD-907484D5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38017-4907-4DA8-9AAC-F4275412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9AC34-5C72-4BB1-808C-7DD6099C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4B390-5404-48CA-8D19-3A24ED6B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66145-4056-4DD9-BADD-9E56F207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7E1D4-7F72-4125-9097-7C19DCD7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AF5AB-3DC7-42C2-A80C-2275409A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6F8EF-DC06-46F5-91C2-B0C7B336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06470-CF8E-49D9-A866-3A5FB97B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234AD-EEDA-4175-80FD-EBF09DAA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70219-3DC8-4E48-B3C5-FFCDC686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FC8-50AF-4BAB-BAED-C62D79B5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58C94-942D-4A6D-90CB-05C83A10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8FB0F-726D-46EB-B080-1FFBA965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258D2-2D17-4A72-A8BE-FBE6E4BB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FECE3-5761-4877-A423-6B2412FE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863D4-7F6C-4172-BE55-EEADB483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31B2F-248D-4D3A-BD06-CCB310E8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83BA7-BAC0-4959-A700-D26A9E77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5B545-FB32-4680-A5E4-ED372B1E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1B022-6C48-4725-9F50-37FD188E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C5D32-8BBB-480F-A9FE-94FA23F2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4940-54C5-4BFC-92EB-9DA7D4D9D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A288-2186-4F20-8B4D-DA2C6A6867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32097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83" name="组合 132098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椭圆 132099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椭圆 132100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组合 132101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椭圆 132102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椭圆 132103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组合 132104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椭圆 132105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椭圆 132106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组合 132107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93" name="组合 132108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椭圆 132109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椭圆 132110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组合 132111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97" name="组合 132112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98" name="任意多边形 132113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任意多边形 132114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" name="组合 132115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1" name="任意多边形 132116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任意多边形 132117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组合 132118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" name="任意多边形 132119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任意多边形 132120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" name="组合 132121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" name="任意多边形 132122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任意多边形 132123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组合 132124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" name="任意多边形 132125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任意多边形 132126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" name="组合 132127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3" name="任意多边形 132128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任意多边形 132129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" name="组合 132130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6" name="任意多边形 132131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任意多边形 132132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" name="组合 132133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119" name="任意多边形 132134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任意多边形 132135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" name="组合 132136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2" name="任意多边形 132137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任意多边形 132138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组合 132139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5" name="任意多边形 132140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任意多边形 132141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组合 132142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8" name="任意多边形 132143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任意多边形 132144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组合 132145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1" name="任意多边形 132146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任意多边形 132147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组合 132148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4" name="任意多边形 132149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任意多边形 132150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组合 132151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" name="任意多边形 132152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任意多边形 132153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组合 132154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0" name="任意多边形 132155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任意多边形 132156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组合 132157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3" name="任意多边形 132158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任意多边形 132159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组合 132160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6" name="任意多边形 132161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任意多边形 132162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组合 132163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149" name="任意多边形 132164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任意多边形 132165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组合 132166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152" name="任意多边形 132167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任意多边形 132168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" name="组合 132169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5" name="任意多边形 132170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任意多边形 132171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组合 132172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8" name="任意多边形 132173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任意多边形 132174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" name="任意多边形 132175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任意多边形 132176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组合 132177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163" name="任意多边形 132178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任意多边形 132179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组合 132180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166" name="任意多边形 132181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任意多边形 132182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组合 132183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169" name="任意多边形 132184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任意多边形 132185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组合 132186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172" name="任意多边形 132187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任意多边形 132188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组合 132189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175" name="任意多边形 132190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任意多边形 132191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组合 132192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8" name="任意多边形 132193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任意多边形 132194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组合 132195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181" name="任意多边形 132196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任意多边形 132197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组合 132198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184" name="任意多边形 132199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任意多边形 132200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组合 132201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87" name="任意多边形 132202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任意多边形 132203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组合 132204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90" name="任意多边形 132205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任意多边形 132206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组合 132207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" name="任意多边形 132208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任意多边形 132209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5" name="任意多边形 132210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任意多边形 132211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任意多边形 132212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任意多边形 132213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任意多边形 132214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任意多边形 132215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任意多边形 132216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任意多边形 132217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任意多边形 132218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任意多边形 132219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任意多边形 132220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任意多边形 132221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任意多边形 132222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任意多边形 132223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任意多边形 132224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任意多边形 132225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任意多边形 132226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任意多边形 132227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任意多边形 132228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任意多边形 132229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任意多边形 132230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任意多边形 132231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BFE5-D9B7-4187-A064-4840C859A6A8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EE09-1816-4B82-AFE9-0502FF9B0F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F070-E1DC-4E70-9330-E5A50B8B90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F8FA-4DFD-4D6F-85E7-9C2FE18197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组合 133121"/>
          <p:cNvGrpSpPr/>
          <p:nvPr/>
        </p:nvGrpSpPr>
        <p:grpSpPr>
          <a:xfrm>
            <a:off x="2010960" y="244800"/>
            <a:ext cx="6896160" cy="5452560"/>
            <a:chOff x="2010960" y="244800"/>
            <a:chExt cx="6896160" cy="5452560"/>
          </a:xfrm>
        </p:grpSpPr>
        <p:grpSp>
          <p:nvGrpSpPr>
            <p:cNvPr id="382" name="组合 133122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3" name="椭圆 133123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椭圆 133124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组合 133125"/>
            <p:cNvGrpSpPr/>
            <p:nvPr/>
          </p:nvGrpSpPr>
          <p:grpSpPr>
            <a:xfrm>
              <a:off x="2010960" y="244800"/>
              <a:ext cx="6896160" cy="5452560"/>
              <a:chOff x="2010960" y="244800"/>
              <a:chExt cx="6896160" cy="5452560"/>
            </a:xfrm>
          </p:grpSpPr>
          <p:grpSp>
            <p:nvGrpSpPr>
              <p:cNvPr id="386" name="组合 133126"/>
              <p:cNvGrpSpPr/>
              <p:nvPr/>
            </p:nvGrpSpPr>
            <p:grpSpPr>
              <a:xfrm>
                <a:off x="2010960" y="244800"/>
                <a:ext cx="6891120" cy="5452560"/>
                <a:chOff x="2010960" y="244800"/>
                <a:chExt cx="6891120" cy="5452560"/>
              </a:xfrm>
            </p:grpSpPr>
            <p:grpSp>
              <p:nvGrpSpPr>
                <p:cNvPr id="387" name="组合 133127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88" name="椭圆 133128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椭圆 133129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组合 133130"/>
                <p:cNvGrpSpPr/>
                <p:nvPr/>
              </p:nvGrpSpPr>
              <p:grpSpPr>
                <a:xfrm>
                  <a:off x="2010960" y="244800"/>
                  <a:ext cx="6891120" cy="5452560"/>
                  <a:chOff x="2010960" y="244800"/>
                  <a:chExt cx="6891120" cy="5452560"/>
                </a:xfrm>
              </p:grpSpPr>
              <p:grpSp>
                <p:nvGrpSpPr>
                  <p:cNvPr id="391" name="组合 133131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392" name="任意多边形 133132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任意多边形 133133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组合 133134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95" name="任意多边形 133135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任意多边形 133136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组合 133137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98" name="任意多边形 133138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任意多边形 133139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组合 133140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1" name="任意多边形 133141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任意多边形 133142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" name="组合 133143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04" name="任意多边形 133144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任意多边形 133145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" name="组合 133146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07" name="任意多边形 133147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任意多边形 133148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组合 133149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0" name="任意多边形 133150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任意多边形 133151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2" name="组合 133152"/>
                  <p:cNvGrpSpPr/>
                  <p:nvPr/>
                </p:nvGrpSpPr>
                <p:grpSpPr>
                  <a:xfrm>
                    <a:off x="2646720" y="2474640"/>
                    <a:ext cx="2556720" cy="2740680"/>
                    <a:chOff x="2646720" y="2474640"/>
                    <a:chExt cx="2556720" cy="2740680"/>
                  </a:xfrm>
                </p:grpSpPr>
                <p:sp>
                  <p:nvSpPr>
                    <p:cNvPr id="413" name="任意多边形 133153"/>
                    <p:cNvSpPr/>
                    <p:nvPr/>
                  </p:nvSpPr>
                  <p:spPr>
                    <a:xfrm flipH="1" rot="18888600">
                      <a:off x="3253680" y="3172320"/>
                      <a:ext cx="21268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任意多边形 133154"/>
                    <p:cNvSpPr/>
                    <p:nvPr/>
                  </p:nvSpPr>
                  <p:spPr>
                    <a:xfrm flipH="1" rot="18888600">
                      <a:off x="2692080" y="429624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5" name="组合 133155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16" name="任意多边形 133156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任意多边形 133157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8" name="组合 133158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19" name="任意多边形 133159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任意多边形 133160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组合 133161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2" name="任意多边形 133162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任意多边形 133163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组合 133164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25" name="任意多边形 133165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任意多边形 133166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组合 133167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28" name="任意多边形 133168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任意多边形 133169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组合 133170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1" name="任意多边形 133171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任意多边形 133172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组合 133173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34" name="任意多边形 133174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任意多边形 133175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组合 133176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37" name="任意多边形 133177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任意多边形 133178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组合 133179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0" name="任意多边形 133180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任意多边形 133181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组合 133182"/>
                  <p:cNvGrpSpPr/>
                  <p:nvPr/>
                </p:nvGrpSpPr>
                <p:grpSpPr>
                  <a:xfrm>
                    <a:off x="4027320" y="335520"/>
                    <a:ext cx="1460520" cy="1885680"/>
                    <a:chOff x="4027320" y="335520"/>
                    <a:chExt cx="1460520" cy="1885680"/>
                  </a:xfrm>
                </p:grpSpPr>
                <p:sp>
                  <p:nvSpPr>
                    <p:cNvPr id="443" name="任意多边形 133183"/>
                    <p:cNvSpPr/>
                    <p:nvPr/>
                  </p:nvSpPr>
                  <p:spPr>
                    <a:xfrm flipH="1" rot="3474000">
                      <a:off x="4336920" y="1443960"/>
                      <a:ext cx="1356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任意多边形 133184"/>
                    <p:cNvSpPr/>
                    <p:nvPr/>
                  </p:nvSpPr>
                  <p:spPr>
                    <a:xfrm flipH="1" rot="3474000">
                      <a:off x="4032720" y="546480"/>
                      <a:ext cx="72900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组合 133185"/>
                  <p:cNvGrpSpPr/>
                  <p:nvPr/>
                </p:nvGrpSpPr>
                <p:grpSpPr>
                  <a:xfrm>
                    <a:off x="4448160" y="244800"/>
                    <a:ext cx="1122120" cy="1947240"/>
                    <a:chOff x="4448160" y="244800"/>
                    <a:chExt cx="1122120" cy="1947240"/>
                  </a:xfrm>
                </p:grpSpPr>
                <p:sp>
                  <p:nvSpPr>
                    <p:cNvPr id="446" name="任意多边形 133186"/>
                    <p:cNvSpPr/>
                    <p:nvPr/>
                  </p:nvSpPr>
                  <p:spPr>
                    <a:xfrm flipH="1" rot="4126800">
                      <a:off x="4554720" y="140112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任意多边形 133187"/>
                    <p:cNvSpPr/>
                    <p:nvPr/>
                  </p:nvSpPr>
                  <p:spPr>
                    <a:xfrm flipH="1" rot="4126800">
                      <a:off x="4417920" y="439200"/>
                      <a:ext cx="7030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组合 133188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49" name="任意多边形 133189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任意多边形 133190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1" name="组合 133191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2" name="任意多边形 133192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任意多边形 133193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4" name="任意多边形 133194"/>
                  <p:cNvSpPr/>
                  <p:nvPr/>
                </p:nvSpPr>
                <p:spPr>
                  <a:xfrm flipH="1" rot="4578600">
                    <a:off x="4764240" y="1464840"/>
                    <a:ext cx="1266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任意多边形 133195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6" name="组合 133196"/>
                  <p:cNvGrpSpPr/>
                  <p:nvPr/>
                </p:nvGrpSpPr>
                <p:grpSpPr>
                  <a:xfrm>
                    <a:off x="5356080" y="270000"/>
                    <a:ext cx="1196280" cy="1901160"/>
                    <a:chOff x="5356080" y="270000"/>
                    <a:chExt cx="1196280" cy="1901160"/>
                  </a:xfrm>
                </p:grpSpPr>
                <p:sp>
                  <p:nvSpPr>
                    <p:cNvPr id="457" name="任意多边形 133197"/>
                    <p:cNvSpPr/>
                    <p:nvPr/>
                  </p:nvSpPr>
                  <p:spPr>
                    <a:xfrm rot="17742000">
                      <a:off x="5087520" y="1418400"/>
                      <a:ext cx="130860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任意多边形 133198"/>
                    <p:cNvSpPr/>
                    <p:nvPr/>
                  </p:nvSpPr>
                  <p:spPr>
                    <a:xfrm rot="17742000">
                      <a:off x="588816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" name="组合 133199"/>
                  <p:cNvGrpSpPr/>
                  <p:nvPr/>
                </p:nvGrpSpPr>
                <p:grpSpPr>
                  <a:xfrm>
                    <a:off x="5347800" y="388800"/>
                    <a:ext cx="1891080" cy="1796400"/>
                    <a:chOff x="5347800" y="388800"/>
                    <a:chExt cx="1891080" cy="1796400"/>
                  </a:xfrm>
                </p:grpSpPr>
                <p:sp>
                  <p:nvSpPr>
                    <p:cNvPr id="460" name="任意多边形 133200"/>
                    <p:cNvSpPr/>
                    <p:nvPr/>
                  </p:nvSpPr>
                  <p:spPr>
                    <a:xfrm rot="18822600">
                      <a:off x="5247720" y="1389240"/>
                      <a:ext cx="142380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任意多边形 133201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组合 133202"/>
                  <p:cNvGrpSpPr/>
                  <p:nvPr/>
                </p:nvGrpSpPr>
                <p:grpSpPr>
                  <a:xfrm>
                    <a:off x="5458320" y="292680"/>
                    <a:ext cx="427320" cy="1795320"/>
                    <a:chOff x="5458320" y="292680"/>
                    <a:chExt cx="427320" cy="1795320"/>
                  </a:xfrm>
                </p:grpSpPr>
                <p:sp>
                  <p:nvSpPr>
                    <p:cNvPr id="463" name="任意多边形 133203"/>
                    <p:cNvSpPr/>
                    <p:nvPr/>
                  </p:nvSpPr>
                  <p:spPr>
                    <a:xfrm rot="16696200">
                      <a:off x="5007600" y="1445760"/>
                      <a:ext cx="117504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任意多边形 133204"/>
                    <p:cNvSpPr/>
                    <p:nvPr/>
                  </p:nvSpPr>
                  <p:spPr>
                    <a:xfrm rot="16696200">
                      <a:off x="5442480" y="532800"/>
                      <a:ext cx="63036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5" name="组合 133205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466" name="任意多边形 133206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任意多边形 133207"/>
                    <p:cNvSpPr/>
                    <p:nvPr/>
                  </p:nvSpPr>
                  <p:spPr>
                    <a:xfrm flipH="1" rot="18336000">
                      <a:off x="3069360" y="459180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8" name="组合 133208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69" name="任意多边形 133209"/>
                    <p:cNvSpPr/>
                    <p:nvPr/>
                  </p:nvSpPr>
                  <p:spPr>
                    <a:xfrm flipH="1" rot="17543400">
                      <a:off x="3738600" y="3439440"/>
                      <a:ext cx="1965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任意多边形 133210"/>
                    <p:cNvSpPr/>
                    <p:nvPr/>
                  </p:nvSpPr>
                  <p:spPr>
                    <a:xfrm flipH="1" rot="17543400">
                      <a:off x="3744000" y="4745160"/>
                      <a:ext cx="10548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1" name="组合 133211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472" name="任意多边形 133212"/>
                    <p:cNvSpPr/>
                    <p:nvPr/>
                  </p:nvSpPr>
                  <p:spPr>
                    <a:xfrm flipH="1" rot="16870800">
                      <a:off x="408708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任意多边形 133213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" name="组合 133214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475" name="任意多边形 133215"/>
                    <p:cNvSpPr/>
                    <p:nvPr/>
                  </p:nvSpPr>
                  <p:spPr>
                    <a:xfrm rot="3144000">
                      <a:off x="5415480" y="325044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任意多边形 133216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7" name="组合 133217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478" name="任意多边形 133218"/>
                    <p:cNvSpPr/>
                    <p:nvPr/>
                  </p:nvSpPr>
                  <p:spPr>
                    <a:xfrm rot="3745200">
                      <a:off x="5265000" y="3395880"/>
                      <a:ext cx="203436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任意多边形 133219"/>
                    <p:cNvSpPr/>
                    <p:nvPr/>
                  </p:nvSpPr>
                  <p:spPr>
                    <a:xfrm rot="3745200">
                      <a:off x="6352200" y="4719240"/>
                      <a:ext cx="109080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0" name="组合 133220"/>
                  <p:cNvGrpSpPr/>
                  <p:nvPr/>
                </p:nvGrpSpPr>
                <p:grpSpPr>
                  <a:xfrm>
                    <a:off x="5576400" y="2710800"/>
                    <a:ext cx="1224360" cy="2986560"/>
                    <a:chOff x="5576400" y="2710800"/>
                    <a:chExt cx="1224360" cy="2986560"/>
                  </a:xfrm>
                </p:grpSpPr>
                <p:sp>
                  <p:nvSpPr>
                    <p:cNvPr id="481" name="任意多边形 133221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任意多边形 133222"/>
                    <p:cNvSpPr/>
                    <p:nvPr/>
                  </p:nvSpPr>
                  <p:spPr>
                    <a:xfrm rot="4286400">
                      <a:off x="5877360" y="4881960"/>
                      <a:ext cx="105912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3" name="组合 133223"/>
                  <p:cNvGrpSpPr/>
                  <p:nvPr/>
                </p:nvGrpSpPr>
                <p:grpSpPr>
                  <a:xfrm>
                    <a:off x="5521320" y="2840760"/>
                    <a:ext cx="697320" cy="2778120"/>
                    <a:chOff x="5521320" y="2840760"/>
                    <a:chExt cx="697320" cy="2778120"/>
                  </a:xfrm>
                </p:grpSpPr>
                <p:sp>
                  <p:nvSpPr>
                    <p:cNvPr id="484" name="任意多边形 133224"/>
                    <p:cNvSpPr/>
                    <p:nvPr/>
                  </p:nvSpPr>
                  <p:spPr>
                    <a:xfrm rot="4898400">
                      <a:off x="4896000" y="3608280"/>
                      <a:ext cx="181296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任意多边形 133225"/>
                    <p:cNvSpPr/>
                    <p:nvPr/>
                  </p:nvSpPr>
                  <p:spPr>
                    <a:xfrm rot="4898400">
                      <a:off x="5425920" y="4865040"/>
                      <a:ext cx="97380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" name="组合 133226"/>
                  <p:cNvGrpSpPr/>
                  <p:nvPr/>
                </p:nvGrpSpPr>
                <p:grpSpPr>
                  <a:xfrm>
                    <a:off x="4960800" y="2887560"/>
                    <a:ext cx="663480" cy="2717280"/>
                    <a:chOff x="4960800" y="2887560"/>
                    <a:chExt cx="663480" cy="2717280"/>
                  </a:xfrm>
                </p:grpSpPr>
                <p:sp>
                  <p:nvSpPr>
                    <p:cNvPr id="487" name="任意多边形 133227"/>
                    <p:cNvSpPr/>
                    <p:nvPr/>
                  </p:nvSpPr>
                  <p:spPr>
                    <a:xfrm rot="5755200">
                      <a:off x="4531680" y="3664440"/>
                      <a:ext cx="17715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任意多边形 133228"/>
                    <p:cNvSpPr/>
                    <p:nvPr/>
                  </p:nvSpPr>
                  <p:spPr>
                    <a:xfrm rot="5755200">
                      <a:off x="4715280" y="4931640"/>
                      <a:ext cx="95040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89" name="组合 133229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90" name="组合 133230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91" name="任意多边形 133231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3048" y="17101"/>
                          <a:pt x="25962" y="21600"/>
                          <a:pt x="17826" y="21600"/>
                        </a:cubicBezTo>
                        <a:cubicBezTo>
                          <a:pt x="10423" y="21600"/>
                          <a:pt x="3890" y="17876"/>
                          <a:pt x="-2" y="12199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3048" y="17101"/>
                          <a:pt x="25962" y="21600"/>
                          <a:pt x="17826" y="21600"/>
                        </a:cubicBezTo>
                        <a:cubicBezTo>
                          <a:pt x="10423" y="21600"/>
                          <a:pt x="3890" y="17876"/>
                          <a:pt x="-2" y="12199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任意多边形 133232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0" y="1906"/>
                        </a:moveTo>
                        <a:cubicBezTo>
                          <a:pt x="2704" y="679"/>
                          <a:pt x="5709" y="-1"/>
                          <a:pt x="8873" y="-1"/>
                        </a:cubicBezTo>
                        <a:cubicBezTo>
                          <a:pt x="20802" y="-1"/>
                          <a:pt x="30473" y="9670"/>
                          <a:pt x="30473" y="21599"/>
                        </a:cubicBezTo>
                        <a:cubicBezTo>
                          <a:pt x="30473" y="21836"/>
                          <a:pt x="30469" y="22072"/>
                          <a:pt x="30462" y="22303"/>
                        </a:cubicBezTo>
                      </a:path>
                      <a:path stroke="0" w="30473" h="22305">
                        <a:moveTo>
                          <a:pt x="0" y="1906"/>
                        </a:moveTo>
                        <a:cubicBezTo>
                          <a:pt x="2704" y="679"/>
                          <a:pt x="5709" y="-1"/>
                          <a:pt x="8873" y="-1"/>
                        </a:cubicBezTo>
                        <a:cubicBezTo>
                          <a:pt x="20802" y="-1"/>
                          <a:pt x="30473" y="9670"/>
                          <a:pt x="30473" y="21599"/>
                        </a:cubicBezTo>
                        <a:cubicBezTo>
                          <a:pt x="30473" y="21836"/>
                          <a:pt x="30469" y="22072"/>
                          <a:pt x="30462" y="22303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任意多边形 133233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0" y="4512"/>
                        </a:moveTo>
                        <a:cubicBezTo>
                          <a:pt x="3652" y="1683"/>
                          <a:pt x="8235" y="0"/>
                          <a:pt x="13212" y="0"/>
                        </a:cubicBezTo>
                        <a:cubicBezTo>
                          <a:pt x="25141" y="0"/>
                          <a:pt x="34812" y="9671"/>
                          <a:pt x="34812" y="21600"/>
                        </a:cubicBezTo>
                        <a:cubicBezTo>
                          <a:pt x="34812" y="21837"/>
                          <a:pt x="34808" y="22073"/>
                          <a:pt x="34801" y="22304"/>
                        </a:cubicBezTo>
                      </a:path>
                      <a:path stroke="0" w="34812" h="22305">
                        <a:moveTo>
                          <a:pt x="0" y="4512"/>
                        </a:moveTo>
                        <a:cubicBezTo>
                          <a:pt x="3652" y="1683"/>
                          <a:pt x="8235" y="0"/>
                          <a:pt x="13212" y="0"/>
                        </a:cubicBezTo>
                        <a:cubicBezTo>
                          <a:pt x="25141" y="0"/>
                          <a:pt x="34812" y="9671"/>
                          <a:pt x="34812" y="21600"/>
                        </a:cubicBezTo>
                        <a:cubicBezTo>
                          <a:pt x="34812" y="21837"/>
                          <a:pt x="34808" y="22073"/>
                          <a:pt x="34801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任意多边形 133234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2"/>
                        </a:moveTo>
                        <a:cubicBezTo>
                          <a:pt x="3905" y="2399"/>
                          <a:pt x="9287" y="-1"/>
                          <a:pt x="15229" y="-1"/>
                        </a:cubicBezTo>
                        <a:cubicBezTo>
                          <a:pt x="27158" y="-1"/>
                          <a:pt x="36829" y="9670"/>
                          <a:pt x="36829" y="21599"/>
                        </a:cubicBezTo>
                        <a:cubicBezTo>
                          <a:pt x="36829" y="21836"/>
                          <a:pt x="36825" y="22072"/>
                          <a:pt x="36818" y="22303"/>
                        </a:cubicBezTo>
                      </a:path>
                      <a:path stroke="0" w="36830" h="22305">
                        <a:moveTo>
                          <a:pt x="0" y="6282"/>
                        </a:moveTo>
                        <a:cubicBezTo>
                          <a:pt x="3905" y="2399"/>
                          <a:pt x="9287" y="-1"/>
                          <a:pt x="15229" y="-1"/>
                        </a:cubicBezTo>
                        <a:cubicBezTo>
                          <a:pt x="27158" y="-1"/>
                          <a:pt x="36829" y="9670"/>
                          <a:pt x="36829" y="21599"/>
                        </a:cubicBezTo>
                        <a:cubicBezTo>
                          <a:pt x="36829" y="21836"/>
                          <a:pt x="36825" y="22072"/>
                          <a:pt x="36818" y="22303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任意多边形 133235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0" y="10015"/>
                        </a:moveTo>
                        <a:cubicBezTo>
                          <a:pt x="3833" y="3993"/>
                          <a:pt x="10565" y="0"/>
                          <a:pt x="18231" y="0"/>
                        </a:cubicBezTo>
                        <a:cubicBezTo>
                          <a:pt x="23408" y="0"/>
                          <a:pt x="28160" y="1821"/>
                          <a:pt x="31880" y="4858"/>
                        </a:cubicBezTo>
                      </a:path>
                      <a:path stroke="0" w="31881" h="21600">
                        <a:moveTo>
                          <a:pt x="0" y="10015"/>
                        </a:moveTo>
                        <a:cubicBezTo>
                          <a:pt x="3833" y="3993"/>
                          <a:pt x="10565" y="0"/>
                          <a:pt x="18231" y="0"/>
                        </a:cubicBezTo>
                        <a:cubicBezTo>
                          <a:pt x="23408" y="0"/>
                          <a:pt x="28160" y="1821"/>
                          <a:pt x="31880" y="4858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任意多边形 133236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0" y="4512"/>
                        </a:moveTo>
                        <a:cubicBezTo>
                          <a:pt x="3652" y="1683"/>
                          <a:pt x="8235" y="0"/>
                          <a:pt x="13212" y="0"/>
                        </a:cubicBezTo>
                        <a:cubicBezTo>
                          <a:pt x="20683" y="0"/>
                          <a:pt x="27268" y="3793"/>
                          <a:pt x="31146" y="9558"/>
                        </a:cubicBezTo>
                      </a:path>
                      <a:path stroke="0" w="31146" h="21600">
                        <a:moveTo>
                          <a:pt x="0" y="4512"/>
                        </a:moveTo>
                        <a:cubicBezTo>
                          <a:pt x="3652" y="1683"/>
                          <a:pt x="8235" y="0"/>
                          <a:pt x="13212" y="0"/>
                        </a:cubicBezTo>
                        <a:cubicBezTo>
                          <a:pt x="20683" y="0"/>
                          <a:pt x="27268" y="3793"/>
                          <a:pt x="31146" y="9558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任意多边形 133237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任意多边形 133238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9" name="组合 133239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500" name="任意多边形 133240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任意多边形 133241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任意多边形 133242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任意多边形 133243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任意多边形 133244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任意多边形 133245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任意多边形 133246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任意多边形 133247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任意多边形 133248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任意多边形 133249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任意多边形 133250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任意多边形 133251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任意多边形 133252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任意多边形 133253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9D59-CFE1-415A-A4F3-B0F03EB90C90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0438-4AD1-4AAA-BCF9-43266DAAD7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0D60-E563-4F1D-B50B-3579F131A908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61441"/>
          <p:cNvSpPr/>
          <p:nvPr/>
        </p:nvSpPr>
        <p:spPr>
          <a:xfrm>
            <a:off x="4191120" y="685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图片 61442" descr="诸葛亮"/>
          <p:cNvPicPr/>
          <p:nvPr/>
        </p:nvPicPr>
        <p:blipFill>
          <a:blip r:embed="rId1"/>
          <a:stretch/>
        </p:blipFill>
        <p:spPr>
          <a:xfrm>
            <a:off x="2340000" y="333360"/>
            <a:ext cx="4413240" cy="6120000"/>
          </a:xfrm>
          <a:prstGeom prst="rect">
            <a:avLst/>
          </a:prstGeom>
          <a:ln w="0">
            <a:noFill/>
          </a:ln>
        </p:spPr>
      </p:pic>
      <p:sp>
        <p:nvSpPr>
          <p:cNvPr id="639" name="文本框 61443"/>
          <p:cNvSpPr/>
          <p:nvPr/>
        </p:nvSpPr>
        <p:spPr>
          <a:xfrm>
            <a:off x="971640" y="6922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出师一表真名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文本框 61444"/>
          <p:cNvSpPr/>
          <p:nvPr/>
        </p:nvSpPr>
        <p:spPr>
          <a:xfrm>
            <a:off x="7451640" y="620640"/>
            <a:ext cx="762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千载谁堪仲伯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矩形 61445"/>
          <p:cNvSpPr/>
          <p:nvPr/>
        </p:nvSpPr>
        <p:spPr>
          <a:xfrm>
            <a:off x="468360" y="4437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文本框 61446"/>
          <p:cNvSpPr/>
          <p:nvPr/>
        </p:nvSpPr>
        <p:spPr>
          <a:xfrm>
            <a:off x="-186480" y="3789360"/>
            <a:ext cx="1102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陆游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—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书愤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8193"/>
          <p:cNvSpPr/>
          <p:nvPr/>
        </p:nvSpPr>
        <p:spPr>
          <a:xfrm>
            <a:off x="395280" y="1341360"/>
            <a:ext cx="8497800" cy="15562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诸葛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81─234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卓越的政治家、军事家、文学家。字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琅琊阳都（今山东省沂水县）人。早年避乱于荆州，曾躬耕于南阳隆中。建安十二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07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刘备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顾茅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请他出山共图大业。次年，他辅佐刘备联合孙权，在赤壁击败曹操，形成三足鼎立的局面。刘备称帝后，拜他为丞相。刘备死时托付他辅佐后主刘禅，后卒于军中。他的文学成就，主要以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散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称。文章写得周密畅达，代表作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师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矩形 8194"/>
          <p:cNvSpPr txBox="1"/>
          <p:nvPr/>
        </p:nvSpPr>
        <p:spPr>
          <a:xfrm>
            <a:off x="3203640" y="406440"/>
            <a:ext cx="2736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者简介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矩形 7169"/>
          <p:cNvSpPr/>
          <p:nvPr/>
        </p:nvSpPr>
        <p:spPr>
          <a:xfrm>
            <a:off x="250920" y="1487520"/>
            <a:ext cx="8686800" cy="112932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诸葛亮这篇表文写于蜀汉建兴（后主刘禅年号）五年（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7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第一次出师伐魏之前。当时蜀汉已从猇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GB" sz="34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xiāo</a:t>
            </a:r>
            <a:r>
              <a:rPr b="1" lang="en-GB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亭（现在湖北宜都）战役的惨败中恢复过来，既与吴国通好，又平定了南方的叛乱，所以诸葛亮决定北上伐魏，写这篇表文的目的是，希望刘禅任用贤臣，采纳忠言，赏罚分明，国内政治修明，有一个稳定的战略后方，以实现先帝的“北定中原”，“兴复汉室”的宏大理想。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文本框 7170"/>
          <p:cNvSpPr/>
          <p:nvPr/>
        </p:nvSpPr>
        <p:spPr>
          <a:xfrm>
            <a:off x="395280" y="18900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矩形 7171"/>
          <p:cNvSpPr txBox="1"/>
          <p:nvPr/>
        </p:nvSpPr>
        <p:spPr>
          <a:xfrm>
            <a:off x="755640" y="115920"/>
            <a:ext cx="18669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写作背景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701" name="图片 7172" descr="b_27C3E8A88E4488FC"/>
          <p:cNvPicPr/>
          <p:nvPr/>
        </p:nvPicPr>
        <p:blipFill>
          <a:blip r:embed="rId1"/>
          <a:stretch/>
        </p:blipFill>
        <p:spPr>
          <a:xfrm>
            <a:off x="7699320" y="0"/>
            <a:ext cx="144468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文本框 95236"/>
          <p:cNvSpPr/>
          <p:nvPr/>
        </p:nvSpPr>
        <p:spPr>
          <a:xfrm>
            <a:off x="684360" y="620640"/>
            <a:ext cx="828036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文言文翻译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留”，古今意义相同的词，古代人名、地名、物名、官名、国号、年号、度量衡单位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删”，删掉无须译出的文言虚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补”，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变单音词为双音词；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补出省略句中的省略成分；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补出省略了的语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换”，用现代词汇替换古代词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5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调” 把古汉语倒装句调整为现代汉语句式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6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变”，在忠实于原文的基础上，活译有关文字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矩形 14337"/>
          <p:cNvSpPr/>
          <p:nvPr/>
        </p:nvSpPr>
        <p:spPr>
          <a:xfrm>
            <a:off x="0" y="333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帝创业未半而中道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崩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今天下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益州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疲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此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急存亡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。然侍卫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臣不懈于内，忠志之士忘身于外者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帝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殊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欲报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陛下也。诚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开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圣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帝遗德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恢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志士之气，不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妄自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引喻失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塞忠谏之路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文本框 14338"/>
          <p:cNvSpPr/>
          <p:nvPr/>
        </p:nvSpPr>
        <p:spPr>
          <a:xfrm>
            <a:off x="5562720" y="8380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文本框 14339"/>
          <p:cNvSpPr/>
          <p:nvPr/>
        </p:nvSpPr>
        <p:spPr>
          <a:xfrm>
            <a:off x="3657600" y="1143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矩形 14340"/>
          <p:cNvSpPr/>
          <p:nvPr/>
        </p:nvSpPr>
        <p:spPr>
          <a:xfrm>
            <a:off x="0" y="184464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微软雅黑"/>
              </a:rPr>
              <a:t>人力疲劳，物力缺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矩形 14341"/>
          <p:cNvSpPr/>
          <p:nvPr/>
        </p:nvSpPr>
        <p:spPr>
          <a:xfrm>
            <a:off x="3851280" y="184464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矩形 14342"/>
          <p:cNvSpPr/>
          <p:nvPr/>
        </p:nvSpPr>
        <p:spPr>
          <a:xfrm>
            <a:off x="3995640" y="1844640"/>
            <a:ext cx="51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实在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微软雅黑"/>
              </a:rPr>
              <a:t>这里是“时”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矩形 14343"/>
          <p:cNvSpPr/>
          <p:nvPr/>
        </p:nvSpPr>
        <p:spPr>
          <a:xfrm>
            <a:off x="539640" y="3716280"/>
            <a:ext cx="29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微软雅黑"/>
              </a:rPr>
              <a:t>特别厚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矩形 14344"/>
          <p:cNvSpPr/>
          <p:nvPr/>
        </p:nvSpPr>
        <p:spPr>
          <a:xfrm>
            <a:off x="5003640" y="479736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微软雅黑"/>
              </a:rPr>
              <a:t>过分地看轻自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矩形 14345"/>
          <p:cNvSpPr/>
          <p:nvPr/>
        </p:nvSpPr>
        <p:spPr>
          <a:xfrm>
            <a:off x="4716360" y="27813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微软雅黑"/>
              </a:rPr>
              <a:t>发语词，大概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文本框 14346"/>
          <p:cNvSpPr/>
          <p:nvPr/>
        </p:nvSpPr>
        <p:spPr>
          <a:xfrm>
            <a:off x="3276720" y="371628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矩形 15361"/>
          <p:cNvSpPr/>
          <p:nvPr/>
        </p:nvSpPr>
        <p:spPr>
          <a:xfrm>
            <a:off x="457200" y="762120"/>
            <a:ext cx="838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宫中府中，俱为一体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陟罚臧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宜异同。若有作奸犯科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为忠善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宜付有司论其刑赏，以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陛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平明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不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偏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内外异法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矩形 15362"/>
          <p:cNvSpPr/>
          <p:nvPr/>
        </p:nvSpPr>
        <p:spPr>
          <a:xfrm>
            <a:off x="5481720" y="3886200"/>
            <a:ext cx="40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平严明的治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矩形 15363"/>
          <p:cNvSpPr/>
          <p:nvPr/>
        </p:nvSpPr>
        <p:spPr>
          <a:xfrm>
            <a:off x="4343400" y="3886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显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矩形 15364"/>
          <p:cNvSpPr/>
          <p:nvPr/>
        </p:nvSpPr>
        <p:spPr>
          <a:xfrm>
            <a:off x="5262480" y="2666880"/>
            <a:ext cx="38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尽忠做好事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矩形 16385"/>
          <p:cNvSpPr/>
          <p:nvPr/>
        </p:nvSpPr>
        <p:spPr>
          <a:xfrm>
            <a:off x="685800" y="380880"/>
            <a:ext cx="7924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侍中侍郎郭攸之、费祎、董允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此皆</a:t>
            </a: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宋体"/>
              </a:rPr>
              <a:t>良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志虑忠纯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是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先帝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陛下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为宫中之事，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无大小，悉以咨之，然后施行，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裨补阙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广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矩形 16386"/>
          <p:cNvSpPr/>
          <p:nvPr/>
        </p:nvSpPr>
        <p:spPr>
          <a:xfrm>
            <a:off x="838080" y="1066680"/>
            <a:ext cx="546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善良的人，诚实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形容词用作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矩形 16387"/>
          <p:cNvSpPr/>
          <p:nvPr/>
        </p:nvSpPr>
        <p:spPr>
          <a:xfrm>
            <a:off x="2438280" y="3505320"/>
            <a:ext cx="40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时自称，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矩形 16388"/>
          <p:cNvSpPr/>
          <p:nvPr/>
        </p:nvSpPr>
        <p:spPr>
          <a:xfrm>
            <a:off x="2971800" y="594360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多的益处、成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矩形 16389"/>
          <p:cNvSpPr/>
          <p:nvPr/>
        </p:nvSpPr>
        <p:spPr>
          <a:xfrm>
            <a:off x="5638680" y="2286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矩形 17409"/>
          <p:cNvSpPr/>
          <p:nvPr/>
        </p:nvSpPr>
        <p:spPr>
          <a:xfrm>
            <a:off x="609480" y="304920"/>
            <a:ext cx="8001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将军向宠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性行淑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晓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事，试用于昔日，先帝称之曰能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是以众议举宠为督。愚以为营中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事，悉以咨之，必能使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行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和睦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优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得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矩形 17410"/>
          <p:cNvSpPr/>
          <p:nvPr/>
        </p:nvSpPr>
        <p:spPr>
          <a:xfrm>
            <a:off x="5562720" y="1066680"/>
            <a:ext cx="32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晓，精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矩形 17411"/>
          <p:cNvSpPr/>
          <p:nvPr/>
        </p:nvSpPr>
        <p:spPr>
          <a:xfrm>
            <a:off x="4724280" y="4724280"/>
            <a:ext cx="34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队伍，指军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矩形 17412"/>
          <p:cNvSpPr/>
          <p:nvPr/>
        </p:nvSpPr>
        <p:spPr>
          <a:xfrm>
            <a:off x="2892600" y="5334120"/>
            <a:ext cx="62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才能高的人，才能低的人。形容词用作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矩形 18433"/>
          <p:cNvSpPr/>
          <p:nvPr/>
        </p:nvSpPr>
        <p:spPr>
          <a:xfrm>
            <a:off x="457200" y="1522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宋体"/>
              </a:rPr>
              <a:t>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贤臣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人，此先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所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兴隆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亲小人，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宋体"/>
              </a:rPr>
              <a:t>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贤臣，此后汉所以倾颓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先帝在时，每与臣论此事，未尝不叹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痛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于桓、灵也。侍中、尚书、长史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参军，此悉贞良死节之臣，愿陛下亲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信之，则汉室之隆，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计日而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矩形 18434"/>
          <p:cNvSpPr/>
          <p:nvPr/>
        </p:nvSpPr>
        <p:spPr>
          <a:xfrm>
            <a:off x="961920" y="112536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亲近。形容词用作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矩形 18435"/>
          <p:cNvSpPr/>
          <p:nvPr/>
        </p:nvSpPr>
        <p:spPr>
          <a:xfrm>
            <a:off x="5383080" y="62064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原因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矩形 18436"/>
          <p:cNvSpPr/>
          <p:nvPr/>
        </p:nvSpPr>
        <p:spPr>
          <a:xfrm>
            <a:off x="2050920" y="22766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疏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矩形 18437"/>
          <p:cNvSpPr/>
          <p:nvPr/>
        </p:nvSpPr>
        <p:spPr>
          <a:xfrm>
            <a:off x="136440" y="4443480"/>
            <a:ext cx="25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痛心遗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矩形 18438"/>
          <p:cNvSpPr/>
          <p:nvPr/>
        </p:nvSpPr>
        <p:spPr>
          <a:xfrm>
            <a:off x="2052720" y="62164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着时间而到来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为期不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矩形 19457"/>
          <p:cNvSpPr/>
          <p:nvPr/>
        </p:nvSpPr>
        <p:spPr>
          <a:xfrm>
            <a:off x="457200" y="228600"/>
            <a:ext cx="893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臣本布衣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耕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宋体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南阳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苟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性命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宋体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世，不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闻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于诸侯。先帝不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臣卑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猥自枉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三顾臣于草庐之中，咨臣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宋体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当世之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由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感激，遂许先帝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驱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后值倾覆，受任于败军之际，奉命于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难之间，尔来二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年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矩形 19458"/>
          <p:cNvSpPr/>
          <p:nvPr/>
        </p:nvSpPr>
        <p:spPr>
          <a:xfrm>
            <a:off x="2514600" y="91440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矩形 19459"/>
          <p:cNvSpPr/>
          <p:nvPr/>
        </p:nvSpPr>
        <p:spPr>
          <a:xfrm>
            <a:off x="4648320" y="838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苟且保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矩形 19460"/>
          <p:cNvSpPr/>
          <p:nvPr/>
        </p:nvSpPr>
        <p:spPr>
          <a:xfrm>
            <a:off x="1752480" y="198108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闻名做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矩形 19461"/>
          <p:cNvSpPr/>
          <p:nvPr/>
        </p:nvSpPr>
        <p:spPr>
          <a:xfrm>
            <a:off x="2771640" y="4221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矩形 19462"/>
          <p:cNvSpPr/>
          <p:nvPr/>
        </p:nvSpPr>
        <p:spPr>
          <a:xfrm>
            <a:off x="5164200" y="422100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跑，喻奔走效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矩形 19463"/>
          <p:cNvSpPr/>
          <p:nvPr/>
        </p:nvSpPr>
        <p:spPr>
          <a:xfrm>
            <a:off x="5580000" y="57340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“又”，表余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文本框 19464"/>
          <p:cNvSpPr/>
          <p:nvPr/>
        </p:nvSpPr>
        <p:spPr>
          <a:xfrm>
            <a:off x="62485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文本框 19465"/>
          <p:cNvSpPr/>
          <p:nvPr/>
        </p:nvSpPr>
        <p:spPr>
          <a:xfrm>
            <a:off x="7812000" y="29973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矩形 20481"/>
          <p:cNvSpPr/>
          <p:nvPr/>
        </p:nvSpPr>
        <p:spPr>
          <a:xfrm>
            <a:off x="228600" y="533520"/>
            <a:ext cx="891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先帝知臣谨慎，故临崩寄臣以大事也。受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以来，夙夜忧叹，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托付不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伤先帝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明，故五月渡泸，深入不毛。今南方已定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兵甲已足，当奖率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三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北定中原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竭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钝，攘除奸凶，兴复汉室，还于旧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矩形 20482"/>
          <p:cNvSpPr/>
          <p:nvPr/>
        </p:nvSpPr>
        <p:spPr>
          <a:xfrm>
            <a:off x="3124080" y="22096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托付的事情未能办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矩形 20483"/>
          <p:cNvSpPr/>
          <p:nvPr/>
        </p:nvSpPr>
        <p:spPr>
          <a:xfrm>
            <a:off x="3352680" y="441972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全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矩形 20484"/>
          <p:cNvSpPr/>
          <p:nvPr/>
        </p:nvSpPr>
        <p:spPr>
          <a:xfrm>
            <a:off x="7391520" y="449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希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10241"/>
          <p:cNvSpPr/>
          <p:nvPr/>
        </p:nvSpPr>
        <p:spPr>
          <a:xfrm>
            <a:off x="179280" y="476280"/>
            <a:ext cx="896472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师未捷身先死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使英雄泪满襟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杜甫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蜀相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文本框 10242"/>
          <p:cNvSpPr/>
          <p:nvPr/>
        </p:nvSpPr>
        <p:spPr>
          <a:xfrm>
            <a:off x="-46080" y="3048120"/>
            <a:ext cx="3681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鞠躬尽瘁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死而后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图片 10243" descr="zgl"/>
          <p:cNvPicPr/>
          <p:nvPr/>
        </p:nvPicPr>
        <p:blipFill>
          <a:blip r:embed="rId1"/>
          <a:stretch/>
        </p:blipFill>
        <p:spPr>
          <a:xfrm>
            <a:off x="6172200" y="2286000"/>
            <a:ext cx="2971800" cy="43434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646" name="图片 10244" descr="诸葛亮"/>
          <p:cNvPicPr/>
          <p:nvPr/>
        </p:nvPicPr>
        <p:blipFill>
          <a:blip r:embed="rId2"/>
          <a:srcRect l="10058" t="0" r="38118" b="17462"/>
          <a:stretch/>
        </p:blipFill>
        <p:spPr>
          <a:xfrm>
            <a:off x="3352680" y="2286000"/>
            <a:ext cx="28069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21505"/>
          <p:cNvSpPr/>
          <p:nvPr/>
        </p:nvSpPr>
        <p:spPr>
          <a:xfrm>
            <a:off x="457200" y="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此臣所以报先帝而忠陛下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职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也。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斟酌损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进尽忠言，则攸之、祎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允之任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愿陛下托臣以讨贼兴复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宋体"/>
              </a:rPr>
              <a:t>不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则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臣之罪，以告先帝之灵。若无兴德之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则责攸之、祎、允等之慢，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矩形 21506"/>
          <p:cNvSpPr/>
          <p:nvPr/>
        </p:nvSpPr>
        <p:spPr>
          <a:xfrm>
            <a:off x="5562720" y="609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职责本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矩形 21507"/>
          <p:cNvSpPr/>
          <p:nvPr/>
        </p:nvSpPr>
        <p:spPr>
          <a:xfrm>
            <a:off x="5715000" y="3809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矩形 21508"/>
          <p:cNvSpPr/>
          <p:nvPr/>
        </p:nvSpPr>
        <p:spPr>
          <a:xfrm>
            <a:off x="6400800" y="27432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没有成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22529"/>
          <p:cNvSpPr/>
          <p:nvPr/>
        </p:nvSpPr>
        <p:spPr>
          <a:xfrm>
            <a:off x="838080" y="152280"/>
            <a:ext cx="812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陛下亦宜自谋，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咨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善道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察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言，深追先帝遗诏。臣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不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受恩感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今当远离，临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涕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不知所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图片 22530" descr="D611T002"/>
          <p:cNvPicPr/>
          <p:nvPr/>
        </p:nvPicPr>
        <p:blipFill>
          <a:blip r:embed="rId1"/>
          <a:stretch/>
        </p:blipFill>
        <p:spPr>
          <a:xfrm>
            <a:off x="0" y="3809880"/>
            <a:ext cx="8991720" cy="3048120"/>
          </a:xfrm>
          <a:prstGeom prst="rect">
            <a:avLst/>
          </a:prstGeom>
          <a:ln w="0">
            <a:noFill/>
          </a:ln>
        </p:spPr>
      </p:pic>
      <p:sp>
        <p:nvSpPr>
          <p:cNvPr id="751" name="矩形 22531"/>
          <p:cNvSpPr/>
          <p:nvPr/>
        </p:nvSpPr>
        <p:spPr>
          <a:xfrm>
            <a:off x="6324480" y="762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观察采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矩形 22532"/>
          <p:cNvSpPr/>
          <p:nvPr/>
        </p:nvSpPr>
        <p:spPr>
          <a:xfrm>
            <a:off x="5334120" y="1828800"/>
            <a:ext cx="11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矩形 22533"/>
          <p:cNvSpPr/>
          <p:nvPr/>
        </p:nvSpPr>
        <p:spPr>
          <a:xfrm>
            <a:off x="4343400" y="3048120"/>
            <a:ext cx="21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流下眼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文本框 23553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图片 2355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矩形 111617"/>
          <p:cNvSpPr/>
          <p:nvPr/>
        </p:nvSpPr>
        <p:spPr>
          <a:xfrm>
            <a:off x="0" y="5040"/>
            <a:ext cx="676908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㈡解释下列划线的词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益州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疲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盖追先帝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殊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恢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志士之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尝不叹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痛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桓、灵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帝不以臣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卑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感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矩形 111618"/>
          <p:cNvSpPr/>
          <p:nvPr/>
        </p:nvSpPr>
        <p:spPr>
          <a:xfrm>
            <a:off x="2916360" y="98100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贫困衰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矩形 111619"/>
          <p:cNvSpPr/>
          <p:nvPr/>
        </p:nvSpPr>
        <p:spPr>
          <a:xfrm>
            <a:off x="4211640" y="1773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特殊待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矩形 111620"/>
          <p:cNvSpPr/>
          <p:nvPr/>
        </p:nvSpPr>
        <p:spPr>
          <a:xfrm>
            <a:off x="3780000" y="256536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扬光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矩形 111621"/>
          <p:cNvSpPr/>
          <p:nvPr/>
        </p:nvSpPr>
        <p:spPr>
          <a:xfrm>
            <a:off x="6588000" y="3357720"/>
            <a:ext cx="23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痛心遗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矩形 111622"/>
          <p:cNvSpPr/>
          <p:nvPr/>
        </p:nvSpPr>
        <p:spPr>
          <a:xfrm>
            <a:off x="4119480" y="414972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位低微，见识浅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矩形 111623"/>
          <p:cNvSpPr/>
          <p:nvPr/>
        </p:nvSpPr>
        <p:spPr>
          <a:xfrm>
            <a:off x="2987640" y="5013360"/>
            <a:ext cx="25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动激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矩形 112641"/>
          <p:cNvSpPr/>
          <p:nvPr/>
        </p:nvSpPr>
        <p:spPr>
          <a:xfrm>
            <a:off x="0" y="465480"/>
            <a:ext cx="87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㈢翻译下列文言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庶竭驾钝，攘除奸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任于败军之际，奉命于危难之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下三分，益州疲弊，此诚危急存亡之秋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矩形 112642"/>
          <p:cNvSpPr/>
          <p:nvPr/>
        </p:nvSpPr>
        <p:spPr>
          <a:xfrm>
            <a:off x="468360" y="1268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希望竭尽我平庸的才智，铲除奸邪凶顽的敌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矩形 112643"/>
          <p:cNvSpPr/>
          <p:nvPr/>
        </p:nvSpPr>
        <p:spPr>
          <a:xfrm>
            <a:off x="468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兵败的时候接受重任，在危难的关头奉命出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矩形 112644"/>
          <p:cNvSpPr/>
          <p:nvPr/>
        </p:nvSpPr>
        <p:spPr>
          <a:xfrm>
            <a:off x="468360" y="51181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在天下分裂成三国，我们蜀国贫困衰弱，这真正是形势危急，决定存亡的关头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矩形 98305"/>
          <p:cNvSpPr/>
          <p:nvPr/>
        </p:nvSpPr>
        <p:spPr>
          <a:xfrm>
            <a:off x="900000" y="766800"/>
            <a:ext cx="324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今词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矩形 98306"/>
          <p:cNvSpPr/>
          <p:nvPr/>
        </p:nvSpPr>
        <p:spPr>
          <a:xfrm>
            <a:off x="2438280" y="1752480"/>
            <a:ext cx="63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痛心遗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未尝不叹息痛恨于桓、灵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矩形 98307"/>
          <p:cNvSpPr/>
          <p:nvPr/>
        </p:nvSpPr>
        <p:spPr>
          <a:xfrm>
            <a:off x="2340000" y="2997360"/>
            <a:ext cx="28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常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矩形 98308"/>
          <p:cNvSpPr/>
          <p:nvPr/>
        </p:nvSpPr>
        <p:spPr>
          <a:xfrm>
            <a:off x="2484360" y="4076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贫民百姓。臣本布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矩形 98309"/>
          <p:cNvSpPr/>
          <p:nvPr/>
        </p:nvSpPr>
        <p:spPr>
          <a:xfrm>
            <a:off x="2484360" y="5157720"/>
            <a:ext cx="30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布的衣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矩形 98310"/>
          <p:cNvSpPr/>
          <p:nvPr/>
        </p:nvSpPr>
        <p:spPr>
          <a:xfrm>
            <a:off x="18612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痛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矩形 98311"/>
          <p:cNvSpPr/>
          <p:nvPr/>
        </p:nvSpPr>
        <p:spPr>
          <a:xfrm>
            <a:off x="0" y="4581360"/>
            <a:ext cx="14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左大括号 98312"/>
          <p:cNvSpPr/>
          <p:nvPr/>
        </p:nvSpPr>
        <p:spPr>
          <a:xfrm>
            <a:off x="971640" y="213372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左大括号 98313"/>
          <p:cNvSpPr/>
          <p:nvPr/>
        </p:nvSpPr>
        <p:spPr>
          <a:xfrm>
            <a:off x="971640" y="436572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矩形 99329"/>
          <p:cNvSpPr/>
          <p:nvPr/>
        </p:nvSpPr>
        <p:spPr>
          <a:xfrm>
            <a:off x="1332000" y="1197000"/>
            <a:ext cx="172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矩形 99330"/>
          <p:cNvSpPr/>
          <p:nvPr/>
        </p:nvSpPr>
        <p:spPr>
          <a:xfrm>
            <a:off x="186120" y="177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卑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矩形 99331"/>
          <p:cNvSpPr/>
          <p:nvPr/>
        </p:nvSpPr>
        <p:spPr>
          <a:xfrm>
            <a:off x="186120" y="4365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矩形 99332"/>
          <p:cNvSpPr/>
          <p:nvPr/>
        </p:nvSpPr>
        <p:spPr>
          <a:xfrm>
            <a:off x="2484360" y="1052640"/>
            <a:ext cx="49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身份低微，出身鄙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帝不以臣卑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矩形 99333"/>
          <p:cNvSpPr/>
          <p:nvPr/>
        </p:nvSpPr>
        <p:spPr>
          <a:xfrm>
            <a:off x="2268360" y="235584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语言、行为）恶劣；不道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矩形 99334"/>
          <p:cNvSpPr/>
          <p:nvPr/>
        </p:nvSpPr>
        <p:spPr>
          <a:xfrm>
            <a:off x="2627280" y="393372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动，激动。由是感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矩形 99335"/>
          <p:cNvSpPr/>
          <p:nvPr/>
        </p:nvSpPr>
        <p:spPr>
          <a:xfrm>
            <a:off x="2627280" y="5013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对方的好意或帮助而对他产生好感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左大括号 99336"/>
          <p:cNvSpPr/>
          <p:nvPr/>
        </p:nvSpPr>
        <p:spPr>
          <a:xfrm>
            <a:off x="1116000" y="148428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左大括号 99337"/>
          <p:cNvSpPr/>
          <p:nvPr/>
        </p:nvSpPr>
        <p:spPr>
          <a:xfrm>
            <a:off x="1116000" y="414972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图片 99338" descr="23"/>
          <p:cNvPicPr/>
          <p:nvPr/>
        </p:nvPicPr>
        <p:blipFill>
          <a:blip r:embed="rId1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矩形 100353"/>
          <p:cNvSpPr/>
          <p:nvPr/>
        </p:nvSpPr>
        <p:spPr>
          <a:xfrm>
            <a:off x="0" y="554040"/>
            <a:ext cx="655164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陛下托臣以讨贼兴复之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效则治臣之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是感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臣不胜受恩感激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矩形 100354"/>
          <p:cNvSpPr/>
          <p:nvPr/>
        </p:nvSpPr>
        <p:spPr>
          <a:xfrm>
            <a:off x="6372360" y="234936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矩形 100355"/>
          <p:cNvSpPr/>
          <p:nvPr/>
        </p:nvSpPr>
        <p:spPr>
          <a:xfrm>
            <a:off x="3995640" y="3141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实现、完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矩形 100356"/>
          <p:cNvSpPr/>
          <p:nvPr/>
        </p:nvSpPr>
        <p:spPr>
          <a:xfrm>
            <a:off x="2700360" y="4797360"/>
            <a:ext cx="32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动，激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矩形 100357"/>
          <p:cNvSpPr/>
          <p:nvPr/>
        </p:nvSpPr>
        <p:spPr>
          <a:xfrm>
            <a:off x="3995640" y="5516640"/>
            <a:ext cx="19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图片 100358" descr="23"/>
          <p:cNvPicPr/>
          <p:nvPr/>
        </p:nvPicPr>
        <p:blipFill>
          <a:blip r:embed="rId1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矩形 101377"/>
          <p:cNvSpPr/>
          <p:nvPr/>
        </p:nvSpPr>
        <p:spPr>
          <a:xfrm>
            <a:off x="0" y="406080"/>
            <a:ext cx="417672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光先帝遗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恢弘志士之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皆良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劣得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矩形 101378"/>
          <p:cNvSpPr/>
          <p:nvPr/>
        </p:nvSpPr>
        <p:spPr>
          <a:xfrm>
            <a:off x="3419640" y="1052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，名词用为动词，发扬光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矩形 101379"/>
          <p:cNvSpPr/>
          <p:nvPr/>
        </p:nvSpPr>
        <p:spPr>
          <a:xfrm>
            <a:off x="3348000" y="2421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恢弘，形容词用为动词，发扬扩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矩形 101380"/>
          <p:cNvSpPr/>
          <p:nvPr/>
        </p:nvSpPr>
        <p:spPr>
          <a:xfrm>
            <a:off x="2484360" y="3716280"/>
            <a:ext cx="55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良实，形容词用为名词，善良诚实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矩形 101381"/>
          <p:cNvSpPr/>
          <p:nvPr/>
        </p:nvSpPr>
        <p:spPr>
          <a:xfrm>
            <a:off x="2556000" y="50133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优劣，形容词用为名词，才能高的和才能低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矩形 101382"/>
          <p:cNvSpPr/>
          <p:nvPr/>
        </p:nvSpPr>
        <p:spPr>
          <a:xfrm>
            <a:off x="617400" y="160200"/>
            <a:ext cx="237024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矩形 102401"/>
          <p:cNvSpPr/>
          <p:nvPr/>
        </p:nvSpPr>
        <p:spPr>
          <a:xfrm>
            <a:off x="468360" y="0"/>
            <a:ext cx="604836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贤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小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攘除奸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责攸之、讳、允等之慢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矩形 102402"/>
          <p:cNvSpPr/>
          <p:nvPr/>
        </p:nvSpPr>
        <p:spPr>
          <a:xfrm>
            <a:off x="2195640" y="620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，形容词用为动词，亲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矩形 102403"/>
          <p:cNvSpPr/>
          <p:nvPr/>
        </p:nvSpPr>
        <p:spPr>
          <a:xfrm>
            <a:off x="2268360" y="1989000"/>
            <a:ext cx="64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远，形容词用为动词，疏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矩形 102404"/>
          <p:cNvSpPr/>
          <p:nvPr/>
        </p:nvSpPr>
        <p:spPr>
          <a:xfrm>
            <a:off x="2771640" y="3284640"/>
            <a:ext cx="54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奸凶，形容词用为名词，奸邪凶顽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矩形 102405"/>
          <p:cNvSpPr/>
          <p:nvPr/>
        </p:nvSpPr>
        <p:spPr>
          <a:xfrm>
            <a:off x="2195640" y="551664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慢，形容词用为动词，怠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图片 102406" descr="23"/>
          <p:cNvPicPr/>
          <p:nvPr/>
        </p:nvPicPr>
        <p:blipFill>
          <a:blip r:embed="rId1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9217"/>
          <p:cNvSpPr/>
          <p:nvPr/>
        </p:nvSpPr>
        <p:spPr>
          <a:xfrm>
            <a:off x="236232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图片 9218" descr="wuhoucizugeliang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304920" y="533520"/>
            <a:ext cx="4114800" cy="567684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9219" descr="wuhouci1"/>
          <p:cNvPicPr/>
          <p:nvPr/>
        </p:nvPicPr>
        <p:blipFill>
          <a:blip r:embed="rId2"/>
          <a:stretch/>
        </p:blipFill>
        <p:spPr>
          <a:xfrm>
            <a:off x="4648320" y="533520"/>
            <a:ext cx="419076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矩形 103425"/>
          <p:cNvSpPr/>
          <p:nvPr/>
        </p:nvSpPr>
        <p:spPr>
          <a:xfrm>
            <a:off x="395280" y="944280"/>
            <a:ext cx="48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假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裨补阙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尔来二十有一年矣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矩形 103426"/>
          <p:cNvSpPr/>
          <p:nvPr/>
        </p:nvSpPr>
        <p:spPr>
          <a:xfrm>
            <a:off x="900000" y="24922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阙，通“缺”，缺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矩形 103427"/>
          <p:cNvSpPr/>
          <p:nvPr/>
        </p:nvSpPr>
        <p:spPr>
          <a:xfrm>
            <a:off x="971640" y="4797360"/>
            <a:ext cx="51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，通“又”，表余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图片 103428" descr="23"/>
          <p:cNvPicPr/>
          <p:nvPr/>
        </p:nvPicPr>
        <p:blipFill>
          <a:blip r:embed="rId1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矩形 104449"/>
          <p:cNvSpPr/>
          <p:nvPr/>
        </p:nvSpPr>
        <p:spPr>
          <a:xfrm>
            <a:off x="0" y="409680"/>
            <a:ext cx="525636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虚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临崩寄臣以大事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帝不以臣卑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光先帝遗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塞忠谏之路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命以来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矩形 104450"/>
          <p:cNvSpPr/>
          <p:nvPr/>
        </p:nvSpPr>
        <p:spPr>
          <a:xfrm>
            <a:off x="5821200" y="2205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词，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矩形 104451"/>
          <p:cNvSpPr/>
          <p:nvPr/>
        </p:nvSpPr>
        <p:spPr>
          <a:xfrm>
            <a:off x="4067280" y="2997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词，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矩形 104452"/>
          <p:cNvSpPr/>
          <p:nvPr/>
        </p:nvSpPr>
        <p:spPr>
          <a:xfrm>
            <a:off x="6107040" y="3789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目的，来，用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矩形 104453"/>
          <p:cNvSpPr/>
          <p:nvPr/>
        </p:nvSpPr>
        <p:spPr>
          <a:xfrm>
            <a:off x="3851280" y="4581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结果，以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矩形 104454"/>
          <p:cNvSpPr/>
          <p:nvPr/>
        </p:nvSpPr>
        <p:spPr>
          <a:xfrm>
            <a:off x="4503600" y="5451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时间，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图片 104455" descr="23"/>
          <p:cNvPicPr/>
          <p:nvPr/>
        </p:nvPicPr>
        <p:blipFill>
          <a:blip r:embed="rId1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矩形 36889"/>
          <p:cNvSpPr/>
          <p:nvPr/>
        </p:nvSpPr>
        <p:spPr>
          <a:xfrm>
            <a:off x="108000" y="189000"/>
            <a:ext cx="8785080" cy="655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文本框 36865"/>
          <p:cNvSpPr/>
          <p:nvPr/>
        </p:nvSpPr>
        <p:spPr>
          <a:xfrm>
            <a:off x="3071880" y="228600"/>
            <a:ext cx="3198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清思路，把握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文本框 36866"/>
          <p:cNvSpPr/>
          <p:nvPr/>
        </p:nvSpPr>
        <p:spPr>
          <a:xfrm>
            <a:off x="371520" y="1295280"/>
            <a:ext cx="87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部分    段落          要点              表达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文本框 36867"/>
          <p:cNvSpPr/>
          <p:nvPr/>
        </p:nvSpPr>
        <p:spPr>
          <a:xfrm>
            <a:off x="198288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文本框 36868"/>
          <p:cNvSpPr/>
          <p:nvPr/>
        </p:nvSpPr>
        <p:spPr>
          <a:xfrm>
            <a:off x="3647160" y="1981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广开言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文本框 36869"/>
          <p:cNvSpPr/>
          <p:nvPr/>
        </p:nvSpPr>
        <p:spPr>
          <a:xfrm>
            <a:off x="1981080" y="25909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文本框 36870"/>
          <p:cNvSpPr/>
          <p:nvPr/>
        </p:nvSpPr>
        <p:spPr>
          <a:xfrm>
            <a:off x="3570840" y="2590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赏罚分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文本框 36871"/>
          <p:cNvSpPr/>
          <p:nvPr/>
        </p:nvSpPr>
        <p:spPr>
          <a:xfrm>
            <a:off x="1677960" y="31240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-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文本框 36872"/>
          <p:cNvSpPr/>
          <p:nvPr/>
        </p:nvSpPr>
        <p:spPr>
          <a:xfrm>
            <a:off x="3567960" y="3200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亲贤远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左大括号 36873"/>
          <p:cNvSpPr/>
          <p:nvPr/>
        </p:nvSpPr>
        <p:spPr>
          <a:xfrm>
            <a:off x="1371600" y="2133720"/>
            <a:ext cx="304920" cy="1396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6360 h 1396800"/>
              <a:gd name="textAreaBottom" fmla="*/ 136044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文本框 36874"/>
          <p:cNvSpPr/>
          <p:nvPr/>
        </p:nvSpPr>
        <p:spPr>
          <a:xfrm>
            <a:off x="536040" y="2436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文本框 36875"/>
          <p:cNvSpPr/>
          <p:nvPr/>
        </p:nvSpPr>
        <p:spPr>
          <a:xfrm>
            <a:off x="1905120" y="38862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文本框 36876"/>
          <p:cNvSpPr/>
          <p:nvPr/>
        </p:nvSpPr>
        <p:spPr>
          <a:xfrm>
            <a:off x="3193920" y="3886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叙述经历：三顾草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文本框 36877"/>
          <p:cNvSpPr/>
          <p:nvPr/>
        </p:nvSpPr>
        <p:spPr>
          <a:xfrm>
            <a:off x="19065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文本框 36878"/>
          <p:cNvSpPr/>
          <p:nvPr/>
        </p:nvSpPr>
        <p:spPr>
          <a:xfrm>
            <a:off x="3193920" y="4572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效忠心愿：托孤之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左大括号 36879"/>
          <p:cNvSpPr/>
          <p:nvPr/>
        </p:nvSpPr>
        <p:spPr>
          <a:xfrm>
            <a:off x="1447920" y="4038480"/>
            <a:ext cx="228600" cy="939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4480 h 939960"/>
              <a:gd name="textAreaBottom" fmla="*/ 91548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文本框 36880"/>
          <p:cNvSpPr/>
          <p:nvPr/>
        </p:nvSpPr>
        <p:spPr>
          <a:xfrm>
            <a:off x="703440" y="3960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文本框 36881"/>
          <p:cNvSpPr/>
          <p:nvPr/>
        </p:nvSpPr>
        <p:spPr>
          <a:xfrm>
            <a:off x="1465200" y="5334120"/>
            <a:ext cx="10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文本框 36882"/>
          <p:cNvSpPr/>
          <p:nvPr/>
        </p:nvSpPr>
        <p:spPr>
          <a:xfrm>
            <a:off x="3346200" y="53341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归结责任，结束全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文本框 36883"/>
          <p:cNvSpPr/>
          <p:nvPr/>
        </p:nvSpPr>
        <p:spPr>
          <a:xfrm>
            <a:off x="703440" y="5334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右大括号 36884"/>
          <p:cNvSpPr/>
          <p:nvPr/>
        </p:nvSpPr>
        <p:spPr>
          <a:xfrm>
            <a:off x="6019920" y="2108160"/>
            <a:ext cx="152280" cy="1625760"/>
          </a:xfrm>
          <a:custGeom>
            <a:avLst/>
            <a:gdLst>
              <a:gd name="textAreaLeft" fmla="*/ 0 w 152280"/>
              <a:gd name="textAreaRight" fmla="*/ 55080 w 152280"/>
              <a:gd name="textAreaTop" fmla="*/ 42120 h 1625760"/>
              <a:gd name="textAreaBottom" fmla="*/ 1583640 h 162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文本框 36885"/>
          <p:cNvSpPr/>
          <p:nvPr/>
        </p:nvSpPr>
        <p:spPr>
          <a:xfrm>
            <a:off x="6923880" y="2360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寓情于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右大括号 36886"/>
          <p:cNvSpPr/>
          <p:nvPr/>
        </p:nvSpPr>
        <p:spPr>
          <a:xfrm>
            <a:off x="6705720" y="411480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文本框 36887"/>
          <p:cNvSpPr/>
          <p:nvPr/>
        </p:nvSpPr>
        <p:spPr>
          <a:xfrm>
            <a:off x="7304760" y="4114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寓情于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文本框 36888"/>
          <p:cNvSpPr/>
          <p:nvPr/>
        </p:nvSpPr>
        <p:spPr>
          <a:xfrm>
            <a:off x="7228440" y="5257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抒发感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文本框 38913"/>
          <p:cNvSpPr/>
          <p:nvPr/>
        </p:nvSpPr>
        <p:spPr>
          <a:xfrm>
            <a:off x="533520" y="380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理解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文本框 38914"/>
          <p:cNvSpPr/>
          <p:nvPr/>
        </p:nvSpPr>
        <p:spPr>
          <a:xfrm>
            <a:off x="457200" y="1295280"/>
            <a:ext cx="5181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。诸葛亮对当前形势的分析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文本框 38915"/>
          <p:cNvSpPr/>
          <p:nvPr/>
        </p:nvSpPr>
        <p:spPr>
          <a:xfrm>
            <a:off x="1066680" y="2743200"/>
            <a:ext cx="6324840" cy="1191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客观条件：今天下三分，益州疲弊，此诚危急存亡之秋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文本框 38916"/>
          <p:cNvSpPr/>
          <p:nvPr/>
        </p:nvSpPr>
        <p:spPr>
          <a:xfrm>
            <a:off x="1143000" y="4191120"/>
            <a:ext cx="647712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观条件：侍卫之臣不懈于内，忠志之士忘身于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文本框 39937"/>
          <p:cNvSpPr/>
          <p:nvPr/>
        </p:nvSpPr>
        <p:spPr>
          <a:xfrm>
            <a:off x="380880" y="3808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。诸葛亮向后主提出的三条建议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文本框 39938"/>
          <p:cNvSpPr/>
          <p:nvPr/>
        </p:nvSpPr>
        <p:spPr>
          <a:xfrm>
            <a:off x="380880" y="1295280"/>
            <a:ext cx="4800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张圣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陟罚臧否，不宜异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亲贤臣，远小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燕尾形 39939"/>
          <p:cNvSpPr/>
          <p:nvPr/>
        </p:nvSpPr>
        <p:spPr>
          <a:xfrm>
            <a:off x="4419720" y="26668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右大括号 39940"/>
          <p:cNvSpPr/>
          <p:nvPr/>
        </p:nvSpPr>
        <p:spPr>
          <a:xfrm>
            <a:off x="3809880" y="20574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直接连接符 39941"/>
          <p:cNvSpPr/>
          <p:nvPr/>
        </p:nvSpPr>
        <p:spPr>
          <a:xfrm>
            <a:off x="4038480" y="2666880"/>
            <a:ext cx="83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直接连接符 39942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燕尾形箭头 39943"/>
          <p:cNvSpPr/>
          <p:nvPr/>
        </p:nvSpPr>
        <p:spPr>
          <a:xfrm>
            <a:off x="4800600" y="2286000"/>
            <a:ext cx="824040" cy="762120"/>
          </a:xfrm>
          <a:custGeom>
            <a:avLst/>
            <a:gdLst>
              <a:gd name="textAreaLeft" fmla="*/ 102960 w 824040"/>
              <a:gd name="textAreaRight" fmla="*/ 721080 w 8240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右大括号 39944"/>
          <p:cNvSpPr/>
          <p:nvPr/>
        </p:nvSpPr>
        <p:spPr>
          <a:xfrm flipH="1">
            <a:off x="5257080" y="21337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左大括号 39945"/>
          <p:cNvSpPr/>
          <p:nvPr/>
        </p:nvSpPr>
        <p:spPr>
          <a:xfrm>
            <a:off x="5715000" y="1523880"/>
            <a:ext cx="457200" cy="1905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200 h 1905120"/>
              <a:gd name="textAreaBottom" fmla="*/ 18619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7"/>
                  <a:pt x="10800" y="1574"/>
                </a:cubicBezTo>
                <a:lnTo>
                  <a:pt x="10800" y="9226"/>
                </a:lnTo>
                <a:cubicBezTo>
                  <a:pt x="10800" y="10013"/>
                  <a:pt x="5400" y="10800"/>
                  <a:pt x="0" y="10800"/>
                </a:cubicBezTo>
                <a:cubicBezTo>
                  <a:pt x="5400" y="10800"/>
                  <a:pt x="10800" y="11587"/>
                  <a:pt x="10800" y="12374"/>
                </a:cubicBezTo>
                <a:lnTo>
                  <a:pt x="10800" y="20026"/>
                </a:lnTo>
                <a:cubicBezTo>
                  <a:pt x="10800" y="208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文本框 39946"/>
          <p:cNvSpPr/>
          <p:nvPr/>
        </p:nvSpPr>
        <p:spPr>
          <a:xfrm>
            <a:off x="6324480" y="1371600"/>
            <a:ext cx="228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广开言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严明赏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亲贤远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文本框 39947"/>
          <p:cNvSpPr/>
          <p:nvPr/>
        </p:nvSpPr>
        <p:spPr>
          <a:xfrm>
            <a:off x="609480" y="3886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作者自叙志趣过人，不求功名的话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文本框 39948"/>
          <p:cNvSpPr/>
          <p:nvPr/>
        </p:nvSpPr>
        <p:spPr>
          <a:xfrm>
            <a:off x="914400" y="4724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苟全性命于乱世，不求闻达于诸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图片 39949" descr="lylogo"/>
          <p:cNvPicPr/>
          <p:nvPr/>
        </p:nvPicPr>
        <p:blipFill>
          <a:blip r:embed="rId1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文本框 40961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中两句千古名言，说尽诸葛亮一生的话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图片 40962" descr="D611T011"/>
          <p:cNvPicPr/>
          <p:nvPr/>
        </p:nvPicPr>
        <p:blipFill>
          <a:blip r:embed="rId1"/>
          <a:stretch/>
        </p:blipFill>
        <p:spPr>
          <a:xfrm>
            <a:off x="304920" y="3063960"/>
            <a:ext cx="4038480" cy="28828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40963" descr="D611T004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860" name="文本框 40964"/>
          <p:cNvSpPr/>
          <p:nvPr/>
        </p:nvSpPr>
        <p:spPr>
          <a:xfrm>
            <a:off x="1143000" y="1295280"/>
            <a:ext cx="78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受任于败军之际，奉命于危难之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文本框 40965"/>
          <p:cNvSpPr/>
          <p:nvPr/>
        </p:nvSpPr>
        <p:spPr>
          <a:xfrm>
            <a:off x="457200" y="1981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中列举的使诸葛亮报先帝忠陛 下的两 件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文本框 40966"/>
          <p:cNvSpPr/>
          <p:nvPr/>
        </p:nvSpPr>
        <p:spPr>
          <a:xfrm>
            <a:off x="114300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三顾茅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文本框 40967"/>
          <p:cNvSpPr/>
          <p:nvPr/>
        </p:nvSpPr>
        <p:spPr>
          <a:xfrm>
            <a:off x="5562720" y="60199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白帝城托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文本框 41985"/>
          <p:cNvSpPr/>
          <p:nvPr/>
        </p:nvSpPr>
        <p:spPr>
          <a:xfrm>
            <a:off x="304920" y="457200"/>
            <a:ext cx="786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诸葛亮此次出师的目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文本框 41986"/>
          <p:cNvSpPr/>
          <p:nvPr/>
        </p:nvSpPr>
        <p:spPr>
          <a:xfrm>
            <a:off x="457200" y="1981080"/>
            <a:ext cx="4648320" cy="1434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今南方已定，兵甲已足。当奖率三军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北定中原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，庶竭驽钝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攘除奸凶，兴复汉室，还于旧都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文本框 43009"/>
          <p:cNvSpPr/>
          <p:nvPr/>
        </p:nvSpPr>
        <p:spPr>
          <a:xfrm>
            <a:off x="8380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文中隐藏了许多成语，能找出来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文本框 43010"/>
          <p:cNvSpPr/>
          <p:nvPr/>
        </p:nvSpPr>
        <p:spPr>
          <a:xfrm>
            <a:off x="55468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文本框 43011"/>
          <p:cNvSpPr/>
          <p:nvPr/>
        </p:nvSpPr>
        <p:spPr>
          <a:xfrm>
            <a:off x="539640" y="278136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妄自菲薄     三顾茅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文本框 43013"/>
          <p:cNvSpPr/>
          <p:nvPr/>
        </p:nvSpPr>
        <p:spPr>
          <a:xfrm>
            <a:off x="611280" y="3716280"/>
            <a:ext cx="6933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引喻失义     作奸犯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计日而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矩形 43014"/>
          <p:cNvSpPr txBox="1"/>
          <p:nvPr/>
        </p:nvSpPr>
        <p:spPr>
          <a:xfrm>
            <a:off x="6858000" y="2971800"/>
            <a:ext cx="1676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聪明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1" name="图片 43015" descr="lylogo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43016" descr="lylogo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6" dur="3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文本框 44033"/>
          <p:cNvSpPr/>
          <p:nvPr/>
        </p:nvSpPr>
        <p:spPr>
          <a:xfrm>
            <a:off x="380880" y="228600"/>
            <a:ext cx="28958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课外拓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文本框 44034"/>
          <p:cNvSpPr/>
          <p:nvPr/>
        </p:nvSpPr>
        <p:spPr>
          <a:xfrm>
            <a:off x="533520" y="1447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190f"/>
                </a:solidFill>
                <a:latin typeface="Times New Roman"/>
                <a:ea typeface="仿宋_GB2312"/>
              </a:rPr>
              <a:t>下边一副对联概括了诸葛亮一生的功绩，你能说出描写了他的哪些具体的事件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文本框 44035"/>
          <p:cNvSpPr/>
          <p:nvPr/>
        </p:nvSpPr>
        <p:spPr>
          <a:xfrm>
            <a:off x="533520" y="2971800"/>
            <a:ext cx="8610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收二川，排八阵，六出七擒，五丈原前，点四十九盏明灯，一心只为酬三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取西蜀，定南蛮，东和北拒，中军帐里，变金木土爻神卦，水面偏能用火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文本框 44036"/>
          <p:cNvSpPr/>
          <p:nvPr/>
        </p:nvSpPr>
        <p:spPr>
          <a:xfrm>
            <a:off x="4427640" y="60948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2822b"/>
                </a:solidFill>
                <a:latin typeface="Times New Roman"/>
              </a:rPr>
              <a:t>你知道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图片 44037" descr="PE01832_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文本框 45057"/>
          <p:cNvSpPr/>
          <p:nvPr/>
        </p:nvSpPr>
        <p:spPr>
          <a:xfrm>
            <a:off x="2819520" y="838080"/>
            <a:ext cx="40384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顾：三顾茅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文本框 45058"/>
          <p:cNvSpPr/>
          <p:nvPr/>
        </p:nvSpPr>
        <p:spPr>
          <a:xfrm>
            <a:off x="4800600" y="2057400"/>
            <a:ext cx="38098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六出：六出祁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文本框 45059"/>
          <p:cNvSpPr/>
          <p:nvPr/>
        </p:nvSpPr>
        <p:spPr>
          <a:xfrm>
            <a:off x="685800" y="2057400"/>
            <a:ext cx="39625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东和：东和东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文本框 45060"/>
          <p:cNvSpPr/>
          <p:nvPr/>
        </p:nvSpPr>
        <p:spPr>
          <a:xfrm>
            <a:off x="2057400" y="5029200"/>
            <a:ext cx="48769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收二川：收东川西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文本框 45061"/>
          <p:cNvSpPr/>
          <p:nvPr/>
        </p:nvSpPr>
        <p:spPr>
          <a:xfrm>
            <a:off x="685800" y="2971800"/>
            <a:ext cx="39625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北拒：北拒曹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文本框 45062"/>
          <p:cNvSpPr/>
          <p:nvPr/>
        </p:nvSpPr>
        <p:spPr>
          <a:xfrm>
            <a:off x="4800600" y="2971800"/>
            <a:ext cx="39625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七擒：七擒孟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文本框 45063"/>
          <p:cNvSpPr/>
          <p:nvPr/>
        </p:nvSpPr>
        <p:spPr>
          <a:xfrm>
            <a:off x="2057400" y="4038480"/>
            <a:ext cx="50292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排八阵：摆设八阵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文本框 11265"/>
          <p:cNvSpPr/>
          <p:nvPr/>
        </p:nvSpPr>
        <p:spPr>
          <a:xfrm>
            <a:off x="1403280" y="549360"/>
            <a:ext cx="579132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武侯祠匾额对联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文本框 11266"/>
          <p:cNvSpPr/>
          <p:nvPr/>
        </p:nvSpPr>
        <p:spPr>
          <a:xfrm>
            <a:off x="250920" y="1773360"/>
            <a:ext cx="8686800" cy="3506040"/>
          </a:xfrm>
          <a:prstGeom prst="rect">
            <a:avLst/>
          </a:prstGeom>
          <a:noFill/>
          <a:ln w="34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表酬三顾，一对足千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厅对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勤王事大好儿孙，三世忠贞，史笔犹褒陈庶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师表惊人文字，千秋涕泪，墨痕同溅岳将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诸葛亮殿对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图片 11267" descr="u=970021566,2662648897&amp;gp=20"/>
          <p:cNvPicPr/>
          <p:nvPr/>
        </p:nvPicPr>
        <p:blipFill>
          <a:blip r:embed="rId1"/>
          <a:stretch/>
        </p:blipFill>
        <p:spPr>
          <a:xfrm>
            <a:off x="0" y="5156280"/>
            <a:ext cx="2268360" cy="170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文本框 46081"/>
          <p:cNvSpPr/>
          <p:nvPr/>
        </p:nvSpPr>
        <p:spPr>
          <a:xfrm>
            <a:off x="2133720" y="0"/>
            <a:ext cx="426708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学习拓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文本框 46082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一、中国历史上曾出现过许许多多著名的政治家，如何衡量他们？你认为一个比较完全的政治家，应该具备那些条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文本框 46083"/>
          <p:cNvSpPr/>
          <p:nvPr/>
        </p:nvSpPr>
        <p:spPr>
          <a:xfrm>
            <a:off x="304920" y="2286000"/>
            <a:ext cx="861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该有远大的抱负，坚强的责任感，以天下为己任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有敏锐的洞察力，能洞悉当时国家之形势，针对国计民生症结所在，提出兴利除弊的方案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知人善任，选拔贤才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集思广益，善于采纳群言，改进工作。请结合本文所学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国演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诸葛亮进行评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文本框 47105"/>
          <p:cNvSpPr/>
          <p:nvPr/>
        </p:nvSpPr>
        <p:spPr>
          <a:xfrm>
            <a:off x="304920" y="182880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二、文章提出的三个建议，在现实生活中，有什么借鉴意义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图片 114693" descr="u=320889074,1014662069&amp;gp=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663480" y="620568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114691"/>
          <p:cNvSpPr txBox="1"/>
          <p:nvPr/>
        </p:nvSpPr>
        <p:spPr>
          <a:xfrm>
            <a:off x="3059280" y="2349360"/>
            <a:ext cx="424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再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图片 124929" descr="11_231_1出"/>
          <p:cNvPicPr/>
          <p:nvPr/>
        </p:nvPicPr>
        <p:blipFill>
          <a:blip r:embed="rId1"/>
          <a:stretch/>
        </p:blipFill>
        <p:spPr>
          <a:xfrm>
            <a:off x="5181480" y="3886200"/>
            <a:ext cx="3160800" cy="224640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124930" descr="11_231_2出"/>
          <p:cNvPicPr/>
          <p:nvPr/>
        </p:nvPicPr>
        <p:blipFill>
          <a:blip r:embed="rId2"/>
          <a:stretch/>
        </p:blipFill>
        <p:spPr>
          <a:xfrm>
            <a:off x="380880" y="1143000"/>
            <a:ext cx="2743200" cy="232560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124931" descr="11_231_3"/>
          <p:cNvPicPr/>
          <p:nvPr/>
        </p:nvPicPr>
        <p:blipFill>
          <a:blip r:embed="rId3"/>
          <a:stretch/>
        </p:blipFill>
        <p:spPr>
          <a:xfrm>
            <a:off x="3276720" y="1143000"/>
            <a:ext cx="2584440" cy="2273400"/>
          </a:xfrm>
          <a:prstGeom prst="rect">
            <a:avLst/>
          </a:prstGeom>
          <a:ln w="0">
            <a:noFill/>
          </a:ln>
        </p:spPr>
      </p:pic>
      <p:pic>
        <p:nvPicPr>
          <p:cNvPr id="656" name="图片 124932" descr="11_231出"/>
          <p:cNvPicPr/>
          <p:nvPr/>
        </p:nvPicPr>
        <p:blipFill>
          <a:blip r:embed="rId4"/>
          <a:stretch/>
        </p:blipFill>
        <p:spPr>
          <a:xfrm>
            <a:off x="6019920" y="1143000"/>
            <a:ext cx="2733480" cy="2244600"/>
          </a:xfrm>
          <a:prstGeom prst="rect">
            <a:avLst/>
          </a:prstGeom>
          <a:ln w="0">
            <a:noFill/>
          </a:ln>
        </p:spPr>
      </p:pic>
      <p:pic>
        <p:nvPicPr>
          <p:cNvPr id="657" name="图片 124933" descr="11_231_4"/>
          <p:cNvPicPr/>
          <p:nvPr/>
        </p:nvPicPr>
        <p:blipFill>
          <a:blip r:embed="rId5"/>
          <a:stretch/>
        </p:blipFill>
        <p:spPr>
          <a:xfrm>
            <a:off x="1447920" y="3886200"/>
            <a:ext cx="2840040" cy="2349360"/>
          </a:xfrm>
          <a:prstGeom prst="rect">
            <a:avLst/>
          </a:prstGeom>
          <a:ln w="0">
            <a:noFill/>
          </a:ln>
        </p:spPr>
      </p:pic>
      <p:sp>
        <p:nvSpPr>
          <p:cNvPr id="658" name="文本框 124934"/>
          <p:cNvSpPr/>
          <p:nvPr/>
        </p:nvSpPr>
        <p:spPr>
          <a:xfrm>
            <a:off x="2050920" y="4046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岳飞行书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《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出师表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03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楷体_GB2312"/>
              </a:rPr>
              <a:t>教学目标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领会诸葛亮提出的广开言路、严明赏罚、亲贤远小三项建议的进步性和借鉴意义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认识并学习诸葛亮“鞠躬尽瘁、死而后已”的精神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了解本文议论中融以叙事、抒情的写法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61" name="图片 71684" descr="38"/>
          <p:cNvPicPr/>
          <p:nvPr/>
        </p:nvPicPr>
        <p:blipFill>
          <a:blip r:embed="rId1"/>
          <a:stretch/>
        </p:blipFill>
        <p:spPr>
          <a:xfrm>
            <a:off x="539640" y="1484280"/>
            <a:ext cx="5391360" cy="50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12289"/>
          <p:cNvSpPr/>
          <p:nvPr/>
        </p:nvSpPr>
        <p:spPr>
          <a:xfrm>
            <a:off x="611280" y="40716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下列划线字的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崩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疲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（    ）   恢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妄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钝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矩形 12290"/>
          <p:cNvSpPr/>
          <p:nvPr/>
        </p:nvSpPr>
        <p:spPr>
          <a:xfrm>
            <a:off x="2340000" y="1484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矩形 12291"/>
          <p:cNvSpPr/>
          <p:nvPr/>
        </p:nvSpPr>
        <p:spPr>
          <a:xfrm>
            <a:off x="5867280" y="1484280"/>
            <a:ext cx="8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矩形 12292"/>
          <p:cNvSpPr/>
          <p:nvPr/>
        </p:nvSpPr>
        <p:spPr>
          <a:xfrm>
            <a:off x="2411280" y="2276640"/>
            <a:ext cx="10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矩形 12293"/>
          <p:cNvSpPr/>
          <p:nvPr/>
        </p:nvSpPr>
        <p:spPr>
          <a:xfrm>
            <a:off x="5580000" y="227664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ó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矩形 12294"/>
          <p:cNvSpPr/>
          <p:nvPr/>
        </p:nvSpPr>
        <p:spPr>
          <a:xfrm>
            <a:off x="2843280" y="314172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f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矩形 12295"/>
          <p:cNvSpPr/>
          <p:nvPr/>
        </p:nvSpPr>
        <p:spPr>
          <a:xfrm>
            <a:off x="2340000" y="3933720"/>
            <a:ext cx="11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矩形 12296"/>
          <p:cNvSpPr/>
          <p:nvPr/>
        </p:nvSpPr>
        <p:spPr>
          <a:xfrm>
            <a:off x="5796000" y="393372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矩形 12297"/>
          <p:cNvSpPr/>
          <p:nvPr/>
        </p:nvSpPr>
        <p:spPr>
          <a:xfrm>
            <a:off x="1908000" y="4724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矩形 12298"/>
          <p:cNvSpPr/>
          <p:nvPr/>
        </p:nvSpPr>
        <p:spPr>
          <a:xfrm>
            <a:off x="4427640" y="4724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ā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矩形 12299"/>
          <p:cNvSpPr/>
          <p:nvPr/>
        </p:nvSpPr>
        <p:spPr>
          <a:xfrm>
            <a:off x="1908000" y="558972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矩形 12300"/>
          <p:cNvSpPr/>
          <p:nvPr/>
        </p:nvSpPr>
        <p:spPr>
          <a:xfrm>
            <a:off x="4572000" y="558972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u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12301"/>
          <p:cNvSpPr/>
          <p:nvPr/>
        </p:nvSpPr>
        <p:spPr>
          <a:xfrm>
            <a:off x="7020000" y="4797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p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矩形 12302"/>
          <p:cNvSpPr/>
          <p:nvPr/>
        </p:nvSpPr>
        <p:spPr>
          <a:xfrm>
            <a:off x="5508720" y="3141720"/>
            <a:ext cx="9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ó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矩形 12303"/>
          <p:cNvSpPr/>
          <p:nvPr/>
        </p:nvSpPr>
        <p:spPr>
          <a:xfrm>
            <a:off x="179280" y="2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椭圆 12304"/>
          <p:cNvSpPr/>
          <p:nvPr/>
        </p:nvSpPr>
        <p:spPr>
          <a:xfrm>
            <a:off x="0" y="189000"/>
            <a:ext cx="1512720" cy="649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矩形 12305"/>
          <p:cNvSpPr/>
          <p:nvPr/>
        </p:nvSpPr>
        <p:spPr>
          <a:xfrm>
            <a:off x="237960" y="33336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 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矩形 13313"/>
          <p:cNvSpPr/>
          <p:nvPr/>
        </p:nvSpPr>
        <p:spPr>
          <a:xfrm>
            <a:off x="611280" y="33336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郭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之 费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阵和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史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夜忧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彰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陛下（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损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矩形 13314"/>
          <p:cNvSpPr/>
          <p:nvPr/>
        </p:nvSpPr>
        <p:spPr>
          <a:xfrm>
            <a:off x="2050920" y="620640"/>
            <a:ext cx="12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矩形 13315"/>
          <p:cNvSpPr/>
          <p:nvPr/>
        </p:nvSpPr>
        <p:spPr>
          <a:xfrm>
            <a:off x="5580000" y="620640"/>
            <a:ext cx="12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矩形 13316"/>
          <p:cNvSpPr/>
          <p:nvPr/>
        </p:nvSpPr>
        <p:spPr>
          <a:xfrm>
            <a:off x="1476360" y="1413000"/>
            <a:ext cx="15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á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矩形 13317"/>
          <p:cNvSpPr/>
          <p:nvPr/>
        </p:nvSpPr>
        <p:spPr>
          <a:xfrm>
            <a:off x="1403280" y="220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ǎ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矩形 13318"/>
          <p:cNvSpPr/>
          <p:nvPr/>
        </p:nvSpPr>
        <p:spPr>
          <a:xfrm>
            <a:off x="5076720" y="227664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矩形 13319"/>
          <p:cNvSpPr/>
          <p:nvPr/>
        </p:nvSpPr>
        <p:spPr>
          <a:xfrm>
            <a:off x="1692360" y="306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矩形 13320"/>
          <p:cNvSpPr/>
          <p:nvPr/>
        </p:nvSpPr>
        <p:spPr>
          <a:xfrm>
            <a:off x="3035160" y="3860640"/>
            <a:ext cx="11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矩形 13321"/>
          <p:cNvSpPr/>
          <p:nvPr/>
        </p:nvSpPr>
        <p:spPr>
          <a:xfrm>
            <a:off x="6084720" y="3860640"/>
            <a:ext cx="16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矩形 13322"/>
          <p:cNvSpPr/>
          <p:nvPr/>
        </p:nvSpPr>
        <p:spPr>
          <a:xfrm>
            <a:off x="2843280" y="465300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è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矩形 13323"/>
          <p:cNvSpPr/>
          <p:nvPr/>
        </p:nvSpPr>
        <p:spPr>
          <a:xfrm>
            <a:off x="1403280" y="551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ē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矩形 13324"/>
          <p:cNvSpPr/>
          <p:nvPr/>
        </p:nvSpPr>
        <p:spPr>
          <a:xfrm>
            <a:off x="3492360" y="55166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ó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图片 13325" descr="23"/>
          <p:cNvPicPr/>
          <p:nvPr/>
        </p:nvPicPr>
        <p:blipFill>
          <a:blip r:embed="rId1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13326"/>
          <p:cNvSpPr/>
          <p:nvPr/>
        </p:nvSpPr>
        <p:spPr>
          <a:xfrm>
            <a:off x="48769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攘（    ）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文本框 13327"/>
          <p:cNvSpPr/>
          <p:nvPr/>
        </p:nvSpPr>
        <p:spPr>
          <a:xfrm>
            <a:off x="5715000" y="3048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rǎ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6145"/>
          <p:cNvSpPr/>
          <p:nvPr/>
        </p:nvSpPr>
        <p:spPr>
          <a:xfrm>
            <a:off x="468360" y="0"/>
            <a:ext cx="38098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2  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文学常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文本框 6146"/>
          <p:cNvSpPr/>
          <p:nvPr/>
        </p:nvSpPr>
        <p:spPr>
          <a:xfrm>
            <a:off x="539640" y="907920"/>
            <a:ext cx="8352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：古代的一种文体。是臣子给君主上的奏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师表”是出兵打仗前，主帅给君主上的奏章。这种表，或表明精忠报国之心，或献攻略之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历来以战名世者甚众，以表传后者颇少。唯独诸葛亮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师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存之典册，而且灿然于文苑。这是因为孔明之作，持论贤明通达，行文情浓义明，因而被奉为理政的规范，为人的圭臬，作文的楷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4:50:12Z</dcterms:created>
  <dc:creator>linhui</dc:creator>
  <dc:description/>
  <dc:language>en-US</dc:language>
  <cp:lastModifiedBy>admin</cp:lastModifiedBy>
  <dcterms:modified xsi:type="dcterms:W3CDTF">2017-09-06T02:54:1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