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6.png" ContentType="image/png"/>
  <Override PartName="/ppt/media/image14.png" ContentType="image/png"/>
  <Override PartName="/ppt/media/image17.wmf" ContentType="image/x-wmf"/>
  <Override PartName="/ppt/media/image9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5.gif" ContentType="image/gi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1FC-697C-494C-A953-8023E0DF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5B0-D15E-4EFC-8083-781F6EDA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A6C-C750-46A2-89FE-66EFEF4E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9F2-FB38-4144-A70E-AD333C47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984-4D6A-4EBE-8348-E26678CB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AA8-D07C-4896-803D-C66D9D63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308-E6A1-498A-AF73-FB5D5371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89BB-9DDE-4FEF-A916-896B9CA5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4BE-F1E9-43DF-B770-C33367D6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B4F-8CC3-48DF-BDB7-86A47402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BF1-D859-4592-B429-28F0F8E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B95-217F-446A-A390-999FE4B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96" t="2451" r="3905" b="2475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AAE-E05C-42F4-B4C3-1173196BE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643800"/>
            <a:ext cx="9144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框"/>
          <p:cNvPicPr/>
          <p:nvPr/>
        </p:nvPicPr>
        <p:blipFill>
          <a:blip r:embed="rId1"/>
          <a:stretch/>
        </p:blipFill>
        <p:spPr>
          <a:xfrm>
            <a:off x="2303640" y="1690560"/>
            <a:ext cx="5565600" cy="132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3080" y="3027240"/>
            <a:ext cx="2725560" cy="2589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73160" y="2357280"/>
            <a:ext cx="64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5560" y="1746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4.4.2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公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16358" t="0" r="0" b="53886"/>
          <a:stretch/>
        </p:blipFill>
        <p:spPr>
          <a:xfrm>
            <a:off x="2736720" y="3371760"/>
            <a:ext cx="4797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25400" y="1854360"/>
            <a:ext cx="7696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列各式能否用平方差公式分解？如果能分解，分解成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②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③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④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16240" y="368784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+y)(x-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6240" y="424512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y+x)(y-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31319" r="0" b="0"/>
          <a:stretch/>
        </p:blipFill>
        <p:spPr>
          <a:xfrm>
            <a:off x="784080" y="1176480"/>
            <a:ext cx="223704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84200" y="744480"/>
            <a:ext cx="68104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判断下列分解因式是否正确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+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c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=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2ab+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c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1)·(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4200" y="2422440"/>
            <a:ext cx="8291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不正确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本题错在对分解因式的概念不清，左边是多项式的形式，右边应是整式乘积的形式，但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中右边还是多项式的形式，因此，最终结果是未对所给多项式进行因式分解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4200" y="4548240"/>
            <a:ext cx="82789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不正确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错误原因是因式分解不彻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能继续分解成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应为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9800" y="170028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解因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-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9800" y="337644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(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10880" y="40021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+y)(x-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46280" y="46245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-ab=ab(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73240" y="5238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b(a+1)(a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8840" y="1508040"/>
            <a:ext cx="3675240" cy="1703520"/>
          </a:xfrm>
          <a:prstGeom prst="wedgeEllipseCallout">
            <a:avLst>
              <a:gd name="adj1" fmla="val -81189"/>
              <a:gd name="adj2" fmla="val 503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91040" y="1689120"/>
            <a:ext cx="3200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分解因式，必须进行到每一个多项式都不能再分解为止</a:t>
            </a:r>
            <a:r>
              <a:rPr b="1" lang="zh-CN" sz="2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3880" y="21366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杭州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分解因式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– 4m =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2960" y="415440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黄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分解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: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-x=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84280" y="4586400"/>
          <a:ext cx="6541920" cy="1185840"/>
        </p:xfrm>
        <a:graphic>
          <a:graphicData uri="http://schemas.openxmlformats.org/drawingml/2006/table">
            <a:tbl>
              <a:tblPr/>
              <a:tblGrid>
                <a:gridCol w="6541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楷体_GB2312"/>
                          <a:ea typeface="楷体_GB2312"/>
                        </a:rPr>
                        <a:t>【解析】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原式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=x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x-1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9933ff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楷体_GB2312"/>
                          <a:ea typeface="楷体_GB2312"/>
                        </a:rPr>
                        <a:t>答案</a:t>
                      </a:r>
                      <a:r>
                        <a:rPr b="1" lang="zh-CN" sz="2400" spc="-1" strike="noStrike">
                          <a:solidFill>
                            <a:srgbClr val="cc00ff"/>
                          </a:solidFill>
                          <a:latin typeface="楷体_GB2312"/>
                          <a:ea typeface="楷体_GB2312"/>
                        </a:rPr>
                        <a:t>: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x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x-1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568440" y="2882880"/>
            <a:ext cx="66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– 4m =m(m+2)(m-2).</a:t>
            </a:r>
            <a:br>
              <a:rPr sz="2400"/>
            </a:b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(m+2)(m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8120" y="1127160"/>
            <a:ext cx="34005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42800" y="1077840"/>
            <a:ext cx="870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江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2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9800" y="3080160"/>
            <a:ext cx="86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珠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             =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5480" y="3582360"/>
            <a:ext cx="791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提公因式，再利用平方差公式分解因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即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+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(x+y)(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690640" y="1801800"/>
                <a:ext cx="3716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79680" y="2514600"/>
                <a:ext cx="1495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70240" y="3111480"/>
            <a:ext cx="1903680" cy="4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95360" y="1425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东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x=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x=x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)=x(x+1)(x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</a:t>
            </a:r>
            <a:r>
              <a:rPr b="1" lang="pt-BR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:</a:t>
            </a:r>
            <a:r>
              <a:rPr b="1" lang="pt-BR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(x+1)(x-1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8320" y="3211920"/>
            <a:ext cx="78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盐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因式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       =______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680" y="3535560"/>
            <a:ext cx="74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+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-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4555080"/>
            <a:ext cx="39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+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-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8480" y="3189240"/>
                <a:ext cx="866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0240" y="1779480"/>
            <a:ext cx="77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利用因式分解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0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99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98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97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96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95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…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2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1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9440" y="29941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0+99)(100-99)+(98+97)(98-9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(2+1)(2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99+195+191+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…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5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4800" y="2976480"/>
            <a:ext cx="800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利用平方差公式分解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+b)(a-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的步骤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首先提取公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然后考虑用公式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式分解应进行到每一个因式不能分解为止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中应用因式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可使计算简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4800" y="245736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通过本课时的学习，需要我们掌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74880" y="1049400"/>
            <a:ext cx="3438720" cy="8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120" y="5742000"/>
            <a:ext cx="8242200" cy="77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9560" y="2543040"/>
            <a:ext cx="849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运用完全平方公式分解因式，能说出完全平方公式的特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会用提公因式法与公式法分解因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培养学生的观察、联想能力，进一步了解换元的思想方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并能说出提公因式法在这类因式分解中的作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01880" y="1576440"/>
            <a:ext cx="3178080" cy="71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410080" y="977760"/>
            <a:ext cx="3200400" cy="1905120"/>
          </a:xfrm>
          <a:prstGeom prst="wedgeEllipseCallout">
            <a:avLst>
              <a:gd name="adj1" fmla="val -74254"/>
              <a:gd name="adj2" fmla="val 8325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8302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什么是因式分解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79640" y="2436840"/>
            <a:ext cx="48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把一个多项式分解成几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整式的积的形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62440" y="119700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3333ff"/>
                </a:solidFill>
                <a:latin typeface="宋体"/>
              </a:rPr>
              <a:t>如果一个多项式的各项，不具备相同的因式，是否就不能分解因式了呢？</a:t>
            </a:r>
            <a:r>
              <a:rPr b="1" lang="zh-CN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3772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什么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提公因式法分解因式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79640" y="42498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在一个多项式中，若各项都含有相同的因式，即公因式，就可以把这个公因式提出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从而将多项式化成几个因式乘积的形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87400" y="797040"/>
            <a:ext cx="344484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1480" y="2111400"/>
            <a:ext cx="809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判断下列各式是因式分解的是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 (x+2)(x-2)=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4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 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4=(x+2)(x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3) 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4+3x=(x+2)(x-2)+3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54520" y="2206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30360" y="2413800"/>
            <a:ext cx="7910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：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x+1)(x-1)      (2) (y+4)(y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根据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题的结果分解因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               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894040" y="3260880"/>
                <a:ext cx="1295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3" name=""/>
          <p:cNvGraphicFramePr/>
          <p:nvPr/>
        </p:nvGraphicFramePr>
        <p:xfrm>
          <a:off x="5943600" y="3262320"/>
          <a:ext cx="146988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262320"/>
                    <a:ext cx="14698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392120" y="4576680"/>
                <a:ext cx="9781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44920" y="4591080"/>
                <a:ext cx="18828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447920" y="5167440"/>
            <a:ext cx="24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(x+1)(x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92640" y="518148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(y+4)(y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471760" y="981000"/>
            <a:ext cx="3378240" cy="75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52400" y="1987560"/>
            <a:ext cx="101124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8040" y="1808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由以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两题你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6880" y="2455920"/>
            <a:ext cx="767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符合因式分解的定义，因此是因式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利用平方差公式进行的因式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第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题等式可以看作是整式乘法中的平方差公式，第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题等式可以看作是因式分解中的平方差公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84160" y="2033640"/>
            <a:ext cx="65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利用平方差公式分解因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+b)(a-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84160" y="3160800"/>
            <a:ext cx="75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能用平方差公式分解因式的多项式的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一个二项式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每项都可以化成整式的平方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整体来看是两个整式的平方差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09800" y="1403280"/>
            <a:ext cx="1023840" cy="4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57280" y="211788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把下列各式分解因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6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9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348948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87640" y="4014720"/>
            <a:ext cx="28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5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1800" y="4554360"/>
            <a:ext cx="45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+4x)(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38520" y="3503520"/>
            <a:ext cx="31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9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27560" y="4029120"/>
            <a:ext cx="37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27560" y="4606920"/>
            <a:ext cx="36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a+b)(3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26670" r="0" b="0"/>
          <a:stretch/>
        </p:blipFill>
        <p:spPr>
          <a:xfrm>
            <a:off x="684360" y="1343160"/>
            <a:ext cx="22431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08120" y="708120"/>
            <a:ext cx="80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把下列各式分解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+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9720" y="1967040"/>
            <a:ext cx="48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 +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11760" y="2365200"/>
            <a:ext cx="40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 +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］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4080" y="2806560"/>
            <a:ext cx="531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[3(m +n)+(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)][3(m +n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)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6920" y="3218040"/>
            <a:ext cx="59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m +3n+ 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)(3 m +3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 +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34640" y="3557520"/>
            <a:ext cx="38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 m +2n)(2 m +4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0120" y="4014720"/>
            <a:ext cx="36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m +n)(m +2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9240" y="448308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65520" y="4929120"/>
            <a:ext cx="22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6800" y="5346720"/>
            <a:ext cx="31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+2)(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4707000"/>
            <a:ext cx="3062160" cy="1371600"/>
          </a:xfrm>
          <a:prstGeom prst="wedgeEllipseCallout">
            <a:avLst>
              <a:gd name="adj1" fmla="val -105314"/>
              <a:gd name="adj2" fmla="val -65972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43520" y="4851360"/>
            <a:ext cx="252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有公因式时，先提公因式，再考虑用公式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4:37:03Z</dcterms:created>
  <dc:creator>孔隆教育  http://mykonglong.taobao.com</dc:creator>
  <dc:description/>
  <dc:language>en-US</dc:language>
  <cp:lastModifiedBy>MKL</cp:lastModifiedBy>
  <dcterms:modified xsi:type="dcterms:W3CDTF">2014-07-13T05:23:50Z</dcterms:modified>
  <cp:revision>9</cp:revision>
  <dc:subject/>
  <dc:title>幻灯片 1</dc:title>
</cp:coreProperties>
</file>