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4.png" ContentType="image/png"/>
  <Override PartName="/ppt/media/image9.png" ContentType="image/png"/>
  <Override PartName="/ppt/media/image13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5.gif" ContentType="image/gif"/>
  <Override PartName="/ppt/media/image8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CA6-A3E5-46E9-9446-A7AA4E9DF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9102-21D6-4310-B6BD-C9C8321A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BFB-FE10-4939-AE00-53477546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1A9-64EF-4109-99AC-74775B0C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AFDB-55A5-4320-9FED-32839BA2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775-518E-4D18-A864-F7D7D2F1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1301-4775-4828-BA82-89ADE3C0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0F44-4F8C-4C16-B1EE-F995D78B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767-2892-4E9E-BB31-931FBECD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5BA1-CCFD-42C0-986B-819793A6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8C1-C55F-4F02-8C2C-D5B16DF8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C9DB-F862-45AA-91AA-4DFF8B7B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396" t="2451" r="3905" b="2475"/>
          <a:stretch/>
        </p:blipFill>
        <p:spPr>
          <a:xfrm>
            <a:off x="0" y="343080"/>
            <a:ext cx="9144000" cy="651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4DAF-40CC-43C1-9633-3C9CA21927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6643800"/>
            <a:ext cx="914400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" descr="框"/>
          <p:cNvPicPr/>
          <p:nvPr/>
        </p:nvPicPr>
        <p:blipFill>
          <a:blip r:embed="rId1"/>
          <a:stretch/>
        </p:blipFill>
        <p:spPr>
          <a:xfrm>
            <a:off x="2149560" y="1446120"/>
            <a:ext cx="5565600" cy="1608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6360" y="2808360"/>
            <a:ext cx="3144960" cy="2987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1480" y="1660680"/>
            <a:ext cx="66423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4.3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整式的除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14.3.1 </a:t>
            </a: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同底数幂的除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170160" y="3424320"/>
            <a:ext cx="38862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55520" y="2043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求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) 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a-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2) 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a-2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1066680"/>
            <a:ext cx="2411280" cy="1524240"/>
          </a:xfrm>
          <a:prstGeom prst="wedgeEllipseCallout">
            <a:avLst>
              <a:gd name="adj1" fmla="val -64550"/>
              <a:gd name="adj2" fmla="val 69273"/>
            </a:avLst>
          </a:prstGeom>
          <a:solidFill>
            <a:srgbClr val="a0fe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ahoma"/>
              </a:rPr>
              <a:t>这种思维叫做逆向思维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8195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)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a-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÷9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032440" y="2674800"/>
                <a:ext cx="2905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954000" y="35812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a-2b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a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b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(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÷9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959280" y="4210200"/>
                <a:ext cx="399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062000" y="1440000"/>
            <a:ext cx="38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已知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=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=9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784080" y="243828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【规律方法】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运用法则时注重整体的数学思想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逆向思维的训练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14400" y="2422440"/>
            <a:ext cx="69343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节课我的收获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23880" y="2314440"/>
            <a:ext cx="5257800" cy="1404720"/>
            <a:chOff x="1523880" y="2314440"/>
            <a:chExt cx="5257800" cy="1404720"/>
          </a:xfrm>
        </p:grpSpPr>
        <p:sp>
          <p:nvSpPr>
            <p:cNvPr id="129" name=""/>
            <p:cNvSpPr/>
            <p:nvPr/>
          </p:nvSpPr>
          <p:spPr>
            <a:xfrm>
              <a:off x="1523880" y="2314440"/>
              <a:ext cx="4038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52480" y="3076560"/>
              <a:ext cx="50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zh-CN" sz="2400" spc="-1" strike="noStrike" baseline="30000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÷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  <a:ea typeface="Tahoma"/>
                </a:rPr>
                <a:t>a</a:t>
              </a:r>
              <a:r>
                <a:rPr b="1" i="1" lang="zh-CN" sz="2400" spc="-1" strike="noStrike" baseline="30000">
                  <a:solidFill>
                    <a:srgbClr val="ff0000"/>
                  </a:solidFill>
                  <a:latin typeface="Times New Roman"/>
                  <a:ea typeface="Tahoma"/>
                </a:rPr>
                <a:t>n</a:t>
              </a: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=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  <a:ea typeface="Tahoma"/>
                </a:rPr>
                <a:t>a</a:t>
              </a:r>
              <a:r>
                <a:rPr b="1" i="1" lang="zh-CN" sz="2400" spc="-1" strike="noStrike" baseline="30000">
                  <a:solidFill>
                    <a:srgbClr val="ff0000"/>
                  </a:solidFill>
                  <a:latin typeface="Times New Roman"/>
                  <a:ea typeface="Tahoma"/>
                </a:rPr>
                <a:t>m</a:t>
              </a:r>
              <a:r>
                <a:rPr b="1" lang="zh-CN" sz="2400" spc="-1" strike="noStrike" baseline="30000">
                  <a:solidFill>
                    <a:srgbClr val="ff0000"/>
                  </a:solidFill>
                  <a:latin typeface="Tahoma"/>
                  <a:ea typeface="Tahoma"/>
                </a:rPr>
                <a:t>-</a:t>
              </a:r>
              <a:r>
                <a:rPr b="1" i="1" lang="zh-CN" sz="2400" spc="-1" strike="noStrike" baseline="30000">
                  <a:solidFill>
                    <a:srgbClr val="ff0000"/>
                  </a:solidFill>
                  <a:latin typeface="Times New Roman"/>
                  <a:ea typeface="Tahoma"/>
                </a:rPr>
                <a:t>n</a:t>
              </a: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(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  <a:ea typeface="Tahoma"/>
                </a:rPr>
                <a:t>a</a:t>
              </a: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≠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Tahoma"/>
                </a:rPr>
                <a:t>0,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  <a:ea typeface="Tahoma"/>
                </a:rPr>
                <a:t>m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Tahoma"/>
                </a:rPr>
                <a:t>,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  <a:ea typeface="Tahoma"/>
                </a:rPr>
                <a:t>n</a:t>
              </a:r>
              <a:r>
                <a:rPr b="1" lang="zh-CN" sz="2400" spc="-1" strike="noStrike">
                  <a:solidFill>
                    <a:srgbClr val="ff0000"/>
                  </a:solidFill>
                  <a:latin typeface="Tahoma"/>
                </a:rPr>
                <a:t>都是正整数，并且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  <a:ea typeface="Tahoma"/>
                </a:rPr>
                <a:t>m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Tahoma"/>
                </a:rPr>
                <a:t>&gt;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  <a:ea typeface="Tahoma"/>
                </a:rPr>
                <a:t>n</a:t>
              </a: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893960" y="4457880"/>
            <a:ext cx="46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1 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≠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74880" y="1049400"/>
            <a:ext cx="3438720" cy="83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20640" y="2987640"/>
            <a:ext cx="80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经历探索同底数幂的除法运算的过程，进一步体会幂的意义，学会简单的整式除法运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2320920"/>
            <a:ext cx="63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理解同底数幂的除法法则，并能应用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0640" y="40114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培养有条理的思考表达能力，体会同底数幂的除法法则的算理，体会数学的内涵与价值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38320" y="1301760"/>
            <a:ext cx="317844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59320" y="3197160"/>
            <a:ext cx="3353040" cy="1752840"/>
          </a:xfrm>
          <a:prstGeom prst="wedgeEllipseCallout">
            <a:avLst>
              <a:gd name="adj1" fmla="val -121541"/>
              <a:gd name="adj2" fmla="val -11773"/>
            </a:avLst>
          </a:prstGeom>
          <a:solidFill>
            <a:srgbClr val="ffff66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0320" y="16606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2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16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5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10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7360" y="2360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2346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89200" y="2927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0560" y="28796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2640" y="438156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计算：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1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44960" y="4915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64120" y="4915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44960" y="55245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0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40440" y="54482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30840" y="3328920"/>
            <a:ext cx="2895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上述运算能否发现商与除数、被除数有什么关系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43200" y="720720"/>
            <a:ext cx="344484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68444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同底数幂相除，底数没有改变，商的指数应该等于被除数的指数减去除数的指数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4943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同底数幂相除，底数不变，指数相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90720" y="2982960"/>
            <a:ext cx="5257800" cy="1953000"/>
            <a:chOff x="990720" y="2982960"/>
            <a:chExt cx="5257800" cy="1953000"/>
          </a:xfrm>
        </p:grpSpPr>
        <p:sp>
          <p:nvSpPr>
            <p:cNvPr id="68" name=""/>
            <p:cNvSpPr/>
            <p:nvPr/>
          </p:nvSpPr>
          <p:spPr>
            <a:xfrm>
              <a:off x="990720" y="298296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一般地，我们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19320" y="3744720"/>
              <a:ext cx="5029200" cy="1191240"/>
            </a:xfrm>
            <a:prstGeom prst="rect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a</a:t>
              </a:r>
              <a:r>
                <a:rPr b="1" i="1" lang="zh-CN" sz="2400" spc="-1" strike="noStrike" baseline="30000">
                  <a:solidFill>
                    <a:srgbClr val="ff0000"/>
                  </a:solidFill>
                  <a:latin typeface="楷体_GB2312"/>
                  <a:ea typeface="楷体_GB2312"/>
                </a:rPr>
                <a:t>m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÷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a</a:t>
              </a:r>
              <a:r>
                <a:rPr b="1" i="1" lang="zh-CN" sz="2400" spc="-1" strike="noStrike" baseline="30000">
                  <a:solidFill>
                    <a:srgbClr val="ff0000"/>
                  </a:solidFill>
                  <a:latin typeface="楷体_GB2312"/>
                  <a:ea typeface="楷体_GB2312"/>
                </a:rPr>
                <a:t>n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=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a</a:t>
              </a:r>
              <a:r>
                <a:rPr b="1" i="1" lang="zh-CN" sz="2400" spc="-1" strike="noStrike" baseline="30000">
                  <a:solidFill>
                    <a:srgbClr val="ff0000"/>
                  </a:solidFill>
                  <a:latin typeface="楷体_GB2312"/>
                  <a:ea typeface="楷体_GB2312"/>
                </a:rPr>
                <a:t>m</a:t>
              </a:r>
              <a:r>
                <a:rPr b="1" lang="zh-CN" sz="2400" spc="-1" strike="noStrike" baseline="30000">
                  <a:solidFill>
                    <a:srgbClr val="ff0000"/>
                  </a:solidFill>
                  <a:latin typeface="楷体_GB2312"/>
                  <a:ea typeface="楷体_GB2312"/>
                </a:rPr>
                <a:t>-</a:t>
              </a:r>
              <a:r>
                <a:rPr b="1" i="1" lang="zh-CN" sz="2400" spc="-1" strike="noStrike" baseline="30000">
                  <a:solidFill>
                    <a:srgbClr val="ff0000"/>
                  </a:solidFill>
                  <a:latin typeface="楷体_GB2312"/>
                  <a:ea typeface="楷体_GB2312"/>
                </a:rPr>
                <a:t>n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(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a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≠0,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m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,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n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都是正整数，并且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m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&gt;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n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292800" y="2446200"/>
            <a:ext cx="1828800" cy="1371600"/>
            <a:chOff x="6292800" y="2446200"/>
            <a:chExt cx="1828800" cy="1371600"/>
          </a:xfrm>
        </p:grpSpPr>
        <p:sp>
          <p:nvSpPr>
            <p:cNvPr id="71" name=""/>
            <p:cNvSpPr/>
            <p:nvPr/>
          </p:nvSpPr>
          <p:spPr>
            <a:xfrm>
              <a:off x="6292800" y="2446200"/>
              <a:ext cx="1828800" cy="1371600"/>
            </a:xfrm>
            <a:prstGeom prst="cloudCallout">
              <a:avLst>
                <a:gd name="adj1" fmla="val -133592"/>
                <a:gd name="adj2" fmla="val 66550"/>
              </a:avLst>
            </a:prstGeom>
            <a:solidFill>
              <a:srgbClr val="a0fe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21400" y="2598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为什么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  <a:ea typeface="Tahoma"/>
                </a:rPr>
                <a:t>a</a:t>
              </a: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≠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Tahoma"/>
                </a:rPr>
                <a:t>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37824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54120" y="12762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例 计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÷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ahoma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； 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ahoma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 ÷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a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(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) 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ahoma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÷(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a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ahoma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；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ahoma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 baseline="42000">
                <a:solidFill>
                  <a:srgbClr val="0000ff"/>
                </a:solidFill>
                <a:latin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(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-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) 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ahoma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÷(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-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ahoma"/>
              </a:rPr>
              <a:t>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44600" y="5584680"/>
            <a:ext cx="56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5)(-b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÷(-b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(-b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5-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(-b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-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22200" y="5051520"/>
            <a:ext cx="58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(-a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÷(-a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=(-a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7-5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=(-a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=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44600" y="457344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ahoma"/>
              </a:rPr>
              <a:t>(3)(ab)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Tahoma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ahoma"/>
              </a:rPr>
              <a:t>÷(ab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ahoma"/>
              </a:rPr>
              <a:t>=(ab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Tahoma"/>
              </a:rPr>
              <a:t>5-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ahoma"/>
              </a:rPr>
              <a:t>=(ab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Tahoma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ahoma"/>
              </a:rPr>
              <a:t>=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Tahoma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ahoma"/>
              </a:rPr>
              <a:t>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Tahoma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44600" y="418932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ahoma"/>
              </a:rPr>
              <a:t>(2)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Tahoma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ahoma"/>
              </a:rPr>
              <a:t>÷a =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Tahoma"/>
              </a:rPr>
              <a:t>4-1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ahoma"/>
              </a:rPr>
              <a:t>=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  <a:ea typeface="Tahoma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6240" y="3478320"/>
            <a:ext cx="51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1) 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ahoma"/>
              </a:rPr>
              <a:t>÷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  <a:ea typeface="Tahoma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ahoma"/>
              </a:rPr>
              <a:t>=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  <a:ea typeface="Tahoma"/>
              </a:rPr>
              <a:t>8-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ahoma"/>
              </a:rPr>
              <a:t>=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  <a:ea typeface="Tahoma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26670" r="0" b="0"/>
          <a:stretch/>
        </p:blipFill>
        <p:spPr>
          <a:xfrm>
            <a:off x="728640" y="700200"/>
            <a:ext cx="224316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11320" y="2911320"/>
            <a:ext cx="3095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1)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9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÷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1320" y="3517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2)2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1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÷2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2760" y="2903400"/>
            <a:ext cx="21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9-3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41680" y="3503520"/>
            <a:ext cx="25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12-7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1320" y="4113360"/>
            <a:ext cx="25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3)(-x)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÷(-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98680" y="4151160"/>
            <a:ext cx="37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-x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-1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-x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-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1320" y="47181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4)(-3)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11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÷(-3)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46360" y="4711680"/>
            <a:ext cx="37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-3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11-8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-3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0960" y="2069640"/>
            <a:ext cx="1828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计算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31319" r="0" b="0"/>
          <a:stretch/>
        </p:blipFill>
        <p:spPr>
          <a:xfrm>
            <a:off x="1278000" y="1387440"/>
            <a:ext cx="2236680" cy="5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52600" y="3201840"/>
            <a:ext cx="4619520" cy="45972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f04fc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af04f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af04fc"/>
                </a:solidFill>
                <a:latin typeface="Times New Roman"/>
              </a:rPr>
              <a:t>=1  (</a:t>
            </a:r>
            <a:r>
              <a:rPr b="1" i="1" lang="en-US" sz="2400" spc="-1" strike="noStrike">
                <a:solidFill>
                  <a:srgbClr val="af04f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af04fc"/>
                </a:solidFill>
                <a:latin typeface="Times New Roman"/>
              </a:rPr>
              <a:t>≠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16160" y="42242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即任何不等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数的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次幂都等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70160" y="2036880"/>
            <a:ext cx="1268280" cy="48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40200" y="2440440"/>
            <a:ext cx="55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．（铜仁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中考）下列式子中，正确的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5040" y="3290760"/>
            <a:ext cx="20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=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19840" y="245268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484520" y="3203640"/>
          <a:ext cx="60984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4520" y="3203640"/>
                    <a:ext cx="6098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086080" y="32576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±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50000" y="326880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17960" y="3968640"/>
            <a:ext cx="26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÷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=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2160" y="3979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．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·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=x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8960" y="4642200"/>
            <a:ext cx="75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．（上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中考）计算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 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 ÷ a 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=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76960" y="46022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776680" y="1249200"/>
            <a:ext cx="340020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01560" y="1182600"/>
            <a:ext cx="786600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填空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(1)a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•(      )=a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7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;  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	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(2)    m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•(       ) =m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8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;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(3) x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•x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5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•(     ) =x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12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;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	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(4)  (-6)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•            = (-6)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5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计算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ahoma"/>
              </a:rPr>
              <a:t>÷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Tahoma"/>
              </a:rPr>
              <a:t>;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	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        (2)  m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8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÷m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8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	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(3) (-a)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10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÷(-a)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7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;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	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         (4)  (xy)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5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÷(xy)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下面的计算结果对不对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如果不对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应当怎样改正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(1)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÷x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=x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;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	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(2) 6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÷6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=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(3)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a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÷a=a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;      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(4)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(-c)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4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÷(-c)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=-c</a:t>
            </a:r>
            <a:r>
              <a:rPr b="1" lang="zh-CN" sz="2000" spc="-1" strike="noStrike" baseline="30000">
                <a:solidFill>
                  <a:srgbClr val="0000ff"/>
                </a:solidFill>
                <a:latin typeface="Times New Roman"/>
                <a:ea typeface="Tahoma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7431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3240" y="1727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47960" y="21812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32320" y="215748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-6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6680" y="32418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5960" y="32497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38320" y="38149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a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26240" y="3816360"/>
            <a:ext cx="14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90640" y="472932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41920" y="475128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14680" y="52084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37440" y="52084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-c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=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4T14:37:03Z</dcterms:created>
  <dc:creator>孔隆教育  http://mykonglong.taobao.com</dc:creator>
  <dc:description/>
  <dc:language>en-US</dc:language>
  <cp:lastModifiedBy>MKL</cp:lastModifiedBy>
  <dcterms:modified xsi:type="dcterms:W3CDTF">2014-07-13T05:24:06Z</dcterms:modified>
  <cp:revision>9</cp:revision>
  <dc:subject/>
  <dc:title>幻灯片 1</dc:title>
</cp:coreProperties>
</file>