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11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0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A89-A3F9-4C16-AC70-F7F2D258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26D-2907-49AB-98C0-C29D79D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B95-CE47-45C9-978D-A97C5968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5B0-DB99-4B23-A044-CE42DF236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192-4788-4DF7-968E-2CD24BDA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F33-DF4B-41BE-AA94-75497915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1C3-EE48-4C69-AE0F-D2BAF488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EE4A-5F43-46E5-B31E-ED3C481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6E9-BEDD-4889-854E-FBEBB01B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223-558D-479D-97C6-B6846C25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092-4908-42BB-846A-96A57312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59F-19FE-43C1-B870-DA8F80CF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18EF-4C50-4ED5-91AA-5D1B004A7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289240" y="1736640"/>
            <a:ext cx="556560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3960" y="270972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11160" y="2106720"/>
            <a:ext cx="664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3.2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式的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49720" y="3286080"/>
            <a:ext cx="3565440" cy="18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1809720"/>
            <a:ext cx="61722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(1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6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3a)÷3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(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3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7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(-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[(x+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y(2x+y)-8x]÷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27600" y="25858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 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2560" y="312732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-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+5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xy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09800" y="427500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+2xy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2yx-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8x)÷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8x)÷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x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744480" y="1230480"/>
            <a:ext cx="22366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9040" y="233568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綦江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结果是（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0720" y="2955960"/>
            <a:ext cx="68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     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a      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6480" y="3695760"/>
            <a:ext cx="93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利用单项式除以单项式的运算法则易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00400" y="1436760"/>
            <a:ext cx="340020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81080" y="3478320"/>
            <a:ext cx="452412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利用单项式除以单项式的运算法则易得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项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确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400" y="1857960"/>
            <a:ext cx="72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无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下列正确的是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8320" y="2333520"/>
            <a:ext cx="683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a)÷a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4800" y="1461960"/>
            <a:ext cx="42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 (-2x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8680" y="26733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16÷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÷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)(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98680" y="3214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8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7880" y="2108160"/>
            <a:ext cx="52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6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(-2x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8560" y="3749760"/>
            <a:ext cx="5942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.1×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÷ (1.7×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4040" y="4479840"/>
            <a:ext cx="115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8280" y="4468680"/>
            <a:ext cx="48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5.1 ÷ 1.7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÷ 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920" y="5111640"/>
            <a:ext cx="2879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×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93800" y="2190600"/>
          <a:ext cx="540072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3800" y="2190600"/>
                    <a:ext cx="540072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34960" y="1019160"/>
            <a:ext cx="81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化简求值：已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-2y=2012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0840" y="2122560"/>
            <a:ext cx="24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991040" y="1052640"/>
          <a:ext cx="3756240" cy="45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91040" y="1052640"/>
                    <a:ext cx="37562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17480" y="2543040"/>
            <a:ext cx="2135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单项式相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3800" y="311292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系数相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2160"/>
            <a:ext cx="46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同底数幂相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770280"/>
            <a:ext cx="59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只在被除式里的幂不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960" y="4924440"/>
            <a:ext cx="7315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先把这个多项式的每一项分别除以单项式，再把所得的商相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080" y="438624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多项式除以单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1360" y="16095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800" y="5553000"/>
            <a:ext cx="8242560" cy="97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1240" y="2335320"/>
            <a:ext cx="775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经历探索单项式除以单项式的运算法则的过程，会进行单项式与单项式的除法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会进行多项式与单项式的除法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44800" y="1420920"/>
            <a:ext cx="3178080" cy="71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4120" y="1981080"/>
            <a:ext cx="3124080" cy="276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46600" y="2390760"/>
            <a:ext cx="468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问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木星的质量约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9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×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地球的质量约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.9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×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知道木星的质量约为地球质量的多少倍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2000" y="5019840"/>
            <a:ext cx="54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木星的质量约为地球质量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.90×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÷(5.98×1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51080" y="857160"/>
            <a:ext cx="310860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99360" y="425592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利用上面的方法计算下列各式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914560" y="4897440"/>
          <a:ext cx="185112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4560" y="4897440"/>
                    <a:ext cx="185112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299200" y="4911840"/>
                <a:ext cx="219852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÷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958680" y="242244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.9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×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÷(5.98×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1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(1.90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÷5.98) ×(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4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÷ 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1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0.32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×1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68400" y="5518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0" y="5508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9200" y="552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2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00080" y="4930920"/>
          <a:ext cx="1359000" cy="46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930920"/>
                    <a:ext cx="135900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2570040" y="915840"/>
            <a:ext cx="3378240" cy="7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973080" y="1886040"/>
            <a:ext cx="142560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35040" y="2173320"/>
            <a:ext cx="76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能根据上面的结果述说单项式除以单项式的运算法则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5040" y="3494160"/>
            <a:ext cx="78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项式相除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系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底数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别相除作为商的因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对于只在被除式里含有的字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则连同它的指数作为商的一个因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82800" y="1428840"/>
            <a:ext cx="10238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94148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】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8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7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-15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7x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4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08280" y="303696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38640" y="30369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3a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31800" y="415908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8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7x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1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56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1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816120" y="102384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51040" y="1755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51040" y="299880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6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51040" y="2343240"/>
            <a:ext cx="44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)(10a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÷(5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1040" y="365436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)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2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t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 ÷(2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i="1" lang="en-US" sz="2400" spc="-1" strike="noStrike">
                <a:solidFill>
                  <a:srgbClr val="0000ff"/>
                </a:solidFill>
                <a:latin typeface="宋体"/>
              </a:rPr>
              <a:t>t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51040" y="429264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下列计算错在哪里？应怎样改正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44840" y="2352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2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03400" y="300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52840" y="3651120"/>
            <a:ext cx="14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50000" y="4948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968720" y="5416560"/>
          <a:ext cx="771840" cy="70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720" y="5416560"/>
                    <a:ext cx="7718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001880" y="4925880"/>
          <a:ext cx="3797280" cy="111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1880" y="4925880"/>
                    <a:ext cx="3797280" cy="11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5"/>
          <a:srcRect l="0" t="31319" r="0" b="0"/>
          <a:stretch/>
        </p:blipFill>
        <p:spPr>
          <a:xfrm>
            <a:off x="947880" y="936720"/>
            <a:ext cx="22366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39800" y="191448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下列各式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(am+bm)÷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(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ab)÷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(4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y+2x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÷2xy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99040" y="2082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4960" y="264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55880" y="3225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2x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464080" y="730800"/>
            <a:ext cx="3200400" cy="1143000"/>
          </a:xfrm>
          <a:prstGeom prst="wedgeEllipseCallout">
            <a:avLst>
              <a:gd name="adj1" fmla="val -35615"/>
              <a:gd name="adj2" fmla="val -18930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41960" y="1058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说说你是怎样计算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7040" y="3952800"/>
            <a:ext cx="747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am+bm)÷m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法转化成乘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 a+b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-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乘法分配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77760" y="4530600"/>
                <a:ext cx="213372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)</m:t>
                        </m:r>
                        <m:r>
                          <m:t xml:space="preserve">÷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m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7680" y="2711520"/>
            <a:ext cx="77673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先把这个多项式的每一项除以这个单项式，再把所得的商相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27160" y="2084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项式除以单项式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7680" y="4083120"/>
            <a:ext cx="78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本质：把多项式除以单项式转化成单项式除以单项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4:00Z</dcterms:modified>
  <cp:revision>9</cp:revision>
  <dc:subject/>
  <dc:title>幻灯片 1</dc:title>
</cp:coreProperties>
</file>