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arrow.wav" ContentType="audio/x-wav"/>
  <Override PartName="/ppt/media/image8.wmf" ContentType="image/x-wmf"/>
  <Override PartName="/ppt/media/wind.wav" ContentType="audio/x-wav"/>
  <Override PartName="/ppt/media/image9.jpeg" ContentType="image/jpe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BBF0-D437-4BC5-81E1-5AAC88A8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4CC-C676-42E7-954A-484160E6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B4ED-2C7D-401F-90E9-8552F76E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488-A615-4715-B195-38ABF769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A873-A4BA-4A7F-81B9-5099C0A9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6720-50E4-49C5-BD99-1F3A06B9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7D4E-5B05-494F-B536-4F11E1DB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2FCE-7639-41C3-B8AF-A4B2607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AF61-3E91-4C8C-9B8E-B02D3885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2218-431A-4494-8279-674A943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BE8-E2DB-4C66-A087-5CC7826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29C1-2EC1-42FA-824F-92BC3577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0FBF-574D-4C89-A3AA-C07DDC13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9D39-A175-4FAB-A2E1-7A1ABCB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5BE0-4B8C-4E88-9ECE-39084B00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E20B-C5D6-46A4-B141-A8A92DC8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A70-C915-413B-94D5-23B549BC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2B74A-52AA-40B0-B5DA-D6914ED1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14561-8F21-4E8E-88FA-9DB78957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0CCF-4764-4D63-92C5-8DCBA3A2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E130-7B80-41BD-B000-FE7C7397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0001-DE23-4AA7-AEE0-24E1CBA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1DDB-C8D6-4CA2-B93D-08800F6D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87A1-8E8C-4984-B836-DBC4AA1E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46202-AEAE-46AA-A337-754C1CA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FDD2-E902-4703-AB83-A5A82F3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61F68-9B34-49EB-9236-FCA6B032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CB4D-B05D-4D28-85B5-D470D451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1A502-C731-4A79-B456-FA956270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281F0-080D-4966-BF4D-D055D6DB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C89-3E48-4FCA-B044-9CF5EB24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0F0-1876-4E36-99C4-776509E4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AC2-7CC8-4A26-8068-662E4AB4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02B2-4A18-4802-AF41-4860EE5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DBD-991B-4552-AEB3-9042EA4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245-C6D9-47C6-9898-F15DB1BA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5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33E14-BB57-48BD-9DDE-2C62385531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B3CA4-8069-48C8-87DE-CB0F618F2F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1139760" cy="1123920"/>
          </a:xfrm>
          <a:prstGeom prst="rect">
            <a:avLst/>
          </a:prstGeom>
          <a:solidFill>
            <a:srgbClr val="e7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7" descr=""/>
          <p:cNvPicPr/>
          <p:nvPr/>
        </p:nvPicPr>
        <p:blipFill>
          <a:blip r:embed="rId2"/>
          <a:stretch/>
        </p:blipFill>
        <p:spPr>
          <a:xfrm>
            <a:off x="6948360" y="6002280"/>
            <a:ext cx="194796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E6356-ABA1-481A-A125-250701599D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FC499-B735-434F-8517-72BBA45A94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2BBE7-83AD-40A0-BB3B-E552765ED7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53AB2-948F-4930-A4DB-FCA85B0A16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43280" y="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1484280"/>
            <a:ext cx="842472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识与技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理解梯形、等腰梯形、直角梯形的概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探索并掌握等腰梯形的特征及其简单应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初步学会把梯形问题转化为平行四边形与三角形的问题来解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过程与方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通过观察、猜想、操作、推理、归纳等探索过程，进一步培养学生的数学说理意识与能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渗透化归思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5280" y="54936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请你填一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79480" y="2138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8360" y="1760400"/>
            <a:ext cx="437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等腰梯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∥BC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延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交于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图中共有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等腰三角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393372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36572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腰梯形的一个内角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其余三个内角的度数分别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3744720" cy="188892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6732720" y="1409760"/>
            <a:ext cx="792720" cy="1182240"/>
            <a:chOff x="6732720" y="1409760"/>
            <a:chExt cx="792720" cy="1182240"/>
          </a:xfrm>
        </p:grpSpPr>
        <p:sp>
          <p:nvSpPr>
            <p:cNvPr id="277" name=""/>
            <p:cNvSpPr/>
            <p:nvPr/>
          </p:nvSpPr>
          <p:spPr>
            <a:xfrm flipV="1">
              <a:off x="6732720" y="1915920"/>
              <a:ext cx="431280" cy="6490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7092360" y="1989000"/>
              <a:ext cx="433080" cy="6030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70400" y="1409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11280" y="3357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35640" y="4869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3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5445000"/>
            <a:ext cx="363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443640" y="2852640"/>
            <a:ext cx="865080" cy="368280"/>
            <a:chOff x="6443640" y="2852640"/>
            <a:chExt cx="865080" cy="368280"/>
          </a:xfrm>
        </p:grpSpPr>
        <p:sp>
          <p:nvSpPr>
            <p:cNvPr id="284" name=""/>
            <p:cNvSpPr/>
            <p:nvPr/>
          </p:nvSpPr>
          <p:spPr>
            <a:xfrm>
              <a:off x="6443640" y="2997000"/>
              <a:ext cx="144360" cy="21600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0" y="0"/>
                  </a:moveTo>
                  <a:cubicBezTo>
                    <a:pt x="38" y="56"/>
                    <a:pt x="76" y="113"/>
                    <a:pt x="91" y="13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6720" y="2852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372360" y="4581360"/>
            <a:ext cx="504720" cy="1295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88000" y="4581360"/>
            <a:ext cx="504720" cy="129564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465300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4653000"/>
            <a:ext cx="1584360" cy="1297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8291520" y="2863800"/>
            <a:ext cx="482040" cy="9867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877080" y="2924280"/>
            <a:ext cx="504720" cy="10080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2708280"/>
            <a:ext cx="863640" cy="1152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30160" y="981000"/>
            <a:ext cx="37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把一个等腰梯形分割成熟悉的图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如：平行四边形，三角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请你动手剪一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421080" y="2749680"/>
            <a:ext cx="2525760" cy="1105920"/>
            <a:chOff x="3421080" y="2749680"/>
            <a:chExt cx="2525760" cy="1105920"/>
          </a:xfrm>
        </p:grpSpPr>
        <p:sp>
          <p:nvSpPr>
            <p:cNvPr id="296" name=""/>
            <p:cNvSpPr/>
            <p:nvPr/>
          </p:nvSpPr>
          <p:spPr>
            <a:xfrm>
              <a:off x="4071960" y="2749680"/>
              <a:ext cx="1027080" cy="10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21080" y="3854160"/>
              <a:ext cx="2525760" cy="144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421080" y="2749680"/>
              <a:ext cx="650880" cy="11044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99040" y="2749680"/>
              <a:ext cx="847800" cy="110448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075200" y="2749320"/>
            <a:ext cx="166680" cy="1104840"/>
            <a:chOff x="4075200" y="2749320"/>
            <a:chExt cx="166680" cy="1104840"/>
          </a:xfrm>
        </p:grpSpPr>
        <p:sp>
          <p:nvSpPr>
            <p:cNvPr id="301" name=""/>
            <p:cNvSpPr/>
            <p:nvPr/>
          </p:nvSpPr>
          <p:spPr>
            <a:xfrm flipV="1">
              <a:off x="4075200" y="2749320"/>
              <a:ext cx="1440" cy="110484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097520" y="3700440"/>
              <a:ext cx="144360" cy="142920"/>
              <a:chOff x="4097520" y="3700440"/>
              <a:chExt cx="144360" cy="142920"/>
            </a:xfrm>
          </p:grpSpPr>
          <p:sp>
            <p:nvSpPr>
              <p:cNvPr id="303" name=""/>
              <p:cNvSpPr/>
              <p:nvPr/>
            </p:nvSpPr>
            <p:spPr>
              <a:xfrm>
                <a:off x="4097520" y="3700440"/>
                <a:ext cx="144360" cy="0"/>
              </a:xfrm>
              <a:prstGeom prst="line">
                <a:avLst/>
              </a:prstGeom>
              <a:ln w="572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241880" y="3700440"/>
                <a:ext cx="0" cy="142920"/>
              </a:xfrm>
              <a:prstGeom prst="line">
                <a:avLst/>
              </a:prstGeom>
              <a:ln w="572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5064120" y="2749320"/>
            <a:ext cx="166680" cy="1104840"/>
            <a:chOff x="5064120" y="2749320"/>
            <a:chExt cx="166680" cy="1104840"/>
          </a:xfrm>
        </p:grpSpPr>
        <p:sp>
          <p:nvSpPr>
            <p:cNvPr id="306" name=""/>
            <p:cNvSpPr/>
            <p:nvPr/>
          </p:nvSpPr>
          <p:spPr>
            <a:xfrm flipV="1">
              <a:off x="5064120" y="2749320"/>
              <a:ext cx="1440" cy="110484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5086440" y="3700440"/>
              <a:ext cx="144360" cy="142920"/>
              <a:chOff x="5086440" y="3700440"/>
              <a:chExt cx="144360" cy="142920"/>
            </a:xfrm>
          </p:grpSpPr>
          <p:sp>
            <p:nvSpPr>
              <p:cNvPr id="308" name=""/>
              <p:cNvSpPr/>
              <p:nvPr/>
            </p:nvSpPr>
            <p:spPr>
              <a:xfrm>
                <a:off x="5086440" y="3700440"/>
                <a:ext cx="144360" cy="0"/>
              </a:xfrm>
              <a:prstGeom prst="line">
                <a:avLst/>
              </a:prstGeom>
              <a:ln w="572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30800" y="3700440"/>
                <a:ext cx="0" cy="142920"/>
              </a:xfrm>
              <a:prstGeom prst="line">
                <a:avLst/>
              </a:prstGeom>
              <a:ln w="5724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507960" y="2717640"/>
            <a:ext cx="2552760" cy="1119240"/>
            <a:chOff x="507960" y="2717640"/>
            <a:chExt cx="2552760" cy="1119240"/>
          </a:xfrm>
        </p:grpSpPr>
        <p:sp>
          <p:nvSpPr>
            <p:cNvPr id="311" name=""/>
            <p:cNvSpPr/>
            <p:nvPr/>
          </p:nvSpPr>
          <p:spPr>
            <a:xfrm>
              <a:off x="1165320" y="2717640"/>
              <a:ext cx="1038240" cy="144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7960" y="3835080"/>
              <a:ext cx="2552760" cy="180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07960" y="2717640"/>
              <a:ext cx="657360" cy="111744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3560" y="2717640"/>
              <a:ext cx="857160" cy="1117440"/>
            </a:xfrm>
            <a:prstGeom prst="line">
              <a:avLst/>
            </a:prstGeom>
            <a:ln w="3960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 flipV="1">
            <a:off x="2201760" y="2717280"/>
            <a:ext cx="858960" cy="1117800"/>
          </a:xfrm>
          <a:prstGeom prst="line">
            <a:avLst/>
          </a:prstGeom>
          <a:ln w="38160">
            <a:solidFill>
              <a:srgbClr val="01010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3860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移一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35280" y="3933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两条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48360" y="3933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延长两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0800000">
            <a:off x="468000" y="4652640"/>
            <a:ext cx="2087640" cy="129708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5120 h 1297080"/>
              <a:gd name="textAreaBottom" fmla="*/ 1011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653000"/>
            <a:ext cx="1584360" cy="12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0800000">
            <a:off x="4787640" y="4581000"/>
            <a:ext cx="2087640" cy="129708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285120 h 1297080"/>
              <a:gd name="textAreaBottom" fmla="*/ 10119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6021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移对角线和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932360" y="595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平移两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0800000">
            <a:off x="6876720" y="2924280"/>
            <a:ext cx="1942920" cy="1009440"/>
          </a:xfrm>
          <a:custGeom>
            <a:avLst/>
            <a:gdLst>
              <a:gd name="textAreaLeft" fmla="*/ 427320 w 1942920"/>
              <a:gd name="textAreaRight" fmla="*/ 1515600 w 1942920"/>
              <a:gd name="textAreaTop" fmla="*/ 221760 h 1009440"/>
              <a:gd name="textAreaBottom" fmla="*/ 78768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0637E-007 L -0.11806 -1.50637E-007 E">
                                      <p:cBhvr>
                                        <p:cTn id="24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5.34183E-006 L 0.05521 -0.14717 E">
                                      <p:cBhvr>
                                        <p:cTn id="256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6.37312E-007 L -0.04722 -0.13673 E">
                                      <p:cBhvr>
                                        <p:cTn id="25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8273E-006 L 0.11806 -2.28273E-006 E">
                                      <p:cBhvr>
                                        <p:cTn id="26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59907E-006 L 0.16944 0.18934 E">
                                      <p:cBhvr>
                                        <p:cTn id="266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0.06285 0 E">
                                      <p:cBhvr>
                                        <p:cTn id="27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 L -0.05903 0 E">
                                      <p:cBhvr>
                                        <p:cTn id="273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9280" y="1413000"/>
            <a:ext cx="101538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，梯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∥BC,AB=D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证明：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 ∠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9640" y="549360"/>
            <a:ext cx="493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请你试一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95280" y="5084640"/>
            <a:ext cx="8497800" cy="898200"/>
            <a:chOff x="395280" y="5084640"/>
            <a:chExt cx="8497800" cy="898200"/>
          </a:xfrm>
        </p:grpSpPr>
        <p:sp>
          <p:nvSpPr>
            <p:cNvPr id="328" name=""/>
            <p:cNvSpPr/>
            <p:nvPr/>
          </p:nvSpPr>
          <p:spPr>
            <a:xfrm>
              <a:off x="395280" y="5084640"/>
              <a:ext cx="158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梯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50920" y="5403600"/>
              <a:ext cx="792360" cy="289080"/>
            </a:xfrm>
            <a:prstGeom prst="rightArrow">
              <a:avLst>
                <a:gd name="adj1" fmla="val 50000"/>
                <a:gd name="adj2" fmla="val 68524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43280" y="5157720"/>
              <a:ext cx="6049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三角形、平行四边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995640" y="2565360"/>
            <a:ext cx="3816360" cy="193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427640" y="2421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164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2349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780000" y="40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12000" y="429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211280" y="2781360"/>
            <a:ext cx="647640" cy="1511280"/>
          </a:xfrm>
          <a:prstGeom prst="line">
            <a:avLst/>
          </a:prstGeom>
          <a:ln w="28440">
            <a:solidFill>
              <a:srgbClr val="1f497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7.40741E-007 L 0.21267 7.40741E-007 E">
                                      <p:cBhvr>
                                        <p:cTn id="283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2757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链接生活</a:t>
            </a: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村在两条平行道路之间有一块梯形土地（如图），现打算种植两种不同的蔬菜，为了灌溉和管理的方便，需要在两道路之间垂直地开挖一条水渠，使土地分成面积相等的两块，请你帮助该村设计一下这条水渠应该怎样开挖？并说明理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788000" y="4292640"/>
            <a:ext cx="2808360" cy="1441440"/>
            <a:chOff x="4788000" y="4292640"/>
            <a:chExt cx="2808360" cy="1441440"/>
          </a:xfrm>
        </p:grpSpPr>
        <p:sp>
          <p:nvSpPr>
            <p:cNvPr id="341" name=""/>
            <p:cNvSpPr/>
            <p:nvPr/>
          </p:nvSpPr>
          <p:spPr>
            <a:xfrm>
              <a:off x="5364360" y="4292640"/>
              <a:ext cx="216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219640" y="450864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04000" y="551664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88000" y="5734080"/>
              <a:ext cx="244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48360" y="4508640"/>
              <a:ext cx="93672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32720" y="4508640"/>
              <a:ext cx="28728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H="1">
            <a:off x="6084360" y="4508640"/>
            <a:ext cx="287640" cy="1008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227640" y="4508640"/>
            <a:ext cx="144360" cy="1008000"/>
            <a:chOff x="6227640" y="4508640"/>
            <a:chExt cx="144360" cy="1008000"/>
          </a:xfrm>
        </p:grpSpPr>
        <p:sp>
          <p:nvSpPr>
            <p:cNvPr id="349" name=""/>
            <p:cNvSpPr/>
            <p:nvPr/>
          </p:nvSpPr>
          <p:spPr>
            <a:xfrm>
              <a:off x="6227640" y="4508640"/>
              <a:ext cx="0" cy="10080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27640" y="5373720"/>
              <a:ext cx="14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000" y="5373720"/>
              <a:ext cx="0" cy="142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296720" y="549360"/>
            <a:ext cx="19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六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思与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55760" y="451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598120" y="1268280"/>
            <a:ext cx="47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今天学习了哪几种特殊的梯形？主要研究了哪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梯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05040" y="22050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腰梯形有哪些性质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90120" y="4581360"/>
            <a:ext cx="510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天我们在研究梯形问题时，可以用哪些方法将梯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题转化为平行四边形和三角形的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57400" y="170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（直角梯形和等腰梯形，主要研究了等腰梯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12960" y="291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16000" y="3716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３）等腰梯形为轴对称图形，对称轴是连接两底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点的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3141720"/>
            <a:ext cx="75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２）等腰梯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一底上</a:t>
            </a: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的两个内角相等，对角线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5373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平移腰、作高线、延长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26370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１）等腰梯形的一组对边平行，两腰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wind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1" descr=""/>
          <p:cNvPicPr/>
          <p:nvPr/>
        </p:nvPicPr>
        <p:blipFill>
          <a:blip r:embed="rId2"/>
          <a:stretch/>
        </p:blipFill>
        <p:spPr>
          <a:xfrm>
            <a:off x="2963880" y="2851200"/>
            <a:ext cx="3048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549360"/>
            <a:ext cx="2232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回顾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7002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平行四边形有什么特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2421000"/>
            <a:ext cx="259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角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角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称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242100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对边平行且相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3429000"/>
            <a:ext cx="56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对角相等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443700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两条对角线互相平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516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中心对称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9640" y="0"/>
            <a:ext cx="273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彩云"/>
              </a:rPr>
              <a:t>生活中的梯形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彩云"/>
              <a:ea typeface="华文彩云"/>
            </a:endParaRPr>
          </a:p>
        </p:txBody>
      </p:sp>
      <p:pic>
        <p:nvPicPr>
          <p:cNvPr id="135" name="文本占位符 2" descr=""/>
          <p:cNvPicPr/>
          <p:nvPr/>
        </p:nvPicPr>
        <p:blipFill>
          <a:blip r:embed="rId3"/>
          <a:stretch/>
        </p:blipFill>
        <p:spPr>
          <a:xfrm>
            <a:off x="1116000" y="1508040"/>
            <a:ext cx="3095640" cy="2063880"/>
          </a:xfrm>
          <a:prstGeom prst="rect">
            <a:avLst/>
          </a:prstGeom>
          <a:ln w="0">
            <a:noFill/>
          </a:ln>
        </p:spPr>
      </p:pic>
      <p:pic>
        <p:nvPicPr>
          <p:cNvPr id="136" name="文本占位符 2" descr=""/>
          <p:cNvPicPr/>
          <p:nvPr/>
        </p:nvPicPr>
        <p:blipFill>
          <a:blip r:embed="rId4"/>
          <a:stretch/>
        </p:blipFill>
        <p:spPr>
          <a:xfrm>
            <a:off x="1042920" y="3933720"/>
            <a:ext cx="3257640" cy="2135160"/>
          </a:xfrm>
          <a:prstGeom prst="rect">
            <a:avLst/>
          </a:prstGeom>
          <a:ln w="0">
            <a:noFill/>
          </a:ln>
        </p:spPr>
      </p:pic>
      <p:pic>
        <p:nvPicPr>
          <p:cNvPr id="137" name="文本占位符 2" descr=""/>
          <p:cNvPicPr/>
          <p:nvPr/>
        </p:nvPicPr>
        <p:blipFill>
          <a:blip r:embed="rId5"/>
          <a:stretch/>
        </p:blipFill>
        <p:spPr>
          <a:xfrm>
            <a:off x="4859280" y="4005360"/>
            <a:ext cx="3140280" cy="203832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31640" y="1628640"/>
            <a:ext cx="2663640" cy="360360"/>
            <a:chOff x="1331640" y="1628640"/>
            <a:chExt cx="2663640" cy="360360"/>
          </a:xfrm>
        </p:grpSpPr>
        <p:sp>
          <p:nvSpPr>
            <p:cNvPr id="139" name=""/>
            <p:cNvSpPr/>
            <p:nvPr/>
          </p:nvSpPr>
          <p:spPr>
            <a:xfrm flipH="1">
              <a:off x="1331640" y="1628640"/>
              <a:ext cx="93636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68360" y="1628640"/>
              <a:ext cx="647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16000" y="1628640"/>
              <a:ext cx="107928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331640" y="1989000"/>
              <a:ext cx="266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724360" y="4648320"/>
            <a:ext cx="1440000" cy="293400"/>
            <a:chOff x="5724360" y="4648320"/>
            <a:chExt cx="1440000" cy="293400"/>
          </a:xfrm>
        </p:grpSpPr>
        <p:sp>
          <p:nvSpPr>
            <p:cNvPr id="144" name=""/>
            <p:cNvSpPr/>
            <p:nvPr/>
          </p:nvSpPr>
          <p:spPr>
            <a:xfrm>
              <a:off x="5895720" y="4652640"/>
              <a:ext cx="1086120" cy="1440"/>
            </a:xfrm>
            <a:custGeom>
              <a:avLst/>
              <a:gdLst/>
              <a:ahLst/>
              <a:rect l="l" t="t" r="r" b="b"/>
              <a:pathLst>
                <a:path w="684" h="1">
                  <a:moveTo>
                    <a:pt x="0" y="0"/>
                  </a:moveTo>
                  <a:lnTo>
                    <a:pt x="68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24360" y="4652640"/>
              <a:ext cx="171360" cy="288720"/>
            </a:xfrm>
            <a:custGeom>
              <a:avLst/>
              <a:gdLst/>
              <a:ahLst/>
              <a:rect l="l" t="t" r="r" b="b"/>
              <a:pathLst>
                <a:path w="108" h="182">
                  <a:moveTo>
                    <a:pt x="108" y="0"/>
                  </a:moveTo>
                  <a:lnTo>
                    <a:pt x="0" y="18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86520" y="4648320"/>
              <a:ext cx="177840" cy="293400"/>
            </a:xfrm>
            <a:custGeom>
              <a:avLst/>
              <a:gdLst/>
              <a:ahLst/>
              <a:rect l="l" t="t" r="r" b="b"/>
              <a:pathLst>
                <a:path w="112" h="185">
                  <a:moveTo>
                    <a:pt x="0" y="0"/>
                  </a:moveTo>
                  <a:lnTo>
                    <a:pt x="112" y="185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941720"/>
              <a:ext cx="1440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114640" y="3957480"/>
            <a:ext cx="1181160" cy="1128600"/>
            <a:chOff x="2114640" y="3957480"/>
            <a:chExt cx="1181160" cy="1128600"/>
          </a:xfrm>
        </p:grpSpPr>
        <p:sp>
          <p:nvSpPr>
            <p:cNvPr id="149" name=""/>
            <p:cNvSpPr/>
            <p:nvPr/>
          </p:nvSpPr>
          <p:spPr>
            <a:xfrm>
              <a:off x="2114640" y="3957480"/>
              <a:ext cx="257040" cy="1119240"/>
            </a:xfrm>
            <a:custGeom>
              <a:avLst/>
              <a:gdLst/>
              <a:ahLst/>
              <a:rect l="l" t="t" r="r" b="b"/>
              <a:pathLst>
                <a:path w="162" h="705">
                  <a:moveTo>
                    <a:pt x="0" y="0"/>
                  </a:moveTo>
                  <a:lnTo>
                    <a:pt x="162" y="705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60720" y="3957480"/>
              <a:ext cx="235080" cy="1127160"/>
            </a:xfrm>
            <a:custGeom>
              <a:avLst/>
              <a:gdLst/>
              <a:ahLst/>
              <a:rect l="l" t="t" r="r" b="b"/>
              <a:pathLst>
                <a:path w="148" h="710">
                  <a:moveTo>
                    <a:pt x="148" y="0"/>
                  </a:moveTo>
                  <a:lnTo>
                    <a:pt x="0" y="710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22560" y="3960720"/>
              <a:ext cx="1173240" cy="1440"/>
            </a:xfrm>
            <a:custGeom>
              <a:avLst/>
              <a:gdLst/>
              <a:ahLst/>
              <a:rect l="l" t="t" r="r" b="b"/>
              <a:pathLst>
                <a:path w="739" h="1">
                  <a:moveTo>
                    <a:pt x="0" y="0"/>
                  </a:moveTo>
                  <a:lnTo>
                    <a:pt x="739" y="1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71680" y="5084640"/>
              <a:ext cx="687600" cy="1440"/>
            </a:xfrm>
            <a:custGeom>
              <a:avLst/>
              <a:gdLst/>
              <a:ahLst/>
              <a:rect l="l" t="t" r="r" b="b"/>
              <a:pathLst>
                <a:path w="433" h="1">
                  <a:moveTo>
                    <a:pt x="0" y="0"/>
                  </a:moveTo>
                  <a:lnTo>
                    <a:pt x="433" y="1"/>
                  </a:lnTo>
                </a:path>
              </a:pathLst>
            </a:cu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5219640" y="141300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rot="10800000">
            <a:off x="6443280" y="2492280"/>
            <a:ext cx="289080" cy="720720"/>
          </a:xfrm>
          <a:custGeom>
            <a:avLst/>
            <a:gdLst>
              <a:gd name="textAreaLeft" fmla="*/ 63360 w 289080"/>
              <a:gd name="textAreaRight" fmla="*/ 225720 w 289080"/>
              <a:gd name="textAreaTop" fmla="*/ 158400 h 720720"/>
              <a:gd name="textAreaBottom" fmla="*/ 5623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50560" y="2852640"/>
            <a:ext cx="2521080" cy="1368360"/>
            <a:chOff x="250560" y="2852640"/>
            <a:chExt cx="2521080" cy="1368360"/>
          </a:xfrm>
        </p:grpSpPr>
        <p:sp>
          <p:nvSpPr>
            <p:cNvPr id="156" name=""/>
            <p:cNvSpPr/>
            <p:nvPr/>
          </p:nvSpPr>
          <p:spPr>
            <a:xfrm>
              <a:off x="900000" y="2852640"/>
              <a:ext cx="158364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0920" y="4221000"/>
              <a:ext cx="25207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50560" y="2852640"/>
              <a:ext cx="649080" cy="13683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84000" y="2852640"/>
              <a:ext cx="287280" cy="136836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00000" y="2852640"/>
            <a:ext cx="151308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4219560"/>
            <a:ext cx="2520720" cy="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2852640"/>
            <a:ext cx="287280" cy="13669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6880" y="2815920"/>
            <a:ext cx="704160" cy="1438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41920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4148280"/>
            <a:ext cx="5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有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组对边平行的四边形叫做梯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0920" y="260280"/>
            <a:ext cx="22860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037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概念归纳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1826280" y="2419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9920" y="414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1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27280" y="32846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692360" y="2852640"/>
            <a:ext cx="488880" cy="1432440"/>
            <a:chOff x="1692360" y="2852640"/>
            <a:chExt cx="488880" cy="1432440"/>
          </a:xfrm>
        </p:grpSpPr>
        <p:sp>
          <p:nvSpPr>
            <p:cNvPr id="174" name=""/>
            <p:cNvSpPr/>
            <p:nvPr/>
          </p:nvSpPr>
          <p:spPr>
            <a:xfrm>
              <a:off x="1768680" y="2852640"/>
              <a:ext cx="0" cy="1317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92360" y="382536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897920" y="3355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84960" y="227664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）平行的两边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梯形的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80680" y="2852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较短的底叫做上底，较长的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叫做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3789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２）不平行的两边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梯形的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479736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３）夹在两底之间的垂线段叫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梯形的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93800" y="905040"/>
            <a:ext cx="28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２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列图形中，哪些是梯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67652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447920"/>
            <a:ext cx="1214280" cy="914400"/>
          </a:xfrm>
          <a:prstGeom prst="parallelogram">
            <a:avLst>
              <a:gd name="adj" fmla="val 3319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5238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47920" y="2971800"/>
            <a:ext cx="1447560" cy="990720"/>
            <a:chOff x="1447920" y="2971800"/>
            <a:chExt cx="1447560" cy="990720"/>
          </a:xfrm>
        </p:grpSpPr>
        <p:sp>
          <p:nvSpPr>
            <p:cNvPr id="186" name=""/>
            <p:cNvSpPr/>
            <p:nvPr/>
          </p:nvSpPr>
          <p:spPr>
            <a:xfrm>
              <a:off x="1447920" y="297180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920" y="2971800"/>
              <a:ext cx="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920" y="396252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1960" y="2971800"/>
              <a:ext cx="53316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708360" y="3068640"/>
            <a:ext cx="1752480" cy="83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02904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72440" y="3429000"/>
            <a:ext cx="7596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4191120"/>
            <a:ext cx="1371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9960" y="2438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2421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76440" y="3048120"/>
            <a:ext cx="6858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65840" y="261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03600" y="40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6840" y="403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93320" y="4363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8056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4160" y="508464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）如图Ｂ那样，两腰相等的梯形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腰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558972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）如图Ｄ那样，一条腰和底垂直的梯形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直角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15238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236232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4480" y="1523880"/>
            <a:ext cx="152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15238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20560" y="3586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2421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271560" y="249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6120" y="407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362320"/>
            <a:ext cx="2361960" cy="1447560"/>
          </a:xfrm>
          <a:custGeom>
            <a:avLst/>
            <a:gdLst/>
            <a:ahLst/>
            <a:rect l="l" t="t" r="r" b="b"/>
            <a:pathLst>
              <a:path w="1488" h="768">
                <a:moveTo>
                  <a:pt x="624" y="0"/>
                </a:moveTo>
                <a:lnTo>
                  <a:pt x="1248" y="0"/>
                </a:lnTo>
                <a:lnTo>
                  <a:pt x="1488" y="768"/>
                </a:lnTo>
                <a:lnTo>
                  <a:pt x="0" y="768"/>
                </a:lnTo>
                <a:lnTo>
                  <a:pt x="624" y="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21000000">
            <a:off x="3047760" y="1875960"/>
            <a:ext cx="2438280" cy="486000"/>
          </a:xfrm>
          <a:prstGeom prst="rightArrow">
            <a:avLst>
              <a:gd name="adj1" fmla="val 26148"/>
              <a:gd name="adj2" fmla="val 5486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600000">
            <a:off x="3048120" y="3892320"/>
            <a:ext cx="2819160" cy="485640"/>
          </a:xfrm>
          <a:prstGeom prst="rightArrow">
            <a:avLst>
              <a:gd name="adj1" fmla="val 26148"/>
              <a:gd name="adj2" fmla="val 6347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81952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1000000">
            <a:off x="2973240" y="1547640"/>
            <a:ext cx="24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两条腰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600000">
            <a:off x="4051080" y="3519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条腰和底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335920" y="457200"/>
            <a:ext cx="3042720" cy="2379960"/>
            <a:chOff x="5335920" y="457200"/>
            <a:chExt cx="3042720" cy="2379960"/>
          </a:xfrm>
        </p:grpSpPr>
        <p:sp>
          <p:nvSpPr>
            <p:cNvPr id="219" name=""/>
            <p:cNvSpPr/>
            <p:nvPr/>
          </p:nvSpPr>
          <p:spPr>
            <a:xfrm flipV="1">
              <a:off x="5639040" y="960120"/>
              <a:ext cx="2439720" cy="1371600"/>
            </a:xfrm>
            <a:prstGeom prst="flowChartManualOperation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772240" y="457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920" y="2255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26480" y="2255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2960" y="457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033960" y="140184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等腰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106960" y="3489480"/>
            <a:ext cx="3130200" cy="2151000"/>
            <a:chOff x="5106960" y="3489480"/>
            <a:chExt cx="3130200" cy="2151000"/>
          </a:xfrm>
        </p:grpSpPr>
        <p:sp>
          <p:nvSpPr>
            <p:cNvPr id="226" name=""/>
            <p:cNvSpPr/>
            <p:nvPr/>
          </p:nvSpPr>
          <p:spPr>
            <a:xfrm>
              <a:off x="5486040" y="3916080"/>
              <a:ext cx="2349360" cy="1295280"/>
            </a:xfrm>
            <a:custGeom>
              <a:avLst/>
              <a:gdLst/>
              <a:ahLst/>
              <a:rect l="l" t="t" r="r" b="b"/>
              <a:pathLst>
                <a:path w="1200" h="816">
                  <a:moveTo>
                    <a:pt x="0" y="816"/>
                  </a:moveTo>
                  <a:lnTo>
                    <a:pt x="1200" y="816"/>
                  </a:lnTo>
                  <a:lnTo>
                    <a:pt x="1200" y="0"/>
                  </a:lnTo>
                  <a:lnTo>
                    <a:pt x="576" y="0"/>
                  </a:lnTo>
                  <a:lnTo>
                    <a:pt x="0" y="816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87600" y="3535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762320" y="34894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73480" y="49831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06960" y="50590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619760" y="4983120"/>
              <a:ext cx="2282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9760" y="4983120"/>
              <a:ext cx="0" cy="2282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172200" y="43117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直角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16000" y="1214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能发现等腰梯形有什么特征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989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腰梯形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特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2133720"/>
            <a:ext cx="5867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角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25680" y="2900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对称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7800" y="3686040"/>
            <a:ext cx="49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底边平行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腰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76360" y="44226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同一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的两个内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32000" y="514188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腰梯形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条对角线相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83280" y="1773360"/>
            <a:ext cx="3745080" cy="1888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V="1">
            <a:off x="6434280" y="2222640"/>
            <a:ext cx="11509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6803640" y="2274480"/>
            <a:ext cx="11113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5120" y="55548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79480" y="498600"/>
            <a:ext cx="722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请你折一折、量一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916280"/>
            <a:ext cx="0" cy="151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588000" y="2781360"/>
            <a:ext cx="3745080" cy="1888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981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梯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同一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个内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573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梯形的两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659640" y="1268280"/>
            <a:ext cx="3744720" cy="1889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68360" y="2276640"/>
            <a:ext cx="66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∥BC, AB=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∠D, ∠B=∠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9000" y="3230640"/>
            <a:ext cx="11509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8360" y="1628640"/>
            <a:ext cx="2015640" cy="591840"/>
            <a:chOff x="468360" y="1628640"/>
            <a:chExt cx="2015640" cy="591840"/>
          </a:xfrm>
        </p:grpSpPr>
        <p:grpSp>
          <p:nvGrpSpPr>
            <p:cNvPr id="254" name=""/>
            <p:cNvGrpSpPr/>
            <p:nvPr/>
          </p:nvGrpSpPr>
          <p:grpSpPr>
            <a:xfrm>
              <a:off x="468360" y="1640880"/>
              <a:ext cx="2005200" cy="579600"/>
              <a:chOff x="468360" y="1640880"/>
              <a:chExt cx="2005200" cy="579600"/>
            </a:xfrm>
          </p:grpSpPr>
          <p:sp>
            <p:nvSpPr>
              <p:cNvPr id="255" name=""/>
              <p:cNvSpPr/>
              <p:nvPr/>
            </p:nvSpPr>
            <p:spPr>
              <a:xfrm>
                <a:off x="468360" y="1640880"/>
                <a:ext cx="2005200" cy="542160"/>
              </a:xfrm>
              <a:prstGeom prst="roundRect">
                <a:avLst>
                  <a:gd name="adj" fmla="val 16667"/>
                </a:avLst>
              </a:prstGeom>
              <a:solidFill>
                <a:srgbClr val="a1f6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7960" y="1640880"/>
                <a:ext cx="16257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68360" y="162864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符号语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39640" y="486900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梯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∥BC, AB=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=B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8360" y="4221000"/>
            <a:ext cx="2231640" cy="592200"/>
            <a:chOff x="468360" y="4221000"/>
            <a:chExt cx="2231640" cy="592200"/>
          </a:xfrm>
        </p:grpSpPr>
        <p:grpSp>
          <p:nvGrpSpPr>
            <p:cNvPr id="260" name=""/>
            <p:cNvGrpSpPr/>
            <p:nvPr/>
          </p:nvGrpSpPr>
          <p:grpSpPr>
            <a:xfrm>
              <a:off x="468360" y="4233600"/>
              <a:ext cx="2231640" cy="579600"/>
              <a:chOff x="468360" y="4233600"/>
              <a:chExt cx="2231640" cy="579600"/>
            </a:xfrm>
          </p:grpSpPr>
          <p:sp>
            <p:nvSpPr>
              <p:cNvPr id="261" name=""/>
              <p:cNvSpPr/>
              <p:nvPr/>
            </p:nvSpPr>
            <p:spPr>
              <a:xfrm>
                <a:off x="468360" y="4233600"/>
                <a:ext cx="2231640" cy="557640"/>
              </a:xfrm>
              <a:prstGeom prst="roundRect">
                <a:avLst>
                  <a:gd name="adj" fmla="val 16667"/>
                </a:avLst>
              </a:prstGeom>
              <a:solidFill>
                <a:srgbClr val="a1f6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2360" y="4233600"/>
                <a:ext cx="180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68360" y="4221000"/>
              <a:ext cx="195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符号语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 flipV="1">
            <a:off x="7308360" y="3282480"/>
            <a:ext cx="1111320" cy="647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50920" y="2133720"/>
            <a:ext cx="90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对于等腰梯形，下列结论错误的是（  　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有一组相等的对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有一对相等的内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有一条对称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两条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21016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907920"/>
            <a:ext cx="66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请你选一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6080" y="3808080"/>
            <a:ext cx="88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、有两个角相等的梯形是（　　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等腰梯形　　　　　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直角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等腰梯形或直角梯形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般梯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3733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2:08:00Z</dcterms:created>
  <dc:creator>Joyie chen</dc:creator>
  <dc:description/>
  <dc:language>en-US</dc:language>
  <cp:lastModifiedBy>Joyie chen</cp:lastModifiedBy>
  <dcterms:modified xsi:type="dcterms:W3CDTF">2015-09-17T10:30:1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