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5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FFD-41F1-4209-8845-9A326834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978-849D-4BD5-B375-F196339B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9E0-328E-4ACF-AC2D-000E0A07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B48F-B047-4765-9F76-58640808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570-B9FE-4AFE-A7DC-2256ACA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C5A-9E65-486E-8FE0-804DC1E4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8FF-B2C8-4AC7-9D6A-138D0DCF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E8E-B403-4D96-ADC0-06678F8B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A5F-B575-4097-9B95-A801912D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31AD-102E-4A45-AAB0-83EAE604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CF6-A73D-4AD2-B20D-376A708A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295-BDE5-4604-8FA9-A4402E9E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396" t="2451" r="3905" b="2475"/>
          <a:stretch/>
        </p:blipFill>
        <p:spPr>
          <a:xfrm>
            <a:off x="0" y="343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AA9F-9786-4AAC-90F0-AA8CDE3A95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643800"/>
            <a:ext cx="914400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5" descr="框"/>
          <p:cNvPicPr/>
          <p:nvPr/>
        </p:nvPicPr>
        <p:blipFill>
          <a:blip r:embed="rId1"/>
          <a:stretch/>
        </p:blipFill>
        <p:spPr>
          <a:xfrm>
            <a:off x="2163600" y="1284120"/>
            <a:ext cx="5565960" cy="132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200" y="2532240"/>
            <a:ext cx="3144960" cy="29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33480" y="1951200"/>
            <a:ext cx="64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课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5880" y="133992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14.1.4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式的乘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670200" y="3073320"/>
            <a:ext cx="2581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41320" y="1989000"/>
            <a:ext cx="72216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x+2)(x+3)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 5x+6;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x-4)(x+1)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–3x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y+4)(y-2)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+2y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y-5)(y-3)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8y+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8480" y="4413240"/>
            <a:ext cx="74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观察上述式子，你可以 得出一个什么规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1080" y="5033880"/>
            <a:ext cx="60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x+p)(x+q) = x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+ (p+q) x + p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47800" y="1265400"/>
            <a:ext cx="193824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2960" y="47023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  m =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68760" y="4702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 m = 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2960" y="53690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 p =12, m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8520" y="5369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4) p= 6, m= 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24560" y="1387440"/>
            <a:ext cx="299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利用下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x+p)(x+q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+(p+q) x+p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注意符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320" y="936720"/>
            <a:ext cx="49024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试一试：确定下列各式中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值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口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1)  (x+4)(x+9) =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+ m x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2)  (x-2)(x-18) =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+ m x +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3)  (x+3)(x+p) =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 m x +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4)  (x-6) (x-p) = x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+ m x +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3240" y="3740040"/>
            <a:ext cx="74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(a+ b) (m +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m+ bm+ an+ 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4320" y="41958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(a+ b+c) (m +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am+an+bm+bn+cm+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41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多项式与多项式相乘，先用一个多项式的每一项乘另一个多项式的每一项，再把所得的积相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3640" y="1677960"/>
            <a:ext cx="6264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项式与多项式相乘的法则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016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(x+p)(x+q) 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 (p+q) x + p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62040" y="1676160"/>
            <a:ext cx="822960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上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计算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x+1)(x-1) =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+1)(x-1)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040" y="3443400"/>
            <a:ext cx="74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衡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中考）若        与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和是单项式，则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= 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22000" y="4599000"/>
            <a:ext cx="587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者是同类项，所以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+5=3,n=2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=-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=2,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4920" y="5888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89480" y="3546360"/>
          <a:ext cx="126036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9480" y="3546360"/>
                    <a:ext cx="1260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145120" y="3498840"/>
          <a:ext cx="63180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5120" y="3498840"/>
                    <a:ext cx="6318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725480" y="4051440"/>
          <a:ext cx="47628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25480" y="4051440"/>
                    <a:ext cx="476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2130480" y="5284800"/>
          <a:ext cx="838080" cy="41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0480" y="5284800"/>
                    <a:ext cx="8380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78120" y="5130720"/>
                <a:ext cx="14256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9" name=""/>
          <p:cNvGraphicFramePr/>
          <p:nvPr/>
        </p:nvGraphicFramePr>
        <p:xfrm>
          <a:off x="1623960" y="5856120"/>
          <a:ext cx="397080" cy="61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23960" y="5856120"/>
                    <a:ext cx="397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11"/>
          <a:stretch/>
        </p:blipFill>
        <p:spPr>
          <a:xfrm>
            <a:off x="2717640" y="843120"/>
            <a:ext cx="3400560" cy="76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635280" y="1808280"/>
                <a:ext cx="1265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771480" y="16477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益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中考）若         且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-n=3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m+n=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04120" y="31082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597120" y="3100320"/>
                <a:ext cx="1828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20960" y="3071880"/>
                <a:ext cx="16668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68760" y="3083040"/>
                <a:ext cx="1676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8" name=""/>
          <p:cNvGraphicFramePr/>
          <p:nvPr/>
        </p:nvGraphicFramePr>
        <p:xfrm>
          <a:off x="876240" y="3780000"/>
          <a:ext cx="1932120" cy="3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3780000"/>
                    <a:ext cx="193212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766800" y="4390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5068800" y="1990800"/>
          <a:ext cx="119088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1990800"/>
                    <a:ext cx="11908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35000" y="2522520"/>
                <a:ext cx="1497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8160" y="2522520"/>
                <a:ext cx="2057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590400" y="189072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泰州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观察等式：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4280" y="247176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15480" y="24606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，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5440" y="2968560"/>
            <a:ext cx="678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按照这种规律写出第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个等式：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n+1)</a:t>
            </a:r>
            <a:r>
              <a:rPr b="1" lang="pt-BR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6880" y="3678120"/>
            <a:ext cx="5395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=(2n+1+1)(2n+1-1)=4n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80" y="433692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答案</a:t>
            </a:r>
            <a:r>
              <a:rPr b="1" lang="pt-BR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33680" y="433224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n(n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49360" y="823680"/>
            <a:ext cx="707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嘉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考）计算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(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b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ab+ac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b= ac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9880" y="2003400"/>
            <a:ext cx="60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解方程与不等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x-3)(x-2)+18 = (x+9)(x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2)(3x+4)(3x-4)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9(x-2)(x+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120" y="3743280"/>
            <a:ext cx="790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楷体_GB2312"/>
              </a:rPr>
              <a:t>【解析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-3x+6+18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+9x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x=15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所以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 1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9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2x+12x-16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(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3x-2x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理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＞         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90760" y="5445000"/>
          <a:ext cx="36180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0760" y="5445000"/>
                    <a:ext cx="361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15960" y="2403360"/>
            <a:ext cx="628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时的学习，需要我们掌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3360" y="318924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多项式与多项式相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先用一个多项式的每一项乘另一个多项式的每一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再把所得的积相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运用多项式与多项式相乘的法则进行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74880" y="1430280"/>
            <a:ext cx="3438720" cy="83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5920" y="5580000"/>
            <a:ext cx="8242200" cy="97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71480" y="2016000"/>
            <a:ext cx="7724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探索并了解多项式与多项式相乘的法则，并运用它们进行运算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让学生主动参与到探索过程中去，逐步形成独立思考、主动探索的习惯，培养思维的批判性、严密性和初步解决问题的能力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08160" y="1154160"/>
            <a:ext cx="3178080" cy="71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903320" y="2433600"/>
                <a:ext cx="21114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3" name=""/>
          <p:cNvGraphicFramePr/>
          <p:nvPr/>
        </p:nvGraphicFramePr>
        <p:xfrm>
          <a:off x="1409760" y="4578480"/>
          <a:ext cx="484164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4578480"/>
                    <a:ext cx="48416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959120" y="3098880"/>
                <a:ext cx="17715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789200" y="5245200"/>
                <a:ext cx="12128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533520" y="1868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计算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单项式乘以单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656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单项式乘以多项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48080" y="851040"/>
            <a:ext cx="3108240" cy="69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0" b="14346"/>
          <a:stretch/>
        </p:blipFill>
        <p:spPr>
          <a:xfrm>
            <a:off x="6962760" y="1077840"/>
            <a:ext cx="1746360" cy="1811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560" y="24289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问题：如图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了扩大街心花园的绿地面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一块原长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宽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的长方形绿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增长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加宽了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你能用几种方法求出扩大后的绿地的面积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00440" y="1155600"/>
            <a:ext cx="33782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1360" y="18320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扩大后的绿地可以看成长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+b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宽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m+n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的长方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所以这块绿地的面积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+b)(m+n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1360" y="28670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扩大后的绿地还可以看成由四个小长方形组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所以这块绿地的面积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m+an+bm+bn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1360" y="4064040"/>
            <a:ext cx="65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因此，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(a+b)(m+n) =(am+an+bm+b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439200" y="857520"/>
            <a:ext cx="8104680" cy="3612960"/>
            <a:chOff x="439200" y="857520"/>
            <a:chExt cx="8104680" cy="3612960"/>
          </a:xfrm>
        </p:grpSpPr>
        <p:sp>
          <p:nvSpPr>
            <p:cNvPr id="67" name=""/>
            <p:cNvSpPr/>
            <p:nvPr/>
          </p:nvSpPr>
          <p:spPr>
            <a:xfrm>
              <a:off x="771480" y="2305080"/>
              <a:ext cx="777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(a+b)( m+n)=am+an+bm+b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39200" y="857520"/>
              <a:ext cx="3153240" cy="3612960"/>
              <a:chOff x="439200" y="857520"/>
              <a:chExt cx="3153240" cy="3612960"/>
            </a:xfrm>
          </p:grpSpPr>
          <p:sp>
            <p:nvSpPr>
              <p:cNvPr id="69" name=""/>
              <p:cNvSpPr/>
              <p:nvPr/>
            </p:nvSpPr>
            <p:spPr>
              <a:xfrm rot="19066800">
                <a:off x="816120" y="2265120"/>
                <a:ext cx="182808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7926800">
                <a:off x="940680" y="1877760"/>
                <a:ext cx="2132640" cy="211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78631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7863125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8485200">
                <a:off x="1393200" y="1415880"/>
                <a:ext cx="1828800" cy="182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573" y="232"/>
                    </a:moveTo>
                    <a:arcTo wR="10800" hR="10800" stAng="-6114065" swAng="6157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573" y="232"/>
                    </a:moveTo>
                    <a:arcTo wR="10800" hR="10800" stAng="-6114065" swAng="6157310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9064800">
                <a:off x="1118880" y="1185840"/>
                <a:ext cx="1829520" cy="18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34383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3438308"/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868320" y="5302080"/>
            <a:ext cx="6918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a+ b+c) (m +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am+an+bm+bn+cm+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5120" y="3251160"/>
            <a:ext cx="743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多项式与多项式相乘的法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多项式与多项式相乘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先用一个多项式的每一项乘另一个多项式的每一项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再把所得的积相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1073160"/>
            <a:ext cx="1024200" cy="49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76440" y="1359000"/>
            <a:ext cx="784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计算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(1)(3x+1)(x-2);                               (2)(x-8y)(x-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6920" y="2951280"/>
            <a:ext cx="5383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(3x+1)(x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3x)•x+(3x)•(-2)+1•x+1×(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3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6x+x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5x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8320" y="295128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8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y-8xy+8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9xy +8y</a:t>
            </a:r>
            <a:r>
              <a:rPr b="1" lang="en-US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27440" y="4460760"/>
            <a:ext cx="3962520" cy="1770120"/>
          </a:xfrm>
          <a:prstGeom prst="wedgeEllipseCallout">
            <a:avLst>
              <a:gd name="adj1" fmla="val -59055"/>
              <a:gd name="adj2" fmla="val -91791"/>
            </a:avLst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21360" y="4570560"/>
            <a:ext cx="33526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注意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要漏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注意符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果化为最简形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26670" r="0" b="0"/>
          <a:stretch/>
        </p:blipFill>
        <p:spPr>
          <a:xfrm>
            <a:off x="674640" y="696960"/>
            <a:ext cx="22431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20800" y="173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3) (x+y)(2x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–y)(3x+2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0800" y="118584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1) (x+y)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(2) (x+y)(x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y+y</a:t>
            </a:r>
            <a:r>
              <a:rPr b="1" lang="en-US" sz="2400" spc="-1" strike="noStrike" baseline="30000">
                <a:solidFill>
                  <a:srgbClr val="0000ff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00" y="701640"/>
            <a:ext cx="23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【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】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9240" y="4282920"/>
            <a:ext cx="66895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xy+2xy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3x+2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(2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y-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(3x+2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4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+3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+2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6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7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-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8480" y="2219400"/>
            <a:ext cx="65530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【解析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 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(x+y)(x+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y+xy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y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8600" y="3751200"/>
            <a:ext cx="5181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原式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+x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01280" y="1267920"/>
            <a:ext cx="759924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1)   (2x+1)(x+3);      (2)  (m+2n)(m+ 3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3)  ( a - 1)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；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4)  (a+3b)(a –3b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5)  (x+2)(x+3);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6)  (x-4)(x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7)  (y+4)(y-2);          (8)  (y-5)(y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1640" y="4121280"/>
            <a:ext cx="7434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1)  2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7x+3;     (2)  m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5mn+6n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  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a+1;      (4)  a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9b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5) 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5x+6;      (6)  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x-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7)  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y-8;      (8)  y</a:t>
            </a:r>
            <a:r>
              <a:rPr b="1" lang="zh-CN" sz="24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8y+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31319" r="0" b="0"/>
          <a:stretch/>
        </p:blipFill>
        <p:spPr>
          <a:xfrm>
            <a:off x="3298680" y="757080"/>
            <a:ext cx="2237040" cy="5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4T14:37:03Z</dcterms:created>
  <dc:creator>孔隆教育  http://mykonglong.taobao.com</dc:creator>
  <dc:description/>
  <dc:language>en-US</dc:language>
  <cp:lastModifiedBy>MKL</cp:lastModifiedBy>
  <dcterms:modified xsi:type="dcterms:W3CDTF">2014-07-13T05:23:21Z</dcterms:modified>
  <cp:revision>9</cp:revision>
  <dc:subject/>
  <dc:title>幻灯片 1</dc:title>
</cp:coreProperties>
</file>