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8.png" ContentType="image/png"/>
  <Override PartName="/ppt/media/image5.gif" ContentType="image/gif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3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B89-0A71-4445-84F8-6759231D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2B1-BE07-4A00-889E-9CC0A159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1A2-A2FD-490F-A3C2-209D247E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E72-A973-4EC9-A52F-F3435ADB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B61-3511-49FD-BC91-22244E8C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23E-ABA6-4319-AFCA-0BDA9426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19D-8174-4070-9A86-55328838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2993-F1B9-4CF5-863D-533F5863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1B2-4C90-4456-8AF3-4CE263BE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E38-F72C-455A-A934-0B169A63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2CB-5A0C-4083-9B4D-965DD355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C50-1868-4498-99A4-935491EA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396" t="2451" r="3905" b="2475"/>
          <a:stretch/>
        </p:blipFill>
        <p:spPr>
          <a:xfrm>
            <a:off x="0" y="343080"/>
            <a:ext cx="9144000" cy="651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20DF-0084-46D4-9ECB-2D664C87A8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6643800"/>
            <a:ext cx="9144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" descr="框"/>
          <p:cNvPicPr/>
          <p:nvPr/>
        </p:nvPicPr>
        <p:blipFill>
          <a:blip r:embed="rId1"/>
          <a:stretch/>
        </p:blipFill>
        <p:spPr>
          <a:xfrm>
            <a:off x="2163600" y="1284120"/>
            <a:ext cx="5565960" cy="132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5800" y="3255840"/>
            <a:ext cx="3144960" cy="298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33480" y="1951200"/>
            <a:ext cx="64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85880" y="133992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4.2.2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完全平方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2320" y="3549600"/>
            <a:ext cx="2171520" cy="2277360"/>
            <a:chOff x="3802320" y="3549600"/>
            <a:chExt cx="2171520" cy="2277360"/>
          </a:xfrm>
        </p:grpSpPr>
        <p:grpSp>
          <p:nvGrpSpPr>
            <p:cNvPr id="49" name=""/>
            <p:cNvGrpSpPr/>
            <p:nvPr/>
          </p:nvGrpSpPr>
          <p:grpSpPr>
            <a:xfrm>
              <a:off x="4169880" y="3549600"/>
              <a:ext cx="1803600" cy="1780560"/>
              <a:chOff x="4169880" y="3549600"/>
              <a:chExt cx="1803600" cy="1780560"/>
            </a:xfrm>
          </p:grpSpPr>
          <p:sp>
            <p:nvSpPr>
              <p:cNvPr id="50" name=""/>
              <p:cNvSpPr/>
              <p:nvPr/>
            </p:nvSpPr>
            <p:spPr>
              <a:xfrm>
                <a:off x="4169880" y="3549600"/>
                <a:ext cx="1803600" cy="178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852440" y="4243320"/>
                <a:ext cx="438480" cy="4572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974760" y="3549600"/>
              <a:ext cx="1998720" cy="1972800"/>
              <a:chOff x="3974760" y="3549600"/>
              <a:chExt cx="1998720" cy="1972800"/>
            </a:xfrm>
          </p:grpSpPr>
          <p:sp>
            <p:nvSpPr>
              <p:cNvPr id="53" name=""/>
              <p:cNvSpPr/>
              <p:nvPr/>
            </p:nvSpPr>
            <p:spPr>
              <a:xfrm flipH="1">
                <a:off x="3974760" y="5329800"/>
                <a:ext cx="1947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3974760" y="3549600"/>
                <a:ext cx="1998720" cy="1972800"/>
                <a:chOff x="3974760" y="3549600"/>
                <a:chExt cx="1998720" cy="1972800"/>
              </a:xfrm>
            </p:grpSpPr>
            <p:sp>
              <p:nvSpPr>
                <p:cNvPr id="55" name=""/>
                <p:cNvSpPr/>
                <p:nvPr/>
              </p:nvSpPr>
              <p:spPr>
                <a:xfrm flipH="1">
                  <a:off x="3974760" y="4271400"/>
                  <a:ext cx="19476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>
                  <a:off x="4169880" y="5522400"/>
                  <a:ext cx="3412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V="1">
                  <a:off x="3975120" y="3549600"/>
                  <a:ext cx="0" cy="240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975120" y="4030560"/>
                  <a:ext cx="0" cy="2404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H="1">
                  <a:off x="3974760" y="3549600"/>
                  <a:ext cx="19476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169880" y="5329800"/>
                  <a:ext cx="0" cy="1922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5242320" y="5329800"/>
                  <a:ext cx="0" cy="1922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973480" y="5329800"/>
                  <a:ext cx="0" cy="1922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V="1">
                  <a:off x="3975120" y="4271040"/>
                  <a:ext cx="0" cy="3366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975120" y="4992480"/>
                  <a:ext cx="0" cy="3366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901040" y="5522400"/>
                  <a:ext cx="34128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729760" y="5522400"/>
                  <a:ext cx="24336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flipH="1">
                  <a:off x="5242320" y="5522400"/>
                  <a:ext cx="243360" cy="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" name=""/>
            <p:cNvGrpSpPr/>
            <p:nvPr/>
          </p:nvGrpSpPr>
          <p:grpSpPr>
            <a:xfrm>
              <a:off x="3802320" y="3753000"/>
              <a:ext cx="1980720" cy="2073960"/>
              <a:chOff x="3802320" y="3753000"/>
              <a:chExt cx="1980720" cy="2073960"/>
            </a:xfrm>
          </p:grpSpPr>
          <p:sp>
            <p:nvSpPr>
              <p:cNvPr id="69" name=""/>
              <p:cNvSpPr/>
              <p:nvPr/>
            </p:nvSpPr>
            <p:spPr>
              <a:xfrm>
                <a:off x="3802320" y="375300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414760" y="536724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547520" y="53654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12040" y="464112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4657680" y="4222080"/>
              <a:ext cx="828360" cy="825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宋体"/>
                </a:rPr>
                <a:t>(a+b)</a:t>
              </a:r>
              <a:r>
                <a:rPr b="0" lang="en-US" sz="24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169880" y="3549600"/>
              <a:ext cx="1803600" cy="1780560"/>
              <a:chOff x="4169880" y="3549600"/>
              <a:chExt cx="1803600" cy="1780560"/>
            </a:xfrm>
          </p:grpSpPr>
          <p:sp>
            <p:nvSpPr>
              <p:cNvPr id="75" name=""/>
              <p:cNvSpPr/>
              <p:nvPr/>
            </p:nvSpPr>
            <p:spPr>
              <a:xfrm>
                <a:off x="4169880" y="4271400"/>
                <a:ext cx="180360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5241960" y="3549600"/>
                <a:ext cx="0" cy="1780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4169880" y="4271400"/>
              <a:ext cx="1072440" cy="1058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59320" y="4507920"/>
              <a:ext cx="588960" cy="459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a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42680" y="3549600"/>
              <a:ext cx="731160" cy="721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10360" y="3669840"/>
              <a:ext cx="607320" cy="459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宋体"/>
                </a:rPr>
                <a:t>b</a:t>
              </a:r>
              <a:r>
                <a:rPr b="1" lang="en-US" sz="24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169880" y="3549600"/>
              <a:ext cx="1803240" cy="1780200"/>
              <a:chOff x="4169880" y="3549600"/>
              <a:chExt cx="1803240" cy="1780200"/>
            </a:xfrm>
          </p:grpSpPr>
          <p:sp>
            <p:nvSpPr>
              <p:cNvPr id="82" name=""/>
              <p:cNvSpPr/>
              <p:nvPr/>
            </p:nvSpPr>
            <p:spPr>
              <a:xfrm>
                <a:off x="4169880" y="3549600"/>
                <a:ext cx="1072080" cy="7218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6200000">
                <a:off x="5078160" y="4434840"/>
                <a:ext cx="1058400" cy="7311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302000" y="3637800"/>
              <a:ext cx="1639800" cy="1714680"/>
              <a:chOff x="4302000" y="3637800"/>
              <a:chExt cx="1639800" cy="1714680"/>
            </a:xfrm>
          </p:grpSpPr>
          <p:sp>
            <p:nvSpPr>
              <p:cNvPr id="85" name=""/>
              <p:cNvSpPr/>
              <p:nvPr/>
            </p:nvSpPr>
            <p:spPr>
              <a:xfrm>
                <a:off x="4302000" y="3637800"/>
                <a:ext cx="529920" cy="8254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  <a:ea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411520" y="4527000"/>
                <a:ext cx="530280" cy="8254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ff"/>
                    </a:solidFill>
                    <a:latin typeface="宋体"/>
                    <a:ea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052800" y="1593720"/>
            <a:ext cx="2819520" cy="2819160"/>
            <a:chOff x="3052800" y="1593720"/>
            <a:chExt cx="2819520" cy="2819160"/>
          </a:xfrm>
        </p:grpSpPr>
        <p:sp>
          <p:nvSpPr>
            <p:cNvPr id="134" name=""/>
            <p:cNvSpPr/>
            <p:nvPr/>
          </p:nvSpPr>
          <p:spPr>
            <a:xfrm>
              <a:off x="3052800" y="1593720"/>
              <a:ext cx="2819520" cy="281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9840" y="2690640"/>
              <a:ext cx="685800" cy="579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747880" y="1593720"/>
            <a:ext cx="3124080" cy="3124080"/>
            <a:chOff x="2747880" y="1593720"/>
            <a:chExt cx="3124080" cy="3124080"/>
          </a:xfrm>
        </p:grpSpPr>
        <p:sp>
          <p:nvSpPr>
            <p:cNvPr id="137" name=""/>
            <p:cNvSpPr/>
            <p:nvPr/>
          </p:nvSpPr>
          <p:spPr>
            <a:xfrm flipH="1">
              <a:off x="2747880" y="4412880"/>
              <a:ext cx="304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747880" y="1593720"/>
              <a:ext cx="3124080" cy="3124080"/>
              <a:chOff x="2747880" y="1593720"/>
              <a:chExt cx="3124080" cy="312408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2747880" y="2736720"/>
                <a:ext cx="3045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052440" y="4717800"/>
                <a:ext cx="5335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2747880" y="1593720"/>
                <a:ext cx="0" cy="380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47880" y="2354760"/>
                <a:ext cx="0" cy="3812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2747880" y="1593720"/>
                <a:ext cx="3045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52440" y="4412880"/>
                <a:ext cx="0" cy="304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28960" y="4412880"/>
                <a:ext cx="0" cy="304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71960" y="4412880"/>
                <a:ext cx="0" cy="304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2747880" y="2736360"/>
                <a:ext cx="0" cy="5331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47880" y="3879000"/>
                <a:ext cx="0" cy="5331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95440" y="4717800"/>
                <a:ext cx="5335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491080" y="4717800"/>
                <a:ext cx="3808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4728960" y="4717800"/>
                <a:ext cx="38088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"/>
          <p:cNvGrpSpPr/>
          <p:nvPr/>
        </p:nvGrpSpPr>
        <p:grpSpPr>
          <a:xfrm>
            <a:off x="2533320" y="1690560"/>
            <a:ext cx="2982240" cy="3316680"/>
            <a:chOff x="2533320" y="1690560"/>
            <a:chExt cx="2982240" cy="3316680"/>
          </a:xfrm>
        </p:grpSpPr>
        <p:sp>
          <p:nvSpPr>
            <p:cNvPr id="153" name=""/>
            <p:cNvSpPr/>
            <p:nvPr/>
          </p:nvSpPr>
          <p:spPr>
            <a:xfrm>
              <a:off x="2533320" y="169056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54400" y="424296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3320" y="4242960"/>
              <a:ext cx="42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50960" y="3099960"/>
              <a:ext cx="42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2095560" y="5478480"/>
          <a:ext cx="24130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5478480"/>
                    <a:ext cx="2413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3052800" y="1593360"/>
            <a:ext cx="2819160" cy="2819160"/>
            <a:chOff x="3052800" y="1593360"/>
            <a:chExt cx="2819160" cy="2819160"/>
          </a:xfrm>
        </p:grpSpPr>
        <p:sp>
          <p:nvSpPr>
            <p:cNvPr id="160" name=""/>
            <p:cNvSpPr/>
            <p:nvPr/>
          </p:nvSpPr>
          <p:spPr>
            <a:xfrm>
              <a:off x="3052800" y="2736720"/>
              <a:ext cx="28191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728960" y="1593360"/>
              <a:ext cx="0" cy="2819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052800" y="2736720"/>
            <a:ext cx="167652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3112920"/>
            <a:ext cx="9190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19440" y="5348160"/>
          <a:ext cx="594000" cy="4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9440" y="5348160"/>
                    <a:ext cx="594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729320" y="1593720"/>
            <a:ext cx="11430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34080" y="1784520"/>
            <a:ext cx="94932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640560" y="5351400"/>
                <a:ext cx="5684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3052800" y="1593720"/>
            <a:ext cx="2819160" cy="2819160"/>
            <a:chOff x="3052800" y="1593720"/>
            <a:chExt cx="2819160" cy="2819160"/>
          </a:xfrm>
        </p:grpSpPr>
        <p:sp>
          <p:nvSpPr>
            <p:cNvPr id="170" name=""/>
            <p:cNvSpPr/>
            <p:nvPr/>
          </p:nvSpPr>
          <p:spPr>
            <a:xfrm>
              <a:off x="3052800" y="1593720"/>
              <a:ext cx="1676160" cy="1143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6200000">
              <a:off x="4462200" y="3003120"/>
              <a:ext cx="1676160" cy="1143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259080" y="1733400"/>
            <a:ext cx="2563200" cy="2172240"/>
            <a:chOff x="3259080" y="1733400"/>
            <a:chExt cx="2563200" cy="2172240"/>
          </a:xfrm>
        </p:grpSpPr>
        <p:sp>
          <p:nvSpPr>
            <p:cNvPr id="173" name=""/>
            <p:cNvSpPr/>
            <p:nvPr/>
          </p:nvSpPr>
          <p:spPr>
            <a:xfrm>
              <a:off x="3259080" y="1733400"/>
              <a:ext cx="828360" cy="764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a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3560" y="3141360"/>
              <a:ext cx="828720" cy="7642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66ff"/>
                  </a:solidFill>
                  <a:latin typeface="Times New Roman"/>
                  <a:ea typeface="Times New Roman"/>
                </a:rPr>
                <a:t>a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278320" y="5448240"/>
                <a:ext cx="10303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4938120" y="5273640"/>
            <a:ext cx="1752840" cy="642600"/>
            <a:chOff x="4938120" y="5273640"/>
            <a:chExt cx="1752840" cy="642600"/>
          </a:xfrm>
        </p:grpSpPr>
        <p:sp>
          <p:nvSpPr>
            <p:cNvPr id="177" name=""/>
            <p:cNvSpPr/>
            <p:nvPr/>
          </p:nvSpPr>
          <p:spPr>
            <a:xfrm>
              <a:off x="4938120" y="527364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9600" y="527364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971800" y="960480"/>
            <a:ext cx="35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完全平方和公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785880" y="1071720"/>
            <a:ext cx="121284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349800" y="1701720"/>
            <a:ext cx="281916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968560" y="1701360"/>
            <a:ext cx="3200400" cy="3210120"/>
            <a:chOff x="2968560" y="1701360"/>
            <a:chExt cx="3200400" cy="3210120"/>
          </a:xfrm>
        </p:grpSpPr>
        <p:sp>
          <p:nvSpPr>
            <p:cNvPr id="183" name=""/>
            <p:cNvSpPr/>
            <p:nvPr/>
          </p:nvSpPr>
          <p:spPr>
            <a:xfrm flipH="1">
              <a:off x="2968560" y="1701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968560" y="4520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349440" y="453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168960" y="453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44880" y="33778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44880" y="1701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349080" y="4825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25240" y="4825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838240" y="2541600"/>
            <a:ext cx="2140200" cy="2523240"/>
            <a:chOff x="2838240" y="2541600"/>
            <a:chExt cx="2140200" cy="2523240"/>
          </a:xfrm>
        </p:grpSpPr>
        <p:sp>
          <p:nvSpPr>
            <p:cNvPr id="192" name=""/>
            <p:cNvSpPr/>
            <p:nvPr/>
          </p:nvSpPr>
          <p:spPr>
            <a:xfrm>
              <a:off x="2838240" y="2541600"/>
              <a:ext cx="42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49320" y="4300560"/>
              <a:ext cx="42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21200" y="1701720"/>
            <a:ext cx="3047400" cy="3047760"/>
            <a:chOff x="3121200" y="1701720"/>
            <a:chExt cx="3047400" cy="3047760"/>
          </a:xfrm>
        </p:grpSpPr>
        <p:sp>
          <p:nvSpPr>
            <p:cNvPr id="195" name=""/>
            <p:cNvSpPr/>
            <p:nvPr/>
          </p:nvSpPr>
          <p:spPr>
            <a:xfrm>
              <a:off x="3197160" y="2539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3121200" y="28447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5960" y="4520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025960" y="4673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64040" y="46735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197160" y="1701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982240" y="1814400"/>
            <a:ext cx="2832840" cy="3278880"/>
            <a:chOff x="2982240" y="1814400"/>
            <a:chExt cx="2832840" cy="3278880"/>
          </a:xfrm>
        </p:grpSpPr>
        <p:sp>
          <p:nvSpPr>
            <p:cNvPr id="202" name=""/>
            <p:cNvSpPr/>
            <p:nvPr/>
          </p:nvSpPr>
          <p:spPr>
            <a:xfrm>
              <a:off x="2982240" y="18144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53920" y="43290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808080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349800" y="2844720"/>
            <a:ext cx="167616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828800" y="5211720"/>
                <a:ext cx="15098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505320" y="5127480"/>
                <a:ext cx="482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059360" y="5230800"/>
                <a:ext cx="860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8" name=""/>
          <p:cNvGraphicFramePr/>
          <p:nvPr/>
        </p:nvGraphicFramePr>
        <p:xfrm>
          <a:off x="3124080" y="5716440"/>
          <a:ext cx="261324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5716440"/>
                    <a:ext cx="26132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0" name=""/>
          <p:cNvGrpSpPr/>
          <p:nvPr/>
        </p:nvGrpSpPr>
        <p:grpSpPr>
          <a:xfrm>
            <a:off x="3349800" y="1701720"/>
            <a:ext cx="2819160" cy="2819160"/>
            <a:chOff x="3349800" y="1701720"/>
            <a:chExt cx="2819160" cy="2819160"/>
          </a:xfrm>
        </p:grpSpPr>
        <p:sp>
          <p:nvSpPr>
            <p:cNvPr id="211" name=""/>
            <p:cNvSpPr/>
            <p:nvPr/>
          </p:nvSpPr>
          <p:spPr>
            <a:xfrm>
              <a:off x="3349800" y="1701720"/>
              <a:ext cx="2819160" cy="281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16480" y="2798640"/>
              <a:ext cx="685440" cy="8251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0" lang="en-US" sz="4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349800" y="1701720"/>
            <a:ext cx="2819160" cy="1143000"/>
            <a:chOff x="3349800" y="1701720"/>
            <a:chExt cx="2819160" cy="1143000"/>
          </a:xfrm>
        </p:grpSpPr>
        <p:sp>
          <p:nvSpPr>
            <p:cNvPr id="214" name=""/>
            <p:cNvSpPr/>
            <p:nvPr/>
          </p:nvSpPr>
          <p:spPr>
            <a:xfrm>
              <a:off x="3349800" y="1701720"/>
              <a:ext cx="2819160" cy="1143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87880" y="1855800"/>
              <a:ext cx="568440" cy="581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00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025600" y="1701720"/>
            <a:ext cx="1143000" cy="2819520"/>
            <a:chOff x="5025600" y="1701720"/>
            <a:chExt cx="1143000" cy="2819520"/>
          </a:xfrm>
        </p:grpSpPr>
        <p:sp>
          <p:nvSpPr>
            <p:cNvPr id="217" name=""/>
            <p:cNvSpPr/>
            <p:nvPr/>
          </p:nvSpPr>
          <p:spPr>
            <a:xfrm rot="5400000">
              <a:off x="4187160" y="2539800"/>
              <a:ext cx="2819520" cy="1143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21520" y="2846520"/>
              <a:ext cx="568080" cy="581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00"/>
                  </a:solidFill>
                  <a:latin typeface="Times New Roman"/>
                </a:rPr>
                <a:t>a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048280" y="5230800"/>
                <a:ext cx="860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5025960" y="1701720"/>
            <a:ext cx="1143000" cy="1143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6081840" y="5208480"/>
                <a:ext cx="70956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330880" y="2006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982240" y="1814400"/>
            <a:ext cx="2832840" cy="3278880"/>
            <a:chOff x="2982240" y="1814400"/>
            <a:chExt cx="2832840" cy="3278880"/>
          </a:xfrm>
        </p:grpSpPr>
        <p:sp>
          <p:nvSpPr>
            <p:cNvPr id="224" name=""/>
            <p:cNvSpPr/>
            <p:nvPr/>
          </p:nvSpPr>
          <p:spPr>
            <a:xfrm>
              <a:off x="2982240" y="18144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53920" y="43290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99"/>
                  </a:solidFill>
                  <a:latin typeface="Times New Roman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294000" y="1108080"/>
            <a:ext cx="27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完全平方差公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763640"/>
            <a:ext cx="67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】运用完全平方公式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2960" y="3121200"/>
            <a:ext cx="40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 +  2y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18040" y="5016600"/>
            <a:ext cx="8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06520" y="241776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1)(x+2y)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30560" y="425448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a  +  b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=  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+   2 ab   +     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481120" y="3565440"/>
            <a:ext cx="5040" cy="719280"/>
          </a:xfrm>
          <a:prstGeom prst="line">
            <a:avLst/>
          </a:prstGeom>
          <a:ln w="38160">
            <a:solidFill>
              <a:srgbClr val="ff99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98720" y="3090960"/>
            <a:ext cx="6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53040" y="311292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x •2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45000" y="3070080"/>
            <a:ext cx="14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(2y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51200" y="501660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13320" y="501660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4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142800" y="3565440"/>
            <a:ext cx="1800" cy="719280"/>
          </a:xfrm>
          <a:prstGeom prst="line">
            <a:avLst/>
          </a:prstGeom>
          <a:ln w="38160">
            <a:solidFill>
              <a:srgbClr val="ff99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976560" y="3565440"/>
            <a:ext cx="1800" cy="719280"/>
          </a:xfrm>
          <a:prstGeom prst="line">
            <a:avLst/>
          </a:prstGeom>
          <a:ln w="38160">
            <a:solidFill>
              <a:srgbClr val="ff99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836960" y="3565440"/>
            <a:ext cx="1800" cy="719280"/>
          </a:xfrm>
          <a:prstGeom prst="line">
            <a:avLst/>
          </a:prstGeom>
          <a:ln w="38160">
            <a:solidFill>
              <a:srgbClr val="ff99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967360" y="3565440"/>
            <a:ext cx="1800" cy="719280"/>
          </a:xfrm>
          <a:prstGeom prst="line">
            <a:avLst/>
          </a:prstGeom>
          <a:ln w="38160">
            <a:solidFill>
              <a:srgbClr val="ff99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26670" r="0" b="0"/>
          <a:stretch/>
        </p:blipFill>
        <p:spPr>
          <a:xfrm>
            <a:off x="774720" y="836640"/>
            <a:ext cx="224316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15987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2)(-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2244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(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81120" y="2803680"/>
            <a:ext cx="23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-2 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+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88960" y="34448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∵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a-b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=(b-a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88960" y="41306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-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+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00280" y="4102200"/>
            <a:ext cx="17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-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78912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】运用完全平方公式计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 102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;               (2) 99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47600" y="1873080"/>
            <a:ext cx="574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) 102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= (100 +2) 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100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×100×2 + 2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10 000 +400 +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10 4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2200" y="4057560"/>
            <a:ext cx="495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  99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= (100 -1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100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-2×100×1+1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10 000 - 200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9 8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71680" y="1617840"/>
            <a:ext cx="84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下面各式的计算结果是否正确？如果不正确，应当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样改正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49600" y="367020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49600" y="289728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092480" y="508968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07040" y="444348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11720" y="2897280"/>
            <a:ext cx="42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 +y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=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xy +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11720" y="3670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 -y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=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xy +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2280" y="4443480"/>
            <a:ext cx="35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 -y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=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xy +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68800" y="5114880"/>
            <a:ext cx="34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 +y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=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y +y</a:t>
            </a:r>
            <a:r>
              <a:rPr b="1" lang="en-US" sz="20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4560" y="2897280"/>
            <a:ext cx="40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宋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x+y)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=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+y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74560" y="3666960"/>
            <a:ext cx="40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2)(x -y)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=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-y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4560" y="443700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3) (x -y)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=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2xy +y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8440" y="5106960"/>
            <a:ext cx="40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4) (x+y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=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+xy +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rcRect l="0" t="31319" r="0" b="0"/>
          <a:stretch/>
        </p:blipFill>
        <p:spPr>
          <a:xfrm>
            <a:off x="706320" y="936720"/>
            <a:ext cx="2237040" cy="5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49240" y="1459080"/>
            <a:ext cx="371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 (6a+5b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6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60ab+25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91240" y="1405080"/>
            <a:ext cx="330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2) (4x-3y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6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4xy+9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49240" y="2587680"/>
            <a:ext cx="33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3) (2m-1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m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4m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91240" y="2732040"/>
            <a:ext cx="33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4)(-2m-1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m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4m+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1017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运用完全平方公式计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9240" y="3679920"/>
            <a:ext cx="419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5) 103</a:t>
            </a:r>
            <a:r>
              <a:rPr b="1" lang="en-US" sz="24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100+3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0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×100×3+3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0000+600+9=10609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Arial Unicode MS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48840" y="1636560"/>
            <a:ext cx="864252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日照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由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+b+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ma+mb+m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可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+b)(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b+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+a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即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+b)(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b+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①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我们把等式①叫做多项式乘法的立方公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下列应用这个立方公式进行的变形不正确的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+4y)(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xy+16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64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x+y)(4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xy+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8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pt-BR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pt-BR" sz="2400" spc="-1" strike="noStrike">
                <a:solidFill>
                  <a:srgbClr val="0000ff"/>
                </a:solidFill>
                <a:latin typeface="宋体"/>
              </a:rPr>
              <a:t>a+1)(a</a:t>
            </a:r>
            <a:r>
              <a:rPr b="1" lang="pt-BR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pt-BR" sz="2400" spc="-1" strike="noStrike">
                <a:solidFill>
                  <a:srgbClr val="0000ff"/>
                </a:solidFill>
                <a:latin typeface="宋体"/>
              </a:rPr>
              <a:t>a+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pt-BR" sz="2400" spc="-1" strike="noStrike">
                <a:solidFill>
                  <a:srgbClr val="0000ff"/>
                </a:solidFill>
                <a:latin typeface="宋体"/>
              </a:rPr>
              <a:t>=a</a:t>
            </a:r>
            <a:r>
              <a:rPr b="1" lang="pt-BR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pt-BR" sz="2400" spc="-1" strike="noStrike">
                <a:solidFill>
                  <a:srgbClr val="0000ff"/>
                </a:solidFill>
                <a:latin typeface="宋体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pt-BR" sz="24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 </a:t>
            </a:r>
            <a:r>
              <a:rPr b="1" lang="pt-BR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pt-BR" sz="2400" spc="-1" strike="noStrike" baseline="30000">
                <a:solidFill>
                  <a:srgbClr val="0000ff"/>
                </a:solidFill>
                <a:latin typeface="宋体"/>
              </a:rPr>
              <a:t>3</a:t>
            </a:r>
            <a:r>
              <a:rPr b="1" lang="pt-BR" sz="2400" spc="-1" strike="noStrike">
                <a:solidFill>
                  <a:srgbClr val="0000ff"/>
                </a:solidFill>
                <a:latin typeface="宋体"/>
              </a:rPr>
              <a:t>+27=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pt-BR" sz="2400" spc="-1" strike="noStrike">
                <a:solidFill>
                  <a:srgbClr val="0000ff"/>
                </a:solidFill>
                <a:latin typeface="宋体"/>
              </a:rPr>
              <a:t>x+3)(x</a:t>
            </a:r>
            <a:r>
              <a:rPr b="1" lang="pt-BR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pt-BR" sz="2400" spc="-1" strike="noStrike">
                <a:solidFill>
                  <a:srgbClr val="0000ff"/>
                </a:solidFill>
                <a:latin typeface="宋体"/>
              </a:rPr>
              <a:t>3x+9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782800" y="725400"/>
            <a:ext cx="3400560" cy="762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24000" y="5214960"/>
            <a:ext cx="82296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142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根据乘法的立方公式（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+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pt-BR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+b</a:t>
            </a:r>
            <a:r>
              <a:rPr b="1" lang="pt-BR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  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</a:t>
            </a:r>
            <a:r>
              <a:rPr b="1" lang="pt-BR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b</a:t>
            </a:r>
            <a:r>
              <a:rPr b="1" lang="pt-BR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应为（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+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（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pt-BR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a+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</a:t>
            </a:r>
            <a:r>
              <a:rPr b="1" lang="pt-BR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才正确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6440" y="5330880"/>
            <a:ext cx="17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52600" y="1935720"/>
            <a:ext cx="65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宁波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+y=3,xy=1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442120" y="1947960"/>
          <a:ext cx="205884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2120" y="1947960"/>
                    <a:ext cx="20588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017800" y="2639880"/>
                <a:ext cx="1392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554280" y="2670120"/>
                <a:ext cx="24368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666720" y="2496960"/>
            <a:ext cx="59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2040" y="3783600"/>
            <a:ext cx="77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福州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化简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+1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+2(1-x)-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6960" y="4424400"/>
            <a:ext cx="74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x+1+2-2x-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96960" y="882720"/>
            <a:ext cx="81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(x+2y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(2)(a+b+c) 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800360" y="137484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) (x+2y) (x+2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×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y+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y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4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4x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2897280"/>
            <a:ext cx="579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楷体_GB2312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a+b+c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[(a+b)+c]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(a+b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(a+b)c+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ab+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ac+2bc+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c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ab+2bc+2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15560" y="1558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1880" y="5940360"/>
            <a:ext cx="8242560" cy="65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46000" y="2462040"/>
            <a:ext cx="81838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经历完全平方公式的推导过程、几何解释，进一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发展符号感和推理能力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理解完全平方公式的结构特征并能灵活应用公式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行计算．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11360" y="1204920"/>
            <a:ext cx="3659400" cy="107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354760" y="179064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通过本课时的学习，需要我们掌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81240" y="2728800"/>
            <a:ext cx="3657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完全平方公式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20680" y="482904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两个数的和（或差）的平方，等于它们的平方和，加上（或减去）它们的积的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06760" y="3390840"/>
            <a:ext cx="3581280" cy="1267200"/>
            <a:chOff x="2606760" y="3390840"/>
            <a:chExt cx="3581280" cy="1267200"/>
          </a:xfrm>
        </p:grpSpPr>
        <p:sp>
          <p:nvSpPr>
            <p:cNvPr id="292" name=""/>
            <p:cNvSpPr/>
            <p:nvPr/>
          </p:nvSpPr>
          <p:spPr>
            <a:xfrm>
              <a:off x="2606760" y="3390840"/>
              <a:ext cx="35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(a+b)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=a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+2ab+b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06760" y="4076640"/>
              <a:ext cx="35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(a-b)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=a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-2ab+b</a:t>
              </a:r>
              <a:r>
                <a:rPr b="0" lang="en-US" sz="32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774880" y="1049400"/>
            <a:ext cx="3438720" cy="8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57400" y="4518000"/>
            <a:ext cx="685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94120" y="5486400"/>
            <a:ext cx="609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440" y="216216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位老人非常喜欢孩子．每当有孩子到他家做客时，老人都要拿出糖果招待他们．来一个孩子，老人就给这个孩子一块糖，来两个孩子，老人就给每个孩子两块塘，…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第一天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男孩去了老人家，老人一共给了这些孩子多少块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第二天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女孩去了老人家，老人一共给了这些孩子多少块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06560" y="1042920"/>
            <a:ext cx="344484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39720" y="1893960"/>
            <a:ext cx="78487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第三天这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+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个孩子一起去看老人，老人一共给了这些孩子多少块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这些孩子第三天得到的糖果数与前两天他们得到的糖果总数哪个多？多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8280" y="2787480"/>
            <a:ext cx="1600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+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49680" y="398304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+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784600" y="2616120"/>
            <a:ext cx="342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+b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b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5000" y="3289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我们上一节学习了平方差公式即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a+b)(a-b)=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-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现在遇到了两个数的和的平方，即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+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是我们这节课来研究的新问题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87480" y="1411200"/>
            <a:ext cx="33782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03160" y="1974960"/>
            <a:ext cx="7452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下列各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你能发现什么规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宋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p+1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=(p+1)(p+1) = 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宋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m+2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 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宋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p-1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= (p-1)(p-1)=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宋体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m-2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= 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8144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2p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84440" y="35575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4m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32320" y="41450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2p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12960" y="482292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4m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80920" y="1422360"/>
            <a:ext cx="1816200" cy="4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82600" y="15048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计算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 (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11280" y="2155680"/>
            <a:ext cx="69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=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 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 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2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38360" y="2066760"/>
            <a:ext cx="279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完全平方公式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381400" y="2970360"/>
            <a:ext cx="5924520" cy="1362240"/>
            <a:chOff x="2381400" y="2970360"/>
            <a:chExt cx="5924520" cy="1362240"/>
          </a:xfrm>
        </p:grpSpPr>
        <p:grpSp>
          <p:nvGrpSpPr>
            <p:cNvPr id="110" name=""/>
            <p:cNvGrpSpPr/>
            <p:nvPr/>
          </p:nvGrpSpPr>
          <p:grpSpPr>
            <a:xfrm>
              <a:off x="2457360" y="2970360"/>
              <a:ext cx="5848560" cy="600120"/>
              <a:chOff x="2457360" y="2970360"/>
              <a:chExt cx="5848560" cy="600120"/>
            </a:xfrm>
          </p:grpSpPr>
          <p:sp>
            <p:nvSpPr>
              <p:cNvPr id="111" name=""/>
              <p:cNvSpPr/>
              <p:nvPr/>
            </p:nvSpPr>
            <p:spPr>
              <a:xfrm>
                <a:off x="2457360" y="2989080"/>
                <a:ext cx="1747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Times New Roman"/>
                  </a:rPr>
                  <a:t>(a+b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14520" y="3038400"/>
                <a:ext cx="58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zh-CN" sz="1600" spc="-1" strike="noStrike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05320" y="2970360"/>
                <a:ext cx="4800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</a:rPr>
                  <a:t>a  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</a:rPr>
                  <a:t> 2ab 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119480" y="302724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18040" y="3036600"/>
                <a:ext cx="58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486240" y="3103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381400" y="3732480"/>
              <a:ext cx="5847840" cy="600120"/>
              <a:chOff x="2381400" y="3732480"/>
              <a:chExt cx="5847840" cy="600120"/>
            </a:xfrm>
          </p:grpSpPr>
          <p:sp>
            <p:nvSpPr>
              <p:cNvPr id="118" name=""/>
              <p:cNvSpPr/>
              <p:nvPr/>
            </p:nvSpPr>
            <p:spPr>
              <a:xfrm>
                <a:off x="2381400" y="3751200"/>
                <a:ext cx="1747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</a:rPr>
                  <a:t>(a-b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238200" y="3800520"/>
                <a:ext cx="58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0066"/>
                    </a:solidFill>
                    <a:latin typeface="Times New Roman"/>
                  </a:rPr>
                  <a:t> </a:t>
                </a:r>
                <a:r>
                  <a:rPr b="0" lang="zh-CN" sz="1600" spc="-1" strike="noStrike">
                    <a:solidFill>
                      <a:srgbClr val="ff0066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29000" y="3732480"/>
                <a:ext cx="4800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0066"/>
                    </a:solidFill>
                    <a:latin typeface="Times New Roman"/>
                  </a:rPr>
                  <a:t>    </a:t>
                </a: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</a:rPr>
                  <a:t>a   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</a:rPr>
                  <a:t> 2ab 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Times New Roman"/>
                  </a:rPr>
                  <a:t>+ </a:t>
                </a:r>
                <a:r>
                  <a:rPr b="0" lang="zh-CN" sz="32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043160" y="3789360"/>
                <a:ext cx="380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841720" y="3798720"/>
                <a:ext cx="58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09920" y="38656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838080" y="457344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两个数的和（或差）的平方，等于它们的平方和，加上（或减去）它们的积的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6160" y="1085760"/>
            <a:ext cx="1023840" cy="4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42880" y="1265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公式的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7120" y="5626080"/>
            <a:ext cx="74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公式中的字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可以表示数，单项式和多项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99160" y="2025720"/>
            <a:ext cx="3265200" cy="1015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a+b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 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+2ab+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a-b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 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- 2ab+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3400" y="2255760"/>
            <a:ext cx="38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积为二次三项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3400" y="3056040"/>
            <a:ext cx="46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其中两项为两数的平方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400" y="3693960"/>
            <a:ext cx="77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另一项是两数积的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倍，且与乘式中间的符号相同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35160" y="4600440"/>
            <a:ext cx="5079960" cy="5328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首平方，尾平方，积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倍在中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14:37:03Z</dcterms:created>
  <dc:creator>孔隆教育  http://mykonglong.taobao.com</dc:creator>
  <dc:description/>
  <dc:language>en-US</dc:language>
  <cp:lastModifiedBy>MKL</cp:lastModifiedBy>
  <dcterms:modified xsi:type="dcterms:W3CDTF">2014-07-13T05:24:15Z</dcterms:modified>
  <cp:revision>9</cp:revision>
  <dc:subject/>
  <dc:title>幻灯片 1</dc:title>
</cp:coreProperties>
</file>