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2.gif" ContentType="image/gif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23.wmf" ContentType="image/x-wmf"/>
  <Override PartName="/ppt/media/image7.gif" ContentType="image/gif"/>
  <Override PartName="/ppt/media/image10.png" ContentType="image/png"/>
  <Override PartName="/ppt/media/image25.png" ContentType="image/png"/>
  <Override PartName="/ppt/media/image24.jpeg" ContentType="image/jpeg"/>
  <Override PartName="/ppt/media/image19.jpeg" ContentType="image/jpeg"/>
  <Override PartName="/ppt/media/image22.wmf" ContentType="image/x-wmf"/>
  <Override PartName="/ppt/media/image6.png" ContentType="image/png"/>
  <Override PartName="/ppt/media/image21.png" ContentType="image/png"/>
  <Override PartName="/ppt/media/image18.gif" ContentType="image/gif"/>
  <Override PartName="/ppt/media/image20.jpeg" ContentType="image/jpeg"/>
  <Override PartName="/ppt/media/image17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B89-53DE-4F06-8228-A01FC44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0AE-AB46-436F-B3E6-929F5E2C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971-3B6A-4437-BAD4-326418BB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703A-EC2B-4EC0-8E43-793ABA7E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CB96-B1F5-4D58-87BD-C8D423F5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6EA1-4B9C-4FEB-9D80-B0D58A2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5F32-960B-41C8-AD3A-4ED8B3BD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7325-C180-4B23-8482-2CA84C23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09AF-53CB-4E24-BDDA-C25E6306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9240" y="-360"/>
            <a:ext cx="75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9BE7-1CD4-49E6-A63C-F8A2F64D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9FA7-16D7-48CD-B4DF-0B42CAF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2C9-70B4-46E9-8DB1-39F03C05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5CA-704A-4041-8803-FA3D729F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0D63-3450-4242-9F8B-857A5A1D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381-DBE9-43C3-9F61-6EF6CDDF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E196-6E50-4ACE-A80A-E664BC5F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D905-6561-4E06-BC5F-0342FC6D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9E0F-52A2-4DDC-9168-F2D2DA39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90566-FE01-4A7A-BE51-AC582E8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A1D0-150E-4A30-AAE4-858427D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D8E0D-0B34-4E9B-800A-5AFD0B6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D921-5D5E-4E6D-8FC5-C3F10FB1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3B5-CAF8-4ECB-9BE7-9DBFA473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9240" y="-360"/>
            <a:ext cx="75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6553-259C-416A-933D-FFF570D6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5D1A-B2AB-405B-A787-82A7513E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727C-BF49-4FCE-9856-AD4B8A8D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2F85-00C9-4E82-8940-54E5DFF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6AEB-59E8-429A-81E4-105521B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B451A-DC1C-476A-85F1-49364EE9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6DE8-270D-4794-88B5-448425F8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425-0223-47EC-88AE-26861655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A24-2CA1-42B6-8CF9-82B775E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9240" y="-360"/>
            <a:ext cx="75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0D9-35B5-4E6B-A15E-E176443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CEF-1AEC-4E50-BD27-110096A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A17-795F-47E9-84CB-8B8657D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9240" y="-4413600"/>
            <a:ext cx="753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F3D1-0605-48B5-AE63-17F69CAE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240" y="-360"/>
            <a:ext cx="75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98598-51BB-439F-A03E-C86126DFD2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8D24C-542D-4DBD-9E4B-D3E4A5195D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1139760" cy="1123920"/>
          </a:xfrm>
          <a:prstGeom prst="rect">
            <a:avLst/>
          </a:prstGeom>
          <a:solidFill>
            <a:srgbClr val="e72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7" descr=""/>
          <p:cNvPicPr/>
          <p:nvPr/>
        </p:nvPicPr>
        <p:blipFill>
          <a:blip r:embed="rId2"/>
          <a:stretch/>
        </p:blipFill>
        <p:spPr>
          <a:xfrm>
            <a:off x="6948360" y="6002280"/>
            <a:ext cx="1947960" cy="7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7F863-98D0-4986-82B2-307A05C134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88ECB-3B0C-4732-8F8A-A4493C62FB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F9E4D-8956-44CB-8E90-E314A297FC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BA362-D924-4A82-8210-FAEFE21A71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348000" y="4454640"/>
            <a:ext cx="5256000" cy="2143080"/>
            <a:chOff x="3348000" y="4454640"/>
            <a:chExt cx="5256000" cy="21430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3348000" y="5217480"/>
              <a:ext cx="1110600" cy="138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099760" y="4454640"/>
              <a:ext cx="3504240" cy="1929960"/>
            </a:xfrm>
            <a:prstGeom prst="cloudCallout">
              <a:avLst>
                <a:gd name="adj1" fmla="val -63555"/>
                <a:gd name="adj2" fmla="val 30185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eeece1"/>
                  </a:solidFill>
                  <a:latin typeface="Arial Unicode MS"/>
                  <a:ea typeface="楷体_GB2312"/>
                </a:rPr>
                <a:t>我们常常把具有相同特征的事物归为一类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Unicode MS"/>
                  <a:ea typeface="楷体_GB2312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24000" y="189000"/>
            <a:ext cx="900108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黑体"/>
              </a:rPr>
              <a:t>动手动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问题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捐款结束，班干部要留下来清点班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捐款总数，假如你是班干部，面对这一堆不同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的钱，你如何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5120" y="3465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12000" y="2349360"/>
            <a:ext cx="2160360" cy="2063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63480" y="281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3960720" cy="28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468360" y="620640"/>
            <a:ext cx="8280360" cy="892080"/>
          </a:xfrm>
          <a:custGeom>
            <a:avLst/>
            <a:gdLst>
              <a:gd name="textAreaLeft" fmla="*/ 2070000 w 8280360"/>
              <a:gd name="textAreaRight" fmla="*/ 6210360 w 8280360"/>
              <a:gd name="textAreaTop" fmla="*/ 222840 h 892080"/>
              <a:gd name="textAreaBottom" fmla="*/ 892440 h 89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350" stAng="16200000" swAng="5400000"/>
                <a:lnTo>
                  <a:pt x="8100" y="5400"/>
                </a:lnTo>
                <a:lnTo>
                  <a:pt x="13500" y="5400"/>
                </a:lnTo>
                <a:lnTo>
                  <a:pt x="13500" y="1350"/>
                </a:lnTo>
                <a:arcTo wR="675" hR="1350" stAng="10800000" swAng="5400000"/>
                <a:lnTo>
                  <a:pt x="21600" y="0"/>
                </a:lnTo>
                <a:lnTo>
                  <a:pt x="18900" y="8100"/>
                </a:lnTo>
                <a:lnTo>
                  <a:pt x="21600" y="16200"/>
                </a:lnTo>
                <a:lnTo>
                  <a:pt x="16200" y="16200"/>
                </a:lnTo>
                <a:lnTo>
                  <a:pt x="16200" y="20250"/>
                </a:lnTo>
                <a:arcTo wR="675" hR="1350" stAng="0" swAng="5400000"/>
                <a:lnTo>
                  <a:pt x="6075" y="21600"/>
                </a:lnTo>
                <a:arcTo wR="675" hR="1350" stAng="5400000" swAng="5400000"/>
                <a:lnTo>
                  <a:pt x="5400" y="16200"/>
                </a:lnTo>
                <a:lnTo>
                  <a:pt x="0" y="16200"/>
                </a:lnTo>
                <a:lnTo>
                  <a:pt x="2700" y="8100"/>
                </a:lnTo>
                <a:close/>
              </a:path>
              <a:path fill="none" w="21600" h="21600">
                <a:moveTo>
                  <a:pt x="8100" y="1350"/>
                </a:moveTo>
                <a:arcTo wR="675" hR="1350" stAng="0" swAng="5400000"/>
                <a:lnTo>
                  <a:pt x="6075" y="2700"/>
                </a:lnTo>
                <a:arcTo wR="675" hR="1350" stAng="16200000" swAng="-5400000"/>
                <a:arcTo wR="675" hR="1350" stAng="10800000" swAng="-5400000"/>
                <a:lnTo>
                  <a:pt x="8100" y="5400"/>
                </a:lnTo>
              </a:path>
              <a:path fill="none" w="21600" h="21600">
                <a:moveTo>
                  <a:pt x="13500" y="1350"/>
                </a:moveTo>
                <a:arcTo wR="675" hR="1350" stAng="10800000" swAng="-5400000"/>
                <a:lnTo>
                  <a:pt x="15525" y="2700"/>
                </a:lnTo>
                <a:arcTo wR="675" hR="1350" stAng="16200000" swAng="5400000"/>
                <a:arcTo wR="675" hR="1350" stAng="0" swAng="5400000"/>
                <a:lnTo>
                  <a:pt x="13500" y="5400"/>
                </a:lnTo>
              </a:path>
              <a:path fill="none" w="21600" h="21600">
                <a:moveTo>
                  <a:pt x="5400" y="4050"/>
                </a:moveTo>
                <a:lnTo>
                  <a:pt x="5400" y="16200"/>
                </a:lnTo>
              </a:path>
              <a:path fill="none" w="21600" h="21600">
                <a:moveTo>
                  <a:pt x="16200" y="4050"/>
                </a:moveTo>
                <a:lnTo>
                  <a:pt x="16200" y="1620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2000" y="907920"/>
            <a:ext cx="236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合并同类项法则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1916280"/>
            <a:ext cx="77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同类项的系数相加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所得结果作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系数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字母和字母的指数不变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900000" y="4292640"/>
            <a:ext cx="6193080" cy="2270160"/>
            <a:chOff x="900000" y="4292640"/>
            <a:chExt cx="6193080" cy="2270160"/>
          </a:xfrm>
        </p:grpSpPr>
        <p:pic>
          <p:nvPicPr>
            <p:cNvPr id="284" name="" descr=""/>
            <p:cNvPicPr/>
            <p:nvPr/>
          </p:nvPicPr>
          <p:blipFill>
            <a:blip r:embed="rId1"/>
            <a:stretch/>
          </p:blipFill>
          <p:spPr>
            <a:xfrm>
              <a:off x="900000" y="5100840"/>
              <a:ext cx="130824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2964240" y="4292640"/>
              <a:ext cx="4128840" cy="2044440"/>
            </a:xfrm>
            <a:prstGeom prst="cloudCallout">
              <a:avLst>
                <a:gd name="adj1" fmla="val -63555"/>
                <a:gd name="adj2" fmla="val 30185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Arial Unicode MS"/>
                  <a:ea typeface="隶书"/>
                </a:rPr>
                <a:t>一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800" spc="-1" strike="noStrike">
                  <a:solidFill>
                    <a:srgbClr val="ff0066"/>
                  </a:solidFill>
                  <a:latin typeface="Arial Unicode MS"/>
                  <a:ea typeface="隶书"/>
                </a:rPr>
                <a:t>两不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2843280" y="2708280"/>
            <a:ext cx="208908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79640" y="3860640"/>
            <a:ext cx="5113440" cy="0"/>
          </a:xfrm>
          <a:prstGeom prst="line">
            <a:avLst/>
          </a:prstGeom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57200" y="14130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各题的结果是否正确？指出错误的地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78936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5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4437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7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7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51640" y="4365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√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276640"/>
            <a:ext cx="20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（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  <a:ea typeface="隶书"/>
              </a:rPr>
              <a:t>×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757840" y="2997360"/>
            <a:ext cx="16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（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  <a:ea typeface="隶书"/>
              </a:rPr>
              <a:t>×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27600" y="3724200"/>
            <a:ext cx="16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（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  <a:ea typeface="隶书"/>
              </a:rPr>
              <a:t>×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771640" y="836640"/>
            <a:ext cx="3382920" cy="44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华文行楷"/>
              </a:rPr>
              <a:t>慧眼辨是非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23493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30686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5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50920" y="1051920"/>
            <a:ext cx="55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84360" y="1268280"/>
            <a:ext cx="38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~~~                    ~~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5520" y="187416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480" y="2318760"/>
            <a:ext cx="30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278136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合并同类项的步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4000" y="3429000"/>
            <a:ext cx="88200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找出同类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用不同的线标记出各组同类项，注意每一项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符号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508640"/>
            <a:ext cx="870588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把同类项移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用括号将同类项结合，括号间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号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连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5445000"/>
            <a:ext cx="66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合并同类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系数相加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字母及字母的指数不变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43280" y="1844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40360" y="1844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2349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362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8360" y="40392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合并多项式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中的同类项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1249200"/>
            <a:ext cx="45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2565360"/>
            <a:ext cx="2124000" cy="1727280"/>
          </a:xfrm>
          <a:prstGeom prst="cloudCallout">
            <a:avLst>
              <a:gd name="adj1" fmla="val 59194"/>
              <a:gd name="adj2" fmla="val 92740"/>
            </a:avLst>
          </a:prstGeom>
          <a:solidFill>
            <a:srgbClr val="ff99ff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记住呀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09680" y="18288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19280" y="1557360"/>
            <a:ext cx="3200400" cy="76320"/>
            <a:chOff x="1619280" y="1557360"/>
            <a:chExt cx="3200400" cy="76320"/>
          </a:xfrm>
        </p:grpSpPr>
        <p:grpSp>
          <p:nvGrpSpPr>
            <p:cNvPr id="315" name=""/>
            <p:cNvGrpSpPr/>
            <p:nvPr/>
          </p:nvGrpSpPr>
          <p:grpSpPr>
            <a:xfrm>
              <a:off x="1619280" y="1557360"/>
              <a:ext cx="762120" cy="76320"/>
              <a:chOff x="1619280" y="1557360"/>
              <a:chExt cx="762120" cy="76320"/>
            </a:xfrm>
          </p:grpSpPr>
          <p:sp>
            <p:nvSpPr>
              <p:cNvPr id="316" name=""/>
              <p:cNvSpPr/>
              <p:nvPr/>
            </p:nvSpPr>
            <p:spPr>
              <a:xfrm>
                <a:off x="1619280" y="1557360"/>
                <a:ext cx="7621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19280" y="1633680"/>
                <a:ext cx="7621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057560" y="1557360"/>
              <a:ext cx="762120" cy="76320"/>
              <a:chOff x="4057560" y="1557360"/>
              <a:chExt cx="762120" cy="76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057560" y="1557360"/>
                <a:ext cx="7621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57560" y="1633680"/>
                <a:ext cx="7621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740720" y="6021360"/>
            <a:ext cx="1152360" cy="558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16720" y="981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一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968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二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4020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黑体"/>
              </a:rPr>
              <a:t>三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735120" y="189000"/>
            <a:ext cx="8013600" cy="1130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试一试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已知 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= - 2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，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=4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，求代数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+2-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+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1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的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23840" y="1413000"/>
            <a:ext cx="758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1197000"/>
            <a:ext cx="835200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+2-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+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1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=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3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+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2-1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）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=-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+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1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当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= - 2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，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=4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时，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代入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原式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=- (- 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4 -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-2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）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1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=-16+2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=-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92920" y="497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003640" y="4508640"/>
            <a:ext cx="4140000" cy="1152000"/>
            <a:chOff x="5003640" y="4508640"/>
            <a:chExt cx="4140000" cy="1152000"/>
          </a:xfrm>
        </p:grpSpPr>
        <p:pic>
          <p:nvPicPr>
            <p:cNvPr id="333" name="" descr=""/>
            <p:cNvPicPr/>
            <p:nvPr/>
          </p:nvPicPr>
          <p:blipFill>
            <a:blip r:embed="rId1"/>
            <a:stretch/>
          </p:blipFill>
          <p:spPr>
            <a:xfrm>
              <a:off x="5003640" y="4918680"/>
              <a:ext cx="874800" cy="74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383520" y="4508640"/>
              <a:ext cx="2760120" cy="1037880"/>
            </a:xfrm>
            <a:prstGeom prst="cloudCallout">
              <a:avLst>
                <a:gd name="adj1" fmla="val -63555"/>
                <a:gd name="adj2" fmla="val 30185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由繁变简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要记了！！</a:t>
              </a:r>
              <a:r>
                <a:rPr b="1" lang="en-US" sz="3200" spc="-1" strike="noStrike">
                  <a:solidFill>
                    <a:srgbClr val="a50021"/>
                  </a:solidFill>
                  <a:latin typeface="楷体_GB2312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0" y="4724280"/>
            <a:ext cx="496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求代数式值，能化简的，要先化简，再代入求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50720" y="29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860560" y="1844640"/>
            <a:ext cx="193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楷体_GB2312"/>
              </a:rPr>
              <a:t>我最大的收获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23200" y="2708280"/>
            <a:ext cx="233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楷体_GB2312"/>
              </a:rPr>
              <a:t>我表现较好的方面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23200" y="3429000"/>
            <a:ext cx="233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楷体_GB2312"/>
              </a:rPr>
              <a:t>我学会了哪些知识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40000" y="4221000"/>
            <a:ext cx="3243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  <a:ea typeface="楷体_GB2312"/>
              </a:rPr>
              <a:t>我还有哪些疑惑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 flipH="1">
            <a:off x="179280" y="5734080"/>
            <a:ext cx="1919520" cy="6174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43040" cy="19810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763640" y="620640"/>
            <a:ext cx="42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你说我说大家说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04720" y="5950080"/>
            <a:ext cx="2737080" cy="64764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5157720"/>
            <a:ext cx="3240360" cy="64764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3040" y="3860640"/>
            <a:ext cx="2376360" cy="690840"/>
          </a:xfrm>
          <a:prstGeom prst="rect">
            <a:avLst/>
          </a:prstGeom>
          <a:solidFill>
            <a:srgbClr val="4f81bd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41760" y="3716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cff66"/>
                </a:solidFill>
                <a:latin typeface="Times New Roman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81760" y="3716280"/>
            <a:ext cx="38541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相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作为结果的系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3716280"/>
            <a:ext cx="366840" cy="1008000"/>
          </a:xfrm>
          <a:custGeom>
            <a:avLst/>
            <a:gdLst>
              <a:gd name="textAreaLeft" fmla="*/ 234360 w 366840"/>
              <a:gd name="textAreaRight" fmla="*/ 367200 w 36684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4680" y="2133720"/>
            <a:ext cx="2373120" cy="685800"/>
          </a:xfrm>
          <a:prstGeom prst="rect">
            <a:avLst/>
          </a:prstGeom>
          <a:solidFill>
            <a:srgbClr val="4f81bd"/>
          </a:solidFill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 类 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94120" y="2603520"/>
            <a:ext cx="1942920" cy="0"/>
          </a:xfrm>
          <a:prstGeom prst="line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9760" y="1955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018040" y="1989000"/>
            <a:ext cx="279360" cy="1406520"/>
          </a:xfrm>
          <a:custGeom>
            <a:avLst/>
            <a:gdLst>
              <a:gd name="textAreaLeft" fmla="*/ 178560 w 279360"/>
              <a:gd name="textAreaRight" fmla="*/ 279720 w 279360"/>
              <a:gd name="textAreaTop" fmla="*/ 36360 h 1406520"/>
              <a:gd name="textAreaBottom" fmla="*/ 13701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26120" y="1844640"/>
            <a:ext cx="3917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所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相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并且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______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也  相同的项， 叫做同类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几个常数项也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13320" y="184464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32440" y="18129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字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80360" y="177336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相同字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02480" y="2095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指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13760" y="296064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同类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14840" y="3606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同类项的系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86480" y="43639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字母与字母的指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21040" y="2637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同两无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49400" y="44355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变两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260280"/>
            <a:ext cx="5472000" cy="10080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50000">
                <a:srgbClr val="ffff00"/>
              </a:gs>
              <a:gs pos="100000">
                <a:srgbClr val="0000ff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微软雅黑"/>
                <a:ea typeface="宋体"/>
              </a:rPr>
              <a:t>     </a:t>
            </a:r>
            <a:r>
              <a:rPr b="1" lang="zh-CN" sz="5400" spc="-1" strike="noStrike">
                <a:solidFill>
                  <a:srgbClr val="ff00ff"/>
                </a:solidFill>
                <a:latin typeface="微软雅黑"/>
                <a:ea typeface="宋体"/>
              </a:rPr>
              <a:t>小      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65320" y="4303800"/>
            <a:ext cx="1943280" cy="0"/>
          </a:xfrm>
          <a:prstGeom prst="line">
            <a:avLst/>
          </a:prstGeom>
          <a:ln cap="sq" w="284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13080" y="515772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66ff66"/>
                </a:solidFill>
                <a:latin typeface="Times New Roman"/>
              </a:rPr>
              <a:t>一找二移三合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59500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Times New Roman"/>
              </a:rPr>
              <a:t>能化简的，要先化简，再求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600" y="2190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600" y="3919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80" y="5950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52360" y="5157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并同类项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70280" y="5950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代数式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  <a:ea typeface="宋体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863640" cy="1368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426480" y="260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随堂检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1752480" cy="1050120"/>
            <a:chOff x="0" y="0"/>
            <a:chExt cx="1752480" cy="105012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752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39120" y="590400"/>
              <a:ext cx="1109160" cy="459720"/>
            </a:xfrm>
            <a:prstGeom prst="rect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ffffff"/>
                </a:gs>
                <a:gs pos="100000">
                  <a:srgbClr val="1f497d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6600"/>
                  </a:solidFill>
                  <a:latin typeface="Arial"/>
                  <a:ea typeface="华文新魏"/>
                </a:rPr>
                <a:t>作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0" y="1143000"/>
            <a:ext cx="5334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-227160" y="1066680"/>
            <a:ext cx="55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44197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练习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题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46680" y="5105520"/>
            <a:ext cx="5371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你能自编一个数学游戏吗？这个游戏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与同伴一起玩这个游戏。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选做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3733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4)  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2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b</a:t>
            </a:r>
            <a:r>
              <a:rPr b="0" lang="en-US" sz="36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3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3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6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b</a:t>
            </a:r>
            <a:r>
              <a:rPr b="0" lang="en-US" sz="36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+3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ab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0960" y="2438280"/>
            <a:ext cx="41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2)  4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6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+3-5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8</a:t>
            </a:r>
            <a:r>
              <a:rPr b="0" i="1" lang="en-US" sz="36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340080" cy="10335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33520" y="3048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(3) -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6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+6-2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+8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508640" y="3359160"/>
            <a:ext cx="126720" cy="1396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59120" y="5950080"/>
            <a:ext cx="56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合并同类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+3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2-5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-8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2-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047600" y="59500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、思考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图片 1" descr=""/>
          <p:cNvPicPr/>
          <p:nvPr/>
        </p:nvPicPr>
        <p:blipFill>
          <a:blip r:embed="rId2"/>
          <a:stretch/>
        </p:blipFill>
        <p:spPr>
          <a:xfrm>
            <a:off x="2963880" y="2851200"/>
            <a:ext cx="3048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50920" y="404640"/>
            <a:ext cx="84978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2.2</a:t>
            </a:r>
            <a:r>
              <a:rPr b="1" lang="zh-CN" sz="66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整式的加减</a:t>
            </a:r>
            <a:r>
              <a:rPr b="1" lang="en-US" sz="66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(</a:t>
            </a:r>
            <a:r>
              <a:rPr b="1" lang="zh-CN" sz="66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</a:t>
            </a:r>
            <a:r>
              <a:rPr b="1" lang="en-US" sz="6600" spc="-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)</a:t>
            </a:r>
            <a:endParaRPr b="1" lang="en-US" sz="6600" spc="-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99736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解决两个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、什么是同类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    </a:t>
            </a:r>
            <a:r>
              <a:rPr b="1" lang="en-US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eeece1"/>
                </a:solidFill>
                <a:latin typeface="华文楷体"/>
                <a:ea typeface="华文楷体"/>
              </a:rPr>
              <a:t>、怎样合并同类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54520" y="476280"/>
            <a:ext cx="4392720" cy="1915920"/>
          </a:xfrm>
          <a:prstGeom prst="wedgeEllipseCallout">
            <a:avLst>
              <a:gd name="adj1" fmla="val -60699"/>
              <a:gd name="adj2" fmla="val -4513"/>
            </a:avLst>
          </a:prstGeom>
          <a:gradFill rotWithShape="0">
            <a:gsLst>
              <a:gs pos="0">
                <a:srgbClr val="ccffff"/>
              </a:gs>
              <a:gs pos="50000">
                <a:srgbClr val="0000ff"/>
              </a:gs>
              <a:gs pos="100000">
                <a:srgbClr val="ccffff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3080" y="1096920"/>
            <a:ext cx="49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 Unicode MS"/>
                <a:ea typeface="方正舒体"/>
              </a:rPr>
              <a:t>问题：以下几组单项式有什      么相同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77800" y="1384200"/>
            <a:ext cx="1417680" cy="98748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找一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6028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探究一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是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042560" y="5013000"/>
            <a:ext cx="289080" cy="431640"/>
          </a:xfrm>
          <a:prstGeom prst="line">
            <a:avLst/>
          </a:prstGeom>
          <a:ln cap="sq"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042920" y="5013360"/>
            <a:ext cx="1873440" cy="503280"/>
          </a:xfrm>
          <a:prstGeom prst="line">
            <a:avLst/>
          </a:prstGeom>
          <a:ln cap="sq"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437000"/>
            <a:ext cx="1297080" cy="576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508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指数都是</a:t>
            </a: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35280" y="5013000"/>
            <a:ext cx="720720" cy="57636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627280" y="5013000"/>
            <a:ext cx="720720" cy="57636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8000" y="4437000"/>
            <a:ext cx="1368720" cy="576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指数都是</a:t>
            </a: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187280" y="414972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627280" y="4149720"/>
            <a:ext cx="0" cy="287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429000"/>
            <a:ext cx="2808360" cy="720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eeece1"/>
                </a:solidFill>
                <a:latin typeface="Times New Roman"/>
              </a:rPr>
              <a:t>相同字母的指数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6093000"/>
            <a:ext cx="2592360" cy="620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eeece1"/>
                </a:solidFill>
                <a:latin typeface="Times New Roman"/>
              </a:rPr>
              <a:t>所含字母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5877000"/>
            <a:ext cx="0" cy="216000"/>
          </a:xfrm>
          <a:prstGeom prst="line">
            <a:avLst/>
          </a:prstGeom>
          <a:ln cap="sq"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5877000"/>
            <a:ext cx="0" cy="216000"/>
          </a:xfrm>
          <a:prstGeom prst="line">
            <a:avLst/>
          </a:prstGeom>
          <a:ln cap="sq"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59280" y="2565360"/>
            <a:ext cx="527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5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7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79280" y="537372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ff66"/>
                </a:solidFill>
                <a:latin typeface="Times New Roman"/>
              </a:rPr>
              <a:t>2 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y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5 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黑体"/>
              </a:rPr>
              <a:t>同类项定义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项式中，所含字母相同，并且相同字母的指数也相同的项叫做同类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47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58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692280"/>
            <a:ext cx="1600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341360"/>
            <a:ext cx="403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63640" y="3141720"/>
            <a:ext cx="6480360" cy="2558520"/>
            <a:chOff x="1763640" y="3141720"/>
            <a:chExt cx="6480360" cy="255852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1763640" y="4052520"/>
              <a:ext cx="1369080" cy="16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923640" y="3141720"/>
              <a:ext cx="4320360" cy="2304360"/>
            </a:xfrm>
            <a:prstGeom prst="cloudCallout">
              <a:avLst>
                <a:gd name="adj1" fmla="val -63555"/>
                <a:gd name="adj2" fmla="val 30185"/>
              </a:avLst>
            </a:prstGeom>
            <a:solidFill>
              <a:srgbClr val="ffff99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ff0066"/>
                  </a:solidFill>
                  <a:latin typeface="Arial Unicode MS"/>
                </a:rPr>
                <a:t>两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85080" y="595008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说出下列各题的两项是不是同类项？为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2565360"/>
            <a:ext cx="60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3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13000"/>
            <a:ext cx="67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3789360"/>
            <a:ext cx="85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acb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44388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08080" y="5157720"/>
            <a:ext cx="36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   同：所含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字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同；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相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母的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指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0360" y="3933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940360" y="45831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867280" y="3284640"/>
            <a:ext cx="621000" cy="57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68904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35120" y="47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黑体"/>
              </a:rPr>
              <a:t>真真假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51400" y="5661000"/>
            <a:ext cx="365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无关：与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系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关；与字母的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顺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6165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规定：所有的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常数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都是同类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63480" y="260280"/>
            <a:ext cx="786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7650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现在，老师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写有单项式的卡片，发给一些同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老师随意报一个号，请报到号的同学带好卡片站到前面，并面对全班同学高举自己的卡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其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同学观察自己手中的卡片和前面同学卡片上的单项式，如果认为它们是同类项的，也请站到前面，并面向全班同学高举自己的卡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请其他同学做裁判，看看他们有没有找错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8440" y="-49320"/>
            <a:ext cx="319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玩一玩：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找同类项朋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92360" y="319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59280" y="333360"/>
            <a:ext cx="309708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智力大比拼</a:t>
            </a:r>
            <a:endParaRPr b="1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82" name=""/>
          <p:cNvSpPr txBox="1"/>
          <p:nvPr/>
        </p:nvSpPr>
        <p:spPr>
          <a:xfrm rot="5400000">
            <a:off x="-99360" y="3060000"/>
            <a:ext cx="1618920" cy="77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找朋友</a:t>
            </a:r>
            <a:endParaRPr b="0" lang="en-US" sz="4000" spc="-1" strike="noStrike">
              <a:ln cap="sq"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1763640" y="1413000"/>
            <a:ext cx="1008000" cy="93636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imes New Roman"/>
              </a:rPr>
              <a:t>-x</a:t>
            </a:r>
            <a:r>
              <a:rPr b="0" lang="en-US" sz="40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5445000"/>
            <a:ext cx="1109880" cy="914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ab</a:t>
            </a:r>
            <a:r>
              <a:rPr b="1" lang="en-US" sz="3200" spc="-1" strike="noStrike">
                <a:solidFill>
                  <a:srgbClr val="eeece1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4076640"/>
            <a:ext cx="1224000" cy="9349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2708280"/>
            <a:ext cx="1224000" cy="914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-2yx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445000"/>
            <a:ext cx="115272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48360" y="4076640"/>
            <a:ext cx="115272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5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y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48360" y="2708280"/>
            <a:ext cx="115272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eeece1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48360" y="1341360"/>
            <a:ext cx="1295640" cy="1152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eeece1"/>
                </a:solidFill>
                <a:latin typeface="Times New Roman"/>
              </a:rPr>
              <a:t>10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c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1341360"/>
            <a:ext cx="1224000" cy="1125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abc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2708280"/>
            <a:ext cx="129564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4076640"/>
            <a:ext cx="1295640" cy="914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-4x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5445000"/>
            <a:ext cx="1295640" cy="9144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5445000"/>
            <a:ext cx="122400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-9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92360" y="4076640"/>
            <a:ext cx="100836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2708280"/>
            <a:ext cx="122400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5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92360" y="1341360"/>
            <a:ext cx="1224000" cy="113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eeece1"/>
                </a:solidFill>
                <a:latin typeface="Times New Roman"/>
              </a:rPr>
              <a:t>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451640" y="5877000"/>
                <a:ext cx="146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508720" y="5877000"/>
                <a:ext cx="152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050920" y="5877000"/>
            <a:ext cx="200160" cy="390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580000" y="4581360"/>
            <a:ext cx="152640" cy="390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3708360" y="4581360"/>
            <a:ext cx="287280" cy="390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63640" y="1341360"/>
            <a:ext cx="1295640" cy="1152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eeece1"/>
                </a:solidFill>
                <a:latin typeface="Times New Roman"/>
              </a:rPr>
              <a:t>-x</a:t>
            </a:r>
            <a:r>
              <a:rPr b="1" i="1" lang="en-US" sz="44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4076640"/>
            <a:ext cx="1224000" cy="93672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eece1"/>
                </a:solidFill>
                <a:latin typeface="Times New Roman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eece1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eeece1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4520" y="450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94520" y="155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48360" y="5877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94160" y="155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0280" y="1476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67720" y="1405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58080" y="2924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40240" y="2852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9452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4520" y="28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93800" y="422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21440" y="2781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1800" y="551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49800" y="4221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484360" y="936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怎样合并同类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981000"/>
            <a:ext cx="8128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际问题：园林部门准备在市区江堤上修建三块长方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绿化带，它们的宽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长分别是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，那么这些绿化带的面积之和是多少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39840" y="270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2708280"/>
            <a:ext cx="1440000" cy="50328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00560" y="37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2708280"/>
            <a:ext cx="1150920" cy="504720"/>
          </a:xfrm>
          <a:prstGeom prst="rect">
            <a:avLst/>
          </a:prstGeom>
          <a:solidFill>
            <a:srgbClr val="3333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37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48360" y="2708280"/>
            <a:ext cx="986040" cy="5047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2708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9440" y="2205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86160" y="220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4520" y="22050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429000"/>
            <a:ext cx="1150920" cy="504720"/>
          </a:xfrm>
          <a:prstGeom prst="rect">
            <a:avLst/>
          </a:prstGeom>
          <a:solidFill>
            <a:srgbClr val="3333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3429000"/>
            <a:ext cx="985680" cy="5047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3429000"/>
            <a:ext cx="1440000" cy="50328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3440" y="3357720"/>
            <a:ext cx="5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4720" y="40766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5+ 34.2+ 27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50864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5 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.5+34.2 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+27.3 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450864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5600" y="4457880"/>
            <a:ext cx="34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.5+34.2+27.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17800" y="486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32040" y="4869000"/>
            <a:ext cx="13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×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5440" y="486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1440" y="486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5480" y="5300640"/>
            <a:ext cx="354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5480" y="5373720"/>
            <a:ext cx="36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.5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+  34.2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 27.3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537372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43480" y="530064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8.5+34.2+27.3)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97280" y="5753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45280" y="568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23840" y="6035760"/>
            <a:ext cx="812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思考：</a:t>
            </a:r>
            <a:r>
              <a:rPr b="0" lang="zh-CN" sz="2400" spc="-1" strike="noStrike">
                <a:solidFill>
                  <a:srgbClr val="66ff66"/>
                </a:solidFill>
                <a:latin typeface="楷体_GB2312"/>
                <a:ea typeface="楷体_GB2312"/>
              </a:rPr>
              <a:t>你有几种方法解决这个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楷体_GB2312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04800" cy="504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604800" cy="504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3188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探究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696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eeece1"/>
                </a:solidFill>
                <a:latin typeface="Times New Roman"/>
              </a:rPr>
              <a:t>把多项式中的同类项合并成一项</a:t>
            </a:r>
            <a:r>
              <a:rPr b="1" lang="en-US" sz="3600" spc="-1" strike="noStrike">
                <a:solidFill>
                  <a:srgbClr val="eeece1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eeece1"/>
                </a:solidFill>
                <a:latin typeface="Times New Roman"/>
              </a:rPr>
              <a:t>叫做合并同类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24000" y="1268280"/>
            <a:ext cx="7487280" cy="3530520"/>
            <a:chOff x="324000" y="1268280"/>
            <a:chExt cx="7487280" cy="3530520"/>
          </a:xfrm>
        </p:grpSpPr>
        <p:sp>
          <p:nvSpPr>
            <p:cNvPr id="263" name=""/>
            <p:cNvSpPr/>
            <p:nvPr/>
          </p:nvSpPr>
          <p:spPr>
            <a:xfrm>
              <a:off x="324000" y="1268280"/>
              <a:ext cx="7487280" cy="19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合并同类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400" spc="-1" strike="noStrike">
                  <a:solidFill>
                    <a:srgbClr val="ffff66"/>
                  </a:solidFill>
                  <a:latin typeface="Times New Roman"/>
                  <a:ea typeface="华文行楷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8.5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+  34.2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 27.3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 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8.5+34.2+27.3)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                                                 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i="1" lang="en-U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46160" y="1999440"/>
              <a:ext cx="183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46160" y="28591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46160" y="3635640"/>
              <a:ext cx="183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46160" y="4341960"/>
              <a:ext cx="183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95280" y="2852640"/>
            <a:ext cx="7561440" cy="919440"/>
            <a:chOff x="395280" y="2852640"/>
            <a:chExt cx="7561440" cy="919440"/>
          </a:xfrm>
        </p:grpSpPr>
        <p:sp>
          <p:nvSpPr>
            <p:cNvPr id="269" name=""/>
            <p:cNvSpPr/>
            <p:nvPr/>
          </p:nvSpPr>
          <p:spPr>
            <a:xfrm>
              <a:off x="2627280" y="2852640"/>
              <a:ext cx="532944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  <a:ea typeface="华文楷体"/>
                </a:rPr>
                <a:t>     </a:t>
              </a: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  <a:ea typeface="华文楷体"/>
                </a:rPr>
                <a:t>上面等式变形是逆用了哪个运算定律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5280" y="3068640"/>
              <a:ext cx="1871640" cy="703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Times New Roman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0" y="4330800"/>
            <a:ext cx="914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合作学习：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合并同类项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  7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 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  =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 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2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          (3)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  –9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 baseline="30000">
                <a:solidFill>
                  <a:srgbClr val="ffff66"/>
                </a:solidFill>
                <a:latin typeface="Times New Roman"/>
              </a:rPr>
              <a:t>并归纳总结出合并同类项的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64000" y="486900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965360" y="4869000"/>
            <a:ext cx="70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8000" y="537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70760" y="5373720"/>
            <a:ext cx="117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812000" y="476280"/>
            <a:ext cx="1152720" cy="187308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839000" y="561960"/>
            <a:ext cx="10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式的运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39000" y="1785960"/>
            <a:ext cx="10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 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数的运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388360" y="981000"/>
            <a:ext cx="0" cy="792360"/>
          </a:xfrm>
          <a:prstGeom prst="line">
            <a:avLst/>
          </a:prstGeom>
          <a:ln cap="sq" w="12600">
            <a:solidFill>
              <a:srgbClr val="eeece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3T12:08:00Z</dcterms:created>
  <dc:creator>Joyie chen</dc:creator>
  <dc:description/>
  <dc:language>en-US</dc:language>
  <cp:lastModifiedBy>Joyie chen</cp:lastModifiedBy>
  <dcterms:modified xsi:type="dcterms:W3CDTF">2015-09-17T10:26:55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