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5.gif" ContentType="image/gif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wmf" ContentType="image/x-wmf"/>
  <Override PartName="/ppt/media/image16.png" ContentType="image/pn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15.png" ContentType="image/png"/>
  <Override PartName="/ppt/media/image4.png" ContentType="image/png"/>
  <Override PartName="/ppt/media/image9.png" ContentType="image/png"/>
  <Override PartName="/ppt/media/image17.wmf" ContentType="image/x-wmf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6B7C-D966-4B7E-B940-31883FE5F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7B12-27D4-4BE3-801A-89411962B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3B9A-16B6-4A5E-8A25-D6B9DB8A9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264E-01E7-4B38-8336-E54290BFB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9B2D-D88B-4548-9396-03AD0D9F2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C482-F056-432F-B959-92ECAD835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2AD0-64EE-4BEB-85C9-1D5E002CA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5EAA-0985-4CF4-B5BE-0F1901505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B3ED-54FE-4C0F-B124-AEE7925D4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A7D4-4991-4FAA-A7B7-7D96E64F7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78CC-C755-40C2-8F05-98823F952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8E40-B6ED-41A7-B780-511032C81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3396" t="2451" r="3905" b="2475"/>
          <a:stretch/>
        </p:blipFill>
        <p:spPr>
          <a:xfrm>
            <a:off x="0" y="343080"/>
            <a:ext cx="9144000" cy="6514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A2E5B-4A59-4C66-BDD6-1967BAD639D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47628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0" y="6643800"/>
            <a:ext cx="9144000" cy="214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5" descr="框"/>
          <p:cNvPicPr/>
          <p:nvPr/>
        </p:nvPicPr>
        <p:blipFill>
          <a:blip r:embed="rId1"/>
          <a:stretch/>
        </p:blipFill>
        <p:spPr>
          <a:xfrm>
            <a:off x="2149560" y="1546200"/>
            <a:ext cx="5565600" cy="1575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28760" y="2824200"/>
            <a:ext cx="3144600" cy="2987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671480" y="1738440"/>
            <a:ext cx="664236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14.4  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因式分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14.4.1  </a:t>
            </a:r>
            <a:r>
              <a:rPr b="0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提公因式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3654360" y="3476520"/>
            <a:ext cx="2584440" cy="174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49320" y="2340000"/>
            <a:ext cx="7539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【解析】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m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n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n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m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6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m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n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［－（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m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n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］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6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m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n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m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n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6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m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n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m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n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36800" y="1617840"/>
            <a:ext cx="57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2.6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m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n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）</a:t>
            </a:r>
            <a:r>
              <a:rPr b="1" lang="en-US" sz="2400" spc="-1" strike="noStrike" baseline="30000">
                <a:solidFill>
                  <a:srgbClr val="0000ff"/>
                </a:solidFill>
                <a:latin typeface="宋体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1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n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m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）</a:t>
            </a:r>
            <a:r>
              <a:rPr b="1" lang="en-US" sz="2400" spc="-1" strike="noStrike" baseline="30000">
                <a:solidFill>
                  <a:srgbClr val="0000ff"/>
                </a:solidFill>
                <a:latin typeface="宋体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00200" y="1487520"/>
            <a:ext cx="7740360" cy="40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填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请在下列各式等号右边的括号前填入“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+”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或“－”号，使等式成立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）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－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a=______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－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）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）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y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－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x=_____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x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－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y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）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）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b+a=______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a+b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）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）（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b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－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）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=_____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－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b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）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5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）－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m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－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n=_____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m+n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）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6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）－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s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+t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=_____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s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－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t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）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625840" y="2825640"/>
            <a:ext cx="60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宋体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68600" y="3510000"/>
            <a:ext cx="5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02000" y="4056120"/>
            <a:ext cx="5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13080" y="4551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927520" y="5056200"/>
            <a:ext cx="55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746440" y="5567400"/>
            <a:ext cx="5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黑体"/>
                <a:ea typeface="黑体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921040" y="766800"/>
            <a:ext cx="3400560" cy="76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506520" y="135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苏州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·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中考）分解因式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a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－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a=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Arial"/>
                <a:ea typeface="楷体_GB2312"/>
              </a:rPr>
              <a:t>【解析】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r>
              <a:rPr b="1" lang="pt-BR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</a:t>
            </a:r>
            <a:r>
              <a:rPr b="1" lang="pt-BR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=a(a-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Arial"/>
                <a:ea typeface="楷体_GB2312"/>
              </a:rPr>
              <a:t>答案：</a:t>
            </a:r>
            <a:r>
              <a:rPr b="1" lang="pt-BR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(a-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340160" y="3624120"/>
          <a:ext cx="2290680" cy="46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0160" y="3624120"/>
                    <a:ext cx="2290680" cy="4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5092560" y="4287960"/>
          <a:ext cx="1986120" cy="46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92560" y="4287960"/>
                    <a:ext cx="1986120" cy="46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517680" y="3591360"/>
            <a:ext cx="47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盐城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·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中考）因式分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595520" y="3917880"/>
            <a:ext cx="254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【解析】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用提公因式法因式分解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88960" y="4943880"/>
            <a:ext cx="30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答案：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a(a-2)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771480" y="1760400"/>
            <a:ext cx="659304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4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写出下列多项式各项的公因式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）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ma+mb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）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4kx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－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8ky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）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5y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+20y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）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a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b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－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2ab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+ab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14480" y="2633760"/>
            <a:ext cx="26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997360" y="3274920"/>
            <a:ext cx="281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998800" y="3879720"/>
            <a:ext cx="291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52920" y="4478400"/>
            <a:ext cx="24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762120" y="1063800"/>
            <a:ext cx="7086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5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把下列各式分解因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）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8x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－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）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a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b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－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5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）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4m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－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6m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）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a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b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－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5ab+9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5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）－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a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+ab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－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6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）－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2x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+4x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－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2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84440" y="176364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8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9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27440" y="232740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ab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09800" y="286704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2m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m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57640" y="34225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b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a+9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461960" y="4511520"/>
            <a:ext cx="512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（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b+ac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+c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8920" y="5570640"/>
            <a:ext cx="57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（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+2x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x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x+1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88800" y="2214720"/>
            <a:ext cx="8221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【解析】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原式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+b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)(a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+c)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b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+c)(a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+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+c)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［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a+b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)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b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+c)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+c)(a+b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+a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+c)(2a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c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+c)(a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3960" y="1517760"/>
            <a:ext cx="883944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宋体"/>
                <a:ea typeface="Times New Roman"/>
              </a:rPr>
              <a:t>6.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  <a:ea typeface="Times New Roman"/>
              </a:rPr>
              <a:t>把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  <a:ea typeface="Times New Roman"/>
              </a:rPr>
              <a:t>(a+b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  <a:ea typeface="Times New Roman"/>
              </a:rPr>
              <a:t>－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  <a:ea typeface="Times New Roman"/>
              </a:rPr>
              <a:t>c)(a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  <a:ea typeface="Times New Roman"/>
              </a:rPr>
              <a:t>－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  <a:ea typeface="Times New Roman"/>
              </a:rPr>
              <a:t>b+c)+(b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  <a:ea typeface="Times New Roman"/>
              </a:rPr>
              <a:t>－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  <a:ea typeface="Times New Roman"/>
              </a:rPr>
              <a:t>a+c)(b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  <a:ea typeface="Times New Roman"/>
              </a:rPr>
              <a:t>－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  <a:ea typeface="Times New Roman"/>
              </a:rPr>
              <a:t>a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  <a:ea typeface="Times New Roman"/>
              </a:rPr>
              <a:t>－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  <a:ea typeface="Times New Roman"/>
              </a:rPr>
              <a:t>c)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  <a:ea typeface="Times New Roman"/>
              </a:rPr>
              <a:t>分解因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5246640" y="5388120"/>
            <a:ext cx="2981520" cy="828360"/>
          </a:xfrm>
          <a:prstGeom prst="wedgeEllipseCallout">
            <a:avLst>
              <a:gd name="adj1" fmla="val -82425"/>
              <a:gd name="adj2" fmla="val -10268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63400" y="2446200"/>
            <a:ext cx="780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把一个多项式化成了几个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</a:rPr>
              <a:t>整式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的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</a:rPr>
              <a:t>积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的形式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像这样的式子变形叫做把这个多项式因式分解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也叫做把这个多项式分解因式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76560" y="427032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提公因式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49200" y="4259160"/>
            <a:ext cx="36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分解因式的方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640480" y="5537160"/>
            <a:ext cx="2971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Arial"/>
              </a:rPr>
              <a:t>注意符号变化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19040" y="2023920"/>
            <a:ext cx="62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通过本课时的学习，需要我们掌握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774880" y="1049400"/>
            <a:ext cx="3438720" cy="83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8800" y="5622840"/>
            <a:ext cx="8242560" cy="978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82560" y="2187720"/>
            <a:ext cx="8043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．了解因式分解的意义，理解因式分解的概念及其与整式乘法的区别和联系． 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．理解提公因式法并能熟练地运用提公因式法分解因式． 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．通过学生自行探求解题途径，培养学生观察、分析和创新能力，深化学生逆向思维能力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674800" y="1254240"/>
            <a:ext cx="3178440" cy="71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251000" y="2454120"/>
            <a:ext cx="2387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整式的乘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279440" y="2809440"/>
            <a:ext cx="5337360" cy="20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计算下列各式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x(x+1)=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(x+1)(x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－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1)=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4680" y="3714840"/>
            <a:ext cx="132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+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39920" y="4365720"/>
            <a:ext cx="124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081240" y="1181160"/>
            <a:ext cx="3108600" cy="696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826920" y="1695600"/>
            <a:ext cx="7936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请把下列多项式写成整式的乘积的形式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(1)x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+x =__________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(2)x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–1=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465280" y="2419200"/>
            <a:ext cx="132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(x+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343240" y="299736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x+1)(x-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60240" y="4108320"/>
            <a:ext cx="788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上面我们把一个多项式化成了几个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</a:rPr>
              <a:t>整式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的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</a:rPr>
              <a:t>积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的形式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像这样的式子变形叫做把这个多项式因式分解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也叫做把这个多项式分解因式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56080" y="2460600"/>
            <a:ext cx="3124440" cy="1317600"/>
          </a:xfrm>
          <a:prstGeom prst="wedgeEllipseCallout">
            <a:avLst>
              <a:gd name="adj1" fmla="val -86939"/>
              <a:gd name="adj2" fmla="val 66023"/>
            </a:avLst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86480" y="2687760"/>
            <a:ext cx="26668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整式的乘法与因式分解有什么关系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041640" y="749160"/>
            <a:ext cx="3378240" cy="75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25320" y="1197000"/>
            <a:ext cx="1425600" cy="49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468440" y="279252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x</a:t>
            </a:r>
            <a:r>
              <a:rPr b="1" lang="en-US" sz="2400" spc="-1" strike="noStrike" baseline="30000">
                <a:solidFill>
                  <a:srgbClr val="0000ff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-1</a:t>
            </a:r>
            <a:r>
              <a:rPr b="0" lang="en-US" sz="2400" spc="-1" strike="noStrike">
                <a:solidFill>
                  <a:srgbClr val="0000ff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705040" y="24400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因式分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05040" y="31464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整式乘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411800" y="275904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(x+1)(x-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22600" y="2948040"/>
            <a:ext cx="158256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622600" y="3108240"/>
            <a:ext cx="15112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424160" y="4002120"/>
            <a:ext cx="6335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Arial"/>
              </a:rPr>
              <a:t>因式分解与整式乘法是相反方向的变形</a:t>
            </a:r>
            <a:r>
              <a:rPr b="1" lang="zh-CN" sz="26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843120" y="1733400"/>
            <a:ext cx="1023840" cy="49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77800" y="3371760"/>
            <a:ext cx="7986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由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m(a+b+c) = ma+mb+mc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可得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:ma+mb+mc =m(a+b+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这样就把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ma+mb+mc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分解成两个因式乘积的形式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其中一个因式是各项的公因式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m,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另一个因式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(a+b+c)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是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ma+mb+mc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除以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m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所得的商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像这种分解因式的方法叫做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_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2146320"/>
            <a:ext cx="788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它的各项都有一个公共的因式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m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我们把因式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m</a:t>
            </a:r>
            <a:r>
              <a:rPr b="1" i="1" lang="zh-CN" sz="24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叫做这个多项式的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_________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84320" y="1771560"/>
            <a:ext cx="2638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ma+mb+m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08360" y="2824200"/>
            <a:ext cx="156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公因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911920" y="5191200"/>
            <a:ext cx="192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提公因式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90560" y="998640"/>
            <a:ext cx="1974960" cy="49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87320" y="1346040"/>
            <a:ext cx="735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【例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】把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8a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b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+ 12ab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c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分解因式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66920" y="1916280"/>
            <a:ext cx="60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分析：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找公因式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057400" y="245124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系数的最大公约数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057400" y="29844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找相同字母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a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057400" y="351936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相同字母的最低指数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a</a:t>
            </a:r>
            <a:r>
              <a:rPr b="1" lang="zh-CN" sz="2400" spc="-1" strike="noStrike" baseline="30000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b</a:t>
            </a:r>
            <a:r>
              <a:rPr b="1" lang="zh-CN" sz="2400" spc="-1" strike="noStrike" baseline="30000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366920" y="409716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公因式为：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4ab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982880" y="4581360"/>
            <a:ext cx="5403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【解析】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8a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+12ab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4ab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•2a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+4ab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•3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4ab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2a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+3b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rcRect l="0" t="26670" r="0" b="0"/>
          <a:stretch/>
        </p:blipFill>
        <p:spPr>
          <a:xfrm>
            <a:off x="954000" y="658800"/>
            <a:ext cx="2243160" cy="58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47640" y="3933720"/>
            <a:ext cx="518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【解析】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+2b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(x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)(a+2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1554120"/>
            <a:ext cx="672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【例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】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把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x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－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）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+2b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x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－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）分解因式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2112840"/>
            <a:ext cx="759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分析：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这个多项式整体而言可分为两大项，即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a(x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－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3)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与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2b(x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－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3)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，每项中都含有（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x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－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）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因此可以把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(x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－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3)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作为公因式提出来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42960" y="1444680"/>
            <a:ext cx="732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把下列各式分解因式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:1.a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x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－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y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）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+b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y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－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x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）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42960" y="2114640"/>
            <a:ext cx="779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分析：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虽然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x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－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y)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与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b(y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－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x)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看上去没有公因式，但仔细观察可以看出（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x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－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y)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与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(y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－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x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）互为相反数，如果把其中一个提取一个“－”号，则可以出现公因式，如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y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－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x=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－（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x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－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y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42960" y="4376880"/>
            <a:ext cx="6221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【解析】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y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+b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y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a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y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－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y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y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（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rcRect l="0" t="31319" r="0" b="0"/>
          <a:stretch/>
        </p:blipFill>
        <p:spPr>
          <a:xfrm>
            <a:off x="755640" y="835200"/>
            <a:ext cx="2236680" cy="53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4T14:37:03Z</dcterms:created>
  <dc:creator>孔隆教育  http://mykonglong.taobao.com</dc:creator>
  <dc:description/>
  <dc:language>en-US</dc:language>
  <cp:lastModifiedBy>MKL</cp:lastModifiedBy>
  <dcterms:modified xsi:type="dcterms:W3CDTF">2014-07-13T05:23:55Z</dcterms:modified>
  <cp:revision>9</cp:revision>
  <dc:subject/>
  <dc:title>幻灯片 1</dc:title>
</cp:coreProperties>
</file>