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14.png" ContentType="image/png"/>
  <Override PartName="/ppt/media/image8.png" ContentType="image/png"/>
  <Override PartName="/ppt/media/image5.gif" ContentType="image/gif"/>
  <Override PartName="/ppt/media/image4.png" ContentType="image/png"/>
  <Override PartName="/ppt/media/image9.png" ContentType="image/png"/>
  <Override PartName="/ppt/media/image17.wmf" ContentType="image/x-wm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770-40A6-4650-B649-FB4E6CBE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0EA-EF78-4519-8DD4-29E36ED0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66D-9860-437D-938C-3FF553D6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A5F-9B0A-4BD5-A61B-3A88D3761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2C6-888F-408D-888C-CEC515C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30A-4E7A-4899-9162-0588889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6C2-1712-44E5-BD5C-BCDA205B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FEB-72D2-44B5-9B8C-67CB8C9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F16-7499-4C26-AE30-B9EAB4A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846-C2DA-46A2-850F-4CAF8BC1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95A-5BD7-4653-89CC-0751D84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642-BA1E-4A43-A137-F0E19423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4A40-F7DC-4BE5-94D5-FAB0CB9AF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63600" y="1284120"/>
            <a:ext cx="556596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8760" y="2595600"/>
            <a:ext cx="314460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3480" y="195120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133992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2.2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全平方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17076" t="20334" r="35677" b="39738"/>
          <a:stretch/>
        </p:blipFill>
        <p:spPr>
          <a:xfrm>
            <a:off x="3543480" y="3052800"/>
            <a:ext cx="300024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90560" y="1674720"/>
            <a:ext cx="732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乘法公式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</a:rPr>
              <a:t>a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 2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– 1 )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16000" y="283356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(a+2b)-1] 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a+2b) 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2(a+2b)×1+1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ab+4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2a-4b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8880" y="29764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676520"/>
            <a:ext cx="73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(2x+y+z)(2x–y–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1120" y="234324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2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(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)][2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– (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2x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(y+z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(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yz+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yz-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4720" y="2481120"/>
            <a:ext cx="15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360" y="169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衢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如图，边长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m+3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正方形纸片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出一个边长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正方形之后，剩余部分又剪拼成一个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重叠无缝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若拼成的矩形一边长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则另一边长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m+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　　　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m+6      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+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43280" y="3619440"/>
            <a:ext cx="4159080" cy="14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523960" y="5506920"/>
          <a:ext cx="34308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23960" y="5506920"/>
                    <a:ext cx="3430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3840" y="565632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846520" y="928800"/>
            <a:ext cx="340020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湖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化简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正确的结果是（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       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b      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      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=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i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+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755880"/>
            <a:ext cx="79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宿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a-b=2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+8a-4b=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3800" y="4394160"/>
            <a:ext cx="62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+4(2a-b)=6+8=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0120" y="5016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2800" y="917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益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已知            ，求代数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30520" y="1042920"/>
                <a:ext cx="16304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38360" y="1612800"/>
                <a:ext cx="26143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79520" y="239868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51040" y="2343240"/>
          <a:ext cx="23637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2343240"/>
                    <a:ext cx="2363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319640" y="2328840"/>
          <a:ext cx="286704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9640" y="2328840"/>
                    <a:ext cx="28670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889280" y="3149640"/>
                <a:ext cx="40100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125880" y="3821040"/>
                <a:ext cx="3135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102120" y="4587840"/>
          <a:ext cx="35496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02120" y="4587840"/>
                    <a:ext cx="35496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876240" y="32259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原式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8284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+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-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535720" y="932040"/>
            <a:ext cx="3247560" cy="1020600"/>
            <a:chOff x="5535720" y="932040"/>
            <a:chExt cx="3247560" cy="1020600"/>
          </a:xfrm>
        </p:grpSpPr>
        <p:sp>
          <p:nvSpPr>
            <p:cNvPr id="111" name=""/>
            <p:cNvSpPr/>
            <p:nvPr/>
          </p:nvSpPr>
          <p:spPr>
            <a:xfrm>
              <a:off x="5535720" y="932040"/>
              <a:ext cx="2806200" cy="1020600"/>
            </a:xfrm>
            <a:prstGeom prst="wedgeEllipseCallout">
              <a:avLst>
                <a:gd name="adj1" fmla="val -99518"/>
                <a:gd name="adj2" fmla="val 63842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7240" y="1116000"/>
              <a:ext cx="29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你有几种解法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09480" y="2139840"/>
            <a:ext cx="4343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【解法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+3+x)(x+3-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2x+3)×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x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213984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【解法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6x+9-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x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76440" y="5327640"/>
            <a:ext cx="2895480" cy="685800"/>
            <a:chOff x="676440" y="5327640"/>
            <a:chExt cx="2895480" cy="685800"/>
          </a:xfrm>
        </p:grpSpPr>
        <p:sp>
          <p:nvSpPr>
            <p:cNvPr id="116" name=""/>
            <p:cNvSpPr/>
            <p:nvPr/>
          </p:nvSpPr>
          <p:spPr>
            <a:xfrm>
              <a:off x="687240" y="5327640"/>
              <a:ext cx="2438640" cy="685800"/>
            </a:xfrm>
            <a:prstGeom prst="wedgeEllipseCallout">
              <a:avLst>
                <a:gd name="adj1" fmla="val 41601"/>
                <a:gd name="adj2" fmla="val -229629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6440" y="541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逆用平方差公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808600" y="4984920"/>
            <a:ext cx="2743200" cy="685800"/>
            <a:chOff x="5808600" y="4984920"/>
            <a:chExt cx="2743200" cy="685800"/>
          </a:xfrm>
        </p:grpSpPr>
        <p:sp>
          <p:nvSpPr>
            <p:cNvPr id="119" name=""/>
            <p:cNvSpPr/>
            <p:nvPr/>
          </p:nvSpPr>
          <p:spPr>
            <a:xfrm>
              <a:off x="5808600" y="4984920"/>
              <a:ext cx="2438640" cy="685800"/>
            </a:xfrm>
            <a:prstGeom prst="wedgeEllipseCallout">
              <a:avLst>
                <a:gd name="adj1" fmla="val -31967"/>
                <a:gd name="adj2" fmla="val -197916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84920" y="506124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用完全平方公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92960" y="163188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04840" y="26496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添括号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4080" y="3168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添括号时，如果括号前面是正号，括到括号里的各项都不变符号；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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果括号前面是负号，括到括号里的各项都改变符号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5960" y="496872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添括号法则灵活应用完全平方公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280" y="5618160"/>
            <a:ext cx="8242200" cy="97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0480" y="2322360"/>
            <a:ext cx="81835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添括号法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添括号法则灵活应用完全平方公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进一步熟悉乘法公式，体会公式中字母的含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47840" y="1306440"/>
            <a:ext cx="3178080" cy="7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4200" y="1820880"/>
            <a:ext cx="750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同学们完成下列运算并回忆去括号法则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+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+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+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+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-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-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20720" y="3606840"/>
            <a:ext cx="7745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+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+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+5+2=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+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-5-2=-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或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+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-7=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+b+c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-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-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-b+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16360" y="876240"/>
            <a:ext cx="310824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41520" y="2066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去括号法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去括号时，如果括号前是正号，去掉括号后，括号里的每一项都不改变符号；如果括号前是负号，去掉括号后，括号里的各项都改变符号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341316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左边没括号，右边有括号，也就是添了括号，你可不可以总结出添括号法则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158920"/>
            <a:ext cx="73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+5+2=4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+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 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-5-2=4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+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+b+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+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-b+c=a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-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8640" y="1679400"/>
            <a:ext cx="61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四个等式的左右两边反过来，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4338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添括号时，如果括号前面是正号，括到括号里的各项都不变符号；如果括号前面是负号，括到括号里的各项都改变符号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49600" y="763560"/>
            <a:ext cx="3378240" cy="75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3440" y="927000"/>
            <a:ext cx="181584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57240" y="186516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 运用乘法公式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x+2y-3)(x-2y+3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8280" y="2986200"/>
            <a:ext cx="73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x+(2y–3)][x-(2y-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(2y-3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(4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2y+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2y-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69840" y="314784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1079640" y="97632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73160" y="2168640"/>
            <a:ext cx="57913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[(a+b) +c ]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a+b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2(a+b)c +c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ab +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2ac +2bc +c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c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2ab+2bc +2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3160" y="1749600"/>
            <a:ext cx="39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(a+b+c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74720" y="2421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77960" y="2211480"/>
            <a:ext cx="7010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在等号右边的括号内填上适当的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+b-c=a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-b+c=a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-b-c=a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+b+c=a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03440" y="2720880"/>
            <a:ext cx="74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09920" y="3241800"/>
            <a:ext cx="7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87880" y="3751200"/>
            <a:ext cx="9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9800" y="4319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998640" y="1482840"/>
            <a:ext cx="223668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880" y="1706400"/>
            <a:ext cx="7086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．判断下列运算是否正确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a-b-c=2a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-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m-3n+2a-b=m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n+2a-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x-3y+2=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x+3y-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-2b-4c+5=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-2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c-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2122560"/>
            <a:ext cx="7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8240" y="271764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65560" y="3311640"/>
            <a:ext cx="7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02280" y="3784680"/>
            <a:ext cx="6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4:10Z</dcterms:modified>
  <cp:revision>9</cp:revision>
  <dc:subject/>
  <dc:title>幻灯片 1</dc:title>
</cp:coreProperties>
</file>