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5.gif" ContentType="image/gif"/>
  <Override PartName="/ppt/media/image12.png" ContentType="image/png"/>
  <Override PartName="/ppt/media/image11.wmf" ContentType="image/x-wmf"/>
  <Override PartName="/ppt/media/image7.png" ContentType="image/png"/>
  <Override PartName="/ppt/media/image1.jpeg" ContentType="image/jpeg"/>
  <Override PartName="/ppt/media/image10.wmf" ContentType="image/x-wmf"/>
  <Override PartName="/ppt/media/image25.png" ContentType="image/png"/>
  <Override PartName="/ppt/media/image6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6.jpeg" ContentType="image/jpeg"/>
  <Override PartName="/ppt/media/image18.wmf" ContentType="image/x-wmf"/>
  <Override PartName="/ppt/media/image20.wmf" ContentType="image/x-wmf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27D5-37D3-443E-A0C4-0E67FA0B4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8D3A-483A-4A02-B18F-464CDED5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64E1-6A09-4A3C-ABB6-72C3014B2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5F51-6D34-486C-899B-B5A86F606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CD4B-E016-444C-9CA6-557CD71B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E8E4-983B-4C9C-B5A7-71559104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680F-B5B5-422C-90A1-FB187B0A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665A-D643-4301-B0DD-B545CB4B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A583-CE31-4F50-B75F-7499FEFD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77EC-43EB-435F-BC8D-1BB8B3AC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1210-F137-4309-9C45-EF990B0D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C451-7B7E-45A5-9EC6-5A3A982F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3396" t="2451" r="3905" b="2475"/>
          <a:stretch/>
        </p:blipFill>
        <p:spPr>
          <a:xfrm>
            <a:off x="0" y="343080"/>
            <a:ext cx="9144000" cy="6514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60F8-B779-4101-AA43-A692271019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6643800"/>
            <a:ext cx="9144000" cy="21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image" Target="../media/image25.png"/><Relationship Id="rId1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5" descr="框"/>
          <p:cNvPicPr/>
          <p:nvPr/>
        </p:nvPicPr>
        <p:blipFill>
          <a:blip r:embed="rId1"/>
          <a:stretch/>
        </p:blipFill>
        <p:spPr>
          <a:xfrm>
            <a:off x="2149560" y="1336680"/>
            <a:ext cx="5565600" cy="1784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39840" y="2668680"/>
            <a:ext cx="3144600" cy="2987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671480" y="1627200"/>
            <a:ext cx="664236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4.2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乘法公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14.2.1 </a:t>
            </a:r>
            <a:r>
              <a:rPr b="0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平方差公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854440" y="3546360"/>
            <a:ext cx="3956040" cy="16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11200" y="817560"/>
            <a:ext cx="50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利用平方差公式计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38200" y="1574640"/>
          <a:ext cx="2614680" cy="37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1574640"/>
                    <a:ext cx="261468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229360" y="1647720"/>
                <a:ext cx="26334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34960" y="3305160"/>
                <a:ext cx="3116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1603440" y="2154240"/>
            <a:ext cx="3571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原式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(-2y-x)(-2y+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 4y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18080" y="2154240"/>
            <a:ext cx="3178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原式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(5+2x)(5-2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 25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97040" y="3889440"/>
            <a:ext cx="62481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原式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[(x+6)-(x-6)][(x+6)+(x-6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 (x+6-x+6)(x+6+x-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12×2x=24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46720" y="5116680"/>
            <a:ext cx="414324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平方差公式的逆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a</a:t>
            </a:r>
            <a:r>
              <a:rPr b="1" lang="zh-CN" sz="2400" spc="-1" strike="noStrike" baseline="30000">
                <a:solidFill>
                  <a:srgbClr val="ff33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－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b</a:t>
            </a:r>
            <a:r>
              <a:rPr b="1" lang="zh-CN" sz="2400" spc="-1" strike="noStrike" baseline="30000">
                <a:solidFill>
                  <a:srgbClr val="ff3300"/>
                </a:solidFill>
                <a:latin typeface="宋体"/>
              </a:rPr>
              <a:t>2 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=</a:t>
            </a:r>
            <a:r>
              <a:rPr b="1" lang="zh-CN" sz="2400" spc="-1" strike="noStrike" baseline="30000">
                <a:solidFill>
                  <a:srgbClr val="ff33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(a+b)(a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－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317520" y="2154240"/>
            <a:ext cx="15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Arial"/>
                <a:ea typeface="楷体_GB2312"/>
              </a:rPr>
              <a:t>【解析】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00280" y="2021040"/>
            <a:ext cx="6664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【解析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原式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(0.5-x)(0.5+x)(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0.2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( 0.25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( 0.25+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0.0625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00280" y="3749760"/>
            <a:ext cx="5848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00.5×99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【解析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原式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(100+0.5)(100-0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10000-0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9999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00280" y="1390680"/>
            <a:ext cx="485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800280" y="1433520"/>
          <a:ext cx="4414680" cy="43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1433520"/>
                    <a:ext cx="441468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68440" y="157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．（眉山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中考）下列运算中正确的是（   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．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．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．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【解析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选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.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中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＋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；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中                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D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中        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330200" y="2313000"/>
          <a:ext cx="1508400" cy="43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0200" y="2313000"/>
                    <a:ext cx="15084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4548240" y="2303640"/>
          <a:ext cx="2449440" cy="48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8240" y="2303640"/>
                    <a:ext cx="2449440" cy="48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251000" y="2952720"/>
          <a:ext cx="144288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51000" y="2952720"/>
                    <a:ext cx="14428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540320" y="2905200"/>
          <a:ext cx="2361960" cy="50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40320" y="2905200"/>
                    <a:ext cx="236196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5762520" y="3583080"/>
          <a:ext cx="2292480" cy="390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62520" y="3583080"/>
                    <a:ext cx="229248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479600" y="4159080"/>
                <a:ext cx="229536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589320" y="4584240"/>
            <a:ext cx="7882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威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中考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已知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a-b=1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则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a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b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2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的值为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(   )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	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    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3         C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	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	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 D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0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【解析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选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.a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b=(a-b)(a+b)-2b=a+b-2b=a-b=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1"/>
          <a:stretch/>
        </p:blipFill>
        <p:spPr>
          <a:xfrm>
            <a:off x="2627280" y="660240"/>
            <a:ext cx="340056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71600" y="860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湖州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中考）将图甲中阴影部分的小长方形变换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图乙位置，你能根据两个图形的面积关系得到的数学公式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___________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【解析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图甲的面积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+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a-b)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图乙的面积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a(a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)+b(a-b)=a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ab+ab-b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a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b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答案</a:t>
            </a:r>
            <a:r>
              <a:rPr b="1" lang="pt-BR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pt-BR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+b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pt-BR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a-b)=a</a:t>
            </a:r>
            <a:r>
              <a:rPr b="1" lang="pt-BR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pt-BR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b</a:t>
            </a:r>
            <a:r>
              <a:rPr b="1" lang="pt-BR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pt-BR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http://www.whx86.com/"/>
          <p:cNvPicPr/>
          <p:nvPr/>
        </p:nvPicPr>
        <p:blipFill>
          <a:blip r:embed="rId1"/>
          <a:srcRect l="59964" t="82933" r="0" b="4607"/>
          <a:stretch/>
        </p:blipFill>
        <p:spPr>
          <a:xfrm>
            <a:off x="2824200" y="2178000"/>
            <a:ext cx="5175360" cy="212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886040" y="2521080"/>
            <a:ext cx="4390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原式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(100-1)(100+1)×1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(10000-1)(10000+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100000000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99999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9880" y="1911240"/>
            <a:ext cx="53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计算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99×101×1000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36160" y="26938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Arial"/>
                <a:ea typeface="楷体_GB2312"/>
              </a:rPr>
              <a:t>【解析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79600" y="1666800"/>
            <a:ext cx="793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5.(x-y)(x+y)(x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+y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)(x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+y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)(x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8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+y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x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16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+y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16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71560" y="2481120"/>
            <a:ext cx="6705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原式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y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( 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y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(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y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(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y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(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16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y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16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y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(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y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(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y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(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16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y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16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y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(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y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(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16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y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16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(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16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y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16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(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16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y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16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 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3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y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86760" y="26020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Arial"/>
                <a:ea typeface="楷体_GB2312"/>
              </a:rPr>
              <a:t>【解析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354760" y="1790640"/>
            <a:ext cx="31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通过本课时的学习，需要我们掌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84600" y="2643120"/>
            <a:ext cx="24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平方差公式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93840" y="326556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(a+b)(a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b)=a</a:t>
            </a:r>
            <a:r>
              <a:rPr b="1" lang="zh-CN" sz="24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b</a:t>
            </a:r>
            <a:r>
              <a:rPr b="1" lang="zh-CN" sz="24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33640" y="3859200"/>
            <a:ext cx="68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即两数和与这两数差的积等于这两个数的平方差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58920" y="4481640"/>
            <a:ext cx="69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平方差公式的逆用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a</a:t>
            </a:r>
            <a:r>
              <a:rPr b="1" lang="zh-CN" sz="24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b</a:t>
            </a:r>
            <a:r>
              <a:rPr b="1" lang="zh-CN" sz="2400" spc="-1" strike="noStrike" baseline="30000">
                <a:solidFill>
                  <a:srgbClr val="ff0000"/>
                </a:solidFill>
                <a:latin typeface="宋体"/>
              </a:rPr>
              <a:t>2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=</a:t>
            </a:r>
            <a:r>
              <a:rPr b="1" lang="zh-CN" sz="2400" spc="-1" strike="noStrike" baseline="30000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(a+b)(a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774880" y="1049400"/>
            <a:ext cx="3438720" cy="83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33440" y="5572080"/>
            <a:ext cx="8242200" cy="978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71480" y="2655720"/>
            <a:ext cx="7947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经历探索平方差公式的过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会推导平方差公式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理解平方差公式的结构特征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灵活应用平方差公式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797200" y="1625760"/>
            <a:ext cx="3178080" cy="71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01640" y="2806560"/>
            <a:ext cx="78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多项式与多项式相乘，先用一个多项式的每一项乘另一个多项式的每一项，再把所得的积相加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25800" y="41958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a+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)(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m+n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)=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am+an+bm+b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0360" y="2184480"/>
            <a:ext cx="75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回忆：多项式与多项式相乘的法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22520" y="1165320"/>
            <a:ext cx="3108240" cy="69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84240" y="1741320"/>
            <a:ext cx="7620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+1)(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1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；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(2) (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+2)(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2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(3) (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(3+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；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(4) (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2x+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1)(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2x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4640" y="392436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观察上述算式，你能发现什么规律？运算出结果后，你又发现什么规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4640" y="504504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等号的左边：两个数的和与差的积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等号的右边：是这两个数的平方差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425600" y="3360600"/>
          <a:ext cx="1073160" cy="44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5600" y="3360600"/>
                    <a:ext cx="107316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1425600" y="2228760"/>
          <a:ext cx="1198440" cy="49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25600" y="2228760"/>
                    <a:ext cx="119844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5210280" y="227808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10280" y="333864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=4 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2887560" y="685800"/>
            <a:ext cx="3378240" cy="755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677880" y="1006560"/>
            <a:ext cx="2103480" cy="49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312408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平方差公式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57400" y="3841920"/>
            <a:ext cx="23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a+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)(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zh-CN" sz="2400" spc="-1" strike="noStrike">
                <a:solidFill>
                  <a:srgbClr val="ff0000"/>
                </a:solidFill>
                <a:latin typeface="Times New Roman"/>
              </a:rPr>
              <a:t>－ 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60640" y="382752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zh-CN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zh-CN" sz="2400" spc="-1" strike="noStrike">
                <a:solidFill>
                  <a:srgbClr val="ff0000"/>
                </a:solidFill>
                <a:latin typeface="Times New Roman"/>
              </a:rPr>
              <a:t>－ 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zh-CN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4614840"/>
            <a:ext cx="78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即两数和与这两数差的积等于这两个数的平方差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2328840"/>
            <a:ext cx="22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a+b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(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i="1" lang="zh-CN" sz="2400" spc="-1" strike="noStrike">
                <a:solidFill>
                  <a:srgbClr val="0000ff"/>
                </a:solidFill>
                <a:latin typeface="Times New Roman"/>
              </a:rPr>
              <a:t>－ 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81520" y="2300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i="1" lang="zh-CN" sz="24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i="1" lang="zh-CN" sz="2400" spc="-1" strike="noStrike">
                <a:solidFill>
                  <a:srgbClr val="0000ff"/>
                </a:solidFill>
                <a:latin typeface="Times New Roman"/>
              </a:rPr>
              <a:t>－ 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i="1" lang="zh-CN" sz="2400" spc="-1" strike="noStrike" baseline="30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89040" y="231444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i="1" lang="zh-CN" sz="24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i="1" lang="zh-CN" sz="2400" spc="-1" strike="noStrike">
                <a:solidFill>
                  <a:srgbClr val="0000ff"/>
                </a:solidFill>
                <a:latin typeface="Times New Roman"/>
              </a:rPr>
              <a:t>－ 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ab+ab</a:t>
            </a:r>
            <a:r>
              <a:rPr b="0" i="1" lang="zh-CN" sz="2400" spc="-1" strike="noStrike">
                <a:solidFill>
                  <a:srgbClr val="0000ff"/>
                </a:solidFill>
                <a:latin typeface="Times New Roman"/>
              </a:rPr>
              <a:t>－ 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i="1" lang="zh-CN" sz="24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709560" y="1577880"/>
            <a:ext cx="1253880" cy="480600"/>
            <a:chOff x="709560" y="1577880"/>
            <a:chExt cx="1253880" cy="480600"/>
          </a:xfrm>
        </p:grpSpPr>
        <p:sp>
          <p:nvSpPr>
            <p:cNvPr id="74" name=""/>
            <p:cNvSpPr/>
            <p:nvPr/>
          </p:nvSpPr>
          <p:spPr>
            <a:xfrm>
              <a:off x="709560" y="1596600"/>
              <a:ext cx="1106280" cy="461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3399"/>
                </a:gs>
              </a:gsLst>
              <a:lin ang="5400000"/>
            </a:gradFill>
            <a:ln w="19080">
              <a:solidFill>
                <a:srgbClr val="ff05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82640" y="1577880"/>
              <a:ext cx="118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归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25600" y="1859040"/>
            <a:ext cx="509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请从这个正方形纸板上，剪下一个边长为</a:t>
            </a:r>
            <a:r>
              <a:rPr b="1" i="1" lang="zh-CN" sz="2400" spc="-1" strike="noStrike">
                <a:solidFill>
                  <a:srgbClr val="0000ff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小正方形，如图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拼成如图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长方形，你能根据图中的面积说明平方差公式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24000" y="4468680"/>
            <a:ext cx="33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+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zh-CN" sz="2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=a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zh-CN" sz="2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5638680" y="1066680"/>
          <a:ext cx="1971720" cy="22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066680"/>
                    <a:ext cx="197172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5334120" y="3657600"/>
          <a:ext cx="2743200" cy="246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3657600"/>
                    <a:ext cx="2743200" cy="24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6442200" y="32432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5695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63560" y="1139760"/>
            <a:ext cx="1253880" cy="480600"/>
            <a:chOff x="763560" y="1139760"/>
            <a:chExt cx="1253880" cy="480600"/>
          </a:xfrm>
        </p:grpSpPr>
        <p:sp>
          <p:nvSpPr>
            <p:cNvPr id="85" name=""/>
            <p:cNvSpPr/>
            <p:nvPr/>
          </p:nvSpPr>
          <p:spPr>
            <a:xfrm>
              <a:off x="763560" y="1158480"/>
              <a:ext cx="1106280" cy="461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3399"/>
                </a:gs>
              </a:gsLst>
              <a:lin ang="5400000"/>
            </a:gradFill>
            <a:ln w="19080">
              <a:solidFill>
                <a:srgbClr val="ff05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6640" y="1139760"/>
              <a:ext cx="118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验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76160" y="1265400"/>
            <a:ext cx="7801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【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】运用平方差公式计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1)  (3x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 )( 3x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 )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；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2) (b+2a)(2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b);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3) (-x+2y)(-x-2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313524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【解析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1) (3x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＋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)(3x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90640" y="367344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(3x)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90640" y="42242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9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10120" y="3135240"/>
            <a:ext cx="41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2)(</a:t>
            </a:r>
            <a:r>
              <a:rPr b="1" i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+2a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(2</a:t>
            </a:r>
            <a:r>
              <a:rPr b="1" i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i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7480" y="36194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(2a+b)(2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97480" y="4164120"/>
            <a:ext cx="21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(2a)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7480" y="470844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4a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478476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3) (-x+2y)(-x-2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46440" y="53355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(-x)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2y)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46440" y="58086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 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y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410080" y="608040"/>
            <a:ext cx="3205440" cy="1461960"/>
            <a:chOff x="5410080" y="608040"/>
            <a:chExt cx="3205440" cy="1461960"/>
          </a:xfrm>
        </p:grpSpPr>
        <p:sp>
          <p:nvSpPr>
            <p:cNvPr id="99" name=""/>
            <p:cNvSpPr/>
            <p:nvPr/>
          </p:nvSpPr>
          <p:spPr>
            <a:xfrm>
              <a:off x="5410080" y="622440"/>
              <a:ext cx="3200400" cy="1447560"/>
            </a:xfrm>
            <a:prstGeom prst="wedgeEllipseCallout">
              <a:avLst>
                <a:gd name="adj1" fmla="val -98708"/>
                <a:gd name="adj2" fmla="val 49782"/>
              </a:avLst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948280" y="608040"/>
              <a:ext cx="2667240" cy="140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ff"/>
                  </a:solidFill>
                  <a:latin typeface="Times New Roman"/>
                </a:rPr>
                <a:t>只有符合</a:t>
              </a:r>
              <a:r>
                <a:rPr b="1" lang="zh-CN" sz="22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r>
                <a:rPr b="1" i="1" lang="zh-CN" sz="2200" spc="-1" strike="noStrike">
                  <a:solidFill>
                    <a:srgbClr val="0000ff"/>
                  </a:solidFill>
                  <a:latin typeface="Times New Roman"/>
                </a:rPr>
                <a:t>a+b</a:t>
              </a:r>
              <a:r>
                <a:rPr b="1" lang="zh-CN" sz="22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ff"/>
                  </a:solidFill>
                  <a:latin typeface="Times New Roman"/>
                </a:rPr>
                <a:t>(</a:t>
              </a:r>
              <a:r>
                <a:rPr b="1" i="1" lang="zh-CN" sz="22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r>
                <a:rPr b="1" i="1" lang="zh-CN" sz="2200" spc="-1" strike="noStrike">
                  <a:solidFill>
                    <a:srgbClr val="0000ff"/>
                  </a:solidFill>
                  <a:latin typeface="Times New Roman"/>
                </a:rPr>
                <a:t>－ </a:t>
              </a:r>
              <a:r>
                <a:rPr b="1" i="1" lang="zh-CN" sz="22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r>
                <a:rPr b="1" lang="zh-CN" sz="2200" spc="-1" strike="noStrike">
                  <a:solidFill>
                    <a:srgbClr val="0000ff"/>
                  </a:solidFill>
                  <a:latin typeface="Times New Roman"/>
                </a:rPr>
                <a:t>)</a:t>
              </a:r>
              <a:r>
                <a:rPr b="1" lang="zh-CN" sz="2200" spc="-1" strike="noStrike">
                  <a:solidFill>
                    <a:srgbClr val="0000ff"/>
                  </a:solidFill>
                  <a:latin typeface="Times New Roman"/>
                </a:rPr>
                <a:t>的形式才能用平方差公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" descr=""/>
          <p:cNvPicPr/>
          <p:nvPr/>
        </p:nvPicPr>
        <p:blipFill>
          <a:blip r:embed="rId1"/>
          <a:srcRect l="0" t="26670" r="0" b="0"/>
          <a:stretch/>
        </p:blipFill>
        <p:spPr>
          <a:xfrm>
            <a:off x="979560" y="608040"/>
            <a:ext cx="2243160" cy="58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62040" y="124776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【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】计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1) 102×98    (2)(y+2)(y-2)-(y -1)(y+5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2316240"/>
            <a:ext cx="37465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【解析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2×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(100+2)(100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100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10000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9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84600" y="2895480"/>
            <a:ext cx="4043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原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(y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-(y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5y-y-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 y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5y+y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-4y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79440" y="1739880"/>
            <a:ext cx="81932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下列多项式乘法中，能用平方差公式计算的是                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(     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(</a:t>
            </a:r>
            <a:r>
              <a:rPr b="1" i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+1)(1+</a:t>
            </a:r>
            <a:r>
              <a:rPr b="1" i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；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	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   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(</a:t>
            </a:r>
            <a:r>
              <a:rPr b="1" i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+</a:t>
            </a:r>
            <a:r>
              <a:rPr b="1" i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)(</a:t>
            </a:r>
            <a:r>
              <a:rPr b="1" i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－</a:t>
            </a:r>
            <a:r>
              <a:rPr b="1" i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；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a+b)(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b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；    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(x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y)(x+y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；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b)(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b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；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	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   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(c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d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)(d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+c</a:t>
            </a:r>
            <a:r>
              <a:rPr b="1" lang="zh-CN" sz="2400" spc="-1" strike="noStrike" baseline="30000">
                <a:solidFill>
                  <a:srgbClr val="0000ff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)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26748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31319" r="0" b="0"/>
          <a:stretch/>
        </p:blipFill>
        <p:spPr>
          <a:xfrm>
            <a:off x="801720" y="1287360"/>
            <a:ext cx="2236680" cy="5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4T14:37:03Z</dcterms:created>
  <dc:creator>孔隆教育  http://mykonglong.taobao.com</dc:creator>
  <dc:description/>
  <dc:language>en-US</dc:language>
  <cp:lastModifiedBy>MKL</cp:lastModifiedBy>
  <dcterms:modified xsi:type="dcterms:W3CDTF">2014-07-13T05:24:20Z</dcterms:modified>
  <cp:revision>9</cp:revision>
  <dc:subject/>
  <dc:title>幻灯片 1</dc:title>
</cp:coreProperties>
</file>