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E3BB-F9B4-46BF-94D2-153EEBA6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08A7-F37D-4F7F-BCD6-4ACA4E1C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E795-FF68-45E8-8B18-6B02B7B7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6904-E132-48C7-B800-B9057E1E2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FD8E-0E67-4711-9752-B66563AB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807D-6478-4C2D-B6E0-D627BA60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B6D2-B270-46DC-AC6B-64925A27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F41E-556E-47D3-878C-B8DBC941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FA4-F851-4D97-ACA7-DAA2E950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672E-FF13-4387-95B1-1CDF40EE8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7C27-151B-40A0-99A1-665BB239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C5F4-4F46-4A72-8391-04D5542D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46FA-2AF6-47D4-8DBB-4A4EEE89BB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" Target="slide2.xm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" Target="slide3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620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初中语法知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189000"/>
            <a:ext cx="914400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数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、概念：表示事物的数目和次序的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例如：一、二、百、千 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数词必须和量词连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例如：一辆车   一口人    一度电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、数词的语法功能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常做句子的定语或补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例如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艘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小船慢慢地漂了过来。（定语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我比他大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岁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。（补语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71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量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概念：计算单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种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物量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表示人或事物的计算单位的词（人或事物数量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尺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布   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口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人   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斗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米  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杆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动量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表示动作行为的计算单位（动作数量的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开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枪   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说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句  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演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语法功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常用来做句子的定语或补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辆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马车从我的面前驶过。（定语）   他说了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两句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。（补语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18900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代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概念：代替人或事物名称的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种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人称代词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我  我们  自己   自个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咱 咱们 你  你们  人家  他（她）   他们   大家  大伙儿 彼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我的  你的  他的  她的   我们的  你们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他们的 咱  您 您的（“您”没有复数形式，不能说“您们”）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指示代词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这  这里 这儿 这会儿    那  那里  那儿 那会儿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这些  那些  这样  这么样  那么样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其中  其中的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疑问代词：哪里 谁   什么  怎么   怎样  怎么样 多少 多会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6360" y="41904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语法功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常常做句子的定语、主语或宾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做主语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们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是毛主席的红卫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他们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的心最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做定语：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你们的）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心真是黑透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他们的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足迹遍布了武夷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做宾语：考过驾照的人有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你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真正的勇士永远是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们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真正美丽的地方就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们这儿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44280"/>
            <a:ext cx="9144000" cy="515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副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、概念：修饰限制动词或形容词，表示它们的程度、范围、时间等意义的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、种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程度副词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很、最、非常、十分、格外、分外 、更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越、稍微、几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范围副词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都、总、总共、统统、只、仅仅、单 、一齐、一概、一律、单单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频率副词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已 已经、曾、曾经、刚、刚刚、正、正在、将、将要、渐渐、屡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否定副词、肯定副词：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一定、必须、必定、准、的确、不、没有、没、未必、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260280"/>
            <a:ext cx="9144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、语法特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常做句子的状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这个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很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热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今年夏天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十分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今年很多人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没有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穿夏衣，就度过了这个季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-473040"/>
            <a:ext cx="914400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看下面的例子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我【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从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家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里】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我们【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在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老师的家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里】【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静静地】听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雷锋【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从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旧社会】走过来，自然知道苦难是怎么一回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【在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上大学期间】，她就学完了古代汉语的研究生课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小王【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把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老师】交给他的书全部都借给了他的小弟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小王【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被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蜜蜂】蛰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276720"/>
            <a:ext cx="9144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介词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、概念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介词是虚词的一种，它不能单独使用，必须放在名词（名词短语）或代词前，组成介宾短语做谓语的状语或补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502920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看下面的例子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152280" y="5468760"/>
            <a:ext cx="38862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从 自从  自打  在  趁 趁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当着  于  由  沿着 随着  赶 临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548640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5562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表示时间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2280" y="152280"/>
            <a:ext cx="4343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从  自……到  朝  向  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沿着  顺着  往  打……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22860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4080" y="228600"/>
            <a:ext cx="35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表示地点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1371600"/>
            <a:ext cx="3886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按  按照  依照  依着  本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经过、经  通过 根据  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凭 凭着  用  拿 靠  照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1447920"/>
            <a:ext cx="76320" cy="99036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00400" y="167652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表示依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20" y="2895480"/>
            <a:ext cx="2666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因、由于、为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为了 为着 缘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895480"/>
            <a:ext cx="76320" cy="685800"/>
          </a:xfrm>
          <a:custGeom>
            <a:avLst/>
            <a:gdLst>
              <a:gd name="textAreaLeft" fmla="*/ 0 w 76320"/>
              <a:gd name="textAreaRight" fmla="*/ 27360 w 763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8120" y="2986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表示目的、原因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267080"/>
            <a:ext cx="3352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对、对于、关、关于、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同、与、跟、和、给、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让、将、管、被、把、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4419720"/>
            <a:ext cx="76320" cy="99036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4648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表示对象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8672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比、比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588168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表示比较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64008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除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641520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表示排除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533520"/>
            <a:ext cx="9068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介词的种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表示时间、地点、方式、依据、原因对象、比较、排除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语法功能：作谓语的状语或补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91456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看下面的例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同学们【在阅览室】看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老师【同他】谈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我们必须【按客观规律】办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我们的生活【比过去】【更】好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91320" y="3581280"/>
            <a:ext cx="152280" cy="1905120"/>
          </a:xfrm>
          <a:custGeom>
            <a:avLst/>
            <a:gdLst>
              <a:gd name="textAreaLeft" fmla="*/ 0 w 152280"/>
              <a:gd name="textAreaRight" fmla="*/ 55080 w 15228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5880" y="4267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作谓语的状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791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他把书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在桌子上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57913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作补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35244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北京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和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上海是直辖市。（连接词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你可以把它放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桌子上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放在抽屉里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。 （连接短语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吉姆虽然不聪敏，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但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是他很用功。（连接复句的分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25576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连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虚词的一种，</a:t>
            </a:r>
            <a:r>
              <a:rPr b="1" lang="zh-CN" sz="2400" spc="-1" strike="noStrike">
                <a:solidFill>
                  <a:srgbClr val="ffff66"/>
                </a:solidFill>
                <a:latin typeface="ˎ̥"/>
              </a:rPr>
              <a:t>用于连接句子中的单词、短语，复句的分句或连接句子的词叫作连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ˎ̥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ˎ̥"/>
              </a:rPr>
              <a:t>、标志：连词在短语或句子中只起连接作用，不做句子成分。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34340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种类：和、跟、同、与、而、而且、及、以及、不但……而且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虽然……但是……     不但……而且……      如果……那么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476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语言单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1413000"/>
            <a:ext cx="864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字  语素   词    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短语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句子     句群     段     文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152280"/>
            <a:ext cx="8991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看下面的例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唉、啊、 哎呀、哼 、哎哟、喂、嗯、哦、哈哈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1447920"/>
            <a:ext cx="87631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叹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概念：是虚词的一种，表示应答、呼唤的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语法功能：叹词可以做句子成分或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哼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了一声。（“哼”做句子的谓语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喂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！你在哪儿？（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喂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”做句子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2280" y="152280"/>
            <a:ext cx="8839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看下面的例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轰隆隆  咣  吧唧   呱叽  呱呱叫   哗啦   叮当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噼里啪啦   叽里咕噜  呼呼  叭叭   哗哗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哞哞    咩咩    咯咯     嘤嘤     嗡嗡    喀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228600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拟声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概念：模拟自然界、动物或人的声音的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581280"/>
            <a:ext cx="8991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看下面的例子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）北风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呼呼叫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，大雪纷纷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）外面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叭叭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地响起枪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）河水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哗哗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地流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9880" y="4114800"/>
            <a:ext cx="76320" cy="1219320"/>
          </a:xfrm>
          <a:custGeom>
            <a:avLst/>
            <a:gdLst>
              <a:gd name="textAreaLeft" fmla="*/ 0 w 76320"/>
              <a:gd name="textAreaRight" fmla="*/ 27360 w 763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38480" y="44197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作句子的成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76320" y="5851440"/>
            <a:ext cx="4267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咣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，门被什么人踢开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）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轰隆隆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！外面传来一声炮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5791320"/>
            <a:ext cx="76320" cy="838080"/>
          </a:xfrm>
          <a:custGeom>
            <a:avLst/>
            <a:gdLst>
              <a:gd name="textAreaLeft" fmla="*/ 0 w 76320"/>
              <a:gd name="textAreaRight" fmla="*/ 2736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14800" y="601992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作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5228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看下面的例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762120"/>
            <a:ext cx="8686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我们民族历史上最（灿烂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的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（科学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的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春天到来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大家都【圆满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地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】完成了自己的任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李老师高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得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说不出话来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838080"/>
            <a:ext cx="75960" cy="990720"/>
          </a:xfrm>
          <a:custGeom>
            <a:avLst/>
            <a:gdLst>
              <a:gd name="textAreaLeft" fmla="*/ 0 w 75960"/>
              <a:gd name="textAreaRight" fmla="*/ 27360 w 7596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400800" y="1081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66"/>
                </a:solidFill>
                <a:latin typeface="Arial"/>
              </a:rPr>
              <a:t>结构助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2971800"/>
            <a:ext cx="6705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暴雨哗哗地下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着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我们两个聚精会神地看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着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伟大的中华人民共和国已经走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过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艰难的八年抗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他吃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过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饭，就匆匆地赶向图书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大家都进入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了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教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他给我买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了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一本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248520" y="3200400"/>
            <a:ext cx="75960" cy="1981080"/>
          </a:xfrm>
          <a:custGeom>
            <a:avLst/>
            <a:gdLst>
              <a:gd name="textAreaLeft" fmla="*/ 0 w 75960"/>
              <a:gd name="textAreaRight" fmla="*/ 27360 w 759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3581280"/>
            <a:ext cx="2666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情态助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表示动作的时态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28600" y="304920"/>
            <a:ext cx="54864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你们不会忘记我们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树叶绿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别说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你倒过北京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天晴了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梁生宝还要问什么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多好啊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）请坐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380880"/>
            <a:ext cx="75960" cy="3200400"/>
          </a:xfrm>
          <a:custGeom>
            <a:avLst/>
            <a:gdLst>
              <a:gd name="textAreaLeft" fmla="*/ 0 w 75960"/>
              <a:gd name="textAreaRight" fmla="*/ 27360 w 7596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184320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语气助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4114800"/>
            <a:ext cx="8839440" cy="21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助词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、概念：附着在词或短语后，表示某种语法意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、种类：看前面可知有</a:t>
            </a:r>
            <a:r>
              <a:rPr b="1" lang="zh-CN" sz="1800" spc="-1" strike="noStrike">
                <a:solidFill>
                  <a:srgbClr val="ffff66"/>
                </a:solidFill>
                <a:latin typeface="Arial"/>
              </a:rPr>
              <a:t>结构助词、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情态助词、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语气助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、语法功能：和别的词语共同构成句子成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NA01441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599320" y="6237360"/>
            <a:ext cx="544680" cy="6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28600" y="1857240"/>
            <a:ext cx="457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短语类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1371600"/>
            <a:ext cx="152640" cy="2971800"/>
          </a:xfrm>
          <a:custGeom>
            <a:avLst/>
            <a:gdLst>
              <a:gd name="textAreaLeft" fmla="*/ 97560 w 152640"/>
              <a:gd name="textAreaRight" fmla="*/ 153000 w 15264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11430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一、概念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396252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二、种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91440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914400"/>
            <a:ext cx="609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短语是由两个或两个以上的词构成的语言单位，它用来构成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2895480"/>
            <a:ext cx="152640" cy="2819520"/>
          </a:xfrm>
          <a:custGeom>
            <a:avLst/>
            <a:gdLst>
              <a:gd name="textAreaLeft" fmla="*/ 97560 w 152640"/>
              <a:gd name="textAreaRight" fmla="*/ 153000 w 1526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2666880"/>
            <a:ext cx="5867280" cy="32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名词短语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动词短语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形容词短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主谓短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介宾短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连动短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NA01441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599320" y="6243480"/>
            <a:ext cx="54468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52280" y="15228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一、名词短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、概念：以名词为主要成分的短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1600200"/>
            <a:ext cx="8839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、类型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243828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(1)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并列关系的名词短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3276720"/>
            <a:ext cx="86104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山川树木  花鸟草虫   动物和植物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大海和高山   北京和上海  北大和清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NA01441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599320" y="6237360"/>
            <a:ext cx="544680" cy="6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52280" y="152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偏正关系的名词短语（常带“的”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762120"/>
            <a:ext cx="86104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伟大的祖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雄伟的喜马拉雅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巍峨的昆仑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成长的岁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万里长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诚实青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我的书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小王的文具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NA01441_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599320" y="6237360"/>
            <a:ext cx="544680" cy="61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304920"/>
            <a:ext cx="8686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）“的”字短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280" y="1066680"/>
            <a:ext cx="87631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家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六一公公家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王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们二完中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）复指短语（在这个短语中，两个名词指的事物或人完全相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1676520"/>
            <a:ext cx="861048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卓越的科学家竺可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我们敬爱的总理周恩来同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今天星期六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52280" y="2438280"/>
            <a:ext cx="60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动词短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1523880"/>
            <a:ext cx="152280" cy="2971800"/>
          </a:xfrm>
          <a:custGeom>
            <a:avLst/>
            <a:gdLst>
              <a:gd name="textAreaLeft" fmla="*/ 97200 w 152280"/>
              <a:gd name="textAreaRight" fmla="*/ 152640 w 15228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12952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概念：以动词为主要成分的短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40384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类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3200400"/>
            <a:ext cx="75960" cy="2133720"/>
          </a:xfrm>
          <a:custGeom>
            <a:avLst/>
            <a:gdLst>
              <a:gd name="textAreaLeft" fmla="*/ 48600 w 75960"/>
              <a:gd name="textAreaRight" fmla="*/ 76320 w 7596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666880" y="2971800"/>
            <a:ext cx="62485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并列关系的动词短语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偏正关系的动词短语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动宾短语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动补短语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状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动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宾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补”或“状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动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补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宾”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26028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语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、概念：最小的音义结合体，是构成词的备用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7336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、种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从构词能力上分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自由语素    花  鸟  打  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半自由语素：  机——飞机  机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不自由语素：阿——阿姨  阿爸  阿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并列关系的动词短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990720"/>
            <a:ext cx="861084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说说笑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打打闹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载歌载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既哭又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哭哭闹闹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33960" y="152280"/>
            <a:ext cx="276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偏正关系的动词短语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838080"/>
            <a:ext cx="9144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紧张地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刻苦地钻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静静地听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聚精会神地听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深入地思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深层地挖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）动宾短语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1066680"/>
            <a:ext cx="8686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保卫祖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骑自行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上北京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去商业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上语文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复习数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）动补关系的动词短语※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280" y="990720"/>
            <a:ext cx="87631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说得很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长得很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蛰得很严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举得很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走得很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2286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）“状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动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宾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补”或“状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动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补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宾”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1214280"/>
            <a:ext cx="91440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慢慢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摘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了两次红军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渐渐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了两米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高高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了杠铃两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狠狠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打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了他两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22860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形容词短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、概念：以形容词为主要成分的短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4114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类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2895480"/>
            <a:ext cx="152280" cy="3276720"/>
          </a:xfrm>
          <a:custGeom>
            <a:avLst/>
            <a:gdLst>
              <a:gd name="textAreaLeft" fmla="*/ 97200 w 152280"/>
              <a:gd name="textAreaRight" fmla="*/ 152640 w 152280"/>
              <a:gd name="textAreaTop" fmla="*/ 85320 h 3276720"/>
              <a:gd name="textAreaBottom" fmla="*/ 3191400 h 32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2590920"/>
            <a:ext cx="5790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并列关系的形容词短语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偏正关系的形容词短语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形补关系的形容词短语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状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形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补”关系的形容词短语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1522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并列关系的形容词短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762120"/>
            <a:ext cx="861084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高高大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肥肥壮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既高又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红红绿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高高低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长长短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偏正关系的形容词短语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990720"/>
            <a:ext cx="91440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很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十分鲜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格外明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分外妖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十分朴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很是淳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十分皎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）形补关系的形容词短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90720"/>
            <a:ext cx="9144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红得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大三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小一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瘦一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66"/>
                </a:solidFill>
                <a:latin typeface="Arial"/>
              </a:rPr>
              <a:t>黑一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28600" y="22860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）“状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形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ffff66"/>
                </a:solidFill>
                <a:latin typeface="Arial"/>
              </a:rPr>
              <a:t>补”关系的形容词短语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219320"/>
            <a:ext cx="91440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比你大二十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比你胖了十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Arial"/>
              </a:rPr>
              <a:t>比以前瘦了一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89000"/>
            <a:ext cx="9144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、概念：是最小的能够独立运用的语言单位，是构成短语和句子的备用单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、种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421000"/>
            <a:ext cx="896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单纯词：只有一个词构成，只有一个意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苗条   英特网     山    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36360" y="4218120"/>
            <a:ext cx="9036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合成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由两个或两个以上的词构成，两个或两个以上的意思构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例如：天津港    世界杯    春天的北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15228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主谓短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、概念：此类短语由两部分构成，前面的部分是被说明的对象，后一陈述前一部分是什么，干什么怎么样的短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209680"/>
            <a:ext cx="9144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标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从形式上看：前一部分是名词（名词短语）、代词；后一部分是名词（名词短语）、动词（动词短语）、形容词（形容词短语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从意思上看，后一部分常常和前一部分发生如下关系：回答前一部分是什么，干什么，怎么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52280" y="182880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种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609480"/>
            <a:ext cx="152280" cy="4648320"/>
          </a:xfrm>
          <a:custGeom>
            <a:avLst/>
            <a:gdLst>
              <a:gd name="textAreaLeft" fmla="*/ 97200 w 152280"/>
              <a:gd name="textAreaRight" fmla="*/ 152640 w 15228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685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后一部分回答前一部分“是什么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13716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小王是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我们的班长 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今天是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星期天 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我是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你的父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24382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后一部分回答前一部分“怎么样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320040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他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十分淳朴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公园里的花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格外漂亮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小镇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很热闹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十五的夜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十分迷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90720" y="4800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后一部分回答前一部分“干什么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5410080"/>
            <a:ext cx="7467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晓钢同学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帮助我复习功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读书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上课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妈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爱我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 解放军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保卫边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     红旗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飘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15228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句子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概念：由短语或词构成，是具有特定句调，能够表达一个相对完整的意思的语言单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标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必须具有一个相对独立完整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必须具有一定的语气和语调，在书面上有一个句末标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雷锋是我们时代的杰出代表（短语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雷锋是我们时代的杰出代表！（句子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老师：同学们，你们懂不懂这个问题呀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学生：懂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286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句子种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371600" y="1523880"/>
            <a:ext cx="76320" cy="3581640"/>
          </a:xfrm>
          <a:custGeom>
            <a:avLst/>
            <a:gdLst>
              <a:gd name="textAreaLeft" fmla="*/ 48960 w 76320"/>
              <a:gd name="textAreaRight" fmla="*/ 76320 w 76320"/>
              <a:gd name="textAreaTop" fmla="*/ 93240 h 3581640"/>
              <a:gd name="textAreaBottom" fmla="*/ 3488400 h 358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143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语气、用途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533520"/>
            <a:ext cx="75960" cy="1676160"/>
          </a:xfrm>
          <a:custGeom>
            <a:avLst/>
            <a:gdLst>
              <a:gd name="textAreaLeft" fmla="*/ 48600 w 75960"/>
              <a:gd name="textAreaRight" fmla="*/ 76320 w 7596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657600" y="152280"/>
            <a:ext cx="5486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陈述句：“我们就要参加高考了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疑问句：“小王走了？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感叹句：“时间过得真快呀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祈使句：“还不赶快学！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23880" y="3048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结构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43200" y="2514600"/>
            <a:ext cx="76320" cy="1676520"/>
          </a:xfrm>
          <a:custGeom>
            <a:avLst/>
            <a:gdLst>
              <a:gd name="textAreaLeft" fmla="*/ 48960 w 76320"/>
              <a:gd name="textAreaRight" fmla="*/ 76320 w 763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95480" y="2514600"/>
            <a:ext cx="5715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单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复句（只能用一个句末标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5029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构成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43200" y="4648320"/>
            <a:ext cx="76320" cy="1295280"/>
          </a:xfrm>
          <a:custGeom>
            <a:avLst/>
            <a:gdLst>
              <a:gd name="textAreaLeft" fmla="*/ 48960 w 76320"/>
              <a:gd name="textAreaRight" fmla="*/ 76320 w 763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8120" y="4556160"/>
            <a:ext cx="4267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、主谓句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、非主谓句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、特殊句子（六种）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31240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主谓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43000" y="2743200"/>
            <a:ext cx="76320" cy="1447920"/>
          </a:xfrm>
          <a:custGeom>
            <a:avLst/>
            <a:gdLst>
              <a:gd name="textAreaLeft" fmla="*/ 48960 w 76320"/>
              <a:gd name="textAreaRight" fmla="*/ 76320 w 763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2465280"/>
            <a:ext cx="4496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一般主谓句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主谓谓语句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04920" y="228600"/>
            <a:ext cx="8762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主谓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概念：由主谓短语构成的句子叫主谓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种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52280" y="172548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般主谓句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：比较简单的主谓短语充当的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老师在给我讲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同学们在静静地记笔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师生们在愉快地学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52280" y="4419720"/>
            <a:ext cx="9144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主谓谓语句：谓语是由主谓短语构成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例如：这部电影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我看过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。这件事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大家都知道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任何困难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他都能克服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。 他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哪儿都去过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。 她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态度和蔼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这三个问题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我们讨论了两个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。 这件事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中国人的经验太多了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这类富人看也不看的饭食，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母亲却做得一家人吃起来很有滋味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52280" y="22860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228600"/>
            <a:ext cx="8610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非主谓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概念：由主谓短语以外的短语或词构成的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种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NA00864_" descr=""/>
          <p:cNvPicPr/>
          <p:nvPr/>
        </p:nvPicPr>
        <p:blipFill>
          <a:blip r:embed="rId1"/>
          <a:stretch/>
        </p:blipFill>
        <p:spPr>
          <a:xfrm>
            <a:off x="8734320" y="6504120"/>
            <a:ext cx="409680" cy="3538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52280" y="1752480"/>
            <a:ext cx="9144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a.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名词非主谓句：由名词或名词短语构成的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小王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北大的！   蛇！  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402000"/>
            <a:ext cx="9372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b.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动词非主谓句：由动词或动词短语构成的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走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去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上课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下雨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NA00864_" descr=""/>
          <p:cNvPicPr/>
          <p:nvPr/>
        </p:nvPicPr>
        <p:blipFill>
          <a:blip r:embed="rId1"/>
          <a:stretch/>
        </p:blipFill>
        <p:spPr>
          <a:xfrm>
            <a:off x="8734320" y="6497640"/>
            <a:ext cx="409680" cy="353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0" y="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c.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形容词非主谓句：由形容词或形容词短语构成的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很好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非常美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很胖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好可怕呀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27672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d.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其他非主谓句：由这三类以外的词或短语构成的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两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轰隆隆！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下雨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我们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哎哟！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你说对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2743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特殊句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1676520"/>
            <a:ext cx="76320" cy="2590560"/>
          </a:xfrm>
          <a:custGeom>
            <a:avLst/>
            <a:gdLst>
              <a:gd name="textAreaLeft" fmla="*/ 48960 w 76320"/>
              <a:gd name="textAreaRight" fmla="*/ 76320 w 763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1600200"/>
            <a:ext cx="6858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）把字句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）被动句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）连动句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）存现句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5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）双宾句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6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）兼语句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NA00864_" descr=""/>
          <p:cNvPicPr/>
          <p:nvPr/>
        </p:nvPicPr>
        <p:blipFill>
          <a:blip r:embed="rId1"/>
          <a:stretch/>
        </p:blipFill>
        <p:spPr>
          <a:xfrm>
            <a:off x="8734320" y="6497640"/>
            <a:ext cx="409680" cy="35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8600" y="304920"/>
            <a:ext cx="876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）“把”字句：由“把”或在意思上相当于“把”组成的介宾短语作状语的句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219320"/>
            <a:ext cx="8763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老师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把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我们表扬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同学们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给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教室打扫了一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我们一定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把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淮河治理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老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给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炉子生上了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他让卖粥的大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把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粥盛在饭盒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8000" y="189000"/>
            <a:ext cx="90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词从词性的角度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575160"/>
            <a:ext cx="11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2567160"/>
            <a:ext cx="144720" cy="2590560"/>
          </a:xfrm>
          <a:custGeom>
            <a:avLst/>
            <a:gdLst>
              <a:gd name="textAreaLeft" fmla="*/ 92520 w 144720"/>
              <a:gd name="textAreaRight" fmla="*/ 145080 w 144720"/>
              <a:gd name="textAreaTop" fmla="*/ 67320 h 2590560"/>
              <a:gd name="textAreaBottom" fmla="*/ 252324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220500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实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90560" y="1701720"/>
            <a:ext cx="144720" cy="1656000"/>
          </a:xfrm>
          <a:custGeom>
            <a:avLst/>
            <a:gdLst>
              <a:gd name="textAreaLeft" fmla="*/ 92520 w 144720"/>
              <a:gd name="textAreaRight" fmla="*/ 145080 w 144720"/>
              <a:gd name="textAreaTop" fmla="*/ 42840 h 1656000"/>
              <a:gd name="textAreaBottom" fmla="*/ 1613160 h 165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1627200"/>
            <a:ext cx="6913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名词   动词  形容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数词   量词   代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49417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虚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2360" y="4365720"/>
            <a:ext cx="144360" cy="1655640"/>
          </a:xfrm>
          <a:custGeom>
            <a:avLst/>
            <a:gdLst>
              <a:gd name="textAreaLeft" fmla="*/ 92160 w 144360"/>
              <a:gd name="textAreaRight" fmla="*/ 144360 w 14436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9640" y="4305240"/>
            <a:ext cx="5616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副词  介词   连词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叹词  助词   拟声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28600"/>
            <a:ext cx="883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被动句：主语是受动对象，谓语前由一个带“被”或意思上相当于“被”的介词组成的介宾短语作状语而构成的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752480"/>
            <a:ext cx="914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蜻蜓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被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孩子们捉住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树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被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风吹跑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苍蝇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被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消灭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一切困难都将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被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全国人民所战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给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蜜蜂蛰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小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让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水冲跑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一切反对人们的人都将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为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人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所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抛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叫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老师表扬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52280" y="22860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连动句：谓语由两个或两个以上动词或动词短语构成的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1143000"/>
            <a:ext cx="89154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艳艳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下河洗菜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她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低着头想着往事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他俩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握住手不放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大家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听了这个消息很高兴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小王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上街买教材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王师傅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用钳子夹住了钉子并拔出来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到师部参加培训准备升职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152280"/>
            <a:ext cx="91440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）存现句：表示何时何地存在、出现或消失了什么人或物的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1143000"/>
            <a:ext cx="9144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标志：主语往往是方位名词或方位名词短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谓语常常是存现动词（存现动词：表示事物存在、出现或消失的意思的动词，例如：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在 、存在 、发生、  出现、消逝、进化、质变、演化、有、  演变  、 发展 、 生长  、 死亡 、 消失</a:t>
            </a:r>
            <a:r>
              <a:rPr b="1" lang="zh-CN" sz="2000" spc="-1" strike="noStrike">
                <a:solidFill>
                  <a:srgbClr val="ffff66"/>
                </a:solidFill>
                <a:latin typeface="Arial"/>
              </a:rPr>
              <a:t> 、升华、发达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2971800"/>
            <a:ext cx="914400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例如：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河塘的四周有高高低低的树，蓊蓊郁郁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床上躺着一个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桌子上放着一本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姥姥家门口有一棵大槐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她家死了一只鸡。大路上走过来一队骆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屋顶上飘着一面红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天空中飞着一只老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1522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是”字句：谓语带是的句子，它也是存现句的一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标志：翻译成英语时相当于英语的主系表的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6320" y="1219320"/>
            <a:ext cx="6858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北极是人类不易生存的地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他的家乡是黑龙江青冈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我的老家是上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我们是中国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我们伟大的祖国是一个历史悠久人口众多的国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2280" y="152280"/>
            <a:ext cx="8763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）双宾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概念：谓语带两个宾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1371600"/>
            <a:ext cx="9144000" cy="58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她告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一个好消息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罗师长的话给了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很大的启示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王老师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们英语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他先后送给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资料室几本珍贵的书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他问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我哪个办法最好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我们请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领导怎么回答人家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大家叫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他李大哥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15228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兼语句：由兼语短语充当谓语或独立成句的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     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标志：首先，谓语由使令动词构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                 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其次，谓语后有兼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2133720"/>
            <a:ext cx="89154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（使令动词：在意思上有命令意味的动词“令”“叫”“让”“派”“催”“逼迫”逼“求”“请”“托”“托付”“嘱咐”“动”“员”“发动”“组织”“号召”“倡议”“倡导”“嘱托”“吩咐”“有”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大家选他当班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老师鼓励大家学好功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老师叫你交作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我感谢你告诉了我这个消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我爱他勤劳朴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我们学校有三百个学生考入了重点大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8000" y="44280"/>
            <a:ext cx="914400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名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概念：表示人或事物的名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114300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种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表示人的：雷锋  黄继光    同志  作家   老师  学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表示物的： 水  山   马   稻子  飞机  原子   计算机  车辆   道德  文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表示时间的：  秋天   明年   早晨   星期天   现在  过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表示地点的：上海   中国   亚洲   远处  近处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表示方位的（方位名词）：  上  下   左   右   前    后   周围   里面 四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472428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所做的句子成分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常做句子的主语或宾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雷锋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是我们学习的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榜样。小鸟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飞上了高高的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柳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2280" y="0"/>
            <a:ext cx="88567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动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概念：表示动作、行为、心理活动或存在、变化、消失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1219320"/>
            <a:ext cx="885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种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-76320" y="182880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表示动作、行为的（一般动词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走、坐 、听、批评   宣传  保卫   研究   开始   停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-76320" y="32608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表示存在消失的（存现动词）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在 、存在 、发生、  有、  演变  、 发展 、 生长  、 死亡 、 消失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2069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表示心理活动的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爱 、恨、怕  想念、打算、希望、害怕   担心、讨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-76320" y="50734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表示判断的（判断动词）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76320" y="5715000"/>
            <a:ext cx="92203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）表示可能、意愿、必要的（助动词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能  能够  会  可以  愿  愿意  肯   敢   要   应当  应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60280"/>
            <a:ext cx="8964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、语法特征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做句子的谓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例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他正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听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课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小王对他的表弟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说</a:t>
            </a:r>
            <a:r>
              <a:rPr b="1" lang="zh-CN" sz="2800" spc="-1" strike="noStrike">
                <a:solidFill>
                  <a:srgbClr val="ffff66"/>
                </a:solidFill>
                <a:latin typeface="Arial"/>
              </a:rPr>
              <a:t>了几句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44280"/>
            <a:ext cx="87138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形容词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勇敢  坚强   大   小   强   弱   矮   胖  红的  黑的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、标志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例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激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战斗打响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这花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[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很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]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美丽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。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6541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概念：表示事物的性质、状态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697120"/>
            <a:ext cx="9144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能受副词修饰。例如：很勇敢   非常好   格外美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能带“的”    勇敢的   美丽的  好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8098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、语法功能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常做句子的谓语或定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10:19:20Z</dcterms:created>
  <dc:creator>zyj</dc:creator>
  <dc:description/>
  <dc:language>en-US</dc:language>
  <cp:lastModifiedBy>zyj</cp:lastModifiedBy>
  <dcterms:modified xsi:type="dcterms:W3CDTF">2006-08-06T14:46:24Z</dcterms:modified>
  <cp:revision>25</cp:revision>
  <dc:subject/>
  <dc:title>幻灯片 1</dc:title>
</cp:coreProperties>
</file>