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22.png" ContentType="image/png"/>
  <Override PartName="/ppt/media/image19.gif" ContentType="image/gif"/>
  <Override PartName="/ppt/media/driveby.wav" ContentType="audio/x-wav"/>
  <Override PartName="/ppt/media/laser.wav" ContentType="audio/x-wav"/>
  <Override PartName="/ppt/media/image16.jpeg" ContentType="image/jpeg"/>
  <Override PartName="/ppt/media/image17.jpeg" ContentType="image/jpeg"/>
  <Override PartName="/ppt/media/carbrake.wav" ContentType="audio/x-wav"/>
  <Override PartName="/ppt/media/chimes.wav" ContentType="audio/x-wav"/>
  <Override PartName="/ppt/media/image12.jpeg" ContentType="image/jpeg"/>
  <Override PartName="/ppt/media/explode.wav" ContentType="audio/x-wav"/>
  <Override PartName="/ppt/media/image11.gif" ContentType="image/gif"/>
  <Override PartName="/ppt/media/image1.jpeg" ContentType="image/jpeg"/>
  <Override PartName="/ppt/media/image20.gif" ContentType="image/gif"/>
  <Override PartName="/ppt/media/image18.gif" ContentType="image/gif"/>
  <Override PartName="/ppt/media/image13.jpeg" ContentType="image/jpeg"/>
  <Override PartName="/ppt/media/camera.wav" ContentType="audio/x-wav"/>
  <Override PartName="/ppt/media/image21.png" ContentType="image/png"/>
  <Override PartName="/ppt/media/image23.gif" ContentType="image/gif"/>
  <Override PartName="/ppt/media/image29.gif" ContentType="image/gif"/>
  <Override PartName="/ppt/media/gunshot.wav" ContentType="audio/x-wav"/>
  <Override PartName="/ppt/media/image26.png" ContentType="image/png"/>
  <Override PartName="/ppt/media/image33.gif" ContentType="image/gif"/>
  <Override PartName="/ppt/media/ricochet.wav" ContentType="audio/x-wav"/>
  <Override PartName="/ppt/media/glass.wav" ContentType="audio/x-wav"/>
  <Override PartName="/ppt/media/image24.wmf" ContentType="image/x-wmf"/>
  <Override PartName="/ppt/media/image28.gif" ContentType="image/gif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6.png" ContentType="image/png"/>
  <Override PartName="/ppt/media/type.wav" ContentType="audio/x-wav"/>
  <Override PartName="/ppt/media/image14.gif" ContentType="image/gif"/>
  <Override PartName="/ppt/media/image4.jpeg" ContentType="image/jpeg"/>
  <Override PartName="/ppt/media/image27.gif" ContentType="image/gif"/>
  <Override PartName="/ppt/media/whoosh.wav" ContentType="audio/x-wav"/>
  <Override PartName="/ppt/media/image8.jpeg" ContentType="image/jpeg"/>
  <Override PartName="/ppt/media/image5.png" ContentType="image/png"/>
  <Override PartName="/ppt/media/image10.jpeg" ContentType="image/jpeg"/>
  <Override PartName="/ppt/media/image25.png" ContentType="image/png"/>
  <Override PartName="/ppt/media/image2.gif" ContentType="image/gif"/>
  <Override PartName="/ppt/media/image32.gif" ContentType="image/gif"/>
  <Override PartName="/ppt/media/image7.jpeg" ContentType="image/jpeg"/>
  <Override PartName="/ppt/media/coin.wav" ContentType="audio/x-wav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3E4-6B57-408E-A483-E9BE1761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5A5C-FDB6-4BB1-A2E0-399FF9C1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220-1C79-4DB9-94C0-6B13808E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2DE5-25F2-4AED-B9FA-8C6C680E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6261-AE27-4098-B2C7-30363900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39C-3930-4CE0-B7DB-96B63E1E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CA83-3E10-4803-A4D3-6252BA46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95C9-DF61-42B0-B503-6D63EAAE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AB47-0CC1-46A1-9F72-FE553782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6EEB-05E1-49E6-81A4-6B1D15FC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0A1-FA59-43AA-8D44-0DEDF53B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CAD-5C78-42FF-A704-81F74D62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7278-6237-42A8-9F69-F3E444A027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audio" Target="../media/type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audio" Target="../media/laser.wav"/><Relationship Id="rId14" Type="http://schemas.openxmlformats.org/officeDocument/2006/relationships/audio" Target="../media/laser.wav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audio" Target="../media/chimes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audio" Target="../media/driveby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audio" Target="../media/type.wav"/><Relationship Id="rId7" Type="http://schemas.openxmlformats.org/officeDocument/2006/relationships/audio" Target="../media/gunshot.wav"/><Relationship Id="rId8" Type="http://schemas.openxmlformats.org/officeDocument/2006/relationships/audio" Target="../media/gunshot.wav"/><Relationship Id="rId9" Type="http://schemas.openxmlformats.org/officeDocument/2006/relationships/audio" Target="../media/gunshot.wav"/><Relationship Id="rId10" Type="http://schemas.openxmlformats.org/officeDocument/2006/relationships/audio" Target="../media/gunshot.wav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audio" Target="../media/explod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audio" Target="../media/carbrake.wav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type.wav"/><Relationship Id="rId8" Type="http://schemas.openxmlformats.org/officeDocument/2006/relationships/audio" Target="../media/projctor.wav"/><Relationship Id="rId9" Type="http://schemas.openxmlformats.org/officeDocument/2006/relationships/audio" Target="../media/chimes.wav"/><Relationship Id="rId10" Type="http://schemas.openxmlformats.org/officeDocument/2006/relationships/audio" Target="../media/laser.wav"/><Relationship Id="rId11" Type="http://schemas.openxmlformats.org/officeDocument/2006/relationships/audio" Target="../media/laser.wav"/><Relationship Id="rId12" Type="http://schemas.openxmlformats.org/officeDocument/2006/relationships/audio" Target="../media/laser.wav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whoosh.wav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7.gif"/><Relationship Id="rId5" Type="http://schemas.openxmlformats.org/officeDocument/2006/relationships/audio" Target="../media/projctor.wav"/><Relationship Id="rId6" Type="http://schemas.openxmlformats.org/officeDocument/2006/relationships/audio" Target="../media/explode.wav"/><Relationship Id="rId7" Type="http://schemas.openxmlformats.org/officeDocument/2006/relationships/audio" Target="../media/ricochet.wav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audio" Target="../media/projctor.wav"/><Relationship Id="rId7" Type="http://schemas.openxmlformats.org/officeDocument/2006/relationships/audio" Target="../media/camera.wav"/><Relationship Id="rId8" Type="http://schemas.openxmlformats.org/officeDocument/2006/relationships/audio" Target="../media/driveby.wav"/><Relationship Id="rId9" Type="http://schemas.openxmlformats.org/officeDocument/2006/relationships/audio" Target="../media/driveby.wav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png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audio" Target="../media/projctor.wav"/><Relationship Id="rId7" Type="http://schemas.openxmlformats.org/officeDocument/2006/relationships/audio" Target="../media/chimes.wav"/><Relationship Id="rId8" Type="http://schemas.openxmlformats.org/officeDocument/2006/relationships/audio" Target="../media/glass.wav"/><Relationship Id="rId9" Type="http://schemas.openxmlformats.org/officeDocument/2006/relationships/audio" Target="../media/glass.wav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gif"/><Relationship Id="rId6" Type="http://schemas.openxmlformats.org/officeDocument/2006/relationships/image" Target="../media/image32.gif"/><Relationship Id="rId7" Type="http://schemas.openxmlformats.org/officeDocument/2006/relationships/image" Target="../media/image33.gif"/><Relationship Id="rId8" Type="http://schemas.openxmlformats.org/officeDocument/2006/relationships/audio" Target="../media/projctor.wav"/><Relationship Id="rId9" Type="http://schemas.openxmlformats.org/officeDocument/2006/relationships/audio" Target="../media/chimes.wav"/><Relationship Id="rId10" Type="http://schemas.openxmlformats.org/officeDocument/2006/relationships/audio" Target="../media/carbrake.wav"/><Relationship Id="rId11" Type="http://schemas.openxmlformats.org/officeDocument/2006/relationships/audio" Target="../media/laser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gif"/><Relationship Id="rId12" Type="http://schemas.openxmlformats.org/officeDocument/2006/relationships/audio" Target="../media/type.wav"/><Relationship Id="rId13" Type="http://schemas.openxmlformats.org/officeDocument/2006/relationships/audio" Target="../media/explode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98000">
            <a:off x="1692000" y="2060280"/>
            <a:ext cx="27367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时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88000" y="2060640"/>
            <a:ext cx="25905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态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  <p:sndAc>
      <p:stSnd>
        <p:snd r:embed="rId2" name="coi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5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01800" y="2044800"/>
          <a:ext cx="7696080" cy="4383000"/>
        </p:xfrm>
        <a:graphic>
          <a:graphicData uri="http://schemas.openxmlformats.org/drawingml/2006/table">
            <a:tbl>
              <a:tblPr/>
              <a:tblGrid>
                <a:gridCol w="2133720"/>
                <a:gridCol w="5562360"/>
              </a:tblGrid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时态名称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现在进行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表示意思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表示说话时正在发生的动作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或是现阶段正发生而此刻不一定在进行的动作。（准备考试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构成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Be  </a:t>
                      </a:r>
                      <a:r>
                        <a:rPr b="1" lang="en-US" sz="36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+</a:t>
                      </a: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标志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no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例句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He is watching TV  now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"/>
          <p:cNvSpPr txBox="1"/>
          <p:nvPr/>
        </p:nvSpPr>
        <p:spPr>
          <a:xfrm>
            <a:off x="1206360" y="673200"/>
            <a:ext cx="3810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4.</a:t>
            </a:r>
            <a:r>
              <a:rPr b="0" lang="zh-CN" sz="1800" spc="1" strike="noStrike">
                <a:ln w="0">
                  <a:noFill/>
                </a:ln>
                <a:solidFill>
                  <a:srgbClr val="0000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现在进行时</a:t>
            </a:r>
            <a:endParaRPr b="0" lang="en-US" sz="1800" spc="1" strike="noStrike">
              <a:ln w="0">
                <a:noFill/>
              </a:ln>
              <a:solidFill>
                <a:srgbClr val="0000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67280" cy="549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31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现在进行时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1280" y="765000"/>
          <a:ext cx="7705800" cy="4064040"/>
        </p:xfrm>
        <a:graphic>
          <a:graphicData uri="http://schemas.openxmlformats.org/drawingml/2006/table">
            <a:tbl>
              <a:tblPr/>
              <a:tblGrid>
                <a:gridCol w="2016000"/>
                <a:gridCol w="5689800"/>
              </a:tblGrid>
              <a:tr h="135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stretch/>
                    </a:blipFill>
                  </a:tcPr>
                </a:tc>
              </a:tr>
              <a:tr h="13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stretch/>
                    </a:blipFill>
                  </a:tcPr>
                </a:tc>
              </a:tr>
              <a:tr h="13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stretch/>
                    </a:blipFill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611280" y="119700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正在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249228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一直进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357336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always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连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27280" y="119700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ook, they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are playing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footb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27280" y="24922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He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is writing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a novel this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627280" y="364500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My teacher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 i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always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d60093"/>
                </a:solidFill>
                <a:latin typeface="Arial"/>
              </a:rPr>
              <a:t>smiling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 in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7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75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1835280" cy="19418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843280" y="189000"/>
            <a:ext cx="2736720" cy="1844640"/>
          </a:xfrm>
          <a:prstGeom prst="cloudCallout">
            <a:avLst>
              <a:gd name="adj1" fmla="val -86601"/>
              <a:gd name="adj2" fmla="val 3287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复习了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了，还有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呀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28526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ff"/>
                </a:solidFill>
                <a:latin typeface="Arial"/>
                <a:ea typeface="黑体"/>
              </a:rPr>
              <a:t>过去进行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"/>
                            </p:stCondLst>
                            <p:childTnLst>
                              <p:par>
                                <p:cTn id="2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901800" y="2044800"/>
          <a:ext cx="7696080" cy="4595760"/>
        </p:xfrm>
        <a:graphic>
          <a:graphicData uri="http://schemas.openxmlformats.org/drawingml/2006/table">
            <a:tbl>
              <a:tblPr/>
              <a:tblGrid>
                <a:gridCol w="2133360"/>
                <a:gridCol w="5562720"/>
              </a:tblGrid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时态名称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过去进行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表示意思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表示过去某一点正在发生的事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构成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s/ were+ do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标志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hen, at that time, this time yesterday, at (eight) yesterday (morning),(a year) a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例句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e was watching TV a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 o ’ clock last evening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 txBox="1"/>
          <p:nvPr/>
        </p:nvSpPr>
        <p:spPr>
          <a:xfrm>
            <a:off x="825480" y="520560"/>
            <a:ext cx="41911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5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过去进行时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17840" cy="620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过去进行时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125360"/>
          <a:ext cx="7151760" cy="4535640"/>
        </p:xfrm>
        <a:graphic>
          <a:graphicData uri="http://schemas.openxmlformats.org/drawingml/2006/table">
            <a:tbl>
              <a:tblPr/>
              <a:tblGrid>
                <a:gridCol w="2111400"/>
                <a:gridCol w="5040360"/>
              </a:tblGrid>
              <a:tr h="15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51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5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547640" y="155736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过时正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547640" y="314172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过段直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4365720"/>
            <a:ext cx="208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 Black"/>
              </a:rPr>
              <a:t>when, 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1413000"/>
            <a:ext cx="49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as d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homework at eight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2924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re watch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V from nine to ten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635280" y="443700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were r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loud when the teacher cam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780000" y="2349360"/>
            <a:ext cx="287964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12000" y="3429000"/>
            <a:ext cx="720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708360" y="3860640"/>
            <a:ext cx="3600360" cy="0"/>
          </a:xfrm>
          <a:prstGeom prst="line">
            <a:avLst/>
          </a:prstGeom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4869000"/>
            <a:ext cx="1081080" cy="576000"/>
          </a:xfrm>
          <a:prstGeom prst="ellips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32720" y="5373720"/>
            <a:ext cx="863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75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348000" y="4941720"/>
            <a:ext cx="2158920" cy="1916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2286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  <a:ea typeface="楷体_GB2312"/>
              </a:rPr>
              <a:t>《中考考场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692360" y="549360"/>
            <a:ext cx="575928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75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890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1. The shop ___ at 7:30 p.m. on weeke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A. will close B. closes C. closed D. has cl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2. If he ___ early tomorrow, he’ll be l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A. doesn’t get up B. won’t get up C. gets up D. doesn’t get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3. Listen! Xiao Li ___ an English s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A. is singing B. sings C. is going to sing D. s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4. The harder you ___, the better results you will 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A. will study B. studied C. study D. stud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5. The teacher told us in class that the earth ___ around the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A. moves B. moved C. is moving D. to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6. He used to ___ a l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333ff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smoking B. smoke C. smoked D. smo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7. Lucy ___ silly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A. is always asking B. always ask C. will always ask D. 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1052640"/>
            <a:ext cx="684360" cy="7426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2124000" y="333360"/>
            <a:ext cx="647640" cy="743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0" y="2133720"/>
            <a:ext cx="539640" cy="742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851280" y="2852640"/>
            <a:ext cx="649440" cy="743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>
            <a:off x="0" y="4005360"/>
            <a:ext cx="539640" cy="742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>
            <a:off x="1908000" y="4724280"/>
            <a:ext cx="505080" cy="743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8"/>
          <a:stretch/>
        </p:blipFill>
        <p:spPr>
          <a:xfrm>
            <a:off x="3419640" y="5589720"/>
            <a:ext cx="53964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1890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13. Sandy 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 Black"/>
              </a:rPr>
              <a:t>       </a:t>
            </a: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 his old friend Tom when he was crossing the str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A.  had met B.  has met  C.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14. The whole class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Black"/>
              </a:rPr>
              <a:t>       </a:t>
            </a: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 to the East Lake if it is fine this Su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Black"/>
              </a:rPr>
              <a:t>A.  will go B.  have gone C. 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15. Who</a:t>
            </a:r>
            <a:r>
              <a:rPr b="0" lang="en-US" sz="2400" spc="-1" strike="noStrike" u="sng">
                <a:solidFill>
                  <a:srgbClr val="3333ff"/>
                </a:solidFill>
                <a:uFillTx/>
                <a:latin typeface="Arial Black"/>
              </a:rPr>
              <a:t>        </a:t>
            </a: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? It sounds like a little gir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A.  does cry B.  is crying C.  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17. ---Excuse me, please look at the sign “No Smoking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---Sorry, I __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 Black"/>
              </a:rPr>
              <a:t>A.  don’t notice it B.  am not noticed C.  didn’t notice it D.  wasn’t not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649080" cy="649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0" y="1846440"/>
            <a:ext cx="611280" cy="6109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2050920" y="2565360"/>
            <a:ext cx="649440" cy="649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6227640" y="4149720"/>
            <a:ext cx="64944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90792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18. If Mike _____ up earlier, he can finish the work in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A. get B. will get C. gets D. is g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19. The recorder_____ yesterday. It works OK 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 Black"/>
              </a:rPr>
              <a:t>A. repaired B. was repaired C. has repaired D. will be repa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20. ---Do you know Ja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---Yes, I first met her three years ago. She ______at a fruit shop at that 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 Black"/>
              </a:rPr>
              <a:t>A. had worked B. worked C. has worked D. was wo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203640" y="1557360"/>
            <a:ext cx="755640" cy="944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124000" y="2852640"/>
            <a:ext cx="755640" cy="9446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740720" y="4941720"/>
            <a:ext cx="75564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549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河北省中考真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484280"/>
            <a:ext cx="8424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 Black"/>
              </a:rPr>
              <a:t>23.It____ten years since they ___to F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 Black"/>
              </a:rPr>
              <a:t>　  </a:t>
            </a:r>
            <a:r>
              <a:rPr b="1" lang="zh-CN" sz="2400" spc="-1" strike="noStrike">
                <a:solidFill>
                  <a:srgbClr val="009999"/>
                </a:solidFill>
                <a:latin typeface="Arial Black"/>
              </a:rPr>
              <a:t>A. was...moved B. was...have mo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Arial Black"/>
              </a:rPr>
              <a:t>　  </a:t>
            </a:r>
            <a:r>
              <a:rPr b="1" lang="zh-CN" sz="2400" spc="-1" strike="noStrike">
                <a:solidFill>
                  <a:srgbClr val="009999"/>
                </a:solidFill>
                <a:latin typeface="Arial Black"/>
              </a:rPr>
              <a:t>C. is...have moved D. is...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 Black"/>
              </a:rPr>
              <a:t>26.I'm going shopping now. I _____ home s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 Black"/>
              </a:rPr>
              <a:t>　  </a:t>
            </a:r>
            <a:r>
              <a:rPr b="1" lang="zh-CN" sz="2400" spc="-1" strike="noStrike">
                <a:solidFill>
                  <a:srgbClr val="9933ff"/>
                </a:solidFill>
                <a:latin typeface="Arial Black"/>
              </a:rPr>
              <a:t>A. return B. will be 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ff"/>
                </a:solidFill>
                <a:latin typeface="Arial Black"/>
              </a:rPr>
              <a:t>　  </a:t>
            </a:r>
            <a:r>
              <a:rPr b="1" lang="zh-CN" sz="2400" spc="-1" strike="noStrike">
                <a:solidFill>
                  <a:srgbClr val="9933ff"/>
                </a:solidFill>
                <a:latin typeface="Arial Black"/>
              </a:rPr>
              <a:t>C. come back D. go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30.—Mike wants to know if ___ a picnic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　  —</a:t>
            </a: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Yes. But if it____, we'll visit the museum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     </a:t>
            </a: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inst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　  </a:t>
            </a: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A. you have...will 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     </a:t>
            </a: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B. you will have...will ra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　  </a:t>
            </a: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C. you will have...ra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     </a:t>
            </a:r>
            <a:r>
              <a:rPr b="1" lang="zh-CN" sz="2400" spc="-1" strike="noStrike">
                <a:solidFill>
                  <a:srgbClr val="ff9933"/>
                </a:solidFill>
                <a:latin typeface="Arial Black"/>
              </a:rPr>
              <a:t>D. will you have...r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2771640" y="549360"/>
            <a:ext cx="3097440" cy="787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564000" y="76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2001</a:t>
            </a: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924360" y="213372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2340000" y="285264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6"/>
          <a:stretch/>
        </p:blipFill>
        <p:spPr>
          <a:xfrm>
            <a:off x="755640" y="54450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75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627280" y="836640"/>
            <a:ext cx="4392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一般现在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0" y="1557360"/>
            <a:ext cx="4392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一般过去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27280" y="2276640"/>
            <a:ext cx="439272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一般将来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85520" y="768240"/>
            <a:ext cx="729000" cy="56880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990033"/>
                </a:solidFill>
                <a:latin typeface="Arial"/>
                <a:ea typeface="楷体_GB2312"/>
              </a:rPr>
              <a:t>常用八种时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27280" y="3068640"/>
            <a:ext cx="4392720" cy="6426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现在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4443480"/>
            <a:ext cx="4392720" cy="642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现在完成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47640" y="984240"/>
            <a:ext cx="1079640" cy="5400720"/>
          </a:xfrm>
          <a:custGeom>
            <a:avLst/>
            <a:gdLst>
              <a:gd name="textAreaLeft" fmla="*/ 689760 w 1079640"/>
              <a:gd name="textAreaRight" fmla="*/ 1080000 w 1079640"/>
              <a:gd name="textAreaTop" fmla="*/ 157680 h 5400720"/>
              <a:gd name="textAreaBottom" fmla="*/ 5243040 h 54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10"/>
                  <a:pt x="10800" y="2019"/>
                </a:cubicBezTo>
                <a:lnTo>
                  <a:pt x="10800" y="8781"/>
                </a:lnTo>
                <a:cubicBezTo>
                  <a:pt x="10800" y="9791"/>
                  <a:pt x="5400" y="10800"/>
                  <a:pt x="0" y="10800"/>
                </a:cubicBezTo>
                <a:cubicBezTo>
                  <a:pt x="5400" y="10800"/>
                  <a:pt x="10800" y="11810"/>
                  <a:pt x="10800" y="12819"/>
                </a:cubicBezTo>
                <a:lnTo>
                  <a:pt x="10800" y="19581"/>
                </a:lnTo>
                <a:cubicBezTo>
                  <a:pt x="10800" y="20591"/>
                  <a:pt x="16200" y="21600"/>
                  <a:pt x="21600" y="21600"/>
                </a:cubicBezTo>
              </a:path>
            </a:pathLst>
          </a:custGeom>
          <a:noFill/>
          <a:ln w="1015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789360"/>
            <a:ext cx="4392720" cy="642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过去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451640" y="5160960"/>
            <a:ext cx="13384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627280" y="5092560"/>
            <a:ext cx="4392720" cy="6426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现在完成进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27280" y="5734080"/>
            <a:ext cx="4392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过去完成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549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河北省中考真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2771640" y="549360"/>
            <a:ext cx="3097440" cy="7873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564000" y="76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2003</a:t>
            </a: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4000" y="170028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 Black"/>
              </a:rPr>
              <a:t>10. You may go fishing if your work 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 Black"/>
              </a:rPr>
              <a:t>      </a:t>
            </a:r>
            <a:r>
              <a:rPr b="1" lang="en-US" sz="2800" spc="-1" strike="noStrike">
                <a:solidFill>
                  <a:srgbClr val="0099ff"/>
                </a:solidFill>
                <a:latin typeface="Arial Black"/>
              </a:rPr>
              <a:t>A. is done     B. will be d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ff"/>
                </a:solidFill>
                <a:latin typeface="Arial Black"/>
              </a:rPr>
              <a:t>      </a:t>
            </a:r>
            <a:r>
              <a:rPr b="1" lang="en-US" sz="2800" spc="-1" strike="noStrike">
                <a:solidFill>
                  <a:srgbClr val="0099ff"/>
                </a:solidFill>
                <a:latin typeface="Arial Black"/>
              </a:rPr>
              <a:t>C. has done  D.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4"/>
          <a:stretch/>
        </p:blipFill>
        <p:spPr>
          <a:xfrm>
            <a:off x="900000" y="1989000"/>
            <a:ext cx="79236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5493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0" y="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河北省中考真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2771640" y="549360"/>
            <a:ext cx="3097440" cy="787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64000" y="76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2004</a:t>
            </a: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700280"/>
            <a:ext cx="842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39. This painting 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 Black"/>
              </a:rPr>
              <a:t>      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to a museum in New York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in 197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A. sells    B. sold     C. was sold    D,  is sold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45. Oh,  the milk </a:t>
            </a:r>
            <a:r>
              <a:rPr b="1" lang="en-US" sz="2400" spc="-1" strike="noStrike" u="sng">
                <a:solidFill>
                  <a:srgbClr val="0099ff"/>
                </a:solidFill>
                <a:uFillTx/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strange—do you think it's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OK to drin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A. was tasted     B. tasted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ff"/>
                </a:solidFill>
                <a:latin typeface="Arial Black"/>
              </a:rPr>
              <a:t>C. is tasting        D. tas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3924360" y="2133720"/>
            <a:ext cx="1081080" cy="11523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419640" y="3645000"/>
            <a:ext cx="1081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549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河北省中考真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771640" y="549360"/>
            <a:ext cx="3097440" cy="78732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564000" y="765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2005</a:t>
            </a:r>
            <a:r>
              <a:rPr b="1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4000" y="16286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42. Oh, this is really a big shop.  Do you know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when it________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A.  built                B. was built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C. has built          D.  has been built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44. —Tell him about the news when he ____, Joh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     —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Yes, I wi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A. comes              B.  will come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cc3300"/>
                </a:solidFill>
                <a:latin typeface="Arial Black"/>
              </a:rPr>
              <a:t>C. would come     D.  is 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780000" y="2349360"/>
            <a:ext cx="502920" cy="5637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826920" y="3789360"/>
            <a:ext cx="503280" cy="5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16360" cy="549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42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_GB2312"/>
              </a:rPr>
              <a:t>河北省中考真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4000" y="1844640"/>
            <a:ext cx="820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557360"/>
            <a:ext cx="8424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1.—I called you at 8:00 yesterday, but nobody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answered.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   —</a:t>
            </a: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Sorry, I ___ an important meeting in the off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Arial Black"/>
              </a:rPr>
              <a:t>A. will have B. had C. was having D. has had</a:t>
            </a: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3.—Could you tell me when Uncle Wang ___ from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   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the U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—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I think he’ll come back when his work ___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A. returns, will do B. will return, will be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   </a:t>
            </a:r>
            <a:r>
              <a:rPr b="1" lang="en-US" sz="2400" spc="-1" strike="noStrike">
                <a:solidFill>
                  <a:srgbClr val="009900"/>
                </a:solidFill>
                <a:latin typeface="Arial Black"/>
              </a:rPr>
              <a:t>C. returns, does    D. will return,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7380360" y="0"/>
            <a:ext cx="1763640" cy="16286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859280" y="0"/>
            <a:ext cx="2305080" cy="765000"/>
          </a:xfrm>
          <a:prstGeom prst="wedgeEllipseCallout">
            <a:avLst>
              <a:gd name="adj1" fmla="val 59092"/>
              <a:gd name="adj2" fmla="val 34023"/>
            </a:avLst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Arial"/>
                <a:ea typeface="楷体_GB2312"/>
              </a:rPr>
              <a:t>我猜三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340000" y="620640"/>
            <a:ext cx="3025800" cy="720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059280" y="765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</a:rPr>
              <a:t>2006</a:t>
            </a: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黑体"/>
              </a:rPr>
              <a:t>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3924360" y="2637000"/>
            <a:ext cx="388800" cy="554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708360" y="4869000"/>
            <a:ext cx="388800" cy="5540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580000" y="836640"/>
            <a:ext cx="138420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7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75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7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75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380880"/>
            <a:ext cx="3886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1.</a:t>
            </a:r>
            <a:r>
              <a:rPr b="0" lang="zh-CN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般现在时</a:t>
            </a:r>
            <a:endParaRPr b="0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480" y="1523880"/>
          <a:ext cx="8305920" cy="4187880"/>
        </p:xfrm>
        <a:graphic>
          <a:graphicData uri="http://schemas.openxmlformats.org/drawingml/2006/table">
            <a:tbl>
              <a:tblPr/>
              <a:tblGrid>
                <a:gridCol w="2301840"/>
                <a:gridCol w="6004080"/>
              </a:tblGrid>
              <a:tr h="80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时态名称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一般现在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表示意思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经常</a:t>
                      </a: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发生或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反复</a:t>
                      </a: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发生的事情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或存在的状态或说明主语的特征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构成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V</a:t>
                      </a: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原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一些标志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ually, ,sometimes,never,always on Sunday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，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ce/twic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例句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 usually watches TV at 7 o’ cloc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3880" y="1125360"/>
          <a:ext cx="7151760" cy="4535280"/>
        </p:xfrm>
        <a:graphic>
          <a:graphicData uri="http://schemas.openxmlformats.org/drawingml/2006/table">
            <a:tbl>
              <a:tblPr/>
              <a:tblGrid>
                <a:gridCol w="2471760"/>
                <a:gridCol w="4680000"/>
              </a:tblGrid>
              <a:tr h="113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113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13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57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4284720" cy="6206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一般现在时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141300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习惯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47640" y="2565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现在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364500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客观事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47640" y="4797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楷体_GB2312"/>
              </a:rPr>
              <a:t>主将从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13320" y="1484280"/>
            <a:ext cx="463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g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up at six every mo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234936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ry bu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2781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ee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el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95640" y="3573360"/>
            <a:ext cx="46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oon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o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ound the ea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95640" y="465300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’ll go there if it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oesn’t ra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95640" y="50846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’ll call you when h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rriv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33520" y="533520"/>
            <a:ext cx="769608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主将从现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状语从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when, after, before, while, until, as soon a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等引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状语从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以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if,unle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引导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用一般现在时代替一般将来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句子可以有将来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：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Please ring me up </a:t>
            </a: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as soon as you arrive in Germany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一到德国就给我打电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If it rains tomorrow</a:t>
            </a: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,we will have to stay at home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如果明天下雨我们就只好呆在家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325440" y="1432080"/>
          <a:ext cx="7696080" cy="4681440"/>
        </p:xfrm>
        <a:graphic>
          <a:graphicData uri="http://schemas.openxmlformats.org/drawingml/2006/table">
            <a:tbl>
              <a:tblPr/>
              <a:tblGrid>
                <a:gridCol w="2133360"/>
                <a:gridCol w="556272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时态名称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一般过去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表示意思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表示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过去某时发生的动作或状态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可能是一次性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也可能经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生。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构成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过去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一些标志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go, yesterday, last week/ye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例句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He watched TV last nigh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 txBox="1"/>
          <p:nvPr/>
        </p:nvSpPr>
        <p:spPr>
          <a:xfrm>
            <a:off x="611280" y="260280"/>
            <a:ext cx="46479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2.</a:t>
            </a: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一般过去时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211640" cy="6206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0" y="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一般过去时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1523880" y="1125360"/>
          <a:ext cx="7151760" cy="4464000"/>
        </p:xfrm>
        <a:graphic>
          <a:graphicData uri="http://schemas.openxmlformats.org/drawingml/2006/table">
            <a:tbl>
              <a:tblPr/>
              <a:tblGrid>
                <a:gridCol w="2111400"/>
                <a:gridCol w="5040360"/>
              </a:tblGrid>
              <a:tr h="14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48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4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1547640" y="162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过去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7640" y="306864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过去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4292640"/>
            <a:ext cx="20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过去连续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635280" y="162864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him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635280" y="314172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a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n Grade One last y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35280" y="429264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pick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 up and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75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712800" y="1708200"/>
          <a:ext cx="7696080" cy="4681440"/>
        </p:xfrm>
        <a:graphic>
          <a:graphicData uri="http://schemas.openxmlformats.org/drawingml/2006/table">
            <a:tbl>
              <a:tblPr/>
              <a:tblGrid>
                <a:gridCol w="2133720"/>
                <a:gridCol w="5562360"/>
              </a:tblGrid>
              <a:tr h="7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时态名称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一般将来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表示意思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表示将来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某一时刻 或经常发生的动作或状态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构成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e going to + do             will/ shall + V</a:t>
                      </a:r>
                      <a:r>
                        <a:rPr b="1" lang="zh-CN" sz="20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原</a:t>
                      </a: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标志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omorrow ,next week ,afte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n the fu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例句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They are going to watch T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He will watch TV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 txBox="1"/>
          <p:nvPr/>
        </p:nvSpPr>
        <p:spPr>
          <a:xfrm>
            <a:off x="179280" y="260280"/>
            <a:ext cx="4648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3.</a:t>
            </a:r>
            <a:r>
              <a:rPr b="0" lang="zh-CN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一般将来时</a:t>
            </a:r>
            <a:endParaRPr b="0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40360" cy="549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一般将来时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11280" y="692280"/>
          <a:ext cx="7632720" cy="4392360"/>
        </p:xfrm>
        <a:graphic>
          <a:graphicData uri="http://schemas.openxmlformats.org/drawingml/2006/table">
            <a:tbl>
              <a:tblPr/>
              <a:tblGrid>
                <a:gridCol w="2160360"/>
                <a:gridCol w="5472360"/>
              </a:tblGrid>
              <a:tr h="97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112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5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13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611280" y="90792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将来状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191628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将来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068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主将从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4221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现进表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90792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ill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b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ain tomorr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71640" y="1773360"/>
            <a:ext cx="55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going to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next weeke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924280"/>
            <a:ext cx="54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will 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cal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 as soon as I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ge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re tomorrow mo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422100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bus 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is com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1"/>
          <a:stretch/>
        </p:blipFill>
        <p:spPr>
          <a:xfrm>
            <a:off x="826920" y="2924280"/>
            <a:ext cx="172908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75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5T07:18:51Z</dcterms:created>
  <dc:creator/>
  <dc:description/>
  <dc:language>en-US</dc:language>
  <cp:lastModifiedBy>微软用户</cp:lastModifiedBy>
  <dcterms:modified xsi:type="dcterms:W3CDTF">2013-10-25T12:48:22Z</dcterms:modified>
  <cp:revision>38</cp:revision>
  <dc:subject/>
  <dc:title>幻灯片 1</dc:title>
</cp:coreProperties>
</file>