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" Target="slide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幻灯荷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1258920" y="981000"/>
            <a:ext cx="4800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标题或者观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3348000" y="2205000"/>
            <a:ext cx="395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键入所需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396000" y="380880"/>
            <a:ext cx="668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基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dd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808200" cy="80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幻灯no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14400" y="990720"/>
            <a:ext cx="5486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键入所需内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48280" y="457200"/>
            <a:ext cx="668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基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124080" y="19810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Fude &amp; Fudetat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661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幻灯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778680" y="476280"/>
            <a:ext cx="668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基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195640" y="24210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63640" y="1268280"/>
            <a:ext cx="4800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键入所需内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99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96360" y="5661000"/>
            <a:ext cx="83808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幻灯梅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ddd"/>
          <p:cNvPicPr/>
          <p:nvPr/>
        </p:nvPicPr>
        <p:blipFill>
          <a:blip r:embed="rId3"/>
          <a:stretch/>
        </p:blipFill>
        <p:spPr>
          <a:xfrm>
            <a:off x="7696080" y="5791320"/>
            <a:ext cx="777960" cy="77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幻灯封面no3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1116000" y="765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穿插页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幻灯封面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202" name="Text Box 3"/>
          <p:cNvSpPr/>
          <p:nvPr/>
        </p:nvSpPr>
        <p:spPr>
          <a:xfrm>
            <a:off x="6410160" y="868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708960" y="1624680"/>
            <a:ext cx="850680" cy="390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可以做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7548120" y="-469440"/>
            <a:ext cx="911520" cy="59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封面或者穿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799240" y="3830040"/>
            <a:ext cx="546120" cy="193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它文字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6626160" y="1084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幻灯封面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244" name="Text Box 3"/>
          <p:cNvSpPr/>
          <p:nvPr/>
        </p:nvSpPr>
        <p:spPr>
          <a:xfrm>
            <a:off x="6410160" y="868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708960" y="1624680"/>
            <a:ext cx="850680" cy="390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可以做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7548120" y="-469440"/>
            <a:ext cx="911520" cy="59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封面或者穿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5799240" y="3830040"/>
            <a:ext cx="546120" cy="193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它文字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626160" y="1084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矩形 7" descr=""/>
          <p:cNvPicPr/>
          <p:nvPr/>
        </p:nvPicPr>
        <p:blipFill>
          <a:blip r:embed="rId3"/>
          <a:stretch/>
        </p:blipFill>
        <p:spPr>
          <a:xfrm>
            <a:off x="281160" y="5950080"/>
            <a:ext cx="2706480" cy="51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4"/>
          <p:cNvSpPr/>
          <p:nvPr/>
        </p:nvSpPr>
        <p:spPr>
          <a:xfrm>
            <a:off x="0" y="333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矩形 2" descr=""/>
          <p:cNvPicPr/>
          <p:nvPr/>
        </p:nvPicPr>
        <p:blipFill>
          <a:blip r:embed="rId1"/>
          <a:stretch/>
        </p:blipFill>
        <p:spPr>
          <a:xfrm>
            <a:off x="281160" y="5950080"/>
            <a:ext cx="270648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01:50Z</dcterms:created>
  <dc:creator>微软用户</dc:creator>
  <dc:description/>
  <dc:language>en-US</dc:language>
  <cp:lastModifiedBy>echo</cp:lastModifiedBy>
  <dcterms:modified xsi:type="dcterms:W3CDTF">2009-10-19T13:12:34Z</dcterms:modified>
  <cp:revision>3</cp:revision>
  <dc:subject/>
  <dc:title>幻灯片 1</dc:title>
</cp:coreProperties>
</file>