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2E8-E920-49B3-ACE0-67681711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B11-EB9F-41E6-8D8E-065B9B9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AE6-B83A-4AF3-B9D6-3EF9E3C0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8EB-28B0-4FA8-84E8-3EE0A29E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855-4EB1-4D75-8D9D-25394451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B95C-7775-47AF-B0BC-790AD49B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75B8-F9F2-44CE-A357-BD68740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0E6F-0061-4CDB-8A30-182C11E3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2540-6880-4AF0-8750-63FCD9BC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3AB4-E536-46F5-8C29-37299CF1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C099-A45F-41CE-B3B0-BF8690C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5E6-0C7E-49F2-B953-01FADD2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7FC5-423A-431F-A39E-CDE593D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374B-6AED-49EC-9BDA-2772CF6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0CD8-8B29-450A-A472-96CFCF58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4409-6006-4EB6-9573-ECCA1FA1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E86C-9C77-4EA6-8B40-181125E0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40A-8D52-4B60-9FDC-493349A4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64E-5DA1-4A97-AC62-E068D36A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D9C-F40B-4599-B65E-7F9A07D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26A-F2C4-4F8C-AC53-157E4066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7EC-AD6C-4B43-BC3E-3EC9302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956-BFF9-4DC5-904B-B30F1E9F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EA3-0D27-4D88-AE9C-D2658AB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02D4-DF4E-4D8B-B64B-7C06EFFC781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DF35-DCF6-4ADF-8FCE-EF034083684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E:\&#35838;&#20214;\&#35799;&#27468;\&#19971;&#24180;&#32423;&#65288;&#19979;&#65289;&#12298;&#39278;&#37202;&#12299;\1.ex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src.baidu.com/baike/pic/item/a005b33476b998a4d0a2d3e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A0814"/>
          <p:cNvPicPr/>
          <p:nvPr/>
        </p:nvPicPr>
        <p:blipFill>
          <a:blip r:embed="rId2"/>
          <a:srcRect l="5906" t="390" r="0" b="0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82" name="Oval 24"/>
          <p:cNvSpPr/>
          <p:nvPr/>
        </p:nvSpPr>
        <p:spPr>
          <a:xfrm>
            <a:off x="7956720" y="1125360"/>
            <a:ext cx="914400" cy="914400"/>
          </a:xfrm>
          <a:prstGeom prst="ellipse">
            <a:avLst/>
          </a:prstGeom>
          <a:solidFill>
            <a:srgbClr val="ff00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95280" y="404640"/>
            <a:ext cx="49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次北固山下</a:t>
            </a:r>
            <a:r>
              <a:rPr b="0" lang="zh-CN" sz="6600" spc="-1" strike="noStrike">
                <a:solidFill>
                  <a:srgbClr val="003399"/>
                </a:solidFill>
                <a:latin typeface="Arial"/>
                <a:ea typeface="华文行楷"/>
              </a:rPr>
              <a:t> 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045880" y="191628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王 湾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33520" y="4149720"/>
            <a:ext cx="82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从这首诗中你可以看出诗人此时此刻的心情是怎样的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从哪句诗可以看出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41884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心情：淡淡的乡思愁绪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59464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851280" y="5734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乡书何处达，归雁洛阳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489840" y="333360"/>
            <a:ext cx="1990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合作交流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57200" y="15238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诗中描写了什么地方的什么时节的景物？有哪些景物？表现出什么特点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681920" y="24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江地区；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358440" y="24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早春时节；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1762920" y="2952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青山、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77320" y="297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绿水、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515400" y="297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潮、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4353480" y="297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船帆、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5267880" y="297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日、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4404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景物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72036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206928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阔、秀丽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57639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江春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如果本诗是写旅途中的乡愁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那首联中有没有体现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客路”延伸到青山之外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,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小舟”行驶在绿水之间     因此我们可以看出诗人是人在他乡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漂泊异地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思乡之情感已表现出来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522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首联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借景点题说明漂泊他乡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---------------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思乡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颔联写的是什么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古来很多人称赞这两句诗气势逼人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意境豪放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你感觉如何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宽阔豪放的情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605240" y="4221000"/>
            <a:ext cx="51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颔联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宽阔之景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-----------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宽阔胸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125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读了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黑体"/>
              </a:rPr>
              <a:t>“海日生残夜，江春入旧年。”一句，你还有什么新的感受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666880"/>
            <a:ext cx="746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_x000b__x000c_"/>
                <a:ea typeface="黑体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_x000b__x000c_"/>
                <a:ea typeface="黑体"/>
              </a:rPr>
              <a:t>可以使我们产生对美好事物的追求，并且相信它会突破一切阻力出现在我们眼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最耐人寻味的是颈联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你如何理解本句中蕴涵的哲理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(1)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红日驱走黑暗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------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乐观   向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(2).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春意驱走寒冷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-----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乐观    积极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(3)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新旧事物更替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------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体现事物发展的普遍规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68360" y="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名句分析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55640" y="1125360"/>
            <a:ext cx="7561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海日生残夜，江春入旧年。”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19320" y="19810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、先说这两句所写的景象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219320" y="25909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660033"/>
                </a:solidFill>
                <a:latin typeface="华文新魏"/>
                <a:ea typeface="华文新魏"/>
              </a:rPr>
              <a:t>、这两种景象有相同的地方吗</a:t>
            </a:r>
            <a:r>
              <a:rPr b="1" lang="zh-CN" sz="2400" spc="-1" strike="noStrike">
                <a:solidFill>
                  <a:srgbClr val="660033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447920" y="32004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提示：白日和黑夜的交替，新年和旧年的交替。（都描写了时序交替中的景物。）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066680" y="40384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6600ff"/>
                </a:solidFill>
                <a:latin typeface="华文新魏"/>
                <a:ea typeface="华文新魏"/>
              </a:rPr>
              <a:t>、这两种景物跟诗人的乡愁有关吗？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523880" y="464832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提示：白日和黑夜的交替，新年和旧年的交替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如此一天一天地过去，一年一年地过去，而诗人依旧在外奔波，不得回乡，怎能不产生乡愁呢</a:t>
            </a:r>
            <a:r>
              <a:rPr b="1" lang="zh-CN" sz="2400" spc="-1" strike="noStrike">
                <a:solidFill>
                  <a:srgbClr val="0066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5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ff"/>
                </a:solidFill>
                <a:latin typeface="Arial"/>
              </a:rPr>
              <a:t>乡书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ff66ff"/>
                </a:solidFill>
                <a:latin typeface="Arial"/>
              </a:rPr>
              <a:t>何处达？归雁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ff66ff"/>
                </a:solidFill>
                <a:latin typeface="Arial"/>
              </a:rPr>
              <a:t>洛阳边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84464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问：为什么诗人突然想到要寄一封家书呢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2921040"/>
            <a:ext cx="92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由于新年将到，这正是家人团聚之时，而他却不能回家，自然要写一封平安家书，更何况他此刻看见了北归的雁，必定要路经洛阳的——洛阳在镇江西北方，写了诗人淡淡的乡愁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尾联是否与思乡有关</a:t>
            </a:r>
            <a:r>
              <a:rPr b="1" lang="en-US" sz="60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直接表达感情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同时呼应上文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使全文笼罩一层思乡情绪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2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小    结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这是一首写景抒情的五言律诗</a:t>
            </a:r>
            <a:r>
              <a:rPr b="1" lang="en-US" sz="4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作者因两岸风景引起旅途乡愁</a:t>
            </a:r>
            <a:r>
              <a:rPr b="1" lang="en-US" sz="4800" spc="-1" strike="noStrike">
                <a:solidFill>
                  <a:srgbClr val="cc00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又写出作者放眼山川的宽阔和博大胸襟</a:t>
            </a:r>
            <a:r>
              <a:rPr b="1" lang="en-US" sz="4800" spc="-1" strike="noStrike">
                <a:solidFill>
                  <a:srgbClr val="cc00cc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0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0000"/>
              </a:solidFill>
              <a:latin typeface="Arial"/>
              <a:ea typeface="楷体_GB2312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-131040" y="1989000"/>
            <a:ext cx="13993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律诗的特征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692360" y="17733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共有八句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7640" y="2565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二、四、六句押韵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476360" y="3284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首联、颔联、颈联、尾联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332000" y="4076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.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颔联对偶句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颈联对偶句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华文行楷"/>
                <a:ea typeface="华文行楷"/>
              </a:rPr>
              <a:t>次北固山下   王湾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首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客路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青山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外，行舟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绿水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前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颔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潮平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两岸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阔，风正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一帆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悬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颈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海日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生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残夜，江春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入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旧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尾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乡书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何处达？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归雁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洛阳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边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11280" y="260280"/>
            <a:ext cx="8281440" cy="3959280"/>
            <a:chOff x="611280" y="260280"/>
            <a:chExt cx="8281440" cy="3959280"/>
          </a:xfrm>
        </p:grpSpPr>
        <p:sp>
          <p:nvSpPr>
            <p:cNvPr id="95" name="Rectangle 3"/>
            <p:cNvSpPr/>
            <p:nvPr/>
          </p:nvSpPr>
          <p:spPr>
            <a:xfrm>
              <a:off x="2868480" y="331560"/>
              <a:ext cx="6024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次北固山下，意思是泊舟停宿于北固山下。北固山三面临江，形势险要，号称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天下第一江山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作者家住洛阳，旅于江南，在这座山下停泊，被这里开阔秀丽的景色所吸引，写下了这首诗。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古时交通不发达，流落外乡或在外任职的人久不得归，自然会产生故园之思，因此乡愁成了诗歌中的一个重要主题。</a:t>
              </a:r>
              <a:r>
                <a:rPr b="1" lang="zh-CN" sz="2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这首诗是写乡愁的。</a:t>
              </a:r>
              <a:endParaRPr b="0" lang="en-US" sz="2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pic>
          <p:nvPicPr>
            <p:cNvPr id="96" name="Picture 4" descr="qiugaochi01"/>
            <p:cNvPicPr/>
            <p:nvPr/>
          </p:nvPicPr>
          <p:blipFill>
            <a:blip r:embed="rId2"/>
            <a:stretch/>
          </p:blipFill>
          <p:spPr>
            <a:xfrm>
              <a:off x="611280" y="260280"/>
              <a:ext cx="2089800" cy="395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684360" y="4797360"/>
            <a:ext cx="7920000" cy="1655640"/>
            <a:chOff x="684360" y="4797360"/>
            <a:chExt cx="7920000" cy="1655640"/>
          </a:xfrm>
        </p:grpSpPr>
        <p:pic>
          <p:nvPicPr>
            <p:cNvPr id="98" name="Picture 6" descr="1161756484991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25923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7" descr="10_13201519"/>
            <p:cNvPicPr/>
            <p:nvPr/>
          </p:nvPicPr>
          <p:blipFill>
            <a:blip r:embed="rId4"/>
            <a:stretch/>
          </p:blipFill>
          <p:spPr>
            <a:xfrm>
              <a:off x="3492720" y="4797360"/>
              <a:ext cx="511164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67280" y="1628640"/>
            <a:ext cx="448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王湾（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93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5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代诗人。字号不详。洛阳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今属河南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人。开元五年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717)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唐朝政府编次官府所藏图书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9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书成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共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卷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名为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群书四部录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全唐诗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存诗十首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276640"/>
            <a:ext cx="34560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重点词语解释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客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当指驿道，是旅客来往所走的道路。镇江是当时水陆交通的枢纽，故以“客路”与“舟行”相对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潮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指潮与岸齐，因而两岸显得宽阔，这是春潮初升时的景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指顺风，且风力不大，所以帆是悬挂之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残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夜将尽时分，太阳从东方升起，又因镇江跟东海相距不远，故称海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书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家书，指诗人寄给洛阳家中的信；旧谓鸿雁可以传递书信，故诗人有托书于归雁之意。按：鸿雁传书，实无其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84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弯曲的小路伸展到青山之外，   小船在山前绿波上行驶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-243000"/>
            <a:ext cx="2916360" cy="191628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诗意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93120" y="28526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潮水上涨，两岸江面无比宽阔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顺风前进的白帆高高悬挂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440" y="407664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海上的太阳在残夜里升起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江上的新春在旧年未尽时已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43520" y="544500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我的家信该怎样寄回乡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北飞的鸿雁啊给我带回洛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客 路 青 山 外，行 舟 绿 水 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潮 平 两 岸 阔，风 正 一 帆 悬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94720" y="2209680"/>
            <a:ext cx="27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客 路、行 舟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: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点出在旅途之中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29200" y="2971800"/>
            <a:ext cx="44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青 山、绿 水：描写景色，暗藏忧郁之情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326680" y="4929120"/>
            <a:ext cx="488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潮 平 、岸 阔：描写平野开阔、大江直流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波平浪静之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68040" y="2286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Times New Roman"/>
                <a:ea typeface="隶书"/>
              </a:rPr>
              <a:t>内容理解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01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海 日 生 残 夜，江 春 入 旧 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乡 书 何 处 达，归 雁 洛 阳 边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80000" y="1905120"/>
            <a:ext cx="49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海 日、 江 春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写拂晓行船所见的春景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066040" y="5143680"/>
            <a:ext cx="5340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乡 书、归 雁：点出全诗的感情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淡淡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思乡愁绪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879560" y="2819520"/>
            <a:ext cx="47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残 夜、 旧 年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却使人产生惆怅之情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6:50Z</dcterms:created>
  <dc:creator> </dc:creator>
  <dc:description> </dc:description>
  <cp:keywords/>
  <dc:language>en-US</dc:language>
  <cp:lastModifiedBy>Windows 用户</cp:lastModifiedBy>
  <cp:lastPrinted>1899-12-30T00:00:00Z</cp:lastPrinted>
  <dcterms:modified xsi:type="dcterms:W3CDTF">2015-10-29T12:18:45Z</dcterms:modified>
  <cp:revision>6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