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6CA-B38A-42DA-A93E-9ACC058A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26C-2F9D-4D71-9948-8EB3AEBE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13C-0D48-4B44-8626-AE27C853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932-6AB8-4208-9C9C-282A344F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30E-6485-46BF-ACAE-0641EBAB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4E7-840C-4889-B663-8E7F9A3F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30D-5DAA-46F4-B312-A642F250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D26-C5EF-4C4F-AAA1-958335B4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7CCB-15B1-4E19-92C5-E2A84BC5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E50-0BBA-45F7-80D9-DAF9ABE7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CCE-5369-49E0-B972-3DBFEF35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3BE-2205-4E3F-909A-C93B3DE6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E3A5-57F1-4AE5-8DAD-ED0D7086B89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44A9-DD65-4481-AFF1-D7DF57C2E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68,11,&#24187;&#28783;&#29255; 11" TargetMode="External"/><Relationship Id="rId2" Type="http://schemas.openxmlformats.org/officeDocument/2006/relationships/hyperlink" Target="268,11,&#24187;&#28783;&#29255; 11" TargetMode="External"/><Relationship Id="rId3" Type="http://schemas.openxmlformats.org/officeDocument/2006/relationships/hyperlink" Target="268,11,&#24187;&#28783;&#29255; 11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2491920"/>
            <a:ext cx="4032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8000"/>
                </a:solidFill>
                <a:latin typeface="Bookman Old Style"/>
                <a:ea typeface="黑体"/>
              </a:rPr>
              <a:t>匆 匆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619280" y="96192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六年级  语文 上册  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413080" y="112536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交流心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1280" y="2781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学了课文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匆匆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，你有什么收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读阅读链接的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《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明日歌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》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，再说说你的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987640" y="476280"/>
            <a:ext cx="6551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[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明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]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文嘉（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501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—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583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明日复明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明日何其多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日日待明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万世成蹉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世人皆被明日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明日无穷老将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晨昏滚滚水流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今古悠悠日西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百年明日能几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请君听我明日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911960" y="1916280"/>
            <a:ext cx="6678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明 日 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3059280" y="2781360"/>
            <a:ext cx="3076560" cy="13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20071028_fec7ca8b72f01c3b6f15LKUalvsuWnde"/>
          <p:cNvPicPr/>
          <p:nvPr/>
        </p:nvPicPr>
        <p:blipFill>
          <a:blip r:embed="rId1"/>
          <a:stretch/>
        </p:blipFill>
        <p:spPr>
          <a:xfrm>
            <a:off x="539640" y="1197000"/>
            <a:ext cx="2524320" cy="3801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203640" y="1267920"/>
            <a:ext cx="5472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朱自清（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898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—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48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现代著名文学家和语文教育家。原籍浙江绍兴，生于江苏东海县，后居扬州，称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是扬州人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朱氏对于中学、大学的中国语文教学工作，始终热情关注，不遗余力。因积劳成疾，于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48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日溘然长逝。在贫病中坚守中国人的气节，不吃美国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救济粮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受到毛泽东高度赞扬：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朱自清一身重病，宁可饿死，不领美国的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‘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救济粮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’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116000" y="51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朱自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68360" y="1197000"/>
            <a:ext cx="439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听老师朗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00000" y="2708280"/>
            <a:ext cx="6912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说说课文主要写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你在预习过程中碰到了什么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468360" y="1628640"/>
            <a:ext cx="81360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读下面的词语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联系课文理解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920" y="2924280"/>
            <a:ext cx="74901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头涔涔　泪潸潸　赤裸裸　伶伶俐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挪移　遮挽　叹息　徘徊　蒸融　痕迹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86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读课文第一段：文章的开头有什么特色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000" y="2133720"/>
            <a:ext cx="8675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燕子去了，有再来的时候；杨柳枯了，有再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时候；桃花谢了，有再开的时候。但是，聪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，你告诉我，我们的日子为什么一去不复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呢？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是有人偷了他们罢：那是谁？又藏在何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呢？是他们自己逃走了罢：现在又到了哪里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611280" y="3789360"/>
            <a:ext cx="76327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7308720" y="3284640"/>
            <a:ext cx="8636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39640" y="429264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71294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读课文最后一段：文章的结尾有什么特点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3357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你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聪明的，告诉我，我们的日子为什么一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不复返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86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读第二段，你怎样理解段中的句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2349000"/>
            <a:ext cx="85075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我不知道他们给了我多少日子；但我的手确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是渐渐空虚了。在默默里算着，八千多日子已经从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手中溜去；像针尖上一滴水滴在大海里，我的日子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在时间的流里，没有声音，也没有影子。我不禁头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涔而泪潸潸了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1120" y="62028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读第三段，作者是怎样具体描述日子去来的匆匆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7280" y="1915920"/>
            <a:ext cx="8856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去的尽管去了，来的尽管来着；去来的中间，又怎样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匆匆呢？早上我起来的时候，小屋里射进两三方斜斜的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太阳他有脚啊，轻轻悄悄地挪移了；我也茫茫然跟着旋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于是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洗手的时候，日子从水盆里过去；吃饭的时候，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子从饭碗里过去；默默时，便从凝然的双眼前过去。我觉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他去的匆匆了，伸出手遮挽时，他又从遮挽着的手边过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天黑时，我躺在床上，他便伶伶俐俐地从我身上跨过，从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脚边飞去了。等我睁开眼和太阳再见，这算又溜走了一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我掩着面叹息。但是新来的日子的影儿又开始在叹息里闪过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1619280" y="3357720"/>
            <a:ext cx="504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6300720" y="3357720"/>
            <a:ext cx="504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2843280" y="371628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3492360" y="407664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1979640" y="4437000"/>
            <a:ext cx="1079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2916360" y="4797360"/>
            <a:ext cx="863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6877080" y="522936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1116000" y="5589720"/>
            <a:ext cx="5904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仿照课文中的写法，再写几句。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读第四段，从中你体会到作者怎样的思想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　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在逃去如飞的日子里，在千门万户的世界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的我能做些什么呢？只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徘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罢了，只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匆匆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了；在八千多日的匆匆里，除徘徊外，又剩些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呢？过去的日子如轻烟，被微风吹散了，如薄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被初阳蒸融了；我留着些什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痕迹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呢？我何曾留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像游丝样的痕迹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呢？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赤裸裸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来到这世界，转眼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也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赤裸裸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的回去罢？但不能平的，为什么偏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走这一遭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7:05:20Z</dcterms:created>
  <dc:creator>第一PPT模板网-WWW.1PPT.COM </dc:creator>
  <dc:description>第一PPT模板网-WWW.1PPT.COM 
</dc:description>
  <cp:keywords>第一PPT模板网-WWW.1PPT.COM</cp:keywords>
  <dc:language>en-US</dc:language>
  <cp:lastModifiedBy>admin</cp:lastModifiedBy>
  <dcterms:modified xsi:type="dcterms:W3CDTF">2017-09-08T06:27:44Z</dcterms:modified>
  <cp:revision>11</cp:revision>
  <dc:subject>第一PPT模板网-WWW.1PPT.COM </dc:subject>
  <dc:title>第一PPT模板网-WWW.1PPT.COM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