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ED8-60FA-43E3-8FAA-92B63F27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C67-02E3-4B21-8062-CBC0BA70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16C-6811-4004-8EBD-52F4B55C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B11-57F8-4C7F-95C3-2999629F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6291-81A4-4375-BF7B-A5CE61DA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047E-D1E8-41B7-9D8E-B5DA16AD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095E-4A23-43E4-8BD8-C17DB82E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393-2FB0-4A5B-ABCB-06CC1668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43AE-1D29-4F8B-9DBF-29319A3E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1EB2-4A8C-42E5-98EB-17E57E8E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8BB2-C6AE-4342-A50D-2D3166A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73B-ECAB-47E0-8502-9E28A725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7E4E-F244-4DF0-AE5B-6A08F9F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6108-CED2-452A-86F3-8A0EEDD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D35E-CB08-4E00-B746-56689737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3556-E550-41A2-90BF-FE7AEE70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228D-A6F2-44E4-A748-3E168AA1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CB5-6BF2-4452-9B9D-A10FB3C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949-1EBD-4C3D-B425-575D52BB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A93-B086-4C15-AF5A-155C3822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AA1-6FA0-4BBE-8D4D-29AB0368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A15-241D-4372-A417-84FCB3F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54B-75B2-4571-BE78-8BE9978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6D6-4931-4D0D-910C-B47F0BE6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76AF-882E-40C5-9F70-21008FF73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86D5-F8F6-4766-900E-AC0D14873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990720" y="2362320"/>
            <a:ext cx="4070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彩色的翅膀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3"/>
          <a:stretch/>
        </p:blipFill>
        <p:spPr>
          <a:xfrm>
            <a:off x="163440" y="326880"/>
            <a:ext cx="5567400" cy="1401840"/>
          </a:xfrm>
          <a:prstGeom prst="rect">
            <a:avLst/>
          </a:prstGeom>
          <a:ln w="0">
            <a:noFill/>
          </a:ln>
        </p:spPr>
      </p:pic>
      <p:sp>
        <p:nvSpPr>
          <p:cNvPr id="86" name="矩形 9"/>
          <p:cNvSpPr/>
          <p:nvPr/>
        </p:nvSpPr>
        <p:spPr>
          <a:xfrm>
            <a:off x="2338200" y="617220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5105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课文为什么要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彩色的翅膀”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371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课题有两层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一是以彩色的翅膀借代蝴蝶等小昆虫，强调了这些小昆虫在改造海岛环境、丰富战士生活方面所起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二是以彩色的翅膀象征战士丰富多彩、富于革命理想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6"/>
          <p:cNvGrpSpPr/>
          <p:nvPr/>
        </p:nvGrpSpPr>
        <p:grpSpPr>
          <a:xfrm>
            <a:off x="7086600" y="1371600"/>
            <a:ext cx="1676520" cy="3505320"/>
            <a:chOff x="7086600" y="1371600"/>
            <a:chExt cx="1676520" cy="3505320"/>
          </a:xfrm>
        </p:grpSpPr>
        <p:pic>
          <p:nvPicPr>
            <p:cNvPr id="132" name="Picture 4" descr="20063101751630056"/>
            <p:cNvPicPr/>
            <p:nvPr/>
          </p:nvPicPr>
          <p:blipFill>
            <a:blip r:embed="rId2"/>
            <a:stretch/>
          </p:blipFill>
          <p:spPr>
            <a:xfrm>
              <a:off x="7086600" y="137160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200631011574610775"/>
            <p:cNvPicPr/>
            <p:nvPr/>
          </p:nvPicPr>
          <p:blipFill>
            <a:blip r:embed="rId3"/>
            <a:stretch/>
          </p:blipFill>
          <p:spPr>
            <a:xfrm>
              <a:off x="7086600" y="3200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06053011083835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762120" y="1676520"/>
            <a:ext cx="3276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请你欣赏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60020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军港之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6200" y="2819160"/>
            <a:ext cx="4648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摘录精彩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给宝石岛的战士写一封信，可以刊登在黑板报上，也可以投稿给编辑部，有条件的可以把信发布在网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jstyj06041915"/>
          <p:cNvPicPr/>
          <p:nvPr/>
        </p:nvPicPr>
        <p:blipFill>
          <a:blip r:embed="rId2"/>
          <a:stretch/>
        </p:blipFill>
        <p:spPr>
          <a:xfrm>
            <a:off x="53352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22856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碧空如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矮墩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水落石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精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819520" y="1447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词语积累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666880" y="2362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青蓝色的天空像洗过一样明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6668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形容矮而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666880" y="3429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66688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机警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1135060"/>
          <p:cNvPicPr/>
          <p:nvPr/>
        </p:nvPicPr>
        <p:blipFill>
          <a:blip r:embed="rId2"/>
          <a:stretch/>
        </p:blipFill>
        <p:spPr>
          <a:xfrm>
            <a:off x="6172200" y="44956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362320" y="2076480"/>
            <a:ext cx="45720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自读课文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,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理解大意</a:t>
            </a:r>
            <a:endParaRPr b="0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219320" y="34290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故事发生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课文主要讲述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291960" y="189000"/>
            <a:ext cx="6782040" cy="1508040"/>
            <a:chOff x="291960" y="189000"/>
            <a:chExt cx="6782040" cy="1508040"/>
          </a:xfrm>
        </p:grpSpPr>
        <p:sp>
          <p:nvSpPr>
            <p:cNvPr id="97" name="Rectangle 10"/>
            <p:cNvSpPr/>
            <p:nvPr/>
          </p:nvSpPr>
          <p:spPr>
            <a:xfrm>
              <a:off x="291960" y="1622520"/>
              <a:ext cx="6782040" cy="745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3" descr="我会读pic_227543"/>
            <p:cNvPicPr/>
            <p:nvPr/>
          </p:nvPicPr>
          <p:blipFill>
            <a:blip r:embed="rId2"/>
            <a:stretch/>
          </p:blipFill>
          <p:spPr>
            <a:xfrm>
              <a:off x="407880" y="189000"/>
              <a:ext cx="161928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WordArt 12"/>
            <p:cNvSpPr txBox="1"/>
            <p:nvPr/>
          </p:nvSpPr>
          <p:spPr>
            <a:xfrm>
              <a:off x="2273400" y="785880"/>
              <a:ext cx="2448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读一读</a:t>
              </a:r>
              <a:endParaRPr b="1" lang="en-US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00006747"/>
          <p:cNvPicPr/>
          <p:nvPr/>
        </p:nvPicPr>
        <p:blipFill>
          <a:blip r:embed="rId2"/>
          <a:stretch/>
        </p:blipFill>
        <p:spPr>
          <a:xfrm>
            <a:off x="5867280" y="114300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7621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故事发生在去宝石岛的路上和宝石岛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1447920" y="1905120"/>
            <a:ext cx="3047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地点</a:t>
            </a:r>
            <a:endParaRPr b="1" i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5029200" y="2666520"/>
            <a:ext cx="609480" cy="114300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4800600" y="4648320"/>
            <a:ext cx="914400" cy="91440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jstyj06041915"/>
          <p:cNvPicPr/>
          <p:nvPr/>
        </p:nvPicPr>
        <p:blipFill>
          <a:blip r:embed="rId3"/>
          <a:stretch/>
        </p:blipFill>
        <p:spPr>
          <a:xfrm>
            <a:off x="5791320" y="3809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2971800" y="12193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主要事件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685800" y="2743200"/>
            <a:ext cx="3657600" cy="3429000"/>
            <a:chOff x="685800" y="2743200"/>
            <a:chExt cx="3657600" cy="3429000"/>
          </a:xfrm>
        </p:grpSpPr>
        <p:sp>
          <p:nvSpPr>
            <p:cNvPr id="108" name="Text Box 6"/>
            <p:cNvSpPr/>
            <p:nvPr/>
          </p:nvSpPr>
          <p:spPr>
            <a:xfrm>
              <a:off x="685800" y="2743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一）战士小高探亲回来带小昆虫上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9" descr="IMG_0078"/>
            <p:cNvPicPr/>
            <p:nvPr/>
          </p:nvPicPr>
          <p:blipFill>
            <a:blip r:embed="rId4"/>
            <a:stretch/>
          </p:blipFill>
          <p:spPr>
            <a:xfrm>
              <a:off x="838080" y="3886200"/>
              <a:ext cx="32767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2"/>
          <p:cNvGrpSpPr/>
          <p:nvPr/>
        </p:nvGrpSpPr>
        <p:grpSpPr>
          <a:xfrm>
            <a:off x="4800600" y="2743200"/>
            <a:ext cx="3505320" cy="3457440"/>
            <a:chOff x="4800600" y="2743200"/>
            <a:chExt cx="3505320" cy="3457440"/>
          </a:xfrm>
        </p:grpSpPr>
        <p:sp>
          <p:nvSpPr>
            <p:cNvPr id="111" name="Text Box 7"/>
            <p:cNvSpPr/>
            <p:nvPr/>
          </p:nvSpPr>
          <p:spPr>
            <a:xfrm>
              <a:off x="4800600" y="2743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二）岛上战士开尝瓜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0" descr="060205091534shenghuotp4810"/>
            <p:cNvPicPr/>
            <p:nvPr/>
          </p:nvPicPr>
          <p:blipFill>
            <a:blip r:embed="rId5"/>
            <a:stretch/>
          </p:blipFill>
          <p:spPr>
            <a:xfrm>
              <a:off x="5029200" y="3886200"/>
              <a:ext cx="327672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识战士“小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22096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把他的大提包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在一边，怀里紧紧地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抱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着一只纸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90720" y="3429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海面上波涛起伏，船身前后晃荡，小高担心纸箱被损坏，纸箱里装着的小昆虫不能上岛，心中着急，所以把纸箱抱在怀里。这句话有力地说明了小昆虫在小高心中的重要地位，也为下文揭开小高的秘密作了铺垫。句中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扔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与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抱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形成了鲜明的对比，突出了小高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135060"/>
          <p:cNvPicPr/>
          <p:nvPr/>
        </p:nvPicPr>
        <p:blipFill>
          <a:blip r:embed="rId2"/>
          <a:stretch/>
        </p:blipFill>
        <p:spPr>
          <a:xfrm>
            <a:off x="380880" y="1143000"/>
            <a:ext cx="13716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他笑嘻嘻地说：“我就不相信，这些小精灵会不爱我们祖国的海岛，会不愿在这里安居乐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99840" y="29718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小高相信，经过战士们的努力，岛上环境条件差、生活艰苦的面貌一定会改变；他也相信，小昆虫一定会在海岛上安居乐业。这句话表面上是赞扬小昆虫，实际上是小高内心的表白：自己热爱祖国海岛，决心用自己的双手把海岛建设成美丽的家园。这句话点明了文章的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457200" y="2895480"/>
            <a:ext cx="1295280" cy="3048120"/>
            <a:chOff x="457200" y="2895480"/>
            <a:chExt cx="1295280" cy="3048120"/>
          </a:xfrm>
        </p:grpSpPr>
        <p:pic>
          <p:nvPicPr>
            <p:cNvPr id="120" name="Picture 4" descr="200646123263621"/>
            <p:cNvPicPr/>
            <p:nvPr/>
          </p:nvPicPr>
          <p:blipFill>
            <a:blip r:embed="rId2"/>
            <a:stretch/>
          </p:blipFill>
          <p:spPr>
            <a:xfrm>
              <a:off x="457200" y="28954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" descr="20065911224307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12952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520" y="1447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海岛“尝瓜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133720" y="2895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战士们都笑着，用两个指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捏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一小片来，细细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端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轻轻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慢慢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不住发出啧啧的赞叹声。好像有一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甘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，流进了每个战士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60205091534shenghuotp4810"/>
          <p:cNvPicPr/>
          <p:nvPr/>
        </p:nvPicPr>
        <p:blipFill>
          <a:blip r:embed="rId2"/>
          <a:stretch/>
        </p:blipFill>
        <p:spPr>
          <a:xfrm>
            <a:off x="457200" y="1219320"/>
            <a:ext cx="1981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1371600" y="3429000"/>
            <a:ext cx="6781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这里写出了战士们收获西瓜后喜悦、激动、自豪的心情，表现了他们对自己劳动成果的珍爱。战士的感情用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捏起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端详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闻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咬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等一连串动词表现了出来。当中好像有一股甘泉，流进了他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914400" y="1752480"/>
            <a:ext cx="7086600" cy="1219320"/>
            <a:chOff x="914400" y="1752480"/>
            <a:chExt cx="7086600" cy="1219320"/>
          </a:xfrm>
        </p:grpSpPr>
        <p:sp>
          <p:nvSpPr>
            <p:cNvPr id="127" name="Rectangle 4"/>
            <p:cNvSpPr/>
            <p:nvPr/>
          </p:nvSpPr>
          <p:spPr>
            <a:xfrm>
              <a:off x="2209680" y="1752480"/>
              <a:ext cx="5791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333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作者为什么把战士们吃瓜的情景写得那么详细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6" descr="200310213131297577"/>
            <p:cNvPicPr/>
            <p:nvPr/>
          </p:nvPicPr>
          <p:blipFill>
            <a:blip r:embed="rId2"/>
            <a:stretch/>
          </p:blipFill>
          <p:spPr>
            <a:xfrm>
              <a:off x="9144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07:59:27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10-17T08:00:11Z</dcterms:modified>
  <cp:revision>213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  <property fmtid="{D5CDD505-2E9C-101B-9397-08002B2CF9AE}" pid="3" name="Version">
    <vt:r8>1</vt:r8>
  </property>
</Properties>
</file>