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ick.wav" ContentType="audio/x-wav"/>
  <Override PartName="/ppt/media/image23.gif" ContentType="image/gif"/>
  <Override PartName="/ppt/media/image3.png" ContentType="image/png"/>
  <Override PartName="/ppt/media/image4.png" ContentType="image/png"/>
  <Override PartName="/ppt/media/image13.jpeg" ContentType="image/jpeg"/>
  <Override PartName="/ppt/media/coin.wav" ContentType="audio/x-wav"/>
  <Override PartName="/ppt/media/image9.jpeg" ContentType="image/jpeg"/>
  <Override PartName="/ppt/media/image11.png" ContentType="image/png"/>
  <Override PartName="/ppt/media/image6.png" ContentType="image/png"/>
  <Override PartName="/ppt/media/image8.png" ContentType="image/png"/>
  <Override PartName="/ppt/media/image22.jpeg" ContentType="image/jpeg"/>
  <Override PartName="/ppt/media/image7.png" ContentType="image/png"/>
  <Override PartName="/ppt/media/CHIMES.WAV" ContentType="audio/x-wav"/>
  <Override PartName="/ppt/media/image24.jpeg" ContentType="image/jpeg"/>
  <Override PartName="/ppt/media/push.wav" ContentType="audio/x-wav"/>
  <Override PartName="/ppt/media/image1.png" ContentType="image/png"/>
  <Override PartName="/ppt/media/image12.png" ContentType="image/png"/>
  <Override PartName="/ppt/media/image10.jpeg" ContentType="image/jpeg"/>
  <Override PartName="/ppt/media/image14.png" ContentType="image/png"/>
  <Override PartName="/ppt/media/image5.jpeg" ContentType="image/jpeg"/>
  <Override PartName="/ppt/media/image15.gif" ContentType="image/gif"/>
  <Override PartName="/ppt/media/image18.png" ContentType="image/png"/>
  <Override PartName="/ppt/media/image2.jpeg" ContentType="image/jpeg"/>
  <Override PartName="/ppt/media/image20.png" ContentType="image/png"/>
  <Override PartName="/ppt/media/image16.gif" ContentType="image/gif"/>
  <Override PartName="/ppt/media/image19.png" ContentType="image/png"/>
  <Override PartName="/ppt/media/image17.png" ContentType="image/png"/>
  <Override PartName="/ppt/media/DING.WAV" ContentType="audio/x-wav"/>
  <Override PartName="/ppt/media/chimes.wav" ContentType="audio/x-wav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EDD-D087-4637-9295-CD3A24F5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1D0-F53D-463D-B7EB-D0B1EF10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098-FE4D-4DC3-AB7B-BBBDA542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3E1-5CDA-483B-934A-87D4F78D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A50B-222F-4663-9D51-6F662EB8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33CA-7F5E-463D-BD2B-AD413E74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FD71-414A-46E5-BCB9-C98BF8A7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90E6-F8F6-4AEE-BED3-FB73DF21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0E6A-0ADC-44A4-A20C-0290A3C8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D49E-E290-4447-BC4C-146BEE0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8905-0E7E-409E-A72C-4BB48872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9B4-6046-4251-BA8E-ADD4DBA4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3487-0043-4C48-BB65-68B91D0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EE23-0F2E-4232-A406-D9A01253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70F1-FB51-4CBC-A1C3-D73EB85A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DB46-09C0-4C6F-96C1-BAB6C40C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DBB7-9316-4E4F-A4E7-648AE68F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AEE-6E3B-4547-B53D-3B2769CE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19F-11A2-4246-9448-D7BB7769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31D-E0A6-4CC7-A2A4-7A5B66A2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6B2-1636-4C21-8EC4-11C35243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6FF-0193-43BF-B35A-F7D7125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C20-D3CC-4E68-8FE5-2DCCA2B2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C4F-055E-46CB-9135-8774A8B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7DCD-D9A6-4574-BA47-452A48E057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A42A-991C-488B-A21E-CB356E0873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push.wav" TargetMode="External"/><Relationship Id="rId3" Type="http://schemas.microsoft.com/office/2007/relationships/media" Target="file:///tmp/home/.config/libreoffice/4/user/gallery/push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5.xml"/><Relationship Id="rId3" Type="http://schemas.openxmlformats.org/officeDocument/2006/relationships/slide" Target="slide8.xml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audio" Target="../media/DING.WAV"/><Relationship Id="rId5" Type="http://schemas.openxmlformats.org/officeDocument/2006/relationships/audio" Target="../media/CHIMES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09680" y="1219320"/>
            <a:ext cx="55627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和翠鸟交朋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57400" y="2438280"/>
          <a:ext cx="22860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438280"/>
                    <a:ext cx="22860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562720" y="2438280"/>
          <a:ext cx="236196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438280"/>
                    <a:ext cx="2361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en-US" sz="1200" spc="-1" strike="noStrike">
                <a:solidFill>
                  <a:srgbClr val="fefde3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295280" y="2666880"/>
            <a:ext cx="2514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4800600"/>
            <a:ext cx="1752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7924680" y="6172200"/>
            <a:ext cx="9144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3" action="ppaction://hlinksldjump"/>
          </p:cNvPr>
          <p:cNvSpPr/>
          <p:nvPr/>
        </p:nvSpPr>
        <p:spPr>
          <a:xfrm>
            <a:off x="7924680" y="6248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7772400" y="6172200"/>
            <a:ext cx="9144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7848720" y="6324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29600" y="6172200"/>
            <a:ext cx="9144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6248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我们的认真观察，我们知道了这只鸟的外形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447920"/>
            <a:ext cx="197964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爪子：头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上：腹部：眼睛：嘴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438280"/>
            <a:ext cx="18288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橄榄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3733920"/>
            <a:ext cx="19051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浅绿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419720"/>
            <a:ext cx="182880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赤褐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5029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透亮灵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5715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尖又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510516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28800" y="1676520"/>
            <a:ext cx="198108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　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3048120"/>
            <a:ext cx="18288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绿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869000"/>
            <a:ext cx="1428840" cy="171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0000" y="620640"/>
            <a:ext cx="7308720" cy="3575160"/>
          </a:xfrm>
          <a:prstGeom prst="cloudCallout">
            <a:avLst>
              <a:gd name="adj1" fmla="val -33513"/>
              <a:gd name="adj2" fmla="val 975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68360" y="1628640"/>
            <a:ext cx="5399280" cy="2032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想对所有的小鸟说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:"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想和你们交朋友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263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我们同有一个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547640" y="692280"/>
            <a:ext cx="66265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的知识来自这里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19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学语文第六册课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翠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2781360"/>
            <a:ext cx="590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鸟类百科全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翠鸟知识网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16720" y="4797360"/>
            <a:ext cx="172728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谢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8000" y="1700280"/>
            <a:ext cx="505944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36"/>
                <a:gd name="adj2" fmla="val -1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翠    鸟</a:t>
            </a:r>
            <a:endParaRPr b="1" lang="en-US" sz="96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52578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5092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03480" y="4498920"/>
            <a:ext cx="25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1055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找到了一些翠鸟的照片，翠鸟真美呀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de3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fefde3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fefde3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41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143000" y="304920"/>
            <a:ext cx="7696080" cy="6248160"/>
            <a:chOff x="1143000" y="304920"/>
            <a:chExt cx="7696080" cy="624816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143000" y="304920"/>
              <a:ext cx="769608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1143000" y="304920"/>
              <a:ext cx="7696080" cy="624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990720" y="304920"/>
            <a:ext cx="7924680" cy="6248160"/>
            <a:chOff x="990720" y="304920"/>
            <a:chExt cx="7924680" cy="624816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990720" y="304920"/>
              <a:ext cx="792468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990720" y="304920"/>
              <a:ext cx="7924680" cy="624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696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914400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清脆：声音清脆悦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疾飞：形容飞得很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锐利：在课文中指翠鸟眼光很尖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陡峭：形容山的坡度很大，几乎是笔直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希望：心里想达到某种目的或等待出现某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620640"/>
            <a:ext cx="1366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助手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/>
    <p:sndAc>
      <p:stSnd>
        <p:snd r:embed="rId4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480" y="914400"/>
            <a:ext cx="2057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一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二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三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066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翠鸟颜色鲜艳，小巧玲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590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翠鸟鸣声清脆，目光锐利，动作敏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4191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翠鸟的家在陡峭石壁的洞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2590920" y="6477120"/>
            <a:ext cx="91440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3505320" y="6477120"/>
            <a:ext cx="91440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4419720" y="6477120"/>
            <a:ext cx="91440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37339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4648320" y="6400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50480" y="981000"/>
            <a:ext cx="11552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0d861"/>
                </a:solidFill>
                <a:latin typeface="Times New Roman"/>
              </a:rPr>
              <a:t>我们是这样分析各部分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3800" y="1371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自由读第一自然段，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50040" y="320040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翠鸟是什么样子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你认为第一自然段中哪句话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好？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6320" y="609480"/>
            <a:ext cx="1687680" cy="2438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295280" y="228600"/>
            <a:ext cx="914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696080" y="6172200"/>
            <a:ext cx="476280" cy="46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58200" y="6172200"/>
            <a:ext cx="457200" cy="442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5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d8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442200" y="380880"/>
            <a:ext cx="2701800" cy="2819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96080" y="6172200"/>
            <a:ext cx="476280" cy="46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58200" y="6172200"/>
            <a:ext cx="457200" cy="442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39800" y="1538280"/>
            <a:ext cx="79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羽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76520" y="2209680"/>
            <a:ext cx="4800600" cy="1526760"/>
            <a:chOff x="1676520" y="2209680"/>
            <a:chExt cx="4800600" cy="1526760"/>
          </a:xfrm>
        </p:grpSpPr>
        <p:sp>
          <p:nvSpPr>
            <p:cNvPr id="138" name=""/>
            <p:cNvSpPr/>
            <p:nvPr/>
          </p:nvSpPr>
          <p:spPr>
            <a:xfrm>
              <a:off x="1676520" y="22096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                   比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25909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2590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76520" y="27432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                   比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3720" y="31240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31240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6520" y="32767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                   比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720" y="3657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0" y="3657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658960" y="2133720"/>
            <a:ext cx="2332440" cy="1557000"/>
            <a:chOff x="2658960" y="2133720"/>
            <a:chExt cx="2332440" cy="1557000"/>
          </a:xfrm>
        </p:grpSpPr>
        <p:sp>
          <p:nvSpPr>
            <p:cNvPr id="148" name=""/>
            <p:cNvSpPr/>
            <p:nvPr/>
          </p:nvSpPr>
          <p:spPr>
            <a:xfrm>
              <a:off x="2658960" y="2133720"/>
              <a:ext cx="233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腹部的羽毛           衬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8960" y="2133720"/>
              <a:ext cx="233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头上的羽毛           头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25920" y="2666880"/>
              <a:ext cx="22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背上的羽毛          外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143000" y="2286000"/>
            <a:ext cx="0" cy="1752480"/>
            <a:chOff x="1143000" y="2286000"/>
            <a:chExt cx="0" cy="1752480"/>
          </a:xfrm>
        </p:grpSpPr>
        <p:sp>
          <p:nvSpPr>
            <p:cNvPr id="152" name=""/>
            <p:cNvSpPr/>
            <p:nvPr/>
          </p:nvSpPr>
          <p:spPr>
            <a:xfrm>
              <a:off x="1143000" y="2286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3429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386240" y="5105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抓住事物的特点按顺序进行观察的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646280"/>
            <a:ext cx="2209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爪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96252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眼睛、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4" name="DING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7-16T15:12:48Z</dcterms:modified>
  <cp:revision>10</cp:revision>
  <dc:subject/>
  <dc:title>PowerPoint Presentation</dc:title>
</cp:coreProperties>
</file>