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11.jpeg" ContentType="image/jpeg"/>
  <Override PartName="/ppt/media/image8.jpeg" ContentType="image/jpeg"/>
  <Override PartName="/ppt/media/image21.jpeg" ContentType="image/jpeg"/>
  <Override PartName="/ppt/media/camera.wav" ContentType="audio/x-wav"/>
  <Override PartName="/ppt/media/image28.png" ContentType="image/png"/>
  <Override PartName="/ppt/media/image7.jpeg" ContentType="image/jpeg"/>
  <Override PartName="/ppt/media/image9.jpeg" ContentType="image/jpeg"/>
  <Override PartName="/ppt/media/coin.wav" ContentType="audio/x-wav"/>
  <Override PartName="/ppt/media/image1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3.jpeg" ContentType="image/jpeg"/>
  <Override PartName="/ppt/media/image24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6.jpeg" ContentType="image/jpeg"/>
  <Override PartName="/ppt/media/type.wav" ContentType="audio/x-wav"/>
  <Override PartName="/ppt/media/image1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12D-075C-4BDF-82BF-9B3A3DD7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AB8-D818-4B7E-95EF-64A6DDE4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8E8-6857-4E95-BDFD-1F14B633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4C5-E22D-44A4-9B9C-B5447814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4EF-F45D-4595-942B-F0136AF1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BE9-14F4-44A0-B8B2-34E62D38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CDF-2605-4553-B7F8-0A3D562D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C84-F65E-4021-837E-5DF8AD5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88F-72E7-419F-B7DB-3943895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EBD-77F8-404B-ABB9-9E0A7FEC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D10-1D16-4B08-999E-E0893309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C8B-F335-4DB0-8F18-AB7584F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B84F-9D01-43BB-8D9A-099016DC3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mera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1" lang="en-US" sz="1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379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7" descr="44"/>
          <p:cNvPicPr/>
          <p:nvPr/>
        </p:nvPicPr>
        <p:blipFill>
          <a:blip r:embed="rId1"/>
          <a:stretch/>
        </p:blipFill>
        <p:spPr>
          <a:xfrm>
            <a:off x="-468360" y="1844640"/>
            <a:ext cx="4969080" cy="612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52"/>
          <p:cNvPicPr/>
          <p:nvPr/>
        </p:nvPicPr>
        <p:blipFill>
          <a:blip r:embed="rId2"/>
          <a:stretch/>
        </p:blipFill>
        <p:spPr>
          <a:xfrm>
            <a:off x="0" y="0"/>
            <a:ext cx="4356000" cy="39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27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393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22"/>
          <p:cNvPicPr/>
          <p:nvPr/>
        </p:nvPicPr>
        <p:blipFill>
          <a:blip r:embed="rId4"/>
          <a:stretch/>
        </p:blipFill>
        <p:spPr>
          <a:xfrm>
            <a:off x="4356000" y="3860640"/>
            <a:ext cx="478800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8"/>
          <p:cNvSpPr/>
          <p:nvPr/>
        </p:nvSpPr>
        <p:spPr>
          <a:xfrm>
            <a:off x="-468360" y="1484280"/>
            <a:ext cx="46836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0" y="7389720"/>
            <a:ext cx="471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2859120" y="6093000"/>
            <a:ext cx="12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疾飞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2050920" y="3141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像箭一样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7885080" y="306864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蹬开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7956720" y="602136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叼起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219640" y="83664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在翠鸟飞来的时候，我们远远地看着它那美丽的羽毛，希望它在苇秆上多停一会儿。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5127480" y="11635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较句子，体会用词的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准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生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47280" y="1988640"/>
            <a:ext cx="6985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翠鸟叫声清脆，爱在水面上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翠鸟鸣声清脆，爱贴着水面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2133720"/>
            <a:ext cx="144360" cy="143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4149720"/>
            <a:ext cx="75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第二句写得好，“鸣”更准确同时还含有感情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“疾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字写出了翠鸟动作轻盈和迅捷。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25280" y="2630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over dir="rd"/>
    <p:sndAc>
      <p:stSnd>
        <p:snd r:embed="rId2" name="coin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翠鸟蹬开苇秆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像箭一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过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翠鸟离开苇秆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很快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过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3789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第一句好，运用比喻句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生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地写出了翠鸟的动作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十分迅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蹬开将翠鸟离开苇杆时的动作，神态，速度生动地描绘了出来。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1700280"/>
            <a:ext cx="73080" cy="129528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7080" y="2108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cover dir="lu"/>
    <p:sndAc>
      <p:stSnd>
        <p:snd r:embed="rId2" name="camera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2M8JF64H0Z_203_500_320"/>
          <p:cNvPicPr/>
          <p:nvPr/>
        </p:nvPicPr>
        <p:blipFill>
          <a:blip r:embed="rId1"/>
          <a:stretch/>
        </p:blipFill>
        <p:spPr>
          <a:xfrm>
            <a:off x="-181080" y="3141720"/>
            <a:ext cx="2952720" cy="371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3085837491"/>
          <p:cNvPicPr/>
          <p:nvPr/>
        </p:nvPicPr>
        <p:blipFill>
          <a:blip r:embed="rId2"/>
          <a:stretch/>
        </p:blipFill>
        <p:spPr>
          <a:xfrm>
            <a:off x="0" y="0"/>
            <a:ext cx="2771640" cy="321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_6_02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3184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1024x768_002"/>
          <p:cNvPicPr/>
          <p:nvPr/>
        </p:nvPicPr>
        <p:blipFill>
          <a:blip r:embed="rId4"/>
          <a:stretch/>
        </p:blipFill>
        <p:spPr>
          <a:xfrm>
            <a:off x="5867280" y="3141720"/>
            <a:ext cx="3276720" cy="371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20070703_b7cb15d9c8fd044cf559lcaFH7hnKlHy"/>
          <p:cNvPicPr/>
          <p:nvPr/>
        </p:nvPicPr>
        <p:blipFill>
          <a:blip r:embed="rId5"/>
          <a:stretch/>
        </p:blipFill>
        <p:spPr>
          <a:xfrm>
            <a:off x="2771640" y="3141720"/>
            <a:ext cx="309564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L83IK5405Q_203_180_160"/>
          <p:cNvPicPr/>
          <p:nvPr/>
        </p:nvPicPr>
        <p:blipFill>
          <a:blip r:embed="rId6"/>
          <a:stretch/>
        </p:blipFill>
        <p:spPr>
          <a:xfrm>
            <a:off x="2771640" y="0"/>
            <a:ext cx="3095640" cy="3141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0" y="3213000"/>
            <a:ext cx="684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鸟是人类的朋友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0"/>
            <a:ext cx="9396360" cy="7316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0" name="Picture 4" descr="9dae06042b45417b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376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2022"/>
          <p:cNvPicPr/>
          <p:nvPr/>
        </p:nvPicPr>
        <p:blipFill>
          <a:blip r:embed="rId2"/>
          <a:stretch/>
        </p:blipFill>
        <p:spPr>
          <a:xfrm>
            <a:off x="5508720" y="3716280"/>
            <a:ext cx="3635280" cy="314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58"/>
          <p:cNvPicPr/>
          <p:nvPr/>
        </p:nvPicPr>
        <p:blipFill>
          <a:blip r:embed="rId3"/>
          <a:stretch/>
        </p:blipFill>
        <p:spPr>
          <a:xfrm>
            <a:off x="0" y="0"/>
            <a:ext cx="5508720" cy="3716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250920" y="4076640"/>
            <a:ext cx="1873080" cy="703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小练笔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250920" y="537372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你还熟悉哪种鸟类？请动手写一写吧！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5" name="乌鸦戏水.mp3" descr=""/>
          <p:cNvPicPr/>
          <p:nvPr/>
        </p:nvPicPr>
        <p:blipFill>
          <a:blip r:embed="rId4"/>
          <a:stretch/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343794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3492360" y="8366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翠鸟资料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971640" y="1413000"/>
            <a:ext cx="69850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翠鸟又叫大翠鸟、鱼狗、钓鱼郎。分布在世界各地，但主要在热带地区，属常见留鸟。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　　翠鸟的体形大多数矮小短胖，同麻雀大小差不多，体长大约１５厘米。它的体形有点像啄木鸟，嘴特长，而尾则短小，典型的长嘴短胖鸟。但它的羽毛色彩却十分美丽，可称为举世无双的最美丽的鸟类。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　　该鸟全身以翠绿色为主，所以叫翠鸟。翠鸟的尾部虽很短，但飞起来很灵活。常常静栖于水中蓬叶上，水边岩石或树技上。眼睛死盯着水面，一旦发现有食物，则以闪电式的速度直飞捕捉，而后再回到栖息地等待，有时像火箭一样在水面飞行，十分好看。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</a:rPr>
              <a:t>　　该鸟嗜食鱼类，所以人们又称它为“鱼虎”“水狗”和“鱼狗”。 </a:t>
            </a:r>
            <a:br>
              <a:rPr sz="2000"/>
            </a:b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ic_227681[1]"/>
          <p:cNvPicPr/>
          <p:nvPr/>
        </p:nvPicPr>
        <p:blipFill>
          <a:blip r:embed="rId1"/>
          <a:stretch/>
        </p:blipFill>
        <p:spPr>
          <a:xfrm>
            <a:off x="0" y="260280"/>
            <a:ext cx="3564000" cy="460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11280" y="620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读 文  提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示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203640" y="1413000"/>
            <a:ext cx="540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　　１、自读课文，认识生字、新词，把课文读懂、读通顺。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　　２、思考：课文每个自然段各写了什么内容？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905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403280" y="2492280"/>
            <a:ext cx="705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翠鸟  苇秆  腹部  赤褐色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衬衫  透亮  泛着   饲养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渔翁  陡峭  石壁   锐利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3348000" y="1268280"/>
            <a:ext cx="237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会认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pic_227455[1]"/>
          <p:cNvPicPr/>
          <p:nvPr/>
        </p:nvPicPr>
        <p:blipFill>
          <a:blip r:embed="rId1"/>
          <a:stretch/>
        </p:blipFill>
        <p:spPr>
          <a:xfrm>
            <a:off x="1763640" y="0"/>
            <a:ext cx="6337440" cy="2565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2771640" y="333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合 作 交 流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11280" y="3141720"/>
            <a:ext cx="216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第一自然段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第二自然段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第三自然段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第四自然段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第五自然段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2843280" y="3141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翠鸟的颜色鲜艳、小巧玲珑。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843280" y="3716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翠鸟鸣声清脆，爱贴着水面疾飞。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843280" y="4384800"/>
            <a:ext cx="48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翠鸟捕鱼时动作迅速、敏捷。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843280" y="5013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翠鸟的家在陡峭的石壁上。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843280" y="5661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们”把翠鸟当成朋友。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0"/>
          <p:cNvGrpSpPr/>
          <p:nvPr/>
        </p:nvGrpSpPr>
        <p:grpSpPr>
          <a:xfrm>
            <a:off x="0" y="0"/>
            <a:ext cx="9468000" cy="5523120"/>
            <a:chOff x="0" y="0"/>
            <a:chExt cx="9468000" cy="5523120"/>
          </a:xfrm>
        </p:grpSpPr>
        <p:sp>
          <p:nvSpPr>
            <p:cNvPr id="62" name="Text Box 4"/>
            <p:cNvSpPr/>
            <p:nvPr/>
          </p:nvSpPr>
          <p:spPr>
            <a:xfrm>
              <a:off x="0" y="4941720"/>
              <a:ext cx="88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99ff"/>
                  </a:solidFill>
                  <a:latin typeface="Arial"/>
                </a:rPr>
                <a:t>　　</a:t>
              </a:r>
              <a:r>
                <a:rPr b="1" lang="zh-CN" sz="3200" spc="-1" strike="noStrike">
                  <a:solidFill>
                    <a:srgbClr val="ff00ff"/>
                  </a:solidFill>
                  <a:latin typeface="Arial"/>
                </a:rPr>
                <a:t>它的颜色非常鲜艳。头上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的羽毛像橄榄色的头巾，绣满了翠绿色的花纹。</a:t>
              </a:r>
              <a:r>
                <a:rPr b="1" lang="zh-CN" sz="3200" spc="-1" strike="noStrike">
                  <a:solidFill>
                    <a:srgbClr val="ff00ff"/>
                  </a:solidFill>
                  <a:latin typeface="Arial"/>
                </a:rPr>
                <a:t>背上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的羽毛像浅绿色的外衣。</a:t>
              </a:r>
              <a:r>
                <a:rPr b="1" lang="zh-CN" sz="3200" spc="-1" strike="noStrike">
                  <a:solidFill>
                    <a:srgbClr val="ff00ff"/>
                  </a:solidFill>
                  <a:latin typeface="Arial"/>
                </a:rPr>
                <a:t>腹部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的羽毛像赤褐色的衬衫。</a:t>
              </a:r>
              <a:endParaRPr b="1" lang="en-US" sz="3200" spc="-1" strike="noStrike">
                <a:solidFill>
                  <a:srgbClr val="800000"/>
                </a:solidFill>
                <a:latin typeface="Arial"/>
              </a:endParaRPr>
            </a:p>
          </p:txBody>
        </p:sp>
        <p:pic>
          <p:nvPicPr>
            <p:cNvPr id="63" name="Picture 9" descr="4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00720" cy="46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13"/>
            <p:cNvSpPr/>
            <p:nvPr/>
          </p:nvSpPr>
          <p:spPr>
            <a:xfrm>
              <a:off x="7740720" y="0"/>
              <a:ext cx="1727280" cy="47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800000"/>
                </a:solidFill>
                <a:latin typeface="Arial"/>
              </a:endParaRPr>
            </a:p>
          </p:txBody>
        </p:sp>
        <p:grpSp>
          <p:nvGrpSpPr>
            <p:cNvPr id="65" name="Group 19"/>
            <p:cNvGrpSpPr/>
            <p:nvPr/>
          </p:nvGrpSpPr>
          <p:grpSpPr>
            <a:xfrm>
              <a:off x="4500720" y="0"/>
              <a:ext cx="4643280" cy="4653000"/>
              <a:chOff x="4500720" y="0"/>
              <a:chExt cx="4643280" cy="4653000"/>
            </a:xfrm>
          </p:grpSpPr>
          <p:pic>
            <p:nvPicPr>
              <p:cNvPr id="66" name="Picture 10" descr="62"/>
              <p:cNvPicPr/>
              <p:nvPr/>
            </p:nvPicPr>
            <p:blipFill>
              <a:blip r:embed="rId2"/>
              <a:stretch/>
            </p:blipFill>
            <p:spPr>
              <a:xfrm>
                <a:off x="4500720" y="0"/>
                <a:ext cx="4643280" cy="465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Rectangle 12"/>
              <p:cNvSpPr/>
              <p:nvPr/>
            </p:nvSpPr>
            <p:spPr>
              <a:xfrm>
                <a:off x="7667640" y="0"/>
                <a:ext cx="1476360" cy="46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68" name="Rectangle 14"/>
              <p:cNvSpPr/>
              <p:nvPr/>
            </p:nvSpPr>
            <p:spPr>
              <a:xfrm>
                <a:off x="8172360" y="0"/>
                <a:ext cx="971640" cy="465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69" name="Text Box 15"/>
              <p:cNvSpPr/>
              <p:nvPr/>
            </p:nvSpPr>
            <p:spPr>
              <a:xfrm>
                <a:off x="8410680" y="692280"/>
                <a:ext cx="733320" cy="18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  <p:sp>
            <p:nvSpPr>
              <p:cNvPr id="70" name="Text Box 18"/>
              <p:cNvSpPr/>
              <p:nvPr/>
            </p:nvSpPr>
            <p:spPr>
              <a:xfrm>
                <a:off x="7687080" y="476280"/>
                <a:ext cx="1277640" cy="27367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800000"/>
                    </a:solidFill>
                    <a:latin typeface="Arial"/>
                  </a:rPr>
                  <a:t>品 读 领 悟</a:t>
                </a:r>
                <a:endParaRPr b="1" lang="en-US" sz="3600" spc="-1" strike="noStrike">
                  <a:solidFill>
                    <a:srgbClr val="8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4"/>
          <p:cNvSpPr/>
          <p:nvPr/>
        </p:nvSpPr>
        <p:spPr>
          <a:xfrm>
            <a:off x="0" y="0"/>
            <a:ext cx="9396360" cy="7174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2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4643280" cy="443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24"/>
          <p:cNvPicPr/>
          <p:nvPr/>
        </p:nvPicPr>
        <p:blipFill>
          <a:blip r:embed="rId2"/>
          <a:stretch/>
        </p:blipFill>
        <p:spPr>
          <a:xfrm>
            <a:off x="4716360" y="0"/>
            <a:ext cx="4680000" cy="4437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755640" y="5300640"/>
            <a:ext cx="5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39640" y="5084640"/>
            <a:ext cx="81360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它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小巧玲珑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，一双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透亮灵活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的眼睛下面，长着一张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又尖又长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的嘴。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 flipV="1">
            <a:off x="-2438280" y="953280"/>
            <a:ext cx="7333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50920" y="333360"/>
            <a:ext cx="649080" cy="22885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品读领悟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-338040" y="549360"/>
            <a:ext cx="7333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喜欢翠鸟吗？用下面的句式来赞美翠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一定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真是一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1773360"/>
            <a:ext cx="26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     爱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278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3640" y="3645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)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24560" y="2708280"/>
            <a:ext cx="11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翠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2133720"/>
            <a:ext cx="360360" cy="194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1989000"/>
            <a:ext cx="287280" cy="2016360"/>
          </a:xfrm>
          <a:custGeom>
            <a:avLst/>
            <a:gdLst>
              <a:gd name="textAreaLeft" fmla="*/ 0 w 287280"/>
              <a:gd name="textAreaRight" fmla="*/ 10368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2852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漂　亮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15080" y="371628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机　灵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camera.wav"/>
      </p:stSnd>
    </p:sndAc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7"/>
          <p:cNvSpPr/>
          <p:nvPr/>
        </p:nvSpPr>
        <p:spPr>
          <a:xfrm>
            <a:off x="0" y="-243000"/>
            <a:ext cx="9144000" cy="710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11280" y="4724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翠鸟蹬开苇秆，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像箭一样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飞过去，叼起小鱼，贴着水面往远处飞走了。只有苇秆还在摇晃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水波还在荡漾。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2" name="Picture 5" descr="48"/>
          <p:cNvPicPr/>
          <p:nvPr/>
        </p:nvPicPr>
        <p:blipFill>
          <a:blip r:embed="rId1"/>
          <a:stretch/>
        </p:blipFill>
        <p:spPr>
          <a:xfrm>
            <a:off x="4788000" y="-316080"/>
            <a:ext cx="4356000" cy="424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7"/>
          <p:cNvPicPr/>
          <p:nvPr/>
        </p:nvPicPr>
        <p:blipFill>
          <a:blip r:embed="rId2"/>
          <a:stretch/>
        </p:blipFill>
        <p:spPr>
          <a:xfrm>
            <a:off x="-324000" y="-316080"/>
            <a:ext cx="6046920" cy="42498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-468360" y="-316080"/>
            <a:ext cx="961236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-504720" y="3716280"/>
            <a:ext cx="9648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0" y="-603360"/>
            <a:ext cx="9144000" cy="74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00:04:03Z</dcterms:created>
  <dc:creator>YlmF</dc:creator>
  <dc:description/>
  <dc:language>en-US</dc:language>
  <cp:lastModifiedBy>User</cp:lastModifiedBy>
  <dcterms:modified xsi:type="dcterms:W3CDTF">2015-07-16T15:12:21Z</dcterms:modified>
  <cp:revision>25</cp:revision>
  <dc:subject/>
  <dc:title>幻灯片 1</dc:title>
</cp:coreProperties>
</file>