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7.jpeg" ContentType="image/jpeg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12.jpeg" ContentType="image/jpeg"/>
  <Override PartName="/ppt/media/image5.gif" ContentType="image/gif"/>
  <Override PartName="/ppt/media/image16.wmf" ContentType="image/x-wmf"/>
  <Override PartName="/ppt/media/image8.jpeg" ContentType="image/jpeg"/>
  <Override PartName="/ppt/media/image4.png" ContentType="image/png"/>
  <Override PartName="/ppt/media/image1.gif" ContentType="image/gif"/>
  <Override PartName="/ppt/media/chimes.wav" ContentType="audio/x-wav"/>
  <Override PartName="/ppt/media/image21.gif" ContentType="image/gif"/>
  <Override PartName="/ppt/media/image19.gif" ContentType="image/gif"/>
  <Override PartName="/ppt/media/image18.jpeg" ContentType="image/jpeg"/>
  <Override PartName="/ppt/media/applause.wav" ContentType="audio/x-wav"/>
  <Override PartName="/ppt/media/image22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5.png" ContentType="image/png"/>
  <Override PartName="/ppt/media/image14.wmf" ContentType="image/x-wmf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自定义放映1" id="0">
      <p:sldLst>
        <p:sld r:id="rId6"/>
        <p:sld r:id="rId8"/>
        <p:sld r:id="rId11"/>
      </p:sldLst>
    </p:custShow>
    <p:custShow name="自定义放映3" id="1">
      <p:sldLst>
        <p:sld r:id="rId4"/>
        <p:sld r:id="rId6"/>
        <p:sld r:id="rId8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54E-D3E2-4C02-A351-209E0C63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316-6BD3-40E0-B666-F2813C65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32B-DE4C-4B09-A866-9609F7F5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B60-9560-4740-8B72-9F4326F4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5BF-B4B9-4630-A014-7F6ECB98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67B-77F6-44D4-A5F6-A3B13261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494-CEB8-41F1-94C1-5F4703C3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E45-EB7F-46E8-A429-E740A6B9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009-3FCC-442C-91EE-5A808DA7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8E0-1DC1-4F3B-A7D2-E89B437F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681-0433-446C-BFE5-27234833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3F6-36FC-49AA-861E-8D99E731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CD2D-BC50-4AD7-A663-A4204B594D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7238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翠 鸟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08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362320"/>
            <a:ext cx="434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、把你喜欢的好词佳句摘抄下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、回家留心观察一种小动物，把你对它的认识以日记的形式写下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3708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彩云"/>
                <a:ea typeface="华文彩云"/>
              </a:rPr>
              <a:t>作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彩云"/>
                <a:ea typeface="华文彩云"/>
              </a:rPr>
              <a:t>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150804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1066680"/>
            <a:ext cx="59436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华文彩云"/>
                <a:ea typeface="华文彩云"/>
              </a:rPr>
              <a:t>谢谢各位</a:t>
            </a:r>
            <a:r>
              <a:rPr b="1" lang="zh-CN" sz="9600" spc="-1" strike="noStrike">
                <a:solidFill>
                  <a:srgbClr val="ff3300"/>
                </a:solidFill>
                <a:latin typeface="华文彩云"/>
                <a:ea typeface="华文彩云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华文彩云"/>
                <a:ea typeface="华文彩云"/>
              </a:rPr>
              <a:t>    </a:t>
            </a:r>
            <a:r>
              <a:rPr b="1" lang="zh-CN" sz="9600" spc="-1" strike="noStrike">
                <a:solidFill>
                  <a:srgbClr val="ff3300"/>
                </a:solidFill>
                <a:latin typeface="华文彩云"/>
                <a:ea typeface="华文彩云"/>
              </a:rPr>
              <a:t>再见</a:t>
            </a:r>
            <a:r>
              <a:rPr b="1" lang="zh-CN" sz="9600" spc="-1" strike="noStrike">
                <a:solidFill>
                  <a:srgbClr val="ff3300"/>
                </a:solidFill>
                <a:latin typeface="华文彩云"/>
                <a:ea typeface="华文彩云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198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6332400"/>
            <a:ext cx="9144000" cy="525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286840" y="6058080"/>
            <a:ext cx="85716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867564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4197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1523880"/>
            <a:ext cx="7696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翠鸟的颜色 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。头上的羽毛像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，绣满了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。背上的羽毛像 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。腹部的羽毛像 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。它 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Times New Roman"/>
              </a:rPr>
              <a:t>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，一双 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的眼睛下面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长着一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6600ff"/>
                </a:solidFill>
                <a:uFillTx/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的嘴。</a:t>
            </a:r>
            <a:r>
              <a:rPr b="0" lang="zh-CN" sz="2400" spc="-1" strike="noStrike" u="sng">
                <a:solidFill>
                  <a:srgbClr val="6600ff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9588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838080"/>
            <a:ext cx="129528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114300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退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286160" y="6629400"/>
            <a:ext cx="4857840" cy="22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7840" cy="228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60948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翠鸟叫声清脆，爱贴着水面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疾飞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一眨眼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又轻轻地落在苇秆上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翠鸟叫声清脆，爱在水面上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1887480" cy="242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  <p:sndAc>
      <p:stSnd>
        <p:snd r:embed="rId4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121932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翠鸟蹬开苇秆，像箭一样飞过去，叼起小鱼，贴着水面一下子飞远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132760" y="2209680"/>
            <a:ext cx="1011240" cy="4648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153280" y="0"/>
            <a:ext cx="9907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36576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翠鸟离开苇秆，很快地飞过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6629400"/>
            <a:ext cx="4857840" cy="228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67652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6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35000"/>
            <a:ext cx="9144000" cy="6993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843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3360"/>
            <a:ext cx="87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鱼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头露出水面，吹了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尽管它这样机灵，还是难以逃脱翠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眼睛。翠鸟蹬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鱼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苇秆还在摇晃，水波还在荡漾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9588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457200" y="617220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10800"/>
                </a:moveTo>
                <a:lnTo>
                  <a:pt x="25894" y="3794"/>
                </a:lnTo>
                <a:lnTo>
                  <a:pt x="258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0"/>
            <a:ext cx="1295640" cy="457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endshow"/>
          </p:cNvPr>
          <p:cNvSpPr/>
          <p:nvPr/>
        </p:nvSpPr>
        <p:spPr>
          <a:xfrm>
            <a:off x="114300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退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28600"/>
            <a:ext cx="81532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我们对翠鸟的喜爱之情化作永恒的记忆，背下自己喜欢的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边演边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找个伙伴一起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99"/>
                </a:solidFill>
                <a:latin typeface="华文新魏"/>
                <a:ea typeface="华文新魏"/>
              </a:rPr>
              <a:t>       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约老师一起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         </a:t>
            </a:r>
            <a:r>
              <a:rPr b="0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05520" y="3284640"/>
            <a:ext cx="4038480" cy="357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64008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7:47:49Z</dcterms:created>
  <dc:creator>Billgates</dc:creator>
  <dc:description/>
  <dc:language>en-US</dc:language>
  <cp:lastModifiedBy>User</cp:lastModifiedBy>
  <dcterms:modified xsi:type="dcterms:W3CDTF">2014-12-02T13:33:13Z</dcterms:modified>
  <cp:revision>20</cp:revision>
  <dc:subject/>
  <dc:title>PowerPoint 演示文稿</dc:title>
</cp:coreProperties>
</file>