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5.png" ContentType="image/png"/>
  <Override PartName="/ppt/media/chimes.wav" ContentType="audio/x-wav"/>
  <Override PartName="/ppt/media/image10.png" ContentType="image/png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7.png" ContentType="image/png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5D3-F2F3-4FBE-B344-483E2C96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891-5366-4E34-9DA4-4D2802D7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0C2-7EA3-49D5-B950-701D5E41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577-CE2D-48A1-85F1-71B3B2CD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E12-15F6-446F-98BF-0425CF6B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D19-31D3-415A-A85E-56669A11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E2E-FE0B-4A44-A771-C5134FE4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2DE-7733-4B77-BCFE-9D9ED7D4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0F6-A3DD-4F17-942C-331D1D52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7CA-5667-4B4E-B4B5-985D43EA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21B-D46A-4492-A108-6CF9757F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69C-4FA5-475D-AF9D-AAE25476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B523-BA49-4908-9B33-3A65099EC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35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63640" y="54936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22400" y="2122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87640" y="1844640"/>
            <a:ext cx="4267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36"/>
                <a:gd name="adj2" fmla="val -1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文鼎妞妞体"/>
              </a:rPr>
              <a:t>翠    鸟</a:t>
            </a:r>
            <a:endParaRPr b="0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文鼎妞妞体"/>
              <a:ea typeface="文鼎妞妞体"/>
            </a:endParaRPr>
          </a:p>
        </p:txBody>
      </p:sp>
      <p:sp>
        <p:nvSpPr>
          <p:cNvPr id="46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8234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7001" t="42002" r="53002" b="28671"/>
          <a:stretch/>
        </p:blipFill>
        <p:spPr>
          <a:xfrm>
            <a:off x="0" y="2819520"/>
            <a:ext cx="22860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223636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2320" cy="1994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38280" y="18288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8288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943600" y="4648320"/>
            <a:ext cx="100980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19520" y="0"/>
            <a:ext cx="1828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课后拓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765000"/>
            <a:ext cx="4969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选作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现在，鸟儿的家都被淘气的小朋友坏了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我要为鸟儿造几个窝，让鸟儿都有一个舒适、温暖的家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我准备做一期关于“我喜欢的鸟”的手抄报。让大家都来认识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我回去将继续在电脑上查阅有关翠鸟的资料，进一步了解翠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我想向全市的小朋友发出倡议：爱护鸟吧，它是我们人类的朋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</a:rPr>
              <a:t>翠鸟   苇杆   腹部   衬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</a:rPr>
              <a:t>透亮   泡泡    又尖又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</a:rPr>
              <a:t>清脆   一眨眼     逃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</a:rPr>
              <a:t>饲养   渔翁    石壁   打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</a:rPr>
              <a:t>念头   橄榄色    绣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</a:rPr>
              <a:t>赤褐色   玲珑    泛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66"/>
                </a:solidFill>
                <a:latin typeface="Times New Roman"/>
              </a:rPr>
              <a:t>锐利   蹬开    叼走  陡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579132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850680" y="5773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70200" y="577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5808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136680" y="5791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段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579132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5270040" y="5773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捉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5808600"/>
            <a:ext cx="83844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4203360" y="5791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5808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6337080" y="5791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5808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80080" y="5791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808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93680" y="5791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说翠鸟颜色鲜艳，体现在什么地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413000"/>
            <a:ext cx="197964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爪子：头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上：腹部：眼睛：嘴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362320"/>
            <a:ext cx="18288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橄榄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657600"/>
            <a:ext cx="19051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浅绿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343400"/>
            <a:ext cx="18288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赤褐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844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透亮灵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607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尖又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5105160" cy="4724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95280" y="1690560"/>
            <a:ext cx="198144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　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909880"/>
            <a:ext cx="18288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绿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2819520"/>
            <a:ext cx="7315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2914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3284640"/>
            <a:ext cx="77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它的颜色非常鲜艳：头上的羽毛像橄榄色的头巾，绣满了翠绿色的花纹。背上的羽毛像浅绿色的外衣。腹部的羽毛像赤褐色的衬衫。一双透亮灵活的眼睛下面，长着一张又尖又长的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4508640"/>
            <a:ext cx="792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084640"/>
            <a:ext cx="792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5661000"/>
            <a:ext cx="792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828800" y="1219320"/>
              <a:ext cx="5105520" cy="350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00200" y="4495680"/>
              <a:ext cx="502920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0200" y="5410080"/>
              <a:ext cx="42670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0800" y="4343400"/>
              <a:ext cx="685800" cy="76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752480" y="167652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爱贴着水面疾飞，一眨眼，又轻轻地停在苇秆上了。它一动不动地注视着泛着微波的水面，等待着小鱼游到水面上来。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鱼悄悄地把头露出水面，吹了个小泡泡。尽管机灵，还是难以逃脱翠鸟锐利的眼睛。翠鸟蹬开苇秆，像箭一样飞了过去，叼起小鱼，贴着水面一下子飞远了。只有苇秆还在摇晃，水波还在荡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207648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96200" y="245736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4457880"/>
            <a:ext cx="5335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800600"/>
            <a:ext cx="38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72160" y="4457880"/>
            <a:ext cx="228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45736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67400" y="209556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480060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1400" cy="7391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549360"/>
            <a:ext cx="979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一读下面两个句子，说说那个句子写得好，为什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77336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翠鸟叫声清脆，爱在水面上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翠鸟叫声清脆，爱贴着水面疾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翠鸟离开苇秆，很快地飞过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翠鸟蹬开苇秆，像箭一样飞过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5943600"/>
            <a:ext cx="8380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372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6100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34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2:48:04Z</dcterms:created>
  <dc:creator>lixiaolong</dc:creator>
  <dc:description/>
  <dc:language>en-US</dc:language>
  <cp:lastModifiedBy>User</cp:lastModifiedBy>
  <dcterms:modified xsi:type="dcterms:W3CDTF">2014-12-02T13:32:37Z</dcterms:modified>
  <cp:revision>43</cp:revision>
  <dc:subject/>
  <dc:title>PowerPoint 演示文稿</dc:title>
</cp:coreProperties>
</file>