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gif" ContentType="image/gif"/>
  <Override PartName="/ppt/media/image7.png" ContentType="image/png"/>
  <Override PartName="/ppt/media/image4.gif" ContentType="image/gif"/>
  <Override PartName="/ppt/media/image12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applause.wav" ContentType="audio/x-wav"/>
  <Override PartName="/ppt/media/image20.jpeg" ContentType="image/jpeg"/>
  <Override PartName="/ppt/media/image16.gif" ContentType="image/gif"/>
  <Override PartName="/ppt/media/image2.png" ContentType="image/png"/>
  <Override PartName="/ppt/media/image11.jpeg" ContentType="image/jpeg"/>
  <Override PartName="/ppt/media/image9.jpeg" ContentType="image/jpeg"/>
  <Override PartName="/ppt/media/image15.gif" ContentType="image/gif"/>
  <Override PartName="/ppt/media/image18.gif" ContentType="image/gif"/>
  <Override PartName="/ppt/media/image13.jpeg" ContentType="image/jpeg"/>
  <Override PartName="/ppt/media/image1.png" ContentType="image/png"/>
  <Override PartName="/ppt/media/image19.gif" ContentType="image/gif"/>
  <Override PartName="/ppt/media/image17.jpeg" ContentType="image/jpe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665-F531-485E-A240-2B5A744E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A7A-0CA8-4E35-89E0-ECC31205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E4F-B169-441C-A494-B7BE3080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112-D6E7-42B3-987A-107306F8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15F-BF73-4463-8060-23E534B9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D79B-AC58-437B-9168-A7E55890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3433-6B94-4FAA-99BF-16360D7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B057-0B2E-4C30-B136-ABFD60E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6FEB-38C3-4792-9B66-E3A0113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0F05-4A89-4D31-A2CC-E8A28612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B464-EAF7-4C06-95F7-1A9BBD00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0DD-5779-416C-A884-C68AE551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AC25-6BC2-42A7-ADB2-B0915A4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77B-A884-4C1D-B95E-490A191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B586-87E8-4B7E-97D4-49F71EA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F3E0-D4D0-4A52-BB9A-C69EB590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71D-BC0F-40DB-B430-6640A3CB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4FD-4744-4989-A7F2-E312A61B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DC9-1ED2-4DC0-8C5E-7BAFB53F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408-03EF-4B27-B630-CB7F6C7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372-4607-4D2A-A61E-8CD9CF8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CC0-443A-4AC3-8D98-B4AC6AC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688-0789-4154-B1A7-277987E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B54-CFD6-45B4-9924-8B7249B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407A-E3C7-4226-906E-13E0E01D677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CA2D-9A47-4FA6-A02D-632E69CE609F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zjedu.org/education_resource/ground/wyzp136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71800" y="3808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  <a:ea typeface="华文彩云"/>
              </a:rPr>
              <a:t>可爱的动物——翠鸟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2438280"/>
            <a:ext cx="1523880" cy="1219320"/>
          </a:xfrm>
          <a:prstGeom prst="wedgeRoundRectCallout">
            <a:avLst>
              <a:gd name="adj1" fmla="val -43518"/>
              <a:gd name="adj2" fmla="val 63800"/>
              <a:gd name="adj3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嗨！我是小组长加菲猫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09680" y="1523880"/>
            <a:ext cx="4419720" cy="1219320"/>
          </a:xfrm>
          <a:prstGeom prst="cloudCallout">
            <a:avLst>
              <a:gd name="adj1" fmla="val 55064"/>
              <a:gd name="adj2" fmla="val -79949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200400"/>
            <a:ext cx="5410440" cy="1447920"/>
          </a:xfrm>
          <a:prstGeom prst="wedgeEllipseCallout">
            <a:avLst>
              <a:gd name="adj1" fmla="val -50967"/>
              <a:gd name="adj2" fmla="val 89254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翠鸟飞得有我的投枪快吗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5.gif (12893 字节)"/>
          <p:cNvPicPr/>
          <p:nvPr/>
        </p:nvPicPr>
        <p:blipFill>
          <a:blip r:embed="rId1"/>
          <a:stretch/>
        </p:blipFill>
        <p:spPr>
          <a:xfrm>
            <a:off x="-380880" y="4691160"/>
            <a:ext cx="4038480" cy="2166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978600" y="0"/>
            <a:ext cx="2165400" cy="2209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8120" y="1828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哼！不自量力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2090880" cy="2133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057400" y="3886200"/>
            <a:ext cx="5715000" cy="1447920"/>
          </a:xfrm>
          <a:prstGeom prst="wedgeEllipseCallout">
            <a:avLst>
              <a:gd name="adj1" fmla="val -45250"/>
              <a:gd name="adj2" fmla="val 69958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1981080"/>
            <a:ext cx="6096240" cy="1371600"/>
          </a:xfrm>
          <a:prstGeom prst="wedgeEllipseCallout">
            <a:avLst>
              <a:gd name="adj1" fmla="val 34972"/>
              <a:gd name="adj2" fmla="val -74421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438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看来翠鸟的飞行速度的确迅速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4343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要不然他就只有挨饿了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7086600" y="457200"/>
            <a:ext cx="1600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2743200"/>
            <a:ext cx="6172200" cy="2209680"/>
          </a:xfrm>
          <a:prstGeom prst="cloudCallout">
            <a:avLst>
              <a:gd name="adj1" fmla="val -39171"/>
              <a:gd name="adj2" fmla="val 65518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3200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ahoma"/>
              </a:rPr>
              <a:t>姑娘们，今天你们出去春游，可别让翠鸟抓住了。它的爪子可厉害呢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2.gif (3940 字节)"/>
          <p:cNvPicPr/>
          <p:nvPr/>
        </p:nvPicPr>
        <p:blipFill>
          <a:blip r:embed="rId1"/>
          <a:stretch/>
        </p:blipFill>
        <p:spPr>
          <a:xfrm>
            <a:off x="2600280" y="533520"/>
            <a:ext cx="1438200" cy="2590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2.gif (3940 字节)"/>
          <p:cNvPicPr/>
          <p:nvPr/>
        </p:nvPicPr>
        <p:blipFill>
          <a:blip r:embed="rId2"/>
          <a:stretch/>
        </p:blipFill>
        <p:spPr>
          <a:xfrm>
            <a:off x="4124160" y="609480"/>
            <a:ext cx="1438560" cy="2590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2.gif (3940 字节)"/>
          <p:cNvPicPr/>
          <p:nvPr/>
        </p:nvPicPr>
        <p:blipFill>
          <a:blip r:embed="rId3"/>
          <a:stretch/>
        </p:blipFill>
        <p:spPr>
          <a:xfrm>
            <a:off x="5638680" y="609480"/>
            <a:ext cx="1438560" cy="2590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2.gif (3940 字节)"/>
          <p:cNvPicPr/>
          <p:nvPr/>
        </p:nvPicPr>
        <p:blipFill>
          <a:blip r:embed="rId4"/>
          <a:stretch/>
        </p:blipFill>
        <p:spPr>
          <a:xfrm>
            <a:off x="6934320" y="685800"/>
            <a:ext cx="1438200" cy="2590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2.gif (3940 字节)"/>
          <p:cNvPicPr/>
          <p:nvPr/>
        </p:nvPicPr>
        <p:blipFill>
          <a:blip r:embed="rId5"/>
          <a:stretch/>
        </p:blipFill>
        <p:spPr>
          <a:xfrm>
            <a:off x="838080" y="609480"/>
            <a:ext cx="1438560" cy="2590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0" y="4876920"/>
            <a:ext cx="194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429000"/>
            <a:ext cx="6172200" cy="2209680"/>
          </a:xfrm>
          <a:prstGeom prst="cloudCallout">
            <a:avLst>
              <a:gd name="adj1" fmla="val 51004"/>
              <a:gd name="adj2" fmla="val -84412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38098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Tahoma"/>
                <a:ea typeface="方正舒体"/>
              </a:rPr>
              <a:t>翠鸟的家在哪儿啊！我要去替鱼儿们报仇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5909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1905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57400" y="1523880"/>
            <a:ext cx="4267080" cy="1524240"/>
          </a:xfrm>
          <a:prstGeom prst="cloudCallout">
            <a:avLst>
              <a:gd name="adj1" fmla="val -39953"/>
              <a:gd name="adj2" fmla="val -675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3200400"/>
            <a:ext cx="2666880" cy="1752480"/>
          </a:xfrm>
          <a:prstGeom prst="cloudCallout">
            <a:avLst>
              <a:gd name="adj1" fmla="val -52976"/>
              <a:gd name="adj2" fmla="val 63675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3352680"/>
            <a:ext cx="2666880" cy="1752840"/>
          </a:xfrm>
          <a:prstGeom prst="cloudCallout">
            <a:avLst>
              <a:gd name="adj1" fmla="val 23273"/>
              <a:gd name="adj2" fmla="val -11521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19810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它的家在陡峭的石壁上。这样才安全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3733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唉！真难捉住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485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我们不应该捉它，它是我们的朋友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876920"/>
            <a:ext cx="1887480" cy="1981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096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352680" y="1143000"/>
            <a:ext cx="5181840" cy="2362320"/>
          </a:xfrm>
          <a:prstGeom prst="cloudCallout">
            <a:avLst>
              <a:gd name="adj1" fmla="val -57814"/>
              <a:gd name="adj2" fmla="val 55912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67652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ahoma"/>
                <a:ea typeface="隶书"/>
              </a:rPr>
              <a:t>翠鸟是怎样的一种鸟，我们应该怎样对待它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538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538360" cy="259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762120" y="35053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翠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286000"/>
            <a:ext cx="380880" cy="350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981080"/>
            <a:ext cx="30477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嘴又尖又长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眼睛锐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飞行速度快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爪子尖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家住在峭壁上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723560" y="2133720"/>
            <a:ext cx="381240" cy="2819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6"/>
                </a:lnTo>
                <a:cubicBezTo>
                  <a:pt x="10800" y="9766"/>
                  <a:pt x="5400" y="10666"/>
                  <a:pt x="0" y="10666"/>
                </a:cubicBezTo>
                <a:cubicBezTo>
                  <a:pt x="5400" y="10666"/>
                  <a:pt x="10800" y="11566"/>
                  <a:pt x="10800" y="124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335268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2767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有利于捕鱼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54864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5257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----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避免敌害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314440" cy="23623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79560" y="1066680"/>
            <a:ext cx="10033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7c80"/>
                </a:solidFill>
                <a:latin typeface="Tahoma"/>
                <a:ea typeface="隶书"/>
              </a:rPr>
              <a:t>翠鸟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33720" y="11430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1339920"/>
            <a:ext cx="3200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外貌</a:t>
            </a: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漂亮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叫声</a:t>
            </a: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清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体态轻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动作</a:t>
            </a:r>
            <a:r>
              <a:rPr b="1" lang="zh-CN" sz="3200" spc="-1" strike="noStrike">
                <a:solidFill>
                  <a:srgbClr val="ff66ff"/>
                </a:solidFill>
                <a:latin typeface="Tahoma"/>
              </a:rPr>
              <a:t>敏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12193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2057400"/>
            <a:ext cx="2667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</a:rPr>
              <a:t>美的化身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9520" y="4648320"/>
            <a:ext cx="3504960" cy="1218960"/>
          </a:xfrm>
          <a:prstGeom prst="cloudCallout">
            <a:avLst>
              <a:gd name="adj1" fmla="val -35550"/>
              <a:gd name="adj2" fmla="val 73439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4952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你看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836800" cy="2895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514600" y="1752480"/>
            <a:ext cx="4800600" cy="2057400"/>
          </a:xfrm>
          <a:prstGeom prst="cloudCallout">
            <a:avLst>
              <a:gd name="adj1" fmla="val -46129"/>
              <a:gd name="adj2" fmla="val 91666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2057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Tahoma"/>
              </a:rPr>
              <a:t>翠鸟这样可爱，我们应当爱护翠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7c80"/>
                </a:solidFill>
                <a:latin typeface="Tahoma"/>
                <a:ea typeface="隶书"/>
              </a:rPr>
              <a:t>资料来源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1822320"/>
            <a:ext cx="6858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www.zjedu.org/education_resource/ground/wyzp136/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（翠鸟之家网站上面有翠鸟概述、翠鸟图片、翠鸟声音、翠鸟文学翠鸟名画等一系列好的资源。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ff"/>
                </a:solidFill>
                <a:latin typeface="Tahoma"/>
              </a:rPr>
              <a:t>http://www.mypcera.com/photo/65/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（百万图库动画图标）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429000" y="4038480"/>
            <a:ext cx="4952880" cy="1752840"/>
          </a:xfrm>
          <a:prstGeom prst="cloudCallout">
            <a:avLst>
              <a:gd name="adj1" fmla="val -69583"/>
              <a:gd name="adj2" fmla="val 19203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523880"/>
            <a:ext cx="4953240" cy="1828800"/>
          </a:xfrm>
          <a:prstGeom prst="cloudCallout">
            <a:avLst>
              <a:gd name="adj1" fmla="val 50287"/>
              <a:gd name="adj2" fmla="val -9409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182880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Tahoma"/>
                <a:ea typeface="隶书"/>
              </a:rPr>
              <a:t>翠鸟的毛是大多翠绿色的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Tahoma"/>
                <a:ea typeface="隶书"/>
              </a:rPr>
              <a:t>所以叫翠鸟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4343400"/>
            <a:ext cx="58672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Tahoma"/>
                <a:ea typeface="楷体_GB2312"/>
              </a:rPr>
              <a:t>也有褐色的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Tahoma"/>
                <a:ea typeface="楷体_GB2312"/>
              </a:rPr>
              <a:t>不信看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ahoma"/>
                <a:ea typeface="楷体_GB2312"/>
                <a:hlinkClick r:id="rId1" action="ppaction://hlinksldjump"/>
              </a:rPr>
              <a:t>这里</a:t>
            </a:r>
            <a:r>
              <a:rPr b="0" lang="zh-CN" sz="3200" spc="-1" strike="noStrike" u="sng">
                <a:solidFill>
                  <a:srgbClr val="6f89f7"/>
                </a:solidFill>
                <a:uFillTx/>
                <a:latin typeface="Tahoma"/>
                <a:ea typeface="楷体_GB2312"/>
                <a:hlinkClick r:id="rId2" action="ppaction://hlinksldjump"/>
              </a:rPr>
              <a:t>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981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95880" y="304920"/>
            <a:ext cx="2590920" cy="2394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2389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2219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429000" y="25909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4a59e4"/>
                </a:solidFill>
                <a:latin typeface="Tahoma"/>
                <a:ea typeface="隶书"/>
              </a:rPr>
              <a:t>再见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2836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90720" y="1447920"/>
            <a:ext cx="1981080" cy="2057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4832280" cy="5257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612880" cy="2743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209680" y="2971800"/>
            <a:ext cx="1244880" cy="1371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33520" y="1752480"/>
            <a:ext cx="304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还有其它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颜色吗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182592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858000" y="228600"/>
            <a:ext cx="2057400" cy="1657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692360" y="304920"/>
            <a:ext cx="2955960" cy="3504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6320" y="0"/>
            <a:ext cx="1904760" cy="2263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6248520" y="2895480"/>
            <a:ext cx="2678040" cy="3962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0" y="3962520"/>
            <a:ext cx="2836800" cy="2895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66880" y="3962520"/>
            <a:ext cx="3124440" cy="2286000"/>
          </a:xfrm>
          <a:prstGeom prst="wedgeRoundRectCallout">
            <a:avLst>
              <a:gd name="adj1" fmla="val -67731"/>
              <a:gd name="adj2" fmla="val 3958"/>
              <a:gd name="adj3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当然还有，只要你到网上去找，你会发现更多美丽的翠鸟</a:t>
            </a:r>
            <a:r>
              <a:rPr b="1" lang="zh-CN" sz="2400" spc="-1" strike="noStrike">
                <a:solidFill>
                  <a:srgbClr val="40458c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743200" y="3962520"/>
            <a:ext cx="4495680" cy="1295280"/>
          </a:xfrm>
          <a:prstGeom prst="cloudCallout">
            <a:avLst>
              <a:gd name="adj1" fmla="val -50212"/>
              <a:gd name="adj2" fmla="val 38236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1981080"/>
            <a:ext cx="4190760" cy="1295640"/>
          </a:xfrm>
          <a:prstGeom prst="cloudCallout">
            <a:avLst>
              <a:gd name="adj1" fmla="val 43069"/>
              <a:gd name="adj2" fmla="val -94606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990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ahoma"/>
                <a:ea typeface="隶书"/>
              </a:rPr>
              <a:t>哇！</a:t>
            </a:r>
            <a:r>
              <a:rPr b="0" lang="zh-CN" sz="3600" spc="-1" strike="noStrike">
                <a:solidFill>
                  <a:srgbClr val="f05626"/>
                </a:solidFill>
                <a:latin typeface="Tahoma"/>
                <a:ea typeface="隶书"/>
              </a:rPr>
              <a:t>它的嘴好长啊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2286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这么长的嘴，真难看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1148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ahoma"/>
                <a:ea typeface="幼圆"/>
              </a:rPr>
              <a:t>这么长的嘴有什么用呢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33520" y="4572000"/>
            <a:ext cx="1643040" cy="1676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86600" y="685800"/>
            <a:ext cx="1600200" cy="13557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95560" y="2544840"/>
            <a:ext cx="6754680" cy="1768320"/>
            <a:chOff x="1195560" y="2544840"/>
            <a:chExt cx="6754680" cy="1768320"/>
          </a:xfrm>
        </p:grpSpPr>
        <p:sp>
          <p:nvSpPr>
            <p:cNvPr id="241" name=""/>
            <p:cNvSpPr/>
            <p:nvPr/>
          </p:nvSpPr>
          <p:spPr>
            <a:xfrm>
              <a:off x="1195560" y="2544840"/>
              <a:ext cx="67546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195560" y="2544840"/>
              <a:ext cx="5761080" cy="1768320"/>
              <a:chOff x="1195560" y="2544840"/>
              <a:chExt cx="5761080" cy="176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195560" y="2544840"/>
                <a:ext cx="576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5560" y="2544840"/>
                <a:ext cx="5761080" cy="176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01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43200" y="1676520"/>
            <a:ext cx="5715000" cy="1600200"/>
          </a:xfrm>
          <a:prstGeom prst="cloudCallout">
            <a:avLst>
              <a:gd name="adj1" fmla="val -46361"/>
              <a:gd name="adj2" fmla="val -52875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4267080"/>
            <a:ext cx="5410080" cy="1447920"/>
          </a:xfrm>
          <a:prstGeom prst="cloudCallout">
            <a:avLst>
              <a:gd name="adj1" fmla="val 60444"/>
              <a:gd name="adj2" fmla="val 54824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2147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翠鸟的长嘴是为了参加选美大赛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42670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6ce7"/>
                </a:solidFill>
                <a:latin typeface="Tahoma"/>
                <a:ea typeface="隶书"/>
              </a:rPr>
              <a:t>翠鸟的嘴又尖又长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6ce7"/>
                </a:solidFill>
                <a:latin typeface="Tahoma"/>
                <a:ea typeface="隶书"/>
              </a:rPr>
              <a:t>这是为了更好地叼鱼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21004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202520" y="4876920"/>
            <a:ext cx="194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33720" y="1295280"/>
            <a:ext cx="4419360" cy="1524240"/>
          </a:xfrm>
          <a:prstGeom prst="wedgeRoundRectCallout">
            <a:avLst>
              <a:gd name="adj1" fmla="val 65444"/>
              <a:gd name="adj2" fmla="val -46768"/>
              <a:gd name="adj3" fmla="val 16667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4114800"/>
            <a:ext cx="4724640" cy="838080"/>
          </a:xfrm>
          <a:prstGeom prst="wedgeRoundRectCallout">
            <a:avLst>
              <a:gd name="adj1" fmla="val -39851"/>
              <a:gd name="adj2" fmla="val 102273"/>
              <a:gd name="adj3" fmla="val 1666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191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  <a:ea typeface="隶书"/>
              </a:rPr>
              <a:t>这下它总看不到我了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3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楷体_GB2312"/>
                <a:ea typeface="楷体_GB2312"/>
              </a:rPr>
              <a:t>翠鸟视力很强，你得小心哦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5565600"/>
            <a:ext cx="2593800" cy="1292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5486400"/>
            <a:ext cx="2133720" cy="609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5943600"/>
            <a:ext cx="60948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5562720"/>
            <a:ext cx="91440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202520" y="0"/>
            <a:ext cx="1941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666880" y="1676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翠鸟的眼睛非常锐利。小鱼再机灵也难以逃脱它锐利的眼睛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5029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ahoma"/>
              </a:rPr>
              <a:t>什么叫</a:t>
            </a:r>
            <a:r>
              <a:rPr b="0" lang="zh-CN" sz="3200" spc="-1" strike="noStrike">
                <a:solidFill>
                  <a:srgbClr val="660066"/>
                </a:solidFill>
                <a:latin typeface="Tahoma"/>
              </a:rPr>
              <a:t>锐利</a:t>
            </a:r>
            <a:r>
              <a:rPr b="0" lang="zh-CN" sz="3200" spc="-1" strike="noStrike">
                <a:solidFill>
                  <a:srgbClr val="ff6699"/>
                </a:solidFill>
                <a:latin typeface="Tahoma"/>
              </a:rPr>
              <a:t>？我得查一查字典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1643040" cy="1676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4114800"/>
            <a:ext cx="261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4495680"/>
            <a:ext cx="2314440" cy="2362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1080" y="3429000"/>
            <a:ext cx="6172200" cy="1447920"/>
          </a:xfrm>
          <a:prstGeom prst="cloudCallout">
            <a:avLst>
              <a:gd name="adj1" fmla="val -52574"/>
              <a:gd name="adj2" fmla="val 40569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1676520"/>
            <a:ext cx="6172200" cy="1600200"/>
          </a:xfrm>
          <a:prstGeom prst="cloudCallout">
            <a:avLst>
              <a:gd name="adj1" fmla="val 47606"/>
              <a:gd name="adj2" fmla="val -83333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2133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Tahoma"/>
                <a:ea typeface="隶书"/>
              </a:rPr>
              <a:t>放心，那家伙离我们远着呢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3657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89504"/>
                </a:solidFill>
                <a:latin typeface="Tahoma"/>
              </a:rPr>
              <a:t>嗨！朋友，这附近有一只速度很快的翠鸟，你们得小心点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9" name="" descr="2.gif (3940 字节)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3:19:44Z</dcterms:created>
  <dc:creator>a1</dc:creator>
  <dc:description/>
  <dc:language>en-US</dc:language>
  <cp:lastModifiedBy>User</cp:lastModifiedBy>
  <dcterms:modified xsi:type="dcterms:W3CDTF">2015-07-16T15:13:08Z</dcterms:modified>
  <cp:revision>40</cp:revision>
  <dc:subject/>
  <dc:title>PowerPoint 演示文稿</dc:title>
</cp:coreProperties>
</file>