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5DD-665E-478D-92D7-7B74446D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6F80-B6AF-4B42-BB3A-BA713801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3CD-11AA-4C39-B11C-5F54A094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B0D-ACF7-4226-922E-3FAD8094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440-FC4A-4EDC-B11C-EB534BB3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395E-9292-4EB1-B76F-4AF21267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292-2933-49D5-BD55-CA7EF1CE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309-7C6A-4FC0-BA4C-D8555AED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D14-4F05-4E70-982B-C5460E31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D66-A665-4840-92B2-BFA3CF6B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B291-7503-4F93-B55F-B070041F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CE3-FD3D-4CD1-84EB-1FA6E486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7126-4846-43AB-A47A-8AAA61DC4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图片 3" descr="cuiniao封面.jpg"/>
          <p:cNvPicPr/>
          <p:nvPr/>
        </p:nvPicPr>
        <p:blipFill>
          <a:blip r:embed="rId1"/>
          <a:stretch/>
        </p:blipFill>
        <p:spPr>
          <a:xfrm>
            <a:off x="-914400" y="0"/>
            <a:ext cx="10058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4038480" y="2590920"/>
            <a:ext cx="449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Arial"/>
              </a:rPr>
              <a:t>翠    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-762120" y="3049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北师大版三年级上册语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5257800" y="57150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执教者：谷宁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内容占位符 3" descr="封面.jpg"/>
          <p:cNvPicPr/>
          <p:nvPr/>
        </p:nvPicPr>
        <p:blipFill>
          <a:blip r:embed="rId1"/>
          <a:stretch/>
        </p:blipFill>
        <p:spPr>
          <a:xfrm>
            <a:off x="-3352680" y="0"/>
            <a:ext cx="13182480" cy="7086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捉鱼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09680" y="1143000"/>
            <a:ext cx="609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翠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苇秆，像箭一样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过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,(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鱼，（ ）水面往远处 （ ）。 这句话活灵活现地再现了翠鸟捉鱼的经过。理解括号里的词语</a:t>
            </a:r>
            <a:r>
              <a:rPr b="0" lang="zh-CN" sz="2400" spc="-1" strike="noStrike">
                <a:solidFill>
                  <a:srgbClr val="404040"/>
                </a:solidFill>
                <a:latin typeface="Arial"/>
                <a:ea typeface="宋体"/>
              </a:rPr>
              <a:t>。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（是翠鸟捉鱼时一连串的动作，都是在一瞬间进行的，甚至连机灵的小鱼都没有反应过来。说明翠鸟捉鱼的动作熟练、连贯、毫不犹豫，而且从未 落空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内容占位符 3" descr="封面.jpg"/>
          <p:cNvPicPr/>
          <p:nvPr/>
        </p:nvPicPr>
        <p:blipFill>
          <a:blip r:embed="rId1"/>
          <a:stretch/>
        </p:blipFill>
        <p:spPr>
          <a:xfrm>
            <a:off x="-3352680" y="0"/>
            <a:ext cx="13182480" cy="7086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有感情地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5640" y="259092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带上你对课文的理解，带上感情。小组内评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班里展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内容占位符 3" descr="封面.jpg"/>
          <p:cNvPicPr/>
          <p:nvPr/>
        </p:nvPicPr>
        <p:blipFill>
          <a:blip r:embed="rId1"/>
          <a:stretch/>
        </p:blipFill>
        <p:spPr>
          <a:xfrm>
            <a:off x="-3352680" y="0"/>
            <a:ext cx="13182480" cy="7086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个人感悟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小组讨论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全班展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5640" y="259092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在欣赏了翠鸟美丽的外形和捉鱼的精彩 表演之后，你会产生什么想法呢？作者又是怎样的想法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?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从哪里可看出来？表达了作者怎样的感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请用一句话来赞美翠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内容占位符 3" descr="封面.jpg"/>
          <p:cNvPicPr/>
          <p:nvPr/>
        </p:nvPicPr>
        <p:blipFill>
          <a:blip r:embed="rId1"/>
          <a:stretch/>
        </p:blipFill>
        <p:spPr>
          <a:xfrm>
            <a:off x="-3352680" y="0"/>
            <a:ext cx="13182480" cy="7086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巩固训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76520" y="11430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d0d0d"/>
                </a:solidFill>
                <a:latin typeface="Arial"/>
                <a:ea typeface="宋体"/>
              </a:rPr>
              <a:t>比较下面的句子，看看哪句话用得好，好在哪里？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 algn="just">
              <a:lnSpc>
                <a:spcPts val="22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 ①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一眨眼，翠鸟又轻轻地停在苇秆上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 algn="just">
              <a:lnSpc>
                <a:spcPts val="22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 ②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一会儿，翠鸟又站在苇秆上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 algn="just">
              <a:lnSpc>
                <a:spcPts val="22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 algn="just">
              <a:lnSpc>
                <a:spcPts val="22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 ①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翠鸟鸣声清脆，爱贴着水面飞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 algn="just">
              <a:lnSpc>
                <a:spcPts val="22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 ②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翠鸟鸣声清脆，爱贴着水面疾飞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 algn="just">
              <a:lnSpc>
                <a:spcPts val="22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 algn="just">
              <a:lnSpc>
                <a:spcPts val="22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 ①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翠鸟蹬开苇秆，很快的飞过去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 algn="just">
              <a:lnSpc>
                <a:spcPts val="22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 ②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翠鸟蹬开苇秆，像箭一样飞过去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 algn="just">
              <a:lnSpc>
                <a:spcPts val="22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 algn="just">
              <a:lnSpc>
                <a:spcPts val="22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 ①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它一动不动地看着泛着微波的水面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 algn="just">
              <a:lnSpc>
                <a:spcPts val="22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 ②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它一动不动地注视着泛着微波的水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内容占位符 3" descr="封面.jpg"/>
          <p:cNvPicPr/>
          <p:nvPr/>
        </p:nvPicPr>
        <p:blipFill>
          <a:blip r:embed="rId1"/>
          <a:stretch/>
        </p:blipFill>
        <p:spPr>
          <a:xfrm>
            <a:off x="-3352680" y="0"/>
            <a:ext cx="13182480" cy="7086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修辞手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5640" y="259092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女生朗读全文，大家找找文中带修辞手法的句子。说说这样写的好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4" descr="翠鸟飞.jpg"/>
          <p:cNvPicPr/>
          <p:nvPr/>
        </p:nvPicPr>
        <p:blipFill>
          <a:blip r:embed="rId1"/>
          <a:stretch/>
        </p:blipFill>
        <p:spPr>
          <a:xfrm>
            <a:off x="3886200" y="1143000"/>
            <a:ext cx="4452840" cy="2971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内容占位符 3" descr="翠鸟吃鱼.jpg"/>
          <p:cNvPicPr/>
          <p:nvPr/>
        </p:nvPicPr>
        <p:blipFill>
          <a:blip r:embed="rId2"/>
          <a:stretch/>
        </p:blipFill>
        <p:spPr>
          <a:xfrm>
            <a:off x="4343400" y="4111560"/>
            <a:ext cx="4800600" cy="2746440"/>
          </a:xfrm>
          <a:prstGeom prst="rect">
            <a:avLst/>
          </a:prstGeom>
          <a:ln w="0">
            <a:noFill/>
          </a:ln>
        </p:spPr>
      </p:pic>
      <p:grpSp>
        <p:nvGrpSpPr>
          <p:cNvPr id="97" name="组合 12"/>
          <p:cNvGrpSpPr/>
          <p:nvPr/>
        </p:nvGrpSpPr>
        <p:grpSpPr>
          <a:xfrm>
            <a:off x="-609480" y="-152280"/>
            <a:ext cx="9753480" cy="7237440"/>
            <a:chOff x="-609480" y="-152280"/>
            <a:chExt cx="9753480" cy="7237440"/>
          </a:xfrm>
        </p:grpSpPr>
        <p:pic>
          <p:nvPicPr>
            <p:cNvPr id="98" name="图片 5" descr="翠鸟颜色鲜.jpg"/>
            <p:cNvPicPr/>
            <p:nvPr/>
          </p:nvPicPr>
          <p:blipFill>
            <a:blip r:embed="rId3"/>
            <a:stretch/>
          </p:blipFill>
          <p:spPr>
            <a:xfrm>
              <a:off x="-609480" y="3810240"/>
              <a:ext cx="4952880" cy="32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图片 6" descr="封面.jpg"/>
            <p:cNvPicPr/>
            <p:nvPr/>
          </p:nvPicPr>
          <p:blipFill>
            <a:blip r:embed="rId4"/>
            <a:stretch/>
          </p:blipFill>
          <p:spPr>
            <a:xfrm>
              <a:off x="0" y="2057760"/>
              <a:ext cx="3886200" cy="20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图片 7" descr="红爪子.jpg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3962160" cy="22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图片 8" descr="峭壁.jpg"/>
            <p:cNvPicPr/>
            <p:nvPr/>
          </p:nvPicPr>
          <p:blipFill>
            <a:blip r:embed="rId6"/>
            <a:stretch/>
          </p:blipFill>
          <p:spPr>
            <a:xfrm>
              <a:off x="7315200" y="-152280"/>
              <a:ext cx="18288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图片 9" descr="水面捕鱼.jpg"/>
            <p:cNvPicPr/>
            <p:nvPr/>
          </p:nvPicPr>
          <p:blipFill>
            <a:blip r:embed="rId7"/>
            <a:stretch/>
          </p:blipFill>
          <p:spPr>
            <a:xfrm>
              <a:off x="6705720" y="1752840"/>
              <a:ext cx="243828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片 10" descr="苇杆.jpg"/>
            <p:cNvPicPr/>
            <p:nvPr/>
          </p:nvPicPr>
          <p:blipFill>
            <a:blip r:embed="rId8"/>
            <a:stretch/>
          </p:blipFill>
          <p:spPr>
            <a:xfrm>
              <a:off x="3886200" y="-152280"/>
              <a:ext cx="3429000" cy="146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矩形 13" descr=""/>
          <p:cNvPicPr/>
          <p:nvPr/>
        </p:nvPicPr>
        <p:blipFill>
          <a:blip r:embed="rId9"/>
          <a:stretch/>
        </p:blipFill>
        <p:spPr>
          <a:xfrm>
            <a:off x="420840" y="566640"/>
            <a:ext cx="83088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内容占位符 3" descr="46ee8aa5de3ca737f8185.gif"/>
          <p:cNvPicPr/>
          <p:nvPr/>
        </p:nvPicPr>
        <p:blipFill>
          <a:blip r:embed="rId1"/>
          <a:stretch/>
        </p:blipFill>
        <p:spPr>
          <a:xfrm>
            <a:off x="0" y="0"/>
            <a:ext cx="924084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852480" y="1752480"/>
            <a:ext cx="11858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b050"/>
                </a:solidFill>
                <a:latin typeface="Arial"/>
              </a:rPr>
              <a:t>作  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3048120" y="175248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熟读全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写一种你喜欢的动物，注意从外形特点和生活习性等方面去写，用上修辞手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8" name="内容占位符 3" descr="封面.jpg"/>
          <p:cNvPicPr/>
          <p:nvPr/>
        </p:nvPicPr>
        <p:blipFill>
          <a:blip r:embed="rId1"/>
          <a:stretch/>
        </p:blipFill>
        <p:spPr>
          <a:xfrm>
            <a:off x="-1752480" y="0"/>
            <a:ext cx="11201400" cy="7086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276720" y="8380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翠鸟，又叫翡翠。它全身翠蓝色，腹面棕色，平时以直挺姿势，栖息在水旁，很长时间一动不动，等待鱼虾游过。每当看到鱼 虾，立刻以迅速凶猛的姿势，直扑水中，用嘴捕取。翠鸟的巢常筑在田野堤岸的砂土中，掘成隧道，深为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60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厘米左右。翠鸟的翠羽由于折光缘故，闪闪发光。中国的翠鸟有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种：斑头翠鸟、蓝耳翠鸟和普通翠鸟。最后一种常见，分布也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内容占位符 3" descr="封面.jpg"/>
          <p:cNvPicPr/>
          <p:nvPr/>
        </p:nvPicPr>
        <p:blipFill>
          <a:blip r:embed="rId1"/>
          <a:stretch/>
        </p:blipFill>
        <p:spPr>
          <a:xfrm>
            <a:off x="-762120" y="0"/>
            <a:ext cx="10591920" cy="7086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2057400" y="7621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Arial"/>
              </a:rPr>
              <a:t>我  会  读  课  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505320" y="31240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读课文，借助工具书学会不认识的字，不懂的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内容占位符 3" descr="封面.jpg"/>
          <p:cNvPicPr/>
          <p:nvPr/>
        </p:nvPicPr>
        <p:blipFill>
          <a:blip r:embed="rId1"/>
          <a:stretch/>
        </p:blipFill>
        <p:spPr>
          <a:xfrm>
            <a:off x="-2133720" y="0"/>
            <a:ext cx="11963520" cy="70866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124080" y="457200"/>
            <a:ext cx="5715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生字注音组词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uì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翠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  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ù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腹部）  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èn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衬衣） 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òu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透亮）   泡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ào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泡泡） 秆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ǎn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苇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hān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衬衫） 泛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àn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泛着）  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ì 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饲养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（石壁）   锐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（锐利） 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iù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绣花） 陡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ǒu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峭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qiào)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è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褐色） 翁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ēn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（渔翁） 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词语积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翠鸟  苇秆  腹部  衬衫  清脆  泡泡  渔翁  透亮  疾飞   逃脱  石壁 又尖又长   一眨眼 饲养  打消  念头  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词意解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鲜艳：色彩很鲜美、很明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疾飞：“疾”是“快”的意思，即很快地飞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待：“待”是守候，即等着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锐利：“锐”是尖利，尖锐，锋利。这里是 说眼睛很尖，一眼就看到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饲养： 喂养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注视： 集中精力地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逃脱： 逃跑，顺利逃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荡漾： （水波）一起一伏地动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内容占位符 3" descr="封面.jpg"/>
          <p:cNvPicPr/>
          <p:nvPr/>
        </p:nvPicPr>
        <p:blipFill>
          <a:blip r:embed="rId1"/>
          <a:stretch/>
        </p:blipFill>
        <p:spPr>
          <a:xfrm>
            <a:off x="-2133720" y="0"/>
            <a:ext cx="11963520" cy="7086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3276720" y="1143000"/>
            <a:ext cx="49528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你喜欢的方式读课文， 课文的题目就叫“翠鸟”，想 想课文讲了翠鸟的哪些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 u="sng">
                <a:solidFill>
                  <a:srgbClr val="ffff00"/>
                </a:solidFill>
                <a:uFillTx/>
                <a:latin typeface="Arial"/>
              </a:rPr>
              <a:t>课文讲了翠鸟的外形、活 动特点、捉鱼情景和我们要保 护小鸟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内容占位符 3" descr="封面.jpg"/>
          <p:cNvPicPr/>
          <p:nvPr/>
        </p:nvPicPr>
        <p:blipFill>
          <a:blip r:embed="rId1"/>
          <a:stretch/>
        </p:blipFill>
        <p:spPr>
          <a:xfrm>
            <a:off x="-2133720" y="0"/>
            <a:ext cx="11963520" cy="70866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3276720" y="1981080"/>
            <a:ext cx="495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课文是从哪几个方面描写 了翠鸟的外形呢？作者又是怎 样把翠鸟的颜色写具体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 u="sng">
                <a:solidFill>
                  <a:srgbClr val="ffff00"/>
                </a:solidFill>
                <a:uFillTx/>
                <a:latin typeface="Arial"/>
              </a:rPr>
              <a:t>头上：橄榄色头巾，翠绿色花纹。 背上：浅绿色的外衣。 腹部：赤褐色的衬衫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、思考：为什么作者用“头巾” “外衣”“衬衫”来打比方？体现了 作者怎样的一种感情？ （</a:t>
            </a:r>
            <a:r>
              <a:rPr b="0" lang="zh-CN" sz="2000" spc="-1" strike="noStrike" u="sng">
                <a:solidFill>
                  <a:srgbClr val="ffff00"/>
                </a:solidFill>
                <a:uFillTx/>
                <a:latin typeface="Arial"/>
              </a:rPr>
              <a:t>对翠鸟的喜爱之情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小巧玲珑”是什么意思？ 哪些地方能看出它小巧玲珑？（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</a:rPr>
              <a:t>小巧玲珑：形容又小又灵巧精致。 眼：透亮灵活。 嘴：又尖又长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276720" y="6094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外形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内容占位符 3" descr="封面.jpg"/>
          <p:cNvPicPr/>
          <p:nvPr/>
        </p:nvPicPr>
        <p:blipFill>
          <a:blip r:embed="rId1"/>
          <a:stretch/>
        </p:blipFill>
        <p:spPr>
          <a:xfrm>
            <a:off x="-2133720" y="0"/>
            <a:ext cx="11963520" cy="708660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3505320" y="609480"/>
            <a:ext cx="480060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活动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一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翠鸟鸣声清脆，爱贴着水面疾飞。 才见它飞起，一眨眼，它又轻轻地停在 苇秆上了。” 这句话表现了翠鸟什么特点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</a:rPr>
              <a:t>（翠鸟行动迅速而敏捷 的特点。翠鸟在“疾飞”中，眨眼间 “轻轻地停在”细软的苇秆上。在“疾 飞”与“轻停”的联系中，“敏捷”便 显露出来。这里一是讲翠鸟飞得低而快， 二是讲停得急而轻。翠鸟在“疾飞”中，眨眼间 “轻轻地停在”细软的苇秆上。在“疾 飞”与“轻停”的联系中，“敏捷”便 显露出来。这里一是讲翠鸟飞得低而快， 二是讲停得急而轻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内容占位符 3" descr="封面.jpg"/>
          <p:cNvPicPr/>
          <p:nvPr/>
        </p:nvPicPr>
        <p:blipFill>
          <a:blip r:embed="rId1"/>
          <a:stretch/>
        </p:blipFill>
        <p:spPr>
          <a:xfrm>
            <a:off x="-2133720" y="0"/>
            <a:ext cx="11963520" cy="70866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3505320" y="1295280"/>
            <a:ext cx="48006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活动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一动不动地注视着泛着微波 的水面，等待游到水面上来的小鱼。” “一动不动” “注视” “等待”这些词语表现了翠鸟捉 鱼时什么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等待小鱼时非 常专注。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内容占位符 3" descr="封面.jpg"/>
          <p:cNvPicPr/>
          <p:nvPr/>
        </p:nvPicPr>
        <p:blipFill>
          <a:blip r:embed="rId1"/>
          <a:stretch/>
        </p:blipFill>
        <p:spPr>
          <a:xfrm>
            <a:off x="-2133720" y="0"/>
            <a:ext cx="11963520" cy="7086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捉鱼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尽管小鱼是那样机灵，只悄悄地把头露出水面来吹了个小泡泡，可还是难以逃脱翠鸟锐利的眼睛。” 课文先说小鱼非常“机灵”，再说“还是难以逃脱”。这样写有什么作用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这说明翠鸟的目光锐利极了，课文中的“锐利”指翠鸟的感觉非常灵敏。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07:50:53Z</dcterms:created>
  <dc:creator>Administrator</dc:creator>
  <dc:description/>
  <dc:language>en-US</dc:language>
  <cp:lastModifiedBy>Administrator</cp:lastModifiedBy>
  <dcterms:modified xsi:type="dcterms:W3CDTF">2015-12-19T11:47:41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