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3.gif" ContentType="image/gif"/>
  <Override PartName="/ppt/media/image9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543-FD36-4B8B-978C-2E317941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18F-5CF5-4EF4-BB3B-8751693F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BFF-3695-4951-AA35-CC1B9588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451-5DE3-40BF-B6A2-672D0964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BEB-ADF2-491B-8F1E-EFC58E66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3A6-8BDC-47A4-8BE6-1783D050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D61-799D-4B14-BAFE-A372959F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0E6-F189-4E59-A96E-CEEBDE0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6C8-1634-46CC-8559-E3239C6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52E-4B8B-4C39-B165-520E95B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F6A-2F74-44DC-BFA8-DAFDB3A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EA3-659A-46AA-AE9E-82A1677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6C2A-7384-4BBF-8E4F-46722F1A7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4%E4%C4%F1&#892;&#428;&amp;in=13064&amp;cl=2&amp;lm=-1&amp;pn=1&amp;rn=1&amp;di=6527800755&amp;ln=2000&amp;fr=&amp;fmq=&amp;ic=&amp;s=&amp;se=&amp;sme=0&amp;tab=&amp;width=&amp;height=&amp;face=&amp;is=&amp;istype=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&amp;tn=baiduimagedetail&amp;word=%B4%E4%C4%F1&#892;&#428;&amp;in=13064&amp;cl=2&amp;lm=-1&amp;pn=4&amp;rn=1&amp;di=20527539180&amp;ln=2000&amp;fr=&amp;fmq=&amp;ic=&amp;s=&amp;se=&amp;sme=0&amp;tab=&amp;width=&amp;height=&amp;face=&amp;is=&amp;istype=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4%E4%C4%F1&#892;&#428;&amp;in=13064&amp;cl=2&amp;lm=-1&amp;pn=26&amp;rn=1&amp;di=13319795805&amp;ln=2000&amp;fr=&amp;fmq=&amp;ic=&amp;s=&amp;se=&amp;sme=0&amp;tab=&amp;width=&amp;height=&amp;face=&amp;is=&amp;istype=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.baidu.com/i?ct=503316480&amp;z=&amp;tn=baiduimagedetail&amp;word=%B4%E4%C4%F1&#892;&#428;&amp;in=13064&amp;cl=2&amp;lm=-1&amp;pn=14&amp;rn=1&amp;di=6518674800&amp;ln=2000&amp;fr=&amp;fmq=&amp;ic=&amp;s=&amp;se=&amp;sme=0&amp;tab=&amp;width=&amp;height=&amp;face=&amp;is=&amp;istype=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baidu.com/i?ct=503316480&amp;z=&amp;tn=baiduimagedetail&amp;word=%F0%D0%F0&#309;%C4&#892;&#428;&amp;in=18798&amp;cl=2&amp;lm=-1&amp;pn=68&amp;rn=1&amp;di=19708320270&amp;ln=2000&amp;fr=&amp;fmq=&amp;ic=&amp;s=&amp;se=&amp;sme=0&amp;tab=&amp;width=&amp;height=&amp;face=&amp;is=&amp;istype=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4%F1&#892;&#428;&amp;in=29404&amp;cl=2&amp;lm=-1&amp;pn=35&amp;rn=1&amp;di=45002137050&amp;ln=2000&amp;fr=&amp;fmq=&amp;ic=&amp;s=&amp;se=&amp;sme=0&amp;tab=&amp;width=&amp;height=&amp;face=&amp;is=&amp;istype=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F%A8&#872;%CA&#40062;&amp;in=5986&amp;cl=2&amp;lm=-1&amp;pn=97&amp;rn=1&amp;di=34648926075&amp;ln=2000&amp;fr=&amp;fmq=&amp;ic=&amp;s=&amp;se=&amp;sme=0&amp;tab=&amp;width=&amp;height=&amp;face=&amp;is=&amp;istype=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24000" y="-157320"/>
            <a:ext cx="10373040" cy="701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530064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我喜爱的鸟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877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三趾翠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5661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红头翠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37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5300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马岛翠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530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笑翠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6084720" cy="3573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蓝耳翠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940360" cy="371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3640" y="542592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钩嘴翠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3222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05264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我准备做一期关于“我喜欢的鸟”的手抄报。让大家都来认识更多的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我回去在电脑上查阅有关翠鸟的资料，下节课讲给同学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我要写一份倡议书：告诉小朋友们爱护鸟吧，它是我们人类的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60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参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96320" y="907920"/>
            <a:ext cx="1399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cc"/>
                </a:solidFill>
                <a:latin typeface="Arial"/>
              </a:rPr>
              <a:t>翠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557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000" y="62064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907920"/>
            <a:ext cx="784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ǎn  fù   chì   chèn shān  tòu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秆    腹    赤      衬     衫      透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ì     wēng     tú         b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饲       翁        陡      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797360"/>
            <a:ext cx="1746360" cy="1909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824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双（   ）小爪子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紧地抓住苇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头上的羽毛像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头巾，绣满了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纹。背上的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毛像（   ）外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腹部的羽毛像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衬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73480" y="1052640"/>
            <a:ext cx="49705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3500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0" b="26247"/>
          <a:stretch/>
        </p:blipFill>
        <p:spPr>
          <a:xfrm>
            <a:off x="0" y="3500280"/>
            <a:ext cx="4356000" cy="3357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8301" t="0" r="9766" b="-5331"/>
          <a:stretch/>
        </p:blipFill>
        <p:spPr>
          <a:xfrm>
            <a:off x="4390920" y="342900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2060640"/>
            <a:ext cx="72723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翠鸟蹬开苇杆，像箭一样飞过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叼起小鱼，贴着水面往远处飞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6:39:24Z</dcterms:created>
  <dc:creator>雨林木风</dc:creator>
  <dc:description/>
  <dc:language>en-US</dc:language>
  <cp:lastModifiedBy>User</cp:lastModifiedBy>
  <dcterms:modified xsi:type="dcterms:W3CDTF">2015-07-16T15:12:53Z</dcterms:modified>
  <cp:revision>11</cp:revision>
  <dc:subject/>
  <dc:title>幻灯片 1</dc:title>
</cp:coreProperties>
</file>