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2B3-7884-4418-8827-1691C330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686-2C8D-4CEE-A71A-7462E55C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ACD-8C40-4D6E-9E97-F94BD06D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3DB-AFE6-4088-A211-D3617F47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6DD-3718-482D-B6BA-B3958DFB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C01-406A-48F9-8813-65E51E26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74E-06E6-4C16-9243-B48F06D3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54D-E4F0-41E6-8F93-3CEB185C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8D8-3C36-416A-90CA-8E110CE8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505-7D61-4ADA-83B0-7B4249DB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EF1-A44B-4868-AD60-038E9786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917-573E-4EAF-88BE-FBD22A95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303C-880E-4614-997D-E7A3731A3A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稻草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叶圣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文通过哪些描写来表现稻草人的善良和尽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稻草人心理活动的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稻草人的心理发生了怎样的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稻子长势很好（高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蛾飞来（着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蛾产子（惊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警告主人无效（焦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稻子被吃（痛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2997360"/>
            <a:ext cx="71640" cy="502920"/>
          </a:xfrm>
          <a:prstGeom prst="downArrow">
            <a:avLst>
              <a:gd name="adj1" fmla="val 50000"/>
              <a:gd name="adj2" fmla="val 1755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2060640"/>
            <a:ext cx="71640" cy="504720"/>
          </a:xfrm>
          <a:prstGeom prst="downArrow">
            <a:avLst>
              <a:gd name="adj1" fmla="val 50000"/>
              <a:gd name="adj2" fmla="val 176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005360"/>
            <a:ext cx="71640" cy="503280"/>
          </a:xfrm>
          <a:prstGeom prst="downArrow">
            <a:avLst>
              <a:gd name="adj1" fmla="val 50000"/>
              <a:gd name="adj2" fmla="val 1756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4941720"/>
            <a:ext cx="71640" cy="432000"/>
          </a:xfrm>
          <a:prstGeom prst="downArrow">
            <a:avLst>
              <a:gd name="adj1" fmla="val 50000"/>
              <a:gd name="adj2" fmla="val 150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56000" y="2421000"/>
            <a:ext cx="6130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喜欢稻草人吗？说说你为什么喜欢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“除了稻草人以外，没有一个人为稻子发愁”，这句话有没有话外音？谈谈你想到的或者你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揭露了旧社会的黑暗和人民的悲惨生活，歌颂了在进行斗争的坚强不屈的普通群众。稻草人就是这样一个善良、尽职、忠诚，同情劳动人民却无力改变现状的普通人民形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86800" y="-5300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867280" y="404280"/>
            <a:ext cx="2819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得失看淡一点，因为就象塞翁失马一样，不知道是福是祸的；做事大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胸开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像老黄牛一样，全心全意为别人服务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叶圣陶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9200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叶圣陶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94-19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中国作家、教育家、出版家和社会活动家。原名叶绍钧，字圣陶，江苏苏州人。早年任小学教师并从事文学创作。主要作品有短篇小说《隔膜》、《火灾》，长篇小说《倪焕之》，童话集《稻草人》和《古代英雄的石像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274680"/>
            <a:ext cx="410544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是中国现代童话创作的拓荒者，童话集《稻草人》最富盛名，鲁迅曾说，叶圣陶的“《稻草人》是给中国的童话开了一条自己创作的道路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442764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默读或者小声朗读课文，勾画生字词，找出多音字，同时思考以下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笔下的稻草人是什么样子的？作者是用怎样的顺序把稻草人的样子说清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稻草人在稻田里发生了怎样的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字、新词、多音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巩固会写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现新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多音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7360" y="-5156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农人亲手做的放在稻田里看护庄稼的稻草人，非常尽职尽责。一天夜里，他在田里看到稻子都长出了新穗，很替主人——一个可怜的老太太——高兴。就在这时，他发现一只小蛾飞来，在稻叶上下了很多子，他焦急地向主人发出警告，但没有效。过了几天，蛾卵变成了肉虫，吃光了稻叶，稻草人为白白辛苦的主人深感痛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521784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故事内容，用“∥”把课文分成三部分，并说说每部分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：写稻草人整日整夜地站在稻田里，尽职尽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-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：写稻草人先因为稻子长得好为主人高兴，但又因无法把即将发生的祸事告诉主人而焦急、发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：写田里到处都是蛾子变的肉虫，把稻子吃得只剩光杆儿，稻草人为主人一年的辛苦白费而深感痛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7451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是一个（       ）的稻草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尽职、善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36:47Z</dcterms:created>
  <dc:creator>微软用户</dc:creator>
  <dc:description/>
  <dc:language>en-US</dc:language>
  <cp:lastModifiedBy>微软用户</cp:lastModifiedBy>
  <dcterms:modified xsi:type="dcterms:W3CDTF">2013-09-03T07:16:19Z</dcterms:modified>
  <cp:revision>10</cp:revision>
  <dc:subject/>
  <dc:title>稻草人</dc:title>
</cp:coreProperties>
</file>