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816-6FE1-4B26-BF72-D6898278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AC0-7B42-4E5F-B9E0-D8A1642D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579-E0D7-42F4-AB8E-7F1F4D28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471-C6F9-460D-88AE-0A9210AE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6B6-438A-4D64-9243-C9EFFCFF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6B2-8C4D-4128-9A9A-C2265859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7EC-A5A3-4773-B3F0-9087924B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D87-2EE1-477F-BAF8-04054F36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266-D27B-4501-9197-109DFCD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F27-C9AB-460B-B0EA-EFA9D400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63C-B6F6-4280-B452-1FEB8DF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D45-70B7-42A8-9E8C-32D79C9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732-9BE5-4AE5-AE56-9E4863C25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2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2360" y="-8892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1268280"/>
            <a:ext cx="44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14172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东莞中学     庞进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728120" y="4292640"/>
            <a:ext cx="1415880" cy="1415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4600" y="76428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rcRect l="0" t="0" r="48645" b="-20727"/>
          <a:stretch/>
        </p:blipFill>
        <p:spPr>
          <a:xfrm>
            <a:off x="395280" y="1341360"/>
            <a:ext cx="6913440" cy="612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rcRect l="0" t="0" r="32244" b="-3542"/>
          <a:stretch/>
        </p:blipFill>
        <p:spPr>
          <a:xfrm>
            <a:off x="395280" y="1916280"/>
            <a:ext cx="8280360" cy="95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4600" y="278064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0" t="0" r="19958" b="-3542"/>
          <a:stretch/>
        </p:blipFill>
        <p:spPr>
          <a:xfrm>
            <a:off x="324000" y="3141720"/>
            <a:ext cx="8569080" cy="834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0" t="0" r="22190" b="9173"/>
          <a:stretch/>
        </p:blipFill>
        <p:spPr>
          <a:xfrm>
            <a:off x="395280" y="3716280"/>
            <a:ext cx="8424720" cy="739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76360" y="479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练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练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,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80360" y="357336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96740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节课如何研究等差数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导等差数列公式过程用了什么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式应用中体现了什么思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93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作业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本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2    1,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54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8120" y="126756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8120" y="177264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②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480" y="2275920"/>
            <a:ext cx="49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③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" y="2707560"/>
            <a:ext cx="36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④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3080" y="3141000"/>
            <a:ext cx="57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⑤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280" y="3572640"/>
            <a:ext cx="74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⑥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414936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上数列分别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它们有哪些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9200" y="54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8120" y="126756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77264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②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480" y="2275920"/>
            <a:ext cx="49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③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" y="2707560"/>
            <a:ext cx="36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④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3080" y="3141000"/>
            <a:ext cx="57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⑤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280" y="3572640"/>
            <a:ext cx="74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⑥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428940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否用自己的语言概括出等差数列的定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9200" y="54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120" y="126756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120" y="177264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②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480" y="2275920"/>
            <a:ext cx="49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③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" y="2707560"/>
            <a:ext cx="36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④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3080" y="3141000"/>
            <a:ext cx="57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⑤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280" y="3572640"/>
            <a:ext cx="74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⑥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43624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否用符号语言表达等差数列的定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9200" y="54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8120" y="126756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177264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②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8480" y="2275920"/>
            <a:ext cx="49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③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" y="2707560"/>
            <a:ext cx="36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④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3080" y="3141000"/>
            <a:ext cx="57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⑤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9280" y="3572640"/>
            <a:ext cx="74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⑥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3624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述数列都是等差数列，公差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13520" y="54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辨析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2191" t="0" r="41055" b="0"/>
          <a:stretch/>
        </p:blipFill>
        <p:spPr>
          <a:xfrm>
            <a:off x="468360" y="1197000"/>
            <a:ext cx="6551640" cy="3036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0" t="0" r="59034" b="-8545"/>
          <a:stretch/>
        </p:blipFill>
        <p:spPr>
          <a:xfrm>
            <a:off x="1476360" y="4365720"/>
            <a:ext cx="67690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9200" y="54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8120" y="126756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120" y="1772640"/>
            <a:ext cx="45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②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480" y="2275920"/>
            <a:ext cx="49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③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" y="2707560"/>
            <a:ext cx="36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④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3080" y="3141000"/>
            <a:ext cx="57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⑤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9280" y="3572640"/>
            <a:ext cx="74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⑥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7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1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2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46472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引例中数列①②③④⑤⑥的通项公式存在吗？如果存在，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1920" y="691560"/>
            <a:ext cx="42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否写出下列数列的通项公式？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62289" b="2120"/>
          <a:stretch/>
        </p:blipFill>
        <p:spPr>
          <a:xfrm>
            <a:off x="250920" y="1052640"/>
            <a:ext cx="4465440" cy="1304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0" t="0" r="62289" b="2120"/>
          <a:stretch/>
        </p:blipFill>
        <p:spPr>
          <a:xfrm>
            <a:off x="4211640" y="1052640"/>
            <a:ext cx="4392720" cy="1282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0" t="0" r="63668" b="2120"/>
          <a:stretch/>
        </p:blipFill>
        <p:spPr>
          <a:xfrm>
            <a:off x="250920" y="2133720"/>
            <a:ext cx="4105080" cy="1244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rcRect l="0" t="0" r="63129" b="-9025"/>
          <a:stretch/>
        </p:blipFill>
        <p:spPr>
          <a:xfrm>
            <a:off x="4284720" y="2205000"/>
            <a:ext cx="4032360" cy="1343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rcRect l="0" t="0" r="63129" b="2968"/>
          <a:stretch/>
        </p:blipFill>
        <p:spPr>
          <a:xfrm>
            <a:off x="179280" y="3141720"/>
            <a:ext cx="4248360" cy="12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rcRect l="0" t="0" r="28988" b="9173"/>
          <a:stretch/>
        </p:blipFill>
        <p:spPr>
          <a:xfrm>
            <a:off x="250920" y="4076640"/>
            <a:ext cx="792000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1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87640" y="0"/>
            <a:ext cx="25923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 差 数 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1920" y="691560"/>
            <a:ext cx="42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问题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能否写出下列数列的通项公式？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0" r="62289" b="2120"/>
          <a:stretch/>
        </p:blipFill>
        <p:spPr>
          <a:xfrm>
            <a:off x="250920" y="1052640"/>
            <a:ext cx="4465440" cy="130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0" t="0" r="62289" b="2120"/>
          <a:stretch/>
        </p:blipFill>
        <p:spPr>
          <a:xfrm>
            <a:off x="4211640" y="1052640"/>
            <a:ext cx="4392720" cy="128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0" r="63668" b="2120"/>
          <a:stretch/>
        </p:blipFill>
        <p:spPr>
          <a:xfrm>
            <a:off x="250920" y="2133720"/>
            <a:ext cx="4105080" cy="1244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rcRect l="0" t="0" r="63129" b="-9025"/>
          <a:stretch/>
        </p:blipFill>
        <p:spPr>
          <a:xfrm>
            <a:off x="4284720" y="2205000"/>
            <a:ext cx="4032360" cy="1343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rcRect l="0" t="0" r="63129" b="2968"/>
          <a:stretch/>
        </p:blipFill>
        <p:spPr>
          <a:xfrm>
            <a:off x="179280" y="3141720"/>
            <a:ext cx="4248360" cy="125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7451640" y="3933720"/>
            <a:ext cx="1416240" cy="141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rcRect l="0" t="0" r="39949" b="9628"/>
          <a:stretch/>
        </p:blipFill>
        <p:spPr>
          <a:xfrm>
            <a:off x="539640" y="4149720"/>
            <a:ext cx="69120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1:24:25Z</dcterms:created>
  <dc:creator>dgpjf</dc:creator>
  <dc:description/>
  <dc:language>en-US</dc:language>
  <cp:lastModifiedBy>pp</cp:lastModifiedBy>
  <dcterms:modified xsi:type="dcterms:W3CDTF">2016-01-09T16:35:17Z</dcterms:modified>
  <cp:revision>16</cp:revision>
  <dc:subject/>
  <dc:title>幻灯片 1</dc:title>
</cp:coreProperties>
</file>