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chimes.wav" ContentType="audio/x-wav"/>
  <Override PartName="/ppt/media/image4.wmf" ContentType="image/x-wmf"/>
  <Override PartName="/ppt/media/las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AD5-C2EB-4772-8FB7-34133026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C5A-86E9-4B79-B109-7B4212E2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3AC-6F86-4F40-A3FE-80DDA3A2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35A-4087-4642-B18F-9400781E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2B28-AFF9-419A-B0C8-2B603526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3EEC-6D76-46B5-A807-40AD1D99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CEE2-EE01-4E6F-ACB1-0D7EC1AD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C8B6-E6C3-4567-8637-E881AE3D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95E7-64AF-484A-9B6F-138C4E51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ED7F-AB8F-453D-AB13-90C1842D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43F2-C046-41AB-B378-A6420DF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2F6-333E-4E9F-85F2-613AA1D7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2869-5D96-4D1E-9461-CB4B93F8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98AB-7747-4436-828D-918F29AC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D499-1466-48CB-B784-435EC0F5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6565-38C5-4609-9ED3-3FD9EA27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07F4-7920-4134-A588-F71FAFAC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5F1-CECD-4643-893C-568D564F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35E-3835-4E98-B289-9F56FF79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9EB-E269-4E49-9321-0B018C90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6DA-21C8-4162-8722-B5F82B2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19F-2A3C-4047-B083-939F2ED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7A6-C447-476B-9DAB-C5E8CC95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D3B-C3CF-440A-9358-67946A7F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0A4A-B058-4F28-98A5-CE6BEC5BF62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F67B-BBE4-4B93-A70B-C5431BF95A8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 rot="415200">
            <a:off x="1186920" y="1988640"/>
            <a:ext cx="6400800" cy="239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等差数列的性质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24360" y="4114800"/>
            <a:ext cx="312444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356000" y="333360"/>
            <a:ext cx="2664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1126080" y="620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即时践行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79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05400" y="1628640"/>
            <a:ext cx="592632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差数列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{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800" spc="-1" strike="noStrike" baseline="-30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}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前三项依次为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-6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-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-3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 +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则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 -1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 1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-2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D.  2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2060640"/>
            <a:ext cx="44136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46680" y="30686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(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-5 )=(-3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+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 +(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-6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31417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933720"/>
            <a:ext cx="59436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２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差数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{</a:t>
            </a:r>
            <a:r>
              <a:rPr b="1" i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i="1" lang="zh-CN" sz="2800" spc="-1" strike="noStrike" baseline="-30000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}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1)  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若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5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7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11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求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zh-CN" sz="2000" spc="-1" strike="noStrike" baseline="-30000">
                <a:solidFill>
                  <a:srgbClr val="0000ff"/>
                </a:solidFill>
                <a:latin typeface="Times New Roman"/>
              </a:rPr>
              <a:t>10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2)  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若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800" spc="-1" strike="noStrike" baseline="-30000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800" spc="-1" strike="noStrike" baseline="-30000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(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≠q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求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800" spc="-1" strike="noStrike" baseline="-30000">
                <a:solidFill>
                  <a:srgbClr val="0000ff"/>
                </a:solidFill>
                <a:latin typeface="Times New Roman"/>
              </a:rPr>
              <a:t>p+q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4268880"/>
            <a:ext cx="1460520" cy="57636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400" spc="-1" strike="noStrike" baseline="-30000">
                <a:solidFill>
                  <a:srgbClr val="ff3300"/>
                </a:solidFill>
                <a:latin typeface="Times New Roman"/>
              </a:rPr>
              <a:t>10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154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86520" y="5229360"/>
            <a:ext cx="10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5229360"/>
            <a:ext cx="1219320" cy="5972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zh-CN" sz="2800" spc="-1" strike="noStrike" baseline="-30000">
                <a:solidFill>
                  <a:srgbClr val="ff3300"/>
                </a:solidFill>
                <a:latin typeface="Times New Roman"/>
              </a:rPr>
              <a:t>p+q</a:t>
            </a:r>
            <a:r>
              <a:rPr b="1" i="1" lang="zh-CN" sz="28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75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0" y="333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黑体"/>
              </a:rPr>
              <a:t>智能提升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8640" y="1052640"/>
            <a:ext cx="6841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{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800" spc="-1" strike="noStrike" baseline="-30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}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为等差数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若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 baseline="-30000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 20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 -1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求</a:t>
            </a:r>
            <a:r>
              <a:rPr b="0" i="1" lang="zh-CN" sz="2800" spc="-1" strike="noStrike">
                <a:solidFill>
                  <a:srgbClr val="0000ff"/>
                </a:solidFill>
                <a:latin typeface="Times New Roman"/>
              </a:rPr>
              <a:t>a </a:t>
            </a:r>
            <a:r>
              <a:rPr b="0" lang="zh-CN" sz="20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1760" y="2565360"/>
            <a:ext cx="5851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2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</a:rPr>
              <a:t>4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14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26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求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716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数成等差数列，它们的和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首尾二数的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积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求此三数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2565360"/>
            <a:ext cx="82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42120" y="2492280"/>
            <a:ext cx="938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72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844640"/>
            <a:ext cx="28195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2800" spc="-1" strike="noStrike" baseline="-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2800" spc="-1" strike="noStrike" baseline="-30000">
                <a:solidFill>
                  <a:srgbClr val="ff3300"/>
                </a:solidFill>
                <a:latin typeface="Times New Roman"/>
              </a:rPr>
              <a:t>10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+(3-10)d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1773360"/>
            <a:ext cx="1295280" cy="597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1" lang="en-US" sz="2800" spc="-1" strike="noStrike" baseline="-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27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5084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设这三个数分别为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a-d  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a+d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则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3a=12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-d</a:t>
            </a:r>
            <a:r>
              <a:rPr b="1" lang="zh-CN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=12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92360" y="4221000"/>
            <a:ext cx="3581640" cy="10688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75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53352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成等差数列的四个数之和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第二个与第三个数之积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求这四个数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500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四个数等差的设法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a-3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a-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a+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a+3d        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则公差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　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一个首项为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23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，公差为整数的等差数列，如果前六项均为正数，第七项起为负数，则它的公差是多少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1413000"/>
            <a:ext cx="63244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解：由题意得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 baseline="-25000">
                <a:solidFill>
                  <a:srgbClr val="0033cc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=a</a:t>
            </a:r>
            <a:r>
              <a:rPr b="1" lang="zh-CN" sz="3200" spc="-1" strike="noStrike" baseline="-25000">
                <a:solidFill>
                  <a:srgbClr val="0033cc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+5d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＞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0   a</a:t>
            </a:r>
            <a:r>
              <a:rPr b="1" lang="zh-CN" sz="3200" spc="-1" strike="noStrike" baseline="-25000">
                <a:solidFill>
                  <a:srgbClr val="0033cc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=a</a:t>
            </a:r>
            <a:r>
              <a:rPr b="1" lang="zh-CN" sz="3200" spc="-1" strike="noStrike" baseline="-25000">
                <a:solidFill>
                  <a:srgbClr val="0033cc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+6d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＜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0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3213000"/>
            <a:ext cx="67816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已知等差数列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{a</a:t>
            </a:r>
            <a:r>
              <a:rPr b="1" lang="zh-CN" sz="3200" spc="-1" strike="noStrike" baseline="-25000">
                <a:solidFill>
                  <a:srgbClr val="0033cc"/>
                </a:solidFill>
                <a:latin typeface="隶书"/>
                <a:ea typeface="隶书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}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的首项为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30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，这个数列从第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项起为负数，求公差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的范围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581360"/>
            <a:ext cx="6400800" cy="9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解：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 baseline="-25000">
                <a:solidFill>
                  <a:srgbClr val="0033cc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=30+11d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＜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0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a</a:t>
            </a:r>
            <a:r>
              <a:rPr b="1" lang="zh-CN" sz="3200" spc="-1" strike="noStrike" baseline="-25000">
                <a:solidFill>
                  <a:srgbClr val="0033cc"/>
                </a:solidFill>
                <a:latin typeface="隶书"/>
                <a:ea typeface="隶书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=30+10d≥0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2781360"/>
            <a:ext cx="4038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∵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d∈Z    ∴d=-4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2349360"/>
            <a:ext cx="4800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∴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-23/5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＜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＜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-23/6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661000"/>
            <a:ext cx="6705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    ∴ 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-3≤d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＜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-30/11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即公差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的范围为：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-3≤d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＜</a:t>
            </a:r>
            <a:r>
              <a:rPr b="1" lang="zh-CN" sz="3200" spc="-1" strike="noStrike">
                <a:solidFill>
                  <a:srgbClr val="0033cc"/>
                </a:solidFill>
                <a:latin typeface="隶书"/>
                <a:ea typeface="隶书"/>
              </a:rPr>
              <a:t>-30/11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9520" y="692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温故知新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560" y="24908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等差数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881360" y="1333440"/>
                <a:ext cx="2387520" cy="29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定义—</m:t>
                                  </m:r>
                                </m:e>
                                <m:e/>
                              </m:eqAr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公差—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通项—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图象特征—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8" name=""/>
          <p:cNvGrpSpPr/>
          <p:nvPr/>
        </p:nvGrpSpPr>
        <p:grpSpPr>
          <a:xfrm>
            <a:off x="3858120" y="1181160"/>
            <a:ext cx="4803120" cy="1176120"/>
            <a:chOff x="3858120" y="1181160"/>
            <a:chExt cx="4803120" cy="1176120"/>
          </a:xfrm>
        </p:grpSpPr>
        <p:sp>
          <p:nvSpPr>
            <p:cNvPr id="89" name=""/>
            <p:cNvSpPr/>
            <p:nvPr/>
          </p:nvSpPr>
          <p:spPr>
            <a:xfrm>
              <a:off x="3858120" y="1181160"/>
              <a:ext cx="4744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AAAAAAAAAAAAA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每一项与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它前一项的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差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89800" y="1181160"/>
              <a:ext cx="152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如果一个数列从第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项起，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71880" y="1608120"/>
              <a:ext cx="70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等于同一个常数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19360" y="17146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88000" y="1670040"/>
              <a:ext cx="207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</a:rPr>
                <a:t>.  .  .  .  .</a:t>
              </a:r>
              <a:endParaRPr b="0" lang="en-US" sz="36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601800" y="2400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2416320"/>
            <a:ext cx="2016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=a</a:t>
            </a:r>
            <a:r>
              <a:rPr b="1" i="1" lang="en-US" sz="2800" spc="-1" strike="noStrike" baseline="-30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imes New Roman"/>
              </a:rPr>
              <a:t>+1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3063960"/>
            <a:ext cx="43210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ff0066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=a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n-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)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d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36399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等差数列各项对应的点都在同一条直线上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69760" y="7920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一、判定题：下列数列是否是等差数列？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6720" y="1382760"/>
            <a:ext cx="714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.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…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 -2n+1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   ……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.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…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12n-1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……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………………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④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  ……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⑤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 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，……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67160" y="1295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67160" y="21337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28760" y="4724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55320" y="303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3886200"/>
            <a:ext cx="69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304920" y="0"/>
            <a:ext cx="2057400" cy="1219320"/>
          </a:xfrm>
          <a:custGeom>
            <a:avLst/>
            <a:gdLst>
              <a:gd name="textAreaLeft" fmla="*/ 78840 w 2057400"/>
              <a:gd name="textAreaRight" fmla="*/ 1978560 w 2057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6442" h="21600">
                <a:moveTo>
                  <a:pt x="0" y="0"/>
                </a:moveTo>
                <a:lnTo>
                  <a:pt x="36442" y="0"/>
                </a:lnTo>
                <a:lnTo>
                  <a:pt x="36442" y="21600"/>
                </a:lnTo>
                <a:lnTo>
                  <a:pt x="0" y="21600"/>
                </a:lnTo>
                <a:close/>
              </a:path>
              <a:path fill="lightenLess" w="36442" h="21600">
                <a:moveTo>
                  <a:pt x="0" y="0"/>
                </a:moveTo>
                <a:lnTo>
                  <a:pt x="36442" y="0"/>
                </a:lnTo>
                <a:lnTo>
                  <a:pt x="35042" y="1400"/>
                </a:lnTo>
                <a:lnTo>
                  <a:pt x="1400" y="1400"/>
                </a:lnTo>
                <a:close/>
              </a:path>
              <a:path fill="darken" w="36442" h="21600">
                <a:moveTo>
                  <a:pt x="36442" y="0"/>
                </a:moveTo>
                <a:lnTo>
                  <a:pt x="36442" y="21600"/>
                </a:lnTo>
                <a:lnTo>
                  <a:pt x="35042" y="20200"/>
                </a:lnTo>
                <a:lnTo>
                  <a:pt x="35042" y="1400"/>
                </a:lnTo>
                <a:close/>
              </a:path>
              <a:path fill="darkenLess" w="36442" h="21600">
                <a:moveTo>
                  <a:pt x="36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42" y="20200"/>
                </a:lnTo>
                <a:close/>
              </a:path>
              <a:path fill="lighten" w="36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442" h="21600">
                <a:moveTo>
                  <a:pt x="11215" y="10800"/>
                </a:moveTo>
                <a:lnTo>
                  <a:pt x="25227" y="3794"/>
                </a:lnTo>
                <a:lnTo>
                  <a:pt x="252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52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黑体"/>
              </a:rPr>
              <a:t>复习巩固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757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757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000" y="838080"/>
            <a:ext cx="573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等差数列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…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第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项是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A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AAAAAA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等差数列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1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…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第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项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9240" y="762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-4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447920"/>
            <a:ext cx="263052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 -5+(n-1)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-4)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-4n-1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7680" y="2209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852640"/>
            <a:ext cx="8001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【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说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等差数列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{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通项公式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任知三个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求出另外一个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2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温故知新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797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简言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————“知三求一”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7560" y="2276640"/>
            <a:ext cx="6444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已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{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</a:t>
            </a:r>
            <a:r>
              <a:rPr b="1" i="1" lang="zh-CN" sz="2400" spc="-1" strike="noStrike" baseline="-30000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}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等差数列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=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= 2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400" spc="-1" strike="noStrike" baseline="-30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=2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则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581360"/>
            <a:ext cx="221004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852640"/>
            <a:ext cx="70484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通项公式推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800" spc="-1" strike="noStrike" baseline="-30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 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黑体"/>
              </a:rPr>
              <a:t>等差数列性质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92280"/>
            <a:ext cx="38512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{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</a:t>
            </a:r>
            <a:r>
              <a:rPr b="1" i="1" lang="zh-CN" sz="2800" spc="-1" strike="noStrike" baseline="-30000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}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等差数列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9890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成等差数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620640"/>
            <a:ext cx="18446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en-US" sz="2800" spc="-1" strike="noStrike" baseline="-30000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Times New Roman"/>
              </a:rPr>
              <a:t>+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=d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692280"/>
            <a:ext cx="25146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-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1341360"/>
            <a:ext cx="1962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800" spc="-1" strike="noStrike" baseline="-30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kn  + b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134136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常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28464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ff33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3068640"/>
                <a:ext cx="1447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4140360" y="198900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等差中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A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116000" y="2492280"/>
                <a:ext cx="15922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349236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= a+c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69228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692280"/>
            <a:ext cx="6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71640" y="2637000"/>
            <a:ext cx="6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8320" y="256536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4320" y="1413000"/>
            <a:ext cx="5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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75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75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75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数列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{a</a:t>
            </a:r>
            <a:r>
              <a:rPr b="1" lang="zh-CN" sz="3600" spc="-1" strike="noStrike" baseline="-25000">
                <a:solidFill>
                  <a:srgbClr val="0033cc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是等差数列，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q∈N</a:t>
            </a:r>
            <a:r>
              <a:rPr b="1" lang="zh-CN" sz="3600" spc="-1" strike="noStrike" baseline="-25000">
                <a:solidFill>
                  <a:srgbClr val="0033cc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m+n=p+q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a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+a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Arial"/>
              </a:rPr>
              <a:t>q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476360" y="1341360"/>
                <a:ext cx="3298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76360" y="2133720"/>
                <a:ext cx="40878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476360" y="2852640"/>
                <a:ext cx="4876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476360" y="3716280"/>
                <a:ext cx="35514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19280" y="4581360"/>
                <a:ext cx="3551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1268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判断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2362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可推广到三项，四项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注意：等式两边作和的项数必须一样多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04920" y="5734080"/>
                <a:ext cx="8839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⋯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414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特殊地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55640" y="765000"/>
                <a:ext cx="701676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练习1：已知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为等差数列，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,求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371600" y="3429000"/>
                <a:ext cx="6300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练习2：已知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为等差数列，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,求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273320" y="3276720"/>
                <a:ext cx="6234120" cy="21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变式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：已知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为等差数列，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,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求数列通项公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371600" y="609480"/>
                <a:ext cx="643248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变式1：已知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为等差数列，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,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7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求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890640"/>
            <a:ext cx="664344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例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等差数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{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800" spc="-1" strike="noStrike" baseline="-30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}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1)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求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562680" y="76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学以致用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379680"/>
            <a:ext cx="63244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1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求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2478240"/>
            <a:ext cx="8686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析：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２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87280" y="4002120"/>
                <a:ext cx="54230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92560" y="4021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析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01:16:48Z</dcterms:created>
  <dc:creator/>
  <dc:description/>
  <dc:language>en-US</dc:language>
  <cp:lastModifiedBy>微软用户</cp:lastModifiedBy>
  <dcterms:modified xsi:type="dcterms:W3CDTF">2015-09-14T00:41:57Z</dcterms:modified>
  <cp:revision>172</cp:revision>
  <dc:subject/>
  <dc:title>PowerPoint 演示文稿</dc:title>
</cp:coreProperties>
</file>