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2.png" ContentType="image/png"/>
  <Override PartName="/ppt/media/image10.wmf" ContentType="image/x-wmf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26C1-A4EB-4EB7-877D-BCED0E05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5D4-B5DF-4DDC-85EA-A0B7FBC5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74BF-580D-47B7-A4CD-3C33D4D2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458-31ED-4434-9513-1BCB76A9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5164-4E81-4ADD-B66F-72B1AFCF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C6F-EA8E-452D-8A1A-D0C65D5C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3B7-2296-4291-A8FD-DBE45E75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BCC-F312-446B-A6AF-E9C18DFD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284-0799-49AE-B1B1-5A80BF15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6B40-1090-40F4-A806-6BB79B15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446-0A42-4217-97F3-93FA70FE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2E93-7477-4874-8CE1-6169D378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cfd"/>
            </a:gs>
            <a:gs pos="100000">
              <a:srgbClr val="a2faf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4AC7-F514-4D67-9733-22A2551827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slide13.xml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cfd"/>
            </a:gs>
            <a:gs pos="100000">
              <a:srgbClr val="a2faf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395280" y="765000"/>
            <a:ext cx="79218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等差数列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江宁高职校  许华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cfd"/>
            </a:gs>
            <a:gs pos="100000">
              <a:srgbClr val="a2faf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8000" y="131760"/>
            <a:ext cx="1666800" cy="417600"/>
          </a:xfrm>
          <a:prstGeom prst="rect">
            <a:avLst/>
          </a:prstGeom>
          <a:gradFill rotWithShape="0">
            <a:gsLst>
              <a:gs pos="0">
                <a:srgbClr val="fd2d17"/>
              </a:gs>
              <a:gs pos="100000">
                <a:srgbClr val="eef40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 习 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7280" y="836640"/>
            <a:ext cx="7956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已知等差数列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10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19,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348000" y="1557360"/>
            <a:ext cx="5400720" cy="1727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11280" y="5947920"/>
            <a:ext cx="70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数列的首项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公差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24000" y="162720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依题意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>
            <a:hlinkClick r:id="rId2" action="ppaction://hlinksldjump"/>
          </p:cNvPr>
          <p:cNvSpPr/>
          <p:nvPr/>
        </p:nvSpPr>
        <p:spPr>
          <a:xfrm>
            <a:off x="8172360" y="6400800"/>
            <a:ext cx="647640" cy="457200"/>
          </a:xfrm>
          <a:custGeom>
            <a:avLst/>
            <a:gdLst>
              <a:gd name="textAreaLeft" fmla="*/ 29520 w 647640"/>
              <a:gd name="textAreaRight" fmla="*/ 618120 w 647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590" h="21600">
                <a:moveTo>
                  <a:pt x="0" y="0"/>
                </a:moveTo>
                <a:lnTo>
                  <a:pt x="30590" y="0"/>
                </a:lnTo>
                <a:lnTo>
                  <a:pt x="30590" y="21600"/>
                </a:lnTo>
                <a:lnTo>
                  <a:pt x="0" y="21600"/>
                </a:lnTo>
                <a:close/>
              </a:path>
              <a:path fill="lightenLess" w="30590" h="21600">
                <a:moveTo>
                  <a:pt x="0" y="0"/>
                </a:moveTo>
                <a:lnTo>
                  <a:pt x="30590" y="0"/>
                </a:lnTo>
                <a:lnTo>
                  <a:pt x="29190" y="1400"/>
                </a:lnTo>
                <a:lnTo>
                  <a:pt x="1400" y="1400"/>
                </a:lnTo>
                <a:close/>
              </a:path>
              <a:path fill="darken" w="30590" h="21600">
                <a:moveTo>
                  <a:pt x="30590" y="0"/>
                </a:moveTo>
                <a:lnTo>
                  <a:pt x="30590" y="21600"/>
                </a:lnTo>
                <a:lnTo>
                  <a:pt x="29190" y="20200"/>
                </a:lnTo>
                <a:lnTo>
                  <a:pt x="29190" y="1400"/>
                </a:lnTo>
                <a:close/>
              </a:path>
              <a:path fill="darkenLess" w="30590" h="21600">
                <a:moveTo>
                  <a:pt x="30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0" y="20200"/>
                </a:lnTo>
                <a:close/>
              </a:path>
              <a:path fill="lighten" w="30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0" h="21600">
                <a:moveTo>
                  <a:pt x="18794" y="10800"/>
                </a:moveTo>
                <a:lnTo>
                  <a:pt x="8289" y="17806"/>
                </a:lnTo>
                <a:lnTo>
                  <a:pt x="8289" y="3794"/>
                </a:lnTo>
                <a:close/>
              </a:path>
              <a:path fill="darken" w="30590" h="21600">
                <a:moveTo>
                  <a:pt x="20639" y="3794"/>
                </a:moveTo>
                <a:lnTo>
                  <a:pt x="20639" y="17806"/>
                </a:lnTo>
                <a:lnTo>
                  <a:pt x="22302" y="17806"/>
                </a:lnTo>
                <a:lnTo>
                  <a:pt x="22302" y="379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3"/>
          <a:stretch/>
        </p:blipFill>
        <p:spPr>
          <a:xfrm>
            <a:off x="3203640" y="3573360"/>
            <a:ext cx="3024000" cy="1898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684360" y="3500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解之得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cfd"/>
            </a:gs>
            <a:gs pos="100000">
              <a:srgbClr val="a2faf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20"/>
          <p:cNvGraphicFramePr/>
          <p:nvPr/>
        </p:nvGraphicFramePr>
        <p:xfrm>
          <a:off x="539640" y="404640"/>
          <a:ext cx="8136000" cy="223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4640"/>
                    <a:ext cx="8136000" cy="22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22"/>
          <p:cNvGraphicFramePr/>
          <p:nvPr/>
        </p:nvGraphicFramePr>
        <p:xfrm>
          <a:off x="324000" y="2708280"/>
          <a:ext cx="8208720" cy="3384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708280"/>
                    <a:ext cx="820872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cfd"/>
            </a:gs>
            <a:gs pos="100000">
              <a:srgbClr val="a2faf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15280" cy="518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cfd"/>
            </a:gs>
            <a:gs pos="100000">
              <a:srgbClr val="a2faf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2305080" cy="865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d2d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时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29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通过本课时的学习，首先要理解和掌握等差数列的定义及数学表达式： </a:t>
            </a:r>
            <a:r>
              <a:rPr b="1" i="1" lang="en-US" sz="3200" spc="-1" strike="noStrike">
                <a:solidFill>
                  <a:srgbClr val="fd2d17"/>
                </a:solidFill>
                <a:latin typeface="Times New Roman"/>
                <a:ea typeface="华文行楷"/>
              </a:rPr>
              <a:t>a</a:t>
            </a:r>
            <a:r>
              <a:rPr b="1" lang="en-US" sz="2800" spc="-1" strike="noStrike" baseline="-25000">
                <a:solidFill>
                  <a:srgbClr val="fd2d17"/>
                </a:solidFill>
                <a:latin typeface="Arial"/>
                <a:ea typeface="华文行楷"/>
              </a:rPr>
              <a:t>n+1</a:t>
            </a:r>
            <a:r>
              <a:rPr b="1" lang="en-US" sz="2800" spc="-1" strike="noStrike">
                <a:solidFill>
                  <a:srgbClr val="fd2d17"/>
                </a:solidFill>
                <a:latin typeface="Arial"/>
                <a:ea typeface="华文行楷"/>
              </a:rPr>
              <a:t>-</a:t>
            </a:r>
            <a:r>
              <a:rPr b="1" i="1" lang="en-US" sz="3200" spc="-1" strike="noStrike">
                <a:solidFill>
                  <a:srgbClr val="fd2d17"/>
                </a:solidFill>
                <a:latin typeface="Times New Roman"/>
                <a:ea typeface="华文行楷"/>
              </a:rPr>
              <a:t>a</a:t>
            </a:r>
            <a:r>
              <a:rPr b="1" lang="en-US" sz="2800" spc="-1" strike="noStrike" baseline="-25000">
                <a:solidFill>
                  <a:srgbClr val="fd2d17"/>
                </a:solidFill>
                <a:latin typeface="Arial"/>
                <a:ea typeface="华文行楷"/>
              </a:rPr>
              <a:t>n</a:t>
            </a:r>
            <a:r>
              <a:rPr b="1" lang="en-US" sz="2800" spc="-1" strike="noStrike">
                <a:solidFill>
                  <a:srgbClr val="fd2d17"/>
                </a:solidFill>
                <a:latin typeface="Arial"/>
                <a:ea typeface="华文行楷"/>
              </a:rPr>
              <a:t>=d(n≥1</a:t>
            </a:r>
            <a:r>
              <a:rPr b="1" lang="zh-CN" sz="2800" spc="-1" strike="noStrike">
                <a:solidFill>
                  <a:srgbClr val="fd2d17"/>
                </a:solidFill>
                <a:latin typeface="Arial"/>
                <a:ea typeface="华文行楷"/>
              </a:rPr>
              <a:t>且</a:t>
            </a:r>
            <a:r>
              <a:rPr b="1" lang="en-US" sz="2800" spc="-1" strike="noStrike">
                <a:solidFill>
                  <a:srgbClr val="fd2d17"/>
                </a:solidFill>
                <a:latin typeface="Arial"/>
                <a:ea typeface="华文行楷"/>
              </a:rPr>
              <a:t>n∈N*)</a:t>
            </a:r>
            <a:r>
              <a:rPr b="1" lang="en-US" sz="2800" spc="-1" strike="noStrike">
                <a:solidFill>
                  <a:srgbClr val="fd2d17"/>
                </a:solidFill>
                <a:latin typeface="华文行楷"/>
                <a:ea typeface="华文行楷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其次要会推导等差数列的通项公式</a:t>
            </a:r>
            <a:r>
              <a:rPr b="1" i="1" lang="en-US" sz="2800" spc="-1" strike="noStrike">
                <a:solidFill>
                  <a:srgbClr val="fd2d17"/>
                </a:solidFill>
                <a:latin typeface="Times New Roman"/>
                <a:ea typeface="华文行楷"/>
              </a:rPr>
              <a:t>a</a:t>
            </a:r>
            <a:r>
              <a:rPr b="1" lang="en-US" sz="2800" spc="-1" strike="noStrike" baseline="-25000">
                <a:solidFill>
                  <a:srgbClr val="fd2d17"/>
                </a:solidFill>
                <a:latin typeface="Arial"/>
                <a:ea typeface="华文行楷"/>
              </a:rPr>
              <a:t>n</a:t>
            </a:r>
            <a:r>
              <a:rPr b="1" lang="en-US" sz="2800" spc="-1" strike="noStrike">
                <a:solidFill>
                  <a:srgbClr val="fd2d17"/>
                </a:solidFill>
                <a:latin typeface="Arial"/>
                <a:ea typeface="华文行楷"/>
              </a:rPr>
              <a:t>=</a:t>
            </a:r>
            <a:r>
              <a:rPr b="1" i="1" lang="en-US" sz="2800" spc="-1" strike="noStrike">
                <a:solidFill>
                  <a:srgbClr val="fd2d17"/>
                </a:solidFill>
                <a:latin typeface="Times New Roman"/>
                <a:ea typeface="华文行楷"/>
              </a:rPr>
              <a:t>a</a:t>
            </a:r>
            <a:r>
              <a:rPr b="1" lang="en-US" sz="2800" spc="-1" strike="noStrike" baseline="-25000">
                <a:solidFill>
                  <a:srgbClr val="fd2d17"/>
                </a:solidFill>
                <a:latin typeface="Arial"/>
                <a:ea typeface="华文行楷"/>
              </a:rPr>
              <a:t>1</a:t>
            </a:r>
            <a:r>
              <a:rPr b="1" lang="en-US" sz="2800" spc="-1" strike="noStrike">
                <a:solidFill>
                  <a:srgbClr val="fd2d17"/>
                </a:solidFill>
                <a:latin typeface="Arial"/>
                <a:ea typeface="华文行楷"/>
              </a:rPr>
              <a:t>+(n-1)d( n≥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本课时的重点是通项公式的灵活应用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知道</a:t>
            </a:r>
            <a:r>
              <a:rPr b="1" i="1" lang="en-US" sz="2800" spc="-1" strike="noStrike">
                <a:solidFill>
                  <a:srgbClr val="fd2d17"/>
                </a:solidFill>
                <a:latin typeface="Times New Roman"/>
                <a:ea typeface="华文行楷"/>
              </a:rPr>
              <a:t>a</a:t>
            </a:r>
            <a:r>
              <a:rPr b="1" lang="en-US" sz="2800" spc="-1" strike="noStrike" baseline="-25000">
                <a:solidFill>
                  <a:srgbClr val="fd2d17"/>
                </a:solidFill>
                <a:latin typeface="Arial"/>
                <a:ea typeface="华文行楷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1" i="1" lang="en-US" sz="2800" spc="-1" strike="noStrike">
                <a:solidFill>
                  <a:srgbClr val="fd2d17"/>
                </a:solidFill>
                <a:latin typeface="Times New Roman"/>
                <a:ea typeface="华文行楷"/>
              </a:rPr>
              <a:t>a</a:t>
            </a:r>
            <a:r>
              <a:rPr b="1" lang="en-US" sz="2800" spc="-1" strike="noStrike" baseline="-25000">
                <a:solidFill>
                  <a:srgbClr val="fd2d17"/>
                </a:solidFill>
                <a:latin typeface="Arial"/>
                <a:ea typeface="华文行楷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1" lang="en-US" sz="2800" spc="-1" strike="noStrike">
                <a:solidFill>
                  <a:srgbClr val="fd2d17"/>
                </a:solidFill>
                <a:latin typeface="Arial"/>
                <a:ea typeface="华文行楷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1" lang="en-US" sz="2800" spc="-1" strike="noStrike">
                <a:solidFill>
                  <a:srgbClr val="fd2d17"/>
                </a:solidFill>
                <a:latin typeface="Arial"/>
                <a:ea typeface="华文行楷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中任意三个，应用方程的思想，可以求出另外一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0" dur="3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4100"/>
                            </p:stCondLst>
                            <p:childTnLst>
                              <p:par>
                                <p:cTn id="63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4" dur="3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7100"/>
                            </p:stCondLst>
                            <p:childTnLst>
                              <p:par>
                                <p:cTn id="63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8" dur="3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cfd"/>
            </a:gs>
            <a:gs pos="100000">
              <a:srgbClr val="a2faf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3529080" cy="576360"/>
          </a:xfrm>
          <a:prstGeom prst="rect">
            <a:avLst/>
          </a:prstGeom>
          <a:gradFill rotWithShape="0">
            <a:gsLst>
              <a:gs pos="0">
                <a:srgbClr val="fd2d17"/>
              </a:gs>
              <a:gs pos="100000">
                <a:srgbClr val="eef40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 习 回 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6560" y="836640"/>
            <a:ext cx="697572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列的定义，通项公式，递推公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4360" y="1688040"/>
            <a:ext cx="7343640" cy="10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一定次序排成的一列数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数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写成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简记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68360" y="3278880"/>
            <a:ext cx="813600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5760" indent="-18576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数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第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关系可以用一个公式来表示，那么这个公式就叫做这个数列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通项公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539640" y="5588640"/>
            <a:ext cx="820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已知数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{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}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项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或前几项），且任一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与它的前一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 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n-1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或前几项）间的关系可以用一个公式来表示，那么这个公式叫做这个数列的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递推公式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3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cfd"/>
            </a:gs>
            <a:gs pos="100000">
              <a:srgbClr val="a2faf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39640" y="549360"/>
            <a:ext cx="8280360" cy="32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我们经常这样数数，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开始，每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数一次，可以得到数列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宋体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宋体"/>
              </a:rPr>
              <a:t>10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ff6565"/>
                </a:solidFill>
                <a:latin typeface="宋体"/>
              </a:rPr>
              <a:t>15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宋体"/>
              </a:rPr>
              <a:t>20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0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，在澳大利亚悉尼举行的奥运会上，女子举重被正式列为比赛项目。该项目共设置了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个级别，其中较轻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个级别体重组成数列（单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：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4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5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5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6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. 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库的管理人员为了保证优质鱼类有良好的生活环境，用定期放水清库的办法清理水库中的杂鱼。如果一个水库的水位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8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自然放水每天水位降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.5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最低降至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5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那么从开始放水算起，到可以进行清理工作的那天，水库每天的水位组成数列（单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：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15.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10.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5.5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.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我国现行储蓄制度规定银行支付存款利息的方式为单利，即不把利息加入本金计算下一期的利息。按照单利计算本利和的公式是：本利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本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×(1+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利率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存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例如，按活期存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元钱，年利率是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0.72%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那么按照单利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内各年末的本利和（单位：元）组成一个数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007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014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021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028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0360.           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51640" cy="105264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四  个  实  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232000" y="765000"/>
            <a:ext cx="6912000" cy="500400"/>
          </a:xfrm>
          <a:prstGeom prst="wedgeRectCallout">
            <a:avLst>
              <a:gd name="adj1" fmla="val -7282"/>
              <a:gd name="adj2" fmla="val -63333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从第二项起，后一项与前一项的差是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4788000" y="1557360"/>
            <a:ext cx="3960720" cy="792000"/>
          </a:xfrm>
          <a:prstGeom prst="wedgeRoundRectCallout">
            <a:avLst>
              <a:gd name="adj1" fmla="val -47314"/>
              <a:gd name="adj2" fmla="val -5111"/>
              <a:gd name="adj3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从第二项起，后一项与前一项的差是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4716360" y="2781360"/>
            <a:ext cx="3961080" cy="936720"/>
          </a:xfrm>
          <a:prstGeom prst="wedgeRoundRectCallout">
            <a:avLst>
              <a:gd name="adj1" fmla="val -57212"/>
              <a:gd name="adj2" fmla="val 55763"/>
              <a:gd name="adj3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从第二项起，后一项与前一项的差是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-2.5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3419640" y="5157720"/>
            <a:ext cx="5473440" cy="862200"/>
          </a:xfrm>
          <a:prstGeom prst="wedgeEllipseCallout">
            <a:avLst>
              <a:gd name="adj1" fmla="val -51796"/>
              <a:gd name="adj2" fmla="val 91805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从第二项起，后一项与前一项的差是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2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0" y="3645000"/>
            <a:ext cx="4140360" cy="2808360"/>
          </a:xfrm>
          <a:prstGeom prst="cloudCallout">
            <a:avLst>
              <a:gd name="adj1" fmla="val -189"/>
              <a:gd name="adj2" fmla="val 17666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请同学们思考，这四个数列有何共同特点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cfd"/>
            </a:gs>
            <a:gs pos="100000">
              <a:srgbClr val="a2faf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219640" y="1413000"/>
            <a:ext cx="2016360" cy="503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d2d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等 差 数 列 的 定 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424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般地，如果一个数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{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},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从第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项起每一项与它的前一项的差等于同一个常数，那么这个数列就叫做等差数列，这个常数叫做等差数列的公差。公差通常用字母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d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3834000"/>
            <a:ext cx="6226200" cy="1936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义的符号表示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-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2,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∈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就是数列的递推公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6227640" y="1268280"/>
            <a:ext cx="223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611280" y="1844280"/>
            <a:ext cx="6624720" cy="73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>
            <a:hlinkClick r:id="rId1" action="ppaction://hlinksldjump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977040" y="5877000"/>
            <a:ext cx="3535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数列</a:t>
            </a:r>
            <a:r>
              <a:rPr b="1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{</a:t>
            </a:r>
            <a:r>
              <a:rPr b="1" i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a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华文行楷"/>
                <a:ea typeface="华文行楷"/>
              </a:rPr>
              <a:t>n</a:t>
            </a:r>
            <a:r>
              <a:rPr b="1" lang="en-US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}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为等差数列</a:t>
            </a:r>
            <a:r>
              <a:rPr b="1" lang="zh-CN" sz="3600" spc="-1" strike="noStrike">
                <a:solidFill>
                  <a:srgbClr val="0000ff"/>
                </a:solidFill>
                <a:latin typeface="Symbol"/>
                <a:ea typeface="Symbol"/>
              </a:rPr>
              <a:t>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5148360" y="5950080"/>
            <a:ext cx="16761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i="1" lang="en-US" sz="2800" spc="-1" strike="noStrike" baseline="-30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Times New Roman"/>
              </a:rPr>
              <a:t>+1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-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i="1" lang="en-US" sz="2800" spc="-1" strike="noStrike" baseline="-30000">
                <a:solidFill>
                  <a:srgbClr val="ff0066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=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6874920" y="6021360"/>
            <a:ext cx="18694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或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i="1" lang="en-US" sz="2800" spc="-1" strike="noStrike" baseline="-30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Times New Roman"/>
              </a:rPr>
              <a:t>+1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i="1" lang="en-US" sz="2800" spc="-1" strike="noStrike" baseline="-30000">
                <a:solidFill>
                  <a:srgbClr val="ff0066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+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2043000" y="278100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那么对于以上四组等差数列，它们的公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依次是</a:t>
            </a:r>
            <a:r>
              <a:rPr b="0" lang="en-US" sz="3600" spc="-1" strike="noStrike">
                <a:solidFill>
                  <a:srgbClr val="fd2d17"/>
                </a:solidFill>
                <a:latin typeface="华文行楷"/>
                <a:ea typeface="华文行楷"/>
              </a:rPr>
              <a:t>5</a:t>
            </a:r>
            <a:r>
              <a:rPr b="0" lang="zh-CN" sz="3600" spc="-1" strike="noStrike">
                <a:solidFill>
                  <a:srgbClr val="fd2d17"/>
                </a:solidFill>
                <a:latin typeface="华文行楷"/>
                <a:ea typeface="华文行楷"/>
              </a:rPr>
              <a:t>，</a:t>
            </a:r>
            <a:r>
              <a:rPr b="0" lang="en-US" sz="3600" spc="-1" strike="noStrike">
                <a:solidFill>
                  <a:srgbClr val="fd2d17"/>
                </a:solidFill>
                <a:latin typeface="华文行楷"/>
                <a:ea typeface="华文行楷"/>
              </a:rPr>
              <a:t>5</a:t>
            </a:r>
            <a:r>
              <a:rPr b="0" lang="zh-CN" sz="3600" spc="-1" strike="noStrike">
                <a:solidFill>
                  <a:srgbClr val="fd2d17"/>
                </a:solidFill>
                <a:latin typeface="华文行楷"/>
                <a:ea typeface="华文行楷"/>
              </a:rPr>
              <a:t>，</a:t>
            </a:r>
            <a:r>
              <a:rPr b="0" lang="en-US" sz="3600" spc="-1" strike="noStrike">
                <a:solidFill>
                  <a:srgbClr val="fd2d17"/>
                </a:solidFill>
                <a:latin typeface="华文行楷"/>
                <a:ea typeface="华文行楷"/>
              </a:rPr>
              <a:t>-2.5</a:t>
            </a:r>
            <a:r>
              <a:rPr b="0" lang="zh-CN" sz="3600" spc="-1" strike="noStrike">
                <a:solidFill>
                  <a:srgbClr val="fd2d17"/>
                </a:solidFill>
                <a:latin typeface="华文行楷"/>
                <a:ea typeface="华文行楷"/>
              </a:rPr>
              <a:t>，</a:t>
            </a:r>
            <a:r>
              <a:rPr b="0" lang="en-US" sz="3600" spc="-1" strike="noStrike">
                <a:solidFill>
                  <a:srgbClr val="fd2d17"/>
                </a:solidFill>
                <a:latin typeface="华文行楷"/>
                <a:ea typeface="华文行楷"/>
              </a:rPr>
              <a:t>72</a:t>
            </a:r>
            <a:r>
              <a:rPr b="0" lang="zh-CN" sz="3600" spc="-1" strike="noStrike">
                <a:solidFill>
                  <a:srgbClr val="fd2d17"/>
                </a:solidFill>
                <a:latin typeface="华文行楷"/>
                <a:ea typeface="华文行楷"/>
              </a:rPr>
              <a:t>。</a:t>
            </a:r>
            <a:r>
              <a:rPr b="1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2`%[CFCDMS_X4{ELOUB1FU2"/>
          <p:cNvPicPr/>
          <p:nvPr/>
        </p:nvPicPr>
        <p:blipFill>
          <a:blip r:embed="rId2"/>
          <a:stretch/>
        </p:blipFill>
        <p:spPr>
          <a:xfrm>
            <a:off x="250920" y="2781360"/>
            <a:ext cx="3673440" cy="1800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75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300"/>
                            </p:stCondLst>
                            <p:childTnLst>
                              <p:par>
                                <p:cTn id="13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300"/>
                            </p:stCondLst>
                            <p:childTnLst>
                              <p:par>
                                <p:cTn id="1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evt="end">
                                        <p:tn val="162"/>
                                      </p:cond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cfd"/>
            </a:gs>
            <a:gs pos="100000">
              <a:srgbClr val="a2faf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5076720" y="429264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62560" y="61009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2d17"/>
                </a:solidFill>
                <a:latin typeface="华文行楷"/>
                <a:ea typeface="华文行楷"/>
              </a:rPr>
              <a:t>不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075280" y="5229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2d17"/>
                </a:solidFill>
                <a:latin typeface="华文行楷"/>
                <a:ea typeface="华文行楷"/>
              </a:rPr>
              <a:t>不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2771640" cy="633240"/>
          </a:xfrm>
          <a:prstGeom prst="rect">
            <a:avLst/>
          </a:prstGeom>
          <a:gradFill rotWithShape="0">
            <a:gsLst>
              <a:gs pos="0">
                <a:srgbClr val="fd2d17"/>
              </a:gs>
              <a:gs pos="100000">
                <a:srgbClr val="edfc5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练  习  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判断下列各组数列中哪些是等差数列，哪些不是？如果是，写出首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和公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不是，说明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-34920" y="2062800"/>
            <a:ext cx="5326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3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-179280" y="608760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"/>
          <p:cNvPicPr/>
          <p:nvPr/>
        </p:nvPicPr>
        <p:blipFill>
          <a:blip r:embed="rId1"/>
          <a:stretch/>
        </p:blipFill>
        <p:spPr>
          <a:xfrm>
            <a:off x="0" y="4941720"/>
            <a:ext cx="4392720" cy="12574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1"/>
          <p:cNvSpPr/>
          <p:nvPr/>
        </p:nvSpPr>
        <p:spPr>
          <a:xfrm>
            <a:off x="0" y="2781360"/>
            <a:ext cx="6659640" cy="4076640"/>
          </a:xfrm>
          <a:prstGeom prst="cloudCallout">
            <a:avLst>
              <a:gd name="adj1" fmla="val 27546"/>
              <a:gd name="adj2" fmla="val -54129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思考：在数列（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，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100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？我们该如何求解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>
            <a:hlinkClick r:id="rId3" action="ppaction://hlinksldjump"/>
          </p:cNvPr>
          <p:cNvSpPr/>
          <p:nvPr/>
        </p:nvSpPr>
        <p:spPr>
          <a:xfrm>
            <a:off x="8386920" y="6381720"/>
            <a:ext cx="649080" cy="405000"/>
          </a:xfrm>
          <a:custGeom>
            <a:avLst/>
            <a:gdLst>
              <a:gd name="textAreaLeft" fmla="*/ 25920 w 649080"/>
              <a:gd name="textAreaRight" fmla="*/ 623160 w 649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34606" h="21600">
                <a:moveTo>
                  <a:pt x="0" y="0"/>
                </a:moveTo>
                <a:lnTo>
                  <a:pt x="34606" y="0"/>
                </a:lnTo>
                <a:lnTo>
                  <a:pt x="34606" y="21600"/>
                </a:lnTo>
                <a:lnTo>
                  <a:pt x="0" y="21600"/>
                </a:lnTo>
                <a:close/>
              </a:path>
              <a:path fill="lightenLess" w="34606" h="21600">
                <a:moveTo>
                  <a:pt x="0" y="0"/>
                </a:moveTo>
                <a:lnTo>
                  <a:pt x="34606" y="0"/>
                </a:lnTo>
                <a:lnTo>
                  <a:pt x="33206" y="1400"/>
                </a:lnTo>
                <a:lnTo>
                  <a:pt x="1400" y="1400"/>
                </a:lnTo>
                <a:close/>
              </a:path>
              <a:path fill="darken" w="34606" h="21600">
                <a:moveTo>
                  <a:pt x="34606" y="0"/>
                </a:moveTo>
                <a:lnTo>
                  <a:pt x="34606" y="21600"/>
                </a:lnTo>
                <a:lnTo>
                  <a:pt x="33206" y="20200"/>
                </a:lnTo>
                <a:lnTo>
                  <a:pt x="33206" y="1400"/>
                </a:lnTo>
                <a:close/>
              </a:path>
              <a:path fill="darkenLess" w="34606" h="21600">
                <a:moveTo>
                  <a:pt x="34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06" y="20200"/>
                </a:lnTo>
                <a:close/>
              </a:path>
              <a:path fill="lighten" w="34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06" h="21600">
                <a:moveTo>
                  <a:pt x="10297" y="10800"/>
                </a:moveTo>
                <a:lnTo>
                  <a:pt x="24310" y="3794"/>
                </a:lnTo>
                <a:lnTo>
                  <a:pt x="2431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4284720" y="206064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4716360" y="292428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5148360" y="350028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5076720" y="1995480"/>
            <a:ext cx="3095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=1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5292720" y="2859120"/>
            <a:ext cx="3095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=9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=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5653080" y="3429000"/>
            <a:ext cx="3095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=-8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5724360" y="4292640"/>
            <a:ext cx="3095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=3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cfd"/>
            </a:gs>
            <a:gs pos="100000">
              <a:srgbClr val="a2faf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067280" cy="692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9454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通 项 公 式 的 推 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764640"/>
            <a:ext cx="8604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设一个等差数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{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首项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公差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则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-24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d,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d,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所以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d  = (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d) + d  = 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 2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d=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2d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d=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84360" y="3630600"/>
            <a:ext cx="8459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d2d17"/>
                </a:solidFill>
                <a:latin typeface="Times New Roman"/>
              </a:rPr>
              <a:t>a</a:t>
            </a:r>
            <a:r>
              <a:rPr b="1" i="1" lang="en-US" sz="4000" spc="-1" strike="noStrike" baseline="-25000">
                <a:solidFill>
                  <a:srgbClr val="fd2d17"/>
                </a:solidFill>
                <a:latin typeface="Times New Roman"/>
              </a:rPr>
              <a:t>n</a:t>
            </a:r>
            <a:r>
              <a:rPr b="1" i="1" lang="en-US" sz="4000" spc="-1" strike="noStrike">
                <a:solidFill>
                  <a:srgbClr val="fd2d17"/>
                </a:solidFill>
                <a:latin typeface="Times New Roman"/>
              </a:rPr>
              <a:t>=a</a:t>
            </a:r>
            <a:r>
              <a:rPr b="1" i="1" lang="en-US" sz="4000" spc="-1" strike="noStrike" baseline="-25000">
                <a:solidFill>
                  <a:srgbClr val="fd2d17"/>
                </a:solidFill>
                <a:latin typeface="Times New Roman"/>
              </a:rPr>
              <a:t>1</a:t>
            </a:r>
            <a:r>
              <a:rPr b="1" i="1" lang="en-US" sz="4000" spc="-1" strike="noStrike">
                <a:solidFill>
                  <a:srgbClr val="fd2d17"/>
                </a:solidFill>
                <a:latin typeface="Times New Roman"/>
              </a:rPr>
              <a:t>+(n-1)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=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上式也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24000" y="4646880"/>
            <a:ext cx="73436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等差数列的通项公式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d2d17"/>
                </a:solidFill>
                <a:latin typeface="Times New Roman"/>
              </a:rPr>
              <a:t>a</a:t>
            </a:r>
            <a:r>
              <a:rPr b="1" i="1" lang="en-US" sz="4800" spc="-1" strike="noStrike" baseline="-25000">
                <a:solidFill>
                  <a:srgbClr val="fd2d17"/>
                </a:solidFill>
                <a:latin typeface="Times New Roman"/>
              </a:rPr>
              <a:t>n</a:t>
            </a:r>
            <a:r>
              <a:rPr b="1" i="1" lang="en-US" sz="4800" spc="-1" strike="noStrike">
                <a:solidFill>
                  <a:srgbClr val="fd2d17"/>
                </a:solidFill>
                <a:latin typeface="Times New Roman"/>
              </a:rPr>
              <a:t>=a</a:t>
            </a:r>
            <a:r>
              <a:rPr b="1" i="1" lang="en-US" sz="4800" spc="-1" strike="noStrike" baseline="-25000">
                <a:solidFill>
                  <a:srgbClr val="fd2d17"/>
                </a:solidFill>
                <a:latin typeface="Times New Roman"/>
              </a:rPr>
              <a:t>1</a:t>
            </a:r>
            <a:r>
              <a:rPr b="1" i="1" lang="en-US" sz="4800" spc="-1" strike="noStrike">
                <a:solidFill>
                  <a:srgbClr val="fd2d17"/>
                </a:solidFill>
                <a:latin typeface="Times New Roman"/>
              </a:rPr>
              <a:t>+(n-1)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5105520" y="1357200"/>
            <a:ext cx="4038480" cy="1844640"/>
          </a:xfrm>
          <a:prstGeom prst="wedgeRoundRectCallout">
            <a:avLst>
              <a:gd name="adj1" fmla="val -39347"/>
              <a:gd name="adj2" fmla="val 105925"/>
              <a:gd name="adj3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问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a</a:t>
            </a:r>
            <a:r>
              <a:rPr b="1" i="1" lang="en-US" sz="3200" spc="-1" strike="noStrike" baseline="-25000">
                <a:solidFill>
                  <a:srgbClr val="ff00ff"/>
                </a:solidFill>
                <a:latin typeface="Times New Roman"/>
                <a:ea typeface="华文行楷"/>
              </a:rPr>
              <a:t>n</a:t>
            </a:r>
            <a:r>
              <a:rPr b="1" lang="en-US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=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通过观察：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a</a:t>
            </a:r>
            <a:r>
              <a:rPr b="1" i="1" lang="en-US" sz="3200" spc="-1" strike="noStrike" baseline="-25000">
                <a:solidFill>
                  <a:srgbClr val="ff00ff"/>
                </a:solidFill>
                <a:latin typeface="Times New Roman"/>
                <a:ea typeface="华文行楷"/>
              </a:rPr>
              <a:t>2</a:t>
            </a:r>
            <a:r>
              <a:rPr b="1" i="1" lang="zh-CN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，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a</a:t>
            </a:r>
            <a:r>
              <a:rPr b="1" i="1" lang="en-US" sz="3200" spc="-1" strike="noStrike" baseline="-25000">
                <a:solidFill>
                  <a:srgbClr val="ff00ff"/>
                </a:solidFill>
                <a:latin typeface="Times New Roman"/>
                <a:ea typeface="华文行楷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，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a</a:t>
            </a:r>
            <a:r>
              <a:rPr b="1" i="1" lang="en-US" sz="3200" spc="-1" strike="noStrike" baseline="-25000">
                <a:solidFill>
                  <a:srgbClr val="ff00ff"/>
                </a:solidFill>
                <a:latin typeface="Times New Roman"/>
                <a:ea typeface="华文行楷"/>
              </a:rPr>
              <a:t>4</a:t>
            </a:r>
            <a:r>
              <a:rPr b="1" lang="zh-CN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都可以用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a</a:t>
            </a:r>
            <a:r>
              <a:rPr b="1" i="1" lang="en-US" sz="3200" spc="-1" strike="noStrike" baseline="-25000">
                <a:solidFill>
                  <a:srgbClr val="ff00ff"/>
                </a:solidFill>
                <a:latin typeface="Times New Roman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与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d</a:t>
            </a:r>
            <a:r>
              <a:rPr b="1" lang="zh-CN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 </a:t>
            </a:r>
            <a:r>
              <a:rPr b="1" lang="zh-CN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表示出来；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a</a:t>
            </a:r>
            <a:r>
              <a:rPr b="1" i="1" lang="en-US" sz="3200" spc="-1" strike="noStrike" baseline="-25000">
                <a:solidFill>
                  <a:srgbClr val="ff00ff"/>
                </a:solidFill>
                <a:latin typeface="Times New Roman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与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d</a:t>
            </a:r>
            <a:r>
              <a:rPr b="1" lang="zh-CN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的系数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24000" y="5157720"/>
            <a:ext cx="4103640" cy="8622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564000" y="1844640"/>
            <a:ext cx="4895640" cy="2907000"/>
          </a:xfrm>
          <a:prstGeom prst="rect">
            <a:avLst/>
          </a:prstGeom>
          <a:solidFill>
            <a:srgbClr val="b6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a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-a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)+(a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-a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)+(a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-a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+…+(a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-a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n-1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)=(n-1)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∴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-a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=(n-1)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即</a:t>
            </a:r>
            <a:r>
              <a:rPr b="1" i="1" lang="en-US" sz="4000" spc="-1" strike="noStrike">
                <a:solidFill>
                  <a:srgbClr val="fd2d17"/>
                </a:solidFill>
                <a:latin typeface="Times New Roman"/>
                <a:ea typeface="华文行楷"/>
              </a:rPr>
              <a:t>a</a:t>
            </a:r>
            <a:r>
              <a:rPr b="1" i="1" lang="en-US" sz="4000" spc="-1" strike="noStrike" baseline="-25000">
                <a:solidFill>
                  <a:srgbClr val="fd2d17"/>
                </a:solidFill>
                <a:latin typeface="Times New Roman"/>
                <a:ea typeface="华文行楷"/>
              </a:rPr>
              <a:t>n</a:t>
            </a:r>
            <a:r>
              <a:rPr b="1" i="1" lang="en-US" sz="4000" spc="-1" strike="noStrike">
                <a:solidFill>
                  <a:srgbClr val="fd2d17"/>
                </a:solidFill>
                <a:latin typeface="Times New Roman"/>
                <a:ea typeface="华文行楷"/>
              </a:rPr>
              <a:t>=a</a:t>
            </a:r>
            <a:r>
              <a:rPr b="1" i="1" lang="en-US" sz="4000" spc="-1" strike="noStrike" baseline="-25000">
                <a:solidFill>
                  <a:srgbClr val="fd2d17"/>
                </a:solidFill>
                <a:latin typeface="Times New Roman"/>
                <a:ea typeface="华文行楷"/>
              </a:rPr>
              <a:t>1</a:t>
            </a:r>
            <a:r>
              <a:rPr b="1" i="1" lang="en-US" sz="4000" spc="-1" strike="noStrike">
                <a:solidFill>
                  <a:srgbClr val="fd2d17"/>
                </a:solidFill>
                <a:latin typeface="Times New Roman"/>
                <a:ea typeface="华文行楷"/>
              </a:rPr>
              <a:t>+(n-1)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611280" y="1739880"/>
            <a:ext cx="3024000" cy="3063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-a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=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-a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=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-a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=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-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n-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=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3492360" y="2637000"/>
            <a:ext cx="4753080" cy="2133360"/>
          </a:xfrm>
          <a:prstGeom prst="wedgeRoundRectCallout">
            <a:avLst>
              <a:gd name="adj1" fmla="val -53171"/>
              <a:gd name="adj2" fmla="val 66518"/>
              <a:gd name="adj3" fmla="val 16667"/>
            </a:avLst>
          </a:prstGeom>
          <a:solidFill>
            <a:srgbClr val="00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d2d17"/>
                </a:solidFill>
                <a:latin typeface="Times New Roman"/>
              </a:rPr>
              <a:t>a</a:t>
            </a:r>
            <a:r>
              <a:rPr b="1" i="1" lang="en-US" sz="4800" spc="-1" strike="noStrike" baseline="-25000">
                <a:solidFill>
                  <a:srgbClr val="fd2d17"/>
                </a:solidFill>
                <a:latin typeface="宋体"/>
              </a:rPr>
              <a:t>1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宋体"/>
              </a:rPr>
              <a:t> </a:t>
            </a:r>
            <a:r>
              <a:rPr b="1" i="1" lang="zh-CN" sz="4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4800" spc="-1" strike="noStrike">
                <a:solidFill>
                  <a:srgbClr val="fd2d17"/>
                </a:solidFill>
                <a:latin typeface="Times New Roman"/>
              </a:rPr>
              <a:t>a</a:t>
            </a:r>
            <a:r>
              <a:rPr b="1" i="1" lang="en-US" sz="4800" spc="-1" strike="noStrike" baseline="-25000">
                <a:solidFill>
                  <a:srgbClr val="fd2d17"/>
                </a:solidFill>
                <a:latin typeface="宋体"/>
              </a:rPr>
              <a:t>n</a:t>
            </a:r>
            <a:r>
              <a:rPr b="1" i="1" lang="zh-CN" sz="4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4800" spc="-1" strike="noStrike">
                <a:solidFill>
                  <a:srgbClr val="fd2d17"/>
                </a:solidFill>
                <a:latin typeface="Times New Roman"/>
              </a:rPr>
              <a:t>n</a:t>
            </a:r>
            <a:r>
              <a:rPr b="1" i="1" lang="zh-CN" sz="4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i="1" lang="en-US" sz="4800" spc="-1" strike="noStrike">
                <a:solidFill>
                  <a:srgbClr val="fd2d17"/>
                </a:solidFill>
                <a:latin typeface="Times New Roman"/>
              </a:rPr>
              <a:t>d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知三求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3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8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3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7100"/>
                            </p:stCondLst>
                            <p:childTnLst>
                              <p:par>
                                <p:cTn id="340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3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400"/>
                            </p:stCondLst>
                            <p:childTnLst>
                              <p:par>
                                <p:cTn id="344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6" dur="3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700"/>
                            </p:stCondLst>
                            <p:childTnLst>
                              <p:par>
                                <p:cTn id="348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3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2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3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2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8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cfd"/>
            </a:gs>
            <a:gs pos="100000">
              <a:srgbClr val="a2faf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403280" cy="33336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eef40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d2d17"/>
                </a:solidFill>
                <a:latin typeface="Arial"/>
              </a:rPr>
              <a:t>例 题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60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求等差数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…的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判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-4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不是等差数列 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,-9 ,-13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是，是第几项，如果不是，说明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4000" y="1628640"/>
            <a:ext cx="3600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2d17"/>
                </a:solidFill>
                <a:latin typeface="宋体"/>
              </a:rPr>
              <a:t>分析（</a:t>
            </a:r>
            <a:r>
              <a:rPr b="1" lang="zh-CN" sz="2800" spc="-1" strike="noStrike">
                <a:solidFill>
                  <a:srgbClr val="fd2d17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d2d17"/>
                </a:solidFill>
                <a:latin typeface="宋体"/>
              </a:rPr>
              <a:t>）由给出的等差数列前三项，先找到首项</a:t>
            </a:r>
            <a:r>
              <a:rPr b="1" i="1" lang="en-US" sz="3200" spc="-1" strike="noStrike">
                <a:solidFill>
                  <a:srgbClr val="fd2d17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d2d17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fd2d1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d2d17"/>
                </a:solidFill>
                <a:latin typeface="宋体"/>
              </a:rPr>
              <a:t>求出公差</a:t>
            </a:r>
            <a:r>
              <a:rPr b="1" lang="en-US" sz="2800" spc="-1" strike="noStrike">
                <a:solidFill>
                  <a:srgbClr val="fd2d17"/>
                </a:solidFill>
                <a:latin typeface="宋体"/>
              </a:rPr>
              <a:t>d,</a:t>
            </a:r>
            <a:r>
              <a:rPr b="1" lang="zh-CN" sz="2800" spc="-1" strike="noStrike">
                <a:solidFill>
                  <a:srgbClr val="fd2d17"/>
                </a:solidFill>
                <a:latin typeface="宋体"/>
              </a:rPr>
              <a:t>写出通项公式，就可以求出第</a:t>
            </a:r>
            <a:r>
              <a:rPr b="1" lang="zh-CN" sz="2800" spc="-1" strike="noStrike">
                <a:solidFill>
                  <a:srgbClr val="fd2d17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fd2d17"/>
                </a:solidFill>
                <a:latin typeface="宋体"/>
              </a:rPr>
              <a:t>项</a:t>
            </a:r>
            <a:r>
              <a:rPr b="1" i="1" lang="en-US" sz="3200" spc="-1" strike="noStrike">
                <a:solidFill>
                  <a:srgbClr val="fd2d17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d2d17"/>
                </a:solidFill>
                <a:latin typeface="宋体"/>
              </a:rPr>
              <a:t>20</a:t>
            </a:r>
            <a:r>
              <a:rPr b="1" lang="en-US" sz="2800" spc="-1" strike="noStrike">
                <a:solidFill>
                  <a:srgbClr val="fd2d17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924360" y="1701720"/>
            <a:ext cx="4824360" cy="2232000"/>
          </a:xfrm>
          <a:prstGeom prst="rect">
            <a:avLst/>
          </a:prstGeom>
          <a:solidFill>
            <a:srgbClr val="ff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题意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8,d=5-8=-3,n=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个数列的通项公式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(n-1)d=-3n+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∴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11-3×20=-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289080" y="4005360"/>
            <a:ext cx="3490920" cy="27082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分析（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）要想判断  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-401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是否为这个数列中的项，关键是要求出通项公式，看是否存在正整数</a:t>
            </a: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n,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使得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00ff"/>
                </a:solidFill>
                <a:latin typeface="宋体"/>
              </a:rPr>
              <a:t>n</a:t>
            </a: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=-401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95640" y="4076640"/>
            <a:ext cx="5148360" cy="2781360"/>
          </a:xfrm>
          <a:prstGeom prst="rect">
            <a:avLst/>
          </a:prstGeom>
          <a:gradFill rotWithShape="0">
            <a:gsLst>
              <a:gs pos="0">
                <a:srgbClr val="b6ff9f"/>
              </a:gs>
              <a:gs pos="100000">
                <a:srgbClr val="fec7b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题意得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-5,d=-9-(-5)=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个数列的通项公式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-5+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 1) × (-4)=-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-401=-4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-1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得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=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4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这个数列的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cfd"/>
            </a:gs>
            <a:gs pos="100000">
              <a:srgbClr val="a2faf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d2d17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练 习 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求等差数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,7,11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项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判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不是等差数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项？如果是，是第几项，如果不是，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79280" y="2746080"/>
            <a:ext cx="496908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：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根据题意得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3,d=7-3=4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个数列的通项公式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(n-1)d=4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4×4-1=15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4×10-1=3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427640" y="2664720"/>
            <a:ext cx="493236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题意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2,d=9-2=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个数列的通项公式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2+ (n-1) ×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7n-5(n≥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7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-5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得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=107/7   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是这个数列的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>
            <a:off x="4354560" y="2997360"/>
            <a:ext cx="1440" cy="33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7"/>
          <p:cNvGraphicFramePr/>
          <p:nvPr/>
        </p:nvGraphicFramePr>
        <p:xfrm>
          <a:off x="5867280" y="4797360"/>
          <a:ext cx="50328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797360"/>
                    <a:ext cx="5032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cfd"/>
            </a:gs>
            <a:gs pos="100000">
              <a:srgbClr val="a2faf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7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8920" y="693360"/>
            <a:ext cx="6480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等差数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{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}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，已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10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31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首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公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024000" cy="1224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395280" y="3373200"/>
            <a:ext cx="7632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一个以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未知数的二元一次方程组，解之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24000" y="18432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由题意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79280" y="4890960"/>
            <a:ext cx="62643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个数列的首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公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=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50920" y="5962680"/>
            <a:ext cx="8604000" cy="520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2d17"/>
                </a:solidFill>
                <a:latin typeface="Times New Roman"/>
              </a:rPr>
              <a:t>小结：已知数列中任意两项，可求出首项和公差，主要是联立二元一次方程组。</a:t>
            </a:r>
            <a:r>
              <a:rPr b="1" lang="zh-CN" sz="2400" spc="-1" strike="noStrike">
                <a:solidFill>
                  <a:srgbClr val="fd2d17"/>
                </a:solidFill>
                <a:latin typeface="Times New Roman"/>
              </a:rPr>
              <a:t>请同学们做以下练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0" y="0"/>
            <a:ext cx="1403280" cy="33336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eef40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d2d17"/>
                </a:solidFill>
                <a:latin typeface="Arial"/>
              </a:rPr>
              <a:t>例 题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"/>
          <p:cNvPicPr/>
          <p:nvPr/>
        </p:nvPicPr>
        <p:blipFill>
          <a:blip r:embed="rId2"/>
          <a:stretch/>
        </p:blipFill>
        <p:spPr>
          <a:xfrm>
            <a:off x="2124000" y="3573360"/>
            <a:ext cx="2232000" cy="1368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2:26:36Z</dcterms:created>
  <dc:creator>www.dearedu.com</dc:creator>
  <dc:description>www.dearedu.com</dc:description>
  <cp:keywords>www.dearedu.com</cp:keywords>
  <dc:language>en-US</dc:language>
  <cp:lastModifiedBy>admin</cp:lastModifiedBy>
  <dcterms:modified xsi:type="dcterms:W3CDTF">2015-03-11T13:30:42Z</dcterms:modified>
  <cp:revision>11</cp:revision>
  <dc:subject>www.dearedu.com</dc:subject>
  <dc:title>www.deare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