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F56-18A7-4D51-BC61-B4A650EA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B7E-F93D-4D9F-B9AA-B3C0E6D4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9FC-9696-44B7-8EC9-566E73DA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888-E972-40F3-9EA7-AC8F0DEA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A2AB-479F-423A-9F10-89066C61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5882-E796-4B8D-B877-AB04D0C6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4A8-E7CC-4751-89ED-05E169C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3B5D-D95A-4C03-9223-B4E74480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11E7-2B1B-4540-9106-26A551C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B9F-2D56-4EE9-8458-95CA828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33A9-1B7A-46C1-9625-0FF7B8FF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8BD-DD68-4BEB-B478-40E90EC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F880-2D0F-4338-B174-B2DA2CEE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AF78-AC99-4ADF-9E26-BB9BD70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0FFE-1E21-4EAB-8106-EC648A6E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D246-60BA-4D78-8D70-F76A3E19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5F66-51FB-4444-A8AD-CDF9068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533-6134-40FB-B9E7-ACF58828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215-0958-4862-941A-82BEDBDA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B83-6E61-4EB0-9750-1FB9C14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F26-68C0-4085-B8CA-898CFBC8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055-0712-4E9A-BFED-803258B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7D0-71AA-4C61-9340-C857691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C78-7265-4325-B7D5-FF0A45E7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7600-A941-4CD0-BA47-C5683FFFE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77EB-E7A8-4C66-99D0-8697F712E55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533520" y="20574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等差数列的性质</a:t>
            </a:r>
            <a:endParaRPr b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五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28600" y="762120"/>
            <a:ext cx="83818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一个等差数列的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将前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项去掉，其余各项组成的数列是等差数列吗？如果是，他的首项与公差分别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80880" y="3429000"/>
            <a:ext cx="7696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m+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m+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等差数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m+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项数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-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五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762120"/>
            <a:ext cx="891540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一个等差数列的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取出数列中的所有奇数项，组成一个数列，是等差数列吗？如果是，他的首项与公差分别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3429000"/>
            <a:ext cx="7696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等差数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09480" y="4800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取出的是所有偶数项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80880" y="5334120"/>
            <a:ext cx="7696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等差数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五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-76320" y="762120"/>
            <a:ext cx="97538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一个等差数列的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取出数列中所有项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倍数的各项，组成一个数列，是等差数列吗？如果是，他的首项与公差分别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0880" y="3429000"/>
            <a:ext cx="7696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等差数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09480" y="48006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取出的是所有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倍数的项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880" y="5334120"/>
            <a:ext cx="76964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等差数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项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公差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六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1447920"/>
            <a:ext cx="8534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若数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{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等差数列，公差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{k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为等差数列，公差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kd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3352680"/>
            <a:ext cx="8534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若数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{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{b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都为等差数列，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{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b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为等差数列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{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b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为等差数列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{p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qb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也为等差数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762120"/>
            <a:ext cx="6400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复习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等差数列的概念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等差数列的定义式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等差数列的通项公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09680" y="2895480"/>
            <a:ext cx="2895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=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362320" y="4572000"/>
            <a:ext cx="380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+(n-1)d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95280" y="907920"/>
            <a:ext cx="82296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等差数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{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}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前三项和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前三项积为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求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个数等差的设法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-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+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9640" y="692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一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755640" y="1773360"/>
            <a:ext cx="2895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=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n-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3645000"/>
            <a:ext cx="4953240" cy="787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a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-m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2"/>
          <p:cNvSpPr/>
          <p:nvPr/>
        </p:nvSpPr>
        <p:spPr>
          <a:xfrm>
            <a:off x="5257800" y="4586400"/>
            <a:ext cx="2362320" cy="190476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09120" y="4648320"/>
            <a:ext cx="2514600" cy="18288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二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838080"/>
            <a:ext cx="8686800" cy="1136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若一个数列的通项公式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一次函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pn+q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则这个数列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差数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p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差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2209680"/>
            <a:ext cx="9144000" cy="1169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非常数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等差数列通项公式是关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一次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数列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等差数列通项公式为常值函数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80880" y="3505320"/>
            <a:ext cx="2210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3n+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8600" y="403848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=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57200" y="4648320"/>
            <a:ext cx="3276720" cy="2209680"/>
            <a:chOff x="457200" y="4648320"/>
            <a:chExt cx="3276720" cy="2209680"/>
          </a:xfrm>
        </p:grpSpPr>
        <p:grpSp>
          <p:nvGrpSpPr>
            <p:cNvPr id="98" name="Group 10"/>
            <p:cNvGrpSpPr/>
            <p:nvPr/>
          </p:nvGrpSpPr>
          <p:grpSpPr>
            <a:xfrm>
              <a:off x="457200" y="4648320"/>
              <a:ext cx="3276720" cy="2209680"/>
              <a:chOff x="457200" y="4648320"/>
              <a:chExt cx="3276720" cy="2209680"/>
            </a:xfrm>
          </p:grpSpPr>
          <p:sp>
            <p:nvSpPr>
              <p:cNvPr id="99" name="Line 11"/>
              <p:cNvSpPr/>
              <p:nvPr/>
            </p:nvSpPr>
            <p:spPr>
              <a:xfrm>
                <a:off x="457200" y="6324480"/>
                <a:ext cx="3276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 flipV="1">
                <a:off x="914400" y="4648320"/>
                <a:ext cx="0" cy="22096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1" name="Line 13"/>
              <p:cNvSpPr/>
              <p:nvPr/>
            </p:nvSpPr>
            <p:spPr>
              <a:xfrm>
                <a:off x="129528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2" name="Line 14"/>
              <p:cNvSpPr/>
              <p:nvPr/>
            </p:nvSpPr>
            <p:spPr>
              <a:xfrm>
                <a:off x="175248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3" name="Line 15"/>
              <p:cNvSpPr/>
              <p:nvPr/>
            </p:nvSpPr>
            <p:spPr>
              <a:xfrm>
                <a:off x="312408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4" name="Line 16"/>
              <p:cNvSpPr/>
              <p:nvPr/>
            </p:nvSpPr>
            <p:spPr>
              <a:xfrm>
                <a:off x="266688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>
                <a:off x="220968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6" name="Line 18"/>
              <p:cNvSpPr/>
              <p:nvPr/>
            </p:nvSpPr>
            <p:spPr>
              <a:xfrm>
                <a:off x="914400" y="601992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7" name="Line 19"/>
              <p:cNvSpPr/>
              <p:nvPr/>
            </p:nvSpPr>
            <p:spPr>
              <a:xfrm>
                <a:off x="914400" y="563868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" name="Line 20"/>
              <p:cNvSpPr/>
              <p:nvPr/>
            </p:nvSpPr>
            <p:spPr>
              <a:xfrm>
                <a:off x="914400" y="533412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" name="Line 21"/>
              <p:cNvSpPr/>
              <p:nvPr/>
            </p:nvSpPr>
            <p:spPr>
              <a:xfrm>
                <a:off x="914400" y="502920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10" name="Text Box 22"/>
            <p:cNvSpPr/>
            <p:nvPr/>
          </p:nvSpPr>
          <p:spPr>
            <a:xfrm>
              <a:off x="114300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205740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51460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Text Box 25"/>
            <p:cNvSpPr/>
            <p:nvPr/>
          </p:nvSpPr>
          <p:spPr>
            <a:xfrm>
              <a:off x="457200" y="51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533520" y="5867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Text Box 27"/>
            <p:cNvSpPr/>
            <p:nvPr/>
          </p:nvSpPr>
          <p:spPr>
            <a:xfrm>
              <a:off x="457200" y="5486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Text Box 28"/>
            <p:cNvSpPr/>
            <p:nvPr/>
          </p:nvSpPr>
          <p:spPr>
            <a:xfrm>
              <a:off x="1523880" y="641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Text Box 29"/>
            <p:cNvSpPr/>
            <p:nvPr/>
          </p:nvSpPr>
          <p:spPr>
            <a:xfrm>
              <a:off x="457200" y="48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8" name="Oval 30"/>
          <p:cNvSpPr/>
          <p:nvPr/>
        </p:nvSpPr>
        <p:spPr>
          <a:xfrm>
            <a:off x="1247760" y="59770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Oval 31"/>
          <p:cNvSpPr/>
          <p:nvPr/>
        </p:nvSpPr>
        <p:spPr>
          <a:xfrm>
            <a:off x="1695600" y="56196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Oval 32"/>
          <p:cNvSpPr/>
          <p:nvPr/>
        </p:nvSpPr>
        <p:spPr>
          <a:xfrm>
            <a:off x="2119320" y="53053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Oval 33"/>
          <p:cNvSpPr/>
          <p:nvPr/>
        </p:nvSpPr>
        <p:spPr>
          <a:xfrm>
            <a:off x="2557440" y="501012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4876920" y="3429000"/>
            <a:ext cx="220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12-2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4800600" y="40384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=1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d=-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4" name="Group 36"/>
          <p:cNvGrpSpPr/>
          <p:nvPr/>
        </p:nvGrpSpPr>
        <p:grpSpPr>
          <a:xfrm>
            <a:off x="4952880" y="4648320"/>
            <a:ext cx="3276720" cy="2209680"/>
            <a:chOff x="4952880" y="4648320"/>
            <a:chExt cx="3276720" cy="2209680"/>
          </a:xfrm>
        </p:grpSpPr>
        <p:grpSp>
          <p:nvGrpSpPr>
            <p:cNvPr id="125" name="Group 37"/>
            <p:cNvGrpSpPr/>
            <p:nvPr/>
          </p:nvGrpSpPr>
          <p:grpSpPr>
            <a:xfrm>
              <a:off x="4952880" y="4648320"/>
              <a:ext cx="3276720" cy="2209680"/>
              <a:chOff x="4952880" y="4648320"/>
              <a:chExt cx="3276720" cy="2209680"/>
            </a:xfrm>
          </p:grpSpPr>
          <p:sp>
            <p:nvSpPr>
              <p:cNvPr id="126" name="Line 38"/>
              <p:cNvSpPr/>
              <p:nvPr/>
            </p:nvSpPr>
            <p:spPr>
              <a:xfrm>
                <a:off x="4952880" y="6324480"/>
                <a:ext cx="327672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 flipV="1">
                <a:off x="5410080" y="4648320"/>
                <a:ext cx="0" cy="220968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579096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624816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61976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716256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6705360" y="6248520"/>
                <a:ext cx="0" cy="759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5410080" y="601992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4" name="Line 46"/>
              <p:cNvSpPr/>
              <p:nvPr/>
            </p:nvSpPr>
            <p:spPr>
              <a:xfrm>
                <a:off x="5410080" y="563868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Line 47"/>
              <p:cNvSpPr/>
              <p:nvPr/>
            </p:nvSpPr>
            <p:spPr>
              <a:xfrm>
                <a:off x="5410080" y="533412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6" name="Line 48"/>
              <p:cNvSpPr/>
              <p:nvPr/>
            </p:nvSpPr>
            <p:spPr>
              <a:xfrm>
                <a:off x="5410080" y="5029200"/>
                <a:ext cx="763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7" name="Text Box 49"/>
            <p:cNvSpPr/>
            <p:nvPr/>
          </p:nvSpPr>
          <p:spPr>
            <a:xfrm>
              <a:off x="563868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Text Box 50"/>
            <p:cNvSpPr/>
            <p:nvPr/>
          </p:nvSpPr>
          <p:spPr>
            <a:xfrm>
              <a:off x="655308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Text Box 51"/>
            <p:cNvSpPr/>
            <p:nvPr/>
          </p:nvSpPr>
          <p:spPr>
            <a:xfrm>
              <a:off x="7010280" y="6400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4952880" y="5195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Text Box 53"/>
            <p:cNvSpPr/>
            <p:nvPr/>
          </p:nvSpPr>
          <p:spPr>
            <a:xfrm>
              <a:off x="5029200" y="58672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Text Box 54"/>
            <p:cNvSpPr/>
            <p:nvPr/>
          </p:nvSpPr>
          <p:spPr>
            <a:xfrm>
              <a:off x="4952880" y="5486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Text Box 55"/>
            <p:cNvSpPr/>
            <p:nvPr/>
          </p:nvSpPr>
          <p:spPr>
            <a:xfrm>
              <a:off x="6019560" y="641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Text Box 56"/>
            <p:cNvSpPr/>
            <p:nvPr/>
          </p:nvSpPr>
          <p:spPr>
            <a:xfrm>
              <a:off x="4952880" y="4815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5" name="Oval 57"/>
          <p:cNvSpPr/>
          <p:nvPr/>
        </p:nvSpPr>
        <p:spPr>
          <a:xfrm>
            <a:off x="5791320" y="5029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Oval 58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Oval 59"/>
          <p:cNvSpPr/>
          <p:nvPr/>
        </p:nvSpPr>
        <p:spPr>
          <a:xfrm>
            <a:off x="6662880" y="56959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Oval 60"/>
          <p:cNvSpPr/>
          <p:nvPr/>
        </p:nvSpPr>
        <p:spPr>
          <a:xfrm>
            <a:off x="7086600" y="6019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2590920" y="36576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=3x+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716292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y=12-2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50920" y="692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三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468360" y="2708280"/>
                <a:ext cx="71629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，</m:t>
                        </m:r>
                        <m:r>
                          <m:t xml:space="preserve">A</m:t>
                        </m:r>
                        <m:r>
                          <m:t xml:space="preserve">，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为等差，</m:t>
                        </m:r>
                      </m:e>
                      <m:e>
                        <m:r>
                          <m:t xml:space="preserve">则A为a</m:t>
                        </m:r>
                        <m:r>
                          <m:t xml:space="preserve">，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的等差中项且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28600" y="1066680"/>
            <a:ext cx="8001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数列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3……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是那些项的等差中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求下列两个数的等差中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；     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1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在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-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之间顺次插入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三个数，使这五个数成等差数列，求插入的三个数和等差数列的公差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258920" y="6206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楷体"/>
              </a:rPr>
              <a:t>如何判断一个数列为等差数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0" y="2276640"/>
                <a:ext cx="8686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定义法：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常数）（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⇔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为等差数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-28440" y="3789360"/>
                <a:ext cx="73404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通项法：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为n</m:t>
                    </m:r>
                    <m:r>
                      <m:rPr>
                        <m:lit/>
                        <m:nor/>
                      </m:rPr>
                      <m:t xml:space="preserve">的一次函数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为等差数列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79280" y="476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性质四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0" y="1700280"/>
            <a:ext cx="87631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数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{a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}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是等差数列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q∈N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+n=p+q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，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58920" y="3213000"/>
                <a:ext cx="3657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：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0" y="4581360"/>
                <a:ext cx="8839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bai</dc:creator>
  <dc:description/>
  <dc:language>en-US</dc:language>
  <cp:lastModifiedBy>User</cp:lastModifiedBy>
  <dcterms:modified xsi:type="dcterms:W3CDTF">2015-03-16T00:27:29Z</dcterms:modified>
  <cp:revision>452</cp:revision>
  <dc:subject/>
  <dc:title>幻灯片 1</dc:title>
</cp:coreProperties>
</file>