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3A7-BFC1-46DC-B5AA-7B2EF838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939-73D9-4D6C-9702-C54F0BCB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57C-2922-4301-8FDE-BE336C31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1CA-4CA5-46D3-BA96-D5CEF78D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A18-3717-4287-A357-F2CEC18D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E20-4B02-4332-BC47-0BA739BD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5F8-1A6A-4B07-8169-26FB02BF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F1A-36B5-42BC-A8CB-958EA7F4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9C2-DC8D-46A6-ADA1-7D178CED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7C8-C6EB-4A66-BB37-9976FC79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2AC-D25A-4F61-8C69-E8292162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9BCC-E569-4CC4-8A75-772E3633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0E37-1B7E-498A-9A84-33AC28E0A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m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16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4182840" y="6276960"/>
            <a:ext cx="3937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肚子好饿的毛毛虫</a:t>
            </a:r>
            <a:r>
              <a:rPr b="0" lang="en-US" sz="2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》</a:t>
            </a:r>
            <a:r>
              <a:rPr b="0" lang="en-US" sz="1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www.downc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aterpillar09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75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609480" y="4630680"/>
            <a:ext cx="78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第二天，又是星期天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毛毛虫啃穿了一片可爱的绿树叶，这一回他感觉好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aterpillar10"/>
          <p:cNvPicPr/>
          <p:nvPr/>
        </p:nvPicPr>
        <p:blipFill>
          <a:blip r:embed="rId1"/>
          <a:stretch/>
        </p:blipFill>
        <p:spPr>
          <a:xfrm>
            <a:off x="0" y="0"/>
            <a:ext cx="9144000" cy="3174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981080" y="3774960"/>
            <a:ext cx="7162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现在他一点儿也不饿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他也不再是一条小毛虫了。他是一条胖嘟嘟的大毛虫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他绕着自己的身子，造了一座叫做“茧”的小房子。他在那里面呆了两个多星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然后，他就在茧壳上啃出一个洞洞，钻了出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aterpillar1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174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4269240" y="4952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他已经是一只美丽的蝴蝶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aterpillar01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174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1447920" y="51055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月光下，一个小小的卵，躺在树叶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aterpillar02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174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1447920" y="51055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一个星期天的早晨，暖暖的太阳升起来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啪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从卵壳里钻出一条又瘦又饿的毛毛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6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Caterpillar03"/>
          <p:cNvPicPr/>
          <p:nvPr/>
        </p:nvPicPr>
        <p:blipFill>
          <a:blip r:embed="rId16"/>
          <a:stretch/>
        </p:blipFill>
        <p:spPr>
          <a:xfrm>
            <a:off x="0" y="45720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371600" y="57150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他四下寻找着可以吃的东西。星期一，他啃穿了一个苹果。可他还是觉得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aterpillar04"/>
          <p:cNvPicPr/>
          <p:nvPr/>
        </p:nvPicPr>
        <p:blipFill>
          <a:blip r:embed="rId1"/>
          <a:stretch/>
        </p:blipFill>
        <p:spPr>
          <a:xfrm>
            <a:off x="0" y="457200"/>
            <a:ext cx="6046920" cy="6400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6781680" y="4572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星期二，他啃穿了两个梨子，可他还是觉得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aterpillar05"/>
          <p:cNvPicPr/>
          <p:nvPr/>
        </p:nvPicPr>
        <p:blipFill>
          <a:blip r:embed="rId1"/>
          <a:stretch/>
        </p:blipFill>
        <p:spPr>
          <a:xfrm>
            <a:off x="0" y="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609480" y="6338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星期三，他啃穿了三个李子，可他还是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aterpillar06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429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461120" y="5943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星期四，他啃穿了四个草莓，可他还是饿得受不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aterpillar07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5146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3927960" y="5943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星期五，他啃穿了五个桔子，可他还是饿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aterpillar08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174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366840" y="3178080"/>
            <a:ext cx="841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05050"/>
                </a:solidFill>
                <a:latin typeface="Times New Roman"/>
              </a:rPr>
              <a:t>星期五，他啃穿了五个桔子，可他还是饿呀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09480" y="4630680"/>
            <a:ext cx="78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星期六，他啃穿了一块巧克力蛋糕，一个冰淇淋蛋筒，一条酸黄瓜，一片瑞士奶酪，一截萨拉米香肠，一根棒棒糖，一角樱桃馅饼，一段红肠，一只杯形蛋糕，还有一块甜西瓜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到了晚上，他就胃痛起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07:04:40Z</dcterms:created>
  <dc:creator>干国祥</dc:creator>
  <dc:description/>
  <dc:language>en-US</dc:language>
  <cp:lastModifiedBy>wuhan</cp:lastModifiedBy>
  <dcterms:modified xsi:type="dcterms:W3CDTF">2017-10-19T03:56:00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</Properties>
</file>