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E70-97C6-4019-9A45-64765BF4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D5E-371A-4624-9385-44D587D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782-0A5F-42AE-830A-F19BB46A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AE1-331A-4366-A15A-16E5B46B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9A8-208D-4B97-9DFA-882C84F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6B2-4B8F-4C8E-96A0-044ED9B6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E79-8734-4E6B-BC57-676DD4BD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891-D787-4608-A16B-E95182EB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07D-12F9-41B1-A99F-C000C60F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0AF-A718-4AB2-8DAC-8B103C1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659-ACEA-479E-B869-C2AA55E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130-AF02-48F6-BE68-D735BB9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BE11-FC25-403B-B1C5-2CAF1DDE93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3624120" y="0"/>
            <a:ext cx="49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115416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2"/>
          <a:stretch/>
        </p:blipFill>
        <p:spPr>
          <a:xfrm>
            <a:off x="6095880" y="0"/>
            <a:ext cx="49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6T01:41:20Z</dcterms:created>
  <dc:creator>优品PPT</dc:creator>
  <dc:description>http://www.ypppt.com/</dc:description>
  <cp:keywords>http:/www.ypppt.com</cp:keywords>
  <dc:language>en-US</dc:language>
  <cp:lastModifiedBy>wuhan</cp:lastModifiedBy>
  <dcterms:modified xsi:type="dcterms:W3CDTF">2017-10-20T03:12:10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