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C34B-9AAE-4280-9761-C2AEB556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56355-6266-4A7C-AFDB-3683570F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EB62A-4B66-44EB-837F-57A5E4BD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3848-ED2E-41BC-85EC-D234199F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E1B7-B3E5-452D-91C4-212EC118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13D5-0398-46CA-9FF4-F41FC652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48FF-B3C8-4147-B60B-8DC1C6E9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28B8-D4A9-4D4F-8D82-1DEDD571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A5D8-6F10-47D5-ADA6-97E7F0FB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8077-45A8-43C1-9879-38803DAF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6C98-4B85-47DD-B53A-11142FAE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FEA3-546C-4116-ACC7-D3719736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E0A2-7656-4951-8FB9-BE8BDD6A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2AD3-996F-4CBA-9577-FC94C9A8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9D06-7DD3-49BC-9361-618BB784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616E-4786-4728-BC2C-F527B660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51CB-45A5-4E81-B3DF-C3FC80B6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50739-4955-450B-B242-84E2728A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DD72-A107-4301-8ED8-40BB4F4E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01DFB-2392-490D-8275-C3AE64F5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17654-980F-4E44-8FCD-37960FA2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8969C-B5F6-48B1-BA24-14C43678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2F8B3-B962-47F9-80C1-1FD64FB0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25F7E-E310-4C34-9B7B-7FBB6740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0B93-E4DD-4BA7-A50F-4C5392927F9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未知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未知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未知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未知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未知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未知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未知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未知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7B50-CDCF-48A8-8600-3657D0706CE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Garamond"/>
              </a:rPr>
              <a:t>写话要求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Garamond"/>
              </a:rPr>
              <a:t>        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1</a:t>
            </a:r>
            <a:r>
              <a:rPr b="1" lang="zh-CN" sz="3600" spc="-1" strike="noStrike">
                <a:solidFill>
                  <a:srgbClr val="ffcc00"/>
                </a:solidFill>
                <a:latin typeface="Garamond"/>
              </a:rPr>
              <a:t>、题目写在正中间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Garamond"/>
              </a:rPr>
              <a:t>        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2</a:t>
            </a:r>
            <a:r>
              <a:rPr b="1" lang="zh-CN" sz="3600" spc="-1" strike="noStrike">
                <a:solidFill>
                  <a:srgbClr val="ffcc00"/>
                </a:solidFill>
                <a:latin typeface="Garamond"/>
              </a:rPr>
              <a:t>、开头空两格，标点占一格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Garamond"/>
              </a:rPr>
              <a:t>        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3</a:t>
            </a:r>
            <a:r>
              <a:rPr b="1" lang="zh-CN" sz="3600" spc="-1" strike="noStrike">
                <a:solidFill>
                  <a:srgbClr val="ffcc00"/>
                </a:solidFill>
                <a:latin typeface="Garamond"/>
              </a:rPr>
              <a:t>、把字写工整，不会写的字用拼音代替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Garamond"/>
              </a:rPr>
              <a:t>        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4</a:t>
            </a:r>
            <a:r>
              <a:rPr b="1" lang="zh-CN" sz="3600" spc="-1" strike="noStrike">
                <a:solidFill>
                  <a:srgbClr val="ffcc00"/>
                </a:solidFill>
                <a:latin typeface="Garamond"/>
              </a:rPr>
              <a:t>、用准词语、写通句子</a:t>
            </a:r>
            <a:r>
              <a:rPr b="0" lang="zh-CN" sz="3600" spc="-1" strike="noStrike">
                <a:solidFill>
                  <a:srgbClr val="ffcc00"/>
                </a:solidFill>
                <a:latin typeface="Garamond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692280"/>
            <a:ext cx="45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25092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4438" y="10800"/>
                </a:moveTo>
                <a:lnTo>
                  <a:pt x="18451" y="3794"/>
                </a:lnTo>
                <a:lnTo>
                  <a:pt x="1845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85720"/>
            <a:ext cx="914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有一天，青蛙、乌龟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鸭子和公鸡一起出去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在回家的路上，突然下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了大雨。小猫在门口看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了，就拿了一把雨伞要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给它们。可是借给谁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呢？小猫想：青蛙、乌龟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小鸭都不怕水。想着想   着，小猫把雨伞借给了公鸡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941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197000"/>
            <a:ext cx="914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下雪啦！下雪啦！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上铺着雪毯。小朋友们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到雪地上玩。有的堆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人，有的在打雪仗，还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的在滚雪球。玩得真开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啊！我想：要是我们南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的冬天也下雪，那就好了！哈哈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197000"/>
            <a:ext cx="914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下午，老师带同学们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到操场进行拔河比赛。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师把同学分成两组，每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六个同学。体育委员一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口哨，队员们就使劲的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谁也不让谁。连小鸟也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半空中叽叽喳喳的为队员们加油呢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8100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放学的时候，小东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走边吃饼干。吃完饼干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随手把包装袋扔在了路上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走在后面的小红看见了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捡起饼干袋扔进了路边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垃圾桶。小东觉得很不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意思。对小红说：“我再也不乱扔垃圾了，我要向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学习，做个文明的好学生！”他们一起高高兴兴地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家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9000"/>
            <a:ext cx="914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星期天，小红坐公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汽车要去公园玩。汽车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站，上来了一位老奶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小红看到公车里的座位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经满了，马上就站起来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对老奶奶说：“老奶奶，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里有座位，您坐吧。”老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奶直夸小红是个懂事的好孩子呢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有一天，小白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到森林里玩。突然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起了大雨。怎么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呢？小兔可着急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这时它看到一棵大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下长着许多大蘑菇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想出办法来了。小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采了一个最大的蘑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当雨伞，跑着回家了。妈妈看到小兔没有淋湿，感到很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怪。小兔就把事情讲给妈妈听。妈妈夸小兔是个聪明的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子。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9988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有一天，动物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来到小河边玩。玩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么呢？小兔提议大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玩搭桥游戏吧。大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和长颈鹿站在小河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两边。大象用鼻子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长颈鹿用脖子搭起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一座奇怪的桥。小兔和松鼠在桥上表演舞蹈，小鸟在旁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叽叽喳喳地唱歌。它们玩得多开心啊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-27000"/>
            <a:ext cx="91440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今天，天气很好，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蓝的天上飘着几朵白云。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师带同学们去动物园看猴山。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猴子可真有趣啊！它们有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跳来跳去；有的伸长脖子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同学们给它们扔东西吃；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的用尾巴在树枝上荡秋千。有一只猴子坐在假山顶上吃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个大大的桃子，一只小猴子在下面看着它直流口水。假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后面，一只母猴子抱着一只小猴子，给他抓痒抓虱子。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猴子们玩得很开心，同学们看得也很开心，真是一派欢乐的景象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5000" y="0"/>
            <a:ext cx="436572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476280"/>
            <a:ext cx="914400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昨天老师没来上课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原来是生病住院了。放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后同学们带着鲜花到医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去看望老师。老师叫同学们要听新老师的话，认真学习。同学们都希望老师身体早点好起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5000" y="0"/>
            <a:ext cx="41497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76280"/>
            <a:ext cx="9144000" cy="62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小东吃完香蕉，把香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皮随手就扔在地上。这时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看到一个环卫工人正在认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真真的打扫卫生，头上都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汗了，很辛苦。小东突然觉得自己做得不对。他往回走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把自己扔在地上的香蕉皮捡起来，扔在垃圾桶里。知错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改就是一个好孩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459000"/>
            <a:ext cx="889308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                           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                                          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                                          </a:t>
            </a: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小红的奶奶生病 </a:t>
            </a:r>
            <a:br>
              <a:rPr sz="3600"/>
            </a:b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                                       了， 躺在床上。小红</a:t>
            </a:r>
            <a:br>
              <a:rPr sz="3600"/>
            </a:b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                                       一放学就马上去看望 </a:t>
            </a:r>
            <a:br>
              <a:rPr sz="3600"/>
            </a:b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   奶奶，还削了一个苹果给奶奶吃。奶奶夸小红是个乖孩子。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268280"/>
            <a:ext cx="914400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秋天到了。天高云淡，蓝蓝的天上飘着几朵白云，有的像绵羊，有的像花朵，真漂亮啊！一群大雁往南飞。一会排成个人字，一会排成个一字。树叶都黄了，一片片从树上飘落下来，像蝴蝶，像小鸟。果树上的果子都熟了，有黄澄澄的梨，红红的苹果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群少先队员唱着歌去秋游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秋天真美啊！我想：今年的秋天一定是个丰收的季节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秋天真美啊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!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请你用一段话把看到的、听到的、想到的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天写 下来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268280"/>
            <a:ext cx="9144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星期一上体育课的时候，我一不小心摔倒了，手擦破了皮流血了。我的好朋友小东看到了，马上就把我扶起来，还带我到卫生室请老师帮我清洗伤口。我很疼，但是想到有这样关心我的好朋友，我就不感到疼了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校园多么美好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!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同学之间、课堂内外一定发生过许多难忘的事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请你选一件写下来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要把事情的经过写清楚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268280"/>
            <a:ext cx="9144000" cy="19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如果班干部改选，我想我会选自己。因为我爱我们的班级。我愿意为我们的班级付出努力。我要像班长一样，帮助老师管理好我们的班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如果班干部改选，我不会选自己。因为我觉得我学习成绩还是不够好，做不了同学们的好榜样。但我以后一定会努力学习，争取进步的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如果班干部改选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你会选自己吗？为什么？请你用一两段话把 你的想法写下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268280"/>
            <a:ext cx="9144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我最喜欢的风景名胜是北京的天安门。天安门在北京城的中央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这是我在课文里面了解到的。将来长大了，我一定要去北京的天安门看一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请你介绍一个风景名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可以是你亲自旅游过的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也可以是你 从电视、课外书中了解到的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请你把他们的特点写出来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268280"/>
            <a:ext cx="9144000" cy="19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有一次，学校要进行卫生评比。所以我们要大扫除。老师给我们分组，有的打扫楼梯，有的打扫教室，有的打扫公共场地，有的打扫绿化带。我们每一个同学都不怕脏，不怕累，流了很多汗，干得很辛苦。最后我们在评比中获得了第一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我们班的同学真棒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你一定与别人合作做成过事情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选一件写下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268280"/>
            <a:ext cx="9144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我知道啄木鸟对人类有益。它能给大树捉虫，治病，保护翠绿的树苗，保护我们美丽的地球。我们要好好保护它们，不能随便捕捉鸟类。看到有人捕捉鸟类，还要进行阻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说说哪些小动物对人类有益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怎么有益。应该怎样爱护他们 请你写下来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268280"/>
            <a:ext cx="9144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楷体_GB2312"/>
              </a:rPr>
              <a:t>看到小动物受伤了，我会很心疼。我会把小动物带回家，好好的照顾它，给它治疗。等它的伤好了，我会把它放回到大自然中，让它自由、快乐地生活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看到小动物受伤了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你在乎吗？你会怎么做呢 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                                             </a:t>
            </a: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一天放学的时</a:t>
            </a:r>
            <a:br>
              <a:rPr sz="3600"/>
            </a:b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                                          候，小红走着走着，</a:t>
            </a:r>
            <a:br>
              <a:rPr sz="3600"/>
            </a:b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                                          一不小心摔倒了。这                                                                 </a:t>
            </a:r>
            <a:br>
              <a:rPr sz="3600"/>
            </a:b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                                          时一个姐姐看见了，</a:t>
            </a:r>
            <a:br>
              <a:rPr sz="3600"/>
            </a:b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                                          把小红扶了起来。小红对姐姐说：“谢谢你！”姐姐说：“不用谢，你没事吧？”小红说：“没事。”小红跟姐姐说再见，然后就高高兴兴地回家了。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6000" y="2147760"/>
            <a:ext cx="93247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                                        </a:t>
            </a: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下课了，操场上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                                真热闹啊！同学们有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                               的在打乒乓球，有的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                                在踢毽子，还有的在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                                跳绳，旁边还有好多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                                同学在为他们当拉拉队，喊加油呢！课间十分钟，同学们玩得真开心！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47760"/>
            <a:ext cx="91440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                                            </a:t>
            </a: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放学了，值日生</a:t>
            </a:r>
            <a:br>
              <a:rPr sz="3600"/>
            </a:b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                                         们在教室里打扫卫生。</a:t>
            </a:r>
            <a:br>
              <a:rPr sz="3600"/>
            </a:b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                                         他们有的擦黑板，有</a:t>
            </a:r>
            <a:br>
              <a:rPr sz="3600"/>
            </a:br>
            <a:r>
              <a:rPr b="0" lang="zh-CN" sz="3600" spc="-1" strike="noStrike">
                <a:solidFill>
                  <a:srgbClr val="e5e5ff"/>
                </a:solidFill>
                <a:latin typeface="Garamond"/>
              </a:rPr>
              <a:t>                                         的擦桌子，还有的扫地。他们干得真认真啊！一会儿就把教室打扫得干干净净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44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放学的时候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突然下起了大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李老师要回家时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到小红没有带伞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就把自己的雨衣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下来，披在小红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身上。小东看到了，对李老师说：“老师，我的家就在您家附近，我们合打一把伞吧。”说着就用自己的雨伞为李老师挡雨。他们三个人高高兴兴地回家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2501640"/>
            <a:ext cx="914400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                                                </a:t>
            </a:r>
            <a:r>
              <a:rPr b="0" lang="zh-CN" sz="3200" spc="-1" strike="noStrike">
                <a:solidFill>
                  <a:srgbClr val="e5e5ff"/>
                </a:solidFill>
                <a:latin typeface="Garamond"/>
              </a:rPr>
              <a:t>星期天，风和</a:t>
            </a:r>
            <a:br>
              <a:rPr sz="3200"/>
            </a:br>
            <a:r>
              <a:rPr b="0" lang="zh-CN" sz="32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日丽，知了在枝头</a:t>
            </a:r>
            <a:br>
              <a:rPr sz="3200"/>
            </a:br>
            <a:r>
              <a:rPr b="0" lang="zh-CN" sz="32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唱着歌。小明觉得</a:t>
            </a:r>
            <a:br>
              <a:rPr sz="3200"/>
            </a:br>
            <a:r>
              <a:rPr b="0" lang="zh-CN" sz="32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这是一个钓鱼的好</a:t>
            </a:r>
            <a:br>
              <a:rPr sz="3200"/>
            </a:br>
            <a:r>
              <a:rPr b="0" lang="zh-CN" sz="32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天气，就到小河边</a:t>
            </a:r>
            <a:br>
              <a:rPr sz="3200"/>
            </a:br>
            <a:r>
              <a:rPr b="0" lang="zh-CN" sz="32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钓鱼了。他来到小</a:t>
            </a:r>
            <a:br>
              <a:rPr sz="3200"/>
            </a:br>
            <a:r>
              <a:rPr b="0" lang="zh-CN" sz="32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河边，看到小河里游来游去的鱼真多啊！他刚放下钓鱼竿，马上就钓着了一条大鱼。小明真开心！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有一天，小红和妈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一起到公园去玩。他们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走进公园，就看到公园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的花开得十分鲜艳。小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迫不及待得跑到大大的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花前面，刚想伸手去摘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就听见妈妈说：“不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摘！不能摘！公园里的花是园林伯伯辛辛苦苦培育出来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给人们观赏的。我们要爱护花草树木！”小红听了妈妈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话，不好意思的放下了小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6028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星期天，小明正一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人在家里写作业。突然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起了大雨。小明往窗外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看，刘奶奶家的衣服还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在外面呢。他心里想：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奶奶行动不方便，肯定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不及收衣服了。小明马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打着一把雨伞，去帮刘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奶收衣服。小明真是一个好孩子啊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7:21:20Z</dcterms:created>
  <dc:creator>微软用户</dc:creator>
  <dc:description/>
  <cp:keywords/>
  <dc:language>en-US</dc:language>
  <cp:lastModifiedBy>微软用户</cp:lastModifiedBy>
  <dcterms:modified xsi:type="dcterms:W3CDTF">2013-01-02T15:33:46Z</dcterms:modified>
  <cp:revision>9</cp:revision>
  <dc:subject/>
  <dc:title>二年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81</vt:lpwstr>
  </property>
</Properties>
</file>