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0EE-693D-4AC4-8E9E-A16B899E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2D2-4A38-41FF-8EB1-4787C2E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974-C17A-479E-8D61-99EADA28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6B5-45B9-41BE-8172-376F63E8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E68-AD4A-4D7E-918C-D164DA7E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E937-0241-467E-A33D-B14BAAA7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04F-9263-4942-A37D-AC5D6595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357-8BD7-4DC7-B90C-69BF161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DCC9-2C8C-4C6E-8490-A1FFCC23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A74-88F9-46A1-8A33-710816D8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B98-B353-4CF9-AEB4-3E3D39C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B93-9926-43E3-BC57-E7105DE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101-2FBD-4210-9655-256E3CB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CDE-1CD6-4B9A-BE1D-C44C118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A9B4-5615-49FD-8C11-E012A51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1EC-E023-4408-9577-32BA6083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21CF-030F-49B1-9E02-DB69C947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4AE4-2541-4603-813E-DD613A3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AF82-1399-489D-B722-ED423E0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4F9E-DDA8-41F0-8A98-F476707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E161-EC58-4471-9E73-DD0A450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E61B-797A-4C36-A7A1-B7FAFEC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1B7-86B3-46AA-90A8-117DFD9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1CF0-74FD-4236-A3F6-3A9D506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FB0F-E4C2-4313-8CCB-7900F0A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2E5E-F8BB-42DF-842C-E46E82E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61BF-6E6A-4E9E-A098-64FE989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A9E0-311E-411B-9BA6-F2A5075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0A10-4201-49F8-A75B-DDE4F146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4A63-BA83-46EE-895F-E3565695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577-392A-4808-B239-82FEFD10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A83-29CC-4A8D-8FF6-57FD3111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10E-8AED-4B73-BB23-75347BDB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592-DF6D-4062-BA79-383473A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CD8-70D1-4B86-8CC6-D34783D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9AF-51C9-4325-8BF5-2E9A25C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2464-8779-43D3-9411-5C9A5784C4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CC1-7425-4BE2-A4EB-DE8BEFA3E074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4636800"/>
            <a:ext cx="6978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D96-A83F-4195-B0D8-78756E2D5C45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pidata.dk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EpiData.lnk" TargetMode="External"/><Relationship Id="rId2" Type="http://schemas.openxmlformats.org/officeDocument/2006/relationships/hyperlink" Target="file:///../../EpiData.lnk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 Black"/>
              </a:rPr>
              <a:t>EpiData</a:t>
            </a:r>
            <a:r>
              <a:rPr b="0" lang="zh-CN" sz="40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  <a:ea typeface="华文新魏"/>
              </a:rPr>
              <a:t>软件使用简介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辽宁省健康教育所</a:t>
            </a:r>
            <a:br>
              <a:rPr sz="2800"/>
            </a:br>
            <a:fld id="{21D0712F-2FF1-4F8E-8A3F-D12EBB7FD02C}" type="datetime2"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026年7月29日 星期三</a:t>
            </a:fld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设置相关文件默认打开程序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162920" cy="5162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600200" y="2666880"/>
            <a:ext cx="4486320" cy="3705480"/>
            <a:chOff x="1600200" y="2666880"/>
            <a:chExt cx="4486320" cy="370548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1600200" y="2666880"/>
              <a:ext cx="4486320" cy="370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4572000" y="2819520"/>
              <a:ext cx="1295280" cy="1154160"/>
              <a:chOff x="4572000" y="2819520"/>
              <a:chExt cx="1295280" cy="1154160"/>
            </a:xfrm>
          </p:grpSpPr>
          <p:sp>
            <p:nvSpPr>
              <p:cNvPr id="183" name=""/>
              <p:cNvSpPr/>
              <p:nvPr/>
            </p:nvSpPr>
            <p:spPr>
              <a:xfrm>
                <a:off x="4572000" y="3581280"/>
                <a:ext cx="1295280" cy="3924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53040" y="2819520"/>
                <a:ext cx="609480" cy="3920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52680" y="5105520"/>
            <a:ext cx="46389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调查表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新建调查表文件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保存调查表文件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调查表文件中的结构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定义变量名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调查表文件中的结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37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05320" y="5257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标签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{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名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}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变量编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定义变量名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名第一个字符一定为字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-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后可含字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-Z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和数字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0-9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变量名最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个字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变量名不能是中文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2743200"/>
            <a:ext cx="5410080" cy="4038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utomatic field nam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大括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{ }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间的内容作为变量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种方式更容易控制变量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4800"/>
                <a:gridCol w="645480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变量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变量编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ID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号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IDNUM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数值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一个或多个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号，可以包含小数点。例如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##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###.##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字符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一个或多个下划线，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个中文＝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个字符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例如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布尔逻辑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Y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日期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yyyy/mm/yy&gt;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mm/dd/yyyy&gt;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或者</a:t>
                      </a: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&lt;dd/mm/yyyy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其它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其它不常用的变量类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变量类型－变量编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962520" cy="3181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3276360" cy="2631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562720" y="3568680"/>
            <a:ext cx="3429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预览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219320"/>
            <a:ext cx="7696080" cy="5545080"/>
            <a:chOff x="762120" y="1219320"/>
            <a:chExt cx="7696080" cy="554508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1219320"/>
              <a:ext cx="7696080" cy="5545080"/>
              <a:chOff x="762120" y="1219320"/>
              <a:chExt cx="7696080" cy="55450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62120" y="1219320"/>
                <a:ext cx="7696080" cy="5545080"/>
                <a:chOff x="762120" y="1219320"/>
                <a:chExt cx="7696080" cy="5545080"/>
              </a:xfrm>
            </p:grpSpPr>
            <p:pic>
              <p:nvPicPr>
                <p:cNvPr id="2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2120" y="1219320"/>
                  <a:ext cx="7696080" cy="55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00200" y="1790640"/>
                  <a:ext cx="150480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2209680"/>
                <a:ext cx="310500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>
              <a:off x="6743880" y="2133720"/>
              <a:ext cx="30456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预览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21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1505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REC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15200" cy="5271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778040" y="1981080"/>
            <a:ext cx="1504800" cy="400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4753080" cy="1648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172200" y="1752480"/>
            <a:ext cx="1828800" cy="914400"/>
          </a:xfrm>
          <a:prstGeom prst="wedgeRectCallout">
            <a:avLst>
              <a:gd name="adj1" fmla="val -45226"/>
              <a:gd name="adj2" fmla="val 149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Q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同名、可不同名，建议同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3581280"/>
            <a:ext cx="2438640" cy="381240"/>
            <a:chOff x="3809880" y="3581280"/>
            <a:chExt cx="2438640" cy="381240"/>
          </a:xfrm>
        </p:grpSpPr>
        <p:sp>
          <p:nvSpPr>
            <p:cNvPr id="217" name=""/>
            <p:cNvSpPr/>
            <p:nvPr/>
          </p:nvSpPr>
          <p:spPr>
            <a:xfrm>
              <a:off x="3809880" y="358128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3962520"/>
              <a:ext cx="2438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核查文件的文件名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*.chk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必须与数据库的文件名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(*.rec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一致，唯一不同的就是扩展名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15000" y="3200400"/>
            <a:ext cx="1981080" cy="914400"/>
            <a:chOff x="5715000" y="3200400"/>
            <a:chExt cx="1981080" cy="914400"/>
          </a:xfrm>
        </p:grpSpPr>
        <p:sp>
          <p:nvSpPr>
            <p:cNvPr id="222" name=""/>
            <p:cNvSpPr/>
            <p:nvPr/>
          </p:nvSpPr>
          <p:spPr>
            <a:xfrm>
              <a:off x="5715000" y="3200400"/>
              <a:ext cx="198108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3600" y="33530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RE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638680" y="1523880"/>
            <a:ext cx="1981440" cy="914400"/>
            <a:chOff x="5638680" y="1523880"/>
            <a:chExt cx="1981440" cy="914400"/>
          </a:xfrm>
        </p:grpSpPr>
        <p:sp>
          <p:nvSpPr>
            <p:cNvPr id="225" name=""/>
            <p:cNvSpPr/>
            <p:nvPr/>
          </p:nvSpPr>
          <p:spPr>
            <a:xfrm>
              <a:off x="5638680" y="1523880"/>
              <a:ext cx="198144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1676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Q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705720" y="2514600"/>
            <a:ext cx="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715000" y="5181480"/>
            <a:ext cx="1981080" cy="914400"/>
            <a:chOff x="5715000" y="5181480"/>
            <a:chExt cx="1981080" cy="914400"/>
          </a:xfrm>
        </p:grpSpPr>
        <p:sp>
          <p:nvSpPr>
            <p:cNvPr id="229" name=""/>
            <p:cNvSpPr/>
            <p:nvPr/>
          </p:nvSpPr>
          <p:spPr>
            <a:xfrm>
              <a:off x="5715000" y="5181480"/>
              <a:ext cx="1981080" cy="914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3600" y="53341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*.CH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705720" y="4267080"/>
            <a:ext cx="0" cy="8384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20400">
            <a:off x="4482360" y="3276360"/>
            <a:ext cx="1066680" cy="266688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介绍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免费的数据录入和数据管理软件，可以从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pidata.dk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下载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162920" cy="516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81160" y="158760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1752480"/>
            <a:ext cx="876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4200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建立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CHK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件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1447920"/>
            <a:ext cx="7010280" cy="5052960"/>
            <a:chOff x="914400" y="1447920"/>
            <a:chExt cx="7010280" cy="505296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7010280" cy="50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486400" y="2233800"/>
              <a:ext cx="2048040" cy="276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录入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218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105520" y="2819520"/>
            <a:ext cx="296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记录间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查找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关闭录入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追加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append)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将两个数据结构完全一样或基本上一样的数据库连起来。两个数据库是端对端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end-to-end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又称串联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99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30320" y="1905120"/>
            <a:ext cx="1847880" cy="1171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4753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181480" cy="4124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00480" cy="2428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1931400">
            <a:off x="6019920" y="3276360"/>
            <a:ext cx="761760" cy="304560"/>
          </a:xfrm>
          <a:custGeom>
            <a:avLst/>
            <a:gdLst>
              <a:gd name="textAreaLeft" fmla="*/ 95040 w 761760"/>
              <a:gd name="textAreaRight" fmla="*/ 666720 w 761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追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677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086600" cy="5108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2647800" cy="2886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29200" y="3200400"/>
            <a:ext cx="38955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216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489040" y="1778040"/>
            <a:ext cx="321948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753080" cy="1647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4419720" y="4191120"/>
            <a:ext cx="2209680" cy="380880"/>
            <a:chOff x="4419720" y="4191120"/>
            <a:chExt cx="2209680" cy="380880"/>
          </a:xfrm>
        </p:grpSpPr>
        <p:sp>
          <p:nvSpPr>
            <p:cNvPr id="266" name=""/>
            <p:cNvSpPr/>
            <p:nvPr/>
          </p:nvSpPr>
          <p:spPr>
            <a:xfrm>
              <a:off x="4419720" y="4191120"/>
              <a:ext cx="2209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572000"/>
              <a:ext cx="2209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双录入比较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57400" y="1623960"/>
            <a:ext cx="499572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要特点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直观方便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简单易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录入、核查功能强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数据转换功能强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5162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1962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791320" cy="4064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5534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86600" cy="5106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13338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库的输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P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2392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4876920" cy="3800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877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76560" y="1562040"/>
            <a:ext cx="4790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791240" cy="373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381120" cy="3514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410080" y="1143000"/>
            <a:ext cx="2514600" cy="914400"/>
          </a:xfrm>
          <a:prstGeom prst="wedgeRoundRectCallout">
            <a:avLst>
              <a:gd name="adj1" fmla="val -86805"/>
              <a:gd name="adj2" fmla="val 15277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这里可以更改安装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724280" y="1752480"/>
            <a:ext cx="2133720" cy="685800"/>
          </a:xfrm>
          <a:prstGeom prst="wedgeRoundRectCallout">
            <a:avLst>
              <a:gd name="adj1" fmla="val -115921"/>
              <a:gd name="adj2" fmla="val 17453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创建桌面图标，方便以后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4800600"/>
            <a:ext cx="2590920" cy="1752480"/>
          </a:xfrm>
          <a:prstGeom prst="wedgeRoundRectCallout">
            <a:avLst>
              <a:gd name="adj1" fmla="val 77143"/>
              <a:gd name="adj2" fmla="val -73643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生成变量的方式，建议选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utomatic field na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6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24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要功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调查表设计：调查表文件（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qes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录入和管理：数据文件（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 rec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据核查（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＊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. chk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EpiData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安装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9007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4495680"/>
            <a:ext cx="4267440" cy="533520"/>
          </a:xfrm>
          <a:prstGeom prst="wedgeRoundRectCallout">
            <a:avLst>
              <a:gd name="adj1" fmla="val -57773"/>
              <a:gd name="adj2" fmla="val 114287"/>
              <a:gd name="adj3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不再显示此提示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谢谢大家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本幻灯片参考了北医公卫学院吕筠老师的讲义。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数据录入和管理流程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2819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调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q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819520"/>
            <a:ext cx="251460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核查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ch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8195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改数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.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105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录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105520"/>
            <a:ext cx="25909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导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105520"/>
            <a:ext cx="25905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录入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8098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809880"/>
            <a:ext cx="1828800" cy="38124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9625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600520" y="5371920"/>
            <a:ext cx="381240" cy="1828800"/>
          </a:xfrm>
          <a:custGeom>
            <a:avLst/>
            <a:gdLst>
              <a:gd name="textAreaLeft" fmla="*/ 51120 w 381240"/>
              <a:gd name="textAreaRight" fmla="*/ 330120 w 3812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57320" y="5371920"/>
            <a:ext cx="381240" cy="1828800"/>
          </a:xfrm>
          <a:custGeom>
            <a:avLst/>
            <a:gdLst>
              <a:gd name="textAreaLeft" fmla="*/ 51120 w 381240"/>
              <a:gd name="textAreaRight" fmla="*/ 330120 w 3812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876920"/>
            <a:ext cx="533160" cy="53316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49528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4382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38280"/>
            <a:ext cx="533160" cy="53352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438280"/>
            <a:ext cx="533520" cy="53352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952880"/>
            <a:ext cx="533160" cy="533520"/>
          </a:xfrm>
          <a:custGeom>
            <a:avLst/>
            <a:gdLst>
              <a:gd name="textAreaLeft" fmla="*/ 121680 w 533160"/>
              <a:gd name="textAreaRight" fmla="*/ 411480 w 53316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程序使用前基本设置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﻿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程序菜单语言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解决编辑器中调查表文件乱码的问题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生成变量名”选项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设置相关文件默认打开程序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程序菜单语言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3962520" y="2514600"/>
            <a:ext cx="4486320" cy="3705120"/>
            <a:chOff x="3962520" y="2514600"/>
            <a:chExt cx="4486320" cy="370512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962520" y="2514600"/>
              <a:ext cx="448632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934320" y="2743200"/>
              <a:ext cx="609480" cy="2286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8480" y="4648320"/>
              <a:ext cx="2971800" cy="68580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解决编辑器中调查表文件乱码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210280" y="3560760"/>
            <a:ext cx="3705120" cy="27637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066680" y="2819520"/>
            <a:ext cx="3886200" cy="3124080"/>
            <a:chOff x="1066680" y="2819520"/>
            <a:chExt cx="3886200" cy="312408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1066680" y="281952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02640" y="4168440"/>
              <a:ext cx="79308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2947680"/>
              <a:ext cx="79200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生成变量名”选项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162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90720" y="1971720"/>
            <a:ext cx="27622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514600" y="2743200"/>
            <a:ext cx="4486320" cy="3705120"/>
            <a:chOff x="2514600" y="2743200"/>
            <a:chExt cx="4486320" cy="370512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514600" y="2743200"/>
              <a:ext cx="448632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666880" y="3886200"/>
              <a:ext cx="2057400" cy="392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8-04-24T00:19:4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