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png" ContentType="image/pn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061-5235-4733-B217-2CDA96BA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BA5-54DD-4E8F-A165-574D9D91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012-89C3-48BC-80EA-3301ACAF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07C-7966-49DF-A7A4-827C8351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DF5-C0FE-4BFB-94C3-6157ED91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44C-9AB4-4B63-B151-88D8E391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489-2F56-4D17-9204-BB3FF27E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C27-187D-4E03-B083-F8BD605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F4F-36E7-49FF-81E1-D3C528BD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BEF-3551-4154-A23B-9CDEE29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341-2BF4-4B35-B5EE-EA9918A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C2E-5AAA-49ED-A42A-9163780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5A41-7C15-42FA-9820-75E04DA927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34136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总写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外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4191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细写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内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3429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先写楼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43434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次写长桥复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52578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后写宫中歌舞盛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1840" y="1981080"/>
            <a:ext cx="850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一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341360"/>
            <a:ext cx="48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（巨大耗资、宏伟规模、楼阁之高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219320"/>
            <a:ext cx="381240" cy="3352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7339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9600" y="32004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建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9600" y="5257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657600"/>
            <a:ext cx="228600" cy="1600200"/>
          </a:xfrm>
          <a:custGeom>
            <a:avLst/>
            <a:gdLst>
              <a:gd name="textAreaLeft" fmla="*/ 0 w 228600"/>
              <a:gd name="textAreaRight" fmla="*/ 1605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45720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5373720"/>
            <a:ext cx="316872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宏伟壮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08200" y="698400"/>
            <a:ext cx="80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⑥族秦者，秦也，非天下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⑦楚人一炬，可怜焦土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⑧朝歌夜弦，为秦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0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⑨燕赵之收藏，韩魏之经营，齐楚之精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8520" y="112536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族”活用为动词，灭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9800" y="220500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炬”用作动词，焚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65160" y="3500280"/>
            <a:ext cx="10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歌、弦”用作动词，唱歌、弹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朝、夜”作状语，在早上、在晚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0640" y="5157720"/>
            <a:ext cx="49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动词“收藏”、“经营”用作名词，都是指金玉珍宝等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93640" y="746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514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5008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0640"/>
            <a:ext cx="8820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①廊腰缦回，檐牙高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②辇来于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③骊山北构而西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④蜂房水涡，矗不知其几千万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⑤后人哀之而不鉴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⑥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六王毕，四海一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052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腰、缦” 名词。现做状语：像腰带、缦带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98920" y="191628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辇”古代一种人拉的车，名词。作状语，用辇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02440" y="2781360"/>
            <a:ext cx="53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名词“北、西”作状语，分别表示动作行为“构”“折”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：向北，向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25960" y="4005360"/>
            <a:ext cx="51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蜂房”“水涡”作状语，表示动作行为“矗”的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态：像蜂房，像水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9560" y="5300640"/>
            <a:ext cx="43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哀，为动用法，为……哀。鉴，意动用法：以……为鉴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6760" y="61657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：数词做动词，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06920" y="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一词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27320" y="787320"/>
            <a:ext cx="167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六王毕，四海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五步一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六国各爱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秦爱纷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廊腰缦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缦立远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族秦者秦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谁得而族灭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5181480"/>
            <a:ext cx="8016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508720" y="836640"/>
            <a:ext cx="3324240" cy="518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582480" cy="609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582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30920" y="1268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统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0920" y="1628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一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720" y="24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爱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72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喜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0240" y="37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像缦带一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5080" y="414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01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灭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360" y="54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家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14080" y="40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古汉语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9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　灭六国者，六国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81080" y="422100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　多于市人之言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52880" y="1413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１、判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31440" y="2565360"/>
            <a:ext cx="533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“……也”表判断。句意是：灭掉六国的人，其实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六国自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38720" y="3716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２、状语后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69040" y="49417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（介词结构后置句。句意是：比集市上众人的话语还要多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5040" y="330120"/>
            <a:ext cx="877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7680" y="1854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20400" y="909720"/>
            <a:ext cx="23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宾语前置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057400"/>
            <a:ext cx="839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3480" y="15620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700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秦人不暇自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256536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④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被动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3284640"/>
            <a:ext cx="77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函谷举　（函谷关被攻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34400" y="1700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自哀：哀自，哀叹自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辨析下列多义词的词义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六王毕，四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。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楚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炬，可怜焦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黄鹤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去不复返。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而或长烟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空，皓月千里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上食埃土，下饮黄泉，用心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98900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708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77880" y="3213000"/>
            <a:ext cx="12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一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06240" y="38606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全，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67320" y="4522680"/>
            <a:ext cx="8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专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纷奢，人亦念其家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使秦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六国之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珍器重宝肥饶之地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晋陶渊明独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78600" y="184464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喜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3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爱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8240" y="2997360"/>
            <a:ext cx="13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吝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8240" y="3573360"/>
            <a:ext cx="13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奈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之尽锱铢，用之如泥沙。  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青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之于蓝，而青于蓝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今入关，财物无所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。             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留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丹心照汉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216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夺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10600" y="256536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提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4240" y="3213000"/>
            <a:ext cx="6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94600" y="3716280"/>
            <a:ext cx="15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着（助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75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75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75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75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秦者秦也，非天下也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是士大夫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曰诗曰弟子云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山东豪俊，遂并起而亡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2240" y="227664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灭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6520" y="292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26240" y="350028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家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00000" y="40464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虚词“焉”和“而”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8098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1828800"/>
            <a:ext cx="852480" cy="4572000"/>
          </a:xfrm>
          <a:custGeom>
            <a:avLst/>
            <a:gdLst>
              <a:gd name="textAreaLeft" fmla="*/ 544680 w 852480"/>
              <a:gd name="textAreaRight" fmla="*/ 852840 w 852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1773360"/>
            <a:ext cx="3657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盘盘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囷囷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蜂房水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师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不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土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亡郑以陪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土成山，风雨兴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1844640"/>
            <a:ext cx="37800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形容词尾，“……的样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兼词，“于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疑问代词，“哪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反问语气，“何必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兼词，“从哪里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7885080" y="4941720"/>
            <a:ext cx="1258920" cy="191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句：照应“六王毕，四海一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、三句：写宫人梳妆打扮，着力表现其明艳动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五句：写宫人的凄惨生活，揭示秦始皇生活的骄奢淫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692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众多宫妃的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78136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宫中荒淫奢靡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907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42100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12000" y="549360"/>
            <a:ext cx="762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宫中生活之奢侈腐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838080"/>
            <a:ext cx="533520" cy="4343400"/>
          </a:xfrm>
          <a:custGeom>
            <a:avLst/>
            <a:gdLst>
              <a:gd name="textAreaLeft" fmla="*/ 0 w 533520"/>
              <a:gd name="textAreaRight" fmla="*/ 192600 w 5335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013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小结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写阿房宫里的美人，揭露秦朝统治者     奢靡的生活，为下文的议论做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二段内容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335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1371600"/>
            <a:ext cx="152640" cy="45720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1295280"/>
            <a:ext cx="32004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骊山北构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敢怒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敢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得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族灭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授之书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其句读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习之，不亦说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1295280"/>
            <a:ext cx="3124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顺接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转接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连接状语与中心词的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并列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递进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545400" y="1628640"/>
            <a:ext cx="1399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三段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907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珍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260280"/>
            <a:ext cx="304560" cy="198144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16160" y="692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163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处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六国 （剽掠其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9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倚叠如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22724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鼎铛玉石，                             金块珠砾，                弃掷逦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341360"/>
            <a:ext cx="360360" cy="453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8080 h 4535640"/>
              <a:gd name="textAreaBottom" fmla="*/ 4417560 h 453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43"/>
                </a:lnTo>
                <a:cubicBezTo>
                  <a:pt x="10800" y="9343"/>
                  <a:pt x="5400" y="10243"/>
                  <a:pt x="0" y="10243"/>
                </a:cubicBezTo>
                <a:cubicBezTo>
                  <a:pt x="5400" y="10243"/>
                  <a:pt x="10800" y="11143"/>
                  <a:pt x="10800" y="120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89000"/>
            <a:ext cx="2664000" cy="76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808080"/>
                </a:solidFill>
                <a:latin typeface="Tahoma"/>
                <a:ea typeface="华文彩云"/>
              </a:rPr>
              <a:t>穷奢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彩云"/>
              </a:rPr>
              <a:t>极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270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贪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414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挥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5300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灭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744640"/>
            <a:ext cx="21337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一人之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秦爱纷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2744640"/>
            <a:ext cx="2590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千万人之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人亦念其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4014720"/>
            <a:ext cx="446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多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六个排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6160" y="53704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叫、举、一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3003480"/>
            <a:ext cx="1944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常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221000"/>
            <a:ext cx="201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积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5445000"/>
            <a:ext cx="201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爆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6093000"/>
            <a:ext cx="763272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彩云"/>
              </a:rPr>
              <a:t>三、写秦始皇因为骄奢淫逸而自取灭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765000"/>
            <a:ext cx="380880" cy="486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62160" y="2057400"/>
            <a:ext cx="152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523880"/>
            <a:ext cx="533160" cy="243864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10666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总结六国和秦灭亡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581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讽谏唐王朝勿悲剧重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410080"/>
            <a:ext cx="3470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华文彩云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华文彩云"/>
              </a:rPr>
              <a:t>卒章显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06064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爱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43657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哀之，鉴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62320" y="3505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50532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34290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505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4419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441972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想象、比喻与夸张相结合，具有很强的艺术感染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描写、铺排与议论抒情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骈散结合，错落有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219320"/>
            <a:ext cx="9144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以铜为鉴，可以正衣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以史为鉴，可以知兴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以人为鉴，可以知得失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765840" y="3573360"/>
            <a:ext cx="549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835280" y="2205000"/>
            <a:ext cx="5976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9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彩云"/>
              </a:rPr>
              <a:t>课后练习题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92360" y="54936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掌握下列古今异义的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3413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直走咸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各抱地势，钩心斗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2997360"/>
            <a:ext cx="333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1628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几千万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燕、赵之收藏，韩、魏之经营，齐、楚之精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楚人一炬，可怜焦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773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走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趋向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今常用义为：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0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钩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建筑物向中心攒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斗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屋檐如角相对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今常用来比喻用尽心计，明争暗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3880" y="414972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座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今常用义为：下降、衰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72320" y="501336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收藏、经营、精英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古义都指金玉珠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87700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可怜：古义是“可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gfgrgd</cp:lastModifiedBy>
  <dcterms:modified xsi:type="dcterms:W3CDTF">2014-11-05T12:54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