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15.gif" ContentType="image/gif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58D1-76B6-4875-82FC-F03F320350E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81C7-ED95-4005-86A7-F39112CFD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1609-D12B-4A5F-889E-DA16768A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8FCE-6247-47BA-92B1-2F5D80F85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EFBB-E271-4240-96E5-39C957DB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A54B-F78F-416A-BB09-1F9BB0746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20DC-BDE8-4606-902C-44C80780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0FD4-6695-4B0A-8DB0-BA0B297E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EAC9-98D2-45B1-A0E0-D7847EF4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C85C-C181-4FBF-A58A-643D4A2E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3770-DF10-4E8B-8613-52FE9BB4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C07A-72D9-42A5-BF3C-CDE25B49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9266-DAC1-4045-A894-5806FC22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65A0-27D2-47FD-9AEF-B023F1BA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5F08-4B41-41E4-A74D-705BC9B5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75EE-F953-4E74-8610-CF3FF561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72AB-BE2D-44A6-935A-672F30E7D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EC8B-2225-4457-B63B-5E516BA84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D9C3A-3C52-456D-9E6C-47AC840FB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F7C5F-8534-4D04-BF2D-597457DD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18D0D-0C3D-4024-AF6F-48391A54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20FFE-F6A7-4578-9976-A834A330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A6710-725D-49D9-9896-4391587F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FCD7-9283-414F-A75A-F5C23960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D846F-9B0F-40C2-91EF-EE76BDB8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87F67-DAEF-429E-B97C-3C645438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A5280-CB33-4653-9C8D-5B21A821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1B632-3DB1-4123-A4EC-8DE2E7C4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0E308-654E-41C2-A62D-7C21B8BB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ED0DC-2C14-463F-A376-7C9006C9D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F722A-B5FF-41C6-B8B1-E32140005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D2F1-FEFB-4140-9770-0D49170C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1A70-AED2-46A2-866C-C332ABE1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E406-8A67-4664-B5AF-07147329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8C2B-0EDD-4A07-8963-A84AD229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8E87-44AA-4EA3-AEA6-7F850458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01E3-C18B-4460-A79B-1016F342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211A-7EF7-4584-BB29-21C5248BA9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8A73-45B4-48D6-8594-CDC6C83742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e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580D-B956-4B2C-A59D-EBDC44C66F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39640" y="1052640"/>
            <a:ext cx="806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ff"/>
                </a:solidFill>
                <a:latin typeface="Times New Roman"/>
                <a:ea typeface="华文行楷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这几首诗歌的作者是晚唐时期的诗人杜牧。从这几首诗歌中我们约略可以知道：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杜牧善于将个人对国家和民族命运的关切熔铸于诗情画意之中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黑体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他的诗歌作品与晚唐气象紧密结合，同样也体现了诗歌的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现实主义传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260280"/>
            <a:ext cx="478800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杜牧，字牧之，有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樊川文集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他不但是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晚唐时期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的杰出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诗人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，也是那个时期著名的“文赋”和古文大家。诗歌方面，人称为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“小杜”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，与李商隐并称为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“小李杜”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。古文方面，多为针砭时事的作品。在赋这种文体由骈骊趋向散文化的进程中作出了卓越的贡献，在“唐宋古文运动”中自觉的用古文的写作方法作赋，形成了区别于“汉赋”、“骈赋”和 “律赋”的独特文体“文赋”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阿房宫赋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历来被人们视为“文赋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的开先河之作，典范之作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09480" y="762120"/>
            <a:ext cx="80010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华文细黑"/>
              </a:rPr>
              <a:t>　　　　　　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　</a:t>
            </a: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华文细黑"/>
              </a:rPr>
              <a:t>赋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赋者，铺也。古文体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铺采摛（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chī,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舒展）文，体物写志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85840" y="3429000"/>
            <a:ext cx="1887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艺术表现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注重铺陈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讲究声韵之美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使用华丽词藻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着上绚丽色彩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9120" y="3481560"/>
            <a:ext cx="1400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内容重在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摹写事物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抒发情感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表达思想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90920" y="2666880"/>
            <a:ext cx="0" cy="762120"/>
          </a:xfrm>
          <a:prstGeom prst="line">
            <a:avLst/>
          </a:prstGeom>
          <a:ln w="7632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81680" y="2666880"/>
            <a:ext cx="0" cy="762120"/>
          </a:xfrm>
          <a:prstGeom prst="line">
            <a:avLst/>
          </a:prstGeom>
          <a:ln w="7632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5837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                        </a:t>
            </a:r>
            <a:r>
              <a:rPr b="1" lang="zh-CN" sz="4400" spc="-1" strike="noStrike">
                <a:solidFill>
                  <a:srgbClr val="3366ff"/>
                </a:solidFill>
                <a:latin typeface="黑体"/>
                <a:ea typeface="黑体"/>
              </a:rPr>
              <a:t>写作背景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5837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阿房宫赋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作于唐敬宗宝历元年。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3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岁的杜牧在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上知己文章启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中说：“宝历大起宫室，广声色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…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故作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阿房宫赋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。”唐敬宗李湛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岁继位，好声色，兴土木，游宴无度，不视朝政，在位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年为宦官刘克明所杀。作者借此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表面铺写阿房宫的兴、毁，实则用秦骄奢致亡的故事，规劝本朝当政者，以古为鉴，明兴亡大道。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表达出一个封建时代正直文人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黑体"/>
              </a:rPr>
              <a:t>忧国忧民、匡世济民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的情怀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8600" y="1125360"/>
            <a:ext cx="891540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缦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回 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囷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囷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不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霁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何虹             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辇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来于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妃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嫔媵嫱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         焚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椒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兰     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辘辘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杳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不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尽态极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妍               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摽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掠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鼎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铛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逦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迤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锱铢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             架梁之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椽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在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庾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之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粟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粒              横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槛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   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呕哑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参差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骊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山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                    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0920" y="333360"/>
            <a:ext cx="3886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楷体_GB2312"/>
              </a:rPr>
              <a:t>生字词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04720" y="112536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màn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88000" y="1052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qūn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053080" y="162864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jì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07280" y="2133720"/>
            <a:ext cx="318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Pín  yìng  qiáng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16720" y="20606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jiāo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61080" y="2637000"/>
            <a:ext cx="5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lù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16720" y="2565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yǎo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00720" y="30686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piāo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79640" y="3068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yán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8920" y="35733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chēng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7640" y="3645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7a77"/>
                </a:solidFill>
                <a:uFillTx/>
                <a:latin typeface="Arial"/>
              </a:rPr>
              <a:t>l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ǐ yǐ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16000" y="4076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Zī zhū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77080" y="41497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chuán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88960" y="450864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yǔ  sù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56360" y="4581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jiàn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508464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Ōu  y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508464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Cēn  cī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56360" y="5589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huán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03280" y="558972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lí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77080" y="1557360"/>
            <a:ext cx="22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niǎn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-360" y="549000"/>
            <a:ext cx="29876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　   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六王</a:t>
            </a:r>
            <a:r>
              <a:rPr b="1" lang="zh-CN" sz="3200" spc="-1" strike="noStrike">
                <a:solidFill>
                  <a:srgbClr val="dc5900"/>
                </a:solidFill>
                <a:latin typeface="华文中宋"/>
                <a:ea typeface="华文中宋"/>
              </a:rPr>
              <a:t>毕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，四海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一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；蜀山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兀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，阿房出。覆压三百余里，隔离天日。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骊山北构而西折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，直</a:t>
            </a:r>
            <a:r>
              <a:rPr b="1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走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咸阳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564000" y="520560"/>
            <a:ext cx="5111640" cy="60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007a77"/>
                </a:solidFill>
                <a:latin typeface="华文中宋"/>
                <a:ea typeface="华文中宋"/>
              </a:rPr>
              <a:t>六国</a:t>
            </a:r>
            <a:r>
              <a:rPr b="1" lang="zh-CN" sz="3600" spc="-1" strike="noStrike">
                <a:solidFill>
                  <a:srgbClr val="dc5900"/>
                </a:solidFill>
                <a:latin typeface="华文中宋"/>
                <a:ea typeface="华文中宋"/>
              </a:rPr>
              <a:t>覆灭</a:t>
            </a:r>
            <a:r>
              <a:rPr b="1" lang="zh-CN" sz="3600" spc="-1" strike="noStrike">
                <a:solidFill>
                  <a:srgbClr val="007a77"/>
                </a:solidFill>
                <a:latin typeface="华文中宋"/>
                <a:ea typeface="华文中宋"/>
              </a:rPr>
              <a:t>了，天下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统一了</a:t>
            </a:r>
            <a:r>
              <a:rPr b="1" lang="zh-CN" sz="3600" spc="-1" strike="noStrike">
                <a:solidFill>
                  <a:srgbClr val="007a77"/>
                </a:solidFill>
                <a:latin typeface="华文中宋"/>
                <a:ea typeface="华文中宋"/>
              </a:rPr>
              <a:t>；蜀地山林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被砍伐一空</a:t>
            </a:r>
            <a:r>
              <a:rPr b="1" lang="zh-CN" sz="3600" spc="-1" strike="noStrike">
                <a:solidFill>
                  <a:srgbClr val="007a77"/>
                </a:solidFill>
                <a:latin typeface="华文中宋"/>
                <a:ea typeface="华文中宋"/>
              </a:rPr>
              <a:t>，阿房宫建成了。它覆盖了三百多里地，高楼重阁遮天蔽日。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（阿房宫）从骊山的北面建起，然后折向西</a:t>
            </a:r>
            <a:r>
              <a:rPr b="1" lang="zh-CN" sz="3600" spc="-1" strike="noStrike">
                <a:solidFill>
                  <a:srgbClr val="ff0066"/>
                </a:solidFill>
                <a:latin typeface="华文中宋"/>
                <a:ea typeface="华文中宋"/>
              </a:rPr>
              <a:t>，</a:t>
            </a:r>
            <a:r>
              <a:rPr b="1" lang="zh-CN" sz="3600" spc="-1" strike="noStrike">
                <a:solidFill>
                  <a:srgbClr val="007a77"/>
                </a:solidFill>
                <a:latin typeface="华文中宋"/>
                <a:ea typeface="华文中宋"/>
              </a:rPr>
              <a:t>直通到到咸阳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Line 4"/>
          <p:cNvSpPr/>
          <p:nvPr/>
        </p:nvSpPr>
        <p:spPr>
          <a:xfrm>
            <a:off x="3348000" y="1268280"/>
            <a:ext cx="0" cy="446436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340000" y="0"/>
            <a:ext cx="400032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课文译文（</a:t>
            </a:r>
            <a:r>
              <a:rPr b="0" lang="en-US" sz="4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1</a:t>
            </a:r>
            <a:r>
              <a:rPr b="0" lang="zh-CN" sz="4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）</a:t>
            </a:r>
            <a:endParaRPr b="0" lang="en-US" sz="4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3348000" cy="6165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二川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溶溶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，流入宫墙。五步一楼，十步一阁。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廊腰缦回</a:t>
            </a:r>
            <a:r>
              <a:rPr b="1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檐牙高啄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。各抱地势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钩心斗角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。盘盘焉，囷囷焉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蜂房水涡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，矗不知乎几千万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落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3059280" y="189000"/>
            <a:ext cx="6084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渭水和樊川两道河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缓缓流淌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，流进了宫墙。五步一座高楼，十步一座亭阁。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腰带似的长廊像绸带迂回曲折</a:t>
            </a:r>
            <a:r>
              <a:rPr b="1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屋檐高高翘起像鸟嘴向空中飞啄</a:t>
            </a:r>
            <a:r>
              <a:rPr b="1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。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这些楼台亭阁，各自随着地势不同而建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中宋"/>
                <a:ea typeface="华文中宋"/>
              </a:rPr>
              <a:t>宫殿群参差分布，彼此圆环掩抱，飞檐交错连接</a:t>
            </a:r>
            <a:r>
              <a:rPr b="1" lang="zh-CN" sz="3200" spc="-1" strike="noStrike" u="sng">
                <a:solidFill>
                  <a:srgbClr val="003300"/>
                </a:solidFill>
                <a:uFillTx/>
                <a:latin typeface="华文中宋"/>
                <a:ea typeface="华文中宋"/>
              </a:rPr>
              <a:t>。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盘旋着，曲折着，</a:t>
            </a:r>
            <a:r>
              <a:rPr b="1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像蜂房那样密集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，</a:t>
            </a:r>
            <a:r>
              <a:rPr b="1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像水涡那样套连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，巍峨矗立，不知道有几千万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座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Line 4"/>
          <p:cNvSpPr/>
          <p:nvPr/>
        </p:nvSpPr>
        <p:spPr>
          <a:xfrm>
            <a:off x="3276720" y="189000"/>
            <a:ext cx="0" cy="648000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55640" y="188640"/>
            <a:ext cx="3352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研讨第一段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6104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c5900"/>
                </a:solidFill>
                <a:latin typeface="Arial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隶书"/>
              </a:rPr>
              <a:t>六王毕，四海一，蜀山兀，阿房出。覆压三百余里，隔离天日。骊山北构而西折，直走咸阳。二川溶溶，流入宫墙。五步一楼，十步一阁；廊腰缦回，檐牙高啄；各抱地势，钩心斗角。盘盘焉，囷囷焉，蜂房水涡，矗不知乎几千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隶书"/>
              </a:rPr>
              <a:t>万落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62040" y="15238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81000" y="15238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867280" y="5278320"/>
            <a:ext cx="865440" cy="468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7093080" y="5300640"/>
            <a:ext cx="792000" cy="4348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248520" y="1752480"/>
            <a:ext cx="0" cy="35053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391520" y="1676520"/>
            <a:ext cx="0" cy="350496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443640" y="5877000"/>
            <a:ext cx="1932120" cy="6141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877080" y="5589720"/>
            <a:ext cx="142920" cy="360360"/>
          </a:xfrm>
          <a:prstGeom prst="downArrow">
            <a:avLst>
              <a:gd name="adj1" fmla="val 50000"/>
              <a:gd name="adj2" fmla="val 6303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067280" y="97956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95640" y="2565360"/>
            <a:ext cx="30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427640" y="2565360"/>
            <a:ext cx="769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71560" y="30700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093080" y="306864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318840" y="36450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84720" y="1125360"/>
            <a:ext cx="0" cy="4724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7372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数词→动词 统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45080" y="3286080"/>
            <a:ext cx="381240" cy="3049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948000" y="3286080"/>
            <a:ext cx="381240" cy="3049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13440" y="3645000"/>
            <a:ext cx="2600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名词→状语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像蜂房 像水涡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2360" y="3429000"/>
            <a:ext cx="0" cy="137160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16000" y="4797360"/>
            <a:ext cx="519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落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：座。今多指下降，衰败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1905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~~~~~~~~~~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08000" y="28526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~~~~~~~~~~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23880" y="2209680"/>
            <a:ext cx="0" cy="16765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38098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走：趋向  今多指行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79640" y="3213000"/>
            <a:ext cx="0" cy="251460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5877000"/>
            <a:ext cx="7451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今常用来比喻各自用尽心机，互相排挤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250920" y="1484280"/>
          <a:ext cx="8713800" cy="4873680"/>
        </p:xfrm>
        <a:graphic>
          <a:graphicData uri="http://schemas.openxmlformats.org/drawingml/2006/table">
            <a:tbl>
              <a:tblPr/>
              <a:tblGrid>
                <a:gridCol w="2960640"/>
                <a:gridCol w="5753160"/>
              </a:tblGrid>
              <a:tr h="48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楷体_GB2312"/>
                          <a:ea typeface="楷体_GB2312"/>
                        </a:rPr>
                        <a:t>长桥卧波，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未云何龙？</a:t>
                      </a: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楷体_GB2312"/>
                          <a:ea typeface="楷体_GB2312"/>
                        </a:rPr>
                        <a:t>复道行空，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不霁何虹？</a:t>
                      </a: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楷体_GB2312"/>
                          <a:ea typeface="楷体_GB2312"/>
                        </a:rPr>
                        <a:t>高低冥迷，不知西东。歌台暖响，春光融融；舞殿冷袖，风雨凄凄。一日之内，一宫之间，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而</a:t>
                      </a: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楷体_GB2312"/>
                          <a:ea typeface="楷体_GB2312"/>
                        </a:rPr>
                        <a:t>气候不齐。 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长桥横卧在水面上，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没有云彩，怎会出现蛟龙？</a:t>
                      </a: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复道凌于空中，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不是雨过天晴，怎么会出现彩虹？</a:t>
                      </a: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（楼阁）高低错落，令人迷蒙，分不清南北西东。台上歌声温润，洋溢着春天般的欢乐；殿中舞袖飘拂，充满着风雨交加般的凄冷。在一天之内，在同一座宫殿之中，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却</a:t>
                      </a: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（让人感到） </a:t>
                      </a: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气氛</a:t>
                      </a: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如此不同。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 txBox="1"/>
          <p:nvPr/>
        </p:nvSpPr>
        <p:spPr>
          <a:xfrm>
            <a:off x="2556000" y="333360"/>
            <a:ext cx="400032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课文译文（</a:t>
            </a:r>
            <a:r>
              <a:rPr b="0" lang="en-US" sz="4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1</a:t>
            </a:r>
            <a:r>
              <a:rPr b="0" lang="zh-CN" sz="4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）</a:t>
            </a:r>
            <a:endParaRPr b="0" lang="en-US" sz="4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80520" y="7621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5900"/>
                </a:solidFill>
                <a:latin typeface="Arial"/>
                <a:ea typeface="隶书"/>
              </a:rPr>
              <a:t>           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隶书"/>
              </a:rPr>
              <a:t>长桥卧波，未云何龙？复道行空，不霁何虹？高低冥迷，不知东西。歌台暖响，春光融融；舞殿冷袖，风雨凄凄。一日之内，一宫之间，而气候不齐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2339640" y="-360"/>
            <a:ext cx="441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研讨第一段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758480" y="11253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22120" y="11253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37760" y="17733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716360" y="1341360"/>
            <a:ext cx="216000" cy="259236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57840" y="1268280"/>
            <a:ext cx="109440" cy="27370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84360" y="1989000"/>
            <a:ext cx="4608720" cy="223200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378936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黑体"/>
                <a:ea typeface="黑体"/>
              </a:rPr>
              <a:t>名词→动词 出现云彩  出现龙  出现彩虹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805760" y="23493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79640" y="2637000"/>
            <a:ext cx="0" cy="19429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5280" y="450864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响”动词→名词 歌声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419720" y="762120"/>
            <a:ext cx="454968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                 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第一学时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学习要点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】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了解作者及背景，整体感知课文，疏通第一自然段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619280" y="134136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总写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外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447920" y="41911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细写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内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部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34290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黑体"/>
              </a:rPr>
              <a:t>先写楼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43434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黑体"/>
              </a:rPr>
              <a:t>次写长桥复道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038480" y="525780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黑体"/>
              </a:rPr>
              <a:t>后写宫中歌舞盛况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31840" y="1981080"/>
            <a:ext cx="8506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ahoma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黑体"/>
              </a:rPr>
              <a:t>第一段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35280" y="1341360"/>
            <a:ext cx="480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黑体"/>
              </a:rPr>
              <a:t>（巨大耗资、宏伟规模、楼阁之高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066680" y="1219320"/>
            <a:ext cx="381240" cy="3352680"/>
          </a:xfrm>
          <a:custGeom>
            <a:avLst/>
            <a:gdLst>
              <a:gd name="textAreaLeft" fmla="*/ 243720 w 381240"/>
              <a:gd name="textAreaRight" fmla="*/ 381600 w 38124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3733920"/>
            <a:ext cx="228600" cy="1752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229600" y="320040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建筑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229600" y="525780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人物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391520" y="3657600"/>
            <a:ext cx="228600" cy="1600200"/>
          </a:xfrm>
          <a:custGeom>
            <a:avLst/>
            <a:gdLst>
              <a:gd name="textAreaLeft" fmla="*/ 0 w 228600"/>
              <a:gd name="textAreaRight" fmla="*/ 160560 w 22860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534520" y="45720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9280" y="5373720"/>
            <a:ext cx="3168720" cy="916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ahoma"/>
                <a:ea typeface="华文彩云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Tahoma"/>
                <a:ea typeface="华文彩云"/>
              </a:rPr>
              <a:t>宏伟壮丽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468360" y="260280"/>
            <a:ext cx="2663640" cy="642600"/>
          </a:xfrm>
          <a:prstGeom prst="rect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试背第一段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0920" y="1484280"/>
            <a:ext cx="8675640" cy="5809320"/>
          </a:xfrm>
          <a:prstGeom prst="rect">
            <a:avLst/>
          </a:prstGeom>
          <a:noFill/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7979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六王毕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，      ，  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，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。覆压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， 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。骊山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， 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。二川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， 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。五步一楼， 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； 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， 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7979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；各抱地势，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。盘盘焉， 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，蜂房水涡，  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。  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， 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？ 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7979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，不霁何虹？ 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， 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。歌台暖响， 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；舞殿冷袖， 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。一日之内，</a:t>
            </a:r>
            <a:r>
              <a:rPr b="0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， </a:t>
            </a:r>
            <a:r>
              <a:rPr b="0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419720" y="762120"/>
            <a:ext cx="454968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                 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第二学时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学习要点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】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疏通课文第二、三自然段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3348000" cy="6381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      </a:t>
            </a:r>
            <a:r>
              <a:rPr b="1" lang="zh-CN" sz="3200" spc="-1" strike="noStrike" u="sng">
                <a:solidFill>
                  <a:srgbClr val="dc5900"/>
                </a:solidFill>
                <a:uFillTx/>
                <a:latin typeface="华文中宋"/>
                <a:ea typeface="华文中宋"/>
              </a:rPr>
              <a:t>妃嫔媵嫱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，王子皇孙，辞楼下殿，</a:t>
            </a:r>
            <a:r>
              <a:rPr b="1" lang="zh-CN" sz="3200" spc="-1" strike="noStrike" u="sng">
                <a:solidFill>
                  <a:srgbClr val="dc5900"/>
                </a:solidFill>
                <a:uFillTx/>
                <a:latin typeface="华文中宋"/>
                <a:ea typeface="华文中宋"/>
              </a:rPr>
              <a:t>辇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来</a:t>
            </a:r>
            <a:r>
              <a:rPr b="1" lang="zh-CN" sz="3200" spc="-1" strike="noStrike" u="sng">
                <a:solidFill>
                  <a:srgbClr val="dc5900"/>
                </a:solidFill>
                <a:uFillTx/>
                <a:latin typeface="华文中宋"/>
                <a:ea typeface="华文中宋"/>
              </a:rPr>
              <a:t>于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秦，朝歌夜弦，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为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秦宫人。明星荧荧，开妆镜也；绿云扰扰，</a:t>
            </a:r>
            <a:r>
              <a:rPr b="1" lang="zh-CN" sz="3200" spc="-1" strike="noStrike" u="sng">
                <a:solidFill>
                  <a:srgbClr val="dc5900"/>
                </a:solidFill>
                <a:uFillTx/>
                <a:latin typeface="华文中宋"/>
                <a:ea typeface="华文中宋"/>
              </a:rPr>
              <a:t>梳晓鬟也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；渭流涨腻，弃脂水也；烟斜雾横，焚椒兰也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3348000" y="0"/>
            <a:ext cx="5796000" cy="73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六国的</a:t>
            </a:r>
            <a:r>
              <a:rPr b="1" lang="zh-CN" sz="3200" spc="-1" strike="noStrike" u="sng">
                <a:solidFill>
                  <a:srgbClr val="dc5900"/>
                </a:solidFill>
                <a:uFillTx/>
                <a:latin typeface="华文中宋"/>
                <a:ea typeface="华文中宋"/>
              </a:rPr>
              <a:t>妃嫔宫女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、诸侯王族的女儿孙女，辞别了故国的宫殿阁楼，</a:t>
            </a:r>
            <a:r>
              <a:rPr b="1" lang="zh-CN" sz="3200" spc="-1" strike="noStrike" u="sng">
                <a:solidFill>
                  <a:srgbClr val="dc5900"/>
                </a:solidFill>
                <a:uFillTx/>
                <a:latin typeface="华文中宋"/>
                <a:ea typeface="华文中宋"/>
              </a:rPr>
              <a:t>乘坐辇车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来</a:t>
            </a:r>
            <a:r>
              <a:rPr b="1" lang="zh-CN" sz="3200" spc="-1" strike="noStrike" u="sng">
                <a:solidFill>
                  <a:srgbClr val="dc5900"/>
                </a:solidFill>
                <a:uFillTx/>
                <a:latin typeface="华文中宋"/>
                <a:ea typeface="华文中宋"/>
              </a:rPr>
              <a:t>到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秦国，她们早上唱歌，晚上弹琴，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成为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秦皇的宫人。每天清晨，只见明亮的星光晶莹闪烁，原来是她们打开了梳妆的明镜；又见墨绿的云彩纷纷扰扰，</a:t>
            </a:r>
            <a:r>
              <a:rPr b="1" lang="zh-CN" sz="3200" spc="-1" strike="noStrike" u="sng">
                <a:solidFill>
                  <a:srgbClr val="dc5900"/>
                </a:solidFill>
                <a:uFillTx/>
                <a:latin typeface="华文中宋"/>
                <a:ea typeface="华文中宋"/>
              </a:rPr>
              <a:t>原来是她们一早在梳理发鬓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；渭水涨起一层油腻，那是她们洗脸后泼下的脂粉水呀；轻烟缭绕，香雾弥漫，那是她们焚烧异香的椒兰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Line 4"/>
          <p:cNvSpPr/>
          <p:nvPr/>
        </p:nvSpPr>
        <p:spPr>
          <a:xfrm>
            <a:off x="3564000" y="0"/>
            <a:ext cx="0" cy="685800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3635280" cy="685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　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雷霆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乍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惊，宫车过也；辘辘远听，杳不知其所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之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也。一肌一容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尽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态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极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妍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缦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立远视，而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望幸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焉。有不见者，三十六年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3564000" y="189000"/>
            <a:ext cx="540072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雷霆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忽然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震响，原来是宫车从这里驰过；辘辘的车轮声渐听渐远，杳然无声，不知它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到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向何方。宫女们每一处肌肤，每一种姿态，都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极力显示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自己的妩媚娇妍，她们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久久地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伫立着，眺望着远处，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希望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皇帝能光临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宠幸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。可怜有的人三十六年始终未曾见过皇帝的身影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3" name="Line 4"/>
          <p:cNvSpPr/>
          <p:nvPr/>
        </p:nvSpPr>
        <p:spPr>
          <a:xfrm>
            <a:off x="3780000" y="620640"/>
            <a:ext cx="0" cy="561672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441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研讨第二段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妃嫔媵嫱，王子皇孙，辞楼下殿，辇来于秦。朝歌夜弦，为秦宫人。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明星荧荧，开妆镜也；绿云扰扰，梳晓鬟也；渭流涨腻，弃脂水也；烟斜雾横，焚椒兰也。雷霆乍惊，宫车过也</a:t>
            </a:r>
            <a:r>
              <a:rPr b="1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；辘辘远听，杳不知其所之也。一肌一容，尽态极妍，缦立远视，而望幸焉；有不得见者三十六年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062120" y="11970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26480" y="162864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6588000" y="691920"/>
            <a:ext cx="609840" cy="6094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29200" y="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5805360"/>
            <a:ext cx="1066680" cy="4446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755640" y="1773360"/>
            <a:ext cx="71280" cy="40384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981080" y="60199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258920" y="5661000"/>
            <a:ext cx="1047600" cy="5540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0" y="6165720"/>
            <a:ext cx="2514600" cy="4194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374120" y="162864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547640" y="1844640"/>
            <a:ext cx="0" cy="37450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013080" y="189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名词作状语，用辇车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82840" y="981000"/>
            <a:ext cx="55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·</a:t>
            </a:r>
            <a:endParaRPr b="0" lang="en-US" sz="8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2626920" y="1773360"/>
            <a:ext cx="71640" cy="237636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341080" y="4076640"/>
            <a:ext cx="6073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成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118840" y="162864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5148360" y="1844640"/>
            <a:ext cx="71280" cy="237636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861800" y="4076640"/>
            <a:ext cx="12474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明亮的样子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086840" y="35020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734480" y="29973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95200" y="30700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45760" y="29973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835280" y="3213000"/>
            <a:ext cx="71280" cy="180036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869080" y="3357720"/>
            <a:ext cx="71280" cy="1871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32720" y="3213000"/>
            <a:ext cx="144360" cy="2376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219640" y="3357720"/>
            <a:ext cx="0" cy="18730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187280" y="3357720"/>
            <a:ext cx="432000" cy="237636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197440" y="4726080"/>
            <a:ext cx="10342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动词，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764720" y="5302080"/>
            <a:ext cx="6073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宠幸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06520" y="5229360"/>
            <a:ext cx="6073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姿态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941440" y="5302080"/>
            <a:ext cx="6073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美丽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342840" y="29973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774840" y="29973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472520" y="5661000"/>
            <a:ext cx="3438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延伫、久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7885080" y="4941720"/>
            <a:ext cx="1258920" cy="19162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49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黑体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第一句：照应“六王毕，四海一”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黑体"/>
                <a:ea typeface="黑体"/>
              </a:rPr>
              <a:t>2  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第二、三句：写宫人梳妆打扮，着力表现其明艳动人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黑体"/>
                <a:ea typeface="黑体"/>
              </a:rPr>
              <a:t>3  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第四五句：写宫人的凄惨生活，揭示秦始皇生活的骄奢淫逸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292720" y="692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  <a:ea typeface="黑体"/>
              </a:rPr>
              <a:t>众多宫妃的由来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932360" y="2781360"/>
            <a:ext cx="28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  <a:ea typeface="黑体"/>
              </a:rPr>
              <a:t>宫中荒淫奢靡的生活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859280" y="907920"/>
            <a:ext cx="38088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43280" y="242100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812000" y="549360"/>
            <a:ext cx="7621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宫中生活之奢侈腐朽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238880" y="838080"/>
            <a:ext cx="533520" cy="4343400"/>
          </a:xfrm>
          <a:custGeom>
            <a:avLst/>
            <a:gdLst>
              <a:gd name="textAreaLeft" fmla="*/ 0 w 533520"/>
              <a:gd name="textAreaRight" fmla="*/ 192600 w 53352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0920" y="501336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小结：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写阿房宫里的美人，揭露秦朝统治者     奢靡的生活，为下文的议论做准备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771640" y="0"/>
            <a:ext cx="333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第二段内容分析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179280" y="1341360"/>
          <a:ext cx="8785080" cy="4822920"/>
        </p:xfrm>
        <a:graphic>
          <a:graphicData uri="http://schemas.openxmlformats.org/drawingml/2006/table">
            <a:tbl>
              <a:tblPr/>
              <a:tblGrid>
                <a:gridCol w="2814480"/>
                <a:gridCol w="5970600"/>
              </a:tblGrid>
              <a:tr h="482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楷体_GB2312"/>
                          <a:ea typeface="楷体_GB2312"/>
                        </a:rPr>
                        <a:t>燕赵之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收藏</a:t>
                      </a: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楷体_GB2312"/>
                          <a:ea typeface="楷体_GB2312"/>
                        </a:rPr>
                        <a:t>，韩魏之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经营</a:t>
                      </a: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楷体_GB2312"/>
                          <a:ea typeface="楷体_GB2312"/>
                        </a:rPr>
                        <a:t>，齐楚之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精英</a:t>
                      </a: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楷体_GB2312"/>
                          <a:ea typeface="楷体_GB2312"/>
                        </a:rPr>
                        <a:t>，几世几年，剽掠其人，倚叠如山；一旦不能有，输来其间，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鼎铛玉石，金块珠砾</a:t>
                      </a: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楷体_GB2312"/>
                          <a:ea typeface="楷体_GB2312"/>
                        </a:rPr>
                        <a:t>，弃掷逦迤，秦人视之，亦不甚惜。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"/>
          <p:cNvSpPr txBox="1"/>
          <p:nvPr/>
        </p:nvSpPr>
        <p:spPr>
          <a:xfrm>
            <a:off x="2627280" y="549360"/>
            <a:ext cx="400068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课文译文（</a:t>
            </a:r>
            <a:r>
              <a:rPr b="0" lang="en-US" sz="4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3</a:t>
            </a:r>
            <a:r>
              <a:rPr b="0" lang="zh-CN" sz="4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）</a:t>
            </a:r>
            <a:endParaRPr b="0" lang="en-US" sz="4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302" name=""/>
          <p:cNvSpPr/>
          <p:nvPr/>
        </p:nvSpPr>
        <p:spPr>
          <a:xfrm>
            <a:off x="3203640" y="1413000"/>
            <a:ext cx="51832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燕国赵国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收藏的珠玉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韩国魏国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聚敛的金银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齐国楚国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金银财宝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多少代，多少年，从百姓那里劫掠而来，堆积如山；一旦（国家灭亡）不能再占有，统统运进了阿房宫中，于是，（秦人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把宝鼎视为铁锅，把美玉看作石头，把黄金视同土块，把珍珠看成石子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随地丢弃，秦人看着这些宝物并不怎么爱惜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8459640" y="0"/>
            <a:ext cx="684360" cy="422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研讨第  三段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燕赵之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收藏</a:t>
            </a:r>
            <a:r>
              <a:rPr b="1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，韩魏之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经营</a:t>
            </a:r>
            <a:r>
              <a:rPr b="1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，齐楚之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精英</a:t>
            </a:r>
            <a:r>
              <a:rPr b="1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，几世几年，摽掠其人，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倚叠</a:t>
            </a:r>
            <a:r>
              <a:rPr b="1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如山；一旦不能有，输来其间，鼎铛玉石，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金块珠砾</a:t>
            </a:r>
            <a:r>
              <a:rPr b="1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，弃掷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逦迤</a:t>
            </a:r>
            <a:r>
              <a:rPr b="1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，秦人视之，亦不甚惜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50920" y="242100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ff33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08680" y="24210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7760" y="24210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ff33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16000" y="1916280"/>
            <a:ext cx="3096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09480" y="525456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981080" y="525456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55640" y="2781360"/>
            <a:ext cx="1008000" cy="1512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835280" y="4076640"/>
            <a:ext cx="69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都是名词用着动词，当作铁锅；当做石头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95280" y="2637000"/>
            <a:ext cx="431640" cy="194436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826920" y="2637000"/>
            <a:ext cx="216000" cy="194436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450864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都是名词用着状语，把宝鼎，把美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870160" y="1484280"/>
            <a:ext cx="4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▲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695240" y="1484280"/>
            <a:ext cx="4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▲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508720" y="1773360"/>
            <a:ext cx="576000" cy="19429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979640" y="1773360"/>
            <a:ext cx="2016000" cy="136836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3068640"/>
            <a:ext cx="94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古今异义词、动词作名词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指收藏的金银珠宝，经营的金银珠宝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782880" y="1484280"/>
            <a:ext cx="4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▲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95640" y="1773360"/>
            <a:ext cx="3097440" cy="1439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771640" y="350028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古今异义词</a:t>
            </a:r>
            <a:r>
              <a:rPr b="1" lang="zh-CN" sz="2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，金银财宝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95720" y="5445000"/>
            <a:ext cx="1643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由写人的被欺辱转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而写物被践踏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56000" y="5734080"/>
            <a:ext cx="4572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059280" y="566100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华文行楷"/>
              </a:rPr>
              <a:t>聚敛珍宝肆意挥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158120" y="24210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332000" y="2781360"/>
            <a:ext cx="431640" cy="1441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503600" y="2421000"/>
            <a:ext cx="4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▲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30160" y="1917720"/>
            <a:ext cx="4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▲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844720" y="909360"/>
            <a:ext cx="0" cy="115236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040920" y="423720"/>
            <a:ext cx="6073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积累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 flipV="1">
            <a:off x="4643280" y="764640"/>
            <a:ext cx="216000" cy="1511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065280" y="404640"/>
            <a:ext cx="3438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连接着、到处都是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3310200" cy="1143000"/>
          </a:xfrm>
          <a:prstGeom prst="rect">
            <a:avLst/>
          </a:prstGeom>
          <a:solidFill>
            <a:srgbClr val="ff6600"/>
          </a:solidFill>
          <a:ln w="76320">
            <a:solidFill>
              <a:srgbClr val="00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方正水柱繁体"/>
              </a:rPr>
              <a:t>试背第二段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4492800"/>
          </a:xfrm>
          <a:prstGeom prst="rect">
            <a:avLst/>
          </a:prstGeom>
          <a:solidFill>
            <a:srgbClr val="ffffff">
              <a:alpha val="77000"/>
            </a:srgbClr>
          </a:solidFill>
          <a:ln w="76320">
            <a:solidFill>
              <a:srgbClr val="c0c0c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妃嫔嫱，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。 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i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明星荧， 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； 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 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；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；烟斜雾横， 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。 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宫车过也； 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 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。一肌一容， 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 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      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而望幸焉；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 　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燕赵之收藏，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　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　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几世几年，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　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。一旦不能有，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。鼎铛玉石，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　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　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秦人视之，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2280" y="212760"/>
            <a:ext cx="8915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根据历史记载，阿房宫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东西宽三里，南北长五里，可容纳十五万人居住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。里面道路纵横交错，宫殿屋宇林立。其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前殿东西长五百步，南北宽五十丈，高达十数丈，可以容纳万人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。而这，只是阿房宫的主体建筑。以此为中心与咸阳相连接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周围三百里内星罗棋布修建了二百七十余座离宫别馆祠堂庙宇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。各个建筑之间有宽阔平整的道路或阁道相连接，直通到终南山下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</a:rPr>
              <a:t>。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 　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3629160" cy="604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　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嗟乎！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一人之心，千万人之心也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。秦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爱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纷奢，人亦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念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其家。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奈何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华文中宋"/>
                <a:ea typeface="华文中宋"/>
              </a:rPr>
              <a:t>取之尽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锱铢，用之如泥沙？使负栋之柱，多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于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南亩之农夫；架梁之椽，多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中宋"/>
                <a:ea typeface="华文中宋"/>
              </a:rPr>
              <a:t>于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机上之工女；钉头磷磷，多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于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在庾之粟粒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3780000" y="189000"/>
            <a:ext cx="56512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唉！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一个人的心思，就是千万人的心思啊</a:t>
            </a:r>
            <a:r>
              <a:rPr b="1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。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秦始皇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喜欢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繁华奢侈，老百姓也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顾念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着自己的家。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为什么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华文中宋"/>
                <a:ea typeface="华文中宋"/>
              </a:rPr>
              <a:t>搜刮财宝时连一丝一毫都不放过，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挥霍起来却把它当作泥沙一样呢？那支撑屋梁的柱子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比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田里的农夫还要多；架在屋梁上的椽子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比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织布机上的织女还要多；闪闪发光的钉子，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比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谷仓里的谷粒还多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Line 4"/>
          <p:cNvSpPr/>
          <p:nvPr/>
        </p:nvSpPr>
        <p:spPr>
          <a:xfrm>
            <a:off x="3635280" y="765000"/>
            <a:ext cx="0" cy="532944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157320" y="1052280"/>
            <a:ext cx="3335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3564000" y="189000"/>
            <a:ext cx="54356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参差不齐的瓦缝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比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人们身上穿的丝缕还要多；满宫横横竖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竖的栏杆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比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全国的城墙还要多；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华文中宋"/>
                <a:ea typeface="华文中宋"/>
              </a:rPr>
              <a:t>管弦乐声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比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闹市里的人声还要喧闹。这就使天下的人民不敢说，却敢在心里充满愤怒，秦始皇这暴君的心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一天天地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骄奢顽固。于是戍边的士卒怒吼起来，函谷关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被攻破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，楚国人一把大火，可惜</a:t>
            </a:r>
            <a:r>
              <a:rPr b="1" lang="en-US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(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华文中宋"/>
                <a:ea typeface="华文中宋"/>
              </a:rPr>
              <a:t>那豪华宫殿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华文中宋"/>
                <a:ea typeface="华文中宋"/>
              </a:rPr>
              <a:t>)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变成了焦土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！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3924360" y="981000"/>
            <a:ext cx="0" cy="504036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0" y="260280"/>
            <a:ext cx="3708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瓦缝参差，多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于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周身之帛缕；直栏横槛，多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于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九土之城郭；管弦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呕哑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，多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于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市人之言语。使天下之人，不敢言而敢怒，独夫之心，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日益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骄固。戍卒叫，函谷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举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，楚人一炬，可怜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焦土</a:t>
            </a:r>
            <a:r>
              <a:rPr b="1" lang="zh-CN" sz="3200" spc="-1" strike="noStrike">
                <a:solidFill>
                  <a:srgbClr val="007a77"/>
                </a:solidFill>
                <a:latin typeface="华文中宋"/>
                <a:ea typeface="华文中宋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2895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研讨第三段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002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c5900"/>
                </a:solidFill>
                <a:latin typeface="Arial"/>
                <a:ea typeface="隶书"/>
              </a:rPr>
              <a:t>               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隶书"/>
              </a:rPr>
              <a:t>嗟乎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一人之心，千万人之心也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隶书"/>
              </a:rPr>
              <a:t>。秦爱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隶书"/>
              </a:rPr>
              <a:t>纷奢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隶书"/>
              </a:rPr>
              <a:t>，人亦念其家。奈何取之尽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隶书"/>
              </a:rPr>
              <a:t>锱铢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隶书"/>
              </a:rPr>
              <a:t>，用之如泥沙？使负栋之柱，多于南亩之农夫；架梁之椽，多于机上之工女；钉头磷磷，多于在庚之粟粒；瓦缝参差，多于周身之帛缕；直栏横槛，多于九土之城郭；管弦呕哑，多于市人之言语。使天下之人，不敢言而敢怒。独夫之心，日益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隶书"/>
              </a:rPr>
              <a:t>固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隶书"/>
              </a:rPr>
              <a:t>。戍卒叫，函谷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隶书"/>
              </a:rPr>
              <a:t>举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隶书"/>
              </a:rPr>
              <a:t>，楚人一炬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隶书"/>
              </a:rPr>
              <a:t>可怜焦土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隶书"/>
              </a:rPr>
              <a:t>！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cxnSp>
        <p:nvCxnSpPr>
          <p:cNvPr id="346" name=""/>
          <p:cNvCxnSpPr>
            <a:stCxn id="345" idx="1"/>
            <a:endCxn id="345" idx="1"/>
          </p:cNvCxnSpPr>
          <p:nvPr/>
        </p:nvCxnSpPr>
        <p:spPr>
          <a:xfrm>
            <a:off x="456840" y="2971440"/>
            <a:ext cx="1080" cy="1080"/>
          </a:xfrm>
          <a:prstGeom prst="straightConnector1">
            <a:avLst/>
          </a:prstGeom>
          <a:ln w="9360">
            <a:solidFill>
              <a:srgbClr val="007a77"/>
            </a:solidFill>
            <a:miter/>
          </a:ln>
        </p:spPr>
      </p:cxnSp>
      <p:sp>
        <p:nvSpPr>
          <p:cNvPr id="347" name=""/>
          <p:cNvSpPr/>
          <p:nvPr/>
        </p:nvSpPr>
        <p:spPr>
          <a:xfrm>
            <a:off x="762120" y="144792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~~~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580000" y="27082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~~~~~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148360" y="407664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~~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372360" y="2421000"/>
            <a:ext cx="91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jiàn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219320" y="1828800"/>
            <a:ext cx="0" cy="342900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75360" y="5257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繁华奢侈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4932360" y="4581360"/>
            <a:ext cx="503280" cy="100836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333240" y="5445000"/>
            <a:ext cx="164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古今异义词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可惜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6227640" y="836640"/>
            <a:ext cx="73080" cy="720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868720" y="260280"/>
            <a:ext cx="14608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形容极其细微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524720" y="4005360"/>
            <a:ext cx="289080" cy="288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741800" y="4365720"/>
            <a:ext cx="6073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顽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844720" y="4292640"/>
            <a:ext cx="0" cy="36180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484720" y="4653000"/>
            <a:ext cx="10342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拔，攻占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050920" y="4724280"/>
            <a:ext cx="0" cy="43200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23680" y="5013360"/>
            <a:ext cx="14608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名词作动词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变成焦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229440" y="4581360"/>
            <a:ext cx="288720" cy="2890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2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611280" y="1125360"/>
            <a:ext cx="151272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a77"/>
                </a:solidFill>
                <a:latin typeface="Times New Roman"/>
                <a:ea typeface="华文行楷"/>
              </a:rPr>
              <a:t>使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484360" y="620640"/>
            <a:ext cx="6228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负栋之柱，多于南亩之农夫；架梁之椽，多于机上之工女；钉头磷磷，多于在庾之粟粒；瓦缝参差，多于周身之帛缕；直栏横槛，多于九土之城郭；管弦呕哑，多于市人之言语。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 rot="5400000">
            <a:off x="3216240" y="3848040"/>
            <a:ext cx="4572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秦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  <p:sp>
        <p:nvSpPr>
          <p:cNvPr id="367" name=""/>
          <p:cNvSpPr txBox="1"/>
          <p:nvPr/>
        </p:nvSpPr>
        <p:spPr>
          <a:xfrm rot="5400000">
            <a:off x="7380360" y="400536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人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  <p:sp>
        <p:nvSpPr>
          <p:cNvPr id="368" name=""/>
          <p:cNvSpPr txBox="1"/>
          <p:nvPr/>
        </p:nvSpPr>
        <p:spPr>
          <a:xfrm rot="5400000">
            <a:off x="3155400" y="4917960"/>
            <a:ext cx="457200" cy="93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乐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69" name=""/>
          <p:cNvSpPr txBox="1"/>
          <p:nvPr/>
        </p:nvSpPr>
        <p:spPr>
          <a:xfrm rot="5400000">
            <a:off x="7392960" y="4929120"/>
            <a:ext cx="4572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苦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70" name=""/>
          <p:cNvSpPr/>
          <p:nvPr/>
        </p:nvSpPr>
        <p:spPr>
          <a:xfrm>
            <a:off x="3924360" y="4508640"/>
            <a:ext cx="3168720" cy="642600"/>
          </a:xfrm>
          <a:prstGeom prst="rect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剥削与被剥削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01040" y="3141720"/>
            <a:ext cx="1826280" cy="143964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排比对比夸张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332000" y="2349360"/>
            <a:ext cx="649080" cy="3313080"/>
          </a:xfrm>
          <a:prstGeom prst="line">
            <a:avLst/>
          </a:prstGeom>
          <a:ln w="381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79280" y="5667480"/>
            <a:ext cx="8675640" cy="1191240"/>
          </a:xfrm>
          <a:prstGeom prst="rect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     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摆出了秦统治者把自己的奢侈享乐建立在人民痛苦生活之上的罪证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0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3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1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9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5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-545400" y="1628640"/>
            <a:ext cx="13993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第三段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332000" y="9079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珍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43280" y="260280"/>
            <a:ext cx="304560" cy="1981440"/>
          </a:xfrm>
          <a:custGeom>
            <a:avLst/>
            <a:gdLst>
              <a:gd name="textAreaLeft" fmla="*/ 194760 w 304560"/>
              <a:gd name="textAreaRight" fmla="*/ 304920 w 30456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116160" y="692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数量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132000" y="1635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处置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495680" y="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六国 （剽掠其人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003640" y="692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黑体"/>
              </a:rPr>
              <a:t>倚叠如山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0" y="1227240"/>
            <a:ext cx="3581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鼎铛玉石，                             金块珠砾，                弃掷逦迤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971640" y="1341360"/>
            <a:ext cx="360360" cy="453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118080 h 4535640"/>
              <a:gd name="textAreaBottom" fmla="*/ 4417560 h 453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443"/>
                </a:lnTo>
                <a:cubicBezTo>
                  <a:pt x="10800" y="9343"/>
                  <a:pt x="5400" y="10243"/>
                  <a:pt x="0" y="10243"/>
                </a:cubicBezTo>
                <a:cubicBezTo>
                  <a:pt x="5400" y="10243"/>
                  <a:pt x="10800" y="11143"/>
                  <a:pt x="10800" y="1204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79280" y="189000"/>
            <a:ext cx="2664000" cy="764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华文彩云"/>
              </a:rPr>
              <a:t> </a:t>
            </a:r>
            <a:r>
              <a:rPr b="1" lang="zh-CN" sz="4400" spc="-1" strike="noStrike">
                <a:solidFill>
                  <a:srgbClr val="c0c0c0"/>
                </a:solidFill>
                <a:latin typeface="Tahoma"/>
                <a:ea typeface="华文彩云"/>
              </a:rPr>
              <a:t>穷奢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华文彩云"/>
              </a:rPr>
              <a:t>极欲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332000" y="27082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贪欲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332000" y="41497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挥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32000" y="530064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灭亡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484360" y="2744640"/>
            <a:ext cx="213372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ahoma"/>
                <a:ea typeface="黑体"/>
              </a:rPr>
              <a:t>一人之心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黑体"/>
              </a:rPr>
              <a:t>秦爱纷奢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716360" y="2744640"/>
            <a:ext cx="259092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ahoma"/>
                <a:ea typeface="黑体"/>
              </a:rPr>
              <a:t>千万人之心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黑体"/>
              </a:rPr>
              <a:t>人亦念其家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195640" y="4014720"/>
            <a:ext cx="446400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使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多于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……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六个排比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486160" y="537048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ahoma"/>
                <a:ea typeface="黑体"/>
              </a:rPr>
              <a:t>叫、举、一炬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020000" y="3003480"/>
            <a:ext cx="194472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常情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020000" y="4221000"/>
            <a:ext cx="201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积怨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020000" y="5445000"/>
            <a:ext cx="201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爆发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55640" y="6093000"/>
            <a:ext cx="7632720" cy="581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彩云"/>
              </a:rPr>
              <a:t>三、写秦始皇因为骄奢淫逸而自取灭亡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427640" y="765000"/>
            <a:ext cx="380880" cy="486000"/>
          </a:xfrm>
          <a:prstGeom prst="leftRightArrow">
            <a:avLst>
              <a:gd name="adj1" fmla="val 50000"/>
              <a:gd name="adj2" fmla="val 20000"/>
            </a:avLst>
          </a:prstGeom>
          <a:solidFill>
            <a:srgbClr val="3366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32000" y="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来源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8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5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9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6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3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4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1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5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6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3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0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7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4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1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8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8827920" cy="74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414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．下列四组实词含义相同的一组是（　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1414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．一　　　　　　　　　</a:t>
            </a:r>
            <a:r>
              <a:rPr b="1" lang="en-US" sz="2800" spc="-1" strike="noStrike">
                <a:solidFill>
                  <a:srgbClr val="001414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．爱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六王毕，四海一　　　   秦爱纷奢，人亦念其家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一旦不能有，输来其间   不爱珍器重宝肥饶之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1414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．取　　　　　　　　　</a:t>
            </a:r>
            <a:r>
              <a:rPr b="1" lang="en-US" sz="2800" spc="-1" strike="noStrike">
                <a:solidFill>
                  <a:srgbClr val="001414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．族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奈何取之尽锱铢　　　山东豪俊</a:t>
            </a: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.....</a:t>
            </a: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亡秦族矣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胡取禾三百囷兮       族秦者秦也，非天下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918440" y="4913280"/>
            <a:ext cx="17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．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都是夺取，获取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49" dur="indefinite" restart="never" nodeType="tmRoot">
          <p:childTnLst>
            <p:seq>
              <p:cTn id="1350" dur="indefinite" nodeType="mainSeq">
                <p:childTnLst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8540640" cy="64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414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．下列四组虚词含义和用法相同的一组是（　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414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．焉　　　　　　　　　　</a:t>
            </a:r>
            <a:r>
              <a:rPr b="1" lang="en-US" sz="2800" spc="-1" strike="noStrike">
                <a:solidFill>
                  <a:srgbClr val="001414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．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盘盘焉，囷囷焉　　　　骊山北构而西折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缦立远视，而望幸焉　　谁得而族灭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414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．夫　　　　　　　　　　</a:t>
            </a:r>
            <a:r>
              <a:rPr b="1" lang="en-US" sz="2800" spc="-1" strike="noStrike">
                <a:solidFill>
                  <a:srgbClr val="001414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．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独夫之心日益骄固　　　多于九土之城郭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嗟夫，使六国各爱其人　青取之于蓝而青于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414"/>
                </a:solidFill>
                <a:latin typeface="宋体"/>
              </a:rPr>
              <a:t>　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140360" y="465300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介词，比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56" dur="indefinite" restart="never" nodeType="tmRoot">
          <p:childTnLst>
            <p:seq>
              <p:cTn id="1357" dur="indefinite" nodeType="mainSeq">
                <p:childTnLst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3310200" cy="1143000"/>
          </a:xfrm>
          <a:prstGeom prst="rect">
            <a:avLst/>
          </a:prstGeom>
          <a:solidFill>
            <a:srgbClr val="ff6600"/>
          </a:solidFill>
          <a:ln w="76320">
            <a:solidFill>
              <a:srgbClr val="00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方正水柱繁体"/>
              </a:rPr>
              <a:t>试背第三段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421160"/>
          </a:xfrm>
          <a:prstGeom prst="rect">
            <a:avLst/>
          </a:prstGeom>
          <a:solidFill>
            <a:srgbClr val="ffffff">
              <a:alpha val="77000"/>
            </a:srgbClr>
          </a:solidFill>
          <a:ln w="76320">
            <a:solidFill>
              <a:srgbClr val="c0c0c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　　</a:t>
            </a:r>
            <a:r>
              <a:rPr b="1" lang="zh-CN" sz="2800" spc="-1" strike="noStrike">
                <a:solidFill>
                  <a:srgbClr val="3366ff"/>
                </a:solidFill>
                <a:latin typeface="隶书"/>
                <a:ea typeface="隶书"/>
              </a:rPr>
              <a:t>　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隶书"/>
              </a:rPr>
              <a:t>嗟乎！一人之心，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隶书"/>
              </a:rPr>
              <a:t>_________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隶书"/>
              </a:rPr>
              <a:t>。秦爱纷奢，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隶书"/>
              </a:rPr>
              <a:t>________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隶书"/>
              </a:rPr>
              <a:t>。奈何取之尽锱铢，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隶书"/>
              </a:rPr>
              <a:t>________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隶书"/>
              </a:rPr>
              <a:t>？使负栋之柱，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隶书"/>
              </a:rPr>
              <a:t>________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隶书"/>
              </a:rPr>
              <a:t>；架梁之椽，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隶书"/>
              </a:rPr>
              <a:t>__________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隶书"/>
              </a:rPr>
              <a:t>；钉头磷磷，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隶书"/>
              </a:rPr>
              <a:t>____________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隶书"/>
              </a:rPr>
              <a:t>；瓦缝参差，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隶书"/>
              </a:rPr>
              <a:t>__________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隶书"/>
              </a:rPr>
              <a:t>；直栏横槛，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隶书"/>
              </a:rPr>
              <a:t>____________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隶书"/>
              </a:rPr>
              <a:t>；管弦呕哑，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隶书"/>
              </a:rPr>
              <a:t>__________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隶书"/>
              </a:rPr>
              <a:t>。使天下之人，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隶书"/>
              </a:rPr>
              <a:t>__________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隶书"/>
              </a:rPr>
              <a:t>。独夫之心，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隶书"/>
              </a:rPr>
              <a:t>_________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隶书"/>
              </a:rPr>
              <a:t>。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隶书"/>
              </a:rPr>
              <a:t>_____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隶书"/>
              </a:rPr>
              <a:t>，函谷举，楚人一炬，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隶书"/>
              </a:rPr>
              <a:t>_______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隶书"/>
              </a:rPr>
              <a:t>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作业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翻译第四段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名师面对面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P76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第一二大题（各个词语意思要标在旁边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4594320" y="549360"/>
            <a:ext cx="4549680" cy="70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                 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第三学时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学习要点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】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疏通课文第四自然段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总结文言知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借古讽今的写作目的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4360" y="170028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当时有运石工人编的歌唱道</a:t>
            </a: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: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千男呼哟万男喊， 巨石大如山。 渭水河啊甘泉口， 石落水断流。”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8827920" cy="74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1414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01414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．下列加粗词的注音全都正确的一组是（　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414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．蜀山兀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ù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）  辘辘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ù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）远听     鼎铛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āng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）玉石　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414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．囷囷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qūn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）焉  尽态极妍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án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） 架梁之椽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uán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）　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414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．阿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ē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）房宫   剽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iāo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）掠其人    金块珠砾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ì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）　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414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．尽锱铢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zhīzhū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）妃嫔媵嫱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ìngqiáng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）逦迤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ǐyǐ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）　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276080" y="5705640"/>
            <a:ext cx="39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“铛”“椽”“锱”读音错。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854064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14"/>
                </a:solidFill>
                <a:latin typeface="宋体"/>
              </a:rPr>
              <a:t>　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414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1414"/>
                </a:solidFill>
                <a:latin typeface="宋体"/>
              </a:rPr>
              <a:t>．下列加粗词语古义与今义相同的一组是（　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14"/>
                </a:solidFill>
                <a:latin typeface="宋体"/>
              </a:rPr>
              <a:t>   ①</a:t>
            </a:r>
            <a:r>
              <a:rPr b="1" lang="zh-CN" sz="3200" spc="-1" strike="noStrike">
                <a:solidFill>
                  <a:srgbClr val="001414"/>
                </a:solidFill>
                <a:latin typeface="宋体"/>
              </a:rPr>
              <a:t>各抱地势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钩心斗角</a:t>
            </a:r>
            <a:r>
              <a:rPr b="1" lang="zh-CN" sz="3200" spc="-1" strike="noStrike">
                <a:solidFill>
                  <a:srgbClr val="001414"/>
                </a:solidFill>
                <a:latin typeface="宋体"/>
              </a:rPr>
              <a:t>　②一日之内，一宫之间，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气候</a:t>
            </a:r>
            <a:r>
              <a:rPr b="1" lang="zh-CN" sz="3200" spc="-1" strike="noStrike">
                <a:solidFill>
                  <a:srgbClr val="001414"/>
                </a:solidFill>
                <a:latin typeface="宋体"/>
              </a:rPr>
              <a:t>不齐                   ③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一旦</a:t>
            </a:r>
            <a:r>
              <a:rPr b="1" lang="zh-CN" sz="3200" spc="-1" strike="noStrike">
                <a:solidFill>
                  <a:srgbClr val="001414"/>
                </a:solidFill>
                <a:latin typeface="宋体"/>
              </a:rPr>
              <a:t>不能有，输来其间　　  ④燕赵之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收藏</a:t>
            </a:r>
            <a:r>
              <a:rPr b="1" lang="zh-CN" sz="3200" spc="-1" strike="noStrike">
                <a:solidFill>
                  <a:srgbClr val="001414"/>
                </a:solidFill>
                <a:latin typeface="宋体"/>
              </a:rPr>
              <a:t>，韩魏之经营   ⑤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独夫</a:t>
            </a:r>
            <a:r>
              <a:rPr b="1" lang="zh-CN" sz="3200" spc="-1" strike="noStrike">
                <a:solidFill>
                  <a:srgbClr val="001414"/>
                </a:solidFill>
                <a:latin typeface="宋体"/>
              </a:rPr>
              <a:t>之心日益骄固　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14"/>
                </a:solidFill>
                <a:latin typeface="宋体"/>
              </a:rPr>
              <a:t>  ⑥</a:t>
            </a:r>
            <a:r>
              <a:rPr b="1" lang="zh-CN" sz="3200" spc="-1" strike="noStrike">
                <a:solidFill>
                  <a:srgbClr val="001414"/>
                </a:solidFill>
                <a:latin typeface="宋体"/>
              </a:rPr>
              <a:t>用之如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泥沙</a:t>
            </a:r>
            <a:r>
              <a:rPr b="1" lang="zh-CN" sz="3200" spc="-1" strike="noStrike">
                <a:solidFill>
                  <a:srgbClr val="001414"/>
                </a:solidFill>
                <a:latin typeface="宋体"/>
              </a:rPr>
              <a:t> ⑦楚人一炬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可怜</a:t>
            </a:r>
            <a:r>
              <a:rPr b="1" lang="zh-CN" sz="3200" spc="-1" strike="noStrike">
                <a:solidFill>
                  <a:srgbClr val="001414"/>
                </a:solidFill>
                <a:latin typeface="宋体"/>
              </a:rPr>
              <a:t>焦土  ⑧多于市人之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言语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414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1414"/>
                </a:solidFill>
                <a:latin typeface="宋体"/>
              </a:rPr>
              <a:t>．①③⑤⑦　</a:t>
            </a:r>
            <a:r>
              <a:rPr b="1" lang="en-US" sz="3200" spc="-1" strike="noStrike">
                <a:solidFill>
                  <a:srgbClr val="001414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1414"/>
                </a:solidFill>
                <a:latin typeface="宋体"/>
              </a:rPr>
              <a:t>．②④⑥⑧　</a:t>
            </a:r>
            <a:r>
              <a:rPr b="1" lang="en-US" sz="3200" spc="-1" strike="noStrike">
                <a:solidFill>
                  <a:srgbClr val="001414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1414"/>
                </a:solidFill>
                <a:latin typeface="宋体"/>
              </a:rPr>
              <a:t>．③⑤⑥⑧　</a:t>
            </a:r>
            <a:r>
              <a:rPr b="1" lang="en-US" sz="3200" spc="-1" strike="noStrike">
                <a:solidFill>
                  <a:srgbClr val="001414"/>
                </a:solidFill>
                <a:latin typeface="宋体"/>
              </a:rPr>
              <a:t>D</a:t>
            </a:r>
            <a:r>
              <a:rPr b="1" lang="zh-CN" sz="3200" spc="-1" strike="noStrike">
                <a:solidFill>
                  <a:srgbClr val="001414"/>
                </a:solidFill>
                <a:latin typeface="宋体"/>
              </a:rPr>
              <a:t>．②③⑥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044360" y="14130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9" dur="indefinite" restart="never" nodeType="tmRoot">
          <p:childTnLst>
            <p:seq>
              <p:cTn id="1390" dur="indefinite" nodeType="mainSeq">
                <p:childTnLst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4693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414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、下列有关文学常识的表述有误的一项是（　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　　</a:t>
            </a:r>
            <a:r>
              <a:rPr b="1" lang="en-US" sz="2800" spc="-1" strike="noStrike">
                <a:solidFill>
                  <a:srgbClr val="001414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．</a:t>
            </a:r>
            <a:r>
              <a:rPr b="1" lang="en-US" sz="2800" spc="-1" strike="noStrike">
                <a:solidFill>
                  <a:srgbClr val="001414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阿房宫赋</a:t>
            </a:r>
            <a:r>
              <a:rPr b="1" lang="en-US" sz="2800" spc="-1" strike="noStrike">
                <a:solidFill>
                  <a:srgbClr val="001414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选自</a:t>
            </a:r>
            <a:r>
              <a:rPr b="1" lang="en-US" sz="2800" spc="-1" strike="noStrike">
                <a:solidFill>
                  <a:srgbClr val="001414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樊川文集</a:t>
            </a:r>
            <a:r>
              <a:rPr b="1" lang="en-US" sz="2800" spc="-1" strike="noStrike">
                <a:solidFill>
                  <a:srgbClr val="001414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，作者杜牧，晚唐著名诗人，诗歌清丽自然，有“小杜”之称，与同时代的李贺齐名，他们又有“小李杜”之称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　　</a:t>
            </a:r>
            <a:r>
              <a:rPr b="1" lang="en-US" sz="2800" spc="-1" strike="noStrike">
                <a:solidFill>
                  <a:srgbClr val="001414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．赋，文体名，是兼具诗歌与散文特点的一种文学体裁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　　</a:t>
            </a:r>
            <a:r>
              <a:rPr b="1" lang="en-US" sz="2800" spc="-1" strike="noStrike">
                <a:solidFill>
                  <a:srgbClr val="001414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．赋用作文体名称，最早见于战国后期荀况的</a:t>
            </a:r>
            <a:r>
              <a:rPr b="1" lang="en-US" sz="2800" spc="-1" strike="noStrike">
                <a:solidFill>
                  <a:srgbClr val="001414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赋篇</a:t>
            </a:r>
            <a:r>
              <a:rPr b="1" lang="en-US" sz="2800" spc="-1" strike="noStrike">
                <a:solidFill>
                  <a:srgbClr val="001414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，赋体的流变大致经历了骚赋、汉赋、骈赋、律赋、文赋各个阶段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　　</a:t>
            </a:r>
            <a:r>
              <a:rPr b="1" lang="en-US" sz="2800" spc="-1" strike="noStrike">
                <a:solidFill>
                  <a:srgbClr val="001414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．我国古代留下了许多赋体佳作，如枚乘的</a:t>
            </a:r>
            <a:r>
              <a:rPr b="1" lang="en-US" sz="2800" spc="-1" strike="noStrike">
                <a:solidFill>
                  <a:srgbClr val="001414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七发</a:t>
            </a:r>
            <a:r>
              <a:rPr b="1" lang="en-US" sz="2800" spc="-1" strike="noStrike">
                <a:solidFill>
                  <a:srgbClr val="001414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。司马相如的</a:t>
            </a:r>
            <a:r>
              <a:rPr b="1" lang="en-US" sz="2800" spc="-1" strike="noStrike">
                <a:solidFill>
                  <a:srgbClr val="001414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上林赋</a:t>
            </a:r>
            <a:r>
              <a:rPr b="1" lang="en-US" sz="2800" spc="-1" strike="noStrike">
                <a:solidFill>
                  <a:srgbClr val="001414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，欧阳修的</a:t>
            </a:r>
            <a:r>
              <a:rPr b="1" lang="en-US" sz="2800" spc="-1" strike="noStrike">
                <a:solidFill>
                  <a:srgbClr val="001414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秋声赋</a:t>
            </a:r>
            <a:r>
              <a:rPr b="1" lang="en-US" sz="2800" spc="-1" strike="noStrike">
                <a:solidFill>
                  <a:srgbClr val="001414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，苏轼的</a:t>
            </a:r>
            <a:r>
              <a:rPr b="1" lang="en-US" sz="2800" spc="-1" strike="noStrike">
                <a:solidFill>
                  <a:srgbClr val="001414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赤壁赋</a:t>
            </a:r>
            <a:r>
              <a:rPr b="1" lang="en-US" sz="2800" spc="-1" strike="noStrike">
                <a:solidFill>
                  <a:srgbClr val="001414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1414"/>
                </a:solidFill>
                <a:latin typeface="Arial"/>
              </a:rPr>
              <a:t>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591640" y="5484960"/>
            <a:ext cx="418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解析：“小李杜”中“小李”指晚唐诗人李商隐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　　答案：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7" dur="indefinite" restart="never" nodeType="tmRoot">
          <p:childTnLst>
            <p:seq>
              <p:cTn id="1398" dur="indefinite" nodeType="mainSeq">
                <p:childTnLst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178920" y="620640"/>
            <a:ext cx="8541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414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、下列句中的“之”表义相同的两项是（　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　　</a:t>
            </a:r>
            <a:r>
              <a:rPr b="1" lang="en-US" sz="3200" spc="-1" strike="noStrike">
                <a:solidFill>
                  <a:srgbClr val="001414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．杳不知其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　　</a:t>
            </a:r>
            <a:r>
              <a:rPr b="1" lang="en-US" sz="3200" spc="-1" strike="noStrike">
                <a:solidFill>
                  <a:srgbClr val="001414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．齐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精英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　　</a:t>
            </a:r>
            <a:r>
              <a:rPr b="1" lang="en-US" sz="3200" spc="-1" strike="noStrike">
                <a:solidFill>
                  <a:srgbClr val="001414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．秦人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，亦不甚惜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　　</a:t>
            </a:r>
            <a:r>
              <a:rPr b="1" lang="en-US" sz="3200" spc="-1" strike="noStrike">
                <a:solidFill>
                  <a:srgbClr val="001414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．项伯乃夜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200" spc="-1" strike="noStrike">
                <a:solidFill>
                  <a:srgbClr val="001414"/>
                </a:solidFill>
                <a:latin typeface="Arial"/>
              </a:rPr>
              <a:t>沛公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7893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解析：都作动词，译为“往，到”。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．的，助词；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．它，代土地。答案：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D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4" dur="indefinite" restart="never" nodeType="tmRoot">
          <p:childTnLst>
            <p:seq>
              <p:cTn id="1405" dur="indefinite" nodeType="mainSeq">
                <p:childTnLst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0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50560" y="-168480"/>
            <a:ext cx="289548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研讨第四段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-178200" y="1125000"/>
            <a:ext cx="36543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Arial"/>
                <a:ea typeface="隶书"/>
              </a:rPr>
              <a:t>　　　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黑体"/>
              </a:rPr>
              <a:t>灭六国者，六国也，非秦也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族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秦者，秦也，非天下也。嗟乎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使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六国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爱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其人，则足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以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拒秦；使秦复爱六国之人，则递三世可至万世而为君，谁得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族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灭也？秦人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不暇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自哀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而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后人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哀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之；后人哀之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而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不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鉴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之，亦使后人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而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复哀后人也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276720" y="333360"/>
            <a:ext cx="568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33"/>
                </a:solidFill>
                <a:latin typeface="Times New Roman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唉！使六国灭亡的，是六国自己，不是秦国。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消灭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秦宗族的是秦统治者本身，也不是天下的人民。唉！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假使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六国诸侯各自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爱护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自己的百姓，那么就足够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用来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抵抗强秦；如果秦（在统一全国后）同样能爱护六国的百姓，那么就可以从二世、三世以至传到万世一直作君王，谁又能得到王位且消灭整个家族呢？秦王朝的统治者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来不及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哀叹自己，而只有让后代人去哀叹它的灭亡；后代人哀叹秦的灭亡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却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不能引以为鉴，也会使他的后代人再哀叹他（重蹈秦的覆辙）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395280" y="3357720"/>
            <a:ext cx="8280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ahoma"/>
                <a:ea typeface="华文彩云"/>
              </a:rPr>
              <a:t>     “</a:t>
            </a:r>
            <a:r>
              <a:rPr b="1" lang="zh-CN" sz="3200" spc="-1" strike="noStrike">
                <a:solidFill>
                  <a:srgbClr val="007a77"/>
                </a:solidFill>
                <a:latin typeface="Tahoma"/>
                <a:ea typeface="华文彩云"/>
              </a:rPr>
              <a:t>后人哀之而不鉴之，亦使后人而复哀后人也</a:t>
            </a:r>
            <a:r>
              <a:rPr b="1" lang="en-US" sz="3200" spc="-1" strike="noStrike">
                <a:solidFill>
                  <a:srgbClr val="007a77"/>
                </a:solidFill>
                <a:latin typeface="Tahoma"/>
                <a:ea typeface="华文彩云"/>
              </a:rPr>
              <a:t>”</a:t>
            </a:r>
            <a:r>
              <a:rPr b="1" lang="zh-CN" sz="3200" spc="-1" strike="noStrike">
                <a:solidFill>
                  <a:srgbClr val="007a77"/>
                </a:solidFill>
                <a:latin typeface="Tahoma"/>
                <a:ea typeface="华文彩云"/>
              </a:rPr>
              <a:t>是作者向统治者敲警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191320" y="981000"/>
            <a:ext cx="480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最后一段的议论以秦为中心，上下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延伸，总结历史教训。这一段的那些话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是作者向当朝统治者 敲警钟？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-362160" y="2057400"/>
            <a:ext cx="1521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黑体"/>
              </a:rPr>
              <a:t>第四段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219320" y="1523880"/>
            <a:ext cx="533160" cy="2438640"/>
          </a:xfrm>
          <a:custGeom>
            <a:avLst/>
            <a:gdLst>
              <a:gd name="textAreaLeft" fmla="*/ 340560 w 533160"/>
              <a:gd name="textAreaRight" fmla="*/ 533520 w 53316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676520" y="106668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总结六国和秦灭亡的原因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828800" y="358128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讽谏唐王朝勿悲剧重演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80880" y="5410080"/>
            <a:ext cx="34704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Tahoma"/>
                <a:ea typeface="华文彩云"/>
              </a:rPr>
              <a:t> </a:t>
            </a:r>
            <a:r>
              <a:rPr b="1" lang="zh-CN" sz="5400" spc="-1" strike="noStrike">
                <a:solidFill>
                  <a:srgbClr val="007a77"/>
                </a:solidFill>
                <a:latin typeface="Tahoma"/>
                <a:ea typeface="华文彩云"/>
              </a:rPr>
              <a:t>卒章显志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64000" y="206064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不爱民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219640" y="436572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黑体"/>
              </a:rPr>
              <a:t>哀之，鉴之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439" dur="indefinite" restart="never" nodeType="tmRoot">
          <p:childTnLst>
            <p:seq>
              <p:cTn id="1440" dur="indefinite" nodeType="mainSeq">
                <p:childTnLst>
                  <p:par>
                    <p:cTn id="1441" fill="hold">
                      <p:stCondLst>
                        <p:cond delay="0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1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6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1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6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0" y="1295280"/>
            <a:ext cx="87631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044720" y="2781360"/>
            <a:ext cx="708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cc0000"/>
                </a:solidFill>
                <a:latin typeface="黑体"/>
                <a:ea typeface="黑体"/>
              </a:rPr>
              <a:t>奢</a:t>
            </a:r>
            <a:r>
              <a:rPr b="0" lang="zh-CN" sz="6000" spc="-1" strike="noStrike">
                <a:solidFill>
                  <a:srgbClr val="cc0000"/>
                </a:solidFill>
                <a:latin typeface="黑体"/>
                <a:ea typeface="黑体"/>
              </a:rPr>
              <a:t>    </a:t>
            </a:r>
            <a:r>
              <a:rPr b="0" lang="zh-CN" sz="8800" spc="-1" strike="noStrike">
                <a:solidFill>
                  <a:srgbClr val="cc0000"/>
                </a:solidFill>
                <a:latin typeface="黑体"/>
                <a:ea typeface="黑体"/>
              </a:rPr>
              <a:t>亡</a:t>
            </a:r>
            <a:r>
              <a:rPr b="0" lang="zh-CN" sz="6000" spc="-1" strike="noStrike">
                <a:solidFill>
                  <a:srgbClr val="cc0000"/>
                </a:solidFill>
                <a:latin typeface="黑体"/>
                <a:ea typeface="黑体"/>
              </a:rPr>
              <a:t>    </a:t>
            </a:r>
            <a:r>
              <a:rPr b="0" lang="zh-CN" sz="8000" spc="-1" strike="noStrike">
                <a:solidFill>
                  <a:srgbClr val="cc0000"/>
                </a:solidFill>
                <a:latin typeface="黑体"/>
                <a:ea typeface="黑体"/>
              </a:rPr>
              <a:t>鉴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340000" y="3573360"/>
            <a:ext cx="12952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003640" y="3645000"/>
            <a:ext cx="11430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5" dur="indefinite" restart="never" nodeType="tmRoot">
          <p:childTnLst>
            <p:seq>
              <p:cTn id="1486" dur="indefinite" nodeType="mainSeq">
                <p:childTnLst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250920" y="1557360"/>
            <a:ext cx="856908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以铜为镜，可以正衣冠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以史为镜，可以知兴替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以人为镜，可以知得失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04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Arial"/>
                <a:ea typeface="隶书"/>
              </a:rPr>
              <a:t>  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84360" y="620640"/>
            <a:ext cx="3309840" cy="1143000"/>
          </a:xfrm>
          <a:prstGeom prst="rect">
            <a:avLst/>
          </a:prstGeom>
          <a:solidFill>
            <a:srgbClr val="ff6600"/>
          </a:solidFill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方正水柱繁体"/>
              </a:rPr>
              <a:t>试背第四段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24000" y="2060640"/>
            <a:ext cx="8291520" cy="3457440"/>
          </a:xfrm>
          <a:prstGeom prst="rect">
            <a:avLst/>
          </a:prstGeom>
          <a:solidFill>
            <a:srgbClr val="ffffff">
              <a:alpha val="77000"/>
            </a:srgbClr>
          </a:solidFill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　　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隶书"/>
              </a:rPr>
              <a:t>灭六国者六国也，非秦也。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隶书"/>
              </a:rPr>
              <a:t>_______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隶书"/>
              </a:rPr>
              <a:t>，非天下也。嗟夫！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隶书"/>
              </a:rPr>
              <a:t>________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隶书"/>
              </a:rPr>
              <a:t>，则足以拒秦；使秦复爱六国之人，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隶书"/>
              </a:rPr>
              <a:t>________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隶书"/>
              </a:rPr>
              <a:t>，谁得而族灭也？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隶书"/>
              </a:rPr>
              <a:t>_________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隶书"/>
              </a:rPr>
              <a:t>，而后人哀之；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隶书"/>
              </a:rPr>
              <a:t>_____________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隶书"/>
              </a:rPr>
              <a:t>，亦使后人而复哀后人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8" dur="indefinite" restart="never" nodeType="tmRoot">
          <p:childTnLst>
            <p:seq>
              <p:cTn id="1509" dur="indefinite" nodeType="mainSeq">
                <p:childTnLst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1052640"/>
            <a:ext cx="8964720" cy="1191240"/>
          </a:xfrm>
          <a:prstGeom prst="rect">
            <a:avLst/>
          </a:prstGeom>
          <a:solidFill>
            <a:srgbClr val="ebf7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_x000b__x000c_"/>
                <a:ea typeface="华文中宋"/>
              </a:rPr>
              <a:t>（一）秦始皇在讨伐六国的过程中，掠来大量美女和珍宝古玩，咸阳城里的宫殿已显得拥挤，他便下令在咸阳附近修阿房宫。 把尽有的珍宝和宫女搬到阿旁宫。大臣问造在哪里，秦始皇操陕西方言说：“阿房”。阿房并不是一个实际地名，它的意思是“近旁”、“旁边”。听了秦始皇的话，大臣们就命工匠在咸阳宫旁边的上林苑建了一个“复压三百余里隔离天日”的</a:t>
            </a:r>
            <a:r>
              <a:rPr b="1" lang="zh-CN" sz="3600" spc="-1" strike="noStrike">
                <a:solidFill>
                  <a:srgbClr val="ff3300"/>
                </a:solidFill>
                <a:latin typeface="_x000b__x000c_"/>
                <a:ea typeface="华文中宋"/>
              </a:rPr>
              <a:t>庞大宫殿</a:t>
            </a:r>
            <a:r>
              <a:rPr b="1" lang="zh-CN" sz="3600" spc="-1" strike="noStrike">
                <a:solidFill>
                  <a:srgbClr val="000000"/>
                </a:solidFill>
                <a:latin typeface="_x000b__x000c_"/>
                <a:ea typeface="华文中宋"/>
              </a:rPr>
              <a:t>，取名“阿房宫”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9640" y="189000"/>
            <a:ext cx="81360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关于阿房宫命名的传说三则</a:t>
            </a: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: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676520" y="2209680"/>
            <a:ext cx="152280" cy="129564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2421000"/>
            <a:ext cx="1763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铺陈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（体物</a:t>
            </a:r>
            <a:r>
              <a:rPr b="1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600200" y="441972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905120" y="434340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华文行楷"/>
              </a:rPr>
              <a:t>一人之心，千万人之心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879960" y="4255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推理分析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828800" y="53341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华文行楷"/>
              </a:rPr>
              <a:t>后人哀之而不鉴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588000" y="522936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寄托讽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588000" y="1989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对偶排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553080" y="2971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排比夸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905120" y="20574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华文行楷"/>
              </a:rPr>
              <a:t>背景、巨大耗费、宏伟规模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877200" y="310500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华文行楷"/>
              </a:rPr>
              <a:t>生活荒淫、奢靡、珠宝陈设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059280" y="54936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阿房宫赋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24000" y="47242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写志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993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总结全文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96472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主题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写作特色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想象、比喻与夸张相结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具有很强的艺术感染力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描写、铺排与议论抒情相结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骈散结合，错落有致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56000" y="1224000"/>
            <a:ext cx="6553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借古讽今，通过阿房宫的兴建及其毁灭，生动形象地总结了秦朝统治者的骄奢亡国的历史经验，向唐朝统治者发出了警告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532" dur="indefinite" restart="never" nodeType="tmRoot">
          <p:childTnLst>
            <p:seq>
              <p:cTn id="1533" dur="indefinite" nodeType="mainSeq">
                <p:childTnLst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6765840" y="3573360"/>
            <a:ext cx="549360" cy="24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1835280" y="2205000"/>
            <a:ext cx="59767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19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彩云"/>
              </a:rPr>
              <a:t>课后练习题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彩云"/>
              <a:ea typeface="华文彩云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1692360" y="549360"/>
            <a:ext cx="59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掌握下列古今异义的词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1341360"/>
            <a:ext cx="88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①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黑体"/>
              </a:rPr>
              <a:t>直走咸阳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②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黑体"/>
              </a:rPr>
              <a:t>各抱地势，钩心斗角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292720" y="2997360"/>
            <a:ext cx="3332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3716280"/>
            <a:ext cx="896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56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③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黑体"/>
              </a:rPr>
              <a:t>几千万落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56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556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④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燕、赵之收藏，韩、魏之经营，齐、楚之精英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556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556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⑤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楚人一炬，可怜焦土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56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56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56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24000" y="177336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走：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趋向。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      今常用义为：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2708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钩心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建筑物向中心攒聚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；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斗角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屋檐如角相对。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       今常用来比喻用尽心计，明争暗斗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181600" y="4149720"/>
            <a:ext cx="333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落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座。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          今常用义为：下降、衰败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272320" y="5013360"/>
            <a:ext cx="24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收藏、经营、精英：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古义都指金玉珠宝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0920" y="587700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可怜：古义是“可惜”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540" dur="indefinite" restart="never" nodeType="tmRoot">
          <p:childTnLst>
            <p:seq>
              <p:cTn id="1541" dur="indefinite" nodeType="mainSeq">
                <p:childTnLst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808200" y="698400"/>
            <a:ext cx="801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69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黑体"/>
              </a:rPr>
              <a:t>⑥族秦者，秦也，非天下也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170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黑体"/>
              </a:rPr>
              <a:t>⑦楚人一炬，可怜焦土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2852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黑体"/>
              </a:rPr>
              <a:t>⑧朝歌夜弦，为秦宫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4508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黑体"/>
              </a:rPr>
              <a:t>⑨燕赵之收藏，韩魏之经营，齐楚之精英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423800" y="1125360"/>
            <a:ext cx="29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名词“族”活用为动词，灭族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494720" y="2205000"/>
            <a:ext cx="270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名词“炬”用作动词，焚烧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710440" y="3500280"/>
            <a:ext cx="119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名词“歌、弦”用作动词，唱歌、弹琴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朝、夜”作状语，在早上、在晚上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770840" y="5157720"/>
            <a:ext cx="52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动词“收藏”、“经营”用作名词，都是指金玉珍宝等物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583" dur="indefinite" restart="never" nodeType="tmRoot">
          <p:childTnLst>
            <p:seq>
              <p:cTn id="1584" dur="indefinite" nodeType="mainSeq">
                <p:childTnLst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593640" y="7462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华文行楷"/>
                <a:ea typeface="华文行楷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28600" y="2514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04920" y="25146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350080" y="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词类活用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620640"/>
            <a:ext cx="8820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①六王毕，四海一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　②辇来于秦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　③骊山北构而西折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　④蜂房水涡，矗不知其几千万落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　⑤后人哀之而不鉴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52360" y="1052640"/>
            <a:ext cx="835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544200" y="1916280"/>
            <a:ext cx="174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辇”古代一种人拉的车，名词。作状语，用辇车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537560" y="2781360"/>
            <a:ext cx="567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名词“北、西”作状语，分别表示动作行为“构”“折”的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向：向北，向西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261080" y="4005360"/>
            <a:ext cx="551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名词“蜂房”“水涡”作状语，表示动作行为“矗”的状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态：像蜂房，像水涡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812680" y="5300640"/>
            <a:ext cx="355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哀，为动用法，为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哀。鉴，意动用法：以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为鉴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977120" y="105264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一：数词做动词，统一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637" dur="indefinite" restart="never" nodeType="tmRoot">
          <p:childTnLst>
            <p:seq>
              <p:cTn id="1638" dur="indefinite" nodeType="mainSeq">
                <p:childTnLst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3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006920" y="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一词多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327320" y="787320"/>
            <a:ext cx="1674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  <a:ea typeface="黑体"/>
              </a:rPr>
              <a:t>六王毕，四海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  <a:ea typeface="黑体"/>
              </a:rPr>
              <a:t>五步一楼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爱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  <a:ea typeface="黑体"/>
              </a:rPr>
              <a:t>使六国各爱其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  <a:ea typeface="黑体"/>
              </a:rPr>
              <a:t>秦爱纷奢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缦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  <a:ea typeface="黑体"/>
              </a:rPr>
              <a:t>廊腰缦回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  <a:ea typeface="黑体"/>
              </a:rPr>
              <a:t>缦立远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族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  <a:ea typeface="黑体"/>
              </a:rPr>
              <a:t>族秦者秦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  <a:ea typeface="黑体"/>
              </a:rPr>
              <a:t>谁得而族灭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85800" y="5181480"/>
            <a:ext cx="8016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5508720" y="836640"/>
            <a:ext cx="3324240" cy="518472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582480" cy="60948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3"/>
          <a:stretch/>
        </p:blipFill>
        <p:spPr>
          <a:xfrm>
            <a:off x="250920" y="4581360"/>
            <a:ext cx="582480" cy="60984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4"/>
          <a:stretch/>
        </p:blipFill>
        <p:spPr>
          <a:xfrm>
            <a:off x="250920" y="3357720"/>
            <a:ext cx="582480" cy="60948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5"/>
          <a:stretch/>
        </p:blipFill>
        <p:spPr>
          <a:xfrm>
            <a:off x="250920" y="1989000"/>
            <a:ext cx="582480" cy="60984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4030920" y="12682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黑体"/>
              </a:rPr>
              <a:t>（统一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030920" y="16286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黑体"/>
              </a:rPr>
              <a:t>（一座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708720" y="2421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黑体"/>
              </a:rPr>
              <a:t>（爱护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708720" y="2852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黑体"/>
              </a:rPr>
              <a:t>（喜爱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630240" y="37162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黑体"/>
              </a:rPr>
              <a:t>（像缦带一样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205080" y="4149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黑体"/>
              </a:rPr>
              <a:t>（久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276720" y="501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黑体"/>
              </a:rPr>
              <a:t>（灭族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348360" y="5445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黑体"/>
              </a:rPr>
              <a:t>（家族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4" dur="indefinite" restart="never" nodeType="tmRoot">
          <p:childTnLst>
            <p:seq>
              <p:cTn id="1675" dur="indefinite" nodeType="mainSeq">
                <p:childTnLst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3214080" y="4046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古汉语句式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198900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　灭六国者，六国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-177840" y="4221000"/>
            <a:ext cx="88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　多于市人之言语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352880" y="141300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１、判断句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566720" y="2565360"/>
            <a:ext cx="526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黑体"/>
              </a:rPr>
              <a:t>（“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黑体"/>
              </a:rPr>
              <a:t>也”表判断。句意是：灭掉六国的人，其实是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黑体"/>
              </a:rPr>
              <a:t>六国自己。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638720" y="37162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２、状语后置句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470480" y="4941720"/>
            <a:ext cx="5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黑体"/>
              </a:rPr>
              <a:t>（介词结构后置句。句意是：比集市上众人的话语还要多。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9" dur="indefinite" restart="never" nodeType="tmRoot">
          <p:childTnLst>
            <p:seq>
              <p:cTn id="1730" dur="indefinite" nodeType="mainSeq">
                <p:childTnLst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1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1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365040" y="330120"/>
            <a:ext cx="8778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17680" y="1854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215000" y="909720"/>
            <a:ext cx="233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③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宾语前置句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2057400"/>
            <a:ext cx="839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63480" y="1562040"/>
            <a:ext cx="815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50920" y="170028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秦人不暇自哀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11280" y="2565360"/>
            <a:ext cx="333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④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被动句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95280" y="3284640"/>
            <a:ext cx="779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函谷举　（函谷关被攻占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334400" y="170028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（自哀：哀自，哀叹自己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7" dur="indefinite" restart="never" nodeType="tmRoot">
          <p:childTnLst>
            <p:seq>
              <p:cTn id="1768" dur="indefinite" nodeType="mainSeq">
                <p:childTnLst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辨析下列多义词的词义：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、六王毕，四海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一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。    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、楚人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一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炬，可怜焦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、黄鹤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一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去不复返。    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、而或长烟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一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空，皓月千里。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、上食埃土，下饮黄泉，用心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一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435640" y="1989000"/>
            <a:ext cx="11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统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797080" y="2637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数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177880" y="3213000"/>
            <a:ext cx="12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一旦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006240" y="3860640"/>
            <a:ext cx="11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全，都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267320" y="4522680"/>
            <a:ext cx="8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专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2" dur="indefinite" restart="never" nodeType="tmRoot">
          <p:childTnLst>
            <p:seq>
              <p:cTn id="1813" dur="indefinite" nodeType="mainSeq">
                <p:childTnLst>
                  <p:par>
                    <p:cTn id="1814" fill="hold">
                      <p:stCondLst>
                        <p:cond delay="indefinite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1" dur="5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fill="hold">
                      <p:stCondLst>
                        <p:cond delay="indefinite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7" dur="500" fill="hold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fill="hold">
                      <p:stCondLst>
                        <p:cond delay="indefinite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228600"/>
            <a:ext cx="84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     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（二）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阿房宫早在秦始皇曾祖父惠文王时就开始修建了，原名阿城。阿的意思是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高大的丘陵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，言其宫殿很高。惠文王死，工程就停下了。直至几十年后的秦始皇，才又接着修。因为在高大的丘陵上修房，故名阿房宫。</a:t>
            </a:r>
            <a:r>
              <a:rPr b="0" lang="zh-CN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3733920"/>
            <a:ext cx="843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中宋"/>
                <a:ea typeface="华文中宋"/>
              </a:rPr>
              <a:t>  </a:t>
            </a:r>
            <a:r>
              <a:rPr b="1" lang="zh-CN" sz="3600" spc="-1" strike="noStrike">
                <a:solidFill>
                  <a:srgbClr val="007a77"/>
                </a:solidFill>
                <a:latin typeface="华文中宋"/>
                <a:ea typeface="华文中宋"/>
              </a:rPr>
              <a:t>（三）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传说中秦王赢政爱上过一个美丽的民间女子，芳名</a:t>
            </a:r>
            <a:r>
              <a:rPr b="1" lang="zh-CN" sz="3600" spc="-1" strike="noStrike">
                <a:solidFill>
                  <a:srgbClr val="007a77"/>
                </a:solidFill>
                <a:latin typeface="华文中宋"/>
                <a:ea typeface="华文中宋"/>
              </a:rPr>
              <a:t>阿房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但这段美丽的爱情终究没有换来美丽的结局，为了纪念这位他深爱过的女子，秦始皇不惜耗费巨大的人力物力修建了</a:t>
            </a:r>
            <a:r>
              <a:rPr b="1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极度奢华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</a:t>
            </a:r>
            <a:r>
              <a:rPr b="1" lang="zh-CN" sz="3600" spc="-1" strike="noStrike">
                <a:solidFill>
                  <a:srgbClr val="007a77"/>
                </a:solidFill>
                <a:latin typeface="华文中宋"/>
                <a:ea typeface="华文中宋"/>
              </a:rPr>
              <a:t>阿房宫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。</a:t>
            </a:r>
            <a:r>
              <a:rPr b="1" lang="zh-CN" sz="1400" spc="-1" strike="noStrike">
                <a:solidFill>
                  <a:srgbClr val="007a77"/>
                </a:solidFill>
                <a:latin typeface="华文中宋"/>
                <a:ea typeface="华文中宋"/>
              </a:rPr>
              <a:t>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黑体"/>
              </a:rPr>
              <a:t>爱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61880" y="2064960"/>
            <a:ext cx="806616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、秦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爱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纷奢，人亦念其家。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、使秦复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爱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六国之人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、不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爱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珍器重宝肥饶之地。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、晋陶渊明独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爱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菊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078600" y="1844640"/>
            <a:ext cx="9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喜爱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373080" y="2421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爱护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718240" y="2997360"/>
            <a:ext cx="135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吝惜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718240" y="3573360"/>
            <a:ext cx="135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喜欢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5" dur="indefinite" restart="never" nodeType="tmRoot">
          <p:childTnLst>
            <p:seq>
              <p:cTn id="1876" dur="indefinite" nodeType="mainSeq">
                <p:childTnLst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1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fill="hold">
                      <p:stCondLst>
                        <p:cond delay="indefinite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6" dur="5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1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6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黑体"/>
                <a:ea typeface="黑体"/>
              </a:rPr>
              <a:t>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ff"/>
                </a:solidFill>
                <a:latin typeface="华文行楷"/>
                <a:ea typeface="华文行楷"/>
              </a:rPr>
              <a:t>　</a:t>
            </a: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、奈何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取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之尽锱铢，用之如泥沙。   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、青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取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之于蓝，而青于蓝。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、今入关，财物无所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取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。              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3366ff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、留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取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丹心照汉青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62160" y="1989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夺取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510600" y="2565360"/>
            <a:ext cx="9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提取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654240" y="3213000"/>
            <a:ext cx="6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拿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294600" y="3716280"/>
            <a:ext cx="15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着（助词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7" dur="indefinite" restart="never" nodeType="tmRoot">
          <p:childTnLst>
            <p:seq>
              <p:cTn id="1918" dur="indefinite" nodeType="mainSeq">
                <p:childTnLst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3" dur="75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4" fill="hold">
                      <p:stCondLst>
                        <p:cond delay="indefinite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8" dur="75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3" dur="75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8" dur="75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黑体"/>
              </a:rPr>
              <a:t>族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0" y="227628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族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秦者秦也，非天下也。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、是士大夫之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族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，曰诗曰弟子云者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、山东豪俊，遂并起而亡秦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族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矣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02240" y="2276640"/>
            <a:ext cx="9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灭族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166520" y="292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类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726240" y="3500280"/>
            <a:ext cx="9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家族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9" dur="indefinite" restart="never" nodeType="tmRoot">
          <p:childTnLst>
            <p:seq>
              <p:cTn id="1960" dur="indefinite" nodeType="mainSeq">
                <p:childTnLst>
                  <p:par>
                    <p:cTn id="1961" fill="hold">
                      <p:stCondLst>
                        <p:cond delay="indefinite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5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6" fill="hold">
                      <p:stCondLst>
                        <p:cond delay="indefinite"/>
                      </p:stCondLst>
                      <p:childTnLst>
                        <p:par>
                          <p:cTn id="1967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0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5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0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5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6" fill="hold">
                      <p:stCondLst>
                        <p:cond delay="indefinite"/>
                      </p:stCondLst>
                      <p:childTnLst>
                        <p:par>
                          <p:cTn id="1987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>
            <a:hlinkClick r:id="rId1" action="ppaction://hlinksldjump"/>
          </p:cNvPr>
          <p:cNvSpPr/>
          <p:nvPr/>
        </p:nvSpPr>
        <p:spPr>
          <a:xfrm>
            <a:off x="7924680" y="6095880"/>
            <a:ext cx="990720" cy="457200"/>
          </a:xfrm>
          <a:custGeom>
            <a:avLst/>
            <a:gdLst>
              <a:gd name="textAreaLeft" fmla="*/ 28440 w 990720"/>
              <a:gd name="textAreaRight" fmla="*/ 962280 w 99072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436" y="1350"/>
                </a:lnTo>
                <a:lnTo>
                  <a:pt x="1350" y="135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436" y="20250"/>
                </a:lnTo>
                <a:lnTo>
                  <a:pt x="45436" y="135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5436" y="2025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6786" h="21600">
                <a:moveTo>
                  <a:pt x="16349" y="10800"/>
                </a:moveTo>
                <a:lnTo>
                  <a:pt x="30437" y="3756"/>
                </a:lnTo>
                <a:lnTo>
                  <a:pt x="30437" y="17844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701720" y="152388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、盘盘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97440" y="2709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385960" y="1546200"/>
            <a:ext cx="99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助词，用在形容词后。相当于“然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503440" y="213372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、且焉置土石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愚公移山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089520" y="2728800"/>
            <a:ext cx="167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、积土成山，风雨兴焉。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劝学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928240" y="3338640"/>
            <a:ext cx="23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、焉用亡郑以陪邻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烛之武退秦师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914400" y="1816200"/>
            <a:ext cx="76320" cy="2477880"/>
          </a:xfrm>
          <a:custGeom>
            <a:avLst/>
            <a:gdLst>
              <a:gd name="textAreaLeft" fmla="*/ 48960 w 76320"/>
              <a:gd name="textAreaRight" fmla="*/ 76320 w 76320"/>
              <a:gd name="textAreaTop" fmla="*/ 64440 h 2477880"/>
              <a:gd name="textAreaBottom" fmla="*/ 2413440 h 2477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011280" y="2119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哪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060680" y="272880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于之”在那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367040" y="3338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怎么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916360" y="62064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拓展归纳：“焉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784240" y="4005360"/>
            <a:ext cx="15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、三人行必有我师焉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论语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800760" y="4076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句末语气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1" dur="indefinite" restart="never" nodeType="tmRoot">
          <p:childTnLst>
            <p:seq>
              <p:cTn id="1992" dur="indefinite" nodeType="mainSeq">
                <p:childTnLst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9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8" fill="hold">
                      <p:stCondLst>
                        <p:cond delay="indefinite"/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0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0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fill="hold">
                      <p:stCondLst>
                        <p:cond delay="indefinite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1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1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0" y="91764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六王毕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四海一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蜀山兀，阿房出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骊山北构而西折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直走咸阳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二川溶溶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流入宫墙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五步一楼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十步一阁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；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廊腰缦回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檐牙高啄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；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各抱地势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钩心斗角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盘盘焉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囷囷焉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蜂房水涡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矗不知其几千万落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79280" y="0"/>
            <a:ext cx="1871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默写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54" name="矩形 4"/>
          <p:cNvSpPr/>
          <p:nvPr/>
        </p:nvSpPr>
        <p:spPr>
          <a:xfrm>
            <a:off x="826920" y="1052640"/>
            <a:ext cx="158436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5" name="矩形 4"/>
          <p:cNvSpPr/>
          <p:nvPr/>
        </p:nvSpPr>
        <p:spPr>
          <a:xfrm>
            <a:off x="4859280" y="1628640"/>
            <a:ext cx="208908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6" name="矩形 4"/>
          <p:cNvSpPr/>
          <p:nvPr/>
        </p:nvSpPr>
        <p:spPr>
          <a:xfrm>
            <a:off x="755640" y="2276640"/>
            <a:ext cx="2160720" cy="50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7" name="矩形 4"/>
          <p:cNvSpPr/>
          <p:nvPr/>
        </p:nvSpPr>
        <p:spPr>
          <a:xfrm>
            <a:off x="5724360" y="2882880"/>
            <a:ext cx="230364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矩形 4"/>
          <p:cNvSpPr/>
          <p:nvPr/>
        </p:nvSpPr>
        <p:spPr>
          <a:xfrm>
            <a:off x="5724360" y="3500280"/>
            <a:ext cx="230364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9" name="矩形 4"/>
          <p:cNvSpPr/>
          <p:nvPr/>
        </p:nvSpPr>
        <p:spPr>
          <a:xfrm>
            <a:off x="855720" y="4078440"/>
            <a:ext cx="1512720" cy="50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900000" y="1585800"/>
            <a:ext cx="395928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716360" y="2205000"/>
            <a:ext cx="266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55640" y="2795760"/>
            <a:ext cx="266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0" y="3443400"/>
            <a:ext cx="266364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796000" y="4019400"/>
            <a:ext cx="266364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900000" y="4653000"/>
            <a:ext cx="360072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6" name="矩形 4"/>
          <p:cNvSpPr/>
          <p:nvPr/>
        </p:nvSpPr>
        <p:spPr>
          <a:xfrm>
            <a:off x="2771640" y="1052640"/>
            <a:ext cx="172908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7" name="矩形 4"/>
          <p:cNvSpPr/>
          <p:nvPr/>
        </p:nvSpPr>
        <p:spPr>
          <a:xfrm>
            <a:off x="2886120" y="4091040"/>
            <a:ext cx="151272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018" dur="indefinite" restart="never" nodeType="tmRoot">
          <p:childTnLst>
            <p:seq>
              <p:cTn id="2019" dur="indefinite" nodeType="mainSeq">
                <p:childTnLst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2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2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fill="hold">
                      <p:stCondLst>
                        <p:cond delay="indefinite"/>
                      </p:stCondLst>
                      <p:childTnLst>
                        <p:par>
                          <p:cTn id="2041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fill="hold">
                      <p:stCondLst>
                        <p:cond delay="indefinite"/>
                      </p:stCondLst>
                      <p:childTnLst>
                        <p:par>
                          <p:cTn id="2051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0" y="90792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黑体"/>
                <a:ea typeface="黑体"/>
              </a:rPr>
              <a:t>5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长桥卧波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未云何龙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复道行空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不霁何虹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歌台暖响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春光融融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；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舞殿冷袖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风雨凄凄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明星荧荧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开妆镜也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；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绿云扰扰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梳晓鬟也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；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渭流涨腻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弃脂水也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；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烟斜雾横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焚椒兰也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。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雷霆乍惊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宫车过也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；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79280" y="0"/>
            <a:ext cx="1871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默写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70" name=""/>
          <p:cNvSpPr/>
          <p:nvPr/>
        </p:nvSpPr>
        <p:spPr>
          <a:xfrm>
            <a:off x="826920" y="1585800"/>
            <a:ext cx="252108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55640" y="2205000"/>
            <a:ext cx="266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203640" y="2809800"/>
            <a:ext cx="266364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41240" y="3429000"/>
            <a:ext cx="266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84360" y="4019400"/>
            <a:ext cx="266364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724360" y="4033800"/>
            <a:ext cx="266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059280" y="5257800"/>
            <a:ext cx="230328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651640" y="5272200"/>
            <a:ext cx="230328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8" name="矩形 4"/>
          <p:cNvSpPr/>
          <p:nvPr/>
        </p:nvSpPr>
        <p:spPr>
          <a:xfrm>
            <a:off x="684360" y="1052640"/>
            <a:ext cx="223200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9" name="矩形 4"/>
          <p:cNvSpPr/>
          <p:nvPr/>
        </p:nvSpPr>
        <p:spPr>
          <a:xfrm>
            <a:off x="698400" y="1628640"/>
            <a:ext cx="223200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0" name="矩形 4"/>
          <p:cNvSpPr/>
          <p:nvPr/>
        </p:nvSpPr>
        <p:spPr>
          <a:xfrm>
            <a:off x="3276720" y="2276640"/>
            <a:ext cx="2158920" cy="50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1" name="矩形 4"/>
          <p:cNvSpPr/>
          <p:nvPr/>
        </p:nvSpPr>
        <p:spPr>
          <a:xfrm>
            <a:off x="828720" y="2852640"/>
            <a:ext cx="208764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2" name="矩形 4"/>
          <p:cNvSpPr/>
          <p:nvPr/>
        </p:nvSpPr>
        <p:spPr>
          <a:xfrm>
            <a:off x="684360" y="3500280"/>
            <a:ext cx="223200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3" name="矩形 4"/>
          <p:cNvSpPr/>
          <p:nvPr/>
        </p:nvSpPr>
        <p:spPr>
          <a:xfrm>
            <a:off x="5796000" y="3500280"/>
            <a:ext cx="216072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4" name="矩形 4"/>
          <p:cNvSpPr/>
          <p:nvPr/>
        </p:nvSpPr>
        <p:spPr>
          <a:xfrm>
            <a:off x="2887560" y="4724280"/>
            <a:ext cx="230364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5" name="矩形 4"/>
          <p:cNvSpPr/>
          <p:nvPr/>
        </p:nvSpPr>
        <p:spPr>
          <a:xfrm>
            <a:off x="5724360" y="4695840"/>
            <a:ext cx="201636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060" dur="indefinite" restart="never" nodeType="tmRoot">
          <p:childTnLst>
            <p:seq>
              <p:cTn id="2061" dur="indefinite" nodeType="mainSeq">
                <p:childTnLst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2" fill="hold">
                      <p:stCondLst>
                        <p:cond delay="indefinite"/>
                      </p:stCondLst>
                      <p:childTnLst>
                        <p:par>
                          <p:cTn id="2073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fill="hold">
                      <p:stCondLst>
                        <p:cond delay="indefinite"/>
                      </p:stCondLst>
                      <p:childTnLst>
                        <p:par>
                          <p:cTn id="2078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fill="hold">
                      <p:stCondLst>
                        <p:cond delay="indefinite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2" fill="hold">
                      <p:stCondLst>
                        <p:cond delay="indefinite"/>
                      </p:stCondLst>
                      <p:childTnLst>
                        <p:par>
                          <p:cTn id="2093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0" y="836640"/>
            <a:ext cx="9144000" cy="52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燕、赵之收藏，韩、魏之经营，齐、楚之精英，几世几年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摽掠其人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倚叠如山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。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一旦不能有，输来其间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鼎铛玉石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金块珠砾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弃掷逦迤，秦人视之，亦不甚惜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使负栋之柱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多于南亩之农夫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架梁之椽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多于机上之工女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钉头磷磷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多于在庾之粟粒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瓦缝参差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多于周身之帛缕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直栏横槛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多于九土之城郭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管弦呕哑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多于市人之言语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179280" y="0"/>
            <a:ext cx="1871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默写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88" name=""/>
          <p:cNvSpPr/>
          <p:nvPr/>
        </p:nvSpPr>
        <p:spPr>
          <a:xfrm>
            <a:off x="3564000" y="2031840"/>
            <a:ext cx="482436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818320" y="2637000"/>
            <a:ext cx="219708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08000" y="3213000"/>
            <a:ext cx="216036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55640" y="3759120"/>
            <a:ext cx="259236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55640" y="4335480"/>
            <a:ext cx="216072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975040" y="4998960"/>
            <a:ext cx="354168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973240" y="5559480"/>
            <a:ext cx="354204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84360" y="6107040"/>
            <a:ext cx="216036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" y="6669000"/>
            <a:ext cx="216072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7" name="矩形 4"/>
          <p:cNvSpPr/>
          <p:nvPr/>
        </p:nvSpPr>
        <p:spPr>
          <a:xfrm>
            <a:off x="3635280" y="1484280"/>
            <a:ext cx="194472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8" name="矩形 4"/>
          <p:cNvSpPr/>
          <p:nvPr/>
        </p:nvSpPr>
        <p:spPr>
          <a:xfrm>
            <a:off x="6012000" y="1484280"/>
            <a:ext cx="223200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9" name="矩形 4"/>
          <p:cNvSpPr/>
          <p:nvPr/>
        </p:nvSpPr>
        <p:spPr>
          <a:xfrm>
            <a:off x="5838840" y="2117880"/>
            <a:ext cx="1800360" cy="50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0" name="矩形 4"/>
          <p:cNvSpPr/>
          <p:nvPr/>
        </p:nvSpPr>
        <p:spPr>
          <a:xfrm>
            <a:off x="0" y="2651040"/>
            <a:ext cx="223200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1" name="矩形 4"/>
          <p:cNvSpPr/>
          <p:nvPr/>
        </p:nvSpPr>
        <p:spPr>
          <a:xfrm>
            <a:off x="684360" y="3241800"/>
            <a:ext cx="2447640" cy="48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2" name="矩形 4"/>
          <p:cNvSpPr/>
          <p:nvPr/>
        </p:nvSpPr>
        <p:spPr>
          <a:xfrm>
            <a:off x="741240" y="3803760"/>
            <a:ext cx="1871640" cy="48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3" name="矩形 4"/>
          <p:cNvSpPr/>
          <p:nvPr/>
        </p:nvSpPr>
        <p:spPr>
          <a:xfrm>
            <a:off x="2887560" y="4437000"/>
            <a:ext cx="3384720" cy="48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4" name="矩形 4"/>
          <p:cNvSpPr/>
          <p:nvPr/>
        </p:nvSpPr>
        <p:spPr>
          <a:xfrm>
            <a:off x="2987640" y="5027760"/>
            <a:ext cx="3384720" cy="48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5" name="矩形 4"/>
          <p:cNvSpPr/>
          <p:nvPr/>
        </p:nvSpPr>
        <p:spPr>
          <a:xfrm>
            <a:off x="727200" y="5573880"/>
            <a:ext cx="1871640" cy="48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6" name="矩形 4"/>
          <p:cNvSpPr/>
          <p:nvPr/>
        </p:nvSpPr>
        <p:spPr>
          <a:xfrm>
            <a:off x="727200" y="6135840"/>
            <a:ext cx="1871640" cy="48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102" dur="indefinite" restart="never" nodeType="tmRoot">
          <p:childTnLst>
            <p:seq>
              <p:cTn id="2103" dur="indefinite" nodeType="mainSeq">
                <p:childTnLst>
                  <p:par>
                    <p:cTn id="2104" fill="hold">
                      <p:stCondLst>
                        <p:cond delay="indefinite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4" fill="hold">
                      <p:stCondLst>
                        <p:cond delay="indefinite"/>
                      </p:stCondLst>
                      <p:childTnLst>
                        <p:par>
                          <p:cTn id="2115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4" fill="hold">
                      <p:stCondLst>
                        <p:cond delay="indefinite"/>
                      </p:stCondLst>
                      <p:childTnLst>
                        <p:par>
                          <p:cTn id="2125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7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fill="hold">
                      <p:stCondLst>
                        <p:cond delay="indefinite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4" fill="hold">
                      <p:stCondLst>
                        <p:cond delay="indefinite"/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9" fill="hold">
                      <p:stCondLst>
                        <p:cond delay="indefinite"/>
                      </p:stCondLst>
                      <p:childTnLst>
                        <p:par>
                          <p:cTn id="2150" fill="hold">
                            <p:stCondLst>
                              <p:cond delay="0"/>
                            </p:stCondLst>
                            <p:childTnLst>
                              <p:par>
                                <p:cTn id="21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0" y="91764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使天下之人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不敢言而敢怒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独夫之心，日益骄固。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戍卒叫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函谷举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楚人一炬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可怜焦土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灭六国者，六国也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非秦也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。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族秦者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秦也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非天下也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使六国各爱其人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则足以拒秦；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使秦复爱六国之人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则递三世可至万世而为君，谁得而族灭也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秦人不暇自哀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而后人哀之；后人哀之而不鉴之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亦使后人而复哀后人也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79280" y="0"/>
            <a:ext cx="1871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默写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09" name="矩形 4"/>
          <p:cNvSpPr/>
          <p:nvPr/>
        </p:nvSpPr>
        <p:spPr>
          <a:xfrm>
            <a:off x="3564000" y="1052640"/>
            <a:ext cx="273672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564000" y="1557360"/>
            <a:ext cx="295272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268360" y="2133720"/>
            <a:ext cx="687564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2651040"/>
            <a:ext cx="248436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313160" y="3170160"/>
            <a:ext cx="483084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84360" y="4292640"/>
            <a:ext cx="352728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93080" y="4292640"/>
            <a:ext cx="205092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4869000"/>
            <a:ext cx="205092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55640" y="5950080"/>
            <a:ext cx="309564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835280" y="6524640"/>
            <a:ext cx="475272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9" name="矩形 4"/>
          <p:cNvSpPr/>
          <p:nvPr/>
        </p:nvSpPr>
        <p:spPr>
          <a:xfrm>
            <a:off x="2268360" y="1600200"/>
            <a:ext cx="144000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0" name="矩形 4"/>
          <p:cNvSpPr/>
          <p:nvPr/>
        </p:nvSpPr>
        <p:spPr>
          <a:xfrm>
            <a:off x="4140360" y="1601640"/>
            <a:ext cx="143964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1" name="矩形 4"/>
          <p:cNvSpPr/>
          <p:nvPr/>
        </p:nvSpPr>
        <p:spPr>
          <a:xfrm>
            <a:off x="5940360" y="1585800"/>
            <a:ext cx="194472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2" name="矩形 4"/>
          <p:cNvSpPr/>
          <p:nvPr/>
        </p:nvSpPr>
        <p:spPr>
          <a:xfrm>
            <a:off x="0" y="2104920"/>
            <a:ext cx="226836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3" name="矩形 4"/>
          <p:cNvSpPr/>
          <p:nvPr/>
        </p:nvSpPr>
        <p:spPr>
          <a:xfrm>
            <a:off x="4716360" y="2637000"/>
            <a:ext cx="1582920" cy="50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4" name="矩形 4"/>
          <p:cNvSpPr/>
          <p:nvPr/>
        </p:nvSpPr>
        <p:spPr>
          <a:xfrm>
            <a:off x="6659640" y="2637000"/>
            <a:ext cx="1441440" cy="50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5" name="矩形 4"/>
          <p:cNvSpPr/>
          <p:nvPr/>
        </p:nvSpPr>
        <p:spPr>
          <a:xfrm>
            <a:off x="755640" y="3716280"/>
            <a:ext cx="324000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6" name="矩形 4"/>
          <p:cNvSpPr/>
          <p:nvPr/>
        </p:nvSpPr>
        <p:spPr>
          <a:xfrm>
            <a:off x="7020000" y="3746520"/>
            <a:ext cx="212400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7" name="矩形 4"/>
          <p:cNvSpPr/>
          <p:nvPr/>
        </p:nvSpPr>
        <p:spPr>
          <a:xfrm>
            <a:off x="0" y="4351320"/>
            <a:ext cx="1908000" cy="43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8" name="矩形 4"/>
          <p:cNvSpPr/>
          <p:nvPr/>
        </p:nvSpPr>
        <p:spPr>
          <a:xfrm>
            <a:off x="684360" y="5373720"/>
            <a:ext cx="287964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9" name="矩形 4"/>
          <p:cNvSpPr/>
          <p:nvPr/>
        </p:nvSpPr>
        <p:spPr>
          <a:xfrm>
            <a:off x="1908000" y="5978520"/>
            <a:ext cx="468000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0" name="矩形 4"/>
          <p:cNvSpPr/>
          <p:nvPr/>
        </p:nvSpPr>
        <p:spPr>
          <a:xfrm>
            <a:off x="0" y="3211560"/>
            <a:ext cx="144144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42920" y="3789360"/>
            <a:ext cx="147636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154" dur="indefinite" restart="never" nodeType="tmRoot">
          <p:childTnLst>
            <p:seq>
              <p:cTn id="2155" dur="indefinite" nodeType="mainSeq">
                <p:childTnLst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9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9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7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fill="hold">
                      <p:stCondLst>
                        <p:cond delay="indefinite"/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7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4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6" fill="hold">
                      <p:stCondLst>
                        <p:cond delay="indefinite"/>
                      </p:stCondLst>
                      <p:childTnLst>
                        <p:par>
                          <p:cTn id="2187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4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2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3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346040" y="836640"/>
            <a:ext cx="4594320" cy="53290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651640" y="907920"/>
            <a:ext cx="3240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江南春</a:t>
            </a:r>
            <a:br>
              <a:rPr sz="5400"/>
            </a:b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  </a:t>
            </a:r>
            <a:br>
              <a:rPr sz="44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杜牧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32000" y="620280"/>
            <a:ext cx="4681440" cy="5761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 algn="ctr">
              <a:lnSpc>
                <a:spcPct val="13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千里莺啼绿映红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lnSpc>
                <a:spcPct val="13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水村山郭酒旗风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lnSpc>
                <a:spcPct val="13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南朝四百八十寺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lnSpc>
                <a:spcPct val="13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多少楼台烟雨中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352520" y="692280"/>
            <a:ext cx="4371840" cy="53290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402920" y="764640"/>
            <a:ext cx="4321080" cy="5472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 vert="eaVert">
            <a:normAutofit fontScale="99000"/>
          </a:bodyPr>
          <a:p>
            <a:pPr marL="339480" indent="0" algn="ctr">
              <a:lnSpc>
                <a:spcPct val="13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长安回望绣成堆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39480" indent="0" algn="ctr">
              <a:lnSpc>
                <a:spcPct val="13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山顶千门次第开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39480" indent="0" algn="ctr">
              <a:lnSpc>
                <a:spcPct val="13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骑红尘妃子笑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39480" indent="0" algn="ctr">
              <a:lnSpc>
                <a:spcPct val="13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无人知是荔枝来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19640" y="0"/>
            <a:ext cx="3549600" cy="62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华文中宋"/>
                <a:ea typeface="黑体"/>
              </a:rPr>
              <a:t>   </a:t>
            </a:r>
            <a:r>
              <a:rPr b="1" lang="zh-CN" sz="5400" spc="-1" strike="noStrike">
                <a:solidFill>
                  <a:srgbClr val="ff3300"/>
                </a:solidFill>
                <a:latin typeface="华文中宋"/>
                <a:ea typeface="黑体"/>
              </a:rPr>
              <a:t>过华清宫绝句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（其一）</a:t>
            </a: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          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杜牧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05080" y="836640"/>
            <a:ext cx="5472000" cy="53290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780240" y="1341000"/>
            <a:ext cx="247176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泊秦淮</a:t>
            </a:r>
            <a:br>
              <a:rPr sz="5400"/>
            </a:br>
            <a:br>
              <a:rPr sz="3200"/>
            </a:b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杜牧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33080" y="476280"/>
            <a:ext cx="5545080" cy="57592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 algn="ctr">
              <a:lnSpc>
                <a:spcPct val="13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烟笼寒水月笼纱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lnSpc>
                <a:spcPct val="13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夜泊秦淮近酒家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lnSpc>
                <a:spcPct val="13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商女不知亡国恨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lnSpc>
                <a:spcPct val="13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隔江犹唱后庭花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05:17:07Z</dcterms:created>
  <dc:creator>bai</dc:creator>
  <dc:description/>
  <cp:keywords/>
  <dc:language>en-US</dc:language>
  <cp:lastModifiedBy>微软用户</cp:lastModifiedBy>
  <dcterms:modified xsi:type="dcterms:W3CDTF">2017-02-25T03:51:13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