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E99-C040-4535-99F5-C5E00627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909-B159-4E2C-B5EC-1732305A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5B1-DE6C-451E-A772-259A184D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9B1-B605-43D6-BCF5-16C952A9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D71-5407-4ECF-B398-4683360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C32-28BA-4E93-8775-C0967859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709-1826-4121-B27C-1E593A3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EED-3F40-4DF1-A587-9320A250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A25-46A5-43DE-AF40-19CD88E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D2E-4A3E-4477-AADA-84F1BD5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6DB-FDB4-4E53-A343-538DD40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E89-8E93-4066-A57F-1D42E28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45D2-1EAF-4155-8352-855BA6CF0262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法基础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诞生至今，已经走过了长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余年的发展历程中。在这一发展历程中，相关的语言标准先后制定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部。具体的语法也随着标准的变更而变化着。在每一个新标准中，前一个标准中的一些旧语句、语法或是被废弃、或是建议减少使用，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 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中就建议减少使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MON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；或者新增了一些新的语句，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 9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中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ALL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语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单元和语句顺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单元是程序中的基本组成部分，了解程序单元的用途可以加深对计算机程序的理解。本节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程序单元和句顺序的基本概念及相关规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程序单元分为两大类：可执行程序单元和不可执行程序单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执行程序单元，在程序中主要用来执行一个完整的功能。可执行程序单元主要包括以下三种：主程序单元、外部函数子程序单元和外部子例行子程序单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可执行程序单位，在程序中主要用来为其他程序单元提供定义。不可执行程序单元有两种：模块程序单元和数据块程序单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书写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节中，程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ELL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经展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种源代码书写格式，即自由格式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ree Form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这种格式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中的一大特色。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 7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中的旧格式，即固定格式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xed Form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相比，取消了在源代码书写上的诸多限制，程序编制起来更为灵活。两种格式书写的源代码通过文件扩展名来进行区别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固定格式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Fixed Forma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固定格式书写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源代码，文件扩展名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*.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*.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固定格式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规定了若干个列范围。每一个列范围都有自己的用途和约定，程序必须严格按照这些约定进行编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4152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自由格式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Free Forma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采用自由格式书写的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源代码，文件扩展名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*.F9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自由格式是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 9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准中的一大特色，废除了固定格式中的许多限制。它并不规定程序代码中每一行第几列字符的具体作用，在源代码的编写上显得相当自由。同固定格式相比，自由格式主要在以下几个方面进行了改进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行的定义。在自由格式中每行可以书写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3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字符。程序语句的位置没有了只能从第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列后开始书写的固定约定，可以在任意一列开始书写。同一行中可以顺序书写多条程序语句，语句之间用分号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进行分隔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注释行的定义。在自由格式中，惊叹号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字符均被视为注释。但是，字符串中的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出外，如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 *, ‘Hello! Fortran 90/95’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中，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 90/95’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不会被认为是注释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续行的定义。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准中规定，当程序代码中的一行超过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3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字符时，至多可以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续行。续行标志固定为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amp;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当一行代码的最后一个字符为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amp;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时，则表示下一行与本行接续；当一行代码的第一个字符为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amp;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时，则表示本行与上一行接续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行号的定义。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准中规定，行号只需写在代码行的最前面即可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空格的应用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准中规定，语句和变量名中间不能有空格。例如，关系运算符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==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不能写成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= =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BS(-2.0)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与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B□S(-□2.0)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作用不再相同，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B□S(-□2.0)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不能正常通过编译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兼顾两种格式的代码写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由于现存大量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 7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）都是采用固定格式编写的，在一些编译器上可能会由于格式的问题而出现编译错误。因此，有必要提供一种能够兼顾两种格式的代码写法，以便于将固定格式的代码转换为符合自由格式要求的代码。能够兼顾两种格式的代码在书写时需要注意的要点有以下几条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始列。除注释行外的每一行代码只能从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列开始编写。这主要是由于自由格式中并没有规定代码编写的起始列，因此可以套用固定格式的规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释行。标明注释行的符号只能用感叹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应该写在第一列。注释行必须单独占一行，不能出现其他语句的行尾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续行方式。续行标志只能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&amp;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在接续的两行中，前一行应该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列后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3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列前添加续行标志；后一行则应该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列书写续行标志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空格使用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中，语句和变量中间不允许出现空格。因此，兼顾两种格式的源代码中也不允许在语句和变量中出现空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符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符集”是指能够用于编写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的所有字符及符号。不是所有的外文字母或数字符号都能被某一高级计算机语言接受，每一种高级计算机语言都会规定它所能使用的字符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允许使用的基本字符主要分为两大类：文字字符和特殊字符。文字字符主要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英文字母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自然数字和下划线。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396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格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中，空格不能出现在语句和变量名中间；除了在字符串常量或是输入输出中外，不代表任何具体意义。其主要作用是分隔语句和变量，使代码更为易读。在国外的一些科学研究和工程设计机构，如美国航空航天局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AS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等，在开发科学计算程序时对空格的使用有一些很好的规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程序中要确保不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的语句或变量名中出现空格，不要尝试通过空格来对变量名进行区别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编写公式时，尽量通过空格来使公式的书写和阅读更为清晰易懂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编写大段代码时，可以使用整行的空格来对代码段进行功能划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建议在编写程序时，尽量遵守这些规定。下面来看一段使用空格来确分四则运算的实例，先给出不使用空格进行区分的范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Y=X+A*B/C-(0.5+C*D)**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注释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尽管注释在编译过程中是一定会被编译器忽略的，但却是源代码文件中十分重要的一部分。因为注释是保证源代码具有可读性的一个非常重要的手段。在不同的高级计算机语言中，表示注释的方法各有不同，甚至在一种语言里，也可能有几种引入注释的方法。不同的注释方法各有优缺点，在使用中应该根据实际情况进行选择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程序中，需要使用“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／”这样的特殊标记来界定注释的内容而不管行边界。采用这种方式进行注释时经常出现的错误就是漏掉结束的界定符，使得后面的语句也变成了注解；好处也很明显，就是能够方便的实现代码的块注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 9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或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+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注释都是在行的任意位置开始直到行的末尾结束。这种做法更为合理、不容易出错，但要实现大段代码的整体注释就不是特别方便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名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为对象命名有一定的要求。简单的说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 7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命名要求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 90/9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命名要求是不同的。本节主要介绍不同标准下的命名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 7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中，程序和变量等对象的名字是由不多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（包括英文字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-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-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数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-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成的字符段。同时，对象名字的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必须是字母，名字的有效使用范围原则上仅限于一个程序单元之中（内部过程除外）。下面的代码段演示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tran 7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的对象命名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GER 0B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GER C-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 s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 test:re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1:40:31Z</dcterms:created>
  <dc:creator>MC SYSTEM</dc:creator>
  <dc:description/>
  <dc:language>en-US</dc:language>
  <cp:lastModifiedBy>MC SYSTEM</cp:lastModifiedBy>
  <dcterms:modified xsi:type="dcterms:W3CDTF">2008-07-28T01:02:09Z</dcterms:modified>
  <cp:revision>3</cp:revision>
  <dc:subject/>
  <dc:title>第2章  Fortran语法基础</dc:title>
</cp:coreProperties>
</file>