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6AC3-B81B-4903-8B84-EBF52F539A1C}" type="slidenum"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5981-7E64-4EBE-A3DF-C3F39CAC9969}" type="slidenum">
              <a:rPr b="0" lang="en-AU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000" y="3872160"/>
            <a:ext cx="891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872160"/>
            <a:ext cx="4350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3400" y="3872160"/>
            <a:ext cx="4350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000" y="3872160"/>
            <a:ext cx="287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9640" y="3872160"/>
            <a:ext cx="287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280" y="3872160"/>
            <a:ext cx="28706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000" y="78840"/>
            <a:ext cx="89154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000" y="3872160"/>
            <a:ext cx="4350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3400" y="3872160"/>
            <a:ext cx="4350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872160"/>
            <a:ext cx="89154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reemarker.sourceforge.net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8" descr="Untitled-11.jpg"/>
          <p:cNvPicPr/>
          <p:nvPr/>
        </p:nvPicPr>
        <p:blipFill>
          <a:blip r:embed="rId1"/>
          <a:stretch/>
        </p:blipFill>
        <p:spPr>
          <a:xfrm>
            <a:off x="0" y="0"/>
            <a:ext cx="990612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3"/>
          <p:cNvSpPr/>
          <p:nvPr/>
        </p:nvSpPr>
        <p:spPr>
          <a:xfrm>
            <a:off x="819000" y="2095560"/>
            <a:ext cx="820908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FreeMarker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学习分享 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曾令华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algn="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011.09.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场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WE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用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87520" y="1036800"/>
            <a:ext cx="87120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testHtml.ftl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显示结果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98320" y="1538280"/>
            <a:ext cx="5353200" cy="2019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c6c12"/>
            </a:outerShdw>
          </a:effectLst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98320" y="4103640"/>
            <a:ext cx="6010560" cy="97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c6c12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场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它的内容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587520" y="1036800"/>
            <a:ext cx="871200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一些特定格式的内容模板，比如定义的接口返回可以使用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我们的中间服务的接口就是使用的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定义接口返回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87520" y="1808280"/>
            <a:ext cx="5857560" cy="4814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c6c12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场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它的内容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587520" y="1036800"/>
            <a:ext cx="8712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MVC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架构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Struts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标签全部就是使用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书写，所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也可以直接使用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Struts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标签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有兴趣的可以参考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Struts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源代码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Mark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运行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87520" y="1036800"/>
            <a:ext cx="87120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实是不依赖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Servle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网络或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环境；它仅仅是通过合并模板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Jav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对象（数据模型）来生成文本输出的类库。你可以在任意地方任意时间来执行模板；不需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HTT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请求转发或类似的手段，也不需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Servlet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环境。出于这些特点你可以轻松的将它整合到任何系统中去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jav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系统中导入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freemarker.ja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包就可以使用模板的功能了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参照之前的一个例子（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使用场景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---WEB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应用的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HTML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页面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）再论述一下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加载解析模板的过程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这个模板存放在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Web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服务器上，看上去像是静态的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HTML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页面。但是不管何时，只要有人访问这个页面时，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FreeMarker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将会介入执行，然后动态转换模板，用最新的数据内容替换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${…}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中的部分（例如：用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Big Joe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或者其他的访问者的用户名来代替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${user}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），生成普通的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HTML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文本并发送结果到访问者的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Web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浏览器中去显示。所以访问者的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浏览器会接收到类似于第一个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HTML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示例的内容（也就是说，显示普通的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HTML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文本而没有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的指令），浏览器也不会感知到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FreeMarker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在服务器端被调用了。模板文件本身（存储在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服务器端的文件）在这个过程中也不会改变什么，所以这个转换过程发生在一次又一次的访问中。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FreeMarker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是会缓存模板的（假设使用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Configuration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对象的方法来创建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Template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对象）。这就是说当调用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getTemplate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方法时，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不但返回了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Template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对象的结果，而且还会将它存储在缓存中，当下一次再以相同（或相等）路径调用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getTemplate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方法时，那么它只返回缓存的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Template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实例，而不会再次加载和解析模板文件了。如果更改了模板文件，当下次调用模板时，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将会自动重新载入和解析模板。然而，要检查模板文件是否改变内容了是需要时间的，有一个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Configuration 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级别的设置被称作为“更新延迟（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emplate_update_delay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）”可以用来配置这个时间。这个时间就是从上次对某个模板检查更新后，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再次检查模板所要间隔的时间。其默认值是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秒。如果想要看到模板立即更新的效果，那么就要把它设置为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编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mark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的插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587520" y="1036800"/>
            <a:ext cx="8712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附件的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hudson.freemarker_ide_0.9.14.ra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（解压到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%ECLIPSE%plugin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目录下重启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Eclipse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87520" y="1036800"/>
            <a:ext cx="87120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FreeMarker_Manual_zh_CN.pd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（中文学习文档）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附件的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FreeMarkerDemo.zi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（我自己写的一些例子）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宋体"/>
                <a:hlinkClick r:id="rId1"/>
              </a:rPr>
              <a:t>http://freemarker.sourceforge.net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（官方网）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Untitled-1ppt2-end.jpg"/>
          <p:cNvPicPr/>
          <p:nvPr/>
        </p:nvPicPr>
        <p:blipFill>
          <a:blip r:embed="rId1"/>
          <a:stretch/>
        </p:blipFill>
        <p:spPr>
          <a:xfrm>
            <a:off x="0" y="-9360"/>
            <a:ext cx="9891720" cy="6867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577880" y="2529000"/>
            <a:ext cx="643572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</a:rPr>
              <a:t>谢  谢</a:t>
            </a:r>
            <a:endParaRPr b="0" lang="en-US" sz="6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52600" y="1027080"/>
            <a:ext cx="8712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什么是模板技术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结合实际，我们使用模板技术的好处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当前流行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AV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模板引擎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专题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模板技术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52600" y="1027080"/>
            <a:ext cx="871200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谓模板，就是一份已经写好了基本内容，有着固定格式的文本。其中空出或者用占位符标识的内容，由模板引擎加载和解析后，并采用动态数据替代。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模板技术从本质上来讲，它是一个占位符动态替换技术。一个完整的模板技术包含四个元素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、模板语言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变量标识和表达式语句，一般包含条件控制和循环控制。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、模板文件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模板文件指包含了模板语言的文本文件。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、动态数据的数据对象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模板文件包含的是静态内容，而用于动态填充的对象就是动态数据对象。一般用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Map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（利用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key/value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）来定位动态数据对象。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、模板引擎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用于合并模板与动态数据对象，得到最终的结果。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一般分三步：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）取得模板文件解析并确认其中的模板语言符合规范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）取得动态数据对象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）合并模板文件（静态内容）和数据对象（动态内容），并生成最终结果。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合实际，我们使用模板技术的好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52600" y="1027080"/>
            <a:ext cx="8712000" cy="44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目前我们系统的接口大概有四种形态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项目引用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jar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包的形式（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java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项目）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Socket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的接口形式  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服务器内部调用返回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格式数据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客户端直接调用服务器接口，返回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JSON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格式数据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针对第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3,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种形态，很多接口的返回结果是相对固定的，有一定的格式。甚至有可能一个接口，可能根据需要返回不同格式的数据。如可以选择返回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结构的数据，也可以返回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JSON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结构的数据。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结合实际，引进模板技术 ，有以下几个好处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、模板内容直观，易于理解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、相同的业务逻辑，可定制不同的响应结果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、实现业务逻辑与视图的分离，业务层更专注于数据的处理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、模板修改简单，方便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前流行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引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52600" y="1027080"/>
            <a:ext cx="87120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当前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jav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比较流行的模板引擎有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elocity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elocity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是一个简单甚至更加轻量级的模板技术，但是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相比，没有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功能强大。在更多应用中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使用起来更简单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共同点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同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jav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模板技术，都可以实现严格的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MVC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隔离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不同点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Freemarker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标签功能更加强大，对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JS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标签支持良好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内置大量常用功能，使用更加方便，如在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IEW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层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forma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日期和数字格式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elocity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eclipseplugin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支持没有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eclipseplugin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支持好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的插件除了支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语法也支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html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语句，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elocity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的插件只支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elocity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的语法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支持宏定义（类似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js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标签）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Marker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52600" y="1027080"/>
            <a:ext cx="87120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是一个用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Jav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言编写的模板引擎，它基于模板来生成文本输出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如下图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数据模型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我们的应用中仅仅只是一个组件，并不知道什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htt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协议或者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Servle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仅仅是用于生成文本内容而已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631800" y="2519280"/>
            <a:ext cx="59421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Mark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的总体结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52600" y="1027080"/>
            <a:ext cx="87120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模板也被称为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</a:rPr>
              <a:t>FTL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（代表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模板语言）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6cd"/>
                </a:solidFill>
                <a:latin typeface="黑体"/>
              </a:rPr>
              <a:t>Text </a:t>
            </a:r>
            <a:r>
              <a:rPr b="0" lang="zh-CN" sz="1400" spc="-1" strike="noStrike">
                <a:solidFill>
                  <a:srgbClr val="8ac6cd"/>
                </a:solidFill>
                <a:latin typeface="黑体"/>
              </a:rPr>
              <a:t>文本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：文本会照着原样输出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黑体"/>
              </a:rPr>
              <a:t>Interpolation </a:t>
            </a:r>
            <a:r>
              <a:rPr b="0" lang="zh-CN" sz="1400" spc="-1" strike="noStrike">
                <a:solidFill>
                  <a:srgbClr val="ff9900"/>
                </a:solidFill>
                <a:latin typeface="黑体"/>
              </a:rPr>
              <a:t>插值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：这部分的输出会被计算的值来替换。插值由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${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}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所分隔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黑体"/>
              </a:rPr>
              <a:t>FTL tags </a:t>
            </a:r>
            <a:r>
              <a:rPr b="1" lang="zh-CN" sz="1400" spc="-1" strike="noStrike">
                <a:solidFill>
                  <a:srgbClr val="ffff00"/>
                </a:solidFill>
                <a:latin typeface="黑体"/>
              </a:rPr>
              <a:t>标签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FTL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标签和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HTML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标签很相似，不会打印在输出内容中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黑体"/>
              </a:rPr>
              <a:t>C</a:t>
            </a:r>
            <a:r>
              <a:rPr b="1" lang="en-US" sz="1400" spc="-1" strike="noStrike">
                <a:solidFill>
                  <a:srgbClr val="1fa30d"/>
                </a:solidFill>
                <a:latin typeface="黑体"/>
              </a:rPr>
              <a:t>omments </a:t>
            </a:r>
            <a:r>
              <a:rPr b="0" lang="zh-CN" sz="1400" spc="-1" strike="noStrike">
                <a:solidFill>
                  <a:srgbClr val="1fa30d"/>
                </a:solidFill>
                <a:latin typeface="黑体"/>
              </a:rPr>
              <a:t>注释：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FTL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的注释和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HTML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的注释也很相似，但它们是由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&lt;#--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来分隔的。模板解析时，会忽略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6800" y="1719360"/>
            <a:ext cx="5153040" cy="300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c6c12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Mark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特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587520" y="1036800"/>
            <a:ext cx="8712000" cy="57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</a:rPr>
              <a:t>通用目标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）能够生成各种文本：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HTML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XML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RTF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JSON,Java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源代码等等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）易于嵌入到你的产品中：轻量级，不需要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Servlet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环境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）插件式模板载入器：可以从任何源载入模板，如本地文件、数据库等等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</a:rPr>
              <a:t>强大的模板语言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）支持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include,if/else/elseif,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循环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list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等指令，如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&lt;#if x == 1&gt;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x is 1 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&lt;#elseif x == 2&gt;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          </a:t>
            </a: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x is 2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&lt;#else&gt;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x is not 1 nor 2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&lt;/#if&gt;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）插值支持表达式，如：</a:t>
            </a: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${</a:t>
            </a:r>
            <a:r>
              <a:rPr b="0" lang="zh-CN" sz="14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0" i="1" lang="en-US" sz="1400" spc="-1" strike="noStrike">
                <a:solidFill>
                  <a:srgbClr val="ff0000"/>
                </a:solidFill>
                <a:latin typeface="黑体"/>
              </a:rPr>
              <a:t>5+8</a:t>
            </a:r>
            <a:r>
              <a:rPr b="0" i="1" lang="zh-CN" sz="1400" spc="-1" strike="noStrike">
                <a:solidFill>
                  <a:srgbClr val="ff0000"/>
                </a:solidFill>
                <a:latin typeface="黑体"/>
              </a:rPr>
              <a:t>）</a:t>
            </a:r>
            <a:r>
              <a:rPr b="0" i="1" lang="en-US" sz="1400" spc="-1" strike="noStrike">
                <a:solidFill>
                  <a:srgbClr val="ff0000"/>
                </a:solidFill>
                <a:latin typeface="黑体"/>
              </a:rPr>
              <a:t>/2</a:t>
            </a: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}   </a:t>
            </a:r>
            <a:r>
              <a:rPr b="0" lang="zh-CN" sz="1400" spc="-1" strike="noStrike">
                <a:solidFill>
                  <a:srgbClr val="ff0000"/>
                </a:solidFill>
                <a:latin typeface="黑体"/>
              </a:rPr>
              <a:t>输出为</a:t>
            </a:r>
            <a:r>
              <a:rPr b="0" lang="en-US" sz="1400" spc="-1" strike="noStrike">
                <a:solidFill>
                  <a:srgbClr val="ff0000"/>
                </a:solidFill>
                <a:latin typeface="黑体"/>
              </a:rPr>
              <a:t>6.5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）支持宏定义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）支持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Struts2.0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的标签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</a:rPr>
              <a:t>、通用数据模型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FreeMarker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不是直接反射到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Java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对象，而是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Java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对象通过插件式对象封装，以变量方式在模板中显示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对象包括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JavaBean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XML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文档等等，对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XML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</a:rPr>
              <a:t>对象也提供强大的处理能力。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场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WE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用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87520" y="1036800"/>
            <a:ext cx="87120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请求一个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Servle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返回一个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html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页面展示内容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Servle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87520" y="2054160"/>
            <a:ext cx="637200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c6c12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3:14:20Z</dcterms:created>
  <dc:creator>--</dc:creator>
  <dc:description/>
  <dc:language>en-US</dc:language>
  <cp:lastModifiedBy>微软用户</cp:lastModifiedBy>
  <cp:lastPrinted>2002-04-23T04:05:48Z</cp:lastPrinted>
  <dcterms:modified xsi:type="dcterms:W3CDTF">2011-09-27T16:47:33Z</dcterms:modified>
  <cp:revision>4713</cp:revision>
  <dc:subject/>
  <dc:title>Slide 1</dc:title>
</cp:coreProperties>
</file>