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21E-D69A-4852-AEE3-C74EC3D3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A4D-5F0C-478B-9C7D-F4F28BAB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A31-57F5-41C1-B23C-21299D64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CAE-3D8A-46E5-816E-3457DF0E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BCA-26B8-44CE-92C7-0CDF8FB3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90D-B15C-46A1-8C7B-539D567F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5A4-CF84-4598-9BA3-227CD2CA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826-B3DC-4467-B4AF-783C7CE4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F23-4ACA-4669-8D75-88DFF50C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CE7-E202-4F7B-8F13-EFC8AA4A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5DC-6C3A-43F5-981B-47DAF61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F44-6027-44F1-889A-2F7A36E1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6351-9F37-497C-B22C-C67FDB027E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FreeMarker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介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指令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中插入另外一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eeMark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文件（由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数指定）。被包含模板的输出格式是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标签出现的位置插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#include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 or &lt;#include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path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要包含文件的路径；一个算作是字符串的表达式。（用其他话说，它不用是一个固定的字符串，它也可以是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file.baseDir + “/menu.ftl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样的东西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一个或多个这样的选项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coding=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encoding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rse=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pa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encod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算作是字符串的表达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算作是布尔值的表达式（为了向下兼容，也接受一部分字符串值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macro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宏变量存储模板片段（称为宏定义体）可以被用作自定义指令，调用方式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lt;@name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param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=  …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#macro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name param1 param2 ... param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/#macro&gt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宏变量的名称，它不是表达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ra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ra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： 局部变量的名称，存储参数的值（不是表达式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reemark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reemark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什么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FreeMarke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eeMark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一款模板引擎：一种基于模板的、用来生成输出文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任何来自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格式的文本用来自动生成源代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通用工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6629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据模型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输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文件同样是静态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码，但是除了这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码外，代码中还包括了一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eeMark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，这些指令就能够做到动态效果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模型基本结构是树状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量存储单一的值，这种类型的值可以是字符串，数字，日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或者是布尔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哈希表是存储变量和与其相关且有唯一标识名称变量的容器。 序列是存储有序变量的容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的变量可以通过数字索引来检索，索引通常从零开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236196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文件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762120"/>
            <a:ext cx="3429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模型示例（后台提供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3962520" cy="2179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6880" y="3657600"/>
            <a:ext cx="2590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3429000" cy="216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3581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freemarke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T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签来调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irectiv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签分为两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始标签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&lt;#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directivename paramet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束标签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&lt;/#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directivenam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&lt;#if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&lt;/#if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标签没有嵌套内容（在开始标签和结束标签之内的内容），那么可以只使用开始标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用指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acr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可以有条件地跳过模板的一部分，这和程序语言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相似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#if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#elseif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#elseif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condition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#els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/#if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里：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：表达式将被计算成布尔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令来处理模板的一个部分中的一个序列中包含的各个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#list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&lt;/#li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里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表达式将被算作序列或集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循环变量（不是表达式）的名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0:43:08Z</dcterms:created>
  <dc:creator>Administrator</dc:creator>
  <dc:description/>
  <dc:language>en-US</dc:language>
  <cp:lastModifiedBy>Administrator</cp:lastModifiedBy>
  <dcterms:modified xsi:type="dcterms:W3CDTF">2011-02-15T09:52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