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F3A-21C8-4CA3-9D1D-22BEB499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F2E-7839-4E94-B023-763F4A47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394-8B1C-4A6B-98E1-DD67E3EE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850-79C1-434B-866D-74A65771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B5EC-76CE-4614-9626-AFB6840B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33DB-0CDC-4D1E-8874-358E6EE4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344E-8DF7-4627-AB44-E3325A4E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B269-33C1-445D-B778-4335A27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1C09-35AB-4CBC-B627-F391EE1D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7062-45E1-40E2-9C00-6CE6AC1E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BE9A-EE83-4CBE-A899-5C6E0594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672-3E05-4890-A7EF-6444AE81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A981-3F25-4D9E-8321-E487E702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A911-EE3B-4E30-8C20-B50EEA8D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EE2-5940-443F-BDD8-DBA531A8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334A-3403-4A3B-B3DA-B3F7C30B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CA24-DD8D-47BC-8E3F-76EFEBE2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A34-3073-403F-8072-29DA88E0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B78-D77D-4E9B-A76C-1775FB43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3AE-9B62-4AAF-90B7-25B0425D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530-471A-467B-9714-5C45B87A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18A-32D2-4BC6-B6AF-A84C1C25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A0B-8F32-408C-A25B-EDA99647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648-2E16-4A4F-9491-80FD9CE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AD53-AF5D-4F21-88D4-E3968F5DF3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9EF3-6D13-4308-9181-E0120295D2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My%20Documents/freemarker-2.3.8/docs/docs/ref_directive_if.html" TargetMode="External"/><Relationship Id="rId2" Type="http://schemas.openxmlformats.org/officeDocument/2006/relationships/hyperlink" Target="file:///C:/Documents%20and%20Settings/Administrator/My%20Documents/freemarker-2.3.8/docs/docs/ref_directive_switch.html" TargetMode="External"/><Relationship Id="rId3" Type="http://schemas.openxmlformats.org/officeDocument/2006/relationships/hyperlink" Target="file:///C:/Documents%20and%20Settings/Administrator/My%20Documents/freemarker-2.3.8/docs/docs/ref_directive_list.html" TargetMode="External"/><Relationship Id="rId4" Type="http://schemas.openxmlformats.org/officeDocument/2006/relationships/hyperlink" Target="file:///C:/Documents%20and%20Settings/Administrator/My%20Documents/freemarker-2.3.8/docs/docs/ref_directive_include.html" TargetMode="External"/><Relationship Id="rId5" Type="http://schemas.openxmlformats.org/officeDocument/2006/relationships/hyperlink" Target="file:///C:/Documents%20and%20Settings/Administrator/My%20Documents/freemarker-2.3.8/docs/docs/ref_directive_import.html" TargetMode="External"/><Relationship Id="rId6" Type="http://schemas.openxmlformats.org/officeDocument/2006/relationships/hyperlink" Target="file:///C:/Documents%20and%20Settings/Administrator/My%20Documents/freemarker-2.3.8/docs/docs/ref_directive_noparse.html" TargetMode="External"/><Relationship Id="rId7" Type="http://schemas.openxmlformats.org/officeDocument/2006/relationships/hyperlink" Target="file:///C:/Documents%20and%20Settings/Administrator/My%20Documents/freemarker-2.3.8/docs/docs/ref_directive_compress.html" TargetMode="External"/><Relationship Id="rId8" Type="http://schemas.openxmlformats.org/officeDocument/2006/relationships/hyperlink" Target="file:///C:/Documents%20and%20Settings/Administrator/My%20Documents/freemarker-2.3.8/docs/docs/ref_directive_escape.html" TargetMode="External"/><Relationship Id="rId9" Type="http://schemas.openxmlformats.org/officeDocument/2006/relationships/hyperlink" Target="file:///C:/Documents%20and%20Settings/Administrator/My%20Documents/freemarker-2.3.8/docs/docs/ref_directive_assign.html" TargetMode="External"/><Relationship Id="rId10" Type="http://schemas.openxmlformats.org/officeDocument/2006/relationships/hyperlink" Target="file:///C:/Documents%20and%20Settings/Administrator/My%20Documents/freemarker-2.3.8/docs/docs/ref_directive_global.html" TargetMode="External"/><Relationship Id="rId11" Type="http://schemas.openxmlformats.org/officeDocument/2006/relationships/hyperlink" Target="file:///C:/Documents%20and%20Settings/Administrator/My%20Documents/freemarker-2.3.8/docs/docs/ref_directive_local.html" TargetMode="External"/><Relationship Id="rId12" Type="http://schemas.openxmlformats.org/officeDocument/2006/relationships/hyperlink" Target="file:///C:/Documents%20and%20Settings/Administrator/My%20Documents/freemarker-2.3.8/docs/docs/ref_directive_setting.html" TargetMode="External"/><Relationship Id="rId13" Type="http://schemas.openxmlformats.org/officeDocument/2006/relationships/hyperlink" Target="file:///C:/Documents%20and%20Settings/Administrator/My%20Documents/freemarker-2.3.8/docs/docs/ref_directive_userDefined.html" TargetMode="External"/><Relationship Id="rId14" Type="http://schemas.openxmlformats.org/officeDocument/2006/relationships/hyperlink" Target="file:///C:/Documents%20and%20Settings/Administrator/My%20Documents/freemarker-2.3.8/docs/docs/ref_directive_macro.html" TargetMode="External"/><Relationship Id="rId15" Type="http://schemas.openxmlformats.org/officeDocument/2006/relationships/hyperlink" Target="file:///C:/Documents%20and%20Settings/Administrator/My%20Documents/freemarker-2.3.8/docs/docs/ref_directive_function.html" TargetMode="External"/><Relationship Id="rId16" Type="http://schemas.openxmlformats.org/officeDocument/2006/relationships/hyperlink" Target="file:///C:/Documents%20and%20Settings/Administrator/My%20Documents/freemarker-2.3.8/docs/docs/ref_directive_flush.html" TargetMode="External"/><Relationship Id="rId17" Type="http://schemas.openxmlformats.org/officeDocument/2006/relationships/hyperlink" Target="file:///C:/Documents%20and%20Settings/Administrator/My%20Documents/freemarker-2.3.8/docs/docs/ref_directive_stop.html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Arial"/>
              </a:rPr>
              <a:t>FreeMarker</a:t>
            </a:r>
            <a:br>
              <a:rPr sz="4800"/>
            </a:b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优秀的模板引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f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#i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di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&lt;#elsei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dition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gt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#elsei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dition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#else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]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/#if&gt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f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if x = 1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 is 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elseif x = 2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 is 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elseif x = 3&gt;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 is 3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elseif x = 4&gt;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 is 4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else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x is not 1 nor 2 nor 3 nor 4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/#if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witch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#switch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valu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#cas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efValue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lt;#break&gt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#cas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efValue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lt;#break&gt;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#cas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efValu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lt;#break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#default&gt;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/#switch&gt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witch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switch being.size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case "small"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will be processed if it is smal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break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case "medium"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will be processed if it is mediu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break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case "large"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will be processed if it is lar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break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default&gt;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will be processed if it is neith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/#switch&g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ist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list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te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&lt;#break&gt;]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#list&gt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说明：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em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是一个循环变量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item_index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代表索引号，是数值；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e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_has_next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用于判断当前项之后是否还存在，是布尔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ist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list lsmenu as menu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a href="${url}${menu[0]}&amp;isChangeMenu=Y"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font class="text0"&gt;${menu[1]}&lt;/font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/a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if (menu_index + 1)%6=0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${"&lt;br&gt;"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elseif menu_has_next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${"|"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/#if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/#list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ist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assign x=3&gt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list 1..x as i&g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${i}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#list&g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输出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lude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include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ilenam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include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ilenam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option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gt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说明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options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包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rse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cod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se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：为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ue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时，被包含的文件作用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T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模板处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否则作为普通文本处理，默认为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ue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cod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lude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指令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include "/common/navbar.html"           parse=false encoding="Shift_JIS"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includ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*/footer.ft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代表本目录或任一上级目录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如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foo/bar/template.ft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则上例按如下顺序查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foo/bar/footer.ftl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foo/footer.ft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footer.ftl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如有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incl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/commons/footer.ft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gt;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会   按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foo/bar/commons/footer.ft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foo/commons/footer.ftl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commons/footer.ft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顺序查找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import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has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gt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例：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#import "/libs/mylib.ftl" as my&gt; &lt;@my.copyright date="1999-2002"/&gt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reeMarker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特性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v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编写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能够生成各种文本：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M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TF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v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源代码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可作为一个组件用于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VC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模式的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ew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数据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模板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输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o_freemarker"/>
          <p:cNvPicPr/>
          <p:nvPr/>
        </p:nvPicPr>
        <p:blipFill>
          <a:blip r:embed="rId1"/>
          <a:stretch/>
        </p:blipFill>
        <p:spPr>
          <a:xfrm>
            <a:off x="4067280" y="4221000"/>
            <a:ext cx="39621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Noparse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noparse&gt;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&lt;/#noparse&gt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把其中的代码当普通字符串处理，如：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noparse&gt; &lt;#list animals as being&gt; &lt;tr&gt;&lt;td&gt;${being.name}&lt;td&gt;${being.price} Euros &lt;/#list&gt; &lt;/#noparse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执行后是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list animals as being&gt; &lt;tr&gt;&lt;td&gt;${being.name}&lt;td&gt;${being.price} Euros &lt;/#list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ssign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ame1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alue1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ame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alue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... nam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       alu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ame as above..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n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amespacehas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apture thi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&lt;/#assign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n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amespacehas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apture thi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&lt;/#assign&gt;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说明：定义或替换已存在的顶级变量。如：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me_hash.subvar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不行，而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me_hash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则可以。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ssign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seasons = ["winter", "spring", "summer", "autumn"]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test = test + 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import "/mylib.ftl" as my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bgColor="red" in my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macro myMacro&gt;foo&lt;/#macro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x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list 1..3 as n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${n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@myMacro /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#list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#assign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umber of words: ${x?word_list?size} ${x}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输出是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umber of words: 6  1 foo 2 foo 3 fo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tting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setting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valu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gt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用来设置数字日期格式等。如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${1.2}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setting locale="en_US"&g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${1.2}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输出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用户定义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@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cro_or_transf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ram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val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ram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val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ram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val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@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cro_or_transf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gt; ... &lt;/@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cro_or_transf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说明：主要用来调用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cro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或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cro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macro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ram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ram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 param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nested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loopvar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loopvar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loopvar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return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/#macro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说明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unction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function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ram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ram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 param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#return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eturnValu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/#function&gt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如：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#function avg nums...&gt; &lt;#local sum = 0&gt; &lt;#list nums as num&gt; &lt;#local sum = sum + num&gt; &lt;/#list&gt; &lt;#if nums?size != 0&gt; &lt;#return sum / nums?size&gt; &lt;/#if&gt; &lt;/#function&gt; ${avg(10, 20)} ${avg(10, 20, 30, 40)} ${avg()!"N/A"}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输出：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5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5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/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ttempt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attempt&g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ttempt bloc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#recover&gt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recover bloc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#attempt&gt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说明：若在遇到错误，则执行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cover blo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ttempt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指令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mary conten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ttempt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tional content: ${thisMayFails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recover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s! The optional content is not availabl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#attempt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mary content continu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数据类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d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ole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q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de (for XM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reeMarker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特性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与容器无关，不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rvle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可以应用于非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应用程序环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可以在模板中使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SP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标记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强大的模板语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通用数据模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强大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XM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处理能力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eMarke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是免费的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ex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substring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oExclusiv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ex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substring(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如：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${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b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substring(2)}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结果是：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c; ${'abc'?substring(1, 2)}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结果是：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p_first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第一个单词的第一个字母大写。如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green mou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cap_first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eEN mou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cap_first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green mou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cap_first}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的结果是：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een mous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eEN mous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green mou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te, time, datetim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将字符串转换成日期时间。如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assign test1 = "10/25/1995"?date("MM/dd/yyyy")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assign test2 = "15:05:30"?time("HH:mm:ss")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assign test3 = "1995-10-25 03:05 PM"?datetime("yyyy-MM-dd hh:mm a")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test1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test2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test3}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输出结果是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ct 25, 1995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:05:30 P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ct 25, 1995 3:05:00 P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ds_with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判断是否是以指定的字符串结束。如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hea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ends_with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ea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将返回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dex_of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返回指定子串出现的位置。如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bcab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index_of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返回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bcab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index_of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, 2)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返回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st_index_of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返回指定串从后往前出现的位置。如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bcab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last_index_of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返回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abcabc"?last_index_of("ab", 2)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返回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ngth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字符数，即字符串的长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wer_case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转成小写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ft_pad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不满指定长度时，用指定字符填补（默认为空格）。如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[${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left_pad(5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}]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输出：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[---ab]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ght_pad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：与前者相似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tains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：若包含指定子串，则返回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rue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。如：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#i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iceou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?contains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&gt;It contain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/#if&gt;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输出：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t contains "ice"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place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。如：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${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is is a car acaru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?replace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a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ulldoz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}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输出：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his is a bulldozer abulldozeru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lit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。如：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#li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omeMOOtestMOOtex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?split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 as x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- ${x}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/#list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输出：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-so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- tes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-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arts_wi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im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：去首尾空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pper_cas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：转大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ing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。如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assign answer=42/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answer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answer?string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-- the same as ${answer} --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answer?string.number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answer?string.currency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answer?string.percent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输出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2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2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2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42.00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,20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要指定数字格式，用如下方法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setting number_format="0.###E0"/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${1234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${12345?string("0.####E0")}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输出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234E3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2345E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te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qu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rst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第一个元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st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最后一个元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q_contains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判断是否包含指定字符串。如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assign x = ["red", 16, "blue", "cyan"]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blue": ${x?seq_contains("blue")?string("yes", "no")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yellow": ${x?seq_contains("yellow")?string("yes", "no")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: ${x?seq_contains(16)?string("yes", "no")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16": ${x?seq_contains("16")?string("yes", "no")}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输出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blue": y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yellow": n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: y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16": n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qu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q_index_of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：返回指定值在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quences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中首次出现的位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若无，则返回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。如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assign colors = [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e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lu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]&gt;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colors?seq_index_of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lu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colors?seq_index_of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}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colors?seq_index_of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urpl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}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输出：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也可用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names?seq_index_of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o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, 2)}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这种形式，返回指定串第几次出现的位置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q_last_index_o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应用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head&gt;  &lt;title&gt;Welcome!&lt;/title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head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body&gt;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h1&gt;Welcome ${user}!&lt;/h1&gt;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p&gt;Our latest product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a href="${latestProduct.url}"&gt;${latestProduct.name}&lt;/a&gt;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body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html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qu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ve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iz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ort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。如：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#assign ls = ["whale", "Barbara", "zeppelin", "aardvark", "beetroot"]?sort&gt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#list ls as i&gt;${i} &lt;/#list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ort_by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。如：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#assign ls = [ {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ha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igh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2000}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{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arbar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igh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53},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{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zeppeli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igh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-200},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{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ardvark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igh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30},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      {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etroo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igh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0.3} ]&gt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rder by nam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#list ls?sort_by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 as i&gt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- ${i.name}: ${i.weight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/#list&gt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rder by weight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#list ls?sort_by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eigh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 as i&gt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${i.name}: ${i.weight}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&lt;/#list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qu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其它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fault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：如果存在就用本生的值，不存在就用缺省值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如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#assign seq = [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]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${seq[0]?default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}${seq[1]?default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}${seq[2]?default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}${seq[3]?defa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t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}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输出：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b--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ists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：变量存在返回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ue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则否返回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s_content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：变量存在同时不为空时返回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ue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则否返回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应用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est.setAttribute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user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testProduct.setUrl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ducts/greenmouse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testProduct.setName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ig Jo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est.setAttribute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testProdu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latestProduct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应用实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head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title&gt;Welcome!&lt;/title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head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body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h1&gt;Welcome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ig Jo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!&lt;/h1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p&gt;Our latest produc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a href="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ducts/greenmouse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"&gt;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een mou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a&gt;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body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lt;/html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数据模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类似于目录的变量称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ashes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，包含保存下级变量的唯一的查询名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类似于文件的变量称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calars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，保存单值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alars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保存的值有两种类型：字符串（用引号括起，可以是单引号或双引号）和数字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对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alars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的访问从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ot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开始，各部分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分隔，如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s.mouse.pr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另外一种变量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quences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，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ashes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类似，只是不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使用变量名字，而使用数字索引。如：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assign h = {"name":"mouse", "price":50}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assign keys = h?keys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#list keys as key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${key} = ${h[key]}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&lt;/#list&gt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emaker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语法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${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reeMarker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会在输出时用实际值进行替代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T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标记（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eeMarker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模板语言标记）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类似于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ML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标记，为了与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ML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标记区分，用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#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开始（有些以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@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开始）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注释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包含在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&lt;#--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-&gt;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（而不是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&lt;!--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-&gt;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）之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emaker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常用指令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f, else, elsei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switch, case, default, brea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list, brea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includ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mpor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nopa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ompr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escape, noesca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assig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globa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settin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User-defined directive (&lt;@...&gt;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macro, nested, retur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function, retur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flush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stop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t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, lt, r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ttempt, recov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sit, recurse, fallbac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5:21:13Z</dcterms:created>
  <dc:creator>a</dc:creator>
  <dc:description/>
  <dc:language>en-US</dc:language>
  <cp:lastModifiedBy>wg2993</cp:lastModifiedBy>
  <dcterms:modified xsi:type="dcterms:W3CDTF">2009-03-27T06:09:43Z</dcterms:modified>
  <cp:revision>119</cp:revision>
  <dc:subject/>
  <dc:title>FreeMarker </dc:title>
</cp:coreProperties>
</file>