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chimes.wav" ContentType="audio/x-wav"/>
  <Override PartName="/ppt/media/image17.gif" ContentType="image/gif"/>
  <Override PartName="/ppt/media/image27.jpeg" ContentType="image/jpeg"/>
  <Override PartName="/ppt/media/image52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8.gif" ContentType="image/gif"/>
  <Override PartName="/ppt/media/image37.jpeg" ContentType="image/jpeg"/>
  <Override PartName="/ppt/media/image33.jpeg" ContentType="image/jpeg"/>
  <Override PartName="/ppt/media/image39.jpeg" ContentType="image/jpeg"/>
  <Override PartName="/ppt/media/image45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43.gif" ContentType="image/gif"/>
  <Override PartName="/ppt/media/image46.jpeg" ContentType="image/jpeg"/>
  <Override PartName="/ppt/media/image47.jpeg" ContentType="image/jpeg"/>
  <Override PartName="/ppt/media/image49.jpeg" ContentType="image/jpeg"/>
  <Override PartName="/ppt/media/image32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30.jpeg" ContentType="image/jpeg"/>
  <Override PartName="/ppt/media/image12.gif" ContentType="image/gif"/>
  <Override PartName="/ppt/media/image2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gif" ContentType="image/gif"/>
  <Override PartName="/ppt/media/image48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30A-732B-4753-9BD0-3F8E1B2D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202-1BFA-45B4-8A38-0D70E3C9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0A6-A815-45CC-8EBA-24C658A4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5EA-348B-4C01-81D7-EC7F9DE1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B85E-8AA4-4A91-B729-5A8BDDB0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D2C2-BAD8-452C-92A3-27E02533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BBB7-A74E-4205-8162-49D4757C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EB1D-3D98-4C2A-8C5D-0B30B070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181E-CE6D-43E1-9734-78818510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87B2-7084-4C44-8FC5-A04743D0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2C93-8172-4935-89B3-BCAA190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EA2-95DC-40CC-A6BD-773B6030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A523-E10B-4A27-AA6A-BDF14FA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17B6-20AE-4090-8693-9B62EED7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D305-044E-4E66-A964-40684126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2612-0263-413F-AF39-2E68E16A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77AE-A8B6-4F71-A860-7DFD5295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E77-66A0-4AE4-89E4-4776D88A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426-AA21-4D65-AF22-15A6D1DF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0C5-A1FB-49FB-B3FF-0587DB8B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3DE-16F1-4E6E-8D2F-D81AA7A2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4EE-0642-41D2-AAC9-2535082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1E9-D40A-4700-B5C6-B39E05A9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37F-029E-45D8-8118-16EBD693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720"/>
                <a:chOff x="6273360" y="-21240"/>
                <a:chExt cx="2867400" cy="22687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6" name="未知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未知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" name="未知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未知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22" name="未知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未知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25" name="未知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未知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8" name="未知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未知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1" name="未知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未知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4" name="未知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未知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120"/>
                  <a:ext cx="1063800" cy="1141560"/>
                  <a:chOff x="6537960" y="906120"/>
                  <a:chExt cx="1063800" cy="1141560"/>
                </a:xfrm>
              </p:grpSpPr>
              <p:sp>
                <p:nvSpPr>
                  <p:cNvPr id="37" name="未知"/>
                  <p:cNvSpPr/>
                  <p:nvPr/>
                </p:nvSpPr>
                <p:spPr>
                  <a:xfrm flipH="1" rot="18888600">
                    <a:off x="6789960" y="1196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未知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未知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未知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6" name="未知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未知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未知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未知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未知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未知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未知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未知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61" name="未知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未知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未知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2160" y="15840"/>
                  <a:ext cx="607680" cy="785520"/>
                  <a:chOff x="7112160" y="15840"/>
                  <a:chExt cx="607680" cy="785520"/>
                </a:xfrm>
              </p:grpSpPr>
              <p:sp>
                <p:nvSpPr>
                  <p:cNvPr id="67" name="未知"/>
                  <p:cNvSpPr/>
                  <p:nvPr/>
                </p:nvSpPr>
                <p:spPr>
                  <a:xfrm flipH="1" rot="3474000">
                    <a:off x="7240320" y="477000"/>
                    <a:ext cx="5652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未知"/>
                  <p:cNvSpPr/>
                  <p:nvPr/>
                </p:nvSpPr>
                <p:spPr>
                  <a:xfrm flipH="1" rot="3474000">
                    <a:off x="7114320" y="103680"/>
                    <a:ext cx="303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240"/>
                  <a:ext cx="466200" cy="808560"/>
                  <a:chOff x="7287840" y="-21240"/>
                  <a:chExt cx="466200" cy="808560"/>
                </a:xfrm>
              </p:grpSpPr>
              <p:sp>
                <p:nvSpPr>
                  <p:cNvPr id="70" name="未知"/>
                  <p:cNvSpPr/>
                  <p:nvPr/>
                </p:nvSpPr>
                <p:spPr>
                  <a:xfrm flipH="1" rot="4126800">
                    <a:off x="7332120" y="45900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未知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3" name="未知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6" name="未知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未知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未知"/>
                <p:cNvSpPr/>
                <p:nvPr/>
              </p:nvSpPr>
              <p:spPr>
                <a:xfrm flipH="1" rot="4578600">
                  <a:off x="7418160" y="48492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520"/>
                  <a:ext cx="497520" cy="790920"/>
                  <a:chOff x="7665480" y="-11520"/>
                  <a:chExt cx="497520" cy="790920"/>
                </a:xfrm>
              </p:grpSpPr>
              <p:sp>
                <p:nvSpPr>
                  <p:cNvPr id="81" name="未知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未知"/>
                  <p:cNvSpPr/>
                  <p:nvPr/>
                </p:nvSpPr>
                <p:spPr>
                  <a:xfrm rot="17742000">
                    <a:off x="7886520" y="77760"/>
                    <a:ext cx="291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160"/>
                  <a:ext cx="786240" cy="747360"/>
                  <a:chOff x="7662600" y="38160"/>
                  <a:chExt cx="786240" cy="747360"/>
                </a:xfrm>
              </p:grpSpPr>
              <p:sp>
                <p:nvSpPr>
                  <p:cNvPr id="84" name="未知"/>
                  <p:cNvSpPr/>
                  <p:nvPr/>
                </p:nvSpPr>
                <p:spPr>
                  <a:xfrm rot="18822600">
                    <a:off x="762084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未知"/>
                  <p:cNvSpPr/>
                  <p:nvPr/>
                </p:nvSpPr>
                <p:spPr>
                  <a:xfrm rot="18822600">
                    <a:off x="8101800" y="119160"/>
                    <a:ext cx="31788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760" y="929880"/>
                  <a:ext cx="913680" cy="1249200"/>
                  <a:chOff x="6710760" y="929880"/>
                  <a:chExt cx="913680" cy="1249200"/>
                </a:xfrm>
              </p:grpSpPr>
              <p:sp>
                <p:nvSpPr>
                  <p:cNvPr id="90" name="未知"/>
                  <p:cNvSpPr/>
                  <p:nvPr/>
                </p:nvSpPr>
                <p:spPr>
                  <a:xfrm flipH="1" rot="18336000">
                    <a:off x="6859080" y="125604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 flipH="1" rot="18336000">
                    <a:off x="6713280" y="178740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未知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2680" y="1001160"/>
                  <a:ext cx="363240" cy="1217520"/>
                  <a:chOff x="7312680" y="1001160"/>
                  <a:chExt cx="363240" cy="1217520"/>
                </a:xfrm>
              </p:grpSpPr>
              <p:sp>
                <p:nvSpPr>
                  <p:cNvPr id="96" name="未知"/>
                  <p:cNvSpPr/>
                  <p:nvPr/>
                </p:nvSpPr>
                <p:spPr>
                  <a:xfrm flipH="1" rot="16870800">
                    <a:off x="713592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flipH="1" rot="16870800">
                    <a:off x="7253640" y="1876320"/>
                    <a:ext cx="42120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未知"/>
                  <p:cNvSpPr/>
                  <p:nvPr/>
                </p:nvSpPr>
                <p:spPr>
                  <a:xfrm rot="3144000">
                    <a:off x="768924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未知"/>
                  <p:cNvSpPr/>
                  <p:nvPr/>
                </p:nvSpPr>
                <p:spPr>
                  <a:xfrm rot="3144000">
                    <a:off x="826668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600" cy="1261800"/>
                  <a:chOff x="7786440" y="956160"/>
                  <a:chExt cx="732600" cy="1261800"/>
                </a:xfrm>
              </p:grpSpPr>
              <p:sp>
                <p:nvSpPr>
                  <p:cNvPr id="102" name="未知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未知"/>
                  <p:cNvSpPr/>
                  <p:nvPr/>
                </p:nvSpPr>
                <p:spPr>
                  <a:xfrm rot="3745200">
                    <a:off x="807984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未知"/>
                  <p:cNvSpPr/>
                  <p:nvPr/>
                </p:nvSpPr>
                <p:spPr>
                  <a:xfrm rot="4286400">
                    <a:off x="7536600" y="1351440"/>
                    <a:ext cx="8215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未知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11" name="未知"/>
                  <p:cNvSpPr/>
                  <p:nvPr/>
                </p:nvSpPr>
                <p:spPr>
                  <a:xfrm rot="5755200">
                    <a:off x="7321320" y="1401480"/>
                    <a:ext cx="738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未知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600" y="911880"/>
                <a:ext cx="218052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68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0520" y="5994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480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52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A613-FD98-44A2-8E86-1501827669C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160"/>
            <a:ext cx="7128000" cy="7923600"/>
            <a:chOff x="2010960" y="24516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160"/>
              <a:ext cx="7128000" cy="7706520"/>
              <a:chOff x="2010960" y="245160"/>
              <a:chExt cx="7128000" cy="77065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未知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未知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190" name="未知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未知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193" name="未知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未知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196" name="未知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未知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未知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未知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未知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未知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05" name="未知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未知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4280"/>
                    <a:ext cx="2557080" cy="2741400"/>
                    <a:chOff x="2646720" y="2474280"/>
                    <a:chExt cx="2557080" cy="2741400"/>
                  </a:xfrm>
                </p:grpSpPr>
                <p:sp>
                  <p:nvSpPr>
                    <p:cNvPr id="208" name="未知"/>
                    <p:cNvSpPr/>
                    <p:nvPr/>
                  </p:nvSpPr>
                  <p:spPr>
                    <a:xfrm flipH="1" rot="18888600">
                      <a:off x="3254400" y="317160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未知"/>
                    <p:cNvSpPr/>
                    <p:nvPr/>
                  </p:nvSpPr>
                  <p:spPr>
                    <a:xfrm flipH="1" rot="18888600">
                      <a:off x="2692440" y="429588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未知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未知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214" name="未知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未知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217" name="未知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未知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未知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未知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未知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未知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未知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未知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229" name="未知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未知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未知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未知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未知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未知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7320" y="335520"/>
                    <a:ext cx="1461240" cy="1886040"/>
                    <a:chOff x="4027320" y="335520"/>
                    <a:chExt cx="1461240" cy="1886040"/>
                  </a:xfrm>
                </p:grpSpPr>
                <p:sp>
                  <p:nvSpPr>
                    <p:cNvPr id="238" name="未知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未知"/>
                    <p:cNvSpPr/>
                    <p:nvPr/>
                  </p:nvSpPr>
                  <p:spPr>
                    <a:xfrm flipH="1" rot="3474000">
                      <a:off x="4033080" y="546120"/>
                      <a:ext cx="7290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520" y="245160"/>
                    <a:ext cx="1121760" cy="1946880"/>
                    <a:chOff x="4448520" y="245160"/>
                    <a:chExt cx="1121760" cy="1946880"/>
                  </a:xfrm>
                </p:grpSpPr>
                <p:sp>
                  <p:nvSpPr>
                    <p:cNvPr id="241" name="未知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未知"/>
                    <p:cNvSpPr/>
                    <p:nvPr/>
                  </p:nvSpPr>
                  <p:spPr>
                    <a:xfrm flipH="1" rot="4126800">
                      <a:off x="4418640" y="439920"/>
                      <a:ext cx="7034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未知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未知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未知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未知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未知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6080" y="270360"/>
                    <a:ext cx="1195920" cy="1900800"/>
                    <a:chOff x="5356080" y="270360"/>
                    <a:chExt cx="1195920" cy="1900800"/>
                  </a:xfrm>
                </p:grpSpPr>
                <p:sp>
                  <p:nvSpPr>
                    <p:cNvPr id="252" name="未知"/>
                    <p:cNvSpPr/>
                    <p:nvPr/>
                  </p:nvSpPr>
                  <p:spPr>
                    <a:xfrm rot="17742000">
                      <a:off x="5087520" y="141876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未知"/>
                    <p:cNvSpPr/>
                    <p:nvPr/>
                  </p:nvSpPr>
                  <p:spPr>
                    <a:xfrm rot="17742000">
                      <a:off x="5887800" y="485280"/>
                      <a:ext cx="70200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800" y="388440"/>
                    <a:ext cx="1891440" cy="1797480"/>
                    <a:chOff x="5347800" y="388440"/>
                    <a:chExt cx="1891440" cy="1797480"/>
                  </a:xfrm>
                </p:grpSpPr>
                <p:sp>
                  <p:nvSpPr>
                    <p:cNvPr id="255" name="未知"/>
                    <p:cNvSpPr/>
                    <p:nvPr/>
                  </p:nvSpPr>
                  <p:spPr>
                    <a:xfrm rot="18822600">
                      <a:off x="5248080" y="13892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未知"/>
                    <p:cNvSpPr/>
                    <p:nvPr/>
                  </p:nvSpPr>
                  <p:spPr>
                    <a:xfrm rot="18822600">
                      <a:off x="6404400" y="583920"/>
                      <a:ext cx="7642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7680" cy="1794960"/>
                    <a:chOff x="5458320" y="292680"/>
                    <a:chExt cx="427680" cy="1794960"/>
                  </a:xfrm>
                </p:grpSpPr>
                <p:sp>
                  <p:nvSpPr>
                    <p:cNvPr id="258" name="未知"/>
                    <p:cNvSpPr/>
                    <p:nvPr/>
                  </p:nvSpPr>
                  <p:spPr>
                    <a:xfrm rot="16696200">
                      <a:off x="5007240" y="1445760"/>
                      <a:ext cx="11754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未知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0440"/>
                    <a:ext cx="2196360" cy="3003120"/>
                    <a:chOff x="3062520" y="2530440"/>
                    <a:chExt cx="2196360" cy="3003120"/>
                  </a:xfrm>
                </p:grpSpPr>
                <p:sp>
                  <p:nvSpPr>
                    <p:cNvPr id="261" name="未知"/>
                    <p:cNvSpPr/>
                    <p:nvPr/>
                  </p:nvSpPr>
                  <p:spPr>
                    <a:xfrm flipH="1" rot="18336000">
                      <a:off x="3420000" y="331452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未知"/>
                    <p:cNvSpPr/>
                    <p:nvPr/>
                  </p:nvSpPr>
                  <p:spPr>
                    <a:xfrm flipH="1" rot="18336000">
                      <a:off x="3069720" y="45914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未知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未知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267" name="未知"/>
                    <p:cNvSpPr/>
                    <p:nvPr/>
                  </p:nvSpPr>
                  <p:spPr>
                    <a:xfrm flipH="1" rot="16870800">
                      <a:off x="4086000" y="3489120"/>
                      <a:ext cx="188748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未知"/>
                    <p:cNvSpPr/>
                    <p:nvPr/>
                  </p:nvSpPr>
                  <p:spPr>
                    <a:xfrm flipH="1" rot="16870800">
                      <a:off x="4366800" y="4807800"/>
                      <a:ext cx="10126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270" name="未知"/>
                    <p:cNvSpPr/>
                    <p:nvPr/>
                  </p:nvSpPr>
                  <p:spPr>
                    <a:xfrm rot="3144000">
                      <a:off x="5415480" y="3250440"/>
                      <a:ext cx="21261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未知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040" y="2593440"/>
                    <a:ext cx="1758600" cy="3032640"/>
                    <a:chOff x="5648040" y="2593440"/>
                    <a:chExt cx="1758600" cy="3032640"/>
                  </a:xfrm>
                </p:grpSpPr>
                <p:sp>
                  <p:nvSpPr>
                    <p:cNvPr id="273" name="未知"/>
                    <p:cNvSpPr/>
                    <p:nvPr/>
                  </p:nvSpPr>
                  <p:spPr>
                    <a:xfrm rot="3745200">
                      <a:off x="5265360" y="3395880"/>
                      <a:ext cx="203436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未知"/>
                    <p:cNvSpPr/>
                    <p:nvPr/>
                  </p:nvSpPr>
                  <p:spPr>
                    <a:xfrm rot="3745200">
                      <a:off x="6351840" y="4718880"/>
                      <a:ext cx="109116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未知"/>
                    <p:cNvSpPr/>
                    <p:nvPr/>
                  </p:nvSpPr>
                  <p:spPr>
                    <a:xfrm rot="4286400">
                      <a:off x="5046480" y="354312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未知"/>
                    <p:cNvSpPr/>
                    <p:nvPr/>
                  </p:nvSpPr>
                  <p:spPr>
                    <a:xfrm rot="4286400">
                      <a:off x="5877360" y="4881240"/>
                      <a:ext cx="10594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未知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未知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282" name="未知"/>
                    <p:cNvSpPr/>
                    <p:nvPr/>
                  </p:nvSpPr>
                  <p:spPr>
                    <a:xfrm rot="5755200">
                      <a:off x="4531320" y="3665160"/>
                      <a:ext cx="177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未知"/>
                    <p:cNvSpPr/>
                    <p:nvPr/>
                  </p:nvSpPr>
                  <p:spPr>
                    <a:xfrm rot="5755200">
                      <a:off x="4714920" y="493164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9120"/>
                <a:chOff x="2175120" y="682560"/>
                <a:chExt cx="6963840" cy="7269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9120"/>
                  <a:chOff x="2175120" y="682560"/>
                  <a:chExt cx="6963840" cy="72691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88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40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未知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未知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440"/>
              <a:ext cx="6410160" cy="7456320"/>
              <a:chOff x="2342880" y="712440"/>
              <a:chExt cx="6410160" cy="7456320"/>
            </a:xfrm>
          </p:grpSpPr>
          <p:sp>
            <p:nvSpPr>
              <p:cNvPr id="295" name="未知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24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184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000"/>
                <a:ext cx="36730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280"/>
                <a:ext cx="5824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60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10A8-3F02-4D11-94E7-3D46BAF97C1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www.beingclub.com/kemp/photo-show-198946.html" TargetMode="External"/><Relationship Id="rId4" Type="http://schemas.openxmlformats.org/officeDocument/2006/relationships/hyperlink" Target="http://www.beingclub.com/kemp/photo-show-198946.html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www.nameoflove.org/photo/2005/050410-01.htm" TargetMode="External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ingclub.com/kemp/photo-show-198946.html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8&#1078;%F7&amp;in=29&amp;cl=2&amp;cm=1&amp;sc=0&amp;lm=-1&amp;pn=28&amp;rn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难道候鸟的回归不是对树林的感恩吗？是的，鲜花感恩雨露，因为雨露滋润他成长；苍鹰感恩长空，因为长空让他飞翔；高山感恩大地，因为大地让他高耸。因为感恩才会有这个多彩的世界，因为感恩才会有真挚的亲情，因为感恩才让我们懂得了生命的真谛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!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本次班会正式开始！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419720" y="4951440"/>
            <a:ext cx="4419360" cy="1525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499040" y="1295280"/>
            <a:ext cx="6205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家庭父母年收入约为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年家中生活费约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占年收入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年自己支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占父母一年收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幼儿园到大学毕业一般情况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估算自己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费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8000" y="30168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你知道吗？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单击图片换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31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7fb18"/>
                  </a:solidFill>
                  <a:miter/>
                </a:ln>
                <a:solidFill>
                  <a:srgbClr val="07fb18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1800" spc="1" strike="noStrike">
              <a:ln w="12600">
                <a:solidFill>
                  <a:srgbClr val="07fb18"/>
                </a:solidFill>
                <a:miter/>
              </a:ln>
              <a:solidFill>
                <a:srgbClr val="07fb18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11280" y="2565360"/>
            <a:ext cx="655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一起来回忆</a:t>
            </a: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...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-612720" y="112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35" dur="1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619760" cy="5184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50920" y="260280"/>
            <a:ext cx="684216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大家还记得这些画面吗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0" y="1349280"/>
          <a:ext cx="5734080" cy="4754520"/>
        </p:xfrm>
        <a:graphic>
          <a:graphicData uri="http://schemas.openxmlformats.org/drawingml/2006/table">
            <a:tbl>
              <a:tblPr/>
              <a:tblGrid>
                <a:gridCol w="5734080"/>
              </a:tblGrid>
              <a:tr h="47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  </a:t>
                      </a:r>
                      <a:r>
                        <a:rPr b="0" lang="zh-CN" sz="28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1484280"/>
            <a:ext cx="7993080" cy="50403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87280" y="1125360"/>
            <a:ext cx="5977080" cy="5732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母亲4"/>
          <p:cNvPicPr/>
          <p:nvPr/>
        </p:nvPicPr>
        <p:blipFill>
          <a:blip r:embed="rId8"/>
          <a:stretch/>
        </p:blipFill>
        <p:spPr>
          <a:xfrm>
            <a:off x="611280" y="1341360"/>
            <a:ext cx="8137440" cy="53276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9"/>
          <a:stretch/>
        </p:blipFill>
        <p:spPr>
          <a:xfrm>
            <a:off x="1403280" y="1268280"/>
            <a:ext cx="5904000" cy="5543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母亲10"/>
          <p:cNvPicPr/>
          <p:nvPr/>
        </p:nvPicPr>
        <p:blipFill>
          <a:blip r:embed="rId10"/>
          <a:stretch/>
        </p:blipFill>
        <p:spPr>
          <a:xfrm>
            <a:off x="468360" y="1268280"/>
            <a:ext cx="8137440" cy="5445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1"/>
          <a:stretch/>
        </p:blipFill>
        <p:spPr>
          <a:xfrm>
            <a:off x="684360" y="1628640"/>
            <a:ext cx="7848360" cy="49244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2"/>
          <a:stretch/>
        </p:blipFill>
        <p:spPr>
          <a:xfrm>
            <a:off x="684360" y="1484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50920" y="260280"/>
            <a:ext cx="684216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这幅画面记得吗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?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0" y="1349280"/>
          <a:ext cx="5734080" cy="4754520"/>
        </p:xfrm>
        <a:graphic>
          <a:graphicData uri="http://schemas.openxmlformats.org/drawingml/2006/table">
            <a:tbl>
              <a:tblPr/>
              <a:tblGrid>
                <a:gridCol w="5734080"/>
              </a:tblGrid>
              <a:tr h="47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  </a:t>
                      </a:r>
                      <a:r>
                        <a:rPr b="0" lang="zh-CN" sz="28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8064720" cy="4753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00720" y="62064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舐犊情深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思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 Black"/>
              </a:rPr>
              <a:t>         </a:t>
            </a:r>
            <a:r>
              <a:rPr b="1" lang="zh-CN" sz="4000" spc="-1" strike="noStrike">
                <a:solidFill>
                  <a:srgbClr val="ff3399"/>
                </a:solidFill>
                <a:latin typeface="Arial Black"/>
              </a:rPr>
              <a:t>请大家结合自己的经历，想想你今后打算怎么做，让自己和父母更融洽、更和谐地相处。在你手中的纸上写下你打算怎样和父母沟通。</a:t>
            </a: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4932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走近父母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多向父母表达你爱他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主动承担家务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纪念日、节日送点小礼物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遇特别情况写一封信表达感激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适时为父母倒杯茶、削个水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和父母有分歧时学会换位思考，站在父母的角度上去想一想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应让父母感觉你相信他们，多交流并经常给予赞美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多向父母说说自己的情况，自己的愿望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多倾听父母的话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遇上烦恼，告诉父母，寻求父母的帮助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回家和外出主动给父母打招呼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时时紧记，父母只会爱孩子，决不会害孩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 </a:t>
            </a:r>
            <a:r>
              <a:rPr b="1" i="1" lang="zh-CN" sz="2800" spc="-1" strike="noStrike">
                <a:solidFill>
                  <a:srgbClr val="000000"/>
                </a:solidFill>
                <a:latin typeface="_x000b__x000c_"/>
              </a:rPr>
              <a:t>只要能理解、孝敬、尊重父母，你就和父母走近了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08000" y="18900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亲爱的同学们，我们父母的期望并不多，我们的一句问候、一次搀扶、一杯茶水、一个微笑、一次感谢，我们的爸爸妈妈就满足了。我们感恩父母，他们给予我们生命。我们感恩父母，他们给予我们幸福生活。我们感恩父母，他们引领我们健康成长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知不觉，我们长大了。曾几何时，岁月的年轮写在父母的身上。他们的脸上爬上了几条皱纹，头发中映出几根银丝。他们的步履不再矫健了，他们的腰背部不再笔挺了。这一切都是为我们操劳的呀！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84640"/>
            <a:ext cx="9144000" cy="274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今天我们要真诚地、大声地说一声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      “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爸爸妈妈，感谢你们，你们辛苦了！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755640" y="404640"/>
            <a:ext cx="72738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第二环节：感恩老师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8" name=""/>
          <p:cNvSpPr/>
          <p:nvPr/>
        </p:nvSpPr>
        <p:spPr>
          <a:xfrm>
            <a:off x="8458200" y="6329520"/>
            <a:ext cx="376200" cy="52848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4360" y="270828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老师的心，和父母一样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父母给了你生命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老师给了你灵魂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父母给了你肉体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老师给了你思想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愿天下的孩子孝顺父母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愿天下的学子爱戴老师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-30492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2.0)">
                                      <p:cBhvr>
                                        <p:cTn id="134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36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世界最纯洁的爱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------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师爱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是谁，把无知的我们领进宽敞的教室，教给我们丰富的知识。用辛勤的汗水，哺育了春日刚破土的嫩芽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是谁，把调皮的我们教育成能体贴帮助别人的人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您的关怀好似和煦的春风，温暖了我们的心灵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49892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-13644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1042920" y="1413000"/>
            <a:ext cx="7632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Verdana"/>
              </a:rPr>
              <a:t>体悟亲情，感恩父母。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Verdana"/>
              <a:ea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2195640" y="450864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191</a:t>
            </a: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班主题班会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619280" y="260280"/>
            <a:ext cx="5688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感恩老师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的阳光如此灿烂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的校园如此深情。似滴滴雨露滋润着我们求知的欲望；似缕缕阳光温暖着我们心中的希望。让我们一起怀着一颗感恩的心，一起大声高呼：我爱你，敬爱的老师！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每一点知识，我们的每一个进步，都渗透着老师的汗水和心血。让我们用最真挚的感情，把最动人的诗篇送给我们敬爱的老师。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5040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   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老师是辛勤的园丁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    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而我们是绽放的花朵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园丁给花儿浇水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施肥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    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就是在认真地教导我们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让我们学到更多的知识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老师是一把大雨伞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而我们就是躲在雨伞下的小动物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大雨伞能给小动物遮挡风雨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当我们有困难的时侯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老师就会立刻帮助我们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   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老师的心是宽广的天空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   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能包容我们所犯下的错误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我们做过的错事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    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老师总会很快忘记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    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"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春蚕到死丝方尽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    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蜡炬成灰泪始干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"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这就是我们亲爱的老师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　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......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谢谢您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,</a:t>
            </a:r>
            <a:r>
              <a:rPr b="1" lang="zh-CN" sz="1800" spc="-1" strike="noStrike">
                <a:solidFill>
                  <a:srgbClr val="07fb18"/>
                </a:solidFill>
                <a:latin typeface="Arial Black"/>
              </a:rPr>
              <a:t>老师</a:t>
            </a:r>
            <a:r>
              <a:rPr b="1" lang="en-US" sz="1800" spc="-1" strike="noStrike">
                <a:solidFill>
                  <a:srgbClr val="07fb18"/>
                </a:solidFill>
                <a:latin typeface="Arial Black"/>
              </a:rPr>
              <a:t>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39640" y="0"/>
            <a:ext cx="34354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38904d"/>
                    </a:gs>
                    <a:gs pos="100000">
                      <a:srgbClr val="8cf4ac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感恩老师</a:t>
            </a:r>
            <a:endParaRPr b="0" lang="en-US" sz="1800" spc="1" strike="noStrike">
              <a:ln w="936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38904d"/>
                  </a:gs>
                  <a:gs pos="100000">
                    <a:srgbClr val="8cf4ac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286160" cy="442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20304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134136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55640" y="4365720"/>
            <a:ext cx="820908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幼圆"/>
                <a:ea typeface="幼圆"/>
              </a:rPr>
              <a:t>感恩于心</a:t>
            </a:r>
            <a:r>
              <a:rPr b="1" lang="en-US" sz="6600" spc="-1" strike="noStrike">
                <a:solidFill>
                  <a:srgbClr val="ff3300"/>
                </a:solidFill>
                <a:latin typeface="幼圆"/>
                <a:ea typeface="幼圆"/>
              </a:rPr>
              <a:t>,</a:t>
            </a:r>
            <a:r>
              <a:rPr b="1" lang="zh-CN" sz="6600" spc="-1" strike="noStrike">
                <a:solidFill>
                  <a:srgbClr val="ff3300"/>
                </a:solidFill>
                <a:latin typeface="幼圆"/>
                <a:ea typeface="幼圆"/>
              </a:rPr>
              <a:t>回报于行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268360" y="1197000"/>
            <a:ext cx="40770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老师的话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2565360"/>
            <a:ext cx="806436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幼圆"/>
                <a:ea typeface="幼圆"/>
              </a:rPr>
              <a:t>感恩师长，健康成长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179280" y="1197000"/>
            <a:ext cx="87440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第三环节：感恩同学、感恩社会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感谢同学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学会共处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9280" y="3573000"/>
            <a:ext cx="8439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心存感激，就必须宽容。宽容是给予的一种高级境界，是通往我们精神和灵魂增长之路的钥匙。能够宽容的人就能获得力量的循环增长。宽容他人，宽容他人，能够享受到生活的美好。不要以别人的错误惩罚自己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611280" y="148428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每个人的心里都藏著一种神奇的东西称为“友情”，你不知道它究竟是如此发生，何时发生，但你却知道它总会带给我们特殊的礼物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979640" y="2421000"/>
            <a:ext cx="583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71640" y="549360"/>
            <a:ext cx="7850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以青春的名义宣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珍爱宝贵的生命，感谢父母的养育之激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勤奋努力学习，感谢老师的谆谆教诲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珍惜纯真的友谊，感谢朋友的相伴相助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现在开始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思想品德上让你们安心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习上让你们放心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生活上让你们省心；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决不辜负你们的一片苦心！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826560" y="40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恩情怀”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---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生育你的人，因为他们使你体验生命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抚养你的人，因为他们使你不断成长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帮助你的人，因为他们使你度过难关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关怀你的人，因为他们给你温暖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鼓励你的人，因为他们给你力量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教育你的人，因为他们开化你的蒙昧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伤害你的人，因为他磨炼了你的心志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绊倒你的人，因为他强化了你的双腿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欺骗你的人，因为他增进了你的智慧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藐视你的人，因为他觉醒了你的自尊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激遗弃你的人，因为他教会了你该独立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09160" indent="-2091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凡事感激。学会感激。感激一切使你成长的人！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187280" y="1628640"/>
            <a:ext cx="66978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国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罗斯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统就常怀感恩之心。据说有一次家里失盗，被偷去了许多东西，一位朋友闻讯后，忙写信安慰他。罗斯福在回信中写道：“亲爱的朋友，谢谢你来信安慰我，我现在很好，感谢上帝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因为第一，贼偷去的是我的东西，而没有伤害我的生命；第二，贼只偷去我部分东西，而不是全部；第三，最值得庆幸的是，做贼的是他，而不是我。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任何一个人来说，失盗绝对是不幸的事，而罗斯福却找出了感恩的三条理由。 这是一种怎样的气度和智慧！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87280" y="62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历史上有很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怀有一颗真诚的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心。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588000" y="5373720"/>
            <a:ext cx="255600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826920" y="7650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美国，感恩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anksgiving Day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个不折不扣的最地道的国定假日。在这一天，具有各种信仰和各种背景的美国人，共同为他们一年来所受到的上苍的恩典表示感谢，虔诚地祈求上帝继续赐福。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7475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403280" y="836640"/>
            <a:ext cx="61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方国家有“感恩节”，中国自古以来就倡导“滴水之恩，当涌泉相报”，时至社会高速发展的今天，一些人却不懂得感恩了。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197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4360" y="549360"/>
            <a:ext cx="6335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学生，就其心灵的一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”来看，患有“情感冷漠症”。对父母之恩，熟视无睹者有之，麻木不仁者有之，贪得无厌者有之，以怨报德者亦有之，唯独知恩图报者鲜有之。那么对父母无情无义之人，对师长、集体就更不会有情有义了。因此，通过本次班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努力唤回学生回报爱心的良知，并引导学生通过抒发真情实感来重新构筑健全的人格，懂得爱的无私、伟大、纯洁，激发学生爱的情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020000" y="165240"/>
            <a:ext cx="185112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9640" y="47628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  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些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自我为中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学生，在家里，吃饭时最好的菜他一人独享；电视遥控器他一人主宰；同学聚会，要设法把父母打发出去，或时不时给父母脸色等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父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学校，坐在宽敞明亮的教室，使用优良的教学设备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社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课堂上，教师上课他打瞌睡，上语文课他看外语，教师苦口婆心的规劝他视为耳边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感恩教师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享用着大自然赐给我们的一切，不知感激和保护它，反而随意破坏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人常常是“要求”多于“感恩”，只顾自己的利益，将父母、亲人、师长、朋友、同学的帮助视为理所当然、天经地义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79930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4360" y="62064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 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这样一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母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女儿每年生日时，妈妈总是带她到医院去看望当年的产科医生，感谢他将孩子带领到这个世界上。女儿在各种比赛中获奖时，父母不是先夸奖她，而是提醒女儿：无论取得什么样的荣誉，都离不开你身边的同学、老师。女儿从母亲手中接过新文具、新衣服、好吃的食品时，她都会懂事的以微笑和“谢谢”来感谢父母对她的关爱。长此以往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她学会了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会了让周围的人都来分享自己的快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755640" y="4724280"/>
            <a:ext cx="762012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826920" y="170028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有太多值得感恩的事情和理由。感谢我们的父母，由于你们的言传身教，于是，我们懂得了什么是黑，什么是白，懂得了分辨是非曲直。感谢我们的老师，因为你们的指导和教育，于是，我们懂得了用知识来武装自己。感谢我们的朋友和同学，是你们的友情和包容，让我们有了自己独立的性格表现，于是，我们也学会了包容别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 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7342200" y="5056200"/>
            <a:ext cx="180180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46836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再认为所有的事情都是理所当然的，其实所有的一切都来之不易的。我们要感谢为我们服务的人，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例，如果没有老师、图书馆员、印刷工、花工、水电工、校医、门卫、炊事员等等的工作保障，我们的校园生活和学习就难以维持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会承担自己在学校和家庭的责任和义务；学会感受为他人服务的快乐；学会把“行”、“谢谢”和“对不起”时时挂在嘴边；学会 “在乎”每一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尊重他人的权益；体现在生活的每一个细节之中就是不随地乱抛纸屑果皮，因为整洁的环境属于大家；课间与午休时不要大声喧哗，因为安静属于大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此的学会、学会，能使我们懂得更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爱的更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得到的更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020000" y="5589720"/>
            <a:ext cx="1873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755640" y="1268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 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父母是理所当然帮我们做任何事情，他们把我们带到这美丽的世界，已经是足够的伟大，而且将我们养育成人，不求回报，默默的为我们付出，我们就别再贪得无厌的索求他们的付出。 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762120" y="3789360"/>
            <a:ext cx="7619760" cy="24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39640" y="7650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要再认为你所拥有的一切是理所当然的，尽管他们的得来，也包含着你的心血，你的努力，但也不都是你一个人的，因为没有他人的心血和努力，世界就无法像现在这般绚丽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感谢老师给予我及时的指导与教育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500720" y="3573360"/>
            <a:ext cx="3377880" cy="25354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378240" cy="25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332000" y="98100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 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感谢大自然赐予我们澄澈的蓝天、明媚的阳光和新鲜的空气；学会善待世间万物的生命，爱护一草一木，爱大自然、爱地球母亲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698508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39640" y="76500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一个人的基本素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个缺乏爱心，不懂得感恩惜福的人，长大后不可能懂得体谅、关心他人，不懂得孝敬父母，尊敬师长，也难以与人交往、融入社会，更谈不上爱同学、爱母校、爱国家、爱民族了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75596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00000" y="549360"/>
            <a:ext cx="75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会感恩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一种礼仪，是一种健康的心态，是一种做人的境界，也是一种社会进步、现代文明的体现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恩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让这个世界一天一天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让人与人之间一天一天更加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温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。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72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rcRect l="0" t="0" r="2742" b="10542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35948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466040" y="1150920"/>
            <a:ext cx="4586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11280" y="5300640"/>
            <a:ext cx="8532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让我们都有一颗感激的心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452600">
            <a:off x="3059280" y="2060640"/>
            <a:ext cx="1295280" cy="93672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10160 h 936720"/>
              <a:gd name="textAreaBottom" fmla="*/ 587520 h 93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9612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271047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365720"/>
            <a:ext cx="2264040" cy="2736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 rot="5400000">
            <a:off x="-1548720" y="2132640"/>
            <a:ext cx="540072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感恩无限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60" name=""/>
          <p:cNvSpPr/>
          <p:nvPr/>
        </p:nvSpPr>
        <p:spPr>
          <a:xfrm>
            <a:off x="2268360" y="-27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凡事感恩，学会感恩。感恩是一种文明，感恩是一种素质，感恩是一种品质。人有了感恩之心，人与人、人与自然、人与社会也会变得更加和谐，更加亲切。我们自身也会因为这种感恩心理的存在而变得愉快和健康起来，生命将得到滋润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95280" y="620640"/>
            <a:ext cx="813744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愿所有的求是人都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知道感恩！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   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愿所有的求是人都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会感恩！</a:t>
            </a:r>
            <a:br>
              <a:rPr sz="4000"/>
            </a:b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76197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 rot="386400">
            <a:off x="4640400" y="3887280"/>
            <a:ext cx="396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最后请欣赏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>
            <a:lum bright="18000"/>
          </a:blip>
          <a:srcRect l="0" t="14078" r="0" b="296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95280" y="40766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父母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71640" y="836640"/>
            <a:ext cx="691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一环节：感恩父母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364760" y="627120"/>
            <a:ext cx="63982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感受父爱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隶书"/>
              </a:rPr>
              <a:t>——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fb18"/>
                </a:solidFill>
                <a:latin typeface="Tahoma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父爱是山，无论有多大的困难，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他总是你依靠的屏障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父爱是路，无论你走到哪里，他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都伴你延伸，为你指点迷津，护你一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路走好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1337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771640" y="-495360"/>
            <a:ext cx="5883480" cy="73533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26028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感受母爱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无论你身处何地，有一个人，她永远占据在你心中最柔软的地方，你应用自己的一生去爱她，这个人叫：“母亲”，这种爱叫母爱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2087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-12384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124080" y="-380880"/>
            <a:ext cx="5867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慈母手中线，游子身上衣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.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临行密密缝，意恐迟迟归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.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谁言寸草心，报得三春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505320" y="0"/>
            <a:ext cx="5257080" cy="2187000"/>
            <a:chOff x="3505320" y="0"/>
            <a:chExt cx="5257080" cy="2187000"/>
          </a:xfrm>
        </p:grpSpPr>
        <p:grpSp>
          <p:nvGrpSpPr>
            <p:cNvPr id="373" name=""/>
            <p:cNvGrpSpPr/>
            <p:nvPr/>
          </p:nvGrpSpPr>
          <p:grpSpPr>
            <a:xfrm>
              <a:off x="3641400" y="0"/>
              <a:ext cx="5121000" cy="1787400"/>
              <a:chOff x="3641400" y="0"/>
              <a:chExt cx="5121000" cy="1787400"/>
            </a:xfrm>
          </p:grpSpPr>
          <p:sp>
            <p:nvSpPr>
              <p:cNvPr id="374" name=""/>
              <p:cNvSpPr/>
              <p:nvPr/>
            </p:nvSpPr>
            <p:spPr>
              <a:xfrm>
                <a:off x="3641400" y="0"/>
                <a:ext cx="5121000" cy="11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游子吟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—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孟郊</a:t>
                </a:r>
                <a:endParaRPr b="0" lang="en-US" sz="32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endParaRPr b="0" lang="en-US" sz="1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41400" y="961920"/>
                <a:ext cx="5121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3505320" y="1361520"/>
              <a:ext cx="27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60360" y="2629080"/>
            <a:ext cx="8664480" cy="1485720"/>
            <a:chOff x="360360" y="2629080"/>
            <a:chExt cx="8664480" cy="1485720"/>
          </a:xfrm>
        </p:grpSpPr>
        <p:sp>
          <p:nvSpPr>
            <p:cNvPr id="378" name=""/>
            <p:cNvSpPr/>
            <p:nvPr/>
          </p:nvSpPr>
          <p:spPr>
            <a:xfrm>
              <a:off x="360360" y="2629080"/>
              <a:ext cx="8664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0360" y="2629080"/>
              <a:ext cx="8572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60360" y="2685960"/>
            <a:ext cx="8664480" cy="1485720"/>
            <a:chOff x="360360" y="2685960"/>
            <a:chExt cx="8664480" cy="1485720"/>
          </a:xfrm>
        </p:grpSpPr>
        <p:sp>
          <p:nvSpPr>
            <p:cNvPr id="381" name=""/>
            <p:cNvSpPr/>
            <p:nvPr/>
          </p:nvSpPr>
          <p:spPr>
            <a:xfrm>
              <a:off x="360360" y="2685960"/>
              <a:ext cx="8664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0360" y="2685960"/>
              <a:ext cx="8572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0670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0" y="-380880"/>
            <a:ext cx="8664480" cy="7623000"/>
            <a:chOff x="0" y="-380880"/>
            <a:chExt cx="8664480" cy="7623000"/>
          </a:xfrm>
        </p:grpSpPr>
        <p:sp>
          <p:nvSpPr>
            <p:cNvPr id="385" name=""/>
            <p:cNvSpPr/>
            <p:nvPr/>
          </p:nvSpPr>
          <p:spPr>
            <a:xfrm>
              <a:off x="0" y="-380880"/>
              <a:ext cx="8664480" cy="76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-380880"/>
              <a:ext cx="860760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533520" cy="14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39640" y="154080"/>
            <a:ext cx="67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的生日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的体重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的身高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穿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码鞋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颜色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食物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的日常消遣活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父母亲喜欢做的运动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妈妈经常用来教育你的口头禅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580000" y="0"/>
            <a:ext cx="3564000" cy="2362320"/>
            <a:chOff x="5580000" y="0"/>
            <a:chExt cx="3564000" cy="2362320"/>
          </a:xfrm>
        </p:grpSpPr>
        <p:sp>
          <p:nvSpPr>
            <p:cNvPr id="393" name=""/>
            <p:cNvSpPr/>
            <p:nvPr/>
          </p:nvSpPr>
          <p:spPr>
            <a:xfrm>
              <a:off x="5580000" y="0"/>
              <a:ext cx="3564000" cy="23623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52720" y="0"/>
              <a:ext cx="349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请你如实回答。</a:t>
              </a: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有心的同学可以把答案写在一张纸寄给你父母评分。答对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题以下的请你以后多与父母沟通。</a:t>
              </a: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06:53:09Z</dcterms:created>
  <dc:creator>李勇</dc:creator>
  <dc:description/>
  <cp:keywords/>
  <dc:language>en-US</dc:language>
  <cp:lastModifiedBy>微软用户</cp:lastModifiedBy>
  <cp:lastPrinted>1899-12-30T00:00:00Z</cp:lastPrinted>
  <dcterms:modified xsi:type="dcterms:W3CDTF">2012-10-21T12:17:41Z</dcterms:modified>
  <cp:revision>121</cp:revision>
  <dc:subject/>
  <dc:title>六合实验高级中学感恩教育主题班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0</vt:lpwstr>
  </property>
</Properties>
</file>