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0.wmf" ContentType="image/x-wmf"/>
  <Override PartName="/ppt/media/image39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76.wmf" ContentType="image/x-wmf"/>
  <Override PartName="/ppt/media/image64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538-E0FF-48BF-9413-BCDB3E54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CD8-09E2-4B3C-AF87-22B45375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2A8-8EA8-476E-BDB7-DD9D8FB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C59-9C28-4BDD-B70D-F364F47B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89D-D29B-49DF-9677-F2FEFAD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130-8774-45D8-B0A7-C7A39D59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438-600E-41BF-99EC-A846539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23F-65D7-4818-AE3A-033EDFD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F58-4FB8-428E-AC50-882AB73C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655-9619-43E8-902B-A855823C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1CF-F98D-42BE-B9B5-04600558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9DC-046F-46E0-85CD-0C1FF8E1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97B-96FE-4549-A5EF-B1F282A7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35FE-27BE-4D47-922A-BEA25F6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DA0A-45CE-4470-9455-545A4010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497-8490-4A3D-AB62-613A9C0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7C96-2CE7-4354-A21E-3FDB9C38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E4C1-C7ED-4710-804E-893F2BB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EFA1-F317-4975-9A57-70C5898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65B9-66DC-428D-BA76-D1C5CD6B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5733-CE95-40C1-967A-216BE404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CE6-B1A9-4D4C-B70D-C12D862C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3CAC-FE62-4261-8579-E6E5579E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0A90-1717-440B-9325-8A8A3429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1742-788C-485B-8BE2-AFD64EDA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A992-D225-4EC2-BB2D-F464074A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0FC13-B5A4-40BD-82C9-9737D6A3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8B1B-58FF-4AE8-9EF5-6CA644C7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9448-29DF-4901-A6BC-29347626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CC71-9F7A-4AE8-983C-63528E2B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ADC6-716C-4AE4-8284-5493089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D006-A4C6-472D-97D5-ADC49E96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59BE-032A-465D-854C-3E1E98B8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554E-4C88-49DE-B846-F4376F0F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D13E-7E4A-42A5-B338-69089ECC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8FC2-3823-45D1-9A07-538822A0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160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22480" y="6270120"/>
            <a:ext cx="8929080" cy="526680"/>
            <a:chOff x="222480" y="6270120"/>
            <a:chExt cx="8929080" cy="526680"/>
          </a:xfrm>
        </p:grpSpPr>
        <p:grpSp>
          <p:nvGrpSpPr>
            <p:cNvPr id="2" name=""/>
            <p:cNvGrpSpPr/>
            <p:nvPr/>
          </p:nvGrpSpPr>
          <p:grpSpPr>
            <a:xfrm>
              <a:off x="5944680" y="6271920"/>
              <a:ext cx="3206880" cy="515880"/>
              <a:chOff x="5944680" y="6271920"/>
              <a:chExt cx="3206880" cy="51588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8754120" y="6406200"/>
                <a:ext cx="397440" cy="146520"/>
                <a:chOff x="8754120" y="6406200"/>
                <a:chExt cx="397440" cy="14652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754120" y="6406200"/>
                  <a:ext cx="397440" cy="146520"/>
                  <a:chOff x="8754120" y="6406200"/>
                  <a:chExt cx="397440" cy="14652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 rot="21412800">
                    <a:off x="8863560" y="6413760"/>
                    <a:ext cx="2844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1" h="2560">
                        <a:moveTo>
                          <a:pt x="307" y="367"/>
                        </a:moveTo>
                        <a:cubicBezTo>
                          <a:pt x="317" y="336"/>
                          <a:pt x="326" y="303"/>
                          <a:pt x="337" y="283"/>
                        </a:cubicBezTo>
                        <a:cubicBezTo>
                          <a:pt x="348" y="263"/>
                          <a:pt x="360" y="275"/>
                          <a:pt x="373" y="247"/>
                        </a:cubicBezTo>
                        <a:cubicBezTo>
                          <a:pt x="386" y="219"/>
                          <a:pt x="400" y="147"/>
                          <a:pt x="415" y="115"/>
                        </a:cubicBezTo>
                        <a:cubicBezTo>
                          <a:pt x="430" y="83"/>
                          <a:pt x="435" y="73"/>
                          <a:pt x="463" y="55"/>
                        </a:cubicBezTo>
                        <a:cubicBezTo>
                          <a:pt x="491" y="37"/>
                          <a:pt x="536" y="14"/>
                          <a:pt x="583" y="7"/>
                        </a:cubicBezTo>
                        <a:cubicBezTo>
                          <a:pt x="630" y="0"/>
                          <a:pt x="693" y="4"/>
                          <a:pt x="745" y="13"/>
                        </a:cubicBezTo>
                        <a:cubicBezTo>
                          <a:pt x="797" y="22"/>
                          <a:pt x="852" y="34"/>
                          <a:pt x="895" y="61"/>
                        </a:cubicBezTo>
                        <a:cubicBezTo>
                          <a:pt x="938" y="88"/>
                          <a:pt x="977" y="127"/>
                          <a:pt x="1003" y="175"/>
                        </a:cubicBezTo>
                        <a:cubicBezTo>
                          <a:pt x="1029" y="223"/>
                          <a:pt x="1044" y="287"/>
                          <a:pt x="1051" y="349"/>
                        </a:cubicBezTo>
                        <a:cubicBezTo>
                          <a:pt x="1058" y="411"/>
                          <a:pt x="1057" y="477"/>
                          <a:pt x="1045" y="547"/>
                        </a:cubicBezTo>
                        <a:cubicBezTo>
                          <a:pt x="1033" y="617"/>
                          <a:pt x="995" y="712"/>
                          <a:pt x="979" y="769"/>
                        </a:cubicBezTo>
                        <a:cubicBezTo>
                          <a:pt x="963" y="826"/>
                          <a:pt x="955" y="860"/>
                          <a:pt x="949" y="889"/>
                        </a:cubicBezTo>
                        <a:cubicBezTo>
                          <a:pt x="943" y="918"/>
                          <a:pt x="936" y="925"/>
                          <a:pt x="943" y="943"/>
                        </a:cubicBezTo>
                        <a:cubicBezTo>
                          <a:pt x="950" y="961"/>
                          <a:pt x="964" y="975"/>
                          <a:pt x="991" y="997"/>
                        </a:cubicBezTo>
                        <a:cubicBezTo>
                          <a:pt x="1018" y="1019"/>
                          <a:pt x="1069" y="1033"/>
                          <a:pt x="1105" y="1075"/>
                        </a:cubicBezTo>
                        <a:cubicBezTo>
                          <a:pt x="1141" y="1117"/>
                          <a:pt x="1186" y="1174"/>
                          <a:pt x="1207" y="1249"/>
                        </a:cubicBezTo>
                        <a:cubicBezTo>
                          <a:pt x="1228" y="1324"/>
                          <a:pt x="1231" y="1441"/>
                          <a:pt x="1231" y="1525"/>
                        </a:cubicBezTo>
                        <a:cubicBezTo>
                          <a:pt x="1231" y="1609"/>
                          <a:pt x="1225" y="1679"/>
                          <a:pt x="1207" y="1753"/>
                        </a:cubicBezTo>
                        <a:cubicBezTo>
                          <a:pt x="1189" y="1827"/>
                          <a:pt x="1153" y="1917"/>
                          <a:pt x="1123" y="1969"/>
                        </a:cubicBezTo>
                        <a:cubicBezTo>
                          <a:pt x="1093" y="2021"/>
                          <a:pt x="1063" y="2047"/>
                          <a:pt x="1027" y="2065"/>
                        </a:cubicBezTo>
                        <a:cubicBezTo>
                          <a:pt x="991" y="2083"/>
                          <a:pt x="951" y="2079"/>
                          <a:pt x="907" y="2077"/>
                        </a:cubicBezTo>
                        <a:cubicBezTo>
                          <a:pt x="863" y="2075"/>
                          <a:pt x="794" y="2056"/>
                          <a:pt x="763" y="2053"/>
                        </a:cubicBezTo>
                        <a:cubicBezTo>
                          <a:pt x="732" y="2050"/>
                          <a:pt x="733" y="2050"/>
                          <a:pt x="721" y="2059"/>
                        </a:cubicBezTo>
                        <a:cubicBezTo>
                          <a:pt x="709" y="2068"/>
                          <a:pt x="702" y="2075"/>
                          <a:pt x="691" y="2107"/>
                        </a:cubicBezTo>
                        <a:cubicBezTo>
                          <a:pt x="680" y="2139"/>
                          <a:pt x="665" y="2205"/>
                          <a:pt x="655" y="2251"/>
                        </a:cubicBezTo>
                        <a:cubicBezTo>
                          <a:pt x="645" y="2297"/>
                          <a:pt x="652" y="2337"/>
                          <a:pt x="631" y="2383"/>
                        </a:cubicBezTo>
                        <a:cubicBezTo>
                          <a:pt x="610" y="2429"/>
                          <a:pt x="574" y="2498"/>
                          <a:pt x="529" y="2527"/>
                        </a:cubicBezTo>
                        <a:cubicBezTo>
                          <a:pt x="484" y="2556"/>
                          <a:pt x="414" y="2560"/>
                          <a:pt x="361" y="2557"/>
                        </a:cubicBezTo>
                        <a:cubicBezTo>
                          <a:pt x="308" y="2554"/>
                          <a:pt x="256" y="2537"/>
                          <a:pt x="211" y="2509"/>
                        </a:cubicBezTo>
                        <a:cubicBezTo>
                          <a:pt x="166" y="2481"/>
                          <a:pt x="121" y="2436"/>
                          <a:pt x="91" y="2389"/>
                        </a:cubicBezTo>
                        <a:cubicBezTo>
                          <a:pt x="61" y="2342"/>
                          <a:pt x="46" y="2275"/>
                          <a:pt x="31" y="2227"/>
                        </a:cubicBezTo>
                        <a:cubicBezTo>
                          <a:pt x="16" y="2179"/>
                          <a:pt x="2" y="2144"/>
                          <a:pt x="1" y="2101"/>
                        </a:cubicBezTo>
                        <a:cubicBezTo>
                          <a:pt x="0" y="2058"/>
                          <a:pt x="13" y="2018"/>
                          <a:pt x="25" y="1969"/>
                        </a:cubicBezTo>
                        <a:cubicBezTo>
                          <a:pt x="37" y="1920"/>
                          <a:pt x="53" y="1860"/>
                          <a:pt x="73" y="1807"/>
                        </a:cubicBezTo>
                        <a:cubicBezTo>
                          <a:pt x="93" y="1754"/>
                          <a:pt x="122" y="1698"/>
                          <a:pt x="145" y="1651"/>
                        </a:cubicBezTo>
                        <a:cubicBezTo>
                          <a:pt x="168" y="1604"/>
                          <a:pt x="192" y="1548"/>
                          <a:pt x="211" y="1525"/>
                        </a:cubicBezTo>
                        <a:cubicBezTo>
                          <a:pt x="230" y="1502"/>
                          <a:pt x="249" y="1502"/>
                          <a:pt x="259" y="1513"/>
                        </a:cubicBezTo>
                        <a:cubicBezTo>
                          <a:pt x="269" y="1524"/>
                          <a:pt x="278" y="1555"/>
                          <a:pt x="271" y="1591"/>
                        </a:cubicBezTo>
                        <a:cubicBezTo>
                          <a:pt x="264" y="1627"/>
                          <a:pt x="242" y="1682"/>
                          <a:pt x="217" y="1729"/>
                        </a:cubicBezTo>
                        <a:cubicBezTo>
                          <a:pt x="192" y="1776"/>
                          <a:pt x="145" y="1824"/>
                          <a:pt x="121" y="1873"/>
                        </a:cubicBezTo>
                        <a:cubicBezTo>
                          <a:pt x="97" y="1922"/>
                          <a:pt x="76" y="1970"/>
                          <a:pt x="73" y="2023"/>
                        </a:cubicBezTo>
                        <a:cubicBezTo>
                          <a:pt x="70" y="2076"/>
                          <a:pt x="87" y="2141"/>
                          <a:pt x="103" y="2191"/>
                        </a:cubicBezTo>
                        <a:cubicBezTo>
                          <a:pt x="119" y="2241"/>
                          <a:pt x="140" y="2285"/>
                          <a:pt x="169" y="2323"/>
                        </a:cubicBezTo>
                        <a:cubicBezTo>
                          <a:pt x="198" y="2361"/>
                          <a:pt x="232" y="2401"/>
                          <a:pt x="277" y="2419"/>
                        </a:cubicBezTo>
                        <a:cubicBezTo>
                          <a:pt x="322" y="2437"/>
                          <a:pt x="395" y="2440"/>
                          <a:pt x="439" y="2431"/>
                        </a:cubicBezTo>
                        <a:cubicBezTo>
                          <a:pt x="483" y="2422"/>
                          <a:pt x="515" y="2399"/>
                          <a:pt x="541" y="2365"/>
                        </a:cubicBezTo>
                        <a:cubicBezTo>
                          <a:pt x="567" y="2331"/>
                          <a:pt x="583" y="2280"/>
                          <a:pt x="595" y="2227"/>
                        </a:cubicBezTo>
                        <a:cubicBezTo>
                          <a:pt x="607" y="2174"/>
                          <a:pt x="616" y="2117"/>
                          <a:pt x="613" y="2047"/>
                        </a:cubicBezTo>
                        <a:cubicBezTo>
                          <a:pt x="610" y="1977"/>
                          <a:pt x="589" y="1871"/>
                          <a:pt x="577" y="1807"/>
                        </a:cubicBezTo>
                        <a:cubicBezTo>
                          <a:pt x="565" y="1743"/>
                          <a:pt x="555" y="1709"/>
                          <a:pt x="541" y="1663"/>
                        </a:cubicBezTo>
                        <a:cubicBezTo>
                          <a:pt x="527" y="1617"/>
                          <a:pt x="502" y="1561"/>
                          <a:pt x="493" y="1531"/>
                        </a:cubicBezTo>
                        <a:cubicBezTo>
                          <a:pt x="484" y="1501"/>
                          <a:pt x="480" y="1495"/>
                          <a:pt x="487" y="1483"/>
                        </a:cubicBezTo>
                        <a:cubicBezTo>
                          <a:pt x="494" y="1471"/>
                          <a:pt x="519" y="1455"/>
                          <a:pt x="535" y="1459"/>
                        </a:cubicBezTo>
                        <a:cubicBezTo>
                          <a:pt x="551" y="1463"/>
                          <a:pt x="568" y="1478"/>
                          <a:pt x="583" y="1507"/>
                        </a:cubicBezTo>
                        <a:cubicBezTo>
                          <a:pt x="598" y="1536"/>
                          <a:pt x="610" y="1583"/>
                          <a:pt x="625" y="1633"/>
                        </a:cubicBezTo>
                        <a:cubicBezTo>
                          <a:pt x="640" y="1683"/>
                          <a:pt x="657" y="1757"/>
                          <a:pt x="673" y="1807"/>
                        </a:cubicBezTo>
                        <a:cubicBezTo>
                          <a:pt x="689" y="1857"/>
                          <a:pt x="697" y="1905"/>
                          <a:pt x="721" y="1933"/>
                        </a:cubicBezTo>
                        <a:cubicBezTo>
                          <a:pt x="745" y="1961"/>
                          <a:pt x="776" y="1970"/>
                          <a:pt x="817" y="1975"/>
                        </a:cubicBezTo>
                        <a:cubicBezTo>
                          <a:pt x="858" y="1980"/>
                          <a:pt x="926" y="1980"/>
                          <a:pt x="967" y="1963"/>
                        </a:cubicBezTo>
                        <a:cubicBezTo>
                          <a:pt x="1008" y="1946"/>
                          <a:pt x="1035" y="1919"/>
                          <a:pt x="1063" y="1873"/>
                        </a:cubicBezTo>
                        <a:cubicBezTo>
                          <a:pt x="1091" y="1827"/>
                          <a:pt x="1122" y="1761"/>
                          <a:pt x="1135" y="1687"/>
                        </a:cubicBezTo>
                        <a:cubicBezTo>
                          <a:pt x="1148" y="1613"/>
                          <a:pt x="1144" y="1498"/>
                          <a:pt x="1141" y="1429"/>
                        </a:cubicBezTo>
                        <a:cubicBezTo>
                          <a:pt x="1138" y="1360"/>
                          <a:pt x="1140" y="1325"/>
                          <a:pt x="1117" y="1273"/>
                        </a:cubicBezTo>
                        <a:cubicBezTo>
                          <a:pt x="1094" y="1221"/>
                          <a:pt x="1042" y="1153"/>
                          <a:pt x="1003" y="1117"/>
                        </a:cubicBezTo>
                        <a:cubicBezTo>
                          <a:pt x="964" y="1081"/>
                          <a:pt x="919" y="1064"/>
                          <a:pt x="883" y="1057"/>
                        </a:cubicBezTo>
                        <a:cubicBezTo>
                          <a:pt x="847" y="1050"/>
                          <a:pt x="821" y="1063"/>
                          <a:pt x="787" y="1075"/>
                        </a:cubicBezTo>
                        <a:cubicBezTo>
                          <a:pt x="753" y="1087"/>
                          <a:pt x="706" y="1117"/>
                          <a:pt x="679" y="1129"/>
                        </a:cubicBezTo>
                        <a:cubicBezTo>
                          <a:pt x="652" y="1141"/>
                          <a:pt x="642" y="1149"/>
                          <a:pt x="625" y="1147"/>
                        </a:cubicBezTo>
                        <a:cubicBezTo>
                          <a:pt x="608" y="1145"/>
                          <a:pt x="584" y="1130"/>
                          <a:pt x="577" y="1117"/>
                        </a:cubicBezTo>
                        <a:cubicBezTo>
                          <a:pt x="570" y="1104"/>
                          <a:pt x="576" y="1083"/>
                          <a:pt x="583" y="1069"/>
                        </a:cubicBezTo>
                        <a:cubicBezTo>
                          <a:pt x="590" y="1055"/>
                          <a:pt x="599" y="1043"/>
                          <a:pt x="619" y="1033"/>
                        </a:cubicBezTo>
                        <a:cubicBezTo>
                          <a:pt x="639" y="1023"/>
                          <a:pt x="671" y="1025"/>
                          <a:pt x="703" y="1009"/>
                        </a:cubicBezTo>
                        <a:cubicBezTo>
                          <a:pt x="735" y="993"/>
                          <a:pt x="780" y="965"/>
                          <a:pt x="811" y="937"/>
                        </a:cubicBezTo>
                        <a:cubicBezTo>
                          <a:pt x="842" y="909"/>
                          <a:pt x="866" y="895"/>
                          <a:pt x="889" y="841"/>
                        </a:cubicBezTo>
                        <a:cubicBezTo>
                          <a:pt x="912" y="787"/>
                          <a:pt x="939" y="696"/>
                          <a:pt x="949" y="613"/>
                        </a:cubicBezTo>
                        <a:cubicBezTo>
                          <a:pt x="959" y="530"/>
                          <a:pt x="960" y="416"/>
                          <a:pt x="949" y="343"/>
                        </a:cubicBezTo>
                        <a:cubicBezTo>
                          <a:pt x="938" y="270"/>
                          <a:pt x="914" y="215"/>
                          <a:pt x="883" y="175"/>
                        </a:cubicBezTo>
                        <a:cubicBezTo>
                          <a:pt x="852" y="135"/>
                          <a:pt x="807" y="115"/>
                          <a:pt x="763" y="103"/>
                        </a:cubicBezTo>
                        <a:cubicBezTo>
                          <a:pt x="719" y="91"/>
                          <a:pt x="665" y="90"/>
                          <a:pt x="619" y="103"/>
                        </a:cubicBezTo>
                        <a:cubicBezTo>
                          <a:pt x="573" y="116"/>
                          <a:pt x="525" y="139"/>
                          <a:pt x="487" y="181"/>
                        </a:cubicBezTo>
                        <a:cubicBezTo>
                          <a:pt x="449" y="223"/>
                          <a:pt x="412" y="301"/>
                          <a:pt x="391" y="355"/>
                        </a:cubicBezTo>
                        <a:cubicBezTo>
                          <a:pt x="370" y="409"/>
                          <a:pt x="359" y="437"/>
                          <a:pt x="361" y="505"/>
                        </a:cubicBezTo>
                        <a:cubicBezTo>
                          <a:pt x="363" y="573"/>
                          <a:pt x="399" y="691"/>
                          <a:pt x="403" y="763"/>
                        </a:cubicBezTo>
                        <a:cubicBezTo>
                          <a:pt x="407" y="835"/>
                          <a:pt x="395" y="906"/>
                          <a:pt x="385" y="937"/>
                        </a:cubicBezTo>
                        <a:cubicBezTo>
                          <a:pt x="375" y="968"/>
                          <a:pt x="356" y="957"/>
                          <a:pt x="343" y="949"/>
                        </a:cubicBezTo>
                        <a:cubicBezTo>
                          <a:pt x="330" y="941"/>
                          <a:pt x="316" y="933"/>
                          <a:pt x="307" y="889"/>
                        </a:cubicBezTo>
                        <a:cubicBezTo>
                          <a:pt x="298" y="845"/>
                          <a:pt x="294" y="755"/>
                          <a:pt x="289" y="685"/>
                        </a:cubicBezTo>
                        <a:cubicBezTo>
                          <a:pt x="284" y="615"/>
                          <a:pt x="273" y="523"/>
                          <a:pt x="277" y="469"/>
                        </a:cubicBezTo>
                        <a:cubicBezTo>
                          <a:pt x="281" y="415"/>
                          <a:pt x="297" y="398"/>
                          <a:pt x="307" y="367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 rot="21412800">
                    <a:off x="8756640" y="6424200"/>
                    <a:ext cx="1998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5" h="2071">
                        <a:moveTo>
                          <a:pt x="785" y="530"/>
                        </a:moveTo>
                        <a:cubicBezTo>
                          <a:pt x="783" y="491"/>
                          <a:pt x="784" y="404"/>
                          <a:pt x="797" y="350"/>
                        </a:cubicBezTo>
                        <a:cubicBezTo>
                          <a:pt x="810" y="296"/>
                          <a:pt x="861" y="228"/>
                          <a:pt x="863" y="206"/>
                        </a:cubicBezTo>
                        <a:cubicBezTo>
                          <a:pt x="865" y="184"/>
                          <a:pt x="828" y="216"/>
                          <a:pt x="809" y="218"/>
                        </a:cubicBezTo>
                        <a:cubicBezTo>
                          <a:pt x="790" y="220"/>
                          <a:pt x="770" y="235"/>
                          <a:pt x="749" y="218"/>
                        </a:cubicBezTo>
                        <a:cubicBezTo>
                          <a:pt x="728" y="201"/>
                          <a:pt x="706" y="147"/>
                          <a:pt x="683" y="116"/>
                        </a:cubicBezTo>
                        <a:cubicBezTo>
                          <a:pt x="660" y="85"/>
                          <a:pt x="640" y="51"/>
                          <a:pt x="611" y="32"/>
                        </a:cubicBezTo>
                        <a:cubicBezTo>
                          <a:pt x="582" y="13"/>
                          <a:pt x="543" y="4"/>
                          <a:pt x="509" y="2"/>
                        </a:cubicBezTo>
                        <a:cubicBezTo>
                          <a:pt x="475" y="0"/>
                          <a:pt x="445" y="8"/>
                          <a:pt x="407" y="20"/>
                        </a:cubicBezTo>
                        <a:cubicBezTo>
                          <a:pt x="369" y="32"/>
                          <a:pt x="320" y="43"/>
                          <a:pt x="281" y="74"/>
                        </a:cubicBezTo>
                        <a:cubicBezTo>
                          <a:pt x="242" y="105"/>
                          <a:pt x="200" y="151"/>
                          <a:pt x="173" y="206"/>
                        </a:cubicBezTo>
                        <a:cubicBezTo>
                          <a:pt x="146" y="261"/>
                          <a:pt x="126" y="340"/>
                          <a:pt x="119" y="404"/>
                        </a:cubicBezTo>
                        <a:cubicBezTo>
                          <a:pt x="112" y="468"/>
                          <a:pt x="122" y="527"/>
                          <a:pt x="131" y="590"/>
                        </a:cubicBezTo>
                        <a:cubicBezTo>
                          <a:pt x="140" y="653"/>
                          <a:pt x="162" y="733"/>
                          <a:pt x="173" y="782"/>
                        </a:cubicBezTo>
                        <a:cubicBezTo>
                          <a:pt x="184" y="831"/>
                          <a:pt x="198" y="850"/>
                          <a:pt x="197" y="884"/>
                        </a:cubicBezTo>
                        <a:cubicBezTo>
                          <a:pt x="196" y="918"/>
                          <a:pt x="189" y="946"/>
                          <a:pt x="167" y="986"/>
                        </a:cubicBezTo>
                        <a:cubicBezTo>
                          <a:pt x="145" y="1026"/>
                          <a:pt x="90" y="1072"/>
                          <a:pt x="65" y="1124"/>
                        </a:cubicBezTo>
                        <a:cubicBezTo>
                          <a:pt x="40" y="1176"/>
                          <a:pt x="27" y="1227"/>
                          <a:pt x="17" y="1298"/>
                        </a:cubicBezTo>
                        <a:cubicBezTo>
                          <a:pt x="7" y="1369"/>
                          <a:pt x="0" y="1475"/>
                          <a:pt x="5" y="1550"/>
                        </a:cubicBezTo>
                        <a:cubicBezTo>
                          <a:pt x="10" y="1625"/>
                          <a:pt x="26" y="1690"/>
                          <a:pt x="47" y="1748"/>
                        </a:cubicBezTo>
                        <a:cubicBezTo>
                          <a:pt x="68" y="1806"/>
                          <a:pt x="89" y="1858"/>
                          <a:pt x="131" y="1898"/>
                        </a:cubicBezTo>
                        <a:cubicBezTo>
                          <a:pt x="173" y="1938"/>
                          <a:pt x="250" y="1974"/>
                          <a:pt x="299" y="1988"/>
                        </a:cubicBezTo>
                        <a:cubicBezTo>
                          <a:pt x="348" y="2002"/>
                          <a:pt x="397" y="1981"/>
                          <a:pt x="425" y="1982"/>
                        </a:cubicBezTo>
                        <a:cubicBezTo>
                          <a:pt x="453" y="1983"/>
                          <a:pt x="455" y="1980"/>
                          <a:pt x="467" y="1994"/>
                        </a:cubicBezTo>
                        <a:cubicBezTo>
                          <a:pt x="479" y="2008"/>
                          <a:pt x="492" y="2071"/>
                          <a:pt x="497" y="2066"/>
                        </a:cubicBezTo>
                        <a:cubicBezTo>
                          <a:pt x="502" y="2061"/>
                          <a:pt x="487" y="2012"/>
                          <a:pt x="497" y="1964"/>
                        </a:cubicBezTo>
                        <a:cubicBezTo>
                          <a:pt x="507" y="1916"/>
                          <a:pt x="537" y="1829"/>
                          <a:pt x="557" y="1778"/>
                        </a:cubicBezTo>
                        <a:cubicBezTo>
                          <a:pt x="577" y="1727"/>
                          <a:pt x="613" y="1671"/>
                          <a:pt x="617" y="1658"/>
                        </a:cubicBezTo>
                        <a:cubicBezTo>
                          <a:pt x="621" y="1645"/>
                          <a:pt x="598" y="1673"/>
                          <a:pt x="581" y="1700"/>
                        </a:cubicBezTo>
                        <a:cubicBezTo>
                          <a:pt x="564" y="1727"/>
                          <a:pt x="544" y="1786"/>
                          <a:pt x="515" y="1820"/>
                        </a:cubicBezTo>
                        <a:cubicBezTo>
                          <a:pt x="486" y="1854"/>
                          <a:pt x="448" y="1891"/>
                          <a:pt x="407" y="1904"/>
                        </a:cubicBezTo>
                        <a:cubicBezTo>
                          <a:pt x="366" y="1917"/>
                          <a:pt x="307" y="1913"/>
                          <a:pt x="269" y="1898"/>
                        </a:cubicBezTo>
                        <a:cubicBezTo>
                          <a:pt x="231" y="1883"/>
                          <a:pt x="205" y="1857"/>
                          <a:pt x="179" y="1814"/>
                        </a:cubicBezTo>
                        <a:cubicBezTo>
                          <a:pt x="153" y="1771"/>
                          <a:pt x="125" y="1710"/>
                          <a:pt x="113" y="1640"/>
                        </a:cubicBezTo>
                        <a:cubicBezTo>
                          <a:pt x="101" y="1570"/>
                          <a:pt x="103" y="1469"/>
                          <a:pt x="107" y="1394"/>
                        </a:cubicBezTo>
                        <a:cubicBezTo>
                          <a:pt x="111" y="1319"/>
                          <a:pt x="121" y="1244"/>
                          <a:pt x="137" y="1190"/>
                        </a:cubicBezTo>
                        <a:cubicBezTo>
                          <a:pt x="153" y="1136"/>
                          <a:pt x="172" y="1098"/>
                          <a:pt x="203" y="1070"/>
                        </a:cubicBezTo>
                        <a:cubicBezTo>
                          <a:pt x="234" y="1042"/>
                          <a:pt x="272" y="1021"/>
                          <a:pt x="323" y="1022"/>
                        </a:cubicBezTo>
                        <a:cubicBezTo>
                          <a:pt x="374" y="1023"/>
                          <a:pt x="461" y="1059"/>
                          <a:pt x="509" y="1076"/>
                        </a:cubicBezTo>
                        <a:cubicBezTo>
                          <a:pt x="557" y="1093"/>
                          <a:pt x="585" y="1120"/>
                          <a:pt x="611" y="1124"/>
                        </a:cubicBezTo>
                        <a:cubicBezTo>
                          <a:pt x="637" y="1128"/>
                          <a:pt x="657" y="1113"/>
                          <a:pt x="665" y="1100"/>
                        </a:cubicBezTo>
                        <a:cubicBezTo>
                          <a:pt x="673" y="1087"/>
                          <a:pt x="668" y="1062"/>
                          <a:pt x="659" y="1046"/>
                        </a:cubicBezTo>
                        <a:cubicBezTo>
                          <a:pt x="650" y="1030"/>
                          <a:pt x="638" y="1015"/>
                          <a:pt x="611" y="1004"/>
                        </a:cubicBezTo>
                        <a:cubicBezTo>
                          <a:pt x="584" y="993"/>
                          <a:pt x="545" y="998"/>
                          <a:pt x="497" y="980"/>
                        </a:cubicBezTo>
                        <a:cubicBezTo>
                          <a:pt x="449" y="962"/>
                          <a:pt x="367" y="946"/>
                          <a:pt x="323" y="896"/>
                        </a:cubicBezTo>
                        <a:cubicBezTo>
                          <a:pt x="279" y="846"/>
                          <a:pt x="252" y="760"/>
                          <a:pt x="233" y="680"/>
                        </a:cubicBezTo>
                        <a:cubicBezTo>
                          <a:pt x="214" y="600"/>
                          <a:pt x="195" y="501"/>
                          <a:pt x="209" y="416"/>
                        </a:cubicBezTo>
                        <a:cubicBezTo>
                          <a:pt x="223" y="331"/>
                          <a:pt x="271" y="221"/>
                          <a:pt x="317" y="170"/>
                        </a:cubicBezTo>
                        <a:cubicBezTo>
                          <a:pt x="363" y="119"/>
                          <a:pt x="435" y="111"/>
                          <a:pt x="485" y="110"/>
                        </a:cubicBezTo>
                        <a:cubicBezTo>
                          <a:pt x="535" y="109"/>
                          <a:pt x="580" y="134"/>
                          <a:pt x="617" y="164"/>
                        </a:cubicBezTo>
                        <a:cubicBezTo>
                          <a:pt x="654" y="194"/>
                          <a:pt x="687" y="246"/>
                          <a:pt x="707" y="290"/>
                        </a:cubicBezTo>
                        <a:cubicBezTo>
                          <a:pt x="727" y="334"/>
                          <a:pt x="726" y="376"/>
                          <a:pt x="737" y="428"/>
                        </a:cubicBezTo>
                        <a:cubicBezTo>
                          <a:pt x="748" y="480"/>
                          <a:pt x="761" y="576"/>
                          <a:pt x="773" y="602"/>
                        </a:cubicBezTo>
                        <a:cubicBezTo>
                          <a:pt x="785" y="628"/>
                          <a:pt x="807" y="597"/>
                          <a:pt x="809" y="584"/>
                        </a:cubicBezTo>
                        <a:cubicBezTo>
                          <a:pt x="811" y="571"/>
                          <a:pt x="787" y="569"/>
                          <a:pt x="785" y="53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 rot="21412800">
                  <a:off x="8928720" y="6473160"/>
                  <a:ext cx="38520" cy="12600"/>
                </a:xfrm>
                <a:prstGeom prst="ellipse">
                  <a:avLst/>
                </a:prstGeom>
                <a:solidFill>
                  <a:srgbClr val="e7d6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rot="21412800">
                  <a:off x="8971920" y="6435000"/>
                  <a:ext cx="61200" cy="26640"/>
                </a:xfrm>
                <a:custGeom>
                  <a:avLst/>
                  <a:gdLst/>
                  <a:ahLst/>
                  <a:rect l="l" t="t" r="r" b="b"/>
                  <a:pathLst>
                    <a:path w="266" h="521">
                      <a:moveTo>
                        <a:pt x="3" y="483"/>
                      </a:moveTo>
                      <a:cubicBezTo>
                        <a:pt x="0" y="445"/>
                        <a:pt x="9" y="346"/>
                        <a:pt x="27" y="273"/>
                      </a:cubicBezTo>
                      <a:cubicBezTo>
                        <a:pt x="45" y="200"/>
                        <a:pt x="85" y="90"/>
                        <a:pt x="111" y="45"/>
                      </a:cubicBezTo>
                      <a:cubicBezTo>
                        <a:pt x="137" y="0"/>
                        <a:pt x="162" y="4"/>
                        <a:pt x="183" y="3"/>
                      </a:cubicBezTo>
                      <a:cubicBezTo>
                        <a:pt x="204" y="2"/>
                        <a:pt x="224" y="18"/>
                        <a:pt x="237" y="39"/>
                      </a:cubicBezTo>
                      <a:cubicBezTo>
                        <a:pt x="250" y="60"/>
                        <a:pt x="266" y="90"/>
                        <a:pt x="261" y="129"/>
                      </a:cubicBezTo>
                      <a:cubicBezTo>
                        <a:pt x="256" y="168"/>
                        <a:pt x="233" y="215"/>
                        <a:pt x="207" y="273"/>
                      </a:cubicBezTo>
                      <a:cubicBezTo>
                        <a:pt x="181" y="331"/>
                        <a:pt x="132" y="439"/>
                        <a:pt x="105" y="477"/>
                      </a:cubicBezTo>
                      <a:cubicBezTo>
                        <a:pt x="78" y="515"/>
                        <a:pt x="61" y="501"/>
                        <a:pt x="45" y="501"/>
                      </a:cubicBezTo>
                      <a:cubicBezTo>
                        <a:pt x="29" y="501"/>
                        <a:pt x="6" y="521"/>
                        <a:pt x="3" y="483"/>
                      </a:cubicBezTo>
                      <a:close/>
                    </a:path>
                  </a:pathLst>
                </a:custGeom>
                <a:solidFill>
                  <a:srgbClr val="e7d6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9080" bIns="-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rot="21412800">
                  <a:off x="8992080" y="6477120"/>
                  <a:ext cx="90360" cy="17280"/>
                </a:xfrm>
                <a:custGeom>
                  <a:avLst/>
                  <a:gdLst/>
                  <a:ahLst/>
                  <a:rect l="l" t="t" r="r" b="b"/>
                  <a:pathLst>
                    <a:path w="392" h="340">
                      <a:moveTo>
                        <a:pt x="100" y="201"/>
                      </a:moveTo>
                      <a:cubicBezTo>
                        <a:pt x="62" y="163"/>
                        <a:pt x="32" y="113"/>
                        <a:pt x="16" y="87"/>
                      </a:cubicBezTo>
                      <a:cubicBezTo>
                        <a:pt x="0" y="61"/>
                        <a:pt x="2" y="59"/>
                        <a:pt x="4" y="45"/>
                      </a:cubicBezTo>
                      <a:cubicBezTo>
                        <a:pt x="6" y="31"/>
                        <a:pt x="7" y="6"/>
                        <a:pt x="28" y="3"/>
                      </a:cubicBezTo>
                      <a:cubicBezTo>
                        <a:pt x="49" y="0"/>
                        <a:pt x="93" y="15"/>
                        <a:pt x="130" y="27"/>
                      </a:cubicBezTo>
                      <a:cubicBezTo>
                        <a:pt x="167" y="39"/>
                        <a:pt x="211" y="53"/>
                        <a:pt x="250" y="75"/>
                      </a:cubicBezTo>
                      <a:cubicBezTo>
                        <a:pt x="289" y="97"/>
                        <a:pt x="341" y="126"/>
                        <a:pt x="364" y="159"/>
                      </a:cubicBezTo>
                      <a:cubicBezTo>
                        <a:pt x="387" y="192"/>
                        <a:pt x="392" y="244"/>
                        <a:pt x="388" y="273"/>
                      </a:cubicBezTo>
                      <a:cubicBezTo>
                        <a:pt x="384" y="302"/>
                        <a:pt x="364" y="326"/>
                        <a:pt x="340" y="333"/>
                      </a:cubicBezTo>
                      <a:cubicBezTo>
                        <a:pt x="316" y="340"/>
                        <a:pt x="282" y="336"/>
                        <a:pt x="244" y="315"/>
                      </a:cubicBezTo>
                      <a:cubicBezTo>
                        <a:pt x="206" y="294"/>
                        <a:pt x="138" y="239"/>
                        <a:pt x="100" y="201"/>
                      </a:cubicBezTo>
                      <a:close/>
                    </a:path>
                  </a:pathLst>
                </a:custGeom>
                <a:solidFill>
                  <a:srgbClr val="e7d6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 rot="21412800">
                  <a:off x="8933400" y="6499080"/>
                  <a:ext cx="34560" cy="28440"/>
                </a:xfrm>
                <a:custGeom>
                  <a:avLst/>
                  <a:gdLst/>
                  <a:ahLst/>
                  <a:rect l="l" t="t" r="r" b="b"/>
                  <a:pathLst>
                    <a:path w="151" h="558">
                      <a:moveTo>
                        <a:pt x="18" y="165"/>
                      </a:moveTo>
                      <a:cubicBezTo>
                        <a:pt x="25" y="119"/>
                        <a:pt x="34" y="66"/>
                        <a:pt x="42" y="39"/>
                      </a:cubicBezTo>
                      <a:cubicBezTo>
                        <a:pt x="50" y="12"/>
                        <a:pt x="55" y="5"/>
                        <a:pt x="66" y="3"/>
                      </a:cubicBezTo>
                      <a:cubicBezTo>
                        <a:pt x="77" y="1"/>
                        <a:pt x="96" y="0"/>
                        <a:pt x="108" y="27"/>
                      </a:cubicBezTo>
                      <a:cubicBezTo>
                        <a:pt x="120" y="54"/>
                        <a:pt x="132" y="99"/>
                        <a:pt x="138" y="165"/>
                      </a:cubicBezTo>
                      <a:cubicBezTo>
                        <a:pt x="144" y="231"/>
                        <a:pt x="151" y="360"/>
                        <a:pt x="144" y="423"/>
                      </a:cubicBezTo>
                      <a:cubicBezTo>
                        <a:pt x="137" y="486"/>
                        <a:pt x="116" y="528"/>
                        <a:pt x="96" y="543"/>
                      </a:cubicBezTo>
                      <a:cubicBezTo>
                        <a:pt x="76" y="558"/>
                        <a:pt x="40" y="551"/>
                        <a:pt x="24" y="513"/>
                      </a:cubicBezTo>
                      <a:cubicBezTo>
                        <a:pt x="8" y="475"/>
                        <a:pt x="0" y="372"/>
                        <a:pt x="0" y="315"/>
                      </a:cubicBezTo>
                      <a:cubicBezTo>
                        <a:pt x="0" y="258"/>
                        <a:pt x="11" y="211"/>
                        <a:pt x="18" y="165"/>
                      </a:cubicBezTo>
                      <a:close/>
                    </a:path>
                  </a:pathLst>
                </a:custGeom>
                <a:solidFill>
                  <a:srgbClr val="e7d6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 rot="21412800">
                  <a:off x="8815320" y="6486480"/>
                  <a:ext cx="90360" cy="12960"/>
                </a:xfrm>
                <a:custGeom>
                  <a:avLst/>
                  <a:gdLst/>
                  <a:ahLst/>
                  <a:rect l="l" t="t" r="r" b="b"/>
                  <a:pathLst>
                    <a:path w="392" h="253">
                      <a:moveTo>
                        <a:pt x="175" y="61"/>
                      </a:moveTo>
                      <a:cubicBezTo>
                        <a:pt x="219" y="45"/>
                        <a:pt x="275" y="28"/>
                        <a:pt x="307" y="19"/>
                      </a:cubicBezTo>
                      <a:cubicBezTo>
                        <a:pt x="339" y="10"/>
                        <a:pt x="354" y="0"/>
                        <a:pt x="367" y="7"/>
                      </a:cubicBezTo>
                      <a:cubicBezTo>
                        <a:pt x="380" y="14"/>
                        <a:pt x="392" y="40"/>
                        <a:pt x="385" y="61"/>
                      </a:cubicBezTo>
                      <a:cubicBezTo>
                        <a:pt x="378" y="82"/>
                        <a:pt x="357" y="106"/>
                        <a:pt x="325" y="133"/>
                      </a:cubicBezTo>
                      <a:cubicBezTo>
                        <a:pt x="293" y="160"/>
                        <a:pt x="241" y="204"/>
                        <a:pt x="193" y="223"/>
                      </a:cubicBezTo>
                      <a:cubicBezTo>
                        <a:pt x="145" y="242"/>
                        <a:pt x="69" y="253"/>
                        <a:pt x="37" y="247"/>
                      </a:cubicBezTo>
                      <a:cubicBezTo>
                        <a:pt x="5" y="241"/>
                        <a:pt x="0" y="209"/>
                        <a:pt x="1" y="187"/>
                      </a:cubicBezTo>
                      <a:cubicBezTo>
                        <a:pt x="2" y="165"/>
                        <a:pt x="15" y="136"/>
                        <a:pt x="43" y="115"/>
                      </a:cubicBezTo>
                      <a:cubicBezTo>
                        <a:pt x="71" y="94"/>
                        <a:pt x="131" y="77"/>
                        <a:pt x="175" y="61"/>
                      </a:cubicBezTo>
                      <a:close/>
                    </a:path>
                  </a:pathLst>
                </a:custGeom>
                <a:solidFill>
                  <a:srgbClr val="e7d6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rot="21412800">
                  <a:off x="8856720" y="6450840"/>
                  <a:ext cx="54720" cy="19800"/>
                </a:xfrm>
                <a:custGeom>
                  <a:avLst/>
                  <a:gdLst/>
                  <a:ahLst/>
                  <a:rect l="l" t="t" r="r" b="b"/>
                  <a:pathLst>
                    <a:path w="238" h="386">
                      <a:moveTo>
                        <a:pt x="78" y="270"/>
                      </a:moveTo>
                      <a:cubicBezTo>
                        <a:pt x="54" y="243"/>
                        <a:pt x="37" y="221"/>
                        <a:pt x="24" y="192"/>
                      </a:cubicBezTo>
                      <a:cubicBezTo>
                        <a:pt x="11" y="163"/>
                        <a:pt x="0" y="126"/>
                        <a:pt x="0" y="96"/>
                      </a:cubicBezTo>
                      <a:cubicBezTo>
                        <a:pt x="0" y="66"/>
                        <a:pt x="4" y="24"/>
                        <a:pt x="24" y="12"/>
                      </a:cubicBezTo>
                      <a:cubicBezTo>
                        <a:pt x="44" y="0"/>
                        <a:pt x="94" y="4"/>
                        <a:pt x="120" y="24"/>
                      </a:cubicBezTo>
                      <a:cubicBezTo>
                        <a:pt x="146" y="44"/>
                        <a:pt x="161" y="85"/>
                        <a:pt x="180" y="132"/>
                      </a:cubicBezTo>
                      <a:cubicBezTo>
                        <a:pt x="199" y="179"/>
                        <a:pt x="230" y="265"/>
                        <a:pt x="234" y="306"/>
                      </a:cubicBezTo>
                      <a:cubicBezTo>
                        <a:pt x="238" y="347"/>
                        <a:pt x="215" y="370"/>
                        <a:pt x="204" y="378"/>
                      </a:cubicBezTo>
                      <a:cubicBezTo>
                        <a:pt x="193" y="386"/>
                        <a:pt x="190" y="372"/>
                        <a:pt x="168" y="354"/>
                      </a:cubicBezTo>
                      <a:cubicBezTo>
                        <a:pt x="146" y="336"/>
                        <a:pt x="102" y="297"/>
                        <a:pt x="78" y="270"/>
                      </a:cubicBezTo>
                      <a:close/>
                    </a:path>
                  </a:pathLst>
                </a:custGeom>
                <a:solidFill>
                  <a:srgbClr val="e7d6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" name="" descr=""/>
              <p:cNvPicPr/>
              <p:nvPr/>
            </p:nvPicPr>
            <p:blipFill>
              <a:blip r:embed="rId2"/>
              <a:stretch/>
            </p:blipFill>
            <p:spPr>
              <a:xfrm rot="5212200">
                <a:off x="8544600" y="61470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" descr=""/>
              <p:cNvPicPr/>
              <p:nvPr/>
            </p:nvPicPr>
            <p:blipFill>
              <a:blip r:embed="rId3"/>
              <a:stretch/>
            </p:blipFill>
            <p:spPr>
              <a:xfrm rot="5212200">
                <a:off x="8556480" y="63666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4"/>
              <a:stretch/>
            </p:blipFill>
            <p:spPr>
              <a:xfrm rot="5212200">
                <a:off x="8120160" y="62780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" descr=""/>
              <p:cNvPicPr/>
              <p:nvPr/>
            </p:nvPicPr>
            <p:blipFill>
              <a:blip r:embed="rId5"/>
              <a:stretch/>
            </p:blipFill>
            <p:spPr>
              <a:xfrm rot="5212200">
                <a:off x="7580880" y="62712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6"/>
              <a:stretch/>
            </p:blipFill>
            <p:spPr>
              <a:xfrm rot="5212200">
                <a:off x="7696800" y="64134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7"/>
              <a:stretch/>
            </p:blipFill>
            <p:spPr>
              <a:xfrm rot="5212200">
                <a:off x="7154280" y="636696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8"/>
              <a:stretch/>
            </p:blipFill>
            <p:spPr>
              <a:xfrm rot="5212200">
                <a:off x="6621120" y="64724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9"/>
              <a:stretch/>
            </p:blipFill>
            <p:spPr>
              <a:xfrm rot="5212200">
                <a:off x="6083640" y="65016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" name=""/>
            <p:cNvGrpSpPr/>
            <p:nvPr/>
          </p:nvGrpSpPr>
          <p:grpSpPr>
            <a:xfrm>
              <a:off x="222480" y="6270120"/>
              <a:ext cx="6658920" cy="526680"/>
              <a:chOff x="222480" y="6270120"/>
              <a:chExt cx="6658920" cy="526680"/>
            </a:xfrm>
          </p:grpSpPr>
          <p:pic>
            <p:nvPicPr>
              <p:cNvPr id="22" name="" descr=""/>
              <p:cNvPicPr/>
              <p:nvPr/>
            </p:nvPicPr>
            <p:blipFill>
              <a:blip r:embed="rId10"/>
              <a:stretch/>
            </p:blipFill>
            <p:spPr>
              <a:xfrm rot="5212200">
                <a:off x="6603120" y="61452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" descr=""/>
              <p:cNvPicPr/>
              <p:nvPr/>
            </p:nvPicPr>
            <p:blipFill>
              <a:blip r:embed="rId11"/>
              <a:stretch/>
            </p:blipFill>
            <p:spPr>
              <a:xfrm rot="5212200">
                <a:off x="6175440" y="62046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" descr=""/>
              <p:cNvPicPr/>
              <p:nvPr/>
            </p:nvPicPr>
            <p:blipFill>
              <a:blip r:embed="rId12"/>
              <a:stretch/>
            </p:blipFill>
            <p:spPr>
              <a:xfrm rot="5212200">
                <a:off x="5313240" y="621576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" descr=""/>
              <p:cNvPicPr/>
              <p:nvPr/>
            </p:nvPicPr>
            <p:blipFill>
              <a:blip r:embed="rId13"/>
              <a:stretch/>
            </p:blipFill>
            <p:spPr>
              <a:xfrm rot="5212200">
                <a:off x="4996440" y="63410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" descr=""/>
              <p:cNvPicPr/>
              <p:nvPr/>
            </p:nvPicPr>
            <p:blipFill>
              <a:blip r:embed="rId14"/>
              <a:stretch/>
            </p:blipFill>
            <p:spPr>
              <a:xfrm rot="5212200">
                <a:off x="4771800" y="61736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" name="" descr=""/>
              <p:cNvPicPr/>
              <p:nvPr/>
            </p:nvPicPr>
            <p:blipFill>
              <a:blip r:embed="rId15"/>
              <a:stretch/>
            </p:blipFill>
            <p:spPr>
              <a:xfrm rot="5212200">
                <a:off x="4343400" y="62330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" name="" descr=""/>
              <p:cNvPicPr/>
              <p:nvPr/>
            </p:nvPicPr>
            <p:blipFill>
              <a:blip r:embed="rId16"/>
              <a:stretch/>
            </p:blipFill>
            <p:spPr>
              <a:xfrm rot="5212200">
                <a:off x="4244040" y="638208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" name="" descr=""/>
              <p:cNvPicPr/>
              <p:nvPr/>
            </p:nvPicPr>
            <p:blipFill>
              <a:blip r:embed="rId17"/>
              <a:stretch/>
            </p:blipFill>
            <p:spPr>
              <a:xfrm rot="5212200">
                <a:off x="3596760" y="638172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" name="" descr=""/>
              <p:cNvPicPr/>
              <p:nvPr/>
            </p:nvPicPr>
            <p:blipFill>
              <a:blip r:embed="rId18"/>
              <a:stretch/>
            </p:blipFill>
            <p:spPr>
              <a:xfrm rot="5212200">
                <a:off x="3909600" y="61848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" name="" descr=""/>
              <p:cNvPicPr/>
              <p:nvPr/>
            </p:nvPicPr>
            <p:blipFill>
              <a:blip r:embed="rId19"/>
              <a:stretch/>
            </p:blipFill>
            <p:spPr>
              <a:xfrm rot="5212200">
                <a:off x="3372120" y="621432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" name="" descr=""/>
              <p:cNvPicPr/>
              <p:nvPr/>
            </p:nvPicPr>
            <p:blipFill>
              <a:blip r:embed="rId20"/>
              <a:stretch/>
            </p:blipFill>
            <p:spPr>
              <a:xfrm rot="5212200">
                <a:off x="3055320" y="63392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" name="" descr=""/>
              <p:cNvPicPr/>
              <p:nvPr/>
            </p:nvPicPr>
            <p:blipFill>
              <a:blip r:embed="rId21"/>
              <a:stretch/>
            </p:blipFill>
            <p:spPr>
              <a:xfrm rot="5212200">
                <a:off x="5747400" y="626436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" name="" descr=""/>
              <p:cNvPicPr/>
              <p:nvPr/>
            </p:nvPicPr>
            <p:blipFill>
              <a:blip r:embed="rId22"/>
              <a:stretch/>
            </p:blipFill>
            <p:spPr>
              <a:xfrm rot="5212200">
                <a:off x="2725200" y="621396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" name="" descr=""/>
              <p:cNvPicPr/>
              <p:nvPr/>
            </p:nvPicPr>
            <p:blipFill>
              <a:blip r:embed="rId23"/>
              <a:stretch/>
            </p:blipFill>
            <p:spPr>
              <a:xfrm rot="5212200">
                <a:off x="1974240" y="62906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" name="" descr=""/>
              <p:cNvPicPr/>
              <p:nvPr/>
            </p:nvPicPr>
            <p:blipFill>
              <a:blip r:embed="rId24"/>
              <a:stretch/>
            </p:blipFill>
            <p:spPr>
              <a:xfrm rot="5212200">
                <a:off x="1446840" y="64994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" name="" descr=""/>
              <p:cNvPicPr/>
              <p:nvPr/>
            </p:nvPicPr>
            <p:blipFill>
              <a:blip r:embed="rId25"/>
              <a:stretch/>
            </p:blipFill>
            <p:spPr>
              <a:xfrm rot="5212200">
                <a:off x="1221840" y="633168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" name="" descr=""/>
              <p:cNvPicPr/>
              <p:nvPr/>
            </p:nvPicPr>
            <p:blipFill>
              <a:blip r:embed="rId26"/>
              <a:stretch/>
            </p:blipFill>
            <p:spPr>
              <a:xfrm rot="5212200">
                <a:off x="903600" y="642132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" name="" descr=""/>
              <p:cNvPicPr/>
              <p:nvPr/>
            </p:nvPicPr>
            <p:blipFill>
              <a:blip r:embed="rId27"/>
              <a:stretch/>
            </p:blipFill>
            <p:spPr>
              <a:xfrm rot="5212200">
                <a:off x="361440" y="637884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" name="" descr=""/>
              <p:cNvPicPr/>
              <p:nvPr/>
            </p:nvPicPr>
            <p:blipFill>
              <a:blip r:embed="rId28"/>
              <a:stretch/>
            </p:blipFill>
            <p:spPr>
              <a:xfrm rot="5212200">
                <a:off x="584640" y="6510600"/>
                <a:ext cx="138960" cy="41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" name=""/>
          <p:cNvSpPr/>
          <p:nvPr/>
        </p:nvSpPr>
        <p:spPr>
          <a:xfrm rot="5400000">
            <a:off x="5524200" y="3238560"/>
            <a:ext cx="6858000" cy="38088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36720 h 380880"/>
              <a:gd name="textAreaBottom" fmla="*/ 344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1605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-3238200" y="3238560"/>
            <a:ext cx="6858000" cy="38088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36720 h 380880"/>
              <a:gd name="textAreaBottom" fmla="*/ 344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c1605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afd23"/>
                </a:solidFill>
                <a:latin typeface="Arial"/>
              </a:rPr>
              <a:t>江苏省大丰高级中学  陈彩余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2A8A-3098-49FC-8E91-E9A378D1A55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7426-E24D-4DC2-A90D-E5629AA4EEAF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0"/>
            <a:ext cx="76320" cy="6858000"/>
            <a:chOff x="0" y="0"/>
            <a:chExt cx="76320" cy="6858000"/>
          </a:xfrm>
        </p:grpSpPr>
        <p:sp>
          <p:nvSpPr>
            <p:cNvPr id="182" name=""/>
            <p:cNvSpPr/>
            <p:nvPr/>
          </p:nvSpPr>
          <p:spPr>
            <a:xfrm>
              <a:off x="0" y="0"/>
              <a:ext cx="76320" cy="22860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2286000"/>
              <a:ext cx="76320" cy="2286000"/>
            </a:xfrm>
            <a:prstGeom prst="rect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572000"/>
              <a:ext cx="76320" cy="22860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067680" y="0"/>
            <a:ext cx="76320" cy="6858000"/>
            <a:chOff x="9067680" y="0"/>
            <a:chExt cx="76320" cy="6858000"/>
          </a:xfrm>
        </p:grpSpPr>
        <p:sp>
          <p:nvSpPr>
            <p:cNvPr id="186" name=""/>
            <p:cNvSpPr/>
            <p:nvPr/>
          </p:nvSpPr>
          <p:spPr>
            <a:xfrm>
              <a:off x="9067680" y="0"/>
              <a:ext cx="76320" cy="22860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67680" y="2286000"/>
              <a:ext cx="76320" cy="2286000"/>
            </a:xfrm>
            <a:prstGeom prst="rect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67680" y="4572000"/>
              <a:ext cx="76320" cy="22860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0" y="6705720"/>
            <a:ext cx="891540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7486-687F-465F-A3EE-3FF4A59D6FEE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23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910160" y="1752480"/>
            <a:ext cx="564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afd23"/>
                </a:solidFill>
                <a:latin typeface="Arial"/>
              </a:rPr>
              <a:t>高中数学必胜秘籍（函数</a:t>
            </a:r>
            <a:r>
              <a:rPr b="0" lang="zh-CN" sz="6000" spc="-1" strike="noStrike">
                <a:solidFill>
                  <a:srgbClr val="9afd23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28600" y="380880"/>
          <a:ext cx="89154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9154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47600" y="1143000"/>
          <a:ext cx="93772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43000"/>
                    <a:ext cx="9377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76320" y="426960"/>
          <a:ext cx="8915400" cy="59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26960"/>
                    <a:ext cx="891540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228600" y="1066680"/>
          <a:ext cx="868680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914400"/>
          <a:ext cx="883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83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-380880" y="228600"/>
          <a:ext cx="9905760" cy="62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28600"/>
                    <a:ext cx="990576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228600" y="380880"/>
          <a:ext cx="8686800" cy="663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68680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152280" y="533520"/>
          <a:ext cx="89917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9917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28600" y="228600"/>
          <a:ext cx="8686800" cy="63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228600" y="457200"/>
          <a:ext cx="9296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9296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304920" y="380880"/>
          <a:ext cx="8583480" cy="585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583480" cy="58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28600" y="457200"/>
          <a:ext cx="83804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3804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228600" y="228600"/>
          <a:ext cx="8686800" cy="63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533520" y="1143000"/>
          <a:ext cx="830556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3055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52280" y="380880"/>
          <a:ext cx="89154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89154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80880" y="228600"/>
          <a:ext cx="838224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38224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609480" y="685800"/>
          <a:ext cx="769644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69644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228600" y="762120"/>
          <a:ext cx="8610480" cy="41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1048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52280"/>
          <a:ext cx="883944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380880" y="258840"/>
          <a:ext cx="8534520" cy="65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8840"/>
                    <a:ext cx="8534520" cy="65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228600" y="304920"/>
          <a:ext cx="8763120" cy="60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763120" cy="60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28600" y="152280"/>
          <a:ext cx="861048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6104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228600" y="304920"/>
          <a:ext cx="883908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8390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304920" y="1143000"/>
          <a:ext cx="8381880" cy="36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38188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228600" y="304920"/>
          <a:ext cx="861048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10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9144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380880" y="380880"/>
          <a:ext cx="815364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1536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304920" y="838080"/>
          <a:ext cx="838188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38188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304920" y="304920"/>
          <a:ext cx="8381880" cy="64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381880" cy="64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28600" y="457200"/>
          <a:ext cx="9220320" cy="56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922032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609480" y="304920"/>
          <a:ext cx="7543800" cy="63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543800" cy="63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380880"/>
          <a:ext cx="8686800" cy="615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686800" cy="615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0" y="609480"/>
          <a:ext cx="8915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8915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380880" y="228600"/>
          <a:ext cx="8229600" cy="62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229600" cy="62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228600" y="380880"/>
          <a:ext cx="8534520" cy="63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534520" cy="63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380880" y="533520"/>
          <a:ext cx="84582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380880" y="914400"/>
          <a:ext cx="853452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53452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52280" y="380880"/>
          <a:ext cx="876312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876312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228600" y="609480"/>
          <a:ext cx="86104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610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228600" y="1143000"/>
          <a:ext cx="86868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6868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533520" y="1828800"/>
          <a:ext cx="8305560" cy="22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30556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228600" y="1752480"/>
          <a:ext cx="861048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1048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380880" y="380880"/>
          <a:ext cx="8305920" cy="63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30592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304920" y="1447920"/>
          <a:ext cx="8839080" cy="26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83908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04920" y="228600"/>
          <a:ext cx="84582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304920" y="380880"/>
          <a:ext cx="8610480" cy="61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61048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228600" y="380880"/>
          <a:ext cx="89154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915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33520" y="914400"/>
          <a:ext cx="784836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78483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304920" y="317520"/>
          <a:ext cx="8305560" cy="65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17520"/>
                    <a:ext cx="8305560" cy="65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228600" y="838080"/>
          <a:ext cx="8534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304920" y="1295280"/>
          <a:ext cx="9219960" cy="32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9219960" cy="32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228600" y="304920"/>
          <a:ext cx="8686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152280" y="1066680"/>
          <a:ext cx="8991720" cy="45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99172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0" y="798480"/>
          <a:ext cx="914400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8480"/>
                    <a:ext cx="91440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76320" y="609480"/>
          <a:ext cx="891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891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304920" y="533520"/>
          <a:ext cx="8839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883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380880" y="228600"/>
          <a:ext cx="82296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2296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457200" y="341280"/>
          <a:ext cx="8153280" cy="65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1280"/>
                    <a:ext cx="815328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28600" y="914400"/>
          <a:ext cx="914400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91440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304920" y="152280"/>
          <a:ext cx="8381880" cy="666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381880" cy="66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228600" y="1101600"/>
          <a:ext cx="8534520" cy="30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1600"/>
                    <a:ext cx="85345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52280" y="1314360"/>
          <a:ext cx="899172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14360"/>
                    <a:ext cx="899172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152280" y="304920"/>
          <a:ext cx="899172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9917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152280" y="152280"/>
          <a:ext cx="876312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631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28600" y="88920"/>
          <a:ext cx="8763120" cy="67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920"/>
                    <a:ext cx="8763120" cy="67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228600" y="187200"/>
          <a:ext cx="8686800" cy="667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7200"/>
                    <a:ext cx="8686800" cy="667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309600" y="708120"/>
          <a:ext cx="8834400" cy="54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708120"/>
                    <a:ext cx="8834400" cy="54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380880" y="228600"/>
          <a:ext cx="8153640" cy="65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15364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304920" y="990720"/>
          <a:ext cx="906768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906768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-228600" y="885960"/>
          <a:ext cx="1005840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885960"/>
                    <a:ext cx="100584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304920" y="762120"/>
          <a:ext cx="86104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6104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-228600" y="457200"/>
          <a:ext cx="9144000" cy="59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57200"/>
                    <a:ext cx="9144000" cy="59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304920" y="609480"/>
          <a:ext cx="914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80880" y="685800"/>
          <a:ext cx="8305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305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7-22T01:22:0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