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2.gif" ContentType="image/gif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0DF-CA0E-4D11-AB41-E9E3A2EC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C47-186D-4F62-9CF4-9F275BB3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93F-F67F-443F-B370-DC7F04CD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C4A-F326-4601-8E5C-C3D989B2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B1F-14FA-445B-ADF9-BC36D5CE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5A6-1646-4AF3-9D23-C72E74CB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DAA-CB59-4E72-A534-B9F72DD7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8E8-B7CC-4249-B827-C4A7BA56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368-1B4E-4515-B991-275E365D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F10-7EEE-467C-A637-5C02AD00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FC0-8970-40DA-805A-E720E6EA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0DC-8783-4BBD-B78D-50874924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CC72-0C42-4E6F-B57F-6AEBAE919A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hyperlink" Target="file:///&#12298;&#40511;&#38376;&#23476;&#12299;(&#25945;&#23398;&#35838;&#20214;&#65289;.ppt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&#12298;&#40511;&#38376;&#23476;&#12299;(&#25945;&#23398;&#35838;&#20214;&#65289;.ppt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&#12298;&#40511;&#38376;&#23476;&#12299;(&#25945;&#23398;&#35838;&#20214;&#65289;.ppt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752480"/>
            <a:ext cx="891540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隶书"/>
              </a:rPr>
              <a:t>《归去来兮辞并序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隶书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隶书"/>
              </a:rPr>
              <a:t>第一课时说课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562720"/>
            <a:ext cx="3809880" cy="58140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酒泉一中   刘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971800"/>
            <a:ext cx="5181480" cy="178992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华文隶书"/>
              </a:rPr>
              <a:t>①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华文隶书"/>
              </a:rPr>
              <a:t>一字一词读，读准字音，了解词义，弄懂上面提到的字词，理会文义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华文隶书"/>
              </a:rPr>
              <a:t>②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华文隶书"/>
              </a:rPr>
              <a:t>结合注释，疏通文意，并在不懂的地方做上标记，教师循环指导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华文隶书"/>
              </a:rPr>
              <a:t>③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华文隶书"/>
              </a:rPr>
              <a:t>找出所有押韵的字，在换韵的地方做出标记，反复朗读由换韵开的段落和层次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124440" cy="645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826200"/>
            <a:ext cx="594360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（一）读：学生自由朗读课文，熟悉文意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  <a:ea typeface="华文隶书"/>
              </a:rPr>
              <a:t>过程：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  <a:ea typeface="华文隶书"/>
              </a:rPr>
              <a:t>1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  <a:ea typeface="华文隶书"/>
              </a:rPr>
              <a:t>．学生自由朗读，要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057400"/>
            <a:ext cx="6248520" cy="255492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隶书"/>
              </a:rPr>
              <a:t>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隶书"/>
              </a:rPr>
              <a:t>第一段：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归－－悲――追――非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②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第二段：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衣－－微／奔――门――存――樽／颜――安――关――观――还――桓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③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第三段：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游――求――忧／畴――舟／丘――流――休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④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华文隶书"/>
              </a:rPr>
              <a:t>第四段：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之――期――耔――诗――疑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3124080" cy="5943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3808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．交流体会，思路提示（幻灯片１）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4648320"/>
            <a:ext cx="4572000" cy="190548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  <a:ea typeface="华文隶书"/>
              </a:rPr>
              <a:t>乐：躬耕陇亩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  <a:ea typeface="华文隶书"/>
              </a:rPr>
              <a:t>       </a:t>
            </a:r>
            <a:r>
              <a:rPr b="1" lang="zh-CN" sz="4800" spc="-1" strike="noStrike">
                <a:solidFill>
                  <a:srgbClr val="0066cc"/>
                </a:solidFill>
                <a:latin typeface="Arial"/>
                <a:ea typeface="华文隶书"/>
              </a:rPr>
              <a:t>纵情山水。</a:t>
            </a:r>
            <a:r>
              <a:rPr b="1" lang="zh-CN" sz="4400" spc="-1" strike="noStrike">
                <a:solidFill>
                  <a:srgbClr val="cc9900"/>
                </a:solidFill>
                <a:latin typeface="Arial"/>
                <a:ea typeface="华文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971800" cy="6172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90720" y="533520"/>
            <a:ext cx="4419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Arial"/>
              </a:rPr>
              <a:t>农人告余以春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Arial"/>
              </a:rPr>
              <a:t>将有事于西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Arial"/>
              </a:rPr>
              <a:t>登东皋以舒啸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Arial"/>
              </a:rPr>
              <a:t>临清流而赋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rot="421800">
            <a:off x="0" y="-228600"/>
            <a:ext cx="4114800" cy="1522440"/>
          </a:xfrm>
          <a:prstGeom prst="irregularSeal2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05280" y="2362320"/>
            <a:ext cx="5238720" cy="4190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" y="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cc"/>
                </a:solidFill>
                <a:latin typeface="Arial"/>
                <a:ea typeface="华文隶书"/>
              </a:rPr>
              <a:t>因何而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895480"/>
            <a:ext cx="6095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乐：</a:t>
            </a: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隶书"/>
              </a:rPr>
              <a:t>归心似箭，抵家皆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乐：</a:t>
            </a: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隶书"/>
              </a:rPr>
              <a:t>饮酒自娱，涉园成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乐：</a:t>
            </a: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隶书"/>
              </a:rPr>
              <a:t>躬耕陇亩，纵情山水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0" t="10215" r="0" b="0"/>
          <a:stretch/>
        </p:blipFill>
        <p:spPr>
          <a:xfrm rot="363000">
            <a:off x="7086240" y="101520"/>
            <a:ext cx="2057400" cy="88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21337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乐：</a:t>
            </a: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隶书"/>
              </a:rPr>
              <a:t>辞官归隐，迷途知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1600200"/>
            <a:ext cx="8001000" cy="4343400"/>
          </a:xfrm>
          <a:prstGeom prst="rect">
            <a:avLst/>
          </a:prstGeom>
          <a:solidFill>
            <a:srgbClr val="bbe0e3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RibbonSharp"/>
          <p:cNvSpPr/>
          <p:nvPr/>
        </p:nvSpPr>
        <p:spPr>
          <a:xfrm>
            <a:off x="0" y="304920"/>
            <a:ext cx="5181480" cy="990360"/>
          </a:xfrm>
          <a:custGeom>
            <a:avLst/>
            <a:gdLst>
              <a:gd name="textAreaLeft" fmla="*/ 1295280 w 5181480"/>
              <a:gd name="textAreaRight" fmla="*/ 3886200 w 51814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905120"/>
            <a:ext cx="3429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66cc"/>
                </a:solidFill>
                <a:latin typeface="宋体"/>
              </a:rPr>
              <a:t>策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扶老以流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、园</a:t>
            </a:r>
            <a:r>
              <a:rPr b="1" lang="zh-CN" sz="3200" spc="-1" strike="noStrike">
                <a:solidFill>
                  <a:srgbClr val="0066cc"/>
                </a:solidFill>
                <a:latin typeface="宋体"/>
              </a:rPr>
              <a:t>日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涉以成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、眄庭柯以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怡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66cc"/>
                </a:solidFill>
                <a:latin typeface="宋体"/>
              </a:rPr>
              <a:t>悦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亲戚之情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66cc"/>
                </a:solidFill>
                <a:latin typeface="宋体"/>
              </a:rPr>
              <a:t>乐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琴书以消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52280"/>
            <a:ext cx="396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cc"/>
                </a:solidFill>
                <a:latin typeface="宋体"/>
              </a:rPr>
              <a:t>词类活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172200"/>
            <a:ext cx="9144000" cy="533520"/>
          </a:xfrm>
          <a:prstGeom prst="sun">
            <a:avLst>
              <a:gd name="adj" fmla="val 25000"/>
            </a:avLst>
          </a:prstGeom>
          <a:solidFill>
            <a:srgbClr val="bbe0e3">
              <a:alpha val="44000"/>
            </a:srgbClr>
          </a:solidFill>
          <a:ln w="349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1981080"/>
            <a:ext cx="5790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名词作动词，拄着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名词作状语，每天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使动，使……愉快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意动，以……为悦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意动，以……为乐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1600200"/>
            <a:ext cx="7925040" cy="4114800"/>
          </a:xfrm>
          <a:prstGeom prst="rect">
            <a:avLst/>
          </a:prstGeom>
          <a:solidFill>
            <a:srgbClr val="bbe0e3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UpRibbonSharp"/>
          <p:cNvSpPr/>
          <p:nvPr/>
        </p:nvSpPr>
        <p:spPr>
          <a:xfrm>
            <a:off x="0" y="152280"/>
            <a:ext cx="5029200" cy="990720"/>
          </a:xfrm>
          <a:custGeom>
            <a:avLst/>
            <a:gdLst>
              <a:gd name="textAreaLeft" fmla="*/ 1257120 w 5029200"/>
              <a:gd name="textAreaRight" fmla="*/ 3772080 w 5029200"/>
              <a:gd name="textAreaTop" fmla="*/ 0 h 990720"/>
              <a:gd name="textAreaBottom" fmla="*/ 8668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600200"/>
            <a:ext cx="4800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、既自以心为形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、问征夫以前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农人告余以春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、复驾言兮焉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胡为乎遑遑欲何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Arial"/>
              </a:rPr>
              <a:t>重点句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16765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被动句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4038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宾语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5146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状语后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172200"/>
            <a:ext cx="9144000" cy="380880"/>
          </a:xfrm>
          <a:prstGeom prst="sun">
            <a:avLst>
              <a:gd name="adj" fmla="val 25000"/>
            </a:avLst>
          </a:prstGeom>
          <a:solidFill>
            <a:srgbClr val="996600">
              <a:alpha val="44000"/>
            </a:srgbClr>
          </a:solidFill>
          <a:ln w="442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18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0" y="228600"/>
            <a:ext cx="1905120" cy="1447920"/>
          </a:xfrm>
          <a:custGeom>
            <a:avLst/>
            <a:gdLst>
              <a:gd name="textAreaLeft" fmla="*/ 0 w 1905120"/>
              <a:gd name="textAreaRight" fmla="*/ 1905480 w 190512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228600"/>
            <a:ext cx="1904760" cy="1371600"/>
          </a:xfrm>
          <a:custGeom>
            <a:avLst/>
            <a:gdLst>
              <a:gd name="textAreaLeft" fmla="*/ 0 w 1904760"/>
              <a:gd name="textAreaRight" fmla="*/ 1905120 w 1904760"/>
              <a:gd name="textAreaTop" fmla="*/ 177840 h 1371600"/>
              <a:gd name="textAreaBottom" fmla="*/ 1193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"/>
            <a:ext cx="1905120" cy="1371600"/>
          </a:xfrm>
          <a:custGeom>
            <a:avLst/>
            <a:gdLst>
              <a:gd name="textAreaLeft" fmla="*/ 0 w 1905120"/>
              <a:gd name="textAreaRight" fmla="*/ 1905480 w 1905120"/>
              <a:gd name="textAreaTop" fmla="*/ 177840 h 1371600"/>
              <a:gd name="textAreaBottom" fmla="*/ 1193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80200">
            <a:off x="529920" y="24768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9900"/>
                </a:solidFill>
                <a:latin typeface="Arial"/>
                <a:ea typeface="华文隶书"/>
              </a:rPr>
              <a:t>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185000">
            <a:off x="2742840" y="2286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9900"/>
                </a:solidFill>
                <a:latin typeface="Arial"/>
                <a:ea typeface="华文隶书"/>
              </a:rPr>
              <a:t>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871600">
            <a:off x="4952880" y="30456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9900"/>
                </a:solidFill>
                <a:latin typeface="Arial"/>
                <a:ea typeface="华文隶书"/>
              </a:rPr>
              <a:t>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5791320"/>
            <a:ext cx="5181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905120"/>
            <a:ext cx="62485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Arial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华文隶书"/>
              </a:rPr>
              <a:t>假如有一天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华文隶书"/>
              </a:rPr>
              <a:t>,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孔子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庄子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陶渊明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李白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杜甫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华文隶书"/>
              </a:rPr>
              <a:t>有幸相聚“快乐轩”，畅谈自己的快乐理念。并讨论：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陶渊明是否该辞官归隐？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华文隶书"/>
              </a:rPr>
              <a:t>他们各自会有怎样的见解？请围 绕以下问题设想：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华文隶书"/>
              </a:rPr>
              <a:t>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隶书"/>
              </a:rPr>
              <a:t>什么是真正的快乐人生？        怎样追寻自己的快乐人生？     陶渊明是否该辞官归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124080" cy="4800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380880"/>
            <a:ext cx="0" cy="624852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2895480"/>
            <a:ext cx="8305920" cy="703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陶渊明</a:t>
            </a: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 ：“乐夫天命复兮疑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3886200"/>
            <a:ext cx="8305920" cy="703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李白</a:t>
            </a: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 ：“安能摧眉折腰事权贵，使我不得开心颜！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5470560"/>
            <a:ext cx="8305920" cy="703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杜甫</a:t>
            </a: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： “何时眼前突兀见此屋，吾庐独破受冻死亦足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04920"/>
            <a:ext cx="8229600" cy="703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孔子</a:t>
            </a: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： “ 君子之仕也，行其义也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371600"/>
            <a:ext cx="8229600" cy="703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庄子</a:t>
            </a: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： “日出而作，日入而息，逍     遥于天地之间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86200" y="152280"/>
            <a:ext cx="5257800" cy="6477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6600"/>
                </a:solidFill>
                <a:latin typeface="Arial"/>
                <a:ea typeface="华文隶书"/>
              </a:rPr>
              <a:t>评价陶渊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他厌倦官场、追求自由、崇尚高洁影响了中国的许多文人，是值得我们后人景仰和学习的，但是采用回避、隐居的方式来追求其快乐是消极的，尤其是那种乐天安命的思想是我们要摈弃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0" t="16082" r="0" b="0"/>
          <a:stretch/>
        </p:blipFill>
        <p:spPr>
          <a:xfrm>
            <a:off x="7048440" y="-20520"/>
            <a:ext cx="2095560" cy="1877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571200">
            <a:off x="0" y="6248520"/>
            <a:ext cx="2895480" cy="609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68680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6481"/>
                </a:moveTo>
                <a:lnTo>
                  <a:pt x="17806" y="13487"/>
                </a:lnTo>
                <a:lnTo>
                  <a:pt x="3794" y="204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3434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0520" y="1219320"/>
            <a:ext cx="396252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522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9900"/>
                </a:solidFill>
                <a:latin typeface="Arial"/>
                <a:ea typeface="华文隶书"/>
              </a:rPr>
              <a:t>突破难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152280"/>
            <a:ext cx="8686800" cy="6172200"/>
            <a:chOff x="0" y="152280"/>
            <a:chExt cx="8686800" cy="6172200"/>
          </a:xfrm>
        </p:grpSpPr>
        <p:sp>
          <p:nvSpPr>
            <p:cNvPr id="166" name=""/>
            <p:cNvSpPr/>
            <p:nvPr/>
          </p:nvSpPr>
          <p:spPr>
            <a:xfrm>
              <a:off x="0" y="1066680"/>
              <a:ext cx="8686800" cy="525780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28600" y="152280"/>
              <a:ext cx="8153280" cy="4818240"/>
              <a:chOff x="228600" y="152280"/>
              <a:chExt cx="8153280" cy="4818240"/>
            </a:xfrm>
          </p:grpSpPr>
          <p:sp>
            <p:nvSpPr>
              <p:cNvPr id="168" name=""/>
              <p:cNvSpPr/>
              <p:nvPr/>
            </p:nvSpPr>
            <p:spPr>
              <a:xfrm>
                <a:off x="609480" y="4267080"/>
                <a:ext cx="7010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  <a:ea typeface="华文隶书"/>
                  </a:rPr>
                  <a:t> </a:t>
                </a:r>
                <a:r>
                  <a:rPr b="1" lang="zh-CN" sz="3600" spc="-1" strike="noStrike">
                    <a:solidFill>
                      <a:srgbClr val="0066ff"/>
                    </a:solidFill>
                    <a:latin typeface="宋体"/>
                  </a:rPr>
                  <a:t>②</a:t>
                </a:r>
                <a:r>
                  <a:rPr b="1" lang="zh-CN" sz="3600" spc="-1" strike="noStrike">
                    <a:solidFill>
                      <a:srgbClr val="0066ff"/>
                    </a:solidFill>
                    <a:latin typeface="宋体"/>
                  </a:rPr>
                  <a:t>写景、叙事、抒情相结合。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8600" y="152280"/>
                <a:ext cx="411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cc9900"/>
                    </a:solidFill>
                    <a:latin typeface="Arial"/>
                    <a:ea typeface="华文隶书"/>
                  </a:rPr>
                  <a:t>怎样写乐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2120" y="2057400"/>
                <a:ext cx="761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66ff"/>
                    </a:solidFill>
                    <a:latin typeface="宋体"/>
                    <a:ea typeface="Times New Roman"/>
                  </a:rPr>
                  <a:t>①</a:t>
                </a:r>
                <a:r>
                  <a:rPr b="1" lang="zh-CN" sz="3600" spc="-1" strike="noStrike">
                    <a:solidFill>
                      <a:srgbClr val="0066ff"/>
                    </a:solidFill>
                    <a:latin typeface="宋体"/>
                    <a:ea typeface="Times New Roman"/>
                  </a:rPr>
                  <a:t>语言朴素，音节谐美</a:t>
                </a:r>
                <a:r>
                  <a:rPr b="1" lang="zh-CN" sz="3600" spc="-1" strike="noStrike">
                    <a:solidFill>
                      <a:srgbClr val="cc9900"/>
                    </a:solidFill>
                    <a:latin typeface="宋体"/>
                  </a:rPr>
                  <a:t>   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宋体"/>
                  </a:rPr>
                  <a:t>“《归去来兮辞》沛然如肺腑中流出，殊不见有斧凿之痕。”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宋体"/>
                  </a:rPr>
                  <a:t>(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宋体"/>
                  </a:rPr>
                  <a:t>李格非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宋体"/>
                  </a:rPr>
                  <a:t>)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randomBa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990720"/>
            <a:ext cx="9144000" cy="5257800"/>
          </a:xfrm>
          <a:prstGeom prst="rect">
            <a:avLst/>
          </a:prstGeom>
          <a:solidFill>
            <a:srgbClr val="ffffff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017000"/>
            <a:ext cx="7726320" cy="4619880"/>
            <a:chOff x="533520" y="1017000"/>
            <a:chExt cx="7726320" cy="4619880"/>
          </a:xfrm>
        </p:grpSpPr>
        <p:cxnSp>
          <p:nvCxnSpPr>
            <p:cNvPr id="46" name="_s278533"/>
            <p:cNvCxnSpPr/>
            <p:nvPr/>
          </p:nvCxnSpPr>
          <p:spPr>
            <a:xfrm flipV="1" rot="16200000">
              <a:off x="5941800" y="1829880"/>
              <a:ext cx="679320" cy="1591560"/>
            </a:xfrm>
            <a:prstGeom prst="bentConnector3">
              <a:avLst>
                <a:gd name="adj1" fmla="val 31654"/>
              </a:avLst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7" name="_s278535"/>
            <p:cNvCxnSpPr/>
            <p:nvPr/>
          </p:nvCxnSpPr>
          <p:spPr>
            <a:xfrm flipV="1" rot="16200000">
              <a:off x="4908600" y="2176200"/>
              <a:ext cx="681120" cy="592560"/>
            </a:xfrm>
            <a:prstGeom prst="bentConnector3">
              <a:avLst>
                <a:gd name="adj1" fmla="val 31200"/>
              </a:avLst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48" name="_s278536"/>
            <p:cNvCxnSpPr>
              <a:stCxn id="49" idx="0"/>
              <a:endCxn id="50" idx="2"/>
            </p:cNvCxnSpPr>
            <p:nvPr/>
          </p:nvCxnSpPr>
          <p:spPr>
            <a:xfrm flipH="1" flipV="1" rot="5400000">
              <a:off x="3339360" y="1737720"/>
              <a:ext cx="679320" cy="1405080"/>
            </a:xfrm>
            <a:prstGeom prst="bentConnector3">
              <a:avLst>
                <a:gd name="adj1" fmla="val 31177"/>
              </a:avLst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1" name="_s278537"/>
            <p:cNvCxnSpPr/>
            <p:nvPr/>
          </p:nvCxnSpPr>
          <p:spPr>
            <a:xfrm flipH="1" flipV="1" rot="5400000">
              <a:off x="4046400" y="2276640"/>
              <a:ext cx="721440" cy="432720"/>
            </a:xfrm>
            <a:prstGeom prst="bentConnector3">
              <a:avLst>
                <a:gd name="adj1" fmla="val 15926"/>
              </a:avLst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2" name="_s278538"/>
            <p:cNvCxnSpPr>
              <a:stCxn id="53" idx="0"/>
              <a:endCxn id="50" idx="2"/>
            </p:cNvCxnSpPr>
            <p:nvPr/>
          </p:nvCxnSpPr>
          <p:spPr>
            <a:xfrm flipH="1" flipV="1" rot="5400000">
              <a:off x="2839320" y="1238400"/>
              <a:ext cx="679320" cy="2404080"/>
            </a:xfrm>
            <a:prstGeom prst="bentConnector3">
              <a:avLst>
                <a:gd name="adj1" fmla="val 31654"/>
              </a:avLst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54" name="_s278539"/>
            <p:cNvCxnSpPr/>
            <p:nvPr/>
          </p:nvCxnSpPr>
          <p:spPr>
            <a:xfrm flipH="1" flipV="1" rot="5400000">
              <a:off x="2352600" y="688680"/>
              <a:ext cx="679320" cy="3404520"/>
            </a:xfrm>
            <a:prstGeom prst="bentConnector3">
              <a:avLst>
                <a:gd name="adj1" fmla="val 31654"/>
              </a:avLst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50" name="_s278540"/>
            <p:cNvSpPr/>
            <p:nvPr/>
          </p:nvSpPr>
          <p:spPr>
            <a:xfrm>
              <a:off x="2895480" y="1017000"/>
              <a:ext cx="2971800" cy="108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78541"/>
            <p:cNvSpPr/>
            <p:nvPr/>
          </p:nvSpPr>
          <p:spPr>
            <a:xfrm>
              <a:off x="533520" y="2780280"/>
              <a:ext cx="889200" cy="2816280"/>
            </a:xfrm>
            <a:custGeom>
              <a:avLst/>
              <a:gdLst>
                <a:gd name="textAreaLeft" fmla="*/ 43200 w 889200"/>
                <a:gd name="textAreaRight" fmla="*/ 846000 w 889200"/>
                <a:gd name="textAreaTop" fmla="*/ 43200 h 2816280"/>
                <a:gd name="textAreaBottom" fmla="*/ 2773080 h 2816280"/>
              </a:gdLst>
              <a:ahLst/>
              <a:rect l="textAreaLeft" t="textAreaTop" r="textAreaRight" b="textAreaBottom"/>
              <a:pathLst>
                <a:path w="21600" h="68393">
                  <a:moveTo>
                    <a:pt x="3600" y="0"/>
                  </a:moveTo>
                  <a:arcTo wR="3600" hR="3600" stAng="16200000" swAng="-5400000"/>
                  <a:lnTo>
                    <a:pt x="0" y="64793"/>
                  </a:lnTo>
                  <a:arcTo wR="3600" hR="3600" stAng="10800000" swAng="-5400000"/>
                  <a:lnTo>
                    <a:pt x="18000" y="683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100" spc="-1" strike="noStrike">
                  <a:solidFill>
                    <a:srgbClr val="cc9900"/>
                  </a:solidFill>
                  <a:latin typeface="Arial"/>
                  <a:ea typeface="华文隶书"/>
                </a:rPr>
                <a:t>  </a:t>
              </a:r>
              <a:r>
                <a:rPr b="1" lang="zh-CN" sz="4600" spc="-1" strike="noStrike">
                  <a:solidFill>
                    <a:srgbClr val="333399"/>
                  </a:solidFill>
                  <a:latin typeface="Arial"/>
                  <a:ea typeface="华文隶书"/>
                </a:rPr>
                <a:t>说教材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78542"/>
            <p:cNvSpPr/>
            <p:nvPr/>
          </p:nvSpPr>
          <p:spPr>
            <a:xfrm>
              <a:off x="1531440" y="2780280"/>
              <a:ext cx="891000" cy="2816280"/>
            </a:xfrm>
            <a:custGeom>
              <a:avLst/>
              <a:gdLst>
                <a:gd name="textAreaLeft" fmla="*/ 43200 w 891000"/>
                <a:gd name="textAreaRight" fmla="*/ 847800 w 891000"/>
                <a:gd name="textAreaTop" fmla="*/ 43200 h 2816280"/>
                <a:gd name="textAreaBottom" fmla="*/ 2773080 h 2816280"/>
              </a:gdLst>
              <a:ahLst/>
              <a:rect l="textAreaLeft" t="textAreaTop" r="textAreaRight" b="textAreaBottom"/>
              <a:pathLst>
                <a:path w="21600" h="68255">
                  <a:moveTo>
                    <a:pt x="3600" y="0"/>
                  </a:moveTo>
                  <a:arcTo wR="3600" hR="3600" stAng="16200000" swAng="-5400000"/>
                  <a:lnTo>
                    <a:pt x="0" y="64655"/>
                  </a:lnTo>
                  <a:arcTo wR="3600" hR="3600" stAng="10800000" swAng="-5400000"/>
                  <a:lnTo>
                    <a:pt x="18000" y="682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cc9900"/>
                  </a:solidFill>
                  <a:latin typeface="Arial"/>
                  <a:ea typeface="华文隶书"/>
                </a:rPr>
                <a:t>  </a:t>
              </a:r>
              <a:r>
                <a:rPr b="1" lang="zh-CN" sz="4600" spc="-1" strike="noStrike">
                  <a:solidFill>
                    <a:srgbClr val="333399"/>
                  </a:solidFill>
                  <a:latin typeface="Arial"/>
                  <a:ea typeface="华文隶书"/>
                </a:rPr>
                <a:t>说学情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78543"/>
            <p:cNvSpPr/>
            <p:nvPr/>
          </p:nvSpPr>
          <p:spPr>
            <a:xfrm>
              <a:off x="3961800" y="2820600"/>
              <a:ext cx="889200" cy="2816280"/>
            </a:xfrm>
            <a:custGeom>
              <a:avLst/>
              <a:gdLst>
                <a:gd name="textAreaLeft" fmla="*/ 43200 w 889200"/>
                <a:gd name="textAreaRight" fmla="*/ 846000 w 889200"/>
                <a:gd name="textAreaTop" fmla="*/ 43200 h 2816280"/>
                <a:gd name="textAreaBottom" fmla="*/ 2773080 h 2816280"/>
              </a:gdLst>
              <a:ahLst/>
              <a:rect l="textAreaLeft" t="textAreaTop" r="textAreaRight" b="textAreaBottom"/>
              <a:pathLst>
                <a:path w="21600" h="68393">
                  <a:moveTo>
                    <a:pt x="3600" y="0"/>
                  </a:moveTo>
                  <a:arcTo wR="3600" hR="3600" stAng="16200000" swAng="-5400000"/>
                  <a:lnTo>
                    <a:pt x="0" y="64793"/>
                  </a:lnTo>
                  <a:arcTo wR="3600" hR="3600" stAng="10800000" swAng="-5400000"/>
                  <a:lnTo>
                    <a:pt x="18000" y="683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cc9900"/>
                  </a:solidFill>
                  <a:latin typeface="Arial"/>
                  <a:ea typeface="华文隶书"/>
                </a:rPr>
                <a:t>  </a:t>
              </a:r>
              <a:r>
                <a:rPr b="1" lang="zh-CN" sz="4600" spc="-1" strike="noStrike">
                  <a:solidFill>
                    <a:srgbClr val="333399"/>
                  </a:solidFill>
                  <a:latin typeface="Arial"/>
                  <a:ea typeface="华文隶书"/>
                </a:rPr>
                <a:t>说教法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78544"/>
            <p:cNvSpPr/>
            <p:nvPr/>
          </p:nvSpPr>
          <p:spPr>
            <a:xfrm>
              <a:off x="2531520" y="2780280"/>
              <a:ext cx="889200" cy="2816280"/>
            </a:xfrm>
            <a:custGeom>
              <a:avLst/>
              <a:gdLst>
                <a:gd name="textAreaLeft" fmla="*/ 43200 w 889200"/>
                <a:gd name="textAreaRight" fmla="*/ 846000 w 889200"/>
                <a:gd name="textAreaTop" fmla="*/ 43200 h 2816280"/>
                <a:gd name="textAreaBottom" fmla="*/ 2773080 h 2816280"/>
              </a:gdLst>
              <a:ahLst/>
              <a:rect l="textAreaLeft" t="textAreaTop" r="textAreaRight" b="textAreaBottom"/>
              <a:pathLst>
                <a:path w="21600" h="68393">
                  <a:moveTo>
                    <a:pt x="3600" y="0"/>
                  </a:moveTo>
                  <a:arcTo wR="3600" hR="3600" stAng="16200000" swAng="-5400000"/>
                  <a:lnTo>
                    <a:pt x="0" y="64793"/>
                  </a:lnTo>
                  <a:arcTo wR="3600" hR="3600" stAng="10800000" swAng="-5400000"/>
                  <a:lnTo>
                    <a:pt x="18000" y="683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cc9900"/>
                  </a:solidFill>
                  <a:latin typeface="Arial"/>
                  <a:ea typeface="华文隶书"/>
                </a:rPr>
                <a:t>  </a:t>
              </a:r>
              <a:r>
                <a:rPr b="1" lang="zh-CN" sz="4600" spc="-1" strike="noStrike">
                  <a:solidFill>
                    <a:srgbClr val="333399"/>
                  </a:solidFill>
                  <a:latin typeface="Arial"/>
                  <a:ea typeface="华文隶书"/>
                </a:rPr>
                <a:t>说目标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78545"/>
            <p:cNvSpPr/>
            <p:nvPr/>
          </p:nvSpPr>
          <p:spPr>
            <a:xfrm>
              <a:off x="5104800" y="2820600"/>
              <a:ext cx="888840" cy="2816280"/>
            </a:xfrm>
            <a:custGeom>
              <a:avLst/>
              <a:gdLst>
                <a:gd name="textAreaLeft" fmla="*/ 43200 w 888840"/>
                <a:gd name="textAreaRight" fmla="*/ 845640 w 888840"/>
                <a:gd name="textAreaTop" fmla="*/ 43200 h 2816280"/>
                <a:gd name="textAreaBottom" fmla="*/ 2773080 h 2816280"/>
              </a:gdLst>
              <a:ahLst/>
              <a:rect l="textAreaLeft" t="textAreaTop" r="textAreaRight" b="textAreaBottom"/>
              <a:pathLst>
                <a:path w="21600" h="68420">
                  <a:moveTo>
                    <a:pt x="3600" y="0"/>
                  </a:moveTo>
                  <a:arcTo wR="3600" hR="3600" stAng="16200000" swAng="-5400000"/>
                  <a:lnTo>
                    <a:pt x="0" y="64820"/>
                  </a:lnTo>
                  <a:arcTo wR="3600" hR="3600" stAng="10800000" swAng="-5400000"/>
                  <a:lnTo>
                    <a:pt x="18000" y="684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100" spc="-1" strike="noStrike">
                  <a:solidFill>
                    <a:srgbClr val="cc9900"/>
                  </a:solidFill>
                  <a:latin typeface="Arial"/>
                  <a:ea typeface="华文隶书"/>
                </a:rPr>
                <a:t>  </a:t>
              </a:r>
              <a:r>
                <a:rPr b="1" lang="zh-CN" sz="4600" spc="-1" strike="noStrike">
                  <a:solidFill>
                    <a:srgbClr val="333399"/>
                  </a:solidFill>
                  <a:latin typeface="Arial"/>
                  <a:ea typeface="华文隶书"/>
                </a:rPr>
                <a:t>说学法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78547"/>
            <p:cNvSpPr/>
            <p:nvPr/>
          </p:nvSpPr>
          <p:spPr>
            <a:xfrm>
              <a:off x="6476760" y="2820600"/>
              <a:ext cx="888840" cy="2816280"/>
            </a:xfrm>
            <a:custGeom>
              <a:avLst/>
              <a:gdLst>
                <a:gd name="textAreaLeft" fmla="*/ 43200 w 888840"/>
                <a:gd name="textAreaRight" fmla="*/ 845640 w 888840"/>
                <a:gd name="textAreaTop" fmla="*/ 43200 h 2816280"/>
                <a:gd name="textAreaBottom" fmla="*/ 2773080 h 2816280"/>
              </a:gdLst>
              <a:ahLst/>
              <a:rect l="textAreaLeft" t="textAreaTop" r="textAreaRight" b="textAreaBottom"/>
              <a:pathLst>
                <a:path w="21600" h="68420">
                  <a:moveTo>
                    <a:pt x="3600" y="0"/>
                  </a:moveTo>
                  <a:arcTo wR="3600" hR="3600" stAng="16200000" swAng="-5400000"/>
                  <a:lnTo>
                    <a:pt x="0" y="64820"/>
                  </a:lnTo>
                  <a:arcTo wR="3600" hR="3600" stAng="10800000" swAng="-5400000"/>
                  <a:lnTo>
                    <a:pt x="18000" y="684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600" spc="-1" strike="noStrike">
                  <a:solidFill>
                    <a:srgbClr val="cc9900"/>
                  </a:solidFill>
                  <a:latin typeface="Arial"/>
                  <a:ea typeface="华文隶书"/>
                </a:rPr>
                <a:t>  </a:t>
              </a:r>
              <a:r>
                <a:rPr b="1" lang="zh-CN" sz="4600" spc="-1" strike="noStrike">
                  <a:solidFill>
                    <a:srgbClr val="333399"/>
                  </a:solidFill>
                  <a:latin typeface="Arial"/>
                  <a:ea typeface="华文隶书"/>
                </a:rPr>
                <a:t>说过程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762480" y="5117760"/>
              <a:ext cx="4863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1752480" y="5117760"/>
              <a:ext cx="487440" cy="3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742840" y="5037120"/>
              <a:ext cx="48744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3657600" y="5117760"/>
              <a:ext cx="48672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4724280" y="4956480"/>
              <a:ext cx="48744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5714640" y="5037120"/>
              <a:ext cx="48744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6782040" y="5037120"/>
              <a:ext cx="48636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7772400" y="5037120"/>
              <a:ext cx="487440" cy="50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429000" y="1447920"/>
            <a:ext cx="1905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12193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Arial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cc9900"/>
                </a:solidFill>
                <a:latin typeface="Arial"/>
                <a:ea typeface="华文隶书"/>
              </a:rPr>
              <a:t>《归去来兮辞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5257800"/>
            <a:ext cx="304560" cy="152280"/>
          </a:xfrm>
          <a:custGeom>
            <a:avLst/>
            <a:gdLst>
              <a:gd name="textAreaLeft" fmla="*/ 9720 w 304560"/>
              <a:gd name="textAreaRight" fmla="*/ 294840 w 3045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52578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257800"/>
            <a:ext cx="76320" cy="15228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152280"/>
              <a:gd name="textAreaBottom" fmla="*/ 147600 h 152280"/>
            </a:gdLst>
            <a:ahLst/>
            <a:rect l="textAreaLeft" t="textAreaTop" r="textAreaRight" b="textAreaBottom"/>
            <a:pathLst>
              <a:path w="21600" h="42997">
                <a:moveTo>
                  <a:pt x="0" y="0"/>
                </a:moveTo>
                <a:lnTo>
                  <a:pt x="21600" y="0"/>
                </a:lnTo>
                <a:lnTo>
                  <a:pt x="21600" y="42997"/>
                </a:lnTo>
                <a:lnTo>
                  <a:pt x="0" y="42997"/>
                </a:lnTo>
                <a:close/>
              </a:path>
              <a:path fill="lightenLess" w="21600" h="429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97">
                <a:moveTo>
                  <a:pt x="21600" y="0"/>
                </a:moveTo>
                <a:lnTo>
                  <a:pt x="21600" y="42997"/>
                </a:lnTo>
                <a:lnTo>
                  <a:pt x="20200" y="41597"/>
                </a:lnTo>
                <a:lnTo>
                  <a:pt x="20200" y="1400"/>
                </a:lnTo>
                <a:close/>
              </a:path>
              <a:path fill="darkenLess" w="21600" h="42997">
                <a:moveTo>
                  <a:pt x="21600" y="42997"/>
                </a:moveTo>
                <a:lnTo>
                  <a:pt x="0" y="42997"/>
                </a:lnTo>
                <a:lnTo>
                  <a:pt x="1400" y="41597"/>
                </a:lnTo>
                <a:lnTo>
                  <a:pt x="20200" y="41597"/>
                </a:lnTo>
                <a:close/>
              </a:path>
              <a:path fill="lighten" w="21600" h="42997">
                <a:moveTo>
                  <a:pt x="0" y="42997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97"/>
                </a:lnTo>
                <a:close/>
              </a:path>
              <a:path fill="darken" w="21600" h="42997">
                <a:moveTo>
                  <a:pt x="3794" y="14492"/>
                </a:moveTo>
                <a:lnTo>
                  <a:pt x="17806" y="21499"/>
                </a:lnTo>
                <a:lnTo>
                  <a:pt x="3794" y="28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525780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  <a:path fill="darken" w="21600" h="32324">
                <a:moveTo>
                  <a:pt x="3794" y="9155"/>
                </a:moveTo>
                <a:lnTo>
                  <a:pt x="17806" y="16162"/>
                </a:lnTo>
                <a:lnTo>
                  <a:pt x="3794" y="2316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25780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  <a:path fill="darken" w="21600" h="32324">
                <a:moveTo>
                  <a:pt x="3794" y="9155"/>
                </a:moveTo>
                <a:lnTo>
                  <a:pt x="17806" y="16162"/>
                </a:lnTo>
                <a:lnTo>
                  <a:pt x="3794" y="2316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8915400" cy="4724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914400"/>
            <a:ext cx="769608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③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引用典故，语如己出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如“悟已往之不谏，知来者之可追”引用《论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微子》楚狂接舆的歌词“往者不可谏，来者犹可追”，稍加点化，形神俱显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33520" y="53341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295280" y="50292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371600" y="563868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133720" y="518148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2362320" y="57150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3124080" y="518148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4114800" y="54864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5410080" y="54864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tretch/>
        </p:blipFill>
        <p:spPr>
          <a:xfrm>
            <a:off x="6172200" y="54864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6934320" y="5562720"/>
            <a:ext cx="609480" cy="487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7924680" y="5791320"/>
            <a:ext cx="48744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3276720" y="57150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tretch/>
        </p:blipFill>
        <p:spPr>
          <a:xfrm>
            <a:off x="4038480" y="495288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6"/>
          <a:stretch/>
        </p:blipFill>
        <p:spPr>
          <a:xfrm>
            <a:off x="4648320" y="54864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7"/>
          <a:stretch/>
        </p:blipFill>
        <p:spPr>
          <a:xfrm>
            <a:off x="5257800" y="61722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8"/>
          <a:stretch/>
        </p:blipFill>
        <p:spPr>
          <a:xfrm>
            <a:off x="6248520" y="6172200"/>
            <a:ext cx="609480" cy="487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9"/>
          <a:stretch/>
        </p:blipFill>
        <p:spPr>
          <a:xfrm>
            <a:off x="5638680" y="601992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0"/>
          <a:stretch/>
        </p:blipFill>
        <p:spPr>
          <a:xfrm>
            <a:off x="7391520" y="4876920"/>
            <a:ext cx="487080" cy="487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1"/>
          <a:stretch/>
        </p:blipFill>
        <p:spPr>
          <a:xfrm>
            <a:off x="5791320" y="472428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2"/>
          <a:stretch/>
        </p:blipFill>
        <p:spPr>
          <a:xfrm>
            <a:off x="6858000" y="4648320"/>
            <a:ext cx="48744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-457200" y="609480"/>
            <a:ext cx="9906120" cy="5715000"/>
          </a:xfrm>
          <a:prstGeom prst="verticalScroll">
            <a:avLst>
              <a:gd name="adj" fmla="val 12754"/>
            </a:avLst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371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Times New Roman"/>
              </a:rPr>
              <a:t>辞</a:t>
            </a:r>
            <a:r>
              <a:rPr b="1" lang="zh-CN" sz="4000" spc="-1" strike="noStrike">
                <a:solidFill>
                  <a:srgbClr val="996600"/>
                </a:solidFill>
                <a:latin typeface="宋体"/>
                <a:ea typeface="Times New Roman"/>
              </a:rPr>
              <a:t>：“辞”是一种古代文体。起源于战国时期的楚国，也称楚辞；又因屈原所作《离骚》是这种文体的代表，故又称“骚体”。到了汉代，常把辞赋并称，统称为辞赋。这是介于诗和散文之间的一种文体，富于抒情和浪漫气息，很象诗，但压韵和句式都较诗自由。“骚长于言幽怨之情”。</a:t>
            </a: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7621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少无适俗韵，性本爱丘山。             误落尘网中，一去三十年。羁鸟恋旧林，池鱼思故渊。开荒南野际，守拙归园田。方宅十余亩，草屋八九间。榆柳荫后檐，桃李罗堂前。暧暧远人村，依依墟里烟。狗吠深巷中，鸡鸣桑树颠。户庭无尘杂，虚室有余闲。久在樊笼里，复得返自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37720" y="152280"/>
            <a:ext cx="2009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00"/>
                </a:solidFill>
                <a:latin typeface="Arial"/>
                <a:ea typeface="华文隶书"/>
              </a:rPr>
              <a:t>归园田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2640" y="1143000"/>
            <a:ext cx="66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Arial"/>
                <a:ea typeface="华文隶书"/>
              </a:rPr>
              <a:t>陶渊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0"/>
            <a:ext cx="4876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Arial"/>
                <a:ea typeface="华文隶书"/>
              </a:rPr>
              <a:t>拓展练习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  <a:ea typeface="华文隶书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华文隶书"/>
              </a:rPr>
              <a:t>7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华文隶书"/>
              </a:rPr>
              <a:t>分钟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  <a:ea typeface="华文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隶书"/>
              </a:rPr>
              <a:t>作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2865600"/>
            <a:ext cx="8001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600200"/>
            <a:ext cx="25146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8153280" cy="4343400"/>
          </a:xfrm>
          <a:prstGeom prst="wedgeRoundRectCallout">
            <a:avLst>
              <a:gd name="adj1" fmla="val -49125"/>
              <a:gd name="adj2" fmla="val 65861"/>
              <a:gd name="adj3" fmla="val 16667"/>
            </a:avLst>
          </a:prstGeom>
          <a:solidFill>
            <a:srgbClr val="676e24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343240"/>
            <a:ext cx="792504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“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文章不群，辞采清拔，跌宕昭彰，独超众类。抑扬爽朗，莫与之京。横素波而傍流，干青云而直上。语时事则指而可想，论怀抱则旷而且真。加以贞志不休，安道苦节，不以躬耕为耻，不以无财为病，自非大贤笃志，与道污隆，孰能如此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萧统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陶渊明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312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257960" y="380880"/>
            <a:ext cx="152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隶书"/>
              </a:rPr>
              <a:t>君子谋道不谋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362160" y="609480"/>
            <a:ext cx="1521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隶书"/>
              </a:rPr>
              <a:t>君子忧道不忧贫</a:t>
            </a:r>
            <a:r>
              <a:rPr b="1" lang="zh-CN" sz="4400" spc="-1" strike="noStrike">
                <a:solidFill>
                  <a:srgbClr val="cc9900"/>
                </a:solidFill>
                <a:latin typeface="Arial"/>
                <a:ea typeface="华文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546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Arial"/>
                <a:ea typeface="华文隶书"/>
              </a:rPr>
              <a:t>择其善者而从之，择其不善者而改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3657600" cy="5257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581280" y="1143000"/>
            <a:ext cx="2210040" cy="18288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3733920"/>
            <a:ext cx="2286000" cy="18288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12952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6600"/>
                </a:solidFill>
                <a:latin typeface="Arial"/>
                <a:ea typeface="华文隶书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396252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6600"/>
                </a:solidFill>
                <a:latin typeface="Arial"/>
                <a:ea typeface="华文隶书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952880" cy="6477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90720" y="609480"/>
            <a:ext cx="2438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2280"/>
            <a:ext cx="3124080" cy="11912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隶书"/>
              </a:rPr>
              <a:t>说教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752480"/>
            <a:ext cx="6248520" cy="211320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归去来兮辞是人教版必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第二单元的第一篇文章，他是东晋大诗人陶渊明的作品，描写了诗人得以辞官归隐的喜悦心情和对自由、闲适的田园生活的热爱。欧阳修说：“晋无文章，惟陶渊明《归去来兮辞》一篇而已”如此推崇，其文自然值得一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新课标规定：高中生“要诵读古典诗词和浅易文言文，理解一定数量的名篇”。本文所在的单元也有相映的教学目标：“把握课文的思想内容，掌握有关的文言词语和句式，要重视诵读和背诵”根据本文特点我确立了以下教学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8680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6481"/>
                </a:moveTo>
                <a:lnTo>
                  <a:pt x="17806" y="13487"/>
                </a:lnTo>
                <a:lnTo>
                  <a:pt x="3794" y="204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说学情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一、学生在初中时曾经学过陶潜的《桃花源记》，对其人其事及其思想情感有一定的学习基础，可以此作为突破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　二、学生已初步具备思辩的能力，都有主动探究的天性，都潜藏着“自我实现的创造力”，可以据此作为解读本文的钥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　三、学生对古代文化名人的精神世界有一种较高层次的文化需求，也有与他人平等交流的渴望，本教材的内容安排能在教大程度上满足学生的这一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952880" cy="6477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知识目标：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、了解辞的文体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、疏通文句，归纳本文需要掌握的重要实词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虚词、古今异义词、词类活用、特殊句式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文言知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能力目标： 诵读课文，在了解文章大意的基础上体味作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的思想感情，即作者在述志中流露出的或喜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悲、或决绝或犹疑的复杂情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情感目标：了解作者反抗黑暗，辞官归隐，不与当时黑暗的上层社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同流合污热爱田园生活的隐士情怀，学习其高洁的理想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                    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趣和坚定的人生追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28600"/>
            <a:ext cx="4495680" cy="1191240"/>
          </a:xfrm>
          <a:prstGeom prst="rect">
            <a:avLst/>
          </a:prstGeom>
          <a:solidFill>
            <a:srgbClr val="bbe0e3">
              <a:alpha val="38000"/>
            </a:srgbClr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66cc"/>
                </a:solidFill>
                <a:latin typeface="Arial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70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324480"/>
            <a:ext cx="228600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152280"/>
            <a:ext cx="5257800" cy="6477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1532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落实具体的文言知识及体味文章的思想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495288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体味作者在述志中流露出的或喜或悲、或决绝或犹疑的复杂情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33520"/>
            <a:ext cx="3886200" cy="825120"/>
          </a:xfrm>
          <a:prstGeom prst="rect">
            <a:avLst/>
          </a:prstGeom>
          <a:solidFill>
            <a:srgbClr val="bbe0e3">
              <a:alpha val="35000"/>
            </a:srgbClr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教学重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352680"/>
            <a:ext cx="3809880" cy="825120"/>
          </a:xfrm>
          <a:prstGeom prst="rect">
            <a:avLst/>
          </a:prstGeom>
          <a:solidFill>
            <a:srgbClr val="bbe0e3">
              <a:alpha val="35000"/>
            </a:srgbClr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Arial"/>
              </a:rPr>
              <a:t>教学难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124840" y="0"/>
            <a:ext cx="1019160" cy="704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248520"/>
            <a:ext cx="228600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95040 w 380880"/>
              <a:gd name="textAreaRight" fmla="*/ 285840 w 3808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16200" y="20524"/>
                </a:lnTo>
                <a:lnTo>
                  <a:pt x="16200" y="5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5400" y="20524"/>
                </a:lnTo>
                <a:lnTo>
                  <a:pt x="16200" y="20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5400" y="5400"/>
                </a:lnTo>
                <a:lnTo>
                  <a:pt x="5400" y="20524"/>
                </a:lnTo>
                <a:close/>
              </a:path>
              <a:path fill="darken" w="21600" h="25924">
                <a:moveTo>
                  <a:pt x="6775" y="8937"/>
                </a:moveTo>
                <a:lnTo>
                  <a:pt x="14825" y="12962"/>
                </a:lnTo>
                <a:lnTo>
                  <a:pt x="6775" y="1698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952880" cy="6477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3520" y="457200"/>
            <a:ext cx="396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80880"/>
            <a:ext cx="3124080" cy="11912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隶书"/>
              </a:rPr>
              <a:t>说教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276720"/>
            <a:ext cx="3124080" cy="11912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华文隶书"/>
              </a:rPr>
              <a:t>说学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8288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情境教学法自学辅导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64832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自主探究法合作讨论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64771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0977"/>
                </a:moveTo>
                <a:lnTo>
                  <a:pt x="17806" y="17983"/>
                </a:lnTo>
                <a:lnTo>
                  <a:pt x="3794" y="249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52480" y="304200"/>
            <a:ext cx="276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9900"/>
                </a:solidFill>
                <a:latin typeface="Arial"/>
                <a:ea typeface="华文隶书"/>
              </a:rPr>
              <a:t> 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隶书"/>
              </a:rPr>
              <a:t>教学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8288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200400"/>
            <a:ext cx="7162920" cy="163044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二、  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隶书"/>
              </a:rPr>
              <a:t>体悟课文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7007" t="9371" r="17007" b="9371"/>
          <a:stretch/>
        </p:blipFill>
        <p:spPr>
          <a:xfrm>
            <a:off x="6324480" y="228600"/>
            <a:ext cx="2590920" cy="647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80880"/>
            <a:ext cx="64008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隶书"/>
              </a:rPr>
              <a:t>一、创设情境，导入诗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由初中所学的陶潜的《桃花源记》，导入课文，可以请同学背诵《桃花源记》走进陶渊明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课前布置学生了解作者陶渊明，并且制作作者卡片，课堂展示。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华文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4T13:58:26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