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2CC7-869E-4F6C-BC13-7E29EF06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023-6F76-4FD7-ACD5-BEE3545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647-E206-43F8-8FD2-AB7C1ABE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A69-875E-42C2-B4D5-39DAAA6F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EF1-19BA-4845-8988-F16359E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D91-6965-4838-96FD-6506A890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609-B54D-4DC4-A001-A6D6B86A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BDE-FC82-449D-AB56-DB8DAE5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2FE-B57F-4EF7-B6D3-91FFFD1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1AF-B488-4885-892E-5339C6E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08E-7472-4A58-9EF9-6676EAD7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2DB-89B0-4988-80AB-F96E1484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EE2-F2E6-4672-9378-E6C971F62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633096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寡人之于国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-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亩之宅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树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十者可以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帛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彘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畜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其时，七十者可以食肉矣。百亩之田，勿夺其时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之家可以无饥矣；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谨庠序之教，申之以孝悌之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者不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负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道路矣。七十者衣帛食肉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黎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饥不寒，然而不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未之有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-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彘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食而不知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饿莩而不知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人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则曰：‘非我也，岁也。’是何异于刺人而杀之，曰：‘非我也，兵也</a:t>
            </a:r>
            <a:r>
              <a:rPr b="1" lang="en-US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?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无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罪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下之民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焉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6840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心焉（移其民，移其粟）→而民不加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十步笑百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喻，指出数量不同，实质相同，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不加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解决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仁政，则斯天下之民至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子的论辩技巧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6840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巧妙设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侧面进攻，以退为进，水到渠成，说服对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假字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颁白者不负戴于道路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涂有饿殍而不知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则无望民之多于邻国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用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填然鼓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七十者衣帛食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然而不王者，未之有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谨庠序之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式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之有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子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622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，名轲，字子舆。后称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孟子生于战国诸侯混战最激烈的时期，他提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性本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观点，提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主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仁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7787b9efa8ae8f3afcfa3c46"/>
          <p:cNvPicPr/>
          <p:nvPr/>
        </p:nvPicPr>
        <p:blipFill>
          <a:blip r:embed="rId2"/>
          <a:stretch/>
        </p:blipFill>
        <p:spPr>
          <a:xfrm>
            <a:off x="7010280" y="3500280"/>
            <a:ext cx="21337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孟子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介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6840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记载孟轲言行的书，由孟轲及其弟子编成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儒家经典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。其文向以雄辩著称。正如孟子所言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善养吾浩然之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的文章也气势浩然磅礴，印证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如其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道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词讲解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" y="1413000"/>
            <a:ext cx="59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梁惠王曰：“寡人之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也，尽心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焉耳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河内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移其民于河东，移其粟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河内。河东凶亦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国之政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无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寡人之用心者。邻国之民不加少，寡人之民不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，何也？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6840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心焉（移其民，移其粟）→而民不加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-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对曰：“王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喻。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填然鼓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兵刃既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弃甲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兵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步而后止，或五十步而后止。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十步笑百步，则何如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曰：“不可！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百步耳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亦走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曰：“王如知此，则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无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之多于邻国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构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68407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心焉（移其民，移其粟）→而民不加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十步笑百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喻，指出数量不同，实质相同，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不加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解决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-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谷不可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数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入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池，鱼鳖不可胜食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斧斤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入山林，材木不可胜用也。谷与鱼鳖不可胜食，材木不可胜用，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使民养生丧死无憾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养生丧死无憾，王道之始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3:21:46Z</dcterms:created>
  <dc:creator>  </dc:creator>
  <dc:description>   </dc:description>
  <dc:language>en-US</dc:language>
  <cp:lastModifiedBy>USER</cp:lastModifiedBy>
  <dcterms:modified xsi:type="dcterms:W3CDTF">2014-03-31T03:23:57Z</dcterms:modified>
  <cp:revision>29</cp:revision>
  <dc:subject>  </dc:subject>
  <dc:title>  </dc:title>
</cp:coreProperties>
</file>