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364-9471-49B6-8C34-2EB0BC15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155-B6C8-4346-B12D-ACDF783F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355-CF24-4B69-9B41-7C421C5C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775-795F-4D50-BDA0-E2C820F6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E29-A815-4F1E-A099-0973AF42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23E-2876-4874-9C9D-62E00EE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592-7CB0-410B-8BEA-6E5B285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B15F-B57C-47E7-884E-BC51CC41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834-6ECD-4875-9001-817B8C6F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C7F-52CC-4789-BC13-111EC0E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260-F338-44C5-BCF0-452B7013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628-6094-49E5-B1B6-EBEC19A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3E4-A6D5-4199-9BE1-16B049F4E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z雕像"/>
          <p:cNvPicPr/>
          <p:nvPr/>
        </p:nvPicPr>
        <p:blipFill>
          <a:blip r:embed="rId1"/>
          <a:stretch/>
        </p:blipFill>
        <p:spPr>
          <a:xfrm>
            <a:off x="5638680" y="620640"/>
            <a:ext cx="352764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58120" y="955800"/>
            <a:ext cx="2191320" cy="535284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寡人之于国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3640" y="3500280"/>
            <a:ext cx="1008000" cy="192276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mengzipg38-50"/>
          <p:cNvPicPr/>
          <p:nvPr/>
        </p:nvPicPr>
        <p:blipFill>
          <a:blip r:embed="rId1"/>
          <a:stretch/>
        </p:blipFill>
        <p:spPr>
          <a:xfrm>
            <a:off x="6588000" y="1341360"/>
            <a:ext cx="2251080" cy="5303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6265800" cy="6597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孟 子 醉 心 研 究 ， 终 于 名 声 大 噪 ， 邹 国 和 鲁 国 国 君 也 时 常 向 他 请 教  治 国 之 道 。可 惜 邹、 鲁 这 样 的 小 国 ， 很 难 实 施 孟 子“ 仁 政 ” 的 抱 负 。 他 决 定 带 着学 生 到 东 方大 国 齐 国 去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但 是 齐 国 所 采 取 的 是 锻 炼 精 兵 使 国 家 更 为 富 强 的 政 策 ， 对 孟 子 的 思 想 毫 不 理 睬 。 最 后 ， 孟 子 来 到 膝 国 ， 膝 国 太 子 对 孟 子 的 “ 仁 政 ” 十 分 感 兴 趣 ， 于 是 孟 子 便 在 膝 国 实 行 他 “ 仁 政 ” 的 思 想 。 遗 憾 的 是 ， 膝 国 是 个 小 国 ， 时 时 有 被 灭 亡 的 危 险 ， 不 可 能 把 仁 政 推 行 天 下 。 孟 子 于 是 到 其 他 国 家 宣 扬 他 的 “ 仁 政 ” 思 想 。 可 是 没 有 一 位 君 主 愿 意 实 施 他 的 政 策 。 孟 子 放 弃 继 续 宣 扬 仁 政 的 念 头 ， 决 心 写 书 建 立 学 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6732720" y="333360"/>
            <a:ext cx="201600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成年与晚年时代</a:t>
            </a:r>
            <a:endParaRPr b="0" lang="en-US" sz="4000" spc="1" strike="noStrike">
              <a:ln w="9360">
                <a:solidFill>
                  <a:srgbClr val="ccffcc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z雕像"/>
          <p:cNvPicPr/>
          <p:nvPr/>
        </p:nvPicPr>
        <p:blipFill>
          <a:blip r:embed="rId1"/>
          <a:stretch/>
        </p:blipFill>
        <p:spPr>
          <a:xfrm>
            <a:off x="5638680" y="333360"/>
            <a:ext cx="3292560" cy="6120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1731960" y="0"/>
            <a:ext cx="2009520" cy="82512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孟子的思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95280" y="1143000"/>
            <a:ext cx="4968720" cy="3895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宋代以后常把孔子思想与孟子思想并称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孔孟之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性善学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性之善也，犹水之就下也；人无有不善，水无有不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想人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皆可以为尧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贵不能淫，贫贱不能移，威武不能屈，此之谓大丈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仁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为贵，社稷次之，君为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以天下，忧以天下，然而不王者，未之有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752480" y="76320"/>
            <a:ext cx="5181840" cy="7642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孟子的仁政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243036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1052640"/>
            <a:ext cx="9144000" cy="129096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民本思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民为贵，社稷次之，君为轻。事故得乎丘民而为天子，得乎天子为诸侯，得乎诸侯为大夫。”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孟子尽心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0" y="2997360"/>
            <a:ext cx="9325080" cy="180648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国君应以保民为职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乐民之乐者，民亦乐其乐，忧民之忧者，民亦忧其忧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以天下，忧以天下，然而不王者，未之有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5084640"/>
            <a:ext cx="914400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反对不义的战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子说：“春秋无义战。”又说：“得道者多助，         失道者寡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981000"/>
            <a:ext cx="8964720" cy="393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先秦诸子杰出的散文著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孟子及其弟子编辑而成的一部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语录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著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共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内容包括孟子的政治活动、政治学说及哲学、伦理、教育思想。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比，初具论说文的特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篇幅较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内容也更具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绘也更细致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比喻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确形象，语言犀利酣畅，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洋溢饱满，说理深刻透彻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的经典著作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1640" y="189000"/>
            <a:ext cx="6840360" cy="7642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孟子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》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乱世的哲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engzishu"/>
          <p:cNvPicPr/>
          <p:nvPr/>
        </p:nvPicPr>
        <p:blipFill>
          <a:blip r:embed="rId1"/>
          <a:srcRect l="5102" t="2145" r="5102" b="3980"/>
          <a:stretch/>
        </p:blipFill>
        <p:spPr>
          <a:xfrm>
            <a:off x="6407280" y="3376440"/>
            <a:ext cx="2736720" cy="348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南宋</a:t>
            </a:r>
            <a:r>
              <a:rPr b="1" lang="zh-CN" sz="6000" spc="-1" strike="noStrike">
                <a:solidFill>
                  <a:srgbClr val="cc3399"/>
                </a:solidFill>
                <a:latin typeface="黑体"/>
                <a:ea typeface="黑体"/>
              </a:rPr>
              <a:t>朱熹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大学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中庸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论语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i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i="1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孟子</a:t>
            </a:r>
            <a:r>
              <a:rPr b="1" i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四部儒家经典合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四书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905440" cy="568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  吾  老  以  及  人  之  老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幼   吾  幼  以  及  人  之  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恻隐之心， 人皆有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天 将 降 大 任 于 斯 人 也 ， 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必 先 苦 其 心 志 ， 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劳 其 筋 骨 ， 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饿 其 体 肤 空 乏 其 身 ，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行 拂 乱 其 所 为 ， 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所 以 动 心 忍 性 ， </a:t>
            </a: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增 益 其 所 不 能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3"/>
          <p:cNvSpPr txBox="1"/>
          <p:nvPr/>
        </p:nvSpPr>
        <p:spPr>
          <a:xfrm rot="5400000">
            <a:off x="5878080" y="204624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孟子名言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7" name="Picture 4" descr="aniflowe"/>
          <p:cNvPicPr/>
          <p:nvPr/>
        </p:nvPicPr>
        <p:blipFill>
          <a:blip r:embed="rId1"/>
          <a:stretch/>
        </p:blipFill>
        <p:spPr>
          <a:xfrm>
            <a:off x="6934320" y="48006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 flipH="1">
            <a:off x="610560" y="692280"/>
            <a:ext cx="7308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26920" y="404640"/>
            <a:ext cx="4537080" cy="109944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时代背景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79280" y="1844640"/>
            <a:ext cx="8964720" cy="180036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孟子是在梁惠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（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）应邀来到魏国的。魏在战国初期曾是军事强国，但到梁惠王在位的后期却遭到一连串的失败，又畏秦之甚，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（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首都从安邑（今山西夏县西北）迁至大梁（今河南开封），盂子到来时，梁惠王曾对他说：“寡人不佞，兵三折于外，太子虏，上将死，国以空虚，以羞先君宗庙社稷，寡人甚丑之。叟不远千里，辱幸至敝邑之廷，将何以利吾国？”（引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魏世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这段话可以看出梁惠王邀请孟子来魏的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孟子在梁只住了一年多。第二年梁惠王死了，襄王继位，孟子对这个新君的印象很坏，不久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161280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朗读课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57360" y="324000"/>
            <a:ext cx="787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读准下列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148360" y="1197000"/>
            <a:ext cx="419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好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）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459480" y="1162080"/>
            <a:ext cx="14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h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à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8680" y="2125800"/>
            <a:ext cx="44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弃甲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979640" y="2060640"/>
            <a:ext cx="96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17360" y="2925720"/>
            <a:ext cx="902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不入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059280" y="2852640"/>
            <a:ext cx="10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ɡ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012000" y="2852640"/>
            <a:ext cx="113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w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86280" y="2112840"/>
            <a:ext cx="50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03320" y="3803760"/>
            <a:ext cx="880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鸡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狗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）之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397160" y="376236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ú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4130640" y="3765600"/>
            <a:ext cx="11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zh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108000" y="4673520"/>
            <a:ext cx="39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 ）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042920" y="4581360"/>
            <a:ext cx="19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xi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á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5429160" y="54594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饿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6953400" y="5418000"/>
            <a:ext cx="146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pi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859280" y="2060640"/>
            <a:ext cx="105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1042920" y="2924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6877080" y="2060640"/>
            <a:ext cx="10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87480" y="5478480"/>
            <a:ext cx="504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然而不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 ）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2550960" y="542772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à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7045200" y="3784680"/>
            <a:ext cx="12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x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54000" y="1214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移其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）于河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1979640" y="1197000"/>
            <a:ext cx="10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s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3981600" y="4646520"/>
            <a:ext cx="49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申之以孝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7155000" y="4643280"/>
            <a:ext cx="11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黑体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5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17272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Arial"/>
              </a:rPr>
              <a:t>翻译第一段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26920" y="1052640"/>
            <a:ext cx="62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26920" y="2060640"/>
            <a:ext cx="749016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民贵君轻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不愧亚圣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性善气正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真乃完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44956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梁惠王曰：“寡人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也，尽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焉耳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河内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移其民于河东，移其粟于河内。河东凶亦然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国之政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寡人之用心者。邻国之民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，寡人之民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，何也？”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2920" y="404280"/>
            <a:ext cx="424980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：对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焉耳矣：语气词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内：黄河西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凶：荒年，年成不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如：不如，比不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：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559640" cy="114300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Arial"/>
              </a:rPr>
              <a:t>翻译第二段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6381360"/>
            <a:ext cx="77738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4171680" cy="604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孟子对曰：“王好战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填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兵刃既接，弃甲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而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百步而后止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十步而后止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十步笑百步，则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何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404640"/>
            <a:ext cx="4244760" cy="61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请允许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喻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打比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填然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击鼓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鼓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击鼓，名→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音节助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yè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拖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兵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兵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修饰连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逃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有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凭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851520" cy="125244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翻译第三、四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4920" y="-124560"/>
            <a:ext cx="4321080" cy="7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曰：“不可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百步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亦走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曰：“王如知此，则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民之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邻国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直：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：罢了，语气助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：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：通“毋”，译为“不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：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：比，介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寡人之于学习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寡人之于学习也，尽心焉而矣。物理差，则移其心于数学，移其力于英语；化学差亦然。察同桌之学习，无如寡人之用心者。同桌之分不加少，寡人之分不加多，何也？”    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桌对曰：“君好睡，请以睡喻。周公召之，昏昏欲睡，弃笔曳书而倒。或半节而后醒，或整节而后醒。以半节笑整节，则何如？”曰：“不可，直不整节耳，是亦睡也。”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如知此，则无望分多于同桌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16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5975280" cy="115092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翻译第五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4244760" cy="633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农时，谷不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数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洿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鱼鳖不可胜食也。斧斤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入山林，材木不可胜用也。谷与鱼鳖不可胜食，材木不可胜用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养生丧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憾也。养生丧死无憾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王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始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88640"/>
            <a:ext cx="4316400" cy="666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违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违背，耽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胜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尽，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洿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ū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池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池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活着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ā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埋葬，办丧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养生：供养活着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丧死：为死了的人办丧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道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为王之道，即以仁义治天下（施行仁政），这是儒家的政治主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699160" cy="15112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翻译第六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3538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亩之宅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树之</a:t>
            </a:r>
            <a:r>
              <a:rPr b="1" lang="zh-CN" sz="4400" spc="-1" strike="noStrike">
                <a:solidFill>
                  <a:srgbClr val="003300"/>
                </a:solidFill>
                <a:latin typeface="黑体"/>
                <a:ea typeface="黑体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桑，五十者可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衣帛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矣。鸡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豚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狗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彘之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无失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时，七十者可以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404640"/>
            <a:ext cx="4244760" cy="61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→动，栽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音节助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树之以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状语后置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介词，凭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穿，名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丝织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小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大猪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代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动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喂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通“毋”，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错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404640"/>
            <a:ext cx="9036000" cy="54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名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穷则独善其身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，                        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老吾老，以及人之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，          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为贵，         次之，    为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天时不如地利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                                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921560" y="17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达则兼济天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683320" y="2728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幼吾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8960" y="32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之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570320" y="414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62840" y="4149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社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529600" y="4116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406400" y="515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地利不如人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3610080" cy="633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百亩之田，勿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时，数口之家可以无饥矣；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谨庠序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教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以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孝悌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义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白者不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负戴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于道路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00360" y="188640"/>
            <a:ext cx="4244760" cy="666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耽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形→动，谨慎认真从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庠、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古代的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反复陈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尊敬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敬爱兄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申之以孝悌之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状语后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通“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背着东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顶着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七十者衣帛食肉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黎民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饥不寒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然而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王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者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未之有也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黎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老百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这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表转折，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名→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统一天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未之有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宾语前置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6192720" cy="161280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ff"/>
                </a:solidFill>
                <a:latin typeface="Arial"/>
              </a:rPr>
              <a:t>翻译第七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3827520" cy="579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狗彘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食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而不知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检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有饿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殍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而不知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人死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曰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非我也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第一个为动词，吃；第二个名词，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约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通“途”，道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饿死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开仓赈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年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3827520" cy="572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何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异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于刺人而杀之，曰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非我也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王无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罪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天下之民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至焉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171680" cy="59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武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名→动，归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那么，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到，归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语气词，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5761080" cy="11527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语言现象总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4680000" cy="45306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词类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特殊句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、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一词多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7924680" y="5381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838080" y="1828800"/>
            <a:ext cx="7694640" cy="455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白者不负戴于道路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饿殍而不知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）则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隶书"/>
              </a:rPr>
              <a:t>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望民之多于邻国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4824360" cy="1008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133720" y="2590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颁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〗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通“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268360" y="4149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涂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〗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通“途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124000" y="5589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无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隶书"/>
              </a:rPr>
              <a:t>〗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通“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480360" cy="1143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、词类活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7786800" cy="388944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名词活用作动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动词活用作名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形容词作动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使动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意动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"/>
          <p:cNvSpPr/>
          <p:nvPr/>
        </p:nvSpPr>
        <p:spPr>
          <a:xfrm>
            <a:off x="179280" y="1341360"/>
            <a:ext cx="8748720" cy="37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填然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鼓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七十者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衣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帛食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黎民不饥不寒，然而不</a:t>
            </a:r>
            <a:r>
              <a:rPr b="1" lang="zh-CN" sz="4400" spc="-1" strike="noStrike">
                <a:solidFill>
                  <a:srgbClr val="c00000"/>
                </a:solidFill>
                <a:latin typeface="黑体"/>
                <a:ea typeface="黑体"/>
              </a:rPr>
              <a:t>王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者，未之有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68360" y="0"/>
            <a:ext cx="7705800" cy="10998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60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3333ff"/>
                </a:solidFill>
                <a:latin typeface="黑体"/>
                <a:ea typeface="黑体"/>
              </a:rPr>
              <a:t>）名词活用作动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940360" y="1413000"/>
            <a:ext cx="1657440" cy="83124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打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2276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419880" y="2781360"/>
            <a:ext cx="515880" cy="76428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651120" y="5084640"/>
            <a:ext cx="851400" cy="83124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称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6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6600" spc="-1" strike="noStrike">
                <a:solidFill>
                  <a:srgbClr val="3333ff"/>
                </a:solidFill>
                <a:latin typeface="黑体"/>
                <a:ea typeface="黑体"/>
              </a:rPr>
              <a:t>）动词活用作名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请以</a:t>
            </a: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战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是使民养</a:t>
            </a: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生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丧</a:t>
            </a: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死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无憾也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5435640" y="1773360"/>
            <a:ext cx="1727280" cy="9169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战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748880" y="4869000"/>
            <a:ext cx="1826640" cy="9169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活着的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5638320" y="4941720"/>
            <a:ext cx="1826640" cy="9169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死去的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26920" y="1052640"/>
            <a:ext cx="626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755640" y="476280"/>
            <a:ext cx="792000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孟子所处的时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古竞于道德，中世逐于智谋，当今争于气力。”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韩非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五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611280" y="2781360"/>
            <a:ext cx="7991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国诸侯争城夺地，征战不断；人民徭役繁重，朝不保夕；社会混乱，礼制崩坏。权势与暴力被推崇，霸道被视为天道，由大国以“力”统一天下的态势已初步形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魏国曾是强国，但在梁惠王统治期间，连遭强秦重创，内忧外患，以至都城由安邑迁至大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6600" spc="-1" strike="noStrike">
                <a:solidFill>
                  <a:srgbClr val="3333ff"/>
                </a:solidFill>
                <a:latin typeface="黑体"/>
                <a:ea typeface="黑体"/>
              </a:rPr>
              <a:t>3</a:t>
            </a:r>
            <a:r>
              <a:rPr b="1" lang="zh-CN" sz="6600" spc="-1" strike="noStrike">
                <a:solidFill>
                  <a:srgbClr val="3333ff"/>
                </a:solidFill>
                <a:latin typeface="黑体"/>
                <a:ea typeface="黑体"/>
              </a:rPr>
              <a:t>）形容词作动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7570800" cy="31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谨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庠序之教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49240" y="3357720"/>
            <a:ext cx="1826640" cy="9169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认真从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920" y="274680"/>
            <a:ext cx="6121440" cy="9223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）使动用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民于河东，移其粟于河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68360" y="4797360"/>
            <a:ext cx="8351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无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258920" y="3357720"/>
            <a:ext cx="5924520" cy="83448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）意动用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050640" y="2060640"/>
            <a:ext cx="1529640" cy="70344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迁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924360" y="4797360"/>
            <a:ext cx="2736720" cy="70344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935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8000" spc="-1" strike="noStrike">
                <a:solidFill>
                  <a:srgbClr val="c00000"/>
                </a:solidFill>
                <a:latin typeface="Arial"/>
              </a:rPr>
              <a:t>、特殊句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"/>
          <p:cNvSpPr/>
          <p:nvPr/>
        </p:nvSpPr>
        <p:spPr>
          <a:xfrm>
            <a:off x="1187280" y="2349360"/>
            <a:ext cx="6629400" cy="260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亦走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非我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兵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使民养生丧死无憾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788000" y="712800"/>
            <a:ext cx="183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818080" y="333360"/>
            <a:ext cx="3577320" cy="135072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）判断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6265800" cy="1143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介词结构后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29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申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孝悌之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树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则无望民之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邻国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626160" cy="11430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）宾语前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5614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未之有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324000" y="1270080"/>
            <a:ext cx="8153280" cy="31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或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…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或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百步而后止，</a:t>
            </a:r>
            <a:r>
              <a:rPr b="0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十步而后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…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百步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译为“只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罢了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是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……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亦走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译为“这是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呀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是何异于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…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i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何异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人而杀之，曰“非我也，兵也”？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译为“这同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有什么区别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919960" y="0"/>
            <a:ext cx="3370320" cy="112248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）固定句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1"/>
          <p:cNvSpPr/>
          <p:nvPr/>
        </p:nvSpPr>
        <p:spPr>
          <a:xfrm>
            <a:off x="250920" y="1052640"/>
            <a:ext cx="8512200" cy="470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河内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谷物收成不好，荒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指人或动物暴躁，心肠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邻国之民不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（更，再，副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指增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步而后止（有人，有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择连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刃既接（兵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战士，士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弃甲曳兵而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逃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6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谷不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也（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胜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7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罟不入洿池（细、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字或者数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8)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树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以桑（种植，动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指较高大的林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9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十者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可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肉矣（可以凭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同意认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971640" y="0"/>
            <a:ext cx="4248000" cy="76428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"/>
          <p:cNvSpPr/>
          <p:nvPr/>
        </p:nvSpPr>
        <p:spPr>
          <a:xfrm>
            <a:off x="0" y="1557360"/>
            <a:ext cx="9144000" cy="418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）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之家，可以无饥矣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几、若干</a:t>
            </a:r>
            <a:r>
              <a:rPr b="1" lang="zh-CN" sz="2800" spc="-1" strike="noStrike">
                <a:solidFill>
                  <a:srgbClr val="cc3399"/>
                </a:solidFill>
                <a:latin typeface="黑体"/>
                <a:ea typeface="黑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则胜负之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存亡之理，当与秦相较，或未易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国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命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扶苏以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谏故，上使外将兵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陈涉世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shuò 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屡次）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罟不入洿池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cù </a:t>
            </a:r>
            <a:r>
              <a:rPr b="1" lang="zh-CN" sz="28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密、细密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279520" y="247680"/>
            <a:ext cx="1923840" cy="642600"/>
          </a:xfrm>
          <a:prstGeom prst="rect">
            <a:avLst/>
          </a:prstGeom>
          <a:solidFill>
            <a:srgbClr val="d5e1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250920" y="404640"/>
            <a:ext cx="8642160" cy="53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）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中通外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不蔓不枝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莲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与“曲”相对，不弯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百步耳，是亦走也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仅、只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系向牛头充炭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卖炭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价值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予自度不得脱，则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诟虏帅失信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指南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径直、直接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孟子1"/>
          <p:cNvPicPr/>
          <p:nvPr/>
        </p:nvPicPr>
        <p:blipFill>
          <a:blip r:embed="rId1"/>
          <a:stretch/>
        </p:blipFill>
        <p:spPr>
          <a:xfrm>
            <a:off x="2411280" y="836640"/>
            <a:ext cx="4681800" cy="5545080"/>
          </a:xfrm>
          <a:prstGeom prst="rect">
            <a:avLst/>
          </a:prstGeom>
          <a:ln w="0">
            <a:noFill/>
          </a:ln>
        </p:spPr>
      </p:pic>
      <p:sp>
        <p:nvSpPr>
          <p:cNvPr id="58" name="WordArt 3"/>
          <p:cNvSpPr txBox="1"/>
          <p:nvPr/>
        </p:nvSpPr>
        <p:spPr>
          <a:xfrm rot="5400000">
            <a:off x="6113880" y="2174040"/>
            <a:ext cx="3711600" cy="146844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4000"/>
                  </a:srgbClr>
                </a:solidFill>
                <a:latin typeface="宋体"/>
              </a:rPr>
              <a:t>千秋亚圣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4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908000" y="5516640"/>
            <a:ext cx="5616720" cy="91692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9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-964080" y="404640"/>
            <a:ext cx="2618280" cy="4537080"/>
          </a:xfrm>
          <a:prstGeom prst="rect">
            <a:avLst/>
          </a:prstGeom>
          <a:solidFill>
            <a:srgbClr val="cc33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走近作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0" y="304920"/>
            <a:ext cx="8964720" cy="59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）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闾左谪戌渔阳九百人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陈涉世家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征发、派遣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涂有饿莩而不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打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野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幽香，佳木秀而繁阴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醉翁亭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花开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安能屈豪杰之流，扼腕墓道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志士之悲哉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人墓碑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发出、抒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有贤士大夫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发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十金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人墓碑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拿出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"/>
          <p:cNvSpPr/>
          <p:nvPr/>
        </p:nvSpPr>
        <p:spPr>
          <a:xfrm>
            <a:off x="0" y="189000"/>
            <a:ext cx="8893080" cy="549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4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）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非我也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兵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穷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黩武 成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战争）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必以长安君为质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乃出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触龙说赵太后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军队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草木皆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兵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成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士兵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0" y="333360"/>
            <a:ext cx="8964720" cy="59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（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5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）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驴不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怒，蹄之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黔之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承受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不违农时，谷不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食也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寡人之于国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尽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此所谓战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朝廷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邹忌讽齐王纳谏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胜利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日出江花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火，春来江水绿如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忆江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超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予观夫巴陵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状，在洞庭一湖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岳阳楼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cc3399"/>
                </a:solidFill>
                <a:uFillTx/>
                <a:latin typeface="黑体"/>
                <a:ea typeface="黑体"/>
              </a:rPr>
              <a:t>（优美的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73280" y="1625760"/>
            <a:ext cx="83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梁惠王提出“民不加多” 疑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-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孟子分析“民不加多”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-7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孟子阐述“仁政”具体内容，即使“民加多”的根本措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214200" y="1881360"/>
            <a:ext cx="260640" cy="3128760"/>
          </a:xfrm>
          <a:custGeom>
            <a:avLst/>
            <a:gdLst>
              <a:gd name="textAreaLeft" fmla="*/ 166680 w 260640"/>
              <a:gd name="textAreaRight" fmla="*/ 261000 w 260640"/>
              <a:gd name="textAreaTop" fmla="*/ 81360 h 3128760"/>
              <a:gd name="textAreaBottom" fmla="*/ 3047400 h 31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3058920" y="333360"/>
            <a:ext cx="3143160" cy="947520"/>
            <a:chOff x="3058920" y="333360"/>
            <a:chExt cx="3143160" cy="947520"/>
          </a:xfrm>
        </p:grpSpPr>
        <p:sp>
          <p:nvSpPr>
            <p:cNvPr id="232" name="AutoShape 5"/>
            <p:cNvSpPr/>
            <p:nvPr/>
          </p:nvSpPr>
          <p:spPr>
            <a:xfrm rot="5400000">
              <a:off x="4196160" y="-803880"/>
              <a:ext cx="868320" cy="3143160"/>
            </a:xfrm>
            <a:custGeom>
              <a:avLst/>
              <a:gdLst>
                <a:gd name="textAreaLeft" fmla="*/ 85680 w 868320"/>
                <a:gd name="textAreaRight" fmla="*/ 782640 w 868320"/>
                <a:gd name="textAreaTop" fmla="*/ 85680 h 3143160"/>
                <a:gd name="textAreaBottom" fmla="*/ 3057480 h 3143160"/>
              </a:gdLst>
              <a:ahLst/>
              <a:rect l="textAreaLeft" t="textAreaTop" r="textAreaRight" b="textAreaBottom"/>
              <a:pathLst>
                <a:path w="21600" h="78165">
                  <a:moveTo>
                    <a:pt x="7295" y="0"/>
                  </a:moveTo>
                  <a:arcTo wR="7295" hR="7295" stAng="16200000" swAng="-5400000"/>
                  <a:lnTo>
                    <a:pt x="0" y="70870"/>
                  </a:lnTo>
                  <a:arcTo wR="7295" hR="7295" stAng="10800000" swAng="-5400000"/>
                  <a:lnTo>
                    <a:pt x="14305" y="78165"/>
                  </a:lnTo>
                  <a:arcTo wR="7295" hR="7295" stAng="5400000" swAng="-5400000"/>
                  <a:lnTo>
                    <a:pt x="21600" y="7295"/>
                  </a:lnTo>
                  <a:arcTo wR="7295" hR="7295" stAng="0" swAng="-5400000"/>
                  <a:close/>
                </a:path>
              </a:pathLst>
            </a:custGeom>
            <a:solidFill>
              <a:srgbClr val="663300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059280" y="333360"/>
              <a:ext cx="31208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600" spc="-1" strike="noStrike">
                  <a:solidFill>
                    <a:srgbClr val="ffffff"/>
                  </a:solidFill>
                  <a:latin typeface="华文隶书"/>
                  <a:ea typeface="华文隶书"/>
                </a:rPr>
                <a:t>文章思路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700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梁惠王为何对“民不加多”倍感忧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梁惠王为何对“民不加多”倍感忧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寡人不佞，兵三折于外，太子虏，上将死，国以空虚，以羞先君宗庙社稷，寡人甚丑之。叟不远千里，辱幸至弊邑之廷，将何以利吾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魏世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122200" y="2491560"/>
            <a:ext cx="56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大国富，人众兵强，此霸王之本也”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管子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83320" y="1700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王好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孟子怎样评价他的政绩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314172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五十步笑百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比喻自己跟别人有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同样的缺点或错误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只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程度上轻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些，可是却讥笑别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>
            <a:off x="2195640" y="1557360"/>
            <a:ext cx="475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以五十步笑百步</a:t>
            </a:r>
            <a:endParaRPr b="0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位交流，翻译下列语句，注意解释红字部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1889280"/>
            <a:ext cx="8675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斤以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入山林，材木不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死无憾，王道之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庠序之教，申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孝悌之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颁白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负戴于道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未之有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狗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何异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刺人而杀之，曰：‘非我也，兵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010520" y="2492280"/>
            <a:ext cx="2566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仁政七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1332000" y="2060640"/>
            <a:ext cx="539640" cy="4330800"/>
          </a:xfrm>
          <a:custGeom>
            <a:avLst/>
            <a:gdLst>
              <a:gd name="textAreaLeft" fmla="*/ 344880 w 539640"/>
              <a:gd name="textAreaRight" fmla="*/ 540000 w 539640"/>
              <a:gd name="textAreaTop" fmla="*/ 112680 h 4330800"/>
              <a:gd name="textAreaBottom" fmla="*/ 4218120 h 433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808320" y="1268280"/>
            <a:ext cx="72900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王道之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 flipH="1">
            <a:off x="5650920" y="1989000"/>
            <a:ext cx="431640" cy="1676520"/>
          </a:xfrm>
          <a:custGeom>
            <a:avLst/>
            <a:gdLst>
              <a:gd name="textAreaLeft" fmla="*/ 275400 w 431640"/>
              <a:gd name="textAreaRight" fmla="*/ 431640 w 431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626920" y="1779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不违农时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555280" y="2500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不入洿池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2647440" y="32925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以时入山林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林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7889400" y="4005360"/>
            <a:ext cx="7290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王道之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flipH="1">
            <a:off x="6876360" y="4365720"/>
            <a:ext cx="360360" cy="2076480"/>
          </a:xfrm>
          <a:custGeom>
            <a:avLst/>
            <a:gdLst>
              <a:gd name="textAreaLeft" fmla="*/ 230040 w 360360"/>
              <a:gd name="textAreaRight" fmla="*/ 360360 w 360360"/>
              <a:gd name="textAreaTop" fmla="*/ 54000 h 2076480"/>
              <a:gd name="textAreaBottom" fmla="*/ 2022480 h 20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2555280" y="4011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树之以桑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纺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2574720" y="47322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畜鸡豚狗彘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牧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2555280" y="5380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勿夺亩时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2779920" y="60278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谨庠序，申孝悌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德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216000" y="189000"/>
            <a:ext cx="8604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孟子针对梁惠王的疑惑提出了怎样的使民加多的措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500"/>
                            </p:stCondLst>
                            <p:childTnLst>
                              <p:par>
                                <p:cTn id="17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718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合理的措施，还需要有合理的态度。孟子运用了什么手法批评当时统治者不顾人民死活？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83196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24000" y="2276640"/>
            <a:ext cx="8028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狗彘食人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诸侯贵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涂有饿莩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（下层百姓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涂有饿莩归罪于年成不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刺人而杀人归罪于武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334800" y="2421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334800" y="364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>
            <a:off x="1835280" y="2421000"/>
            <a:ext cx="144360" cy="863640"/>
          </a:xfrm>
          <a:custGeom>
            <a:avLst/>
            <a:gdLst>
              <a:gd name="textAreaLeft" fmla="*/ 42480 w 144360"/>
              <a:gd name="textAreaRight" fmla="*/ 144360 w 144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>
            <a:off x="1835280" y="3573360"/>
            <a:ext cx="144360" cy="863640"/>
          </a:xfrm>
          <a:custGeom>
            <a:avLst/>
            <a:gdLst>
              <a:gd name="textAreaLeft" fmla="*/ 42480 w 144360"/>
              <a:gd name="textAreaRight" fmla="*/ 144360 w 14436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451640" y="2276640"/>
            <a:ext cx="190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施仁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行王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5"/>
          <p:cNvSpPr/>
          <p:nvPr/>
        </p:nvSpPr>
        <p:spPr>
          <a:xfrm>
            <a:off x="7236000" y="2421000"/>
            <a:ext cx="215640" cy="2305080"/>
          </a:xfrm>
          <a:custGeom>
            <a:avLst/>
            <a:gdLst>
              <a:gd name="textAreaLeft" fmla="*/ 0 w 215640"/>
              <a:gd name="textAreaRight" fmla="*/ 151200 w 215640"/>
              <a:gd name="textAreaTop" fmla="*/ 95760 h 2305080"/>
              <a:gd name="textAreaBottom" fmla="*/ 22093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7" descr="wlsDY__ff1a4ddb2380b8b2c39af2e6294e2c4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7760" y="5162400"/>
            <a:ext cx="8762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孟子像"/>
          <p:cNvPicPr/>
          <p:nvPr/>
        </p:nvPicPr>
        <p:blipFill>
          <a:blip r:embed="rId1"/>
          <a:srcRect l="0" t="0" r="0" b="7802"/>
          <a:stretch/>
        </p:blipFill>
        <p:spPr>
          <a:xfrm>
            <a:off x="-104472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995640" y="0"/>
            <a:ext cx="514836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名    ，字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期邹国人，儒家学派代表人，后人把他与孔子合称     并尊称他为    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子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记录孟子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              思想及其言行的一部著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486400" y="6094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7596360" y="620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95640" y="1268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7740720" y="2492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6659640" y="3068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495680" y="42670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6248520" y="42670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792760" y="-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416720" y="-572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子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3780000" y="62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战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596360" y="18446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孔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651672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亚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427640" y="35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仁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6300720" y="35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民贵君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WordArt 4" descr=""/>
          <p:cNvPicPr/>
          <p:nvPr/>
        </p:nvPicPr>
        <p:blipFill>
          <a:blip r:embed="rId1"/>
          <a:stretch/>
        </p:blipFill>
        <p:spPr>
          <a:xfrm>
            <a:off x="811080" y="2846520"/>
            <a:ext cx="77965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0" y="4046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梁惠王不果所言，则见以为迂远而阔于事情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是之时，秦用商君，富国强兵；楚、魏用吴起，战胜弱敌；齐威王、宣王用孙子、田忌之徒，而诸侯东面朝齐。天下方务于合从连衡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攻伐为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而孟轲乃述唐、虞、三代之德，是以所如者不合。退而与万章之徒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述仲尼之意，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篇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孟子列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104920" y="4867920"/>
            <a:ext cx="485640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欲平治天下，当今之世，舍我其谁也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332000" y="5734080"/>
            <a:ext cx="6337080" cy="5814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之所在，虽千万人，吾往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怀想一下，两千年前的某天，孟轲带着他的学生，又一次默默地整装待发，奔赴未知的前程。在那个民不聊生的战乱岁月里，权力泛滥成灾，各种不同的权力竞相角逐。秦国用商鞅，楚魏用吴起，齐国用田忌、孙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独这位儒者的清瘦身影，在疾驶的马车上轻轻摇晃，渐渐远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沿途残破的景象勾起了他的无限悲愤更激发了他的无比热情，于是，这位名叫孟轲的男人发出一声幽幽的长叹伴着马车的吱呀声，遥响天际，久久回响在历史深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4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559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子构织的理想社会在战乱时期难以实现，那么，在今天的和平年代呢？假如孟子来到了今天的社会，他又会发出怎样的评论？请用今天学到的方法写一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孟子新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要求：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380880" y="1214280"/>
            <a:ext cx="8534520" cy="21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、孟子和梁惠王是在什么背景下谈话的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?</a:t>
            </a: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古竞于道德，中世逐于智谋，当今争于气力。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韩非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所处的战国中期，“上无天子，下无方伯，力功争强，胜者为右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战国策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各国诸侯争城夺地，角逐武力，蚕食鲸吞，征战不断；人民徭役繁重，水深火热，朝不保夕；社会混乱，礼制崩坏，世风倾颓，剧烈动荡。权势与暴力被推崇，霸道被视为天道，攻伐凌侵被视作合理，由大国以“力”统一天下的态势已初步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"/>
          <p:cNvSpPr/>
          <p:nvPr/>
        </p:nvSpPr>
        <p:spPr>
          <a:xfrm>
            <a:off x="951840" y="380880"/>
            <a:ext cx="140004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24000" y="0"/>
            <a:ext cx="8381880" cy="301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魏国曾是强国，但在梁惠王统治期间，连遭强秦重创，内忧外患，以至都城由安邑迁至大梁。梁惠王三十五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3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孟子被“招贤”应邀来到魏国，梁惠王曾对他说：“寡人不佞，兵三折于外，太子虏，上将死，国以空虚，以羞先君宗庙社稷，寡人甚丑之。叟不远千里，辱幸至弊邑之廷，将何以利吾国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(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史记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魏世家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迫不及待地讨教救国治国之策。在此形势下，孟子开始了他的道德设计。本文仅是孟子在魏国期间与梁惠王的一次谈话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2"/>
          <p:cNvSpPr/>
          <p:nvPr/>
        </p:nvSpPr>
        <p:spPr>
          <a:xfrm>
            <a:off x="0" y="0"/>
            <a:ext cx="8964720" cy="23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、“五十步笑百步”的比喻说明了什么道理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梁惠王自以为自己对于国较他国国君尽心，自己的政策比邻国好，邻国之民会自动投奔他。可是，邻国之民不见少，自己的国民不见增多。因为他的目的在于增兵，老百姓看穿了他，又怎会来“送死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子以临阵脱逃为喻，“或百步而后止，或五十步而后止，以五十步笑百步，则何如”风趣地说明，魏国的政策和邻国相差无几，本质上讲都是虐民暴政，所以不必希望民之多于邻国。本体和喻体的贴切，使孟子的比喻充满了逻辑的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9280" y="-196560"/>
            <a:ext cx="8785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785440" cy="659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cc33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华文隶书"/>
                <a:ea typeface="华文隶书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华文隶书"/>
                <a:ea typeface="华文隶书"/>
              </a:rPr>
              <a:t>、孟子在与梁惠王的对话中表现出怎样的思想与主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首先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反对诸侯间无休无止的相互征战应该让利于民，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让民众有得以休养生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二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孟子又向梁惠王表明了自己治民的理想，具体的说，就是让民拥有“五亩之宅”、“百亩之田”、“鸡豚狗彘之畜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丰衣足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三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孟子还非常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重视教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提出了“谨庠序”的主张，他的最高理想是黎民“衣帛食肉”，“不饥不寒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0000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最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孟子在自己论证的基础之上，进一步指出面对上层贵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奢靡浪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黎民饥寒交迫的社会现实，作为最高统治者的梁惠王具有不可推卸的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1"/>
          <p:cNvSpPr/>
          <p:nvPr/>
        </p:nvSpPr>
        <p:spPr>
          <a:xfrm>
            <a:off x="304920" y="681120"/>
            <a:ext cx="8534160" cy="21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、从孟子对梁惠王的指责中，可看出孟子是一个具有怎样性格的人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?</a:t>
            </a: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秋战国时期，随着社会动荡变化，民主观念抬头，百家争鸣兴起。当时孟子就提出“民为贵，社稷次之，君为轻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心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论点，敢于藐视神圣君权。面对梁惠王“于国”“尽心”的表白，他直言不讳，义正辞严，批评统治者“狗彘食人食而不知检，涂有饿莩而不知发”，深刻地揭示了当时社会的极端不平等，有力地揭露了统治者坑民害民的暴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0" dur="indefinite" restart="never" nodeType="tmRoot">
          <p:childTnLst>
            <p:seq>
              <p:cTn id="1921" dur="indefinite" nodeType="mainSeq">
                <p:childTnLst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"/>
          <p:cNvSpPr/>
          <p:nvPr/>
        </p:nvSpPr>
        <p:spPr>
          <a:xfrm>
            <a:off x="380880" y="838080"/>
            <a:ext cx="83822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有着“如欲平治天下，当今之世，舍我其谁” 的宏愿伟志；对时事的论述既析之以理，娓娓而谈，又尖锐驳斥，辛辣讽刺，展示出一个聪明机智、狂放不羁、豪爽直率、泼辣大胆、爱民重民、肩担天下、无畏无私的政治家、论辩家的形象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mengzipg3-50"/>
          <p:cNvPicPr/>
          <p:nvPr/>
        </p:nvPicPr>
        <p:blipFill>
          <a:blip r:embed="rId1"/>
          <a:stretch/>
        </p:blipFill>
        <p:spPr>
          <a:xfrm>
            <a:off x="6095880" y="304920"/>
            <a:ext cx="2770200" cy="39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mengzipgcoverpg-s50"/>
          <p:cNvPicPr/>
          <p:nvPr/>
        </p:nvPicPr>
        <p:blipFill>
          <a:blip r:embed="rId2"/>
          <a:stretch/>
        </p:blipFill>
        <p:spPr>
          <a:xfrm>
            <a:off x="380880" y="213372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55480" y="906480"/>
            <a:ext cx="40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657600" y="5084640"/>
            <a:ext cx="548640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子不学，断机杼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79280" y="476280"/>
            <a:ext cx="568800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昔孟母，择邻处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276720" y="1773360"/>
            <a:ext cx="2374920" cy="2735280"/>
          </a:xfrm>
          <a:prstGeom prst="rect">
            <a:avLst/>
          </a:prstGeom>
          <a:solidFill>
            <a:srgbClr val="d5e13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童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68360" y="333360"/>
            <a:ext cx="8280360" cy="230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文中阐述的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道之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王道之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道理，强调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民为本、实行仁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统一天下的根本保证。孟子认为，国君如能实行仁政，减税宽刑，不滥杀无辜，以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忠信孝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教育百姓，就可以使天下归心。这就是说，真正能够爱人民的人，他的力量是不可战胜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4" dur="indefinite" restart="never" nodeType="tmRoot">
          <p:childTnLst>
            <p:seq>
              <p:cTn id="1935" dur="indefinite" nodeType="mainSeq">
                <p:childTnLst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3"/>
          <p:cNvSpPr/>
          <p:nvPr/>
        </p:nvSpPr>
        <p:spPr>
          <a:xfrm>
            <a:off x="0" y="1268280"/>
            <a:ext cx="9144000" cy="14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犀利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庄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恣肆、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荀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浑厚和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韩非子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峻峭，被称为先秦散文的“四大台柱”。作为继孔子之后最伟大的儒学大师，由于时代及学术交流与竞争使然，孟子论辩之术在气势、声威、心理、思想、情感和技巧上，体现出众多高超之处。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本文中有以下特点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043000" y="189000"/>
            <a:ext cx="5118480" cy="916920"/>
          </a:xfrm>
          <a:prstGeom prst="rect">
            <a:avLst/>
          </a:prstGeom>
          <a:solidFill>
            <a:srgbClr val="d5e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黑体"/>
                <a:ea typeface="黑体"/>
              </a:rPr>
              <a:t>本文论辩艺术的高超之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3"/>
          <p:cNvSpPr/>
          <p:nvPr/>
        </p:nvSpPr>
        <p:spPr>
          <a:xfrm>
            <a:off x="380880" y="304920"/>
            <a:ext cx="8382240" cy="21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善于掌握说话对象的心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长于诱导和启发，始终争取主动，客观上形成了结构上的层层深入与跌宕生姿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二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准确运用比喻、排比、对偶手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东汉赵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题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说：“孟子长于譬喻，辞不迫切，而意已独至。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章，其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章总共使用比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。本文“五十步笑百步”明白晓畅，喻意深刻。排偶句式的运用，突出思想，深化感情，增强气势。本文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措施和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主张，全用排偶，使句式在整齐中具有参差之美，音调铿锵有力，极富音乐性，强化了小农生产丰衣足食、安居乐业的情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1"/>
          <p:cNvSpPr/>
          <p:nvPr/>
        </p:nvSpPr>
        <p:spPr>
          <a:xfrm>
            <a:off x="457200" y="685800"/>
            <a:ext cx="8229600" cy="214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三，层次分明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,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结构严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本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部分末尾分别用“寡人之民不加多”“则无望民之多于邻国也”“斯天下之民至焉”，既对各部分内容画龙点睛，又强化了各部分之间的内在联系，使文章层层递进，步步深入，环环相扣，浑然一体，凸显出孟子论辩的雄浑、缜密、深沉的特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四，语气逼真，接近口语，生动风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正如清代刘大櫆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论文偶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里所言：“歌而咏之，神气出矣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457200" y="1349280"/>
            <a:ext cx="8229600" cy="228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子散文的艺术特点，具体表现在以下几个方面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、结构严谨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的文章从表面看，铺张扬厉，似乎散漫无纪，实则段落分明，层次井然，而且环环相扣，不可分割。这篇文章第三部分的末尾，依次用“寡人之民不加多”，“则无望民之多于邻国也”，“斯天下之民至焉”，既对每一部分的内容起了画龙点睛的作用，又体现了各部分之间的内在联系，把全文各部分连成了一个有机的整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"/>
          <p:cNvSpPr/>
          <p:nvPr/>
        </p:nvSpPr>
        <p:spPr>
          <a:xfrm>
            <a:off x="735120" y="189000"/>
            <a:ext cx="484488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孟子散文写作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468360" y="333360"/>
            <a:ext cx="8381880" cy="14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、善用比喻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孟子善于运用比喻说理，文字显得从容不迫。如用“五十步笑百步”比喻梁惠王所谓“尽心于国”不比邻国之政好多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、气势充沛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孟子的文章具有雄辩的气势，表现在语言上是使用整齐的排偶句式。如这篇文章第三部分孟子畅谈“使民加多”的道理时，连用四组排偶句，音节铿锵，气势充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1007640" y="1571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"/>
          <p:cNvSpPr/>
          <p:nvPr/>
        </p:nvSpPr>
        <p:spPr>
          <a:xfrm>
            <a:off x="1007640" y="3130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970920" y="450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3059280" y="1571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尽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5122800" y="1214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其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512280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移其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7047360" y="1500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民不加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9"/>
          <p:cNvSpPr/>
          <p:nvPr/>
        </p:nvSpPr>
        <p:spPr>
          <a:xfrm>
            <a:off x="3246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步笑百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5419440" y="270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3545280" y="34290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梁惠王    邻国之君        未施仁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7048800" y="285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程序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实质相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2908080" y="4643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仁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4096080" y="4286160"/>
            <a:ext cx="4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5"/>
          <p:cNvSpPr/>
          <p:nvPr/>
        </p:nvSpPr>
        <p:spPr>
          <a:xfrm>
            <a:off x="5433480" y="464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7051680" y="464040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斯天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民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下箭头 17"/>
          <p:cNvSpPr/>
          <p:nvPr/>
        </p:nvSpPr>
        <p:spPr>
          <a:xfrm>
            <a:off x="1285920" y="2214720"/>
            <a:ext cx="357120" cy="7855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下箭头 18"/>
          <p:cNvSpPr/>
          <p:nvPr/>
        </p:nvSpPr>
        <p:spPr>
          <a:xfrm>
            <a:off x="1285920" y="371484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左大括号 19"/>
          <p:cNvSpPr/>
          <p:nvPr/>
        </p:nvSpPr>
        <p:spPr>
          <a:xfrm>
            <a:off x="2786040" y="2857680"/>
            <a:ext cx="214200" cy="8571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左大括号 20"/>
          <p:cNvSpPr/>
          <p:nvPr/>
        </p:nvSpPr>
        <p:spPr>
          <a:xfrm>
            <a:off x="3857760" y="4500720"/>
            <a:ext cx="214200" cy="8571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857160"/>
              <a:gd name="textAreaBottom" fmla="*/ 85176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2303640"/>
            <a:ext cx="9144000" cy="3966840"/>
          </a:xfrm>
          <a:prstGeom prst="rect">
            <a:avLst/>
          </a:prstGeom>
          <a:solidFill>
            <a:srgbClr val="dee7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20680" y="1170000"/>
            <a:ext cx="8532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孟子的仁政思想有何现实意义？ 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400" spc="-1" strike="noStrike">
                <a:solidFill>
                  <a:srgbClr val="800000"/>
                </a:solidFill>
                <a:latin typeface="黑体"/>
                <a:ea typeface="黑体"/>
              </a:rPr>
              <a:t>古为今用</a:t>
            </a: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77920" y="2389320"/>
            <a:ext cx="84088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子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王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想包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温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两部分，也就是今天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质文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精神文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277920" y="4610160"/>
            <a:ext cx="84168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发自然资源，做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是今天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持续发展农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63520" y="322200"/>
            <a:ext cx="2233440" cy="83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讨 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mengzipg3-50"/>
          <p:cNvPicPr/>
          <p:nvPr/>
        </p:nvPicPr>
        <p:blipFill>
          <a:blip r:embed="rId1"/>
          <a:stretch/>
        </p:blipFill>
        <p:spPr>
          <a:xfrm>
            <a:off x="0" y="1052640"/>
            <a:ext cx="2700360" cy="547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627280" y="188640"/>
            <a:ext cx="6516720" cy="666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 子 名 轲 ， 邹 人（ 今 山东 邹 县 ）， 三 岁 时 父 亲 逝 世 ，孟 子 便 与 母 亲 相 依 为 命 。 孟母 非 常 疼 爱 自 己 的 儿 子 ， 曾 经 为 了 替 孟 子 找 一 个 舒 适 的 学 习 环 境 而 三 次 搬 家 。 孟 子 自 小 便 受 严 格 的 管教， 据 说 他 自 从 搬 家以后 ， 便 十 分 认 真 读 书 ， 稍 大 一 点 ， 孟 子 变 得 十 分 贪 玩 。 孟 母 便 剪 断 织 机 上 的 麻 布 ， 她 要 孟 子 勤 奋 读 书 ， 要 不 然 将 会 像 那 块 麻 布 般 ， 变 成 一 团 废 物。 孟 子 牢 记 母 亲的 教 诲 ， 立 志 成 材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 rot="246600">
            <a:off x="539280" y="476280"/>
            <a:ext cx="1981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童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4788000" cy="620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 子 长 大 后 ， 被 孔 子 的 儒 家 思 想 所 吸 引 ， 于 是 决 定 离 开 邹 国 到 孔 子 的 家 乡 鲁 国 深 造 ， 其 老 师 正 是 孔 子 的 孙 子 子 思 的 徒 弟 。 通 过 学 习 ， 孟 子 认 为 孔 子 是 有 人 类 以 来 最 伟 大 的人，于 是 他 立 志 发 展 孔 子 的 思 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engzipgcoverpg-s50"/>
          <p:cNvPicPr/>
          <p:nvPr/>
        </p:nvPicPr>
        <p:blipFill>
          <a:blip r:embed="rId1"/>
          <a:stretch/>
        </p:blipFill>
        <p:spPr>
          <a:xfrm>
            <a:off x="5076720" y="1557360"/>
            <a:ext cx="4067280" cy="5029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8" name="WordArt 4"/>
          <p:cNvSpPr txBox="1"/>
          <p:nvPr/>
        </p:nvSpPr>
        <p:spPr>
          <a:xfrm>
            <a:off x="5292720" y="549360"/>
            <a:ext cx="3276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青少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0:30:23Z</dcterms:created>
  <dc:creator>雨林木风</dc:creator>
  <dc:description/>
  <dc:language>en-US</dc:language>
  <cp:lastModifiedBy>微软用户</cp:lastModifiedBy>
  <dcterms:modified xsi:type="dcterms:W3CDTF">2015-03-22T14:13:10Z</dcterms:modified>
  <cp:revision>14</cp:revision>
  <dc:subject/>
  <dc:title>幻灯片 1</dc:title>
</cp:coreProperties>
</file>