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gif" ContentType="image/gif"/>
  <Override PartName="/ppt/media/image3.jpeg" ContentType="image/jpeg"/>
  <Override PartName="/ppt/media/image15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2.jpeg" ContentType="image/jpeg"/>
  <Override PartName="/ppt/media/image14.png" ContentType="image/png"/>
  <Override PartName="/ppt/media/image11.gif" ContentType="image/gif"/>
  <Override PartName="/ppt/media/image7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3CF-BE7B-46D8-BABB-C7A74DF4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9F3-9770-4C81-BCBA-96652129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0B8-974B-49C2-9A35-37D7265D3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A1C-818A-43B2-BB06-55E933DF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B35-85D8-4CB7-9217-D9DE322B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EA95-AB56-45D2-BE4B-CB4070FF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16B-576C-4607-A7A0-A17E28F2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F94E-9C18-44C3-8380-196A49D6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F36B-FF29-49FC-8FCE-3DB8298B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6E6F-A851-4AC6-8545-AFA9B126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3302-6200-43B9-822E-747F736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196-2F2C-4B22-BB1C-BB108A73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0A2-AFBF-4361-BC95-B3B1519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98D2-ED93-4287-94BB-E08B7F72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D4ED-6ED3-4481-8C64-7E3072BD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438-92AC-4863-A9B4-AAD103D2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44F3-93BB-4459-AE83-E88BB1D7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91B-0E59-45E4-BD3A-DFBD95C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D753-B1B3-4E72-AAD6-823210F5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BEE-B0F4-42D4-8081-FA77784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F41-C37B-488A-B70B-E159A706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B4F-C5F1-4940-9F5F-9D1E9BE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EF3-7C7E-49DB-9FF2-13C1E272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849-34B2-4E05-9426-72477D3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1027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1029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55F-B073-43AF-A3E9-D0F0590F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381F-A780-4328-B607-6274279DB19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zuowenren.com/diary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zuowenren.com/diary/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E:\yu图片下载\mz雕像.jpg"/>
          <p:cNvPicPr/>
          <p:nvPr/>
        </p:nvPicPr>
        <p:blipFill>
          <a:blip r:embed="rId1"/>
          <a:stretch/>
        </p:blipFill>
        <p:spPr>
          <a:xfrm>
            <a:off x="5638680" y="228600"/>
            <a:ext cx="329256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123640" y="457200"/>
            <a:ext cx="2191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  <a:ea typeface="方正隶二简体"/>
              </a:rPr>
              <a:t>寡人之于国也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32560" y="4114800"/>
            <a:ext cx="2009160" cy="1676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宋体"/>
              </a:rPr>
              <a:t>孟子</a:t>
            </a:r>
            <a:r>
              <a:rPr b="0" lang="zh-CN" sz="6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68580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宋体"/>
              </a:rPr>
              <a:t>字词②（一词多义）</a:t>
            </a:r>
            <a:r>
              <a:rPr b="1" lang="zh-CN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57200" y="205740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凶：年成不好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凶狠、残暴    接：交锋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接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喻：打比方以说明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比喻      直：只是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笔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时：季节、或时机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时间      违：耽误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违背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树：种植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树木              夺：丧失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夺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谨：认真从事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谨慎          检：约束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检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涂：路途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涂抹              发：开仓赈济</a:t>
            </a:r>
            <a:r>
              <a:rPr b="1" lang="en-US" sz="2800" spc="-1" strike="noStrike">
                <a:solidFill>
                  <a:srgbClr val="eaeaea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eaeaea"/>
                </a:solidFill>
                <a:latin typeface="宋体"/>
              </a:rPr>
              <a:t>开发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09480" y="60948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ccff"/>
                </a:solidFill>
                <a:latin typeface="宋体"/>
              </a:rPr>
              <a:t>思考与归纳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1981080"/>
            <a:ext cx="800100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99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找出二人问辩的核心话题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从孟子的辩看</a:t>
            </a:r>
            <a:r>
              <a:rPr b="1" lang="zh-CN" sz="4800" spc="-1" strike="noStrike">
                <a:solidFill>
                  <a:srgbClr val="99ff99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仁政</a:t>
            </a:r>
            <a:r>
              <a:rPr b="1" lang="zh-CN" sz="4800" spc="-1" strike="noStrike">
                <a:solidFill>
                  <a:srgbClr val="99ff99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思想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  </a:t>
            </a:r>
            <a:r>
              <a:rPr b="1" lang="zh-CN" sz="48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99ff99"/>
                </a:solidFill>
                <a:latin typeface="宋体"/>
              </a:rPr>
              <a:t>谈谈学习本文的实词积累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5" descr="E:\动漫\书笔.gif"/>
          <p:cNvPicPr/>
          <p:nvPr/>
        </p:nvPicPr>
        <p:blipFill>
          <a:blip r:embed="rId1"/>
          <a:stretch/>
        </p:blipFill>
        <p:spPr>
          <a:xfrm>
            <a:off x="5943600" y="5105520"/>
            <a:ext cx="272736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762120" y="609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ccff"/>
                </a:solidFill>
                <a:latin typeface="宋体"/>
              </a:rPr>
              <a:t>讨论</a:t>
            </a:r>
            <a:r>
              <a:rPr b="0" lang="en-US" sz="6000" spc="-1" strike="noStrike">
                <a:solidFill>
                  <a:srgbClr val="ccccff"/>
                </a:solidFill>
                <a:latin typeface="宋体"/>
              </a:rPr>
              <a:t>1</a:t>
            </a: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52480" y="23623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ff"/>
                </a:solidFill>
                <a:latin typeface="黑体"/>
                <a:ea typeface="黑体"/>
              </a:rPr>
              <a:t>核心话题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657600" y="43434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ff"/>
                </a:solidFill>
                <a:latin typeface="方正隶二简体"/>
                <a:ea typeface="方正隶二简体"/>
              </a:rPr>
              <a:t>民不加多</a:t>
            </a:r>
            <a:r>
              <a:rPr b="0" lang="zh-CN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219320" y="4876920"/>
            <a:ext cx="22860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Picture 13" descr="E:\课件大师\素材2\符号类\问号类\Q_014.GIF"/>
          <p:cNvPicPr/>
          <p:nvPr/>
        </p:nvPicPr>
        <p:blipFill>
          <a:blip r:embed="rId1"/>
          <a:stretch/>
        </p:blipFill>
        <p:spPr>
          <a:xfrm>
            <a:off x="5562720" y="1752480"/>
            <a:ext cx="15238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E:\yu图片下载\梁孟漫画.jpg"/>
          <p:cNvPicPr/>
          <p:nvPr/>
        </p:nvPicPr>
        <p:blipFill>
          <a:blip r:embed="rId1"/>
          <a:stretch/>
        </p:blipFill>
        <p:spPr>
          <a:xfrm>
            <a:off x="228600" y="307800"/>
            <a:ext cx="86868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80880" y="457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战国中期，诸侯争城夺地，征战不断；人民徭役繁重，朝不保夕；社会混乱，礼制崩坏。所谓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上古竞于道德，中世逐于智谋，当今争于气力。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韩非子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五蠹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》</a:t>
            </a:r>
            <a:r>
              <a:rPr b="1" lang="en-US" sz="3200" spc="-1" strike="noStrike">
                <a:solidFill>
                  <a:srgbClr val="eaeaea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魏国曾是强国，但在梁惠王统治期间，连遭强秦重创，内忧外患，以至都城由安邑迁至大梁。加上横征暴敛以及生产力水平低下，造成人口减少，兵员和劳动力匮乏。为达到富国强兵、问鼎天下的目的，各国诸侯的当务之急是增殖人口。梁惠王理所当然会为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邻国之民不加少，寡人之民不加多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eaeaea"/>
                </a:solidFill>
                <a:latin typeface="宋体"/>
              </a:rPr>
              <a:t>而忧心忡忡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858000" y="5791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010280" y="5715000"/>
            <a:ext cx="1219320" cy="703440"/>
          </a:xfrm>
          <a:prstGeom prst="rect">
            <a:avLst/>
          </a:prstGeom>
          <a:noFill/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宋体"/>
              </a:rPr>
              <a:t>点拨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E:\yu图片下载\孟 漫3.gif"/>
          <p:cNvPicPr/>
          <p:nvPr/>
        </p:nvPicPr>
        <p:blipFill>
          <a:blip r:embed="rId1"/>
          <a:srcRect l="0" t="0" r="0" b="31279"/>
          <a:stretch/>
        </p:blipFill>
        <p:spPr>
          <a:xfrm>
            <a:off x="228600" y="2491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E:\yu图片下载\孟 漫3.gif"/>
          <p:cNvPicPr/>
          <p:nvPr/>
        </p:nvPicPr>
        <p:blipFill>
          <a:blip r:embed="rId1"/>
          <a:srcRect l="0" t="67339" r="0" b="0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5335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ffcc"/>
                </a:solidFill>
                <a:latin typeface="Times New Roman"/>
              </a:rPr>
              <a:t>讨论</a:t>
            </a:r>
            <a:r>
              <a:rPr b="0" lang="en-US" sz="5400" spc="-1" strike="noStrike">
                <a:solidFill>
                  <a:srgbClr val="cc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  <a:ea typeface="方正隶二简体"/>
              </a:rPr>
              <a:t>王之问与子之辩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0948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ff"/>
                </a:solidFill>
                <a:latin typeface="Times New Roman"/>
              </a:rPr>
              <a:t>梁惠王问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105520" y="16765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ff"/>
                </a:solidFill>
                <a:latin typeface="Times New Roman"/>
              </a:rPr>
              <a:t>民不加多，何也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09480" y="3505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Times New Roman"/>
              </a:rPr>
              <a:t>孟子   辩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895480" y="25909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请以战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105520" y="2666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五十步笑百步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281952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</a:t>
            </a: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无望民之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895480" y="4114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答以养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105520" y="3962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养生丧死无憾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019920" y="411480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王道之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029200" y="52578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王无罪岁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6019920" y="5410080"/>
            <a:ext cx="281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             </a:t>
            </a:r>
            <a:r>
              <a:rPr b="0" lang="zh-CN" sz="3600" spc="-1" strike="noStrike">
                <a:solidFill>
                  <a:srgbClr val="ccff33"/>
                </a:solidFill>
                <a:latin typeface="Times New Roman"/>
              </a:rPr>
              <a:t>天下之民至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2895480" y="2057400"/>
            <a:ext cx="1676520" cy="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2514600" y="297180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487692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1371600" y="2286000"/>
            <a:ext cx="0" cy="106668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1752480" y="2209320"/>
            <a:ext cx="0" cy="114300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685800" y="1447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 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梁惠王自认为治国比邻国国君尽心，政策比邻国好，邻国之民，应该主动投奔归顺他，但他的目的并没有达到。这是因为他的目的在于增加兵员，强化战备，老百姓看穿了他的小恩小惠背后的好大喜功和穷兵黩武。孟子投其所好，不直接回答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民不加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的问题，而是以梁惠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好战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为喻，启迪对方思考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五十步笑百步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，巧妙地指出梁惠王所谓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尽心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方正行楷简体"/>
              </a:rPr>
              <a:t>于国，其实与邻国之政相差无几，本质上都是虐民暴政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45720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cc"/>
                </a:solidFill>
                <a:latin typeface="Times New Roman"/>
                <a:ea typeface="方正隶二简体"/>
              </a:rPr>
              <a:t>评点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E:\课件大师\素材2\历史语文\图片\LSB151.BMP"/>
          <p:cNvPicPr/>
          <p:nvPr/>
        </p:nvPicPr>
        <p:blipFill>
          <a:blip r:embed="rId1"/>
          <a:stretch/>
        </p:blipFill>
        <p:spPr>
          <a:xfrm>
            <a:off x="7010280" y="4343400"/>
            <a:ext cx="1876680" cy="2209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533520" y="5335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   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孟子认为梁惠王要想使民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加多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，称雄诸侯，必须施仁政，行王道。才能得民心，进而得天下。而施行仁政的措施就是关注民生，休养生息，因地制宜地发展生产，不征调百姓服役于农时，不滥捕捞，不忽视时令以伐木，不误牲畜繁殖，不误粮食播收和种桑养蚕织布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使民养生丧死无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，解除后顾之忧，百姓衣食安则心安，从而稳定人心，巩固政权。然后再兴办教育，使人人知廉耻，人人讲礼义，引人向善，倾心归附。百姓安居乐业，社会长治久安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王道可成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。此外，国君要常自省，革除虐政、苛政、酷政。孟子始终围绕仁民、富民、养民、教民、利民、保民，抓住百姓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王道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形成的关系，体现出民为国本的思想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阿根廷,别为我哭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7" descr="E:\yu图片下载\孟子像.jpg"/>
          <p:cNvPicPr/>
          <p:nvPr/>
        </p:nvPicPr>
        <p:blipFill>
          <a:blip r:embed="rId1"/>
          <a:srcRect l="0" t="0" r="0" b="7802"/>
          <a:stretch/>
        </p:blipFill>
        <p:spPr>
          <a:xfrm>
            <a:off x="228600" y="228600"/>
            <a:ext cx="5734080" cy="640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28"/>
          <p:cNvSpPr/>
          <p:nvPr/>
        </p:nvSpPr>
        <p:spPr>
          <a:xfrm>
            <a:off x="6400800" y="10666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cc"/>
                </a:solidFill>
                <a:latin typeface="方正隶二简体"/>
                <a:ea typeface="方正隶二简体"/>
              </a:rPr>
              <a:t>孟子</a:t>
            </a:r>
            <a:r>
              <a:rPr b="1" lang="zh-CN" sz="8000" spc="-1" strike="noStrike">
                <a:solidFill>
                  <a:srgbClr val="eaeaea"/>
                </a:solidFill>
                <a:latin typeface="宋体"/>
              </a:rPr>
              <a:t> 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29"/>
          <p:cNvSpPr/>
          <p:nvPr/>
        </p:nvSpPr>
        <p:spPr>
          <a:xfrm>
            <a:off x="6095880" y="388620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宋体"/>
              </a:rPr>
              <a:t>(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</a:rPr>
              <a:t>约前</a:t>
            </a:r>
            <a:r>
              <a:rPr b="0" lang="en-US" sz="4000" spc="-1" strike="noStrike">
                <a:solidFill>
                  <a:srgbClr val="ffffcc"/>
                </a:solidFill>
                <a:latin typeface="宋体"/>
              </a:rPr>
              <a:t>372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</a:rPr>
              <a:t>～   前</a:t>
            </a:r>
            <a:r>
              <a:rPr b="0" lang="en-US" sz="4000" spc="-1" strike="noStrike">
                <a:solidFill>
                  <a:srgbClr val="ffffcc"/>
                </a:solidFill>
                <a:latin typeface="宋体"/>
              </a:rPr>
              <a:t>289)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82720" y="6488280"/>
            <a:ext cx="5157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日记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作文人网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ww.zuowenren.com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绿色纯净 专注写作 科学引领 原创分享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E:\yu图片下载\孟 漫4.gif"/>
          <p:cNvPicPr/>
          <p:nvPr/>
        </p:nvPicPr>
        <p:blipFill>
          <a:blip r:embed="rId1"/>
          <a:srcRect l="0" t="0" r="0" b="52422"/>
          <a:stretch/>
        </p:blipFill>
        <p:spPr>
          <a:xfrm>
            <a:off x="228600" y="228600"/>
            <a:ext cx="86583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E:\yu图片下载\孟 漫4.gif"/>
          <p:cNvPicPr/>
          <p:nvPr/>
        </p:nvPicPr>
        <p:blipFill>
          <a:blip r:embed="rId1"/>
          <a:srcRect l="0" t="47180" r="0" b="0"/>
          <a:stretch/>
        </p:blipFill>
        <p:spPr>
          <a:xfrm>
            <a:off x="228600" y="220680"/>
            <a:ext cx="865836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E:\yu图片下载\孟 漫5.gif"/>
          <p:cNvPicPr/>
          <p:nvPr/>
        </p:nvPicPr>
        <p:blipFill>
          <a:blip r:embed="rId1"/>
          <a:srcRect l="0" t="0" r="0" b="36060"/>
          <a:stretch/>
        </p:blipFill>
        <p:spPr>
          <a:xfrm>
            <a:off x="228600" y="281160"/>
            <a:ext cx="86392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E:\yu图片下载\孟 漫5.gif"/>
          <p:cNvPicPr/>
          <p:nvPr/>
        </p:nvPicPr>
        <p:blipFill>
          <a:blip r:embed="rId1"/>
          <a:srcRect l="0" t="63429" r="0" b="0"/>
          <a:stretch/>
        </p:blipFill>
        <p:spPr>
          <a:xfrm>
            <a:off x="228600" y="228600"/>
            <a:ext cx="8639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E:\yu图片下载\孟 漫6.gif"/>
          <p:cNvPicPr/>
          <p:nvPr/>
        </p:nvPicPr>
        <p:blipFill>
          <a:blip r:embed="rId1"/>
          <a:srcRect l="0" t="0" r="0" b="37727"/>
          <a:stretch/>
        </p:blipFill>
        <p:spPr>
          <a:xfrm>
            <a:off x="228600" y="320760"/>
            <a:ext cx="866772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58000" y="5410080"/>
            <a:ext cx="16765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  <a:ea typeface="黑体"/>
              </a:rPr>
              <a:t>比较</a:t>
            </a:r>
            <a:r>
              <a:rPr b="0" lang="zh-CN" sz="6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14400" y="38088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ccff"/>
                </a:solidFill>
                <a:latin typeface="方正隶二简体"/>
                <a:ea typeface="方正隶二简体"/>
              </a:rPr>
              <a:t>孔子的</a:t>
            </a:r>
            <a:r>
              <a:rPr b="0" lang="zh-CN" sz="4800" spc="-1" strike="noStrike">
                <a:solidFill>
                  <a:srgbClr val="ccccff"/>
                </a:solidFill>
                <a:latin typeface="Times New Roman"/>
                <a:ea typeface="方正隶二简体"/>
              </a:rPr>
              <a:t>“</a:t>
            </a:r>
            <a:r>
              <a:rPr b="0" lang="zh-CN" sz="4800" spc="-1" strike="noStrike">
                <a:solidFill>
                  <a:srgbClr val="ccccff"/>
                </a:solidFill>
                <a:latin typeface="方正隶二简体"/>
                <a:ea typeface="方正隶二简体"/>
              </a:rPr>
              <a:t>德政</a:t>
            </a:r>
            <a:r>
              <a:rPr b="0" lang="zh-CN" sz="4800" spc="-1" strike="noStrike">
                <a:solidFill>
                  <a:srgbClr val="ccccff"/>
                </a:solidFill>
                <a:latin typeface="Times New Roman"/>
                <a:ea typeface="方正隶二简体"/>
              </a:rPr>
              <a:t>”</a:t>
            </a:r>
            <a:r>
              <a:rPr b="0" lang="zh-CN" sz="4800" spc="-1" strike="noStrike">
                <a:solidFill>
                  <a:srgbClr val="ccccff"/>
                </a:solidFill>
                <a:latin typeface="方正隶二简体"/>
                <a:ea typeface="方正隶二简体"/>
              </a:rPr>
              <a:t>          孟子的</a:t>
            </a:r>
            <a:r>
              <a:rPr b="0" lang="zh-CN" sz="4800" spc="-1" strike="noStrike">
                <a:solidFill>
                  <a:srgbClr val="ccccff"/>
                </a:solidFill>
                <a:latin typeface="Times New Roman"/>
                <a:ea typeface="方正隶二简体"/>
              </a:rPr>
              <a:t>“</a:t>
            </a:r>
            <a:r>
              <a:rPr b="0" lang="zh-CN" sz="4800" spc="-1" strike="noStrike">
                <a:solidFill>
                  <a:srgbClr val="ccccff"/>
                </a:solidFill>
                <a:latin typeface="方正隶二简体"/>
                <a:ea typeface="方正隶二简体"/>
              </a:rPr>
              <a:t>仁政</a:t>
            </a:r>
            <a:r>
              <a:rPr b="0" lang="zh-CN" sz="4800" spc="-1" strike="noStrike">
                <a:solidFill>
                  <a:srgbClr val="ccccff"/>
                </a:solidFill>
                <a:latin typeface="Times New Roman"/>
                <a:ea typeface="方正隶二简体"/>
              </a:rPr>
              <a:t>”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3520" y="1905120"/>
            <a:ext cx="830556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cc"/>
                </a:solidFill>
                <a:latin typeface="方正行楷简体"/>
                <a:ea typeface="方正行楷简体"/>
              </a:rPr>
              <a:t>同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：孔孟二人都反对武力征伐，提出富国安民的治国思想，并且都以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仁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为本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cc"/>
                </a:solidFill>
                <a:latin typeface="方正行楷简体"/>
                <a:ea typeface="方正行楷简体"/>
              </a:rPr>
              <a:t>异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：孔子的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德政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重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修文德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，以此作为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使远人来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的手段，孟子的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仁政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重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民养生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，以此使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天下之民至</a:t>
            </a:r>
            <a:r>
              <a:rPr b="0" lang="zh-CN" sz="3600" spc="-1" strike="noStrike">
                <a:solidFill>
                  <a:srgbClr val="ffff99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ffff99"/>
                </a:solidFill>
                <a:latin typeface="方正行楷简体"/>
                <a:ea typeface="方正行楷简体"/>
              </a:rPr>
              <a:t>。其进步之处在于更了解民众困苦，承认民众力量。</a:t>
            </a:r>
            <a:r>
              <a:rPr b="0" lang="zh-CN" sz="32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阿根廷,别为我哭.MP3" descr=""/>
          <p:cNvPicPr/>
          <p:nvPr/>
        </p:nvPicPr>
        <p:blipFill>
          <a:blip r:embed="rId1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09480" y="380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ff"/>
                </a:solidFill>
                <a:latin typeface="方正魏碑简体"/>
                <a:ea typeface="方正魏碑简体"/>
              </a:rPr>
              <a:t>《</a:t>
            </a:r>
            <a:r>
              <a:rPr b="1" lang="zh-CN" sz="5400" spc="-1" strike="noStrike">
                <a:solidFill>
                  <a:srgbClr val="66ffff"/>
                </a:solidFill>
                <a:latin typeface="方正魏碑简体"/>
                <a:ea typeface="方正魏碑简体"/>
              </a:rPr>
              <a:t>孟子</a:t>
            </a:r>
            <a:r>
              <a:rPr b="1" lang="en-US" sz="5400" spc="-1" strike="noStrike">
                <a:solidFill>
                  <a:srgbClr val="66ffff"/>
                </a:solidFill>
                <a:latin typeface="方正魏碑简体"/>
                <a:ea typeface="方正魏碑简体"/>
              </a:rPr>
              <a:t>》</a:t>
            </a:r>
            <a:r>
              <a:rPr b="1" lang="zh-CN" sz="5400" spc="-1" strike="noStrike">
                <a:solidFill>
                  <a:srgbClr val="66ffff"/>
                </a:solidFill>
                <a:latin typeface="方正魏碑简体"/>
                <a:ea typeface="方正魏碑简体"/>
              </a:rPr>
              <a:t>风格</a:t>
            </a:r>
            <a:r>
              <a:rPr b="1" lang="zh-CN" sz="5400" spc="-1" strike="noStrike">
                <a:solidFill>
                  <a:srgbClr val="eaeaea"/>
                </a:solidFill>
                <a:latin typeface="方正魏碑简体"/>
                <a:ea typeface="方正魏碑简体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04920" y="12952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孟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的犀利、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庄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的恣肆、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荀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的浑厚和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韩非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的峻峭，被称为先秦散文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四大台柱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。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孟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风格：其一长于思辨。诱导启发，争取主动，论辩跌宕生姿。其二善为设譬。东汉赵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孟子题辞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中说：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孟子长于譬喻，辞不迫切，而意已独至。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《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孟子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》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全书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261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章，其中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93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章总共使用比喻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159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种。本文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五十步笑百步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明白晓畅，喻意深刻。其三结构严谨。本文</a:t>
            </a:r>
            <a:r>
              <a:rPr b="0" lang="en-US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个部分末尾分别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寡人之民不加多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则无望民之多于邻国也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“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斯天下之民至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方正行楷简体"/>
              </a:rPr>
              <a:t>”</a:t>
            </a:r>
            <a:r>
              <a:rPr b="0" lang="zh-CN" sz="2800" spc="-1" strike="noStrike">
                <a:solidFill>
                  <a:srgbClr val="ffffcc"/>
                </a:solidFill>
                <a:latin typeface="方正行楷简体"/>
                <a:ea typeface="方正行楷简体"/>
              </a:rPr>
              <a:t>，既对各部分内容画龙点睛，又强化了各部分之间的内在联系，使文章层层深入，环环相扣浑然一体，凸显出孟子论辩的雄浑、缜密、深沉的特质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685800" y="53352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</a:rPr>
              <a:t>附：译文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533520" y="1676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  <a:ea typeface="方正行楷简体"/>
              </a:rPr>
              <a:t>梁惠王说：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  <a:ea typeface="方正行楷简体"/>
              </a:rPr>
              <a:t>我对国家的治理，很尽心竭力的吧！黄河以南发生灾荒，就把那里的灾民移往黄河以东，把河东的粮食运到河南。当河东发生灾荒的时候，我也是这样做的。看看邻国的君主主办政事，没有想我这样尽心尽力的。可是，邻国的百姓并不见减少，而我的百姓并不见增多，这是什么原因呢？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09480" y="4572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    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孟子回答道：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大王您喜欢打仗，就 让我用打仗来打比方吧。战鼓咚咚敲响，交战激烈了，战败的士兵丢盔弃甲拖着武器逃跑，有的跑了上百步才停下，有的跑了五十步就停了脚。跑了五十步的人因此就去讥笑跑了一百步的人，您觉得行不行呢？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梁惠王说：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不行。他只不过没有逃跑到一百步罢了，可是这也同样是逃跑呀！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孟子说：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大王您既然懂得这个道理，就不必去期望您的国家的民众比邻国增多啦。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38080" y="1295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      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只要不违背农时，那粮食就吃不完；密孔的鱼网不入池塘，那鱼鳖水产就吃不完；砍伐林木有定时，那木材便用不尽。粮食和鱼类吃不完，木材用无尽，这样便使老百姓供养活人，安葬死人不至于感到有什么不满足。老百姓养生送死没有缺憾，这正是王道的开始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:\yu图片下载\孟子.jpg"/>
          <p:cNvPicPr/>
          <p:nvPr/>
        </p:nvPicPr>
        <p:blipFill>
          <a:blip r:embed="rId1"/>
          <a:stretch/>
        </p:blipFill>
        <p:spPr>
          <a:xfrm>
            <a:off x="1295280" y="3657600"/>
            <a:ext cx="7620120" cy="2971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E:\yu图片下载\孟子2.jpg"/>
          <p:cNvPicPr/>
          <p:nvPr/>
        </p:nvPicPr>
        <p:blipFill>
          <a:blip r:embed="rId2"/>
          <a:stretch/>
        </p:blipFill>
        <p:spPr>
          <a:xfrm>
            <a:off x="228600" y="228600"/>
            <a:ext cx="563868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57200" y="3886200"/>
            <a:ext cx="609480" cy="25318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Times New Roman"/>
              </a:rPr>
              <a:t>孟母教子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6" descr="E:\yu图片下载\孟子书.jpg"/>
          <p:cNvPicPr/>
          <p:nvPr/>
        </p:nvPicPr>
        <p:blipFill>
          <a:blip r:embed="rId3"/>
          <a:stretch/>
        </p:blipFill>
        <p:spPr>
          <a:xfrm>
            <a:off x="5791320" y="22860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0"/>
          <p:cNvSpPr/>
          <p:nvPr/>
        </p:nvSpPr>
        <p:spPr>
          <a:xfrm>
            <a:off x="882720" y="6488280"/>
            <a:ext cx="5157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日记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作文人网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ww.zuowenren.com </a:t>
            </a:r>
            <a:r>
              <a:rPr b="0" lang="zh-CN" sz="1600" spc="-1" strike="noStrike">
                <a:solidFill>
                  <a:srgbClr val="eaeaea"/>
                </a:solidFill>
                <a:latin typeface="Arial"/>
              </a:rPr>
              <a:t>绿色纯净 专注写作 科学引领 原创分享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04920" y="457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在五亩大的住宅田旁，种上桑树，上了五十岁的人就可以穿着丝绸了；鸡鸭猪狗不失时节地繁殖饲养，上了七十岁的人就可以经常吃到肉食了。一家一户所种百亩的田地不误农时得到耕种，数口之家就不会闹灾荒了。注重乡校的教育，强调孝敬长辈的道理，须发花白的老人们就不再会肩挑头顶，出现在道路上了。年满七十岁的人能穿上丝绸、吃上鱼肉，老百姓不缺衣少食，做到了这些而不称王于天下，是决不会有的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09480" y="99072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  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“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现在，猪狗吃的是人吃的食物而不知道设法制止，  路上出现饿死的人而不知道赈济饥民， 人死了反而说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‘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与我无关，是年成不好的缘故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’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这和把人杀了反而说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‘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与我无干，是兵器杀的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’</a:t>
            </a:r>
            <a:r>
              <a:rPr b="0" lang="zh-CN" sz="3600" spc="-1" strike="noStrike">
                <a:solidFill>
                  <a:srgbClr val="eaeaea"/>
                </a:solidFill>
                <a:latin typeface="方正行楷简体"/>
                <a:ea typeface="方正行楷简体"/>
              </a:rPr>
              <a:t>又有什么不同呢？  大王您要能够不归罪于荒年，  这样，普天下的百姓便会都到您这儿来了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方正行楷简体"/>
              </a:rPr>
              <a:t>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E:\课件大师\素材2\历史语文\图片\LSB026.BMP"/>
          <p:cNvPicPr/>
          <p:nvPr/>
        </p:nvPicPr>
        <p:blipFill>
          <a:blip r:embed="rId1"/>
          <a:stretch/>
        </p:blipFill>
        <p:spPr>
          <a:xfrm>
            <a:off x="228600" y="281160"/>
            <a:ext cx="8686800" cy="63482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533520" y="54864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制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ube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5800" y="609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66"/>
                </a:solidFill>
                <a:latin typeface="Times New Roman"/>
                <a:ea typeface="黑体"/>
              </a:rPr>
              <a:t>教学要求</a:t>
            </a:r>
            <a:r>
              <a:rPr b="0" lang="zh-CN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685800" y="2057400"/>
            <a:ext cx="8229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宋体"/>
              </a:rPr>
              <a:t>①</a:t>
            </a: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体会孟子议论的思辩色彩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②</a:t>
            </a: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了解孟子的</a:t>
            </a:r>
            <a:r>
              <a:rPr b="0" lang="zh-CN" sz="48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仁政</a:t>
            </a:r>
            <a:r>
              <a:rPr b="0" lang="zh-CN" sz="4800" spc="-1" strike="noStrike">
                <a:solidFill>
                  <a:srgbClr val="ccecff"/>
                </a:solidFill>
                <a:latin typeface="Times New Roman"/>
              </a:rPr>
              <a:t>”</a:t>
            </a: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思想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③</a:t>
            </a:r>
            <a:r>
              <a:rPr b="0" lang="zh-CN" sz="4800" spc="-1" strike="noStrike">
                <a:solidFill>
                  <a:srgbClr val="ccecff"/>
                </a:solidFill>
                <a:latin typeface="宋体"/>
              </a:rPr>
              <a:t>积累文中文言实词和句式。</a:t>
            </a:r>
            <a:r>
              <a:rPr b="0" lang="zh-CN" sz="4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7" descr="E:\课件大师\素材\GIF动画插件2\GIF-396.GIF"/>
          <p:cNvPicPr/>
          <p:nvPr/>
        </p:nvPicPr>
        <p:blipFill>
          <a:blip r:embed="rId1"/>
          <a:stretch/>
        </p:blipFill>
        <p:spPr>
          <a:xfrm>
            <a:off x="1676520" y="6095880"/>
            <a:ext cx="5790960" cy="162000"/>
          </a:xfrm>
          <a:prstGeom prst="rect">
            <a:avLst/>
          </a:prstGeom>
          <a:ln w="0">
            <a:noFill/>
          </a:ln>
        </p:spPr>
      </p:pic>
      <p:pic>
        <p:nvPicPr>
          <p:cNvPr id="118" name="阿根廷,别为我哭.MP3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200" y="142704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孟子</a:t>
            </a: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约前</a:t>
            </a: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372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～前</a:t>
            </a: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289)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，名轲，邹</a:t>
            </a: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今山东邹城市</a:t>
            </a:r>
            <a:r>
              <a:rPr b="1" lang="en-US" sz="2800" spc="-1" strike="noStrike">
                <a:solidFill>
                  <a:srgbClr val="ffff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人。战国时期的思想家，继孔子之后的儒学大家。相传孟子是鲁国贵族孟孙氏的后裔， 幼年丧父，家庭贫困，曾受业于子思（孔子孙）的学生。 孟子继承了孔子仁的思想和天命思想，发展为仁政学说。孟子十分重视民心的向背，主张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民为贵，社稷次之，君为轻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。孟子提出了人性本善的思想， 认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人皆有不忍之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，他把道德规范概括为四种，即：仁、义、礼、智。孟子十分重视道德修养， 士应该做到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富贵不能淫，贫贱不能移，威武不能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62120" y="533520"/>
            <a:ext cx="3809880" cy="70344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方正魏碑简体"/>
                <a:ea typeface="方正魏碑简体"/>
              </a:rPr>
              <a:t>孟子与他的思想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609480" y="20970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是先秦诸子杰出的散文著作，内容包括孟子的政治学说、政治活动、哲学思想和个性修养。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与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论语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同是语录体散文，与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论语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相比，它篇幅较长，内容也更具体，描绘也更细致。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孟子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语言犀利酣畅，感情洋溢饱满，说理深刻透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066680" y="6858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方正隶二简体"/>
                <a:ea typeface="方正隶二简体"/>
              </a:rPr>
              <a:t>《</a:t>
            </a:r>
            <a:r>
              <a:rPr b="0" lang="zh-CN" sz="6000" spc="-1" strike="noStrike">
                <a:solidFill>
                  <a:srgbClr val="ccffff"/>
                </a:solidFill>
                <a:latin typeface="方正隶二简体"/>
                <a:ea typeface="方正隶二简体"/>
              </a:rPr>
              <a:t>孟子</a:t>
            </a:r>
            <a:r>
              <a:rPr b="0" lang="en-US" sz="6000" spc="-1" strike="noStrike">
                <a:solidFill>
                  <a:srgbClr val="ccffff"/>
                </a:solidFill>
                <a:latin typeface="方正隶二简体"/>
                <a:ea typeface="方正隶二简体"/>
              </a:rPr>
              <a:t>》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yu图片下载\孟漫1.gif"/>
          <p:cNvPicPr/>
          <p:nvPr/>
        </p:nvPicPr>
        <p:blipFill>
          <a:blip r:embed="rId1"/>
          <a:srcRect l="0" t="0" r="0" b="3629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E:\yu图片下载\孟漫1.gif"/>
          <p:cNvPicPr/>
          <p:nvPr/>
        </p:nvPicPr>
        <p:blipFill>
          <a:blip r:embed="rId1"/>
          <a:srcRect l="0" t="63946" r="0" b="0"/>
          <a:stretch/>
        </p:blipFill>
        <p:spPr>
          <a:xfrm>
            <a:off x="228600" y="304920"/>
            <a:ext cx="8686800" cy="32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E:\yu图片下载\孟 漫2.gif"/>
          <p:cNvPicPr/>
          <p:nvPr/>
        </p:nvPicPr>
        <p:blipFill>
          <a:blip r:embed="rId2"/>
          <a:srcRect l="0" t="0" r="0" b="64140"/>
          <a:stretch/>
        </p:blipFill>
        <p:spPr>
          <a:xfrm>
            <a:off x="228600" y="3429000"/>
            <a:ext cx="86868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685800" y="5335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ff"/>
                </a:solidFill>
                <a:latin typeface="Times New Roman"/>
              </a:rPr>
              <a:t>字词①</a:t>
            </a:r>
            <a:r>
              <a:rPr b="0" lang="zh-CN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67652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好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hào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战：喜好征战。                    数罟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ùgǔ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：密网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弃甲曳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兵：丢弃铠甲，倒拖兵器逃跑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洿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ū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池：池塘。                  衣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ì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帛：穿上丝帛衣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鸡豚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ún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狗彘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zhì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：豚，小猪；彘，猪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畜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ù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：畜养。               孝悌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ì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：尊敬父母礼敬兄长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庠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iáng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序：学校，殷时叫序，周时叫庠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颁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bān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白：（头发）斑白。    饿莩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iǎo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：饿死的人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阿根廷,别为我哭.MP3" descr=""/>
          <p:cNvPicPr/>
          <p:nvPr/>
        </p:nvPicPr>
        <p:blipFill>
          <a:blip r:embed="rId1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03:16:06Z</dcterms:created>
  <dc:creator>默认用户</dc:creator>
  <dc:description/>
  <dc:language>en-US</dc:language>
  <cp:lastModifiedBy>888</cp:lastModifiedBy>
  <dcterms:modified xsi:type="dcterms:W3CDTF">2014-09-19T13:50:55Z</dcterms:modified>
  <cp:revision>66</cp:revision>
  <dc:subject/>
  <dc:title>PowerPoint 演示文稿</dc:title>
</cp:coreProperties>
</file>