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camera.wav" ContentType="audio/x-wav"/>
  <Override PartName="/ppt/media/image7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291-D3AF-4909-91EE-2075C955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AA7-8CF4-4977-986F-97053FD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5EA-37C1-4B22-8761-95A897D5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C6C-4174-455B-A9CD-9F2EE5B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A68-24DA-421C-82A6-311626E6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220-FC89-47F9-AEFD-34DC7FEE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3AA-F6AB-44DF-8F69-3F4E230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FFB-8DA8-422A-B4B2-D32208E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C2A3-EE96-424C-8598-C9D4DB8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AD5-69B8-4CDF-BA0B-B82F991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3CD-0732-48EF-9C54-FB9A4F7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ECC-E524-4F22-8C0F-4EEF95B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A4F5-6EC1-43D6-8A1F-7CD6E8B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8014-5D64-46BA-A64C-24364A2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5B4-FB17-475D-A1A9-E00F2816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3401-0ECD-4252-B5D2-CF8418CA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07A-6176-436F-9E0F-D0FF0AD0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1BC-BE85-43A0-9CC6-D5D5CDC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C53-1312-4BBD-A243-A535FEB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85B-F757-4261-BA8E-9B4DA1DC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2F2-773A-447D-87C1-0658B1F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018-896D-404C-812A-81F3729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ABE-079F-4D37-AB32-CB225F9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96F-86F2-4C9E-9AEA-A95A10B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EEE0-2F41-4B3B-BA8A-E8EFC80D0CD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1989-706D-432D-976D-B6E42C31A19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3139" t="36546" r="58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228600"/>
            <a:ext cx="44830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观沧海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曹 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诗人观看到什么景色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这些景色又有什么特点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1447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28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228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1066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905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1828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3657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04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澹澹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14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丛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丰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萧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828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涌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819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若出其中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若出其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228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竦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97180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33"/>
                </a:lnTo>
                <a:cubicBezTo>
                  <a:pt x="10800" y="10333"/>
                  <a:pt x="16200" y="11233"/>
                  <a:pt x="21600" y="11233"/>
                </a:cubicBezTo>
                <a:cubicBezTo>
                  <a:pt x="16200" y="11233"/>
                  <a:pt x="10800" y="12133"/>
                  <a:pt x="10800" y="130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457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33"/>
                </a:lnTo>
                <a:cubicBezTo>
                  <a:pt x="10800" y="10333"/>
                  <a:pt x="16200" y="11233"/>
                  <a:pt x="21600" y="11233"/>
                </a:cubicBezTo>
                <a:cubicBezTo>
                  <a:pt x="16200" y="11233"/>
                  <a:pt x="10800" y="12133"/>
                  <a:pt x="10800" y="130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3352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虚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762120"/>
            <a:ext cx="99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80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苍芒动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1135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欣欣向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波澜壮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58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统领全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、作者描写了哪些景物？其中哪些是实景，哪些是想像之景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193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海水、山岛、草木、秋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洪波、日月星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诗中哪些诗句最能体现作者博大的胸怀？全诗表达了诗人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60020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7524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日月之行，若出其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星汉灿烂，若出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诗人勾画了大海吞吐日月、包蕴万千的壮丽景象，表现了诗人开阔的胸襟，抒发了统一中国、建功立业的远大抱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为何最后要加上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幸甚至哉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以咏志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府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来是可以歌唱的，诗的最后两句是合乐时加上的，是诗的附文，跟诗的内容没有联系，但不能缺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小结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21932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这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府诗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表现了诗人博大的胸怀，奋发昂扬的精神。抒发了统一中国，建功立业的宏伟抱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42900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首诗意境开阔，气势雄浑，这与一个雄心勃勃的政治家和军事家的风度是一致的，真是读其诗如见其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52280"/>
            <a:ext cx="9144000" cy="3324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阅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观沧海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回答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试对“日月之行，若出其中，星汉灿烂，若出其里。”两句作简要赏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答案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描绘大海吞吐日月、包容星汉的壮阔景象，表现诗人开阔的胸怀和宏大的抱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诗中描写的沧海景色有什么特点？通过写景表现诗人怎样的心态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答案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人眼中的沧海波澜壮阔、生机勃勃，映衬出诗人雄心勃勃、渴望建功立业的积极向上的心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838080"/>
            <a:ext cx="7620120" cy="2239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分析“日月之行，若出其中；星汉灿烂，若出其里”所表现的意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答案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四句是诗人奇特的想象，描写了大海吞吐日月、包容星汉的壮阔景象，使我们从中领略到诗人开阔的胸怀和远大的抱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41440" y="1557360"/>
            <a:ext cx="79182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观沧海》一诗选自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者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字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政治家、军事家、诗人。他与其子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“三曹”。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76720" y="1484280"/>
            <a:ext cx="261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乐府诗集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5840" y="2060640"/>
            <a:ext cx="938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2060640"/>
            <a:ext cx="1008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2060640"/>
            <a:ext cx="1728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末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56320" y="2511360"/>
            <a:ext cx="938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41880" y="2511360"/>
            <a:ext cx="1008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04920"/>
            <a:ext cx="3665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复习检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0280" y="3981600"/>
            <a:ext cx="7702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观沧海》一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的体裁看，它是一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体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；从表达方式看，它是一首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    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写景诗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抒情诗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1840" y="434664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乐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86400" y="443880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四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8680" y="480708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感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5600" y="0"/>
            <a:ext cx="2641680" cy="180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0280" y="186696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观沧海》诗中最能反映作者的博大胸襟的诗句是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9560" y="3705120"/>
            <a:ext cx="827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《观沧海》一诗以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字统领全篇，先写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然后写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借景抒情，表现了诗人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94080" y="3611520"/>
            <a:ext cx="397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10800000">
            <a:off x="990360" y="4071960"/>
            <a:ext cx="539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4071960"/>
            <a:ext cx="397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74680" y="4530600"/>
            <a:ext cx="484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宽广的胸怀和豪迈的气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440" y="4724280"/>
            <a:ext cx="8421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87600" y="2235240"/>
            <a:ext cx="2103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日月之行，若出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星汉灿烂，若出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35280" cy="1866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48000" y="228600"/>
            <a:ext cx="57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曹操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即魏武帝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东汉末年政治家、军事家、诗人。字孟德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沛国谯县（今安徽亳市）人。善诗歌，其诗大都抒发自己的政治抱负，并反映汉末人民的苦难生活，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宋体"/>
                <a:ea typeface="黑体"/>
              </a:rPr>
              <a:t>气魄雄伟，慷慨悲凉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散文亦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隶书"/>
                <a:ea typeface="黑体"/>
              </a:rPr>
              <a:t>清峻整洁。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黑体"/>
              </a:rPr>
              <a:t>与其子曹丕、曹植合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黑体"/>
              </a:rPr>
              <a:t>“三曹”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5000" y="4343400"/>
          <a:ext cx="34290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343400"/>
                    <a:ext cx="3429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228600"/>
            <a:ext cx="4572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曹操，字孟德，东汉末年政治家、军事家、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3880" y="1981080"/>
            <a:ext cx="3124080" cy="990720"/>
            <a:chOff x="1523880" y="1981080"/>
            <a:chExt cx="3124080" cy="990720"/>
          </a:xfrm>
        </p:grpSpPr>
        <p:sp>
          <p:nvSpPr>
            <p:cNvPr id="102" name=""/>
            <p:cNvSpPr/>
            <p:nvPr/>
          </p:nvSpPr>
          <p:spPr>
            <a:xfrm>
              <a:off x="1523880" y="1981080"/>
              <a:ext cx="2994120" cy="990720"/>
            </a:xfrm>
            <a:custGeom>
              <a:avLst/>
              <a:gdLst>
                <a:gd name="textAreaLeft" fmla="*/ 748440 w 2994120"/>
                <a:gd name="textAreaRight" fmla="*/ 2245680 w 2994120"/>
                <a:gd name="textAreaTop" fmla="*/ 29160 h 990720"/>
                <a:gd name="textAreaBottom" fmla="*/ 7430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4760" y="2096280"/>
              <a:ext cx="247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ahoma"/>
                  <a:ea typeface="华文新魏"/>
                </a:rPr>
                <a:t>写作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0" y="3124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《观沧海》是曹操的名篇，选自《乐府诗集》，是乐府诗《步出夏门行》中的第一章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他北征乌桓时所作。公元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0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，曹操亲率大军北上，追歼袁绍残部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五月誓师北伐，七月出卢龙寨，临碣石山。他跃马扬鞭，登山观海，面对洪波涌起的大海，触景生情，写下了这首壮丽的诗篇，透过它，我们可以看到诗人自己的胸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62720" y="152280"/>
            <a:ext cx="2529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066680"/>
            <a:ext cx="58672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东临碣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澹澹， 山岛竦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树木丛生， 百草丰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风萧瑟， 洪波涌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行， 若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星汉灿烂， 若出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幸甚至哉， 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咏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6553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5320" y="167580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609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15573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ǒng z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562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ā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585324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990720"/>
            <a:ext cx="3200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连词，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3276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何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副词，多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14600"/>
            <a:ext cx="32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之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结构助词，取消句子的独立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267080"/>
            <a:ext cx="3505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代词，指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5943600"/>
            <a:ext cx="3352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介词，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08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029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掌握字 音、字义，扫除阅读障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2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10666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东临／碣石，以观／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向东登上碣石山，来观赏大海的奇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何／澹澹，山岛／竦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水波涛激荡，海中山岛罗列，高耸挺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3276720"/>
            <a:ext cx="914400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树木／丛生，百草／丰茂。</a:t>
            </a:r>
            <a:r>
              <a:rPr b="1" lang="zh-CN" sz="3200" spc="-1" strike="noStrike">
                <a:solidFill>
                  <a:srgbClr val="d9d8e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站在山巅，心中的波涛也像海浪在起伏。周围是葱茏的树木，丰茂的花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秋风／萧瑟，洪波／涌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5668920"/>
            <a:ext cx="914400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萧瑟的风声传来了，海上掀起巨浪，在翻卷，在呼啸，（似要将宇宙吞没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87840" y="216000"/>
            <a:ext cx="17978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内 容 分 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　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月／之行，若出／其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（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海，多么博大的胸怀啊）日月的升降起落，好像出自大海的胸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　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星汉／灿烂，若出／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银河里的灿烂群星，也像从大海的怀抱中涌现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　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幸甚／至哉，歌以／咏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黑体"/>
                <a:ea typeface="黑体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啊，庆幸得很，美好无比，让我们尽情歌唱，畅抒心中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49400" y="4937040"/>
            <a:ext cx="89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华文行楷"/>
              </a:rPr>
              <a:t>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50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9900"/>
                </a:solidFill>
                <a:uFillTx/>
                <a:latin typeface="Times New Roman"/>
              </a:rPr>
              <a:t>诗歌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484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叙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51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88960" y="1066680"/>
            <a:ext cx="14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东临碣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以观沧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46160" y="249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1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诗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5468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96040" y="1200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观海地点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6800" y="186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水何</a:t>
            </a:r>
            <a:r>
              <a:rPr b="1" lang="zh-CN" sz="2400" spc="-1" strike="noStrike" u="sng">
                <a:solidFill>
                  <a:srgbClr val="cc0099"/>
                </a:solidFill>
                <a:uFillTx/>
                <a:latin typeface="Times New Roman"/>
              </a:rPr>
              <a:t>澹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15400" y="1828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总写大海景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6320" y="2286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总写山岛景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680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山岛竦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树木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94680" y="28195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特写山岛之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突出欣欣向荣景象</a:t>
            </a:r>
            <a:r>
              <a:rPr b="1" lang="en-US" sz="2400" spc="-1" strike="noStrike">
                <a:solidFill>
                  <a:srgbClr val="d9d8e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7908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秋风萧瑟 洪波涌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9480" y="3790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特写海面之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突出惊涛拍岸景象</a:t>
            </a:r>
            <a:r>
              <a:rPr b="1" lang="en-US" sz="2400" spc="-1" strike="noStrike">
                <a:solidFill>
                  <a:srgbClr val="d9d8e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40960" y="322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百草</a:t>
            </a:r>
            <a:r>
              <a:rPr b="1" lang="zh-CN" sz="2400" spc="-1" strike="noStrike" u="sng">
                <a:solidFill>
                  <a:srgbClr val="cc0099"/>
                </a:solidFill>
                <a:uFillTx/>
                <a:latin typeface="Times New Roman"/>
              </a:rPr>
              <a:t>丰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5480" y="4724280"/>
            <a:ext cx="9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日月之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若出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星汉灿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若出其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1036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开阔胸襟，一统中国的抱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4000" y="47242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想象之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突出大海吞吐日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包蕴万千的景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08160" y="11430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兴味盎然，胜券在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0040" y="18493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动荡变化的时局需要一个主宰沉浮的伟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44640" y="2819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勃勃生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乐观情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8098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席卷宇内，荡平诸侯。惊天动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21932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76200" y="205740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52520" y="4800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1320" y="49914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虚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6480" y="3079800"/>
            <a:ext cx="911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实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240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6000" y="38325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写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1143000"/>
            <a:ext cx="190800" cy="609480"/>
          </a:xfrm>
          <a:custGeom>
            <a:avLst/>
            <a:gdLst>
              <a:gd name="textAreaLeft" fmla="*/ 0 w 190800"/>
              <a:gd name="textAreaRight" fmla="*/ 68760 w 1908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4560" y="2895480"/>
            <a:ext cx="152640" cy="60984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25"/>
                </a:lnTo>
                <a:cubicBezTo>
                  <a:pt x="10800" y="9225"/>
                  <a:pt x="16200" y="10125"/>
                  <a:pt x="21600" y="10125"/>
                </a:cubicBezTo>
                <a:cubicBezTo>
                  <a:pt x="16200" y="10125"/>
                  <a:pt x="10800" y="11025"/>
                  <a:pt x="10800" y="119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88620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25"/>
                </a:lnTo>
                <a:cubicBezTo>
                  <a:pt x="10800" y="9225"/>
                  <a:pt x="16200" y="10125"/>
                  <a:pt x="21600" y="10125"/>
                </a:cubicBezTo>
                <a:cubicBezTo>
                  <a:pt x="16200" y="10125"/>
                  <a:pt x="10800" y="11025"/>
                  <a:pt x="10800" y="119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8769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25"/>
                </a:lnTo>
                <a:cubicBezTo>
                  <a:pt x="10800" y="9225"/>
                  <a:pt x="16200" y="10125"/>
                  <a:pt x="21600" y="10125"/>
                </a:cubicBezTo>
                <a:cubicBezTo>
                  <a:pt x="16200" y="10125"/>
                  <a:pt x="10800" y="11025"/>
                  <a:pt x="10800" y="1192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08240" y="79704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这首诗写了几层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41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52388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层（开头两句）：交代观海的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209680"/>
            <a:ext cx="62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层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----8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句）：描写海水与山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09720" y="272088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层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9---1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句）：表现大海吞吐日月星辰的气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6560" y="364500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最后两句是附文，是为和乐而加，与诗的内容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47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1680" y="42958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67ff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767ff"/>
                </a:solidFill>
                <a:latin typeface="Times New Roman"/>
                <a:ea typeface="华文新魏"/>
              </a:rPr>
              <a:t>、全诗是以哪个字展开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105520"/>
            <a:ext cx="94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全诗以“观”字统领全篇，以下由“观”字展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9132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写登山所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2133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（实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30686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（想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856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5867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头两句交代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1337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点—碣石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;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目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-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独立训练   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5-10-27T11:51:2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