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2AE3-E7DE-4842-96F3-0B27CF01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CEB-4FF3-4481-B624-04DEE573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ACB-3B1E-449C-97E5-D83AE6C0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9A1-1394-4DA5-A396-30764D15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069-82E7-409F-ACD6-CAB86C0A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751-3AC6-41BD-92EE-70699CFB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E68-0F46-472F-9A77-5D0DAF3E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747-11ED-4BF7-93E0-FC0A54AF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9F8-4FA3-45D3-BADF-E5CFB54C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A6E-A5C9-4DF8-AC5D-9CE98E18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C5B-A620-4691-9DF9-97400EB0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B80-BBEF-4C9D-8250-3890A9F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6F7E-A799-4D57-806D-07A407D527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一线潮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8120" y="190512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观潮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800280" y="9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978280" y="98280"/>
            <a:ext cx="4786200" cy="4010040"/>
            <a:chOff x="2978280" y="98280"/>
            <a:chExt cx="4786200" cy="4010040"/>
          </a:xfrm>
        </p:grpSpPr>
        <p:sp>
          <p:nvSpPr>
            <p:cNvPr id="45" name=""/>
            <p:cNvSpPr/>
            <p:nvPr/>
          </p:nvSpPr>
          <p:spPr>
            <a:xfrm>
              <a:off x="2978280" y="98280"/>
              <a:ext cx="4786200" cy="40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8280" y="9828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09480" y="5791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00208280477_196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56760" y="914400"/>
            <a:ext cx="456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浪潮越来越近，犹如千万匹白色战马齐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进，浩浩荡荡地飞奔而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声音如同山崩地裂，好像大地都被震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颤动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200208280477_196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16960" y="152388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浪潮越来越近，犹如千万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白色战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齐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进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浩浩荡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飞奔而来。那声音如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崩地裂，好像大地都被震得颤动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034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84640" y="1119240"/>
            <a:ext cx="423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从远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传来隆隆的响声，好象闷雷滚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了一会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响声越来越大，只见东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天相接的地方出现了一条白线，那条白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快向我们移来，逐渐拉长，变粗，横贯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。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近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只见白浪翻滚，形成一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六七米高的白色城墙。浪潮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越来越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犹如千万匹白色战马齐头并进，浩浩荡荡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飞奔而来。那声音如同山崩地裂，好像大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被震得颤动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034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84640" y="1119240"/>
            <a:ext cx="423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从远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传来隆隆的响声，好象闷雷滚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了一会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响声越来越大，只见东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天相接的地方出现了一条白线，那条白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快向我们移来，逐渐拉长，变粗，横贯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。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再近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只见白浪翻滚，形成一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六七米高的白色城墙。浪潮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越来越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犹如千万匹白色战马齐头并进，浩浩荡荡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飞奔而来。那声音如同山崩地裂，好像大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被震得颤动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38280" y="2819520"/>
            <a:ext cx="2530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29718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9200" y="91440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午后一点左右，从远处传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隆隆的响声，好像闷雷滚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83808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了一会儿，响声越来越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见东边水天相接的地方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了一条白线，人群又沸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起来。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495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近些，只见白浪翻滚，形成一道六七米高的白色城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25146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浪潮越来越近，犹如千万匹白色战马齐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进，浩浩荡荡地飞奔而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声音如同山崩地裂，好像大地都被震得颤动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p0404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08120" y="121932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午后一点左右，从远处传来隆隆的响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好像闷雷滚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p0404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81000" y="1219320"/>
            <a:ext cx="184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午后一点左右，从远处传来隆隆的响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好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闷雷滚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p0404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1219320"/>
            <a:ext cx="752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了一会儿，响声越来越大，只见东边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相接的地方出现了一条白线，人群又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腾起来。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482760"/>
            <a:ext cx="9144000" cy="5894280"/>
            <a:chOff x="0" y="482760"/>
            <a:chExt cx="9144000" cy="5894280"/>
          </a:xfrm>
        </p:grpSpPr>
        <p:sp>
          <p:nvSpPr>
            <p:cNvPr id="64" name=""/>
            <p:cNvSpPr/>
            <p:nvPr/>
          </p:nvSpPr>
          <p:spPr>
            <a:xfrm>
              <a:off x="0" y="482760"/>
              <a:ext cx="6786720" cy="58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0" y="482760"/>
              <a:ext cx="9144000" cy="3109680"/>
              <a:chOff x="0" y="482760"/>
              <a:chExt cx="9144000" cy="3109680"/>
            </a:xfrm>
          </p:grpSpPr>
          <p:sp>
            <p:nvSpPr>
              <p:cNvPr id="66" name=""/>
              <p:cNvSpPr/>
              <p:nvPr/>
            </p:nvSpPr>
            <p:spPr>
              <a:xfrm>
                <a:off x="0" y="482760"/>
                <a:ext cx="9144000" cy="89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4827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0" y="482760"/>
                <a:ext cx="9144000" cy="3109680"/>
                <a:chOff x="0" y="482760"/>
                <a:chExt cx="9144000" cy="31096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0" y="4827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0" y="482760"/>
                  <a:ext cx="9144000" cy="31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8000"/>
                      </a:solidFill>
                      <a:latin typeface="Times New Roman"/>
                    </a:rPr>
                    <a:t>  </a:t>
                  </a:r>
                  <a:r>
                    <a:rPr b="0" lang="zh-CN" sz="18800" spc="-1" strike="noStrike">
                      <a:solidFill>
                        <a:srgbClr val="008000"/>
                      </a:solidFill>
                      <a:latin typeface="Times New Roman"/>
                    </a:rPr>
                    <a:t> </a:t>
                  </a:r>
                  <a:r>
                    <a:rPr b="0" lang="zh-CN" sz="1000" spc="-1" strike="noStrike">
                      <a:solidFill>
                        <a:srgbClr val="008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1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p0404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1219320"/>
            <a:ext cx="752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了一会儿，响声越来越大，只见东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天相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地方出现了一条白线，人群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来。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482760"/>
            <a:ext cx="9144000" cy="5894280"/>
            <a:chOff x="0" y="482760"/>
            <a:chExt cx="9144000" cy="5894280"/>
          </a:xfrm>
        </p:grpSpPr>
        <p:sp>
          <p:nvSpPr>
            <p:cNvPr id="76" name=""/>
            <p:cNvSpPr/>
            <p:nvPr/>
          </p:nvSpPr>
          <p:spPr>
            <a:xfrm>
              <a:off x="0" y="482760"/>
              <a:ext cx="6786720" cy="58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0" y="482760"/>
              <a:ext cx="9144000" cy="3109680"/>
              <a:chOff x="0" y="482760"/>
              <a:chExt cx="9144000" cy="3109680"/>
            </a:xfrm>
          </p:grpSpPr>
          <p:sp>
            <p:nvSpPr>
              <p:cNvPr id="78" name=""/>
              <p:cNvSpPr/>
              <p:nvPr/>
            </p:nvSpPr>
            <p:spPr>
              <a:xfrm>
                <a:off x="0" y="482760"/>
                <a:ext cx="9144000" cy="89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4827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0" y="482760"/>
                <a:ext cx="9144000" cy="3109680"/>
                <a:chOff x="0" y="482760"/>
                <a:chExt cx="9144000" cy="31096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0" y="4827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0" y="482760"/>
                  <a:ext cx="9144000" cy="31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8000"/>
                      </a:solidFill>
                      <a:latin typeface="Times New Roman"/>
                    </a:rPr>
                    <a:t>  </a:t>
                  </a:r>
                  <a:r>
                    <a:rPr b="0" lang="zh-CN" sz="18800" spc="-1" strike="noStrike">
                      <a:solidFill>
                        <a:srgbClr val="008000"/>
                      </a:solidFill>
                      <a:latin typeface="Times New Roman"/>
                    </a:rPr>
                    <a:t> </a:t>
                  </a:r>
                  <a:r>
                    <a:rPr b="0" lang="zh-CN" sz="1000" spc="-1" strike="noStrike">
                      <a:solidFill>
                        <a:srgbClr val="008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36720" y="137160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近些，只见白浪翻滚，形成一道六七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的白色城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080" y="3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962440" y="320760"/>
            <a:ext cx="4786200" cy="4010040"/>
            <a:chOff x="2962440" y="320760"/>
            <a:chExt cx="4786200" cy="4010040"/>
          </a:xfrm>
        </p:grpSpPr>
        <p:sp>
          <p:nvSpPr>
            <p:cNvPr id="86" name=""/>
            <p:cNvSpPr/>
            <p:nvPr/>
          </p:nvSpPr>
          <p:spPr>
            <a:xfrm>
              <a:off x="2962440" y="320760"/>
              <a:ext cx="4786200" cy="40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62440" y="32076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85920" y="1395360"/>
            <a:ext cx="184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近些，只见白浪翻滚，形成一道六七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白色城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2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1:24:09Z</dcterms:created>
  <dc:creator>fz</dc:creator>
  <dc:description/>
  <dc:language>en-US</dc:language>
  <cp:lastModifiedBy>j</cp:lastModifiedBy>
  <dcterms:modified xsi:type="dcterms:W3CDTF">2011-09-02T12:32:39Z</dcterms:modified>
  <cp:revision>5</cp:revision>
  <dc:subject/>
  <dc:title>PowerPoint 演示文稿</dc:title>
</cp:coreProperties>
</file>