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AQUEDUCT.WAV" ContentType="audio/x-wav"/>
  <Override PartName="/ppt/media/image5.png" ContentType="image/png"/>
  <Override PartName="/ppt/media/image8.png" ContentType="image/png"/>
  <Override PartName="/ppt/media/image2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EUSOUB.wav" ContentType="audio/x-wav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20F-BE89-4B0C-86C7-C0CCE970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EAD-9C0F-4B4C-8656-37AD59C1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F4B-E9E4-4306-AFD8-FBE7580A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6E9-2BF5-4A0C-8C71-60F33FFE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8B6-3856-42BC-9365-4D2D8672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E76-FE17-4E3E-9A5C-8CAE2695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7AC-4737-4CE9-97B3-05F55337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616-8099-4DF6-B039-A375B126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79A-0FAD-4511-BDC7-48931223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675-3204-4AA9-BC9C-24C32443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1F1-E2E6-4297-931A-D3BB8954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C4B-DD1D-4677-BF17-768EFC0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BD61-C5DD-4B9D-BAD9-B8BFDB0303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QUEDUC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j0075026.wav" TargetMode="External"/><Relationship Id="rId3" Type="http://schemas.microsoft.com/office/2007/relationships/media" Target="file:///tmp/home/.config/libreoffice/4/user/gallery/j0075026.wav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EUSOUB.wav"/><Relationship Id="rId2" Type="http://schemas.openxmlformats.org/officeDocument/2006/relationships/audio" Target="../media/EUSOUB.wav"/><Relationship Id="rId3" Type="http://schemas.openxmlformats.org/officeDocument/2006/relationships/audio" Target="../media/EUSOUB.wav"/><Relationship Id="rId4" Type="http://schemas.openxmlformats.org/officeDocument/2006/relationships/audio" Target="../media/EUSOUB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&#33756;&#21333;&#21629;&#20196;.wav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&#33756;&#21333;&#21629;&#20196;.wav" TargetMode="External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hyperlink" Target="file:///tmp/home/.config/libreoffice/4/user/gallery/&#33756;&#21333;&#21629;&#20196;.wav" TargetMode="External"/><Relationship Id="rId9" Type="http://schemas.openxmlformats.org/officeDocument/2006/relationships/image" Target="../media/image6.png"/><Relationship Id="rId10" Type="http://schemas.openxmlformats.org/officeDocument/2006/relationships/slide" Target=""/><Relationship Id="rId11" Type="http://schemas.openxmlformats.org/officeDocument/2006/relationships/image" Target="../media/image7.png"/><Relationship Id="rId12" Type="http://schemas.openxmlformats.org/officeDocument/2006/relationships/hyperlink" Target="file:///tmp/home/.config/libreoffice/4/user/gallery/&#33756;&#21333;&#21629;&#20196;.wav" TargetMode="External"/><Relationship Id="rId13" Type="http://schemas.openxmlformats.org/officeDocument/2006/relationships/image" Target="../media/image8.png"/><Relationship Id="rId14" Type="http://schemas.openxmlformats.org/officeDocument/2006/relationships/hyperlink" Target="file:///tmp/home/.config/libreoffice/4/user/gallery/&#33756;&#21333;&#21629;&#20196;.wav" TargetMode="External"/><Relationship Id="rId15" Type="http://schemas.openxmlformats.org/officeDocument/2006/relationships/image" Target="../media/image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27.png"/><Relationship Id="rId3" Type="http://schemas.openxmlformats.org/officeDocument/2006/relationships/slide" Target="slide40.xml"/><Relationship Id="rId4" Type="http://schemas.openxmlformats.org/officeDocument/2006/relationships/image" Target="../media/image27.png"/><Relationship Id="rId5" Type="http://schemas.openxmlformats.org/officeDocument/2006/relationships/slide" Target="slide39.xml"/><Relationship Id="rId6" Type="http://schemas.openxmlformats.org/officeDocument/2006/relationships/image" Target="../media/image27.png"/><Relationship Id="rId7" Type="http://schemas.openxmlformats.org/officeDocument/2006/relationships/slide" Target="slide38.xm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5.xml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QUEDUC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137160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观潮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checker dir="horz"/>
    <p:sndAc>
      <p:stSnd>
        <p:snd r:embed="rId2" name="AQUEDU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92160" y="-4680"/>
            <a:ext cx="9236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宽阔的钱塘江横卧在眼前。江面很平静，越往东越宽，在雨后的阳光下，笼罩着一层蒙蒙的薄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265480"/>
            <a:ext cx="9144000" cy="4592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镇海古塔、中山亭和观潮台屹立在江边远处，几座小山在云雾中若隐若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619280" y="1476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江潮还没有来，海塘大堤上早已人山人海。大家昂首东望，等着，盼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9246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60" h="21600">
                <a:moveTo>
                  <a:pt x="9973" y="7493"/>
                </a:moveTo>
                <a:lnTo>
                  <a:pt x="13481" y="7493"/>
                </a:lnTo>
                <a:lnTo>
                  <a:pt x="13481" y="12828"/>
                </a:lnTo>
                <a:cubicBezTo>
                  <a:pt x="13481" y="13751"/>
                  <a:pt x="14282" y="14482"/>
                  <a:pt x="15317" y="14482"/>
                </a:cubicBezTo>
                <a:lnTo>
                  <a:pt x="16980" y="14482"/>
                </a:lnTo>
                <a:cubicBezTo>
                  <a:pt x="18015" y="14482"/>
                  <a:pt x="18816" y="13751"/>
                  <a:pt x="18816" y="12828"/>
                </a:cubicBezTo>
                <a:lnTo>
                  <a:pt x="18816" y="7493"/>
                </a:lnTo>
                <a:lnTo>
                  <a:pt x="16980" y="7493"/>
                </a:lnTo>
                <a:lnTo>
                  <a:pt x="20487" y="3985"/>
                </a:lnTo>
                <a:lnTo>
                  <a:pt x="24160" y="7493"/>
                </a:lnTo>
                <a:lnTo>
                  <a:pt x="22324" y="7493"/>
                </a:lnTo>
                <a:lnTo>
                  <a:pt x="22324" y="12828"/>
                </a:lnTo>
                <a:cubicBezTo>
                  <a:pt x="22324" y="15596"/>
                  <a:pt x="19748" y="18155"/>
                  <a:pt x="16980" y="18155"/>
                </a:cubicBezTo>
                <a:lnTo>
                  <a:pt x="15317" y="18155"/>
                </a:lnTo>
                <a:cubicBezTo>
                  <a:pt x="12550" y="18155"/>
                  <a:pt x="9973" y="15596"/>
                  <a:pt x="997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557360"/>
            <a:ext cx="20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2276640"/>
            <a:ext cx="26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80360" y="6324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66880" y="1295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午后一点左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02800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6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过了一会儿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6104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0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533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一条白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153280" y="304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533520"/>
            <a:ext cx="647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那条白线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5335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横贯江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533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再近些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5335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白色城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3280" y="2286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60280"/>
            <a:ext cx="7417080" cy="74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宽阔  笼罩  薄雾  若隐若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昂首东望  鼎沸   风平浪静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水天相接  沸腾  横贯江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齐头并进  浩浩荡荡  奔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崩地裂  漫天卷地  依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风号浪吼  恢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53352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浪潮越来越近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1880" y="1522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53352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白色战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77080" y="580536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172360" y="59500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213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22960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213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609480"/>
            <a:ext cx="755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楷体_GB2312"/>
              </a:rPr>
              <a:t>午后一点左右，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494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楷体_GB2312"/>
              </a:rPr>
              <a:t>过了一会儿，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290760"/>
            <a:ext cx="601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楷体_GB2312"/>
              </a:rPr>
              <a:t>再近些，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632480"/>
            <a:ext cx="77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楷体_GB2312"/>
              </a:rPr>
              <a:t>浪潮越来越近，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53960" y="187200"/>
            <a:ext cx="57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楷体_GB2312"/>
              </a:rPr>
              <a:t>午后一点左右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3160" y="1828800"/>
            <a:ext cx="58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楷体_GB2312"/>
              </a:rPr>
              <a:t>过了一会儿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楷体_GB2312"/>
              </a:rPr>
              <a:t>（                    ）从远处传来隆隆的响声，好像闷雷滚动。（                  ）响声越来越大，只见东边水天相接的地方出现了一条白线，人群又沸腾起来。那条白线很快地向我们移来，逐渐拉长、变粗，横贯江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40464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（          ）只见白浪翻滚，形成一道两丈多高的白色城墙。    （                     ）犹如千万匹白色战马齐头并进，浩浩荡荡地飞奔而来；那声音如同山崩地裂，好像大地都被震得颤动起来。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989000"/>
            <a:ext cx="517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浪潮越来越近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0464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再近些，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060640"/>
            <a:ext cx="7921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2708280"/>
            <a:ext cx="360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500280"/>
            <a:ext cx="4465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4200" y="4221000"/>
            <a:ext cx="55468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130320"/>
            <a:ext cx="79930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56000" y="549360"/>
            <a:ext cx="396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闷雷滚动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00360" y="2133720"/>
            <a:ext cx="417672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越来越大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11280" y="4653000"/>
            <a:ext cx="48974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山崩地裂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56000" y="549360"/>
            <a:ext cx="410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条白线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ff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411280" y="328464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8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cc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白色城墙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195640" y="1700280"/>
            <a:ext cx="4897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拉长变粗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484360" y="501336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隶书"/>
              </a:rPr>
              <a:t>白色战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66ffff"/>
                  </a:gs>
                  <a:gs pos="100000">
                    <a:srgbClr val="ffff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494172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501336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500720" y="4941720"/>
            <a:ext cx="830160" cy="8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19640" y="4941720"/>
            <a:ext cx="830160" cy="83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340000" y="486900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320" y="496728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5943600"/>
            <a:ext cx="91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5950080"/>
            <a:ext cx="122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潮来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5950080"/>
            <a:ext cx="12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潮来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885080" y="4941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27640" y="5950080"/>
            <a:ext cx="1371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潮过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950080"/>
            <a:ext cx="1104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背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5950080"/>
            <a:ext cx="990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62840" y="5950080"/>
            <a:ext cx="1181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28800" y="137160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33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观潮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3366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508464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5950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课文范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1187280" y="4941720"/>
            <a:ext cx="865440" cy="865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7880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5228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声音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19320"/>
            <a:ext cx="1013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闷雷滚动——越来越大——山崩地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34340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2590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景象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8784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风平浪静—— 一条白线——横贯江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白色城墙——白色战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907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6458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1178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ff">
                  <a:alpha val="68235"/>
                </a:srgbClr>
              </a:gs>
              <a:gs pos="100000">
                <a:srgbClr val="cc0099">
                  <a:alpha val="7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24000" y="836640"/>
            <a:ext cx="151128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远处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3280" y="692280"/>
            <a:ext cx="331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水天相接的地方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76360" y="2276640"/>
            <a:ext cx="25909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水天相接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76720" y="2276640"/>
            <a:ext cx="2664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向前移动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24000" y="3860640"/>
            <a:ext cx="2087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再近些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219640" y="3789360"/>
            <a:ext cx="259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越来越近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835280" y="5084640"/>
            <a:ext cx="5976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从远至近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69960"/>
            <a:ext cx="828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午后一点左右，从（        ）传来闷雷滚动的声音。（              ）响声越来越大，在东边（              ）的地方，出现了一条白线，白线（              ）变粗拉长，（            ）形成了白色城墙。那浪（           ），犹如白色战马齐头并进，发出山崩地裂的响声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0"/>
            <a:ext cx="8424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午后一点左右，（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              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）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39800"/>
            <a:ext cx="82090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过了一会儿，（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楷体_GB2312"/>
              </a:rPr>
              <a:t>         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从远处传来隆隆的响声，好像闷雷滚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844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              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响声越来越大，只见东边水天相接的地方出现了一条白线，人群又沸腾起来。那条白线很快地向我们移来，逐渐拉长、变粗，横贯江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2492280"/>
            <a:ext cx="8280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犹如千万匹白色战马齐头并进，浩浩荡荡地飞奔而来；那声音如同山崩地裂，好像大地都被震得颤动起来。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33360"/>
            <a:ext cx="7704360" cy="82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再近些，（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）浪潮越来越近，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602136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7493"/>
                </a:moveTo>
                <a:lnTo>
                  <a:pt x="13469" y="7493"/>
                </a:lnTo>
                <a:lnTo>
                  <a:pt x="13469" y="12828"/>
                </a:lnTo>
                <a:cubicBezTo>
                  <a:pt x="13469" y="13751"/>
                  <a:pt x="14270" y="14482"/>
                  <a:pt x="15306" y="14482"/>
                </a:cubicBezTo>
                <a:lnTo>
                  <a:pt x="16968" y="14482"/>
                </a:lnTo>
                <a:cubicBezTo>
                  <a:pt x="18004" y="14482"/>
                  <a:pt x="18805" y="13751"/>
                  <a:pt x="18805" y="12828"/>
                </a:cubicBezTo>
                <a:lnTo>
                  <a:pt x="18805" y="7493"/>
                </a:lnTo>
                <a:lnTo>
                  <a:pt x="16968" y="7493"/>
                </a:lnTo>
                <a:lnTo>
                  <a:pt x="20476" y="3985"/>
                </a:lnTo>
                <a:lnTo>
                  <a:pt x="24149" y="7493"/>
                </a:lnTo>
                <a:lnTo>
                  <a:pt x="22312" y="7493"/>
                </a:lnTo>
                <a:lnTo>
                  <a:pt x="22312" y="12828"/>
                </a:lnTo>
                <a:cubicBezTo>
                  <a:pt x="22312" y="15596"/>
                  <a:pt x="19736" y="18155"/>
                  <a:pt x="16968" y="18155"/>
                </a:cubicBezTo>
                <a:lnTo>
                  <a:pt x="15306" y="18155"/>
                </a:lnTo>
                <a:cubicBezTo>
                  <a:pt x="12538" y="18155"/>
                  <a:pt x="9962" y="15596"/>
                  <a:pt x="996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333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   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只见白浪翻滚，形成一道两丈多高的白色城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237880" y="76320"/>
            <a:ext cx="850680" cy="67816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霎时，潮头奔腾去，可是余波还在漫天卷地地涌来，江面上依旧风号浪吼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369640" y="81000"/>
            <a:ext cx="850680" cy="67770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过了好久，钱塘江才恢复了平静。看看堤下，江水已经涨了两丈来高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22860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33520"/>
            <a:ext cx="533520" cy="5257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049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描写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描写角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410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描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04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远到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177336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1447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形：仅如银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2133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色：玉城雪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声：声如雷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3733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势：吞天沃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48769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5334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夸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609588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引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1628640"/>
            <a:ext cx="304920" cy="243864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1371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海潮从远方奔涌到眼前时的形状、颜色、声势都生动地表现了出来，绘声绘色表现了涌潮这一 壮美雄奇的景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8690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渲染潮涌之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6021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简单概述，引起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388620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95680" y="304812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419720" y="23623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419720" y="16765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7493"/>
                </a:moveTo>
                <a:lnTo>
                  <a:pt x="12812" y="7493"/>
                </a:lnTo>
                <a:lnTo>
                  <a:pt x="12812" y="12828"/>
                </a:lnTo>
                <a:cubicBezTo>
                  <a:pt x="12812" y="13751"/>
                  <a:pt x="13612" y="14482"/>
                  <a:pt x="14648" y="14482"/>
                </a:cubicBezTo>
                <a:lnTo>
                  <a:pt x="16310" y="14482"/>
                </a:lnTo>
                <a:cubicBezTo>
                  <a:pt x="17346" y="14482"/>
                  <a:pt x="18147" y="13751"/>
                  <a:pt x="18147" y="12828"/>
                </a:cubicBezTo>
                <a:lnTo>
                  <a:pt x="18147" y="7493"/>
                </a:lnTo>
                <a:lnTo>
                  <a:pt x="16310" y="7493"/>
                </a:lnTo>
                <a:lnTo>
                  <a:pt x="19818" y="3985"/>
                </a:lnTo>
                <a:lnTo>
                  <a:pt x="23491" y="7493"/>
                </a:lnTo>
                <a:lnTo>
                  <a:pt x="21654" y="7493"/>
                </a:lnTo>
                <a:lnTo>
                  <a:pt x="21654" y="12828"/>
                </a:lnTo>
                <a:cubicBezTo>
                  <a:pt x="21654" y="15596"/>
                  <a:pt x="19078" y="18155"/>
                  <a:pt x="16310" y="18155"/>
                </a:cubicBezTo>
                <a:lnTo>
                  <a:pt x="14648" y="18155"/>
                </a:lnTo>
                <a:cubicBezTo>
                  <a:pt x="11880" y="18155"/>
                  <a:pt x="9304" y="15596"/>
                  <a:pt x="930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09480" y="45720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仅如银线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5522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22860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玉城雪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396360" cy="3048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ffff">
                  <a:alpha val="50196"/>
                </a:srgbClr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钱塘江大潮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　　钱塘江大潮是出现在浙江省杭州湾钱塘江口的涌潮，每年都吸引众多中外游客来观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3068640"/>
            <a:ext cx="925848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2120" y="53352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声如雷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8381880" y="6248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80880" y="609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4572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吞天沃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280" y="63244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381880" y="6248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844640"/>
            <a:ext cx="82803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今天，我去宁海观潮。潮来之前，江面上（              ）。潮来时（          ），潮水声犹如（         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海堤上尽管（          ），但是听不清人们在说什么。渐渐的，潮过去了，消失在（          ）的地方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4000" y="404640"/>
            <a:ext cx="151128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0" name=""/>
          <p:cNvSpPr/>
          <p:nvPr/>
        </p:nvSpPr>
        <p:spPr>
          <a:xfrm>
            <a:off x="8028000" y="602136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94200"/>
            <a:ext cx="9258480" cy="376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468000" cy="21049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每逢农历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月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8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日，来浙江海宁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带观潮的人，成群结队，络绎不绝。我国的钱塘江大潮，世界著名。历来被誉为“天下奇观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760" y="131760"/>
            <a:ext cx="91202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农历八月十八是一年一度的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潮日。这一天早上，我们来到了海宁县的盐官镇，据说这里是观潮最好的地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56720" y="602136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潮来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4382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潮来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38098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潮退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5280" y="836640"/>
            <a:ext cx="66974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八月十八潮，壮观天下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北宋 苏东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333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钱塘江大潮，自古以来被称为“天下奇观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AQUEDUCT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95480" y="11430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观潮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28800" y="3429000"/>
            <a:ext cx="6019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天下奇观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438280"/>
            <a:ext cx="457200" cy="381240"/>
          </a:xfrm>
          <a:prstGeom prst="flowChartConnector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4876920"/>
            <a:ext cx="457200" cy="380880"/>
          </a:xfrm>
          <a:prstGeom prst="flowChartConnector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602136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4:48:06Z</dcterms:created>
  <dc:creator>fz</dc:creator>
  <dc:description/>
  <dc:language>en-US</dc:language>
  <cp:lastModifiedBy>User</cp:lastModifiedBy>
  <dcterms:modified xsi:type="dcterms:W3CDTF">2012-09-06T07:43:08Z</dcterms:modified>
  <cp:revision>97</cp:revision>
  <dc:subject/>
  <dc:title>PowerPoint 演示文稿</dc:title>
</cp:coreProperties>
</file>