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118F-EF3B-49A1-A2F6-C6271E716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FA55-3BE4-469B-A4B9-59691FF4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B612-E071-4E08-87C0-BA645DD1E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0B09-6C30-45B0-8515-ACF68CEA4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3265-5457-4CB8-8AE1-42BB85D59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BC43-AE69-49A9-B75A-D28F3D19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1CCD-5D49-424A-BCA0-118D550F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FE52-60AD-495F-B00A-56F0845C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6EEC-57E2-426C-969C-77B3439D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AE23-4C89-4AC8-B979-E6BF379D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CEEF-6E5D-429D-825F-6752EE37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0F5E-9CB4-487B-AC1D-5AEDD7E2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26DC-D436-4B94-8AE6-3185273E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6F3D-5F4C-43BA-AB64-1BCA9B12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3AC8-D301-4F60-83B4-B07D4193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5373-5EF5-46C5-BA44-10F7BD5A2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30BD-6478-4500-91CD-0C980EDF4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5439-DD5D-4161-82D2-F327C8DC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4B98-A986-4617-A8AA-7851CC3B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0E3E-CDA8-4DC8-A686-C9D27740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0389-497B-4D25-B206-0AA956BB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7D03-0EC0-4CCF-8917-396D5DD5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3D17-1130-41BF-9308-96604404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3728-F4F2-4CE7-9C2C-B4FD5127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30B6-E4C5-4DA8-B739-1F927CE17F93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BAA9-1434-4A07-997E-E8A6340D8785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slide" Target="slide5.xml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slide" Target="slide5.xml"/><Relationship Id="rId11" Type="http://schemas.openxmlformats.org/officeDocument/2006/relationships/slide" Target="slide5.xml"/><Relationship Id="rId12" Type="http://schemas.openxmlformats.org/officeDocument/2006/relationships/slide" Target="slide5.xml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slide" Target="slide5.xml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slide" Target="slide5.xml"/><Relationship Id="rId11" Type="http://schemas.openxmlformats.org/officeDocument/2006/relationships/slide" Target="slide5.xml"/><Relationship Id="rId12" Type="http://schemas.openxmlformats.org/officeDocument/2006/relationships/slide" Target="slide5.xml"/><Relationship Id="rId13" Type="http://schemas.openxmlformats.org/officeDocument/2006/relationships/slide" Target="slide5.xml"/><Relationship Id="rId14" Type="http://schemas.openxmlformats.org/officeDocument/2006/relationships/slide" Target="slide5.xml"/><Relationship Id="rId15" Type="http://schemas.openxmlformats.org/officeDocument/2006/relationships/slide" Target="slide5.xml"/><Relationship Id="rId16" Type="http://schemas.openxmlformats.org/officeDocument/2006/relationships/slide" Target="slide5.xml"/><Relationship Id="rId17" Type="http://schemas.openxmlformats.org/officeDocument/2006/relationships/slide" Target="slide5.xml"/><Relationship Id="rId1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51280" y="580536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Tahoma"/>
                <a:ea typeface="华文行楷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34360" y="549360"/>
            <a:ext cx="310644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ff3399"/>
                </a:solidFill>
                <a:latin typeface="Tahoma"/>
                <a:ea typeface="楷体_GB2312"/>
              </a:rPr>
              <a:t> </a:t>
            </a:r>
            <a:r>
              <a:rPr b="1" i="1" lang="zh-CN" sz="9600" spc="-1" strike="noStrike">
                <a:solidFill>
                  <a:srgbClr val="ff3399"/>
                </a:solidFill>
                <a:latin typeface="Tahoma"/>
                <a:ea typeface="楷体_GB2312"/>
              </a:rPr>
              <a:t>桂  花  雨</a:t>
            </a:r>
            <a:endParaRPr b="0" lang="en-US" sz="96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42196" t="0" r="0" b="0"/>
          <a:stretch/>
        </p:blipFill>
        <p:spPr>
          <a:xfrm>
            <a:off x="0" y="0"/>
            <a:ext cx="63007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97560" y="649116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绿色圃中小学教育网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4000" y="2708280"/>
            <a:ext cx="21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572000"/>
            <a:ext cx="946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800000"/>
                </a:solidFill>
                <a:latin typeface="Tahoma"/>
                <a:ea typeface="楷体_GB2312"/>
              </a:rPr>
              <a:t>这下，我可乐了，帮大人抱着桂花树，使劲地摇</a:t>
            </a:r>
            <a:r>
              <a:rPr b="1" lang="zh-CN" sz="3200" spc="-1" strike="noStrike">
                <a:solidFill>
                  <a:srgbClr val="993300"/>
                </a:solidFill>
                <a:latin typeface="Tahoma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800000"/>
                </a:solidFill>
                <a:latin typeface="Tahoma"/>
                <a:ea typeface="楷体_GB2312"/>
              </a:rPr>
              <a:t>摇呀摇</a:t>
            </a:r>
            <a:r>
              <a:rPr b="1" lang="zh-CN" sz="3200" spc="-1" strike="noStrike">
                <a:solidFill>
                  <a:srgbClr val="993300"/>
                </a:solidFill>
                <a:latin typeface="Tahoma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800000"/>
                </a:solidFill>
                <a:latin typeface="Tahoma"/>
                <a:ea typeface="楷体_GB2312"/>
              </a:rPr>
              <a:t>桂花纷纷落下来，我们满头满身都是桂花。我喊着：“啊！真像下雨，好香的雨啊！”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57600" y="45784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抱着桂花树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00920" y="4581360"/>
            <a:ext cx="20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使劲地摇      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-720" y="1917000"/>
            <a:ext cx="539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27280" y="553572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啊！真像下雨，好香的雨啊！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0" y="506556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摇呀摇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42196" t="0" r="0" b="0"/>
          <a:stretch/>
        </p:blipFill>
        <p:spPr>
          <a:xfrm>
            <a:off x="2556000" y="0"/>
            <a:ext cx="4752720" cy="437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336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　　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78400" y="6858000"/>
            <a:ext cx="196524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"/>
          </a:bodyPr>
          <a:p>
            <a:pPr marL="10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 marL="10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7a77"/>
                </a:solidFill>
                <a:latin typeface="Arial"/>
              </a:rPr>
              <a:t>　　　　，　</a:t>
            </a:r>
            <a:endParaRPr b="0" lang="en-US" sz="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56880" y="981000"/>
            <a:ext cx="115524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细细秋风淡淡烟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02480" y="1557360"/>
            <a:ext cx="17017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竞收桂子庆丰年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37040" y="2637000"/>
            <a:ext cx="17017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儿童解得摇花乐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82680" y="3543480"/>
            <a:ext cx="179892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花雨缤纷入梦甜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42196" t="0" r="0" b="0"/>
          <a:stretch/>
        </p:blipFill>
        <p:spPr>
          <a:xfrm>
            <a:off x="-252360" y="476280"/>
            <a:ext cx="4763880" cy="590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2349000"/>
            <a:ext cx="80280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　　　于是，我又想起了在故乡童年时代的“摇花乐”，还有那摇落的阵阵桂花雨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620640"/>
            <a:ext cx="8459640" cy="17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3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楷体_GB2312"/>
              </a:rPr>
              <a:t>　　可是母亲说：“这里的桂花再香，也比不上家乡院子里的桂花。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楷体_GB2312"/>
              </a:rPr>
              <a:t>　　　我总是不能忘却旧事，我一辈子最爱写的就是故乡，亲人，朋友，花草树木。这魂牵梦萦的故土，这难以割舍的童年，倘若都能一一地收藏起来，藏在记忆的花园里，我想那一定是一朵朵常开不败的花。当我们想起来的时候，会觉得很温馨，那我们收获的不仅仅是花朵的芬芳，更是美丽的人生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 rot="1092000">
            <a:off x="-107640" y="-171360"/>
            <a:ext cx="1585800" cy="1409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539640" y="602136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60148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1692360" y="6021360"/>
            <a:ext cx="576000" cy="360360"/>
          </a:xfrm>
          <a:custGeom>
            <a:avLst/>
            <a:gdLst>
              <a:gd name="textAreaLeft" fmla="*/ 23040 w 576000"/>
              <a:gd name="textAreaRight" fmla="*/ 552960 w 57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13" h="21600">
                <a:moveTo>
                  <a:pt x="0" y="0"/>
                </a:moveTo>
                <a:lnTo>
                  <a:pt x="34513" y="0"/>
                </a:lnTo>
                <a:lnTo>
                  <a:pt x="34513" y="21600"/>
                </a:lnTo>
                <a:lnTo>
                  <a:pt x="0" y="21600"/>
                </a:lnTo>
                <a:close/>
              </a:path>
              <a:path fill="lightenLess" w="34513" h="21600">
                <a:moveTo>
                  <a:pt x="0" y="0"/>
                </a:moveTo>
                <a:lnTo>
                  <a:pt x="34513" y="0"/>
                </a:lnTo>
                <a:lnTo>
                  <a:pt x="33113" y="1400"/>
                </a:lnTo>
                <a:lnTo>
                  <a:pt x="1400" y="1400"/>
                </a:lnTo>
                <a:close/>
              </a:path>
              <a:path fill="darken" w="34513" h="21600">
                <a:moveTo>
                  <a:pt x="34513" y="0"/>
                </a:moveTo>
                <a:lnTo>
                  <a:pt x="34513" y="21600"/>
                </a:lnTo>
                <a:lnTo>
                  <a:pt x="33113" y="20200"/>
                </a:lnTo>
                <a:lnTo>
                  <a:pt x="33113" y="1400"/>
                </a:lnTo>
                <a:close/>
              </a:path>
              <a:path fill="darkenLess" w="34513" h="21600">
                <a:moveTo>
                  <a:pt x="3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3" y="20200"/>
                </a:lnTo>
                <a:close/>
              </a:path>
              <a:path fill="lighten" w="3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35280" y="601488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2916360" y="602136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59280" y="6021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2" action="ppaction://hlinksldjump"/>
              </a:rPr>
              <a:t>1.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3" action="ppaction://hlinksldjump"/>
              </a:rPr>
              <a:t>可是桂花的香气，太迷人了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602136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9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9" y="20200"/>
                </a:lnTo>
                <a:lnTo>
                  <a:pt x="41779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9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76360" y="602136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40000" y="602136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8292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2" action="ppaction://hlinksldjump"/>
              </a:rPr>
              <a:t>2.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3" action="ppaction://hlinksldjump"/>
              </a:rPr>
              <a:t>桂花盛开的时候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4" action="ppaction://hlinksldjump"/>
              </a:rPr>
              <a:t>,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5" action="ppaction://hlinksldjump"/>
              </a:rPr>
              <a:t>不说香飘十里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6" action="ppaction://hlinksldjump"/>
              </a:rPr>
              <a:t>,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7" action="ppaction://hlinksldjump"/>
              </a:rPr>
              <a:t>至少前后十几家邻居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8" action="ppaction://hlinksldjump"/>
              </a:rPr>
              <a:t>,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9" action="ppaction://hlinksldjump"/>
              </a:rPr>
              <a:t>没有不浸在桂花香里的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10" action="ppaction://hlinksldjump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602136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9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9" y="20200"/>
                </a:lnTo>
                <a:lnTo>
                  <a:pt x="41779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9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6021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50920" y="6021360"/>
            <a:ext cx="649440" cy="360360"/>
          </a:xfrm>
          <a:custGeom>
            <a:avLst/>
            <a:gdLst>
              <a:gd name="textAreaLeft" fmla="*/ 23040 w 649440"/>
              <a:gd name="textAreaRight" fmla="*/ 626400 w 6494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910" h="21600">
                <a:moveTo>
                  <a:pt x="0" y="0"/>
                </a:moveTo>
                <a:lnTo>
                  <a:pt x="38910" y="0"/>
                </a:lnTo>
                <a:lnTo>
                  <a:pt x="38910" y="21600"/>
                </a:lnTo>
                <a:lnTo>
                  <a:pt x="0" y="21600"/>
                </a:lnTo>
                <a:close/>
              </a:path>
              <a:path fill="lightenLess" w="38910" h="21600">
                <a:moveTo>
                  <a:pt x="0" y="0"/>
                </a:moveTo>
                <a:lnTo>
                  <a:pt x="38910" y="0"/>
                </a:lnTo>
                <a:lnTo>
                  <a:pt x="37510" y="1400"/>
                </a:lnTo>
                <a:lnTo>
                  <a:pt x="1400" y="1400"/>
                </a:lnTo>
                <a:close/>
              </a:path>
              <a:path fill="darken" w="38910" h="21600">
                <a:moveTo>
                  <a:pt x="38910" y="0"/>
                </a:moveTo>
                <a:lnTo>
                  <a:pt x="38910" y="21600"/>
                </a:lnTo>
                <a:lnTo>
                  <a:pt x="37510" y="20200"/>
                </a:lnTo>
                <a:lnTo>
                  <a:pt x="37510" y="1400"/>
                </a:lnTo>
                <a:close/>
              </a:path>
              <a:path fill="darkenLess" w="38910" h="21600">
                <a:moveTo>
                  <a:pt x="389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10" y="20200"/>
                </a:lnTo>
                <a:close/>
              </a:path>
              <a:path fill="lighten" w="389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95640" y="6021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2" action="ppaction://hlinksldjump"/>
              </a:rPr>
              <a:t>3.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3" action="ppaction://hlinksldjump"/>
              </a:rPr>
              <a:t>全年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4" action="ppaction://hlinksldjump"/>
              </a:rPr>
              <a:t>,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5" action="ppaction://hlinksldjump"/>
              </a:rPr>
              <a:t>整个村子都浸在桂花的香气里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6" action="ppaction://hlinksldjump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609444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26920" y="608652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9280" y="6093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 rot="10618800">
            <a:off x="1763280" y="60854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2" action="ppaction://hlinksldjump"/>
              </a:rPr>
              <a:t>1.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3" action="ppaction://hlinksldjump"/>
              </a:rPr>
              <a:t>可是桂花的香气，太迷人了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4" action="ppaction://hlinksldjump"/>
              </a:rPr>
              <a:t>2.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5" action="ppaction://hlinksldjump"/>
              </a:rPr>
              <a:t>桂花盛开的时候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6" action="ppaction://hlinksldjump"/>
              </a:rPr>
              <a:t>,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7" action="ppaction://hlinksldjump"/>
              </a:rPr>
              <a:t>不说香飘十里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8" action="ppaction://hlinksldjump"/>
              </a:rPr>
              <a:t>,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9" action="ppaction://hlinksldjump"/>
              </a:rPr>
              <a:t>至少前后十几家邻居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10" action="ppaction://hlinksldjump"/>
              </a:rPr>
              <a:t>,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11" action="ppaction://hlinksldjump"/>
              </a:rPr>
              <a:t>没有不浸在桂花香里的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12" action="ppaction://hlinksldjump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71640" y="6021360"/>
            <a:ext cx="576000" cy="360360"/>
          </a:xfrm>
          <a:custGeom>
            <a:avLst/>
            <a:gdLst>
              <a:gd name="textAreaLeft" fmla="*/ 23040 w 576000"/>
              <a:gd name="textAreaRight" fmla="*/ 552960 w 57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13" h="21600">
                <a:moveTo>
                  <a:pt x="0" y="0"/>
                </a:moveTo>
                <a:lnTo>
                  <a:pt x="34513" y="0"/>
                </a:lnTo>
                <a:lnTo>
                  <a:pt x="34513" y="21600"/>
                </a:lnTo>
                <a:lnTo>
                  <a:pt x="0" y="21600"/>
                </a:lnTo>
                <a:close/>
              </a:path>
              <a:path fill="lightenLess" w="34513" h="21600">
                <a:moveTo>
                  <a:pt x="0" y="0"/>
                </a:moveTo>
                <a:lnTo>
                  <a:pt x="34513" y="0"/>
                </a:lnTo>
                <a:lnTo>
                  <a:pt x="33113" y="1400"/>
                </a:lnTo>
                <a:lnTo>
                  <a:pt x="1400" y="1400"/>
                </a:lnTo>
                <a:close/>
              </a:path>
              <a:path fill="darken" w="34513" h="21600">
                <a:moveTo>
                  <a:pt x="34513" y="0"/>
                </a:moveTo>
                <a:lnTo>
                  <a:pt x="34513" y="21600"/>
                </a:lnTo>
                <a:lnTo>
                  <a:pt x="33113" y="20200"/>
                </a:lnTo>
                <a:lnTo>
                  <a:pt x="33113" y="1400"/>
                </a:lnTo>
                <a:close/>
              </a:path>
              <a:path fill="darkenLess" w="34513" h="21600">
                <a:moveTo>
                  <a:pt x="3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3" y="20200"/>
                </a:lnTo>
                <a:close/>
              </a:path>
              <a:path fill="lighten" w="3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42920" y="60148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全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2" action="ppaction://hlinksldjump"/>
              </a:rPr>
              <a:t>1.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3" action="ppaction://hlinksldjump"/>
              </a:rPr>
              <a:t>可是桂花的香气，太迷人了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4" action="ppaction://hlinksldjump"/>
              </a:rPr>
              <a:t>3.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5" action="ppaction://hlinksldjump"/>
              </a:rPr>
              <a:t>全年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6" action="ppaction://hlinksldjump"/>
              </a:rPr>
              <a:t>,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7" action="ppaction://hlinksldjump"/>
              </a:rPr>
              <a:t>整个村子都浸在桂花的香气里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8" action="ppaction://hlinksldjump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602136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6021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全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2" action="ppaction://hlinksldjump"/>
              </a:rPr>
              <a:t>2.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3" action="ppaction://hlinksldjump"/>
              </a:rPr>
              <a:t>桂花盛开的时候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4" action="ppaction://hlinksldjump"/>
              </a:rPr>
              <a:t>,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5" action="ppaction://hlinksldjump"/>
              </a:rPr>
              <a:t>不说香飘十里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6" action="ppaction://hlinksldjump"/>
              </a:rPr>
              <a:t>,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7" action="ppaction://hlinksldjump"/>
              </a:rPr>
              <a:t>至少前后十几家邻居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8" action="ppaction://hlinksldjump"/>
              </a:rPr>
              <a:t>,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9" action="ppaction://hlinksldjump"/>
              </a:rPr>
              <a:t>没有不浸在桂花香里的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10" action="ppaction://hlinksldjump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全年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整个村子都浸在桂花的香气里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6021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6920" y="6021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全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2" action="ppaction://hlinksldjump"/>
              </a:rPr>
              <a:t>1.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3" action="ppaction://hlinksldjump"/>
              </a:rPr>
              <a:t>可是桂花的香气，太迷人了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4" action="ppaction://hlinksldjump"/>
              </a:rPr>
              <a:t>2.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5" action="ppaction://hlinksldjump"/>
              </a:rPr>
              <a:t>桂花盛开的时候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6" action="ppaction://hlinksldjump"/>
              </a:rPr>
              <a:t>,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7" action="ppaction://hlinksldjump"/>
              </a:rPr>
              <a:t>不说香飘十里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8" action="ppaction://hlinksldjump"/>
              </a:rPr>
              <a:t>,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9" action="ppaction://hlinksldjump"/>
              </a:rPr>
              <a:t>至少前后十几家邻居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10" action="ppaction://hlinksldjump"/>
              </a:rPr>
              <a:t>,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11" action="ppaction://hlinksldjump"/>
              </a:rPr>
              <a:t>没有不浸在桂花香里的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12" action="ppaction://hlinksldjump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13" action="ppaction://hlinksldjump"/>
              </a:rPr>
              <a:t>3.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14" action="ppaction://hlinksldjump"/>
              </a:rPr>
              <a:t>全年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15" action="ppaction://hlinksldjump"/>
              </a:rPr>
              <a:t>,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16" action="ppaction://hlinksldjump"/>
              </a:rPr>
              <a:t>整个村子都浸在桂花的香气里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17" action="ppaction://hlinksldjump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3T06:46:19Z</dcterms:created>
  <dc:creator>绿色圃中小学教育网http://www.lspjy.com</dc:creator>
  <dc:description>绿色圃中小学教育网http://www.lspjy.com</dc:description>
  <cp:keywords>绿色圃中小学教育网http://www.lspjy.com</cp:keywords>
  <dc:language>en-US</dc:language>
  <cp:lastModifiedBy>Windows XP Mode</cp:lastModifiedBy>
  <dcterms:modified xsi:type="dcterms:W3CDTF">2011-07-18T03:07:48Z</dcterms:modified>
  <cp:revision>149</cp:revision>
  <dc:subject>绿色圃中小学教育网http://www.lspjy.com</dc:subject>
  <dc:title>绿色圃中小学教育网http://www.lspjy.com</dc:title>
</cp:coreProperties>
</file>