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Button18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type.wav" ContentType="audio/x-wav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3AA-52A5-4F5B-A6CD-7E9C1917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520-7A7D-4925-A463-F0C4E42E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C60-8C95-48F1-95F7-746134AC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D3C-3C05-4008-BB32-8BEF76D4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B16D-9E9B-4C1D-86DD-86AF1FFA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4FB5-A272-43E6-BF27-F5135B66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3B6A-1BAA-464C-84BD-712C80AA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4033-0216-4F5F-BE0D-624C90E5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D113-C52E-43C7-9B7D-547BEA4E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034A-1762-4E3C-8284-815BE79B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9F72-189A-40A9-B1E2-6E5F0745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249-0B7C-49E9-AE96-D2153CFC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FDBB-966F-4203-BF63-CB0469F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9D8C-021C-4773-98CA-62AA9BE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8D8A-EBCC-489D-ACEF-F06BEBD7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5685-E982-4631-AB5B-4B88983E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847E-6529-4D01-8770-C6FE53A3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DD8-B6D7-4D9F-BD1B-3A28742A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A29-43AF-4EAB-AEB6-A6324840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C8B-AB27-4DBA-985F-046AFB3C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321-582A-4F39-B6D5-5A185FCE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1AC-BC75-4C0F-A3F8-1FFD218A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A8F-AF59-4C28-8DC5-E7EA3E69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67D-8083-4DDA-B5CD-62859F89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94A5-3666-4A44-BF13-C90B7E4D68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C42B-D4B2-4DEC-AEF4-567CE061EDB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utton18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8" descr="091105150216_23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-786600" y="404640"/>
            <a:ext cx="2861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ahoma"/>
                <a:ea typeface="楷体_GB2312"/>
              </a:rPr>
              <a:t>7.</a:t>
            </a:r>
            <a:r>
              <a:rPr b="1" lang="zh-CN" sz="8800" spc="-1" strike="noStrike">
                <a:solidFill>
                  <a:srgbClr val="ff0000"/>
                </a:solidFill>
                <a:latin typeface="Tahoma"/>
                <a:ea typeface="楷体_GB2312"/>
              </a:rPr>
              <a:t>桂花雨</a:t>
            </a:r>
            <a:endParaRPr b="0" lang="en-US" sz="8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3360597_202331051033_2"/>
          <p:cNvPicPr/>
          <p:nvPr/>
        </p:nvPicPr>
        <p:blipFill>
          <a:blip r:embed="rId1"/>
          <a:stretch/>
        </p:blipFill>
        <p:spPr>
          <a:xfrm>
            <a:off x="-304920" y="-233280"/>
            <a:ext cx="9753840" cy="7765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比较：到底哪里的桂花香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f3399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ff3399"/>
                </a:solidFill>
                <a:latin typeface="Tahoma"/>
              </a:rPr>
              <a:t>桂花盛开的时候，不说香飘十里，至少前后十几家邻居，没有不浸在桂花香里的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f3399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ff3399"/>
                </a:solidFill>
                <a:latin typeface="Tahoma"/>
              </a:rPr>
              <a:t>杭州有处小山，全是桂花树，花开时那才是香飘十里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5" descr="72f182f659956b48bd3109d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24386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爱桂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348000" y="549360"/>
            <a:ext cx="396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7. </a:t>
            </a: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桂花雨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135800" y="3284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摇桂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208880" y="4724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比桂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4356000" y="2060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香气迷人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627280" y="3716280"/>
            <a:ext cx="16574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356000" y="3284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乐在其中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2627280" y="5084640"/>
            <a:ext cx="16574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356000" y="4724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情在思乡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页脚占位符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091105150216_23"/>
          <p:cNvPicPr/>
          <p:nvPr/>
        </p:nvPicPr>
        <p:blipFill>
          <a:blip r:embed="rId2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2"/>
          <p:cNvSpPr txBox="1"/>
          <p:nvPr/>
        </p:nvSpPr>
        <p:spPr>
          <a:xfrm rot="5400000">
            <a:off x="2217240" y="914040"/>
            <a:ext cx="4648320" cy="2819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彩云"/>
              </a:rPr>
              <a:t>再 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彩云"/>
              </a:rPr>
              <a:t>       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彩云"/>
              </a:rPr>
              <a:t>见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彩云"/>
              <a:ea typeface="华文彩云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" descr="10100021_1096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360" y="183528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2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ahoma"/>
              </a:rPr>
              <a:t>自由轻声地读课文，注意读准字音，读通句子，并思考，文章主要讲了什么内容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3360597_202331051033_2"/>
          <p:cNvPicPr/>
          <p:nvPr/>
        </p:nvPicPr>
        <p:blipFill>
          <a:blip r:embed="rId1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755640" y="1557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ahoma"/>
              </a:rPr>
              <a:t>姿态  迷人  至少  邻居     成熟  完整  尤其  提前     香飘十里</a:t>
            </a:r>
            <a:r>
              <a:rPr b="0" lang="zh-CN" sz="4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1" descr="72f182f659956b48bd3109d1"/>
          <p:cNvPicPr/>
          <p:nvPr/>
        </p:nvPicPr>
        <p:blipFill>
          <a:blip r:embed="rId1"/>
          <a:stretch/>
        </p:blipFill>
        <p:spPr>
          <a:xfrm>
            <a:off x="-25236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763280" y="1905120"/>
            <a:ext cx="259236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爱桂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348000" y="549360"/>
            <a:ext cx="396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7. </a:t>
            </a: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桂花雨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001240" y="3284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摇桂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619280" y="4797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比桂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8" descr="3360597_202331051033_2"/>
          <p:cNvPicPr/>
          <p:nvPr/>
        </p:nvPicPr>
        <p:blipFill>
          <a:blip r:embed="rId1"/>
          <a:stretch/>
        </p:blipFill>
        <p:spPr>
          <a:xfrm>
            <a:off x="-304920" y="-233280"/>
            <a:ext cx="9753840" cy="7765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4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ahoma"/>
              </a:rPr>
              <a:t>（１）可是桂花的香气，太迷人了。　　　　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ahoma"/>
              </a:rPr>
              <a:t>（２）桂花盛开的时候，不说香飘十里，至少前后十几家邻居，没有不浸在桂花香里的。　　　　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ahoma"/>
              </a:rPr>
              <a:t>（３）如果让它开过，落在泥土里，尤其是被风雨吹落，比摇下来的香味就差多了。　　　　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ahoma"/>
              </a:rPr>
              <a:t>（４）我喊着：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3399"/>
                </a:solidFill>
                <a:latin typeface="Tahoma"/>
              </a:rPr>
              <a:t>啊！真像下雨，好香的雨啊！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ff3399"/>
                </a:solidFill>
                <a:latin typeface="Tahoma"/>
              </a:rPr>
              <a:t> 　　　　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ahoma"/>
              </a:rPr>
              <a:t>( </a:t>
            </a:r>
            <a:r>
              <a:rPr b="0" lang="zh-CN" sz="2800" spc="-1" strike="noStrike">
                <a:solidFill>
                  <a:srgbClr val="ff3399"/>
                </a:solidFill>
                <a:latin typeface="Tahoma"/>
              </a:rPr>
              <a:t>５</a:t>
            </a:r>
            <a:r>
              <a:rPr b="0" lang="en-US" sz="2800" spc="-1" strike="noStrike">
                <a:solidFill>
                  <a:srgbClr val="ff3399"/>
                </a:solidFill>
                <a:latin typeface="Tahoma"/>
              </a:rPr>
              <a:t>)  </a:t>
            </a:r>
            <a:r>
              <a:rPr b="0" lang="zh-CN" sz="2800" spc="-1" strike="noStrike">
                <a:solidFill>
                  <a:srgbClr val="ff3399"/>
                </a:solidFill>
                <a:latin typeface="Tahoma"/>
              </a:rPr>
              <a:t>全年，整个村子都浸在桂花的香气里。　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3" descr="72f182f659956b48bd3109d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24386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爱桂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348000" y="549360"/>
            <a:ext cx="396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7. </a:t>
            </a: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桂花雨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135800" y="3284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摇桂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208880" y="4724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比桂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4356000" y="1989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ahoma"/>
              </a:rPr>
              <a:t>香气迷人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8" descr="3360597_202331051033_2"/>
          <p:cNvPicPr/>
          <p:nvPr/>
        </p:nvPicPr>
        <p:blipFill>
          <a:blip r:embed="rId1"/>
          <a:stretch/>
        </p:blipFill>
        <p:spPr>
          <a:xfrm>
            <a:off x="-304920" y="-233280"/>
            <a:ext cx="9753840" cy="7765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324000" y="270828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0" y="5027760"/>
            <a:ext cx="939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这下，我可</a:t>
            </a:r>
            <a:r>
              <a:rPr b="1" lang="zh-CN" sz="3200" spc="-1" strike="noStrike">
                <a:solidFill>
                  <a:srgbClr val="ff3399"/>
                </a:solidFill>
                <a:latin typeface="Tahoma"/>
                <a:ea typeface="楷体_GB2312"/>
              </a:rPr>
              <a:t>乐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了，帮大人</a:t>
            </a:r>
            <a:r>
              <a:rPr b="1" lang="zh-CN" sz="3200" spc="-1" strike="noStrike">
                <a:solidFill>
                  <a:srgbClr val="ff3399"/>
                </a:solidFill>
                <a:latin typeface="Tahoma"/>
                <a:ea typeface="楷体_GB2312"/>
              </a:rPr>
              <a:t>抱着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桂花树，</a:t>
            </a:r>
            <a:r>
              <a:rPr b="1" lang="zh-CN" sz="3200" spc="-1" strike="noStrike">
                <a:solidFill>
                  <a:srgbClr val="ff3399"/>
                </a:solidFill>
                <a:latin typeface="Tahoma"/>
                <a:ea typeface="楷体_GB2312"/>
              </a:rPr>
              <a:t>使劲地摇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。桂花纷纷落下来，我们满头满身都是桂花。我喊</a:t>
            </a:r>
            <a:r>
              <a:rPr b="1" lang="zh-CN" sz="3200" spc="-1" strike="noStrike">
                <a:solidFill>
                  <a:srgbClr val="ff3399"/>
                </a:solidFill>
                <a:latin typeface="Tahoma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99"/>
                </a:solidFill>
                <a:latin typeface="Tahoma"/>
                <a:ea typeface="楷体_GB2312"/>
              </a:rPr>
              <a:t>啊！真像下雨，好香的雨啊！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2" descr="72f182f659956b48bd3109d1"/>
          <p:cNvPicPr/>
          <p:nvPr/>
        </p:nvPicPr>
        <p:blipFill>
          <a:blip r:embed="rId1"/>
          <a:stretch/>
        </p:blipFill>
        <p:spPr>
          <a:xfrm>
            <a:off x="-304920" y="-228600"/>
            <a:ext cx="9772920" cy="73296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24386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爱桂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348000" y="549360"/>
            <a:ext cx="396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7. </a:t>
            </a: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桂花雨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135800" y="3284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摇桂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208880" y="4724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比桂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4356000" y="1989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香气迷人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2627280" y="3716280"/>
            <a:ext cx="16574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4356000" y="3284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ahoma"/>
              </a:rPr>
              <a:t>乐在其中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3360597_202331051033_2"/>
          <p:cNvPicPr/>
          <p:nvPr/>
        </p:nvPicPr>
        <p:blipFill>
          <a:blip r:embed="rId1"/>
          <a:stretch/>
        </p:blipFill>
        <p:spPr>
          <a:xfrm>
            <a:off x="-304920" y="-233280"/>
            <a:ext cx="9753840" cy="7765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ahoma"/>
              </a:rPr>
              <a:t>可是母亲说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99"/>
                </a:solidFill>
                <a:latin typeface="Tahoma"/>
              </a:rPr>
              <a:t>这里的桂花再香，也比不上家乡院子里的桂花。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6:46:19Z</dcterms:created>
  <dc:creator>hjh01</dc:creator>
  <dc:description/>
  <dc:language>en-US</dc:language>
  <cp:lastModifiedBy>Administrator</cp:lastModifiedBy>
  <dcterms:modified xsi:type="dcterms:W3CDTF">2014-10-20T14:45:29Z</dcterms:modified>
  <cp:revision>141</cp:revision>
  <dc:subject/>
  <dc:title>桂花雨</dc:title>
</cp:coreProperties>
</file>