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FFE-66A7-4BED-AAE8-7778D2CC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3BE-4D7F-4CFB-A6E3-402FD52F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C08-E8E5-4DFC-B8D6-F441B71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949-6C7A-4961-A4B2-DE59ABB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982-6EF2-40E6-B0DA-1FAF62E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828-7691-404A-8E98-4B6D893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16F-D87D-4501-AC89-FE947A3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6E0-60D5-448A-B041-76AF0C7E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36D-360D-4986-B7D8-9F93E48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F94-2FD1-4A88-9FA9-DC4C6D8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AA9-DA76-4151-8050-D267A30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5C9-2CC4-4871-A177-F0467A7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1545-5AA1-4FF0-9E38-A4D2AA77B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500"/>
            </a:br>
            <a:r>
              <a:rPr b="0" lang="zh-CN" sz="8500" spc="-1" strike="noStrike">
                <a:solidFill>
                  <a:srgbClr val="f69616"/>
                </a:solidFill>
                <a:latin typeface="Arial"/>
                <a:ea typeface="隶书"/>
              </a:rPr>
              <a:t>桂花雨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08720" y="1557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789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3200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411280" y="378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780000" y="450864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044720" y="3789360"/>
            <a:ext cx="10944360" cy="47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981000"/>
            <a:ext cx="8964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     ），整个村子都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桂花的香气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973080" y="3716280"/>
            <a:ext cx="1094400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981000"/>
            <a:ext cx="89647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全年，整个村子都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浸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桂花的香气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3640" y="5950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5877000"/>
            <a:ext cx="2016000" cy="447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08360" y="1268280"/>
            <a:ext cx="52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下，我可乐了，帮大人抱着桂花树，使劲地摇。摇呀摇，桂花纷纷落下来，我们满头满身都是桂花。我喊着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啊！真像下雨，好香的雨啊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med">
    <p:blinds dir="ver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843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3640" y="5950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5877000"/>
            <a:ext cx="201600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211640" y="981000"/>
            <a:ext cx="471636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，</a:t>
            </a: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      （         ）</a:t>
            </a: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香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f74d31"/>
                </a:solidFill>
                <a:latin typeface="隶书"/>
                <a:ea typeface="隶书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843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189080" y="3789360"/>
            <a:ext cx="1094436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700280"/>
            <a:ext cx="964872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里的桂花再香，也比不上家乡院子里的桂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557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74d31"/>
                </a:solidFill>
                <a:latin typeface="Arial"/>
                <a:ea typeface="楷体_GB2312"/>
              </a:rPr>
              <a:t>于是，我又想起了在故乡童年时代的“摇花乐”，还有那摇落的阵阵桂花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743280" cy="294336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4251600" y="4762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琦君：原名潘希真，散文家、小说家，一生飘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162864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９１７年生于浙江温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１岁跟随父亲来到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３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迁至台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０岁旅居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４岁回到故乡温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７岁回到台湾居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年８９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116000" y="3716280"/>
            <a:ext cx="1094436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700280"/>
            <a:ext cx="964872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里的桂花再香，也比不上家乡院子里的桂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458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26920" y="5734080"/>
            <a:ext cx="129708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124000" y="5734080"/>
            <a:ext cx="1297080" cy="57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360" y="0"/>
            <a:ext cx="3888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满 觉 陇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846920" y="5805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948360" y="5734080"/>
            <a:ext cx="129708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724360" y="5734080"/>
            <a:ext cx="1297080" cy="57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932360" y="1125360"/>
            <a:ext cx="38876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品 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清 张云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西湖八月足清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何处香通鼻观幽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s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满觉陇旁金粟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du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天风吹堕万山秋。</a:t>
            </a: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608360" cy="46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00000" y="5661000"/>
            <a:ext cx="12970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297080" cy="57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0"/>
            <a:ext cx="388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满觉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828720" y="3789360"/>
            <a:ext cx="10944360" cy="4724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700280"/>
            <a:ext cx="964872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里的桂花再香，也比不上家乡院子里的桂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6828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可是桂花的香气，太迷人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桂花盛开的时候，不说香飘十里，至少前后十几家邻居，没有不浸在桂花香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我喊着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啊！真像下雨，好香的雨啊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全年，整个村子都浸在桂花的香气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684360" y="3716280"/>
            <a:ext cx="1094436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9280" y="1484280"/>
            <a:ext cx="842472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全年，整个村子都浸在桂花的香气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a5"/>
            </a:gs>
            <a:gs pos="50000">
              <a:srgbClr val="fefefe"/>
            </a:gs>
            <a:gs pos="100000">
              <a:srgbClr val="f9f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900000" y="3789360"/>
            <a:ext cx="109440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981000"/>
            <a:ext cx="89647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4d31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全年，整个村子都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浸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桂花的香气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全年，整个村子都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着桂花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3:46:24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Windows XP Mode</cp:lastModifiedBy>
  <dcterms:modified xsi:type="dcterms:W3CDTF">2011-07-18T02:08:03Z</dcterms:modified>
  <cp:revision>188</cp:revision>
  <dc:subject>绿色圃中小学教育网http://www.lspjy.com</dc:subject>
  <dc:title>绿色圃中小学教育网http://www.lspjy.com</dc:title>
</cp:coreProperties>
</file>