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Button18.wav" ContentType="audio/x-wav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DF1-3C26-4AA0-ABFB-86D9F98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B14-F183-459A-873B-4D064C18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A58-7C8E-4725-BF55-186F9139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BFA-EC38-4DD4-879A-FB31483E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D439-02F1-4E84-8913-2F174AEF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8E2-36D3-43CA-AABD-66F53C0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452-41C3-4891-8262-E97CD9F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BF39-D2AE-4842-A0EA-1F0D6E2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7CD0-2807-400A-973C-24CFECC8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F6D-9C25-4CB4-A772-7B32477A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6C62-8E1C-4E0A-B03D-31DCC2C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8C5-C628-418B-A61B-6D5CCAF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BD41-8605-4BB8-96A3-FD926BD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564-2024-41E2-85FD-96B4921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6D2C-DB4C-4894-B8F3-971337B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6C02-291E-4A33-B970-F5F8F34E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394-ACFC-47DD-82DB-76016940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B85-5979-4E84-AA3A-50E1B200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EA1-0DE5-490E-8DB2-6F4EE00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050-5BF5-4F02-ACBC-3C37043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12B-FDC5-48A4-B975-8C419428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F0C-B92A-412F-9CF8-354CE20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335-EDC8-47CA-A99D-9C5C924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DA5-44FC-4348-A47E-7964F6D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E70-7E07-44DB-996A-A6905C2B35A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71B-C630-4EC9-A967-CFFFA0BED8F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utton18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桂花雨01"/>
          <p:cNvPicPr/>
          <p:nvPr/>
        </p:nvPicPr>
        <p:blipFill>
          <a:blip r:embed="rId2"/>
          <a:stretch/>
        </p:blipFill>
        <p:spPr>
          <a:xfrm>
            <a:off x="1547640" y="0"/>
            <a:ext cx="5310360" cy="6586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-252360" y="28440"/>
            <a:ext cx="59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274000" y="1197000"/>
            <a:ext cx="31064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ahoma"/>
                <a:ea typeface="楷体_GB2312"/>
              </a:rPr>
              <a:t>桂花雨</a:t>
            </a:r>
            <a:endParaRPr b="0" lang="en-US" sz="9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486160" y="554616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根据上节课所学内容给课文分段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段（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小时候，我最喜欢桂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二段（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回忆童年时代“摇桂花”和“收桂花”情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三段（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母亲爱家乡金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第一节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本节写了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喜欢桂花的原因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什么方法突出桂花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第二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桂花盛开的时候，不说香飘十里，至少前后十几家邻居，没有不浸在桂花香里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写出了桂花香的浓郁持久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416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三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、读课文用横线划出“摇桂花”时的一系列动作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铺、抱、摇、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“啊！真像下雨！好香的雨呀！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、读下面内容思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撮”写出了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口占一绝”什么意思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第四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桂花摇落后，全家人怎么做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拣、铺、晒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收、泡茶、糕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244000" y="5805360"/>
            <a:ext cx="649080" cy="64800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-81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820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全年，整个村子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桂花的香气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桂花盛开的时候，不说香飘十里，至少前后十几家邻居，没有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桂花香里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象地写出了桂花的香气，不仅开花香，晾干了泡茶、做饼也同样香气弥漫。桂花，永远香在人们的心里，也香甜了人们的生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第五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可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说：“外地的桂花再香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是比不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家乡旧宅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的金桂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是说其他地方的桂花不香，而是在故乡，桂花已充盈了母亲的生活，馈赠桂花，吃桂花的食品，喝桂花茶，是母亲生活乃至生命的一部分。母亲是用情感在体味桂花，因而觉得家乡的桂花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第六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我就会想起了童年时代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花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有那阵阵的桂花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淡淡的一句话，却传递出了作者对于故乡桂花的深深怀念。“摇花乐”和桂花雨已经植入了作者的生命，成为他幸福童年的最美好、最耐人回味的记忆。这是作者难忘的原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168840 w 718920"/>
              <a:gd name="textAreaRight" fmla="*/ 549720 w 71892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桂花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桂花：也称木犀，木犀科。花为黄色或白色，极香，花期中秋。核果椭圆形，蓝紫色，翌年夏初成熟。种类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桂（金黄色）、丹桂（橙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、银桂（较白）、四季桂（稍白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是传统的名贵香花，城市绿化、美化的重要树种。桂花经蜜饯后，可做各种甜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1" name="内容占位符 3" descr="2007083002553254036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3" name="内容占位符 3" descr="guihusga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324000" y="530064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389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扩展思维练习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学习文中的表达方法，写一写 你童年难与忘怀的人和事，或写一写你喜欢的植物或家乡的特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</a:rPr>
              <a:t>再见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05780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5405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215892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700000" y="1413000"/>
            <a:ext cx="591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香        卤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左右      新鲜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尤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吩咐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起        糕饼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仔细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       沉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姿态       口占一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袅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ǎ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容烟气缭绕升腾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3428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70200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阅读课文并思考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说说课文主要讲了一件什么事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什么是桂花雨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Picture 4" descr="045"/>
          <p:cNvPicPr/>
          <p:nvPr/>
        </p:nvPicPr>
        <p:blipFill>
          <a:blip r:embed="rId2"/>
          <a:stretch/>
        </p:blipFill>
        <p:spPr>
          <a:xfrm>
            <a:off x="7451640" y="260280"/>
            <a:ext cx="10778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品读课文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19Z</dcterms:created>
  <dc:creator>hjh01</dc:creator>
  <dc:description/>
  <dc:language>en-US</dc:language>
  <cp:lastModifiedBy>Xtzj.User</cp:lastModifiedBy>
  <dcterms:modified xsi:type="dcterms:W3CDTF">2013-07-19T16:15:13Z</dcterms:modified>
  <cp:revision>143</cp:revision>
  <dc:subject/>
  <dc:title>桂花雨</dc:title>
</cp:coreProperties>
</file>