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322-31EA-42BF-A342-94CD7EDE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BCD-4B21-4660-A600-416A7D0E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DB9-C43A-4481-8122-42AE53DE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93F-A930-4F8A-8304-AB3A8A11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7E52-40C8-4680-92FD-66713F1F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113E-B951-4AD7-BA55-C4503518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6FBF-E30B-4D5C-BB3A-3498697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8E4E-6050-4431-8DC9-D63BB9B2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F62E-E3B5-4D52-B98E-475B42E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6689-0EFE-4A28-8253-B45031E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2071-342F-43E7-A1A5-86D337D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4D0-736D-439F-8E1E-ED69A95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250F-EF75-4DB7-829D-F6AEACE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455-A956-466E-865C-A3A5AA5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CDA-96C8-4F6D-A7EC-D2C41A70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9F25-127A-45AF-9C25-A25700D4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9CA5-CECC-4C4F-BA30-10E688DE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18A-322B-49A5-8259-8A749580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147-1DAD-4ECB-BEF5-879F78B7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FA3-F45B-4779-B1A7-0BCE7A2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52B-50E4-427F-9AFC-98818DA5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083-A581-409A-9578-F0FE703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71F-0700-4703-956D-00ED1A7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E43-D5C0-46D9-8393-2477D53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909E-84D4-41E1-9DEE-91452097D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7C8-D54F-4B05-A408-F86F1BA1239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&#20316;&#32773;&#20171;&#32461;&#65306;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6,1,&#36807;&#25925;&#20154;&#24196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new09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Arial"/>
                <a:ea typeface="黑体"/>
              </a:rPr>
              <a:t>过故人庄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孟浩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3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360" y="83628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3644640"/>
            <a:ext cx="854064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。从这首诗你体会到了诗人什么样的情感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9720" y="752400"/>
            <a:ext cx="789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57360"/>
            <a:ext cx="815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读了这首诗，你知道它讲述了一件什么事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83628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3644640"/>
            <a:ext cx="854064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。从这首诗你体会到了诗人什么样的情感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表达了老朋友之间的诚挚的友谊，也流露出诗人对田园生活的向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9720" y="752400"/>
            <a:ext cx="789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6360" y="65736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读了这首诗，你知道它讲述了一件什么事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叙述了诗人到农家做客首到热情款待的经过。描绘了恬静的田园风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邀</a:t>
            </a: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故人具鸡黍，邀我至田家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917720"/>
            <a:ext cx="4190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首联：体现了朋友之间亲密的关系，平实、自然，然而情意深切绵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心情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开心，高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4068720" y="3357720"/>
            <a:ext cx="4551480" cy="2693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来：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绿树村边合，青山郭外斜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1911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颔联写出了农村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优美风光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，恬静宜人。犹如一幅清淡的水墨画，景中充溢诗人激动喜悦之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2"/>
          <a:stretch/>
        </p:blipFill>
        <p:spPr>
          <a:xfrm>
            <a:off x="4068720" y="3645000"/>
            <a:ext cx="447840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话：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开轩面场圃，把酒话桑麻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1911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颈联，写了诗人到故人家里开窗畅饮，亲切谈话的情景，看到农家的劳动生活，和前一句一起勾画出一幅优美宁静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田园生活图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2"/>
          <a:stretch/>
        </p:blipFill>
        <p:spPr>
          <a:xfrm>
            <a:off x="4141800" y="3933720"/>
            <a:ext cx="4464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5900"/>
                </a:solidFill>
                <a:latin typeface="Arial"/>
              </a:rPr>
              <a:t>别：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待到重阳日，还来就菊花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1917720"/>
            <a:ext cx="41911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尾联收束，却又开出新意，更觉老友之间情深意厚，使人读后回味无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感情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依依不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Rectangle 3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43354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首诗看起来平淡无奇，却充满回归自然的情趣。秀美如画的景致，闲适安逸的农家生活让诗人向往，真挚深厚的友情让诗人眷恋。语言朴实无华，意境清新隽永。这种淡淡的平易近人的风格，与他描写的朴实的农家田园是惊人地和谐，表现了形式与内容的高度一致，足见诗人的非凡功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请你根据对这首诗的理解画一幅画，或用第一人称写一篇优美散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8000" y="1628640"/>
            <a:ext cx="5904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谢谢，再见！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2"/>
              </a:rPr>
              <a:t>作者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介绍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孟浩然，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689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约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74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），唐代诗人。襄州襄阳人。中年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4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岁）曾经应过考。但没有中，有加上当时是奸臣李林甫党宰相。诗人因此而离开长安。又去各地游玩。最后在福州做了三年的小官。死在任上。时年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5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岁。他写了一些田园诗。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是初盛唐过渡时期最有成就的诗人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对于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唐代山水田园诗派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的形成起了非常重要的作用。他的诗绝大部分都是五言诗，偏重于描写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自然景色，形象清新，生动自然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433"/>
                </a:solidFill>
                <a:latin typeface="方正粗圆简体"/>
                <a:ea typeface="方正粗圆简体"/>
              </a:rPr>
              <a:t>初读</a:t>
            </a:r>
            <a:r>
              <a:rPr b="1" lang="zh-CN" sz="3600" spc="-1" strike="noStrike">
                <a:solidFill>
                  <a:srgbClr val="003433"/>
                </a:solidFill>
                <a:latin typeface="Andalus"/>
                <a:ea typeface="Andalus"/>
              </a:rPr>
              <a:t>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字音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黍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郭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xi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轩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xu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阳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c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ó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Picture 5" descr="http://www.dxfsky.com/tangshi/images/t-shi008_jp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Program Files\Microsoft FrontPage\clipart\clip1\EN00522A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5562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自由朗读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同学们按照诗歌的意境来朗读诗歌。要注意诗歌的句子中的节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诗歌内容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3360" y="1988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故人具鸡黍，邀我至田家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绿树村边合，青山郭外斜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开轩面场圃，把酒话桑麻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待到重阳日，还来就菊花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理解诗歌的意思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要译出诗歌的基本意思。不要求完全相同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同学们可以互相的讨论。看看你们在翻译的时候和别的同学有哪些地方是不同的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2160" y="260280"/>
            <a:ext cx="84949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故人：老朋友，旧相识。   具：臵办，准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鸡黍：肉鸡及黍米，代指田家的家常菜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邀：约请。   至：来到。    田家：故人之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合：合拢，指环村皆绿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郭：本义指外城，城、郭合成词时，城指内城墙，郭指外城墙，也可以泛指城墙；引申后，凡四周及外部皆称郭，此处郭指村郭──村庄的四面。     斜：迤逦远去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开轩面场圃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打开窗子面对打谷场和菜园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把酒：拿起酒杯。     桑麻：这里泛指庄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重阳日：九月九日重阳节。   就菊花：指欣赏菊花与饮酒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诗歌的意思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故人准备了好酒好菜，邀请我做客来到他家。村边的绿树合抱环绕，墙外青山歪斜的样子隐约可以看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坐在窗户边，打开窗户面对打谷场和菜园子，和主人端着酒杯倾谈农事桑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待到九九重阳佳节的时候，我还要来喝酒欣赏菊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55:59Z</dcterms:created>
  <dc:creator>Microsoft.com</dc:creator>
  <dc:description/>
  <dc:language>en-US</dc:language>
  <cp:lastModifiedBy>明辉电脑</cp:lastModifiedBy>
  <dcterms:modified xsi:type="dcterms:W3CDTF">2014-11-13T03:03:00Z</dcterms:modified>
  <cp:revision>16</cp:revision>
  <dc:subject/>
  <dc:title>过故人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