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60D-DE51-4EF4-B7A4-B6CAE7C2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C34-A220-49C0-BA76-9D133476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805E-AF45-422E-B000-37C13289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49A8-C2A5-452D-9F66-FA7D2A1D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B9F0-2B08-4BEE-954E-B5D52540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A4BD-8CF8-4172-8931-941EA2A3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02F2-4A64-4A9B-8950-F5D624C7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8EF8-E105-45FA-994A-291CE642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AD67-F0E7-4B2D-8930-595CB1C6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7475-4019-4562-A1FA-51DDE134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A907-3710-42EB-89EF-CB96E530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5206-2DE9-4805-BB8A-17026DB9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6211-C3AA-44FD-A7C8-1A7DA13E589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81EC-2B7E-4E09-A1EA-C171F3C50A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image/6dc09e0adce56e0eb1351dcb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1557360"/>
            <a:ext cx="56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楷体"/>
              </a:rPr>
              <a:t>过故人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48360" y="342900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孟浩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A95D2-4A78-42E8-9C04-EE5A5215EE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h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</a:rPr>
              <a:t>故人具鸡黍，邀我至田家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xiá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</a:rPr>
              <a:t>绿树村边合，青山郭外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</a:rPr>
              <a:t>开轩面场圃，把酒话桑麻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u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</a:rPr>
              <a:t>待到重阳日，还来就菊花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4821C-6A1A-42BB-A665-E1C389FAD8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：拜访，探访，看望。故人庄：老朋友的田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具：准备。具鸡黍：杀鸡做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合：环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轩：指窗户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菊花：指欣赏菊花与饮酒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82BB2-D11E-4F41-ABBC-6F38FDBBB3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</a:rPr>
              <a:t>故人具鸡黍，邀我至田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</a:rPr>
              <a:t>绿树村边合，青山郭外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</a:rPr>
              <a:t>开轩面场圃，把酒话桑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</a:rPr>
              <a:t>待到重阳日，还来就菊花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125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老友备好了丰盛的饭菜，邀我到他的田舍做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280" y="2565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村外绿树环绕，村子的四周青山斜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4221000"/>
            <a:ext cx="37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5589720"/>
            <a:ext cx="40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40766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打开窗子面对打谷场和菜园，把酒对饮畅谈农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551664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等到九月重阳节的那一天，我还要来饮酒赏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6C136-FDF9-4F2A-996F-0209E0F449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987280" y="189000"/>
            <a:ext cx="59770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孟浩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68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4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唐代诗人，本名浩，字浩然。襄州襄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湖北襄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，世称孟襄阳。以写田园山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诗为主。是唐代一位不甘隐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却以隐居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的诗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早年在家隐居读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曾到过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安应试求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失意而返回故里。曾在太学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诗，名动公卿，一座倾服，为之搁笔。他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维交谊甚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孟诗绝大部分为五言短篇，多写山水田园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隐居的逸兴以及羁旅行役的心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首诗是作者早年隐居鹿门山时，应故人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请到农做客时所写，描述了田园生活的乐趣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2627280" cy="458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64000" cy="22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4D7F8-7ABC-4944-B4A5-07C04DA17E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以反映田园生活、描绘山水景物为主要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代表人物有盛唐的王维、孟浩然、储光羲、常建等，中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韦应物、柳宗元等。其中以王维成就为高，他是诗人，又是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家，能以画理通之于诗，诗中有画，画中有诗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文人的隐逸情怀也与山水田园诗的形成有紧密的关系，但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际并非为隐而隐，而是酿成了一种向往自然、追求超然独立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文化心态和崇尚自然的审美趣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孟浩然除了《过故人庄》以外还有《宿建德江》、《临洞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湖赠张丞相》表现其高雅情怀和闲情逸致。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山水田园诗派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33640-8918-4012-A52B-343BB85268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3:16:27Z</dcterms:created>
  <dc:creator>HP</dc:creator>
  <dc:description/>
  <dc:language>en-US</dc:language>
  <cp:lastModifiedBy>微软用户</cp:lastModifiedBy>
  <dcterms:modified xsi:type="dcterms:W3CDTF">2014-09-29T13:50:23Z</dcterms:modified>
  <cp:revision>6</cp:revision>
  <dc:subject/>
  <dc:title>幻灯片 1</dc:title>
</cp:coreProperties>
</file>