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chimes.wav" ContentType="audio/x-wav"/>
  <Override PartName="/ppt/media/image32.wmf" ContentType="image/x-wmf"/>
  <Override PartName="/ppt/media/image20.jpeg" ContentType="image/jpeg"/>
  <Override PartName="/ppt/media/image19.jpeg" ContentType="image/jpeg"/>
  <Override PartName="/ppt/media/image25.png" ContentType="image/png"/>
  <Override PartName="/ppt/media/image18.jpeg" ContentType="image/jpeg"/>
  <Override PartName="/ppt/media/image26.png" ContentType="image/png"/>
  <Override PartName="/ppt/media/image17.jpeg" ContentType="image/jpeg"/>
  <Override PartName="/ppt/media/image15.jpeg" ContentType="image/jpeg"/>
  <Override PartName="/ppt/media/image8.jpeg" ContentType="image/jpeg"/>
  <Override PartName="/ppt/media/image29.wmf" ContentType="image/x-wmf"/>
  <Override PartName="/ppt/media/image13.jpeg" ContentType="image/jpeg"/>
  <Override PartName="/ppt/media/image11.jpeg" ContentType="image/jpeg"/>
  <Override PartName="/ppt/media/image9.jpeg" ContentType="image/jpeg"/>
  <Override PartName="/ppt/media/Lizt04a.wav" ContentType="audio/x-wav"/>
  <Override PartName="/ppt/media/image30.wmf" ContentType="image/x-wmf"/>
  <Override PartName="/ppt/media/image6.jpeg" ContentType="image/jpeg"/>
  <Override PartName="/ppt/media/image33.wmf" ContentType="image/x-wmf"/>
  <Override PartName="/ppt/media/image12.jpeg" ContentType="image/jpeg"/>
  <Override PartName="/ppt/media/image28.png" ContentType="image/png"/>
  <Override PartName="/ppt/media/image31.wmf" ContentType="image/x-wmf"/>
  <Override PartName="/ppt/media/image7.jpeg" ContentType="image/jpeg"/>
  <Override PartName="/ppt/media/image34.wmf" ContentType="image/x-wmf"/>
  <Override PartName="/ppt/media/image10.jpeg" ContentType="image/jpeg"/>
  <Override PartName="/ppt/media/image14.png" ContentType="image/png"/>
  <Override PartName="/ppt/media/image5.jpeg" ContentType="image/jpeg"/>
  <Override PartName="/ppt/media/image4.jpeg" ContentType="image/jpeg"/>
  <Override PartName="/ppt/media/image3.jpeg" ContentType="image/jpeg"/>
  <Override PartName="/ppt/media/image24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27.gif" ContentType="image/gif"/>
  <Override PartName="/ppt/media/image35.wmf" ContentType="image/x-wmf"/>
  <Override PartName="/ppt/media/TYPE.WAV" ContentType="audio/x-wav"/>
  <Override PartName="/ppt/media/image1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40D07-D009-42D0-940A-C17BCA87D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0187B-80CA-499F-B2F0-6ED04661E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3F020-8EF7-451E-A1EB-8C6EA585B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D55D3-464A-49D8-A4D8-CB47C28E8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AA069-9F79-4A97-A268-7C844BFC5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1637B-1546-4DB2-AC7F-4AC5F2511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80974-B377-42DA-BC10-61660B193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1D0C9-3B80-44A5-8A01-60FD791C5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99B97-828C-4600-93AD-4FE7858D0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0D900-B0F1-45C8-9DE4-A6860AC78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CF4D0-375C-461A-A5BC-C792DD219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07C88-401F-48D4-97C7-C0DD4E71E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EF651-AA6C-4F79-8F12-D715DFDFD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81230-F3E8-49F6-8D54-B219D1EF0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92172-6C4B-457D-866D-6E6C4300A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40038-6BBB-49F0-8885-FEB1D9279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E132D-AF11-4AAF-87B0-9285AA0A5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47B4A-7D73-46F2-BEB8-ED4FC9A49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E9FBD-A22D-4F65-BABE-F1DAB8ACB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C6AA4-3C90-45E1-9981-22AE25ED8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EB31E-92C6-42FE-8BDF-2DF70696C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1BE2B-CB8A-41FD-816E-A87EB9F6C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BC66A-3337-4D6D-811F-A95AE4A34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2FD00-E5E7-4E13-9EB1-1DB2606CC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66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SzPct val="80000"/>
              <a:buFont typeface="Wingding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ff"/>
              </a:buClr>
              <a:buSzPct val="80000"/>
              <a:buFont typeface="Wingding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66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CF976-EA03-427F-BAF4-894707C050BB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6C008-092D-41B1-932F-E2217184515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560" y="22856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F0591-21DC-46B7-993D-05FD216FF7DB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AE2D3-4A4E-4263-8BB3-EC543345CE8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" Target="slide3.xml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9.xml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9.xml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9.xml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9.xml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9.xml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9.xml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0.xml"/><Relationship Id="rId3" Type="http://schemas.openxmlformats.org/officeDocument/2006/relationships/slide" Target="slide22.xml"/><Relationship Id="rId4" Type="http://schemas.openxmlformats.org/officeDocument/2006/relationships/slide" Target="slide25.xml"/><Relationship Id="rId5" Type="http://schemas.openxmlformats.org/officeDocument/2006/relationships/slide" Target="slide26.xml"/><Relationship Id="rId6" Type="http://schemas.openxmlformats.org/officeDocument/2006/relationships/slide" Target="slide23.xml"/><Relationship Id="rId7" Type="http://schemas.openxmlformats.org/officeDocument/2006/relationships/slide" Target="slide66.xml"/><Relationship Id="rId8" Type="http://schemas.openxmlformats.org/officeDocument/2006/relationships/slide" Target="slide35.xml"/><Relationship Id="rId9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image" Target="../media/image27.gif"/><Relationship Id="rId4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image" Target="../media/image28.png"/><Relationship Id="rId4" Type="http://schemas.openxmlformats.org/officeDocument/2006/relationships/image" Target="../media/image29.wmf"/><Relationship Id="rId5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Lizt04a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pptx"/><Relationship Id="rId3" Type="http://schemas.openxmlformats.org/officeDocument/2006/relationships/image" Target="../media/image30.wmf"/><Relationship Id="rId4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pptx"/><Relationship Id="rId3" Type="http://schemas.openxmlformats.org/officeDocument/2006/relationships/image" Target="../media/image31.wmf"/><Relationship Id="rId4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pptx"/><Relationship Id="rId3" Type="http://schemas.openxmlformats.org/officeDocument/2006/relationships/image" Target="../media/image32.wmf"/><Relationship Id="rId4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pptx"/><Relationship Id="rId3" Type="http://schemas.openxmlformats.org/officeDocument/2006/relationships/image" Target="../media/image33.wmf"/><Relationship Id="rId4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pptx"/><Relationship Id="rId3" Type="http://schemas.openxmlformats.org/officeDocument/2006/relationships/image" Target="../media/image35.wmf"/><Relationship Id="rId4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jpeg"/><Relationship Id="rId3" Type="http://schemas.openxmlformats.org/officeDocument/2006/relationships/audio" Target="../media/chimes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9.xm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71360" y="475920"/>
            <a:ext cx="7785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93840" y="1988640"/>
            <a:ext cx="763416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66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战国时期，七雄并举，秦国地处西域却异军突起，称霸天下，其实力可见一斑，经李斯辅佐，改革兴政，国力则更是强盛，可为何仅短短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年的时间就被推翻了呢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让我们来看一看西汉政治家、文学家在《过秦论》中的见解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B1BECA-8E22-47A7-BF9F-14F799B3DA2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412596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Arial"/>
              </a:rPr>
              <a:t>贾谊简介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1280" y="1197000"/>
            <a:ext cx="4716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7c8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西汉洛阳（现在河南省洛阳市）人，西汉杰出的政论家、文学家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岁时以文才显名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岁被汉文帝刘恒召为博士，不久迁太中大夫，参与政事，颇受倚重。后因提议改革政治，遭权贵嫉妒、毁谤，贬为长沙王太傅。转任梁怀王太傅。梁怀王坠马而死，他“自伤为傅无状”，一年后也忧郁而死，年仅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岁。世称贾生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贾太傅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贾长沙。与屈原合称“屈贾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932360" y="836640"/>
            <a:ext cx="4211640" cy="5373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49AE09-AE4E-48C5-904C-FF0E98A48BA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250920" y="549360"/>
            <a:ext cx="419400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6666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贾谊主张政治改革，削弱诸侯王势力，加强中央集权，重视农业生产，以巩固封建国家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6666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他的改革主张遭到一些贵族和大臣的打击、诬陷，死时仅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33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岁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4572000" y="692280"/>
            <a:ext cx="4129200" cy="5349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B5B880-235D-4415-ABFF-D45CE6F1692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1116000" y="3500280"/>
            <a:ext cx="6300720" cy="33577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791880" y="3933720"/>
            <a:ext cx="127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Times New Roman"/>
                <a:ea typeface="隶书"/>
              </a:rPr>
              <a:t>贾谊井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39640" y="260280"/>
            <a:ext cx="70930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贾谊的文章议论风发，挥洒自如，气势磅礴，雄辩有力，感染力极强。对当时和后世都很有影响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代表作品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辞赋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以《吊屈原赋》、《鹏鸟赋》为最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政论文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以《过秦论》、《陈政事疏》、《论积贮疏》为代表。后人编有他的政论文集《新书》十卷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F7D967-9113-410B-A920-E55FDEC47CA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1258920" y="0"/>
            <a:ext cx="788508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72072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Arial"/>
              </a:rPr>
              <a:t>创作背景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C95257-6313-46C3-984A-D5C030DEE28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675000" y="52380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战国时代各国改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33800" y="1224000"/>
            <a:ext cx="2070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魏国——李悝变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楚国——吴起变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韩国——申不害变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秦国——商鞅变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最彻底最有效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03720" y="36925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秦国外交大获全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3800" y="4468680"/>
            <a:ext cx="207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范雎——远交近攻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张仪——连衡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李斯、尉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—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反间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3038400" y="0"/>
            <a:ext cx="61056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24DAE7-0B37-4848-B305-D3FA5BB02FF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0" y="-648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3780000" y="508464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前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230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995640" y="328464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前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228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076720" y="414972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前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227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796000" y="522936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前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223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372360" y="350028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前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221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651640" y="177336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前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222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>
            <a:hlinkClick r:id="rId3" action="ppaction://hlinksldjump"/>
          </p:cNvPr>
          <p:cNvSpPr/>
          <p:nvPr/>
        </p:nvSpPr>
        <p:spPr>
          <a:xfrm>
            <a:off x="8604360" y="6453360"/>
            <a:ext cx="539640" cy="404640"/>
          </a:xfrm>
          <a:custGeom>
            <a:avLst/>
            <a:gdLst>
              <a:gd name="textAreaLeft" fmla="*/ 25920 w 539640"/>
              <a:gd name="textAreaRight" fmla="*/ 513720 w 53964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10800"/>
                </a:moveTo>
                <a:lnTo>
                  <a:pt x="21406" y="3794"/>
                </a:lnTo>
                <a:lnTo>
                  <a:pt x="21406" y="17806"/>
                </a:lnTo>
                <a:close/>
              </a:path>
            </a:pathLst>
          </a:cu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24000" y="1197000"/>
            <a:ext cx="16556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齐魏“马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之战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秦赵“长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之战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秦楚经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交涉，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力打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6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万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5653EE-2DC4-4FE1-9867-3BA0486FD34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807732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7317720" y="0"/>
            <a:ext cx="1826280" cy="6858000"/>
          </a:xfrm>
          <a:prstGeom prst="rect">
            <a:avLst/>
          </a:prstGeom>
          <a:solidFill>
            <a:srgbClr val="6666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66"/>
                </a:solidFill>
                <a:latin typeface="Times New Roman"/>
                <a:ea typeface="黑体"/>
              </a:rPr>
              <a:t>战国时期的场面战争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>
            <a:hlinkClick r:id="" action="ppaction://hlinkshowjump?jump=nextslide"/>
          </p:cNvPr>
          <p:cNvSpPr/>
          <p:nvPr/>
        </p:nvSpPr>
        <p:spPr>
          <a:xfrm>
            <a:off x="7315200" y="6324480"/>
            <a:ext cx="457200" cy="30492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30975" y="1400"/>
                </a:lnTo>
                <a:lnTo>
                  <a:pt x="1400" y="1400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30975" y="20200"/>
                </a:lnTo>
                <a:lnTo>
                  <a:pt x="30975" y="1400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5" y="20200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75" h="21600">
                <a:moveTo>
                  <a:pt x="9181" y="3794"/>
                </a:moveTo>
                <a:lnTo>
                  <a:pt x="23194" y="10800"/>
                </a:lnTo>
                <a:lnTo>
                  <a:pt x="9181" y="17806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7632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0B3087-5AE1-42C0-8902-89B30A83F626}" type="datetime1">
              <a:rPr lang="en-US"/>
              <a:t>07/29/26</a:t>
            </a:fld>
          </a:p>
        </p:txBody>
      </p:sp>
    </p:spTree>
  </p:cSld>
  <p:transition spd="slow">
    <p:zoom dir="in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1" fill="hold"/>
                                        <p:tgtEl>
                                          <p:spTgt spid="1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31640" y="-360"/>
            <a:ext cx="543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Arial"/>
              </a:rPr>
              <a:t>秦始皇灭六国时间表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66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秦始皇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66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公元前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3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年灭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韩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66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公元前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2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年，攻邯郸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年后灭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赵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66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公元前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2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年，决河水灌大梁城，灭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魏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66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公元前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2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年，派王翦率军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6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万灭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66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公元前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2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年，灭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燕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66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公元前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2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年，灭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齐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4643280" y="1197000"/>
            <a:ext cx="4268880" cy="5256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47F2D0-B464-49B5-8DDC-729FEA555E7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0" y="1268280"/>
            <a:ext cx="48592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66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推行郡县制，横征暴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66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大行封禅之典、大兴土木，营造阿房宫和陵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66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文化实行专制，焚书坑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66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缴获民间兵器，铸成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铜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66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北筑万里长城，广修驰道，南开灵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66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大动干戈，北抵匈奴，南击闽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66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动辄征夫百万，杀人如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405080" y="40464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秦王朝推行暴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4782960" y="0"/>
            <a:ext cx="4361040" cy="307512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4786200" y="3068640"/>
            <a:ext cx="4357800" cy="267336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4"/>
          <a:stretch/>
        </p:blipFill>
        <p:spPr>
          <a:xfrm>
            <a:off x="0" y="5732640"/>
            <a:ext cx="4503600" cy="11253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5"/>
          <a:stretch/>
        </p:blipFill>
        <p:spPr>
          <a:xfrm>
            <a:off x="4773600" y="5730840"/>
            <a:ext cx="4370400" cy="1127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8ED717-E825-4AD8-9D5D-5C6D48C595D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194000" cy="31813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4641840" y="0"/>
            <a:ext cx="4502160" cy="336384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4"/>
          <a:stretch/>
        </p:blipFill>
        <p:spPr>
          <a:xfrm>
            <a:off x="0" y="3497400"/>
            <a:ext cx="4432320" cy="336060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5"/>
          <a:stretch/>
        </p:blipFill>
        <p:spPr>
          <a:xfrm>
            <a:off x="4643280" y="3497400"/>
            <a:ext cx="4500720" cy="3360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EB81DF-FAF9-4EDF-8B55-86E14EBBA76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B88950-9A37-4C2F-A549-850F74CA4A2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5003280" y="764640"/>
            <a:ext cx="354996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66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汉文帝时期，是封建时代的所谓“盛世”，即旧史家艳称的“文景之治”的前期。这时，由于秦末衰敝的社会经济的恢复和发展，人民生活得到相对安定，社会呈现出繁荣的景象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468360" y="476280"/>
            <a:ext cx="4060800" cy="5626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50D857-7973-4086-A96E-DEE6350C7FF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324000" y="620640"/>
            <a:ext cx="854064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66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但是随着社会财富的增加，统治阶级中“淫侈之俗，日日以长”（贾谊《论积贮疏》），权贵豪门大量侵吞农民土地，逼使农民破产流亡，“卖田宅，鬻子孙”（晁错《论贵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粟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疏》），以至“易子而咬其骨”（贾谊《论积贮疏》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66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同时，刑罚苛重，民不聊生。汉文帝“外有轻刑之名，内实杀人”（《资治通鉴》卷十五），表面上废除肉刑，实际上只是改换一些杀人的名目而己。苛重的压迫剥削和酷虐的刑罚，使阶级矛盾日渐激化。而汉文帝周围一些权贵却对此视而不见，麻木不仁，说什么国家“已安已治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66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为了向汉文帝说明政治形势的严重性，他从关乎汉王朝兴亡的角度，写了著名的《陈政事疏》，又名《治安策》，从正面论析时势，提出自己的政治主张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14E58B-A54E-4047-8C29-DC76B289F64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987640" y="-360"/>
            <a:ext cx="2541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66"/>
                </a:solidFill>
                <a:latin typeface="Arial"/>
              </a:rPr>
              <a:t>解 题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78920" y="1052640"/>
            <a:ext cx="85410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6666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过”，名词（过失、过错）作动词（指出…过失、过错）；“过秦”，即“言秦之过”，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指出秦亡国的过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6666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论，一种文体，古文中的所谓“论”，是论断事理，它包括论政，论史等文字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6666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《过秦论》是史论，名为“过秦”，实是“戒汉”。文章总论了秦的兴起，灭亡及其原因，鲜明地提出了本文的中心论点：“仁义不施而攻守之势异也。”其目的是提供给汉文帝作为改革政治的借鉴。</a:t>
            </a:r>
            <a:r>
              <a:rPr b="0" lang="zh-CN" sz="32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6666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《过秦论》全文分为上、中、下三篇，课文是上篇，中篇和下篇分论秦二世、秦三世的过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B2A34C-714D-4CFE-A678-CEF6C8F6F4D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1403280" y="1916280"/>
            <a:ext cx="6697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3300"/>
                </a:solidFill>
                <a:latin typeface="Arial"/>
                <a:ea typeface="华文行楷"/>
              </a:rPr>
              <a:t>　重点掌握的字、词、句式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69EE50-182E-4A1F-A64F-ECD43FC330C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Arial"/>
              </a:rPr>
              <a:t>听录音，感知课文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6666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第一遍，听录音，掌握生字字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6666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第二遍，听录音，小声跟读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6666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第三遍，齐声朗读课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B33C5F-25AC-4763-8557-A511AFC12B7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50920" y="333360"/>
            <a:ext cx="854064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Arial"/>
              </a:rPr>
              <a:t>掌握下列字的读音：</a:t>
            </a:r>
            <a:br>
              <a:rPr sz="4000"/>
            </a:b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0" y="765000"/>
            <a:ext cx="884232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崤 （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xiáo)     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雍</a:t>
            </a:r>
            <a:r>
              <a:rPr b="0" lang="zh-CN" sz="2400" spc="-1" strike="noStrike">
                <a:solidFill>
                  <a:srgbClr val="000099"/>
                </a:solidFill>
                <a:latin typeface="Arial"/>
              </a:rPr>
              <a:t>州</a:t>
            </a:r>
            <a:r>
              <a:rPr b="0" lang="zh-CN" sz="24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yōng)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孝公既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没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mò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）  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腴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yú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逡巡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qūn xún)   </a:t>
            </a: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陈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轸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zhěn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）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翟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景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(zha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í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)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召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shào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乐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毅（</a:t>
            </a: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yuè</a:t>
            </a: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）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镞（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zú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笞（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chī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）  俯首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系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xì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）颈   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蒙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恬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tián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）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藩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fān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）篱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隳（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huī)</a:t>
            </a:r>
            <a:r>
              <a:rPr b="0" lang="zh-CN" sz="2400" spc="-1" strike="noStrike">
                <a:solidFill>
                  <a:srgbClr val="000099"/>
                </a:solidFill>
                <a:latin typeface="Arial"/>
              </a:rPr>
              <a:t>名城    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销锋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镝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dí)   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践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华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为城（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huà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）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劲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弩（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jìng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)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瓮（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wèng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） 牖（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yǒu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）  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氓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méng)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墨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翟（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dí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）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猗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顿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yī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蹑足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行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伍（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háng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）     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将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数百之众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jiàng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锄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耰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(yōu)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棘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矜 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(qín)      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非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铦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(xiān)      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长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铩</a:t>
            </a: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   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(shā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度（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duó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）长絜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xi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é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)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大  比权量力（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liàng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万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乘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之势（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shèng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）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朝同列（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cháo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）    一夫作难（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nàn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）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7596360" y="5245200"/>
            <a:ext cx="576000" cy="57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D50A6B-11B3-4A33-97BA-EF896A81620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restart="whenNotActive" nodeType="interactiveSeq" fill="hold">
                <p:stCondLst>
                  <p:cond evt="onClick">
                    <p:tgtEl>
                      <p:spTgt spid="152"/>
                    </p:tgtEl>
                  </p:cond>
                </p:stCondLst>
                <p:childTnLst>
                  <p:par>
                    <p:cTn id="55" fill="hold">
                      <p:stCondLst>
                        <p:cond evt="onClick">
                          <p:tgtEl>
                            <p:spTgt spid="152"/>
                          </p:tgtEl>
                        </p:cond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8" dur="522240" fill="hold"/>
                                        <p:tgtEl>
                                          <p:spTgt spid="1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340000" y="188640"/>
            <a:ext cx="424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Arial"/>
              </a:rPr>
              <a:t>古音异读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42472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66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、破音异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前人又叫“读破”、“破音”。他是用改变字（词）的通常读音来表示不同词性和意义的一种用法。如“王”、“骑”、“衣”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24000" y="4221000"/>
            <a:ext cx="8518320" cy="22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、古音异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有些专有名词，如人名、地名、官名、族名、器物名、姓氏等，因为专有，就有固定性，读时仍读保留下来的古音。如“会稽”、“燕”、“召”、“乐”、“翟”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24000" y="2781360"/>
            <a:ext cx="8518320" cy="14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、通假异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就是指甲字通假为乙字，即读乙字的音。“从”、“景”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>
            <a:hlinkClick r:id="rId2" action="ppaction://hlinksldjump"/>
          </p:cNvPr>
          <p:cNvSpPr/>
          <p:nvPr/>
        </p:nvSpPr>
        <p:spPr>
          <a:xfrm>
            <a:off x="8028000" y="6093000"/>
            <a:ext cx="576360" cy="288720"/>
          </a:xfrm>
          <a:custGeom>
            <a:avLst/>
            <a:gdLst>
              <a:gd name="textAreaLeft" fmla="*/ 18720 w 576360"/>
              <a:gd name="textAreaRight" fmla="*/ 557640 w 57636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43092" h="21600">
                <a:moveTo>
                  <a:pt x="0" y="0"/>
                </a:moveTo>
                <a:lnTo>
                  <a:pt x="43092" y="0"/>
                </a:lnTo>
                <a:lnTo>
                  <a:pt x="43092" y="21600"/>
                </a:lnTo>
                <a:lnTo>
                  <a:pt x="0" y="21600"/>
                </a:lnTo>
                <a:close/>
              </a:path>
              <a:path fill="lightenLess" w="43092" h="21600">
                <a:moveTo>
                  <a:pt x="0" y="0"/>
                </a:moveTo>
                <a:lnTo>
                  <a:pt x="43092" y="0"/>
                </a:lnTo>
                <a:lnTo>
                  <a:pt x="41692" y="1400"/>
                </a:lnTo>
                <a:lnTo>
                  <a:pt x="1400" y="1400"/>
                </a:lnTo>
                <a:close/>
              </a:path>
              <a:path fill="darken" w="43092" h="21600">
                <a:moveTo>
                  <a:pt x="43092" y="0"/>
                </a:moveTo>
                <a:lnTo>
                  <a:pt x="43092" y="21600"/>
                </a:lnTo>
                <a:lnTo>
                  <a:pt x="41692" y="20200"/>
                </a:lnTo>
                <a:lnTo>
                  <a:pt x="41692" y="1400"/>
                </a:lnTo>
                <a:close/>
              </a:path>
              <a:path fill="darkenLess" w="43092" h="21600">
                <a:moveTo>
                  <a:pt x="430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92" y="20200"/>
                </a:lnTo>
                <a:close/>
              </a:path>
              <a:path fill="lighten" w="430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92" h="21600">
                <a:moveTo>
                  <a:pt x="14540" y="10800"/>
                </a:moveTo>
                <a:lnTo>
                  <a:pt x="28553" y="3794"/>
                </a:lnTo>
                <a:lnTo>
                  <a:pt x="28553" y="17806"/>
                </a:lnTo>
                <a:close/>
              </a:path>
            </a:pathLst>
          </a:cu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B55C62-7D41-4D42-9FED-6631923D584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834920" y="188640"/>
            <a:ext cx="4956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通假字</a:t>
            </a:r>
            <a:endParaRPr b="0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76240" y="1523520"/>
            <a:ext cx="7391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66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约从离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衡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通“横”）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66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合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从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缔交（通“纵”）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战国时六国联合抗秦的策略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66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起阡陌之中（通“崛”）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突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66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赢粮而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景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从（通“影”）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像影子一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66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百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有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余年（通“又”）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66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陈利兵而谁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何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通“呵”）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呵问、盘问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66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孝公既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没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通“殁”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66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秦有余力而制其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通“敝”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66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威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振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四海（通“震”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>
            <a:hlinkClick r:id="rId2" action="ppaction://hlinksldjump"/>
          </p:cNvPr>
          <p:cNvSpPr/>
          <p:nvPr/>
        </p:nvSpPr>
        <p:spPr>
          <a:xfrm>
            <a:off x="8001000" y="6019920"/>
            <a:ext cx="576360" cy="431640"/>
          </a:xfrm>
          <a:custGeom>
            <a:avLst/>
            <a:gdLst>
              <a:gd name="textAreaLeft" fmla="*/ 27720 w 576360"/>
              <a:gd name="textAreaRight" fmla="*/ 548640 w 57636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36" h="21600">
                <a:moveTo>
                  <a:pt x="0" y="0"/>
                </a:moveTo>
                <a:lnTo>
                  <a:pt x="28836" y="0"/>
                </a:lnTo>
                <a:lnTo>
                  <a:pt x="28836" y="21600"/>
                </a:lnTo>
                <a:lnTo>
                  <a:pt x="0" y="21600"/>
                </a:lnTo>
                <a:close/>
              </a:path>
              <a:path fill="lightenLess" w="28836" h="21600">
                <a:moveTo>
                  <a:pt x="0" y="0"/>
                </a:moveTo>
                <a:lnTo>
                  <a:pt x="28836" y="0"/>
                </a:lnTo>
                <a:lnTo>
                  <a:pt x="27436" y="1400"/>
                </a:lnTo>
                <a:lnTo>
                  <a:pt x="1400" y="1400"/>
                </a:lnTo>
                <a:close/>
              </a:path>
              <a:path fill="darken" w="28836" h="21600">
                <a:moveTo>
                  <a:pt x="28836" y="0"/>
                </a:moveTo>
                <a:lnTo>
                  <a:pt x="28836" y="21600"/>
                </a:lnTo>
                <a:lnTo>
                  <a:pt x="27436" y="20200"/>
                </a:lnTo>
                <a:lnTo>
                  <a:pt x="27436" y="1400"/>
                </a:lnTo>
                <a:close/>
              </a:path>
              <a:path fill="darkenLess" w="28836" h="21600">
                <a:moveTo>
                  <a:pt x="288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36" y="20200"/>
                </a:lnTo>
                <a:close/>
              </a:path>
              <a:path fill="lighten" w="288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36" h="21600">
                <a:moveTo>
                  <a:pt x="7412" y="10800"/>
                </a:moveTo>
                <a:lnTo>
                  <a:pt x="21424" y="3794"/>
                </a:lnTo>
                <a:lnTo>
                  <a:pt x="21424" y="17806"/>
                </a:lnTo>
                <a:close/>
              </a:path>
            </a:pathLst>
          </a:cu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1ACFB7-ACA4-433A-97BE-F8AA8D21E6D3}" type="datetime1">
              <a:rPr lang="en-US"/>
              <a:t>07/29/26</a:t>
            </a:fld>
          </a:p>
        </p:txBody>
      </p:sp>
    </p:spTree>
  </p:cSld>
  <p:transition spd="slow">
    <p:checker dir="horz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3419640" y="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一词多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39640" y="692280"/>
            <a:ext cx="3200400" cy="13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Times New Roman"/>
                <a:ea typeface="黑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追亡逐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北 北收要害之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将军战河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042920" y="692280"/>
            <a:ext cx="71640" cy="1152360"/>
          </a:xfrm>
          <a:custGeom>
            <a:avLst/>
            <a:gdLst>
              <a:gd name="textAreaLeft" fmla="*/ 20880 w 71640"/>
              <a:gd name="textAreaRight" fmla="*/ 72000 w 71640"/>
              <a:gd name="textAreaTop" fmla="*/ 47880 h 1152360"/>
              <a:gd name="textAreaBottom" fmla="*/ 1104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851280" y="692280"/>
            <a:ext cx="4735440" cy="13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名词         败逃的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名词作状语   向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名词         北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39640" y="2133720"/>
            <a:ext cx="2880000" cy="13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Times New Roman"/>
                <a:ea typeface="黑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因力乘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因 因遗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因河为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042920" y="2205000"/>
            <a:ext cx="73080" cy="1224000"/>
          </a:xfrm>
          <a:custGeom>
            <a:avLst/>
            <a:gdLst>
              <a:gd name="textAreaLeft" fmla="*/ 21240 w 73080"/>
              <a:gd name="textAreaRight" fmla="*/ 73440 w 73080"/>
              <a:gd name="textAreaTop" fmla="*/ 50760 h 1224000"/>
              <a:gd name="textAreaBottom" fmla="*/ 117324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924360" y="2133720"/>
            <a:ext cx="3816360" cy="13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介词         趁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动词         沿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介词         凭借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95280" y="3716280"/>
            <a:ext cx="4648320" cy="13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Times New Roman"/>
                <a:ea typeface="黑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以致天下之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致 致万乘之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而致千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900000" y="3789360"/>
            <a:ext cx="76320" cy="1143000"/>
          </a:xfrm>
          <a:custGeom>
            <a:avLst/>
            <a:gdLst>
              <a:gd name="textAreaLeft" fmla="*/ 22320 w 76320"/>
              <a:gd name="textAreaRight" fmla="*/ 76320 w 76320"/>
              <a:gd name="textAreaTop" fmla="*/ 47520 h 1143000"/>
              <a:gd name="textAreaBottom" fmla="*/ 109548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924360" y="3716280"/>
            <a:ext cx="3960720" cy="13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动词         招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动词         达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动词         到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50920" y="5229360"/>
            <a:ext cx="4647960" cy="14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秦孝公据崤函之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固 君臣固守以窥周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人固有一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55640" y="5445000"/>
            <a:ext cx="76320" cy="1143000"/>
          </a:xfrm>
          <a:custGeom>
            <a:avLst/>
            <a:gdLst>
              <a:gd name="textAreaLeft" fmla="*/ 22320 w 76320"/>
              <a:gd name="textAreaRight" fmla="*/ 76320 w 76320"/>
              <a:gd name="textAreaTop" fmla="*/ 47520 h 1143000"/>
              <a:gd name="textAreaBottom" fmla="*/ 109548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067280" y="5300640"/>
            <a:ext cx="3960720" cy="13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名词      险固的地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形容词    牢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副词      本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849E22-1C59-4E14-95A7-DE3AC4461E5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333360"/>
            <a:ext cx="3962520" cy="13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Times New Roman"/>
                <a:ea typeface="黑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延及孝文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延 秦人开关延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余人各复延至其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900000" y="477720"/>
            <a:ext cx="71640" cy="1079640"/>
          </a:xfrm>
          <a:custGeom>
            <a:avLst/>
            <a:gdLst>
              <a:gd name="textAreaLeft" fmla="*/ 20880 w 71640"/>
              <a:gd name="textAreaRight" fmla="*/ 72000 w 71640"/>
              <a:gd name="textAreaTop" fmla="*/ 45000 h 1079640"/>
              <a:gd name="textAreaBottom" fmla="*/ 103500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140360" y="333360"/>
            <a:ext cx="3886200" cy="13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动词      延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动词      引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动词      邀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39640" y="1949400"/>
            <a:ext cx="3505320" cy="9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Times New Roman"/>
                <a:ea typeface="黑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因遗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振长策而御宇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50920" y="211788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826920" y="2060640"/>
            <a:ext cx="76320" cy="685800"/>
          </a:xfrm>
          <a:custGeom>
            <a:avLst/>
            <a:gdLst>
              <a:gd name="textAreaLeft" fmla="*/ 22320 w 76320"/>
              <a:gd name="textAreaRight" fmla="*/ 76320 w 76320"/>
              <a:gd name="textAreaTop" fmla="*/ 28440 h 685800"/>
              <a:gd name="textAreaBottom" fmla="*/ 6573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11640" y="1949400"/>
            <a:ext cx="3048120" cy="9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名词      策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名词      鞭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99880" y="3135240"/>
            <a:ext cx="3048120" cy="13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Times New Roman"/>
                <a:ea typeface="黑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会盟而谋弱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弱 弱国入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不若孀妻弱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824040" y="3284640"/>
            <a:ext cx="75960" cy="1152360"/>
          </a:xfrm>
          <a:custGeom>
            <a:avLst/>
            <a:gdLst>
              <a:gd name="textAreaLeft" fmla="*/ 22320 w 75960"/>
              <a:gd name="textAreaRight" fmla="*/ 76320 w 75960"/>
              <a:gd name="textAreaTop" fmla="*/ 47880 h 1152360"/>
              <a:gd name="textAreaBottom" fmla="*/ 1104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067280" y="3141720"/>
            <a:ext cx="3889440" cy="13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形容词的使动   削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形容词         弱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形容词         年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404720" y="4724280"/>
            <a:ext cx="1460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包举宇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西举巴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举国欢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杀人如不能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50920" y="51577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826920" y="4870440"/>
            <a:ext cx="144720" cy="1511280"/>
          </a:xfrm>
          <a:custGeom>
            <a:avLst/>
            <a:gdLst>
              <a:gd name="textAreaLeft" fmla="*/ 42480 w 144720"/>
              <a:gd name="textAreaRight" fmla="*/ 145080 w 144720"/>
              <a:gd name="textAreaTop" fmla="*/ 62640 h 1511280"/>
              <a:gd name="textAreaBottom" fmla="*/ 1448640 h 1511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462560" y="4724280"/>
            <a:ext cx="21495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动词            夺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动词            攻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形容词         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形容词         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1967AD-015E-43B7-8096-BC77AB8BE3E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5292720" y="0"/>
            <a:ext cx="3851280" cy="68580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529272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CC0102-3B11-4ADA-857A-236AE28F1E0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79280" y="255600"/>
            <a:ext cx="4537080" cy="13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Times New Roman"/>
                <a:ea typeface="黑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不爱珍器重宝肥沃之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爱 吴广素爱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爱莫能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643280" y="255600"/>
            <a:ext cx="4680000" cy="13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动词   吝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动词   爱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动词  隐而不露、心理愿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84360" y="333360"/>
            <a:ext cx="142560" cy="1224000"/>
          </a:xfrm>
          <a:custGeom>
            <a:avLst/>
            <a:gdLst>
              <a:gd name="textAreaLeft" fmla="*/ 41760 w 142560"/>
              <a:gd name="textAreaRight" fmla="*/ 142920 w 142560"/>
              <a:gd name="textAreaTop" fmla="*/ 50760 h 1224000"/>
              <a:gd name="textAreaBottom" fmla="*/ 117324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9280" y="1839960"/>
            <a:ext cx="3457800" cy="13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Times New Roman"/>
                <a:ea typeface="黑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收天下之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兵 行军用兵之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沛公兵十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84360" y="1916280"/>
            <a:ext cx="142560" cy="1152360"/>
          </a:xfrm>
          <a:custGeom>
            <a:avLst/>
            <a:gdLst>
              <a:gd name="textAreaLeft" fmla="*/ 41760 w 142560"/>
              <a:gd name="textAreaRight" fmla="*/ 142920 w 142560"/>
              <a:gd name="textAreaTop" fmla="*/ 47880 h 1152360"/>
              <a:gd name="textAreaBottom" fmla="*/ 1104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643280" y="1839960"/>
            <a:ext cx="3025800" cy="13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名词     兵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名词     战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名词     军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643280" y="3429000"/>
            <a:ext cx="3025800" cy="13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名词     先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连词     假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动词     将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79280" y="3424320"/>
            <a:ext cx="3457800" cy="13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Times New Roman"/>
                <a:ea typeface="黑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非及向时之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向 向吾不为斯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秋天漠漠向昏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84360" y="3500280"/>
            <a:ext cx="142560" cy="1152720"/>
          </a:xfrm>
          <a:custGeom>
            <a:avLst/>
            <a:gdLst>
              <a:gd name="textAreaLeft" fmla="*/ 41760 w 142560"/>
              <a:gd name="textAreaRight" fmla="*/ 142920 w 142560"/>
              <a:gd name="textAreaTop" fmla="*/ 47880 h 1152720"/>
              <a:gd name="textAreaBottom" fmla="*/ 1104840 h 115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9280" y="5079960"/>
            <a:ext cx="3457800" cy="13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Times New Roman"/>
                <a:ea typeface="黑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因利乘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乘 致万乘之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李白乘舟将欲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248000" y="5084640"/>
            <a:ext cx="4896000" cy="13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介词   趁着、凭借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ché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量词   一车四马为一乘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shè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动词   乘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84360" y="5157720"/>
            <a:ext cx="142560" cy="1152720"/>
          </a:xfrm>
          <a:custGeom>
            <a:avLst/>
            <a:gdLst>
              <a:gd name="textAreaLeft" fmla="*/ 41760 w 142560"/>
              <a:gd name="textAreaRight" fmla="*/ 142920 w 142560"/>
              <a:gd name="textAreaTop" fmla="*/ 47880 h 1152720"/>
              <a:gd name="textAreaBottom" fmla="*/ 1104840 h 115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8FDBF6-934A-4ADA-A0D7-2476759DAE7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>
            <a:hlinkClick r:id="rId2" action="ppaction://hlinksldjump"/>
          </p:cNvPr>
          <p:cNvSpPr/>
          <p:nvPr/>
        </p:nvSpPr>
        <p:spPr>
          <a:xfrm>
            <a:off x="8229600" y="6248520"/>
            <a:ext cx="647640" cy="360360"/>
          </a:xfrm>
          <a:custGeom>
            <a:avLst/>
            <a:gdLst>
              <a:gd name="textAreaLeft" fmla="*/ 23040 w 647640"/>
              <a:gd name="textAreaRight" fmla="*/ 624600 w 647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8802" h="21600">
                <a:moveTo>
                  <a:pt x="0" y="0"/>
                </a:moveTo>
                <a:lnTo>
                  <a:pt x="38802" y="0"/>
                </a:lnTo>
                <a:lnTo>
                  <a:pt x="38802" y="21600"/>
                </a:lnTo>
                <a:lnTo>
                  <a:pt x="0" y="21600"/>
                </a:lnTo>
                <a:close/>
              </a:path>
              <a:path fill="lightenLess" w="38802" h="21600">
                <a:moveTo>
                  <a:pt x="0" y="0"/>
                </a:moveTo>
                <a:lnTo>
                  <a:pt x="38802" y="0"/>
                </a:lnTo>
                <a:lnTo>
                  <a:pt x="37402" y="1400"/>
                </a:lnTo>
                <a:lnTo>
                  <a:pt x="1400" y="1400"/>
                </a:lnTo>
                <a:close/>
              </a:path>
              <a:path fill="darken" w="38802" h="21600">
                <a:moveTo>
                  <a:pt x="38802" y="0"/>
                </a:moveTo>
                <a:lnTo>
                  <a:pt x="38802" y="21600"/>
                </a:lnTo>
                <a:lnTo>
                  <a:pt x="37402" y="20200"/>
                </a:lnTo>
                <a:lnTo>
                  <a:pt x="37402" y="1400"/>
                </a:lnTo>
                <a:close/>
              </a:path>
              <a:path fill="darkenLess" w="38802" h="21600">
                <a:moveTo>
                  <a:pt x="3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02" y="20200"/>
                </a:lnTo>
                <a:close/>
              </a:path>
              <a:path fill="lighten" w="3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02" h="21600">
                <a:moveTo>
                  <a:pt x="12395" y="10800"/>
                </a:moveTo>
                <a:lnTo>
                  <a:pt x="26408" y="3794"/>
                </a:lnTo>
                <a:lnTo>
                  <a:pt x="26408" y="17806"/>
                </a:lnTo>
                <a:close/>
              </a:path>
            </a:pathLst>
          </a:cu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145880" y="249120"/>
            <a:ext cx="34772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有席卷天下……之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当是时也，商君佐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于是秦人拱手而取西河之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之   东割膏腴之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收天下之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聚之咸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有宁越……之属为之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有田忌……之伦制其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457200"/>
            <a:ext cx="76320" cy="3200400"/>
          </a:xfrm>
          <a:custGeom>
            <a:avLst/>
            <a:gdLst>
              <a:gd name="textAreaLeft" fmla="*/ 48960 w 76320"/>
              <a:gd name="textAreaRight" fmla="*/ 76320 w 76320"/>
              <a:gd name="textAreaTop" fmla="*/ 83160 h 3200400"/>
              <a:gd name="textAreaBottom" fmla="*/ 3117240 h 3200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292080" y="228600"/>
            <a:ext cx="18874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结构助词，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代词，代秦孝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结构助词，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结构助词，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结构助词，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代词，代天下之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指示代词，这类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指示代词，这类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025280" y="4191120"/>
            <a:ext cx="393264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秦无亡矢遗镞之费，而天下诸侯已困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于是秦人拱手而取西河之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而   一夫作难而七庙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仁义不施而攻守之势异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九国之师逡巡而不敢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57200" y="4419720"/>
            <a:ext cx="76320" cy="1523880"/>
          </a:xfrm>
          <a:custGeom>
            <a:avLst/>
            <a:gdLst>
              <a:gd name="textAreaLeft" fmla="*/ 48960 w 76320"/>
              <a:gd name="textAreaRight" fmla="*/ 76320 w 7632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758280" y="4191120"/>
            <a:ext cx="1460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转折连词，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修饰连词，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转折连词，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结果连词，因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修饰连词，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B7C886-44E8-45B1-A111-CE3BE12DD9A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828440" y="183960"/>
            <a:ext cx="4854600" cy="88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古今异义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39280" y="1197000"/>
            <a:ext cx="8077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66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于是秦人拱手而取西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河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之外（因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河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为池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古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黄河                      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泛指河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66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赢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粮而景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古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担负                      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输赢的“赢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66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山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豪俊并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古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崤山以东               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指山东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66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流血漂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古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盾牌                      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划船的工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九国之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古：军队     今：军队的一个编制单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>
            <a:hlinkClick r:id="rId2" action="ppaction://hlinksldjump"/>
          </p:cNvPr>
          <p:cNvSpPr/>
          <p:nvPr/>
        </p:nvSpPr>
        <p:spPr>
          <a:xfrm>
            <a:off x="8244000" y="6237360"/>
            <a:ext cx="576000" cy="360360"/>
          </a:xfrm>
          <a:custGeom>
            <a:avLst/>
            <a:gdLst>
              <a:gd name="textAreaLeft" fmla="*/ 23040 w 576000"/>
              <a:gd name="textAreaRight" fmla="*/ 552960 w 576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4513" h="21600">
                <a:moveTo>
                  <a:pt x="0" y="0"/>
                </a:moveTo>
                <a:lnTo>
                  <a:pt x="34513" y="0"/>
                </a:lnTo>
                <a:lnTo>
                  <a:pt x="34513" y="21600"/>
                </a:lnTo>
                <a:lnTo>
                  <a:pt x="0" y="21600"/>
                </a:lnTo>
                <a:close/>
              </a:path>
              <a:path fill="lightenLess" w="34513" h="21600">
                <a:moveTo>
                  <a:pt x="0" y="0"/>
                </a:moveTo>
                <a:lnTo>
                  <a:pt x="34513" y="0"/>
                </a:lnTo>
                <a:lnTo>
                  <a:pt x="33113" y="1400"/>
                </a:lnTo>
                <a:lnTo>
                  <a:pt x="1400" y="1400"/>
                </a:lnTo>
                <a:close/>
              </a:path>
              <a:path fill="darken" w="34513" h="21600">
                <a:moveTo>
                  <a:pt x="34513" y="0"/>
                </a:moveTo>
                <a:lnTo>
                  <a:pt x="34513" y="21600"/>
                </a:lnTo>
                <a:lnTo>
                  <a:pt x="33113" y="20200"/>
                </a:lnTo>
                <a:lnTo>
                  <a:pt x="33113" y="1400"/>
                </a:lnTo>
                <a:close/>
              </a:path>
              <a:path fill="darkenLess" w="34513" h="21600">
                <a:moveTo>
                  <a:pt x="345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13" y="20200"/>
                </a:lnTo>
                <a:close/>
              </a:path>
              <a:path fill="lighten" w="345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13" h="21600">
                <a:moveTo>
                  <a:pt x="10250" y="10800"/>
                </a:moveTo>
                <a:lnTo>
                  <a:pt x="24263" y="3794"/>
                </a:lnTo>
                <a:lnTo>
                  <a:pt x="24263" y="17806"/>
                </a:lnTo>
                <a:close/>
              </a:path>
            </a:pathLst>
          </a:cu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59F596-967B-4A74-A173-6FE3962DA69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828440" y="0"/>
            <a:ext cx="490212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Arial"/>
              </a:rPr>
              <a:t>名词活用</a:t>
            </a: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250920" y="841320"/>
          <a:ext cx="8207280" cy="5788080"/>
        </p:xfrm>
        <a:graphic>
          <a:graphicData uri="http://schemas.openxmlformats.org/drawingml/2006/table">
            <a:tbl>
              <a:tblPr/>
              <a:tblGrid>
                <a:gridCol w="3287520"/>
                <a:gridCol w="1976400"/>
                <a:gridCol w="2943360"/>
              </a:tblGrid>
              <a:tr h="548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例句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活用类型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释义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席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卷、</a:t>
                      </a: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包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举、</a:t>
                      </a: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囊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括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名词作状语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像席子、包裹、布袋一样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天下</a:t>
                      </a: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云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集</a:t>
                      </a: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响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应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名词作状语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像云一样、像声音一样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赢粮而</a:t>
                      </a: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景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从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名词作状语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像影子一样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5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内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立法度，</a:t>
                      </a: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南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取汉中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名词作状语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在国内、向南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序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八州而朝同列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名词作动词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招致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履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至尊而制六合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名词作动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登上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然陈涉</a:t>
                      </a: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瓮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牖</a:t>
                      </a: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绳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枢之子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名词作动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用破瓮作   用草绳系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子孙</a:t>
                      </a: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帝王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万世之业也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名词作动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称帝当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将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数百之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名词作动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率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35B8AB-5D3A-47D8-81FB-8659B552CE8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Arial"/>
              </a:rPr>
              <a:t>名词用作状语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66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１）有〔席〕卷天下，〔包〕举宇内，〔囊〕括四海之意，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66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２）〔内〕立法度，……〔外〕连横而斗诸侯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66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３）〔南〕取汉中，〔西〕举巴蜀，〔东〕割膏腴之地，〔并〕收要害之郡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66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４）〔南〕取百越之地，以为桂林、象郡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66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５）乃使蒙恬〔北〕筑长城而守藩篱，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66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６）胡人不敢〔南〕下而牧马，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66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７）天下〔云〕集〔响〕应，赢粮而〔景〕从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0D9A6D-78F8-4E6F-B685-DD99FE5F469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Arial"/>
              </a:rPr>
              <a:t>作用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66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、有表示比喻的。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如例（１）、例（７）；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66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、有表示处所、方向的。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如例（２）——例（６）。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66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、表示对人态度的。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如《鸿门宴》一文中：“君为我呼入，吾得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兄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事之”，“您为我把他请进来，我要像对待兄长一样对待他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66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4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、有表示用作工具的。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如《愚公移山》一文中：“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箕畚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运于渤海之尾”，即“用畚箕（把土石）运到渤海边”。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4F88F7-E3B1-44DA-A861-365168AC167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Arial"/>
              </a:rPr>
              <a:t>判断的方法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66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如果是名词作状语的句子，往往在这个名词前面另有主语。如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天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下云集响应”，既然有“天下”作全句的主语，那么，“云”、“响”就不大可能是主语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66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而在有些句中，主语根据上下文省略了，如前面的例（２），“内立法度”，看似没有主语，其实，主语“秦孝公”承前省略了，那么，毫无疑问，“内”就是动词“立”的状语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66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所以，要认识、掌握名词活用为状语，只能从句子的结构、意思入手去判断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F58FF8-3AB1-4CDE-A9A6-49A1CF6B493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941480" y="-228960"/>
            <a:ext cx="5261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Arial"/>
              </a:rPr>
              <a:t>动词活用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301680" y="914400"/>
          <a:ext cx="8540640" cy="5665680"/>
        </p:xfrm>
        <a:graphic>
          <a:graphicData uri="http://schemas.openxmlformats.org/drawingml/2006/table">
            <a:tbl>
              <a:tblPr/>
              <a:tblGrid>
                <a:gridCol w="2846160"/>
                <a:gridCol w="2848320"/>
                <a:gridCol w="2846160"/>
              </a:tblGrid>
              <a:tr h="622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例句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活用类型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释义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约从</a:t>
                      </a: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离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衡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使动用法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使……离散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序八州而</a:t>
                      </a: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朝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同列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使动用法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使……朝拜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外连横而</a:t>
                      </a: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斗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诸侯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使动用法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使……争斗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却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匈奴七百余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使动用法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使……退却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山东豪俊遂并起而</a:t>
                      </a: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亡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秦族（吞二周而</a:t>
                      </a: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亡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诸侯矣 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使动用法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使……灭亡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流血</a:t>
                      </a: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漂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使动用法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使……漂起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追</a:t>
                      </a: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亡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逐</a:t>
                      </a: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动词作名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逃跑的人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溃败的军队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争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割地而赂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动词作状语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争着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C2CAE0-DCC0-4FFA-BC01-2D29906F203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Arial"/>
              </a:rPr>
              <a:t>形容词活用</a:t>
            </a:r>
            <a:r>
              <a:rPr b="0" lang="zh-CN" sz="4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301680" y="1600200"/>
          <a:ext cx="8540640" cy="4635360"/>
        </p:xfrm>
        <a:graphic>
          <a:graphicData uri="http://schemas.openxmlformats.org/drawingml/2006/table">
            <a:tbl>
              <a:tblPr/>
              <a:tblGrid>
                <a:gridCol w="2975040"/>
                <a:gridCol w="2663640"/>
                <a:gridCol w="2901960"/>
              </a:tblGrid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例句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活用类型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释义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会盟而谋</a:t>
                      </a: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弱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秦（以</a:t>
                      </a: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弱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天下之民）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形容词的使动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使……弱 ，削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以</a:t>
                      </a: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愚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黔首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形容词的使动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使……愚蠢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废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先王之道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形容词的使动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使……作废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且夫天下非</a:t>
                      </a: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小弱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也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形容词作动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变小，变弱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尊贤而</a:t>
                      </a: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重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士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形容词作动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敬重、看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秦孝公据崤函之</a:t>
                      </a: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形容词做名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坚固的地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因</a:t>
                      </a: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利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乘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形容词作名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有利的形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2" name="">
            <a:hlinkClick r:id="rId2" action="ppaction://hlinksldjump"/>
          </p:cNvPr>
          <p:cNvSpPr/>
          <p:nvPr/>
        </p:nvSpPr>
        <p:spPr>
          <a:xfrm>
            <a:off x="8229600" y="6453360"/>
            <a:ext cx="647640" cy="404640"/>
          </a:xfrm>
          <a:custGeom>
            <a:avLst/>
            <a:gdLst>
              <a:gd name="textAreaLeft" fmla="*/ 25920 w 647640"/>
              <a:gd name="textAreaRight" fmla="*/ 621720 w 64764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4560" h="21600">
                <a:moveTo>
                  <a:pt x="0" y="0"/>
                </a:moveTo>
                <a:lnTo>
                  <a:pt x="34560" y="0"/>
                </a:lnTo>
                <a:lnTo>
                  <a:pt x="34560" y="21600"/>
                </a:lnTo>
                <a:lnTo>
                  <a:pt x="0" y="21600"/>
                </a:lnTo>
                <a:close/>
              </a:path>
              <a:path fill="lightenLess" w="34560" h="21600">
                <a:moveTo>
                  <a:pt x="0" y="0"/>
                </a:moveTo>
                <a:lnTo>
                  <a:pt x="34560" y="0"/>
                </a:lnTo>
                <a:lnTo>
                  <a:pt x="33160" y="1400"/>
                </a:lnTo>
                <a:lnTo>
                  <a:pt x="1400" y="1400"/>
                </a:lnTo>
                <a:close/>
              </a:path>
              <a:path fill="darken" w="34560" h="21600">
                <a:moveTo>
                  <a:pt x="34560" y="0"/>
                </a:moveTo>
                <a:lnTo>
                  <a:pt x="34560" y="21600"/>
                </a:lnTo>
                <a:lnTo>
                  <a:pt x="33160" y="20200"/>
                </a:lnTo>
                <a:lnTo>
                  <a:pt x="33160" y="1400"/>
                </a:lnTo>
                <a:close/>
              </a:path>
              <a:path fill="darkenLess" w="34560" h="21600">
                <a:moveTo>
                  <a:pt x="345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60" y="20200"/>
                </a:lnTo>
                <a:close/>
              </a:path>
              <a:path fill="lighten" w="345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60" h="21600">
                <a:moveTo>
                  <a:pt x="10274" y="10800"/>
                </a:moveTo>
                <a:lnTo>
                  <a:pt x="24286" y="3794"/>
                </a:lnTo>
                <a:lnTo>
                  <a:pt x="24286" y="17806"/>
                </a:lnTo>
                <a:close/>
              </a:path>
            </a:pathLst>
          </a:cu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6FEFD7-7FCD-4C58-9698-CC03C4823B6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6666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活用规律：形容词后带有宾语，且对它的宾语含有“使它怎样”的意思，说明形容词用作动词，表示使动的意义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2125AC-F713-40C5-B67A-2476B6452A1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FED37E-898F-4BCC-81DC-54969B2E89F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556000" y="188640"/>
            <a:ext cx="40320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Arial"/>
              </a:rPr>
              <a:t>特殊句式</a:t>
            </a: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78920" y="691920"/>
            <a:ext cx="8541000" cy="594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66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9933"/>
                </a:solidFill>
                <a:latin typeface="Arial"/>
              </a:rPr>
              <a:t>（一）判断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66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①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然陈涉瓮牖绳枢之子，氓隶之人，而迁徙之徒也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66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②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仁义不施而攻守之势异也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66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9933"/>
                </a:solidFill>
                <a:latin typeface="Arial"/>
              </a:rPr>
              <a:t>（二）被动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66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①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一夫作难而七庙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66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②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为天下笑者，何也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66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9933"/>
                </a:solidFill>
                <a:latin typeface="Arial"/>
              </a:rPr>
              <a:t>（三）宾语前置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66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①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陈利兵而谁何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66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②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崤函之固，自若也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66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9933"/>
                </a:solidFill>
                <a:latin typeface="Arial"/>
              </a:rPr>
              <a:t>（四）状语后置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66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①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谪戌之众，非抗于九国之师也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66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②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陈涉之位，非尊于齐、楚、燕、赵、韩、魏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宋、卫、中山之君也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19E171-5FBD-4EC6-A143-33A18E3BE21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>
            <a:hlinkClick r:id="rId2" action="ppaction://hlinksldjump"/>
          </p:cNvPr>
          <p:cNvSpPr/>
          <p:nvPr/>
        </p:nvSpPr>
        <p:spPr>
          <a:xfrm>
            <a:off x="7956720" y="6237360"/>
            <a:ext cx="576000" cy="287280"/>
          </a:xfrm>
          <a:custGeom>
            <a:avLst/>
            <a:gdLst>
              <a:gd name="textAreaLeft" fmla="*/ 18360 w 576000"/>
              <a:gd name="textAreaRight" fmla="*/ 557640 w 57600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43281" h="21600">
                <a:moveTo>
                  <a:pt x="0" y="0"/>
                </a:moveTo>
                <a:lnTo>
                  <a:pt x="43281" y="0"/>
                </a:lnTo>
                <a:lnTo>
                  <a:pt x="43281" y="21600"/>
                </a:lnTo>
                <a:lnTo>
                  <a:pt x="0" y="21600"/>
                </a:lnTo>
                <a:close/>
              </a:path>
              <a:path fill="lightenLess" w="43281" h="21600">
                <a:moveTo>
                  <a:pt x="0" y="0"/>
                </a:moveTo>
                <a:lnTo>
                  <a:pt x="43281" y="0"/>
                </a:lnTo>
                <a:lnTo>
                  <a:pt x="41881" y="1400"/>
                </a:lnTo>
                <a:lnTo>
                  <a:pt x="1400" y="1400"/>
                </a:lnTo>
                <a:close/>
              </a:path>
              <a:path fill="darken" w="43281" h="21600">
                <a:moveTo>
                  <a:pt x="43281" y="0"/>
                </a:moveTo>
                <a:lnTo>
                  <a:pt x="43281" y="21600"/>
                </a:lnTo>
                <a:lnTo>
                  <a:pt x="41881" y="20200"/>
                </a:lnTo>
                <a:lnTo>
                  <a:pt x="41881" y="1400"/>
                </a:lnTo>
                <a:close/>
              </a:path>
              <a:path fill="darkenLess" w="43281" h="21600">
                <a:moveTo>
                  <a:pt x="432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81" y="20200"/>
                </a:lnTo>
                <a:close/>
              </a:path>
              <a:path fill="lighten" w="432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81" h="21600">
                <a:moveTo>
                  <a:pt x="14634" y="10800"/>
                </a:moveTo>
                <a:lnTo>
                  <a:pt x="28647" y="3794"/>
                </a:lnTo>
                <a:lnTo>
                  <a:pt x="28647" y="17806"/>
                </a:lnTo>
                <a:close/>
              </a:path>
            </a:pathLst>
          </a:cu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343680" y="928800"/>
            <a:ext cx="27928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9933"/>
                </a:solidFill>
                <a:latin typeface="Arial"/>
              </a:rPr>
              <a:t>（五）省略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①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南取百越之地，以（之）为桂林、向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②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铸以（之）为金人十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③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倔起（于）阡陌之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④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威振（于）四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⑤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身死（于）人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⑥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委命（于）下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EF9295-3983-4FBF-B864-911331E56FB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763280" y="188640"/>
            <a:ext cx="504036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Arial"/>
              </a:rPr>
              <a:t>知识点梳理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780000" y="1483920"/>
            <a:ext cx="129672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00ff"/>
                </a:solidFill>
                <a:uFillTx/>
                <a:latin typeface="Arial"/>
                <a:hlinkClick r:id="rId2" action="ppaction://hlinksldjump"/>
              </a:rPr>
              <a:t>读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通假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556000" y="1773360"/>
            <a:ext cx="71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492360" y="1628640"/>
            <a:ext cx="216000" cy="720720"/>
          </a:xfrm>
          <a:custGeom>
            <a:avLst/>
            <a:gdLst>
              <a:gd name="textAreaLeft" fmla="*/ 137880 w 216000"/>
              <a:gd name="textAreaRight" fmla="*/ 21636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211640" y="2421000"/>
            <a:ext cx="1503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00ff"/>
                </a:solidFill>
                <a:uFillTx/>
                <a:latin typeface="Arial"/>
                <a:hlinkClick r:id="rId4" action="ppaction://hlinksldjump"/>
              </a:rPr>
              <a:t>古今异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00ff"/>
                </a:solidFill>
                <a:uFillTx/>
                <a:latin typeface="Arial"/>
                <a:hlinkClick r:id="rId5" action="ppaction://hlinksldjump"/>
              </a:rPr>
              <a:t>词类活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00ff"/>
                </a:solidFill>
                <a:uFillTx/>
                <a:latin typeface="Arial"/>
                <a:hlinkClick r:id="rId6" action="ppaction://hlinksldjump"/>
              </a:rPr>
              <a:t>一词多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995640" y="3789360"/>
            <a:ext cx="23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常见虚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924360" y="2637000"/>
            <a:ext cx="288720" cy="1008000"/>
          </a:xfrm>
          <a:custGeom>
            <a:avLst/>
            <a:gdLst>
              <a:gd name="textAreaLeft" fmla="*/ 184680 w 288720"/>
              <a:gd name="textAreaRight" fmla="*/ 289080 w 28872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492360" y="3141720"/>
            <a:ext cx="360360" cy="1800000"/>
          </a:xfrm>
          <a:custGeom>
            <a:avLst/>
            <a:gdLst>
              <a:gd name="textAreaLeft" fmla="*/ 230400 w 360360"/>
              <a:gd name="textAreaRight" fmla="*/ 360720 w 360360"/>
              <a:gd name="textAreaTop" fmla="*/ 46800 h 1800000"/>
              <a:gd name="textAreaBottom" fmla="*/ 1753200 h 180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84360" y="378936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995640" y="422100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谦敬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995640" y="458136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成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352680" y="5943600"/>
            <a:ext cx="2557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00ff"/>
                </a:solidFill>
                <a:uFillTx/>
                <a:latin typeface="Times New Roman"/>
                <a:hlinkClick r:id="rId7" action="ppaction://hlinksldjump"/>
              </a:rPr>
              <a:t>文言文的翻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484360" y="558972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835280" y="1916280"/>
            <a:ext cx="576000" cy="3960720"/>
          </a:xfrm>
          <a:custGeom>
            <a:avLst/>
            <a:gdLst>
              <a:gd name="textAreaLeft" fmla="*/ 367920 w 576000"/>
              <a:gd name="textAreaRight" fmla="*/ 576000 w 576000"/>
              <a:gd name="textAreaTop" fmla="*/ 102960 h 3960720"/>
              <a:gd name="textAreaBottom" fmla="*/ 3857760 h 39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352680" y="5334120"/>
            <a:ext cx="1873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00ff"/>
                </a:solidFill>
                <a:uFillTx/>
                <a:latin typeface="Arial"/>
                <a:hlinkClick r:id="rId8" action="ppaction://hlinksldjump"/>
              </a:rPr>
              <a:t>句式判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059280" y="5516640"/>
            <a:ext cx="217440" cy="649080"/>
          </a:xfrm>
          <a:custGeom>
            <a:avLst/>
            <a:gdLst>
              <a:gd name="textAreaLeft" fmla="*/ 138960 w 217440"/>
              <a:gd name="textAreaRight" fmla="*/ 217800 w 217440"/>
              <a:gd name="textAreaTop" fmla="*/ 16920 h 649080"/>
              <a:gd name="textAreaBottom" fmla="*/ 632160 h 649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2A8DBC-E39E-4A31-8E47-BEFBDEA45DA2}" type="datetime1">
              <a:rPr lang="en-US"/>
              <a:t>07/29/26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2627280" y="1341360"/>
            <a:ext cx="453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3300"/>
                </a:solidFill>
                <a:latin typeface="Arial"/>
                <a:ea typeface="华文行楷"/>
              </a:rPr>
              <a:t>课堂练习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116000" y="3213000"/>
            <a:ext cx="7365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华文行楷"/>
              </a:rPr>
              <a:t>　　</a:t>
            </a:r>
            <a:r>
              <a:rPr b="0" lang="zh-CN" sz="4800" spc="-1" strike="noStrike">
                <a:solidFill>
                  <a:srgbClr val="ff3300"/>
                </a:solidFill>
                <a:latin typeface="Arial"/>
                <a:ea typeface="华文行楷"/>
              </a:rPr>
              <a:t>完成课后练习第三题（做在书本上）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EC56DA-4072-426C-802C-A1EA6871C18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i="1" lang="zh-CN" sz="4800" spc="-1" strike="noStrike">
                <a:solidFill>
                  <a:srgbClr val="000099"/>
                </a:solidFill>
                <a:latin typeface="Arial"/>
              </a:rPr>
              <a:t>课 后 作 业</a:t>
            </a:r>
            <a:br>
              <a:rPr sz="4000"/>
            </a:br>
            <a:endParaRPr b="0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6666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熟读课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6666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翻译课文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1-3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8DED1A-1C07-4CCF-BF24-867F9DF1073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3"/>
          <a:stretch/>
        </p:blipFill>
        <p:spPr>
          <a:xfrm>
            <a:off x="1403280" y="0"/>
            <a:ext cx="774072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3A5972-97B4-4325-B906-AD7793CF39E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450036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Arial"/>
              </a:rPr>
              <a:t>理清思路（</a:t>
            </a:r>
            <a:r>
              <a:rPr b="1" lang="zh-CN" sz="4000" spc="-1" strike="noStrike">
                <a:solidFill>
                  <a:srgbClr val="000099"/>
                </a:solidFill>
                <a:latin typeface="Arial"/>
              </a:rPr>
              <a:t>1-4</a:t>
            </a:r>
            <a:r>
              <a:rPr b="1" lang="zh-CN" sz="4000" spc="-1" strike="noStrike">
                <a:solidFill>
                  <a:srgbClr val="000099"/>
                </a:solidFill>
                <a:latin typeface="Arial"/>
              </a:rPr>
              <a:t>段）</a:t>
            </a: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962240" y="0"/>
            <a:ext cx="20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叙兴亡过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768680" y="836640"/>
            <a:ext cx="383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段—固基业：秦孝公的故事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2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年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崛起） （前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361~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前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338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156360" y="692280"/>
            <a:ext cx="142920" cy="1079280"/>
          </a:xfrm>
          <a:custGeom>
            <a:avLst/>
            <a:gdLst>
              <a:gd name="textAreaLeft" fmla="*/ 91440 w 142920"/>
              <a:gd name="textAreaRight" fmla="*/ 143280 w 142920"/>
              <a:gd name="textAreaTop" fmla="*/ 28080 h 1079280"/>
              <a:gd name="textAreaBottom" fmla="*/ 1051200 h 107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508800" y="5842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地理优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508800" y="101592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政治雄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508800" y="144792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商君辅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1738800" y="2751120"/>
            <a:ext cx="3589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段—充国力：五王的故事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9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年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发展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5796000" y="2060640"/>
            <a:ext cx="216000" cy="2089080"/>
          </a:xfrm>
          <a:custGeom>
            <a:avLst/>
            <a:gdLst>
              <a:gd name="textAreaLeft" fmla="*/ 137880 w 216000"/>
              <a:gd name="textAreaRight" fmla="*/ 216360 w 216000"/>
              <a:gd name="textAreaTop" fmla="*/ 54360 h 2089080"/>
              <a:gd name="textAreaBottom" fmla="*/ 2034720 h 2089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165000" y="1981080"/>
            <a:ext cx="211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惠文王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（前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337~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前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331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3520" y="2387520"/>
            <a:ext cx="196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武王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（前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330~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前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307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165000" y="2819520"/>
            <a:ext cx="211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昭襄王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（前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306~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前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251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265080" y="3384720"/>
            <a:ext cx="192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孝文王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（前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250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，仅三天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165000" y="3816360"/>
            <a:ext cx="211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庄襄王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（前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250~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前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247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687680" y="4365720"/>
            <a:ext cx="273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段—统天下：秦始皇的故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统一）   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37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年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5219640" y="4365720"/>
            <a:ext cx="142920" cy="1079280"/>
          </a:xfrm>
          <a:custGeom>
            <a:avLst/>
            <a:gdLst>
              <a:gd name="textAreaLeft" fmla="*/ 91440 w 142920"/>
              <a:gd name="textAreaRight" fmla="*/ 143280 w 142920"/>
              <a:gd name="textAreaTop" fmla="*/ 28080 h 1079280"/>
              <a:gd name="textAreaBottom" fmla="*/ 1051200 h 107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5315040" y="4267080"/>
            <a:ext cx="81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前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4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668560" y="4724280"/>
            <a:ext cx="113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前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22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（统一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315040" y="5229360"/>
            <a:ext cx="81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前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6948360" y="4365720"/>
            <a:ext cx="152640" cy="503280"/>
          </a:xfrm>
          <a:custGeom>
            <a:avLst/>
            <a:gdLst>
              <a:gd name="textAreaLeft" fmla="*/ 0 w 152640"/>
              <a:gd name="textAreaRight" fmla="*/ 55080 w 152640"/>
              <a:gd name="textAreaTop" fmla="*/ 12960 h 503280"/>
              <a:gd name="textAreaBottom" fmla="*/ 49032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948360" y="5013360"/>
            <a:ext cx="152640" cy="503280"/>
          </a:xfrm>
          <a:custGeom>
            <a:avLst/>
            <a:gdLst>
              <a:gd name="textAreaLeft" fmla="*/ 0 w 152640"/>
              <a:gd name="textAreaRight" fmla="*/ 55080 w 152640"/>
              <a:gd name="textAreaTop" fmla="*/ 12960 h 503280"/>
              <a:gd name="textAreaBottom" fmla="*/ 49032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131240" y="4365720"/>
            <a:ext cx="12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年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7131240" y="4941720"/>
            <a:ext cx="12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年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8317080" y="692280"/>
            <a:ext cx="223560" cy="4032000"/>
          </a:xfrm>
          <a:custGeom>
            <a:avLst/>
            <a:gdLst>
              <a:gd name="textAreaLeft" fmla="*/ 0 w 223560"/>
              <a:gd name="textAreaRight" fmla="*/ 80640 w 223560"/>
              <a:gd name="textAreaTop" fmla="*/ 105120 h 4032000"/>
              <a:gd name="textAreaBottom" fmla="*/ 3926880 h 40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8567640" y="1989000"/>
            <a:ext cx="57636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139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年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900000" y="1052640"/>
            <a:ext cx="142920" cy="3671640"/>
          </a:xfrm>
          <a:custGeom>
            <a:avLst/>
            <a:gdLst>
              <a:gd name="textAreaLeft" fmla="*/ 91440 w 142920"/>
              <a:gd name="textAreaRight" fmla="*/ 143280 w 142920"/>
              <a:gd name="textAreaTop" fmla="*/ 95760 h 3671640"/>
              <a:gd name="textAreaBottom" fmla="*/ 3575880 h 3671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1554480" y="5919840"/>
            <a:ext cx="255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段—义军起：陈涉的故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灭亡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095800" y="5877000"/>
            <a:ext cx="257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二世（胡亥）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（前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209~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前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208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095800" y="6337440"/>
            <a:ext cx="257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三世（子婴）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（前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208~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前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207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572000" y="6021360"/>
            <a:ext cx="216000" cy="576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7885080" y="6093000"/>
            <a:ext cx="152280" cy="502920"/>
          </a:xfrm>
          <a:custGeom>
            <a:avLst/>
            <a:gdLst>
              <a:gd name="textAreaLeft" fmla="*/ 0 w 152280"/>
              <a:gd name="textAreaRight" fmla="*/ 55080 w 152280"/>
              <a:gd name="textAreaTop" fmla="*/ 12960 h 502920"/>
              <a:gd name="textAreaBottom" fmla="*/ 489960 h 50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956720" y="5950080"/>
            <a:ext cx="502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8317080" y="5084640"/>
            <a:ext cx="223560" cy="1584360"/>
          </a:xfrm>
          <a:custGeom>
            <a:avLst/>
            <a:gdLst>
              <a:gd name="textAreaLeft" fmla="*/ 0 w 223560"/>
              <a:gd name="textAreaRight" fmla="*/ 80640 w 223560"/>
              <a:gd name="textAreaTop" fmla="*/ 41040 h 1584360"/>
              <a:gd name="textAreaBottom" fmla="*/ 1543320 h 158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8567640" y="5084640"/>
            <a:ext cx="57636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年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63160" y="256536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263160" y="580536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24000" y="3284640"/>
            <a:ext cx="358560" cy="2448000"/>
          </a:xfrm>
          <a:prstGeom prst="downArrow">
            <a:avLst>
              <a:gd name="adj1" fmla="val 50000"/>
              <a:gd name="adj2" fmla="val 170683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7518960" y="62064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地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7451640" y="1197000"/>
            <a:ext cx="152640" cy="503280"/>
          </a:xfrm>
          <a:custGeom>
            <a:avLst/>
            <a:gdLst>
              <a:gd name="textAreaLeft" fmla="*/ 0 w 152640"/>
              <a:gd name="textAreaRight" fmla="*/ 55080 w 152640"/>
              <a:gd name="textAreaTop" fmla="*/ 12960 h 503280"/>
              <a:gd name="textAreaBottom" fmla="*/ 49032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691040" y="119700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人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10E6AB-659D-401A-9890-27FDC34F8F8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5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9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4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9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2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9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9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9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3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9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6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9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6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9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6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7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7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9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9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0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0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7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9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9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29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9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4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2" dur="8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3" dur="8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4" dur="8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179280" y="2781360"/>
            <a:ext cx="755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析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476360" y="1125360"/>
            <a:ext cx="74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371600" y="241776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陈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1523880" y="4648320"/>
            <a:ext cx="17528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1295280" y="515448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秦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581280" y="198108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6227640" y="436248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功业相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438280" y="677880"/>
            <a:ext cx="38102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国力，天下非小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地利，崤函自若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2438280" y="2046240"/>
            <a:ext cx="41148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地位非尊，武器非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兵力非抗，战术非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295280" y="385776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秦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2286000" y="3413160"/>
            <a:ext cx="40863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致万乘势，百又余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六合为家，崤函为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286000" y="4724280"/>
            <a:ext cx="51055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一夫作难，而七庙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身死人手，为天下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227640" y="162576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成败异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 rot="5400000">
            <a:off x="5958000" y="3133800"/>
            <a:ext cx="5029200" cy="4572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1" strike="noStrike">
                <a:ln w="12600">
                  <a:solidFill>
                    <a:srgbClr val="333399"/>
                  </a:solidFill>
                  <a:miter/>
                </a:ln>
                <a:solidFill>
                  <a:srgbClr val="0000ff">
                    <a:alpha val="50000"/>
                  </a:srgbClr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仁义不施而攻守之势异也</a:t>
            </a:r>
            <a:endParaRPr b="0" i="1" lang="en-US" sz="1800" spc="1" strike="noStrike">
              <a:ln w="12600">
                <a:solidFill>
                  <a:srgbClr val="333399"/>
                </a:solidFill>
                <a:miter/>
              </a:ln>
              <a:solidFill>
                <a:srgbClr val="0000ff">
                  <a:alpha val="50000"/>
                </a:srgbClr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305" name=""/>
          <p:cNvSpPr/>
          <p:nvPr/>
        </p:nvSpPr>
        <p:spPr>
          <a:xfrm>
            <a:off x="1042920" y="1341360"/>
            <a:ext cx="360360" cy="4248360"/>
          </a:xfrm>
          <a:custGeom>
            <a:avLst/>
            <a:gdLst>
              <a:gd name="textAreaLeft" fmla="*/ 230400 w 360360"/>
              <a:gd name="textAreaRight" fmla="*/ 360720 w 360360"/>
              <a:gd name="textAreaTop" fmla="*/ 110520 h 4248360"/>
              <a:gd name="textAreaBottom" fmla="*/ 4137840 h 424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195640" y="909720"/>
            <a:ext cx="144360" cy="1079280"/>
          </a:xfrm>
          <a:custGeom>
            <a:avLst/>
            <a:gdLst>
              <a:gd name="textAreaLeft" fmla="*/ 92160 w 144360"/>
              <a:gd name="textAreaRight" fmla="*/ 144360 w 144360"/>
              <a:gd name="textAreaTop" fmla="*/ 28080 h 1079280"/>
              <a:gd name="textAreaBottom" fmla="*/ 1051200 h 107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195640" y="2205000"/>
            <a:ext cx="144360" cy="1079640"/>
          </a:xfrm>
          <a:custGeom>
            <a:avLst/>
            <a:gdLst>
              <a:gd name="textAreaLeft" fmla="*/ 92160 w 144360"/>
              <a:gd name="textAreaRight" fmla="*/ 144360 w 14436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195640" y="3645000"/>
            <a:ext cx="144360" cy="1079280"/>
          </a:xfrm>
          <a:custGeom>
            <a:avLst/>
            <a:gdLst>
              <a:gd name="textAreaLeft" fmla="*/ 92160 w 144360"/>
              <a:gd name="textAreaRight" fmla="*/ 144360 w 144360"/>
              <a:gd name="textAreaTop" fmla="*/ 28080 h 1079280"/>
              <a:gd name="textAreaBottom" fmla="*/ 1051200 h 107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124000" y="4941720"/>
            <a:ext cx="144360" cy="1079640"/>
          </a:xfrm>
          <a:custGeom>
            <a:avLst/>
            <a:gdLst>
              <a:gd name="textAreaLeft" fmla="*/ 92160 w 144360"/>
              <a:gd name="textAreaRight" fmla="*/ 144360 w 14436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6156360" y="836640"/>
            <a:ext cx="144360" cy="2448000"/>
          </a:xfrm>
          <a:custGeom>
            <a:avLst/>
            <a:gdLst>
              <a:gd name="textAreaLeft" fmla="*/ 0 w 144360"/>
              <a:gd name="textAreaRight" fmla="*/ 52200 w 144360"/>
              <a:gd name="textAreaTop" fmla="*/ 63720 h 2448000"/>
              <a:gd name="textAreaBottom" fmla="*/ 2384280 h 24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6084720" y="3573360"/>
            <a:ext cx="142920" cy="2306880"/>
          </a:xfrm>
          <a:custGeom>
            <a:avLst/>
            <a:gdLst>
              <a:gd name="textAreaLeft" fmla="*/ 0 w 142920"/>
              <a:gd name="textAreaRight" fmla="*/ 51480 w 142920"/>
              <a:gd name="textAreaTop" fmla="*/ 60120 h 2306880"/>
              <a:gd name="textAreaBottom" fmla="*/ 2246760 h 2306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7956720" y="1773360"/>
            <a:ext cx="215640" cy="3024000"/>
          </a:xfrm>
          <a:custGeom>
            <a:avLst/>
            <a:gdLst>
              <a:gd name="textAreaLeft" fmla="*/ 0 w 215640"/>
              <a:gd name="textAreaRight" fmla="*/ 77760 w 215640"/>
              <a:gd name="textAreaTop" fmla="*/ 78840 h 3024000"/>
              <a:gd name="textAreaBottom" fmla="*/ 2945160 h 302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0" y="0"/>
            <a:ext cx="511344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Arial"/>
              </a:rPr>
              <a:t>理清思路（</a:t>
            </a:r>
            <a:r>
              <a:rPr b="1" lang="zh-CN" sz="4000" spc="-1" strike="noStrike">
                <a:solidFill>
                  <a:srgbClr val="000099"/>
                </a:solidFill>
                <a:latin typeface="Arial"/>
              </a:rPr>
              <a:t>5</a:t>
            </a:r>
            <a:r>
              <a:rPr b="1" lang="zh-CN" sz="4000" spc="-1" strike="noStrike">
                <a:solidFill>
                  <a:srgbClr val="000099"/>
                </a:solidFill>
                <a:latin typeface="Arial"/>
              </a:rPr>
              <a:t>段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819680" y="0"/>
            <a:ext cx="20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议灭亡原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823400" y="6165720"/>
            <a:ext cx="261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陈涉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&lt;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九国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&lt;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秦国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&lt;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秦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5216040" y="6165720"/>
            <a:ext cx="159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——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层层对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E8B52D-792C-4BF3-BB83-BF1490CFC05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5" dur="indefinite" restart="never" nodeType="tmRoot">
          <p:childTnLst>
            <p:seq>
              <p:cTn id="566" dur="indefinite" nodeType="mainSeq">
                <p:childTnLst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3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4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5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7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2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3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5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6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8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9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81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2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2" dur="80"/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3" dur="80"/>
                                        <p:tgtEl>
                                          <p:spTgt spid="3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4" dur="80"/>
                                        <p:tgtEl>
                                          <p:spTgt spid="3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762120" y="1752480"/>
            <a:ext cx="76197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609480" y="1752480"/>
            <a:ext cx="5105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3300"/>
                </a:solidFill>
                <a:latin typeface="Times New Roman"/>
                <a:ea typeface="隶书"/>
              </a:rPr>
              <a:t>    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7632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1763640" y="189000"/>
            <a:ext cx="5791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0000"/>
                </a:solidFill>
                <a:latin typeface="Times New Roman"/>
                <a:ea typeface="幼圆"/>
              </a:rPr>
              <a:t> </a:t>
            </a:r>
            <a:r>
              <a:rPr b="1" lang="zh-CN" sz="5400" spc="-1" strike="noStrike">
                <a:solidFill>
                  <a:srgbClr val="cc0000"/>
                </a:solidFill>
                <a:latin typeface="Times New Roman"/>
                <a:ea typeface="幼圆"/>
              </a:rPr>
              <a:t>理清全文思路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80880" y="1447920"/>
            <a:ext cx="5334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6600"/>
                </a:solidFill>
                <a:latin typeface="Times New Roman"/>
                <a:ea typeface="幼圆"/>
              </a:rPr>
              <a:t>①</a:t>
            </a:r>
            <a:r>
              <a:rPr b="1" lang="zh-CN" sz="4400" spc="-1" strike="noStrike">
                <a:solidFill>
                  <a:srgbClr val="cc6600"/>
                </a:solidFill>
                <a:latin typeface="Times New Roman"/>
                <a:ea typeface="幼圆"/>
              </a:rPr>
              <a:t>秦创业</a:t>
            </a:r>
            <a:r>
              <a:rPr b="1" lang="zh-CN" sz="4400" spc="-1" strike="noStrike">
                <a:solidFill>
                  <a:srgbClr val="cc6600"/>
                </a:solidFill>
                <a:latin typeface="Times New Roman"/>
                <a:ea typeface="幼圆"/>
              </a:rPr>
              <a:t>(</a:t>
            </a:r>
            <a:r>
              <a:rPr b="1" lang="zh-CN" sz="4400" spc="-1" strike="noStrike">
                <a:solidFill>
                  <a:srgbClr val="cc6600"/>
                </a:solidFill>
                <a:latin typeface="Times New Roman"/>
                <a:ea typeface="幼圆"/>
              </a:rPr>
              <a:t>雄心勃勃</a:t>
            </a:r>
            <a:r>
              <a:rPr b="1" lang="zh-CN" sz="4400" spc="-1" strike="noStrike">
                <a:solidFill>
                  <a:srgbClr val="cc6600"/>
                </a:solidFill>
                <a:latin typeface="Times New Roman"/>
                <a:ea typeface="幼圆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24000" y="2421000"/>
            <a:ext cx="5029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Times New Roman"/>
                <a:ea typeface="幼圆"/>
              </a:rPr>
              <a:t>②</a:t>
            </a:r>
            <a:r>
              <a:rPr b="1" lang="zh-CN" sz="4400" spc="-1" strike="noStrike">
                <a:solidFill>
                  <a:srgbClr val="cc0000"/>
                </a:solidFill>
                <a:latin typeface="Times New Roman"/>
                <a:ea typeface="幼圆"/>
              </a:rPr>
              <a:t>秦日盛</a:t>
            </a:r>
            <a:r>
              <a:rPr b="1" lang="zh-CN" sz="4400" spc="-1" strike="noStrike">
                <a:solidFill>
                  <a:srgbClr val="cc0000"/>
                </a:solidFill>
                <a:latin typeface="Times New Roman"/>
                <a:ea typeface="幼圆"/>
              </a:rPr>
              <a:t>(</a:t>
            </a:r>
            <a:r>
              <a:rPr b="1" lang="zh-CN" sz="4400" spc="-1" strike="noStrike">
                <a:solidFill>
                  <a:srgbClr val="cc0000"/>
                </a:solidFill>
                <a:latin typeface="Times New Roman"/>
                <a:ea typeface="幼圆"/>
              </a:rPr>
              <a:t>所向披靡</a:t>
            </a:r>
            <a:r>
              <a:rPr b="1" lang="zh-CN" sz="4400" spc="-1" strike="noStrike">
                <a:solidFill>
                  <a:srgbClr val="cc0000"/>
                </a:solidFill>
                <a:latin typeface="Times New Roman"/>
                <a:ea typeface="幼圆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24000" y="3357720"/>
            <a:ext cx="5029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6600"/>
                </a:solidFill>
                <a:latin typeface="Times New Roman"/>
                <a:ea typeface="幼圆"/>
              </a:rPr>
              <a:t>③</a:t>
            </a:r>
            <a:r>
              <a:rPr b="1" lang="zh-CN" sz="4400" spc="-1" strike="noStrike">
                <a:solidFill>
                  <a:srgbClr val="cc6600"/>
                </a:solidFill>
                <a:latin typeface="Times New Roman"/>
                <a:ea typeface="幼圆"/>
              </a:rPr>
              <a:t>秦统一</a:t>
            </a:r>
            <a:r>
              <a:rPr b="1" lang="zh-CN" sz="4400" spc="-1" strike="noStrike">
                <a:solidFill>
                  <a:srgbClr val="cc6600"/>
                </a:solidFill>
                <a:latin typeface="Times New Roman"/>
                <a:ea typeface="幼圆"/>
              </a:rPr>
              <a:t>(</a:t>
            </a:r>
            <a:r>
              <a:rPr b="1" lang="zh-CN" sz="4400" spc="-1" strike="noStrike">
                <a:solidFill>
                  <a:srgbClr val="cc6600"/>
                </a:solidFill>
                <a:latin typeface="Times New Roman"/>
                <a:ea typeface="幼圆"/>
              </a:rPr>
              <a:t>势如破竹</a:t>
            </a:r>
            <a:r>
              <a:rPr b="1" lang="zh-CN" sz="4400" spc="-1" strike="noStrike">
                <a:solidFill>
                  <a:srgbClr val="cc6600"/>
                </a:solidFill>
                <a:latin typeface="Times New Roman"/>
                <a:ea typeface="幼圆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24000" y="4365720"/>
            <a:ext cx="5257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Times New Roman"/>
                <a:ea typeface="幼圆"/>
              </a:rPr>
              <a:t>④</a:t>
            </a:r>
            <a:r>
              <a:rPr b="1" lang="zh-CN" sz="4400" spc="-1" strike="noStrike">
                <a:solidFill>
                  <a:srgbClr val="cc0000"/>
                </a:solidFill>
                <a:latin typeface="Times New Roman"/>
                <a:ea typeface="幼圆"/>
              </a:rPr>
              <a:t>秦灭亡</a:t>
            </a:r>
            <a:r>
              <a:rPr b="1" lang="zh-CN" sz="4400" spc="-1" strike="noStrike">
                <a:solidFill>
                  <a:srgbClr val="cc0000"/>
                </a:solidFill>
                <a:latin typeface="Times New Roman"/>
                <a:ea typeface="幼圆"/>
              </a:rPr>
              <a:t>(</a:t>
            </a:r>
            <a:r>
              <a:rPr b="1" lang="zh-CN" sz="4400" spc="-1" strike="noStrike">
                <a:solidFill>
                  <a:srgbClr val="cc0000"/>
                </a:solidFill>
                <a:latin typeface="Times New Roman"/>
                <a:ea typeface="幼圆"/>
              </a:rPr>
              <a:t>一败涂地</a:t>
            </a:r>
            <a:r>
              <a:rPr b="1" lang="zh-CN" sz="4400" spc="-1" strike="noStrike">
                <a:solidFill>
                  <a:srgbClr val="cc0000"/>
                </a:solidFill>
                <a:latin typeface="Times New Roman"/>
                <a:ea typeface="幼圆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5580000" y="1700280"/>
            <a:ext cx="76320" cy="3313080"/>
          </a:xfrm>
          <a:custGeom>
            <a:avLst/>
            <a:gdLst>
              <a:gd name="textAreaLeft" fmla="*/ 0 w 76320"/>
              <a:gd name="textAreaRight" fmla="*/ 53640 w 76320"/>
              <a:gd name="textAreaTop" fmla="*/ 137880 h 3313080"/>
              <a:gd name="textAreaBottom" fmla="*/ 3175200 h 3313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solidFill>
            <a:srgbClr val="ff9900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651640" y="2708280"/>
            <a:ext cx="380880" cy="1147680"/>
          </a:xfrm>
          <a:prstGeom prst="rightArrow">
            <a:avLst>
              <a:gd name="adj1" fmla="val 49935"/>
              <a:gd name="adj2" fmla="val 40417"/>
            </a:avLst>
          </a:prstGeom>
          <a:solidFill>
            <a:srgbClr val="cc0000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5796000" y="2852640"/>
            <a:ext cx="3124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幼圆"/>
                <a:ea typeface="幼圆"/>
              </a:rPr>
              <a:t> ⑤</a:t>
            </a:r>
            <a:r>
              <a:rPr b="1" lang="zh-CN" sz="4800" spc="-1" strike="noStrike">
                <a:solidFill>
                  <a:srgbClr val="cc0000"/>
                </a:solidFill>
                <a:latin typeface="幼圆"/>
                <a:ea typeface="幼圆"/>
              </a:rPr>
              <a:t>秦教训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 rot="21111000">
            <a:off x="3276360" y="4292640"/>
            <a:ext cx="5486400" cy="160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5633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宋体"/>
              </a:rPr>
              <a:t>仁义不施而攻守之势异也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4"/>
          <a:stretch/>
        </p:blipFill>
        <p:spPr>
          <a:xfrm>
            <a:off x="468360" y="5229360"/>
            <a:ext cx="2374920" cy="129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1A3C16-AB5B-4C4B-97FE-55638627C0C7}" type="datetime1">
              <a:rPr lang="en-US"/>
              <a:t>07/29/26</a:t>
            </a:fld>
          </a:p>
        </p:txBody>
      </p:sp>
    </p:spTree>
  </p:cSld>
  <p:transition spd="slow">
    <p:blinds dir="horz"/>
  </p:transition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1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26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1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7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2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8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8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4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69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826920" y="2421000"/>
            <a:ext cx="3276720" cy="14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一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  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隶书"/>
              </a:rPr>
              <a:t>兴亡过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          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(1-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900000" y="5157720"/>
            <a:ext cx="358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二、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分析原因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(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H="1">
            <a:off x="4858560" y="1916280"/>
            <a:ext cx="685800" cy="18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99"/>
                </a:solidFill>
                <a:latin typeface="隶书"/>
                <a:ea typeface="隶书"/>
              </a:rPr>
              <a:t>兴</a:t>
            </a:r>
            <a:r>
              <a:rPr b="1" lang="zh-CN" sz="3200" spc="-1" strike="noStrike">
                <a:solidFill>
                  <a:srgbClr val="003399"/>
                </a:solidFill>
                <a:latin typeface="隶书"/>
                <a:ea typeface="隶书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859280" y="436572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99"/>
                </a:solidFill>
                <a:latin typeface="Times New Roman"/>
                <a:ea typeface="隶书"/>
              </a:rPr>
              <a:t>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6400800" y="1752480"/>
            <a:ext cx="20574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崛起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发展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极盛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4267080" y="2209680"/>
            <a:ext cx="76320" cy="2210040"/>
          </a:xfrm>
          <a:custGeom>
            <a:avLst/>
            <a:gdLst>
              <a:gd name="textAreaLeft" fmla="*/ 22320 w 76320"/>
              <a:gd name="textAreaRight" fmla="*/ 76320 w 76320"/>
              <a:gd name="textAreaTop" fmla="*/ 91800 h 2210040"/>
              <a:gd name="textAreaBottom" fmla="*/ 2118240 h 221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solidFill>
            <a:srgbClr val="cc0000"/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6012000" y="1989000"/>
            <a:ext cx="72720" cy="1656000"/>
          </a:xfrm>
          <a:custGeom>
            <a:avLst/>
            <a:gdLst>
              <a:gd name="textAreaLeft" fmla="*/ 21240 w 72720"/>
              <a:gd name="textAreaRight" fmla="*/ 73080 w 72720"/>
              <a:gd name="textAreaTop" fmla="*/ 68760 h 1656000"/>
              <a:gd name="textAreaBottom" fmla="*/ 1587240 h 165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solidFill>
            <a:srgbClr val="cc0000"/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3962520" y="441972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Times New Roman"/>
                <a:ea typeface="隶书"/>
              </a:rPr>
              <a:t>(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 flipH="1">
            <a:off x="5076720" y="2708280"/>
            <a:ext cx="287280" cy="1600200"/>
          </a:xfrm>
          <a:prstGeom prst="downArrow">
            <a:avLst>
              <a:gd name="adj1" fmla="val 50000"/>
              <a:gd name="adj2" fmla="val 139254"/>
            </a:avLst>
          </a:pr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1619280" y="249480"/>
            <a:ext cx="6095880" cy="109944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969696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c1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66"/>
                </a:solidFill>
                <a:latin typeface="Times New Roman"/>
                <a:ea typeface="隶书"/>
              </a:rPr>
              <a:t> </a:t>
            </a:r>
            <a:r>
              <a:rPr b="1" lang="zh-CN" sz="4800" spc="-1" strike="noStrike">
                <a:solidFill>
                  <a:srgbClr val="003399"/>
                </a:solidFill>
                <a:latin typeface="Times New Roman"/>
                <a:ea typeface="隶书"/>
              </a:rPr>
              <a:t>《过秦论》内容结构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629400" y="4038480"/>
            <a:ext cx="132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隶书"/>
              </a:rPr>
              <a:t>始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6705720" y="480060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隶书"/>
              </a:rPr>
              <a:t>陈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084720" y="4221000"/>
            <a:ext cx="76320" cy="1067040"/>
          </a:xfrm>
          <a:custGeom>
            <a:avLst/>
            <a:gdLst>
              <a:gd name="textAreaLeft" fmla="*/ 22320 w 76320"/>
              <a:gd name="textAreaRight" fmla="*/ 76320 w 76320"/>
              <a:gd name="textAreaTop" fmla="*/ 44280 h 1067040"/>
              <a:gd name="textAreaBottom" fmla="*/ 102276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solidFill>
            <a:srgbClr val="cc0000"/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7632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0" y="6556320"/>
            <a:ext cx="9144000" cy="301680"/>
          </a:xfrm>
          <a:custGeom>
            <a:avLst/>
            <a:gdLst/>
            <a:ahLst/>
            <a:rect l="l" t="t" r="r" b="b"/>
            <a:pathLst>
              <a:path w="5760" h="380">
                <a:moveTo>
                  <a:pt x="5411" y="244"/>
                </a:moveTo>
                <a:lnTo>
                  <a:pt x="5410" y="220"/>
                </a:lnTo>
                <a:lnTo>
                  <a:pt x="5411" y="199"/>
                </a:lnTo>
                <a:lnTo>
                  <a:pt x="5416" y="179"/>
                </a:lnTo>
                <a:lnTo>
                  <a:pt x="5425" y="162"/>
                </a:lnTo>
                <a:lnTo>
                  <a:pt x="5438" y="149"/>
                </a:lnTo>
                <a:lnTo>
                  <a:pt x="5454" y="137"/>
                </a:lnTo>
                <a:lnTo>
                  <a:pt x="5473" y="129"/>
                </a:lnTo>
                <a:lnTo>
                  <a:pt x="5495" y="124"/>
                </a:lnTo>
                <a:lnTo>
                  <a:pt x="5515" y="126"/>
                </a:lnTo>
                <a:lnTo>
                  <a:pt x="5533" y="134"/>
                </a:lnTo>
                <a:lnTo>
                  <a:pt x="5548" y="144"/>
                </a:lnTo>
                <a:lnTo>
                  <a:pt x="5561" y="158"/>
                </a:lnTo>
                <a:lnTo>
                  <a:pt x="5569" y="175"/>
                </a:lnTo>
                <a:lnTo>
                  <a:pt x="5572" y="194"/>
                </a:lnTo>
                <a:lnTo>
                  <a:pt x="5571" y="213"/>
                </a:lnTo>
                <a:lnTo>
                  <a:pt x="5563" y="233"/>
                </a:lnTo>
                <a:lnTo>
                  <a:pt x="5553" y="243"/>
                </a:lnTo>
                <a:lnTo>
                  <a:pt x="5544" y="251"/>
                </a:lnTo>
                <a:lnTo>
                  <a:pt x="5534" y="255"/>
                </a:lnTo>
                <a:lnTo>
                  <a:pt x="5523" y="257"/>
                </a:lnTo>
                <a:lnTo>
                  <a:pt x="5514" y="257"/>
                </a:lnTo>
                <a:lnTo>
                  <a:pt x="5503" y="254"/>
                </a:lnTo>
                <a:lnTo>
                  <a:pt x="5493" y="247"/>
                </a:lnTo>
                <a:lnTo>
                  <a:pt x="5484" y="238"/>
                </a:lnTo>
                <a:lnTo>
                  <a:pt x="5479" y="230"/>
                </a:lnTo>
                <a:lnTo>
                  <a:pt x="5477" y="220"/>
                </a:lnTo>
                <a:lnTo>
                  <a:pt x="5477" y="212"/>
                </a:lnTo>
                <a:lnTo>
                  <a:pt x="5477" y="205"/>
                </a:lnTo>
                <a:lnTo>
                  <a:pt x="5479" y="197"/>
                </a:lnTo>
                <a:lnTo>
                  <a:pt x="5482" y="189"/>
                </a:lnTo>
                <a:lnTo>
                  <a:pt x="5485" y="181"/>
                </a:lnTo>
                <a:lnTo>
                  <a:pt x="5487" y="173"/>
                </a:lnTo>
                <a:lnTo>
                  <a:pt x="5493" y="167"/>
                </a:lnTo>
                <a:lnTo>
                  <a:pt x="5498" y="165"/>
                </a:lnTo>
                <a:lnTo>
                  <a:pt x="5501" y="167"/>
                </a:lnTo>
                <a:lnTo>
                  <a:pt x="5504" y="170"/>
                </a:lnTo>
                <a:lnTo>
                  <a:pt x="5506" y="173"/>
                </a:lnTo>
                <a:lnTo>
                  <a:pt x="5506" y="178"/>
                </a:lnTo>
                <a:lnTo>
                  <a:pt x="5501" y="181"/>
                </a:lnTo>
                <a:lnTo>
                  <a:pt x="5496" y="183"/>
                </a:lnTo>
                <a:lnTo>
                  <a:pt x="5488" y="200"/>
                </a:lnTo>
                <a:lnTo>
                  <a:pt x="5487" y="217"/>
                </a:lnTo>
                <a:lnTo>
                  <a:pt x="5492" y="231"/>
                </a:lnTo>
                <a:lnTo>
                  <a:pt x="5500" y="241"/>
                </a:lnTo>
                <a:lnTo>
                  <a:pt x="5512" y="246"/>
                </a:lnTo>
                <a:lnTo>
                  <a:pt x="5526" y="246"/>
                </a:lnTo>
                <a:lnTo>
                  <a:pt x="5541" y="241"/>
                </a:lnTo>
                <a:lnTo>
                  <a:pt x="5555" y="226"/>
                </a:lnTo>
                <a:lnTo>
                  <a:pt x="5560" y="215"/>
                </a:lnTo>
                <a:lnTo>
                  <a:pt x="5561" y="204"/>
                </a:lnTo>
                <a:lnTo>
                  <a:pt x="5563" y="192"/>
                </a:lnTo>
                <a:lnTo>
                  <a:pt x="5561" y="183"/>
                </a:lnTo>
                <a:lnTo>
                  <a:pt x="5558" y="173"/>
                </a:lnTo>
                <a:lnTo>
                  <a:pt x="5553" y="163"/>
                </a:lnTo>
                <a:lnTo>
                  <a:pt x="5547" y="157"/>
                </a:lnTo>
                <a:lnTo>
                  <a:pt x="5539" y="150"/>
                </a:lnTo>
                <a:lnTo>
                  <a:pt x="5531" y="144"/>
                </a:lnTo>
                <a:lnTo>
                  <a:pt x="5522" y="141"/>
                </a:lnTo>
                <a:lnTo>
                  <a:pt x="5512" y="137"/>
                </a:lnTo>
                <a:lnTo>
                  <a:pt x="5501" y="136"/>
                </a:lnTo>
                <a:lnTo>
                  <a:pt x="5490" y="136"/>
                </a:lnTo>
                <a:lnTo>
                  <a:pt x="5479" y="137"/>
                </a:lnTo>
                <a:lnTo>
                  <a:pt x="5468" y="141"/>
                </a:lnTo>
                <a:lnTo>
                  <a:pt x="5459" y="145"/>
                </a:lnTo>
                <a:lnTo>
                  <a:pt x="5444" y="155"/>
                </a:lnTo>
                <a:lnTo>
                  <a:pt x="5435" y="165"/>
                </a:lnTo>
                <a:lnTo>
                  <a:pt x="5427" y="178"/>
                </a:lnTo>
                <a:lnTo>
                  <a:pt x="5422" y="192"/>
                </a:lnTo>
                <a:lnTo>
                  <a:pt x="5419" y="207"/>
                </a:lnTo>
                <a:lnTo>
                  <a:pt x="5419" y="221"/>
                </a:lnTo>
                <a:lnTo>
                  <a:pt x="5421" y="238"/>
                </a:lnTo>
                <a:lnTo>
                  <a:pt x="5424" y="254"/>
                </a:lnTo>
                <a:lnTo>
                  <a:pt x="5425" y="257"/>
                </a:lnTo>
                <a:lnTo>
                  <a:pt x="5429" y="262"/>
                </a:lnTo>
                <a:lnTo>
                  <a:pt x="5427" y="262"/>
                </a:lnTo>
                <a:lnTo>
                  <a:pt x="5432" y="267"/>
                </a:lnTo>
                <a:lnTo>
                  <a:pt x="5438" y="275"/>
                </a:lnTo>
                <a:lnTo>
                  <a:pt x="5447" y="281"/>
                </a:lnTo>
                <a:lnTo>
                  <a:pt x="5460" y="289"/>
                </a:lnTo>
                <a:lnTo>
                  <a:pt x="5476" y="296"/>
                </a:lnTo>
                <a:lnTo>
                  <a:pt x="5495" y="301"/>
                </a:lnTo>
                <a:lnTo>
                  <a:pt x="5518" y="306"/>
                </a:lnTo>
                <a:lnTo>
                  <a:pt x="5545" y="306"/>
                </a:lnTo>
                <a:lnTo>
                  <a:pt x="5564" y="304"/>
                </a:lnTo>
                <a:lnTo>
                  <a:pt x="5582" y="298"/>
                </a:lnTo>
                <a:lnTo>
                  <a:pt x="5599" y="289"/>
                </a:lnTo>
                <a:lnTo>
                  <a:pt x="5616" y="278"/>
                </a:lnTo>
                <a:lnTo>
                  <a:pt x="5634" y="265"/>
                </a:lnTo>
                <a:lnTo>
                  <a:pt x="5650" y="251"/>
                </a:lnTo>
                <a:lnTo>
                  <a:pt x="5665" y="234"/>
                </a:lnTo>
                <a:lnTo>
                  <a:pt x="5679" y="218"/>
                </a:lnTo>
                <a:lnTo>
                  <a:pt x="5692" y="200"/>
                </a:lnTo>
                <a:lnTo>
                  <a:pt x="5705" y="184"/>
                </a:lnTo>
                <a:lnTo>
                  <a:pt x="5716" y="168"/>
                </a:lnTo>
                <a:lnTo>
                  <a:pt x="5725" y="152"/>
                </a:lnTo>
                <a:lnTo>
                  <a:pt x="5733" y="139"/>
                </a:lnTo>
                <a:lnTo>
                  <a:pt x="5739" y="128"/>
                </a:lnTo>
                <a:lnTo>
                  <a:pt x="5744" y="118"/>
                </a:lnTo>
                <a:lnTo>
                  <a:pt x="5746" y="110"/>
                </a:lnTo>
                <a:lnTo>
                  <a:pt x="5749" y="105"/>
                </a:lnTo>
                <a:lnTo>
                  <a:pt x="5752" y="97"/>
                </a:lnTo>
                <a:lnTo>
                  <a:pt x="5755" y="89"/>
                </a:lnTo>
                <a:lnTo>
                  <a:pt x="5758" y="81"/>
                </a:lnTo>
                <a:lnTo>
                  <a:pt x="5760" y="73"/>
                </a:lnTo>
                <a:lnTo>
                  <a:pt x="5760" y="63"/>
                </a:lnTo>
                <a:lnTo>
                  <a:pt x="5758" y="53"/>
                </a:lnTo>
                <a:lnTo>
                  <a:pt x="5754" y="44"/>
                </a:lnTo>
                <a:lnTo>
                  <a:pt x="5746" y="35"/>
                </a:lnTo>
                <a:lnTo>
                  <a:pt x="5736" y="27"/>
                </a:lnTo>
                <a:lnTo>
                  <a:pt x="5721" y="19"/>
                </a:lnTo>
                <a:lnTo>
                  <a:pt x="5700" y="13"/>
                </a:lnTo>
                <a:lnTo>
                  <a:pt x="5675" y="8"/>
                </a:lnTo>
                <a:lnTo>
                  <a:pt x="5643" y="3"/>
                </a:lnTo>
                <a:lnTo>
                  <a:pt x="5607" y="2"/>
                </a:lnTo>
                <a:lnTo>
                  <a:pt x="5561" y="0"/>
                </a:lnTo>
                <a:lnTo>
                  <a:pt x="5533" y="0"/>
                </a:lnTo>
                <a:lnTo>
                  <a:pt x="5493" y="0"/>
                </a:lnTo>
                <a:lnTo>
                  <a:pt x="5444" y="0"/>
                </a:lnTo>
                <a:lnTo>
                  <a:pt x="5386" y="0"/>
                </a:lnTo>
                <a:lnTo>
                  <a:pt x="5318" y="0"/>
                </a:lnTo>
                <a:lnTo>
                  <a:pt x="5242" y="0"/>
                </a:lnTo>
                <a:lnTo>
                  <a:pt x="5160" y="0"/>
                </a:lnTo>
                <a:lnTo>
                  <a:pt x="5072" y="0"/>
                </a:lnTo>
                <a:lnTo>
                  <a:pt x="4977" y="0"/>
                </a:lnTo>
                <a:lnTo>
                  <a:pt x="4878" y="0"/>
                </a:lnTo>
                <a:lnTo>
                  <a:pt x="4773" y="0"/>
                </a:lnTo>
                <a:lnTo>
                  <a:pt x="4666" y="0"/>
                </a:lnTo>
                <a:lnTo>
                  <a:pt x="4557" y="0"/>
                </a:lnTo>
                <a:lnTo>
                  <a:pt x="4445" y="0"/>
                </a:lnTo>
                <a:lnTo>
                  <a:pt x="4331" y="0"/>
                </a:lnTo>
                <a:lnTo>
                  <a:pt x="4218" y="0"/>
                </a:lnTo>
                <a:lnTo>
                  <a:pt x="4103" y="0"/>
                </a:lnTo>
                <a:lnTo>
                  <a:pt x="3989" y="0"/>
                </a:lnTo>
                <a:lnTo>
                  <a:pt x="3878" y="0"/>
                </a:lnTo>
                <a:lnTo>
                  <a:pt x="3768" y="0"/>
                </a:lnTo>
                <a:lnTo>
                  <a:pt x="3661" y="0"/>
                </a:lnTo>
                <a:lnTo>
                  <a:pt x="3558" y="0"/>
                </a:lnTo>
                <a:lnTo>
                  <a:pt x="3460" y="0"/>
                </a:lnTo>
                <a:lnTo>
                  <a:pt x="3367" y="0"/>
                </a:lnTo>
                <a:lnTo>
                  <a:pt x="3279" y="0"/>
                </a:lnTo>
                <a:lnTo>
                  <a:pt x="3198" y="0"/>
                </a:lnTo>
                <a:lnTo>
                  <a:pt x="3124" y="0"/>
                </a:lnTo>
                <a:lnTo>
                  <a:pt x="3058" y="0"/>
                </a:lnTo>
                <a:lnTo>
                  <a:pt x="3001" y="0"/>
                </a:lnTo>
                <a:lnTo>
                  <a:pt x="2953" y="0"/>
                </a:lnTo>
                <a:lnTo>
                  <a:pt x="2916" y="0"/>
                </a:lnTo>
                <a:lnTo>
                  <a:pt x="2889" y="0"/>
                </a:lnTo>
                <a:lnTo>
                  <a:pt x="2889" y="0"/>
                </a:lnTo>
                <a:lnTo>
                  <a:pt x="2889" y="0"/>
                </a:lnTo>
                <a:lnTo>
                  <a:pt x="2889" y="0"/>
                </a:lnTo>
                <a:lnTo>
                  <a:pt x="2889" y="0"/>
                </a:lnTo>
                <a:lnTo>
                  <a:pt x="2882" y="0"/>
                </a:lnTo>
                <a:lnTo>
                  <a:pt x="2862" y="0"/>
                </a:lnTo>
                <a:lnTo>
                  <a:pt x="2829" y="0"/>
                </a:lnTo>
                <a:lnTo>
                  <a:pt x="2784" y="0"/>
                </a:lnTo>
                <a:lnTo>
                  <a:pt x="2728" y="0"/>
                </a:lnTo>
                <a:lnTo>
                  <a:pt x="2663" y="0"/>
                </a:lnTo>
                <a:lnTo>
                  <a:pt x="2587" y="0"/>
                </a:lnTo>
                <a:lnTo>
                  <a:pt x="2505" y="0"/>
                </a:lnTo>
                <a:lnTo>
                  <a:pt x="2414" y="0"/>
                </a:lnTo>
                <a:lnTo>
                  <a:pt x="2317" y="0"/>
                </a:lnTo>
                <a:lnTo>
                  <a:pt x="2215" y="0"/>
                </a:lnTo>
                <a:lnTo>
                  <a:pt x="2106" y="0"/>
                </a:lnTo>
                <a:lnTo>
                  <a:pt x="1994" y="0"/>
                </a:lnTo>
                <a:lnTo>
                  <a:pt x="1878" y="0"/>
                </a:lnTo>
                <a:lnTo>
                  <a:pt x="1760" y="0"/>
                </a:lnTo>
                <a:lnTo>
                  <a:pt x="1640" y="0"/>
                </a:lnTo>
                <a:lnTo>
                  <a:pt x="1520" y="0"/>
                </a:lnTo>
                <a:lnTo>
                  <a:pt x="1400" y="0"/>
                </a:lnTo>
                <a:lnTo>
                  <a:pt x="1280" y="0"/>
                </a:lnTo>
                <a:lnTo>
                  <a:pt x="1163" y="0"/>
                </a:lnTo>
                <a:lnTo>
                  <a:pt x="1048" y="0"/>
                </a:lnTo>
                <a:lnTo>
                  <a:pt x="938" y="0"/>
                </a:lnTo>
                <a:lnTo>
                  <a:pt x="830" y="0"/>
                </a:lnTo>
                <a:lnTo>
                  <a:pt x="728" y="0"/>
                </a:lnTo>
                <a:lnTo>
                  <a:pt x="631" y="0"/>
                </a:lnTo>
                <a:lnTo>
                  <a:pt x="543" y="0"/>
                </a:lnTo>
                <a:lnTo>
                  <a:pt x="461" y="0"/>
                </a:lnTo>
                <a:lnTo>
                  <a:pt x="388" y="0"/>
                </a:lnTo>
                <a:lnTo>
                  <a:pt x="324" y="0"/>
                </a:lnTo>
                <a:lnTo>
                  <a:pt x="270" y="0"/>
                </a:lnTo>
                <a:lnTo>
                  <a:pt x="229" y="0"/>
                </a:lnTo>
                <a:lnTo>
                  <a:pt x="197" y="0"/>
                </a:lnTo>
                <a:lnTo>
                  <a:pt x="153" y="2"/>
                </a:lnTo>
                <a:lnTo>
                  <a:pt x="115" y="3"/>
                </a:lnTo>
                <a:lnTo>
                  <a:pt x="84" y="8"/>
                </a:lnTo>
                <a:lnTo>
                  <a:pt x="58" y="13"/>
                </a:lnTo>
                <a:lnTo>
                  <a:pt x="38" y="19"/>
                </a:lnTo>
                <a:lnTo>
                  <a:pt x="22" y="27"/>
                </a:lnTo>
                <a:lnTo>
                  <a:pt x="11" y="35"/>
                </a:lnTo>
                <a:lnTo>
                  <a:pt x="5" y="44"/>
                </a:lnTo>
                <a:lnTo>
                  <a:pt x="2" y="53"/>
                </a:lnTo>
                <a:lnTo>
                  <a:pt x="0" y="63"/>
                </a:lnTo>
                <a:lnTo>
                  <a:pt x="0" y="73"/>
                </a:lnTo>
                <a:lnTo>
                  <a:pt x="2" y="81"/>
                </a:lnTo>
                <a:lnTo>
                  <a:pt x="3" y="89"/>
                </a:lnTo>
                <a:lnTo>
                  <a:pt x="6" y="97"/>
                </a:lnTo>
                <a:lnTo>
                  <a:pt x="9" y="105"/>
                </a:lnTo>
                <a:lnTo>
                  <a:pt x="11" y="110"/>
                </a:lnTo>
                <a:lnTo>
                  <a:pt x="14" y="118"/>
                </a:lnTo>
                <a:lnTo>
                  <a:pt x="19" y="128"/>
                </a:lnTo>
                <a:lnTo>
                  <a:pt x="25" y="139"/>
                </a:lnTo>
                <a:lnTo>
                  <a:pt x="33" y="152"/>
                </a:lnTo>
                <a:lnTo>
                  <a:pt x="43" y="168"/>
                </a:lnTo>
                <a:lnTo>
                  <a:pt x="54" y="184"/>
                </a:lnTo>
                <a:lnTo>
                  <a:pt x="66" y="200"/>
                </a:lnTo>
                <a:lnTo>
                  <a:pt x="79" y="217"/>
                </a:lnTo>
                <a:lnTo>
                  <a:pt x="93" y="234"/>
                </a:lnTo>
                <a:lnTo>
                  <a:pt x="109" y="249"/>
                </a:lnTo>
                <a:lnTo>
                  <a:pt x="125" y="265"/>
                </a:lnTo>
                <a:lnTo>
                  <a:pt x="142" y="278"/>
                </a:lnTo>
                <a:lnTo>
                  <a:pt x="159" y="288"/>
                </a:lnTo>
                <a:lnTo>
                  <a:pt x="177" y="298"/>
                </a:lnTo>
                <a:lnTo>
                  <a:pt x="196" y="302"/>
                </a:lnTo>
                <a:lnTo>
                  <a:pt x="213" y="306"/>
                </a:lnTo>
                <a:lnTo>
                  <a:pt x="242" y="304"/>
                </a:lnTo>
                <a:lnTo>
                  <a:pt x="264" y="301"/>
                </a:lnTo>
                <a:lnTo>
                  <a:pt x="283" y="296"/>
                </a:lnTo>
                <a:lnTo>
                  <a:pt x="298" y="289"/>
                </a:lnTo>
                <a:lnTo>
                  <a:pt x="311" y="281"/>
                </a:lnTo>
                <a:lnTo>
                  <a:pt x="320" y="273"/>
                </a:lnTo>
                <a:lnTo>
                  <a:pt x="327" y="267"/>
                </a:lnTo>
                <a:lnTo>
                  <a:pt x="331" y="262"/>
                </a:lnTo>
                <a:lnTo>
                  <a:pt x="330" y="260"/>
                </a:lnTo>
                <a:lnTo>
                  <a:pt x="333" y="255"/>
                </a:lnTo>
                <a:lnTo>
                  <a:pt x="335" y="252"/>
                </a:lnTo>
                <a:lnTo>
                  <a:pt x="338" y="238"/>
                </a:lnTo>
                <a:lnTo>
                  <a:pt x="339" y="221"/>
                </a:lnTo>
                <a:lnTo>
                  <a:pt x="339" y="207"/>
                </a:lnTo>
                <a:lnTo>
                  <a:pt x="336" y="191"/>
                </a:lnTo>
                <a:lnTo>
                  <a:pt x="331" y="178"/>
                </a:lnTo>
                <a:lnTo>
                  <a:pt x="325" y="165"/>
                </a:lnTo>
                <a:lnTo>
                  <a:pt x="314" y="154"/>
                </a:lnTo>
                <a:lnTo>
                  <a:pt x="301" y="145"/>
                </a:lnTo>
                <a:lnTo>
                  <a:pt x="290" y="141"/>
                </a:lnTo>
                <a:lnTo>
                  <a:pt x="279" y="137"/>
                </a:lnTo>
                <a:lnTo>
                  <a:pt x="268" y="136"/>
                </a:lnTo>
                <a:lnTo>
                  <a:pt x="259" y="136"/>
                </a:lnTo>
                <a:lnTo>
                  <a:pt x="248" y="136"/>
                </a:lnTo>
                <a:lnTo>
                  <a:pt x="238" y="139"/>
                </a:lnTo>
                <a:lnTo>
                  <a:pt x="229" y="144"/>
                </a:lnTo>
                <a:lnTo>
                  <a:pt x="219" y="149"/>
                </a:lnTo>
                <a:lnTo>
                  <a:pt x="213" y="155"/>
                </a:lnTo>
                <a:lnTo>
                  <a:pt x="207" y="163"/>
                </a:lnTo>
                <a:lnTo>
                  <a:pt x="202" y="173"/>
                </a:lnTo>
                <a:lnTo>
                  <a:pt x="199" y="181"/>
                </a:lnTo>
                <a:lnTo>
                  <a:pt x="197" y="192"/>
                </a:lnTo>
                <a:lnTo>
                  <a:pt x="197" y="204"/>
                </a:lnTo>
                <a:lnTo>
                  <a:pt x="200" y="215"/>
                </a:lnTo>
                <a:lnTo>
                  <a:pt x="205" y="226"/>
                </a:lnTo>
                <a:lnTo>
                  <a:pt x="219" y="239"/>
                </a:lnTo>
                <a:lnTo>
                  <a:pt x="234" y="246"/>
                </a:lnTo>
                <a:lnTo>
                  <a:pt x="248" y="246"/>
                </a:lnTo>
                <a:lnTo>
                  <a:pt x="259" y="239"/>
                </a:lnTo>
                <a:lnTo>
                  <a:pt x="268" y="230"/>
                </a:lnTo>
                <a:lnTo>
                  <a:pt x="272" y="217"/>
                </a:lnTo>
                <a:lnTo>
                  <a:pt x="270" y="200"/>
                </a:lnTo>
                <a:lnTo>
                  <a:pt x="262" y="183"/>
                </a:lnTo>
                <a:lnTo>
                  <a:pt x="257" y="181"/>
                </a:lnTo>
                <a:lnTo>
                  <a:pt x="254" y="178"/>
                </a:lnTo>
                <a:lnTo>
                  <a:pt x="253" y="173"/>
                </a:lnTo>
                <a:lnTo>
                  <a:pt x="254" y="170"/>
                </a:lnTo>
                <a:lnTo>
                  <a:pt x="257" y="167"/>
                </a:lnTo>
                <a:lnTo>
                  <a:pt x="260" y="165"/>
                </a:lnTo>
                <a:lnTo>
                  <a:pt x="265" y="167"/>
                </a:lnTo>
                <a:lnTo>
                  <a:pt x="272" y="173"/>
                </a:lnTo>
                <a:lnTo>
                  <a:pt x="273" y="181"/>
                </a:lnTo>
                <a:lnTo>
                  <a:pt x="276" y="189"/>
                </a:lnTo>
                <a:lnTo>
                  <a:pt x="279" y="197"/>
                </a:lnTo>
                <a:lnTo>
                  <a:pt x="281" y="205"/>
                </a:lnTo>
                <a:lnTo>
                  <a:pt x="281" y="212"/>
                </a:lnTo>
                <a:lnTo>
                  <a:pt x="281" y="220"/>
                </a:lnTo>
                <a:lnTo>
                  <a:pt x="279" y="228"/>
                </a:lnTo>
                <a:lnTo>
                  <a:pt x="275" y="238"/>
                </a:lnTo>
                <a:lnTo>
                  <a:pt x="265" y="247"/>
                </a:lnTo>
                <a:lnTo>
                  <a:pt x="256" y="252"/>
                </a:lnTo>
                <a:lnTo>
                  <a:pt x="246" y="255"/>
                </a:lnTo>
                <a:lnTo>
                  <a:pt x="235" y="255"/>
                </a:lnTo>
                <a:lnTo>
                  <a:pt x="226" y="254"/>
                </a:lnTo>
                <a:lnTo>
                  <a:pt x="216" y="249"/>
                </a:lnTo>
                <a:lnTo>
                  <a:pt x="207" y="243"/>
                </a:lnTo>
                <a:lnTo>
                  <a:pt x="197" y="233"/>
                </a:lnTo>
                <a:lnTo>
                  <a:pt x="189" y="212"/>
                </a:lnTo>
                <a:lnTo>
                  <a:pt x="188" y="192"/>
                </a:lnTo>
                <a:lnTo>
                  <a:pt x="191" y="175"/>
                </a:lnTo>
                <a:lnTo>
                  <a:pt x="199" y="158"/>
                </a:lnTo>
                <a:lnTo>
                  <a:pt x="210" y="144"/>
                </a:lnTo>
                <a:lnTo>
                  <a:pt x="226" y="134"/>
                </a:lnTo>
                <a:lnTo>
                  <a:pt x="245" y="126"/>
                </a:lnTo>
                <a:lnTo>
                  <a:pt x="265" y="124"/>
                </a:lnTo>
                <a:lnTo>
                  <a:pt x="287" y="129"/>
                </a:lnTo>
                <a:lnTo>
                  <a:pt x="306" y="137"/>
                </a:lnTo>
                <a:lnTo>
                  <a:pt x="322" y="149"/>
                </a:lnTo>
                <a:lnTo>
                  <a:pt x="335" y="162"/>
                </a:lnTo>
                <a:lnTo>
                  <a:pt x="343" y="179"/>
                </a:lnTo>
                <a:lnTo>
                  <a:pt x="349" y="197"/>
                </a:lnTo>
                <a:lnTo>
                  <a:pt x="350" y="220"/>
                </a:lnTo>
                <a:lnTo>
                  <a:pt x="349" y="244"/>
                </a:lnTo>
                <a:lnTo>
                  <a:pt x="347" y="249"/>
                </a:lnTo>
                <a:lnTo>
                  <a:pt x="346" y="254"/>
                </a:lnTo>
                <a:lnTo>
                  <a:pt x="344" y="259"/>
                </a:lnTo>
                <a:lnTo>
                  <a:pt x="343" y="264"/>
                </a:lnTo>
                <a:lnTo>
                  <a:pt x="349" y="268"/>
                </a:lnTo>
                <a:lnTo>
                  <a:pt x="355" y="273"/>
                </a:lnTo>
                <a:lnTo>
                  <a:pt x="363" y="278"/>
                </a:lnTo>
                <a:lnTo>
                  <a:pt x="371" y="283"/>
                </a:lnTo>
                <a:lnTo>
                  <a:pt x="379" y="288"/>
                </a:lnTo>
                <a:lnTo>
                  <a:pt x="387" y="291"/>
                </a:lnTo>
                <a:lnTo>
                  <a:pt x="396" y="294"/>
                </a:lnTo>
                <a:lnTo>
                  <a:pt x="404" y="298"/>
                </a:lnTo>
                <a:lnTo>
                  <a:pt x="414" y="301"/>
                </a:lnTo>
                <a:lnTo>
                  <a:pt x="423" y="302"/>
                </a:lnTo>
                <a:lnTo>
                  <a:pt x="433" y="304"/>
                </a:lnTo>
                <a:lnTo>
                  <a:pt x="442" y="306"/>
                </a:lnTo>
                <a:lnTo>
                  <a:pt x="451" y="307"/>
                </a:lnTo>
                <a:lnTo>
                  <a:pt x="463" y="309"/>
                </a:lnTo>
                <a:lnTo>
                  <a:pt x="472" y="309"/>
                </a:lnTo>
                <a:lnTo>
                  <a:pt x="481" y="309"/>
                </a:lnTo>
                <a:lnTo>
                  <a:pt x="497" y="307"/>
                </a:lnTo>
                <a:lnTo>
                  <a:pt x="511" y="306"/>
                </a:lnTo>
                <a:lnTo>
                  <a:pt x="526" y="304"/>
                </a:lnTo>
                <a:lnTo>
                  <a:pt x="541" y="301"/>
                </a:lnTo>
                <a:lnTo>
                  <a:pt x="554" y="296"/>
                </a:lnTo>
                <a:lnTo>
                  <a:pt x="568" y="293"/>
                </a:lnTo>
                <a:lnTo>
                  <a:pt x="581" y="288"/>
                </a:lnTo>
                <a:lnTo>
                  <a:pt x="594" y="283"/>
                </a:lnTo>
                <a:lnTo>
                  <a:pt x="581" y="276"/>
                </a:lnTo>
                <a:lnTo>
                  <a:pt x="570" y="267"/>
                </a:lnTo>
                <a:lnTo>
                  <a:pt x="560" y="259"/>
                </a:lnTo>
                <a:lnTo>
                  <a:pt x="552" y="247"/>
                </a:lnTo>
                <a:lnTo>
                  <a:pt x="545" y="238"/>
                </a:lnTo>
                <a:lnTo>
                  <a:pt x="540" y="226"/>
                </a:lnTo>
                <a:lnTo>
                  <a:pt x="537" y="215"/>
                </a:lnTo>
                <a:lnTo>
                  <a:pt x="537" y="202"/>
                </a:lnTo>
                <a:lnTo>
                  <a:pt x="537" y="191"/>
                </a:lnTo>
                <a:lnTo>
                  <a:pt x="540" y="179"/>
                </a:lnTo>
                <a:lnTo>
                  <a:pt x="545" y="168"/>
                </a:lnTo>
                <a:lnTo>
                  <a:pt x="551" y="157"/>
                </a:lnTo>
                <a:lnTo>
                  <a:pt x="560" y="147"/>
                </a:lnTo>
                <a:lnTo>
                  <a:pt x="570" y="137"/>
                </a:lnTo>
                <a:lnTo>
                  <a:pt x="581" y="128"/>
                </a:lnTo>
                <a:lnTo>
                  <a:pt x="594" y="120"/>
                </a:lnTo>
                <a:lnTo>
                  <a:pt x="608" y="112"/>
                </a:lnTo>
                <a:lnTo>
                  <a:pt x="622" y="105"/>
                </a:lnTo>
                <a:lnTo>
                  <a:pt x="639" y="99"/>
                </a:lnTo>
                <a:lnTo>
                  <a:pt x="657" y="94"/>
                </a:lnTo>
                <a:lnTo>
                  <a:pt x="674" y="90"/>
                </a:lnTo>
                <a:lnTo>
                  <a:pt x="693" y="87"/>
                </a:lnTo>
                <a:lnTo>
                  <a:pt x="713" y="86"/>
                </a:lnTo>
                <a:lnTo>
                  <a:pt x="734" y="84"/>
                </a:lnTo>
                <a:lnTo>
                  <a:pt x="755" y="86"/>
                </a:lnTo>
                <a:lnTo>
                  <a:pt x="778" y="87"/>
                </a:lnTo>
                <a:lnTo>
                  <a:pt x="803" y="90"/>
                </a:lnTo>
                <a:lnTo>
                  <a:pt x="830" y="95"/>
                </a:lnTo>
                <a:lnTo>
                  <a:pt x="859" y="102"/>
                </a:lnTo>
                <a:lnTo>
                  <a:pt x="889" y="110"/>
                </a:lnTo>
                <a:lnTo>
                  <a:pt x="920" y="118"/>
                </a:lnTo>
                <a:lnTo>
                  <a:pt x="952" y="126"/>
                </a:lnTo>
                <a:lnTo>
                  <a:pt x="985" y="136"/>
                </a:lnTo>
                <a:lnTo>
                  <a:pt x="1018" y="147"/>
                </a:lnTo>
                <a:lnTo>
                  <a:pt x="1053" y="158"/>
                </a:lnTo>
                <a:lnTo>
                  <a:pt x="1088" y="170"/>
                </a:lnTo>
                <a:lnTo>
                  <a:pt x="1122" y="181"/>
                </a:lnTo>
                <a:lnTo>
                  <a:pt x="1155" y="194"/>
                </a:lnTo>
                <a:lnTo>
                  <a:pt x="1190" y="207"/>
                </a:lnTo>
                <a:lnTo>
                  <a:pt x="1225" y="218"/>
                </a:lnTo>
                <a:lnTo>
                  <a:pt x="1258" y="231"/>
                </a:lnTo>
                <a:lnTo>
                  <a:pt x="1291" y="244"/>
                </a:lnTo>
                <a:lnTo>
                  <a:pt x="1323" y="255"/>
                </a:lnTo>
                <a:lnTo>
                  <a:pt x="1353" y="268"/>
                </a:lnTo>
                <a:lnTo>
                  <a:pt x="1381" y="280"/>
                </a:lnTo>
                <a:lnTo>
                  <a:pt x="1410" y="291"/>
                </a:lnTo>
                <a:lnTo>
                  <a:pt x="1435" y="301"/>
                </a:lnTo>
                <a:lnTo>
                  <a:pt x="1459" y="310"/>
                </a:lnTo>
                <a:lnTo>
                  <a:pt x="1481" y="320"/>
                </a:lnTo>
                <a:lnTo>
                  <a:pt x="1501" y="328"/>
                </a:lnTo>
                <a:lnTo>
                  <a:pt x="1517" y="335"/>
                </a:lnTo>
                <a:lnTo>
                  <a:pt x="1531" y="341"/>
                </a:lnTo>
                <a:lnTo>
                  <a:pt x="1544" y="346"/>
                </a:lnTo>
                <a:lnTo>
                  <a:pt x="1552" y="349"/>
                </a:lnTo>
                <a:lnTo>
                  <a:pt x="1558" y="351"/>
                </a:lnTo>
                <a:lnTo>
                  <a:pt x="1560" y="353"/>
                </a:lnTo>
                <a:lnTo>
                  <a:pt x="1567" y="354"/>
                </a:lnTo>
                <a:lnTo>
                  <a:pt x="1577" y="357"/>
                </a:lnTo>
                <a:lnTo>
                  <a:pt x="1586" y="359"/>
                </a:lnTo>
                <a:lnTo>
                  <a:pt x="1596" y="361"/>
                </a:lnTo>
                <a:lnTo>
                  <a:pt x="1605" y="362"/>
                </a:lnTo>
                <a:lnTo>
                  <a:pt x="1616" y="364"/>
                </a:lnTo>
                <a:lnTo>
                  <a:pt x="1624" y="365"/>
                </a:lnTo>
                <a:lnTo>
                  <a:pt x="1634" y="367"/>
                </a:lnTo>
                <a:lnTo>
                  <a:pt x="1645" y="367"/>
                </a:lnTo>
                <a:lnTo>
                  <a:pt x="1656" y="369"/>
                </a:lnTo>
                <a:lnTo>
                  <a:pt x="1665" y="367"/>
                </a:lnTo>
                <a:lnTo>
                  <a:pt x="1676" y="365"/>
                </a:lnTo>
                <a:lnTo>
                  <a:pt x="1687" y="364"/>
                </a:lnTo>
                <a:lnTo>
                  <a:pt x="1697" y="361"/>
                </a:lnTo>
                <a:lnTo>
                  <a:pt x="1708" y="356"/>
                </a:lnTo>
                <a:lnTo>
                  <a:pt x="1717" y="351"/>
                </a:lnTo>
                <a:lnTo>
                  <a:pt x="1727" y="346"/>
                </a:lnTo>
                <a:lnTo>
                  <a:pt x="1735" y="341"/>
                </a:lnTo>
                <a:lnTo>
                  <a:pt x="1744" y="335"/>
                </a:lnTo>
                <a:lnTo>
                  <a:pt x="1752" y="328"/>
                </a:lnTo>
                <a:lnTo>
                  <a:pt x="1760" y="320"/>
                </a:lnTo>
                <a:lnTo>
                  <a:pt x="1768" y="314"/>
                </a:lnTo>
                <a:lnTo>
                  <a:pt x="1774" y="306"/>
                </a:lnTo>
                <a:lnTo>
                  <a:pt x="1781" y="298"/>
                </a:lnTo>
                <a:lnTo>
                  <a:pt x="1785" y="307"/>
                </a:lnTo>
                <a:lnTo>
                  <a:pt x="1793" y="317"/>
                </a:lnTo>
                <a:lnTo>
                  <a:pt x="1803" y="325"/>
                </a:lnTo>
                <a:lnTo>
                  <a:pt x="1814" y="333"/>
                </a:lnTo>
                <a:lnTo>
                  <a:pt x="1828" y="338"/>
                </a:lnTo>
                <a:lnTo>
                  <a:pt x="1842" y="343"/>
                </a:lnTo>
                <a:lnTo>
                  <a:pt x="1858" y="346"/>
                </a:lnTo>
                <a:lnTo>
                  <a:pt x="1875" y="348"/>
                </a:lnTo>
                <a:lnTo>
                  <a:pt x="1889" y="346"/>
                </a:lnTo>
                <a:lnTo>
                  <a:pt x="1904" y="344"/>
                </a:lnTo>
                <a:lnTo>
                  <a:pt x="1918" y="341"/>
                </a:lnTo>
                <a:lnTo>
                  <a:pt x="1929" y="336"/>
                </a:lnTo>
                <a:lnTo>
                  <a:pt x="1940" y="330"/>
                </a:lnTo>
                <a:lnTo>
                  <a:pt x="1951" y="323"/>
                </a:lnTo>
                <a:lnTo>
                  <a:pt x="1959" y="315"/>
                </a:lnTo>
                <a:lnTo>
                  <a:pt x="1965" y="307"/>
                </a:lnTo>
                <a:lnTo>
                  <a:pt x="1948" y="299"/>
                </a:lnTo>
                <a:lnTo>
                  <a:pt x="1931" y="289"/>
                </a:lnTo>
                <a:lnTo>
                  <a:pt x="1916" y="280"/>
                </a:lnTo>
                <a:lnTo>
                  <a:pt x="1902" y="270"/>
                </a:lnTo>
                <a:lnTo>
                  <a:pt x="1893" y="257"/>
                </a:lnTo>
                <a:lnTo>
                  <a:pt x="1885" y="246"/>
                </a:lnTo>
                <a:lnTo>
                  <a:pt x="1878" y="233"/>
                </a:lnTo>
                <a:lnTo>
                  <a:pt x="1877" y="220"/>
                </a:lnTo>
                <a:lnTo>
                  <a:pt x="1878" y="210"/>
                </a:lnTo>
                <a:lnTo>
                  <a:pt x="1880" y="202"/>
                </a:lnTo>
                <a:lnTo>
                  <a:pt x="1885" y="192"/>
                </a:lnTo>
                <a:lnTo>
                  <a:pt x="1889" y="184"/>
                </a:lnTo>
                <a:lnTo>
                  <a:pt x="1897" y="175"/>
                </a:lnTo>
                <a:lnTo>
                  <a:pt x="1905" y="167"/>
                </a:lnTo>
                <a:lnTo>
                  <a:pt x="1915" y="160"/>
                </a:lnTo>
                <a:lnTo>
                  <a:pt x="1926" y="152"/>
                </a:lnTo>
                <a:lnTo>
                  <a:pt x="1937" y="145"/>
                </a:lnTo>
                <a:lnTo>
                  <a:pt x="1949" y="141"/>
                </a:lnTo>
                <a:lnTo>
                  <a:pt x="1964" y="136"/>
                </a:lnTo>
                <a:lnTo>
                  <a:pt x="1978" y="131"/>
                </a:lnTo>
                <a:lnTo>
                  <a:pt x="1992" y="128"/>
                </a:lnTo>
                <a:lnTo>
                  <a:pt x="2008" y="126"/>
                </a:lnTo>
                <a:lnTo>
                  <a:pt x="2025" y="124"/>
                </a:lnTo>
                <a:lnTo>
                  <a:pt x="2041" y="123"/>
                </a:lnTo>
                <a:lnTo>
                  <a:pt x="2058" y="124"/>
                </a:lnTo>
                <a:lnTo>
                  <a:pt x="2074" y="126"/>
                </a:lnTo>
                <a:lnTo>
                  <a:pt x="2092" y="128"/>
                </a:lnTo>
                <a:lnTo>
                  <a:pt x="2106" y="131"/>
                </a:lnTo>
                <a:lnTo>
                  <a:pt x="2122" y="136"/>
                </a:lnTo>
                <a:lnTo>
                  <a:pt x="2136" y="141"/>
                </a:lnTo>
                <a:lnTo>
                  <a:pt x="2148" y="145"/>
                </a:lnTo>
                <a:lnTo>
                  <a:pt x="2161" y="152"/>
                </a:lnTo>
                <a:lnTo>
                  <a:pt x="2172" y="160"/>
                </a:lnTo>
                <a:lnTo>
                  <a:pt x="2182" y="167"/>
                </a:lnTo>
                <a:lnTo>
                  <a:pt x="2189" y="175"/>
                </a:lnTo>
                <a:lnTo>
                  <a:pt x="2197" y="184"/>
                </a:lnTo>
                <a:lnTo>
                  <a:pt x="2202" y="192"/>
                </a:lnTo>
                <a:lnTo>
                  <a:pt x="2205" y="202"/>
                </a:lnTo>
                <a:lnTo>
                  <a:pt x="2207" y="210"/>
                </a:lnTo>
                <a:lnTo>
                  <a:pt x="2205" y="220"/>
                </a:lnTo>
                <a:lnTo>
                  <a:pt x="2204" y="231"/>
                </a:lnTo>
                <a:lnTo>
                  <a:pt x="2199" y="241"/>
                </a:lnTo>
                <a:lnTo>
                  <a:pt x="2193" y="251"/>
                </a:lnTo>
                <a:lnTo>
                  <a:pt x="2186" y="260"/>
                </a:lnTo>
                <a:lnTo>
                  <a:pt x="2177" y="268"/>
                </a:lnTo>
                <a:lnTo>
                  <a:pt x="2167" y="278"/>
                </a:lnTo>
                <a:lnTo>
                  <a:pt x="2156" y="286"/>
                </a:lnTo>
                <a:lnTo>
                  <a:pt x="2145" y="294"/>
                </a:lnTo>
                <a:lnTo>
                  <a:pt x="2155" y="304"/>
                </a:lnTo>
                <a:lnTo>
                  <a:pt x="2164" y="312"/>
                </a:lnTo>
                <a:lnTo>
                  <a:pt x="2175" y="320"/>
                </a:lnTo>
                <a:lnTo>
                  <a:pt x="2185" y="328"/>
                </a:lnTo>
                <a:lnTo>
                  <a:pt x="2197" y="335"/>
                </a:lnTo>
                <a:lnTo>
                  <a:pt x="2208" y="341"/>
                </a:lnTo>
                <a:lnTo>
                  <a:pt x="2221" y="348"/>
                </a:lnTo>
                <a:lnTo>
                  <a:pt x="2234" y="353"/>
                </a:lnTo>
                <a:lnTo>
                  <a:pt x="2246" y="357"/>
                </a:lnTo>
                <a:lnTo>
                  <a:pt x="2260" y="362"/>
                </a:lnTo>
                <a:lnTo>
                  <a:pt x="2275" y="365"/>
                </a:lnTo>
                <a:lnTo>
                  <a:pt x="2289" y="369"/>
                </a:lnTo>
                <a:lnTo>
                  <a:pt x="2301" y="370"/>
                </a:lnTo>
                <a:lnTo>
                  <a:pt x="2317" y="372"/>
                </a:lnTo>
                <a:lnTo>
                  <a:pt x="2331" y="374"/>
                </a:lnTo>
                <a:lnTo>
                  <a:pt x="2347" y="374"/>
                </a:lnTo>
                <a:lnTo>
                  <a:pt x="2361" y="374"/>
                </a:lnTo>
                <a:lnTo>
                  <a:pt x="2376" y="372"/>
                </a:lnTo>
                <a:lnTo>
                  <a:pt x="2388" y="372"/>
                </a:lnTo>
                <a:lnTo>
                  <a:pt x="2402" y="369"/>
                </a:lnTo>
                <a:lnTo>
                  <a:pt x="2415" y="367"/>
                </a:lnTo>
                <a:lnTo>
                  <a:pt x="2429" y="364"/>
                </a:lnTo>
                <a:lnTo>
                  <a:pt x="2442" y="359"/>
                </a:lnTo>
                <a:lnTo>
                  <a:pt x="2455" y="356"/>
                </a:lnTo>
                <a:lnTo>
                  <a:pt x="2466" y="351"/>
                </a:lnTo>
                <a:lnTo>
                  <a:pt x="2478" y="346"/>
                </a:lnTo>
                <a:lnTo>
                  <a:pt x="2489" y="340"/>
                </a:lnTo>
                <a:lnTo>
                  <a:pt x="2500" y="335"/>
                </a:lnTo>
                <a:lnTo>
                  <a:pt x="2510" y="328"/>
                </a:lnTo>
                <a:lnTo>
                  <a:pt x="2521" y="322"/>
                </a:lnTo>
                <a:lnTo>
                  <a:pt x="2530" y="314"/>
                </a:lnTo>
                <a:lnTo>
                  <a:pt x="2540" y="307"/>
                </a:lnTo>
                <a:lnTo>
                  <a:pt x="2535" y="298"/>
                </a:lnTo>
                <a:lnTo>
                  <a:pt x="2530" y="286"/>
                </a:lnTo>
                <a:lnTo>
                  <a:pt x="2526" y="276"/>
                </a:lnTo>
                <a:lnTo>
                  <a:pt x="2522" y="265"/>
                </a:lnTo>
                <a:lnTo>
                  <a:pt x="2521" y="252"/>
                </a:lnTo>
                <a:lnTo>
                  <a:pt x="2518" y="241"/>
                </a:lnTo>
                <a:lnTo>
                  <a:pt x="2518" y="230"/>
                </a:lnTo>
                <a:lnTo>
                  <a:pt x="2516" y="218"/>
                </a:lnTo>
                <a:lnTo>
                  <a:pt x="2518" y="200"/>
                </a:lnTo>
                <a:lnTo>
                  <a:pt x="2521" y="184"/>
                </a:lnTo>
                <a:lnTo>
                  <a:pt x="2524" y="168"/>
                </a:lnTo>
                <a:lnTo>
                  <a:pt x="2530" y="154"/>
                </a:lnTo>
                <a:lnTo>
                  <a:pt x="2538" y="141"/>
                </a:lnTo>
                <a:lnTo>
                  <a:pt x="2548" y="129"/>
                </a:lnTo>
                <a:lnTo>
                  <a:pt x="2557" y="118"/>
                </a:lnTo>
                <a:lnTo>
                  <a:pt x="2568" y="108"/>
                </a:lnTo>
                <a:lnTo>
                  <a:pt x="2581" y="100"/>
                </a:lnTo>
                <a:lnTo>
                  <a:pt x="2593" y="95"/>
                </a:lnTo>
                <a:lnTo>
                  <a:pt x="2608" y="90"/>
                </a:lnTo>
                <a:lnTo>
                  <a:pt x="2623" y="87"/>
                </a:lnTo>
                <a:lnTo>
                  <a:pt x="2638" y="87"/>
                </a:lnTo>
                <a:lnTo>
                  <a:pt x="2655" y="87"/>
                </a:lnTo>
                <a:lnTo>
                  <a:pt x="2671" y="90"/>
                </a:lnTo>
                <a:lnTo>
                  <a:pt x="2687" y="97"/>
                </a:lnTo>
                <a:lnTo>
                  <a:pt x="2699" y="102"/>
                </a:lnTo>
                <a:lnTo>
                  <a:pt x="2710" y="107"/>
                </a:lnTo>
                <a:lnTo>
                  <a:pt x="2721" y="115"/>
                </a:lnTo>
                <a:lnTo>
                  <a:pt x="2729" y="121"/>
                </a:lnTo>
                <a:lnTo>
                  <a:pt x="2739" y="131"/>
                </a:lnTo>
                <a:lnTo>
                  <a:pt x="2745" y="139"/>
                </a:lnTo>
                <a:lnTo>
                  <a:pt x="2751" y="149"/>
                </a:lnTo>
                <a:lnTo>
                  <a:pt x="2756" y="160"/>
                </a:lnTo>
                <a:lnTo>
                  <a:pt x="2759" y="170"/>
                </a:lnTo>
                <a:lnTo>
                  <a:pt x="2761" y="181"/>
                </a:lnTo>
                <a:lnTo>
                  <a:pt x="2761" y="192"/>
                </a:lnTo>
                <a:lnTo>
                  <a:pt x="2761" y="204"/>
                </a:lnTo>
                <a:lnTo>
                  <a:pt x="2758" y="215"/>
                </a:lnTo>
                <a:lnTo>
                  <a:pt x="2753" y="226"/>
                </a:lnTo>
                <a:lnTo>
                  <a:pt x="2747" y="238"/>
                </a:lnTo>
                <a:lnTo>
                  <a:pt x="2737" y="249"/>
                </a:lnTo>
                <a:lnTo>
                  <a:pt x="2729" y="257"/>
                </a:lnTo>
                <a:lnTo>
                  <a:pt x="2721" y="264"/>
                </a:lnTo>
                <a:lnTo>
                  <a:pt x="2713" y="268"/>
                </a:lnTo>
                <a:lnTo>
                  <a:pt x="2704" y="273"/>
                </a:lnTo>
                <a:lnTo>
                  <a:pt x="2695" y="276"/>
                </a:lnTo>
                <a:lnTo>
                  <a:pt x="2685" y="278"/>
                </a:lnTo>
                <a:lnTo>
                  <a:pt x="2676" y="280"/>
                </a:lnTo>
                <a:lnTo>
                  <a:pt x="2666" y="278"/>
                </a:lnTo>
                <a:lnTo>
                  <a:pt x="2657" y="278"/>
                </a:lnTo>
                <a:lnTo>
                  <a:pt x="2647" y="275"/>
                </a:lnTo>
                <a:lnTo>
                  <a:pt x="2639" y="272"/>
                </a:lnTo>
                <a:lnTo>
                  <a:pt x="2630" y="267"/>
                </a:lnTo>
                <a:lnTo>
                  <a:pt x="2623" y="260"/>
                </a:lnTo>
                <a:lnTo>
                  <a:pt x="2616" y="254"/>
                </a:lnTo>
                <a:lnTo>
                  <a:pt x="2609" y="244"/>
                </a:lnTo>
                <a:lnTo>
                  <a:pt x="2605" y="234"/>
                </a:lnTo>
                <a:lnTo>
                  <a:pt x="2601" y="225"/>
                </a:lnTo>
                <a:lnTo>
                  <a:pt x="2600" y="215"/>
                </a:lnTo>
                <a:lnTo>
                  <a:pt x="2598" y="207"/>
                </a:lnTo>
                <a:lnTo>
                  <a:pt x="2598" y="197"/>
                </a:lnTo>
                <a:lnTo>
                  <a:pt x="2600" y="189"/>
                </a:lnTo>
                <a:lnTo>
                  <a:pt x="2601" y="181"/>
                </a:lnTo>
                <a:lnTo>
                  <a:pt x="2605" y="175"/>
                </a:lnTo>
                <a:lnTo>
                  <a:pt x="2608" y="170"/>
                </a:lnTo>
                <a:lnTo>
                  <a:pt x="2614" y="162"/>
                </a:lnTo>
                <a:lnTo>
                  <a:pt x="2620" y="160"/>
                </a:lnTo>
                <a:lnTo>
                  <a:pt x="2625" y="162"/>
                </a:lnTo>
                <a:lnTo>
                  <a:pt x="2630" y="167"/>
                </a:lnTo>
                <a:lnTo>
                  <a:pt x="2630" y="171"/>
                </a:lnTo>
                <a:lnTo>
                  <a:pt x="2630" y="178"/>
                </a:lnTo>
                <a:lnTo>
                  <a:pt x="2625" y="181"/>
                </a:lnTo>
                <a:lnTo>
                  <a:pt x="2617" y="179"/>
                </a:lnTo>
                <a:lnTo>
                  <a:pt x="2614" y="184"/>
                </a:lnTo>
                <a:lnTo>
                  <a:pt x="2612" y="189"/>
                </a:lnTo>
                <a:lnTo>
                  <a:pt x="2611" y="207"/>
                </a:lnTo>
                <a:lnTo>
                  <a:pt x="2612" y="223"/>
                </a:lnTo>
                <a:lnTo>
                  <a:pt x="2617" y="238"/>
                </a:lnTo>
                <a:lnTo>
                  <a:pt x="2625" y="249"/>
                </a:lnTo>
                <a:lnTo>
                  <a:pt x="2636" y="259"/>
                </a:lnTo>
                <a:lnTo>
                  <a:pt x="2649" y="265"/>
                </a:lnTo>
                <a:lnTo>
                  <a:pt x="2665" y="268"/>
                </a:lnTo>
                <a:lnTo>
                  <a:pt x="2682" y="268"/>
                </a:lnTo>
                <a:lnTo>
                  <a:pt x="2695" y="265"/>
                </a:lnTo>
                <a:lnTo>
                  <a:pt x="2704" y="260"/>
                </a:lnTo>
                <a:lnTo>
                  <a:pt x="2713" y="255"/>
                </a:lnTo>
                <a:lnTo>
                  <a:pt x="2723" y="249"/>
                </a:lnTo>
                <a:lnTo>
                  <a:pt x="2731" y="241"/>
                </a:lnTo>
                <a:lnTo>
                  <a:pt x="2737" y="233"/>
                </a:lnTo>
                <a:lnTo>
                  <a:pt x="2742" y="225"/>
                </a:lnTo>
                <a:lnTo>
                  <a:pt x="2747" y="215"/>
                </a:lnTo>
                <a:lnTo>
                  <a:pt x="2750" y="205"/>
                </a:lnTo>
                <a:lnTo>
                  <a:pt x="2751" y="194"/>
                </a:lnTo>
                <a:lnTo>
                  <a:pt x="2751" y="184"/>
                </a:lnTo>
                <a:lnTo>
                  <a:pt x="2750" y="173"/>
                </a:lnTo>
                <a:lnTo>
                  <a:pt x="2747" y="163"/>
                </a:lnTo>
                <a:lnTo>
                  <a:pt x="2742" y="152"/>
                </a:lnTo>
                <a:lnTo>
                  <a:pt x="2737" y="142"/>
                </a:lnTo>
                <a:lnTo>
                  <a:pt x="2729" y="133"/>
                </a:lnTo>
                <a:lnTo>
                  <a:pt x="2715" y="121"/>
                </a:lnTo>
                <a:lnTo>
                  <a:pt x="2699" y="112"/>
                </a:lnTo>
                <a:lnTo>
                  <a:pt x="2683" y="105"/>
                </a:lnTo>
                <a:lnTo>
                  <a:pt x="2668" y="100"/>
                </a:lnTo>
                <a:lnTo>
                  <a:pt x="2652" y="97"/>
                </a:lnTo>
                <a:lnTo>
                  <a:pt x="2636" y="97"/>
                </a:lnTo>
                <a:lnTo>
                  <a:pt x="2620" y="99"/>
                </a:lnTo>
                <a:lnTo>
                  <a:pt x="2606" y="102"/>
                </a:lnTo>
                <a:lnTo>
                  <a:pt x="2592" y="107"/>
                </a:lnTo>
                <a:lnTo>
                  <a:pt x="2578" y="115"/>
                </a:lnTo>
                <a:lnTo>
                  <a:pt x="2565" y="123"/>
                </a:lnTo>
                <a:lnTo>
                  <a:pt x="2554" y="134"/>
                </a:lnTo>
                <a:lnTo>
                  <a:pt x="2545" y="149"/>
                </a:lnTo>
                <a:lnTo>
                  <a:pt x="2537" y="163"/>
                </a:lnTo>
                <a:lnTo>
                  <a:pt x="2530" y="181"/>
                </a:lnTo>
                <a:lnTo>
                  <a:pt x="2527" y="199"/>
                </a:lnTo>
                <a:lnTo>
                  <a:pt x="2526" y="210"/>
                </a:lnTo>
                <a:lnTo>
                  <a:pt x="2527" y="223"/>
                </a:lnTo>
                <a:lnTo>
                  <a:pt x="2527" y="236"/>
                </a:lnTo>
                <a:lnTo>
                  <a:pt x="2530" y="251"/>
                </a:lnTo>
                <a:lnTo>
                  <a:pt x="2534" y="265"/>
                </a:lnTo>
                <a:lnTo>
                  <a:pt x="2537" y="278"/>
                </a:lnTo>
                <a:lnTo>
                  <a:pt x="2541" y="291"/>
                </a:lnTo>
                <a:lnTo>
                  <a:pt x="2548" y="299"/>
                </a:lnTo>
                <a:lnTo>
                  <a:pt x="2548" y="299"/>
                </a:lnTo>
                <a:lnTo>
                  <a:pt x="2548" y="299"/>
                </a:lnTo>
                <a:lnTo>
                  <a:pt x="2548" y="299"/>
                </a:lnTo>
                <a:lnTo>
                  <a:pt x="2548" y="299"/>
                </a:lnTo>
                <a:lnTo>
                  <a:pt x="2556" y="307"/>
                </a:lnTo>
                <a:lnTo>
                  <a:pt x="2564" y="315"/>
                </a:lnTo>
                <a:lnTo>
                  <a:pt x="2571" y="323"/>
                </a:lnTo>
                <a:lnTo>
                  <a:pt x="2579" y="331"/>
                </a:lnTo>
                <a:lnTo>
                  <a:pt x="2589" y="338"/>
                </a:lnTo>
                <a:lnTo>
                  <a:pt x="2598" y="344"/>
                </a:lnTo>
                <a:lnTo>
                  <a:pt x="2608" y="351"/>
                </a:lnTo>
                <a:lnTo>
                  <a:pt x="2617" y="357"/>
                </a:lnTo>
                <a:lnTo>
                  <a:pt x="2628" y="362"/>
                </a:lnTo>
                <a:lnTo>
                  <a:pt x="2639" y="367"/>
                </a:lnTo>
                <a:lnTo>
                  <a:pt x="2649" y="370"/>
                </a:lnTo>
                <a:lnTo>
                  <a:pt x="2660" y="374"/>
                </a:lnTo>
                <a:lnTo>
                  <a:pt x="2672" y="377"/>
                </a:lnTo>
                <a:lnTo>
                  <a:pt x="2683" y="378"/>
                </a:lnTo>
                <a:lnTo>
                  <a:pt x="2695" y="380"/>
                </a:lnTo>
                <a:lnTo>
                  <a:pt x="2707" y="380"/>
                </a:lnTo>
                <a:lnTo>
                  <a:pt x="2728" y="377"/>
                </a:lnTo>
                <a:lnTo>
                  <a:pt x="2747" y="374"/>
                </a:lnTo>
                <a:lnTo>
                  <a:pt x="2766" y="367"/>
                </a:lnTo>
                <a:lnTo>
                  <a:pt x="2781" y="359"/>
                </a:lnTo>
                <a:lnTo>
                  <a:pt x="2796" y="349"/>
                </a:lnTo>
                <a:lnTo>
                  <a:pt x="2808" y="338"/>
                </a:lnTo>
                <a:lnTo>
                  <a:pt x="2819" y="327"/>
                </a:lnTo>
                <a:lnTo>
                  <a:pt x="2830" y="314"/>
                </a:lnTo>
                <a:lnTo>
                  <a:pt x="2840" y="301"/>
                </a:lnTo>
                <a:lnTo>
                  <a:pt x="2848" y="286"/>
                </a:lnTo>
                <a:lnTo>
                  <a:pt x="2854" y="272"/>
                </a:lnTo>
                <a:lnTo>
                  <a:pt x="2860" y="259"/>
                </a:lnTo>
                <a:lnTo>
                  <a:pt x="2867" y="244"/>
                </a:lnTo>
                <a:lnTo>
                  <a:pt x="2871" y="230"/>
                </a:lnTo>
                <a:lnTo>
                  <a:pt x="2876" y="217"/>
                </a:lnTo>
                <a:lnTo>
                  <a:pt x="2879" y="204"/>
                </a:lnTo>
                <a:lnTo>
                  <a:pt x="2884" y="217"/>
                </a:lnTo>
                <a:lnTo>
                  <a:pt x="2887" y="230"/>
                </a:lnTo>
                <a:lnTo>
                  <a:pt x="2890" y="244"/>
                </a:lnTo>
                <a:lnTo>
                  <a:pt x="2895" y="259"/>
                </a:lnTo>
                <a:lnTo>
                  <a:pt x="2900" y="272"/>
                </a:lnTo>
                <a:lnTo>
                  <a:pt x="2906" y="286"/>
                </a:lnTo>
                <a:lnTo>
                  <a:pt x="2914" y="301"/>
                </a:lnTo>
                <a:lnTo>
                  <a:pt x="2922" y="314"/>
                </a:lnTo>
                <a:lnTo>
                  <a:pt x="2931" y="327"/>
                </a:lnTo>
                <a:lnTo>
                  <a:pt x="2942" y="338"/>
                </a:lnTo>
                <a:lnTo>
                  <a:pt x="2955" y="349"/>
                </a:lnTo>
                <a:lnTo>
                  <a:pt x="2971" y="359"/>
                </a:lnTo>
                <a:lnTo>
                  <a:pt x="2988" y="367"/>
                </a:lnTo>
                <a:lnTo>
                  <a:pt x="3007" y="374"/>
                </a:lnTo>
                <a:lnTo>
                  <a:pt x="3028" y="378"/>
                </a:lnTo>
                <a:lnTo>
                  <a:pt x="3053" y="380"/>
                </a:lnTo>
                <a:lnTo>
                  <a:pt x="3064" y="380"/>
                </a:lnTo>
                <a:lnTo>
                  <a:pt x="3077" y="378"/>
                </a:lnTo>
                <a:lnTo>
                  <a:pt x="3088" y="377"/>
                </a:lnTo>
                <a:lnTo>
                  <a:pt x="3099" y="375"/>
                </a:lnTo>
                <a:lnTo>
                  <a:pt x="3110" y="372"/>
                </a:lnTo>
                <a:lnTo>
                  <a:pt x="3121" y="367"/>
                </a:lnTo>
                <a:lnTo>
                  <a:pt x="3130" y="362"/>
                </a:lnTo>
                <a:lnTo>
                  <a:pt x="3141" y="357"/>
                </a:lnTo>
                <a:lnTo>
                  <a:pt x="3151" y="351"/>
                </a:lnTo>
                <a:lnTo>
                  <a:pt x="3160" y="346"/>
                </a:lnTo>
                <a:lnTo>
                  <a:pt x="3170" y="338"/>
                </a:lnTo>
                <a:lnTo>
                  <a:pt x="3179" y="331"/>
                </a:lnTo>
                <a:lnTo>
                  <a:pt x="3187" y="323"/>
                </a:lnTo>
                <a:lnTo>
                  <a:pt x="3195" y="315"/>
                </a:lnTo>
                <a:lnTo>
                  <a:pt x="3203" y="307"/>
                </a:lnTo>
                <a:lnTo>
                  <a:pt x="3211" y="299"/>
                </a:lnTo>
                <a:lnTo>
                  <a:pt x="3211" y="299"/>
                </a:lnTo>
                <a:lnTo>
                  <a:pt x="3211" y="299"/>
                </a:lnTo>
                <a:lnTo>
                  <a:pt x="3211" y="299"/>
                </a:lnTo>
                <a:lnTo>
                  <a:pt x="3212" y="299"/>
                </a:lnTo>
                <a:lnTo>
                  <a:pt x="3217" y="291"/>
                </a:lnTo>
                <a:lnTo>
                  <a:pt x="3222" y="280"/>
                </a:lnTo>
                <a:lnTo>
                  <a:pt x="3226" y="265"/>
                </a:lnTo>
                <a:lnTo>
                  <a:pt x="3230" y="252"/>
                </a:lnTo>
                <a:lnTo>
                  <a:pt x="3231" y="238"/>
                </a:lnTo>
                <a:lnTo>
                  <a:pt x="3231" y="223"/>
                </a:lnTo>
                <a:lnTo>
                  <a:pt x="3233" y="210"/>
                </a:lnTo>
                <a:lnTo>
                  <a:pt x="3231" y="199"/>
                </a:lnTo>
                <a:lnTo>
                  <a:pt x="3228" y="181"/>
                </a:lnTo>
                <a:lnTo>
                  <a:pt x="3222" y="163"/>
                </a:lnTo>
                <a:lnTo>
                  <a:pt x="3214" y="149"/>
                </a:lnTo>
                <a:lnTo>
                  <a:pt x="3204" y="134"/>
                </a:lnTo>
                <a:lnTo>
                  <a:pt x="3193" y="123"/>
                </a:lnTo>
                <a:lnTo>
                  <a:pt x="3181" y="115"/>
                </a:lnTo>
                <a:lnTo>
                  <a:pt x="3167" y="107"/>
                </a:lnTo>
                <a:lnTo>
                  <a:pt x="3152" y="102"/>
                </a:lnTo>
                <a:lnTo>
                  <a:pt x="3138" y="99"/>
                </a:lnTo>
                <a:lnTo>
                  <a:pt x="3122" y="97"/>
                </a:lnTo>
                <a:lnTo>
                  <a:pt x="3107" y="97"/>
                </a:lnTo>
                <a:lnTo>
                  <a:pt x="3091" y="100"/>
                </a:lnTo>
                <a:lnTo>
                  <a:pt x="3075" y="105"/>
                </a:lnTo>
                <a:lnTo>
                  <a:pt x="3059" y="112"/>
                </a:lnTo>
                <a:lnTo>
                  <a:pt x="3043" y="121"/>
                </a:lnTo>
                <a:lnTo>
                  <a:pt x="3029" y="133"/>
                </a:lnTo>
                <a:lnTo>
                  <a:pt x="3021" y="142"/>
                </a:lnTo>
                <a:lnTo>
                  <a:pt x="3017" y="152"/>
                </a:lnTo>
                <a:lnTo>
                  <a:pt x="3012" y="163"/>
                </a:lnTo>
                <a:lnTo>
                  <a:pt x="3009" y="173"/>
                </a:lnTo>
                <a:lnTo>
                  <a:pt x="3007" y="184"/>
                </a:lnTo>
                <a:lnTo>
                  <a:pt x="3007" y="194"/>
                </a:lnTo>
                <a:lnTo>
                  <a:pt x="3009" y="205"/>
                </a:lnTo>
                <a:lnTo>
                  <a:pt x="3012" y="215"/>
                </a:lnTo>
                <a:lnTo>
                  <a:pt x="3017" y="225"/>
                </a:lnTo>
                <a:lnTo>
                  <a:pt x="3021" y="233"/>
                </a:lnTo>
                <a:lnTo>
                  <a:pt x="3028" y="241"/>
                </a:lnTo>
                <a:lnTo>
                  <a:pt x="3035" y="249"/>
                </a:lnTo>
                <a:lnTo>
                  <a:pt x="3045" y="255"/>
                </a:lnTo>
                <a:lnTo>
                  <a:pt x="3054" y="260"/>
                </a:lnTo>
                <a:lnTo>
                  <a:pt x="3064" y="265"/>
                </a:lnTo>
                <a:lnTo>
                  <a:pt x="3077" y="268"/>
                </a:lnTo>
                <a:lnTo>
                  <a:pt x="3094" y="268"/>
                </a:lnTo>
                <a:lnTo>
                  <a:pt x="3110" y="265"/>
                </a:lnTo>
                <a:lnTo>
                  <a:pt x="3122" y="259"/>
                </a:lnTo>
                <a:lnTo>
                  <a:pt x="3133" y="249"/>
                </a:lnTo>
                <a:lnTo>
                  <a:pt x="3141" y="238"/>
                </a:lnTo>
                <a:lnTo>
                  <a:pt x="3146" y="223"/>
                </a:lnTo>
                <a:lnTo>
                  <a:pt x="3148" y="207"/>
                </a:lnTo>
                <a:lnTo>
                  <a:pt x="3146" y="189"/>
                </a:lnTo>
                <a:lnTo>
                  <a:pt x="3144" y="184"/>
                </a:lnTo>
                <a:lnTo>
                  <a:pt x="3141" y="179"/>
                </a:lnTo>
                <a:lnTo>
                  <a:pt x="3133" y="181"/>
                </a:lnTo>
                <a:lnTo>
                  <a:pt x="3129" y="178"/>
                </a:lnTo>
                <a:lnTo>
                  <a:pt x="3129" y="171"/>
                </a:lnTo>
                <a:lnTo>
                  <a:pt x="3130" y="167"/>
                </a:lnTo>
                <a:lnTo>
                  <a:pt x="3133" y="162"/>
                </a:lnTo>
                <a:lnTo>
                  <a:pt x="3138" y="160"/>
                </a:lnTo>
                <a:lnTo>
                  <a:pt x="3144" y="162"/>
                </a:lnTo>
                <a:lnTo>
                  <a:pt x="3151" y="170"/>
                </a:lnTo>
                <a:lnTo>
                  <a:pt x="3154" y="175"/>
                </a:lnTo>
                <a:lnTo>
                  <a:pt x="3157" y="181"/>
                </a:lnTo>
                <a:lnTo>
                  <a:pt x="3159" y="189"/>
                </a:lnTo>
                <a:lnTo>
                  <a:pt x="3160" y="197"/>
                </a:lnTo>
                <a:lnTo>
                  <a:pt x="3160" y="207"/>
                </a:lnTo>
                <a:lnTo>
                  <a:pt x="3159" y="215"/>
                </a:lnTo>
                <a:lnTo>
                  <a:pt x="3157" y="225"/>
                </a:lnTo>
                <a:lnTo>
                  <a:pt x="3154" y="234"/>
                </a:lnTo>
                <a:lnTo>
                  <a:pt x="3149" y="244"/>
                </a:lnTo>
                <a:lnTo>
                  <a:pt x="3143" y="254"/>
                </a:lnTo>
                <a:lnTo>
                  <a:pt x="3135" y="260"/>
                </a:lnTo>
                <a:lnTo>
                  <a:pt x="3129" y="267"/>
                </a:lnTo>
                <a:lnTo>
                  <a:pt x="3119" y="272"/>
                </a:lnTo>
                <a:lnTo>
                  <a:pt x="3111" y="275"/>
                </a:lnTo>
                <a:lnTo>
                  <a:pt x="3102" y="278"/>
                </a:lnTo>
                <a:lnTo>
                  <a:pt x="3092" y="278"/>
                </a:lnTo>
                <a:lnTo>
                  <a:pt x="3083" y="280"/>
                </a:lnTo>
                <a:lnTo>
                  <a:pt x="3073" y="278"/>
                </a:lnTo>
                <a:lnTo>
                  <a:pt x="3064" y="276"/>
                </a:lnTo>
                <a:lnTo>
                  <a:pt x="3054" y="273"/>
                </a:lnTo>
                <a:lnTo>
                  <a:pt x="3045" y="268"/>
                </a:lnTo>
                <a:lnTo>
                  <a:pt x="3037" y="264"/>
                </a:lnTo>
                <a:lnTo>
                  <a:pt x="3029" y="257"/>
                </a:lnTo>
                <a:lnTo>
                  <a:pt x="3021" y="249"/>
                </a:lnTo>
                <a:lnTo>
                  <a:pt x="3012" y="238"/>
                </a:lnTo>
                <a:lnTo>
                  <a:pt x="3005" y="226"/>
                </a:lnTo>
                <a:lnTo>
                  <a:pt x="3001" y="215"/>
                </a:lnTo>
                <a:lnTo>
                  <a:pt x="2998" y="204"/>
                </a:lnTo>
                <a:lnTo>
                  <a:pt x="2998" y="192"/>
                </a:lnTo>
                <a:lnTo>
                  <a:pt x="2998" y="181"/>
                </a:lnTo>
                <a:lnTo>
                  <a:pt x="2999" y="170"/>
                </a:lnTo>
                <a:lnTo>
                  <a:pt x="3002" y="160"/>
                </a:lnTo>
                <a:lnTo>
                  <a:pt x="3007" y="149"/>
                </a:lnTo>
                <a:lnTo>
                  <a:pt x="3013" y="139"/>
                </a:lnTo>
                <a:lnTo>
                  <a:pt x="3020" y="131"/>
                </a:lnTo>
                <a:lnTo>
                  <a:pt x="3029" y="121"/>
                </a:lnTo>
                <a:lnTo>
                  <a:pt x="3037" y="115"/>
                </a:lnTo>
                <a:lnTo>
                  <a:pt x="3048" y="107"/>
                </a:lnTo>
                <a:lnTo>
                  <a:pt x="3059" y="102"/>
                </a:lnTo>
                <a:lnTo>
                  <a:pt x="3072" y="97"/>
                </a:lnTo>
                <a:lnTo>
                  <a:pt x="3088" y="90"/>
                </a:lnTo>
                <a:lnTo>
                  <a:pt x="3103" y="87"/>
                </a:lnTo>
                <a:lnTo>
                  <a:pt x="3121" y="87"/>
                </a:lnTo>
                <a:lnTo>
                  <a:pt x="3135" y="87"/>
                </a:lnTo>
                <a:lnTo>
                  <a:pt x="3151" y="90"/>
                </a:lnTo>
                <a:lnTo>
                  <a:pt x="3165" y="95"/>
                </a:lnTo>
                <a:lnTo>
                  <a:pt x="3178" y="100"/>
                </a:lnTo>
                <a:lnTo>
                  <a:pt x="3190" y="108"/>
                </a:lnTo>
                <a:lnTo>
                  <a:pt x="3201" y="118"/>
                </a:lnTo>
                <a:lnTo>
                  <a:pt x="3211" y="129"/>
                </a:lnTo>
                <a:lnTo>
                  <a:pt x="3220" y="141"/>
                </a:lnTo>
                <a:lnTo>
                  <a:pt x="3228" y="154"/>
                </a:lnTo>
                <a:lnTo>
                  <a:pt x="3234" y="168"/>
                </a:lnTo>
                <a:lnTo>
                  <a:pt x="3238" y="184"/>
                </a:lnTo>
                <a:lnTo>
                  <a:pt x="3241" y="200"/>
                </a:lnTo>
                <a:lnTo>
                  <a:pt x="3242" y="218"/>
                </a:lnTo>
                <a:lnTo>
                  <a:pt x="3241" y="230"/>
                </a:lnTo>
                <a:lnTo>
                  <a:pt x="3241" y="241"/>
                </a:lnTo>
                <a:lnTo>
                  <a:pt x="3238" y="252"/>
                </a:lnTo>
                <a:lnTo>
                  <a:pt x="3236" y="265"/>
                </a:lnTo>
                <a:lnTo>
                  <a:pt x="3233" y="276"/>
                </a:lnTo>
                <a:lnTo>
                  <a:pt x="3228" y="286"/>
                </a:lnTo>
                <a:lnTo>
                  <a:pt x="3225" y="298"/>
                </a:lnTo>
                <a:lnTo>
                  <a:pt x="3220" y="307"/>
                </a:lnTo>
                <a:lnTo>
                  <a:pt x="3228" y="314"/>
                </a:lnTo>
                <a:lnTo>
                  <a:pt x="3238" y="322"/>
                </a:lnTo>
                <a:lnTo>
                  <a:pt x="3249" y="328"/>
                </a:lnTo>
                <a:lnTo>
                  <a:pt x="3258" y="335"/>
                </a:lnTo>
                <a:lnTo>
                  <a:pt x="3269" y="341"/>
                </a:lnTo>
                <a:lnTo>
                  <a:pt x="3282" y="346"/>
                </a:lnTo>
                <a:lnTo>
                  <a:pt x="3293" y="351"/>
                </a:lnTo>
                <a:lnTo>
                  <a:pt x="3305" y="356"/>
                </a:lnTo>
                <a:lnTo>
                  <a:pt x="3318" y="361"/>
                </a:lnTo>
                <a:lnTo>
                  <a:pt x="3331" y="364"/>
                </a:lnTo>
                <a:lnTo>
                  <a:pt x="3343" y="367"/>
                </a:lnTo>
                <a:lnTo>
                  <a:pt x="3356" y="369"/>
                </a:lnTo>
                <a:lnTo>
                  <a:pt x="3370" y="372"/>
                </a:lnTo>
                <a:lnTo>
                  <a:pt x="3384" y="374"/>
                </a:lnTo>
                <a:lnTo>
                  <a:pt x="3399" y="374"/>
                </a:lnTo>
                <a:lnTo>
                  <a:pt x="3413" y="374"/>
                </a:lnTo>
                <a:lnTo>
                  <a:pt x="3427" y="374"/>
                </a:lnTo>
                <a:lnTo>
                  <a:pt x="3443" y="372"/>
                </a:lnTo>
                <a:lnTo>
                  <a:pt x="3455" y="370"/>
                </a:lnTo>
                <a:lnTo>
                  <a:pt x="3470" y="369"/>
                </a:lnTo>
                <a:lnTo>
                  <a:pt x="3484" y="365"/>
                </a:lnTo>
                <a:lnTo>
                  <a:pt x="3498" y="362"/>
                </a:lnTo>
                <a:lnTo>
                  <a:pt x="3512" y="357"/>
                </a:lnTo>
                <a:lnTo>
                  <a:pt x="3525" y="353"/>
                </a:lnTo>
                <a:lnTo>
                  <a:pt x="3537" y="348"/>
                </a:lnTo>
                <a:lnTo>
                  <a:pt x="3550" y="341"/>
                </a:lnTo>
                <a:lnTo>
                  <a:pt x="3561" y="335"/>
                </a:lnTo>
                <a:lnTo>
                  <a:pt x="3574" y="328"/>
                </a:lnTo>
                <a:lnTo>
                  <a:pt x="3585" y="320"/>
                </a:lnTo>
                <a:lnTo>
                  <a:pt x="3594" y="312"/>
                </a:lnTo>
                <a:lnTo>
                  <a:pt x="3605" y="304"/>
                </a:lnTo>
                <a:lnTo>
                  <a:pt x="3615" y="294"/>
                </a:lnTo>
                <a:lnTo>
                  <a:pt x="3602" y="286"/>
                </a:lnTo>
                <a:lnTo>
                  <a:pt x="3591" y="278"/>
                </a:lnTo>
                <a:lnTo>
                  <a:pt x="3582" y="270"/>
                </a:lnTo>
                <a:lnTo>
                  <a:pt x="3574" y="260"/>
                </a:lnTo>
                <a:lnTo>
                  <a:pt x="3566" y="251"/>
                </a:lnTo>
                <a:lnTo>
                  <a:pt x="3560" y="241"/>
                </a:lnTo>
                <a:lnTo>
                  <a:pt x="3556" y="231"/>
                </a:lnTo>
                <a:lnTo>
                  <a:pt x="3553" y="221"/>
                </a:lnTo>
                <a:lnTo>
                  <a:pt x="3552" y="212"/>
                </a:lnTo>
                <a:lnTo>
                  <a:pt x="3553" y="202"/>
                </a:lnTo>
                <a:lnTo>
                  <a:pt x="3556" y="192"/>
                </a:lnTo>
                <a:lnTo>
                  <a:pt x="3563" y="184"/>
                </a:lnTo>
                <a:lnTo>
                  <a:pt x="3569" y="176"/>
                </a:lnTo>
                <a:lnTo>
                  <a:pt x="3577" y="168"/>
                </a:lnTo>
                <a:lnTo>
                  <a:pt x="3586" y="160"/>
                </a:lnTo>
                <a:lnTo>
                  <a:pt x="3597" y="152"/>
                </a:lnTo>
                <a:lnTo>
                  <a:pt x="3610" y="147"/>
                </a:lnTo>
                <a:lnTo>
                  <a:pt x="3623" y="141"/>
                </a:lnTo>
                <a:lnTo>
                  <a:pt x="3637" y="136"/>
                </a:lnTo>
                <a:lnTo>
                  <a:pt x="3653" y="131"/>
                </a:lnTo>
                <a:lnTo>
                  <a:pt x="3668" y="128"/>
                </a:lnTo>
                <a:lnTo>
                  <a:pt x="3684" y="126"/>
                </a:lnTo>
                <a:lnTo>
                  <a:pt x="3700" y="124"/>
                </a:lnTo>
                <a:lnTo>
                  <a:pt x="3717" y="123"/>
                </a:lnTo>
                <a:lnTo>
                  <a:pt x="3733" y="124"/>
                </a:lnTo>
                <a:lnTo>
                  <a:pt x="3751" y="126"/>
                </a:lnTo>
                <a:lnTo>
                  <a:pt x="3766" y="128"/>
                </a:lnTo>
                <a:lnTo>
                  <a:pt x="3781" y="131"/>
                </a:lnTo>
                <a:lnTo>
                  <a:pt x="3795" y="136"/>
                </a:lnTo>
                <a:lnTo>
                  <a:pt x="3809" y="141"/>
                </a:lnTo>
                <a:lnTo>
                  <a:pt x="3822" y="147"/>
                </a:lnTo>
                <a:lnTo>
                  <a:pt x="3833" y="152"/>
                </a:lnTo>
                <a:lnTo>
                  <a:pt x="3844" y="160"/>
                </a:lnTo>
                <a:lnTo>
                  <a:pt x="3853" y="168"/>
                </a:lnTo>
                <a:lnTo>
                  <a:pt x="3861" y="176"/>
                </a:lnTo>
                <a:lnTo>
                  <a:pt x="3869" y="184"/>
                </a:lnTo>
                <a:lnTo>
                  <a:pt x="3874" y="192"/>
                </a:lnTo>
                <a:lnTo>
                  <a:pt x="3878" y="202"/>
                </a:lnTo>
                <a:lnTo>
                  <a:pt x="3880" y="212"/>
                </a:lnTo>
                <a:lnTo>
                  <a:pt x="3882" y="221"/>
                </a:lnTo>
                <a:lnTo>
                  <a:pt x="3880" y="234"/>
                </a:lnTo>
                <a:lnTo>
                  <a:pt x="3874" y="246"/>
                </a:lnTo>
                <a:lnTo>
                  <a:pt x="3866" y="259"/>
                </a:lnTo>
                <a:lnTo>
                  <a:pt x="3856" y="270"/>
                </a:lnTo>
                <a:lnTo>
                  <a:pt x="3842" y="280"/>
                </a:lnTo>
                <a:lnTo>
                  <a:pt x="3828" y="289"/>
                </a:lnTo>
                <a:lnTo>
                  <a:pt x="3811" y="299"/>
                </a:lnTo>
                <a:lnTo>
                  <a:pt x="3793" y="307"/>
                </a:lnTo>
                <a:lnTo>
                  <a:pt x="3799" y="315"/>
                </a:lnTo>
                <a:lnTo>
                  <a:pt x="3807" y="323"/>
                </a:lnTo>
                <a:lnTo>
                  <a:pt x="3818" y="331"/>
                </a:lnTo>
                <a:lnTo>
                  <a:pt x="3829" y="336"/>
                </a:lnTo>
                <a:lnTo>
                  <a:pt x="3841" y="341"/>
                </a:lnTo>
                <a:lnTo>
                  <a:pt x="3855" y="344"/>
                </a:lnTo>
                <a:lnTo>
                  <a:pt x="3869" y="348"/>
                </a:lnTo>
                <a:lnTo>
                  <a:pt x="3883" y="348"/>
                </a:lnTo>
                <a:lnTo>
                  <a:pt x="3901" y="348"/>
                </a:lnTo>
                <a:lnTo>
                  <a:pt x="3916" y="344"/>
                </a:lnTo>
                <a:lnTo>
                  <a:pt x="3931" y="340"/>
                </a:lnTo>
                <a:lnTo>
                  <a:pt x="3945" y="333"/>
                </a:lnTo>
                <a:lnTo>
                  <a:pt x="3956" y="325"/>
                </a:lnTo>
                <a:lnTo>
                  <a:pt x="3965" y="317"/>
                </a:lnTo>
                <a:lnTo>
                  <a:pt x="3973" y="309"/>
                </a:lnTo>
                <a:lnTo>
                  <a:pt x="3978" y="299"/>
                </a:lnTo>
                <a:lnTo>
                  <a:pt x="3984" y="307"/>
                </a:lnTo>
                <a:lnTo>
                  <a:pt x="3990" y="314"/>
                </a:lnTo>
                <a:lnTo>
                  <a:pt x="3998" y="322"/>
                </a:lnTo>
                <a:lnTo>
                  <a:pt x="4006" y="328"/>
                </a:lnTo>
                <a:lnTo>
                  <a:pt x="4014" y="335"/>
                </a:lnTo>
                <a:lnTo>
                  <a:pt x="4024" y="341"/>
                </a:lnTo>
                <a:lnTo>
                  <a:pt x="4033" y="346"/>
                </a:lnTo>
                <a:lnTo>
                  <a:pt x="4043" y="353"/>
                </a:lnTo>
                <a:lnTo>
                  <a:pt x="4052" y="356"/>
                </a:lnTo>
                <a:lnTo>
                  <a:pt x="4062" y="361"/>
                </a:lnTo>
                <a:lnTo>
                  <a:pt x="4073" y="364"/>
                </a:lnTo>
                <a:lnTo>
                  <a:pt x="4082" y="365"/>
                </a:lnTo>
                <a:lnTo>
                  <a:pt x="4093" y="367"/>
                </a:lnTo>
                <a:lnTo>
                  <a:pt x="4104" y="369"/>
                </a:lnTo>
                <a:lnTo>
                  <a:pt x="4114" y="369"/>
                </a:lnTo>
                <a:lnTo>
                  <a:pt x="4125" y="367"/>
                </a:lnTo>
                <a:lnTo>
                  <a:pt x="4134" y="365"/>
                </a:lnTo>
                <a:lnTo>
                  <a:pt x="4144" y="365"/>
                </a:lnTo>
                <a:lnTo>
                  <a:pt x="4153" y="364"/>
                </a:lnTo>
                <a:lnTo>
                  <a:pt x="4163" y="361"/>
                </a:lnTo>
                <a:lnTo>
                  <a:pt x="4172" y="359"/>
                </a:lnTo>
                <a:lnTo>
                  <a:pt x="4183" y="357"/>
                </a:lnTo>
                <a:lnTo>
                  <a:pt x="4191" y="354"/>
                </a:lnTo>
                <a:lnTo>
                  <a:pt x="4200" y="353"/>
                </a:lnTo>
                <a:lnTo>
                  <a:pt x="4202" y="351"/>
                </a:lnTo>
                <a:lnTo>
                  <a:pt x="4207" y="349"/>
                </a:lnTo>
                <a:lnTo>
                  <a:pt x="4216" y="346"/>
                </a:lnTo>
                <a:lnTo>
                  <a:pt x="4227" y="341"/>
                </a:lnTo>
                <a:lnTo>
                  <a:pt x="4241" y="335"/>
                </a:lnTo>
                <a:lnTo>
                  <a:pt x="4259" y="328"/>
                </a:lnTo>
                <a:lnTo>
                  <a:pt x="4278" y="320"/>
                </a:lnTo>
                <a:lnTo>
                  <a:pt x="4300" y="310"/>
                </a:lnTo>
                <a:lnTo>
                  <a:pt x="4324" y="301"/>
                </a:lnTo>
                <a:lnTo>
                  <a:pt x="4349" y="291"/>
                </a:lnTo>
                <a:lnTo>
                  <a:pt x="4377" y="280"/>
                </a:lnTo>
                <a:lnTo>
                  <a:pt x="4406" y="268"/>
                </a:lnTo>
                <a:lnTo>
                  <a:pt x="4437" y="257"/>
                </a:lnTo>
                <a:lnTo>
                  <a:pt x="4469" y="244"/>
                </a:lnTo>
                <a:lnTo>
                  <a:pt x="4500" y="231"/>
                </a:lnTo>
                <a:lnTo>
                  <a:pt x="4533" y="220"/>
                </a:lnTo>
                <a:lnTo>
                  <a:pt x="4568" y="207"/>
                </a:lnTo>
                <a:lnTo>
                  <a:pt x="4601" y="194"/>
                </a:lnTo>
                <a:lnTo>
                  <a:pt x="4636" y="183"/>
                </a:lnTo>
                <a:lnTo>
                  <a:pt x="4671" y="170"/>
                </a:lnTo>
                <a:lnTo>
                  <a:pt x="4706" y="158"/>
                </a:lnTo>
                <a:lnTo>
                  <a:pt x="4740" y="147"/>
                </a:lnTo>
                <a:lnTo>
                  <a:pt x="4773" y="137"/>
                </a:lnTo>
                <a:lnTo>
                  <a:pt x="4807" y="128"/>
                </a:lnTo>
                <a:lnTo>
                  <a:pt x="4838" y="118"/>
                </a:lnTo>
                <a:lnTo>
                  <a:pt x="4870" y="110"/>
                </a:lnTo>
                <a:lnTo>
                  <a:pt x="4900" y="103"/>
                </a:lnTo>
                <a:lnTo>
                  <a:pt x="4928" y="97"/>
                </a:lnTo>
                <a:lnTo>
                  <a:pt x="4955" y="92"/>
                </a:lnTo>
                <a:lnTo>
                  <a:pt x="4980" y="89"/>
                </a:lnTo>
                <a:lnTo>
                  <a:pt x="5004" y="86"/>
                </a:lnTo>
                <a:lnTo>
                  <a:pt x="5024" y="86"/>
                </a:lnTo>
                <a:lnTo>
                  <a:pt x="5045" y="86"/>
                </a:lnTo>
                <a:lnTo>
                  <a:pt x="5065" y="87"/>
                </a:lnTo>
                <a:lnTo>
                  <a:pt x="5084" y="90"/>
                </a:lnTo>
                <a:lnTo>
                  <a:pt x="5102" y="94"/>
                </a:lnTo>
                <a:lnTo>
                  <a:pt x="5119" y="99"/>
                </a:lnTo>
                <a:lnTo>
                  <a:pt x="5136" y="105"/>
                </a:lnTo>
                <a:lnTo>
                  <a:pt x="5151" y="112"/>
                </a:lnTo>
                <a:lnTo>
                  <a:pt x="5165" y="120"/>
                </a:lnTo>
                <a:lnTo>
                  <a:pt x="5178" y="128"/>
                </a:lnTo>
                <a:lnTo>
                  <a:pt x="5190" y="137"/>
                </a:lnTo>
                <a:lnTo>
                  <a:pt x="5200" y="147"/>
                </a:lnTo>
                <a:lnTo>
                  <a:pt x="5208" y="157"/>
                </a:lnTo>
                <a:lnTo>
                  <a:pt x="5214" y="168"/>
                </a:lnTo>
                <a:lnTo>
                  <a:pt x="5219" y="179"/>
                </a:lnTo>
                <a:lnTo>
                  <a:pt x="5222" y="191"/>
                </a:lnTo>
                <a:lnTo>
                  <a:pt x="5223" y="204"/>
                </a:lnTo>
                <a:lnTo>
                  <a:pt x="5222" y="215"/>
                </a:lnTo>
                <a:lnTo>
                  <a:pt x="5219" y="226"/>
                </a:lnTo>
                <a:lnTo>
                  <a:pt x="5214" y="238"/>
                </a:lnTo>
                <a:lnTo>
                  <a:pt x="5208" y="249"/>
                </a:lnTo>
                <a:lnTo>
                  <a:pt x="5198" y="259"/>
                </a:lnTo>
                <a:lnTo>
                  <a:pt x="5189" y="268"/>
                </a:lnTo>
                <a:lnTo>
                  <a:pt x="5178" y="276"/>
                </a:lnTo>
                <a:lnTo>
                  <a:pt x="5165" y="283"/>
                </a:lnTo>
                <a:lnTo>
                  <a:pt x="5178" y="288"/>
                </a:lnTo>
                <a:lnTo>
                  <a:pt x="5190" y="293"/>
                </a:lnTo>
                <a:lnTo>
                  <a:pt x="5204" y="296"/>
                </a:lnTo>
                <a:lnTo>
                  <a:pt x="5219" y="301"/>
                </a:lnTo>
                <a:lnTo>
                  <a:pt x="5233" y="304"/>
                </a:lnTo>
                <a:lnTo>
                  <a:pt x="5247" y="306"/>
                </a:lnTo>
                <a:lnTo>
                  <a:pt x="5263" y="307"/>
                </a:lnTo>
                <a:lnTo>
                  <a:pt x="5277" y="309"/>
                </a:lnTo>
                <a:lnTo>
                  <a:pt x="5288" y="309"/>
                </a:lnTo>
                <a:lnTo>
                  <a:pt x="5297" y="309"/>
                </a:lnTo>
                <a:lnTo>
                  <a:pt x="5307" y="307"/>
                </a:lnTo>
                <a:lnTo>
                  <a:pt x="5316" y="306"/>
                </a:lnTo>
                <a:lnTo>
                  <a:pt x="5326" y="304"/>
                </a:lnTo>
                <a:lnTo>
                  <a:pt x="5335" y="302"/>
                </a:lnTo>
                <a:lnTo>
                  <a:pt x="5345" y="301"/>
                </a:lnTo>
                <a:lnTo>
                  <a:pt x="5354" y="298"/>
                </a:lnTo>
                <a:lnTo>
                  <a:pt x="5364" y="294"/>
                </a:lnTo>
                <a:lnTo>
                  <a:pt x="5372" y="291"/>
                </a:lnTo>
                <a:lnTo>
                  <a:pt x="5380" y="288"/>
                </a:lnTo>
                <a:lnTo>
                  <a:pt x="5387" y="283"/>
                </a:lnTo>
                <a:lnTo>
                  <a:pt x="5395" y="280"/>
                </a:lnTo>
                <a:lnTo>
                  <a:pt x="5403" y="275"/>
                </a:lnTo>
                <a:lnTo>
                  <a:pt x="5410" y="270"/>
                </a:lnTo>
                <a:lnTo>
                  <a:pt x="5416" y="265"/>
                </a:lnTo>
                <a:lnTo>
                  <a:pt x="5414" y="259"/>
                </a:lnTo>
                <a:lnTo>
                  <a:pt x="5413" y="254"/>
                </a:lnTo>
                <a:lnTo>
                  <a:pt x="5411" y="249"/>
                </a:lnTo>
                <a:lnTo>
                  <a:pt x="5411" y="244"/>
                </a:lnTo>
                <a:close/>
              </a:path>
            </a:pathLst>
          </a:custGeom>
          <a:solidFill>
            <a:srgbClr val="99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A28514-97D4-4F56-9024-B7015C375C54}" type="datetime1">
              <a:rPr lang="en-US"/>
              <a:t>07/29/26</a:t>
            </a:fld>
          </a:p>
        </p:txBody>
      </p:sp>
    </p:spTree>
  </p:cSld>
  <p:transition spd="slow">
    <p:randomBar dir="vert"/>
  </p:transition>
  <p:timing>
    <p:tnLst>
      <p:par>
        <p:cTn id="770" dur="indefinite" restart="never" nodeType="tmRoot">
          <p:childTnLst>
            <p:seq>
              <p:cTn id="771" dur="indefinite" nodeType="mainSeq">
                <p:childTnLst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izt04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76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81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90" dur="3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99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4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09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24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29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34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 flipV="1">
            <a:off x="0" y="761760"/>
            <a:ext cx="9144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26920" y="2060640"/>
            <a:ext cx="8317080" cy="41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Times New Roman"/>
                <a:ea typeface="幼圆"/>
              </a:rPr>
              <a:t>宣  室  求  贤  访  逐  臣，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Times New Roman"/>
                <a:ea typeface="幼圆"/>
              </a:rPr>
              <a:t>贾   生 才  调  更  无  论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Times New Roman"/>
                <a:ea typeface="幼圆"/>
              </a:rPr>
              <a:t>可  怜  夜  半  虚  前  席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Times New Roman"/>
                <a:ea typeface="幼圆"/>
              </a:rPr>
              <a:t>不  问  苍  生  问  鬼  神</a:t>
            </a:r>
            <a:r>
              <a:rPr b="1" lang="zh-CN" sz="4800" spc="-1" strike="noStrike">
                <a:solidFill>
                  <a:srgbClr val="0000ff"/>
                </a:solidFill>
                <a:latin typeface="Times New Roman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835280" y="692280"/>
            <a:ext cx="6154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Times New Roman"/>
              </a:rPr>
              <a:t>《</a:t>
            </a:r>
            <a:r>
              <a:rPr b="1" lang="zh-CN" sz="5400" spc="-1" strike="noStrike">
                <a:solidFill>
                  <a:srgbClr val="0000ff"/>
                </a:solidFill>
                <a:latin typeface="Times New Roman"/>
                <a:ea typeface="幼圆"/>
              </a:rPr>
              <a:t>贾生</a:t>
            </a:r>
            <a:r>
              <a:rPr b="1" lang="zh-CN" sz="5400" spc="-1" strike="noStrike">
                <a:solidFill>
                  <a:srgbClr val="0000ff"/>
                </a:solidFill>
                <a:latin typeface="Times New Roman"/>
              </a:rPr>
              <a:t>》</a:t>
            </a: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幼圆"/>
              </a:rPr>
              <a:t>李商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>
            <a:hlinkClick r:id="" action="ppaction://hlinkshowjump?jump=nextslide"/>
          </p:cNvPr>
          <p:cNvSpPr/>
          <p:nvPr/>
        </p:nvSpPr>
        <p:spPr>
          <a:xfrm>
            <a:off x="457200" y="6172200"/>
            <a:ext cx="457200" cy="30492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30975" y="1400"/>
                </a:lnTo>
                <a:lnTo>
                  <a:pt x="1400" y="1400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30975" y="20200"/>
                </a:lnTo>
                <a:lnTo>
                  <a:pt x="30975" y="1400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5" y="20200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75" h="21600">
                <a:moveTo>
                  <a:pt x="9181" y="3794"/>
                </a:moveTo>
                <a:lnTo>
                  <a:pt x="23194" y="10800"/>
                </a:lnTo>
                <a:lnTo>
                  <a:pt x="9181" y="17806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7632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6556320"/>
            <a:ext cx="9144000" cy="301680"/>
          </a:xfrm>
          <a:custGeom>
            <a:avLst/>
            <a:gdLst/>
            <a:ahLst/>
            <a:rect l="l" t="t" r="r" b="b"/>
            <a:pathLst>
              <a:path w="5760" h="380">
                <a:moveTo>
                  <a:pt x="5411" y="244"/>
                </a:moveTo>
                <a:lnTo>
                  <a:pt x="5410" y="220"/>
                </a:lnTo>
                <a:lnTo>
                  <a:pt x="5411" y="199"/>
                </a:lnTo>
                <a:lnTo>
                  <a:pt x="5416" y="179"/>
                </a:lnTo>
                <a:lnTo>
                  <a:pt x="5425" y="162"/>
                </a:lnTo>
                <a:lnTo>
                  <a:pt x="5438" y="149"/>
                </a:lnTo>
                <a:lnTo>
                  <a:pt x="5454" y="137"/>
                </a:lnTo>
                <a:lnTo>
                  <a:pt x="5473" y="129"/>
                </a:lnTo>
                <a:lnTo>
                  <a:pt x="5495" y="124"/>
                </a:lnTo>
                <a:lnTo>
                  <a:pt x="5515" y="126"/>
                </a:lnTo>
                <a:lnTo>
                  <a:pt x="5533" y="134"/>
                </a:lnTo>
                <a:lnTo>
                  <a:pt x="5548" y="144"/>
                </a:lnTo>
                <a:lnTo>
                  <a:pt x="5561" y="158"/>
                </a:lnTo>
                <a:lnTo>
                  <a:pt x="5569" y="175"/>
                </a:lnTo>
                <a:lnTo>
                  <a:pt x="5572" y="194"/>
                </a:lnTo>
                <a:lnTo>
                  <a:pt x="5571" y="213"/>
                </a:lnTo>
                <a:lnTo>
                  <a:pt x="5563" y="233"/>
                </a:lnTo>
                <a:lnTo>
                  <a:pt x="5553" y="243"/>
                </a:lnTo>
                <a:lnTo>
                  <a:pt x="5544" y="251"/>
                </a:lnTo>
                <a:lnTo>
                  <a:pt x="5534" y="255"/>
                </a:lnTo>
                <a:lnTo>
                  <a:pt x="5523" y="257"/>
                </a:lnTo>
                <a:lnTo>
                  <a:pt x="5514" y="257"/>
                </a:lnTo>
                <a:lnTo>
                  <a:pt x="5503" y="254"/>
                </a:lnTo>
                <a:lnTo>
                  <a:pt x="5493" y="247"/>
                </a:lnTo>
                <a:lnTo>
                  <a:pt x="5484" y="238"/>
                </a:lnTo>
                <a:lnTo>
                  <a:pt x="5479" y="230"/>
                </a:lnTo>
                <a:lnTo>
                  <a:pt x="5477" y="220"/>
                </a:lnTo>
                <a:lnTo>
                  <a:pt x="5477" y="212"/>
                </a:lnTo>
                <a:lnTo>
                  <a:pt x="5477" y="205"/>
                </a:lnTo>
                <a:lnTo>
                  <a:pt x="5479" y="197"/>
                </a:lnTo>
                <a:lnTo>
                  <a:pt x="5482" y="189"/>
                </a:lnTo>
                <a:lnTo>
                  <a:pt x="5485" y="181"/>
                </a:lnTo>
                <a:lnTo>
                  <a:pt x="5487" y="173"/>
                </a:lnTo>
                <a:lnTo>
                  <a:pt x="5493" y="167"/>
                </a:lnTo>
                <a:lnTo>
                  <a:pt x="5498" y="165"/>
                </a:lnTo>
                <a:lnTo>
                  <a:pt x="5501" y="167"/>
                </a:lnTo>
                <a:lnTo>
                  <a:pt x="5504" y="170"/>
                </a:lnTo>
                <a:lnTo>
                  <a:pt x="5506" y="173"/>
                </a:lnTo>
                <a:lnTo>
                  <a:pt x="5506" y="178"/>
                </a:lnTo>
                <a:lnTo>
                  <a:pt x="5501" y="181"/>
                </a:lnTo>
                <a:lnTo>
                  <a:pt x="5496" y="183"/>
                </a:lnTo>
                <a:lnTo>
                  <a:pt x="5488" y="200"/>
                </a:lnTo>
                <a:lnTo>
                  <a:pt x="5487" y="217"/>
                </a:lnTo>
                <a:lnTo>
                  <a:pt x="5492" y="231"/>
                </a:lnTo>
                <a:lnTo>
                  <a:pt x="5500" y="241"/>
                </a:lnTo>
                <a:lnTo>
                  <a:pt x="5512" y="246"/>
                </a:lnTo>
                <a:lnTo>
                  <a:pt x="5526" y="246"/>
                </a:lnTo>
                <a:lnTo>
                  <a:pt x="5541" y="241"/>
                </a:lnTo>
                <a:lnTo>
                  <a:pt x="5555" y="226"/>
                </a:lnTo>
                <a:lnTo>
                  <a:pt x="5560" y="215"/>
                </a:lnTo>
                <a:lnTo>
                  <a:pt x="5561" y="204"/>
                </a:lnTo>
                <a:lnTo>
                  <a:pt x="5563" y="192"/>
                </a:lnTo>
                <a:lnTo>
                  <a:pt x="5561" y="183"/>
                </a:lnTo>
                <a:lnTo>
                  <a:pt x="5558" y="173"/>
                </a:lnTo>
                <a:lnTo>
                  <a:pt x="5553" y="163"/>
                </a:lnTo>
                <a:lnTo>
                  <a:pt x="5547" y="157"/>
                </a:lnTo>
                <a:lnTo>
                  <a:pt x="5539" y="150"/>
                </a:lnTo>
                <a:lnTo>
                  <a:pt x="5531" y="144"/>
                </a:lnTo>
                <a:lnTo>
                  <a:pt x="5522" y="141"/>
                </a:lnTo>
                <a:lnTo>
                  <a:pt x="5512" y="137"/>
                </a:lnTo>
                <a:lnTo>
                  <a:pt x="5501" y="136"/>
                </a:lnTo>
                <a:lnTo>
                  <a:pt x="5490" y="136"/>
                </a:lnTo>
                <a:lnTo>
                  <a:pt x="5479" y="137"/>
                </a:lnTo>
                <a:lnTo>
                  <a:pt x="5468" y="141"/>
                </a:lnTo>
                <a:lnTo>
                  <a:pt x="5459" y="145"/>
                </a:lnTo>
                <a:lnTo>
                  <a:pt x="5444" y="155"/>
                </a:lnTo>
                <a:lnTo>
                  <a:pt x="5435" y="165"/>
                </a:lnTo>
                <a:lnTo>
                  <a:pt x="5427" y="178"/>
                </a:lnTo>
                <a:lnTo>
                  <a:pt x="5422" y="192"/>
                </a:lnTo>
                <a:lnTo>
                  <a:pt x="5419" y="207"/>
                </a:lnTo>
                <a:lnTo>
                  <a:pt x="5419" y="221"/>
                </a:lnTo>
                <a:lnTo>
                  <a:pt x="5421" y="238"/>
                </a:lnTo>
                <a:lnTo>
                  <a:pt x="5424" y="254"/>
                </a:lnTo>
                <a:lnTo>
                  <a:pt x="5425" y="257"/>
                </a:lnTo>
                <a:lnTo>
                  <a:pt x="5429" y="262"/>
                </a:lnTo>
                <a:lnTo>
                  <a:pt x="5427" y="262"/>
                </a:lnTo>
                <a:lnTo>
                  <a:pt x="5432" y="267"/>
                </a:lnTo>
                <a:lnTo>
                  <a:pt x="5438" y="275"/>
                </a:lnTo>
                <a:lnTo>
                  <a:pt x="5447" y="281"/>
                </a:lnTo>
                <a:lnTo>
                  <a:pt x="5460" y="289"/>
                </a:lnTo>
                <a:lnTo>
                  <a:pt x="5476" y="296"/>
                </a:lnTo>
                <a:lnTo>
                  <a:pt x="5495" y="301"/>
                </a:lnTo>
                <a:lnTo>
                  <a:pt x="5518" y="306"/>
                </a:lnTo>
                <a:lnTo>
                  <a:pt x="5545" y="306"/>
                </a:lnTo>
                <a:lnTo>
                  <a:pt x="5564" y="304"/>
                </a:lnTo>
                <a:lnTo>
                  <a:pt x="5582" y="298"/>
                </a:lnTo>
                <a:lnTo>
                  <a:pt x="5599" y="289"/>
                </a:lnTo>
                <a:lnTo>
                  <a:pt x="5616" y="278"/>
                </a:lnTo>
                <a:lnTo>
                  <a:pt x="5634" y="265"/>
                </a:lnTo>
                <a:lnTo>
                  <a:pt x="5650" y="251"/>
                </a:lnTo>
                <a:lnTo>
                  <a:pt x="5665" y="234"/>
                </a:lnTo>
                <a:lnTo>
                  <a:pt x="5679" y="218"/>
                </a:lnTo>
                <a:lnTo>
                  <a:pt x="5692" y="200"/>
                </a:lnTo>
                <a:lnTo>
                  <a:pt x="5705" y="184"/>
                </a:lnTo>
                <a:lnTo>
                  <a:pt x="5716" y="168"/>
                </a:lnTo>
                <a:lnTo>
                  <a:pt x="5725" y="152"/>
                </a:lnTo>
                <a:lnTo>
                  <a:pt x="5733" y="139"/>
                </a:lnTo>
                <a:lnTo>
                  <a:pt x="5739" y="128"/>
                </a:lnTo>
                <a:lnTo>
                  <a:pt x="5744" y="118"/>
                </a:lnTo>
                <a:lnTo>
                  <a:pt x="5746" y="110"/>
                </a:lnTo>
                <a:lnTo>
                  <a:pt x="5749" y="105"/>
                </a:lnTo>
                <a:lnTo>
                  <a:pt x="5752" y="97"/>
                </a:lnTo>
                <a:lnTo>
                  <a:pt x="5755" y="89"/>
                </a:lnTo>
                <a:lnTo>
                  <a:pt x="5758" y="81"/>
                </a:lnTo>
                <a:lnTo>
                  <a:pt x="5760" y="73"/>
                </a:lnTo>
                <a:lnTo>
                  <a:pt x="5760" y="63"/>
                </a:lnTo>
                <a:lnTo>
                  <a:pt x="5758" y="53"/>
                </a:lnTo>
                <a:lnTo>
                  <a:pt x="5754" y="44"/>
                </a:lnTo>
                <a:lnTo>
                  <a:pt x="5746" y="35"/>
                </a:lnTo>
                <a:lnTo>
                  <a:pt x="5736" y="27"/>
                </a:lnTo>
                <a:lnTo>
                  <a:pt x="5721" y="19"/>
                </a:lnTo>
                <a:lnTo>
                  <a:pt x="5700" y="13"/>
                </a:lnTo>
                <a:lnTo>
                  <a:pt x="5675" y="8"/>
                </a:lnTo>
                <a:lnTo>
                  <a:pt x="5643" y="3"/>
                </a:lnTo>
                <a:lnTo>
                  <a:pt x="5607" y="2"/>
                </a:lnTo>
                <a:lnTo>
                  <a:pt x="5561" y="0"/>
                </a:lnTo>
                <a:lnTo>
                  <a:pt x="5533" y="0"/>
                </a:lnTo>
                <a:lnTo>
                  <a:pt x="5493" y="0"/>
                </a:lnTo>
                <a:lnTo>
                  <a:pt x="5444" y="0"/>
                </a:lnTo>
                <a:lnTo>
                  <a:pt x="5386" y="0"/>
                </a:lnTo>
                <a:lnTo>
                  <a:pt x="5318" y="0"/>
                </a:lnTo>
                <a:lnTo>
                  <a:pt x="5242" y="0"/>
                </a:lnTo>
                <a:lnTo>
                  <a:pt x="5160" y="0"/>
                </a:lnTo>
                <a:lnTo>
                  <a:pt x="5072" y="0"/>
                </a:lnTo>
                <a:lnTo>
                  <a:pt x="4977" y="0"/>
                </a:lnTo>
                <a:lnTo>
                  <a:pt x="4878" y="0"/>
                </a:lnTo>
                <a:lnTo>
                  <a:pt x="4773" y="0"/>
                </a:lnTo>
                <a:lnTo>
                  <a:pt x="4666" y="0"/>
                </a:lnTo>
                <a:lnTo>
                  <a:pt x="4557" y="0"/>
                </a:lnTo>
                <a:lnTo>
                  <a:pt x="4445" y="0"/>
                </a:lnTo>
                <a:lnTo>
                  <a:pt x="4331" y="0"/>
                </a:lnTo>
                <a:lnTo>
                  <a:pt x="4218" y="0"/>
                </a:lnTo>
                <a:lnTo>
                  <a:pt x="4103" y="0"/>
                </a:lnTo>
                <a:lnTo>
                  <a:pt x="3989" y="0"/>
                </a:lnTo>
                <a:lnTo>
                  <a:pt x="3878" y="0"/>
                </a:lnTo>
                <a:lnTo>
                  <a:pt x="3768" y="0"/>
                </a:lnTo>
                <a:lnTo>
                  <a:pt x="3661" y="0"/>
                </a:lnTo>
                <a:lnTo>
                  <a:pt x="3558" y="0"/>
                </a:lnTo>
                <a:lnTo>
                  <a:pt x="3460" y="0"/>
                </a:lnTo>
                <a:lnTo>
                  <a:pt x="3367" y="0"/>
                </a:lnTo>
                <a:lnTo>
                  <a:pt x="3279" y="0"/>
                </a:lnTo>
                <a:lnTo>
                  <a:pt x="3198" y="0"/>
                </a:lnTo>
                <a:lnTo>
                  <a:pt x="3124" y="0"/>
                </a:lnTo>
                <a:lnTo>
                  <a:pt x="3058" y="0"/>
                </a:lnTo>
                <a:lnTo>
                  <a:pt x="3001" y="0"/>
                </a:lnTo>
                <a:lnTo>
                  <a:pt x="2953" y="0"/>
                </a:lnTo>
                <a:lnTo>
                  <a:pt x="2916" y="0"/>
                </a:lnTo>
                <a:lnTo>
                  <a:pt x="2889" y="0"/>
                </a:lnTo>
                <a:lnTo>
                  <a:pt x="2889" y="0"/>
                </a:lnTo>
                <a:lnTo>
                  <a:pt x="2889" y="0"/>
                </a:lnTo>
                <a:lnTo>
                  <a:pt x="2889" y="0"/>
                </a:lnTo>
                <a:lnTo>
                  <a:pt x="2889" y="0"/>
                </a:lnTo>
                <a:lnTo>
                  <a:pt x="2882" y="0"/>
                </a:lnTo>
                <a:lnTo>
                  <a:pt x="2862" y="0"/>
                </a:lnTo>
                <a:lnTo>
                  <a:pt x="2829" y="0"/>
                </a:lnTo>
                <a:lnTo>
                  <a:pt x="2784" y="0"/>
                </a:lnTo>
                <a:lnTo>
                  <a:pt x="2728" y="0"/>
                </a:lnTo>
                <a:lnTo>
                  <a:pt x="2663" y="0"/>
                </a:lnTo>
                <a:lnTo>
                  <a:pt x="2587" y="0"/>
                </a:lnTo>
                <a:lnTo>
                  <a:pt x="2505" y="0"/>
                </a:lnTo>
                <a:lnTo>
                  <a:pt x="2414" y="0"/>
                </a:lnTo>
                <a:lnTo>
                  <a:pt x="2317" y="0"/>
                </a:lnTo>
                <a:lnTo>
                  <a:pt x="2215" y="0"/>
                </a:lnTo>
                <a:lnTo>
                  <a:pt x="2106" y="0"/>
                </a:lnTo>
                <a:lnTo>
                  <a:pt x="1994" y="0"/>
                </a:lnTo>
                <a:lnTo>
                  <a:pt x="1878" y="0"/>
                </a:lnTo>
                <a:lnTo>
                  <a:pt x="1760" y="0"/>
                </a:lnTo>
                <a:lnTo>
                  <a:pt x="1640" y="0"/>
                </a:lnTo>
                <a:lnTo>
                  <a:pt x="1520" y="0"/>
                </a:lnTo>
                <a:lnTo>
                  <a:pt x="1400" y="0"/>
                </a:lnTo>
                <a:lnTo>
                  <a:pt x="1280" y="0"/>
                </a:lnTo>
                <a:lnTo>
                  <a:pt x="1163" y="0"/>
                </a:lnTo>
                <a:lnTo>
                  <a:pt x="1048" y="0"/>
                </a:lnTo>
                <a:lnTo>
                  <a:pt x="938" y="0"/>
                </a:lnTo>
                <a:lnTo>
                  <a:pt x="830" y="0"/>
                </a:lnTo>
                <a:lnTo>
                  <a:pt x="728" y="0"/>
                </a:lnTo>
                <a:lnTo>
                  <a:pt x="631" y="0"/>
                </a:lnTo>
                <a:lnTo>
                  <a:pt x="543" y="0"/>
                </a:lnTo>
                <a:lnTo>
                  <a:pt x="461" y="0"/>
                </a:lnTo>
                <a:lnTo>
                  <a:pt x="388" y="0"/>
                </a:lnTo>
                <a:lnTo>
                  <a:pt x="324" y="0"/>
                </a:lnTo>
                <a:lnTo>
                  <a:pt x="270" y="0"/>
                </a:lnTo>
                <a:lnTo>
                  <a:pt x="229" y="0"/>
                </a:lnTo>
                <a:lnTo>
                  <a:pt x="197" y="0"/>
                </a:lnTo>
                <a:lnTo>
                  <a:pt x="153" y="2"/>
                </a:lnTo>
                <a:lnTo>
                  <a:pt x="115" y="3"/>
                </a:lnTo>
                <a:lnTo>
                  <a:pt x="84" y="8"/>
                </a:lnTo>
                <a:lnTo>
                  <a:pt x="58" y="13"/>
                </a:lnTo>
                <a:lnTo>
                  <a:pt x="38" y="19"/>
                </a:lnTo>
                <a:lnTo>
                  <a:pt x="22" y="27"/>
                </a:lnTo>
                <a:lnTo>
                  <a:pt x="11" y="35"/>
                </a:lnTo>
                <a:lnTo>
                  <a:pt x="5" y="44"/>
                </a:lnTo>
                <a:lnTo>
                  <a:pt x="2" y="53"/>
                </a:lnTo>
                <a:lnTo>
                  <a:pt x="0" y="63"/>
                </a:lnTo>
                <a:lnTo>
                  <a:pt x="0" y="73"/>
                </a:lnTo>
                <a:lnTo>
                  <a:pt x="2" y="81"/>
                </a:lnTo>
                <a:lnTo>
                  <a:pt x="3" y="89"/>
                </a:lnTo>
                <a:lnTo>
                  <a:pt x="6" y="97"/>
                </a:lnTo>
                <a:lnTo>
                  <a:pt x="9" y="105"/>
                </a:lnTo>
                <a:lnTo>
                  <a:pt x="11" y="110"/>
                </a:lnTo>
                <a:lnTo>
                  <a:pt x="14" y="118"/>
                </a:lnTo>
                <a:lnTo>
                  <a:pt x="19" y="128"/>
                </a:lnTo>
                <a:lnTo>
                  <a:pt x="25" y="139"/>
                </a:lnTo>
                <a:lnTo>
                  <a:pt x="33" y="152"/>
                </a:lnTo>
                <a:lnTo>
                  <a:pt x="43" y="168"/>
                </a:lnTo>
                <a:lnTo>
                  <a:pt x="54" y="184"/>
                </a:lnTo>
                <a:lnTo>
                  <a:pt x="66" y="200"/>
                </a:lnTo>
                <a:lnTo>
                  <a:pt x="79" y="217"/>
                </a:lnTo>
                <a:lnTo>
                  <a:pt x="93" y="234"/>
                </a:lnTo>
                <a:lnTo>
                  <a:pt x="109" y="249"/>
                </a:lnTo>
                <a:lnTo>
                  <a:pt x="125" y="265"/>
                </a:lnTo>
                <a:lnTo>
                  <a:pt x="142" y="278"/>
                </a:lnTo>
                <a:lnTo>
                  <a:pt x="159" y="288"/>
                </a:lnTo>
                <a:lnTo>
                  <a:pt x="177" y="298"/>
                </a:lnTo>
                <a:lnTo>
                  <a:pt x="196" y="302"/>
                </a:lnTo>
                <a:lnTo>
                  <a:pt x="213" y="306"/>
                </a:lnTo>
                <a:lnTo>
                  <a:pt x="242" y="304"/>
                </a:lnTo>
                <a:lnTo>
                  <a:pt x="264" y="301"/>
                </a:lnTo>
                <a:lnTo>
                  <a:pt x="283" y="296"/>
                </a:lnTo>
                <a:lnTo>
                  <a:pt x="298" y="289"/>
                </a:lnTo>
                <a:lnTo>
                  <a:pt x="311" y="281"/>
                </a:lnTo>
                <a:lnTo>
                  <a:pt x="320" y="273"/>
                </a:lnTo>
                <a:lnTo>
                  <a:pt x="327" y="267"/>
                </a:lnTo>
                <a:lnTo>
                  <a:pt x="331" y="262"/>
                </a:lnTo>
                <a:lnTo>
                  <a:pt x="330" y="260"/>
                </a:lnTo>
                <a:lnTo>
                  <a:pt x="333" y="255"/>
                </a:lnTo>
                <a:lnTo>
                  <a:pt x="335" y="252"/>
                </a:lnTo>
                <a:lnTo>
                  <a:pt x="338" y="238"/>
                </a:lnTo>
                <a:lnTo>
                  <a:pt x="339" y="221"/>
                </a:lnTo>
                <a:lnTo>
                  <a:pt x="339" y="207"/>
                </a:lnTo>
                <a:lnTo>
                  <a:pt x="336" y="191"/>
                </a:lnTo>
                <a:lnTo>
                  <a:pt x="331" y="178"/>
                </a:lnTo>
                <a:lnTo>
                  <a:pt x="325" y="165"/>
                </a:lnTo>
                <a:lnTo>
                  <a:pt x="314" y="154"/>
                </a:lnTo>
                <a:lnTo>
                  <a:pt x="301" y="145"/>
                </a:lnTo>
                <a:lnTo>
                  <a:pt x="290" y="141"/>
                </a:lnTo>
                <a:lnTo>
                  <a:pt x="279" y="137"/>
                </a:lnTo>
                <a:lnTo>
                  <a:pt x="268" y="136"/>
                </a:lnTo>
                <a:lnTo>
                  <a:pt x="259" y="136"/>
                </a:lnTo>
                <a:lnTo>
                  <a:pt x="248" y="136"/>
                </a:lnTo>
                <a:lnTo>
                  <a:pt x="238" y="139"/>
                </a:lnTo>
                <a:lnTo>
                  <a:pt x="229" y="144"/>
                </a:lnTo>
                <a:lnTo>
                  <a:pt x="219" y="149"/>
                </a:lnTo>
                <a:lnTo>
                  <a:pt x="213" y="155"/>
                </a:lnTo>
                <a:lnTo>
                  <a:pt x="207" y="163"/>
                </a:lnTo>
                <a:lnTo>
                  <a:pt x="202" y="173"/>
                </a:lnTo>
                <a:lnTo>
                  <a:pt x="199" y="181"/>
                </a:lnTo>
                <a:lnTo>
                  <a:pt x="197" y="192"/>
                </a:lnTo>
                <a:lnTo>
                  <a:pt x="197" y="204"/>
                </a:lnTo>
                <a:lnTo>
                  <a:pt x="200" y="215"/>
                </a:lnTo>
                <a:lnTo>
                  <a:pt x="205" y="226"/>
                </a:lnTo>
                <a:lnTo>
                  <a:pt x="219" y="239"/>
                </a:lnTo>
                <a:lnTo>
                  <a:pt x="234" y="246"/>
                </a:lnTo>
                <a:lnTo>
                  <a:pt x="248" y="246"/>
                </a:lnTo>
                <a:lnTo>
                  <a:pt x="259" y="239"/>
                </a:lnTo>
                <a:lnTo>
                  <a:pt x="268" y="230"/>
                </a:lnTo>
                <a:lnTo>
                  <a:pt x="272" y="217"/>
                </a:lnTo>
                <a:lnTo>
                  <a:pt x="270" y="200"/>
                </a:lnTo>
                <a:lnTo>
                  <a:pt x="262" y="183"/>
                </a:lnTo>
                <a:lnTo>
                  <a:pt x="257" y="181"/>
                </a:lnTo>
                <a:lnTo>
                  <a:pt x="254" y="178"/>
                </a:lnTo>
                <a:lnTo>
                  <a:pt x="253" y="173"/>
                </a:lnTo>
                <a:lnTo>
                  <a:pt x="254" y="170"/>
                </a:lnTo>
                <a:lnTo>
                  <a:pt x="257" y="167"/>
                </a:lnTo>
                <a:lnTo>
                  <a:pt x="260" y="165"/>
                </a:lnTo>
                <a:lnTo>
                  <a:pt x="265" y="167"/>
                </a:lnTo>
                <a:lnTo>
                  <a:pt x="272" y="173"/>
                </a:lnTo>
                <a:lnTo>
                  <a:pt x="273" y="181"/>
                </a:lnTo>
                <a:lnTo>
                  <a:pt x="276" y="189"/>
                </a:lnTo>
                <a:lnTo>
                  <a:pt x="279" y="197"/>
                </a:lnTo>
                <a:lnTo>
                  <a:pt x="281" y="205"/>
                </a:lnTo>
                <a:lnTo>
                  <a:pt x="281" y="212"/>
                </a:lnTo>
                <a:lnTo>
                  <a:pt x="281" y="220"/>
                </a:lnTo>
                <a:lnTo>
                  <a:pt x="279" y="228"/>
                </a:lnTo>
                <a:lnTo>
                  <a:pt x="275" y="238"/>
                </a:lnTo>
                <a:lnTo>
                  <a:pt x="265" y="247"/>
                </a:lnTo>
                <a:lnTo>
                  <a:pt x="256" y="252"/>
                </a:lnTo>
                <a:lnTo>
                  <a:pt x="246" y="255"/>
                </a:lnTo>
                <a:lnTo>
                  <a:pt x="235" y="255"/>
                </a:lnTo>
                <a:lnTo>
                  <a:pt x="226" y="254"/>
                </a:lnTo>
                <a:lnTo>
                  <a:pt x="216" y="249"/>
                </a:lnTo>
                <a:lnTo>
                  <a:pt x="207" y="243"/>
                </a:lnTo>
                <a:lnTo>
                  <a:pt x="197" y="233"/>
                </a:lnTo>
                <a:lnTo>
                  <a:pt x="189" y="212"/>
                </a:lnTo>
                <a:lnTo>
                  <a:pt x="188" y="192"/>
                </a:lnTo>
                <a:lnTo>
                  <a:pt x="191" y="175"/>
                </a:lnTo>
                <a:lnTo>
                  <a:pt x="199" y="158"/>
                </a:lnTo>
                <a:lnTo>
                  <a:pt x="210" y="144"/>
                </a:lnTo>
                <a:lnTo>
                  <a:pt x="226" y="134"/>
                </a:lnTo>
                <a:lnTo>
                  <a:pt x="245" y="126"/>
                </a:lnTo>
                <a:lnTo>
                  <a:pt x="265" y="124"/>
                </a:lnTo>
                <a:lnTo>
                  <a:pt x="287" y="129"/>
                </a:lnTo>
                <a:lnTo>
                  <a:pt x="306" y="137"/>
                </a:lnTo>
                <a:lnTo>
                  <a:pt x="322" y="149"/>
                </a:lnTo>
                <a:lnTo>
                  <a:pt x="335" y="162"/>
                </a:lnTo>
                <a:lnTo>
                  <a:pt x="343" y="179"/>
                </a:lnTo>
                <a:lnTo>
                  <a:pt x="349" y="197"/>
                </a:lnTo>
                <a:lnTo>
                  <a:pt x="350" y="220"/>
                </a:lnTo>
                <a:lnTo>
                  <a:pt x="349" y="244"/>
                </a:lnTo>
                <a:lnTo>
                  <a:pt x="347" y="249"/>
                </a:lnTo>
                <a:lnTo>
                  <a:pt x="346" y="254"/>
                </a:lnTo>
                <a:lnTo>
                  <a:pt x="344" y="259"/>
                </a:lnTo>
                <a:lnTo>
                  <a:pt x="343" y="264"/>
                </a:lnTo>
                <a:lnTo>
                  <a:pt x="349" y="268"/>
                </a:lnTo>
                <a:lnTo>
                  <a:pt x="355" y="273"/>
                </a:lnTo>
                <a:lnTo>
                  <a:pt x="363" y="278"/>
                </a:lnTo>
                <a:lnTo>
                  <a:pt x="371" y="283"/>
                </a:lnTo>
                <a:lnTo>
                  <a:pt x="379" y="288"/>
                </a:lnTo>
                <a:lnTo>
                  <a:pt x="387" y="291"/>
                </a:lnTo>
                <a:lnTo>
                  <a:pt x="396" y="294"/>
                </a:lnTo>
                <a:lnTo>
                  <a:pt x="404" y="298"/>
                </a:lnTo>
                <a:lnTo>
                  <a:pt x="414" y="301"/>
                </a:lnTo>
                <a:lnTo>
                  <a:pt x="423" y="302"/>
                </a:lnTo>
                <a:lnTo>
                  <a:pt x="433" y="304"/>
                </a:lnTo>
                <a:lnTo>
                  <a:pt x="442" y="306"/>
                </a:lnTo>
                <a:lnTo>
                  <a:pt x="451" y="307"/>
                </a:lnTo>
                <a:lnTo>
                  <a:pt x="463" y="309"/>
                </a:lnTo>
                <a:lnTo>
                  <a:pt x="472" y="309"/>
                </a:lnTo>
                <a:lnTo>
                  <a:pt x="481" y="309"/>
                </a:lnTo>
                <a:lnTo>
                  <a:pt x="497" y="307"/>
                </a:lnTo>
                <a:lnTo>
                  <a:pt x="511" y="306"/>
                </a:lnTo>
                <a:lnTo>
                  <a:pt x="526" y="304"/>
                </a:lnTo>
                <a:lnTo>
                  <a:pt x="541" y="301"/>
                </a:lnTo>
                <a:lnTo>
                  <a:pt x="554" y="296"/>
                </a:lnTo>
                <a:lnTo>
                  <a:pt x="568" y="293"/>
                </a:lnTo>
                <a:lnTo>
                  <a:pt x="581" y="288"/>
                </a:lnTo>
                <a:lnTo>
                  <a:pt x="594" y="283"/>
                </a:lnTo>
                <a:lnTo>
                  <a:pt x="581" y="276"/>
                </a:lnTo>
                <a:lnTo>
                  <a:pt x="570" y="267"/>
                </a:lnTo>
                <a:lnTo>
                  <a:pt x="560" y="259"/>
                </a:lnTo>
                <a:lnTo>
                  <a:pt x="552" y="247"/>
                </a:lnTo>
                <a:lnTo>
                  <a:pt x="545" y="238"/>
                </a:lnTo>
                <a:lnTo>
                  <a:pt x="540" y="226"/>
                </a:lnTo>
                <a:lnTo>
                  <a:pt x="537" y="215"/>
                </a:lnTo>
                <a:lnTo>
                  <a:pt x="537" y="202"/>
                </a:lnTo>
                <a:lnTo>
                  <a:pt x="537" y="191"/>
                </a:lnTo>
                <a:lnTo>
                  <a:pt x="540" y="179"/>
                </a:lnTo>
                <a:lnTo>
                  <a:pt x="545" y="168"/>
                </a:lnTo>
                <a:lnTo>
                  <a:pt x="551" y="157"/>
                </a:lnTo>
                <a:lnTo>
                  <a:pt x="560" y="147"/>
                </a:lnTo>
                <a:lnTo>
                  <a:pt x="570" y="137"/>
                </a:lnTo>
                <a:lnTo>
                  <a:pt x="581" y="128"/>
                </a:lnTo>
                <a:lnTo>
                  <a:pt x="594" y="120"/>
                </a:lnTo>
                <a:lnTo>
                  <a:pt x="608" y="112"/>
                </a:lnTo>
                <a:lnTo>
                  <a:pt x="622" y="105"/>
                </a:lnTo>
                <a:lnTo>
                  <a:pt x="639" y="99"/>
                </a:lnTo>
                <a:lnTo>
                  <a:pt x="657" y="94"/>
                </a:lnTo>
                <a:lnTo>
                  <a:pt x="674" y="90"/>
                </a:lnTo>
                <a:lnTo>
                  <a:pt x="693" y="87"/>
                </a:lnTo>
                <a:lnTo>
                  <a:pt x="713" y="86"/>
                </a:lnTo>
                <a:lnTo>
                  <a:pt x="734" y="84"/>
                </a:lnTo>
                <a:lnTo>
                  <a:pt x="755" y="86"/>
                </a:lnTo>
                <a:lnTo>
                  <a:pt x="778" y="87"/>
                </a:lnTo>
                <a:lnTo>
                  <a:pt x="803" y="90"/>
                </a:lnTo>
                <a:lnTo>
                  <a:pt x="830" y="95"/>
                </a:lnTo>
                <a:lnTo>
                  <a:pt x="859" y="102"/>
                </a:lnTo>
                <a:lnTo>
                  <a:pt x="889" y="110"/>
                </a:lnTo>
                <a:lnTo>
                  <a:pt x="920" y="118"/>
                </a:lnTo>
                <a:lnTo>
                  <a:pt x="952" y="126"/>
                </a:lnTo>
                <a:lnTo>
                  <a:pt x="985" y="136"/>
                </a:lnTo>
                <a:lnTo>
                  <a:pt x="1018" y="147"/>
                </a:lnTo>
                <a:lnTo>
                  <a:pt x="1053" y="158"/>
                </a:lnTo>
                <a:lnTo>
                  <a:pt x="1088" y="170"/>
                </a:lnTo>
                <a:lnTo>
                  <a:pt x="1122" y="181"/>
                </a:lnTo>
                <a:lnTo>
                  <a:pt x="1155" y="194"/>
                </a:lnTo>
                <a:lnTo>
                  <a:pt x="1190" y="207"/>
                </a:lnTo>
                <a:lnTo>
                  <a:pt x="1225" y="218"/>
                </a:lnTo>
                <a:lnTo>
                  <a:pt x="1258" y="231"/>
                </a:lnTo>
                <a:lnTo>
                  <a:pt x="1291" y="244"/>
                </a:lnTo>
                <a:lnTo>
                  <a:pt x="1323" y="255"/>
                </a:lnTo>
                <a:lnTo>
                  <a:pt x="1353" y="268"/>
                </a:lnTo>
                <a:lnTo>
                  <a:pt x="1381" y="280"/>
                </a:lnTo>
                <a:lnTo>
                  <a:pt x="1410" y="291"/>
                </a:lnTo>
                <a:lnTo>
                  <a:pt x="1435" y="301"/>
                </a:lnTo>
                <a:lnTo>
                  <a:pt x="1459" y="310"/>
                </a:lnTo>
                <a:lnTo>
                  <a:pt x="1481" y="320"/>
                </a:lnTo>
                <a:lnTo>
                  <a:pt x="1501" y="328"/>
                </a:lnTo>
                <a:lnTo>
                  <a:pt x="1517" y="335"/>
                </a:lnTo>
                <a:lnTo>
                  <a:pt x="1531" y="341"/>
                </a:lnTo>
                <a:lnTo>
                  <a:pt x="1544" y="346"/>
                </a:lnTo>
                <a:lnTo>
                  <a:pt x="1552" y="349"/>
                </a:lnTo>
                <a:lnTo>
                  <a:pt x="1558" y="351"/>
                </a:lnTo>
                <a:lnTo>
                  <a:pt x="1560" y="353"/>
                </a:lnTo>
                <a:lnTo>
                  <a:pt x="1567" y="354"/>
                </a:lnTo>
                <a:lnTo>
                  <a:pt x="1577" y="357"/>
                </a:lnTo>
                <a:lnTo>
                  <a:pt x="1586" y="359"/>
                </a:lnTo>
                <a:lnTo>
                  <a:pt x="1596" y="361"/>
                </a:lnTo>
                <a:lnTo>
                  <a:pt x="1605" y="362"/>
                </a:lnTo>
                <a:lnTo>
                  <a:pt x="1616" y="364"/>
                </a:lnTo>
                <a:lnTo>
                  <a:pt x="1624" y="365"/>
                </a:lnTo>
                <a:lnTo>
                  <a:pt x="1634" y="367"/>
                </a:lnTo>
                <a:lnTo>
                  <a:pt x="1645" y="367"/>
                </a:lnTo>
                <a:lnTo>
                  <a:pt x="1656" y="369"/>
                </a:lnTo>
                <a:lnTo>
                  <a:pt x="1665" y="367"/>
                </a:lnTo>
                <a:lnTo>
                  <a:pt x="1676" y="365"/>
                </a:lnTo>
                <a:lnTo>
                  <a:pt x="1687" y="364"/>
                </a:lnTo>
                <a:lnTo>
                  <a:pt x="1697" y="361"/>
                </a:lnTo>
                <a:lnTo>
                  <a:pt x="1708" y="356"/>
                </a:lnTo>
                <a:lnTo>
                  <a:pt x="1717" y="351"/>
                </a:lnTo>
                <a:lnTo>
                  <a:pt x="1727" y="346"/>
                </a:lnTo>
                <a:lnTo>
                  <a:pt x="1735" y="341"/>
                </a:lnTo>
                <a:lnTo>
                  <a:pt x="1744" y="335"/>
                </a:lnTo>
                <a:lnTo>
                  <a:pt x="1752" y="328"/>
                </a:lnTo>
                <a:lnTo>
                  <a:pt x="1760" y="320"/>
                </a:lnTo>
                <a:lnTo>
                  <a:pt x="1768" y="314"/>
                </a:lnTo>
                <a:lnTo>
                  <a:pt x="1774" y="306"/>
                </a:lnTo>
                <a:lnTo>
                  <a:pt x="1781" y="298"/>
                </a:lnTo>
                <a:lnTo>
                  <a:pt x="1785" y="307"/>
                </a:lnTo>
                <a:lnTo>
                  <a:pt x="1793" y="317"/>
                </a:lnTo>
                <a:lnTo>
                  <a:pt x="1803" y="325"/>
                </a:lnTo>
                <a:lnTo>
                  <a:pt x="1814" y="333"/>
                </a:lnTo>
                <a:lnTo>
                  <a:pt x="1828" y="338"/>
                </a:lnTo>
                <a:lnTo>
                  <a:pt x="1842" y="343"/>
                </a:lnTo>
                <a:lnTo>
                  <a:pt x="1858" y="346"/>
                </a:lnTo>
                <a:lnTo>
                  <a:pt x="1875" y="348"/>
                </a:lnTo>
                <a:lnTo>
                  <a:pt x="1889" y="346"/>
                </a:lnTo>
                <a:lnTo>
                  <a:pt x="1904" y="344"/>
                </a:lnTo>
                <a:lnTo>
                  <a:pt x="1918" y="341"/>
                </a:lnTo>
                <a:lnTo>
                  <a:pt x="1929" y="336"/>
                </a:lnTo>
                <a:lnTo>
                  <a:pt x="1940" y="330"/>
                </a:lnTo>
                <a:lnTo>
                  <a:pt x="1951" y="323"/>
                </a:lnTo>
                <a:lnTo>
                  <a:pt x="1959" y="315"/>
                </a:lnTo>
                <a:lnTo>
                  <a:pt x="1965" y="307"/>
                </a:lnTo>
                <a:lnTo>
                  <a:pt x="1948" y="299"/>
                </a:lnTo>
                <a:lnTo>
                  <a:pt x="1931" y="289"/>
                </a:lnTo>
                <a:lnTo>
                  <a:pt x="1916" y="280"/>
                </a:lnTo>
                <a:lnTo>
                  <a:pt x="1902" y="270"/>
                </a:lnTo>
                <a:lnTo>
                  <a:pt x="1893" y="257"/>
                </a:lnTo>
                <a:lnTo>
                  <a:pt x="1885" y="246"/>
                </a:lnTo>
                <a:lnTo>
                  <a:pt x="1878" y="233"/>
                </a:lnTo>
                <a:lnTo>
                  <a:pt x="1877" y="220"/>
                </a:lnTo>
                <a:lnTo>
                  <a:pt x="1878" y="210"/>
                </a:lnTo>
                <a:lnTo>
                  <a:pt x="1880" y="202"/>
                </a:lnTo>
                <a:lnTo>
                  <a:pt x="1885" y="192"/>
                </a:lnTo>
                <a:lnTo>
                  <a:pt x="1889" y="184"/>
                </a:lnTo>
                <a:lnTo>
                  <a:pt x="1897" y="175"/>
                </a:lnTo>
                <a:lnTo>
                  <a:pt x="1905" y="167"/>
                </a:lnTo>
                <a:lnTo>
                  <a:pt x="1915" y="160"/>
                </a:lnTo>
                <a:lnTo>
                  <a:pt x="1926" y="152"/>
                </a:lnTo>
                <a:lnTo>
                  <a:pt x="1937" y="145"/>
                </a:lnTo>
                <a:lnTo>
                  <a:pt x="1949" y="141"/>
                </a:lnTo>
                <a:lnTo>
                  <a:pt x="1964" y="136"/>
                </a:lnTo>
                <a:lnTo>
                  <a:pt x="1978" y="131"/>
                </a:lnTo>
                <a:lnTo>
                  <a:pt x="1992" y="128"/>
                </a:lnTo>
                <a:lnTo>
                  <a:pt x="2008" y="126"/>
                </a:lnTo>
                <a:lnTo>
                  <a:pt x="2025" y="124"/>
                </a:lnTo>
                <a:lnTo>
                  <a:pt x="2041" y="123"/>
                </a:lnTo>
                <a:lnTo>
                  <a:pt x="2058" y="124"/>
                </a:lnTo>
                <a:lnTo>
                  <a:pt x="2074" y="126"/>
                </a:lnTo>
                <a:lnTo>
                  <a:pt x="2092" y="128"/>
                </a:lnTo>
                <a:lnTo>
                  <a:pt x="2106" y="131"/>
                </a:lnTo>
                <a:lnTo>
                  <a:pt x="2122" y="136"/>
                </a:lnTo>
                <a:lnTo>
                  <a:pt x="2136" y="141"/>
                </a:lnTo>
                <a:lnTo>
                  <a:pt x="2148" y="145"/>
                </a:lnTo>
                <a:lnTo>
                  <a:pt x="2161" y="152"/>
                </a:lnTo>
                <a:lnTo>
                  <a:pt x="2172" y="160"/>
                </a:lnTo>
                <a:lnTo>
                  <a:pt x="2182" y="167"/>
                </a:lnTo>
                <a:lnTo>
                  <a:pt x="2189" y="175"/>
                </a:lnTo>
                <a:lnTo>
                  <a:pt x="2197" y="184"/>
                </a:lnTo>
                <a:lnTo>
                  <a:pt x="2202" y="192"/>
                </a:lnTo>
                <a:lnTo>
                  <a:pt x="2205" y="202"/>
                </a:lnTo>
                <a:lnTo>
                  <a:pt x="2207" y="210"/>
                </a:lnTo>
                <a:lnTo>
                  <a:pt x="2205" y="220"/>
                </a:lnTo>
                <a:lnTo>
                  <a:pt x="2204" y="231"/>
                </a:lnTo>
                <a:lnTo>
                  <a:pt x="2199" y="241"/>
                </a:lnTo>
                <a:lnTo>
                  <a:pt x="2193" y="251"/>
                </a:lnTo>
                <a:lnTo>
                  <a:pt x="2186" y="260"/>
                </a:lnTo>
                <a:lnTo>
                  <a:pt x="2177" y="268"/>
                </a:lnTo>
                <a:lnTo>
                  <a:pt x="2167" y="278"/>
                </a:lnTo>
                <a:lnTo>
                  <a:pt x="2156" y="286"/>
                </a:lnTo>
                <a:lnTo>
                  <a:pt x="2145" y="294"/>
                </a:lnTo>
                <a:lnTo>
                  <a:pt x="2155" y="304"/>
                </a:lnTo>
                <a:lnTo>
                  <a:pt x="2164" y="312"/>
                </a:lnTo>
                <a:lnTo>
                  <a:pt x="2175" y="320"/>
                </a:lnTo>
                <a:lnTo>
                  <a:pt x="2185" y="328"/>
                </a:lnTo>
                <a:lnTo>
                  <a:pt x="2197" y="335"/>
                </a:lnTo>
                <a:lnTo>
                  <a:pt x="2208" y="341"/>
                </a:lnTo>
                <a:lnTo>
                  <a:pt x="2221" y="348"/>
                </a:lnTo>
                <a:lnTo>
                  <a:pt x="2234" y="353"/>
                </a:lnTo>
                <a:lnTo>
                  <a:pt x="2246" y="357"/>
                </a:lnTo>
                <a:lnTo>
                  <a:pt x="2260" y="362"/>
                </a:lnTo>
                <a:lnTo>
                  <a:pt x="2275" y="365"/>
                </a:lnTo>
                <a:lnTo>
                  <a:pt x="2289" y="369"/>
                </a:lnTo>
                <a:lnTo>
                  <a:pt x="2301" y="370"/>
                </a:lnTo>
                <a:lnTo>
                  <a:pt x="2317" y="372"/>
                </a:lnTo>
                <a:lnTo>
                  <a:pt x="2331" y="374"/>
                </a:lnTo>
                <a:lnTo>
                  <a:pt x="2347" y="374"/>
                </a:lnTo>
                <a:lnTo>
                  <a:pt x="2361" y="374"/>
                </a:lnTo>
                <a:lnTo>
                  <a:pt x="2376" y="372"/>
                </a:lnTo>
                <a:lnTo>
                  <a:pt x="2388" y="372"/>
                </a:lnTo>
                <a:lnTo>
                  <a:pt x="2402" y="369"/>
                </a:lnTo>
                <a:lnTo>
                  <a:pt x="2415" y="367"/>
                </a:lnTo>
                <a:lnTo>
                  <a:pt x="2429" y="364"/>
                </a:lnTo>
                <a:lnTo>
                  <a:pt x="2442" y="359"/>
                </a:lnTo>
                <a:lnTo>
                  <a:pt x="2455" y="356"/>
                </a:lnTo>
                <a:lnTo>
                  <a:pt x="2466" y="351"/>
                </a:lnTo>
                <a:lnTo>
                  <a:pt x="2478" y="346"/>
                </a:lnTo>
                <a:lnTo>
                  <a:pt x="2489" y="340"/>
                </a:lnTo>
                <a:lnTo>
                  <a:pt x="2500" y="335"/>
                </a:lnTo>
                <a:lnTo>
                  <a:pt x="2510" y="328"/>
                </a:lnTo>
                <a:lnTo>
                  <a:pt x="2521" y="322"/>
                </a:lnTo>
                <a:lnTo>
                  <a:pt x="2530" y="314"/>
                </a:lnTo>
                <a:lnTo>
                  <a:pt x="2540" y="307"/>
                </a:lnTo>
                <a:lnTo>
                  <a:pt x="2535" y="298"/>
                </a:lnTo>
                <a:lnTo>
                  <a:pt x="2530" y="286"/>
                </a:lnTo>
                <a:lnTo>
                  <a:pt x="2526" y="276"/>
                </a:lnTo>
                <a:lnTo>
                  <a:pt x="2522" y="265"/>
                </a:lnTo>
                <a:lnTo>
                  <a:pt x="2521" y="252"/>
                </a:lnTo>
                <a:lnTo>
                  <a:pt x="2518" y="241"/>
                </a:lnTo>
                <a:lnTo>
                  <a:pt x="2518" y="230"/>
                </a:lnTo>
                <a:lnTo>
                  <a:pt x="2516" y="218"/>
                </a:lnTo>
                <a:lnTo>
                  <a:pt x="2518" y="200"/>
                </a:lnTo>
                <a:lnTo>
                  <a:pt x="2521" y="184"/>
                </a:lnTo>
                <a:lnTo>
                  <a:pt x="2524" y="168"/>
                </a:lnTo>
                <a:lnTo>
                  <a:pt x="2530" y="154"/>
                </a:lnTo>
                <a:lnTo>
                  <a:pt x="2538" y="141"/>
                </a:lnTo>
                <a:lnTo>
                  <a:pt x="2548" y="129"/>
                </a:lnTo>
                <a:lnTo>
                  <a:pt x="2557" y="118"/>
                </a:lnTo>
                <a:lnTo>
                  <a:pt x="2568" y="108"/>
                </a:lnTo>
                <a:lnTo>
                  <a:pt x="2581" y="100"/>
                </a:lnTo>
                <a:lnTo>
                  <a:pt x="2593" y="95"/>
                </a:lnTo>
                <a:lnTo>
                  <a:pt x="2608" y="90"/>
                </a:lnTo>
                <a:lnTo>
                  <a:pt x="2623" y="87"/>
                </a:lnTo>
                <a:lnTo>
                  <a:pt x="2638" y="87"/>
                </a:lnTo>
                <a:lnTo>
                  <a:pt x="2655" y="87"/>
                </a:lnTo>
                <a:lnTo>
                  <a:pt x="2671" y="90"/>
                </a:lnTo>
                <a:lnTo>
                  <a:pt x="2687" y="97"/>
                </a:lnTo>
                <a:lnTo>
                  <a:pt x="2699" y="102"/>
                </a:lnTo>
                <a:lnTo>
                  <a:pt x="2710" y="107"/>
                </a:lnTo>
                <a:lnTo>
                  <a:pt x="2721" y="115"/>
                </a:lnTo>
                <a:lnTo>
                  <a:pt x="2729" y="121"/>
                </a:lnTo>
                <a:lnTo>
                  <a:pt x="2739" y="131"/>
                </a:lnTo>
                <a:lnTo>
                  <a:pt x="2745" y="139"/>
                </a:lnTo>
                <a:lnTo>
                  <a:pt x="2751" y="149"/>
                </a:lnTo>
                <a:lnTo>
                  <a:pt x="2756" y="160"/>
                </a:lnTo>
                <a:lnTo>
                  <a:pt x="2759" y="170"/>
                </a:lnTo>
                <a:lnTo>
                  <a:pt x="2761" y="181"/>
                </a:lnTo>
                <a:lnTo>
                  <a:pt x="2761" y="192"/>
                </a:lnTo>
                <a:lnTo>
                  <a:pt x="2761" y="204"/>
                </a:lnTo>
                <a:lnTo>
                  <a:pt x="2758" y="215"/>
                </a:lnTo>
                <a:lnTo>
                  <a:pt x="2753" y="226"/>
                </a:lnTo>
                <a:lnTo>
                  <a:pt x="2747" y="238"/>
                </a:lnTo>
                <a:lnTo>
                  <a:pt x="2737" y="249"/>
                </a:lnTo>
                <a:lnTo>
                  <a:pt x="2729" y="257"/>
                </a:lnTo>
                <a:lnTo>
                  <a:pt x="2721" y="264"/>
                </a:lnTo>
                <a:lnTo>
                  <a:pt x="2713" y="268"/>
                </a:lnTo>
                <a:lnTo>
                  <a:pt x="2704" y="273"/>
                </a:lnTo>
                <a:lnTo>
                  <a:pt x="2695" y="276"/>
                </a:lnTo>
                <a:lnTo>
                  <a:pt x="2685" y="278"/>
                </a:lnTo>
                <a:lnTo>
                  <a:pt x="2676" y="280"/>
                </a:lnTo>
                <a:lnTo>
                  <a:pt x="2666" y="278"/>
                </a:lnTo>
                <a:lnTo>
                  <a:pt x="2657" y="278"/>
                </a:lnTo>
                <a:lnTo>
                  <a:pt x="2647" y="275"/>
                </a:lnTo>
                <a:lnTo>
                  <a:pt x="2639" y="272"/>
                </a:lnTo>
                <a:lnTo>
                  <a:pt x="2630" y="267"/>
                </a:lnTo>
                <a:lnTo>
                  <a:pt x="2623" y="260"/>
                </a:lnTo>
                <a:lnTo>
                  <a:pt x="2616" y="254"/>
                </a:lnTo>
                <a:lnTo>
                  <a:pt x="2609" y="244"/>
                </a:lnTo>
                <a:lnTo>
                  <a:pt x="2605" y="234"/>
                </a:lnTo>
                <a:lnTo>
                  <a:pt x="2601" y="225"/>
                </a:lnTo>
                <a:lnTo>
                  <a:pt x="2600" y="215"/>
                </a:lnTo>
                <a:lnTo>
                  <a:pt x="2598" y="207"/>
                </a:lnTo>
                <a:lnTo>
                  <a:pt x="2598" y="197"/>
                </a:lnTo>
                <a:lnTo>
                  <a:pt x="2600" y="189"/>
                </a:lnTo>
                <a:lnTo>
                  <a:pt x="2601" y="181"/>
                </a:lnTo>
                <a:lnTo>
                  <a:pt x="2605" y="175"/>
                </a:lnTo>
                <a:lnTo>
                  <a:pt x="2608" y="170"/>
                </a:lnTo>
                <a:lnTo>
                  <a:pt x="2614" y="162"/>
                </a:lnTo>
                <a:lnTo>
                  <a:pt x="2620" y="160"/>
                </a:lnTo>
                <a:lnTo>
                  <a:pt x="2625" y="162"/>
                </a:lnTo>
                <a:lnTo>
                  <a:pt x="2630" y="167"/>
                </a:lnTo>
                <a:lnTo>
                  <a:pt x="2630" y="171"/>
                </a:lnTo>
                <a:lnTo>
                  <a:pt x="2630" y="178"/>
                </a:lnTo>
                <a:lnTo>
                  <a:pt x="2625" y="181"/>
                </a:lnTo>
                <a:lnTo>
                  <a:pt x="2617" y="179"/>
                </a:lnTo>
                <a:lnTo>
                  <a:pt x="2614" y="184"/>
                </a:lnTo>
                <a:lnTo>
                  <a:pt x="2612" y="189"/>
                </a:lnTo>
                <a:lnTo>
                  <a:pt x="2611" y="207"/>
                </a:lnTo>
                <a:lnTo>
                  <a:pt x="2612" y="223"/>
                </a:lnTo>
                <a:lnTo>
                  <a:pt x="2617" y="238"/>
                </a:lnTo>
                <a:lnTo>
                  <a:pt x="2625" y="249"/>
                </a:lnTo>
                <a:lnTo>
                  <a:pt x="2636" y="259"/>
                </a:lnTo>
                <a:lnTo>
                  <a:pt x="2649" y="265"/>
                </a:lnTo>
                <a:lnTo>
                  <a:pt x="2665" y="268"/>
                </a:lnTo>
                <a:lnTo>
                  <a:pt x="2682" y="268"/>
                </a:lnTo>
                <a:lnTo>
                  <a:pt x="2695" y="265"/>
                </a:lnTo>
                <a:lnTo>
                  <a:pt x="2704" y="260"/>
                </a:lnTo>
                <a:lnTo>
                  <a:pt x="2713" y="255"/>
                </a:lnTo>
                <a:lnTo>
                  <a:pt x="2723" y="249"/>
                </a:lnTo>
                <a:lnTo>
                  <a:pt x="2731" y="241"/>
                </a:lnTo>
                <a:lnTo>
                  <a:pt x="2737" y="233"/>
                </a:lnTo>
                <a:lnTo>
                  <a:pt x="2742" y="225"/>
                </a:lnTo>
                <a:lnTo>
                  <a:pt x="2747" y="215"/>
                </a:lnTo>
                <a:lnTo>
                  <a:pt x="2750" y="205"/>
                </a:lnTo>
                <a:lnTo>
                  <a:pt x="2751" y="194"/>
                </a:lnTo>
                <a:lnTo>
                  <a:pt x="2751" y="184"/>
                </a:lnTo>
                <a:lnTo>
                  <a:pt x="2750" y="173"/>
                </a:lnTo>
                <a:lnTo>
                  <a:pt x="2747" y="163"/>
                </a:lnTo>
                <a:lnTo>
                  <a:pt x="2742" y="152"/>
                </a:lnTo>
                <a:lnTo>
                  <a:pt x="2737" y="142"/>
                </a:lnTo>
                <a:lnTo>
                  <a:pt x="2729" y="133"/>
                </a:lnTo>
                <a:lnTo>
                  <a:pt x="2715" y="121"/>
                </a:lnTo>
                <a:lnTo>
                  <a:pt x="2699" y="112"/>
                </a:lnTo>
                <a:lnTo>
                  <a:pt x="2683" y="105"/>
                </a:lnTo>
                <a:lnTo>
                  <a:pt x="2668" y="100"/>
                </a:lnTo>
                <a:lnTo>
                  <a:pt x="2652" y="97"/>
                </a:lnTo>
                <a:lnTo>
                  <a:pt x="2636" y="97"/>
                </a:lnTo>
                <a:lnTo>
                  <a:pt x="2620" y="99"/>
                </a:lnTo>
                <a:lnTo>
                  <a:pt x="2606" y="102"/>
                </a:lnTo>
                <a:lnTo>
                  <a:pt x="2592" y="107"/>
                </a:lnTo>
                <a:lnTo>
                  <a:pt x="2578" y="115"/>
                </a:lnTo>
                <a:lnTo>
                  <a:pt x="2565" y="123"/>
                </a:lnTo>
                <a:lnTo>
                  <a:pt x="2554" y="134"/>
                </a:lnTo>
                <a:lnTo>
                  <a:pt x="2545" y="149"/>
                </a:lnTo>
                <a:lnTo>
                  <a:pt x="2537" y="163"/>
                </a:lnTo>
                <a:lnTo>
                  <a:pt x="2530" y="181"/>
                </a:lnTo>
                <a:lnTo>
                  <a:pt x="2527" y="199"/>
                </a:lnTo>
                <a:lnTo>
                  <a:pt x="2526" y="210"/>
                </a:lnTo>
                <a:lnTo>
                  <a:pt x="2527" y="223"/>
                </a:lnTo>
                <a:lnTo>
                  <a:pt x="2527" y="236"/>
                </a:lnTo>
                <a:lnTo>
                  <a:pt x="2530" y="251"/>
                </a:lnTo>
                <a:lnTo>
                  <a:pt x="2534" y="265"/>
                </a:lnTo>
                <a:lnTo>
                  <a:pt x="2537" y="278"/>
                </a:lnTo>
                <a:lnTo>
                  <a:pt x="2541" y="291"/>
                </a:lnTo>
                <a:lnTo>
                  <a:pt x="2548" y="299"/>
                </a:lnTo>
                <a:lnTo>
                  <a:pt x="2548" y="299"/>
                </a:lnTo>
                <a:lnTo>
                  <a:pt x="2548" y="299"/>
                </a:lnTo>
                <a:lnTo>
                  <a:pt x="2548" y="299"/>
                </a:lnTo>
                <a:lnTo>
                  <a:pt x="2548" y="299"/>
                </a:lnTo>
                <a:lnTo>
                  <a:pt x="2556" y="307"/>
                </a:lnTo>
                <a:lnTo>
                  <a:pt x="2564" y="315"/>
                </a:lnTo>
                <a:lnTo>
                  <a:pt x="2571" y="323"/>
                </a:lnTo>
                <a:lnTo>
                  <a:pt x="2579" y="331"/>
                </a:lnTo>
                <a:lnTo>
                  <a:pt x="2589" y="338"/>
                </a:lnTo>
                <a:lnTo>
                  <a:pt x="2598" y="344"/>
                </a:lnTo>
                <a:lnTo>
                  <a:pt x="2608" y="351"/>
                </a:lnTo>
                <a:lnTo>
                  <a:pt x="2617" y="357"/>
                </a:lnTo>
                <a:lnTo>
                  <a:pt x="2628" y="362"/>
                </a:lnTo>
                <a:lnTo>
                  <a:pt x="2639" y="367"/>
                </a:lnTo>
                <a:lnTo>
                  <a:pt x="2649" y="370"/>
                </a:lnTo>
                <a:lnTo>
                  <a:pt x="2660" y="374"/>
                </a:lnTo>
                <a:lnTo>
                  <a:pt x="2672" y="377"/>
                </a:lnTo>
                <a:lnTo>
                  <a:pt x="2683" y="378"/>
                </a:lnTo>
                <a:lnTo>
                  <a:pt x="2695" y="380"/>
                </a:lnTo>
                <a:lnTo>
                  <a:pt x="2707" y="380"/>
                </a:lnTo>
                <a:lnTo>
                  <a:pt x="2728" y="377"/>
                </a:lnTo>
                <a:lnTo>
                  <a:pt x="2747" y="374"/>
                </a:lnTo>
                <a:lnTo>
                  <a:pt x="2766" y="367"/>
                </a:lnTo>
                <a:lnTo>
                  <a:pt x="2781" y="359"/>
                </a:lnTo>
                <a:lnTo>
                  <a:pt x="2796" y="349"/>
                </a:lnTo>
                <a:lnTo>
                  <a:pt x="2808" y="338"/>
                </a:lnTo>
                <a:lnTo>
                  <a:pt x="2819" y="327"/>
                </a:lnTo>
                <a:lnTo>
                  <a:pt x="2830" y="314"/>
                </a:lnTo>
                <a:lnTo>
                  <a:pt x="2840" y="301"/>
                </a:lnTo>
                <a:lnTo>
                  <a:pt x="2848" y="286"/>
                </a:lnTo>
                <a:lnTo>
                  <a:pt x="2854" y="272"/>
                </a:lnTo>
                <a:lnTo>
                  <a:pt x="2860" y="259"/>
                </a:lnTo>
                <a:lnTo>
                  <a:pt x="2867" y="244"/>
                </a:lnTo>
                <a:lnTo>
                  <a:pt x="2871" y="230"/>
                </a:lnTo>
                <a:lnTo>
                  <a:pt x="2876" y="217"/>
                </a:lnTo>
                <a:lnTo>
                  <a:pt x="2879" y="204"/>
                </a:lnTo>
                <a:lnTo>
                  <a:pt x="2884" y="217"/>
                </a:lnTo>
                <a:lnTo>
                  <a:pt x="2887" y="230"/>
                </a:lnTo>
                <a:lnTo>
                  <a:pt x="2890" y="244"/>
                </a:lnTo>
                <a:lnTo>
                  <a:pt x="2895" y="259"/>
                </a:lnTo>
                <a:lnTo>
                  <a:pt x="2900" y="272"/>
                </a:lnTo>
                <a:lnTo>
                  <a:pt x="2906" y="286"/>
                </a:lnTo>
                <a:lnTo>
                  <a:pt x="2914" y="301"/>
                </a:lnTo>
                <a:lnTo>
                  <a:pt x="2922" y="314"/>
                </a:lnTo>
                <a:lnTo>
                  <a:pt x="2931" y="327"/>
                </a:lnTo>
                <a:lnTo>
                  <a:pt x="2942" y="338"/>
                </a:lnTo>
                <a:lnTo>
                  <a:pt x="2955" y="349"/>
                </a:lnTo>
                <a:lnTo>
                  <a:pt x="2971" y="359"/>
                </a:lnTo>
                <a:lnTo>
                  <a:pt x="2988" y="367"/>
                </a:lnTo>
                <a:lnTo>
                  <a:pt x="3007" y="374"/>
                </a:lnTo>
                <a:lnTo>
                  <a:pt x="3028" y="378"/>
                </a:lnTo>
                <a:lnTo>
                  <a:pt x="3053" y="380"/>
                </a:lnTo>
                <a:lnTo>
                  <a:pt x="3064" y="380"/>
                </a:lnTo>
                <a:lnTo>
                  <a:pt x="3077" y="378"/>
                </a:lnTo>
                <a:lnTo>
                  <a:pt x="3088" y="377"/>
                </a:lnTo>
                <a:lnTo>
                  <a:pt x="3099" y="375"/>
                </a:lnTo>
                <a:lnTo>
                  <a:pt x="3110" y="372"/>
                </a:lnTo>
                <a:lnTo>
                  <a:pt x="3121" y="367"/>
                </a:lnTo>
                <a:lnTo>
                  <a:pt x="3130" y="362"/>
                </a:lnTo>
                <a:lnTo>
                  <a:pt x="3141" y="357"/>
                </a:lnTo>
                <a:lnTo>
                  <a:pt x="3151" y="351"/>
                </a:lnTo>
                <a:lnTo>
                  <a:pt x="3160" y="346"/>
                </a:lnTo>
                <a:lnTo>
                  <a:pt x="3170" y="338"/>
                </a:lnTo>
                <a:lnTo>
                  <a:pt x="3179" y="331"/>
                </a:lnTo>
                <a:lnTo>
                  <a:pt x="3187" y="323"/>
                </a:lnTo>
                <a:lnTo>
                  <a:pt x="3195" y="315"/>
                </a:lnTo>
                <a:lnTo>
                  <a:pt x="3203" y="307"/>
                </a:lnTo>
                <a:lnTo>
                  <a:pt x="3211" y="299"/>
                </a:lnTo>
                <a:lnTo>
                  <a:pt x="3211" y="299"/>
                </a:lnTo>
                <a:lnTo>
                  <a:pt x="3211" y="299"/>
                </a:lnTo>
                <a:lnTo>
                  <a:pt x="3211" y="299"/>
                </a:lnTo>
                <a:lnTo>
                  <a:pt x="3212" y="299"/>
                </a:lnTo>
                <a:lnTo>
                  <a:pt x="3217" y="291"/>
                </a:lnTo>
                <a:lnTo>
                  <a:pt x="3222" y="280"/>
                </a:lnTo>
                <a:lnTo>
                  <a:pt x="3226" y="265"/>
                </a:lnTo>
                <a:lnTo>
                  <a:pt x="3230" y="252"/>
                </a:lnTo>
                <a:lnTo>
                  <a:pt x="3231" y="238"/>
                </a:lnTo>
                <a:lnTo>
                  <a:pt x="3231" y="223"/>
                </a:lnTo>
                <a:lnTo>
                  <a:pt x="3233" y="210"/>
                </a:lnTo>
                <a:lnTo>
                  <a:pt x="3231" y="199"/>
                </a:lnTo>
                <a:lnTo>
                  <a:pt x="3228" y="181"/>
                </a:lnTo>
                <a:lnTo>
                  <a:pt x="3222" y="163"/>
                </a:lnTo>
                <a:lnTo>
                  <a:pt x="3214" y="149"/>
                </a:lnTo>
                <a:lnTo>
                  <a:pt x="3204" y="134"/>
                </a:lnTo>
                <a:lnTo>
                  <a:pt x="3193" y="123"/>
                </a:lnTo>
                <a:lnTo>
                  <a:pt x="3181" y="115"/>
                </a:lnTo>
                <a:lnTo>
                  <a:pt x="3167" y="107"/>
                </a:lnTo>
                <a:lnTo>
                  <a:pt x="3152" y="102"/>
                </a:lnTo>
                <a:lnTo>
                  <a:pt x="3138" y="99"/>
                </a:lnTo>
                <a:lnTo>
                  <a:pt x="3122" y="97"/>
                </a:lnTo>
                <a:lnTo>
                  <a:pt x="3107" y="97"/>
                </a:lnTo>
                <a:lnTo>
                  <a:pt x="3091" y="100"/>
                </a:lnTo>
                <a:lnTo>
                  <a:pt x="3075" y="105"/>
                </a:lnTo>
                <a:lnTo>
                  <a:pt x="3059" y="112"/>
                </a:lnTo>
                <a:lnTo>
                  <a:pt x="3043" y="121"/>
                </a:lnTo>
                <a:lnTo>
                  <a:pt x="3029" y="133"/>
                </a:lnTo>
                <a:lnTo>
                  <a:pt x="3021" y="142"/>
                </a:lnTo>
                <a:lnTo>
                  <a:pt x="3017" y="152"/>
                </a:lnTo>
                <a:lnTo>
                  <a:pt x="3012" y="163"/>
                </a:lnTo>
                <a:lnTo>
                  <a:pt x="3009" y="173"/>
                </a:lnTo>
                <a:lnTo>
                  <a:pt x="3007" y="184"/>
                </a:lnTo>
                <a:lnTo>
                  <a:pt x="3007" y="194"/>
                </a:lnTo>
                <a:lnTo>
                  <a:pt x="3009" y="205"/>
                </a:lnTo>
                <a:lnTo>
                  <a:pt x="3012" y="215"/>
                </a:lnTo>
                <a:lnTo>
                  <a:pt x="3017" y="225"/>
                </a:lnTo>
                <a:lnTo>
                  <a:pt x="3021" y="233"/>
                </a:lnTo>
                <a:lnTo>
                  <a:pt x="3028" y="241"/>
                </a:lnTo>
                <a:lnTo>
                  <a:pt x="3035" y="249"/>
                </a:lnTo>
                <a:lnTo>
                  <a:pt x="3045" y="255"/>
                </a:lnTo>
                <a:lnTo>
                  <a:pt x="3054" y="260"/>
                </a:lnTo>
                <a:lnTo>
                  <a:pt x="3064" y="265"/>
                </a:lnTo>
                <a:lnTo>
                  <a:pt x="3077" y="268"/>
                </a:lnTo>
                <a:lnTo>
                  <a:pt x="3094" y="268"/>
                </a:lnTo>
                <a:lnTo>
                  <a:pt x="3110" y="265"/>
                </a:lnTo>
                <a:lnTo>
                  <a:pt x="3122" y="259"/>
                </a:lnTo>
                <a:lnTo>
                  <a:pt x="3133" y="249"/>
                </a:lnTo>
                <a:lnTo>
                  <a:pt x="3141" y="238"/>
                </a:lnTo>
                <a:lnTo>
                  <a:pt x="3146" y="223"/>
                </a:lnTo>
                <a:lnTo>
                  <a:pt x="3148" y="207"/>
                </a:lnTo>
                <a:lnTo>
                  <a:pt x="3146" y="189"/>
                </a:lnTo>
                <a:lnTo>
                  <a:pt x="3144" y="184"/>
                </a:lnTo>
                <a:lnTo>
                  <a:pt x="3141" y="179"/>
                </a:lnTo>
                <a:lnTo>
                  <a:pt x="3133" y="181"/>
                </a:lnTo>
                <a:lnTo>
                  <a:pt x="3129" y="178"/>
                </a:lnTo>
                <a:lnTo>
                  <a:pt x="3129" y="171"/>
                </a:lnTo>
                <a:lnTo>
                  <a:pt x="3130" y="167"/>
                </a:lnTo>
                <a:lnTo>
                  <a:pt x="3133" y="162"/>
                </a:lnTo>
                <a:lnTo>
                  <a:pt x="3138" y="160"/>
                </a:lnTo>
                <a:lnTo>
                  <a:pt x="3144" y="162"/>
                </a:lnTo>
                <a:lnTo>
                  <a:pt x="3151" y="170"/>
                </a:lnTo>
                <a:lnTo>
                  <a:pt x="3154" y="175"/>
                </a:lnTo>
                <a:lnTo>
                  <a:pt x="3157" y="181"/>
                </a:lnTo>
                <a:lnTo>
                  <a:pt x="3159" y="189"/>
                </a:lnTo>
                <a:lnTo>
                  <a:pt x="3160" y="197"/>
                </a:lnTo>
                <a:lnTo>
                  <a:pt x="3160" y="207"/>
                </a:lnTo>
                <a:lnTo>
                  <a:pt x="3159" y="215"/>
                </a:lnTo>
                <a:lnTo>
                  <a:pt x="3157" y="225"/>
                </a:lnTo>
                <a:lnTo>
                  <a:pt x="3154" y="234"/>
                </a:lnTo>
                <a:lnTo>
                  <a:pt x="3149" y="244"/>
                </a:lnTo>
                <a:lnTo>
                  <a:pt x="3143" y="254"/>
                </a:lnTo>
                <a:lnTo>
                  <a:pt x="3135" y="260"/>
                </a:lnTo>
                <a:lnTo>
                  <a:pt x="3129" y="267"/>
                </a:lnTo>
                <a:lnTo>
                  <a:pt x="3119" y="272"/>
                </a:lnTo>
                <a:lnTo>
                  <a:pt x="3111" y="275"/>
                </a:lnTo>
                <a:lnTo>
                  <a:pt x="3102" y="278"/>
                </a:lnTo>
                <a:lnTo>
                  <a:pt x="3092" y="278"/>
                </a:lnTo>
                <a:lnTo>
                  <a:pt x="3083" y="280"/>
                </a:lnTo>
                <a:lnTo>
                  <a:pt x="3073" y="278"/>
                </a:lnTo>
                <a:lnTo>
                  <a:pt x="3064" y="276"/>
                </a:lnTo>
                <a:lnTo>
                  <a:pt x="3054" y="273"/>
                </a:lnTo>
                <a:lnTo>
                  <a:pt x="3045" y="268"/>
                </a:lnTo>
                <a:lnTo>
                  <a:pt x="3037" y="264"/>
                </a:lnTo>
                <a:lnTo>
                  <a:pt x="3029" y="257"/>
                </a:lnTo>
                <a:lnTo>
                  <a:pt x="3021" y="249"/>
                </a:lnTo>
                <a:lnTo>
                  <a:pt x="3012" y="238"/>
                </a:lnTo>
                <a:lnTo>
                  <a:pt x="3005" y="226"/>
                </a:lnTo>
                <a:lnTo>
                  <a:pt x="3001" y="215"/>
                </a:lnTo>
                <a:lnTo>
                  <a:pt x="2998" y="204"/>
                </a:lnTo>
                <a:lnTo>
                  <a:pt x="2998" y="192"/>
                </a:lnTo>
                <a:lnTo>
                  <a:pt x="2998" y="181"/>
                </a:lnTo>
                <a:lnTo>
                  <a:pt x="2999" y="170"/>
                </a:lnTo>
                <a:lnTo>
                  <a:pt x="3002" y="160"/>
                </a:lnTo>
                <a:lnTo>
                  <a:pt x="3007" y="149"/>
                </a:lnTo>
                <a:lnTo>
                  <a:pt x="3013" y="139"/>
                </a:lnTo>
                <a:lnTo>
                  <a:pt x="3020" y="131"/>
                </a:lnTo>
                <a:lnTo>
                  <a:pt x="3029" y="121"/>
                </a:lnTo>
                <a:lnTo>
                  <a:pt x="3037" y="115"/>
                </a:lnTo>
                <a:lnTo>
                  <a:pt x="3048" y="107"/>
                </a:lnTo>
                <a:lnTo>
                  <a:pt x="3059" y="102"/>
                </a:lnTo>
                <a:lnTo>
                  <a:pt x="3072" y="97"/>
                </a:lnTo>
                <a:lnTo>
                  <a:pt x="3088" y="90"/>
                </a:lnTo>
                <a:lnTo>
                  <a:pt x="3103" y="87"/>
                </a:lnTo>
                <a:lnTo>
                  <a:pt x="3121" y="87"/>
                </a:lnTo>
                <a:lnTo>
                  <a:pt x="3135" y="87"/>
                </a:lnTo>
                <a:lnTo>
                  <a:pt x="3151" y="90"/>
                </a:lnTo>
                <a:lnTo>
                  <a:pt x="3165" y="95"/>
                </a:lnTo>
                <a:lnTo>
                  <a:pt x="3178" y="100"/>
                </a:lnTo>
                <a:lnTo>
                  <a:pt x="3190" y="108"/>
                </a:lnTo>
                <a:lnTo>
                  <a:pt x="3201" y="118"/>
                </a:lnTo>
                <a:lnTo>
                  <a:pt x="3211" y="129"/>
                </a:lnTo>
                <a:lnTo>
                  <a:pt x="3220" y="141"/>
                </a:lnTo>
                <a:lnTo>
                  <a:pt x="3228" y="154"/>
                </a:lnTo>
                <a:lnTo>
                  <a:pt x="3234" y="168"/>
                </a:lnTo>
                <a:lnTo>
                  <a:pt x="3238" y="184"/>
                </a:lnTo>
                <a:lnTo>
                  <a:pt x="3241" y="200"/>
                </a:lnTo>
                <a:lnTo>
                  <a:pt x="3242" y="218"/>
                </a:lnTo>
                <a:lnTo>
                  <a:pt x="3241" y="230"/>
                </a:lnTo>
                <a:lnTo>
                  <a:pt x="3241" y="241"/>
                </a:lnTo>
                <a:lnTo>
                  <a:pt x="3238" y="252"/>
                </a:lnTo>
                <a:lnTo>
                  <a:pt x="3236" y="265"/>
                </a:lnTo>
                <a:lnTo>
                  <a:pt x="3233" y="276"/>
                </a:lnTo>
                <a:lnTo>
                  <a:pt x="3228" y="286"/>
                </a:lnTo>
                <a:lnTo>
                  <a:pt x="3225" y="298"/>
                </a:lnTo>
                <a:lnTo>
                  <a:pt x="3220" y="307"/>
                </a:lnTo>
                <a:lnTo>
                  <a:pt x="3228" y="314"/>
                </a:lnTo>
                <a:lnTo>
                  <a:pt x="3238" y="322"/>
                </a:lnTo>
                <a:lnTo>
                  <a:pt x="3249" y="328"/>
                </a:lnTo>
                <a:lnTo>
                  <a:pt x="3258" y="335"/>
                </a:lnTo>
                <a:lnTo>
                  <a:pt x="3269" y="341"/>
                </a:lnTo>
                <a:lnTo>
                  <a:pt x="3282" y="346"/>
                </a:lnTo>
                <a:lnTo>
                  <a:pt x="3293" y="351"/>
                </a:lnTo>
                <a:lnTo>
                  <a:pt x="3305" y="356"/>
                </a:lnTo>
                <a:lnTo>
                  <a:pt x="3318" y="361"/>
                </a:lnTo>
                <a:lnTo>
                  <a:pt x="3331" y="364"/>
                </a:lnTo>
                <a:lnTo>
                  <a:pt x="3343" y="367"/>
                </a:lnTo>
                <a:lnTo>
                  <a:pt x="3356" y="369"/>
                </a:lnTo>
                <a:lnTo>
                  <a:pt x="3370" y="372"/>
                </a:lnTo>
                <a:lnTo>
                  <a:pt x="3384" y="374"/>
                </a:lnTo>
                <a:lnTo>
                  <a:pt x="3399" y="374"/>
                </a:lnTo>
                <a:lnTo>
                  <a:pt x="3413" y="374"/>
                </a:lnTo>
                <a:lnTo>
                  <a:pt x="3427" y="374"/>
                </a:lnTo>
                <a:lnTo>
                  <a:pt x="3443" y="372"/>
                </a:lnTo>
                <a:lnTo>
                  <a:pt x="3455" y="370"/>
                </a:lnTo>
                <a:lnTo>
                  <a:pt x="3470" y="369"/>
                </a:lnTo>
                <a:lnTo>
                  <a:pt x="3484" y="365"/>
                </a:lnTo>
                <a:lnTo>
                  <a:pt x="3498" y="362"/>
                </a:lnTo>
                <a:lnTo>
                  <a:pt x="3512" y="357"/>
                </a:lnTo>
                <a:lnTo>
                  <a:pt x="3525" y="353"/>
                </a:lnTo>
                <a:lnTo>
                  <a:pt x="3537" y="348"/>
                </a:lnTo>
                <a:lnTo>
                  <a:pt x="3550" y="341"/>
                </a:lnTo>
                <a:lnTo>
                  <a:pt x="3561" y="335"/>
                </a:lnTo>
                <a:lnTo>
                  <a:pt x="3574" y="328"/>
                </a:lnTo>
                <a:lnTo>
                  <a:pt x="3585" y="320"/>
                </a:lnTo>
                <a:lnTo>
                  <a:pt x="3594" y="312"/>
                </a:lnTo>
                <a:lnTo>
                  <a:pt x="3605" y="304"/>
                </a:lnTo>
                <a:lnTo>
                  <a:pt x="3615" y="294"/>
                </a:lnTo>
                <a:lnTo>
                  <a:pt x="3602" y="286"/>
                </a:lnTo>
                <a:lnTo>
                  <a:pt x="3591" y="278"/>
                </a:lnTo>
                <a:lnTo>
                  <a:pt x="3582" y="270"/>
                </a:lnTo>
                <a:lnTo>
                  <a:pt x="3574" y="260"/>
                </a:lnTo>
                <a:lnTo>
                  <a:pt x="3566" y="251"/>
                </a:lnTo>
                <a:lnTo>
                  <a:pt x="3560" y="241"/>
                </a:lnTo>
                <a:lnTo>
                  <a:pt x="3556" y="231"/>
                </a:lnTo>
                <a:lnTo>
                  <a:pt x="3553" y="221"/>
                </a:lnTo>
                <a:lnTo>
                  <a:pt x="3552" y="212"/>
                </a:lnTo>
                <a:lnTo>
                  <a:pt x="3553" y="202"/>
                </a:lnTo>
                <a:lnTo>
                  <a:pt x="3556" y="192"/>
                </a:lnTo>
                <a:lnTo>
                  <a:pt x="3563" y="184"/>
                </a:lnTo>
                <a:lnTo>
                  <a:pt x="3569" y="176"/>
                </a:lnTo>
                <a:lnTo>
                  <a:pt x="3577" y="168"/>
                </a:lnTo>
                <a:lnTo>
                  <a:pt x="3586" y="160"/>
                </a:lnTo>
                <a:lnTo>
                  <a:pt x="3597" y="152"/>
                </a:lnTo>
                <a:lnTo>
                  <a:pt x="3610" y="147"/>
                </a:lnTo>
                <a:lnTo>
                  <a:pt x="3623" y="141"/>
                </a:lnTo>
                <a:lnTo>
                  <a:pt x="3637" y="136"/>
                </a:lnTo>
                <a:lnTo>
                  <a:pt x="3653" y="131"/>
                </a:lnTo>
                <a:lnTo>
                  <a:pt x="3668" y="128"/>
                </a:lnTo>
                <a:lnTo>
                  <a:pt x="3684" y="126"/>
                </a:lnTo>
                <a:lnTo>
                  <a:pt x="3700" y="124"/>
                </a:lnTo>
                <a:lnTo>
                  <a:pt x="3717" y="123"/>
                </a:lnTo>
                <a:lnTo>
                  <a:pt x="3733" y="124"/>
                </a:lnTo>
                <a:lnTo>
                  <a:pt x="3751" y="126"/>
                </a:lnTo>
                <a:lnTo>
                  <a:pt x="3766" y="128"/>
                </a:lnTo>
                <a:lnTo>
                  <a:pt x="3781" y="131"/>
                </a:lnTo>
                <a:lnTo>
                  <a:pt x="3795" y="136"/>
                </a:lnTo>
                <a:lnTo>
                  <a:pt x="3809" y="141"/>
                </a:lnTo>
                <a:lnTo>
                  <a:pt x="3822" y="147"/>
                </a:lnTo>
                <a:lnTo>
                  <a:pt x="3833" y="152"/>
                </a:lnTo>
                <a:lnTo>
                  <a:pt x="3844" y="160"/>
                </a:lnTo>
                <a:lnTo>
                  <a:pt x="3853" y="168"/>
                </a:lnTo>
                <a:lnTo>
                  <a:pt x="3861" y="176"/>
                </a:lnTo>
                <a:lnTo>
                  <a:pt x="3869" y="184"/>
                </a:lnTo>
                <a:lnTo>
                  <a:pt x="3874" y="192"/>
                </a:lnTo>
                <a:lnTo>
                  <a:pt x="3878" y="202"/>
                </a:lnTo>
                <a:lnTo>
                  <a:pt x="3880" y="212"/>
                </a:lnTo>
                <a:lnTo>
                  <a:pt x="3882" y="221"/>
                </a:lnTo>
                <a:lnTo>
                  <a:pt x="3880" y="234"/>
                </a:lnTo>
                <a:lnTo>
                  <a:pt x="3874" y="246"/>
                </a:lnTo>
                <a:lnTo>
                  <a:pt x="3866" y="259"/>
                </a:lnTo>
                <a:lnTo>
                  <a:pt x="3856" y="270"/>
                </a:lnTo>
                <a:lnTo>
                  <a:pt x="3842" y="280"/>
                </a:lnTo>
                <a:lnTo>
                  <a:pt x="3828" y="289"/>
                </a:lnTo>
                <a:lnTo>
                  <a:pt x="3811" y="299"/>
                </a:lnTo>
                <a:lnTo>
                  <a:pt x="3793" y="307"/>
                </a:lnTo>
                <a:lnTo>
                  <a:pt x="3799" y="315"/>
                </a:lnTo>
                <a:lnTo>
                  <a:pt x="3807" y="323"/>
                </a:lnTo>
                <a:lnTo>
                  <a:pt x="3818" y="331"/>
                </a:lnTo>
                <a:lnTo>
                  <a:pt x="3829" y="336"/>
                </a:lnTo>
                <a:lnTo>
                  <a:pt x="3841" y="341"/>
                </a:lnTo>
                <a:lnTo>
                  <a:pt x="3855" y="344"/>
                </a:lnTo>
                <a:lnTo>
                  <a:pt x="3869" y="348"/>
                </a:lnTo>
                <a:lnTo>
                  <a:pt x="3883" y="348"/>
                </a:lnTo>
                <a:lnTo>
                  <a:pt x="3901" y="348"/>
                </a:lnTo>
                <a:lnTo>
                  <a:pt x="3916" y="344"/>
                </a:lnTo>
                <a:lnTo>
                  <a:pt x="3931" y="340"/>
                </a:lnTo>
                <a:lnTo>
                  <a:pt x="3945" y="333"/>
                </a:lnTo>
                <a:lnTo>
                  <a:pt x="3956" y="325"/>
                </a:lnTo>
                <a:lnTo>
                  <a:pt x="3965" y="317"/>
                </a:lnTo>
                <a:lnTo>
                  <a:pt x="3973" y="309"/>
                </a:lnTo>
                <a:lnTo>
                  <a:pt x="3978" y="299"/>
                </a:lnTo>
                <a:lnTo>
                  <a:pt x="3984" y="307"/>
                </a:lnTo>
                <a:lnTo>
                  <a:pt x="3990" y="314"/>
                </a:lnTo>
                <a:lnTo>
                  <a:pt x="3998" y="322"/>
                </a:lnTo>
                <a:lnTo>
                  <a:pt x="4006" y="328"/>
                </a:lnTo>
                <a:lnTo>
                  <a:pt x="4014" y="335"/>
                </a:lnTo>
                <a:lnTo>
                  <a:pt x="4024" y="341"/>
                </a:lnTo>
                <a:lnTo>
                  <a:pt x="4033" y="346"/>
                </a:lnTo>
                <a:lnTo>
                  <a:pt x="4043" y="353"/>
                </a:lnTo>
                <a:lnTo>
                  <a:pt x="4052" y="356"/>
                </a:lnTo>
                <a:lnTo>
                  <a:pt x="4062" y="361"/>
                </a:lnTo>
                <a:lnTo>
                  <a:pt x="4073" y="364"/>
                </a:lnTo>
                <a:lnTo>
                  <a:pt x="4082" y="365"/>
                </a:lnTo>
                <a:lnTo>
                  <a:pt x="4093" y="367"/>
                </a:lnTo>
                <a:lnTo>
                  <a:pt x="4104" y="369"/>
                </a:lnTo>
                <a:lnTo>
                  <a:pt x="4114" y="369"/>
                </a:lnTo>
                <a:lnTo>
                  <a:pt x="4125" y="367"/>
                </a:lnTo>
                <a:lnTo>
                  <a:pt x="4134" y="365"/>
                </a:lnTo>
                <a:lnTo>
                  <a:pt x="4144" y="365"/>
                </a:lnTo>
                <a:lnTo>
                  <a:pt x="4153" y="364"/>
                </a:lnTo>
                <a:lnTo>
                  <a:pt x="4163" y="361"/>
                </a:lnTo>
                <a:lnTo>
                  <a:pt x="4172" y="359"/>
                </a:lnTo>
                <a:lnTo>
                  <a:pt x="4183" y="357"/>
                </a:lnTo>
                <a:lnTo>
                  <a:pt x="4191" y="354"/>
                </a:lnTo>
                <a:lnTo>
                  <a:pt x="4200" y="353"/>
                </a:lnTo>
                <a:lnTo>
                  <a:pt x="4202" y="351"/>
                </a:lnTo>
                <a:lnTo>
                  <a:pt x="4207" y="349"/>
                </a:lnTo>
                <a:lnTo>
                  <a:pt x="4216" y="346"/>
                </a:lnTo>
                <a:lnTo>
                  <a:pt x="4227" y="341"/>
                </a:lnTo>
                <a:lnTo>
                  <a:pt x="4241" y="335"/>
                </a:lnTo>
                <a:lnTo>
                  <a:pt x="4259" y="328"/>
                </a:lnTo>
                <a:lnTo>
                  <a:pt x="4278" y="320"/>
                </a:lnTo>
                <a:lnTo>
                  <a:pt x="4300" y="310"/>
                </a:lnTo>
                <a:lnTo>
                  <a:pt x="4324" y="301"/>
                </a:lnTo>
                <a:lnTo>
                  <a:pt x="4349" y="291"/>
                </a:lnTo>
                <a:lnTo>
                  <a:pt x="4377" y="280"/>
                </a:lnTo>
                <a:lnTo>
                  <a:pt x="4406" y="268"/>
                </a:lnTo>
                <a:lnTo>
                  <a:pt x="4437" y="257"/>
                </a:lnTo>
                <a:lnTo>
                  <a:pt x="4469" y="244"/>
                </a:lnTo>
                <a:lnTo>
                  <a:pt x="4500" y="231"/>
                </a:lnTo>
                <a:lnTo>
                  <a:pt x="4533" y="220"/>
                </a:lnTo>
                <a:lnTo>
                  <a:pt x="4568" y="207"/>
                </a:lnTo>
                <a:lnTo>
                  <a:pt x="4601" y="194"/>
                </a:lnTo>
                <a:lnTo>
                  <a:pt x="4636" y="183"/>
                </a:lnTo>
                <a:lnTo>
                  <a:pt x="4671" y="170"/>
                </a:lnTo>
                <a:lnTo>
                  <a:pt x="4706" y="158"/>
                </a:lnTo>
                <a:lnTo>
                  <a:pt x="4740" y="147"/>
                </a:lnTo>
                <a:lnTo>
                  <a:pt x="4773" y="137"/>
                </a:lnTo>
                <a:lnTo>
                  <a:pt x="4807" y="128"/>
                </a:lnTo>
                <a:lnTo>
                  <a:pt x="4838" y="118"/>
                </a:lnTo>
                <a:lnTo>
                  <a:pt x="4870" y="110"/>
                </a:lnTo>
                <a:lnTo>
                  <a:pt x="4900" y="103"/>
                </a:lnTo>
                <a:lnTo>
                  <a:pt x="4928" y="97"/>
                </a:lnTo>
                <a:lnTo>
                  <a:pt x="4955" y="92"/>
                </a:lnTo>
                <a:lnTo>
                  <a:pt x="4980" y="89"/>
                </a:lnTo>
                <a:lnTo>
                  <a:pt x="5004" y="86"/>
                </a:lnTo>
                <a:lnTo>
                  <a:pt x="5024" y="86"/>
                </a:lnTo>
                <a:lnTo>
                  <a:pt x="5045" y="86"/>
                </a:lnTo>
                <a:lnTo>
                  <a:pt x="5065" y="87"/>
                </a:lnTo>
                <a:lnTo>
                  <a:pt x="5084" y="90"/>
                </a:lnTo>
                <a:lnTo>
                  <a:pt x="5102" y="94"/>
                </a:lnTo>
                <a:lnTo>
                  <a:pt x="5119" y="99"/>
                </a:lnTo>
                <a:lnTo>
                  <a:pt x="5136" y="105"/>
                </a:lnTo>
                <a:lnTo>
                  <a:pt x="5151" y="112"/>
                </a:lnTo>
                <a:lnTo>
                  <a:pt x="5165" y="120"/>
                </a:lnTo>
                <a:lnTo>
                  <a:pt x="5178" y="128"/>
                </a:lnTo>
                <a:lnTo>
                  <a:pt x="5190" y="137"/>
                </a:lnTo>
                <a:lnTo>
                  <a:pt x="5200" y="147"/>
                </a:lnTo>
                <a:lnTo>
                  <a:pt x="5208" y="157"/>
                </a:lnTo>
                <a:lnTo>
                  <a:pt x="5214" y="168"/>
                </a:lnTo>
                <a:lnTo>
                  <a:pt x="5219" y="179"/>
                </a:lnTo>
                <a:lnTo>
                  <a:pt x="5222" y="191"/>
                </a:lnTo>
                <a:lnTo>
                  <a:pt x="5223" y="204"/>
                </a:lnTo>
                <a:lnTo>
                  <a:pt x="5222" y="215"/>
                </a:lnTo>
                <a:lnTo>
                  <a:pt x="5219" y="226"/>
                </a:lnTo>
                <a:lnTo>
                  <a:pt x="5214" y="238"/>
                </a:lnTo>
                <a:lnTo>
                  <a:pt x="5208" y="249"/>
                </a:lnTo>
                <a:lnTo>
                  <a:pt x="5198" y="259"/>
                </a:lnTo>
                <a:lnTo>
                  <a:pt x="5189" y="268"/>
                </a:lnTo>
                <a:lnTo>
                  <a:pt x="5178" y="276"/>
                </a:lnTo>
                <a:lnTo>
                  <a:pt x="5165" y="283"/>
                </a:lnTo>
                <a:lnTo>
                  <a:pt x="5178" y="288"/>
                </a:lnTo>
                <a:lnTo>
                  <a:pt x="5190" y="293"/>
                </a:lnTo>
                <a:lnTo>
                  <a:pt x="5204" y="296"/>
                </a:lnTo>
                <a:lnTo>
                  <a:pt x="5219" y="301"/>
                </a:lnTo>
                <a:lnTo>
                  <a:pt x="5233" y="304"/>
                </a:lnTo>
                <a:lnTo>
                  <a:pt x="5247" y="306"/>
                </a:lnTo>
                <a:lnTo>
                  <a:pt x="5263" y="307"/>
                </a:lnTo>
                <a:lnTo>
                  <a:pt x="5277" y="309"/>
                </a:lnTo>
                <a:lnTo>
                  <a:pt x="5288" y="309"/>
                </a:lnTo>
                <a:lnTo>
                  <a:pt x="5297" y="309"/>
                </a:lnTo>
                <a:lnTo>
                  <a:pt x="5307" y="307"/>
                </a:lnTo>
                <a:lnTo>
                  <a:pt x="5316" y="306"/>
                </a:lnTo>
                <a:lnTo>
                  <a:pt x="5326" y="304"/>
                </a:lnTo>
                <a:lnTo>
                  <a:pt x="5335" y="302"/>
                </a:lnTo>
                <a:lnTo>
                  <a:pt x="5345" y="301"/>
                </a:lnTo>
                <a:lnTo>
                  <a:pt x="5354" y="298"/>
                </a:lnTo>
                <a:lnTo>
                  <a:pt x="5364" y="294"/>
                </a:lnTo>
                <a:lnTo>
                  <a:pt x="5372" y="291"/>
                </a:lnTo>
                <a:lnTo>
                  <a:pt x="5380" y="288"/>
                </a:lnTo>
                <a:lnTo>
                  <a:pt x="5387" y="283"/>
                </a:lnTo>
                <a:lnTo>
                  <a:pt x="5395" y="280"/>
                </a:lnTo>
                <a:lnTo>
                  <a:pt x="5403" y="275"/>
                </a:lnTo>
                <a:lnTo>
                  <a:pt x="5410" y="270"/>
                </a:lnTo>
                <a:lnTo>
                  <a:pt x="5416" y="265"/>
                </a:lnTo>
                <a:lnTo>
                  <a:pt x="5414" y="259"/>
                </a:lnTo>
                <a:lnTo>
                  <a:pt x="5413" y="254"/>
                </a:lnTo>
                <a:lnTo>
                  <a:pt x="5411" y="249"/>
                </a:lnTo>
                <a:lnTo>
                  <a:pt x="5411" y="244"/>
                </a:lnTo>
                <a:close/>
              </a:path>
            </a:pathLst>
          </a:custGeom>
          <a:solidFill>
            <a:srgbClr val="99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3C7BB1-1194-417D-9DBD-7A8D620D0F60}" type="datetime1">
              <a:rPr lang="en-US"/>
              <a:t>07/29/26</a:t>
            </a:fld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75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5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2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37BC3D-2420-4BA3-972A-A8ECD21806F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7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2" spid="">
              <p:embed/>
              <p:pic>
                <p:nvPicPr>
                  <p:cNvPr id="34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B2A873-E8AC-49A0-9D0D-76D355D2028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9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2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446357-C946-41C4-9950-0F51566E220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1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2" spid="">
              <p:embed/>
              <p:pic>
                <p:nvPicPr>
                  <p:cNvPr id="35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542332-4632-4CE0-AF05-30884B5F9C6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" descr=""/>
          <p:cNvPicPr/>
          <p:nvPr/>
        </p:nvPicPr>
        <p:blipFill>
          <a:blip r:embed="rId2"/>
          <a:stretch/>
        </p:blipFill>
        <p:spPr>
          <a:xfrm>
            <a:off x="0" y="6165720"/>
            <a:ext cx="9144000" cy="692280"/>
          </a:xfrm>
          <a:prstGeom prst="rect">
            <a:avLst/>
          </a:prstGeom>
          <a:ln w="0">
            <a:noFill/>
          </a:ln>
        </p:spPr>
      </p:pic>
      <p:sp>
        <p:nvSpPr>
          <p:cNvPr id="354" name=""/>
          <p:cNvSpPr/>
          <p:nvPr/>
        </p:nvSpPr>
        <p:spPr>
          <a:xfrm>
            <a:off x="0" y="2708280"/>
            <a:ext cx="160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66"/>
                </a:solidFill>
                <a:latin typeface="隶书"/>
                <a:ea typeface="隶书"/>
              </a:rPr>
              <a:t>析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1547640" y="69228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1403280" y="184464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陈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1535040" y="5257800"/>
            <a:ext cx="1752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1332000" y="4797360"/>
            <a:ext cx="121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隶书"/>
                <a:ea typeface="隶书"/>
              </a:rPr>
              <a:t>秦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592440" y="259092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6516720" y="3357720"/>
            <a:ext cx="19051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功业相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7478640" y="3581280"/>
            <a:ext cx="1447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1332000" y="981000"/>
            <a:ext cx="75960" cy="4176720"/>
          </a:xfrm>
          <a:custGeom>
            <a:avLst/>
            <a:gdLst>
              <a:gd name="textAreaLeft" fmla="*/ 22320 w 75960"/>
              <a:gd name="textAreaRight" fmla="*/ 76320 w 75960"/>
              <a:gd name="textAreaTop" fmla="*/ 173880 h 4176720"/>
              <a:gd name="textAreaBottom" fmla="*/ 4002840 h 417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solidFill>
            <a:srgbClr val="cc00ff"/>
          </a:solidFill>
          <a:ln w="93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2268360" y="1844640"/>
            <a:ext cx="76320" cy="990720"/>
          </a:xfrm>
          <a:custGeom>
            <a:avLst/>
            <a:gdLst>
              <a:gd name="textAreaLeft" fmla="*/ 22320 w 76320"/>
              <a:gd name="textAreaRight" fmla="*/ 76320 w 76320"/>
              <a:gd name="textAreaTop" fmla="*/ 41040 h 990720"/>
              <a:gd name="textAreaBottom" fmla="*/ 949680 h 99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solidFill>
            <a:srgbClr val="cc00ff"/>
          </a:solidFill>
          <a:ln w="93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6227640" y="1484280"/>
            <a:ext cx="304920" cy="152280"/>
          </a:xfrm>
          <a:prstGeom prst="rightArrow">
            <a:avLst>
              <a:gd name="adj1" fmla="val 50000"/>
              <a:gd name="adj2" fmla="val 50059"/>
            </a:avLst>
          </a:prstGeom>
          <a:solidFill>
            <a:srgbClr val="9900ff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227640" y="4365720"/>
            <a:ext cx="228600" cy="152280"/>
          </a:xfrm>
          <a:prstGeom prst="rightArrow">
            <a:avLst>
              <a:gd name="adj1" fmla="val 50000"/>
              <a:gd name="adj2" fmla="val 37530"/>
            </a:avLst>
          </a:prstGeom>
          <a:solidFill>
            <a:srgbClr val="9900ff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1280" y="260280"/>
            <a:ext cx="38102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隶书"/>
                <a:ea typeface="隶书"/>
              </a:rPr>
              <a:t>国力，天下非小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隶书"/>
                <a:ea typeface="隶书"/>
              </a:rPr>
              <a:t>地利，崤函自若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2411280" y="1628640"/>
            <a:ext cx="41148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隶书"/>
                <a:ea typeface="隶书"/>
              </a:rPr>
              <a:t>地位非尊，武器非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隶书"/>
                <a:ea typeface="隶书"/>
              </a:rPr>
              <a:t>兵力非抗，战术非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1332000" y="3429000"/>
            <a:ext cx="121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隶书"/>
                <a:ea typeface="隶书"/>
              </a:rPr>
              <a:t>秦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2340000" y="3141720"/>
            <a:ext cx="48006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隶书"/>
                <a:ea typeface="隶书"/>
              </a:rPr>
              <a:t>致万乘势，百又余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隶书"/>
                <a:ea typeface="隶书"/>
              </a:rPr>
              <a:t>六合为家，崤函为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2268360" y="4437000"/>
            <a:ext cx="51055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隶书"/>
                <a:ea typeface="隶书"/>
              </a:rPr>
              <a:t>一夫作难，而七庙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隶书"/>
                <a:ea typeface="隶书"/>
              </a:rPr>
              <a:t>身死人手，为天下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268360" y="549360"/>
            <a:ext cx="76320" cy="914400"/>
          </a:xfrm>
          <a:custGeom>
            <a:avLst/>
            <a:gdLst>
              <a:gd name="textAreaLeft" fmla="*/ 22320 w 76320"/>
              <a:gd name="textAreaRight" fmla="*/ 76320 w 76320"/>
              <a:gd name="textAreaTop" fmla="*/ 37800 h 914400"/>
              <a:gd name="textAreaBottom" fmla="*/ 87660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solidFill>
            <a:srgbClr val="cc00ff"/>
          </a:solidFill>
          <a:ln w="93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268360" y="3213000"/>
            <a:ext cx="76320" cy="990720"/>
          </a:xfrm>
          <a:custGeom>
            <a:avLst/>
            <a:gdLst>
              <a:gd name="textAreaLeft" fmla="*/ 22320 w 76320"/>
              <a:gd name="textAreaRight" fmla="*/ 76320 w 76320"/>
              <a:gd name="textAreaTop" fmla="*/ 41040 h 990720"/>
              <a:gd name="textAreaBottom" fmla="*/ 949680 h 99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solidFill>
            <a:srgbClr val="cc00ff"/>
          </a:solidFill>
          <a:ln w="93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2268360" y="4724280"/>
            <a:ext cx="76320" cy="990720"/>
          </a:xfrm>
          <a:custGeom>
            <a:avLst/>
            <a:gdLst>
              <a:gd name="textAreaLeft" fmla="*/ 22320 w 76320"/>
              <a:gd name="textAreaRight" fmla="*/ 76320 w 76320"/>
              <a:gd name="textAreaTop" fmla="*/ 41040 h 990720"/>
              <a:gd name="textAreaBottom" fmla="*/ 949680 h 99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solidFill>
            <a:srgbClr val="cc00ff"/>
          </a:solidFill>
          <a:ln w="93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6156360" y="549360"/>
            <a:ext cx="76320" cy="2209680"/>
          </a:xfrm>
          <a:custGeom>
            <a:avLst/>
            <a:gdLst>
              <a:gd name="textAreaLeft" fmla="*/ 0 w 76320"/>
              <a:gd name="textAreaRight" fmla="*/ 53640 w 76320"/>
              <a:gd name="textAreaTop" fmla="*/ 91800 h 2209680"/>
              <a:gd name="textAreaBottom" fmla="*/ 211788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solidFill>
            <a:srgbClr val="ff00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6084720" y="3357720"/>
            <a:ext cx="76320" cy="2286000"/>
          </a:xfrm>
          <a:custGeom>
            <a:avLst/>
            <a:gdLst>
              <a:gd name="textAreaLeft" fmla="*/ 0 w 76320"/>
              <a:gd name="textAreaRight" fmla="*/ 53640 w 76320"/>
              <a:gd name="textAreaTop" fmla="*/ 95040 h 2286000"/>
              <a:gd name="textAreaBottom" fmla="*/ 21909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solidFill>
            <a:srgbClr val="ff00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6516720" y="126828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成败异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8317080" y="1557360"/>
            <a:ext cx="75960" cy="2895480"/>
          </a:xfrm>
          <a:custGeom>
            <a:avLst/>
            <a:gdLst>
              <a:gd name="textAreaLeft" fmla="*/ 0 w 75960"/>
              <a:gd name="textAreaRight" fmla="*/ 53280 w 75960"/>
              <a:gd name="textAreaTop" fmla="*/ 120600 h 2895480"/>
              <a:gd name="textAreaBottom" fmla="*/ 2774880 h 289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solidFill>
            <a:srgbClr val="9900ff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 txBox="1"/>
          <p:nvPr/>
        </p:nvSpPr>
        <p:spPr>
          <a:xfrm rot="5400000">
            <a:off x="6173640" y="2835360"/>
            <a:ext cx="5029200" cy="4572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1" strike="noStrike">
                <a:ln w="12600">
                  <a:solidFill>
                    <a:srgbClr val="333399"/>
                  </a:solidFill>
                  <a:miter/>
                </a:ln>
                <a:solidFill>
                  <a:srgbClr val="0000ff">
                    <a:alpha val="50000"/>
                  </a:srgbClr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仁义不施而攻守之势异也</a:t>
            </a:r>
            <a:endParaRPr b="0" i="1" lang="en-US" sz="1800" spc="1" strike="noStrike">
              <a:ln w="12600">
                <a:solidFill>
                  <a:srgbClr val="333399"/>
                </a:solidFill>
                <a:miter/>
              </a:ln>
              <a:solidFill>
                <a:srgbClr val="0000ff">
                  <a:alpha val="50000"/>
                </a:srgbClr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379" name=""/>
          <p:cNvSpPr/>
          <p:nvPr/>
        </p:nvSpPr>
        <p:spPr>
          <a:xfrm>
            <a:off x="0" y="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62B258-360E-4229-9EE3-2E60FB574393}" type="datetime1">
              <a:rPr lang="en-US"/>
              <a:t>07/29/26</a:t>
            </a:fld>
          </a:p>
        </p:txBody>
      </p:sp>
    </p:spTree>
  </p:cSld>
  <p:transition spd="slow">
    <p:checker dir="horz"/>
  </p:transition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41" dur="2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46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5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65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0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0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5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95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00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9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3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37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fill="hold">
                      <p:stCondLst>
                        <p:cond delay="indefinite"/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7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2" spid="">
              <p:embed/>
              <p:pic>
                <p:nvPicPr>
                  <p:cNvPr id="38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9337B7-683E-4112-9B92-AE50DD65B5E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/>
          <p:nvPr/>
        </p:nvSpPr>
        <p:spPr>
          <a:xfrm>
            <a:off x="0" y="31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0" y="476280"/>
            <a:ext cx="4681440" cy="18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0" y="3154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95280" y="1557360"/>
            <a:ext cx="845820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0" lang="zh-CN" sz="3600" spc="-1" strike="noStrike">
                <a:solidFill>
                  <a:srgbClr val="ff3300"/>
                </a:solidFill>
                <a:latin typeface="华文行楷"/>
              </a:rPr>
              <a:t>贾谊在这篇文章里论述了秦朝兴衰的原因。他这样做，是希望汉文帝以秦朝为借鉴，施行仁义，以免蹈秦朝的复辙。这是贾谊站在封建统治阶级的立场，为他们谋画“长治久安”之道，事实上只能是一种幻想。但是这篇文章表现出贾谊对农民起义的力量和意义有所认识，写出了他反对统治者施暴政于人民。这些地方都有一定的进步意义。</a:t>
            </a:r>
            <a:r>
              <a:rPr b="0" lang="zh-CN" sz="3600" spc="-1" strike="noStrike">
                <a:solidFill>
                  <a:srgbClr val="ff3300"/>
                </a:solidFill>
                <a:latin typeface="华文行楷"/>
                <a:ea typeface="华文行楷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268360" y="189000"/>
            <a:ext cx="3672000" cy="1150920"/>
          </a:xfrm>
          <a:prstGeom prst="ellipse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3300"/>
                </a:solidFill>
                <a:latin typeface="Arial"/>
                <a:ea typeface="华文行楷"/>
              </a:rPr>
              <a:t>主要内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20AA3D-980B-40A7-BA52-8BC5B9CAB09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8" dur="indefinite" restart="never" nodeType="tmRoot">
          <p:childTnLst>
            <p:seq>
              <p:cTn id="949" dur="indefinite" nodeType="mainSeq">
                <p:childTnLst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4" dur="2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908000" y="188640"/>
            <a:ext cx="439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Arial"/>
              </a:rPr>
              <a:t>艺术特点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0" y="1484280"/>
            <a:ext cx="884232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本文结构特点采用逐层推进法、首尾呼应法。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在用占全文大半的四段篇幅叙述秦国由弱而盛，又由盛而亡的史实后，在篇末点明论点。论点的出现不仅水到渠成，势成必然，而且在以上史实的对比中更加清晰、突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用叙事来说理，可以说是本篇最大的特点。</a:t>
            </a: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隶书"/>
              </a:rPr>
              <a:t>以史实为依据寓议论于叙述中加以反复论证，最后得出结论，点明中心；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作者用千把字的篇幅概括了从秦孝公到秦亡国这一百多年来的历史，概括地说明了秦之由盛而衰的全过程和主要现象，同时还贯穿了作者本人的观点来说明其所以兴衰的关键所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583967-A36B-4BAE-8964-964AC679003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" descr=""/>
          <p:cNvPicPr/>
          <p:nvPr/>
        </p:nvPicPr>
        <p:blipFill>
          <a:blip r:embed="rId2"/>
          <a:stretch/>
        </p:blipFill>
        <p:spPr>
          <a:xfrm>
            <a:off x="-18108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0" name=""/>
          <p:cNvSpPr/>
          <p:nvPr/>
        </p:nvSpPr>
        <p:spPr>
          <a:xfrm>
            <a:off x="324000" y="1773360"/>
            <a:ext cx="85690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  <a:ea typeface="黑体"/>
              </a:rPr>
              <a:t>本文以大部分篇幅铺张宣扬秦的兴盛史，再以秦的速亡史与之比较照应，运用了先扬后抑、扬中有抑的手法，处处予以衬托、对比，得出“仁义不施，而攻守之势异也”的结论，说明秦朝灭亡的重要原因是不施仁政施暴政，劝戒后来的统治者只有施仁义，行仁政，才能长治久安；同时，这也体现了贾谊辞赋家的政论特色，用夸张的手法叙事状物，达到文势滔滔，波澜层迭的艺术效果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95280" y="333360"/>
            <a:ext cx="8497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　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华文彩云"/>
              </a:rPr>
              <a:t>本文是一篇议论文，为什么却以大部分篇幅来叙事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931711-5EC5-49CD-9E59-79F73853A1CE}" type="datetime1">
              <a:rPr lang="en-US"/>
              <a:t>07/29/26</a:t>
            </a:fld>
          </a:p>
        </p:txBody>
      </p:sp>
    </p:spTree>
  </p:cSld>
  <p:transition>
    <p:random/>
    <p:sndAc>
      <p:stSnd>
        <p:snd r:embed="rId3" name="chimes.wav"/>
      </p:stSnd>
    </p:sndAc>
  </p:transition>
  <p:timing>
    <p:tnLst>
      <p:par>
        <p:cTn id="955" dur="indefinite" restart="never" nodeType="tmRoot">
          <p:childTnLst>
            <p:seq>
              <p:cTn id="956" dur="indefinite" nodeType="mainSeq">
                <p:childTnLst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61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6" dur="3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1" dur="5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2" dur="5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332000" y="188640"/>
            <a:ext cx="527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Arial"/>
              </a:rPr>
              <a:t>艺术特点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1680" y="1557000"/>
            <a:ext cx="88423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66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作者用全篇对比到底的手法写出了他的论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本篇精采处却在于作者用了四个方面的对比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66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秦国本身先强后弱、先盛后衰、先兴旺后灭亡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对比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秦与六国的对比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秦与陈涉的对比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陈涉与六国的对比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几种对比交织在一起，结构自然宏伟，气势也自然磅礴，话也显得更有分量了。主客观形势的不同，强弱盛衰难易的不同，都从几方面的对比中显现出来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3AA55E-87CD-4716-9591-5F31DA3E482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680" y="-775800"/>
            <a:ext cx="85406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6666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545ff"/>
                </a:solidFill>
                <a:latin typeface="Arial"/>
              </a:rPr>
              <a:t>汉文帝渴求贤臣，坐在宣室里征求贾谊的意见，贾谊的政治才干无与伦比。可惜文帝空自夜半前席，不向贾谊征求社稷大计却问及鬼魅神仙。此诗选取宣室召见、夜半前席两个细节，揭示出贾谊似受恩遇实则不遇的实质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88BB31-CF11-4AE7-96B5-D6A3F0BC36E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2484360" y="32130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华文行楷"/>
              </a:rPr>
              <a:t>“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华文行楷"/>
              </a:rPr>
              <a:t>数百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457200" y="260280"/>
            <a:ext cx="86868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地　　位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出　　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2700360" y="476280"/>
            <a:ext cx="194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隶书"/>
              </a:rPr>
              <a:t>陈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5796000" y="476280"/>
            <a:ext cx="2835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隶书"/>
              </a:rPr>
              <a:t>秦始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66520" y="321300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军队数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539640" y="4076640"/>
            <a:ext cx="209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军队素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539640" y="4869000"/>
            <a:ext cx="191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武器状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539640" y="5516640"/>
            <a:ext cx="183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地理条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0" y="330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1979640" y="1268280"/>
            <a:ext cx="3738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3333cc"/>
                </a:solidFill>
                <a:latin typeface="华文行楷"/>
                <a:ea typeface="华文行楷"/>
              </a:rPr>
              <a:t>“</a:t>
            </a:r>
            <a:r>
              <a:rPr b="1" lang="zh-CN" sz="2800" spc="-1" strike="noStrike">
                <a:solidFill>
                  <a:srgbClr val="3333cc"/>
                </a:solidFill>
                <a:latin typeface="华文行楷"/>
                <a:ea typeface="华文行楷"/>
              </a:rPr>
              <a:t>瓮牖枢之子人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华文行楷"/>
                <a:ea typeface="华文行楷"/>
              </a:rPr>
              <a:t>     </a:t>
            </a:r>
            <a:r>
              <a:rPr b="1" lang="zh-CN" sz="2800" spc="-1" strike="noStrike">
                <a:solidFill>
                  <a:srgbClr val="3333cc"/>
                </a:solidFill>
                <a:latin typeface="华文行楷"/>
                <a:ea typeface="华文行楷"/>
              </a:rPr>
              <a:t>迁徙之徒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5796000" y="1557360"/>
            <a:ext cx="7772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华文行楷"/>
              </a:rPr>
              <a:t>“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华文行楷"/>
              </a:rPr>
              <a:t>至尊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0" y="330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2124000" y="2349360"/>
            <a:ext cx="63248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3333cc"/>
                </a:solidFill>
                <a:latin typeface="华文行楷"/>
                <a:ea typeface="华文行楷"/>
              </a:rPr>
              <a:t>“</a:t>
            </a:r>
            <a:r>
              <a:rPr b="1" lang="zh-CN" sz="2800" spc="-1" strike="noStrike">
                <a:solidFill>
                  <a:srgbClr val="3333cc"/>
                </a:solidFill>
                <a:latin typeface="华文行楷"/>
                <a:ea typeface="华文行楷"/>
              </a:rPr>
              <a:t>行伍之间”</a:t>
            </a:r>
            <a:r>
              <a:rPr b="1" lang="zh-CN" sz="2800" spc="-1" strike="noStrike">
                <a:solidFill>
                  <a:srgbClr val="ff3300"/>
                </a:solidFill>
                <a:latin typeface="华文行楷"/>
                <a:ea typeface="华文行楷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0" y="330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5724360" y="2565360"/>
            <a:ext cx="7772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华文行楷"/>
              </a:rPr>
              <a:t>王侯之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0" y="330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5724360" y="3357720"/>
            <a:ext cx="7772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华文行楷"/>
              </a:rPr>
              <a:t>万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0" y="330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5651640" y="4149720"/>
            <a:ext cx="7772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华文行楷"/>
              </a:rPr>
              <a:t>“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华文行楷"/>
              </a:rPr>
              <a:t>良将”“信臣精卒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0" y="330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2411280" y="4076640"/>
            <a:ext cx="401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华文行楷"/>
              </a:rPr>
              <a:t>“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华文行楷"/>
              </a:rPr>
              <a:t>疲弊之卒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0" y="330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411280" y="4941720"/>
            <a:ext cx="7772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华文行楷"/>
              </a:rPr>
              <a:t>“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华文行楷"/>
              </a:rPr>
              <a:t>斩木为兵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0" y="330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724360" y="4869000"/>
            <a:ext cx="77724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华文行楷"/>
              </a:rPr>
              <a:t>“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华文行楷"/>
              </a:rPr>
              <a:t>劲弩”“利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611280" y="285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2411280" y="5661000"/>
            <a:ext cx="28083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华文行楷"/>
                <a:ea typeface="华文行楷"/>
              </a:rPr>
              <a:t>“</a:t>
            </a:r>
            <a:r>
              <a:rPr b="1" lang="zh-CN" sz="2800" spc="-1" strike="noStrike">
                <a:solidFill>
                  <a:srgbClr val="3333cc"/>
                </a:solidFill>
                <a:latin typeface="华文行楷"/>
                <a:ea typeface="华文行楷"/>
              </a:rPr>
              <a:t>阡陌之中”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0" y="328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5796000" y="5661000"/>
            <a:ext cx="283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华文行楷"/>
              </a:rPr>
              <a:t>据亿丈之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468360" y="549360"/>
            <a:ext cx="1871640" cy="792000"/>
          </a:xfrm>
          <a:prstGeom prst="ellipse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00"/>
                </a:solidFill>
                <a:latin typeface="Arial"/>
                <a:ea typeface="华文行楷"/>
              </a:rPr>
              <a:t>对比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08C7FA-B1F6-41E8-AC6B-100EE2373DF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3" dur="indefinite" restart="never" nodeType="tmRoot">
          <p:childTnLst>
            <p:seq>
              <p:cTn id="974" dur="indefinite" nodeType="mainSeq">
                <p:childTnLst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9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0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5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6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1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2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7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8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3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4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9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0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5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6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fill="hold">
                      <p:stCondLst>
                        <p:cond delay="indefinite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1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2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3" fill="hold">
                      <p:stCondLst>
                        <p:cond delay="indefinite"/>
                      </p:stCondLst>
                      <p:childTnLst>
                        <p:par>
                          <p:cTn id="1024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7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8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9" fill="hold">
                      <p:stCondLst>
                        <p:cond delay="indefinite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3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4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5" fill="hold">
                      <p:stCondLst>
                        <p:cond delay="indefinite"/>
                      </p:stCondLst>
                      <p:childTnLst>
                        <p:par>
                          <p:cTn id="1036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9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0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5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6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1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2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7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8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9" fill="hold">
                      <p:stCondLst>
                        <p:cond delay="indefinite"/>
                      </p:stCondLst>
                      <p:childTnLst>
                        <p:par>
                          <p:cTn id="1060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3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4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5" fill="hold">
                      <p:stCondLst>
                        <p:cond delay="indefinite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9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0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6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fill="hold">
                      <p:stCondLst>
                        <p:cond delay="indefinite"/>
                      </p:stCondLst>
                      <p:childTnLst>
                        <p:par>
                          <p:cTn id="1078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1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2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7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8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fill="hold">
                      <p:stCondLst>
                        <p:cond delay="indefinite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3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4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fill="hold">
                      <p:stCondLst>
                        <p:cond delay="indefinite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9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0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1" fill="hold">
                      <p:stCondLst>
                        <p:cond delay="indefinite"/>
                      </p:stCondLst>
                      <p:childTnLst>
                        <p:par>
                          <p:cTn id="1102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5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7" fill="hold">
                      <p:stCondLst>
                        <p:cond delay="indefinite"/>
                      </p:stCondLst>
                      <p:childTnLst>
                        <p:par>
                          <p:cTn id="1108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1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2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3" fill="hold">
                      <p:stCondLst>
                        <p:cond delay="indefinite"/>
                      </p:stCondLst>
                      <p:childTnLst>
                        <p:par>
                          <p:cTn id="1114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7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8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9" fill="hold">
                      <p:stCondLst>
                        <p:cond delay="indefinite"/>
                      </p:stCondLst>
                      <p:childTnLst>
                        <p:par>
                          <p:cTn id="1120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3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4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9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0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1" fill="hold">
                      <p:stCondLst>
                        <p:cond delay="indefinite"/>
                      </p:stCondLst>
                      <p:childTnLst>
                        <p:par>
                          <p:cTn id="1132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5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6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7" fill="hold">
                      <p:stCondLst>
                        <p:cond delay="indefinite"/>
                      </p:stCondLst>
                      <p:childTnLst>
                        <p:par>
                          <p:cTn id="1138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1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2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3" fill="hold">
                      <p:stCondLst>
                        <p:cond delay="indefinite"/>
                      </p:stCondLst>
                      <p:childTnLst>
                        <p:par>
                          <p:cTn id="1144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7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8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9" fill="hold">
                      <p:stCondLst>
                        <p:cond delay="indefinite"/>
                      </p:stCondLst>
                      <p:childTnLst>
                        <p:par>
                          <p:cTn id="1150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3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4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/>
          <p:nvPr/>
        </p:nvSpPr>
        <p:spPr>
          <a:xfrm>
            <a:off x="0" y="2421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685800" y="2392200"/>
            <a:ext cx="7772400" cy="20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0" y="20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468360" y="620640"/>
            <a:ext cx="8675640" cy="57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华文行楷"/>
                <a:ea typeface="华文行楷"/>
              </a:rPr>
              <a:t>　多次运用对比的手法</a:t>
            </a:r>
            <a:r>
              <a:rPr b="0" lang="zh-CN" sz="3200" spc="-1" strike="noStrike">
                <a:solidFill>
                  <a:srgbClr val="ff3300"/>
                </a:solidFill>
                <a:latin typeface="华文行楷"/>
                <a:ea typeface="华文行楷"/>
              </a:rPr>
              <a:t>:  </a:t>
            </a:r>
            <a:br>
              <a:rPr sz="3200"/>
            </a:br>
            <a:br>
              <a:rPr sz="3200"/>
            </a:br>
            <a:r>
              <a:rPr b="0" lang="zh-CN" sz="3200" spc="-1" strike="noStrike">
                <a:solidFill>
                  <a:srgbClr val="ff3300"/>
                </a:solidFill>
                <a:latin typeface="华文行楷"/>
                <a:ea typeface="华文行楷"/>
              </a:rPr>
              <a:t>　</a:t>
            </a:r>
            <a:r>
              <a:rPr b="0" lang="zh-CN" sz="3200" spc="-1" strike="noStrike">
                <a:solidFill>
                  <a:srgbClr val="3333cc"/>
                </a:solidFill>
                <a:latin typeface="华文行楷"/>
                <a:ea typeface="华文行楷"/>
              </a:rPr>
              <a:t>1 . </a:t>
            </a:r>
            <a:r>
              <a:rPr b="0" lang="zh-CN" sz="3200" spc="-1" strike="noStrike">
                <a:solidFill>
                  <a:srgbClr val="3333cc"/>
                </a:solidFill>
                <a:latin typeface="华文行楷"/>
                <a:ea typeface="华文行楷"/>
              </a:rPr>
              <a:t>九国联盟与秦国实力的对比； </a:t>
            </a:r>
            <a:br>
              <a:rPr sz="3200"/>
            </a:br>
            <a:br>
              <a:rPr sz="3200"/>
            </a:br>
            <a:r>
              <a:rPr b="0" lang="zh-CN" sz="3200" spc="-1" strike="noStrike">
                <a:solidFill>
                  <a:srgbClr val="3333cc"/>
                </a:solidFill>
                <a:latin typeface="华文行楷"/>
                <a:ea typeface="华文行楷"/>
              </a:rPr>
              <a:t>　</a:t>
            </a:r>
            <a:r>
              <a:rPr b="0" lang="zh-CN" sz="3200" spc="-1" strike="noStrike">
                <a:solidFill>
                  <a:srgbClr val="3333cc"/>
                </a:solidFill>
                <a:latin typeface="华文行楷"/>
                <a:ea typeface="华文行楷"/>
              </a:rPr>
              <a:t>2 . </a:t>
            </a:r>
            <a:r>
              <a:rPr b="0" lang="zh-CN" sz="3200" spc="-1" strike="noStrike">
                <a:solidFill>
                  <a:srgbClr val="3333cc"/>
                </a:solidFill>
                <a:latin typeface="华文行楷"/>
                <a:ea typeface="华文行楷"/>
              </a:rPr>
              <a:t>九国会盟之时与惨败之后两种情况的对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华文行楷"/>
                <a:ea typeface="华文行楷"/>
              </a:rPr>
              <a:t> </a:t>
            </a:r>
            <a:br>
              <a:rPr sz="3200"/>
            </a:br>
            <a:r>
              <a:rPr b="0" lang="zh-CN" sz="3200" spc="-1" strike="noStrike">
                <a:solidFill>
                  <a:srgbClr val="3333cc"/>
                </a:solidFill>
                <a:latin typeface="华文行楷"/>
                <a:ea typeface="华文行楷"/>
              </a:rPr>
              <a:t>　</a:t>
            </a:r>
            <a:r>
              <a:rPr b="0" lang="zh-CN" sz="3200" spc="-1" strike="noStrike">
                <a:solidFill>
                  <a:srgbClr val="3333cc"/>
                </a:solidFill>
                <a:latin typeface="华文行楷"/>
                <a:ea typeface="华文行楷"/>
              </a:rPr>
              <a:t>3 . </a:t>
            </a:r>
            <a:r>
              <a:rPr b="0" lang="zh-CN" sz="3200" spc="-1" strike="noStrike">
                <a:solidFill>
                  <a:srgbClr val="3333cc"/>
                </a:solidFill>
                <a:latin typeface="华文行楷"/>
                <a:ea typeface="华文行楷"/>
              </a:rPr>
              <a:t>陈涉与九国的对比； </a:t>
            </a:r>
            <a:br>
              <a:rPr sz="3200"/>
            </a:br>
            <a:br>
              <a:rPr sz="3200"/>
            </a:br>
            <a:r>
              <a:rPr b="0" lang="zh-CN" sz="3200" spc="-1" strike="noStrike">
                <a:solidFill>
                  <a:srgbClr val="3333cc"/>
                </a:solidFill>
                <a:latin typeface="华文行楷"/>
                <a:ea typeface="华文行楷"/>
              </a:rPr>
              <a:t>　</a:t>
            </a:r>
            <a:r>
              <a:rPr b="0" lang="zh-CN" sz="3200" spc="-1" strike="noStrike">
                <a:solidFill>
                  <a:srgbClr val="3333cc"/>
                </a:solidFill>
                <a:latin typeface="华文行楷"/>
                <a:ea typeface="华文行楷"/>
              </a:rPr>
              <a:t>4 . </a:t>
            </a:r>
            <a:r>
              <a:rPr b="0" lang="zh-CN" sz="3200" spc="-1" strike="noStrike">
                <a:solidFill>
                  <a:srgbClr val="3333cc"/>
                </a:solidFill>
                <a:latin typeface="华文行楷"/>
                <a:ea typeface="华文行楷"/>
              </a:rPr>
              <a:t>陈涉与秦国的对比； </a:t>
            </a:r>
            <a:br>
              <a:rPr sz="3200"/>
            </a:br>
            <a:br>
              <a:rPr sz="3200"/>
            </a:br>
            <a:r>
              <a:rPr b="0" lang="zh-CN" sz="3200" spc="-1" strike="noStrike">
                <a:solidFill>
                  <a:srgbClr val="3333cc"/>
                </a:solidFill>
                <a:latin typeface="华文行楷"/>
                <a:ea typeface="华文行楷"/>
              </a:rPr>
              <a:t> 　</a:t>
            </a:r>
            <a:r>
              <a:rPr b="0" lang="zh-CN" sz="3200" spc="-1" strike="noStrike">
                <a:solidFill>
                  <a:srgbClr val="3333cc"/>
                </a:solidFill>
                <a:latin typeface="华文行楷"/>
                <a:ea typeface="华文行楷"/>
              </a:rPr>
              <a:t>5 . </a:t>
            </a:r>
            <a:r>
              <a:rPr b="0" lang="zh-CN" sz="3200" spc="-1" strike="noStrike">
                <a:solidFill>
                  <a:srgbClr val="3333cc"/>
                </a:solidFill>
                <a:latin typeface="华文行楷"/>
                <a:ea typeface="华文行楷"/>
              </a:rPr>
              <a:t>秦国前后兴亡的对比。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-91800" y="4124160"/>
            <a:ext cx="269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8B7AAF-45BF-4418-98E8-FC5A3E283D9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619280" y="0"/>
            <a:ext cx="55656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Arial"/>
              </a:rPr>
              <a:t>艺术特点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603360" y="1125360"/>
            <a:ext cx="8540640" cy="532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用写赋的手法来写说理散文。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写赋是需要铺张和夸大的，贾谊写这篇文章可以说通篇都采用了这种手法。</a:t>
            </a: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隶书"/>
              </a:rPr>
              <a:t>本文是史论文体。文中大量运用排比、对偶句，用词精雕细刻，有明显的辞赋化。其中的排比、对比、衬托手法铺排渲染，文气酣畅，气势磅礴有很强的艺术感染力。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比如第一段“有席卷天下”四句，“席卷”、“包举”、“囊括”、“并吞”等词，基本上都同义；“天下”、“宇内”、“四海”和“八荒”，也都是同一个意思。同一个意思而一连写上好几句，既有排比又有对仗，这就是写赋的夸张手法。下面第二、第四、第五等段中，都有类似的句子。这样，气势自然就充沛了，自然让读者感受到作者的笔锋锐不可当，咄咄逼人，读起来有劲头，有说服力，而且有欲罢不能之感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B63797-6AFA-488C-B88E-B1D2F28A086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练习：</a:t>
            </a:r>
            <a:endParaRPr b="0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533520" y="155700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指出没有通假字的一组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(        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秦有余力而制其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倔起阡陌之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序八州而朝同列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百有余年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俯首系颈，委命下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6732720" y="1484280"/>
            <a:ext cx="623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  <a:ea typeface="隶书"/>
              </a:rPr>
              <a:t>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D9AD18-0185-44E6-855B-AED25CF03F28}" type="datetime1">
              <a:rPr lang="en-US"/>
              <a:t>07/29/26</a:t>
            </a:fld>
          </a:p>
        </p:txBody>
      </p:sp>
    </p:spTree>
  </p:cSld>
  <p:transition spd="slow">
    <p:zoom dir="out"/>
  </p:transition>
  <p:timing>
    <p:tnLst>
      <p:par>
        <p:cTn id="1155" dur="indefinite" restart="never" nodeType="tmRoot">
          <p:childTnLst>
            <p:seq>
              <p:cTn id="1156" dur="indefinite" nodeType="mainSeq">
                <p:childTnLst>
                  <p:par>
                    <p:cTn id="1157" fill="hold">
                      <p:stCondLst>
                        <p:cond delay="indefinite"/>
                      </p:stCondLst>
                      <p:childTnLst>
                        <p:par>
                          <p:cTn id="1158" fill="hold">
                            <p:stCondLst>
                              <p:cond delay="0"/>
                            </p:stCondLst>
                            <p:childTnLst>
                              <p:par>
                                <p:cTn id="1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1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2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3" fill="hold">
                      <p:stCondLst>
                        <p:cond delay="indefinite"/>
                      </p:stCondLst>
                      <p:childTnLst>
                        <p:par>
                          <p:cTn id="1164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67" dur="500"/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8" fill="hold">
                      <p:stCondLst>
                        <p:cond delay="indefinite"/>
                      </p:stCondLst>
                      <p:childTnLst>
                        <p:par>
                          <p:cTn id="1169" fill="hold">
                            <p:stCondLst>
                              <p:cond delay="0"/>
                            </p:stCondLst>
                            <p:childTnLst>
                              <p:par>
                                <p:cTn id="117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72" dur="500"/>
                                        <p:tgtEl>
                                          <p:spTgt spid="4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3" fill="hold">
                      <p:stCondLst>
                        <p:cond delay="indefinite"/>
                      </p:stCondLst>
                      <p:childTnLst>
                        <p:par>
                          <p:cTn id="1174" fill="hold">
                            <p:stCondLst>
                              <p:cond delay="0"/>
                            </p:stCondLst>
                            <p:childTnLst>
                              <p:par>
                                <p:cTn id="117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77" dur="500"/>
                                        <p:tgtEl>
                                          <p:spTgt spid="4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8" fill="hold">
                      <p:stCondLst>
                        <p:cond delay="indefinite"/>
                      </p:stCondLst>
                      <p:childTnLst>
                        <p:par>
                          <p:cTn id="1179" fill="hold">
                            <p:stCondLst>
                              <p:cond delay="0"/>
                            </p:stCondLst>
                            <p:childTnLst>
                              <p:par>
                                <p:cTn id="118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82" dur="500"/>
                                        <p:tgtEl>
                                          <p:spTgt spid="4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87" dur="500"/>
                                        <p:tgtEl>
                                          <p:spTgt spid="4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8" fill="hold">
                      <p:stCondLst>
                        <p:cond delay="indefinite"/>
                      </p:stCondLst>
                      <p:childTnLst>
                        <p:par>
                          <p:cTn id="1189" fill="hold">
                            <p:stCondLst>
                              <p:cond delay="0"/>
                            </p:stCondLst>
                            <p:childTnLst>
                              <p:par>
                                <p:cTn id="11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2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/>
          </p:nvPr>
        </p:nvSpPr>
        <p:spPr>
          <a:xfrm>
            <a:off x="1331640" y="549360"/>
            <a:ext cx="644364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指出与例句中加点词意思相同的一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(1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例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宋体"/>
              </a:rPr>
              <a:t>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利乘便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(   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蒙故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宋体"/>
              </a:rPr>
              <a:t>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遗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宋体"/>
              </a:rPr>
              <a:t>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河为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沛公起如厕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宋体"/>
              </a:rPr>
              <a:t>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招樊哙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相如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宋体"/>
              </a:rPr>
              <a:t>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持璧却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(2)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宋体"/>
              </a:rPr>
              <a:t>延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及孝文王、庄襄王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(   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秦人开关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宋体"/>
              </a:rPr>
              <a:t>延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渔人各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宋体"/>
              </a:rPr>
              <a:t>延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至其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烧尽北船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宋体"/>
              </a:rPr>
              <a:t>延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及岸上营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宋体"/>
              </a:rPr>
              <a:t>延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颈而鸣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舒翼而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5640120" y="3429000"/>
            <a:ext cx="621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  <a:ea typeface="隶书"/>
              </a:rPr>
              <a:t>C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4573440" y="1066680"/>
            <a:ext cx="587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  <a:ea typeface="隶书"/>
              </a:rPr>
              <a:t>B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6294CD-F8F2-402C-8B1B-7DDB52E6C760}" type="datetime1">
              <a:rPr lang="en-US"/>
              <a:t>07/29/26</a:t>
            </a:fld>
          </a:p>
        </p:txBody>
      </p:sp>
    </p:spTree>
  </p:cSld>
  <p:transition spd="slow">
    <p:blinds dir="vert"/>
  </p:transition>
  <p:timing>
    <p:tnLst>
      <p:par>
        <p:cTn id="1194" dur="indefinite" restart="never" nodeType="tmRoot">
          <p:childTnLst>
            <p:seq>
              <p:cTn id="1195" dur="indefinite" nodeType="mainSeq">
                <p:childTnLst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0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1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2" fill="hold">
                      <p:stCondLst>
                        <p:cond delay="indefinite"/>
                      </p:stCondLst>
                      <p:childTnLst>
                        <p:par>
                          <p:cTn id="1203" fill="hold">
                            <p:stCondLst>
                              <p:cond delay="0"/>
                            </p:stCondLst>
                            <p:childTnLst>
                              <p:par>
                                <p:cTn id="12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6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7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/>
          </p:nvPr>
        </p:nvSpPr>
        <p:spPr>
          <a:xfrm>
            <a:off x="611280" y="765000"/>
            <a:ext cx="80280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判断正误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(1)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《过秦论》的作者是东汉贾谊。过，这里是动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(2).“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外连衡而斗诸侯”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译为“对外取用连横的策略使诸侯自相争斗。”其中“外”与“斗”都是名词活用做状语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(3)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《过秦论》的中心论点是全文最后一句“仁义不施而攻守之势异也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.”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(4).“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身死人手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为天下笑者”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句中的“为”表被动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,“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然后以六合为家”句中的“为”是“变为”、“当作”的意思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30400" y="11430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30400" y="20574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30400" y="32767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30400" y="41911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7FE883-0D96-4F24-8D86-23C5E3A445F8}" type="datetime1">
              <a:rPr lang="en-US"/>
              <a:t>07/29/26</a:t>
            </a:fld>
          </a:p>
        </p:txBody>
      </p:sp>
    </p:spTree>
  </p:cSld>
  <p:transition spd="slow">
    <p:checker dir="vert"/>
  </p:transition>
  <p:timing>
    <p:tnLst>
      <p:par>
        <p:cTn id="1208" dur="indefinite" restart="never" nodeType="tmRoot">
          <p:childTnLst>
            <p:seq>
              <p:cTn id="1209" dur="indefinite" nodeType="mainSeq">
                <p:childTnLst>
                  <p:par>
                    <p:cTn id="1210" fill="hold">
                      <p:stCondLst>
                        <p:cond delay="indefinite"/>
                      </p:stCondLst>
                      <p:childTnLst>
                        <p:par>
                          <p:cTn id="1211" fill="hold">
                            <p:stCondLst>
                              <p:cond delay="0"/>
                            </p:stCondLst>
                            <p:childTnLst>
                              <p:par>
                                <p:cTn id="12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4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5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0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1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2" fill="hold">
                      <p:stCondLst>
                        <p:cond delay="indefinite"/>
                      </p:stCondLst>
                      <p:childTnLst>
                        <p:par>
                          <p:cTn id="1223" fill="hold">
                            <p:stCondLst>
                              <p:cond delay="0"/>
                            </p:stCondLst>
                            <p:childTnLst>
                              <p:par>
                                <p:cTn id="12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6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7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8" fill="hold">
                      <p:stCondLst>
                        <p:cond delay="indefinite"/>
                      </p:stCondLst>
                      <p:childTnLst>
                        <p:par>
                          <p:cTn id="1229" fill="hold">
                            <p:stCondLst>
                              <p:cond delay="0"/>
                            </p:stCondLst>
                            <p:childTnLst>
                              <p:par>
                                <p:cTn id="12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2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3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Arial"/>
              </a:rPr>
              <a:t>翻译原则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301680" y="1600200"/>
            <a:ext cx="8540640" cy="33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66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忠于原文（不能错译漏译，尤其是比较重要的字；尽量直译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66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例句：不爱珍器重宝肥饶之地，以致天下之士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66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译成：不爱珍贵的器物、贵重的宝物和肥沃富饶的土地，来招纳天下的优秀人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684360" y="5373720"/>
            <a:ext cx="72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错因：“爱”没有翻译出来，应译为“吝惜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D54C55-8C99-47D4-AA57-DF3A13AEB05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Arial"/>
              </a:rPr>
              <a:t>翻译原则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301680" y="1600200"/>
            <a:ext cx="8540640" cy="23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66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文中如果出现特殊用法的词（如：通假、活用等），译文中一定要有所体现。例如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66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例句：外连衡而斗诸侯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66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错译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对外采取连衡的策略来拼斗诸侯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324000" y="3789360"/>
            <a:ext cx="8540640" cy="23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66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错因：斗，使动用法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使……争斗。文言中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不及物动词的后边有宾语时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这种不及物动词大都是使动词。这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在“斗”的后边带有宾语“诸侯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66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译文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对外采取连衡的策略来使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其他六国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诸侯相互争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8FF97E-B509-4435-AF14-7566B43A80C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Arial"/>
              </a:rPr>
              <a:t>翻译原则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9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66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文中如果出现特殊句式（如：判断句、省略句、倒装句等），翻译时要按照现代汉语的习惯进行调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66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例句：锄耰棘矜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非銛于钩戟长铩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66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错译：锄头 枪把并不锋利于钩戟长矛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324000" y="4365720"/>
            <a:ext cx="854064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66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错因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于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介词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在形容词之后引出比较对象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相当于“比”。这是个介宾短语后置的句子，翻译时应把介宾短语提前做状语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66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译文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锄头 枪把并不比钩戟长矛更锋利呀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B696C2-87B2-49A9-AEAC-114DC84FA30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"/>
          <p:cNvSpPr/>
          <p:nvPr/>
        </p:nvSpPr>
        <p:spPr>
          <a:xfrm>
            <a:off x="125280" y="168120"/>
            <a:ext cx="8839440" cy="524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难句译注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1)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于是秦人拱手而取西河之外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于是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连词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相当于“因而”  “之”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助词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译文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这样一来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秦国就毫不费力地取得了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魏国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黄河以西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大片土地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2)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会盟而谋弱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会盟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聚在一起订立盟约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.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盟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动词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订立盟约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文言中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当用“而”把动词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或动词短语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和名词连接起来时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这种名词就用作动词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弱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使动用法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使……弱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译文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:(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他们便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聚在一起订立盟约来谋划削弱秦国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势力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2BDCCD-9545-4B90-941E-D2C678C2479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0000"/>
                </a:solidFill>
                <a:latin typeface="Arial"/>
              </a:rPr>
              <a:t>贾   谊（毛泽东）</a:t>
            </a:r>
            <a:endParaRPr b="0" lang="en-US" sz="6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66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6666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0" lang="zh-CN" sz="4800" spc="-1" strike="noStrike">
                <a:solidFill>
                  <a:srgbClr val="ff0000"/>
                </a:solidFill>
                <a:latin typeface="Arial"/>
              </a:rPr>
              <a:t>贾生才调世无伦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6666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0" lang="zh-CN" sz="4800" spc="-1" strike="noStrike">
                <a:solidFill>
                  <a:srgbClr val="ff0000"/>
                </a:solidFill>
                <a:latin typeface="Arial"/>
              </a:rPr>
              <a:t>哭泣情怀吊屈文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6666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0" lang="zh-CN" sz="4800" spc="-1" strike="noStrike">
                <a:solidFill>
                  <a:srgbClr val="ff0000"/>
                </a:solidFill>
                <a:latin typeface="Arial"/>
              </a:rPr>
              <a:t>梁王坠马寻常事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6666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0" lang="zh-CN" sz="4800" spc="-1" strike="noStrike">
                <a:solidFill>
                  <a:srgbClr val="ff0000"/>
                </a:solidFill>
                <a:latin typeface="Arial"/>
              </a:rPr>
              <a:t>何需哀伤付一生 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BC3DD2-D5B4-4BE5-AEF0-50E1DAEC57B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"/>
          <p:cNvSpPr/>
          <p:nvPr/>
        </p:nvSpPr>
        <p:spPr>
          <a:xfrm>
            <a:off x="395280" y="620640"/>
            <a:ext cx="8497800" cy="43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3)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追亡逐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亡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逃亡的败兵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北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败逃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这里指溃败的军队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这句用了互文的修辞手法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“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追”和“逐”为互文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“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亡”和“北”为互文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译文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追逐逃亡的败兵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4)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信臣精卒陈利兵而谁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信臣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可靠的大臣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陈列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布置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.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利兵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锐利的兵器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而谁何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喝问，盘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译文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用忠臣的臣子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带领精锐的士兵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陈列着锐利的武器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缉查盘问往来的人们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5FCE61-7627-4094-8A93-9E6F0C83BFE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"/>
          <p:cNvSpPr/>
          <p:nvPr/>
        </p:nvSpPr>
        <p:spPr>
          <a:xfrm>
            <a:off x="324000" y="836640"/>
            <a:ext cx="861048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5)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斩木为兵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揭竿为旗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天下云集响应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赢粮而景从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当作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云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作“集”的状语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应译为“像云一样”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景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像影子一样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译文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: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他们砍伐树木作为武器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举起竹竿作为旗帜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天下人像浮云一样聚集起来响应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他们的号召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),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大家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担着粮食像影子随形那样跟着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他们起来造反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>
            <a:hlinkClick r:id="rId2" action="ppaction://hlinksldjump"/>
          </p:cNvPr>
          <p:cNvSpPr/>
          <p:nvPr/>
        </p:nvSpPr>
        <p:spPr>
          <a:xfrm>
            <a:off x="7812000" y="5877000"/>
            <a:ext cx="684360" cy="360360"/>
          </a:xfrm>
          <a:custGeom>
            <a:avLst/>
            <a:gdLst>
              <a:gd name="textAreaLeft" fmla="*/ 23040 w 684360"/>
              <a:gd name="textAreaRight" fmla="*/ 661320 w 684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1001" h="21600">
                <a:moveTo>
                  <a:pt x="0" y="0"/>
                </a:moveTo>
                <a:lnTo>
                  <a:pt x="41001" y="0"/>
                </a:lnTo>
                <a:lnTo>
                  <a:pt x="41001" y="21600"/>
                </a:lnTo>
                <a:lnTo>
                  <a:pt x="0" y="21600"/>
                </a:lnTo>
                <a:close/>
              </a:path>
              <a:path fill="lightenLess" w="41001" h="21600">
                <a:moveTo>
                  <a:pt x="0" y="0"/>
                </a:moveTo>
                <a:lnTo>
                  <a:pt x="41001" y="0"/>
                </a:lnTo>
                <a:lnTo>
                  <a:pt x="39601" y="1400"/>
                </a:lnTo>
                <a:lnTo>
                  <a:pt x="1400" y="1400"/>
                </a:lnTo>
                <a:close/>
              </a:path>
              <a:path fill="darken" w="41001" h="21600">
                <a:moveTo>
                  <a:pt x="41001" y="0"/>
                </a:moveTo>
                <a:lnTo>
                  <a:pt x="41001" y="21600"/>
                </a:lnTo>
                <a:lnTo>
                  <a:pt x="39601" y="20200"/>
                </a:lnTo>
                <a:lnTo>
                  <a:pt x="39601" y="1400"/>
                </a:lnTo>
                <a:close/>
              </a:path>
              <a:path fill="darkenLess" w="41001" h="21600">
                <a:moveTo>
                  <a:pt x="410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601" y="20200"/>
                </a:lnTo>
                <a:close/>
              </a:path>
              <a:path fill="lighten" w="410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001" h="21600">
                <a:moveTo>
                  <a:pt x="13494" y="10800"/>
                </a:moveTo>
                <a:lnTo>
                  <a:pt x="27507" y="3794"/>
                </a:lnTo>
                <a:lnTo>
                  <a:pt x="27507" y="17806"/>
                </a:lnTo>
                <a:close/>
              </a:path>
            </a:pathLst>
          </a:cu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699132-B206-4DF7-9611-98B19B22C14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1680" y="-1251000"/>
            <a:ext cx="854064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66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贾谊怀才不遇，空有抱负，曾深情吟咏出《吊屈原赋》。梁王落马而死本是寻常之事，贾谊又何必为此自悲自责呢，抑郁而终呢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66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那么，贾谊“才调”到底如何呢？让我们从被鲁迅称为“西汉鸿文”的《过秦论》中寻找答案吧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A2D032-41A5-42D6-B2C0-AA017E19D1E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2556000" y="0"/>
            <a:ext cx="662436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-864000" y="333360"/>
            <a:ext cx="421164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99"/>
                </a:solidFill>
                <a:latin typeface="Arial"/>
              </a:rPr>
              <a:t>贾</a:t>
            </a:r>
            <a:br>
              <a:rPr sz="6600"/>
            </a:br>
            <a:r>
              <a:rPr b="1" lang="zh-CN" sz="6600" spc="-1" strike="noStrike">
                <a:solidFill>
                  <a:srgbClr val="000099"/>
                </a:solidFill>
                <a:latin typeface="Arial"/>
              </a:rPr>
              <a:t>谊</a:t>
            </a:r>
            <a:br>
              <a:rPr sz="6600"/>
            </a:br>
            <a:r>
              <a:rPr b="1" lang="zh-CN" sz="6600" spc="-1" strike="noStrike">
                <a:solidFill>
                  <a:srgbClr val="000099"/>
                </a:solidFill>
                <a:latin typeface="Arial"/>
              </a:rPr>
              <a:t>像</a:t>
            </a:r>
            <a:br>
              <a:rPr sz="6600"/>
            </a:b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（前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200—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前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168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4E3053-98AC-4EC3-BD61-C7BAEFA4EE6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2T03:00:46Z</dcterms:created>
  <dc:creator>杨永林</dc:creator>
  <dc:description/>
  <dc:language>en-US</dc:language>
  <cp:lastModifiedBy>微软用户</cp:lastModifiedBy>
  <dcterms:modified xsi:type="dcterms:W3CDTF">2014-09-29T13:40:14Z</dcterms:modified>
  <cp:revision>46</cp:revision>
  <dc:subject/>
  <dc:title>过秦论</dc:title>
</cp:coreProperties>
</file>