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7A6A-23E2-4A1B-BEAD-4DE5AE634C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0C24-1644-4E3C-9B67-35643F9958F1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D64-96DF-4C23-8ADA-F1AE7F90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5AD-9FC6-495F-A59B-3E3EDE78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A1A-B300-4924-866D-BA00191E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A12-853F-45E8-ADCF-AB97A964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4E0B-DAE0-4DF5-A031-E8E8BE83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180D-042B-4A79-8C66-CE29A334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C3BE-1578-445D-AE0E-C78451DD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3EDA-D007-4C87-94A7-2DAEB820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84C7-42F0-4C73-8987-1C5ACE11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A6AA-6D4A-48D7-8A14-AD482536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9E32-218E-4D43-84E7-BAA50C01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179-C0E0-4565-A6E9-16E9FBA0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541F-2527-4B6E-BE95-DCF8698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7384-9C1D-46F5-AABE-74E8DB99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717C-FCDC-48D4-88EA-D7DA3865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0825-7441-4964-AE1A-4B3C4856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8ABB-C6B2-441E-81AF-2E121781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1E7-5A61-4D50-9C29-BBF63FA8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CEE-6F12-489F-86FA-DFD0C2C3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057-6ABB-464C-986E-E9349E9B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EA3-82B4-462A-9618-6F3538FB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BDD-69D2-48D9-AB14-6DB32023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A3C-DAEB-4F79-9A9E-7DA1447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C97-C3BA-4CA8-A90D-B999F269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AD7A-5F29-43B1-A400-5C4AE65664E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B77B-A22F-4F35-A39D-DF6ED555B96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5" descr="08.png"/>
          <p:cNvPicPr/>
          <p:nvPr/>
        </p:nvPicPr>
        <p:blipFill>
          <a:blip r:embed="rId2"/>
          <a:stretch/>
        </p:blipFill>
        <p:spPr>
          <a:xfrm>
            <a:off x="-1333440" y="5068800"/>
            <a:ext cx="7534080" cy="8128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6" descr="09.png"/>
          <p:cNvPicPr/>
          <p:nvPr/>
        </p:nvPicPr>
        <p:blipFill>
          <a:blip r:embed="rId3"/>
          <a:stretch/>
        </p:blipFill>
        <p:spPr>
          <a:xfrm>
            <a:off x="144360" y="4633920"/>
            <a:ext cx="4511880" cy="1717560"/>
          </a:xfrm>
          <a:prstGeom prst="rect">
            <a:avLst/>
          </a:prstGeom>
          <a:ln w="0">
            <a:noFill/>
          </a:ln>
        </p:spPr>
      </p:pic>
      <p:grpSp>
        <p:nvGrpSpPr>
          <p:cNvPr id="90" name="椭圆 25"/>
          <p:cNvGrpSpPr/>
          <p:nvPr/>
        </p:nvGrpSpPr>
        <p:grpSpPr>
          <a:xfrm>
            <a:off x="2011320" y="4943520"/>
            <a:ext cx="804960" cy="804960"/>
            <a:chOff x="2011320" y="4943520"/>
            <a:chExt cx="804960" cy="804960"/>
          </a:xfrm>
        </p:grpSpPr>
        <p:pic>
          <p:nvPicPr>
            <p:cNvPr id="91" name="椭圆 25" descr=""/>
            <p:cNvPicPr/>
            <p:nvPr/>
          </p:nvPicPr>
          <p:blipFill>
            <a:blip r:embed="rId4"/>
            <a:stretch/>
          </p:blipFill>
          <p:spPr>
            <a:xfrm>
              <a:off x="2011320" y="4943520"/>
              <a:ext cx="8049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36600" y="5068800"/>
              <a:ext cx="557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椭圆 26"/>
          <p:cNvGrpSpPr/>
          <p:nvPr/>
        </p:nvGrpSpPr>
        <p:grpSpPr>
          <a:xfrm>
            <a:off x="1427040" y="5029200"/>
            <a:ext cx="524160" cy="517680"/>
            <a:chOff x="1427040" y="5029200"/>
            <a:chExt cx="524160" cy="517680"/>
          </a:xfrm>
        </p:grpSpPr>
        <p:pic>
          <p:nvPicPr>
            <p:cNvPr id="94" name="椭圆 26" descr=""/>
            <p:cNvPicPr/>
            <p:nvPr/>
          </p:nvPicPr>
          <p:blipFill>
            <a:blip r:embed="rId5"/>
            <a:stretch/>
          </p:blipFill>
          <p:spPr>
            <a:xfrm>
              <a:off x="1427040" y="5029200"/>
              <a:ext cx="5241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509840" y="51069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椭圆 27"/>
          <p:cNvGrpSpPr/>
          <p:nvPr/>
        </p:nvGrpSpPr>
        <p:grpSpPr>
          <a:xfrm>
            <a:off x="2968560" y="4797360"/>
            <a:ext cx="628560" cy="628560"/>
            <a:chOff x="2968560" y="4797360"/>
            <a:chExt cx="628560" cy="628560"/>
          </a:xfrm>
        </p:grpSpPr>
        <p:pic>
          <p:nvPicPr>
            <p:cNvPr id="97" name="椭圆 27" descr=""/>
            <p:cNvPicPr/>
            <p:nvPr/>
          </p:nvPicPr>
          <p:blipFill>
            <a:blip r:embed="rId6"/>
            <a:stretch/>
          </p:blipFill>
          <p:spPr>
            <a:xfrm>
              <a:off x="2968560" y="4797360"/>
              <a:ext cx="6285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065400" y="4896000"/>
              <a:ext cx="43488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椭圆 28"/>
          <p:cNvGrpSpPr/>
          <p:nvPr/>
        </p:nvGrpSpPr>
        <p:grpSpPr>
          <a:xfrm>
            <a:off x="401760" y="4694400"/>
            <a:ext cx="798480" cy="798480"/>
            <a:chOff x="401760" y="4694400"/>
            <a:chExt cx="798480" cy="798480"/>
          </a:xfrm>
        </p:grpSpPr>
        <p:pic>
          <p:nvPicPr>
            <p:cNvPr id="100" name="椭圆 28" descr=""/>
            <p:cNvPicPr/>
            <p:nvPr/>
          </p:nvPicPr>
          <p:blipFill>
            <a:blip r:embed="rId7"/>
            <a:stretch/>
          </p:blipFill>
          <p:spPr>
            <a:xfrm>
              <a:off x="401760" y="469440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22360" y="4813200"/>
              <a:ext cx="558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椭圆 29"/>
          <p:cNvGrpSpPr/>
          <p:nvPr/>
        </p:nvGrpSpPr>
        <p:grpSpPr>
          <a:xfrm>
            <a:off x="1682640" y="5029200"/>
            <a:ext cx="524160" cy="517680"/>
            <a:chOff x="1682640" y="5029200"/>
            <a:chExt cx="524160" cy="517680"/>
          </a:xfrm>
        </p:grpSpPr>
        <p:pic>
          <p:nvPicPr>
            <p:cNvPr id="103" name="椭圆 29" descr=""/>
            <p:cNvPicPr/>
            <p:nvPr/>
          </p:nvPicPr>
          <p:blipFill>
            <a:blip r:embed="rId8"/>
            <a:stretch/>
          </p:blipFill>
          <p:spPr>
            <a:xfrm>
              <a:off x="1682640" y="5029200"/>
              <a:ext cx="5241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65440" y="51069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椭圆 30"/>
          <p:cNvGrpSpPr/>
          <p:nvPr/>
        </p:nvGrpSpPr>
        <p:grpSpPr>
          <a:xfrm>
            <a:off x="1352520" y="4541760"/>
            <a:ext cx="628560" cy="627120"/>
            <a:chOff x="1352520" y="4541760"/>
            <a:chExt cx="628560" cy="627120"/>
          </a:xfrm>
        </p:grpSpPr>
        <p:pic>
          <p:nvPicPr>
            <p:cNvPr id="106" name="椭圆 30" descr=""/>
            <p:cNvPicPr/>
            <p:nvPr/>
          </p:nvPicPr>
          <p:blipFill>
            <a:blip r:embed="rId9"/>
            <a:stretch/>
          </p:blipFill>
          <p:spPr>
            <a:xfrm>
              <a:off x="1352520" y="4541760"/>
              <a:ext cx="6285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52600" y="4640400"/>
              <a:ext cx="433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椭圆 31"/>
          <p:cNvGrpSpPr/>
          <p:nvPr/>
        </p:nvGrpSpPr>
        <p:grpSpPr>
          <a:xfrm>
            <a:off x="2335320" y="4260960"/>
            <a:ext cx="804600" cy="804600"/>
            <a:chOff x="2335320" y="4260960"/>
            <a:chExt cx="804600" cy="804600"/>
          </a:xfrm>
        </p:grpSpPr>
        <p:pic>
          <p:nvPicPr>
            <p:cNvPr id="109" name="椭圆 31" descr=""/>
            <p:cNvPicPr/>
            <p:nvPr/>
          </p:nvPicPr>
          <p:blipFill>
            <a:blip r:embed="rId10"/>
            <a:stretch/>
          </p:blipFill>
          <p:spPr>
            <a:xfrm>
              <a:off x="2335320" y="4260960"/>
              <a:ext cx="804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459160" y="4383000"/>
              <a:ext cx="558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椭圆 32"/>
          <p:cNvGrpSpPr/>
          <p:nvPr/>
        </p:nvGrpSpPr>
        <p:grpSpPr>
          <a:xfrm>
            <a:off x="2170080" y="5132520"/>
            <a:ext cx="517680" cy="525240"/>
            <a:chOff x="2170080" y="5132520"/>
            <a:chExt cx="517680" cy="525240"/>
          </a:xfrm>
        </p:grpSpPr>
        <p:pic>
          <p:nvPicPr>
            <p:cNvPr id="112" name="椭圆 32" descr=""/>
            <p:cNvPicPr/>
            <p:nvPr/>
          </p:nvPicPr>
          <p:blipFill>
            <a:blip r:embed="rId11"/>
            <a:stretch/>
          </p:blipFill>
          <p:spPr>
            <a:xfrm>
              <a:off x="2170080" y="5132520"/>
              <a:ext cx="51768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249640" y="5214960"/>
              <a:ext cx="3603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椭圆 33"/>
          <p:cNvGrpSpPr/>
          <p:nvPr/>
        </p:nvGrpSpPr>
        <p:grpSpPr>
          <a:xfrm>
            <a:off x="3706920" y="4906800"/>
            <a:ext cx="627120" cy="628920"/>
            <a:chOff x="3706920" y="4906800"/>
            <a:chExt cx="627120" cy="628920"/>
          </a:xfrm>
        </p:grpSpPr>
        <p:pic>
          <p:nvPicPr>
            <p:cNvPr id="115" name="椭圆 33" descr=""/>
            <p:cNvPicPr/>
            <p:nvPr/>
          </p:nvPicPr>
          <p:blipFill>
            <a:blip r:embed="rId12"/>
            <a:stretch/>
          </p:blipFill>
          <p:spPr>
            <a:xfrm>
              <a:off x="3706920" y="4906800"/>
              <a:ext cx="62712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805200" y="5002200"/>
              <a:ext cx="4348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椭圆 34"/>
          <p:cNvGrpSpPr/>
          <p:nvPr/>
        </p:nvGrpSpPr>
        <p:grpSpPr>
          <a:xfrm>
            <a:off x="3224160" y="4449600"/>
            <a:ext cx="804960" cy="798840"/>
            <a:chOff x="3224160" y="4449600"/>
            <a:chExt cx="804960" cy="798840"/>
          </a:xfrm>
        </p:grpSpPr>
        <p:pic>
          <p:nvPicPr>
            <p:cNvPr id="118" name="椭圆 34" descr=""/>
            <p:cNvPicPr/>
            <p:nvPr/>
          </p:nvPicPr>
          <p:blipFill>
            <a:blip r:embed="rId13"/>
            <a:stretch/>
          </p:blipFill>
          <p:spPr>
            <a:xfrm>
              <a:off x="3224160" y="4449600"/>
              <a:ext cx="804960" cy="7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346560" y="4570560"/>
              <a:ext cx="558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椭圆 35"/>
          <p:cNvGrpSpPr/>
          <p:nvPr/>
        </p:nvGrpSpPr>
        <p:grpSpPr>
          <a:xfrm>
            <a:off x="2639880" y="4529160"/>
            <a:ext cx="517680" cy="519120"/>
            <a:chOff x="2639880" y="4529160"/>
            <a:chExt cx="517680" cy="519120"/>
          </a:xfrm>
        </p:grpSpPr>
        <p:pic>
          <p:nvPicPr>
            <p:cNvPr id="121" name="椭圆 35" descr=""/>
            <p:cNvPicPr/>
            <p:nvPr/>
          </p:nvPicPr>
          <p:blipFill>
            <a:blip r:embed="rId14"/>
            <a:stretch/>
          </p:blipFill>
          <p:spPr>
            <a:xfrm>
              <a:off x="2639880" y="4529160"/>
              <a:ext cx="5176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720880" y="4610160"/>
              <a:ext cx="3589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椭圆 36"/>
          <p:cNvGrpSpPr/>
          <p:nvPr/>
        </p:nvGrpSpPr>
        <p:grpSpPr>
          <a:xfrm>
            <a:off x="858960" y="4352760"/>
            <a:ext cx="628560" cy="627120"/>
            <a:chOff x="858960" y="4352760"/>
            <a:chExt cx="628560" cy="627120"/>
          </a:xfrm>
        </p:grpSpPr>
        <p:pic>
          <p:nvPicPr>
            <p:cNvPr id="124" name="椭圆 36" descr=""/>
            <p:cNvPicPr/>
            <p:nvPr/>
          </p:nvPicPr>
          <p:blipFill>
            <a:blip r:embed="rId15"/>
            <a:stretch/>
          </p:blipFill>
          <p:spPr>
            <a:xfrm>
              <a:off x="858960" y="4352760"/>
              <a:ext cx="6285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54000" y="4451400"/>
              <a:ext cx="4352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椭圆 37"/>
          <p:cNvGrpSpPr/>
          <p:nvPr/>
        </p:nvGrpSpPr>
        <p:grpSpPr>
          <a:xfrm>
            <a:off x="669960" y="4316400"/>
            <a:ext cx="798480" cy="798480"/>
            <a:chOff x="669960" y="4316400"/>
            <a:chExt cx="798480" cy="798480"/>
          </a:xfrm>
        </p:grpSpPr>
        <p:pic>
          <p:nvPicPr>
            <p:cNvPr id="127" name="椭圆 37" descr=""/>
            <p:cNvPicPr/>
            <p:nvPr/>
          </p:nvPicPr>
          <p:blipFill>
            <a:blip r:embed="rId16"/>
            <a:stretch/>
          </p:blipFill>
          <p:spPr>
            <a:xfrm>
              <a:off x="669960" y="431640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92000" y="4437000"/>
              <a:ext cx="557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椭圆 38"/>
          <p:cNvGrpSpPr/>
          <p:nvPr/>
        </p:nvGrpSpPr>
        <p:grpSpPr>
          <a:xfrm>
            <a:off x="1511280" y="4863960"/>
            <a:ext cx="519120" cy="525600"/>
            <a:chOff x="1511280" y="4863960"/>
            <a:chExt cx="519120" cy="525600"/>
          </a:xfrm>
        </p:grpSpPr>
        <p:pic>
          <p:nvPicPr>
            <p:cNvPr id="130" name="椭圆 38" descr=""/>
            <p:cNvPicPr/>
            <p:nvPr/>
          </p:nvPicPr>
          <p:blipFill>
            <a:blip r:embed="rId17"/>
            <a:stretch/>
          </p:blipFill>
          <p:spPr>
            <a:xfrm>
              <a:off x="1511280" y="4863960"/>
              <a:ext cx="51912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590840" y="4946760"/>
              <a:ext cx="360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椭圆 39"/>
          <p:cNvGrpSpPr/>
          <p:nvPr/>
        </p:nvGrpSpPr>
        <p:grpSpPr>
          <a:xfrm>
            <a:off x="1620720" y="4170240"/>
            <a:ext cx="628920" cy="621000"/>
            <a:chOff x="1620720" y="4170240"/>
            <a:chExt cx="628920" cy="621000"/>
          </a:xfrm>
        </p:grpSpPr>
        <p:pic>
          <p:nvPicPr>
            <p:cNvPr id="133" name="椭圆 39" descr=""/>
            <p:cNvPicPr/>
            <p:nvPr/>
          </p:nvPicPr>
          <p:blipFill>
            <a:blip r:embed="rId18"/>
            <a:stretch/>
          </p:blipFill>
          <p:spPr>
            <a:xfrm>
              <a:off x="1620720" y="4170240"/>
              <a:ext cx="62892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720800" y="4262400"/>
              <a:ext cx="4348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 txBox="1"/>
          <p:nvPr/>
        </p:nvSpPr>
        <p:spPr>
          <a:xfrm>
            <a:off x="380880" y="533520"/>
            <a:ext cx="8458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叶根友行书繁"/>
              </a:rPr>
              <a:t>齐抓共管 为了孩子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叶根友行书繁"/>
              <a:ea typeface="叶根友行书繁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4038480"/>
            <a:ext cx="7620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叶根友行书繁"/>
              </a:rPr>
              <a:t>欢迎您的到来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叶根友行书繁"/>
              <a:ea typeface="叶根友行书繁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823 -0.02917 0.03663 -0.05833 0.02934 -0.10602 C 0.02205 -0.1537 -0.04809 -0.21157 -0.0441 -0.28634 C -0.04011 -0.36111 0.04618 -0.4625 0.05295 -0.55486 C 0.05972 -0.64722 0.0283 -0.74421 -0.00295 -0.8412 E">
                                      <p:cBhvr>
                                        <p:cTn id="30" dur="54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autoRev="1" nodeType="withEffect" fill="hold" presetClass="path" presetID="0" repeatCount="indefinite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1.94444E-006 3.33333E-006 C -0.01718 -0.02338 -0.0342 -0.04653 -0.02951 -0.08634 C -0.02482 -0.12616 0.02605 -0.17569 0.02796 -0.23912 C 0.02987 -0.30255 -0.01822 -0.39514 -0.0177 -0.46667 C -0.01718 -0.53819 0.02657 -0.60995 0.03091 -0.66852 C 0.03525 -0.72708 0.02205 -0.77245 0.00886 -0.81759 E">
                                      <p:cBhvr>
                                        <p:cTn id="37" dur="57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autoRev="1" nodeType="withEffect" fill="hold" presetClass="path" presetID="0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2.22222E-006 3.33333E-006 C -0.01632 -0.01019 -0.03264 -0.02037 -0.02657 -0.06273 C -0.02049 -0.10509 0.03732 -0.18357 0.0368 -0.25486 C 0.03628 -0.32616 -0.02848 -0.40232 -0.02952 -0.49028 C -0.03056 -0.57847 0.00017 -0.68056 0.0309 -0.78241 E">
                                      <p:cBhvr>
                                        <p:cTn id="44" dur="58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autoRev="1" nodeType="withEffect" fill="hold" presetClass="path" presetID="0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C 0.01823 -0.02917 0.03663 -0.05833 0.02934 -0.10602 C 0.02205 -0.1537 -0.04809 -0.21157 -0.0441 -0.28634 C -0.04011 -0.36111 0.04618 -0.4625 0.05295 -0.55486 C 0.05972 -0.64722 0.0283 -0.74421 -0.00295 -0.8412 E">
                                      <p:cBhvr>
                                        <p:cTn id="51" dur="54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path" presetID="0" repeatCount="indefinite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1.94444E-006 3.33333E-006 C -0.01718 -0.02338 -0.0342 -0.04653 -0.02951 -0.08634 C -0.02482 -0.12616 0.02605 -0.17569 0.02796 -0.23912 C 0.02987 -0.30255 -0.01822 -0.39514 -0.0177 -0.46667 C -0.01718 -0.53819 0.02657 -0.60995 0.03091 -0.66852 C 0.03525 -0.72708 0.02205 -0.77245 0.00886 -0.81759 E">
                                      <p:cBhvr>
                                        <p:cTn id="58" dur="57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autoRev="1" nodeType="withEffect" fill="hold" presetClass="path" presetID="0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2.22222E-006 3.33333E-006 C -0.01632 -0.01019 -0.03264 -0.02037 -0.02657 -0.06273 C -0.02049 -0.10509 0.03732 -0.18357 0.0368 -0.25486 C 0.03628 -0.32616 -0.02848 -0.40232 -0.02952 -0.49028 C -0.03056 -0.57847 0.00017 -0.68056 0.0309 -0.78241 E">
                                      <p:cBhvr>
                                        <p:cTn id="65" dur="58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823 -0.02917 0.03663 -0.05833 0.02934 -0.10602 C 0.02205 -0.1537 -0.04809 -0.21157 -0.0441 -0.28634 C -0.04011 -0.36111 0.04618 -0.4625 0.05295 -0.55486 C 0.05972 -0.64722 0.0283 -0.74421 -0.00295 -0.8412 E">
                                      <p:cBhvr>
                                        <p:cTn id="72" dur="54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autoRev="1" nodeType="withEffect" fill="hold" presetClass="path" presetID="0" repeatCount="indefinite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1.94444E-006 3.33333E-006 C -0.01718 -0.02338 -0.0342 -0.04653 -0.02951 -0.08634 C -0.02482 -0.12616 0.02605 -0.17569 0.02796 -0.23912 C 0.02987 -0.30255 -0.01822 -0.39514 -0.0177 -0.46667 C -0.01718 -0.53819 0.02657 -0.60995 0.03091 -0.66852 C 0.03525 -0.72708 0.02205 -0.77245 0.00886 -0.81759 E">
                                      <p:cBhvr>
                                        <p:cTn id="79" dur="57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autoRev="1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22222E-006 3.33333E-006 C -0.01632 -0.01019 -0.03264 -0.02037 -0.02657 -0.06273 C -0.02049 -0.10509 0.03732 -0.18357 0.0368 -0.25486 C 0.03628 -0.32616 -0.02848 -0.40232 -0.02952 -0.49028 C -0.03056 -0.57847 0.00017 -0.68056 0.0309 -0.78241 E">
                                      <p:cBhvr>
                                        <p:cTn id="86" dur="58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autoRev="1" nodeType="withEffect" fill="hold" presetClass="path" presetID="0" repeatCount="indefinite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 0 C 0.01823 -0.02917 0.03663 -0.05833 0.02934 -0.10602 C 0.02205 -0.1537 -0.04809 -0.21157 -0.0441 -0.28634 C -0.04011 -0.36111 0.04618 -0.4625 0.05295 -0.55486 C 0.05972 -0.64722 0.0283 -0.74421 -0.00295 -0.8412 E">
                                      <p:cBhvr>
                                        <p:cTn id="93" dur="54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autoRev="1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94444E-006 3.33333E-006 C -0.01718 -0.02338 -0.0342 -0.04653 -0.02951 -0.08634 C -0.02482 -0.12616 0.02605 -0.17569 0.02796 -0.23912 C 0.02987 -0.30255 -0.01822 -0.39514 -0.0177 -0.46667 C -0.01718 -0.53819 0.02657 -0.60995 0.03091 -0.66852 C 0.03525 -0.72708 0.02205 -0.77245 0.00886 -0.81759 E">
                                      <p:cBhvr>
                                        <p:cTn id="100" dur="57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autoRev="1" nodeType="withEffect" fill="hold" presetClass="path" presetID="0" repeatCount="indefinite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2.22222E-006 3.33333E-006 C -0.01632 -0.01019 -0.03264 -0.02037 -0.02657 -0.06273 C -0.02049 -0.10509 0.03732 -0.18357 0.0368 -0.25486 C 0.03628 -0.32616 -0.02848 -0.40232 -0.02952 -0.49028 C -0.03056 -0.57847 0.00017 -0.68056 0.0309 -0.78241 E">
                                      <p:cBhvr>
                                        <p:cTn id="107" dur="58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autoRev="1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C 0.01823 -0.02917 0.03663 -0.05833 0.02934 -0.10602 C 0.02205 -0.1537 -0.04809 -0.21157 -0.0441 -0.28634 C -0.04011 -0.36111 0.04618 -0.4625 0.05295 -0.55486 C 0.05972 -0.64722 0.0283 -0.74421 -0.00295 -0.8412 E">
                                      <p:cBhvr>
                                        <p:cTn id="114" dur="54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autoRev="1" nodeType="withEffect" fill="hold" presetClass="path" presetID="0" repeatCount="indefinite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1.94444E-006 3.33333E-006 C -0.01718 -0.02338 -0.0342 -0.04653 -0.02951 -0.08634 C -0.02482 -0.12616 0.02605 -0.17569 0.02796 -0.23912 C 0.02987 -0.30255 -0.01822 -0.39514 -0.0177 -0.46667 C -0.01718 -0.53819 0.02657 -0.60995 0.03091 -0.66852 C 0.03525 -0.72708 0.02205 -0.77245 0.00886 -0.81759 E">
                                      <p:cBhvr>
                                        <p:cTn id="121" dur="57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autoRev="1" nodeType="withEffect" fill="hold" presetClass="path" presetID="0" repeatCount="indefinite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2.22222E-006 3.33333E-006 C -0.01632 -0.01019 -0.03264 -0.02037 -0.02657 -0.06273 C -0.02049 -0.10509 0.03732 -0.18357 0.0368 -0.25486 C 0.03628 -0.32616 -0.02848 -0.40232 -0.02952 -0.49028 C -0.03056 -0.57847 0.00017 -0.68056 0.0309 -0.78241 E">
                                      <p:cBhvr>
                                        <p:cTn id="128" dur="58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黑体"/>
              </a:rPr>
              <a:t>进 步 之 星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907920"/>
          <a:ext cx="7925040" cy="2190960"/>
        </p:xfrm>
        <a:graphic>
          <a:graphicData uri="http://schemas.openxmlformats.org/drawingml/2006/table">
            <a:tbl>
              <a:tblPr/>
              <a:tblGrid>
                <a:gridCol w="1874880"/>
                <a:gridCol w="2011320"/>
                <a:gridCol w="1981440"/>
                <a:gridCol w="20574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周测（</a:t>
                      </a:r>
                      <a:r>
                        <a:rPr b="0" lang="zh-CN" sz="18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进班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二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浮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贾子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尹岫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郭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873520" y="3228840"/>
            <a:ext cx="353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取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名以上进步的学生还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谢翔宇、褚睿韬、王春彭、张梦迪、朱玉颖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鹏飞、牛聪、张思雨、任庆林、李学鹏、朱玉颖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白浩贞、张美娜、徐雅迪、陈旭佳、魏明珠、李静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刘子靖、张家赫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黑体"/>
              </a:rPr>
              <a:t>家长关注：成绩退步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95280" y="1523880"/>
          <a:ext cx="6553080" cy="4876920"/>
        </p:xfrm>
        <a:graphic>
          <a:graphicData uri="http://schemas.openxmlformats.org/drawingml/2006/table">
            <a:tbl>
              <a:tblPr/>
              <a:tblGrid>
                <a:gridCol w="1042920"/>
                <a:gridCol w="615960"/>
                <a:gridCol w="525240"/>
                <a:gridCol w="1043280"/>
                <a:gridCol w="615960"/>
                <a:gridCol w="525240"/>
                <a:gridCol w="1042920"/>
                <a:gridCol w="615960"/>
                <a:gridCol w="525600"/>
              </a:tblGrid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思源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妍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耿婧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孙召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赵黎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婧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梁慧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夏志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陶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高玉霞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范聪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徐雅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陈少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佳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青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魏明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849680" y="10810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姓名    浮动   班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10666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姓名  浮动  班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74800" y="106668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姓名   浮动  班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07320" y="0"/>
            <a:ext cx="103356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不要让昨天的沮丧令明天的梦想黯然失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27080" y="0"/>
            <a:ext cx="103356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信你们定会奋起直追我们绝非等闲之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0880" y="1219320"/>
            <a:ext cx="815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成绩属于过去；戒骄戒躁，踏实努力，向新的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标进军。提早下手，剑指期末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411360"/>
            <a:ext cx="8153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的家长看到你退步的成绩心里也不好受，也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你着急。但是他们不想给你过多的压力，你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他们心中最最重要。希望找问题、找差距，不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气、不服输。能够用你的实际行动来提升自己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成绩，给自己希望，不让父母失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520" y="2590920"/>
            <a:ext cx="2743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温馨提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3520" y="38088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警示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380880"/>
            <a:ext cx="6172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为了咱的孩子，咱应携手并进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9036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成绩背后的思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365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此时此刻，我更想和大家谈一谈面对学生目前存在的问题，沉重的升学压力面前，我们家长要如何做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黑体"/>
              </a:rPr>
              <a:t>成绩反映的问题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个别同学上课自以为是，不够专心，甚至出现开小差。有些学生作业马虎，作业差错多，选择题乱猜，计算题只写一个答案；老师讲评过的练习部分学生始终没有养成及时订正的习惯，导致已做过的练习屡做屡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放松学习，行为懒散。学习不扎实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不能落到实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个别同学没有明确的目标。学生自觉性差，老师在与不在不一样，有些同学会违反纪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对老师的要求打折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黑体"/>
              </a:rPr>
              <a:t>考试之后我们做的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04256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7200">
              <a:lnSpc>
                <a:spcPts val="3098"/>
              </a:lnSpc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落实学生的成绩情况之后，寻找该生的薄弱科目，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确定培优补差学生名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ts val="3098"/>
              </a:lnSpc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通过班主任与各科任老师联系，对补差学生给予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的关注，时时跟踪，使学生在薄弱科上有所进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ts val="3098"/>
              </a:lnSpc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加强学生的时间观念，通过谈话帮助学生分析成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找出原因。帮助学生确定目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ts val="3098"/>
              </a:lnSpc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加强自习课余时间的整体辅导和个别辅导，对学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进行面批面改，加强跟踪力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ts val="3098"/>
              </a:lnSpc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严格常规管理，严格请假制度，严格班规班纪，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定学习秩序，为全面复习保驾护航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ts val="3098"/>
              </a:lnSpc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老师们全力以赴，精心备课，组织好考前总复习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和学生同甘共苦，关爱每一个学生，用真情激励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生奋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总 结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一个月的努力，二调考试检验了我们孩子们的学习效果，不管成功还是失败，进步还是退步，成绩已经摆在我们面前，我们虽然无力改变，但却能够从中帮助孩子总结成功的经验找到失败的教训。二调考试毕竟只是我们孩子们求学路上的一个路标，今天让我们老师、家长、孩子共同坐在一起认真探究一下原因，找到还有那些不足，让我们的孩子以高昂的斗志启程奔向下一个路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95280" y="1989000"/>
            <a:ext cx="828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rnd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给家长的几点建议</a:t>
            </a:r>
            <a:endParaRPr b="1" lang="en-US" sz="6000" spc="1" strike="noStrike">
              <a:ln cap="rnd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多关注孩子的成长。肯定孩子的每一点收获，鼓励孩子的每一点进步！最好每周和孩子沟通一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一定要教育孩子要服从老师的管理听老师的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相信老师，积极配合老师的工作，多于老师沟通。尤其是在孩子出现违纪行为时。希望家长配合工作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560" y="74772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积极培养孩子的吃苦耐劳的能力，教会孩子要勇于面对困难和挫折。训练孩子的自主能力，不做孩子的保护伞。再富不能富孩子，减少孩子生活上的攀比意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做好孩子的后勤工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6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多和学校、老师联系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了解学生在校的表现及学习情况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班时间最好别打。上午十一点后一点以前、晚上九点后我一般有时间。）这样，可以及时发现孩子存在的问题，把问题消灭在萌芽状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1981080"/>
            <a:ext cx="8077320" cy="70344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50000">
                <a:srgbClr val="ffff00"/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首先感谢您在百忙之中抽空来参加家长会。关心、帮助、督促孩子是我们共同的心愿！使您的孩子我的学生得到全面发展、取得优异的成绩是我们共同的目标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6094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尊敬的各位家长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752480" y="5334120"/>
            <a:ext cx="5181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我们需要共同努力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1341360"/>
            <a:ext cx="89917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欢迎家长们和教师经常交流，听听班主任和科任老师向您汇报学生学习和在校表现情况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最后，请家长们根据孩子的情况分析，对于学校的工作、对于我们的学校的教学管理、对教师的教学多提宝贵的意见和建议。谢谢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539640" y="476280"/>
            <a:ext cx="7920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谢您的到来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50920" y="3213000"/>
            <a:ext cx="8748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如果还有事情和问题请与各老师个别交流，谢谢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68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41584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553080" cy="5241960"/>
          </a:xfrm>
          <a:prstGeom prst="rect">
            <a:avLst/>
          </a:prstGeom>
          <a:ln w="0">
            <a:noFill/>
          </a:ln>
        </p:spPr>
      </p:pic>
      <p:pic>
        <p:nvPicPr>
          <p:cNvPr id="193" name="矩形 4" descr=""/>
          <p:cNvPicPr/>
          <p:nvPr/>
        </p:nvPicPr>
        <p:blipFill>
          <a:blip r:embed="rId3"/>
          <a:stretch/>
        </p:blipFill>
        <p:spPr>
          <a:xfrm>
            <a:off x="228600" y="5486400"/>
            <a:ext cx="876456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126600" y="2890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本次家长会圆满结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228600"/>
            <a:ext cx="75438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我们本次家长会的目的是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促进交流与合作，携手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进，齐抓共管，达成教育共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048120"/>
            <a:ext cx="75438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我们本次家长会的愿望是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家长积极配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老师倾情教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学生进步努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733840" y="276120"/>
            <a:ext cx="36669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280</a:t>
            </a:r>
            <a:r>
              <a:rPr b="1" lang="zh-CN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班教师团队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219320"/>
            <a:ext cx="7772400" cy="4115880"/>
          </a:xfrm>
          <a:prstGeom prst="rect">
            <a:avLst/>
          </a:prstGeom>
          <a:solidFill>
            <a:srgbClr val="fc5e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语文：王运江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1893183168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数学：李云磊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1536987815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英语：柳  林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1513184828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物理：刘新梅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1333308162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化学：郭  静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1563181523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生物：闫述楷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153698768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57240" y="5867280"/>
            <a:ext cx="5305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叶根友行书繁"/>
              </a:rPr>
              <a:t>不抛弃，不放弃任何一孩子！</a:t>
            </a:r>
            <a:endParaRPr b="1" lang="en-US" sz="32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叶根友行书繁"/>
              <a:ea typeface="叶根友行书繁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425520"/>
            <a:ext cx="388620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00"/>
                </a:solidFill>
                <a:latin typeface="黑体"/>
              </a:rPr>
              <a:t>我的班级管理理念：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29528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关注班上每一个学生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不放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任何一个学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没有最好，只有更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没有后进生，学生都是好样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不以一时成绩论英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希望每个学生都有好前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676520" y="5257800"/>
            <a:ext cx="5562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您的心愿就是我们的心愿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371600"/>
            <a:ext cx="7391520" cy="37339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71600" y="1981080"/>
            <a:ext cx="6172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一切为了学生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为了一切学生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为了学生的一切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14440" y="598320"/>
            <a:ext cx="628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班级介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多彩青春，奋进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26692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班级共计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8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人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男生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46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人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女生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38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人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我们是团结的集体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是一个追求上进的集体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每个成员都特别努力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每个孩子都潜力无穷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相信我们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给他们期望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给他们动力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他们一定会成功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三年后必定创造辉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同时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请相信我们会一起去创造奇迹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因为在这儿超越永无止境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黑体"/>
              </a:rPr>
              <a:t>二调考试成绩分析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80400" y="1981080"/>
            <a:ext cx="25275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正确看待每一次成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不比基础比进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不比聪明比勤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不比阔气比士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380880" y="1676520"/>
          <a:ext cx="8229600" cy="4167000"/>
        </p:xfrm>
        <a:graphic>
          <a:graphicData uri="http://schemas.openxmlformats.org/drawingml/2006/table">
            <a:tbl>
              <a:tblPr/>
              <a:tblGrid>
                <a:gridCol w="1005120"/>
                <a:gridCol w="927000"/>
                <a:gridCol w="785880"/>
                <a:gridCol w="785880"/>
                <a:gridCol w="785520"/>
                <a:gridCol w="789120"/>
                <a:gridCol w="787320"/>
                <a:gridCol w="785880"/>
                <a:gridCol w="789120"/>
                <a:gridCol w="788760"/>
              </a:tblGrid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总成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班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级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外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生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李红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6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2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18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8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8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谢翔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4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8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8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88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8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赵先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43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9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1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8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6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郭绍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4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1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18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9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褚睿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36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1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13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王芳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36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9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2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9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王召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2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1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6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96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9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张梦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26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1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9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6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张美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2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1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夏聪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23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9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96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8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79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5714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期中考试成绩分析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黑体"/>
              </a:rPr>
              <a:t>单 科 明 星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00040" y="1066680"/>
          <a:ext cx="7959600" cy="5024520"/>
        </p:xfrm>
        <a:graphic>
          <a:graphicData uri="http://schemas.openxmlformats.org/drawingml/2006/table">
            <a:tbl>
              <a:tblPr/>
              <a:tblGrid>
                <a:gridCol w="2776680"/>
                <a:gridCol w="2519280"/>
                <a:gridCol w="2663640"/>
              </a:tblGrid>
              <a:tr h="952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18720">
                      <a:solidFill>
                        <a:srgbClr val="ffa679"/>
                      </a:solidFill>
                    </a:lnB>
                    <a:solidFill>
                      <a:srgbClr val="9c9cb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科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18720">
                      <a:solidFill>
                        <a:srgbClr val="ffa679"/>
                      </a:solidFill>
                    </a:lnB>
                    <a:solidFill>
                      <a:srgbClr val="9c9cb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18720">
                      <a:solidFill>
                        <a:srgbClr val="ffa679"/>
                      </a:solidFill>
                    </a:lnB>
                    <a:solidFill>
                      <a:srgbClr val="9c9cbe"/>
                    </a:solidFill>
                  </a:tcPr>
                </a:tc>
              </a:tr>
              <a:tr h="725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婧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1872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cfd7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1872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cfd7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1872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cfd7e4"/>
                    </a:solidFill>
                  </a:tcPr>
                </a:tc>
              </a:tr>
              <a:tr h="728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红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e9ec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e9ec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e9ecf2"/>
                    </a:solidFill>
                  </a:tcPr>
                </a:tc>
              </a:tr>
              <a:tr h="73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段鸿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cfd7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外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cfd7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3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cfd7e4"/>
                    </a:solidFill>
                  </a:tcPr>
                </a:tc>
              </a:tr>
              <a:tr h="630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召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e9ec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e9ec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e9ecf2"/>
                    </a:solidFill>
                  </a:tcPr>
                </a:tc>
              </a:tr>
              <a:tr h="623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召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cfd7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cfd7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cfd7e4"/>
                    </a:solidFill>
                  </a:tcPr>
                </a:tc>
              </a:tr>
              <a:tr h="633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谢翔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e9ec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e9ec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a679"/>
                      </a:solidFill>
                    </a:lnL>
                    <a:lnR w="5760">
                      <a:solidFill>
                        <a:srgbClr val="ffa679"/>
                      </a:solidFill>
                    </a:lnR>
                    <a:lnT w="5760">
                      <a:solidFill>
                        <a:srgbClr val="ffa679"/>
                      </a:solidFill>
                    </a:lnT>
                    <a:lnB w="5760">
                      <a:solidFill>
                        <a:srgbClr val="ffa679"/>
                      </a:solidFill>
                    </a:lnB>
                    <a:solidFill>
                      <a:srgbClr val="e9ec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2-04-28T12:38:17Z</dcterms:modified>
  <cp:revision>1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