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84D-B09C-4A15-A7E1-2D91DB47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2AD-CECB-4E06-B0D5-C480E85C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FED-2C70-4399-A860-542B386F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246-080A-42F3-818A-9DC8374D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780-5136-4D75-A338-86DE3113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17D-640F-4283-81F1-8411669B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DE4-C7CA-466A-A466-0922B684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3A3-0C34-4CD3-B91C-EDD27D2E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87F-E587-436A-9C51-3CBF832A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8E7-2D01-4D06-949D-BFA1FF9F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4B7-6B19-44B9-B0D8-4EBB5C41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21C-3FAB-4BF3-802C-75EA4DE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0FE0-88F1-4C2F-8C6A-8BF4860BD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22200" y="247680"/>
            <a:ext cx="3770280" cy="26082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"/>
          <p:cNvSpPr/>
          <p:nvPr/>
        </p:nvSpPr>
        <p:spPr>
          <a:xfrm>
            <a:off x="155520" y="2914560"/>
            <a:ext cx="427536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解压后，把以上  两个文件  复制文件到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盘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1568520" y="3902040"/>
            <a:ext cx="50911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HB_MOULD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安装说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注意：升级安装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HB_MOULD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程序前请删除您电脑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D:\HB_MOULD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文件夹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把解压缩的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HB_MOULD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HBSTD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两个文件夹放于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盘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一定要放于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盘根目录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更改我的电脑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环境变量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新建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程序路径设置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变量名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(N):ugii_vendor_dir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（注意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ugii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前面不可有空格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变量值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(V):D:\HB_MOULD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（注意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前面不可有空格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即可立即使用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4"/>
          <p:cNvSpPr/>
          <p:nvPr/>
        </p:nvSpPr>
        <p:spPr>
          <a:xfrm>
            <a:off x="1619280" y="2276640"/>
            <a:ext cx="1152360" cy="215640"/>
          </a:xfrm>
          <a:prstGeom prst="ellipse">
            <a:avLst/>
          </a:prstGeom>
          <a:solidFill>
            <a:srgbClr val="ffc000">
              <a:alpha val="41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5"/>
          <p:cNvSpPr/>
          <p:nvPr/>
        </p:nvSpPr>
        <p:spPr>
          <a:xfrm>
            <a:off x="1631880" y="2489040"/>
            <a:ext cx="1150920" cy="216000"/>
          </a:xfrm>
          <a:prstGeom prst="ellipse">
            <a:avLst/>
          </a:prstGeom>
          <a:solidFill>
            <a:srgbClr val="ffc000">
              <a:alpha val="41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直接箭头连接符 6"/>
          <p:cNvCxnSpPr>
            <a:stCxn id="42" idx="0"/>
          </p:cNvCxnSpPr>
          <p:nvPr/>
        </p:nvCxnSpPr>
        <p:spPr>
          <a:xfrm flipV="1">
            <a:off x="2293200" y="2585520"/>
            <a:ext cx="110880" cy="3294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7" name="图片 7" descr=""/>
          <p:cNvPicPr/>
          <p:nvPr/>
        </p:nvPicPr>
        <p:blipFill>
          <a:blip r:embed="rId2"/>
          <a:stretch/>
        </p:blipFill>
        <p:spPr>
          <a:xfrm>
            <a:off x="4861080" y="247680"/>
            <a:ext cx="3321000" cy="3960720"/>
          </a:xfrm>
          <a:prstGeom prst="rect">
            <a:avLst/>
          </a:prstGeom>
          <a:ln w="0">
            <a:noFill/>
          </a:ln>
        </p:spPr>
      </p:pic>
      <p:sp>
        <p:nvSpPr>
          <p:cNvPr id="48" name="椭圆 9"/>
          <p:cNvSpPr/>
          <p:nvPr/>
        </p:nvSpPr>
        <p:spPr>
          <a:xfrm>
            <a:off x="4559400" y="1319040"/>
            <a:ext cx="301680" cy="287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0"/>
          <p:cNvSpPr/>
          <p:nvPr/>
        </p:nvSpPr>
        <p:spPr>
          <a:xfrm>
            <a:off x="8048520" y="2962440"/>
            <a:ext cx="301680" cy="2872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1"/>
          <p:cNvSpPr/>
          <p:nvPr/>
        </p:nvSpPr>
        <p:spPr>
          <a:xfrm>
            <a:off x="4687920" y="2417760"/>
            <a:ext cx="299880" cy="2872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0T06:40:28Z</dcterms:created>
  <dc:creator>Administrator</dc:creator>
  <dc:description/>
  <dc:language>en-US</dc:language>
  <cp:lastModifiedBy>Administrator</cp:lastModifiedBy>
  <dcterms:modified xsi:type="dcterms:W3CDTF">2016-10-20T09:28:00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