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442-BA07-44DA-B6B7-50B7D6B8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A0F-B977-4023-A1A1-EC628925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3AC-F88D-4D30-AAE6-1C40B090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6EEC-3432-4210-8603-8AC0976E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DA93-B894-4DCC-97EF-04FEA1D1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8FD2-8460-4E6F-A68E-F18455B3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F5CB-E219-4BB5-9AC0-85F9AAB5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484C-88ED-4A24-9ED8-91FD13D8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5889-E4CB-4BE4-8833-2E300E49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C49D-5C07-49E9-AD42-C8AC83E9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1CDA-4BC4-41B1-A83E-65882CD6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F320-FF4E-4B52-ACE5-A6806A7F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40EE-AE58-4EB2-A9A4-34C51260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0104-4836-41EB-8953-7525D182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FDF4-F71D-4712-9E39-5F492558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9465-350C-40D8-A3D7-9BC916B5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C21A-CC7B-4237-AE93-CFB0F299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EA0-4040-4E8D-AD33-60B4AFB7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C49-934E-465C-9448-F0D8AF84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4F1-07B8-4A15-9DE8-FF68FF18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F641-F5F7-4980-9AFF-C7905F47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C0C-6CC5-415F-94E3-5400A8D0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F2C-D94E-4801-8B84-C92B40B4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0FC-A2D5-4AC4-AA31-3F81DF47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D586-D72E-413E-990C-775B096EA74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84B7-AEB6-47C7-99CD-B56ACD0DCA4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2208960"/>
            <a:ext cx="426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苏州民间艺人殷毅军耗时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个多月完成了微雕橄榄核舟作品“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东坡泛舟赤壁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” 。该作品长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厘米，高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1.8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厘米，堪称一绝的是舟上的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扇花窗不仅能自如开启，还能自如拆卸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533520"/>
            <a:ext cx="876312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《核舟记》选自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《虞初新志》。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《虞初新志》是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清代张潮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选的一部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笔记体小说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，以铺写故事、记叙人物为中心。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全书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卷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，所收多为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明末清初仿拟传奇故事之作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，形式近于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搜奇志异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，并加评语，是一部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短篇文言小说集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-763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2.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《虞初新志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3808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3.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文体：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219320"/>
            <a:ext cx="8610480" cy="30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记是一种文体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，可以记人和事，可以记山川名胜，可以记器物建筑，故又称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“杂记”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。在写法上大多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以记叙为主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，兼有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议论、抒情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3808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3.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文体：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219320"/>
            <a:ext cx="8610480" cy="30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本文是一篇介绍微雕工艺品——核舟的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说明文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，即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事物说明文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，目的是要展示我国古代劳动人们的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聪明智慧和卓越技艺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说明文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762120"/>
            <a:ext cx="876312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说明文是一种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以说明为主要表达方式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来客观地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说明事物、阐明事理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的一种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文体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。目的在于给人以知识：或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说明事物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的形状、构造、性质、功能等，或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阐明事理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76320"/>
            <a:ext cx="935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黑体"/>
                <a:ea typeface="黑体"/>
              </a:rPr>
              <a:t>第二部分：积累重点字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4960" y="914400"/>
            <a:ext cx="979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二、重难点字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1803240"/>
            <a:ext cx="9361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器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皿 罔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不因势象形 尝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贻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余核舟一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舟首尾长约八分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有奇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高可二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黍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许 中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轩敞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者为舱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箬篷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覆之 石青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糝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之  中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峨冠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而多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髯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者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为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东坡  如有所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语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各隐卷底衣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褶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中  佛印绝类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弥勒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袒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胸露乳 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矫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首昂视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诎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右臂支船  珠可历历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数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也   舟尾横卧一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4960" y="243000"/>
            <a:ext cx="979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二、重难点字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1206360"/>
            <a:ext cx="9361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居右者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椎髻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仰面  左手倚一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衡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若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啸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呼状  左手执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蒲葵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其船背稍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夷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天启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壬戌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钩画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了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虞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山王毅叔远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甫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刻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又用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篆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章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为字共三十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有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四  而计其长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曾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不盈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1280" y="4800600"/>
            <a:ext cx="979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多音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奇、冠、语、数、了、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914400" y="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ffff"/>
                </a:solidFill>
                <a:latin typeface="Times New Roman"/>
                <a:ea typeface="黑体"/>
              </a:rPr>
              <a:t>二、重难点字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422440"/>
            <a:ext cx="86108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罔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不因势象形 　尝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黍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许 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糝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之 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箬  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401840"/>
            <a:ext cx="20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wǎ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89680" y="1432080"/>
            <a:ext cx="11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隶书"/>
              </a:rPr>
              <a:t>y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8040" y="4175280"/>
            <a:ext cx="163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隶书"/>
              </a:rPr>
              <a:t>sh</a:t>
            </a: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4175280"/>
            <a:ext cx="160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隶书"/>
              </a:rPr>
              <a:t>sǎ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417528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uò pé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1859040"/>
            <a:ext cx="86108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中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峨 冠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而多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髯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者 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器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皿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轩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敞 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倚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衣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89856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é guā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3611520"/>
            <a:ext cx="163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隶书"/>
              </a:rPr>
              <a:t>mǐ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3611520"/>
            <a:ext cx="21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隶书"/>
              </a:rPr>
              <a:t>xuā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3565440"/>
            <a:ext cx="403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y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89856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rá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358128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zh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1935000"/>
            <a:ext cx="86108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袒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胸 　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矫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首   稍夷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椎  髻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篆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文  舟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914400"/>
            <a:ext cx="20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tǎ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70920" y="94464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隶书"/>
              </a:rPr>
              <a:t>y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3687840"/>
            <a:ext cx="358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隶书"/>
              </a:rPr>
              <a:t>zhuī j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3657600"/>
            <a:ext cx="312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隶书"/>
              </a:rPr>
              <a:t>zhuà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96080" y="368784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914400"/>
            <a:ext cx="20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jiǎ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0880" y="1935000"/>
            <a:ext cx="86108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壬  戌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　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甫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刻  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弥 勒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诎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右臂   八分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有 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97776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rén x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94464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隶书"/>
              </a:rPr>
              <a:t>mí l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368784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隶书"/>
              </a:rPr>
              <a:t>q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07200" y="3657600"/>
            <a:ext cx="312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隶书"/>
              </a:rPr>
              <a:t>yò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368784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28960" y="974880"/>
            <a:ext cx="20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f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41280" y="2405160"/>
            <a:ext cx="9793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四、通假字（要解释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舟首尾长约八分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左手倚一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衡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虞山王毅叔远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甫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为字共三十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577800"/>
            <a:ext cx="979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黑体"/>
                <a:ea typeface="黑体"/>
              </a:rPr>
              <a:t>三、成语积累（要解释）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水落石出、水波不兴、细若蚊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492120"/>
            <a:ext cx="979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三、成语积累（要解释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水落石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43828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水落下去，水底的石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就露出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原指一种自然现象，后多比喻事情终于真相大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DefaultOcx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492120"/>
            <a:ext cx="9793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三、成语积累（要解释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水波不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细若蚊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1337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没有涟漪和波纹，形容十分平静。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66416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形容字迹细小得像蚊子的脚。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492120"/>
            <a:ext cx="9793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四、通假字（要解释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舟首尾长约八分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有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诎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右臂支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左手倚一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衡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虞山王毅叔远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甫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为字共三十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有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83808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本文结构方式是（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211284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A  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总——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56076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B  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总——分——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39920" y="5043600"/>
            <a:ext cx="57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C  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分——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30920" y="838080"/>
            <a:ext cx="59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3967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奇巧人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396720"/>
            <a:ext cx="628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手艺奇妙精巧的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3516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曰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12492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叫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07324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以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213516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8764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径寸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16080" y="2987640"/>
            <a:ext cx="384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直径一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8257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之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16080" y="3825720"/>
            <a:ext cx="25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66416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为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16080" y="4678200"/>
            <a:ext cx="25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雕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57856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以至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5578560"/>
            <a:ext cx="346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甚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5720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46196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92400" y="1461960"/>
            <a:ext cx="35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顺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4526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势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92400" y="2452680"/>
            <a:ext cx="628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形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367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象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92400" y="3367080"/>
            <a:ext cx="628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雕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53341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情态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53341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神情和姿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572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罔不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16080" y="457200"/>
            <a:ext cx="452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无不，全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43434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具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92400" y="4343400"/>
            <a:ext cx="35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具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22860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ff"/>
                </a:solidFill>
                <a:latin typeface="黑体"/>
                <a:ea typeface="黑体"/>
              </a:rPr>
              <a:t>[</a:t>
            </a:r>
            <a:r>
              <a:rPr b="1" lang="zh-CN" sz="6600" spc="-1" strike="noStrike">
                <a:solidFill>
                  <a:srgbClr val="ffccff"/>
                </a:solidFill>
                <a:latin typeface="黑体"/>
                <a:ea typeface="黑体"/>
              </a:rPr>
              <a:t>罔不因势象形，各具情态</a:t>
            </a:r>
            <a:r>
              <a:rPr b="1" lang="zh-CN" sz="6600" spc="-1" strike="noStrike">
                <a:solidFill>
                  <a:srgbClr val="ffccff"/>
                </a:solidFill>
                <a:latin typeface="黑体"/>
                <a:ea typeface="黑体"/>
              </a:rPr>
              <a:t>]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228600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6600" spc="-1" strike="noStrike">
                <a:solidFill>
                  <a:srgbClr val="ffff00"/>
                </a:solidFill>
                <a:latin typeface="黑体"/>
                <a:ea typeface="黑体"/>
              </a:rPr>
              <a:t>全都是按照（材料原来的）形状雕刻成各种事物的形象，各自具备神情和姿态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3049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尝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06600" y="304920"/>
            <a:ext cx="628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曾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2193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贻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82920" y="1219320"/>
            <a:ext cx="628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赠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11004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盖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06600" y="3048120"/>
            <a:ext cx="650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表示推测的句首语气词，译为“应当是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46339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泛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06600" y="4649760"/>
            <a:ext cx="567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泛舟，坐船游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56272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云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06600" y="5638680"/>
            <a:ext cx="650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句尾语助词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不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1337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核舟一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21337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一（个）核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20" y="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总说：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概述王叔远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高超的雕刻技艺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以及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核舟的由来和主题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494000"/>
            <a:ext cx="65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大苏泛赤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233028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、三方面：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一、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用“径寸之木”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说明雕刻材料的微小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；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二、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用“宫室、器皿、人物、鸟兽、木石”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说明雕刻题材的广泛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；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三、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用“罔不因势象形，各具情态” 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说明其雕刻技艺的高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36684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有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36684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通“又”，用于连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整数和零数之间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337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奇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1193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零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971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可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2957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大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38098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许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8098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上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47242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轩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47242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高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5638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为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562464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533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箬篷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533520"/>
            <a:ext cx="7467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用箬竹叶做的船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（名词作状语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24382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之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43828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指船舱（代词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429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启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342900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打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6520" y="4419720"/>
            <a:ext cx="193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而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17920" y="44197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来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（顺承关系连词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410080"/>
            <a:ext cx="19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相望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541008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左右相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280" y="1066680"/>
            <a:ext cx="96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［启窗而观，雕栏相望焉］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2362320"/>
            <a:ext cx="746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　　打开窗户来看，雕刻着花纹的栏杆左右相对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914400" y="28954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兴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290988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3049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之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30492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代词，指窗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1143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则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11430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20574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徐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20574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缓缓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724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糁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472428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5638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之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563868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代词，指刻字的凹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38098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石青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38098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用石青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（名词作状语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52280" y="38088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分说：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介绍了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核舟的体积大小和船舱的格局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2514600"/>
            <a:ext cx="944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空间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顺序：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从整体到局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3809880"/>
            <a:ext cx="883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以核舟之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小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来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衬托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核舟景物之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多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烘托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王叔远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雕刻技艺的高超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0880" y="114300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4.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①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暗示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核舟的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背景和主题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：与“大苏泛赤壁”的情景相吻合，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照应第一段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；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②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使读者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惊叹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王叔远构思的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奇巧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5335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峨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473040"/>
            <a:ext cx="628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高高的帽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22096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而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0" y="22096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并且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（并列关系连词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32004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髯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62320" y="3200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胡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52578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为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52578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41911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多髯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62320" y="426708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多胡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28600" y="838080"/>
            <a:ext cx="906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[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中峨冠而多髯者</a:t>
            </a:r>
            <a:r>
              <a:rPr b="1" lang="zh-CN" sz="6000" spc="-1" strike="noStrike">
                <a:solidFill>
                  <a:srgbClr val="66ffff"/>
                </a:solidFill>
                <a:latin typeface="黑体"/>
                <a:ea typeface="黑体"/>
              </a:rPr>
              <a:t>为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东坡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]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9810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中间戴着高高的帽子并且两腮多胡须的人</a:t>
            </a:r>
            <a:r>
              <a:rPr b="1" lang="zh-CN" sz="6000" spc="-1" strike="noStrike">
                <a:solidFill>
                  <a:srgbClr val="66ffff"/>
                </a:solidFill>
                <a:latin typeface="黑体"/>
                <a:ea typeface="黑体"/>
              </a:rPr>
              <a:t>是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苏东坡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388620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判断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516564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黑体"/>
              </a:rPr>
              <a:t>外貌描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295280" y="4856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居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48564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坐，位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4000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手卷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13860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横幅的书画卷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执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22860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拿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004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卷端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32004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画幅的右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1911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抚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191120"/>
            <a:ext cx="628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抚摸，按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51814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卷末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90920" y="518148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画幅的左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14400" y="19810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语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0" y="19810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说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5105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现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51055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显露，露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295596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[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如有所语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]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402264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好像在说什么似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295596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黑体"/>
              </a:rPr>
              <a:t>倒装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9907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所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990720"/>
            <a:ext cx="628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什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160020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微侧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1600200"/>
            <a:ext cx="628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略微侧转（身子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254304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其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24526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他们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34290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比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62320" y="34290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靠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4197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其两膝相比者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541008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他们的互相靠近的两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6094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各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38280" y="6094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各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19920" y="441972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黑体"/>
              </a:rPr>
              <a:t>倒装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57200" y="1522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[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各微侧，其两膝相 比者，各隐卷底衣褶中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]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057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各自略微侧转（身子），他们的互相靠近的两膝，各自隐藏在卷子下边的衣褶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5775480"/>
            <a:ext cx="899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黑体"/>
              </a:rPr>
              <a:t>细节描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87280" y="248616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袒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58880" y="2486160"/>
            <a:ext cx="628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袒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87280" y="33526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矫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33526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87280" y="42670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首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58880" y="431496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5520" y="51814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不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属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58880" y="518148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不相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类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87280" y="7002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绝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14600" y="6858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极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（以为妙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绝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87280" y="16002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类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14600" y="16002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609480"/>
            <a:ext cx="922032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ccff"/>
                </a:solidFill>
                <a:latin typeface="黑体"/>
                <a:ea typeface="黑体"/>
              </a:rPr>
              <a:t>[</a:t>
            </a:r>
            <a:r>
              <a:rPr b="1" lang="zh-CN" sz="5100" spc="-1" strike="noStrike">
                <a:solidFill>
                  <a:srgbClr val="ffccff"/>
                </a:solidFill>
                <a:latin typeface="黑体"/>
                <a:ea typeface="黑体"/>
              </a:rPr>
              <a:t>佛印绝类弥勒，袒胸露乳，矫首昂视，神情与苏、黄不属</a:t>
            </a:r>
            <a:r>
              <a:rPr b="1" lang="zh-CN" sz="5100" spc="-1" strike="noStrike">
                <a:solidFill>
                  <a:srgbClr val="ffccff"/>
                </a:solidFill>
                <a:latin typeface="黑体"/>
                <a:ea typeface="黑体"/>
              </a:rPr>
              <a:t>]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438280"/>
            <a:ext cx="929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佛印极像弥勒佛，袒开 胸膛，露出两乳，抬头仰望，神情与东坡、鲁直不相类似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28800" y="586728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502920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黑体"/>
              </a:rPr>
              <a:t>神态描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04920" y="195264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支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76520" y="1952640"/>
            <a:ext cx="628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支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29718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而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29718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并且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（并列关系的连词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38862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其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3886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他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48006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倚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48006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4920" y="166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卧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31880" y="1522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平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066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诎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31880" y="10666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弯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57150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之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571500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代词，指左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4120" y="46483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黑体"/>
              </a:rPr>
              <a:t>动作描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04920" y="7002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历历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6858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分明可数的样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1676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数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16765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计算数目，数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2727360"/>
            <a:ext cx="76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[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珠可历历数也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]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380988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念珠可以清清楚楚地数出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5013360"/>
            <a:ext cx="899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黑体"/>
              </a:rPr>
              <a:t>细节描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04920" y="45720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分说：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介绍了船头三个主要人物的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位置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及他们的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外貌神情和动作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3413160"/>
            <a:ext cx="944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、峨冠而多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46324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、主角：苏东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57200" y="457200"/>
            <a:ext cx="81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、①佛印的神情：袒胸露乳，矫首昂视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——超尘脱俗、洒脱不群的神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33084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②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苏、黄的神情：执卷抚背，如有所语，各微侧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——闲适的神态、豁达放旷的胸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04920" y="762120"/>
            <a:ext cx="906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5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细节描写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：烘托王叔远雕刻技艺的高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0880" y="914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其两膝相比者，各隐卷底衣褶中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298764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他们的互相靠近的两膝，各自隐藏在卷子下边的衣褶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04920" y="19051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舟子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52520" y="190512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撑船的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2895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椎髻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84560" y="2895480"/>
            <a:ext cx="884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椎形发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38862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倚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28840" y="3886200"/>
            <a:ext cx="407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倚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9036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横卧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08240" y="76320"/>
            <a:ext cx="771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横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90720" y="990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楫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08240" y="990720"/>
            <a:ext cx="771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船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48769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衡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60520" y="48769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通“横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7913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攀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579132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扳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29200" y="569916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黑体"/>
              </a:rPr>
              <a:t>动作描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143000" y="44197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执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44197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拿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54100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抚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11520" y="54100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摸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6094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若…状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57600" y="60948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好像…的样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1600200"/>
            <a:ext cx="92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[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若啸呼状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]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2514600"/>
            <a:ext cx="92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好像在大声呼叫的样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341316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黑体"/>
              </a:rPr>
              <a:t>神态描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0" y="472428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黑体"/>
              </a:rPr>
              <a:t>动作描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33520" y="36576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容寂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3657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神色平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48006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若…然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71800" y="48006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好像…的样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43000" y="14479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视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14479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眼睛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（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v—n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3000" y="25146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端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2514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正，端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3808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其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人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3808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那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个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743200" y="562284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黑体"/>
              </a:rPr>
              <a:t>神态描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76320" y="990720"/>
            <a:ext cx="92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[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其人视端容寂，若听茶声然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2209680"/>
            <a:ext cx="861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那个人眼睛正视着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茶炉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，神色平静，好像在听茶水烧开了没有的样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2280" y="76320"/>
            <a:ext cx="883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分说：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介绍了船尾两个舟子的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动作和神态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2280" y="1752480"/>
            <a:ext cx="944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右：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椎髻仰面，若啸呼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  ——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悠闲自在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左：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视端容寂，若听茶声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  ——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专注的样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5029200"/>
            <a:ext cx="95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渲染了舟中轻松、愉悦  的气氛，呼应船头的情景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523880" y="1676520"/>
            <a:ext cx="883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然：…的样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2120" y="60948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状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…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的样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066680" y="20574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夷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635200" y="2057400"/>
            <a:ext cx="628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平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30481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其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666880" y="3048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它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243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其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90920" y="2286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1143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稍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0920" y="11430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比较，稍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49687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那船的顶部比较平坦，就在它的上面题上名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038480"/>
            <a:ext cx="95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其船背稍夷，则题名    其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40384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（于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62120" y="168120"/>
            <a:ext cx="209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曰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54320" y="168120"/>
            <a:ext cx="39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1082520"/>
            <a:ext cx="209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甫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0" y="108252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通“父”，古代对男子的美称。（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fǔ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57150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了了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（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liǎo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）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73480" y="5715000"/>
            <a:ext cx="628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清楚明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066680" y="2819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若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14600" y="28195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好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3719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足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37339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47242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钩画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8006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笔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295280" y="3808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其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19520" y="3808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它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13716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墨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13716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228600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[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细若蚊足，钩画了了，其色墨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]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40384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（字迹）细小得像蚊子的脚，笔画清楚明白，它的颜色是黑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80880" y="4572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篆章一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5335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一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（枚）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篆字图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52480" y="14479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丹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14479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16444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黑体"/>
                <a:ea typeface="黑体"/>
              </a:rPr>
              <a:t>核  舟  </a:t>
            </a:r>
            <a:r>
              <a:rPr b="1" lang="zh-CN" sz="9600" spc="-1" strike="noStrike">
                <a:solidFill>
                  <a:srgbClr val="ffff00"/>
                </a:solidFill>
                <a:latin typeface="黑体"/>
                <a:ea typeface="黑体"/>
              </a:rPr>
              <a:t>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3382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黑体"/>
                <a:ea typeface="黑体"/>
              </a:rPr>
              <a:t>文体</a:t>
            </a:r>
            <a:r>
              <a:rPr b="1" lang="zh-CN" sz="7200" spc="-1" strike="noStrike">
                <a:solidFill>
                  <a:srgbClr val="00ff99"/>
                </a:solidFill>
                <a:latin typeface="黑体"/>
                <a:ea typeface="黑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0880" y="152280"/>
            <a:ext cx="906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分说：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介绍核舟顶部的刻字，显示雕刻技艺的高超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2362320"/>
            <a:ext cx="9448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技艺精细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细若蚊足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    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钩画了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构思巧妙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一红（篆章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    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一黑（题名）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    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对照鲜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09480" y="228600"/>
            <a:ext cx="209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甫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33720" y="22860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通“父”，古代对男子的美称。（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fǔ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21337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衡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31920" y="21337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同“横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320" y="3124080"/>
            <a:ext cx="92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[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其人视端容寂，若听茶声然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0880" y="40705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那个人眼睛正视着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茶炉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，神色平静，好像在听茶水烧开了没有的样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04920" y="97488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[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细若蚊足，钩画了了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]</a:t>
            </a:r>
            <a:r>
              <a:rPr b="1" lang="zh-CN" sz="6000" spc="-1" strike="noStrike">
                <a:solidFill>
                  <a:srgbClr val="ffccff"/>
                </a:solidFill>
                <a:latin typeface="黑体"/>
                <a:ea typeface="黑体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227016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（字迹）细小得像蚊子的脚，笔画清楚明白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04920" y="762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ff"/>
                </a:solidFill>
                <a:latin typeface="黑体"/>
                <a:ea typeface="黑体"/>
              </a:rPr>
              <a:t>2—5</a:t>
            </a:r>
            <a:r>
              <a:rPr b="1" lang="zh-CN" sz="6600" spc="-1" strike="noStrike">
                <a:solidFill>
                  <a:srgbClr val="ffccff"/>
                </a:solidFill>
                <a:latin typeface="黑体"/>
                <a:ea typeface="黑体"/>
              </a:rPr>
              <a:t>段：分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205740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详细介绍了核舟的形状、结构，描述舟上各处人物的神情状貌，用事实说明雕刻者精湛的技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09480" y="5335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通计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666880" y="533520"/>
            <a:ext cx="39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总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1447920"/>
            <a:ext cx="209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为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98920" y="15238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雕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24224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人五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43200" y="242244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五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（个）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3352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窗八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19520" y="335268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八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（扇）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43434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箬篷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19520" y="432900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用箬竹叶做的船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55760" y="53341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楫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5334120"/>
            <a:ext cx="771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船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85800" y="1295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并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003400" y="1295280"/>
            <a:ext cx="39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25146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有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95480" y="2530440"/>
            <a:ext cx="580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同“又”，用来连接整数和零数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1522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而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81080" y="1666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可是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（转折关系连词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11732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其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115884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它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21636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曾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2163600"/>
            <a:ext cx="771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竟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31543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盈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057400" y="3154320"/>
            <a:ext cx="39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40687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[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而计其长曾不盈寸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]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49528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可是计算它的长度竟然不满一寸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5791320"/>
            <a:ext cx="5334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——</a:t>
            </a: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径寸之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295280" y="152280"/>
            <a:ext cx="209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盖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698920" y="1522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原来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295280" y="112716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简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11430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挑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2133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修狭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21337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长而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3124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之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19520" y="312408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它，代核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41148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[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盖简桃核修狭者为之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]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49528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原来是挑选一个长而窄的桃核雕刻成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77120" y="56386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黑体"/>
              </a:rPr>
              <a:t>倒装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295280" y="3808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技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666880" y="380880"/>
            <a:ext cx="39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技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295280" y="1371600"/>
            <a:ext cx="209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亦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698920" y="137160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23623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灵怪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23623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神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3352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矣哉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819520" y="335268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啊（加强惊叹语气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44197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[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技亦灵怪矣哉！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]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3520" y="5425920"/>
            <a:ext cx="899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技艺也真神奇啊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248520" y="53182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ff"/>
                </a:solidFill>
                <a:latin typeface="Arial"/>
                <a:ea typeface="黑体"/>
              </a:rPr>
              <a:t>议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04920" y="763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总括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核舟上所刻的人、窗及其他物品的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数量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和刻字的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总数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，高度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赞扬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王叔远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神奇的技艺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0880" y="3476520"/>
            <a:ext cx="8991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以具体的数目说明核舟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体积虽小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，但雕刻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容量极大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烘托出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王叔远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雕刻技艺的高超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引出下文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的赞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108000" y="-25560"/>
            <a:ext cx="93600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黑体"/>
                <a:ea typeface="黑体"/>
              </a:rPr>
              <a:t>第一部分：积累文学常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295280"/>
            <a:ext cx="91933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ff"/>
                </a:solidFill>
                <a:latin typeface="黑体"/>
                <a:ea typeface="黑体"/>
              </a:rPr>
              <a:t>一、文学常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简介作者：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魏学伊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（名时地作评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简介作品：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《虞初新志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简介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写作背景：微雕技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简介文体：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记（说明性体裁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积累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民间艺人的技艺和轶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6.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朗读、划清节奏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并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背诵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7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依据课文介绍的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核舟放大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倍画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08000" y="-711360"/>
            <a:ext cx="93600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23.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核舟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28600" y="30492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、照应第一段：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“径寸之木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2378160"/>
            <a:ext cx="922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、开篇：奇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结尾：技亦灵怪矣哉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11872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ffff"/>
                </a:solidFill>
                <a:latin typeface="黑体"/>
                <a:ea typeface="黑体"/>
              </a:rPr>
              <a:t>全文总结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" y="40384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黑体"/>
                <a:ea typeface="黑体"/>
              </a:rPr>
              <a:t>结构特点：首尾呼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0880" y="5318280"/>
            <a:ext cx="922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、根据结构图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背诵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课文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04920" y="30492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ff"/>
                </a:solidFill>
                <a:latin typeface="黑体"/>
                <a:ea typeface="黑体"/>
              </a:rPr>
              <a:t>文言积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0880" y="2362320"/>
            <a:ext cx="92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二、重、难点字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0880" y="1371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一、文学常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429000"/>
            <a:ext cx="93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三、通假字：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有、衡、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4419720"/>
            <a:ext cx="92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四、古今异义词：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相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" y="5410080"/>
            <a:ext cx="92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五、词类活用：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箬篷、石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80880" y="55627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八、成语积累：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水落石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4920" y="2927520"/>
            <a:ext cx="876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七、特殊句式：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判断句、省略句（省主语、省宾语、省“于”、省量词）、倒装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228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六、一词多义：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奇、有、为、可、端、并、属、绝、其、而、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2800440"/>
            <a:ext cx="845820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5400" spc="-1" strike="noStrike">
                <a:solidFill>
                  <a:srgbClr val="ffff00"/>
                </a:solidFill>
                <a:latin typeface="黑体"/>
                <a:ea typeface="黑体"/>
              </a:rPr>
              <a:t>魏学洢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字子敬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，明末嘉善人，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明末著名散文家、文学家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，著有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《茅檐集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7524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1.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魏学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335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ff"/>
                </a:solidFill>
                <a:latin typeface="黑体"/>
                <a:ea typeface="黑体"/>
              </a:rPr>
              <a:t>一、文学常识</a:t>
            </a: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304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1.</a:t>
            </a:r>
            <a:r>
              <a:rPr b="1" lang="zh-CN" sz="5400" spc="-1" strike="noStrike">
                <a:solidFill>
                  <a:srgbClr val="ffccff"/>
                </a:solidFill>
                <a:latin typeface="黑体"/>
                <a:ea typeface="黑体"/>
              </a:rPr>
              <a:t>魏学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193760"/>
            <a:ext cx="8610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他生活在明朝晚期阉党横行的年代，其父被奸党魏忠贤陷害入狱，多方营救无果，死于狱中。魏学洢为此忧恨成疾，不久就悲愤而死，大约只活了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30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黄露华</dc:creator>
  <dc:description/>
  <dc:language>en-US</dc:language>
  <cp:lastModifiedBy>Administrator</cp:lastModifiedBy>
  <dcterms:modified xsi:type="dcterms:W3CDTF">2015-11-01T15:19:09Z</dcterms:modified>
  <cp:revision>186</cp:revision>
  <dc:subject/>
  <dc:title>核舟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