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chimes.wav" ContentType="audio/x-wav"/>
  <Override PartName="/ppt/media/image25.jpeg" ContentType="image/jpeg"/>
  <Override PartName="/ppt/media/image32.png" ContentType="image/png"/>
  <Override PartName="/ppt/media/image13.png" ContentType="image/png"/>
  <Override PartName="/ppt/media/image26.jpeg" ContentType="image/jpeg"/>
  <Override PartName="/ppt/media/image5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camera.wav" ContentType="audio/x-wav"/>
  <Override PartName="/ppt/media/image18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31.gif" ContentType="image/gif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E64-66A5-4CE7-AF8B-D458E7D1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D47-FF43-4864-9546-0C71631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FD3-4D34-4104-BF73-16F76D78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902-E5AC-49A9-AF2D-3B5D1057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7D5-E137-4037-9DE2-1B753B4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75B-3156-4EFC-A26A-89D004F1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640-4E18-47E4-9ADC-70197A53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120E-E859-4B59-8AEE-AAF476AE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5AF9-80CE-483F-9C0A-C369ED0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5028-6816-4217-8C83-8425428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C64-0133-4926-A7D0-C045311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2D8-6EF0-46F2-845C-1AD9AC2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F3F-2492-409B-94C1-8CFDD9F8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3225-68E7-4744-813C-F002AC9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38B2-D358-40A7-BF6A-38BBEB7F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7CB9-2F0C-44F0-825C-8BA708F6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847E-4AC4-4E53-8A84-E303D883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3421-2A36-41F8-A32E-EBBFA7D3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9AE7-820E-42AA-BF82-012072E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C458-7265-4549-9A0B-084C101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A949-111A-45EB-8911-91CE63E2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DD49-04F6-4BD6-9DD1-C9742F7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B4F-0996-459E-8354-141AC940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DBFE-6CD6-4C93-9643-3C1B5572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D3B8-EBBC-4859-970C-68941D26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7813-074E-4AAC-AD90-8E4F1C2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BB9F-12E8-4C73-80EC-48D478A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3730-E73E-4699-BF4C-3ACC78F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417C-4AD3-410B-B7F2-96264329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042C-8BB4-42A8-8893-0DD7132F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C3D-60C2-497C-99F7-8688D3B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F69-C477-488B-A552-AA71665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51E-B2CA-4223-9112-B1D21B3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88D-6956-4752-97EB-E0103D2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98F-9C24-4DAC-96CF-4425973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262-B819-492B-9723-3D7A3F4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065E-BF0E-4C19-9F8C-BF05CF3F26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7FC-E720-433A-B086-C764DAB9F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272" name="未知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2BBA-2DAD-4BFB-864F-00CEA95B3F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9E9-7E58-4C91-A9D3-AB5C1C0C45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1464-CCCD-4260-ACC9-A93B6E9742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7CF2-B7F4-4ACA-9844-2AF7226B6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ndiao.cn/bigimg/139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ndiao.cn/productShow.asp?id=97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22&#26680;&#33311;&#35760;.wav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file:///tmp/home/.config/libreoffice/4/user/gallery/22&#26680;&#33311;&#35760;.wav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_12005" descr=""/>
          <p:cNvPicPr/>
          <p:nvPr/>
        </p:nvPicPr>
        <p:blipFill>
          <a:blip r:embed="rId2"/>
          <a:srcRect l="938" t="9905" r="7445" b="0"/>
          <a:stretch/>
        </p:blipFill>
        <p:spPr>
          <a:xfrm>
            <a:off x="0" y="0"/>
            <a:ext cx="9677520" cy="739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4628BC-8F77-4E5E-BFAC-AC143D62FB2E}" type="datetime1">
              <a:rPr lang="en-US"/>
              <a:t>07/29/26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xiangkuang1_197" descr="相框素材水晶相框图片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520080" y="2743200"/>
            <a:ext cx="8877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我国古代工艺美术的卓越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习总分总的结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会本文空间说明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13920" y="1600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63AB9-A7CB-490B-821D-6B68AAB522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yanxi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2906640" cy="51595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141800" y="1219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1916280"/>
            <a:ext cx="496872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魏学洢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96~162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字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子敬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明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浙江嘉善人，著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茅檐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自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清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张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编辑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虞初新志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D8BE0-3A69-4C0E-B657-A4E358298E51}" type="datetime1">
              <a:rPr lang="en-US"/>
              <a:t>07/29/26</a:t>
            </a:fld>
          </a:p>
        </p:txBody>
      </p:sp>
    </p:spTree>
  </p:cSld>
  <p:transition spd="med" advTm="9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haizhou" descr=""/>
          <p:cNvPicPr/>
          <p:nvPr/>
        </p:nvPicPr>
        <p:blipFill>
          <a:blip r:embed="rId2"/>
          <a:stretch/>
        </p:blipFill>
        <p:spPr>
          <a:xfrm>
            <a:off x="0" y="990720"/>
            <a:ext cx="9123480" cy="81532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121932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明有奇巧人曰王叔远，能以径寸之木，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为（</a:t>
            </a: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wéi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宫室、器皿、人物，以至鸟兽、木石，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罔（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因势象形，各具情态。尝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贻（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余核舟一，盖大苏泛赤壁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1981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隶书"/>
                <a:ea typeface="隶书"/>
              </a:rPr>
              <a:t>wǎ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14400" y="2438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隶书"/>
                <a:ea typeface="隶书"/>
              </a:rPr>
              <a:t>y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35520" y="3352680"/>
            <a:ext cx="589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舟首尾长约八分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ò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高可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uā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敞者为舱，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u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篷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旁开小窗，左右各四，共八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81880" y="525780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窗而观，雕栏相望焉。闭之，则右刻“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山高月小，水落石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左刻“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清风徐来，水波不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，石青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ǎ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06040" y="45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核舟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414D6-3FE0-43D1-A315-948C1C937E5A}" type="datetime1">
              <a:rPr lang="en-US"/>
              <a:t>07/29/26</a:t>
            </a:fld>
          </a:p>
        </p:txBody>
      </p:sp>
    </p:spTree>
  </p:cSld>
  <p:transition spd="med" advTm="28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船头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5467320" cy="2971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92360" y="4508640"/>
            <a:ext cx="5194440" cy="136044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中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隶书"/>
              </a:rPr>
              <a:t>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gu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而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r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者为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华文中宋"/>
              </a:rPr>
              <a:t>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2057400"/>
            <a:ext cx="2700360" cy="79200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华文中宋"/>
              </a:rPr>
              <a:t>鲁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居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21480000">
            <a:off x="2286000" y="5407200"/>
            <a:ext cx="1982880" cy="86976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华文中宋"/>
              </a:rPr>
              <a:t>佛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居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1295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船头坐三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63EF1-ED08-4184-80A0-1A41A0AB16EB}" type="datetime1">
              <a:rPr lang="en-US"/>
              <a:t>07/29/26</a:t>
            </a:fld>
          </a:p>
        </p:txBody>
      </p:sp>
    </p:spTree>
  </p:cSld>
  <p:transition spd="slow" advTm="12000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船头_edited" descr=""/>
          <p:cNvPicPr/>
          <p:nvPr/>
        </p:nvPicPr>
        <p:blipFill>
          <a:blip r:embed="rId2"/>
          <a:stretch/>
        </p:blipFill>
        <p:spPr>
          <a:xfrm>
            <a:off x="4343400" y="260280"/>
            <a:ext cx="4792680" cy="65977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12952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a824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、黄共阅一手卷。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东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手执卷端，左手抚鲁直背。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鲁直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手执卷末，右手指卷，如有所语。东坡现右足，鲁直现左足，各微侧，其两膝相比者，各隐卷底衣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zhě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中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FDA9D-0667-4111-A574-6DFF5ED8D34D}" type="datetime1">
              <a:rPr lang="en-US"/>
              <a:t>07/29/26</a:t>
            </a:fld>
          </a:p>
        </p:txBody>
      </p:sp>
    </p:spTree>
  </p:cSld>
  <p:transition spd="med" advTm="35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船头_edited-1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79280" y="1068480"/>
            <a:ext cx="468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佛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绝类弥勒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袒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tǎn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胸露乳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jiǎo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首昂视，神情与苏、黄不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zh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。卧右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x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q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右臂支船，而竖其左膝，左臂挂念珠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yǐ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珠可历历数也。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D579F-519C-4EC6-A8F8-C4B3193BDAE5}" type="datetime1">
              <a:rPr lang="en-US"/>
              <a:t>07/29/26</a:t>
            </a:fld>
          </a:p>
        </p:txBody>
      </p:sp>
    </p:spTree>
  </p:cSld>
  <p:transition spd="med" advTm="26000">
    <p:wheel spokes="1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船尾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6624720" cy="4292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6320" y="1447920"/>
            <a:ext cx="9396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舟尾横卧一</a:t>
            </a:r>
            <a:r>
              <a:rPr b="1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楫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jí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。楫左右</a:t>
            </a:r>
            <a:r>
              <a:rPr b="1" lang="zh-CN" sz="4400" spc="-1" strike="noStrike">
                <a:solidFill>
                  <a:srgbClr val="ff66cc"/>
                </a:solidFill>
                <a:latin typeface="华文中宋"/>
                <a:ea typeface="华文中宋"/>
              </a:rPr>
              <a:t>舟子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一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D0E5E-3A3C-448A-B6E7-6EA1758111D6}" type="datetime1">
              <a:rPr lang="en-US"/>
              <a:t>07/29/26</a:t>
            </a:fld>
          </a:p>
        </p:txBody>
      </p:sp>
    </p:spTree>
  </p:cSld>
  <p:transition spd="med" advTm="9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船尾_edited" descr=""/>
          <p:cNvPicPr/>
          <p:nvPr/>
        </p:nvPicPr>
        <p:blipFill>
          <a:blip r:embed="rId2"/>
          <a:stretch/>
        </p:blipFill>
        <p:spPr>
          <a:xfrm>
            <a:off x="3997440" y="836640"/>
            <a:ext cx="4824360" cy="5716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50920" y="1125360"/>
            <a:ext cx="40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中宋"/>
              </a:rPr>
              <a:t>居右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椎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中宋"/>
              </a:rPr>
              <a:t>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j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仰面，左手倚一衡木，右手攀右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中宋"/>
              </a:rPr>
              <a:t>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zh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，若啸呼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C028F-F302-4FDC-A4B5-4CEA0FDEE6E0}" type="datetime1">
              <a:rPr lang="en-US"/>
              <a:t>07/29/26</a:t>
            </a:fld>
          </a:p>
        </p:txBody>
      </p:sp>
    </p:spTree>
  </p:cSld>
  <p:transition spd="med" advTm="14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船尾_edited-1" descr=""/>
          <p:cNvPicPr/>
          <p:nvPr/>
        </p:nvPicPr>
        <p:blipFill>
          <a:blip r:embed="rId2"/>
          <a:stretch/>
        </p:blipFill>
        <p:spPr>
          <a:xfrm>
            <a:off x="4213080" y="765000"/>
            <a:ext cx="4391280" cy="57121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539640" y="1268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居左者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手执蒲葵扇，左手抚炉，炉上有壶，其人视端容寂，若听茶声然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0355C-CBEA-4E31-925C-A7451D703AA2}" type="datetime1">
              <a:rPr lang="en-US"/>
              <a:t>07/29/26</a:t>
            </a:fld>
          </a:p>
        </p:txBody>
      </p:sp>
    </p:spTree>
  </p:cSld>
  <p:transition spd="med" advTm="1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96720" y="1143000"/>
            <a:ext cx="8747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其船背稍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y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，则题名其上，文曰“天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ré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x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秋日，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y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山王毅叔远甫刻”，细若蚊足，钩画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liǎ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了，其色墨。又用篆章一，文曰“初平山人”，其色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haizhou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7093080" cy="27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29999-8BF1-4210-9D16-AD57AECD828C}" type="datetime1">
              <a:rPr lang="en-US"/>
              <a:t>07/29/26</a:t>
            </a:fld>
          </a:p>
        </p:txBody>
      </p:sp>
    </p:spTree>
  </p:cSld>
  <p:transition spd="med" advTm="28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139" descr="点击放大查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048120" y="12952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雄鹰，你为什么还不展翅高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0091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76176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80F526-5223-4838-86E0-DF9D54ABDF43}" type="datetime1">
              <a:rPr lang="en-US"/>
              <a:t>07/29/26</a:t>
            </a:fld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陈教学2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26514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81080" y="3645000"/>
            <a:ext cx="8964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通计一舟，为人五；为窗八；为篛篷，为楫，为炉，为壶，为手卷，为念珠各一；对联、题名并篆文，为字共三十有四。而计其长曾不盈寸。盖简桃核修狭者为之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x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技亦灵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y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5D496-1E38-4337-9579-4C3243DB92AA}" type="datetime1">
              <a:rPr lang="en-US"/>
              <a:t>07/29/26</a:t>
            </a:fld>
          </a:p>
        </p:txBody>
      </p:sp>
    </p:spTree>
  </p:cSld>
  <p:transition spd="slow" advTm="38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20" y="11430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有奇巧人曰王叔远，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径寸之木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宫室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器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物，以至鸟兽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，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态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尝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核舟一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苏泛赤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" y="4038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行楷"/>
                <a:ea typeface="华文行楷"/>
              </a:rPr>
              <a:t>　</a:t>
            </a:r>
            <a:r>
              <a:rPr b="1" lang="zh-CN" sz="2000" spc="-1" strike="noStrike">
                <a:solidFill>
                  <a:srgbClr val="990033"/>
                </a:solidFill>
                <a:latin typeface="华文行楷"/>
                <a:ea typeface="华文行楷"/>
              </a:rPr>
              <a:t>译：</a:t>
            </a:r>
            <a:r>
              <a:rPr b="1" lang="zh-CN" sz="2000" spc="-1" strike="noStrike">
                <a:solidFill>
                  <a:srgbClr val="0066cc"/>
                </a:solidFill>
                <a:latin typeface="宋体"/>
                <a:ea typeface="华文行楷"/>
              </a:rPr>
              <a:t>明朝有个有手艺奇妙精巧的人叫王叔远，他能够用直径一寸的细小圆形木块，雕刻出宫殿，杯、盘、碗、碟等生活用具，人物，以至飞鸟走兽，树木石头，没有一件不是依据木头原来的样子模拟那些东西的形状，各有各的神情姿态。</a:t>
            </a:r>
            <a:r>
              <a:rPr b="1" lang="zh-CN" sz="2000" spc="-1" strike="noStrike">
                <a:solidFill>
                  <a:srgbClr val="9900cc"/>
                </a:solidFill>
                <a:latin typeface="华文行楷"/>
                <a:ea typeface="华文行楷"/>
              </a:rPr>
              <a:t>他曾经送给我一只用桃核刻成的船，刻的是苏轼乘船游赤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1143000"/>
            <a:ext cx="914400" cy="425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0" y="1143000"/>
            <a:ext cx="914400" cy="434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雕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-149400" y="1981080"/>
            <a:ext cx="3114720" cy="3812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杯、盘、碗、碟等生活用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09880" y="2057400"/>
            <a:ext cx="88128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树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29200" y="1981080"/>
            <a:ext cx="1092240" cy="533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无、没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2200" y="2057400"/>
            <a:ext cx="762120" cy="380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根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24480" y="2971800"/>
            <a:ext cx="1447920" cy="434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拟、仿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001000" y="1981080"/>
            <a:ext cx="114300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具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143000" y="2971800"/>
            <a:ext cx="5763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曾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3809880"/>
            <a:ext cx="5760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赠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809880"/>
            <a:ext cx="9349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原来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3657600"/>
            <a:ext cx="175248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语末助词，无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001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14600" cy="22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4D0FAE-5117-403E-8378-E53977D0EA91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5257800" y="380880"/>
            <a:ext cx="2666880" cy="8384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原指古代一种前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而有帷幕的车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这里是高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81680" y="1828800"/>
            <a:ext cx="685800" cy="2826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85896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舟首尾长约八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有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轩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舱，箬篷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旁开小窗，左右各四，共八扇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窗而观，雕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相望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闭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右刻“山高月小，水落石出”，左刻“清风徐来，水波不兴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石青糁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华文行楷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华文行楷"/>
                <a:ea typeface="华文行楷"/>
              </a:rPr>
              <a:t>        </a:t>
            </a:r>
            <a:r>
              <a:rPr b="1" lang="zh-CN" sz="1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译</a:t>
            </a:r>
            <a:r>
              <a:rPr b="1" lang="en-US" sz="18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r>
              <a:rPr b="1" lang="zh-CN" sz="1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核舟首尾长约八分多一点，大约有两厘米高，</a:t>
            </a:r>
            <a:r>
              <a:rPr b="1" lang="zh-CN" sz="1800" spc="-1" strike="noStrike">
                <a:solidFill>
                  <a:srgbClr val="9900cc"/>
                </a:solidFill>
                <a:latin typeface="Arial"/>
                <a:ea typeface="华文行楷"/>
              </a:rPr>
              <a:t>中间高起而敞开的部分是船舱，用箬竹叶做成的船篷覆盖着它。旁边开小窗，左边右边各有四扇，共计八扇。打开窗户来看，雕刻着花纹的栏杆左右相对。</a:t>
            </a:r>
            <a:r>
              <a:rPr b="1" lang="zh-CN" sz="1800" spc="-1" strike="noStrike">
                <a:solidFill>
                  <a:srgbClr val="9900cc"/>
                </a:solidFill>
                <a:latin typeface="华文行楷"/>
                <a:ea typeface="华文行楷"/>
              </a:rPr>
              <a:t>关上窗户，就看见右边刻着“山高月小，水落石出”八个字，左边刻着“清风徐来，水波不兴”八个字，用石青涂在刻着字的凹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696080" y="1066680"/>
            <a:ext cx="9367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52480" y="1752480"/>
            <a:ext cx="160020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，代指船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01000" y="1905120"/>
            <a:ext cx="99072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开，打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52480" y="3429000"/>
            <a:ext cx="13716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向，相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3581280"/>
            <a:ext cx="16002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助词，可不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29000" y="2590920"/>
            <a:ext cx="647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91120" y="2819520"/>
            <a:ext cx="93492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窗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320" y="4343400"/>
            <a:ext cx="7617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涂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77120" y="3505320"/>
            <a:ext cx="259056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种矿物质的蓝色颜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4419720"/>
            <a:ext cx="685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字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914400"/>
            <a:ext cx="5778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1066680"/>
            <a:ext cx="5778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1828800"/>
            <a:ext cx="5778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34120" y="990720"/>
            <a:ext cx="577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617FC8-2D49-4F4C-BCED-20B550334B13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船头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038480" cy="3067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57200" y="1447920"/>
            <a:ext cx="7010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船头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三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峨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多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者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坡，佛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，鲁直居左。苏、黄共阅一手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0" y="1447920"/>
            <a:ext cx="12952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22860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2438280"/>
            <a:ext cx="971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位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1523880"/>
            <a:ext cx="12952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三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1371600"/>
            <a:ext cx="1752840" cy="511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戴着高高的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312408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66cc"/>
                </a:solidFill>
                <a:latin typeface="华文行楷"/>
                <a:ea typeface="华文行楷"/>
              </a:rPr>
              <a:t>船头坐着三个人，中间戴着高高的帽子、胡须浓密的是苏东坡，佛印位于右边，黄鲁直位于左边。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行楷"/>
              </a:rPr>
              <a:t>苏东坡，黄鲁直共同看着一幅书画长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8EBB05-1B86-4A66-A109-7EBA7C9A4F00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船头_edited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657600" cy="34131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609480" y="1371600"/>
            <a:ext cx="6705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坡右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卷端，左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直背。鲁直左手执卷末，右手指卷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所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东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足，鲁直现左足，各微侧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膝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者，各隐卷底衣褶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华文行楷"/>
              </a:rPr>
              <a:t>    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华文行楷"/>
              </a:rPr>
              <a:t>译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华文行楷"/>
              </a:rPr>
              <a:t>:</a:t>
            </a:r>
            <a:r>
              <a:rPr b="1" lang="zh-CN" sz="1800" spc="-1" strike="noStrike">
                <a:solidFill>
                  <a:srgbClr val="0066cc"/>
                </a:solidFill>
                <a:latin typeface="Arial"/>
                <a:ea typeface="华文行楷"/>
              </a:rPr>
              <a:t>东坡右手拿着画幅的右端，左手轻按在鲁直的背上。鲁直左手拿着画幅的左端，右手指着画幅，好像在说什么似的。</a:t>
            </a:r>
            <a:r>
              <a:rPr b="1" lang="zh-CN" sz="1800" spc="-1" strike="noStrike">
                <a:solidFill>
                  <a:srgbClr val="0066cc"/>
                </a:solidFill>
                <a:latin typeface="华文行楷"/>
                <a:ea typeface="华文行楷"/>
              </a:rPr>
              <a:t>东坡露出右脚，鲁直露出左脚，身子都略微侧斜着，他们互相靠近的两膝，即东坡的左膝，鲁直的右膝，都被遮蔽在手卷下边的衣褶里，也就是说，从衣褶上可以看出相并的两膝的轮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10666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38480" y="10666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轻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5335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24480" y="8380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162920" y="21337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露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29200" y="28954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他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34320" y="28195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靠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715000" y="1143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72000" y="9140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D8A26EA-455E-4F9A-A449-6E3E2730CE8D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04920" y="99072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佛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绝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弥勒，袒胸露乳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昂视，神情与苏、黄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卧右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右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，而竖其左膝，左臂挂念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倚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珠可历历数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10666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极，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1143000"/>
            <a:ext cx="10159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似，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19810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类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343400" y="9907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35053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华文行楷"/>
                <a:ea typeface="华文行楷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译</a:t>
            </a:r>
            <a:r>
              <a:rPr b="1" lang="en-US" sz="24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66cc"/>
                </a:solidFill>
                <a:latin typeface="华文行楷"/>
                <a:ea typeface="华文行楷"/>
              </a:rPr>
              <a:t>佛印和尚极像佛教的弥勒菩萨，袒胸露怀，抬头仰望，神情跟苏、黄两个人不相关联。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行楷"/>
              </a:rPr>
              <a:t>佛印卧倒右膝，弯曲着右臂支撑在船上，竖着他的左膝，左臂上挂着一串念珠靠在左膝上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  <a:ea typeface="华文行楷"/>
              </a:rPr>
              <a:t>——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行楷"/>
              </a:rPr>
              <a:t>念珠可以一粒粒清清楚楚地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船头_edited-1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262240" cy="3124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3124080" y="1905120"/>
            <a:ext cx="167652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“屈”，弯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7432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支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2819520"/>
            <a:ext cx="17290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竖起的左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76920" y="19051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B5FE2A-9C06-4F0A-9400-CA98BC909D78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船尾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662" name="船尾_edited" descr=""/>
          <p:cNvPicPr/>
          <p:nvPr/>
        </p:nvPicPr>
        <p:blipFill>
          <a:blip r:embed="rId3"/>
          <a:stretch/>
        </p:blipFill>
        <p:spPr>
          <a:xfrm>
            <a:off x="6400800" y="2362320"/>
            <a:ext cx="2459160" cy="22730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533520" y="1219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尾横卧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楫左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舟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一人。居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者椎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仰面，左手倚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，右手攀右趾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若啸呼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3809880"/>
            <a:ext cx="4952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行楷"/>
              </a:rPr>
              <a:t>译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行楷"/>
              </a:rPr>
              <a:t>舟尾横放着一只船桨。桨的左右两旁各有一名撑船的人。位于右边的撑船的人，梳着锥形发髻，仰着脸，左手倚着一根横木，右手扳着右脚趾头，好像在大声呼叫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12952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船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1219320"/>
            <a:ext cx="1655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撑船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880" y="2133720"/>
            <a:ext cx="1295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锥形发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9880" y="2286000"/>
            <a:ext cx="9907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“横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315200" y="22860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225360" y="2971800"/>
            <a:ext cx="16524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声呼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3505320"/>
            <a:ext cx="15112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形状，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2920" y="1371600"/>
            <a:ext cx="990360" cy="380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B625CB-0737-459C-94AE-39D995A0D76B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船尾_edited-1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2706840" cy="33530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14400" y="1219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左者右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蒲葵扇，左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炉，炉上有壶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容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若听茶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9080" y="6174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12952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29200" y="12952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抚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9320" y="2971800"/>
            <a:ext cx="6094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2133720"/>
            <a:ext cx="20574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这里指眼神、眼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0" y="2971800"/>
            <a:ext cx="3276720" cy="380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脸上的神情、气色，神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2133720"/>
            <a:ext cx="15130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详、静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67280" y="2743200"/>
            <a:ext cx="17290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3505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行楷"/>
              </a:rPr>
              <a:t>位于左边的撑船的人，右手拿着一把蒲葵扇，左手抚摸着火炉，炉上有一把水壶，那个人眼光正视着茶壶，神色平静，好像在听茶水声音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9EA6AD-B9EE-485F-91CA-BBD89975781A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89080" y="6174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1523880"/>
            <a:ext cx="805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其上，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天启壬戌秋日，虞山王毅叔远甫刻”，细若蚊足，钩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了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其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篆章一，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初平山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其色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33520" y="4114800"/>
            <a:ext cx="8065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行楷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行楷"/>
              </a:rPr>
              <a:t>那只船的船底稍平，就在上面刻上名字，文字是：“天启壬戌秋日，虞山王毅叔远甫刻”，字迹细得像蚊子脚，笔画清清楚楚，颜色是黑的。还刻着一方篆刻图章，文字是“初平山人”，字的颜色是红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33520" y="1523880"/>
            <a:ext cx="6094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19320" y="24382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船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81080" y="1447920"/>
            <a:ext cx="685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971800" y="15238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写、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15238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为、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934320" y="2438280"/>
            <a:ext cx="15825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清清楚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32767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52480" y="3124080"/>
            <a:ext cx="2286000" cy="533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敬辞，这里指“刻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029200" y="3200400"/>
            <a:ext cx="2087640" cy="5047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王叔远的别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114800" y="32767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为、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4DE185-89C5-4A01-ADC1-EC0DD0B0E074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57200" y="1447920"/>
            <a:ext cx="83059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计一舟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五；为窗八；为箬篷，为楫，为炉，为壶，为手卷，为念珠各一；对联、题名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篆文，为字共三十有四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寸。盖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桃核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修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者为之。嘻，技亦灵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矣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3811680"/>
            <a:ext cx="7620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总计一只核舟上，刻了五个人，刻了八扇窗户；刻了竹蓬、船桨、火炉、水壶、手卷、念珠各一件；对联、题名和图章的篆字，刻的字共三十四个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可是计算它的长度还不满一寸。是挑选长而窄的桃核刻造的。嘻，这技艺也真灵巧奇妙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76520" y="1295280"/>
            <a:ext cx="7189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90920" y="1981080"/>
            <a:ext cx="12952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和，连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410080" y="1981080"/>
            <a:ext cx="16002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然而，可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400800" y="27432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86600" y="1981080"/>
            <a:ext cx="1066680" cy="304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尚、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2743200"/>
            <a:ext cx="914400" cy="304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25909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挑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352680"/>
            <a:ext cx="12240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而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3429000"/>
            <a:ext cx="18003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当于“了啊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F7C4C79-6996-4667-BCCF-B3E27CFCBF29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9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57200" y="5410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美丽的凤凰啊，你聚精会神地在看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357EDDD-B072-4C46-BE2C-6CBE1CB1735A}" type="datetime1">
              <a:rPr lang="en-US"/>
              <a:t>07/29/26</a:t>
            </a:fld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57243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曰王叔远 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径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木 径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宫室、器皿、人物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 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贻余核舟一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盖大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壁云 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舟首尾长约八分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黍许中轩敞者 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清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，水波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兴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峨冠而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为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两膝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292720" y="1297080"/>
            <a:ext cx="345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殊的技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径一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这里指雕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没有 根据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依据 模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赠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乘船浮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零数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大约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缓缓地       起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胡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靠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228600" y="7621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释义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1C70B-AC7D-4B9F-9022-36626982D8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79280" y="91584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佛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绝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弥勒 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舟尾横卧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人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容寂 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船背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虞山王毅叔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50920" y="3963960"/>
            <a:ext cx="482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钩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了了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墨 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丹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五；为窗八 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而计其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寸 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盖简桃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修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76720" y="3735360"/>
            <a:ext cx="316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清清楚楚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黑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朱红色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刻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尚，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满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长而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29200" y="838080"/>
            <a:ext cx="35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像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船桨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代男子的美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50920" y="189000"/>
            <a:ext cx="100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释义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B06EF-9760-4C0E-AC1E-019FF4B2E1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24000" y="1523880"/>
            <a:ext cx="4444920" cy="58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臂之船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手倚一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攀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趾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盖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简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桃核修狭者为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舟首尾长约八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奇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687480" y="20574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“屈”，弯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39760" y="32004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“横”，横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43280" y="5716440"/>
            <a:ext cx="43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“又”，用在整数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零数之间计算数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63600" y="4114800"/>
            <a:ext cx="33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“扳”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ān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往里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02920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通“拣”，挑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523880" y="1143000"/>
            <a:ext cx="2820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华文行楷"/>
              </a:rPr>
              <a:t>通假字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BB19F-24F4-4D50-8895-02EF4DAF4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图片1" descr=""/>
          <p:cNvPicPr/>
          <p:nvPr/>
        </p:nvPicPr>
        <p:blipFill>
          <a:blip r:embed="rId2"/>
          <a:stretch/>
        </p:blipFill>
        <p:spPr>
          <a:xfrm>
            <a:off x="152280" y="2216160"/>
            <a:ext cx="8483760" cy="46418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1619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6320" y="10666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请你想一想</a:t>
            </a:r>
            <a:endParaRPr b="1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26" name=""/>
          <p:cNvSpPr/>
          <p:nvPr/>
        </p:nvSpPr>
        <p:spPr>
          <a:xfrm>
            <a:off x="4724280" y="13716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华文中宋"/>
              </a:rPr>
              <a:t>本文的作者要给我们介绍的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042920" y="4797360"/>
            <a:ext cx="316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华文隶书"/>
              </a:rPr>
              <a:t>核舟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华文隶书"/>
              <a:ea typeface="华文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087E2-BFDD-40D7-BA44-7CB820466A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500"/>
                            </p:stCondLst>
                            <p:childTnLst>
                              <p:par>
                                <p:cTn id="6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-149400" y="1142640"/>
            <a:ext cx="39592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说明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90720" y="175248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舟首尾长约八分有奇，高可二黍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43280" y="38116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船头坐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2438280"/>
            <a:ext cx="457200" cy="487440"/>
          </a:xfrm>
          <a:prstGeom prst="downArrow">
            <a:avLst>
              <a:gd name="adj1" fmla="val 50000"/>
              <a:gd name="adj2" fmla="val 2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8195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中轩敞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43400" y="3429000"/>
            <a:ext cx="457200" cy="487440"/>
          </a:xfrm>
          <a:prstGeom prst="downArrow">
            <a:avLst>
              <a:gd name="adj1" fmla="val 50000"/>
              <a:gd name="adj2" fmla="val 2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43400" y="4495680"/>
            <a:ext cx="457200" cy="487440"/>
          </a:xfrm>
          <a:prstGeom prst="downArrow">
            <a:avLst>
              <a:gd name="adj1" fmla="val 50000"/>
              <a:gd name="adj2" fmla="val 2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4876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舟尾横卧一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43400" y="5562720"/>
            <a:ext cx="457200" cy="487080"/>
          </a:xfrm>
          <a:prstGeom prst="downArrow">
            <a:avLst>
              <a:gd name="adj1" fmla="val 50000"/>
              <a:gd name="adj2" fmla="val 26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76720" y="6019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其船背稍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315200" y="160020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华文行楷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620120" y="5562720"/>
            <a:ext cx="13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华文行楷"/>
              </a:rPr>
              <a:t>局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66688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中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33440" y="422100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两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333440" y="5897520"/>
            <a:ext cx="14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行楷"/>
              </a:rPr>
              <a:t>船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01000" y="2362320"/>
            <a:ext cx="304920" cy="3184560"/>
          </a:xfrm>
          <a:prstGeom prst="downArrow">
            <a:avLst>
              <a:gd name="adj1" fmla="val 50000"/>
              <a:gd name="adj2" fmla="val 2610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05120" y="3505320"/>
            <a:ext cx="419040" cy="847440"/>
          </a:xfrm>
          <a:prstGeom prst="downArrow">
            <a:avLst>
              <a:gd name="adj1" fmla="val 50000"/>
              <a:gd name="adj2" fmla="val 505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05120" y="5105520"/>
            <a:ext cx="419040" cy="793800"/>
          </a:xfrm>
          <a:prstGeom prst="downArrow">
            <a:avLst>
              <a:gd name="adj1" fmla="val 50000"/>
              <a:gd name="adj2" fmla="val 47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10040" y="2819520"/>
            <a:ext cx="152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华文行楷"/>
              </a:rPr>
              <a:t>逻辑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-209880" y="3048120"/>
            <a:ext cx="1521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ahoma"/>
                <a:ea typeface="华文行楷"/>
              </a:rPr>
              <a:t>空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95240" y="3124080"/>
            <a:ext cx="9115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Verdana"/>
                <a:ea typeface="华文行楷"/>
              </a:rPr>
              <a:t>主</a:t>
            </a:r>
            <a:r>
              <a:rPr b="1" lang="en-US" sz="4800" spc="-1" strike="noStrike">
                <a:solidFill>
                  <a:srgbClr val="3333cc"/>
                </a:solidFill>
                <a:latin typeface="Verdana"/>
                <a:ea typeface="华文行楷"/>
              </a:rPr>
              <a:t>——</a:t>
            </a:r>
            <a:r>
              <a:rPr b="1" lang="zh-CN" sz="4800" spc="-1" strike="noStrike">
                <a:solidFill>
                  <a:srgbClr val="3333cc"/>
                </a:solidFill>
                <a:latin typeface="Verdana"/>
                <a:ea typeface="华文行楷"/>
              </a:rPr>
              <a:t>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FA25B-2263-40FF-B66F-D1D767F9B6EF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895480" y="17524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概述王叔远精湛的雕刻技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点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雕刻品“核舟”的主题及其来历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2205000"/>
            <a:ext cx="83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核舟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2057400"/>
            <a:ext cx="457200" cy="360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43000" y="1905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3124080"/>
            <a:ext cx="57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详写核舟的大小、结构、舟上的人物和题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90720" y="3124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43000" y="52578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43280" y="35002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09680" y="447372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19520" y="5029200"/>
            <a:ext cx="66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小结总计全核舟的人、物、文字的数目，赞叹核舟的雕刻技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720440" y="19051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71600" y="32004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—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41911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用事实说明雕刻者技艺精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20440" y="53341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9480" y="1143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华文隶书"/>
              </a:rPr>
              <a:t>请你细读课文、掌握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82BE8-FD16-4505-8C2A-5E1DFCD4C59D}" type="datetime1">
              <a:rPr lang="en-US"/>
              <a:t>07/29/26</a:t>
            </a:fld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000"/>
                            </p:stCondLst>
                            <p:childTnLst>
                              <p:par>
                                <p:cTn id="7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000"/>
                            </p:stCondLst>
                            <p:childTnLst>
                              <p:par>
                                <p:cTn id="8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002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2771640" cy="9399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143000" y="1371600"/>
            <a:ext cx="712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研读第一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能概括全文，总括王叔远技艺高超的词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找出表现核舟主题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找出原料小而表现题材广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说明构思巧妙、技艺精湛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71600" y="37339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盖大苏泛赤壁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4800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能以径寸之木，为宫室、器皿、人物、以至鸟兽、木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95280" y="57913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罔不因势象形，各具情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01-03-001-02" descr=""/>
          <p:cNvPicPr/>
          <p:nvPr/>
        </p:nvPicPr>
        <p:blipFill>
          <a:blip r:embed="rId3"/>
          <a:stretch/>
        </p:blipFill>
        <p:spPr>
          <a:xfrm>
            <a:off x="609480" y="304812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770" name="01-03-001-02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71" name="01-03-001-02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72" name="01-03-001-02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1676520" y="2666880"/>
            <a:ext cx="21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奇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AF886-AC33-4EB8-8A68-BD17F7A28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8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762120" y="20574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说明对象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" y="28195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说明对象的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90920" y="3657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体积上：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4572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构思上：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627280" y="544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雕刻的人、物、字数量上：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42670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Times New Roman"/>
                <a:ea typeface="隶书"/>
              </a:rPr>
              <a:t>奇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86000" y="3733920"/>
            <a:ext cx="174600" cy="2057400"/>
          </a:xfrm>
          <a:custGeom>
            <a:avLst/>
            <a:gdLst>
              <a:gd name="textAreaLeft" fmla="*/ 111600 w 174600"/>
              <a:gd name="textAreaRight" fmla="*/ 174960 w 174600"/>
              <a:gd name="textAreaTop" fmla="*/ 68760 h 2057400"/>
              <a:gd name="textAreaBottom" fmla="*/ 19886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5"/>
                  <a:pt x="10800" y="2309"/>
                </a:cubicBezTo>
                <a:lnTo>
                  <a:pt x="10800" y="7778"/>
                </a:lnTo>
                <a:cubicBezTo>
                  <a:pt x="10800" y="8933"/>
                  <a:pt x="5400" y="10087"/>
                  <a:pt x="0" y="10087"/>
                </a:cubicBezTo>
                <a:cubicBezTo>
                  <a:pt x="5400" y="10087"/>
                  <a:pt x="10800" y="11242"/>
                  <a:pt x="10800" y="12396"/>
                </a:cubicBezTo>
                <a:lnTo>
                  <a:pt x="10800" y="19291"/>
                </a:lnTo>
                <a:cubicBezTo>
                  <a:pt x="10800" y="2044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295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研读第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2-----5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段，思考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198108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华文行楷"/>
              </a:rPr>
              <a:t>核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1C2D3-4447-481A-895B-4693D8EC2A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31840" y="3505320"/>
            <a:ext cx="1003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隶书"/>
              </a:rPr>
              <a:t>核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590920" y="2819520"/>
            <a:ext cx="69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轩敞；箬篷；八扇小窗开关；  雕栏相对；对联；字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1430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如何具体说明奇巧</a:t>
            </a: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39639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游览者的外貌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姿态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神情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 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衣褶 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念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14600" y="5105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舟子的神情和姿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5867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题字</a:t>
            </a:r>
            <a:r>
              <a:rPr b="0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.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篆文的笔画细</a:t>
            </a:r>
            <a:r>
              <a:rPr b="0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清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058840"/>
            <a:ext cx="304920" cy="426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5640"/>
              <a:gd name="textAreaBottom" fmla="*/ 4154400 h 426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20574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长、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371600" y="1905120"/>
            <a:ext cx="27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体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71600" y="2666880"/>
            <a:ext cx="22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舱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295280" y="3962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50292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船尾</a:t>
            </a:r>
            <a:r>
              <a:rPr b="0" lang="en-US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5867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背</a:t>
            </a:r>
            <a:r>
              <a:rPr b="0" lang="en-US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7C9B4-38E0-4E5F-B0B2-8A7C4B756B77}" type="datetime1">
              <a:rPr lang="en-US"/>
              <a:t>07/29/26</a:t>
            </a:fld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533520" y="15238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描述“舟子”神情动作渲染了一种什么氛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6920" y="20606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舟子“若啸呼状”，显得悠然自得；另一舟子“视端容寂，若听茶声然”，显得从容自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两舟子共同营造了一种愉悦、轻松、自由自在的气氛。加上舟尾横卧的舟楫，更加暗示了一种放任自流的悠闲境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553080" y="380880"/>
            <a:ext cx="17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探究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2BFC2-E6C0-4742-86CA-980D0A693F6D}" type="datetime1">
              <a:rPr lang="en-US"/>
              <a:t>07/29/26</a:t>
            </a:fld>
          </a:p>
        </p:txBody>
      </p:sp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x183" descr=""/>
          <p:cNvPicPr/>
          <p:nvPr/>
        </p:nvPicPr>
        <p:blipFill>
          <a:blip r:embed="rId2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969600" y="1828800"/>
            <a:ext cx="1155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金丝猴，你要跑到哪儿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6F3AA02-9725-41F8-A903-10C493B4275E}" type="datetime1">
              <a:rPr lang="en-US"/>
              <a:t>07/29/26</a:t>
            </a:fld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09480" y="15238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正面用了三段文字，写船背面为什么只用一小段文字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971640" y="2997360"/>
            <a:ext cx="700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华文隶书"/>
                <a:ea typeface="华文隶书"/>
              </a:rPr>
              <a:t>       </a:t>
            </a:r>
            <a:r>
              <a:rPr b="1" lang="zh-CN" sz="4400" spc="-1" strike="noStrike">
                <a:solidFill>
                  <a:srgbClr val="990099"/>
                </a:solidFill>
                <a:latin typeface="华文隶书"/>
                <a:ea typeface="华文隶书"/>
              </a:rPr>
              <a:t>这是为了突出“核舟”的主题，同时也表现作者主次分明的技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37C8E-36C3-46F4-B9DF-4E8AC1C3316C}" type="datetime1">
              <a:rPr lang="en-US"/>
              <a:t>07/29/26</a:t>
            </a:fld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7462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9480" y="9907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末段，作者为什么要统计“核舟”上的物品、文字的数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22240" y="42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5280" y="22050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使读者得出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核舟容量大、所刻景物甚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结论。再用“而计其长曾不盈寸”与之对比，使人们更强烈地感到这个玲珑剔透、精美绝伦的艺术品有巧夺天工之妙。以此突出雕刻精湛的技艺，自然引出下句的赞叹语句。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与第一自然段相照应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突出中心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FAA86-6CE1-4795-A652-8ABB3B4E5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4247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题目有“记”字，是否意味着是记叙文？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源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不是同一种文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对象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源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的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叙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的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艺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语言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源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多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00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29240"/>
            <a:ext cx="1143000" cy="1176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09480" y="2743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是一篇介绍事物的说明文。题目中的“记”在这里是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描述、摹写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的意思。文章全面而如实地描述了雕刻在核舟上的人和物，活灵活现，使人能领会神奇的雕刻技巧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09480" y="990720"/>
            <a:ext cx="4176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延伸  探究文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72FB3-8AD2-41BE-B347-50AA1A21B3AB}" type="datetime1">
              <a:rPr lang="en-US"/>
              <a:t>07/29/26</a:t>
            </a:fld>
          </a:p>
        </p:txBody>
      </p:sp>
    </p:spTree>
  </p:cSld>
  <p:transition spd="med"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1356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课文通过介绍王叔远雕刻核舟的高超技艺，反映了我国古代雕刻艺术的伟大成就。篇幅虽短，却说明顺序合理，就连雕刻家的艺术构思都介绍得淋漓有致，确实令人惊叹。这要靠什么？一方面靠细致的观察，深入的思考；另一方面靠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体的描绘和生动的说明。这无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给我们以很多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85800" y="129528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12" name="001" descr=""/>
          <p:cNvPicPr/>
          <p:nvPr/>
        </p:nvPicPr>
        <p:blipFill>
          <a:blip r:embed="rId2"/>
          <a:stretch/>
        </p:blipFill>
        <p:spPr>
          <a:xfrm>
            <a:off x="6477120" y="4724280"/>
            <a:ext cx="2514600" cy="13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8E298-7E61-423C-859D-9BE0DBE1C90F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762120" y="12952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90720" y="243828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反复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思考并完成课后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001" descr=""/>
          <p:cNvPicPr/>
          <p:nvPr/>
        </p:nvPicPr>
        <p:blipFill>
          <a:blip r:embed="rId2"/>
          <a:stretch/>
        </p:blipFill>
        <p:spPr>
          <a:xfrm>
            <a:off x="0" y="3878280"/>
            <a:ext cx="8915400" cy="27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E5559-23F1-4A95-8A3A-AD7393D31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shti1" descr=""/>
          <p:cNvPicPr/>
          <p:nvPr/>
        </p:nvPicPr>
        <p:blipFill>
          <a:blip r:embed="rId2"/>
          <a:stretch/>
        </p:blipFill>
        <p:spPr>
          <a:xfrm>
            <a:off x="77760" y="76320"/>
            <a:ext cx="5637240" cy="6476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328080" y="762120"/>
            <a:ext cx="115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佛祖啊，请你保佑这世上善良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3D5C7B-B044-4DF8-A2DB-E406D6E01304}" type="datetime1">
              <a:rPr lang="en-US"/>
              <a:t>07/29/26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hezhouji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80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76320" y="5257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外型样式及材料、尺寸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汽船型牛角冻石；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9CM*2.05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微刻内容、字数、刻写面积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上等名贵石料刻魏学咿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核舟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43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8983F84-0424-4E86-B6E4-BF44208BD3F9}" type="datetime1">
              <a:rPr lang="en-US"/>
              <a:t>07/29/26</a:t>
            </a:fld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2008082418262743" descr=""/>
          <p:cNvPicPr/>
          <p:nvPr/>
        </p:nvPicPr>
        <p:blipFill>
          <a:blip r:embed="rId2"/>
          <a:stretch/>
        </p:blipFill>
        <p:spPr>
          <a:xfrm>
            <a:off x="34920" y="1068480"/>
            <a:ext cx="8872560" cy="548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7137CA-61AE-40F5-A805-E05255C46DBB}" type="datetime1">
              <a:rPr lang="en-US"/>
              <a:t>07/29/26</a:t>
            </a:fld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核舟4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733920" cy="2643120"/>
          </a:xfrm>
          <a:prstGeom prst="rect">
            <a:avLst/>
          </a:prstGeom>
          <a:ln w="0">
            <a:noFill/>
          </a:ln>
        </p:spPr>
      </p:pic>
      <p:pic>
        <p:nvPicPr>
          <p:cNvPr id="557" name="1" descr="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400800" y="2209680"/>
            <a:ext cx="2363760" cy="1204920"/>
          </a:xfrm>
          <a:prstGeom prst="rect">
            <a:avLst/>
          </a:prstGeom>
          <a:ln w="0">
            <a:noFill/>
          </a:ln>
        </p:spPr>
      </p:pic>
      <p:pic>
        <p:nvPicPr>
          <p:cNvPr id="558" name="1" descr=""/>
          <p:cNvPicPr/>
          <p:nvPr/>
        </p:nvPicPr>
        <p:blipFill>
          <a:blip r:embed="rId5"/>
          <a:stretch/>
        </p:blipFill>
        <p:spPr>
          <a:xfrm>
            <a:off x="3048120" y="3124080"/>
            <a:ext cx="1806480" cy="3429000"/>
          </a:xfrm>
          <a:prstGeom prst="rect">
            <a:avLst/>
          </a:prstGeom>
          <a:ln w="0">
            <a:noFill/>
          </a:ln>
        </p:spPr>
      </p:pic>
      <p:pic>
        <p:nvPicPr>
          <p:cNvPr id="559" name="1" descr="">
            <a:hlinkClick r:id="rId6"/>
          </p:cNvPr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533520" y="533520"/>
            <a:ext cx="5700600" cy="2908080"/>
          </a:xfrm>
          <a:prstGeom prst="rect">
            <a:avLst/>
          </a:prstGeom>
          <a:ln w="0">
            <a:noFill/>
          </a:ln>
        </p:spPr>
      </p:pic>
      <p:pic>
        <p:nvPicPr>
          <p:cNvPr id="560" name="002" descr=""/>
          <p:cNvPicPr/>
          <p:nvPr/>
        </p:nvPicPr>
        <p:blipFill>
          <a:blip r:embed="rId8"/>
          <a:stretch/>
        </p:blipFill>
        <p:spPr>
          <a:xfrm rot="18120000">
            <a:off x="-465120" y="3817800"/>
            <a:ext cx="361008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CAD28F-55F3-4839-BCE7-A3AE71E891A0}" type="datetime1">
              <a:rPr lang="en-US"/>
              <a:t>07/29/26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仓集中学  周道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18288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核舟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0384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魏学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陈教学2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174920" cy="254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568EF-11BA-424A-B6DB-D02BE0792AC2}" type="datetime1">
              <a:rPr lang="en-US"/>
              <a:t>07/29/26</a:t>
            </a:fld>
          </a:p>
        </p:txBody>
      </p:sp>
    </p:spTree>
  </p:cSld>
  <p:transition spd="med" advTm="5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5:45:54Z</dcterms:created>
  <dc:creator/>
  <dc:description/>
  <dc:language>en-US</dc:language>
  <cp:lastModifiedBy>微软用户</cp:lastModifiedBy>
  <dcterms:modified xsi:type="dcterms:W3CDTF">2014-10-10T13:32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