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11.wmf" ContentType="image/x-wmf"/>
  <Override PartName="/ppt/media/image6.wmf" ContentType="image/x-wmf"/>
  <Override PartName="/ppt/media/image5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18.wmf" ContentType="image/x-wmf"/>
  <Override PartName="/ppt/media/image16.wmf" ContentType="image/x-wmf"/>
  <Override PartName="/ppt/media/image14.jpeg" ContentType="image/jpeg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DE5-BEBE-42CC-A537-434701AA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30D-413A-4344-95F0-390EE38E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4F3-58A4-45E5-8ED3-4F11C670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9752-933F-43D2-9DD8-E2A30B8E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F9E5-2F9F-4C5C-9E49-A9A5753E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F0DB-0531-4451-85CD-C6D8E244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85B-7653-4B80-A265-7168B377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8CD-DC7F-48DB-A80E-6CD5EDFE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40E-027C-44E6-ACD9-4BBB6EB2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8DB2-3D44-41DA-97FC-4D06D7AB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8E08-9474-46F4-8EE2-3E934784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0B46-B238-4733-96DE-BA839563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5290-DD48-4DCB-8686-777E5CE042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7280" y="5666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动   力   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78160" y="13161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力学：研究物体的机械运动与作用力之间的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175248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175248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2924280"/>
            <a:ext cx="2087640" cy="898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动力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2492280"/>
            <a:ext cx="175248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气动力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3640" y="4508640"/>
            <a:ext cx="280836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超高速碰撞动力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72360" y="2421000"/>
            <a:ext cx="216036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动力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916000" y="3213000"/>
            <a:ext cx="6476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796000" y="3141720"/>
            <a:ext cx="5047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393372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5734080"/>
            <a:ext cx="79200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315200" y="6562800"/>
            <a:ext cx="1828800" cy="295200"/>
            <a:chOff x="7315200" y="6562800"/>
            <a:chExt cx="1828800" cy="295200"/>
          </a:xfrm>
        </p:grpSpPr>
        <p:sp>
          <p:nvSpPr>
            <p:cNvPr id="54" name="">
              <a:hlinkClick r:id="" action="ppaction://hlinkshowjump?jump=firstslide"/>
            </p:cNvPr>
            <p:cNvSpPr/>
            <p:nvPr/>
          </p:nvSpPr>
          <p:spPr>
            <a:xfrm>
              <a:off x="731520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>
              <a:hlinkClick r:id="" action="ppaction://hlinkshowjump?jump=previousslide"/>
            </p:cNvPr>
            <p:cNvSpPr/>
            <p:nvPr/>
          </p:nvSpPr>
          <p:spPr>
            <a:xfrm>
              <a:off x="779292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>
              <a:hlinkClick r:id="" action="ppaction://hlinkshowjump?jump=nextslide"/>
            </p:cNvPr>
            <p:cNvSpPr/>
            <p:nvPr/>
          </p:nvSpPr>
          <p:spPr>
            <a:xfrm>
              <a:off x="830088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116000" y="2082960"/>
                <a:ext cx="7494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当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时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r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λ</m:t>
                    </m:r>
                    <m:r>
                      <m:t xml:space="preserve"> </m:t>
                    </m:r>
                    <m:r>
                      <m:t xml:space="preserve">且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/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8" name=""/>
          <p:cNvGrpSpPr/>
          <p:nvPr/>
        </p:nvGrpSpPr>
        <p:grpSpPr>
          <a:xfrm>
            <a:off x="1260720" y="3141720"/>
            <a:ext cx="4525560" cy="709200"/>
            <a:chOff x="1260720" y="3141720"/>
            <a:chExt cx="4525560" cy="709200"/>
          </a:xfrm>
        </p:grpSpPr>
        <p:sp>
          <p:nvSpPr>
            <p:cNvPr id="169" name=""/>
            <p:cNvSpPr/>
            <p:nvPr/>
          </p:nvSpPr>
          <p:spPr>
            <a:xfrm>
              <a:off x="1260720" y="3330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2028600" y="3141720"/>
                  <a:ext cx="375768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r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F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/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1" name=""/>
          <p:cNvGrpSpPr/>
          <p:nvPr/>
        </p:nvGrpSpPr>
        <p:grpSpPr>
          <a:xfrm>
            <a:off x="1405440" y="4149720"/>
            <a:ext cx="4587480" cy="741240"/>
            <a:chOff x="1405440" y="4149720"/>
            <a:chExt cx="4587480" cy="741240"/>
          </a:xfrm>
        </p:grpSpPr>
        <p:sp>
          <p:nvSpPr>
            <p:cNvPr id="172" name=""/>
            <p:cNvSpPr/>
            <p:nvPr/>
          </p:nvSpPr>
          <p:spPr>
            <a:xfrm>
              <a:off x="1405440" y="4295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2070360" y="4149720"/>
                  <a:ext cx="392256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/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4" name=""/>
          <p:cNvSpPr/>
          <p:nvPr/>
        </p:nvSpPr>
        <p:spPr>
          <a:xfrm>
            <a:off x="1332000" y="5229360"/>
            <a:ext cx="560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属于动力学第一类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292760" y="646200"/>
            <a:ext cx="6187680" cy="637920"/>
            <a:chOff x="1292760" y="646200"/>
            <a:chExt cx="6187680" cy="637920"/>
          </a:xfrm>
        </p:grpSpPr>
        <p:sp>
          <p:nvSpPr>
            <p:cNvPr id="176" name=""/>
            <p:cNvSpPr/>
            <p:nvPr/>
          </p:nvSpPr>
          <p:spPr>
            <a:xfrm>
              <a:off x="1292760" y="6858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"/>
            <p:cNvGraphicFramePr/>
            <p:nvPr/>
          </p:nvGraphicFramePr>
          <p:xfrm>
            <a:off x="1987560" y="646200"/>
            <a:ext cx="5492880" cy="637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87560" y="646200"/>
                      <a:ext cx="5492880" cy="63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9" name=""/>
          <p:cNvGrpSpPr/>
          <p:nvPr/>
        </p:nvGrpSpPr>
        <p:grpSpPr>
          <a:xfrm>
            <a:off x="1405440" y="1484280"/>
            <a:ext cx="3310920" cy="552600"/>
            <a:chOff x="1405440" y="1484280"/>
            <a:chExt cx="3310920" cy="552600"/>
          </a:xfrm>
        </p:grpSpPr>
        <p:sp>
          <p:nvSpPr>
            <p:cNvPr id="180" name=""/>
            <p:cNvSpPr/>
            <p:nvPr/>
          </p:nvSpPr>
          <p:spPr>
            <a:xfrm>
              <a:off x="1405440" y="15080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2201760" y="1484280"/>
                  <a:ext cx="2514600" cy="5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r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λ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2" name=""/>
          <p:cNvGrpSpPr/>
          <p:nvPr/>
        </p:nvGrpSpPr>
        <p:grpSpPr>
          <a:xfrm>
            <a:off x="7315200" y="6562800"/>
            <a:ext cx="1828800" cy="295200"/>
            <a:chOff x="7315200" y="6562800"/>
            <a:chExt cx="1828800" cy="295200"/>
          </a:xfrm>
        </p:grpSpPr>
        <p:sp>
          <p:nvSpPr>
            <p:cNvPr id="183" name="">
              <a:hlinkClick r:id="" action="ppaction://hlinkshowjump?jump=firstslide"/>
            </p:cNvPr>
            <p:cNvSpPr/>
            <p:nvPr/>
          </p:nvSpPr>
          <p:spPr>
            <a:xfrm>
              <a:off x="731520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>
              <a:hlinkClick r:id="" action="ppaction://hlinkshowjump?jump=previousslide"/>
            </p:cNvPr>
            <p:cNvSpPr/>
            <p:nvPr/>
          </p:nvSpPr>
          <p:spPr>
            <a:xfrm>
              <a:off x="779292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>
              <a:hlinkClick r:id="" action="ppaction://hlinkshowjump?jump=nextslide"/>
            </p:cNvPr>
            <p:cNvSpPr/>
            <p:nvPr/>
          </p:nvSpPr>
          <p:spPr>
            <a:xfrm>
              <a:off x="830088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ShockwaveFlash1"/>
          <p:cNvGraphicFramePr/>
          <p:nvPr/>
        </p:nvGraphicFramePr>
        <p:xfrm>
          <a:off x="2916360" y="3068640"/>
          <a:ext cx="3886200" cy="283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068640"/>
                    <a:ext cx="3886200" cy="2836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pSp>
        <p:nvGrpSpPr>
          <p:cNvPr id="189" name=""/>
          <p:cNvGrpSpPr/>
          <p:nvPr/>
        </p:nvGrpSpPr>
        <p:grpSpPr>
          <a:xfrm>
            <a:off x="322200" y="476280"/>
            <a:ext cx="8821800" cy="1833840"/>
            <a:chOff x="322200" y="476280"/>
            <a:chExt cx="8821800" cy="1833840"/>
          </a:xfrm>
        </p:grpSpPr>
        <p:graphicFrame>
          <p:nvGraphicFramePr>
            <p:cNvPr id="190" name=""/>
            <p:cNvGraphicFramePr/>
            <p:nvPr/>
          </p:nvGraphicFramePr>
          <p:xfrm>
            <a:off x="6188040" y="1620720"/>
            <a:ext cx="1343160" cy="595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188040" y="1620720"/>
                      <a:ext cx="1343160" cy="59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2" name=""/>
            <p:cNvSpPr/>
            <p:nvPr/>
          </p:nvSpPr>
          <p:spPr>
            <a:xfrm>
              <a:off x="322200" y="476280"/>
              <a:ext cx="8821800" cy="18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　　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0-2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质量为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质点带有电荷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以速度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进入强度按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cos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kt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变化的均匀电场中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初速度方向与电场强度垂直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如图所示。质点在电场中受力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　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作用。已知常数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A,k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忽略质点的重力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试求质点的运动轨迹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315200" y="6562800"/>
            <a:ext cx="1828800" cy="295200"/>
            <a:chOff x="7315200" y="6562800"/>
            <a:chExt cx="1828800" cy="295200"/>
          </a:xfrm>
        </p:grpSpPr>
        <p:sp>
          <p:nvSpPr>
            <p:cNvPr id="194" name="">
              <a:hlinkClick r:id="" action="ppaction://hlinkshowjump?jump=firstslide"/>
            </p:cNvPr>
            <p:cNvSpPr/>
            <p:nvPr/>
          </p:nvSpPr>
          <p:spPr>
            <a:xfrm>
              <a:off x="731520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>
              <a:hlinkClick r:id="" action="ppaction://hlinkshowjump?jump=previousslide"/>
            </p:cNvPr>
            <p:cNvSpPr/>
            <p:nvPr/>
          </p:nvSpPr>
          <p:spPr>
            <a:xfrm>
              <a:off x="779292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>
              <a:hlinkClick r:id="" action="ppaction://hlinkshowjump?jump=nextslide"/>
            </p:cNvPr>
            <p:cNvSpPr/>
            <p:nvPr/>
          </p:nvSpPr>
          <p:spPr>
            <a:xfrm>
              <a:off x="830088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181480" y="2657520"/>
            <a:ext cx="3657600" cy="3133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80880" y="776160"/>
            <a:ext cx="42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质点的运动轨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3840" y="166680"/>
            <a:ext cx="8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654200" y="135000"/>
          <a:ext cx="418320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54200" y="135000"/>
                    <a:ext cx="41832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5881680" y="152280"/>
          <a:ext cx="2941560" cy="5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1680" y="152280"/>
                    <a:ext cx="29415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840" y="175248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676520" y="1574640"/>
                <a:ext cx="67244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t xml:space="preserve">d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t xml:space="preserve">d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e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8" name=""/>
          <p:cNvGrpSpPr/>
          <p:nvPr/>
        </p:nvGrpSpPr>
        <p:grpSpPr>
          <a:xfrm>
            <a:off x="522720" y="2743200"/>
            <a:ext cx="4658760" cy="627120"/>
            <a:chOff x="522720" y="2743200"/>
            <a:chExt cx="4658760" cy="627120"/>
          </a:xfrm>
        </p:grpSpPr>
        <p:sp>
          <p:nvSpPr>
            <p:cNvPr id="209" name=""/>
            <p:cNvSpPr/>
            <p:nvPr/>
          </p:nvSpPr>
          <p:spPr>
            <a:xfrm>
              <a:off x="522720" y="27432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295280" y="2774880"/>
                  <a:ext cx="388620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时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14400" y="4541760"/>
                <a:ext cx="40384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d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A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12" name=""/>
          <p:cNvGrpSpPr/>
          <p:nvPr/>
        </p:nvGrpSpPr>
        <p:grpSpPr>
          <a:xfrm>
            <a:off x="380880" y="5688000"/>
            <a:ext cx="6389640" cy="1017720"/>
            <a:chOff x="380880" y="5688000"/>
            <a:chExt cx="6389640" cy="1017720"/>
          </a:xfrm>
        </p:grpSpPr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380880" y="5688000"/>
                  <a:ext cx="2667240" cy="101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得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dx</m:t>
                          </m:r>
                        </m:num>
                        <m:den>
                          <m: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3429000" y="5708520"/>
                  <a:ext cx="3341520" cy="99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dy</m:t>
                          </m:r>
                        </m:num>
                        <m:den>
                          <m: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e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mk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rPr>
                          <m:lit/>
                          <m:nor/>
                        </m:rPr>
                        <m:t xml:space="preserve">k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5" name=""/>
          <p:cNvGrpSpPr/>
          <p:nvPr/>
        </p:nvGrpSpPr>
        <p:grpSpPr>
          <a:xfrm>
            <a:off x="756720" y="3429000"/>
            <a:ext cx="3022920" cy="896760"/>
            <a:chOff x="756720" y="3429000"/>
            <a:chExt cx="3022920" cy="896760"/>
          </a:xfrm>
        </p:grpSpPr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1843200" y="3429000"/>
                  <a:ext cx="1936440" cy="89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dv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>
              <a:off x="756720" y="3581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积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315200" y="6562800"/>
            <a:ext cx="1828800" cy="295200"/>
            <a:chOff x="7315200" y="6562800"/>
            <a:chExt cx="1828800" cy="295200"/>
          </a:xfrm>
        </p:grpSpPr>
        <p:sp>
          <p:nvSpPr>
            <p:cNvPr id="219" name="">
              <a:hlinkClick r:id="" action="ppaction://hlinkshowjump?jump=firstslide"/>
            </p:cNvPr>
            <p:cNvSpPr/>
            <p:nvPr/>
          </p:nvSpPr>
          <p:spPr>
            <a:xfrm>
              <a:off x="731520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>
              <a:hlinkClick r:id="" action="ppaction://hlinkshowjump?jump=previousslide"/>
            </p:cNvPr>
            <p:cNvSpPr/>
            <p:nvPr/>
          </p:nvSpPr>
          <p:spPr>
            <a:xfrm>
              <a:off x="779292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830088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85800" y="1525680"/>
                <a:ext cx="43434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由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时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积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144440" y="2200320"/>
                <a:ext cx="22402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dt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733920" y="2133720"/>
                <a:ext cx="37335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den>
                        </m:f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620640" y="2986200"/>
            <a:ext cx="45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得运动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371600" y="3290760"/>
                <a:ext cx="44197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685800" y="4129200"/>
            <a:ext cx="43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去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得轨迹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419120" y="4740120"/>
                <a:ext cx="310536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371600" y="5958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第二类基本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7761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质点的运动轨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3840" y="166680"/>
            <a:ext cx="8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654200" y="135000"/>
          <a:ext cx="4183200" cy="64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4200" y="135000"/>
                    <a:ext cx="41832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5881680" y="223920"/>
          <a:ext cx="2941560" cy="554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81680" y="223920"/>
                    <a:ext cx="29415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315200" y="6562800"/>
            <a:ext cx="1828800" cy="295200"/>
            <a:chOff x="7315200" y="6562800"/>
            <a:chExt cx="1828800" cy="295200"/>
          </a:xfrm>
        </p:grpSpPr>
        <p:sp>
          <p:nvSpPr>
            <p:cNvPr id="239" name="">
              <a:hlinkClick r:id="" action="ppaction://hlinkshowjump?jump=firstslide"/>
            </p:cNvPr>
            <p:cNvSpPr/>
            <p:nvPr/>
          </p:nvSpPr>
          <p:spPr>
            <a:xfrm>
              <a:off x="731520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>
              <a:hlinkClick r:id="" action="ppaction://hlinkshowjump?jump=previousslide"/>
            </p:cNvPr>
            <p:cNvSpPr/>
            <p:nvPr/>
          </p:nvSpPr>
          <p:spPr>
            <a:xfrm>
              <a:off x="779292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>
              <a:hlinkClick r:id="" action="ppaction://hlinkshowjump?jump=nextslide"/>
            </p:cNvPr>
            <p:cNvSpPr/>
            <p:nvPr/>
          </p:nvSpPr>
          <p:spPr>
            <a:xfrm>
              <a:off x="830088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960640" y="1143000"/>
                <a:ext cx="12193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522360" y="2602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-3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圆锥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所示。质量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m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1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小球系于长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3m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绳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绳的另一端系在固定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与铅直线成　             角。如小球在水平面内作匀速圆周运动，求小球的速度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绳的张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ShockwaveFlash1"/>
          <p:cNvGraphicFramePr/>
          <p:nvPr/>
        </p:nvGraphicFramePr>
        <p:xfrm>
          <a:off x="2556000" y="2708280"/>
          <a:ext cx="487656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2708280"/>
                    <a:ext cx="4876560" cy="3581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7315200" y="6562800"/>
            <a:ext cx="1828800" cy="295200"/>
            <a:chOff x="7315200" y="6562800"/>
            <a:chExt cx="1828800" cy="295200"/>
          </a:xfrm>
        </p:grpSpPr>
        <p:sp>
          <p:nvSpPr>
            <p:cNvPr id="248" name="">
              <a:hlinkClick r:id="" action="ppaction://hlinkshowjump?jump=firstslide"/>
            </p:cNvPr>
            <p:cNvSpPr/>
            <p:nvPr/>
          </p:nvSpPr>
          <p:spPr>
            <a:xfrm>
              <a:off x="731520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>
              <a:hlinkClick r:id="" action="ppaction://hlinkshowjump?jump=previousslide"/>
            </p:cNvPr>
            <p:cNvSpPr/>
            <p:nvPr/>
          </p:nvSpPr>
          <p:spPr>
            <a:xfrm>
              <a:off x="779292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>
              <a:hlinkClick r:id="" action="ppaction://hlinkshowjump?jump=nextslide"/>
            </p:cNvPr>
            <p:cNvSpPr/>
            <p:nvPr/>
          </p:nvSpPr>
          <p:spPr>
            <a:xfrm>
              <a:off x="830088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23800" y="66600"/>
            <a:ext cx="8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503360" y="46080"/>
                <a:ext cx="63086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匀速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451800" y="77616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182600" y="736560"/>
                <a:ext cx="9273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724280" y="2567160"/>
            <a:ext cx="4267440" cy="38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24000" y="1484280"/>
                <a:ext cx="23968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解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研究小球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295280" y="3876840"/>
                <a:ext cx="251784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295280" y="4800600"/>
                <a:ext cx="3276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l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1066680" y="5950080"/>
            <a:ext cx="372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混合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784600" y="1260360"/>
            <a:ext cx="2508120" cy="1447920"/>
            <a:chOff x="2784600" y="1260360"/>
            <a:chExt cx="2508120" cy="1447920"/>
          </a:xfrm>
        </p:grpSpPr>
        <p:graphicFrame>
          <p:nvGraphicFramePr>
            <p:cNvPr id="263" name=""/>
            <p:cNvGraphicFramePr/>
            <p:nvPr/>
          </p:nvGraphicFramePr>
          <p:xfrm>
            <a:off x="2784600" y="2219400"/>
            <a:ext cx="2508120" cy="488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84600" y="2219400"/>
                      <a:ext cx="2508120" cy="48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5" name=""/>
            <p:cNvGraphicFramePr/>
            <p:nvPr/>
          </p:nvGraphicFramePr>
          <p:xfrm>
            <a:off x="2869920" y="1260360"/>
            <a:ext cx="2166840" cy="1008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69920" y="1260360"/>
                      <a:ext cx="2166840" cy="100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7" name=""/>
          <p:cNvGrpSpPr/>
          <p:nvPr/>
        </p:nvGrpSpPr>
        <p:grpSpPr>
          <a:xfrm>
            <a:off x="7315200" y="6562800"/>
            <a:ext cx="1828800" cy="295200"/>
            <a:chOff x="7315200" y="6562800"/>
            <a:chExt cx="1828800" cy="295200"/>
          </a:xfrm>
        </p:grpSpPr>
        <p:sp>
          <p:nvSpPr>
            <p:cNvPr id="268" name="">
              <a:hlinkClick r:id="" action="ppaction://hlinkshowjump?jump=firstslide"/>
            </p:cNvPr>
            <p:cNvSpPr/>
            <p:nvPr/>
          </p:nvSpPr>
          <p:spPr>
            <a:xfrm>
              <a:off x="731520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>
              <a:hlinkClick r:id="" action="ppaction://hlinkshowjump?jump=previousslide"/>
            </p:cNvPr>
            <p:cNvSpPr/>
            <p:nvPr/>
          </p:nvSpPr>
          <p:spPr>
            <a:xfrm>
              <a:off x="779292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>
              <a:hlinkClick r:id="" action="ppaction://hlinkshowjump?jump=nextslide"/>
            </p:cNvPr>
            <p:cNvSpPr/>
            <p:nvPr/>
          </p:nvSpPr>
          <p:spPr>
            <a:xfrm>
              <a:off x="830088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260360" y="2827440"/>
            <a:ext cx="2398680" cy="463320"/>
            <a:chOff x="1260360" y="2827440"/>
            <a:chExt cx="2398680" cy="463320"/>
          </a:xfrm>
        </p:grpSpPr>
        <p:graphicFrame>
          <p:nvGraphicFramePr>
            <p:cNvPr id="273" name=""/>
            <p:cNvGraphicFramePr/>
            <p:nvPr/>
          </p:nvGraphicFramePr>
          <p:xfrm>
            <a:off x="2124000" y="2852640"/>
            <a:ext cx="1535040" cy="438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24000" y="2852640"/>
                      <a:ext cx="153504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5" name=""/>
            <p:cNvSpPr/>
            <p:nvPr/>
          </p:nvSpPr>
          <p:spPr>
            <a:xfrm>
              <a:off x="1260360" y="282744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其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260360" y="34034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04920" y="76320"/>
            <a:ext cx="8610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粉碎机滚筒半径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绕通过中心的水平轴匀速转动，筒内铁球由筒壁上的凸棱带着上升。为了使小球获得粉碎矿石的能量，铁球应在　　　　时才掉下来。求滚筒每分钟的转数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7315200" y="1353960"/>
                <a:ext cx="83808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79" name="ShockwaveFlash1"/>
          <p:cNvGraphicFramePr/>
          <p:nvPr/>
        </p:nvGraphicFramePr>
        <p:xfrm>
          <a:off x="2627280" y="2852640"/>
          <a:ext cx="426708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852640"/>
                    <a:ext cx="4267080" cy="3429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81" name=""/>
          <p:cNvGrpSpPr/>
          <p:nvPr/>
        </p:nvGrpSpPr>
        <p:grpSpPr>
          <a:xfrm>
            <a:off x="7315200" y="6562800"/>
            <a:ext cx="1828800" cy="295200"/>
            <a:chOff x="7315200" y="6562800"/>
            <a:chExt cx="1828800" cy="295200"/>
          </a:xfrm>
        </p:grpSpPr>
        <p:sp>
          <p:nvSpPr>
            <p:cNvPr id="282" name="">
              <a:hlinkClick r:id="" action="ppaction://hlinkshowjump?jump=firstslide"/>
            </p:cNvPr>
            <p:cNvSpPr/>
            <p:nvPr/>
          </p:nvSpPr>
          <p:spPr>
            <a:xfrm>
              <a:off x="731520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>
              <a:hlinkClick r:id="" action="ppaction://hlinkshowjump?jump=previousslide"/>
            </p:cNvPr>
            <p:cNvSpPr/>
            <p:nvPr/>
          </p:nvSpPr>
          <p:spPr>
            <a:xfrm>
              <a:off x="779292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>
              <a:hlinkClick r:id="" action="ppaction://hlinkshowjump?jump=nextslide"/>
            </p:cNvPr>
            <p:cNvSpPr/>
            <p:nvPr/>
          </p:nvSpPr>
          <p:spPr>
            <a:xfrm>
              <a:off x="830088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499760" y="1614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研究铁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733920" y="1335240"/>
                <a:ext cx="32763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57200" y="2338560"/>
                <a:ext cx="24526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中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57200" y="3370320"/>
                <a:ext cx="48769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当</m:t>
                    </m:r>
                    <m:r>
                      <m:t xml:space="preserve"> </m:t>
                    </m:r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时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解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233360" y="4025880"/>
                <a:ext cx="3017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9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23800" y="5157720"/>
                <a:ext cx="50389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当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  <m:r>
                      <m:t xml:space="preserve">时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球不脱离筒壁。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5410080" y="2438280"/>
            <a:ext cx="3353040" cy="27939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04800" y="189000"/>
            <a:ext cx="6775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匀速转动。            时小球掉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6360" y="776160"/>
            <a:ext cx="14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速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352680" y="363600"/>
                <a:ext cx="9730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0" y="1341360"/>
            <a:ext cx="914400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7315200" y="6562800"/>
            <a:ext cx="1828800" cy="295200"/>
            <a:chOff x="7315200" y="6562800"/>
            <a:chExt cx="1828800" cy="295200"/>
          </a:xfrm>
        </p:grpSpPr>
        <p:sp>
          <p:nvSpPr>
            <p:cNvPr id="298" name="">
              <a:hlinkClick r:id="" action="ppaction://hlinkshowjump?jump=firstslide"/>
            </p:cNvPr>
            <p:cNvSpPr/>
            <p:nvPr/>
          </p:nvSpPr>
          <p:spPr>
            <a:xfrm>
              <a:off x="731520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>
              <a:hlinkClick r:id="" action="ppaction://hlinkshowjump?jump=previousslide"/>
            </p:cNvPr>
            <p:cNvSpPr/>
            <p:nvPr/>
          </p:nvSpPr>
          <p:spPr>
            <a:xfrm>
              <a:off x="779292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>
              <a:hlinkClick r:id="" action="ppaction://hlinkshowjump?jump=nextslide"/>
            </p:cNvPr>
            <p:cNvSpPr/>
            <p:nvPr/>
          </p:nvSpPr>
          <p:spPr>
            <a:xfrm>
              <a:off x="830088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13520" y="549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动力学的抽象模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86280" y="1268280"/>
            <a:ext cx="155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质点：具有一定质量而几何形状和尺寸大小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忽略不计的物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67080" y="3141720"/>
            <a:ext cx="444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质点系：由几个或无限个相互有联系的质点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成的系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3280" y="2492280"/>
            <a:ext cx="574920" cy="217440"/>
          </a:xfrm>
          <a:prstGeom prst="rightArrow">
            <a:avLst>
              <a:gd name="adj1" fmla="val 50000"/>
              <a:gd name="adj2" fmla="val 6610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76240" y="2224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质点动力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4365720"/>
            <a:ext cx="574920" cy="217440"/>
          </a:xfrm>
          <a:prstGeom prst="rightArrow">
            <a:avLst>
              <a:gd name="adj1" fmla="val 50000"/>
              <a:gd name="adj2" fmla="val 6610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29240" y="4149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质点系动力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11440" y="4941720"/>
            <a:ext cx="444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刚体：特殊质点系，其中任意两点之间的距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保持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315200" y="6562800"/>
            <a:ext cx="1828800" cy="295200"/>
            <a:chOff x="7315200" y="6562800"/>
            <a:chExt cx="1828800" cy="295200"/>
          </a:xfrm>
        </p:grpSpPr>
        <p:sp>
          <p:nvSpPr>
            <p:cNvPr id="67" name="">
              <a:hlinkClick r:id="" action="ppaction://hlinkshowjump?jump=firstslide"/>
            </p:cNvPr>
            <p:cNvSpPr/>
            <p:nvPr/>
          </p:nvSpPr>
          <p:spPr>
            <a:xfrm>
              <a:off x="731520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>
              <a:hlinkClick r:id="" action="ppaction://hlinkshowjump?jump=previousslide"/>
            </p:cNvPr>
            <p:cNvSpPr/>
            <p:nvPr/>
          </p:nvSpPr>
          <p:spPr>
            <a:xfrm>
              <a:off x="779292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>
              <a:hlinkClick r:id="" action="ppaction://hlinkshowjump?jump=nextslide"/>
            </p:cNvPr>
            <p:cNvSpPr/>
            <p:nvPr/>
          </p:nvSpPr>
          <p:spPr>
            <a:xfrm>
              <a:off x="830088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50080" y="639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本篇的基本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23880" y="1454040"/>
            <a:ext cx="46958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质点动力学的基本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动量定理，质心运动定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动量矩定理，定轴转动刚体的转动微分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刚体的平面运动微分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动能定理，机械能守恒定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动静法－－达朗贝尔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虚位移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7315200" y="6562800"/>
            <a:ext cx="1828800" cy="295200"/>
            <a:chOff x="7315200" y="6562800"/>
            <a:chExt cx="1828800" cy="295200"/>
          </a:xfrm>
        </p:grpSpPr>
        <p:sp>
          <p:nvSpPr>
            <p:cNvPr id="74" name="">
              <a:hlinkClick r:id="" action="ppaction://hlinkshowjump?jump=firstslide"/>
            </p:cNvPr>
            <p:cNvSpPr/>
            <p:nvPr/>
          </p:nvSpPr>
          <p:spPr>
            <a:xfrm>
              <a:off x="731520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>
              <a:hlinkClick r:id="" action="ppaction://hlinkshowjump?jump=previousslide"/>
            </p:cNvPr>
            <p:cNvSpPr/>
            <p:nvPr/>
          </p:nvSpPr>
          <p:spPr>
            <a:xfrm>
              <a:off x="779292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>
              <a:hlinkClick r:id="" action="ppaction://hlinkshowjump?jump=nextslide"/>
            </p:cNvPr>
            <p:cNvSpPr/>
            <p:nvPr/>
          </p:nvSpPr>
          <p:spPr>
            <a:xfrm>
              <a:off x="830088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699640" y="2003400"/>
            <a:ext cx="365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十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质点动力学的基本方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8300880" y="65563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lastslide"/>
          </p:cNvPr>
          <p:cNvSpPr/>
          <p:nvPr/>
        </p:nvSpPr>
        <p:spPr>
          <a:xfrm>
            <a:off x="8783640" y="65642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71600" y="22860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10-1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力学的基本定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36600" y="1143000"/>
            <a:ext cx="24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定律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惯性定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1895400"/>
            <a:ext cx="80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受力作用的质点，将保持静止或作匀速直线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251784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定律（</a:t>
            </a:r>
            <a:r>
              <a:rPr b="0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力与加速度之间关系定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59280" y="3141720"/>
          <a:ext cx="1439640" cy="60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3141720"/>
                    <a:ext cx="14396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"/>
          <p:cNvGrpSpPr/>
          <p:nvPr/>
        </p:nvGrpSpPr>
        <p:grpSpPr>
          <a:xfrm>
            <a:off x="1148040" y="3886200"/>
            <a:ext cx="4719240" cy="612720"/>
            <a:chOff x="1148040" y="3886200"/>
            <a:chExt cx="4719240" cy="612720"/>
          </a:xfrm>
        </p:grpSpPr>
        <p:sp>
          <p:nvSpPr>
            <p:cNvPr id="88" name=""/>
            <p:cNvSpPr/>
            <p:nvPr/>
          </p:nvSpPr>
          <p:spPr>
            <a:xfrm>
              <a:off x="1148040" y="3932280"/>
              <a:ext cx="201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力的单位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牛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[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顿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]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9" name=""/>
            <p:cNvGraphicFramePr/>
            <p:nvPr/>
          </p:nvGraphicFramePr>
          <p:xfrm>
            <a:off x="3949560" y="3886200"/>
            <a:ext cx="1917720" cy="612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949560" y="3886200"/>
                      <a:ext cx="1917720" cy="61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1" name=""/>
          <p:cNvSpPr/>
          <p:nvPr/>
        </p:nvSpPr>
        <p:spPr>
          <a:xfrm>
            <a:off x="1718640" y="464832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定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用与反作用定律</a:t>
            </a:r>
            <a:r>
              <a:rPr b="0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121360"/>
            <a:ext cx="8305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个物体间的作用力与反作用力总是大小相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方向相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着同一直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且同时分别作用在这两个物体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315200" y="6562800"/>
            <a:ext cx="1828800" cy="295200"/>
            <a:chOff x="7315200" y="6562800"/>
            <a:chExt cx="1828800" cy="295200"/>
          </a:xfrm>
        </p:grpSpPr>
        <p:sp>
          <p:nvSpPr>
            <p:cNvPr id="94" name="">
              <a:hlinkClick r:id="" action="ppaction://hlinkshowjump?jump=firstslide"/>
            </p:cNvPr>
            <p:cNvSpPr/>
            <p:nvPr/>
          </p:nvSpPr>
          <p:spPr>
            <a:xfrm>
              <a:off x="731520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>
              <a:hlinkClick r:id="" action="ppaction://hlinkshowjump?jump=previousslide"/>
            </p:cNvPr>
            <p:cNvSpPr/>
            <p:nvPr/>
          </p:nvSpPr>
          <p:spPr>
            <a:xfrm>
              <a:off x="779292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>
              <a:hlinkClick r:id="" action="ppaction://hlinkshowjump?jump=nextslide"/>
            </p:cNvPr>
            <p:cNvSpPr/>
            <p:nvPr/>
          </p:nvSpPr>
          <p:spPr>
            <a:xfrm>
              <a:off x="830088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30492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10-2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点的运动微分方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37162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直角坐标轴上的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投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857240" y="4572000"/>
          <a:ext cx="602784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7240" y="4572000"/>
                    <a:ext cx="60278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1908000" y="1844640"/>
            <a:ext cx="3311280" cy="1655280"/>
            <a:chOff x="1908000" y="1844640"/>
            <a:chExt cx="3311280" cy="1655280"/>
          </a:xfrm>
        </p:grpSpPr>
        <p:graphicFrame>
          <p:nvGraphicFramePr>
            <p:cNvPr id="103" name=""/>
            <p:cNvGraphicFramePr/>
            <p:nvPr/>
          </p:nvGraphicFramePr>
          <p:xfrm>
            <a:off x="3074040" y="1844640"/>
            <a:ext cx="2145240" cy="1655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074040" y="1844640"/>
                      <a:ext cx="2145240" cy="165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"/>
            <p:cNvSpPr/>
            <p:nvPr/>
          </p:nvSpPr>
          <p:spPr>
            <a:xfrm>
              <a:off x="1908000" y="2739960"/>
              <a:ext cx="11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7315200" y="6562800"/>
            <a:ext cx="1828800" cy="295200"/>
            <a:chOff x="7315200" y="6562800"/>
            <a:chExt cx="1828800" cy="295200"/>
          </a:xfrm>
        </p:grpSpPr>
        <p:sp>
          <p:nvSpPr>
            <p:cNvPr id="107" name="">
              <a:hlinkClick r:id="" action="ppaction://hlinkshowjump?jump=firstslide"/>
            </p:cNvPr>
            <p:cNvSpPr/>
            <p:nvPr/>
          </p:nvSpPr>
          <p:spPr>
            <a:xfrm>
              <a:off x="731520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>
              <a:hlinkClick r:id="" action="ppaction://hlinkshowjump?jump=previousslide"/>
            </p:cNvPr>
            <p:cNvSpPr/>
            <p:nvPr/>
          </p:nvSpPr>
          <p:spPr>
            <a:xfrm>
              <a:off x="779292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>
              <a:hlinkClick r:id="" action="ppaction://hlinkshowjump?jump=nextslide"/>
            </p:cNvPr>
            <p:cNvSpPr/>
            <p:nvPr/>
          </p:nvSpPr>
          <p:spPr>
            <a:xfrm>
              <a:off x="830088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684800" y="1197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质点动力学第二定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1413000"/>
            <a:ext cx="503280" cy="576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3352680"/>
            <a:ext cx="67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质点动力学的两类基本问题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26280" y="413532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类问题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运动求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29920" y="4897440"/>
            <a:ext cx="25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二类问题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力求运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35200" y="5602320"/>
            <a:ext cx="158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混合问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类与第二类问题的混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25680" y="6858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自然轴上的投影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523880" y="1498680"/>
            <a:ext cx="4271760" cy="561600"/>
            <a:chOff x="1523880" y="1498680"/>
            <a:chExt cx="4271760" cy="561600"/>
          </a:xfrm>
        </p:grpSpPr>
        <p:graphicFrame>
          <p:nvGraphicFramePr>
            <p:cNvPr id="119" name=""/>
            <p:cNvGraphicFramePr/>
            <p:nvPr/>
          </p:nvGraphicFramePr>
          <p:xfrm>
            <a:off x="2415600" y="1498680"/>
            <a:ext cx="3380040" cy="56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415600" y="1498680"/>
                      <a:ext cx="3380040" cy="56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1523880" y="1498680"/>
              <a:ext cx="82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498680" y="2147760"/>
            <a:ext cx="5736960" cy="1136520"/>
            <a:chOff x="1498680" y="2147760"/>
            <a:chExt cx="5736960" cy="1136520"/>
          </a:xfrm>
        </p:grpSpPr>
        <p:graphicFrame>
          <p:nvGraphicFramePr>
            <p:cNvPr id="123" name=""/>
            <p:cNvGraphicFramePr/>
            <p:nvPr/>
          </p:nvGraphicFramePr>
          <p:xfrm>
            <a:off x="2370600" y="2147760"/>
            <a:ext cx="4865040" cy="1136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370600" y="2147760"/>
                      <a:ext cx="4865040" cy="113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1498680" y="2459160"/>
              <a:ext cx="75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315200" y="6562800"/>
            <a:ext cx="1828800" cy="295200"/>
            <a:chOff x="7315200" y="6562800"/>
            <a:chExt cx="1828800" cy="295200"/>
          </a:xfrm>
        </p:grpSpPr>
        <p:sp>
          <p:nvSpPr>
            <p:cNvPr id="127" name="">
              <a:hlinkClick r:id="" action="ppaction://hlinkshowjump?jump=firstslide"/>
            </p:cNvPr>
            <p:cNvSpPr/>
            <p:nvPr/>
          </p:nvSpPr>
          <p:spPr>
            <a:xfrm>
              <a:off x="731520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>
              <a:hlinkClick r:id="" action="ppaction://hlinkshowjump?jump=previousslide"/>
            </p:cNvPr>
            <p:cNvSpPr/>
            <p:nvPr/>
          </p:nvSpPr>
          <p:spPr>
            <a:xfrm>
              <a:off x="779292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>
              <a:hlinkClick r:id="" action="ppaction://hlinkshowjump?jump=nextslide"/>
            </p:cNvPr>
            <p:cNvSpPr/>
            <p:nvPr/>
          </p:nvSpPr>
          <p:spPr>
            <a:xfrm>
              <a:off x="830088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304920" y="304920"/>
            <a:ext cx="8461080" cy="2976480"/>
            <a:chOff x="304920" y="304920"/>
            <a:chExt cx="8461080" cy="2976480"/>
          </a:xfrm>
        </p:grpSpPr>
        <p:sp>
          <p:nvSpPr>
            <p:cNvPr id="132" name=""/>
            <p:cNvSpPr/>
            <p:nvPr/>
          </p:nvSpPr>
          <p:spPr>
            <a:xfrm>
              <a:off x="304920" y="304920"/>
              <a:ext cx="8461080" cy="17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　　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0-1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曲柄连杆机构如图所示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曲柄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O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以匀角速度      转动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OA=r,AB=l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当               比较小时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以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为坐标原点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滑块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运动方程可近似写为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762120" y="955800"/>
              <a:ext cx="6016680" cy="2325600"/>
              <a:chOff x="762120" y="955800"/>
              <a:chExt cx="6016680" cy="2325600"/>
            </a:xfrm>
          </p:grpSpPr>
          <mc:AlternateContent>
            <mc:Choice xmlns:a14="http://schemas.microsoft.com/office/drawing/2010/main" Requires="a14">
              <p:sp>
                <p:nvSpPr>
                  <p:cNvPr id="134" name=""/>
                  <p:cNvSpPr txBox="1"/>
                  <p:nvPr/>
                </p:nvSpPr>
                <p:spPr>
                  <a:xfrm>
                    <a:off x="762120" y="1028880"/>
                    <a:ext cx="457200" cy="419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5" name=""/>
                  <p:cNvSpPr txBox="1"/>
                  <p:nvPr/>
                </p:nvSpPr>
                <p:spPr>
                  <a:xfrm>
                    <a:off x="4191120" y="955800"/>
                    <a:ext cx="1371600" cy="492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6" name=""/>
                  <p:cNvSpPr txBox="1"/>
                  <p:nvPr/>
                </p:nvSpPr>
                <p:spPr>
                  <a:xfrm>
                    <a:off x="838440" y="2057400"/>
                    <a:ext cx="5940360" cy="1224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37" name=""/>
          <p:cNvGrpSpPr/>
          <p:nvPr/>
        </p:nvGrpSpPr>
        <p:grpSpPr>
          <a:xfrm>
            <a:off x="366840" y="3352680"/>
            <a:ext cx="4433760" cy="1981440"/>
            <a:chOff x="366840" y="3352680"/>
            <a:chExt cx="4433760" cy="1981440"/>
          </a:xfrm>
        </p:grpSpPr>
        <p:sp>
          <p:nvSpPr>
            <p:cNvPr id="138" name=""/>
            <p:cNvSpPr/>
            <p:nvPr/>
          </p:nvSpPr>
          <p:spPr>
            <a:xfrm>
              <a:off x="366840" y="3352680"/>
              <a:ext cx="4433760" cy="17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如滑块的质量为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忽略摩擦及连杆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质量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试求当 　　　　　　　　　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杆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所受的力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9" name=""/>
            <p:cNvGraphicFramePr/>
            <p:nvPr/>
          </p:nvGraphicFramePr>
          <p:xfrm>
            <a:off x="1305000" y="4343400"/>
            <a:ext cx="2871720" cy="990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05000" y="4343400"/>
                      <a:ext cx="28717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1" name="ShockwaveFlash1"/>
          <p:cNvGraphicFramePr/>
          <p:nvPr/>
        </p:nvGraphicFramePr>
        <p:xfrm>
          <a:off x="4724280" y="3276720"/>
          <a:ext cx="4191120" cy="2981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2" name="ShockwaveFlash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3276720"/>
                    <a:ext cx="4191120" cy="2981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pSp>
        <p:nvGrpSpPr>
          <p:cNvPr id="143" name=""/>
          <p:cNvGrpSpPr/>
          <p:nvPr/>
        </p:nvGrpSpPr>
        <p:grpSpPr>
          <a:xfrm>
            <a:off x="7315200" y="6562800"/>
            <a:ext cx="1828800" cy="295200"/>
            <a:chOff x="7315200" y="6562800"/>
            <a:chExt cx="1828800" cy="295200"/>
          </a:xfrm>
        </p:grpSpPr>
        <p:sp>
          <p:nvSpPr>
            <p:cNvPr id="144" name="">
              <a:hlinkClick r:id="" action="ppaction://hlinkshowjump?jump=firstslide"/>
            </p:cNvPr>
            <p:cNvSpPr/>
            <p:nvPr/>
          </p:nvSpPr>
          <p:spPr>
            <a:xfrm>
              <a:off x="731520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>
              <a:hlinkClick r:id="" action="ppaction://hlinkshowjump?jump=previousslide"/>
            </p:cNvPr>
            <p:cNvSpPr/>
            <p:nvPr/>
          </p:nvSpPr>
          <p:spPr>
            <a:xfrm>
              <a:off x="779292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>
              <a:hlinkClick r:id="" action="ppaction://hlinkshowjump?jump=nextslide"/>
            </p:cNvPr>
            <p:cNvSpPr/>
            <p:nvPr/>
          </p:nvSpPr>
          <p:spPr>
            <a:xfrm>
              <a:off x="830088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880" y="2438280"/>
            <a:ext cx="29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研究滑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700360" y="5084640"/>
                <a:ext cx="23623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972360" y="5661000"/>
            <a:ext cx="6391800" cy="637920"/>
            <a:chOff x="972360" y="5661000"/>
            <a:chExt cx="6391800" cy="637920"/>
          </a:xfrm>
        </p:grpSpPr>
        <p:sp>
          <p:nvSpPr>
            <p:cNvPr id="151" name=""/>
            <p:cNvSpPr/>
            <p:nvPr/>
          </p:nvSpPr>
          <p:spPr>
            <a:xfrm>
              <a:off x="972360" y="57038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其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1804680" y="5661000"/>
                  <a:ext cx="5559480" cy="63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acc>
                        <m:accPr>
                          <m:chr m:val="¨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r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λ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2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6350040" cy="2438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871640" y="76320"/>
                <a:ext cx="6815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常量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A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。</m:t>
                    </m:r>
                    <m:r>
                      <m:t xml:space="preserve"> </m:t>
                    </m:r>
                    <m:r>
                      <m:t xml:space="preserve">设λ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" name=""/>
          <p:cNvGrpSpPr/>
          <p:nvPr/>
        </p:nvGrpSpPr>
        <p:grpSpPr>
          <a:xfrm>
            <a:off x="0" y="179280"/>
            <a:ext cx="9144000" cy="2030400"/>
            <a:chOff x="0" y="179280"/>
            <a:chExt cx="9144000" cy="2030400"/>
          </a:xfrm>
        </p:grpSpPr>
        <p:sp>
          <p:nvSpPr>
            <p:cNvPr id="156" name=""/>
            <p:cNvSpPr/>
            <p:nvPr/>
          </p:nvSpPr>
          <p:spPr>
            <a:xfrm>
              <a:off x="941040" y="179280"/>
              <a:ext cx="81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已知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0640" y="7905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1089000" y="533520"/>
                  <a:ext cx="5540400" cy="99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l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λ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d>
                      <m:r>
                        <m:t xml:space="preserve">+</m:t>
                      </m:r>
                      <m:r>
                        <m:t xml:space="preserve">r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λ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2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9" name=""/>
            <p:cNvSpPr/>
            <p:nvPr/>
          </p:nvSpPr>
          <p:spPr>
            <a:xfrm>
              <a:off x="793080" y="1461960"/>
              <a:ext cx="59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求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1352520" y="1219320"/>
                  <a:ext cx="550548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ϕ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时杆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rPr>
                          <m:lit/>
                          <m:nor/>
                        </m:rPr>
                        <m:t xml:space="preserve">受力</m:t>
                      </m:r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0" y="220968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7315200" y="6562800"/>
            <a:ext cx="1828800" cy="295200"/>
            <a:chOff x="7315200" y="6562800"/>
            <a:chExt cx="1828800" cy="295200"/>
          </a:xfrm>
        </p:grpSpPr>
        <p:sp>
          <p:nvSpPr>
            <p:cNvPr id="163" name="">
              <a:hlinkClick r:id="" action="ppaction://hlinkshowjump?jump=firstslide"/>
            </p:cNvPr>
            <p:cNvSpPr/>
            <p:nvPr/>
          </p:nvSpPr>
          <p:spPr>
            <a:xfrm>
              <a:off x="731520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>
              <a:hlinkClick r:id="" action="ppaction://hlinkshowjump?jump=previousslide"/>
            </p:cNvPr>
            <p:cNvSpPr/>
            <p:nvPr/>
          </p:nvSpPr>
          <p:spPr>
            <a:xfrm>
              <a:off x="779292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>
              <a:hlinkClick r:id="" action="ppaction://hlinkshowjump?jump=nextslide"/>
            </p:cNvPr>
            <p:cNvSpPr/>
            <p:nvPr/>
          </p:nvSpPr>
          <p:spPr>
            <a:xfrm>
              <a:off x="8300880" y="6562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30T05:25:49Z</dcterms:created>
  <dc:creator>lll</dc:creator>
  <dc:description/>
  <dc:language>en-US</dc:language>
  <cp:lastModifiedBy>zhangli</cp:lastModifiedBy>
  <dcterms:modified xsi:type="dcterms:W3CDTF">2005-11-03T02:38:32Z</dcterms:modified>
  <cp:revision>150</cp:revision>
  <dc:subject/>
  <dc:title>PowerPoint 演示文稿</dc:title>
</cp:coreProperties>
</file>