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55.png" ContentType="image/png"/>
  <Override PartName="/ppt/media/image52.wmf" ContentType="image/x-wmf"/>
  <Override PartName="/ppt/media/image24.jpeg" ContentType="image/jpeg"/>
  <Override PartName="/ppt/media/image83.jpeg" ContentType="image/jpeg"/>
  <Override PartName="/ppt/media/image49.png" ContentType="image/png"/>
  <Override PartName="/ppt/media/image71.wmf" ContentType="image/x-wmf"/>
  <Override PartName="/ppt/media/image48.jpeg" ContentType="image/jpeg"/>
  <Override PartName="/ppt/media/image78.png" ContentType="image/png"/>
  <Override PartName="/ppt/media/image46.wmf" ContentType="image/x-wmf"/>
  <Override PartName="/ppt/media/image69.jpeg" ContentType="image/jpeg"/>
  <Override PartName="/ppt/media/image45.png" ContentType="image/png"/>
  <Override PartName="/ppt/media/image53.jpeg" ContentType="image/jpeg"/>
  <Override PartName="/ppt/media/image23.png" ContentType="image/png"/>
  <Override PartName="/ppt/media/image43.wmf" ContentType="image/x-wmf"/>
  <Override PartName="/ppt/media/image41.wmf" ContentType="image/x-wmf"/>
  <Override PartName="/ppt/media/image39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8.wmf" ContentType="image/x-wmf"/>
  <Override PartName="/ppt/media/image47.wmf" ContentType="image/x-wmf"/>
  <Override PartName="/ppt/media/image13.jpeg" ContentType="image/jpeg"/>
  <Override PartName="/ppt/media/image109.jpeg" ContentType="image/jpeg"/>
  <Override PartName="/ppt/media/image31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30.jpeg" ContentType="image/jpeg"/>
  <Override PartName="/ppt/media/image4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112.wmf" ContentType="image/x-wmf"/>
  <Override PartName="/ppt/media/image27.jpeg" ContentType="image/jpeg"/>
  <Override PartName="/ppt/media/image10.jpeg" ContentType="image/jpeg"/>
  <Override PartName="/ppt/media/image86.jpeg" ContentType="image/jpeg"/>
  <Override PartName="/ppt/media/image9.wmf" ContentType="image/x-wmf"/>
  <Override PartName="/ppt/media/image54.wmf" ContentType="image/x-wmf"/>
  <Override PartName="/ppt/media/image14.png" ContentType="image/png"/>
  <Override PartName="/ppt/media/image5.jpeg" ContentType="image/jpeg"/>
  <Override PartName="/ppt/media/image61.png" ContentType="image/png"/>
  <Override PartName="/ppt/media/image115.wmf" ContentType="image/x-wmf"/>
  <Override PartName="/ppt/media/image42.png" ContentType="image/png"/>
  <Override PartName="/ppt/media/image26.jpeg" ContentType="image/jpeg"/>
  <Override PartName="/ppt/media/image72.wmf" ContentType="image/x-wmf"/>
  <Override PartName="/ppt/media/image101.png" ContentType="image/png"/>
  <Override PartName="/ppt/media/image40.png" ContentType="image/png"/>
  <Override PartName="/ppt/media/image8.wmf" ContentType="image/x-wmf"/>
  <Override PartName="/ppt/media/image114.png" ContentType="image/png"/>
  <Override PartName="/ppt/media/image66.wmf" ContentType="image/x-wmf"/>
  <Override PartName="/ppt/media/image77.jpeg" ContentType="image/jpeg"/>
  <Override PartName="/ppt/media/image75.wmf" ContentType="image/x-wmf"/>
  <Override PartName="/ppt/media/image70.jpeg" ContentType="image/jpeg"/>
  <Override PartName="/ppt/media/image113.wmf" ContentType="image/x-wmf"/>
  <Override PartName="/ppt/media/image74.wmf" ContentType="image/x-wmf"/>
  <Override PartName="/ppt/media/image76.wmf" ContentType="image/x-wmf"/>
  <Override PartName="/ppt/media/image79.png" ContentType="image/png"/>
  <Override PartName="/ppt/media/image67.wmf" ContentType="image/x-wmf"/>
  <Override PartName="/ppt/media/image93.jpeg" ContentType="image/jpeg"/>
  <Override PartName="/ppt/media/image111.wmf" ContentType="image/x-wmf"/>
  <Override PartName="/ppt/media/image73.wmf" ContentType="image/x-wmf"/>
  <Override PartName="/ppt/media/image85.png" ContentType="image/png"/>
  <Override PartName="/ppt/media/image82.jpeg" ContentType="image/jpeg"/>
  <Override PartName="/ppt/media/image110.png" ContentType="image/png"/>
  <Override PartName="/ppt/media/image64.wmf" ContentType="image/x-wmf"/>
  <Override PartName="/ppt/media/image96.png" ContentType="image/png"/>
  <Override PartName="/ppt/media/image95.wmf" ContentType="image/x-wmf"/>
  <Override PartName="/ppt/media/image102.wmf" ContentType="image/x-wmf"/>
  <Override PartName="/ppt/media/image91.jpeg" ContentType="image/jpeg"/>
  <Override PartName="/ppt/media/image107.wmf" ContentType="image/x-wmf"/>
  <Override PartName="/ppt/media/image63.wmf" ContentType="image/x-wmf"/>
  <Override PartName="/ppt/media/image106.wmf" ContentType="image/x-wmf"/>
  <Override PartName="/ppt/media/image22.png" ContentType="image/png"/>
  <Override PartName="/ppt/media/image84.wmf" ContentType="image/x-wmf"/>
  <Override PartName="/ppt/media/laser.wav" ContentType="audio/x-wav"/>
  <Override PartName="/ppt/media/image104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03.wmf" ContentType="image/x-wmf"/>
  <Override PartName="/ppt/media/image100.wmf" ContentType="image/x-wmf"/>
  <Override PartName="/ppt/media/image98.wmf" ContentType="image/x-wmf"/>
  <Override PartName="/ppt/media/image58.png" ContentType="image/png"/>
  <Override PartName="/ppt/media/image94.png" ContentType="image/png"/>
  <Override PartName="/ppt/media/image97.wmf" ContentType="image/x-wmf"/>
  <Override PartName="/ppt/media/image18.jpeg" ContentType="image/jpeg"/>
  <Override PartName="/ppt/media/image117.jpeg" ContentType="image/jpeg"/>
  <Override PartName="/ppt/media/image65.png" ContentType="image/png"/>
  <Override PartName="/ppt/media/image90.jpeg" ContentType="image/jpeg"/>
  <Override PartName="/ppt/media/image60.png" ContentType="image/png"/>
  <Override PartName="/ppt/media/image19.jpeg" ContentType="image/jpeg"/>
  <Override PartName="/ppt/media/image15.png" ContentType="image/png"/>
  <Override PartName="/ppt/media/image92.jpeg" ContentType="image/jpeg"/>
  <Override PartName="/ppt/media/image80.png" ContentType="image/png"/>
  <Override PartName="/ppt/media/image116.png" ContentType="image/png"/>
  <Override PartName="/ppt/media/image17.jpeg" ContentType="image/jpeg"/>
  <Override PartName="/ppt/media/image99.png" ContentType="image/png"/>
  <Override PartName="/ppt/media/image56.wmf" ContentType="image/x-wmf"/>
  <Override PartName="/ppt/media/image21.png" ContentType="image/png"/>
  <Override PartName="/ppt/media/image89.wmf" ContentType="image/x-wmf"/>
  <Override PartName="/ppt/media/image1.jpeg" ContentType="image/jpeg"/>
  <Override PartName="/ppt/media/image68.wmf" ContentType="image/x-wmf"/>
  <Override PartName="/ppt/media/image35.jpeg" ContentType="image/jpeg"/>
  <Override PartName="/ppt/media/image3.jpeg" ContentType="image/jpeg"/>
  <Override PartName="/ppt/media/image62.wmf" ContentType="image/x-wmf"/>
  <Override PartName="/ppt/media/image25.jpeg" ContentType="image/jpeg"/>
  <Override PartName="/ppt/media/image105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24B-2021-4B76-AFCD-58786F43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4BC-5B6E-4EC6-B985-D5AA4A7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DCD-4137-46D3-973F-632E10E5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98-65A6-4AC8-A1CE-CB6552B2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049-5027-4C33-A9A3-C8A37A30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83B-FD4F-4E4A-9A68-2738EFA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682-60D9-4F58-95AB-C366FDC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0FA-927E-4C70-8868-DD4F10F9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D21-1976-4162-8EE5-7F0F9861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1E7-F87D-451D-96A9-2413D81F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7B9-D204-4CF5-BD23-3E2895B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632-4E36-40CB-BE86-6E01B24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E445-2273-48BD-A0C9-369BB05FD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image" Target="../media/image48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image" Target="../media/image69.jpeg"/><Relationship Id="rId9" Type="http://schemas.openxmlformats.org/officeDocument/2006/relationships/image" Target="../media/image70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6.wmf"/><Relationship Id="rId14" Type="http://schemas.openxmlformats.org/officeDocument/2006/relationships/image" Target="../media/image77.jpeg"/><Relationship Id="rId15" Type="http://schemas.openxmlformats.org/officeDocument/2006/relationships/image" Target="../media/image77.jpeg"/><Relationship Id="rId1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9.wmf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9.wmf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2.wmf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6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3.wmf"/><Relationship Id="rId8" Type="http://schemas.openxmlformats.org/officeDocument/2006/relationships/image" Target="../media/image109.jpe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6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7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59056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章   摩     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las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74728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5715000" cy="27939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333520" y="4191120"/>
            <a:ext cx="2949840" cy="561960"/>
            <a:chOff x="2333520" y="4191120"/>
            <a:chExt cx="2949840" cy="561960"/>
          </a:xfrm>
        </p:grpSpPr>
        <p:sp>
          <p:nvSpPr>
            <p:cNvPr id="166" name=""/>
            <p:cNvSpPr/>
            <p:nvPr/>
          </p:nvSpPr>
          <p:spPr>
            <a:xfrm>
              <a:off x="2333520" y="4200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螺纹自锁条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280040" y="4191120"/>
                  <a:ext cx="1003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1125360"/>
            <a:ext cx="7994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为平衡问题，平衡方程照用，求解步骤与前面基本相同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400" y="264312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几个新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3413880" y="4086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物体处于临界、非临界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9480" y="4876920"/>
            <a:ext cx="8382240" cy="579240"/>
            <a:chOff x="609480" y="4876920"/>
            <a:chExt cx="8382240" cy="579240"/>
          </a:xfrm>
        </p:grpSpPr>
        <p:sp>
          <p:nvSpPr>
            <p:cNvPr id="172" name=""/>
            <p:cNvSpPr/>
            <p:nvPr/>
          </p:nvSpPr>
          <p:spPr>
            <a:xfrm>
              <a:off x="609480" y="4876920"/>
              <a:ext cx="838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因             ，问题的解有时在一个范围内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600200" y="4952880"/>
                  <a:ext cx="20574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1575360" y="3330720"/>
            <a:ext cx="35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时，必须考虑摩擦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8040" y="380880"/>
            <a:ext cx="8067240" cy="642600"/>
            <a:chOff x="608040" y="380880"/>
            <a:chExt cx="8067240" cy="642600"/>
          </a:xfrm>
        </p:grpSpPr>
        <p:sp>
          <p:nvSpPr>
            <p:cNvPr id="176" name=""/>
            <p:cNvSpPr/>
            <p:nvPr/>
          </p:nvSpPr>
          <p:spPr>
            <a:xfrm>
              <a:off x="1760400" y="380880"/>
              <a:ext cx="691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考虑滑动摩擦时物体的平衡问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040" y="3808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§5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61320" y="976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静滚动摩阻（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71640" y="260280"/>
            <a:ext cx="6676920" cy="647280"/>
            <a:chOff x="971640" y="260280"/>
            <a:chExt cx="6676920" cy="647280"/>
          </a:xfrm>
        </p:grpSpPr>
        <p:sp>
          <p:nvSpPr>
            <p:cNvPr id="184" name=""/>
            <p:cNvSpPr/>
            <p:nvPr/>
          </p:nvSpPr>
          <p:spPr>
            <a:xfrm>
              <a:off x="2190600" y="260280"/>
              <a:ext cx="54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滚动摩阻（擦）的概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71640" y="264960"/>
              <a:ext cx="149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§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5-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84720" y="1647720"/>
            <a:ext cx="2860560" cy="2384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284720" y="4191120"/>
            <a:ext cx="2860560" cy="2384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990720" y="1647720"/>
            <a:ext cx="2860560" cy="2384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987480" y="4191120"/>
            <a:ext cx="2860560" cy="2384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4683240" y="3324240"/>
            <a:ext cx="3489120" cy="495360"/>
            <a:chOff x="4683240" y="3324240"/>
            <a:chExt cx="3489120" cy="49536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683240" y="3324240"/>
                  <a:ext cx="11840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630840" y="3324240"/>
                  <a:ext cx="15415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4683240" y="4010040"/>
            <a:ext cx="3489120" cy="442800"/>
            <a:chOff x="4683240" y="4010040"/>
            <a:chExt cx="3489120" cy="44280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683240" y="4010040"/>
                  <a:ext cx="125712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707160" y="4086360"/>
                  <a:ext cx="14652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F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638680" y="4648320"/>
                <a:ext cx="1760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638680" y="5257800"/>
                <a:ext cx="1760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62120" y="276120"/>
            <a:ext cx="3051000" cy="2543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45080" y="276120"/>
            <a:ext cx="3051000" cy="2543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62120" y="3171960"/>
            <a:ext cx="3051000" cy="254304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762120" y="5943600"/>
            <a:ext cx="7140600" cy="544680"/>
            <a:chOff x="762120" y="5943600"/>
            <a:chExt cx="7140600" cy="54468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62120" y="6026040"/>
                  <a:ext cx="15778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2590920" y="6033960"/>
                  <a:ext cx="1909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5375160" y="59436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最大滚动摩阻（擦）力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685800" y="609480"/>
            <a:ext cx="4546080" cy="520560"/>
            <a:chOff x="685800" y="609480"/>
            <a:chExt cx="4546080" cy="520560"/>
          </a:xfrm>
        </p:grpSpPr>
        <p:sp>
          <p:nvSpPr>
            <p:cNvPr id="214" name=""/>
            <p:cNvSpPr/>
            <p:nvPr/>
          </p:nvSpPr>
          <p:spPr>
            <a:xfrm>
              <a:off x="2064240" y="60948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0033"/>
                  </a:solidFill>
                  <a:latin typeface="Times New Roman"/>
                </a:rPr>
                <a:t>滚动摩阻（擦）系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长度量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85800" y="717480"/>
                  <a:ext cx="33984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2120" y="1371600"/>
            <a:ext cx="1956960" cy="520560"/>
            <a:chOff x="762120" y="1371600"/>
            <a:chExt cx="1956960" cy="520560"/>
          </a:xfrm>
        </p:grpSpPr>
        <p:sp>
          <p:nvSpPr>
            <p:cNvPr id="217" name=""/>
            <p:cNvSpPr/>
            <p:nvPr/>
          </p:nvSpPr>
          <p:spPr>
            <a:xfrm>
              <a:off x="1471680" y="1371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物理意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762120" y="1479600"/>
                  <a:ext cx="3157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051360" cy="2543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3051000" cy="25430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75600" y="152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圆轮滚动比滑动省力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80080" y="762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于临界滚动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5791320"/>
                <a:ext cx="29797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332720" y="2057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于临界滑动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1371600"/>
            <a:ext cx="4190400" cy="744480"/>
            <a:chOff x="990720" y="1371600"/>
            <a:chExt cx="4190400" cy="74448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504960" y="1371600"/>
                  <a:ext cx="1676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990720" y="1477800"/>
                  <a:ext cx="222228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1035000" y="2712960"/>
            <a:ext cx="4113360" cy="468360"/>
            <a:chOff x="1035000" y="2712960"/>
            <a:chExt cx="4113360" cy="46836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035000" y="2712960"/>
                  <a:ext cx="216864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616200" y="2720880"/>
                  <a:ext cx="15321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1862640" y="3246480"/>
            <a:ext cx="4082400" cy="716040"/>
            <a:chOff x="1862640" y="3246480"/>
            <a:chExt cx="4082400" cy="716040"/>
          </a:xfrm>
        </p:grpSpPr>
        <p:sp>
          <p:nvSpPr>
            <p:cNvPr id="236" name=""/>
            <p:cNvSpPr/>
            <p:nvPr/>
          </p:nvSpPr>
          <p:spPr>
            <a:xfrm>
              <a:off x="1862640" y="337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一般情况下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276720" y="3246480"/>
                  <a:ext cx="121896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"/>
            <p:cNvSpPr/>
            <p:nvPr/>
          </p:nvSpPr>
          <p:spPr>
            <a:xfrm>
              <a:off x="4492440" y="3346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987800" y="3246480"/>
                  <a:ext cx="95724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0" name=""/>
          <p:cNvGrpSpPr/>
          <p:nvPr/>
        </p:nvGrpSpPr>
        <p:grpSpPr>
          <a:xfrm>
            <a:off x="838080" y="4648320"/>
            <a:ext cx="5902560" cy="1077840"/>
            <a:chOff x="838080" y="4648320"/>
            <a:chExt cx="5902560" cy="1077840"/>
          </a:xfrm>
        </p:grpSpPr>
        <p:grpSp>
          <p:nvGrpSpPr>
            <p:cNvPr id="241" name=""/>
            <p:cNvGrpSpPr/>
            <p:nvPr/>
          </p:nvGrpSpPr>
          <p:grpSpPr>
            <a:xfrm>
              <a:off x="1957320" y="5181480"/>
              <a:ext cx="4783320" cy="544680"/>
              <a:chOff x="1957320" y="5181480"/>
              <a:chExt cx="4783320" cy="544680"/>
            </a:xfrm>
          </p:grpSpPr>
          <p:sp>
            <p:nvSpPr>
              <p:cNvPr id="242" name=""/>
              <p:cNvSpPr/>
              <p:nvPr/>
            </p:nvSpPr>
            <p:spPr>
              <a:xfrm>
                <a:off x="1957320" y="518148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混凝土路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81280" y="5322960"/>
                    <a:ext cx="157176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5445000" y="5257800"/>
                    <a:ext cx="1295640" cy="4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5" name=""/>
            <p:cNvSpPr/>
            <p:nvPr/>
          </p:nvSpPr>
          <p:spPr>
            <a:xfrm>
              <a:off x="838080" y="464832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例：某型号车轮半径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4343400" y="4724280"/>
                  <a:ext cx="182880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50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1482840" y="4014720"/>
            <a:ext cx="3356640" cy="536040"/>
            <a:chOff x="1482840" y="4014720"/>
            <a:chExt cx="3356640" cy="53604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1482840" y="4076640"/>
                  <a:ext cx="9460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2765160" y="4014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47920" y="4076640"/>
                  <a:ext cx="117180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475880" y="4091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3051360" cy="2543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68360" y="1773360"/>
            <a:ext cx="7978320" cy="520560"/>
            <a:chOff x="468360" y="1773360"/>
            <a:chExt cx="7978320" cy="520560"/>
          </a:xfrm>
        </p:grpSpPr>
        <p:sp>
          <p:nvSpPr>
            <p:cNvPr id="259" name=""/>
            <p:cNvSpPr/>
            <p:nvPr/>
          </p:nvSpPr>
          <p:spPr>
            <a:xfrm>
              <a:off x="468360" y="177336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6240" y="1773360"/>
              <a:ext cx="712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物块是否静止，摩擦力的大小和方向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0920" y="1052640"/>
            <a:ext cx="7296840" cy="534960"/>
            <a:chOff x="250920" y="1052640"/>
            <a:chExt cx="7296840" cy="534960"/>
          </a:xfrm>
        </p:grpSpPr>
        <p:sp>
          <p:nvSpPr>
            <p:cNvPr id="262" name=""/>
            <p:cNvSpPr/>
            <p:nvPr/>
          </p:nvSpPr>
          <p:spPr>
            <a:xfrm>
              <a:off x="250920" y="1052640"/>
              <a:ext cx="12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449720" y="1187640"/>
                  <a:ext cx="17283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00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3178080" y="1120680"/>
                  <a:ext cx="133812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516200" y="1128600"/>
                  <a:ext cx="14216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6" name=""/>
            <p:cNvGraphicFramePr/>
            <p:nvPr/>
          </p:nvGraphicFramePr>
          <p:xfrm>
            <a:off x="5916960" y="1120680"/>
            <a:ext cx="16308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6960" y="1120680"/>
                      <a:ext cx="16308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8" name=""/>
          <p:cNvSpPr/>
          <p:nvPr/>
        </p:nvSpPr>
        <p:spPr>
          <a:xfrm>
            <a:off x="646200" y="30492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438280" y="2743200"/>
            <a:ext cx="3810240" cy="292104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71600" y="3962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块处于非静止状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4724280"/>
            <a:ext cx="4378320" cy="520560"/>
            <a:chOff x="914400" y="4724280"/>
            <a:chExt cx="4378320" cy="52056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14400" y="4783320"/>
                  <a:ext cx="2997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3827520" y="4724280"/>
              <a:ext cx="14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向上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3048120"/>
            <a:ext cx="4589280" cy="520560"/>
            <a:chOff x="533520" y="3048120"/>
            <a:chExt cx="4589280" cy="52056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752480" y="3124440"/>
                  <a:ext cx="1774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549600" y="3124440"/>
                  <a:ext cx="157320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9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"/>
            <p:cNvSpPr/>
            <p:nvPr/>
          </p:nvSpPr>
          <p:spPr>
            <a:xfrm>
              <a:off x="533520" y="3048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447920" y="2209680"/>
            <a:ext cx="5189400" cy="520560"/>
            <a:chOff x="1447920" y="2209680"/>
            <a:chExt cx="5189400" cy="520560"/>
          </a:xfrm>
        </p:grpSpPr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029200" y="2209680"/>
                  <a:ext cx="160812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99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1447920" y="2286000"/>
                  <a:ext cx="20653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81280" y="2209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向上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381024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1282680" y="1600200"/>
          <a:ext cx="578160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1600200"/>
                    <a:ext cx="5781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295280" y="990720"/>
          <a:ext cx="575496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990720"/>
                    <a:ext cx="57549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50920" y="304920"/>
            <a:ext cx="11206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7400" y="252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物块，画受力图，设物块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3623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114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914400" y="1219320"/>
            <a:ext cx="2498760" cy="520560"/>
            <a:chOff x="914400" y="1219320"/>
            <a:chExt cx="2498760" cy="520560"/>
          </a:xfrm>
        </p:grpSpPr>
        <p:sp>
          <p:nvSpPr>
            <p:cNvPr id="300" name=""/>
            <p:cNvSpPr/>
            <p:nvPr/>
          </p:nvSpPr>
          <p:spPr>
            <a:xfrm>
              <a:off x="914400" y="12193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2286000" y="1295280"/>
                  <a:ext cx="11271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1219320" y="1828800"/>
            <a:ext cx="7168320" cy="520560"/>
            <a:chOff x="1219320" y="1828800"/>
            <a:chExt cx="7168320" cy="520560"/>
          </a:xfrm>
        </p:grpSpPr>
        <p:sp>
          <p:nvSpPr>
            <p:cNvPr id="303" name=""/>
            <p:cNvSpPr/>
            <p:nvPr/>
          </p:nvSpPr>
          <p:spPr>
            <a:xfrm>
              <a:off x="4449960" y="1828800"/>
              <a:ext cx="39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水平推力  的大小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18288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69280" y="1828800"/>
              <a:ext cx="246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使物块静止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150600" y="1905120"/>
                  <a:ext cx="3099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"/>
          <p:cNvSpPr/>
          <p:nvPr/>
        </p:nvSpPr>
        <p:spPr>
          <a:xfrm>
            <a:off x="762120" y="685800"/>
            <a:ext cx="12189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38098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600200" y="2286000"/>
            <a:ext cx="5769000" cy="531720"/>
            <a:chOff x="1600200" y="2286000"/>
            <a:chExt cx="5769000" cy="531720"/>
          </a:xfrm>
        </p:grpSpPr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600200" y="2286000"/>
                  <a:ext cx="1501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3581280" y="2316240"/>
                  <a:ext cx="37879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6" name=""/>
          <p:cNvGrpSpPr/>
          <p:nvPr/>
        </p:nvGrpSpPr>
        <p:grpSpPr>
          <a:xfrm>
            <a:off x="1676520" y="1676520"/>
            <a:ext cx="5410080" cy="503280"/>
            <a:chOff x="1676520" y="1676520"/>
            <a:chExt cx="5410080" cy="5032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676520" y="1676520"/>
                  <a:ext cx="16761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3276720" y="1676520"/>
                  <a:ext cx="38098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752480" y="1066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物块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676520" y="457200"/>
            <a:ext cx="5638680" cy="520560"/>
            <a:chOff x="1676520" y="457200"/>
            <a:chExt cx="5638680" cy="520560"/>
          </a:xfrm>
        </p:grpSpPr>
        <p:sp>
          <p:nvSpPr>
            <p:cNvPr id="321" name=""/>
            <p:cNvSpPr/>
            <p:nvPr/>
          </p:nvSpPr>
          <p:spPr>
            <a:xfrm>
              <a:off x="5105520" y="4572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推力为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76520" y="45720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使物块有上滑趋势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6324480" y="533520"/>
                  <a:ext cx="28440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4" name=""/>
          <p:cNvSpPr/>
          <p:nvPr/>
        </p:nvSpPr>
        <p:spPr>
          <a:xfrm>
            <a:off x="829800" y="404640"/>
            <a:ext cx="607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191200" y="3429000"/>
          <a:ext cx="3952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1200" y="3429000"/>
                    <a:ext cx="3952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752480" y="2971800"/>
          <a:ext cx="1752840" cy="3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971800"/>
                    <a:ext cx="17528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1600200" y="4038480"/>
            <a:ext cx="3282840" cy="839520"/>
            <a:chOff x="1600200" y="4038480"/>
            <a:chExt cx="3282840" cy="83952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361960" y="4038480"/>
                  <a:ext cx="252108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den>
                      </m:f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1600200" y="434304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86000" y="7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76920" y="326880"/>
            <a:ext cx="1405440" cy="1429920"/>
            <a:chOff x="4876920" y="326880"/>
            <a:chExt cx="1405440" cy="142992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4876920" y="457200"/>
                  <a:ext cx="30456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" name=""/>
            <p:cNvSpPr/>
            <p:nvPr/>
          </p:nvSpPr>
          <p:spPr>
            <a:xfrm>
              <a:off x="5370120" y="326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滑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70120" y="129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滚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724800" y="98280"/>
            <a:ext cx="1630080" cy="938520"/>
            <a:chOff x="6724800" y="98280"/>
            <a:chExt cx="1630080" cy="938520"/>
          </a:xfrm>
        </p:grpSpPr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6724800" y="198360"/>
                  <a:ext cx="30456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7259760" y="98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静滑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59760" y="541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动滑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724800" y="1089000"/>
            <a:ext cx="1630080" cy="938160"/>
            <a:chOff x="6724800" y="1089000"/>
            <a:chExt cx="1630080" cy="938160"/>
          </a:xfrm>
        </p:grpSpPr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6724800" y="1189080"/>
                  <a:ext cx="3045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259760" y="1089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静滚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59760" y="1531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动滚动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161960" y="261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952880" y="2232000"/>
            <a:ext cx="1110960" cy="1159920"/>
            <a:chOff x="4952880" y="2232000"/>
            <a:chExt cx="1110960" cy="115992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952880" y="2440080"/>
                  <a:ext cx="3049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>
              <a:off x="5334480" y="2232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干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480" y="2932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湿摩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98360"/>
            <a:ext cx="3505320" cy="327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0880" y="198360"/>
            <a:ext cx="3505320" cy="3272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198360"/>
            <a:ext cx="3505320" cy="32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858000" y="21034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80880" y="3886200"/>
            <a:ext cx="4267440" cy="209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876920" y="4191120"/>
            <a:ext cx="3886200" cy="190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15680" y="62247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摩擦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762120" y="533520"/>
            <a:ext cx="7010280" cy="520560"/>
            <a:chOff x="762120" y="533520"/>
            <a:chExt cx="7010280" cy="520560"/>
          </a:xfrm>
        </p:grpSpPr>
        <p:sp>
          <p:nvSpPr>
            <p:cNvPr id="337" name=""/>
            <p:cNvSpPr/>
            <p:nvPr/>
          </p:nvSpPr>
          <p:spPr>
            <a:xfrm>
              <a:off x="762120" y="53352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物块有下滑趋势时，推力为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562720" y="609480"/>
                  <a:ext cx="3492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9" name=""/>
          <p:cNvSpPr/>
          <p:nvPr/>
        </p:nvSpPr>
        <p:spPr>
          <a:xfrm>
            <a:off x="914400" y="1295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物块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720" y="1981080"/>
            <a:ext cx="5083200" cy="468360"/>
            <a:chOff x="990720" y="1981080"/>
            <a:chExt cx="5083200" cy="4683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990720" y="1981080"/>
                  <a:ext cx="12888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324160" y="2054160"/>
                  <a:ext cx="37497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1066680" y="2687760"/>
            <a:ext cx="5021280" cy="468360"/>
            <a:chOff x="1066680" y="2687760"/>
            <a:chExt cx="5021280" cy="46836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1066680" y="2687760"/>
                  <a:ext cx="17020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478240" y="2687760"/>
                  <a:ext cx="36097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143000" y="3478320"/>
                <a:ext cx="175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410080" y="3200400"/>
          <a:ext cx="3391200" cy="25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200400"/>
                    <a:ext cx="339120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609480" y="4267080"/>
            <a:ext cx="3786480" cy="878040"/>
            <a:chOff x="609480" y="4267080"/>
            <a:chExt cx="3786480" cy="878040"/>
          </a:xfrm>
        </p:grpSpPr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371600" y="4267080"/>
                  <a:ext cx="3024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den>
                      </m:f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"/>
            <p:cNvSpPr/>
            <p:nvPr/>
          </p:nvSpPr>
          <p:spPr>
            <a:xfrm>
              <a:off x="609480" y="457200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295280" y="5715000"/>
                <a:ext cx="6204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85800" y="5943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62120" y="990720"/>
            <a:ext cx="7617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990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块有向上滑动趋势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380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几何法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600200" y="5181480"/>
          <a:ext cx="26398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181480"/>
                    <a:ext cx="26398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29200" y="1600200"/>
          <a:ext cx="31654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1600200"/>
                    <a:ext cx="3165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990720" y="1676520"/>
          <a:ext cx="3733560" cy="298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1676520"/>
                    <a:ext cx="373356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546200" y="4395960"/>
          <a:ext cx="4145040" cy="43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4395960"/>
                    <a:ext cx="41450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838080" y="4941720"/>
            <a:ext cx="4235400" cy="543240"/>
            <a:chOff x="838080" y="4941720"/>
            <a:chExt cx="4235400" cy="543240"/>
          </a:xfrm>
        </p:grpSpPr>
        <p:sp>
          <p:nvSpPr>
            <p:cNvPr id="374" name=""/>
            <p:cNvSpPr/>
            <p:nvPr/>
          </p:nvSpPr>
          <p:spPr>
            <a:xfrm>
              <a:off x="838080" y="4941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利用三角公式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505320" y="4979880"/>
                  <a:ext cx="156816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523880" y="5589720"/>
                <a:ext cx="4548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1371600" y="3809880"/>
          <a:ext cx="26146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809880"/>
                    <a:ext cx="2614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9" name="" descr=""/>
          <p:cNvPicPr/>
          <p:nvPr/>
        </p:nvPicPr>
        <p:blipFill>
          <a:blip r:embed="rId6"/>
          <a:srcRect l="22110" t="0" r="8422" b="0"/>
          <a:stretch/>
        </p:blipFill>
        <p:spPr>
          <a:xfrm>
            <a:off x="4572000" y="914400"/>
            <a:ext cx="2971800" cy="281448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块有向下滑动趋势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66680" y="914400"/>
          <a:ext cx="320040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914400"/>
                    <a:ext cx="3200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62120" y="4495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5867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09480" y="1447920"/>
            <a:ext cx="5690520" cy="545760"/>
            <a:chOff x="609480" y="1447920"/>
            <a:chExt cx="5690520" cy="545760"/>
          </a:xfrm>
        </p:grpSpPr>
        <p:grpSp>
          <p:nvGrpSpPr>
            <p:cNvPr id="390" name=""/>
            <p:cNvGrpSpPr/>
            <p:nvPr/>
          </p:nvGrpSpPr>
          <p:grpSpPr>
            <a:xfrm>
              <a:off x="609480" y="1447920"/>
              <a:ext cx="5690520" cy="545760"/>
              <a:chOff x="609480" y="1447920"/>
              <a:chExt cx="5690520" cy="545760"/>
            </a:xfrm>
          </p:grpSpPr>
          <p:sp>
            <p:nvSpPr>
              <p:cNvPr id="391" name=""/>
              <p:cNvSpPr/>
              <p:nvPr/>
            </p:nvSpPr>
            <p:spPr>
              <a:xfrm>
                <a:off x="609480" y="1447920"/>
                <a:ext cx="112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56920" y="1473120"/>
                <a:ext cx="484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挺杆不被卡住之  值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4677840" y="1600200"/>
                  <a:ext cx="4399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4" name=""/>
          <p:cNvGrpSpPr/>
          <p:nvPr/>
        </p:nvGrpSpPr>
        <p:grpSpPr>
          <a:xfrm>
            <a:off x="304920" y="852480"/>
            <a:ext cx="9019440" cy="565200"/>
            <a:chOff x="304920" y="852480"/>
            <a:chExt cx="9019440" cy="56520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1360800" y="914400"/>
                  <a:ext cx="1381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304920" y="852480"/>
              <a:ext cx="9019440" cy="520560"/>
              <a:chOff x="304920" y="852480"/>
              <a:chExt cx="9019440" cy="520560"/>
            </a:xfrm>
          </p:grpSpPr>
          <p:sp>
            <p:nvSpPr>
              <p:cNvPr id="397" name=""/>
              <p:cNvSpPr/>
              <p:nvPr/>
            </p:nvSpPr>
            <p:spPr>
              <a:xfrm>
                <a:off x="304920" y="852480"/>
                <a:ext cx="132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已知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1120" y="852480"/>
                <a:ext cx="666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不计凸轮与挺杆处摩擦，不计挺杆质量；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685800" y="304920"/>
            <a:ext cx="121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174840" cy="444492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5486400" y="1270080"/>
            <a:ext cx="3174840" cy="444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09480" y="2514600"/>
                <a:ext cx="1263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07" name=""/>
          <p:cNvGraphicFramePr/>
          <p:nvPr/>
        </p:nvGraphicFramePr>
        <p:xfrm>
          <a:off x="541440" y="3200400"/>
          <a:ext cx="374148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440" y="3200400"/>
                    <a:ext cx="3741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09480" y="4191120"/>
                <a:ext cx="3451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539640" y="523800"/>
            <a:ext cx="7556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533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挺杆，设挺杆处于刚好卡住位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09480" y="1219320"/>
            <a:ext cx="3319560" cy="468360"/>
            <a:chOff x="609480" y="1219320"/>
            <a:chExt cx="3319560" cy="46836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609480" y="1219320"/>
                  <a:ext cx="10620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2133720" y="1219320"/>
                  <a:ext cx="17953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5" name=""/>
          <p:cNvGrpSpPr/>
          <p:nvPr/>
        </p:nvGrpSpPr>
        <p:grpSpPr>
          <a:xfrm>
            <a:off x="590400" y="1905120"/>
            <a:ext cx="3822840" cy="468360"/>
            <a:chOff x="590400" y="1905120"/>
            <a:chExt cx="3822840" cy="468360"/>
          </a:xfrm>
        </p:grpSpPr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590400" y="1905120"/>
                  <a:ext cx="986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2038320" y="1905120"/>
                  <a:ext cx="23749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62120" y="4876920"/>
            <a:ext cx="2441520" cy="915840"/>
            <a:chOff x="762120" y="4876920"/>
            <a:chExt cx="2441520" cy="91584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828800" y="4876920"/>
                  <a:ext cx="137484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"/>
            <p:cNvSpPr/>
            <p:nvPr/>
          </p:nvSpPr>
          <p:spPr>
            <a:xfrm>
              <a:off x="762120" y="5257800"/>
              <a:ext cx="533160" cy="228600"/>
            </a:xfrm>
            <a:prstGeom prst="rightArrow">
              <a:avLst>
                <a:gd name="adj1" fmla="val 50000"/>
                <a:gd name="adj2" fmla="val 583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38080" y="5715000"/>
            <a:ext cx="5943600" cy="861840"/>
            <a:chOff x="838080" y="5715000"/>
            <a:chExt cx="5943600" cy="861840"/>
          </a:xfrm>
        </p:grpSpPr>
        <p:sp>
          <p:nvSpPr>
            <p:cNvPr id="426" name=""/>
            <p:cNvSpPr/>
            <p:nvPr/>
          </p:nvSpPr>
          <p:spPr>
            <a:xfrm>
              <a:off x="1523880" y="586728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挺杆不被卡住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4267080" y="5715000"/>
                  <a:ext cx="11718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838080" y="601992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5800" y="1143000"/>
            <a:ext cx="8380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905120" y="990720"/>
                <a:ext cx="5099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极限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极限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2209680" y="1905120"/>
            <a:ext cx="3657600" cy="590400"/>
            <a:chOff x="2209680" y="1905120"/>
            <a:chExt cx="3657600" cy="590400"/>
          </a:xfrm>
        </p:grpSpPr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209680" y="1905120"/>
                  <a:ext cx="20545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极限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4343400" y="1905120"/>
                  <a:ext cx="152388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极限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752480" y="2819520"/>
                <a:ext cx="1676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极限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1905120" y="3962520"/>
                <a:ext cx="125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914400" y="380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几何法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rcRect l="0" t="2003" r="8003" b="2003"/>
          <a:stretch/>
        </p:blipFill>
        <p:spPr>
          <a:xfrm>
            <a:off x="5181480" y="270828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3200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982080" y="1954080"/>
            <a:ext cx="4580640" cy="547560"/>
            <a:chOff x="982080" y="1954080"/>
            <a:chExt cx="4580640" cy="547560"/>
          </a:xfrm>
        </p:grpSpPr>
        <p:sp>
          <p:nvSpPr>
            <p:cNvPr id="444" name=""/>
            <p:cNvSpPr/>
            <p:nvPr/>
          </p:nvSpPr>
          <p:spPr>
            <a:xfrm>
              <a:off x="982080" y="195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00200" y="198108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制动鼓轮所需铅直力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7200" y="900000"/>
            <a:ext cx="8001000" cy="947160"/>
            <a:chOff x="457200" y="900000"/>
            <a:chExt cx="8001000" cy="947160"/>
          </a:xfrm>
        </p:grpSpPr>
        <p:sp>
          <p:nvSpPr>
            <p:cNvPr id="447" name=""/>
            <p:cNvSpPr/>
            <p:nvPr/>
          </p:nvSpPr>
          <p:spPr>
            <a:xfrm>
              <a:off x="457200" y="90000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物块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鼓轮重心位于   处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闸杆重量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计，   ，各尺寸如图所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334120" y="914400"/>
                  <a:ext cx="403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49" name=""/>
            <p:cNvGraphicFramePr/>
            <p:nvPr/>
          </p:nvGraphicFramePr>
          <p:xfrm>
            <a:off x="2158920" y="1371600"/>
            <a:ext cx="45720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58920" y="137160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1" name=""/>
          <p:cNvSpPr/>
          <p:nvPr/>
        </p:nvSpPr>
        <p:spPr>
          <a:xfrm>
            <a:off x="493920" y="32868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209680" y="2743200"/>
          <a:ext cx="4496040" cy="33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2743200"/>
                    <a:ext cx="44960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04880" y="76320"/>
            <a:ext cx="6667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70800" y="10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取闸杆与鼓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55200" y="6332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鼓轮被制动处于平衡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359000" y="1219320"/>
            <a:ext cx="4738680" cy="530280"/>
            <a:chOff x="1359000" y="1219320"/>
            <a:chExt cx="4738680" cy="530280"/>
          </a:xfrm>
        </p:grpSpPr>
        <p:sp>
          <p:nvSpPr>
            <p:cNvPr id="462" name=""/>
            <p:cNvSpPr/>
            <p:nvPr/>
          </p:nvSpPr>
          <p:spPr>
            <a:xfrm>
              <a:off x="1359000" y="12193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对鼓轮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806560" y="1281240"/>
                  <a:ext cx="1281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330800" y="1281240"/>
                  <a:ext cx="176688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5" name=""/>
          <p:cNvGrpSpPr/>
          <p:nvPr/>
        </p:nvGrpSpPr>
        <p:grpSpPr>
          <a:xfrm>
            <a:off x="1403280" y="1766880"/>
            <a:ext cx="5181840" cy="592200"/>
            <a:chOff x="1403280" y="1766880"/>
            <a:chExt cx="5181840" cy="592200"/>
          </a:xfrm>
        </p:grpSpPr>
        <p:sp>
          <p:nvSpPr>
            <p:cNvPr id="466" name=""/>
            <p:cNvSpPr/>
            <p:nvPr/>
          </p:nvSpPr>
          <p:spPr>
            <a:xfrm>
              <a:off x="1403280" y="1766880"/>
              <a:ext cx="155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对闸杆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2819520" y="1890720"/>
                  <a:ext cx="11984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8" name=""/>
                <p:cNvSpPr txBox="1"/>
                <p:nvPr/>
              </p:nvSpPr>
              <p:spPr>
                <a:xfrm>
                  <a:off x="4191120" y="1890720"/>
                  <a:ext cx="23940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a</m:t>
                      </m:r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b</m:t>
                      </m:r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9" name=""/>
          <p:cNvGrpSpPr/>
          <p:nvPr/>
        </p:nvGrpSpPr>
        <p:grpSpPr>
          <a:xfrm>
            <a:off x="1371600" y="2286000"/>
            <a:ext cx="2060640" cy="544680"/>
            <a:chOff x="1371600" y="2286000"/>
            <a:chExt cx="2060640" cy="544680"/>
          </a:xfrm>
        </p:grpSpPr>
        <p:sp>
          <p:nvSpPr>
            <p:cNvPr id="470" name=""/>
            <p:cNvSpPr/>
            <p:nvPr/>
          </p:nvSpPr>
          <p:spPr>
            <a:xfrm>
              <a:off x="1371600" y="228600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133720" y="2362320"/>
                  <a:ext cx="12985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"/>
          <p:cNvGrpSpPr/>
          <p:nvPr/>
        </p:nvGrpSpPr>
        <p:grpSpPr>
          <a:xfrm>
            <a:off x="1465920" y="2871720"/>
            <a:ext cx="2959920" cy="468360"/>
            <a:chOff x="1465920" y="2871720"/>
            <a:chExt cx="2959920" cy="468360"/>
          </a:xfrm>
        </p:grpSpPr>
        <p:sp>
          <p:nvSpPr>
            <p:cNvPr id="473" name=""/>
            <p:cNvSpPr/>
            <p:nvPr/>
          </p:nvSpPr>
          <p:spPr>
            <a:xfrm>
              <a:off x="1465920" y="287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2165400" y="2871720"/>
                  <a:ext cx="22604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5" name=""/>
          <p:cNvGrpSpPr/>
          <p:nvPr/>
        </p:nvGrpSpPr>
        <p:grpSpPr>
          <a:xfrm>
            <a:off x="1439640" y="3352680"/>
            <a:ext cx="2827440" cy="776520"/>
            <a:chOff x="1439640" y="3352680"/>
            <a:chExt cx="2827440" cy="776520"/>
          </a:xfrm>
        </p:grpSpPr>
        <p:sp>
          <p:nvSpPr>
            <p:cNvPr id="476" name=""/>
            <p:cNvSpPr/>
            <p:nvPr/>
          </p:nvSpPr>
          <p:spPr>
            <a:xfrm flipH="1">
              <a:off x="1439280" y="3429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7" name=""/>
            <p:cNvGraphicFramePr/>
            <p:nvPr/>
          </p:nvGraphicFramePr>
          <p:xfrm>
            <a:off x="2462040" y="3352680"/>
            <a:ext cx="1805040" cy="77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62040" y="3352680"/>
                      <a:ext cx="1805040" cy="7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4445280" cy="253980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791320" y="2666880"/>
          <a:ext cx="2814480" cy="304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666880"/>
                    <a:ext cx="2814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371600" y="1981080"/>
            <a:ext cx="54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能保持木箱平衡的最大拉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62120" y="1371600"/>
            <a:ext cx="8381880" cy="520560"/>
            <a:chOff x="762120" y="1371600"/>
            <a:chExt cx="8381880" cy="520560"/>
          </a:xfrm>
        </p:grpSpPr>
        <p:sp>
          <p:nvSpPr>
            <p:cNvPr id="488" name=""/>
            <p:cNvSpPr/>
            <p:nvPr/>
          </p:nvSpPr>
          <p:spPr>
            <a:xfrm>
              <a:off x="1371600" y="13716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当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拉力         时，木箱是否平衡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137160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4191120" y="1447920"/>
                  <a:ext cx="1255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1" name=""/>
          <p:cNvGrpSpPr/>
          <p:nvPr/>
        </p:nvGrpSpPr>
        <p:grpSpPr>
          <a:xfrm>
            <a:off x="468360" y="728640"/>
            <a:ext cx="8351640" cy="556920"/>
            <a:chOff x="468360" y="728640"/>
            <a:chExt cx="8351640" cy="556920"/>
          </a:xfrm>
        </p:grpSpPr>
        <p:sp>
          <p:nvSpPr>
            <p:cNvPr id="492" name=""/>
            <p:cNvSpPr/>
            <p:nvPr/>
          </p:nvSpPr>
          <p:spPr>
            <a:xfrm>
              <a:off x="468360" y="76500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600" y="7430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均质木箱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322800" y="814320"/>
                  <a:ext cx="129996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579920" y="762120"/>
                  <a:ext cx="12240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5799240" y="798480"/>
                  <a:ext cx="17431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7578720" y="728640"/>
                  <a:ext cx="12412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578160" y="20628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065320" y="264168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33520" y="152280"/>
            <a:ext cx="7617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1522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取木箱，设其处于平衡状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33520" y="1066680"/>
            <a:ext cx="3452760" cy="468360"/>
            <a:chOff x="533520" y="1066680"/>
            <a:chExt cx="3452760" cy="468360"/>
          </a:xfrm>
        </p:grpSpPr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533520" y="1066680"/>
                  <a:ext cx="10396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1955880" y="1066680"/>
                  <a:ext cx="2030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9" name=""/>
          <p:cNvGrpSpPr/>
          <p:nvPr/>
        </p:nvGrpSpPr>
        <p:grpSpPr>
          <a:xfrm>
            <a:off x="457200" y="1676520"/>
            <a:ext cx="3946320" cy="507600"/>
            <a:chOff x="457200" y="1676520"/>
            <a:chExt cx="3946320" cy="50760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57200" y="1687320"/>
                  <a:ext cx="10490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1844640" y="1676520"/>
                  <a:ext cx="255888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2" name=""/>
          <p:cNvGrpSpPr/>
          <p:nvPr/>
        </p:nvGrpSpPr>
        <p:grpSpPr>
          <a:xfrm>
            <a:off x="380880" y="2133720"/>
            <a:ext cx="5008320" cy="863640"/>
            <a:chOff x="380880" y="2133720"/>
            <a:chExt cx="5008320" cy="863640"/>
          </a:xfrm>
        </p:grpSpPr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380880" y="2348280"/>
                  <a:ext cx="12636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1876320" y="2133720"/>
                  <a:ext cx="35128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F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257800" y="3200400"/>
          <a:ext cx="3886200" cy="31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3200400"/>
                    <a:ext cx="388620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5181480" y="1676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095880" y="990720"/>
            <a:ext cx="1746360" cy="1538280"/>
            <a:chOff x="6095880" y="990720"/>
            <a:chExt cx="1746360" cy="153828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6095880" y="990720"/>
                  <a:ext cx="14065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66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6172200" y="1524240"/>
                  <a:ext cx="1636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500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6172200" y="2133720"/>
                  <a:ext cx="16700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1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6" name=""/>
          <p:cNvGrpSpPr/>
          <p:nvPr/>
        </p:nvGrpSpPr>
        <p:grpSpPr>
          <a:xfrm>
            <a:off x="609480" y="3048120"/>
            <a:ext cx="3348000" cy="528120"/>
            <a:chOff x="609480" y="3048120"/>
            <a:chExt cx="3348000" cy="528120"/>
          </a:xfrm>
        </p:grpSpPr>
        <p:sp>
          <p:nvSpPr>
            <p:cNvPr id="527" name=""/>
            <p:cNvSpPr/>
            <p:nvPr/>
          </p:nvSpPr>
          <p:spPr>
            <a:xfrm>
              <a:off x="609480" y="30481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1218960" y="3108240"/>
                  <a:ext cx="27385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00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533520" y="3809880"/>
            <a:ext cx="4724280" cy="544680"/>
            <a:chOff x="533520" y="3809880"/>
            <a:chExt cx="4724280" cy="544680"/>
          </a:xfrm>
        </p:grpSpPr>
        <p:sp>
          <p:nvSpPr>
            <p:cNvPr id="530" name=""/>
            <p:cNvSpPr/>
            <p:nvPr/>
          </p:nvSpPr>
          <p:spPr>
            <a:xfrm>
              <a:off x="53352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1066680" y="3886200"/>
                  <a:ext cx="13748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"/>
            <p:cNvSpPr/>
            <p:nvPr/>
          </p:nvSpPr>
          <p:spPr>
            <a:xfrm>
              <a:off x="2590920" y="3824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木箱不会滑动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9480" y="4648320"/>
            <a:ext cx="4190760" cy="543960"/>
            <a:chOff x="609480" y="4648320"/>
            <a:chExt cx="4190760" cy="543960"/>
          </a:xfrm>
        </p:grpSpPr>
        <p:sp>
          <p:nvSpPr>
            <p:cNvPr id="534" name=""/>
            <p:cNvSpPr/>
            <p:nvPr/>
          </p:nvSpPr>
          <p:spPr>
            <a:xfrm>
              <a:off x="609480" y="4648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1142640" y="4724280"/>
                  <a:ext cx="99396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2057040" y="46483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木箱无翻倒趋势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85800" y="5562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71600" y="5410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木箱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057400" y="228600"/>
            <a:ext cx="3376800" cy="642600"/>
            <a:chOff x="2057400" y="228600"/>
            <a:chExt cx="3376800" cy="642600"/>
          </a:xfrm>
        </p:grpSpPr>
        <p:sp>
          <p:nvSpPr>
            <p:cNvPr id="74" name=""/>
            <p:cNvSpPr/>
            <p:nvPr/>
          </p:nvSpPr>
          <p:spPr>
            <a:xfrm>
              <a:off x="2057400" y="228600"/>
              <a:ext cx="20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§5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56200" y="2286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滑动摩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09480" y="1268280"/>
            <a:ext cx="4467240" cy="533520"/>
            <a:chOff x="609480" y="1268280"/>
            <a:chExt cx="4467240" cy="53352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609480" y="1295280"/>
                  <a:ext cx="1141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8" name=""/>
            <p:cNvGraphicFramePr/>
            <p:nvPr/>
          </p:nvGraphicFramePr>
          <p:xfrm>
            <a:off x="1981080" y="1295280"/>
            <a:ext cx="1455840" cy="501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1295280"/>
                      <a:ext cx="145584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3652920" y="1268280"/>
            <a:ext cx="1423800" cy="505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2920" y="1268280"/>
                      <a:ext cx="14238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762120" y="1908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静滑动摩擦力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590920"/>
            <a:ext cx="46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沿接触处的公切线，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相对滑动趋势反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53000" y="3962520"/>
            <a:ext cx="3087360" cy="531720"/>
            <a:chOff x="1053000" y="3962520"/>
            <a:chExt cx="3087360" cy="531720"/>
          </a:xfrm>
        </p:grpSpPr>
        <p:sp>
          <p:nvSpPr>
            <p:cNvPr id="85" name=""/>
            <p:cNvSpPr/>
            <p:nvPr/>
          </p:nvSpPr>
          <p:spPr>
            <a:xfrm>
              <a:off x="1053000" y="3962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2176560" y="4013280"/>
                  <a:ext cx="1963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≤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2209680" y="5029200"/>
            <a:ext cx="5257800" cy="534960"/>
            <a:chOff x="2209680" y="5029200"/>
            <a:chExt cx="5257800" cy="53496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209680" y="5029200"/>
                  <a:ext cx="17528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9" name=""/>
            <p:cNvSpPr/>
            <p:nvPr/>
          </p:nvSpPr>
          <p:spPr>
            <a:xfrm>
              <a:off x="4038480" y="5029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库仑摩擦定律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562720" y="14479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457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设木箱将要滑动时拉力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638680" y="533520"/>
                <a:ext cx="35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41" name=""/>
          <p:cNvGrpSpPr/>
          <p:nvPr/>
        </p:nvGrpSpPr>
        <p:grpSpPr>
          <a:xfrm>
            <a:off x="1600200" y="1143000"/>
            <a:ext cx="3527280" cy="468360"/>
            <a:chOff x="1600200" y="1143000"/>
            <a:chExt cx="3527280" cy="46836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600200" y="1143000"/>
                  <a:ext cx="10396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048120" y="1143000"/>
                  <a:ext cx="20793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"/>
          <p:cNvGrpSpPr/>
          <p:nvPr/>
        </p:nvGrpSpPr>
        <p:grpSpPr>
          <a:xfrm>
            <a:off x="1447920" y="1752480"/>
            <a:ext cx="3956040" cy="495360"/>
            <a:chOff x="1447920" y="1752480"/>
            <a:chExt cx="3956040" cy="495360"/>
          </a:xfrm>
        </p:grpSpPr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447920" y="1752480"/>
                  <a:ext cx="10414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2819520" y="1752480"/>
                  <a:ext cx="25844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562720" y="1066680"/>
          <a:ext cx="3200400" cy="292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066680"/>
                    <a:ext cx="3200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"/>
          <p:cNvGrpSpPr/>
          <p:nvPr/>
        </p:nvGrpSpPr>
        <p:grpSpPr>
          <a:xfrm>
            <a:off x="1447920" y="2438280"/>
            <a:ext cx="2697120" cy="479520"/>
            <a:chOff x="1447920" y="2438280"/>
            <a:chExt cx="2697120" cy="479520"/>
          </a:xfrm>
        </p:grpSpPr>
        <p:sp>
          <p:nvSpPr>
            <p:cNvPr id="554" name=""/>
            <p:cNvSpPr/>
            <p:nvPr/>
          </p:nvSpPr>
          <p:spPr>
            <a:xfrm>
              <a:off x="1447920" y="243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1989360" y="2449440"/>
                  <a:ext cx="21556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56" name=""/>
          <p:cNvGraphicFramePr/>
          <p:nvPr/>
        </p:nvGraphicFramePr>
        <p:xfrm>
          <a:off x="1703520" y="3048120"/>
          <a:ext cx="3782880" cy="91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03520" y="3048120"/>
                    <a:ext cx="37828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1066680" y="33526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19320" y="4038480"/>
            <a:ext cx="5715000" cy="520560"/>
            <a:chOff x="1219320" y="4038480"/>
            <a:chExt cx="5715000" cy="520560"/>
          </a:xfrm>
        </p:grpSpPr>
        <p:sp>
          <p:nvSpPr>
            <p:cNvPr id="560" name=""/>
            <p:cNvSpPr/>
            <p:nvPr/>
          </p:nvSpPr>
          <p:spPr>
            <a:xfrm>
              <a:off x="1219320" y="4038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木箱有翻动趋势时拉力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5630760" y="4066920"/>
                  <a:ext cx="376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2" name=""/>
          <p:cNvGrpSpPr/>
          <p:nvPr/>
        </p:nvGrpSpPr>
        <p:grpSpPr>
          <a:xfrm>
            <a:off x="1447920" y="4572000"/>
            <a:ext cx="4033800" cy="792000"/>
            <a:chOff x="1447920" y="4572000"/>
            <a:chExt cx="4033800" cy="792000"/>
          </a:xfrm>
        </p:grpSpPr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1447920" y="4788000"/>
                  <a:ext cx="11462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21240" y="4572000"/>
                  <a:ext cx="27604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286000" y="5334120"/>
                <a:ext cx="283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1219320" y="5638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867280" y="5486400"/>
            <a:ext cx="5486400" cy="520560"/>
            <a:chOff x="5867280" y="5486400"/>
            <a:chExt cx="5486400" cy="520560"/>
          </a:xfrm>
        </p:grpSpPr>
        <p:sp>
          <p:nvSpPr>
            <p:cNvPr id="568" name=""/>
            <p:cNvSpPr/>
            <p:nvPr/>
          </p:nvSpPr>
          <p:spPr>
            <a:xfrm>
              <a:off x="5867280" y="5486400"/>
              <a:ext cx="54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最大拉力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7848720" y="5537160"/>
                  <a:ext cx="10508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443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0" name=""/>
          <p:cNvSpPr/>
          <p:nvPr/>
        </p:nvSpPr>
        <p:spPr>
          <a:xfrm>
            <a:off x="5257800" y="56386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838080" y="266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作用于鼓轮上的制动力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5400" y="274320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98840" y="22860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84852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798048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74772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firstslide"/>
          </p:cNvPr>
          <p:cNvSpPr/>
          <p:nvPr/>
        </p:nvSpPr>
        <p:spPr>
          <a:xfrm>
            <a:off x="697248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" y="914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600200" y="990720"/>
                <a:ext cx="1698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352680" y="990720"/>
                <a:ext cx="13716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1" name=""/>
          <p:cNvGraphicFramePr/>
          <p:nvPr/>
        </p:nvGraphicFramePr>
        <p:xfrm>
          <a:off x="1600200" y="1600200"/>
          <a:ext cx="388620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38862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486400" y="1523880"/>
                <a:ext cx="2057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600200" y="2133720"/>
                <a:ext cx="2666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343400" y="2209680"/>
                <a:ext cx="19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6180120" y="2133720"/>
            <a:ext cx="29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构件自重不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800600" y="990720"/>
          <a:ext cx="320040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990720"/>
                    <a:ext cx="3200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3048120" y="3276720"/>
          <a:ext cx="3352680" cy="30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3276720"/>
                    <a:ext cx="3352680" cy="30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1231920" y="901800"/>
          <a:ext cx="124920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1920" y="901800"/>
                    <a:ext cx="12492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219320" y="1371600"/>
                <a:ext cx="3124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676520" y="1981080"/>
                <a:ext cx="1600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762120" y="3213000"/>
                <a:ext cx="1371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33520" y="3809880"/>
                <a:ext cx="3962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371600" y="4495680"/>
                <a:ext cx="2403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85800" y="5181480"/>
                <a:ext cx="1127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1917720" y="5189400"/>
          <a:ext cx="241308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17720" y="5189400"/>
                    <a:ext cx="2413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447920" y="5867280"/>
          <a:ext cx="160020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5867280"/>
                    <a:ext cx="1600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4533840" y="507960"/>
            <a:ext cx="4178520" cy="2235240"/>
            <a:chOff x="4533840" y="507960"/>
            <a:chExt cx="4178520" cy="2235240"/>
          </a:xfrm>
        </p:grpSpPr>
        <p:pic>
          <p:nvPicPr>
            <p:cNvPr id="604" name="" descr=""/>
            <p:cNvPicPr/>
            <p:nvPr/>
          </p:nvPicPr>
          <p:blipFill>
            <a:blip r:embed="rId8"/>
            <a:srcRect l="8569" t="49721" r="0" b="0"/>
            <a:stretch/>
          </p:blipFill>
          <p:spPr>
            <a:xfrm>
              <a:off x="4648320" y="507960"/>
              <a:ext cx="406404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33840" y="50796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648320" y="3429000"/>
            <a:ext cx="4038480" cy="2286000"/>
            <a:chOff x="4648320" y="3429000"/>
            <a:chExt cx="4038480" cy="2286000"/>
          </a:xfrm>
        </p:grpSpPr>
        <p:grpSp>
          <p:nvGrpSpPr>
            <p:cNvPr id="607" name=""/>
            <p:cNvGrpSpPr/>
            <p:nvPr/>
          </p:nvGrpSpPr>
          <p:grpSpPr>
            <a:xfrm>
              <a:off x="4648320" y="3429000"/>
              <a:ext cx="4038480" cy="2286000"/>
              <a:chOff x="4648320" y="3429000"/>
              <a:chExt cx="4038480" cy="2286000"/>
            </a:xfrm>
          </p:grpSpPr>
          <p:pic>
            <p:nvPicPr>
              <p:cNvPr id="608" name="" descr=""/>
              <p:cNvPicPr/>
              <p:nvPr/>
            </p:nvPicPr>
            <p:blipFill>
              <a:blip r:embed="rId9"/>
              <a:srcRect l="10502" t="0" r="9999" b="55007"/>
              <a:stretch/>
            </p:blipFill>
            <p:spPr>
              <a:xfrm>
                <a:off x="4648320" y="3429000"/>
                <a:ext cx="4038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4649760" y="3505320"/>
                <a:ext cx="5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5637600" y="36576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9080" y="272880"/>
            <a:ext cx="625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80680" y="295200"/>
            <a:ext cx="25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2133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11200" y="25146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4724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6019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990720" y="4267080"/>
          <a:ext cx="1568160" cy="6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4267080"/>
                    <a:ext cx="15681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066680" y="4876920"/>
          <a:ext cx="35910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876920"/>
                    <a:ext cx="3591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057400" y="5791320"/>
          <a:ext cx="1981080" cy="556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791320"/>
                    <a:ext cx="19810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838080" y="1143000"/>
          <a:ext cx="1494000" cy="57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143000"/>
                    <a:ext cx="14940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838080" y="1752480"/>
          <a:ext cx="5410440" cy="85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1752480"/>
                    <a:ext cx="54104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1889280" y="2666880"/>
          <a:ext cx="2012760" cy="54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89280" y="2666880"/>
                    <a:ext cx="2012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3" name=""/>
          <p:cNvGrpSpPr/>
          <p:nvPr/>
        </p:nvGrpSpPr>
        <p:grpSpPr>
          <a:xfrm>
            <a:off x="6705720" y="0"/>
            <a:ext cx="2057040" cy="3276720"/>
            <a:chOff x="6705720" y="0"/>
            <a:chExt cx="2057040" cy="3276720"/>
          </a:xfrm>
        </p:grpSpPr>
        <p:pic>
          <p:nvPicPr>
            <p:cNvPr id="634" name="" descr=""/>
            <p:cNvPicPr/>
            <p:nvPr/>
          </p:nvPicPr>
          <p:blipFill>
            <a:blip r:embed="rId14"/>
            <a:srcRect l="6860" t="8569" r="46862" b="0"/>
            <a:stretch/>
          </p:blipFill>
          <p:spPr>
            <a:xfrm>
              <a:off x="6705720" y="0"/>
              <a:ext cx="19155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982640" y="0"/>
              <a:ext cx="780120" cy="32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06080" y="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781680" y="3124080"/>
            <a:ext cx="1981080" cy="3200400"/>
            <a:chOff x="6781680" y="3124080"/>
            <a:chExt cx="1981080" cy="3200400"/>
          </a:xfrm>
        </p:grpSpPr>
        <p:grpSp>
          <p:nvGrpSpPr>
            <p:cNvPr id="638" name=""/>
            <p:cNvGrpSpPr/>
            <p:nvPr/>
          </p:nvGrpSpPr>
          <p:grpSpPr>
            <a:xfrm>
              <a:off x="6781680" y="3124080"/>
              <a:ext cx="1981080" cy="3200400"/>
              <a:chOff x="6781680" y="3124080"/>
              <a:chExt cx="1981080" cy="3200400"/>
            </a:xfrm>
          </p:grpSpPr>
          <p:pic>
            <p:nvPicPr>
              <p:cNvPr id="639" name="" descr=""/>
              <p:cNvPicPr/>
              <p:nvPr/>
            </p:nvPicPr>
            <p:blipFill>
              <a:blip r:embed="rId15"/>
              <a:srcRect l="27432" t="8569" r="26290" b="0"/>
              <a:stretch/>
            </p:blipFill>
            <p:spPr>
              <a:xfrm>
                <a:off x="6852240" y="3124080"/>
                <a:ext cx="191052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6781680" y="3124080"/>
                <a:ext cx="495360" cy="32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6781680" y="3124080"/>
              <a:ext cx="7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85480" y="457200"/>
            <a:ext cx="244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67200" y="3505320"/>
            <a:ext cx="233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2895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5867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143000" y="4025880"/>
                <a:ext cx="228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1219320" y="1981080"/>
                <a:ext cx="190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219320" y="2743200"/>
                <a:ext cx="1828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066680" y="1219320"/>
                <a:ext cx="2971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1464120" y="501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鼓轮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5740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648320" y="990720"/>
          <a:ext cx="4114800" cy="28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990720"/>
                    <a:ext cx="4114800" cy="28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755640" y="17780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17524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914400"/>
            <a:ext cx="792468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抽屉尺寸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抽屉与两壁间），不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抽屉底部摩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98840" y="30492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3000" y="1905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抽拉抽屉不被卡住之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362320" y="2590920"/>
          <a:ext cx="3962160" cy="37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90920"/>
                    <a:ext cx="396216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57200" y="441360"/>
            <a:ext cx="6858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457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抽屉，画受力图，设抽屉刚好被卡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533520" y="1143000"/>
            <a:ext cx="3428640" cy="533160"/>
            <a:chOff x="533520" y="1143000"/>
            <a:chExt cx="3428640" cy="533160"/>
          </a:xfrm>
        </p:grpSpPr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533520" y="1143000"/>
                  <a:ext cx="11077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2076120" y="1143000"/>
                  <a:ext cx="18860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8" name=""/>
          <p:cNvGrpSpPr/>
          <p:nvPr/>
        </p:nvGrpSpPr>
        <p:grpSpPr>
          <a:xfrm>
            <a:off x="533520" y="1697040"/>
            <a:ext cx="3657240" cy="588600"/>
            <a:chOff x="533520" y="1697040"/>
            <a:chExt cx="3657240" cy="588600"/>
          </a:xfrm>
        </p:grpSpPr>
        <mc:AlternateContent>
          <mc:Choice xmlns:a14="http://schemas.microsoft.com/office/drawing/2010/main" Requires="a14">
            <p:sp>
              <p:nvSpPr>
                <p:cNvPr id="679" name=""/>
                <p:cNvSpPr txBox="1"/>
                <p:nvPr/>
              </p:nvSpPr>
              <p:spPr>
                <a:xfrm>
                  <a:off x="533520" y="1697040"/>
                  <a:ext cx="1089720" cy="58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1936800" y="1719000"/>
                  <a:ext cx="225396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33520" y="2346480"/>
                <a:ext cx="12636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533520" y="2819520"/>
                <a:ext cx="398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685800" y="3733920"/>
            <a:ext cx="3797280" cy="533160"/>
            <a:chOff x="685800" y="3733920"/>
            <a:chExt cx="3797280" cy="53316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685800" y="3733920"/>
                  <a:ext cx="16765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2743200" y="3733920"/>
                  <a:ext cx="1739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981080" y="4343400"/>
                <a:ext cx="1014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1905120" y="5562720"/>
            <a:ext cx="4800600" cy="777600"/>
            <a:chOff x="1905120" y="5562720"/>
            <a:chExt cx="4800600" cy="777600"/>
          </a:xfrm>
        </p:grpSpPr>
        <p:sp>
          <p:nvSpPr>
            <p:cNvPr id="688" name=""/>
            <p:cNvSpPr/>
            <p:nvPr/>
          </p:nvSpPr>
          <p:spPr>
            <a:xfrm>
              <a:off x="1905120" y="563868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抽屉不被卡住，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4572000" y="5562720"/>
                  <a:ext cx="914400" cy="77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257800" y="1295280"/>
          <a:ext cx="353520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1295280"/>
                    <a:ext cx="3535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1066680" y="4724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5791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533520" y="2514600"/>
            <a:ext cx="7238880" cy="546120"/>
            <a:chOff x="533520" y="2514600"/>
            <a:chExt cx="7238880" cy="546120"/>
          </a:xfrm>
        </p:grpSpPr>
        <p:sp>
          <p:nvSpPr>
            <p:cNvPr id="699" name=""/>
            <p:cNvSpPr/>
            <p:nvPr/>
          </p:nvSpPr>
          <p:spPr>
            <a:xfrm>
              <a:off x="533520" y="2514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保持系统平衡的力偶矩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4952880" y="2590920"/>
                  <a:ext cx="5763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"/>
          <p:cNvSpPr/>
          <p:nvPr/>
        </p:nvSpPr>
        <p:spPr>
          <a:xfrm>
            <a:off x="533520" y="114300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600200" y="1219320"/>
                <a:ext cx="2098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809880" y="1143000"/>
                <a:ext cx="1195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18148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构件自重不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尺寸如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3920" y="47160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276720" y="3124080"/>
          <a:ext cx="23670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124080"/>
                    <a:ext cx="23670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1295280" y="1828800"/>
            <a:ext cx="2514600" cy="3174840"/>
            <a:chOff x="1295280" y="1828800"/>
            <a:chExt cx="2514600" cy="3174840"/>
          </a:xfrm>
        </p:grpSpPr>
        <p:pic>
          <p:nvPicPr>
            <p:cNvPr id="714" name="" descr=""/>
            <p:cNvPicPr/>
            <p:nvPr/>
          </p:nvPicPr>
          <p:blipFill>
            <a:blip r:embed="rId2"/>
            <a:srcRect l="4796" t="0" r="16000" b="0"/>
            <a:stretch/>
          </p:blipFill>
          <p:spPr>
            <a:xfrm>
              <a:off x="1295280" y="1828800"/>
              <a:ext cx="251460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2210760" y="44956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181480" y="1752480"/>
            <a:ext cx="2514600" cy="3174840"/>
            <a:chOff x="5181480" y="1752480"/>
            <a:chExt cx="2514600" cy="3174840"/>
          </a:xfrm>
        </p:grpSpPr>
        <p:pic>
          <p:nvPicPr>
            <p:cNvPr id="717" name="" descr=""/>
            <p:cNvPicPr/>
            <p:nvPr/>
          </p:nvPicPr>
          <p:blipFill>
            <a:blip r:embed="rId3"/>
            <a:srcRect l="2404" t="0" r="18403" b="0"/>
            <a:stretch/>
          </p:blipFill>
          <p:spPr>
            <a:xfrm>
              <a:off x="5181480" y="1752480"/>
              <a:ext cx="251460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6173640" y="44193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219320" y="533520"/>
            <a:ext cx="7010280" cy="544320"/>
            <a:chOff x="1219320" y="533520"/>
            <a:chExt cx="7010280" cy="544320"/>
          </a:xfrm>
        </p:grpSpPr>
        <p:sp>
          <p:nvSpPr>
            <p:cNvPr id="720" name=""/>
            <p:cNvSpPr/>
            <p:nvPr/>
          </p:nvSpPr>
          <p:spPr>
            <a:xfrm>
              <a:off x="1219320" y="53352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         时，系统即将逆时针方向转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1752480" y="609480"/>
                  <a:ext cx="14511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2" name=""/>
          <p:cNvSpPr/>
          <p:nvPr/>
        </p:nvSpPr>
        <p:spPr>
          <a:xfrm>
            <a:off x="457200" y="533520"/>
            <a:ext cx="6094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19320" y="1219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两杆受力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1905120" y="5257800"/>
                <a:ext cx="1260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1447920" y="5867280"/>
                <a:ext cx="2288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019920" y="5181480"/>
                <a:ext cx="119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4454640" y="5867280"/>
                <a:ext cx="4689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1295280" y="457200"/>
            <a:ext cx="4267440" cy="606600"/>
            <a:chOff x="1295280" y="457200"/>
            <a:chExt cx="4267440" cy="606600"/>
          </a:xfrm>
        </p:grpSpPr>
        <p:sp>
          <p:nvSpPr>
            <p:cNvPr id="733" name=""/>
            <p:cNvSpPr/>
            <p:nvPr/>
          </p:nvSpPr>
          <p:spPr>
            <a:xfrm>
              <a:off x="1295280" y="457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2057400" y="533520"/>
                  <a:ext cx="35053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5" name=""/>
          <p:cNvGrpSpPr/>
          <p:nvPr/>
        </p:nvGrpSpPr>
        <p:grpSpPr>
          <a:xfrm>
            <a:off x="609480" y="1905120"/>
            <a:ext cx="8001000" cy="590400"/>
            <a:chOff x="609480" y="1905120"/>
            <a:chExt cx="8001000" cy="590400"/>
          </a:xfrm>
        </p:grpSpPr>
        <p:sp>
          <p:nvSpPr>
            <p:cNvPr id="736" name=""/>
            <p:cNvSpPr/>
            <p:nvPr/>
          </p:nvSpPr>
          <p:spPr>
            <a:xfrm>
              <a:off x="609480" y="190512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          时，系统有顺时针方向转动趋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1143000" y="1981440"/>
                  <a:ext cx="162720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685800" y="2895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两杆受力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838080" y="4343400"/>
                <a:ext cx="2343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914400" y="3657600"/>
                <a:ext cx="1263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1" name=""/>
          <p:cNvGraphicFramePr/>
          <p:nvPr/>
        </p:nvGraphicFramePr>
        <p:xfrm>
          <a:off x="2438280" y="1219320"/>
          <a:ext cx="259092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219320"/>
                    <a:ext cx="2590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1600" y="1295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4800600" y="2743200"/>
          <a:ext cx="3048120" cy="23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743200"/>
                    <a:ext cx="304812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81040" y="1704960"/>
            <a:ext cx="3609720" cy="564840"/>
            <a:chOff x="581040" y="1704960"/>
            <a:chExt cx="3609720" cy="564840"/>
          </a:xfrm>
        </p:grpSpPr>
        <p:sp>
          <p:nvSpPr>
            <p:cNvPr id="96" name=""/>
            <p:cNvSpPr/>
            <p:nvPr/>
          </p:nvSpPr>
          <p:spPr>
            <a:xfrm>
              <a:off x="581040" y="1704960"/>
              <a:ext cx="17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153880" y="1757880"/>
                  <a:ext cx="2036880" cy="51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1752480" y="2362320"/>
            <a:ext cx="5328360" cy="520560"/>
            <a:chOff x="1752480" y="2362320"/>
            <a:chExt cx="5328360" cy="5205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1752480" y="2414880"/>
                  <a:ext cx="1371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4126320" y="23623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对多数材料，通常情况下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3225960"/>
            <a:ext cx="3809880" cy="3174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46880" y="30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滑动摩擦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65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沿接触处的公切线，与相对滑动趋势反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685800" y="1600200"/>
            <a:ext cx="4191120" cy="566640"/>
            <a:chOff x="685800" y="1600200"/>
            <a:chExt cx="4191120" cy="566640"/>
          </a:xfrm>
        </p:grpSpPr>
        <p:sp>
          <p:nvSpPr>
            <p:cNvPr id="751" name=""/>
            <p:cNvSpPr/>
            <p:nvPr/>
          </p:nvSpPr>
          <p:spPr>
            <a:xfrm>
              <a:off x="685800" y="16002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1258920" y="1641600"/>
                  <a:ext cx="361800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1676520" y="2362320"/>
                <a:ext cx="25146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1600200" y="327672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平衡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85800" y="4114800"/>
                <a:ext cx="4572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762120" y="762120"/>
                <a:ext cx="1447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514600" y="762120"/>
                <a:ext cx="556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8" name=""/>
          <p:cNvGrpSpPr/>
          <p:nvPr/>
        </p:nvGrpSpPr>
        <p:grpSpPr>
          <a:xfrm>
            <a:off x="5257800" y="1828800"/>
            <a:ext cx="3174840" cy="3174840"/>
            <a:chOff x="5257800" y="1828800"/>
            <a:chExt cx="3174840" cy="3174840"/>
          </a:xfrm>
        </p:grpSpPr>
        <p:pic>
          <p:nvPicPr>
            <p:cNvPr id="759" name="" descr=""/>
            <p:cNvPicPr/>
            <p:nvPr/>
          </p:nvPicPr>
          <p:blipFill>
            <a:blip r:embed="rId2"/>
            <a:stretch/>
          </p:blipFill>
          <p:spPr>
            <a:xfrm>
              <a:off x="5257800" y="1828800"/>
              <a:ext cx="317484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5259240" y="18288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14400" y="2514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3352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1143000" y="2286000"/>
            <a:ext cx="5284800" cy="520560"/>
            <a:chOff x="1143000" y="2286000"/>
            <a:chExt cx="5284800" cy="520560"/>
          </a:xfrm>
        </p:grpSpPr>
        <p:sp>
          <p:nvSpPr>
            <p:cNvPr id="768" name=""/>
            <p:cNvSpPr/>
            <p:nvPr/>
          </p:nvSpPr>
          <p:spPr>
            <a:xfrm>
              <a:off x="1143000" y="228600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52480" y="2286000"/>
              <a:ext cx="46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使系统保持平衡的力  的值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0" name=""/>
                <p:cNvSpPr txBox="1"/>
                <p:nvPr/>
              </p:nvSpPr>
              <p:spPr>
                <a:xfrm>
                  <a:off x="5029200" y="2362320"/>
                  <a:ext cx="42876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1" name=""/>
          <p:cNvGrpSpPr/>
          <p:nvPr/>
        </p:nvGrpSpPr>
        <p:grpSpPr>
          <a:xfrm>
            <a:off x="685800" y="990720"/>
            <a:ext cx="8153280" cy="1230120"/>
            <a:chOff x="685800" y="990720"/>
            <a:chExt cx="8153280" cy="1230120"/>
          </a:xfrm>
        </p:grpSpPr>
        <p:sp>
          <p:nvSpPr>
            <p:cNvPr id="772" name=""/>
            <p:cNvSpPr/>
            <p:nvPr/>
          </p:nvSpPr>
          <p:spPr>
            <a:xfrm>
              <a:off x="685800" y="990720"/>
              <a:ext cx="815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力  ，角  ，不计自重的     块间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24280" y="167652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其它接触处光滑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209680" y="1066680"/>
                  <a:ext cx="3668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3276720" y="1066680"/>
                  <a:ext cx="2840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5867280" y="1066680"/>
                  <a:ext cx="7556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7" name=""/>
            <p:cNvSpPr/>
            <p:nvPr/>
          </p:nvSpPr>
          <p:spPr>
            <a:xfrm>
              <a:off x="1828800" y="16765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静摩擦系数为   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4114800" y="1752480"/>
                  <a:ext cx="338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9" name=""/>
          <p:cNvSpPr/>
          <p:nvPr/>
        </p:nvSpPr>
        <p:spPr>
          <a:xfrm>
            <a:off x="722520" y="372960"/>
            <a:ext cx="99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3810240" cy="355572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09480" y="457200"/>
            <a:ext cx="6858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457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整体分析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295280" y="1066680"/>
            <a:ext cx="3353040" cy="577800"/>
            <a:chOff x="1295280" y="1066680"/>
            <a:chExt cx="3353040" cy="577800"/>
          </a:xfrm>
        </p:grpSpPr>
        <mc:AlternateContent>
          <mc:Choice xmlns:a14="http://schemas.microsoft.com/office/drawing/2010/main" Requires="a14">
            <p:sp>
              <p:nvSpPr>
                <p:cNvPr id="788" name=""/>
                <p:cNvSpPr txBox="1"/>
                <p:nvPr/>
              </p:nvSpPr>
              <p:spPr>
                <a:xfrm>
                  <a:off x="1295280" y="1066680"/>
                  <a:ext cx="12193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819520" y="1066680"/>
                  <a:ext cx="182880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2362320" y="1676520"/>
                <a:ext cx="1065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1" name=""/>
          <p:cNvGrpSpPr/>
          <p:nvPr/>
        </p:nvGrpSpPr>
        <p:grpSpPr>
          <a:xfrm>
            <a:off x="1371600" y="2819520"/>
            <a:ext cx="3048120" cy="520560"/>
            <a:chOff x="1371600" y="2819520"/>
            <a:chExt cx="3048120" cy="520560"/>
          </a:xfrm>
        </p:grpSpPr>
        <p:sp>
          <p:nvSpPr>
            <p:cNvPr id="792" name=""/>
            <p:cNvSpPr/>
            <p:nvPr/>
          </p:nvSpPr>
          <p:spPr>
            <a:xfrm>
              <a:off x="1371600" y="28195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楔块   向右运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2286000" y="289584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4" name=""/>
          <p:cNvGrpSpPr/>
          <p:nvPr/>
        </p:nvGrpSpPr>
        <p:grpSpPr>
          <a:xfrm>
            <a:off x="1371600" y="2286000"/>
            <a:ext cx="3457440" cy="520560"/>
            <a:chOff x="1371600" y="2286000"/>
            <a:chExt cx="3457440" cy="520560"/>
          </a:xfrm>
        </p:grpSpPr>
        <p:sp>
          <p:nvSpPr>
            <p:cNvPr id="795" name=""/>
            <p:cNvSpPr/>
            <p:nvPr/>
          </p:nvSpPr>
          <p:spPr>
            <a:xfrm>
              <a:off x="1371600" y="228600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力  小于  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3200400" y="2286000"/>
                  <a:ext cx="3603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2209680" y="2362320"/>
                  <a:ext cx="3780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3352680" cy="312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9" name=""/>
          <p:cNvGraphicFramePr/>
          <p:nvPr/>
        </p:nvGraphicFramePr>
        <p:xfrm>
          <a:off x="685800" y="4419720"/>
          <a:ext cx="27432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27432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1" name=""/>
          <p:cNvGrpSpPr/>
          <p:nvPr/>
        </p:nvGrpSpPr>
        <p:grpSpPr>
          <a:xfrm>
            <a:off x="990720" y="3352680"/>
            <a:ext cx="4647960" cy="520560"/>
            <a:chOff x="990720" y="3352680"/>
            <a:chExt cx="4647960" cy="520560"/>
          </a:xfrm>
        </p:grpSpPr>
        <p:sp>
          <p:nvSpPr>
            <p:cNvPr id="802" name=""/>
            <p:cNvSpPr/>
            <p:nvPr/>
          </p:nvSpPr>
          <p:spPr>
            <a:xfrm>
              <a:off x="990720" y="335268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取楔块   分析 ，画受力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2286000" y="342900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rcRect l="24001" t="23578" r="32004" b="12148"/>
          <a:stretch/>
        </p:blipFill>
        <p:spPr>
          <a:xfrm>
            <a:off x="3657600" y="396252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47920" y="1828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09480" y="457200"/>
            <a:ext cx="6858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457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整体分析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295280" y="1066680"/>
            <a:ext cx="3353040" cy="577800"/>
            <a:chOff x="1295280" y="1066680"/>
            <a:chExt cx="3353040" cy="577800"/>
          </a:xfrm>
        </p:grpSpPr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1295280" y="1066680"/>
                  <a:ext cx="12193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2819520" y="1066680"/>
                  <a:ext cx="182880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362320" y="1676520"/>
                <a:ext cx="1065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7" name=""/>
          <p:cNvGrpSpPr/>
          <p:nvPr/>
        </p:nvGrpSpPr>
        <p:grpSpPr>
          <a:xfrm>
            <a:off x="1371600" y="2819520"/>
            <a:ext cx="3048120" cy="520560"/>
            <a:chOff x="1371600" y="2819520"/>
            <a:chExt cx="3048120" cy="520560"/>
          </a:xfrm>
        </p:grpSpPr>
        <p:sp>
          <p:nvSpPr>
            <p:cNvPr id="818" name=""/>
            <p:cNvSpPr/>
            <p:nvPr/>
          </p:nvSpPr>
          <p:spPr>
            <a:xfrm>
              <a:off x="1371600" y="28195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楔块   向右运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2286000" y="289584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0" name=""/>
          <p:cNvGrpSpPr/>
          <p:nvPr/>
        </p:nvGrpSpPr>
        <p:grpSpPr>
          <a:xfrm>
            <a:off x="1371600" y="2286000"/>
            <a:ext cx="3457440" cy="520560"/>
            <a:chOff x="1371600" y="2286000"/>
            <a:chExt cx="3457440" cy="520560"/>
          </a:xfrm>
        </p:grpSpPr>
        <p:sp>
          <p:nvSpPr>
            <p:cNvPr id="821" name=""/>
            <p:cNvSpPr/>
            <p:nvPr/>
          </p:nvSpPr>
          <p:spPr>
            <a:xfrm>
              <a:off x="1371600" y="228600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力  小于  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"/>
                <p:cNvSpPr txBox="1"/>
                <p:nvPr/>
              </p:nvSpPr>
              <p:spPr>
                <a:xfrm>
                  <a:off x="3200400" y="2286000"/>
                  <a:ext cx="3603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2209680" y="2362320"/>
                  <a:ext cx="3780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3352680" cy="312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5" name=""/>
          <p:cNvGraphicFramePr/>
          <p:nvPr/>
        </p:nvGraphicFramePr>
        <p:xfrm>
          <a:off x="685800" y="4419720"/>
          <a:ext cx="27432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27432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7" name=""/>
          <p:cNvGrpSpPr/>
          <p:nvPr/>
        </p:nvGrpSpPr>
        <p:grpSpPr>
          <a:xfrm>
            <a:off x="990720" y="3352680"/>
            <a:ext cx="4647960" cy="520560"/>
            <a:chOff x="990720" y="3352680"/>
            <a:chExt cx="4647960" cy="520560"/>
          </a:xfrm>
        </p:grpSpPr>
        <p:sp>
          <p:nvSpPr>
            <p:cNvPr id="828" name=""/>
            <p:cNvSpPr/>
            <p:nvPr/>
          </p:nvSpPr>
          <p:spPr>
            <a:xfrm>
              <a:off x="990720" y="335268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取楔块   分析 ，画受力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"/>
                <p:cNvSpPr txBox="1"/>
                <p:nvPr/>
              </p:nvSpPr>
              <p:spPr>
                <a:xfrm>
                  <a:off x="2286000" y="342900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0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6"/>
          <a:srcRect l="24001" t="23578" r="32004" b="12148"/>
          <a:stretch/>
        </p:blipFill>
        <p:spPr>
          <a:xfrm>
            <a:off x="3657600" y="396252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83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1828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080" y="1981080"/>
                <a:ext cx="5105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1905120" y="2666880"/>
                <a:ext cx="4800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33520" y="568440"/>
            <a:ext cx="6352920" cy="585720"/>
            <a:chOff x="533520" y="568440"/>
            <a:chExt cx="6352920" cy="585720"/>
          </a:xfrm>
        </p:grpSpPr>
        <p:sp>
          <p:nvSpPr>
            <p:cNvPr id="840" name=""/>
            <p:cNvSpPr/>
            <p:nvPr/>
          </p:nvSpPr>
          <p:spPr>
            <a:xfrm>
              <a:off x="533520" y="568440"/>
              <a:ext cx="289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设力  大于   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2438280" y="685800"/>
                  <a:ext cx="3412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2" name=""/>
                <p:cNvSpPr txBox="1"/>
                <p:nvPr/>
              </p:nvSpPr>
              <p:spPr>
                <a:xfrm>
                  <a:off x="1371600" y="685800"/>
                  <a:ext cx="2872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3" name=""/>
            <p:cNvSpPr/>
            <p:nvPr/>
          </p:nvSpPr>
          <p:spPr>
            <a:xfrm>
              <a:off x="3429000" y="60948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楔块   向左运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"/>
                <p:cNvSpPr txBox="1"/>
                <p:nvPr/>
              </p:nvSpPr>
              <p:spPr>
                <a:xfrm>
                  <a:off x="4343400" y="71928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5" name=""/>
          <p:cNvGrpSpPr/>
          <p:nvPr/>
        </p:nvGrpSpPr>
        <p:grpSpPr>
          <a:xfrm>
            <a:off x="609480" y="1219320"/>
            <a:ext cx="5790960" cy="520560"/>
            <a:chOff x="609480" y="1219320"/>
            <a:chExt cx="5790960" cy="520560"/>
          </a:xfrm>
        </p:grpSpPr>
        <p:sp>
          <p:nvSpPr>
            <p:cNvPr id="846" name=""/>
            <p:cNvSpPr/>
            <p:nvPr/>
          </p:nvSpPr>
          <p:spPr>
            <a:xfrm>
              <a:off x="609480" y="1219320"/>
              <a:ext cx="57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取楔块   分析，画受力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1828440" y="1295280"/>
                  <a:ext cx="4161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48" name="" descr=""/>
          <p:cNvPicPr/>
          <p:nvPr/>
        </p:nvPicPr>
        <p:blipFill>
          <a:blip r:embed="rId2"/>
          <a:srcRect l="0" t="23578" r="0" b="0"/>
          <a:stretch/>
        </p:blipFill>
        <p:spPr>
          <a:xfrm>
            <a:off x="609480" y="3733920"/>
            <a:ext cx="3810240" cy="2717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rcRect l="0" t="12148" r="0" b="12857"/>
          <a:stretch/>
        </p:blipFill>
        <p:spPr>
          <a:xfrm>
            <a:off x="4800600" y="375912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914400" y="27432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990720" y="2133720"/>
            <a:ext cx="4419360" cy="520560"/>
            <a:chOff x="990720" y="2133720"/>
            <a:chExt cx="4419360" cy="520560"/>
          </a:xfrm>
        </p:grpSpPr>
        <p:sp>
          <p:nvSpPr>
            <p:cNvPr id="856" name=""/>
            <p:cNvSpPr/>
            <p:nvPr/>
          </p:nvSpPr>
          <p:spPr>
            <a:xfrm>
              <a:off x="990720" y="2133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76520" y="213372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若要维持系统平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04920" y="2590920"/>
            <a:ext cx="8165880" cy="515880"/>
            <a:chOff x="304920" y="2590920"/>
            <a:chExt cx="8165880" cy="515880"/>
          </a:xfrm>
        </p:grpSpPr>
        <p:sp>
          <p:nvSpPr>
            <p:cNvPr id="859" name=""/>
            <p:cNvSpPr/>
            <p:nvPr/>
          </p:nvSpPr>
          <p:spPr>
            <a:xfrm>
              <a:off x="4356000" y="25909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轮心  处水平推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6934320" y="2666880"/>
                  <a:ext cx="50328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1" name=""/>
            <p:cNvSpPr/>
            <p:nvPr/>
          </p:nvSpPr>
          <p:spPr>
            <a:xfrm>
              <a:off x="304920" y="2641680"/>
              <a:ext cx="54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轮，地面间）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5029200" y="2666880"/>
                  <a:ext cx="326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1224000" y="2717640"/>
                  <a:ext cx="98568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4" name=""/>
          <p:cNvGrpSpPr/>
          <p:nvPr/>
        </p:nvGrpSpPr>
        <p:grpSpPr>
          <a:xfrm>
            <a:off x="609480" y="838080"/>
            <a:ext cx="8534520" cy="1397160"/>
            <a:chOff x="609480" y="838080"/>
            <a:chExt cx="8534520" cy="1397160"/>
          </a:xfrm>
        </p:grpSpPr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3809880" y="1600200"/>
                  <a:ext cx="151452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5410080" y="1600200"/>
                  <a:ext cx="1119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7" name=""/>
            <p:cNvSpPr/>
            <p:nvPr/>
          </p:nvSpPr>
          <p:spPr>
            <a:xfrm>
              <a:off x="6553080" y="15238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杆，轮间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609480" y="838080"/>
              <a:ext cx="8534520" cy="619200"/>
              <a:chOff x="609480" y="838080"/>
              <a:chExt cx="8534520" cy="619200"/>
            </a:xfrm>
          </p:grpSpPr>
          <p:sp>
            <p:nvSpPr>
              <p:cNvPr id="869" name=""/>
              <p:cNvSpPr/>
              <p:nvPr/>
            </p:nvSpPr>
            <p:spPr>
              <a:xfrm>
                <a:off x="609480" y="914400"/>
                <a:ext cx="289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已知：均质轮重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0" name=""/>
                  <p:cNvSpPr txBox="1"/>
                  <p:nvPr/>
                </p:nvSpPr>
                <p:spPr>
                  <a:xfrm>
                    <a:off x="3200400" y="990720"/>
                    <a:ext cx="160812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1" name=""/>
              <p:cNvSpPr/>
              <p:nvPr/>
            </p:nvSpPr>
            <p:spPr>
              <a:xfrm>
                <a:off x="4800600" y="914400"/>
                <a:ext cx="14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杆无重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2" name=""/>
                  <p:cNvSpPr txBox="1"/>
                  <p:nvPr/>
                </p:nvSpPr>
                <p:spPr>
                  <a:xfrm>
                    <a:off x="6172200" y="914400"/>
                    <a:ext cx="733320" cy="4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73" name=""/>
                  <p:cNvSpPr txBox="1"/>
                  <p:nvPr/>
                </p:nvSpPr>
                <p:spPr>
                  <a:xfrm>
                    <a:off x="7010280" y="838080"/>
                    <a:ext cx="1113120" cy="4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4" name=""/>
              <p:cNvSpPr/>
              <p:nvPr/>
            </p:nvSpPr>
            <p:spPr>
              <a:xfrm>
                <a:off x="8096400" y="838080"/>
                <a:ext cx="104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时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5" name=""/>
                <p:cNvSpPr txBox="1"/>
                <p:nvPr/>
              </p:nvSpPr>
              <p:spPr>
                <a:xfrm>
                  <a:off x="1676520" y="1371600"/>
                  <a:ext cx="20365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6" name=""/>
          <p:cNvSpPr/>
          <p:nvPr/>
        </p:nvSpPr>
        <p:spPr>
          <a:xfrm>
            <a:off x="568800" y="268200"/>
            <a:ext cx="12020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1088280" y="3276720"/>
            <a:ext cx="8055720" cy="461880"/>
            <a:chOff x="1088280" y="3276720"/>
            <a:chExt cx="8055720" cy="461880"/>
          </a:xfrm>
        </p:grpSpPr>
        <p:sp>
          <p:nvSpPr>
            <p:cNvPr id="878" name=""/>
            <p:cNvSpPr/>
            <p:nvPr/>
          </p:nvSpPr>
          <p:spPr>
            <a:xfrm>
              <a:off x="1088280" y="3276720"/>
              <a:ext cx="28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       （轮，地面间）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52920" y="327672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轮心   处水平推力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1241280" y="3319560"/>
                  <a:ext cx="11192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7218360" y="3349800"/>
                  <a:ext cx="50328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5307120" y="3349800"/>
                  <a:ext cx="326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743200" y="3809880"/>
          <a:ext cx="3429000" cy="27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809880"/>
                    <a:ext cx="342900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533520" y="457200"/>
            <a:ext cx="5638680" cy="520560"/>
            <a:chOff x="533520" y="457200"/>
            <a:chExt cx="5638680" cy="520560"/>
          </a:xfrm>
        </p:grpSpPr>
        <p:sp>
          <p:nvSpPr>
            <p:cNvPr id="890" name=""/>
            <p:cNvSpPr/>
            <p:nvPr/>
          </p:nvSpPr>
          <p:spPr>
            <a:xfrm>
              <a:off x="533520" y="457200"/>
              <a:ext cx="60948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76520" y="457200"/>
              <a:ext cx="449568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0200" y="4572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小于某值，轮将向右滚动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1219320" y="457200"/>
                  <a:ext cx="457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4" name=""/>
          <p:cNvGrpSpPr/>
          <p:nvPr/>
        </p:nvGrpSpPr>
        <p:grpSpPr>
          <a:xfrm>
            <a:off x="1219320" y="1066680"/>
            <a:ext cx="8229600" cy="544680"/>
            <a:chOff x="1219320" y="1066680"/>
            <a:chExt cx="8229600" cy="544680"/>
          </a:xfrm>
        </p:grpSpPr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1219320" y="1143000"/>
                  <a:ext cx="8204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6" name=""/>
            <p:cNvSpPr/>
            <p:nvPr/>
          </p:nvSpPr>
          <p:spPr>
            <a:xfrm>
              <a:off x="2057400" y="1066680"/>
              <a:ext cx="73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两处有一处摩擦力达最大值，系统即将运动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322280" y="1676520"/>
            <a:ext cx="6907320" cy="520560"/>
            <a:chOff x="1322280" y="1676520"/>
            <a:chExt cx="6907320" cy="520560"/>
          </a:xfrm>
        </p:grpSpPr>
        <p:sp>
          <p:nvSpPr>
            <p:cNvPr id="898" name=""/>
            <p:cNvSpPr/>
            <p:nvPr/>
          </p:nvSpPr>
          <p:spPr>
            <a:xfrm>
              <a:off x="1828800" y="1676520"/>
              <a:ext cx="64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先设  处摩擦力达最大值，取杆与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9" name=""/>
            <p:cNvGraphicFramePr/>
            <p:nvPr/>
          </p:nvGraphicFramePr>
          <p:xfrm>
            <a:off x="1322280" y="1752480"/>
            <a:ext cx="433440" cy="433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22280" y="1752480"/>
                      <a:ext cx="43344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2666880" y="1752480"/>
                  <a:ext cx="3412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5715000" y="2514600"/>
          <a:ext cx="31780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514600"/>
                    <a:ext cx="3178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838080" y="266688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590920" y="2438280"/>
                <a:ext cx="24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990720" y="34290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905120" y="3352680"/>
                <a:ext cx="1558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2" name=""/>
          <p:cNvGraphicFramePr/>
          <p:nvPr/>
        </p:nvGraphicFramePr>
        <p:xfrm>
          <a:off x="1676520" y="4114800"/>
          <a:ext cx="387036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4114800"/>
                    <a:ext cx="3870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"/>
          <p:cNvSpPr/>
          <p:nvPr/>
        </p:nvSpPr>
        <p:spPr>
          <a:xfrm>
            <a:off x="1066680" y="42670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762120" y="1371600"/>
            <a:ext cx="6113520" cy="504720"/>
            <a:chOff x="762120" y="1371600"/>
            <a:chExt cx="6113520" cy="504720"/>
          </a:xfrm>
        </p:grpSpPr>
        <mc:AlternateContent>
          <mc:Choice xmlns:a14="http://schemas.microsoft.com/office/drawing/2010/main" Requires="a14">
            <p:sp>
              <p:nvSpPr>
                <p:cNvPr id="916" name=""/>
                <p:cNvSpPr txBox="1"/>
                <p:nvPr/>
              </p:nvSpPr>
              <p:spPr>
                <a:xfrm>
                  <a:off x="762120" y="1389240"/>
                  <a:ext cx="10843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17" name=""/>
            <p:cNvGraphicFramePr/>
            <p:nvPr/>
          </p:nvGraphicFramePr>
          <p:xfrm>
            <a:off x="1911240" y="1371600"/>
            <a:ext cx="4964400" cy="50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11240" y="1371600"/>
                      <a:ext cx="49644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9" name=""/>
          <p:cNvGrpSpPr/>
          <p:nvPr/>
        </p:nvGrpSpPr>
        <p:grpSpPr>
          <a:xfrm>
            <a:off x="762120" y="762120"/>
            <a:ext cx="3733560" cy="474480"/>
            <a:chOff x="762120" y="762120"/>
            <a:chExt cx="3733560" cy="47448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762120" y="762120"/>
                  <a:ext cx="11952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1" name=""/>
                <p:cNvSpPr txBox="1"/>
                <p:nvPr/>
              </p:nvSpPr>
              <p:spPr>
                <a:xfrm>
                  <a:off x="2362320" y="762120"/>
                  <a:ext cx="2133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2" name=""/>
          <p:cNvGrpSpPr/>
          <p:nvPr/>
        </p:nvGrpSpPr>
        <p:grpSpPr>
          <a:xfrm>
            <a:off x="762120" y="1981080"/>
            <a:ext cx="6235560" cy="573120"/>
            <a:chOff x="762120" y="1981080"/>
            <a:chExt cx="6235560" cy="573120"/>
          </a:xfrm>
        </p:grpSpPr>
        <mc:AlternateContent>
          <mc:Choice xmlns:a14="http://schemas.microsoft.com/office/drawing/2010/main" Requires="a14">
            <p:sp>
              <p:nvSpPr>
                <p:cNvPr id="923" name=""/>
                <p:cNvSpPr txBox="1"/>
                <p:nvPr/>
              </p:nvSpPr>
              <p:spPr>
                <a:xfrm>
                  <a:off x="762120" y="2054160"/>
                  <a:ext cx="10540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1924200" y="1981080"/>
                  <a:ext cx="507348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6281640" y="2362320"/>
          <a:ext cx="2862360" cy="30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1640" y="2362320"/>
                    <a:ext cx="28623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914400" y="35812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676520" y="3373560"/>
            <a:ext cx="3873240" cy="1055520"/>
            <a:chOff x="1676520" y="3373560"/>
            <a:chExt cx="3873240" cy="1055520"/>
          </a:xfrm>
        </p:grpSpPr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1676520" y="3429000"/>
                  <a:ext cx="1976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34" name=""/>
            <p:cNvGraphicFramePr/>
            <p:nvPr/>
          </p:nvGraphicFramePr>
          <p:xfrm>
            <a:off x="3747960" y="3373560"/>
            <a:ext cx="1801800" cy="498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47960" y="3373560"/>
                      <a:ext cx="180180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1752480" y="3962520"/>
                  <a:ext cx="18176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7" name=""/>
          <p:cNvGraphicFramePr/>
          <p:nvPr/>
        </p:nvGraphicFramePr>
        <p:xfrm>
          <a:off x="1981080" y="2666880"/>
          <a:ext cx="251460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666880"/>
                    <a:ext cx="2514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914400" y="4952880"/>
          <a:ext cx="501156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4952880"/>
                    <a:ext cx="5011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3048120" y="44956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85800" y="609480"/>
            <a:ext cx="6477120" cy="544680"/>
            <a:chOff x="685800" y="609480"/>
            <a:chExt cx="6477120" cy="544680"/>
          </a:xfrm>
        </p:grpSpPr>
        <p:graphicFrame>
          <p:nvGraphicFramePr>
            <p:cNvPr id="947" name=""/>
            <p:cNvGraphicFramePr/>
            <p:nvPr/>
          </p:nvGraphicFramePr>
          <p:xfrm>
            <a:off x="685800" y="685800"/>
            <a:ext cx="4267080" cy="4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685800"/>
                      <a:ext cx="42670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5029200" y="762120"/>
                  <a:ext cx="38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0" name=""/>
            <p:cNvSpPr/>
            <p:nvPr/>
          </p:nvSpPr>
          <p:spPr>
            <a:xfrm>
              <a:off x="5334120" y="609480"/>
              <a:ext cx="1828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处无滑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1523880" y="13716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362320" y="1219320"/>
                <a:ext cx="182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3" name=""/>
          <p:cNvGraphicFramePr/>
          <p:nvPr/>
        </p:nvGraphicFramePr>
        <p:xfrm>
          <a:off x="671400" y="1752480"/>
          <a:ext cx="444996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1400" y="1752480"/>
                    <a:ext cx="4449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5105520" y="1828800"/>
                <a:ext cx="3808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5410080" y="1676520"/>
            <a:ext cx="1828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有滑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80880" y="2438280"/>
            <a:ext cx="8915400" cy="573120"/>
            <a:chOff x="380880" y="2438280"/>
            <a:chExt cx="8915400" cy="573120"/>
          </a:xfrm>
        </p:grpSpPr>
        <p:sp>
          <p:nvSpPr>
            <p:cNvPr id="958" name=""/>
            <p:cNvSpPr/>
            <p:nvPr/>
          </p:nvSpPr>
          <p:spPr>
            <a:xfrm>
              <a:off x="812520" y="2438280"/>
              <a:ext cx="84837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摩擦力达最大值，取杆与轮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380880" y="2514600"/>
              <a:ext cx="1063800" cy="404640"/>
              <a:chOff x="380880" y="2514600"/>
              <a:chExt cx="1063800" cy="404640"/>
            </a:xfrm>
          </p:grpSpPr>
          <p:graphicFrame>
            <p:nvGraphicFramePr>
              <p:cNvPr id="960" name=""/>
              <p:cNvGraphicFramePr/>
              <p:nvPr/>
            </p:nvGraphicFramePr>
            <p:xfrm>
              <a:off x="380880" y="2554200"/>
              <a:ext cx="431640" cy="3650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6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80880" y="2554200"/>
                        <a:ext cx="431640" cy="36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62" name=""/>
                  <p:cNvSpPr txBox="1"/>
                  <p:nvPr/>
                </p:nvSpPr>
                <p:spPr>
                  <a:xfrm>
                    <a:off x="1066680" y="2514600"/>
                    <a:ext cx="37800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963" name=""/>
          <p:cNvGraphicFramePr/>
          <p:nvPr/>
        </p:nvGraphicFramePr>
        <p:xfrm>
          <a:off x="5638680" y="3048120"/>
          <a:ext cx="3178440" cy="3200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048120"/>
                    <a:ext cx="3178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5" name=""/>
          <p:cNvGrpSpPr/>
          <p:nvPr/>
        </p:nvGrpSpPr>
        <p:grpSpPr>
          <a:xfrm>
            <a:off x="838080" y="3124080"/>
            <a:ext cx="4178520" cy="863640"/>
            <a:chOff x="838080" y="3124080"/>
            <a:chExt cx="4178520" cy="8636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838080" y="3352680"/>
                  <a:ext cx="12700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590920" y="3124080"/>
                  <a:ext cx="2425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8" name=""/>
          <p:cNvGrpSpPr/>
          <p:nvPr/>
        </p:nvGrpSpPr>
        <p:grpSpPr>
          <a:xfrm>
            <a:off x="1676520" y="4114800"/>
            <a:ext cx="2666880" cy="555480"/>
            <a:chOff x="1676520" y="4114800"/>
            <a:chExt cx="2666880" cy="555480"/>
          </a:xfrm>
        </p:grpSpPr>
        <mc:AlternateContent>
          <mc:Choice xmlns:a14="http://schemas.microsoft.com/office/drawing/2010/main" Requires="a14">
            <p:sp>
              <p:nvSpPr>
                <p:cNvPr id="969" name=""/>
                <p:cNvSpPr txBox="1"/>
                <p:nvPr/>
              </p:nvSpPr>
              <p:spPr>
                <a:xfrm>
                  <a:off x="1676520" y="4190760"/>
                  <a:ext cx="16002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0" name=""/>
            <p:cNvSpPr/>
            <p:nvPr/>
          </p:nvSpPr>
          <p:spPr>
            <a:xfrm>
              <a:off x="3353040" y="4114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143000" y="5105520"/>
            <a:ext cx="3123720" cy="561960"/>
            <a:chOff x="1143000" y="5105520"/>
            <a:chExt cx="3123720" cy="56196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1676160" y="5181480"/>
                  <a:ext cx="25905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≠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143000" y="5105520"/>
              <a:ext cx="53316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838080" y="4343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685800" y="609480"/>
            <a:ext cx="4546440" cy="544320"/>
            <a:chOff x="685800" y="609480"/>
            <a:chExt cx="4546440" cy="544320"/>
          </a:xfrm>
        </p:grpSpPr>
        <p:sp>
          <p:nvSpPr>
            <p:cNvPr id="976" name=""/>
            <p:cNvSpPr/>
            <p:nvPr/>
          </p:nvSpPr>
          <p:spPr>
            <a:xfrm>
              <a:off x="685800" y="609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对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1676160" y="685440"/>
                  <a:ext cx="11955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8" name=""/>
                <p:cNvSpPr txBox="1"/>
                <p:nvPr/>
              </p:nvSpPr>
              <p:spPr>
                <a:xfrm>
                  <a:off x="3124080" y="685440"/>
                  <a:ext cx="21081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6019920" y="3429000"/>
          <a:ext cx="28620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429000"/>
                    <a:ext cx="286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1676520" y="1219320"/>
            <a:ext cx="6603840" cy="544320"/>
            <a:chOff x="1676520" y="1219320"/>
            <a:chExt cx="6603840" cy="544320"/>
          </a:xfrm>
        </p:grpSpPr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1676520" y="1295280"/>
                  <a:ext cx="10396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87" name=""/>
            <p:cNvGraphicFramePr/>
            <p:nvPr/>
          </p:nvGraphicFramePr>
          <p:xfrm>
            <a:off x="2997360" y="1219320"/>
            <a:ext cx="5283000" cy="4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97360" y="1219320"/>
                      <a:ext cx="52830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9" name=""/>
          <p:cNvGrpSpPr/>
          <p:nvPr/>
        </p:nvGrpSpPr>
        <p:grpSpPr>
          <a:xfrm>
            <a:off x="1676520" y="1905120"/>
            <a:ext cx="5965560" cy="468360"/>
            <a:chOff x="1676520" y="1905120"/>
            <a:chExt cx="5965560" cy="468360"/>
          </a:xfrm>
        </p:grpSpPr>
        <mc:AlternateContent>
          <mc:Choice xmlns:a14="http://schemas.microsoft.com/office/drawing/2010/main" Requires="a14">
            <p:sp>
              <p:nvSpPr>
                <p:cNvPr id="990" name=""/>
                <p:cNvSpPr txBox="1"/>
                <p:nvPr/>
              </p:nvSpPr>
              <p:spPr>
                <a:xfrm>
                  <a:off x="1676520" y="1905120"/>
                  <a:ext cx="9856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91" name=""/>
            <p:cNvGraphicFramePr/>
            <p:nvPr/>
          </p:nvGraphicFramePr>
          <p:xfrm>
            <a:off x="3200400" y="1905120"/>
            <a:ext cx="4441680" cy="468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00400" y="1905120"/>
                      <a:ext cx="4441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676520" y="2590920"/>
                <a:ext cx="1533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94" name=""/>
          <p:cNvGrpSpPr/>
          <p:nvPr/>
        </p:nvGrpSpPr>
        <p:grpSpPr>
          <a:xfrm>
            <a:off x="838080" y="3429000"/>
            <a:ext cx="5094360" cy="533160"/>
            <a:chOff x="838080" y="3429000"/>
            <a:chExt cx="5094360" cy="533160"/>
          </a:xfrm>
        </p:grpSpPr>
        <p:sp>
          <p:nvSpPr>
            <p:cNvPr id="995" name=""/>
            <p:cNvSpPr/>
            <p:nvPr/>
          </p:nvSpPr>
          <p:spPr>
            <a:xfrm>
              <a:off x="838080" y="3429000"/>
              <a:ext cx="31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当          时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1295280" y="3460680"/>
                  <a:ext cx="13492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7" name=""/>
            <p:cNvSpPr/>
            <p:nvPr/>
          </p:nvSpPr>
          <p:spPr>
            <a:xfrm>
              <a:off x="3276360" y="3429000"/>
              <a:ext cx="1646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8" name=""/>
                <p:cNvSpPr txBox="1"/>
                <p:nvPr/>
              </p:nvSpPr>
              <p:spPr>
                <a:xfrm>
                  <a:off x="4114800" y="3433680"/>
                  <a:ext cx="18176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066680" y="4114800"/>
                <a:ext cx="3382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990720" y="4800600"/>
            <a:ext cx="4206600" cy="468360"/>
            <a:chOff x="990720" y="4800600"/>
            <a:chExt cx="4206600" cy="46836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3124080" y="4800600"/>
                  <a:ext cx="2073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314360" y="4800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处无滑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990720" y="4867200"/>
                  <a:ext cx="3380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096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摩擦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1622520"/>
            <a:ext cx="2405880" cy="520560"/>
            <a:chOff x="914400" y="1622520"/>
            <a:chExt cx="2405880" cy="52056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914400" y="1650960"/>
                  <a:ext cx="5763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1843920" y="1622520"/>
              <a:ext cx="14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r>
                <a:rPr b="0" lang="zh-CN" sz="2800" spc="-1" strike="noStrike">
                  <a:solidFill>
                    <a:srgbClr val="990033"/>
                  </a:solidFill>
                  <a:latin typeface="Times New Roman"/>
                </a:rPr>
                <a:t>全约束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830600" y="230976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体处于临界平衡状态时，全约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力和法线间的夹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摩擦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8640" y="123840"/>
            <a:ext cx="6752520" cy="671040"/>
            <a:chOff x="638640" y="123840"/>
            <a:chExt cx="6752520" cy="671040"/>
          </a:xfrm>
        </p:grpSpPr>
        <p:sp>
          <p:nvSpPr>
            <p:cNvPr id="114" name=""/>
            <p:cNvSpPr/>
            <p:nvPr/>
          </p:nvSpPr>
          <p:spPr>
            <a:xfrm>
              <a:off x="2197080" y="152280"/>
              <a:ext cx="51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摩擦角和自锁现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8640" y="123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§5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3429000"/>
            <a:ext cx="3961800" cy="914040"/>
            <a:chOff x="990720" y="3429000"/>
            <a:chExt cx="3961800" cy="91404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990720" y="3641760"/>
                  <a:ext cx="11188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328640" y="3607200"/>
                  <a:ext cx="623880" cy="48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159280" y="3429000"/>
                  <a:ext cx="9770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243960" y="3429000"/>
                  <a:ext cx="10580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685800" y="48769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约束力和法线间的夹角的正切等于静滑动摩擦因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3000" y="594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摩擦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71960" y="6005520"/>
                <a:ext cx="1773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ϕ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382840" cy="2097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53080" y="4365720"/>
            <a:ext cx="2382840" cy="2097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53080" y="228600"/>
          <a:ext cx="2419560" cy="194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228600"/>
                    <a:ext cx="24195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553080" y="2286000"/>
          <a:ext cx="2362320" cy="21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2286000"/>
                    <a:ext cx="23623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971800" y="43434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609480" y="4214880"/>
            <a:ext cx="6324840" cy="526680"/>
            <a:chOff x="609480" y="4214880"/>
            <a:chExt cx="6324840" cy="526680"/>
          </a:xfrm>
        </p:grpSpPr>
        <p:sp>
          <p:nvSpPr>
            <p:cNvPr id="1005" name=""/>
            <p:cNvSpPr/>
            <p:nvPr/>
          </p:nvSpPr>
          <p:spPr>
            <a:xfrm>
              <a:off x="609480" y="42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0720" y="42148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使系统平衡时，力偶矩    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5562720" y="4343400"/>
                  <a:ext cx="482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8" name=""/>
          <p:cNvGrpSpPr/>
          <p:nvPr/>
        </p:nvGrpSpPr>
        <p:grpSpPr>
          <a:xfrm>
            <a:off x="990720" y="4678200"/>
            <a:ext cx="7696080" cy="1424880"/>
            <a:chOff x="990720" y="4678200"/>
            <a:chExt cx="7696080" cy="1424880"/>
          </a:xfrm>
        </p:grpSpPr>
        <p:sp>
          <p:nvSpPr>
            <p:cNvPr id="1009" name=""/>
            <p:cNvSpPr/>
            <p:nvPr/>
          </p:nvSpPr>
          <p:spPr>
            <a:xfrm>
              <a:off x="990720" y="4678200"/>
              <a:ext cx="76960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圆柱  匀速纯滚动时，静滑动摩擦系数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最小值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0" name=""/>
                <p:cNvSpPr txBox="1"/>
                <p:nvPr/>
              </p:nvSpPr>
              <p:spPr>
                <a:xfrm>
                  <a:off x="2743200" y="4876920"/>
                  <a:ext cx="328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1" name=""/>
          <p:cNvGrpSpPr/>
          <p:nvPr/>
        </p:nvGrpSpPr>
        <p:grpSpPr>
          <a:xfrm>
            <a:off x="762120" y="838080"/>
            <a:ext cx="2928960" cy="520560"/>
            <a:chOff x="762120" y="838080"/>
            <a:chExt cx="2928960" cy="520560"/>
          </a:xfrm>
        </p:grpSpPr>
        <p:sp>
          <p:nvSpPr>
            <p:cNvPr id="1012" name=""/>
            <p:cNvSpPr/>
            <p:nvPr/>
          </p:nvSpPr>
          <p:spPr>
            <a:xfrm>
              <a:off x="762120" y="8380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1981080" y="914400"/>
                  <a:ext cx="1710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710280" y="228600"/>
            <a:ext cx="12020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rcRect l="5143" t="24005" r="5718" b="1599"/>
          <a:stretch/>
        </p:blipFill>
        <p:spPr>
          <a:xfrm>
            <a:off x="2286000" y="1371600"/>
            <a:ext cx="3962520" cy="2362320"/>
          </a:xfrm>
          <a:prstGeom prst="rect">
            <a:avLst/>
          </a:prstGeom>
          <a:ln w="0">
            <a:noFill/>
          </a:ln>
        </p:spPr>
      </p:pic>
      <p:sp>
        <p:nvSpPr>
          <p:cNvPr id="101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33520" y="817560"/>
                <a:ext cx="1224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33520" y="1366920"/>
                <a:ext cx="411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2" name=""/>
          <p:cNvGrpSpPr/>
          <p:nvPr/>
        </p:nvGrpSpPr>
        <p:grpSpPr>
          <a:xfrm>
            <a:off x="533520" y="1870200"/>
            <a:ext cx="3809880" cy="550800"/>
            <a:chOff x="533520" y="1870200"/>
            <a:chExt cx="3809880" cy="550800"/>
          </a:xfrm>
        </p:grpSpPr>
        <mc:AlternateContent>
          <mc:Choice xmlns:a14="http://schemas.microsoft.com/office/drawing/2010/main" Requires="a14">
            <p:sp>
              <p:nvSpPr>
                <p:cNvPr id="1023" name=""/>
                <p:cNvSpPr txBox="1"/>
                <p:nvPr/>
              </p:nvSpPr>
              <p:spPr>
                <a:xfrm>
                  <a:off x="533520" y="1916280"/>
                  <a:ext cx="1218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2133720" y="1870200"/>
                  <a:ext cx="220968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5" name=""/>
          <p:cNvGrpSpPr/>
          <p:nvPr/>
        </p:nvGrpSpPr>
        <p:grpSpPr>
          <a:xfrm>
            <a:off x="457200" y="2421000"/>
            <a:ext cx="2133720" cy="525240"/>
            <a:chOff x="457200" y="2421000"/>
            <a:chExt cx="2133720" cy="525240"/>
          </a:xfrm>
        </p:grpSpPr>
        <p:sp>
          <p:nvSpPr>
            <p:cNvPr id="1026" name=""/>
            <p:cNvSpPr/>
            <p:nvPr/>
          </p:nvSpPr>
          <p:spPr>
            <a:xfrm>
              <a:off x="457200" y="2421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990720" y="2496960"/>
                  <a:ext cx="16002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8" name=""/>
          <p:cNvGrpSpPr/>
          <p:nvPr/>
        </p:nvGrpSpPr>
        <p:grpSpPr>
          <a:xfrm>
            <a:off x="457200" y="2781360"/>
            <a:ext cx="4861080" cy="863640"/>
            <a:chOff x="457200" y="2781360"/>
            <a:chExt cx="4861080" cy="863640"/>
          </a:xfrm>
        </p:grpSpPr>
        <p:sp>
          <p:nvSpPr>
            <p:cNvPr id="1029" name=""/>
            <p:cNvSpPr/>
            <p:nvPr/>
          </p:nvSpPr>
          <p:spPr>
            <a:xfrm>
              <a:off x="457200" y="299736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联立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1835280" y="2781360"/>
                  <a:ext cx="348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52600" y="4122720"/>
                <a:ext cx="1244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533520" y="4724280"/>
                <a:ext cx="42782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533520" y="5318280"/>
            <a:ext cx="3886200" cy="569880"/>
            <a:chOff x="533520" y="5318280"/>
            <a:chExt cx="3886200" cy="569880"/>
          </a:xfrm>
        </p:grpSpPr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533520" y="5373720"/>
                  <a:ext cx="12952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5" name=""/>
                <p:cNvSpPr txBox="1"/>
                <p:nvPr/>
              </p:nvSpPr>
              <p:spPr>
                <a:xfrm>
                  <a:off x="2146320" y="5318280"/>
                  <a:ext cx="227340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6" name=""/>
          <p:cNvGrpSpPr/>
          <p:nvPr/>
        </p:nvGrpSpPr>
        <p:grpSpPr>
          <a:xfrm>
            <a:off x="457200" y="5761080"/>
            <a:ext cx="2362320" cy="547560"/>
            <a:chOff x="457200" y="5761080"/>
            <a:chExt cx="2362320" cy="547560"/>
          </a:xfrm>
        </p:grpSpPr>
        <p:sp>
          <p:nvSpPr>
            <p:cNvPr id="1037" name=""/>
            <p:cNvSpPr/>
            <p:nvPr/>
          </p:nvSpPr>
          <p:spPr>
            <a:xfrm>
              <a:off x="457200" y="576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8" name=""/>
                <p:cNvSpPr txBox="1"/>
                <p:nvPr/>
              </p:nvSpPr>
              <p:spPr>
                <a:xfrm>
                  <a:off x="1066680" y="5837400"/>
                  <a:ext cx="175284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9" name=""/>
          <p:cNvGrpSpPr/>
          <p:nvPr/>
        </p:nvGrpSpPr>
        <p:grpSpPr>
          <a:xfrm>
            <a:off x="457200" y="235080"/>
            <a:ext cx="7315200" cy="459720"/>
            <a:chOff x="457200" y="235080"/>
            <a:chExt cx="7315200" cy="459720"/>
          </a:xfrm>
        </p:grpSpPr>
        <p:sp>
          <p:nvSpPr>
            <p:cNvPr id="1040" name=""/>
            <p:cNvSpPr/>
            <p:nvPr/>
          </p:nvSpPr>
          <p:spPr>
            <a:xfrm>
              <a:off x="457200" y="23508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14400" y="2350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设圆柱  有向下滚动趋势，取圆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2700360" y="311040"/>
                  <a:ext cx="328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3" name=""/>
                <p:cNvSpPr txBox="1"/>
                <p:nvPr/>
              </p:nvSpPr>
              <p:spPr>
                <a:xfrm>
                  <a:off x="6372360" y="311040"/>
                  <a:ext cx="3283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4" name=""/>
          <p:cNvGrpSpPr/>
          <p:nvPr/>
        </p:nvGrpSpPr>
        <p:grpSpPr>
          <a:xfrm>
            <a:off x="380880" y="3573360"/>
            <a:ext cx="6324840" cy="459720"/>
            <a:chOff x="380880" y="3573360"/>
            <a:chExt cx="6324840" cy="459720"/>
          </a:xfrm>
        </p:grpSpPr>
        <p:sp>
          <p:nvSpPr>
            <p:cNvPr id="1045" name=""/>
            <p:cNvSpPr/>
            <p:nvPr/>
          </p:nvSpPr>
          <p:spPr>
            <a:xfrm>
              <a:off x="380880" y="3573360"/>
              <a:ext cx="63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设圆柱  有向上滚动趋势，取圆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"/>
                <p:cNvSpPr txBox="1"/>
                <p:nvPr/>
              </p:nvSpPr>
              <p:spPr>
                <a:xfrm>
                  <a:off x="1403280" y="3649680"/>
                  <a:ext cx="328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7" name=""/>
                <p:cNvSpPr txBox="1"/>
                <p:nvPr/>
              </p:nvSpPr>
              <p:spPr>
                <a:xfrm>
                  <a:off x="5076720" y="3649680"/>
                  <a:ext cx="328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8" name=""/>
          <p:cNvGrpSpPr/>
          <p:nvPr/>
        </p:nvGrpSpPr>
        <p:grpSpPr>
          <a:xfrm>
            <a:off x="5299200" y="838080"/>
            <a:ext cx="3809880" cy="2362320"/>
            <a:chOff x="5299200" y="838080"/>
            <a:chExt cx="3809880" cy="2362320"/>
          </a:xfrm>
        </p:grpSpPr>
        <p:pic>
          <p:nvPicPr>
            <p:cNvPr id="1049" name="" descr=""/>
            <p:cNvPicPr/>
            <p:nvPr/>
          </p:nvPicPr>
          <p:blipFill>
            <a:blip r:embed="rId2"/>
            <a:srcRect l="0" t="24005" r="14287" b="1599"/>
            <a:stretch/>
          </p:blipFill>
          <p:spPr>
            <a:xfrm>
              <a:off x="5299200" y="838080"/>
              <a:ext cx="38098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/>
            <p:cNvSpPr/>
            <p:nvPr/>
          </p:nvSpPr>
          <p:spPr>
            <a:xfrm>
              <a:off x="8501040" y="26668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5410080" y="3886200"/>
          <a:ext cx="3429000" cy="23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86200"/>
                    <a:ext cx="3429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685800" y="1143000"/>
            <a:ext cx="8061480" cy="501480"/>
            <a:chOff x="685800" y="1143000"/>
            <a:chExt cx="8061480" cy="501480"/>
          </a:xfrm>
        </p:grpSpPr>
        <p:sp>
          <p:nvSpPr>
            <p:cNvPr id="1058" name=""/>
            <p:cNvSpPr/>
            <p:nvPr/>
          </p:nvSpPr>
          <p:spPr>
            <a:xfrm>
              <a:off x="685800" y="1170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系统平衡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9" name=""/>
            <p:cNvGraphicFramePr/>
            <p:nvPr/>
          </p:nvGraphicFramePr>
          <p:xfrm>
            <a:off x="2362320" y="1143000"/>
            <a:ext cx="6384960" cy="501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143000"/>
                      <a:ext cx="638496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1" name=""/>
          <p:cNvGrpSpPr/>
          <p:nvPr/>
        </p:nvGrpSpPr>
        <p:grpSpPr>
          <a:xfrm>
            <a:off x="533520" y="1744560"/>
            <a:ext cx="6172200" cy="460440"/>
            <a:chOff x="533520" y="1744560"/>
            <a:chExt cx="6172200" cy="460440"/>
          </a:xfrm>
        </p:grpSpPr>
        <p:sp>
          <p:nvSpPr>
            <p:cNvPr id="1062" name=""/>
            <p:cNvSpPr/>
            <p:nvPr/>
          </p:nvSpPr>
          <p:spPr>
            <a:xfrm>
              <a:off x="533520" y="1744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设圆柱   有向下滚动趋势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图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2340000" y="1773360"/>
                  <a:ext cx="3715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4" name=""/>
          <p:cNvGrpSpPr/>
          <p:nvPr/>
        </p:nvGrpSpPr>
        <p:grpSpPr>
          <a:xfrm>
            <a:off x="838080" y="2292480"/>
            <a:ext cx="3905280" cy="488880"/>
            <a:chOff x="838080" y="2292480"/>
            <a:chExt cx="3905280" cy="488880"/>
          </a:xfrm>
        </p:grpSpPr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838080" y="2292480"/>
                  <a:ext cx="1247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66" name=""/>
            <p:cNvGraphicFramePr/>
            <p:nvPr/>
          </p:nvGraphicFramePr>
          <p:xfrm>
            <a:off x="2438280" y="2293920"/>
            <a:ext cx="2305080" cy="48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280" y="2293920"/>
                      <a:ext cx="23050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8" name=""/>
          <p:cNvGrpSpPr/>
          <p:nvPr/>
        </p:nvGrpSpPr>
        <p:grpSpPr>
          <a:xfrm>
            <a:off x="838080" y="2940120"/>
            <a:ext cx="3962520" cy="560160"/>
            <a:chOff x="838080" y="2940120"/>
            <a:chExt cx="3962520" cy="560160"/>
          </a:xfrm>
        </p:grpSpPr>
        <mc:AlternateContent>
          <mc:Choice xmlns:a14="http://schemas.microsoft.com/office/drawing/2010/main" Requires="a14">
            <p:sp>
              <p:nvSpPr>
                <p:cNvPr id="1069" name=""/>
                <p:cNvSpPr txBox="1"/>
                <p:nvPr/>
              </p:nvSpPr>
              <p:spPr>
                <a:xfrm>
                  <a:off x="838080" y="2986200"/>
                  <a:ext cx="126684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2386080" y="2940120"/>
                  <a:ext cx="24145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826920" y="3476520"/>
            <a:ext cx="2303640" cy="528840"/>
            <a:chOff x="826920" y="3476520"/>
            <a:chExt cx="2303640" cy="528840"/>
          </a:xfrm>
        </p:grpSpPr>
        <p:sp>
          <p:nvSpPr>
            <p:cNvPr id="1072" name=""/>
            <p:cNvSpPr/>
            <p:nvPr/>
          </p:nvSpPr>
          <p:spPr>
            <a:xfrm>
              <a:off x="826920" y="34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3" name=""/>
                <p:cNvSpPr txBox="1"/>
                <p:nvPr/>
              </p:nvSpPr>
              <p:spPr>
                <a:xfrm>
                  <a:off x="1471680" y="3538440"/>
                  <a:ext cx="16588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4" name=""/>
          <p:cNvSpPr/>
          <p:nvPr/>
        </p:nvSpPr>
        <p:spPr>
          <a:xfrm>
            <a:off x="762120" y="41241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828800" y="3933720"/>
          <a:ext cx="200484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3933720"/>
                    <a:ext cx="2004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7" name=""/>
          <p:cNvGrpSpPr/>
          <p:nvPr/>
        </p:nvGrpSpPr>
        <p:grpSpPr>
          <a:xfrm>
            <a:off x="685800" y="347760"/>
            <a:ext cx="5159520" cy="849240"/>
            <a:chOff x="685800" y="347760"/>
            <a:chExt cx="5159520" cy="849240"/>
          </a:xfrm>
        </p:grpSpPr>
        <p:sp>
          <p:nvSpPr>
            <p:cNvPr id="1078" name=""/>
            <p:cNvSpPr/>
            <p:nvPr/>
          </p:nvSpPr>
          <p:spPr>
            <a:xfrm>
              <a:off x="685800" y="506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联立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9" name=""/>
                <p:cNvSpPr txBox="1"/>
                <p:nvPr/>
              </p:nvSpPr>
              <p:spPr>
                <a:xfrm>
                  <a:off x="2362320" y="347760"/>
                  <a:ext cx="34830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0" name=""/>
          <p:cNvGrpSpPr/>
          <p:nvPr/>
        </p:nvGrpSpPr>
        <p:grpSpPr>
          <a:xfrm>
            <a:off x="838080" y="5302080"/>
            <a:ext cx="7010640" cy="491760"/>
            <a:chOff x="838080" y="5302080"/>
            <a:chExt cx="7010640" cy="491760"/>
          </a:xfrm>
        </p:grpSpPr>
        <p:sp>
          <p:nvSpPr>
            <p:cNvPr id="1081" name=""/>
            <p:cNvSpPr/>
            <p:nvPr/>
          </p:nvSpPr>
          <p:spPr>
            <a:xfrm>
              <a:off x="838080" y="5334120"/>
              <a:ext cx="70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同理，圆柱   有向上滚动趋势时，图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2" name=""/>
                <p:cNvSpPr txBox="1"/>
                <p:nvPr/>
              </p:nvSpPr>
              <p:spPr>
                <a:xfrm>
                  <a:off x="2400480" y="5302080"/>
                  <a:ext cx="3711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3" name=""/>
          <p:cNvGrpSpPr/>
          <p:nvPr/>
        </p:nvGrpSpPr>
        <p:grpSpPr>
          <a:xfrm>
            <a:off x="685800" y="4495680"/>
            <a:ext cx="7304040" cy="863640"/>
            <a:chOff x="685800" y="4495680"/>
            <a:chExt cx="7304040" cy="863640"/>
          </a:xfrm>
        </p:grpSpPr>
        <mc:AlternateContent>
          <mc:Choice xmlns:a14="http://schemas.microsoft.com/office/drawing/2010/main" Requires="a14">
            <p:sp>
              <p:nvSpPr>
                <p:cNvPr id="1084" name=""/>
                <p:cNvSpPr txBox="1"/>
                <p:nvPr/>
              </p:nvSpPr>
              <p:spPr>
                <a:xfrm>
                  <a:off x="6986520" y="4495680"/>
                  <a:ext cx="1003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≥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085" name=""/>
            <p:cNvGrpSpPr/>
            <p:nvPr/>
          </p:nvGrpSpPr>
          <p:grpSpPr>
            <a:xfrm>
              <a:off x="685800" y="4716360"/>
              <a:ext cx="6300720" cy="571680"/>
              <a:chOff x="685800" y="4716360"/>
              <a:chExt cx="6300720" cy="5716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800" y="4782960"/>
                <a:ext cx="23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只滚不滑时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228840" y="4819680"/>
                    <a:ext cx="3138480" cy="4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6453000" y="47163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74440" y="47592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应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762120" y="5662440"/>
            <a:ext cx="7338960" cy="1149480"/>
            <a:chOff x="762120" y="5662440"/>
            <a:chExt cx="7338960" cy="1149480"/>
          </a:xfrm>
        </p:grpSpPr>
        <p:grpSp>
          <p:nvGrpSpPr>
            <p:cNvPr id="1093" name=""/>
            <p:cNvGrpSpPr/>
            <p:nvPr/>
          </p:nvGrpSpPr>
          <p:grpSpPr>
            <a:xfrm>
              <a:off x="762120" y="5734080"/>
              <a:ext cx="1428480" cy="863640"/>
              <a:chOff x="762120" y="5734080"/>
              <a:chExt cx="1428480" cy="863640"/>
            </a:xfrm>
          </p:grpSpPr>
          <p:sp>
            <p:nvSpPr>
              <p:cNvPr id="1094" name=""/>
              <p:cNvSpPr/>
              <p:nvPr/>
            </p:nvSpPr>
            <p:spPr>
              <a:xfrm>
                <a:off x="762120" y="5934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5" name=""/>
                  <p:cNvSpPr txBox="1"/>
                  <p:nvPr/>
                </p:nvSpPr>
                <p:spPr>
                  <a:xfrm>
                    <a:off x="1187280" y="5734080"/>
                    <a:ext cx="1003320" cy="86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6" name=""/>
            <p:cNvSpPr/>
            <p:nvPr/>
          </p:nvSpPr>
          <p:spPr>
            <a:xfrm>
              <a:off x="2556000" y="5892840"/>
              <a:ext cx="52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圆柱匀速纯滚时，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076720" y="5662440"/>
                  <a:ext cx="1003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≥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8" name="">
              <a:hlinkClick r:id="" action="ppaction://hlinkshowjump?jump=previousslide"/>
            </p:cNvPr>
            <p:cNvSpPr/>
            <p:nvPr/>
          </p:nvSpPr>
          <p:spPr>
            <a:xfrm>
              <a:off x="7740720" y="6524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>
              <a:hlinkClick r:id="" action="ppaction://hlinkshowjump?jump=firstslide"/>
            </p:cNvPr>
            <p:cNvSpPr/>
            <p:nvPr/>
          </p:nvSpPr>
          <p:spPr>
            <a:xfrm>
              <a:off x="7236000" y="6524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29200" y="2209680"/>
            <a:ext cx="3809880" cy="2362320"/>
            <a:chOff x="5029200" y="2209680"/>
            <a:chExt cx="3809880" cy="2362320"/>
          </a:xfrm>
        </p:grpSpPr>
        <p:pic>
          <p:nvPicPr>
            <p:cNvPr id="1101" name="" descr=""/>
            <p:cNvPicPr/>
            <p:nvPr/>
          </p:nvPicPr>
          <p:blipFill>
            <a:blip r:embed="rId8"/>
            <a:srcRect l="0" t="24005" r="14287" b="1599"/>
            <a:stretch/>
          </p:blipFill>
          <p:spPr>
            <a:xfrm>
              <a:off x="5029200" y="2209680"/>
              <a:ext cx="38098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"/>
            <p:cNvSpPr/>
            <p:nvPr/>
          </p:nvSpPr>
          <p:spPr>
            <a:xfrm>
              <a:off x="8231040" y="40384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762120" y="1676520"/>
            <a:ext cx="8381880" cy="520560"/>
            <a:chOff x="762120" y="1676520"/>
            <a:chExt cx="8381880" cy="520560"/>
          </a:xfrm>
        </p:grpSpPr>
        <p:sp>
          <p:nvSpPr>
            <p:cNvPr id="1104" name=""/>
            <p:cNvSpPr/>
            <p:nvPr/>
          </p:nvSpPr>
          <p:spPr>
            <a:xfrm>
              <a:off x="1371600" y="1676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拉动拖车最小牵引力  （  平行于斜坡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4724640" y="1752480"/>
                  <a:ext cx="3096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6" name=""/>
                <p:cNvSpPr txBox="1"/>
                <p:nvPr/>
              </p:nvSpPr>
              <p:spPr>
                <a:xfrm>
                  <a:off x="5410440" y="1752480"/>
                  <a:ext cx="3096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7" name=""/>
            <p:cNvSpPr/>
            <p:nvPr/>
          </p:nvSpPr>
          <p:spPr>
            <a:xfrm>
              <a:off x="762120" y="167652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80880" y="914400"/>
            <a:ext cx="8153640" cy="520560"/>
            <a:chOff x="380880" y="914400"/>
            <a:chExt cx="8153640" cy="520560"/>
          </a:xfrm>
        </p:grpSpPr>
        <p:sp>
          <p:nvSpPr>
            <p:cNvPr id="1109" name=""/>
            <p:cNvSpPr/>
            <p:nvPr/>
          </p:nvSpPr>
          <p:spPr>
            <a:xfrm>
              <a:off x="380880" y="9144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19920" y="9144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其他尺寸如图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371600" y="91440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拖车总重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"/>
                <p:cNvSpPr txBox="1"/>
                <p:nvPr/>
              </p:nvSpPr>
              <p:spPr>
                <a:xfrm>
                  <a:off x="2819520" y="99072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"/>
            <p:cNvSpPr/>
            <p:nvPr/>
          </p:nvSpPr>
          <p:spPr>
            <a:xfrm>
              <a:off x="3056040" y="914400"/>
              <a:ext cx="35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车轮半径      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4" name=""/>
                <p:cNvSpPr txBox="1"/>
                <p:nvPr/>
              </p:nvSpPr>
              <p:spPr>
                <a:xfrm>
                  <a:off x="4800600" y="990720"/>
                  <a:ext cx="9540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δ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5" name=""/>
          <p:cNvSpPr/>
          <p:nvPr/>
        </p:nvSpPr>
        <p:spPr>
          <a:xfrm>
            <a:off x="457200" y="258840"/>
            <a:ext cx="13780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2590920" y="2590920"/>
          <a:ext cx="3809880" cy="34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590920"/>
                    <a:ext cx="380988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685800" y="181080"/>
            <a:ext cx="2806560" cy="459720"/>
            <a:chOff x="685800" y="181080"/>
            <a:chExt cx="2806560" cy="459720"/>
          </a:xfrm>
        </p:grpSpPr>
        <p:sp>
          <p:nvSpPr>
            <p:cNvPr id="1123" name=""/>
            <p:cNvSpPr/>
            <p:nvPr/>
          </p:nvSpPr>
          <p:spPr>
            <a:xfrm>
              <a:off x="685800" y="18108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71600" y="181080"/>
              <a:ext cx="21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取整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787320" y="692280"/>
            <a:ext cx="5878440" cy="560160"/>
            <a:chOff x="787320" y="692280"/>
            <a:chExt cx="5878440" cy="560160"/>
          </a:xfrm>
        </p:grpSpPr>
        <mc:AlternateContent>
          <mc:Choice xmlns:a14="http://schemas.microsoft.com/office/drawing/2010/main" Requires="a14">
            <p:sp>
              <p:nvSpPr>
                <p:cNvPr id="1126" name=""/>
                <p:cNvSpPr txBox="1"/>
                <p:nvPr/>
              </p:nvSpPr>
              <p:spPr>
                <a:xfrm>
                  <a:off x="787320" y="762120"/>
                  <a:ext cx="1076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7" name=""/>
                <p:cNvSpPr txBox="1"/>
                <p:nvPr/>
              </p:nvSpPr>
              <p:spPr>
                <a:xfrm>
                  <a:off x="2406600" y="784080"/>
                  <a:ext cx="2786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8" name=""/>
            <p:cNvSpPr/>
            <p:nvPr/>
          </p:nvSpPr>
          <p:spPr>
            <a:xfrm>
              <a:off x="5580000" y="6922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87320" y="1316160"/>
            <a:ext cx="5878440" cy="546120"/>
            <a:chOff x="787320" y="1316160"/>
            <a:chExt cx="5878440" cy="546120"/>
          </a:xfrm>
        </p:grpSpPr>
        <mc:AlternateContent>
          <mc:Choice xmlns:a14="http://schemas.microsoft.com/office/drawing/2010/main" Requires="a14">
            <p:sp>
              <p:nvSpPr>
                <p:cNvPr id="1130" name=""/>
                <p:cNvSpPr txBox="1"/>
                <p:nvPr/>
              </p:nvSpPr>
              <p:spPr>
                <a:xfrm>
                  <a:off x="787320" y="1371600"/>
                  <a:ext cx="986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1" name=""/>
                <p:cNvSpPr txBox="1"/>
                <p:nvPr/>
              </p:nvSpPr>
              <p:spPr>
                <a:xfrm>
                  <a:off x="2411280" y="1393920"/>
                  <a:ext cx="27813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N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2" name=""/>
            <p:cNvSpPr/>
            <p:nvPr/>
          </p:nvSpPr>
          <p:spPr>
            <a:xfrm>
              <a:off x="5580000" y="131616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826920" y="1989000"/>
                <a:ext cx="946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4" name=""/>
          <p:cNvGrpSpPr/>
          <p:nvPr/>
        </p:nvGrpSpPr>
        <p:grpSpPr>
          <a:xfrm>
            <a:off x="685800" y="2438280"/>
            <a:ext cx="8248680" cy="544680"/>
            <a:chOff x="685800" y="2438280"/>
            <a:chExt cx="8248680" cy="544680"/>
          </a:xfrm>
        </p:grpSpPr>
        <p:graphicFrame>
          <p:nvGraphicFramePr>
            <p:cNvPr id="1135" name=""/>
            <p:cNvGraphicFramePr/>
            <p:nvPr/>
          </p:nvGraphicFramePr>
          <p:xfrm>
            <a:off x="685800" y="2514600"/>
            <a:ext cx="6970680" cy="4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2514600"/>
                      <a:ext cx="6970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"/>
            <p:cNvSpPr/>
            <p:nvPr/>
          </p:nvSpPr>
          <p:spPr>
            <a:xfrm>
              <a:off x="7848720" y="24382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838080" y="3276720"/>
            <a:ext cx="2840040" cy="468360"/>
            <a:chOff x="838080" y="3276720"/>
            <a:chExt cx="2840040" cy="468360"/>
          </a:xfrm>
        </p:grpSpPr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838080" y="3276720"/>
                  <a:ext cx="15368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40" name=""/>
            <p:cNvSpPr/>
            <p:nvPr/>
          </p:nvSpPr>
          <p:spPr>
            <a:xfrm>
              <a:off x="2592360" y="327672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838080" y="3962520"/>
            <a:ext cx="2838240" cy="493560"/>
            <a:chOff x="838080" y="3962520"/>
            <a:chExt cx="2838240" cy="493560"/>
          </a:xfrm>
        </p:grpSpPr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838080" y="3988080"/>
                  <a:ext cx="14713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δ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43" name=""/>
            <p:cNvSpPr/>
            <p:nvPr/>
          </p:nvSpPr>
          <p:spPr>
            <a:xfrm>
              <a:off x="2606400" y="3962520"/>
              <a:ext cx="10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838080" y="4648320"/>
            <a:ext cx="4899240" cy="468360"/>
            <a:chOff x="838080" y="4648320"/>
            <a:chExt cx="4899240" cy="468360"/>
          </a:xfrm>
        </p:grpSpPr>
        <p:sp>
          <p:nvSpPr>
            <p:cNvPr id="1145" name=""/>
            <p:cNvSpPr/>
            <p:nvPr/>
          </p:nvSpPr>
          <p:spPr>
            <a:xfrm>
              <a:off x="838080" y="4700880"/>
              <a:ext cx="4899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能否用   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6" name=""/>
                <p:cNvSpPr txBox="1"/>
                <p:nvPr/>
              </p:nvSpPr>
              <p:spPr>
                <a:xfrm>
                  <a:off x="1920960" y="4648320"/>
                  <a:ext cx="1533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1905120" y="5257800"/>
                <a:ext cx="1508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8" name=""/>
          <p:cNvSpPr/>
          <p:nvPr/>
        </p:nvSpPr>
        <p:spPr>
          <a:xfrm>
            <a:off x="952200" y="5877000"/>
            <a:ext cx="1483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补充方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3" name=""/>
          <p:cNvGraphicFramePr/>
          <p:nvPr/>
        </p:nvGraphicFramePr>
        <p:xfrm>
          <a:off x="5105520" y="3348000"/>
          <a:ext cx="4038480" cy="308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348000"/>
                    <a:ext cx="40384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4572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前、后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533520" y="914400"/>
            <a:ext cx="5410080" cy="544680"/>
            <a:chOff x="533520" y="914400"/>
            <a:chExt cx="5410080" cy="544680"/>
          </a:xfrm>
        </p:grpSpPr>
        <mc:AlternateContent>
          <mc:Choice xmlns:a14="http://schemas.microsoft.com/office/drawing/2010/main" Requires="a14">
            <p:sp>
              <p:nvSpPr>
                <p:cNvPr id="1157" name=""/>
                <p:cNvSpPr txBox="1"/>
                <p:nvPr/>
              </p:nvSpPr>
              <p:spPr>
                <a:xfrm>
                  <a:off x="533520" y="990720"/>
                  <a:ext cx="12747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2514600" y="990720"/>
                  <a:ext cx="18972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9" name=""/>
            <p:cNvSpPr/>
            <p:nvPr/>
          </p:nvSpPr>
          <p:spPr>
            <a:xfrm>
              <a:off x="4952880" y="9144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33520" y="1600200"/>
            <a:ext cx="5562360" cy="468360"/>
            <a:chOff x="533520" y="1600200"/>
            <a:chExt cx="5562360" cy="468360"/>
          </a:xfrm>
        </p:grpSpPr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533520" y="1600200"/>
                  <a:ext cx="12985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M</m:t>
                          </m:r>
                        </m:e>
                        <m:sub>
                          <m:r>
                            <m:t xml:space="preserve">O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2" name=""/>
                <p:cNvSpPr txBox="1"/>
                <p:nvPr/>
              </p:nvSpPr>
              <p:spPr>
                <a:xfrm>
                  <a:off x="2514600" y="1600200"/>
                  <a:ext cx="19000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3" name=""/>
            <p:cNvSpPr/>
            <p:nvPr/>
          </p:nvSpPr>
          <p:spPr>
            <a:xfrm>
              <a:off x="4952880" y="1600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380880" y="2133720"/>
            <a:ext cx="6123240" cy="863640"/>
            <a:chOff x="380880" y="2133720"/>
            <a:chExt cx="6123240" cy="863640"/>
          </a:xfrm>
        </p:grpSpPr>
        <p:sp>
          <p:nvSpPr>
            <p:cNvPr id="1165" name=""/>
            <p:cNvSpPr/>
            <p:nvPr/>
          </p:nvSpPr>
          <p:spPr>
            <a:xfrm>
              <a:off x="380880" y="23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七个方程联立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132000" y="2133720"/>
                  <a:ext cx="33721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380880" y="2900520"/>
            <a:ext cx="5927760" cy="528480"/>
            <a:chOff x="380880" y="2900520"/>
            <a:chExt cx="5927760" cy="528480"/>
          </a:xfrm>
        </p:grpSpPr>
        <p:sp>
          <p:nvSpPr>
            <p:cNvPr id="1168" name=""/>
            <p:cNvSpPr/>
            <p:nvPr/>
          </p:nvSpPr>
          <p:spPr>
            <a:xfrm>
              <a:off x="4427640" y="2900520"/>
              <a:ext cx="18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意味什么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0880" y="296064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若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914400" y="2960640"/>
                  <a:ext cx="11127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"/>
            <p:cNvSpPr/>
            <p:nvPr/>
          </p:nvSpPr>
          <p:spPr>
            <a:xfrm>
              <a:off x="2362320" y="296064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则 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2" name=""/>
                <p:cNvSpPr txBox="1"/>
                <p:nvPr/>
              </p:nvSpPr>
              <p:spPr>
                <a:xfrm>
                  <a:off x="2971800" y="2949480"/>
                  <a:ext cx="11872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3" name=""/>
          <p:cNvGrpSpPr/>
          <p:nvPr/>
        </p:nvGrpSpPr>
        <p:grpSpPr>
          <a:xfrm>
            <a:off x="380880" y="3355920"/>
            <a:ext cx="6286680" cy="865080"/>
            <a:chOff x="380880" y="3355920"/>
            <a:chExt cx="6286680" cy="865080"/>
          </a:xfrm>
        </p:grpSpPr>
        <p:sp>
          <p:nvSpPr>
            <p:cNvPr id="1174" name=""/>
            <p:cNvSpPr/>
            <p:nvPr/>
          </p:nvSpPr>
          <p:spPr>
            <a:xfrm>
              <a:off x="4427640" y="3505320"/>
              <a:ext cx="22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意味什么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0880" y="3505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若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6" name=""/>
                <p:cNvSpPr txBox="1"/>
                <p:nvPr/>
              </p:nvSpPr>
              <p:spPr>
                <a:xfrm>
                  <a:off x="914400" y="3505320"/>
                  <a:ext cx="9349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77" name=""/>
            <p:cNvSpPr/>
            <p:nvPr/>
          </p:nvSpPr>
          <p:spPr>
            <a:xfrm>
              <a:off x="2362320" y="3548160"/>
              <a:ext cx="27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则  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2895480" y="3355920"/>
                  <a:ext cx="153360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9" name=""/>
          <p:cNvGrpSpPr/>
          <p:nvPr/>
        </p:nvGrpSpPr>
        <p:grpSpPr>
          <a:xfrm>
            <a:off x="395280" y="4292640"/>
            <a:ext cx="7705800" cy="468360"/>
            <a:chOff x="395280" y="4292640"/>
            <a:chExt cx="7705800" cy="468360"/>
          </a:xfrm>
        </p:grpSpPr>
        <p:sp>
          <p:nvSpPr>
            <p:cNvPr id="1180" name=""/>
            <p:cNvSpPr/>
            <p:nvPr/>
          </p:nvSpPr>
          <p:spPr>
            <a:xfrm>
              <a:off x="3995640" y="4292640"/>
              <a:ext cx="41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车轮半径      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395280" y="4292640"/>
              <a:ext cx="6696000" cy="468360"/>
              <a:chOff x="395280" y="4292640"/>
              <a:chExt cx="6696000" cy="468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395280" y="4292640"/>
                <a:ext cx="388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若拖车总重量          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2376360" y="4309920"/>
                    <a:ext cx="150840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4" name=""/>
                  <p:cNvSpPr txBox="1"/>
                  <p:nvPr/>
                </p:nvSpPr>
                <p:spPr>
                  <a:xfrm>
                    <a:off x="5364000" y="4365720"/>
                    <a:ext cx="1727280" cy="3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0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85" name=""/>
          <p:cNvGrpSpPr/>
          <p:nvPr/>
        </p:nvGrpSpPr>
        <p:grpSpPr>
          <a:xfrm>
            <a:off x="380880" y="4952880"/>
            <a:ext cx="5446800" cy="471600"/>
            <a:chOff x="380880" y="4952880"/>
            <a:chExt cx="5446800" cy="471600"/>
          </a:xfrm>
        </p:grpSpPr>
        <p:sp>
          <p:nvSpPr>
            <p:cNvPr id="1186" name=""/>
            <p:cNvSpPr/>
            <p:nvPr/>
          </p:nvSpPr>
          <p:spPr>
            <a:xfrm>
              <a:off x="380880" y="495288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在水平路上行驶（     ）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7" name=""/>
                <p:cNvSpPr txBox="1"/>
                <p:nvPr/>
              </p:nvSpPr>
              <p:spPr>
                <a:xfrm>
                  <a:off x="4211640" y="5029200"/>
                  <a:ext cx="16160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8" name=""/>
                <p:cNvSpPr txBox="1"/>
                <p:nvPr/>
              </p:nvSpPr>
              <p:spPr>
                <a:xfrm>
                  <a:off x="2916360" y="5029200"/>
                  <a:ext cx="7952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9" name=""/>
          <p:cNvGrpSpPr/>
          <p:nvPr/>
        </p:nvGrpSpPr>
        <p:grpSpPr>
          <a:xfrm>
            <a:off x="533520" y="5516640"/>
            <a:ext cx="7710480" cy="863640"/>
            <a:chOff x="533520" y="5516640"/>
            <a:chExt cx="7710480" cy="863640"/>
          </a:xfrm>
        </p:grpSpPr>
        <mc:AlternateContent>
          <mc:Choice xmlns:a14="http://schemas.microsoft.com/office/drawing/2010/main" Requires="a14">
            <p:sp>
              <p:nvSpPr>
                <p:cNvPr id="1190" name=""/>
                <p:cNvSpPr txBox="1"/>
                <p:nvPr/>
              </p:nvSpPr>
              <p:spPr>
                <a:xfrm>
                  <a:off x="533520" y="5516640"/>
                  <a:ext cx="409896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1" name=""/>
            <p:cNvSpPr/>
            <p:nvPr/>
          </p:nvSpPr>
          <p:spPr>
            <a:xfrm>
              <a:off x="4662360" y="570852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牵引力为总重的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％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934320" y="228600"/>
            <a:ext cx="1828800" cy="4038480"/>
            <a:chOff x="6934320" y="228600"/>
            <a:chExt cx="1828800" cy="4038480"/>
          </a:xfrm>
        </p:grpSpPr>
        <p:pic>
          <p:nvPicPr>
            <p:cNvPr id="1193" name="" descr=""/>
            <p:cNvPicPr/>
            <p:nvPr/>
          </p:nvPicPr>
          <p:blipFill>
            <a:blip r:embed="rId2"/>
            <a:srcRect l="0" t="0" r="52008" b="16001"/>
            <a:stretch/>
          </p:blipFill>
          <p:spPr>
            <a:xfrm>
              <a:off x="6934320" y="228600"/>
              <a:ext cx="18288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3"/>
            <a:srcRect l="52008" t="12996" r="0" b="12004"/>
            <a:stretch/>
          </p:blipFill>
          <p:spPr>
            <a:xfrm>
              <a:off x="6934320" y="2362320"/>
              <a:ext cx="182880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0280" y="48744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锁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3809880" cy="41907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9520" y="33480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定摩擦系数的一种简易方法，斜面与螺纹自锁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38080" y="3886200"/>
                <a:ext cx="27241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3560" y="914400"/>
            <a:ext cx="4002120" cy="26290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23600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14400"/>
          <a:ext cx="396252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39625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211640" y="306864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5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952880" y="914400"/>
          <a:ext cx="3429000" cy="25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914400"/>
                    <a:ext cx="34290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952880" y="3581280"/>
          <a:ext cx="3505320" cy="235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3581280"/>
                    <a:ext cx="350532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1184040" y="2637000"/>
            <a:ext cx="2949840" cy="569880"/>
            <a:chOff x="1184040" y="2637000"/>
            <a:chExt cx="2949840" cy="569880"/>
          </a:xfrm>
        </p:grpSpPr>
        <p:sp>
          <p:nvSpPr>
            <p:cNvPr id="158" name=""/>
            <p:cNvSpPr/>
            <p:nvPr/>
          </p:nvSpPr>
          <p:spPr>
            <a:xfrm>
              <a:off x="1184040" y="2637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斜面自锁条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14720" y="2637000"/>
                  <a:ext cx="101916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1:47:44Z</dcterms:created>
  <dc:creator>hitfs</dc:creator>
  <dc:description/>
  <dc:language>en-US</dc:language>
  <cp:lastModifiedBy>zl</cp:lastModifiedBy>
  <dcterms:modified xsi:type="dcterms:W3CDTF">2006-09-27T06:32:47Z</dcterms:modified>
  <cp:revision>506</cp:revision>
  <dc:subject/>
  <dc:title>PowerPoint 演示文稿</dc:title>
</cp:coreProperties>
</file>