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94.wmf" ContentType="image/x-wmf"/>
  <Override PartName="/ppt/media/image125.wmf" ContentType="image/x-wmf"/>
  <Override PartName="/ppt/media/image58.jpeg" ContentType="image/jpeg"/>
  <Override PartName="/ppt/media/image193.wmf" ContentType="image/x-wmf"/>
  <Override PartName="/ppt/media/image119.png" ContentType="image/png"/>
  <Override PartName="/ppt/media/image36.jpeg" ContentType="image/jpeg"/>
  <Override PartName="/ppt/media/image206.jpeg" ContentType="image/jpeg"/>
  <Override PartName="/ppt/media/image117.wmf" ContentType="image/x-wmf"/>
  <Override PartName="/ppt/media/image185.wmf" ContentType="image/x-wmf"/>
  <Override PartName="/ppt/media/image116.wmf" ContentType="image/x-wmf"/>
  <Override PartName="/ppt/media/image184.wmf" ContentType="image/x-wmf"/>
  <Override PartName="/ppt/media/image115.jpeg" ContentType="image/jpeg"/>
  <Override PartName="/ppt/media/image134.wmf" ContentType="image/x-wmf"/>
  <Override PartName="/ppt/media/image114.jpeg" ContentType="image/jpeg"/>
  <Override PartName="/ppt/media/image192.wmf" ContentType="image/x-wmf"/>
  <Override PartName="/ppt/media/image113.jpeg" ContentType="image/jpeg"/>
  <Override PartName="/ppt/media/image111.wmf" ContentType="image/x-wmf"/>
  <Override PartName="/ppt/media/image132.jpeg" ContentType="image/jpeg"/>
  <Override PartName="/ppt/media/image110.wmf" ContentType="image/x-wmf"/>
  <Override PartName="/ppt/media/image109.png" ContentType="image/png"/>
  <Override PartName="/ppt/media/image35.jpeg" ContentType="image/jpeg"/>
  <Override PartName="/ppt/media/image205.jpeg" ContentType="image/jpeg"/>
  <Override PartName="/ppt/media/image108.jpeg" ContentType="image/jpeg"/>
  <Override PartName="/ppt/media/image57.wmf" ContentType="image/x-wmf"/>
  <Override PartName="/ppt/media/image181.jpeg" ContentType="image/jpeg"/>
  <Override PartName="/ppt/media/image106.wmf" ContentType="image/x-wmf"/>
  <Override PartName="/ppt/media/image104.wmf" ContentType="image/x-wmf"/>
  <Override PartName="/ppt/media/image172.wmf" ContentType="image/x-wmf"/>
  <Override PartName="/ppt/media/image100.wmf" ContentType="image/x-wmf"/>
  <Override PartName="/ppt/media/image157.jpeg" ContentType="image/jpeg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23.jpeg" ContentType="image/jpeg"/>
  <Override PartName="/ppt/media/image96.wmf" ContentType="image/x-wmf"/>
  <Override PartName="/ppt/media/image28.wmf" ContentType="image/x-wmf"/>
  <Override PartName="/ppt/media/image49.jpeg" ContentType="image/jpeg"/>
  <Override PartName="/ppt/media/image219.jpeg" ContentType="image/jpeg"/>
  <Override PartName="/ppt/media/image124.png" ContentType="image/png"/>
  <Override PartName="/ppt/media/image95.wmf" ContentType="image/x-wmf"/>
  <Override PartName="/ppt/media/image27.wmf" ContentType="image/x-wmf"/>
  <Override PartName="/ppt/media/image91.jpeg" ContentType="image/jpeg"/>
  <Override PartName="/ppt/media/image87.wmf" ContentType="image/x-wmf"/>
  <Override PartName="/ppt/media/image19.wmf" ContentType="image/x-wmf"/>
  <Override PartName="/ppt/media/image86.wmf" ContentType="image/x-wmf"/>
  <Override PartName="/ppt/media/image18.wmf" ContentType="image/x-wmf"/>
  <Override PartName="/ppt/media/image85.jpeg" ContentType="image/jpeg"/>
  <Override PartName="/ppt/media/image70.wmf" ContentType="image/x-wmf"/>
  <Override PartName="/ppt/media/image223.png" ContentType="image/png"/>
  <Override PartName="/ppt/media/image84.jpeg" ContentType="image/jpeg"/>
  <Override PartName="/ppt/media/image79.wmf" ContentType="image/x-wmf"/>
  <Override PartName="/ppt/media/image77.wmf" ContentType="image/x-wmf"/>
  <Override PartName="/ppt/media/image76.wmf" ContentType="image/x-wmf"/>
  <Override PartName="/ppt/media/image47.jpeg" ContentType="image/jpeg"/>
  <Override PartName="/ppt/media/image75.wmf" ContentType="image/x-wmf"/>
  <Override PartName="/ppt/media/image103.jpeg" ContentType="image/jpeg"/>
  <Override PartName="/ppt/media/image74.wmf" ContentType="image/x-wmf"/>
  <Override PartName="/ppt/media/image40.jpeg" ContentType="image/jpeg"/>
  <Override PartName="/ppt/media/image210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130.wmf" ContentType="image/x-wmf"/>
  <Override PartName="/ppt/media/image69.jpeg" ContentType="image/jpeg"/>
  <Override PartName="/ppt/media/image68.jpeg" ContentType="image/jpeg"/>
  <Override PartName="/ppt/media/image93.wmf" ContentType="image/x-wmf"/>
  <Override PartName="/ppt/media/image25.wmf" ContentType="image/x-wmf"/>
  <Override PartName="/ppt/media/image65.jpeg" ContentType="image/jpeg"/>
  <Override PartName="/ppt/media/image64.jpeg" ContentType="image/jpeg"/>
  <Override PartName="/ppt/media/image53.wmf" ContentType="image/x-wmf"/>
  <Override PartName="/ppt/media/image121.png" ContentType="image/png"/>
  <Override PartName="/ppt/media/image107.jpeg" ContentType="image/jpeg"/>
  <Override PartName="/ppt/media/image92.wmf" ContentType="image/x-wmf"/>
  <Override PartName="/ppt/media/image22.wmf" ContentType="image/x-wmf"/>
  <Override PartName="/ppt/media/image90.wmf" ContentType="image/x-wmf"/>
  <Override PartName="/ppt/media/image78.wmf" ContentType="image/x-wmf"/>
  <Override PartName="/ppt/media/image60.jpeg" ContentType="image/jpeg"/>
  <Override PartName="/ppt/media/image81.wmf" ContentType="image/x-wmf"/>
  <Override PartName="/ppt/media/image13.wmf" ContentType="image/x-wmf"/>
  <Override PartName="/ppt/media/image234.png" ContentType="image/png"/>
  <Override PartName="/ppt/media/image21.wmf" ContentType="image/x-wmf"/>
  <Override PartName="/ppt/media/image66.jpeg" ContentType="image/jpeg"/>
  <Override PartName="/ppt/media/image16.wmf" ContentType="image/x-wmf"/>
  <Override PartName="/ppt/media/image89.wmf" ContentType="image/x-wmf"/>
  <Override PartName="/ppt/media/image1.jpeg" ContentType="image/jpeg"/>
  <Override PartName="/ppt/media/image83.jpeg" ContentType="image/jpeg"/>
  <Override PartName="/ppt/media/image24.jpeg" ContentType="image/jpeg"/>
  <Override PartName="/ppt/media/image39.wmf" ContentType="image/x-wmf"/>
  <Override PartName="/ppt/media/image186.jpeg" ContentType="image/jpeg"/>
  <Override PartName="/ppt/media/image52.wmf" ContentType="image/x-wmf"/>
  <Override PartName="/ppt/media/image14.wmf" ContentType="image/x-wmf"/>
  <Override PartName="/ppt/media/image82.wmf" ContentType="image/x-wmf"/>
  <Override PartName="/ppt/media/image235.png" ContentType="image/png"/>
  <Override PartName="/ppt/media/image2.wmf" ContentType="image/x-wmf"/>
  <Override PartName="/ppt/media/image190.jpeg" ContentType="image/jpeg"/>
  <Override PartName="/ppt/media/image118.jpeg" ContentType="image/jpeg"/>
  <Override PartName="/ppt/media/image191.jpeg" ContentType="image/jpeg"/>
  <Override PartName="/ppt/media/image101.jpeg" ContentType="image/jpeg"/>
  <Override PartName="/ppt/media/image32.wmf" ContentType="image/x-wmf"/>
  <Override PartName="/ppt/media/image120.png" ContentType="image/png"/>
  <Override PartName="/ppt/media/image165.jpeg" ContentType="image/jpeg"/>
  <Override PartName="/ppt/media/image67.jpeg" ContentType="image/jpeg"/>
  <Override PartName="/ppt/media/image15.wmf" ContentType="image/x-wmf"/>
  <Override PartName="/ppt/media/image236.png" ContentType="image/png"/>
  <Override PartName="/ppt/media/image237.jpeg" ContentType="image/jpeg"/>
  <Override PartName="/ppt/media/image26.wmf" ContentType="image/x-wmf"/>
  <Override PartName="/ppt/media/image94.wmf" ContentType="image/x-wmf"/>
  <Override PartName="/ppt/media/image80.wmf" ContentType="image/x-wmf"/>
  <Override PartName="/ppt/media/image12.wmf" ContentType="image/x-wmf"/>
  <Override PartName="/ppt/media/image46.jpeg" ContentType="image/jpeg"/>
  <Override PartName="/ppt/media/image3.wmf" ContentType="image/x-wmf"/>
  <Override PartName="/ppt/media/image122.png" ContentType="image/png"/>
  <Override PartName="/ppt/media/image88.wmf" ContentType="image/x-wmf"/>
  <Override PartName="/ppt/media/image20.png" ContentType="image/png"/>
  <Override PartName="/ppt/media/image37.jpeg" ContentType="image/jpeg"/>
  <Override PartName="/ppt/media/image153.jpeg" ContentType="image/jpeg"/>
  <Override PartName="/ppt/media/image154.jpeg" ContentType="image/jpeg"/>
  <Override PartName="/ppt/media/image156.jpeg" ContentType="image/jpeg"/>
  <Override PartName="/ppt/media/image183.wmf" ContentType="image/x-wmf"/>
  <Override PartName="/ppt/media/image163.jpeg" ContentType="image/jpeg"/>
  <Override PartName="/ppt/media/image166.wmf" ContentType="image/x-wmf"/>
  <Override PartName="/ppt/media/image168.wmf" ContentType="image/x-wmf"/>
  <Override PartName="/ppt/media/image169.wmf" ContentType="image/x-wmf"/>
  <Override PartName="/ppt/media/image179.jpeg" ContentType="image/jpeg"/>
  <Override PartName="/ppt/media/image123.png" ContentType="image/png"/>
  <Override PartName="/ppt/media/image170.wmf" ContentType="image/x-wmf"/>
  <Override PartName="/ppt/media/image105.wmf" ContentType="image/x-wmf"/>
  <Override PartName="/ppt/media/image173.jpeg" ContentType="image/jpeg"/>
  <Override PartName="/ppt/media/image167.wmf" ContentType="image/x-wmf"/>
  <Override PartName="/ppt/media/image182.jpeg" ContentType="image/jpeg"/>
  <Override PartName="/ppt/media/image187.wmf" ContentType="image/x-wmf"/>
  <Override PartName="/ppt/media/image160.jpeg" ContentType="image/jpeg"/>
  <Override PartName="/ppt/media/image188.wmf" ContentType="image/x-wmf"/>
  <Override PartName="/ppt/media/image225.png" ContentType="image/png"/>
  <Override PartName="/ppt/media/image152.wmf" ContentType="image/x-wmf"/>
  <Override PartName="/ppt/media/image54.jpeg" ContentType="image/jpeg"/>
  <Override PartName="/ppt/media/image189.wmf" ContentType="image/x-wmf"/>
  <Override PartName="/ppt/media/image212.png" ContentType="image/png"/>
  <Override PartName="/ppt/media/image228.wmf" ContentType="image/x-wmf"/>
  <Override PartName="/ppt/media/image230.wmf" ContentType="image/x-wmf"/>
  <Override PartName="/ppt/media/image233.wmf" ContentType="image/x-wmf"/>
  <Override PartName="/ppt/media/image161.jpeg" ContentType="image/jpeg"/>
  <Override PartName="/ppt/media/image226.wmf" ContentType="image/x-wmf"/>
  <Override PartName="/ppt/media/image240.wmf" ContentType="image/x-wmf"/>
  <Override PartName="/ppt/media/image241.wmf" ContentType="image/x-wmf"/>
  <Override PartName="/ppt/media/image176.wmf" ContentType="image/x-wmf"/>
  <Override PartName="/ppt/media/image229.wmf" ContentType="image/x-wmf"/>
  <Override PartName="/ppt/media/image242.wmf" ContentType="image/x-wmf"/>
  <Override PartName="/ppt/media/image243.wmf" ContentType="image/x-wmf"/>
  <Override PartName="/ppt/media/image162.jpeg" ContentType="image/jpeg"/>
  <Override PartName="/ppt/media/image164.jpeg" ContentType="image/jpeg"/>
  <Override PartName="/ppt/media/image244.wmf" ContentType="image/x-wmf"/>
  <Override PartName="/ppt/media/image155.jpeg" ContentType="image/jpeg"/>
  <Override PartName="/ppt/media/image11.wmf" ContentType="image/x-wmf"/>
  <Override PartName="/ppt/media/image207.wmf" ContentType="image/x-wmf"/>
  <Override PartName="/ppt/media/image171.wmf" ContentType="image/x-wmf"/>
  <Override PartName="/ppt/media/image224.wmf" ContentType="image/x-wmf"/>
  <Override PartName="/ppt/media/image174.jpeg" ContentType="image/jpeg"/>
  <Override PartName="/ppt/media/image222.wmf" ContentType="image/x-wmf"/>
  <Override PartName="/ppt/media/image140.jpeg" ContentType="image/jpeg"/>
  <Override PartName="/ppt/media/image221.wmf" ContentType="image/x-wmf"/>
  <Override PartName="/ppt/media/image232.wmf" ContentType="image/x-wmf"/>
  <Override PartName="/ppt/media/image208.jpeg" ContentType="image/jpeg"/>
  <Override PartName="/ppt/media/image218.wmf" ContentType="image/x-wmf"/>
  <Override PartName="/ppt/media/image216.wmf" ContentType="image/x-wmf"/>
  <Override PartName="/ppt/media/image199.wmf" ContentType="image/x-wmf"/>
  <Override PartName="/ppt/media/image215.wmf" ContentType="image/x-wmf"/>
  <Override PartName="/ppt/media/image198.wmf" ContentType="image/x-wmf"/>
  <Override PartName="/ppt/media/image214.wmf" ContentType="image/x-wmf"/>
  <Override PartName="/ppt/media/image220.png" ContentType="image/png"/>
  <Override PartName="/ppt/media/image175.jpeg" ContentType="image/jpeg"/>
  <Override PartName="/ppt/media/image197.wmf" ContentType="image/x-wmf"/>
  <Override PartName="/ppt/media/image213.wmf" ContentType="image/x-wmf"/>
  <Override PartName="/ppt/media/image211.wmf" ContentType="image/x-wmf"/>
  <Override PartName="/ppt/media/image239.wmf" ContentType="image/x-wmf"/>
  <Override PartName="/ppt/media/image202.wmf" ContentType="image/x-wmf"/>
  <Override PartName="/ppt/media/image238.wmf" ContentType="image/x-wmf"/>
  <Override PartName="/ppt/media/image133.wmf" ContentType="image/x-wmf"/>
  <Override PartName="/ppt/media/image201.wmf" ContentType="image/x-wmf"/>
  <Override PartName="/ppt/media/image45.wmf" ContentType="image/x-wmf"/>
  <Override PartName="/ppt/media/image200.wmf" ContentType="image/x-wmf"/>
  <Override PartName="/ppt/media/image44.wmf" ContentType="image/x-wmf"/>
  <Override PartName="/ppt/media/image151.wmf" ContentType="image/x-wmf"/>
  <Override PartName="/ppt/media/image150.png" ContentType="image/png"/>
  <Override PartName="/ppt/media/image56.wmf" ContentType="image/x-wmf"/>
  <Override PartName="/ppt/media/image149.png" ContentType="image/png"/>
  <Override PartName="/ppt/media/image209.jpeg" ContentType="image/jpeg"/>
  <Override PartName="/ppt/media/image38.wmf" ContentType="image/x-wmf"/>
  <Override PartName="/ppt/media/image148.wmf" ContentType="image/x-wmf"/>
  <Override PartName="/ppt/media/image51.wmf" ContentType="image/x-wmf"/>
  <Override PartName="/ppt/media/image147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43.wmf" ContentType="image/x-wmf"/>
  <Override PartName="/ppt/media/image142.wmf" ContentType="image/x-wmf"/>
  <Override PartName="/ppt/media/image141.wmf" ContentType="image/x-wmf"/>
  <Override PartName="/ppt/media/image129.jpeg" ContentType="image/jpeg"/>
  <Override PartName="/ppt/media/image138.wmf" ContentType="image/x-wmf"/>
  <Override PartName="/ppt/media/image41.wmf" ContentType="image/x-wmf"/>
  <Override PartName="/ppt/media/image62.jpeg" ContentType="image/jpeg"/>
  <Override PartName="/ppt/media/image137.wmf" ContentType="image/x-wmf"/>
  <Override PartName="/ppt/media/image136.wmf" ContentType="image/x-wmf"/>
  <Override PartName="/ppt/media/image131.wmf" ContentType="image/x-wmf"/>
  <Override PartName="/ppt/media/image196.wmf" ContentType="image/x-wmf"/>
  <Override PartName="/ppt/media/image128.wmf" ContentType="image/x-wmf"/>
  <Override PartName="/ppt/media/image31.wmf" ContentType="image/x-wmf"/>
  <Override PartName="/ppt/media/image231.jpeg" ContentType="image/jpeg"/>
  <Override PartName="/ppt/media/image61.jpeg" ContentType="image/jpeg"/>
  <Override PartName="/ppt/media/image59.jpeg" ContentType="image/jpeg"/>
  <Override PartName="/ppt/media/image135.wmf" ContentType="image/x-wmf"/>
  <Override PartName="/ppt/media/image55.jpeg" ContentType="image/jpeg"/>
  <Override PartName="/ppt/media/image42.wmf" ContentType="image/x-wmf"/>
  <Override PartName="/ppt/media/image102.jpeg" ContentType="image/jpeg"/>
  <Override PartName="/ppt/media/image34.jpeg" ContentType="image/jpeg"/>
  <Override PartName="/ppt/media/image227.wmf" ContentType="image/x-wmf"/>
  <Override PartName="/ppt/media/image204.jpeg" ContentType="image/jpeg"/>
  <Override PartName="/ppt/media/image139.jpeg" ContentType="image/jpeg"/>
  <Override PartName="/ppt/media/image50.jpeg" ContentType="image/jpeg"/>
  <Override PartName="/ppt/media/image63.jpeg" ContentType="image/jpeg"/>
  <Override PartName="/ppt/media/image43.wmf" ContentType="image/x-wmf"/>
  <Override PartName="/ppt/media/image217.wmf" ContentType="image/x-wmf"/>
  <Override PartName="/ppt/media/image203.jpeg" ContentType="image/jpeg"/>
  <Override PartName="/ppt/media/image33.jpeg" ContentType="image/jpeg"/>
  <Override PartName="/ppt/media/image48.wmf" ContentType="image/x-wmf"/>
  <Override PartName="/ppt/media/image177.wmf" ContentType="image/x-wmf"/>
  <Override PartName="/ppt/media/image9.jpeg" ContentType="image/jpeg"/>
  <Override PartName="/ppt/media/image112.wmf" ContentType="image/x-wmf"/>
  <Override PartName="/ppt/media/image180.wmf" ContentType="image/x-wmf"/>
  <Override PartName="/ppt/media/image178.jpeg" ContentType="image/jpeg"/>
  <Override PartName="/ppt/media/image7.wmf" ContentType="image/x-wmf"/>
  <Override PartName="/ppt/media/image159.wmf" ContentType="image/x-wmf"/>
  <Override PartName="/ppt/media/image158.wmf" ContentType="image/x-wmf"/>
  <Override PartName="/ppt/media/image6.wmf" ContentType="image/x-wmf"/>
  <Override PartName="/ppt/media/image10.wmf" ContentType="image/x-wmf"/>
  <Override PartName="/ppt/media/image8.wmf" ContentType="image/x-wmf"/>
  <Override PartName="/ppt/media/image30.wmf" ContentType="image/x-wmf"/>
  <Override PartName="/ppt/media/image4.jpeg" ContentType="image/jpeg"/>
  <Override PartName="/ppt/media/image127.wmf" ContentType="image/x-wmf"/>
  <Override PartName="/ppt/media/image195.wmf" ContentType="image/x-wmf"/>
  <Override PartName="/ppt/media/image5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4B25-17B8-419C-A5F8-C08E83C1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C05-17BA-44A7-B5E0-2A46D131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650-8E74-4043-92A1-67111776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7FC5-2899-4954-9813-23F5A179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C53E-5DA5-41FB-8C17-4D3FFE5B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4F01-C4BB-4108-99BB-B07F231C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4EAF-2F7F-4DAF-B655-9DD87733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F5C-9662-4A39-86DF-97211D50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A03-DBBE-460A-B90C-D5528C7D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ED8-B2A0-4E11-9B56-A3DB89AF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250-0C14-4EA5-ABDE-982ADAF7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61E-7DDC-4284-B4C9-66CF4318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A103-6E07-4DC0-92F8-64D6D61BEB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image" Target="../media/image54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7.wmf"/><Relationship Id="rId7" Type="http://schemas.openxmlformats.org/officeDocument/2006/relationships/image" Target="../media/image58.jpeg"/><Relationship Id="rId8" Type="http://schemas.openxmlformats.org/officeDocument/2006/relationships/image" Target="../media/image59.jpeg"/><Relationship Id="rId9" Type="http://schemas.openxmlformats.org/officeDocument/2006/relationships/image" Target="../media/image60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0.wmf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7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5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2.wmf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6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7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0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6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97.wmf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0.wmf"/><Relationship Id="rId8" Type="http://schemas.openxmlformats.org/officeDocument/2006/relationships/image" Target="../media/image101.jpeg"/><Relationship Id="rId9" Type="http://schemas.openxmlformats.org/officeDocument/2006/relationships/image" Target="../media/image102.jpeg"/><Relationship Id="rId10" Type="http://schemas.openxmlformats.org/officeDocument/2006/relationships/image" Target="../media/image103.jpe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04.wmf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6.wmf"/><Relationship Id="rId6" Type="http://schemas.openxmlformats.org/officeDocument/2006/relationships/image" Target="../media/image107.jpeg"/><Relationship Id="rId7" Type="http://schemas.openxmlformats.org/officeDocument/2006/relationships/image" Target="../media/image108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2.wmf"/><Relationship Id="rId8" Type="http://schemas.openxmlformats.org/officeDocument/2006/relationships/image" Target="../media/image113.jpeg"/><Relationship Id="rId9" Type="http://schemas.openxmlformats.org/officeDocument/2006/relationships/image" Target="../media/image114.jpeg"/><Relationship Id="rId10" Type="http://schemas.openxmlformats.org/officeDocument/2006/relationships/image" Target="../media/image115.jpeg"/><Relationship Id="rId1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8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7.wmf"/><Relationship Id="rId4" Type="http://schemas.openxmlformats.org/officeDocument/2006/relationships/image" Target="../media/image118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8.wmf"/><Relationship Id="rId10" Type="http://schemas.openxmlformats.org/officeDocument/2006/relationships/image" Target="../media/image129.jpeg"/><Relationship Id="rId1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8.wmf"/><Relationship Id="rId12" Type="http://schemas.openxmlformats.org/officeDocument/2006/relationships/image" Target="../media/image132.jpe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3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3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35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36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37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138.wmf"/><Relationship Id="rId2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9.jpeg"/><Relationship Id="rId3" Type="http://schemas.openxmlformats.org/officeDocument/2006/relationships/image" Target="../media/image140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4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49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50.png"/><Relationship Id="rId2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2.wmf"/><Relationship Id="rId6" Type="http://schemas.openxmlformats.org/officeDocument/2006/relationships/image" Target="../media/image153.jpeg"/><Relationship Id="rId7" Type="http://schemas.openxmlformats.org/officeDocument/2006/relationships/image" Target="../media/image154.jpeg"/><Relationship Id="rId8" Type="http://schemas.openxmlformats.org/officeDocument/2006/relationships/image" Target="../media/image155.jpeg"/><Relationship Id="rId9" Type="http://schemas.openxmlformats.org/officeDocument/2006/relationships/image" Target="../media/image156.jpeg"/><Relationship Id="rId10" Type="http://schemas.openxmlformats.org/officeDocument/2006/relationships/image" Target="../media/image157.jpe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9.wmf"/><Relationship Id="rId6" Type="http://schemas.openxmlformats.org/officeDocument/2006/relationships/image" Target="../media/image160.jpeg"/><Relationship Id="rId7" Type="http://schemas.openxmlformats.org/officeDocument/2006/relationships/image" Target="../media/image161.jpeg"/><Relationship Id="rId8" Type="http://schemas.openxmlformats.org/officeDocument/2006/relationships/image" Target="../media/image162.jpeg"/><Relationship Id="rId9" Type="http://schemas.openxmlformats.org/officeDocument/2006/relationships/image" Target="../media/image163.jpeg"/><Relationship Id="rId10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4.jpeg"/><Relationship Id="rId3" Type="http://schemas.openxmlformats.org/officeDocument/2006/relationships/image" Target="../media/image16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68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7.wmf"/><Relationship Id="rId1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2.wmf"/><Relationship Id="rId10" Type="http://schemas.openxmlformats.org/officeDocument/2006/relationships/image" Target="../media/image173.jpeg"/><Relationship Id="rId11" Type="http://schemas.openxmlformats.org/officeDocument/2006/relationships/image" Target="../media/image174.jpeg"/><Relationship Id="rId12" Type="http://schemas.openxmlformats.org/officeDocument/2006/relationships/image" Target="../media/image175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76.wmf"/><Relationship Id="rId1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7.wmf"/><Relationship Id="rId4" Type="http://schemas.openxmlformats.org/officeDocument/2006/relationships/image" Target="../media/image178.jpeg"/><Relationship Id="rId5" Type="http://schemas.openxmlformats.org/officeDocument/2006/relationships/image" Target="../media/image179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80.wmf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1.jpeg"/><Relationship Id="rId3" Type="http://schemas.openxmlformats.org/officeDocument/2006/relationships/image" Target="../media/image18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8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85.wmf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9.wmf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0.jpeg"/><Relationship Id="rId3" Type="http://schemas.openxmlformats.org/officeDocument/2006/relationships/image" Target="../media/image19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9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95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6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97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98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199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200.wmf"/><Relationship Id="rId2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2.wmf"/><Relationship Id="rId6" Type="http://schemas.openxmlformats.org/officeDocument/2006/relationships/image" Target="../media/image203.jpeg"/><Relationship Id="rId7" Type="http://schemas.openxmlformats.org/officeDocument/2006/relationships/image" Target="../media/image204.jpeg"/><Relationship Id="rId8" Type="http://schemas.openxmlformats.org/officeDocument/2006/relationships/image" Target="../media/image205.jpeg"/><Relationship Id="rId9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7.wmf"/><Relationship Id="rId5" Type="http://schemas.openxmlformats.org/officeDocument/2006/relationships/image" Target="../media/image208.jpeg"/><Relationship Id="rId6" Type="http://schemas.openxmlformats.org/officeDocument/2006/relationships/image" Target="../media/image209.jpeg"/><Relationship Id="rId7" Type="http://schemas.openxmlformats.org/officeDocument/2006/relationships/image" Target="../media/image210.jpeg"/><Relationship Id="rId8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9.jpeg"/><Relationship Id="rId3" Type="http://schemas.openxmlformats.org/officeDocument/2006/relationships/image" Target="../media/image2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1.wmf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8.wmf"/><Relationship Id="rId14" Type="http://schemas.openxmlformats.org/officeDocument/2006/relationships/image" Target="../media/image219.jpe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20.png"/><Relationship Id="rId1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3.png"/><Relationship Id="rId10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5.png"/><Relationship Id="rId6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0.wmf"/><Relationship Id="rId12" Type="http://schemas.openxmlformats.org/officeDocument/2006/relationships/image" Target="../media/image231.jpe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34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235.png"/><Relationship Id="rId2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6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3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4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41.wmf"/><Relationship Id="rId1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2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1.wmf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image" Target="../media/image40.jpe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44.wmf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22050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第  四  章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空    间    力    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388360" y="6597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lastslide"/>
          </p:cNvPr>
          <p:cNvSpPr/>
          <p:nvPr/>
        </p:nvSpPr>
        <p:spPr>
          <a:xfrm>
            <a:off x="8820000" y="6597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0" y="2728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§4–3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空间力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1143000"/>
            <a:ext cx="58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力偶矩以矢量表示－－力偶矩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533520" y="2438280"/>
          <a:ext cx="259056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438280"/>
                    <a:ext cx="25905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957960" y="39099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空间力偶的三要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4648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大小：力与力偶臂的乘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5715000"/>
            <a:ext cx="50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作用面：力偶作用面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5181480"/>
            <a:ext cx="44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方向：转动方向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3403440" y="1930320"/>
            <a:ext cx="2565720" cy="2565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121440" y="1930320"/>
            <a:ext cx="2565360" cy="2565360"/>
          </a:xfrm>
          <a:prstGeom prst="rect">
            <a:avLst/>
          </a:prstGeom>
          <a:ln w="0">
            <a:noFill/>
          </a:ln>
        </p:spPr>
      </p:pic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3048120" y="4876920"/>
          <a:ext cx="2325600" cy="76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4876920"/>
                    <a:ext cx="232560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5" name=""/>
          <p:cNvGrpSpPr/>
          <p:nvPr/>
        </p:nvGrpSpPr>
        <p:grpSpPr>
          <a:xfrm>
            <a:off x="1143000" y="685800"/>
            <a:ext cx="6527880" cy="3556080"/>
            <a:chOff x="1143000" y="685800"/>
            <a:chExt cx="6527880" cy="3556080"/>
          </a:xfrm>
        </p:grpSpPr>
        <p:pic>
          <p:nvPicPr>
            <p:cNvPr id="206" name="" descr=""/>
            <p:cNvPicPr/>
            <p:nvPr/>
          </p:nvPicPr>
          <p:blipFill>
            <a:blip r:embed="rId4"/>
            <a:stretch/>
          </p:blipFill>
          <p:spPr>
            <a:xfrm>
              <a:off x="1143000" y="685800"/>
              <a:ext cx="3174840" cy="35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5"/>
            <a:stretch/>
          </p:blipFill>
          <p:spPr>
            <a:xfrm>
              <a:off x="4495680" y="685800"/>
              <a:ext cx="3175200" cy="355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941400" y="2819520"/>
          <a:ext cx="4145040" cy="109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1400" y="2819520"/>
                    <a:ext cx="414504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914400" y="5257800"/>
          <a:ext cx="4583160" cy="623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5257800"/>
                    <a:ext cx="458316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242360" y="3808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力偶的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09680" y="4191120"/>
          <a:ext cx="1135080" cy="49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4191120"/>
                    <a:ext cx="11350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0" y="16002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力偶对任意点取矩都等于力偶矩，不因矩心的改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变而改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-304920" y="9907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力偶中两力在任意坐标轴上投影的代数和为零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5791320" y="2708280"/>
            <a:ext cx="3073320" cy="3073320"/>
          </a:xfrm>
          <a:prstGeom prst="rect">
            <a:avLst/>
          </a:prstGeom>
          <a:ln w="0">
            <a:noFill/>
          </a:ln>
        </p:spPr>
      </p:pic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480060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04920" y="228600"/>
            <a:ext cx="8153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只要保持力偶矩不变，力偶可在其作用面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任意移转，且可以同时改变力偶中力的大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力偶臂的长短，对刚体的作用效果不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1704960" cy="223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1828800" y="4495680"/>
          <a:ext cx="4979880" cy="165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495680"/>
                    <a:ext cx="49798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733840" y="5568840"/>
          <a:ext cx="25236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33840" y="5568840"/>
                    <a:ext cx="25236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2200680" y="2001960"/>
            <a:ext cx="2066400" cy="2209680"/>
            <a:chOff x="2200680" y="2001960"/>
            <a:chExt cx="2066400" cy="2209680"/>
          </a:xfrm>
        </p:grpSpPr>
        <p:pic>
          <p:nvPicPr>
            <p:cNvPr id="234" name="" descr=""/>
            <p:cNvPicPr/>
            <p:nvPr/>
          </p:nvPicPr>
          <p:blipFill>
            <a:blip r:embed="rId7"/>
            <a:stretch/>
          </p:blipFill>
          <p:spPr>
            <a:xfrm>
              <a:off x="2577960" y="2001960"/>
              <a:ext cx="16891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2200680" y="279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267080" y="2001960"/>
            <a:ext cx="2133720" cy="2209680"/>
            <a:chOff x="4267080" y="2001960"/>
            <a:chExt cx="2133720" cy="2209680"/>
          </a:xfrm>
        </p:grpSpPr>
        <p:pic>
          <p:nvPicPr>
            <p:cNvPr id="237" name="" descr=""/>
            <p:cNvPicPr/>
            <p:nvPr/>
          </p:nvPicPr>
          <p:blipFill>
            <a:blip r:embed="rId8"/>
            <a:stretch/>
          </p:blipFill>
          <p:spPr>
            <a:xfrm>
              <a:off x="4711680" y="2001960"/>
              <a:ext cx="16891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267080" y="2819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477120" y="2001960"/>
            <a:ext cx="2070000" cy="2209680"/>
            <a:chOff x="6477120" y="2001960"/>
            <a:chExt cx="2070000" cy="2209680"/>
          </a:xfrm>
        </p:grpSpPr>
        <p:pic>
          <p:nvPicPr>
            <p:cNvPr id="240" name="" descr=""/>
            <p:cNvPicPr/>
            <p:nvPr/>
          </p:nvPicPr>
          <p:blipFill>
            <a:blip r:embed="rId9"/>
            <a:stretch/>
          </p:blipFill>
          <p:spPr>
            <a:xfrm>
              <a:off x="6858000" y="2001960"/>
              <a:ext cx="16891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477120" y="2819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3808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只要保持力偶矩不变，力偶可从其所在平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移至另一与此平面平行的任一平面，对刚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作用效果不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36560" y="1928880"/>
            <a:ext cx="2311560" cy="2109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09480" y="4361040"/>
                <a:ext cx="173052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57200" y="5216400"/>
                <a:ext cx="20988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250" name=""/>
          <p:cNvGrpSpPr/>
          <p:nvPr/>
        </p:nvGrpSpPr>
        <p:grpSpPr>
          <a:xfrm>
            <a:off x="3189600" y="1928880"/>
            <a:ext cx="2779560" cy="2109600"/>
            <a:chOff x="3189600" y="1928880"/>
            <a:chExt cx="2779560" cy="2109600"/>
          </a:xfrm>
        </p:grpSpPr>
        <p:pic>
          <p:nvPicPr>
            <p:cNvPr id="251" name="" descr=""/>
            <p:cNvPicPr/>
            <p:nvPr/>
          </p:nvPicPr>
          <p:blipFill>
            <a:blip r:embed="rId3"/>
            <a:stretch/>
          </p:blipFill>
          <p:spPr>
            <a:xfrm>
              <a:off x="3657600" y="1928880"/>
              <a:ext cx="2311560" cy="21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3189600" y="2670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016680" y="1928880"/>
            <a:ext cx="2822400" cy="2109600"/>
            <a:chOff x="6016680" y="1928880"/>
            <a:chExt cx="2822400" cy="2109600"/>
          </a:xfrm>
        </p:grpSpPr>
        <p:pic>
          <p:nvPicPr>
            <p:cNvPr id="254" name="" descr=""/>
            <p:cNvPicPr/>
            <p:nvPr/>
          </p:nvPicPr>
          <p:blipFill>
            <a:blip r:embed="rId4"/>
            <a:stretch/>
          </p:blipFill>
          <p:spPr>
            <a:xfrm>
              <a:off x="6527880" y="1928880"/>
              <a:ext cx="2311200" cy="21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6016680" y="2666880"/>
              <a:ext cx="3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189600" y="4290840"/>
            <a:ext cx="2754000" cy="2109960"/>
            <a:chOff x="3189600" y="4290840"/>
            <a:chExt cx="2754000" cy="2109960"/>
          </a:xfrm>
        </p:grpSpPr>
        <p:pic>
          <p:nvPicPr>
            <p:cNvPr id="257" name="" descr=""/>
            <p:cNvPicPr/>
            <p:nvPr/>
          </p:nvPicPr>
          <p:blipFill>
            <a:blip r:embed="rId5"/>
            <a:stretch/>
          </p:blipFill>
          <p:spPr>
            <a:xfrm>
              <a:off x="3632040" y="4290840"/>
              <a:ext cx="231156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3189600" y="5006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005880" y="4267080"/>
            <a:ext cx="2833200" cy="2109960"/>
            <a:chOff x="6005880" y="4267080"/>
            <a:chExt cx="2833200" cy="2109960"/>
          </a:xfrm>
        </p:grpSpPr>
        <p:pic>
          <p:nvPicPr>
            <p:cNvPr id="260" name="" descr=""/>
            <p:cNvPicPr/>
            <p:nvPr/>
          </p:nvPicPr>
          <p:blipFill>
            <a:blip r:embed="rId6"/>
            <a:stretch/>
          </p:blipFill>
          <p:spPr>
            <a:xfrm>
              <a:off x="6527880" y="4267080"/>
              <a:ext cx="231120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005880" y="4944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5486400" cy="2793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5486400" cy="27939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33520" y="228600"/>
            <a:ext cx="5486400" cy="27939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57200" y="5638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力偶没有合力，力偶只能由力偶来平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30621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位矢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4495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力偶矩相等的力偶等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38862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力偶矩矢是自由矢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38480" y="3124080"/>
            <a:ext cx="17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由矢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2320" y="31240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滑移矢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6248520" y="228600"/>
            <a:ext cx="2666880" cy="5079960"/>
          </a:xfrm>
          <a:prstGeom prst="rect">
            <a:avLst/>
          </a:prstGeom>
          <a:ln w="0">
            <a:noFill/>
          </a:ln>
        </p:spPr>
      </p:pic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09480" y="2286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力偶系的合成与平衡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676520" y="3809880"/>
          <a:ext cx="5410080" cy="5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3809880"/>
                    <a:ext cx="541008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609480" y="914400"/>
            <a:ext cx="2257560" cy="256536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2958120" y="914400"/>
            <a:ext cx="2728440" cy="2565360"/>
            <a:chOff x="2958120" y="914400"/>
            <a:chExt cx="2728440" cy="2565360"/>
          </a:xfrm>
        </p:grpSpPr>
        <p:pic>
          <p:nvPicPr>
            <p:cNvPr id="285" name="" descr=""/>
            <p:cNvPicPr/>
            <p:nvPr/>
          </p:nvPicPr>
          <p:blipFill>
            <a:blip r:embed="rId5"/>
            <a:stretch/>
          </p:blipFill>
          <p:spPr>
            <a:xfrm>
              <a:off x="3429000" y="914400"/>
              <a:ext cx="2257560" cy="25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958120" y="1846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780520" y="939960"/>
            <a:ext cx="2754000" cy="2565360"/>
            <a:chOff x="5780520" y="939960"/>
            <a:chExt cx="2754000" cy="2565360"/>
          </a:xfrm>
        </p:grpSpPr>
        <p:pic>
          <p:nvPicPr>
            <p:cNvPr id="288" name="" descr=""/>
            <p:cNvPicPr/>
            <p:nvPr/>
          </p:nvPicPr>
          <p:blipFill>
            <a:blip r:embed="rId6"/>
            <a:stretch/>
          </p:blipFill>
          <p:spPr>
            <a:xfrm>
              <a:off x="6276960" y="939960"/>
              <a:ext cx="2257560" cy="25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780520" y="18320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0" name=""/>
          <p:cNvGraphicFramePr/>
          <p:nvPr/>
        </p:nvGraphicFramePr>
        <p:xfrm>
          <a:off x="3505320" y="4572000"/>
          <a:ext cx="1676160" cy="61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572000"/>
                    <a:ext cx="167616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990720" y="5562720"/>
          <a:ext cx="380880" cy="423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5562720"/>
                    <a:ext cx="38088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1366920" y="5529240"/>
            <a:ext cx="73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合力偶矩矢，等于各分力偶矩矢的矢量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7400" y="47242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936720" y="1905120"/>
          <a:ext cx="4680000" cy="59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720" y="1905120"/>
                    <a:ext cx="46800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622160" y="11574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力偶矩矢的大小和方向余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330200" y="533520"/>
          <a:ext cx="5508720" cy="558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0200" y="533520"/>
                    <a:ext cx="55087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1623600" y="579132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空间力偶系的平衡方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981080" y="4876920"/>
          <a:ext cx="5178600" cy="6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4876920"/>
                    <a:ext cx="51786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838080" y="500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733920" y="4114800"/>
          <a:ext cx="1143000" cy="573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33920" y="4114800"/>
                    <a:ext cx="1143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533520" y="3429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空间力偶系平衡的充分必要条件是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力偶矩矢等于零，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38080" y="2514600"/>
          <a:ext cx="1882800" cy="858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38080" y="2514600"/>
                    <a:ext cx="18828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3200400" y="2514600"/>
          <a:ext cx="1913040" cy="890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200400" y="2514600"/>
                    <a:ext cx="191304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5715000" y="2514600"/>
          <a:ext cx="1835280" cy="83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15000" y="2514600"/>
                    <a:ext cx="18352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14400" y="51055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33520" y="4572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–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间任意力系向一点的简化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矢和主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9200" y="1143000"/>
            <a:ext cx="34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  空间任意力系向一点的简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2476440" cy="29718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3441600" y="2133720"/>
            <a:ext cx="2476440" cy="29718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6172200" y="2133720"/>
            <a:ext cx="247644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0" name=""/>
          <p:cNvGraphicFramePr/>
          <p:nvPr/>
        </p:nvGraphicFramePr>
        <p:xfrm>
          <a:off x="914400" y="5334120"/>
          <a:ext cx="1068480" cy="58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5334120"/>
                    <a:ext cx="106848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2362320" y="5334120"/>
          <a:ext cx="164916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5334120"/>
                    <a:ext cx="16491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2346840" y="5943600"/>
            <a:ext cx="48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空间汇交与空间力偶系等效代替一空间任意力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19720" y="54864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533520" y="1371600"/>
          <a:ext cx="49845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371600"/>
                    <a:ext cx="4984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6781680" y="2971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主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371600" y="3048120"/>
          <a:ext cx="3189240" cy="54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3048120"/>
                    <a:ext cx="318924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914400" y="4800600"/>
          <a:ext cx="6858000" cy="660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4400" y="4800600"/>
                    <a:ext cx="685800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6774840" y="1295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主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30200" y="22860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空间力偶系的合力偶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35280" y="400536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由力对点的矩与力对轴的矩的关系，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34520" y="6094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空间汇交力系的合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15238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32004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43000" y="4038480"/>
            <a:ext cx="1920960" cy="579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143000" y="5029200"/>
            <a:ext cx="1920960" cy="557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47840" y="2209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投影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79600" y="121932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力在直角坐标轴上的投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143000" y="3124080"/>
                <a:ext cx="19843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419720" y="2209680"/>
            <a:ext cx="4064040" cy="4064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§4–1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空间汇交力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2286000" y="152280"/>
            <a:ext cx="5079960" cy="331308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1219320" y="3581280"/>
            <a:ext cx="5139000" cy="609840"/>
            <a:chOff x="1219320" y="3581280"/>
            <a:chExt cx="5139000" cy="609840"/>
          </a:xfrm>
        </p:grpSpPr>
        <p:sp>
          <p:nvSpPr>
            <p:cNvPr id="359" name=""/>
            <p:cNvSpPr/>
            <p:nvPr/>
          </p:nvSpPr>
          <p:spPr>
            <a:xfrm>
              <a:off x="1965240" y="3657600"/>
              <a:ext cx="22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—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效推进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0" name=""/>
            <p:cNvGraphicFramePr/>
            <p:nvPr/>
          </p:nvGraphicFramePr>
          <p:xfrm>
            <a:off x="1219320" y="3606840"/>
            <a:ext cx="525240" cy="5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9320" y="3606840"/>
                      <a:ext cx="5252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508032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飞机向前飞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219320" y="4114800"/>
            <a:ext cx="4696200" cy="612720"/>
            <a:chOff x="1219320" y="4114800"/>
            <a:chExt cx="4696200" cy="612720"/>
          </a:xfrm>
        </p:grpSpPr>
        <p:graphicFrame>
          <p:nvGraphicFramePr>
            <p:cNvPr id="364" name=""/>
            <p:cNvGraphicFramePr/>
            <p:nvPr/>
          </p:nvGraphicFramePr>
          <p:xfrm>
            <a:off x="1219320" y="4114800"/>
            <a:ext cx="554040" cy="612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9320" y="4114800"/>
                      <a:ext cx="554040" cy="61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6" name=""/>
            <p:cNvSpPr/>
            <p:nvPr/>
          </p:nvSpPr>
          <p:spPr>
            <a:xfrm>
              <a:off x="2185560" y="4173480"/>
              <a:ext cx="129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—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效升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03280" y="4173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飞机上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219320" y="4648320"/>
            <a:ext cx="4726440" cy="582480"/>
            <a:chOff x="1219320" y="4648320"/>
            <a:chExt cx="4726440" cy="582480"/>
          </a:xfrm>
        </p:grpSpPr>
        <p:graphicFrame>
          <p:nvGraphicFramePr>
            <p:cNvPr id="369" name=""/>
            <p:cNvGraphicFramePr/>
            <p:nvPr/>
          </p:nvGraphicFramePr>
          <p:xfrm>
            <a:off x="1219320" y="4648320"/>
            <a:ext cx="525600" cy="582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7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19320" y="4648320"/>
                      <a:ext cx="525600" cy="58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1" name=""/>
            <p:cNvSpPr/>
            <p:nvPr/>
          </p:nvSpPr>
          <p:spPr>
            <a:xfrm>
              <a:off x="2115720" y="469764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—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侧向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33520" y="46976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飞机侧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19320" y="5105520"/>
            <a:ext cx="5529960" cy="536400"/>
            <a:chOff x="1219320" y="5105520"/>
            <a:chExt cx="5529960" cy="536400"/>
          </a:xfrm>
        </p:grpSpPr>
        <p:graphicFrame>
          <p:nvGraphicFramePr>
            <p:cNvPr id="374" name=""/>
            <p:cNvGraphicFramePr/>
            <p:nvPr/>
          </p:nvGraphicFramePr>
          <p:xfrm>
            <a:off x="1219320" y="5105520"/>
            <a:ext cx="615600" cy="536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7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219320" y="5105520"/>
                      <a:ext cx="61560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6" name=""/>
            <p:cNvSpPr/>
            <p:nvPr/>
          </p:nvSpPr>
          <p:spPr>
            <a:xfrm>
              <a:off x="2219760" y="5156280"/>
              <a:ext cx="129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—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滚转力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48360" y="515628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飞机绕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轴滚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143000" y="5562720"/>
            <a:ext cx="4851360" cy="544320"/>
            <a:chOff x="1143000" y="5562720"/>
            <a:chExt cx="4851360" cy="544320"/>
          </a:xfrm>
        </p:grpSpPr>
        <p:graphicFrame>
          <p:nvGraphicFramePr>
            <p:cNvPr id="379" name=""/>
            <p:cNvGraphicFramePr/>
            <p:nvPr/>
          </p:nvGraphicFramePr>
          <p:xfrm>
            <a:off x="1143000" y="5562720"/>
            <a:ext cx="622080" cy="544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143000" y="5562720"/>
                      <a:ext cx="62208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" name=""/>
            <p:cNvSpPr/>
            <p:nvPr/>
          </p:nvSpPr>
          <p:spPr>
            <a:xfrm>
              <a:off x="2149920" y="5619960"/>
              <a:ext cx="129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—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偏航力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82120" y="56199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飞机转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143000" y="6019920"/>
            <a:ext cx="4840920" cy="531720"/>
            <a:chOff x="1143000" y="6019920"/>
            <a:chExt cx="4840920" cy="531720"/>
          </a:xfrm>
        </p:grpSpPr>
        <p:graphicFrame>
          <p:nvGraphicFramePr>
            <p:cNvPr id="384" name=""/>
            <p:cNvGraphicFramePr/>
            <p:nvPr/>
          </p:nvGraphicFramePr>
          <p:xfrm>
            <a:off x="1143000" y="6019920"/>
            <a:ext cx="611280" cy="531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8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43000" y="6019920"/>
                      <a:ext cx="611280" cy="53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6" name=""/>
            <p:cNvSpPr/>
            <p:nvPr/>
          </p:nvSpPr>
          <p:spPr>
            <a:xfrm>
              <a:off x="2139480" y="6070680"/>
              <a:ext cx="129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—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俯仰力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71680" y="6070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飞机仰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52280" y="685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 合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4952880" y="1676520"/>
            <a:ext cx="4191120" cy="1044000"/>
            <a:chOff x="4952880" y="1676520"/>
            <a:chExt cx="4191120" cy="1044000"/>
          </a:xfrm>
        </p:grpSpPr>
        <p:graphicFrame>
          <p:nvGraphicFramePr>
            <p:cNvPr id="394" name=""/>
            <p:cNvGraphicFramePr/>
            <p:nvPr/>
          </p:nvGraphicFramePr>
          <p:xfrm>
            <a:off x="6172200" y="2133360"/>
            <a:ext cx="1569960" cy="58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172200" y="2133360"/>
                      <a:ext cx="156996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"/>
            <p:cNvSpPr/>
            <p:nvPr/>
          </p:nvSpPr>
          <p:spPr>
            <a:xfrm>
              <a:off x="4952880" y="1676520"/>
              <a:ext cx="419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力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力作用线距简化中心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228600" y="152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空间任意力系的简化结果分析（最后结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914400" y="1752480"/>
          <a:ext cx="320040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1752480"/>
                    <a:ext cx="3200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838080" y="1219320"/>
          <a:ext cx="2057400" cy="52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1219320"/>
                    <a:ext cx="205740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4314960" y="1143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简化中心合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8"/>
          <a:stretch/>
        </p:blipFill>
        <p:spPr>
          <a:xfrm>
            <a:off x="1589040" y="2666880"/>
            <a:ext cx="6350040" cy="22860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9"/>
          <a:stretch/>
        </p:blipFill>
        <p:spPr>
          <a:xfrm>
            <a:off x="1628640" y="2666880"/>
            <a:ext cx="6350040" cy="22860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0"/>
          <a:stretch/>
        </p:blipFill>
        <p:spPr>
          <a:xfrm>
            <a:off x="1066680" y="2666880"/>
            <a:ext cx="6350040" cy="2286000"/>
          </a:xfrm>
          <a:prstGeom prst="rect">
            <a:avLst/>
          </a:prstGeom>
          <a:ln w="0">
            <a:noFill/>
          </a:ln>
        </p:spPr>
      </p:pic>
      <p:sp>
        <p:nvSpPr>
          <p:cNvPr id="406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48120" y="137160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43400" y="19810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752480" y="5105520"/>
          <a:ext cx="4475160" cy="531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52480" y="5105520"/>
                    <a:ext cx="44751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533520" y="5638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力矩定理：合力对某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轴）之矩等于各分力对同   一点（轴）之矩的矢量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533520" y="3808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合力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05320" y="1066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个合力偶，此时与简化中心无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609480" y="990720"/>
          <a:ext cx="190512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90720"/>
                    <a:ext cx="1905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873720" y="167652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力螺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380880" y="2438280"/>
          <a:ext cx="2994120" cy="57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2438280"/>
                    <a:ext cx="299412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2" name="" descr=""/>
          <p:cNvPicPr/>
          <p:nvPr/>
        </p:nvPicPr>
        <p:blipFill>
          <a:blip r:embed="rId6"/>
          <a:stretch/>
        </p:blipFill>
        <p:spPr>
          <a:xfrm>
            <a:off x="990720" y="3581280"/>
            <a:ext cx="3174840" cy="22687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7"/>
          <a:stretch/>
        </p:blipFill>
        <p:spPr>
          <a:xfrm>
            <a:off x="4952880" y="3581280"/>
            <a:ext cx="3175200" cy="2268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5055480" y="2438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心轴过简化中心的力螺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19520" y="121932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259092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5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685800" y="457200"/>
            <a:ext cx="5512680" cy="596880"/>
            <a:chOff x="685800" y="457200"/>
            <a:chExt cx="5512680" cy="596880"/>
          </a:xfrm>
        </p:grpSpPr>
        <p:sp>
          <p:nvSpPr>
            <p:cNvPr id="433" name=""/>
            <p:cNvSpPr/>
            <p:nvPr/>
          </p:nvSpPr>
          <p:spPr>
            <a:xfrm>
              <a:off x="4311000" y="4809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既不平行也不垂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34" name=""/>
            <p:cNvGraphicFramePr/>
            <p:nvPr/>
          </p:nvGraphicFramePr>
          <p:xfrm>
            <a:off x="685800" y="457200"/>
            <a:ext cx="2982960" cy="59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5800" y="457200"/>
                      <a:ext cx="298296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6" name=""/>
          <p:cNvSpPr/>
          <p:nvPr/>
        </p:nvSpPr>
        <p:spPr>
          <a:xfrm>
            <a:off x="2464920" y="11430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力螺旋中心轴距简化中心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6248520" y="941400"/>
          <a:ext cx="1801800" cy="91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48520" y="941400"/>
                    <a:ext cx="180180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54360" y="459576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平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260240" y="5334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066680" y="5334120"/>
          <a:ext cx="2057400" cy="582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66680" y="5334120"/>
                    <a:ext cx="205740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3" name="" descr=""/>
          <p:cNvPicPr/>
          <p:nvPr/>
        </p:nvPicPr>
        <p:blipFill>
          <a:blip r:embed="rId8"/>
          <a:stretch/>
        </p:blipFill>
        <p:spPr>
          <a:xfrm>
            <a:off x="1752480" y="1905120"/>
            <a:ext cx="5778720" cy="241596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9"/>
          <a:stretch/>
        </p:blipFill>
        <p:spPr>
          <a:xfrm>
            <a:off x="1752480" y="1905120"/>
            <a:ext cx="5778720" cy="24159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0"/>
          <a:stretch/>
        </p:blipFill>
        <p:spPr>
          <a:xfrm>
            <a:off x="1752480" y="1905120"/>
            <a:ext cx="5778720" cy="2415960"/>
          </a:xfrm>
          <a:prstGeom prst="rect">
            <a:avLst/>
          </a:prstGeom>
          <a:ln w="0">
            <a:noFill/>
          </a:ln>
        </p:spPr>
      </p:pic>
      <p:sp>
        <p:nvSpPr>
          <p:cNvPr id="446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8080" y="129528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54864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251080" y="304920"/>
            <a:ext cx="45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–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间任意力系的平衡方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空间任意力系平衡的充要条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35160" y="1069920"/>
            <a:ext cx="29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空间任意力系的平衡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600200" y="3200400"/>
          <a:ext cx="4724280" cy="59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200400"/>
                    <a:ext cx="47242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1600200" y="4038480"/>
          <a:ext cx="4800600" cy="55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4038480"/>
                    <a:ext cx="480060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304920" y="48769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空间任意力系平衡的充要条件：所有各力在三个坐标轴中每一个轴上的投影的代数和等于零，以及这些力对于每一个坐标轴的矩的代数和也等于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42960" y="2263680"/>
            <a:ext cx="31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该力系的主矢、主矩分别为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27432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38080" y="3505320"/>
            <a:ext cx="43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空间力系平衡问题举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324080" y="2462040"/>
            <a:ext cx="22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空间约束类型举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990720" y="1371600"/>
          <a:ext cx="41907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371600"/>
                    <a:ext cx="41907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"/>
          <p:cNvSpPr/>
          <p:nvPr/>
        </p:nvSpPr>
        <p:spPr>
          <a:xfrm>
            <a:off x="1478520" y="4046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空间平行力系的平衡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4"/>
          <a:stretch/>
        </p:blipFill>
        <p:spPr>
          <a:xfrm>
            <a:off x="6324480" y="609480"/>
            <a:ext cx="22352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830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3" dur="1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2133720" y="167652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836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9" dur="1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2286000" y="1676520"/>
            <a:ext cx="450864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842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5" dur="1" fill="hold"/>
                                        <p:tgtEl>
                                          <p:spTgt spid="4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9907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间接（二次）投影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14400" y="2133720"/>
          <a:ext cx="192096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133720"/>
                    <a:ext cx="192096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990720" y="2971800"/>
          <a:ext cx="2647800" cy="55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2971800"/>
                    <a:ext cx="26478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990720" y="3733920"/>
          <a:ext cx="2474640" cy="55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90720" y="3733920"/>
                    <a:ext cx="2474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066680" y="4572000"/>
          <a:ext cx="1819440" cy="53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66680" y="4572000"/>
                    <a:ext cx="18194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5105520" y="990720"/>
            <a:ext cx="3606840" cy="360684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9900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1" dur="1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2286000" y="16002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854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7" dur="1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2286000" y="1600200"/>
            <a:ext cx="4732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3" dur="1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619360" y="228600"/>
            <a:ext cx="43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§4–6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 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0880" y="1143000"/>
            <a:ext cx="46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计算重心坐标的公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1046160" y="1822320"/>
          <a:ext cx="4230720" cy="99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6160" y="1822320"/>
                    <a:ext cx="42307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787400" y="3048120"/>
          <a:ext cx="1717920" cy="92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87400" y="3048120"/>
                    <a:ext cx="171792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838080" y="4038480"/>
          <a:ext cx="4648320" cy="987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4038480"/>
                    <a:ext cx="464832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905120" y="5334120"/>
          <a:ext cx="1600200" cy="863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05120" y="5334120"/>
                    <a:ext cx="16002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2" name="" descr=""/>
          <p:cNvPicPr/>
          <p:nvPr/>
        </p:nvPicPr>
        <p:blipFill>
          <a:blip r:embed="rId10"/>
          <a:stretch/>
        </p:blipFill>
        <p:spPr>
          <a:xfrm>
            <a:off x="5740560" y="1143000"/>
            <a:ext cx="3174840" cy="3809880"/>
          </a:xfrm>
          <a:prstGeom prst="rect">
            <a:avLst/>
          </a:prstGeom>
          <a:ln w="0">
            <a:noFill/>
          </a:ln>
        </p:spPr>
      </p:pic>
      <p:sp>
        <p:nvSpPr>
          <p:cNvPr id="493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7" name=""/>
          <p:cNvGraphicFramePr/>
          <p:nvPr/>
        </p:nvGraphicFramePr>
        <p:xfrm>
          <a:off x="685800" y="457200"/>
          <a:ext cx="464832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57200"/>
                    <a:ext cx="46483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1905120" y="1752480"/>
          <a:ext cx="1585800" cy="88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1752480"/>
                    <a:ext cx="158580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1177920" y="27432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计算重心坐标的公式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4267080" y="3429000"/>
          <a:ext cx="1447920" cy="80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3429000"/>
                    <a:ext cx="14479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762120" y="3429000"/>
          <a:ext cx="1447560" cy="793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2120" y="3429000"/>
                    <a:ext cx="1447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2438280" y="3429000"/>
          <a:ext cx="1524240" cy="822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38280" y="3429000"/>
                    <a:ext cx="152424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" descr=""/>
          <p:cNvPicPr/>
          <p:nvPr/>
        </p:nvPicPr>
        <p:blipFill>
          <a:blip r:embed="rId12"/>
          <a:stretch/>
        </p:blipFill>
        <p:spPr>
          <a:xfrm>
            <a:off x="6070680" y="76320"/>
            <a:ext cx="2921040" cy="350496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1541880" y="41911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均质物体，均质板状物体，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33520" y="4800600"/>
            <a:ext cx="4641840" cy="806400"/>
            <a:chOff x="533520" y="4800600"/>
            <a:chExt cx="4641840" cy="806400"/>
          </a:xfrm>
        </p:grpSpPr>
        <p:graphicFrame>
          <p:nvGraphicFramePr>
            <p:cNvPr id="511" name=""/>
            <p:cNvGraphicFramePr/>
            <p:nvPr/>
          </p:nvGraphicFramePr>
          <p:xfrm>
            <a:off x="533520" y="4800600"/>
            <a:ext cx="1374480" cy="806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1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33520" y="4800600"/>
                      <a:ext cx="137448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3" name=""/>
            <p:cNvGraphicFramePr/>
            <p:nvPr/>
          </p:nvGraphicFramePr>
          <p:xfrm>
            <a:off x="2100240" y="4800600"/>
            <a:ext cx="1395360" cy="806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1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100240" y="4800600"/>
                      <a:ext cx="139536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5" name=""/>
            <p:cNvGraphicFramePr/>
            <p:nvPr/>
          </p:nvGraphicFramePr>
          <p:xfrm>
            <a:off x="3822840" y="4800600"/>
            <a:ext cx="1352520" cy="806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822840" y="4800600"/>
                      <a:ext cx="135252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17" name=""/>
          <p:cNvGrpSpPr/>
          <p:nvPr/>
        </p:nvGrpSpPr>
        <p:grpSpPr>
          <a:xfrm>
            <a:off x="611280" y="5661000"/>
            <a:ext cx="7635960" cy="806400"/>
            <a:chOff x="611280" y="5661000"/>
            <a:chExt cx="7635960" cy="806400"/>
          </a:xfrm>
        </p:grpSpPr>
        <p:graphicFrame>
          <p:nvGraphicFramePr>
            <p:cNvPr id="518" name=""/>
            <p:cNvGraphicFramePr/>
            <p:nvPr/>
          </p:nvGraphicFramePr>
          <p:xfrm>
            <a:off x="611280" y="5661000"/>
            <a:ext cx="1396800" cy="8064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11280" y="5661000"/>
                      <a:ext cx="139680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0" name=""/>
            <p:cNvGraphicFramePr/>
            <p:nvPr/>
          </p:nvGraphicFramePr>
          <p:xfrm>
            <a:off x="2100240" y="5661000"/>
            <a:ext cx="1441440" cy="8064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2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100240" y="5661000"/>
                      <a:ext cx="144144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2" name=""/>
            <p:cNvGraphicFramePr/>
            <p:nvPr/>
          </p:nvGraphicFramePr>
          <p:xfrm>
            <a:off x="3822840" y="5661000"/>
            <a:ext cx="1374480" cy="8064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2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822840" y="5661000"/>
                      <a:ext cx="137448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4" name=""/>
            <p:cNvSpPr/>
            <p:nvPr/>
          </p:nvSpPr>
          <p:spPr>
            <a:xfrm>
              <a:off x="6146280" y="581328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称为重心或形心公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456920" y="395280"/>
            <a:ext cx="34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  确定重心的悬挂法与称重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221840" y="106668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悬挂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216160" cy="36576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5327640" y="1981080"/>
            <a:ext cx="2216160" cy="3657600"/>
          </a:xfrm>
          <a:prstGeom prst="rect">
            <a:avLst/>
          </a:prstGeom>
          <a:ln w="0">
            <a:noFill/>
          </a:ln>
        </p:spPr>
      </p:pic>
      <p:sp>
        <p:nvSpPr>
          <p:cNvPr id="533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840960" y="47160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称重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457200" y="932040"/>
            <a:ext cx="3610080" cy="841320"/>
            <a:chOff x="457200" y="932040"/>
            <a:chExt cx="3610080" cy="841320"/>
          </a:xfrm>
        </p:grpSpPr>
        <p:graphicFrame>
          <p:nvGraphicFramePr>
            <p:cNvPr id="539" name=""/>
            <p:cNvGraphicFramePr/>
            <p:nvPr/>
          </p:nvGraphicFramePr>
          <p:xfrm>
            <a:off x="457200" y="1146240"/>
            <a:ext cx="1463760" cy="490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" y="1146240"/>
                      <a:ext cx="1463760" cy="49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1" name=""/>
            <p:cNvGraphicFramePr/>
            <p:nvPr/>
          </p:nvGraphicFramePr>
          <p:xfrm>
            <a:off x="3005280" y="932040"/>
            <a:ext cx="1062000" cy="841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005280" y="932040"/>
                      <a:ext cx="1062000" cy="84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3" name=""/>
            <p:cNvSpPr/>
            <p:nvPr/>
          </p:nvSpPr>
          <p:spPr>
            <a:xfrm>
              <a:off x="2150280" y="1163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2120" y="1752480"/>
            <a:ext cx="1765800" cy="824040"/>
            <a:chOff x="672120" y="1752480"/>
            <a:chExt cx="1765800" cy="824040"/>
          </a:xfrm>
        </p:grpSpPr>
        <p:sp>
          <p:nvSpPr>
            <p:cNvPr id="545" name=""/>
            <p:cNvSpPr/>
            <p:nvPr/>
          </p:nvSpPr>
          <p:spPr>
            <a:xfrm>
              <a:off x="672120" y="1984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6" name=""/>
            <p:cNvGraphicFramePr/>
            <p:nvPr/>
          </p:nvGraphicFramePr>
          <p:xfrm>
            <a:off x="1137600" y="1752480"/>
            <a:ext cx="1300320" cy="824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37600" y="1752480"/>
                      <a:ext cx="1300320" cy="82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48" name=""/>
          <p:cNvGraphicFramePr/>
          <p:nvPr/>
        </p:nvGraphicFramePr>
        <p:xfrm>
          <a:off x="838080" y="5410080"/>
          <a:ext cx="3319560" cy="749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5410080"/>
                    <a:ext cx="331956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762120" y="2743200"/>
          <a:ext cx="1523880" cy="409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2120" y="2743200"/>
                    <a:ext cx="152388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762120" y="3276720"/>
          <a:ext cx="3047760" cy="50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62120" y="3276720"/>
                    <a:ext cx="30477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762120" y="3886200"/>
          <a:ext cx="1218960" cy="739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62120" y="3886200"/>
                    <a:ext cx="12189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2286000" y="3809880"/>
          <a:ext cx="1981080" cy="806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86000" y="3809880"/>
                    <a:ext cx="198108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990720" y="4800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4572000" y="457200"/>
          <a:ext cx="4343400" cy="27018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572000" y="457200"/>
                    <a:ext cx="4343400" cy="27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4724280" y="3352680"/>
          <a:ext cx="4114800" cy="28609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724280" y="3352680"/>
                    <a:ext cx="411480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722520" y="304920"/>
            <a:ext cx="9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272320" y="252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124080" y="304920"/>
          <a:ext cx="1219320" cy="5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304920"/>
                    <a:ext cx="12193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1" name=""/>
          <p:cNvGrpSpPr/>
          <p:nvPr/>
        </p:nvGrpSpPr>
        <p:grpSpPr>
          <a:xfrm>
            <a:off x="3262320" y="861840"/>
            <a:ext cx="3412800" cy="554040"/>
            <a:chOff x="3262320" y="861840"/>
            <a:chExt cx="3412800" cy="554040"/>
          </a:xfrm>
        </p:grpSpPr>
        <p:sp>
          <p:nvSpPr>
            <p:cNvPr id="572" name=""/>
            <p:cNvSpPr/>
            <p:nvPr/>
          </p:nvSpPr>
          <p:spPr>
            <a:xfrm>
              <a:off x="3262320" y="861840"/>
              <a:ext cx="341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求：力   在三个坐标轴上的投影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73" name=""/>
            <p:cNvGraphicFramePr/>
            <p:nvPr/>
          </p:nvGraphicFramePr>
          <p:xfrm>
            <a:off x="3429000" y="914400"/>
            <a:ext cx="349200" cy="501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7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429000" y="914400"/>
                      <a:ext cx="349200" cy="50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1523880" y="4267080"/>
                <a:ext cx="2076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3886200" y="4267080"/>
                <a:ext cx="2066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1523880" y="4876920"/>
                <a:ext cx="4972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1523880" y="5486400"/>
                <a:ext cx="5094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9" name="" descr=""/>
          <p:cNvPicPr/>
          <p:nvPr/>
        </p:nvPicPr>
        <p:blipFill>
          <a:blip r:embed="rId6"/>
          <a:stretch/>
        </p:blipFill>
        <p:spPr>
          <a:xfrm>
            <a:off x="838080" y="1650960"/>
            <a:ext cx="2463840" cy="246384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7"/>
          <a:stretch/>
        </p:blipFill>
        <p:spPr>
          <a:xfrm>
            <a:off x="838080" y="1650960"/>
            <a:ext cx="2463840" cy="246384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8"/>
          <a:stretch/>
        </p:blipFill>
        <p:spPr>
          <a:xfrm>
            <a:off x="838080" y="1676520"/>
            <a:ext cx="2463840" cy="246384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9"/>
          <a:stretch/>
        </p:blipFill>
        <p:spPr>
          <a:xfrm>
            <a:off x="3429000" y="1650960"/>
            <a:ext cx="2463840" cy="24638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10"/>
          <a:stretch/>
        </p:blipFill>
        <p:spPr>
          <a:xfrm>
            <a:off x="6019920" y="1650960"/>
            <a:ext cx="2463840" cy="2463840"/>
          </a:xfrm>
          <a:prstGeom prst="rect">
            <a:avLst/>
          </a:prstGeom>
          <a:ln w="0">
            <a:noFill/>
          </a:ln>
        </p:spPr>
      </p:pic>
      <p:sp>
        <p:nvSpPr>
          <p:cNvPr id="584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53480" y="4267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341640" y="228600"/>
            <a:ext cx="8027640" cy="596880"/>
            <a:chOff x="341640" y="228600"/>
            <a:chExt cx="8027640" cy="596880"/>
          </a:xfrm>
        </p:grpSpPr>
        <p:sp>
          <p:nvSpPr>
            <p:cNvPr id="590" name=""/>
            <p:cNvSpPr/>
            <p:nvPr/>
          </p:nvSpPr>
          <p:spPr>
            <a:xfrm>
              <a:off x="341640" y="228600"/>
              <a:ext cx="99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例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4-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819440" y="304920"/>
              <a:ext cx="511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已知：物重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kN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E=EB=DE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2" name=""/>
                <p:cNvSpPr txBox="1"/>
                <p:nvPr/>
              </p:nvSpPr>
              <p:spPr>
                <a:xfrm>
                  <a:off x="7162920" y="304920"/>
                  <a:ext cx="120636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3" name=""/>
          <p:cNvSpPr/>
          <p:nvPr/>
        </p:nvSpPr>
        <p:spPr>
          <a:xfrm>
            <a:off x="1251360" y="8618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：杆受力及绳拉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1600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画受力图，列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衡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533520" y="2666880"/>
                <a:ext cx="12189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457200" y="3276720"/>
                <a:ext cx="34704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33520" y="3886200"/>
                <a:ext cx="1295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57200" y="4491000"/>
                <a:ext cx="72835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533520" y="4978440"/>
                <a:ext cx="12189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57200" y="5410080"/>
                <a:ext cx="78948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01" name=""/>
          <p:cNvGraphicFramePr/>
          <p:nvPr/>
        </p:nvGraphicFramePr>
        <p:xfrm>
          <a:off x="1628640" y="5940360"/>
          <a:ext cx="2281320" cy="48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8640" y="5940360"/>
                    <a:ext cx="22813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4486320" y="5940360"/>
          <a:ext cx="1741320" cy="49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86320" y="5940360"/>
                    <a:ext cx="174132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5" name="" descr=""/>
          <p:cNvPicPr/>
          <p:nvPr/>
        </p:nvPicPr>
        <p:blipFill>
          <a:blip r:embed="rId6"/>
          <a:stretch/>
        </p:blipFill>
        <p:spPr>
          <a:xfrm>
            <a:off x="4114800" y="1143000"/>
            <a:ext cx="2286000" cy="31748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7"/>
          <a:stretch/>
        </p:blipFill>
        <p:spPr>
          <a:xfrm>
            <a:off x="4114800" y="1143000"/>
            <a:ext cx="2286000" cy="31748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8"/>
          <a:stretch/>
        </p:blipFill>
        <p:spPr>
          <a:xfrm>
            <a:off x="6553080" y="1168560"/>
            <a:ext cx="2286000" cy="31748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9"/>
          <a:stretch/>
        </p:blipFill>
        <p:spPr>
          <a:xfrm>
            <a:off x="6553080" y="1168560"/>
            <a:ext cx="2286000" cy="3174840"/>
          </a:xfrm>
          <a:prstGeom prst="rect">
            <a:avLst/>
          </a:prstGeom>
          <a:ln w="0">
            <a:noFill/>
          </a:ln>
        </p:spPr>
      </p:pic>
      <p:sp>
        <p:nvSpPr>
          <p:cNvPr id="609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6095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440" y="763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179360" y="1066680"/>
            <a:ext cx="20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：三根杆所受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983880" y="569880"/>
            <a:ext cx="38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：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000N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各杆重不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6019920" y="3573360"/>
            <a:ext cx="2895480" cy="28958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533520" y="1670040"/>
            <a:ext cx="556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：各杆均为二力杆，取球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画受力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609480" y="2895480"/>
            <a:ext cx="5038920" cy="536760"/>
            <a:chOff x="609480" y="2895480"/>
            <a:chExt cx="5038920" cy="536760"/>
          </a:xfrm>
        </p:grpSpPr>
        <p:graphicFrame>
          <p:nvGraphicFramePr>
            <p:cNvPr id="623" name=""/>
            <p:cNvGraphicFramePr/>
            <p:nvPr/>
          </p:nvGraphicFramePr>
          <p:xfrm>
            <a:off x="609480" y="2895480"/>
            <a:ext cx="1219320" cy="536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2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9480" y="2895480"/>
                      <a:ext cx="1219320" cy="53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25" name=""/>
                <p:cNvSpPr txBox="1"/>
                <p:nvPr/>
              </p:nvSpPr>
              <p:spPr>
                <a:xfrm>
                  <a:off x="2209680" y="2895480"/>
                  <a:ext cx="343872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B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26" name=""/>
          <p:cNvGraphicFramePr/>
          <p:nvPr/>
        </p:nvGraphicFramePr>
        <p:xfrm>
          <a:off x="609480" y="3505320"/>
          <a:ext cx="1219320" cy="528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3505320"/>
                    <a:ext cx="121932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57200" y="4114800"/>
                <a:ext cx="54547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9" name=""/>
          <p:cNvGrpSpPr/>
          <p:nvPr/>
        </p:nvGrpSpPr>
        <p:grpSpPr>
          <a:xfrm>
            <a:off x="609480" y="4724280"/>
            <a:ext cx="3962160" cy="533160"/>
            <a:chOff x="609480" y="4724280"/>
            <a:chExt cx="3962160" cy="533160"/>
          </a:xfrm>
        </p:grpSpPr>
        <p:graphicFrame>
          <p:nvGraphicFramePr>
            <p:cNvPr id="630" name=""/>
            <p:cNvGraphicFramePr/>
            <p:nvPr/>
          </p:nvGraphicFramePr>
          <p:xfrm>
            <a:off x="609480" y="4724280"/>
            <a:ext cx="1127520" cy="516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3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9480" y="4724280"/>
                      <a:ext cx="1127520" cy="51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32" name=""/>
                <p:cNvSpPr txBox="1"/>
                <p:nvPr/>
              </p:nvSpPr>
              <p:spPr>
                <a:xfrm>
                  <a:off x="2230200" y="4724280"/>
                  <a:ext cx="23414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A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3" name=""/>
          <p:cNvGrpSpPr/>
          <p:nvPr/>
        </p:nvGrpSpPr>
        <p:grpSpPr>
          <a:xfrm>
            <a:off x="685800" y="5791320"/>
            <a:ext cx="5100120" cy="531360"/>
            <a:chOff x="685800" y="5791320"/>
            <a:chExt cx="5100120" cy="531360"/>
          </a:xfrm>
        </p:grpSpPr>
        <mc:AlternateContent>
          <mc:Choice xmlns:a14="http://schemas.microsoft.com/office/drawing/2010/main" Requires="a14">
            <p:sp>
              <p:nvSpPr>
                <p:cNvPr id="634" name=""/>
                <p:cNvSpPr txBox="1"/>
                <p:nvPr/>
              </p:nvSpPr>
              <p:spPr>
                <a:xfrm>
                  <a:off x="685800" y="5867280"/>
                  <a:ext cx="180036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414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35" name=""/>
            <p:cNvGrpSpPr/>
            <p:nvPr/>
          </p:nvGrpSpPr>
          <p:grpSpPr>
            <a:xfrm>
              <a:off x="2666880" y="5791320"/>
              <a:ext cx="3119040" cy="531360"/>
              <a:chOff x="2666880" y="5791320"/>
              <a:chExt cx="3119040" cy="531360"/>
            </a:xfrm>
          </p:grpSpPr>
          <p:sp>
            <p:nvSpPr>
              <p:cNvPr id="636" name=""/>
              <p:cNvSpPr/>
              <p:nvPr/>
            </p:nvSpPr>
            <p:spPr>
              <a:xfrm>
                <a:off x="5056560" y="57913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宋体"/>
                  </a:rPr>
                  <a:t>（拉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7" name=""/>
                  <p:cNvSpPr txBox="1"/>
                  <p:nvPr/>
                </p:nvSpPr>
                <p:spPr>
                  <a:xfrm>
                    <a:off x="2666880" y="5843520"/>
                    <a:ext cx="2421000" cy="47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N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638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895480" y="53341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457200" y="2514600"/>
            <a:ext cx="8151840" cy="523800"/>
            <a:chOff x="457200" y="2514600"/>
            <a:chExt cx="8151840" cy="523800"/>
          </a:xfrm>
        </p:grpSpPr>
        <p:graphicFrame>
          <p:nvGraphicFramePr>
            <p:cNvPr id="70" name=""/>
            <p:cNvGraphicFramePr/>
            <p:nvPr/>
          </p:nvGraphicFramePr>
          <p:xfrm>
            <a:off x="457200" y="2514600"/>
            <a:ext cx="2535480" cy="523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" y="2514600"/>
                      <a:ext cx="253548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3276720" y="2514600"/>
            <a:ext cx="2523960" cy="515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76720" y="2514600"/>
                      <a:ext cx="2523960" cy="51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6172200" y="2514600"/>
            <a:ext cx="2436840" cy="507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172200" y="2514600"/>
                      <a:ext cx="24368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6" name=""/>
          <p:cNvSpPr/>
          <p:nvPr/>
        </p:nvSpPr>
        <p:spPr>
          <a:xfrm>
            <a:off x="1940040" y="19051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矢量（力）投影定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4440" y="1219320"/>
            <a:ext cx="4125600" cy="609480"/>
            <a:chOff x="1954440" y="1219320"/>
            <a:chExt cx="4125600" cy="609480"/>
          </a:xfrm>
        </p:grpSpPr>
        <p:graphicFrame>
          <p:nvGraphicFramePr>
            <p:cNvPr id="78" name=""/>
            <p:cNvGraphicFramePr/>
            <p:nvPr/>
          </p:nvGraphicFramePr>
          <p:xfrm>
            <a:off x="4640040" y="1243080"/>
            <a:ext cx="1440000" cy="585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640040" y="1243080"/>
                      <a:ext cx="144000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1954440" y="1219320"/>
              <a:ext cx="228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空间汇交力系的合力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85800" y="4572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空间汇交力系的合力与平衡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19320" y="3276720"/>
            <a:ext cx="7088040" cy="547560"/>
            <a:chOff x="1219320" y="3276720"/>
            <a:chExt cx="7088040" cy="547560"/>
          </a:xfrm>
        </p:grpSpPr>
        <p:sp>
          <p:nvSpPr>
            <p:cNvPr id="83" name=""/>
            <p:cNvSpPr/>
            <p:nvPr/>
          </p:nvSpPr>
          <p:spPr>
            <a:xfrm>
              <a:off x="1219320" y="32907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力的大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4" name=""/>
            <p:cNvGraphicFramePr/>
            <p:nvPr/>
          </p:nvGraphicFramePr>
          <p:xfrm>
            <a:off x="3353040" y="3276720"/>
            <a:ext cx="4044960" cy="5475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353040" y="3276720"/>
                      <a:ext cx="404496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8123400" y="33465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685800" y="4800600"/>
          <a:ext cx="2209680" cy="898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85800" y="4800600"/>
                    <a:ext cx="22096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508400" y="41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余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429000" y="4800600"/>
          <a:ext cx="236232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429000" y="4800600"/>
                    <a:ext cx="23623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172200" y="4800600"/>
          <a:ext cx="2362320" cy="911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172200" y="4800600"/>
                    <a:ext cx="236232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457200" y="523800"/>
            <a:ext cx="13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95800" y="1143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600200" y="1143000"/>
                <a:ext cx="13669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6" name=""/>
          <p:cNvGrpSpPr/>
          <p:nvPr/>
        </p:nvGrpSpPr>
        <p:grpSpPr>
          <a:xfrm>
            <a:off x="601200" y="1843200"/>
            <a:ext cx="4645440" cy="627120"/>
            <a:chOff x="601200" y="1843200"/>
            <a:chExt cx="4645440" cy="627120"/>
          </a:xfrm>
        </p:grpSpPr>
        <p:sp>
          <p:nvSpPr>
            <p:cNvPr id="647" name=""/>
            <p:cNvSpPr/>
            <p:nvPr/>
          </p:nvSpPr>
          <p:spPr>
            <a:xfrm>
              <a:off x="601200" y="18432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求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8" name=""/>
            <p:cNvGraphicFramePr/>
            <p:nvPr/>
          </p:nvGraphicFramePr>
          <p:xfrm>
            <a:off x="971640" y="1882800"/>
            <a:ext cx="4275000" cy="587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4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71640" y="1882800"/>
                      <a:ext cx="4275000" cy="58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50" name=""/>
          <p:cNvGraphicFramePr/>
          <p:nvPr/>
        </p:nvGraphicFramePr>
        <p:xfrm>
          <a:off x="1143000" y="3429000"/>
          <a:ext cx="5029200" cy="67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3000" y="3429000"/>
                    <a:ext cx="50292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1219320" y="4419720"/>
          <a:ext cx="3886200" cy="677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4419720"/>
                    <a:ext cx="38862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1260360" y="5410080"/>
          <a:ext cx="5023080" cy="573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60360" y="5410080"/>
                    <a:ext cx="50230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6" name="" descr=""/>
          <p:cNvPicPr/>
          <p:nvPr/>
        </p:nvPicPr>
        <p:blipFill>
          <a:blip r:embed="rId10"/>
          <a:stretch/>
        </p:blipFill>
        <p:spPr>
          <a:xfrm>
            <a:off x="5181480" y="279360"/>
            <a:ext cx="3810240" cy="215892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11"/>
          <a:stretch/>
        </p:blipFill>
        <p:spPr>
          <a:xfrm>
            <a:off x="5181480" y="279360"/>
            <a:ext cx="3810240" cy="215892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12"/>
          <a:stretch/>
        </p:blipFill>
        <p:spPr>
          <a:xfrm>
            <a:off x="5226120" y="279360"/>
            <a:ext cx="3809880" cy="2158920"/>
          </a:xfrm>
          <a:prstGeom prst="rect">
            <a:avLst/>
          </a:prstGeom>
          <a:ln w="0">
            <a:noFill/>
          </a:ln>
        </p:spPr>
      </p:pic>
      <p:grpSp>
        <p:nvGrpSpPr>
          <p:cNvPr id="659" name=""/>
          <p:cNvGrpSpPr/>
          <p:nvPr/>
        </p:nvGrpSpPr>
        <p:grpSpPr>
          <a:xfrm>
            <a:off x="1031400" y="2666880"/>
            <a:ext cx="2445480" cy="534960"/>
            <a:chOff x="1031400" y="2666880"/>
            <a:chExt cx="2445480" cy="534960"/>
          </a:xfrm>
        </p:grpSpPr>
        <p:sp>
          <p:nvSpPr>
            <p:cNvPr id="660" name=""/>
            <p:cNvSpPr/>
            <p:nvPr/>
          </p:nvSpPr>
          <p:spPr>
            <a:xfrm>
              <a:off x="1031400" y="2681280"/>
              <a:ext cx="244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解：把力      分解如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1" name=""/>
            <p:cNvGraphicFramePr/>
            <p:nvPr/>
          </p:nvGraphicFramePr>
          <p:xfrm>
            <a:off x="2057400" y="2666880"/>
            <a:ext cx="374760" cy="4622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057400" y="2666880"/>
                      <a:ext cx="374760" cy="4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3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457200" y="3049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-5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：在工件四个面上同时钻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孔，每个孔所受切削力偶矩均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·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2148120" y="1219320"/>
            <a:ext cx="4803120" cy="520560"/>
            <a:chOff x="2148120" y="1219320"/>
            <a:chExt cx="4803120" cy="520560"/>
          </a:xfrm>
        </p:grpSpPr>
        <p:graphicFrame>
          <p:nvGraphicFramePr>
            <p:cNvPr id="669" name=""/>
            <p:cNvGraphicFramePr/>
            <p:nvPr/>
          </p:nvGraphicFramePr>
          <p:xfrm>
            <a:off x="4419720" y="1295280"/>
            <a:ext cx="914400" cy="384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19720" y="1295280"/>
                      <a:ext cx="91440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1" name=""/>
            <p:cNvSpPr/>
            <p:nvPr/>
          </p:nvSpPr>
          <p:spPr>
            <a:xfrm>
              <a:off x="2148120" y="1219320"/>
              <a:ext cx="480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求：工件所受合力偶矩在     轴上的投影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2" name="" descr=""/>
          <p:cNvPicPr/>
          <p:nvPr/>
        </p:nvPicPr>
        <p:blipFill>
          <a:blip r:embed="rId4"/>
          <a:stretch/>
        </p:blipFill>
        <p:spPr>
          <a:xfrm>
            <a:off x="3276720" y="1981080"/>
            <a:ext cx="2571480" cy="27432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5"/>
          <a:stretch/>
        </p:blipFill>
        <p:spPr>
          <a:xfrm>
            <a:off x="6014880" y="1981080"/>
            <a:ext cx="2571840" cy="27432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457200" y="198108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：把力偶用力偶矩矢表示，平行移到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533520" y="4724280"/>
          <a:ext cx="8229600" cy="54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4724280"/>
                    <a:ext cx="822960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549360" y="5334120"/>
                <a:ext cx="43275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533520" y="5937120"/>
                <a:ext cx="82008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9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822960" y="20574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轴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的约束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41640" y="152280"/>
            <a:ext cx="9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-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04920" y="11970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152360" y="631800"/>
            <a:ext cx="713484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：两圆盘半径均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800m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圆盘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垂直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轴，圆盘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垂直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轴，两盘面上作用有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偶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构件自重不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7672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32360" y="62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447920" y="662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638680" y="2057400"/>
            <a:ext cx="3124440" cy="21542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5638680" y="4299120"/>
            <a:ext cx="3124440" cy="215424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304920" y="259092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：取整体，受力图如图所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838080" y="3276720"/>
                <a:ext cx="14209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94" name=""/>
          <p:cNvGraphicFramePr/>
          <p:nvPr/>
        </p:nvGraphicFramePr>
        <p:xfrm>
          <a:off x="2743200" y="3276720"/>
          <a:ext cx="2579760" cy="42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3276720"/>
                    <a:ext cx="257976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852480" y="3898800"/>
          <a:ext cx="1405080" cy="495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2480" y="3898800"/>
                    <a:ext cx="14050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2766960" y="3952800"/>
          <a:ext cx="2529000" cy="401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66960" y="3952800"/>
                    <a:ext cx="25290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0" name=""/>
          <p:cNvGrpSpPr/>
          <p:nvPr/>
        </p:nvGrpSpPr>
        <p:grpSpPr>
          <a:xfrm>
            <a:off x="533520" y="5334120"/>
            <a:ext cx="5059080" cy="480960"/>
            <a:chOff x="533520" y="5334120"/>
            <a:chExt cx="5059080" cy="480960"/>
          </a:xfrm>
        </p:grpSpPr>
        <mc:AlternateContent>
          <mc:Choice xmlns:a14="http://schemas.microsoft.com/office/drawing/2010/main" Requires="a14">
            <p:sp>
              <p:nvSpPr>
                <p:cNvPr id="701" name=""/>
                <p:cNvSpPr txBox="1"/>
                <p:nvPr/>
              </p:nvSpPr>
              <p:spPr>
                <a:xfrm>
                  <a:off x="533520" y="5334120"/>
                  <a:ext cx="243828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3341520" y="5337360"/>
                  <a:ext cx="225108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3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066680" y="47242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762120" y="395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-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3200400" y="2971800"/>
            <a:ext cx="2822400" cy="3225960"/>
          </a:xfrm>
          <a:prstGeom prst="rect">
            <a:avLst/>
          </a:prstGeom>
          <a:ln w="0">
            <a:noFill/>
          </a:ln>
        </p:spPr>
      </p:pic>
      <p:grpSp>
        <p:nvGrpSpPr>
          <p:cNvPr id="710" name=""/>
          <p:cNvGrpSpPr/>
          <p:nvPr/>
        </p:nvGrpSpPr>
        <p:grpSpPr>
          <a:xfrm>
            <a:off x="2250000" y="2209680"/>
            <a:ext cx="4879080" cy="1169280"/>
            <a:chOff x="2250000" y="2209680"/>
            <a:chExt cx="4879080" cy="1169280"/>
          </a:xfrm>
        </p:grpSpPr>
        <p:sp>
          <p:nvSpPr>
            <p:cNvPr id="711" name=""/>
            <p:cNvSpPr/>
            <p:nvPr/>
          </p:nvSpPr>
          <p:spPr>
            <a:xfrm>
              <a:off x="2250000" y="2209680"/>
              <a:ext cx="48790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求：正方体平衡时，力     的关系和两根杆受力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2" name=""/>
            <p:cNvGraphicFramePr/>
            <p:nvPr/>
          </p:nvGraphicFramePr>
          <p:xfrm>
            <a:off x="4419720" y="2209680"/>
            <a:ext cx="745920" cy="46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19720" y="2209680"/>
                      <a:ext cx="745920" cy="46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4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612080" y="914400"/>
            <a:ext cx="6780960" cy="1076400"/>
            <a:chOff x="1612080" y="914400"/>
            <a:chExt cx="6780960" cy="1076400"/>
          </a:xfrm>
        </p:grpSpPr>
        <p:graphicFrame>
          <p:nvGraphicFramePr>
            <p:cNvPr id="719" name=""/>
            <p:cNvGraphicFramePr/>
            <p:nvPr/>
          </p:nvGraphicFramePr>
          <p:xfrm>
            <a:off x="5780160" y="914400"/>
            <a:ext cx="2612880" cy="54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80160" y="914400"/>
                      <a:ext cx="261288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1" name=""/>
            <p:cNvSpPr/>
            <p:nvPr/>
          </p:nvSpPr>
          <p:spPr>
            <a:xfrm>
              <a:off x="4063680" y="1447920"/>
              <a:ext cx="267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不计正方体和直杆自重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12080" y="914400"/>
              <a:ext cx="295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已知：正方体上作用两个力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3" name=""/>
            <p:cNvGraphicFramePr/>
            <p:nvPr/>
          </p:nvGraphicFramePr>
          <p:xfrm>
            <a:off x="1828800" y="1523880"/>
            <a:ext cx="1371600" cy="466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2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1523880"/>
                      <a:ext cx="1371600" cy="46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57200" y="380880"/>
            <a:ext cx="5638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：两杆为二力杆，取正方体，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受力图建坐标系如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6016680" y="44280"/>
            <a:ext cx="2822400" cy="322596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3"/>
          <a:stretch/>
        </p:blipFill>
        <p:spPr>
          <a:xfrm>
            <a:off x="6013440" y="3284640"/>
            <a:ext cx="2822760" cy="32256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1840320" y="154476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以矢量表示力偶，如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2286000" y="3124080"/>
          <a:ext cx="1143000" cy="47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3124080"/>
                    <a:ext cx="11430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1" name=""/>
          <p:cNvSpPr/>
          <p:nvPr/>
        </p:nvSpPr>
        <p:spPr>
          <a:xfrm>
            <a:off x="1602000" y="3505320"/>
            <a:ext cx="25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设正方体边长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2" name=""/>
          <p:cNvGraphicFramePr/>
          <p:nvPr/>
        </p:nvGraphicFramePr>
        <p:xfrm>
          <a:off x="1195560" y="4068720"/>
          <a:ext cx="3232080" cy="49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95560" y="4068720"/>
                    <a:ext cx="323208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4" name=""/>
          <p:cNvGrpSpPr/>
          <p:nvPr/>
        </p:nvGrpSpPr>
        <p:grpSpPr>
          <a:xfrm>
            <a:off x="1181880" y="4606920"/>
            <a:ext cx="3894840" cy="550800"/>
            <a:chOff x="1181880" y="4606920"/>
            <a:chExt cx="3894840" cy="550800"/>
          </a:xfrm>
        </p:grpSpPr>
        <p:sp>
          <p:nvSpPr>
            <p:cNvPr id="735" name=""/>
            <p:cNvSpPr/>
            <p:nvPr/>
          </p:nvSpPr>
          <p:spPr>
            <a:xfrm>
              <a:off x="1181880" y="4622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6" name=""/>
            <p:cNvGraphicFramePr/>
            <p:nvPr/>
          </p:nvGraphicFramePr>
          <p:xfrm>
            <a:off x="1792440" y="4689360"/>
            <a:ext cx="858600" cy="468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3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792440" y="4689360"/>
                      <a:ext cx="85860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8" name=""/>
            <p:cNvGraphicFramePr/>
            <p:nvPr/>
          </p:nvGraphicFramePr>
          <p:xfrm>
            <a:off x="3289320" y="4606920"/>
            <a:ext cx="1787400" cy="5205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39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289320" y="4606920"/>
                      <a:ext cx="178740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40" name=""/>
          <p:cNvGraphicFramePr/>
          <p:nvPr/>
        </p:nvGraphicFramePr>
        <p:xfrm>
          <a:off x="2133720" y="5257800"/>
          <a:ext cx="2039760" cy="488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33720" y="5257800"/>
                    <a:ext cx="20397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2" name=""/>
          <p:cNvGrpSpPr/>
          <p:nvPr/>
        </p:nvGrpSpPr>
        <p:grpSpPr>
          <a:xfrm>
            <a:off x="1834920" y="5943600"/>
            <a:ext cx="2296080" cy="493200"/>
            <a:chOff x="1834920" y="5943600"/>
            <a:chExt cx="2296080" cy="493200"/>
          </a:xfrm>
        </p:grpSpPr>
        <p:sp>
          <p:nvSpPr>
            <p:cNvPr id="743" name=""/>
            <p:cNvSpPr/>
            <p:nvPr/>
          </p:nvSpPr>
          <p:spPr>
            <a:xfrm>
              <a:off x="2148840" y="5943600"/>
              <a:ext cx="198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杆    受拉，   受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44" name=""/>
            <p:cNvGraphicFramePr/>
            <p:nvPr/>
          </p:nvGraphicFramePr>
          <p:xfrm>
            <a:off x="1834920" y="5979960"/>
            <a:ext cx="574200" cy="4518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74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834920" y="5979960"/>
                      <a:ext cx="574200" cy="45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6" name=""/>
            <p:cNvGraphicFramePr/>
            <p:nvPr/>
          </p:nvGraphicFramePr>
          <p:xfrm>
            <a:off x="3346200" y="5979960"/>
            <a:ext cx="580680" cy="4568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747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3346200" y="5979960"/>
                      <a:ext cx="580680" cy="45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48" name=""/>
          <p:cNvGrpSpPr/>
          <p:nvPr/>
        </p:nvGrpSpPr>
        <p:grpSpPr>
          <a:xfrm>
            <a:off x="1219320" y="2057400"/>
            <a:ext cx="3713040" cy="468360"/>
            <a:chOff x="1219320" y="2057400"/>
            <a:chExt cx="3713040" cy="468360"/>
          </a:xfrm>
        </p:grpSpPr>
        <p:graphicFrame>
          <p:nvGraphicFramePr>
            <p:cNvPr id="749" name=""/>
            <p:cNvGraphicFramePr/>
            <p:nvPr/>
          </p:nvGraphicFramePr>
          <p:xfrm>
            <a:off x="1219320" y="2057400"/>
            <a:ext cx="1265040" cy="4572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750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219320" y="2057400"/>
                      <a:ext cx="12650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751" name=""/>
                <p:cNvSpPr txBox="1"/>
                <p:nvPr/>
              </p:nvSpPr>
              <p:spPr>
                <a:xfrm>
                  <a:off x="2556000" y="2065320"/>
                  <a:ext cx="237636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2" name=""/>
          <p:cNvGrpSpPr/>
          <p:nvPr/>
        </p:nvGrpSpPr>
        <p:grpSpPr>
          <a:xfrm>
            <a:off x="1295280" y="2590920"/>
            <a:ext cx="3657240" cy="532800"/>
            <a:chOff x="1295280" y="2590920"/>
            <a:chExt cx="3657240" cy="532800"/>
          </a:xfrm>
        </p:grpSpPr>
        <p:graphicFrame>
          <p:nvGraphicFramePr>
            <p:cNvPr id="753" name=""/>
            <p:cNvGraphicFramePr/>
            <p:nvPr/>
          </p:nvGraphicFramePr>
          <p:xfrm>
            <a:off x="1295280" y="2590920"/>
            <a:ext cx="1311120" cy="49608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754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1295280" y="2590920"/>
                      <a:ext cx="1311120" cy="49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755" name=""/>
                <p:cNvSpPr txBox="1"/>
                <p:nvPr/>
              </p:nvSpPr>
              <p:spPr>
                <a:xfrm>
                  <a:off x="2530440" y="2622240"/>
                  <a:ext cx="24220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6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90720" y="32004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066680" y="541008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570240" y="176040"/>
            <a:ext cx="9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-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891440" y="228600"/>
            <a:ext cx="5353200" cy="588240"/>
            <a:chOff x="1891440" y="228600"/>
            <a:chExt cx="5353200" cy="588240"/>
          </a:xfrm>
        </p:grpSpPr>
        <p:sp>
          <p:nvSpPr>
            <p:cNvPr id="764" name=""/>
            <p:cNvSpPr/>
            <p:nvPr/>
          </p:nvSpPr>
          <p:spPr>
            <a:xfrm>
              <a:off x="1891440" y="2358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已知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10880" y="266040"/>
              <a:ext cx="13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kN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6" name=""/>
                <p:cNvSpPr txBox="1"/>
                <p:nvPr/>
              </p:nvSpPr>
              <p:spPr>
                <a:xfrm>
                  <a:off x="4083120" y="304920"/>
                  <a:ext cx="1537920" cy="51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67" name=""/>
            <p:cNvSpPr/>
            <p:nvPr/>
          </p:nvSpPr>
          <p:spPr>
            <a:xfrm>
              <a:off x="5997240" y="2286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各尺寸如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134360" y="762120"/>
            <a:ext cx="3323160" cy="556920"/>
            <a:chOff x="1134360" y="762120"/>
            <a:chExt cx="3323160" cy="556920"/>
          </a:xfrm>
        </p:grpSpPr>
        <p:sp>
          <p:nvSpPr>
            <p:cNvPr id="769" name=""/>
            <p:cNvSpPr/>
            <p:nvPr/>
          </p:nvSpPr>
          <p:spPr>
            <a:xfrm>
              <a:off x="1134360" y="762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求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908720" y="798480"/>
              <a:ext cx="254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处约束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187640" y="16905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：研究对象：小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52760" y="2514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列平衡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838080" y="3352680"/>
            <a:ext cx="5338800" cy="507960"/>
            <a:chOff x="838080" y="3352680"/>
            <a:chExt cx="5338800" cy="507960"/>
          </a:xfrm>
        </p:grpSpPr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838080" y="3352680"/>
                  <a:ext cx="121932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2452680" y="3367080"/>
                  <a:ext cx="372420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609480" y="4038480"/>
                <a:ext cx="19051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77" name=""/>
          <p:cNvGraphicFramePr/>
          <p:nvPr/>
        </p:nvGraphicFramePr>
        <p:xfrm>
          <a:off x="2941560" y="4024440"/>
          <a:ext cx="3510000" cy="54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1560" y="4024440"/>
                    <a:ext cx="35100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685800" y="4724280"/>
                <a:ext cx="18288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2819520" y="4724280"/>
                <a:ext cx="4554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81" name=""/>
          <p:cNvGraphicFramePr/>
          <p:nvPr/>
        </p:nvGraphicFramePr>
        <p:xfrm>
          <a:off x="1706400" y="5803920"/>
          <a:ext cx="5588280" cy="50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06400" y="5803920"/>
                    <a:ext cx="55882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3" name="" descr=""/>
          <p:cNvPicPr/>
          <p:nvPr/>
        </p:nvPicPr>
        <p:blipFill>
          <a:blip r:embed="rId6"/>
          <a:stretch/>
        </p:blipFill>
        <p:spPr>
          <a:xfrm>
            <a:off x="4952880" y="838080"/>
            <a:ext cx="3810240" cy="241308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7"/>
          <a:stretch/>
        </p:blipFill>
        <p:spPr>
          <a:xfrm>
            <a:off x="4952880" y="838080"/>
            <a:ext cx="3810240" cy="241308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8"/>
          <a:stretch/>
        </p:blipFill>
        <p:spPr>
          <a:xfrm>
            <a:off x="4952880" y="838080"/>
            <a:ext cx="3810240" cy="2413080"/>
          </a:xfrm>
          <a:prstGeom prst="rect">
            <a:avLst/>
          </a:prstGeom>
          <a:ln w="0">
            <a:noFill/>
          </a:ln>
        </p:spPr>
      </p:pic>
      <p:sp>
        <p:nvSpPr>
          <p:cNvPr id="786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38080" y="60199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570240" y="152280"/>
            <a:ext cx="9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48080" y="533520"/>
            <a:ext cx="7561800" cy="595440"/>
            <a:chOff x="748080" y="533520"/>
            <a:chExt cx="7561800" cy="595440"/>
          </a:xfrm>
        </p:grpSpPr>
        <p:sp>
          <p:nvSpPr>
            <p:cNvPr id="793" name=""/>
            <p:cNvSpPr/>
            <p:nvPr/>
          </p:nvSpPr>
          <p:spPr>
            <a:xfrm>
              <a:off x="748080" y="608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已知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4" name=""/>
                <p:cNvSpPr txBox="1"/>
                <p:nvPr/>
              </p:nvSpPr>
              <p:spPr>
                <a:xfrm>
                  <a:off x="1549440" y="666000"/>
                  <a:ext cx="1656000" cy="42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0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5" name=""/>
                <p:cNvSpPr txBox="1"/>
                <p:nvPr/>
              </p:nvSpPr>
              <p:spPr>
                <a:xfrm>
                  <a:off x="3242520" y="609840"/>
                  <a:ext cx="1232640" cy="43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6" name=""/>
                <p:cNvSpPr txBox="1"/>
                <p:nvPr/>
              </p:nvSpPr>
              <p:spPr>
                <a:xfrm>
                  <a:off x="4473720" y="601920"/>
                  <a:ext cx="230832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β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7" name=""/>
            <p:cNvSpPr/>
            <p:nvPr/>
          </p:nvSpPr>
          <p:spPr>
            <a:xfrm>
              <a:off x="7062480" y="5335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各尺寸如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710640" y="1052640"/>
            <a:ext cx="3809160" cy="576000"/>
            <a:chOff x="710640" y="1052640"/>
            <a:chExt cx="3809160" cy="576000"/>
          </a:xfrm>
        </p:grpSpPr>
        <p:sp>
          <p:nvSpPr>
            <p:cNvPr id="799" name=""/>
            <p:cNvSpPr/>
            <p:nvPr/>
          </p:nvSpPr>
          <p:spPr>
            <a:xfrm>
              <a:off x="710640" y="1052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求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0" name=""/>
                <p:cNvSpPr txBox="1"/>
                <p:nvPr/>
              </p:nvSpPr>
              <p:spPr>
                <a:xfrm>
                  <a:off x="1332000" y="1171440"/>
                  <a:ext cx="7794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01" name=""/>
            <p:cNvSpPr/>
            <p:nvPr/>
          </p:nvSpPr>
          <p:spPr>
            <a:xfrm>
              <a:off x="2334960" y="1106640"/>
              <a:ext cx="218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及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处约束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1176120" y="14508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：研究对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曲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90640" y="4815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列平衡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380988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5" name=""/>
          <p:cNvGraphicFramePr/>
          <p:nvPr/>
        </p:nvGraphicFramePr>
        <p:xfrm>
          <a:off x="762120" y="5403960"/>
          <a:ext cx="137160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403960"/>
                    <a:ext cx="13716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2357280" y="5403960"/>
                <a:ext cx="4957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762120" y="6013440"/>
                <a:ext cx="12952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2408400" y="6019920"/>
                <a:ext cx="9442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10" name="" descr=""/>
          <p:cNvPicPr/>
          <p:nvPr/>
        </p:nvPicPr>
        <p:blipFill>
          <a:blip r:embed="rId5"/>
          <a:stretch/>
        </p:blipFill>
        <p:spPr>
          <a:xfrm>
            <a:off x="762120" y="2057400"/>
            <a:ext cx="3809880" cy="266688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6"/>
          <a:stretch/>
        </p:blipFill>
        <p:spPr>
          <a:xfrm>
            <a:off x="762120" y="2057400"/>
            <a:ext cx="3809880" cy="266688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7"/>
          <a:stretch/>
        </p:blipFill>
        <p:spPr>
          <a:xfrm>
            <a:off x="4724280" y="2057400"/>
            <a:ext cx="3810240" cy="2666880"/>
          </a:xfrm>
          <a:prstGeom prst="rect">
            <a:avLst/>
          </a:prstGeom>
          <a:ln w="0">
            <a:noFill/>
          </a:ln>
        </p:spPr>
      </p:pic>
      <p:sp>
        <p:nvSpPr>
          <p:cNvPr id="813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21" dur="indefinite" restart="never" nodeType="tmRoot">
          <p:childTnLst>
            <p:seq>
              <p:cTn id="1422" dur="indefinite" nodeType="mainSeq">
                <p:childTnLst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3733560" cy="261288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3581280" cy="2508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685800" y="3048120"/>
                <a:ext cx="1295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2227320" y="3048120"/>
                <a:ext cx="57294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609480" y="3657600"/>
                <a:ext cx="18288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533520" y="4267080"/>
                <a:ext cx="79246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685800" y="4876920"/>
                <a:ext cx="1735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3352680" y="4724280"/>
                <a:ext cx="25844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609480" y="5562720"/>
                <a:ext cx="1828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26" name=""/>
          <p:cNvGraphicFramePr/>
          <p:nvPr/>
        </p:nvGraphicFramePr>
        <p:xfrm>
          <a:off x="2819520" y="5562720"/>
          <a:ext cx="5956200" cy="54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9520" y="5562720"/>
                    <a:ext cx="595620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2209680" y="533520"/>
                <a:ext cx="333072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N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00</m:t>
                    </m:r>
                    <m:r>
                      <m:t xml:space="preserve">N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981080" y="1295280"/>
                <a:ext cx="3764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4</m:t>
                    </m:r>
                    <m:r>
                      <m:t xml:space="preserve">N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397</m:t>
                    </m:r>
                    <m:r>
                      <m:t xml:space="preserve">N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1981080" y="2209680"/>
                <a:ext cx="38084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48</m:t>
                    </m:r>
                    <m:r>
                      <m:t xml:space="preserve">N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99</m:t>
                    </m:r>
                    <m:r>
                      <m:t xml:space="preserve">N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1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990720" y="60948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1847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1533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36" dur="1" fill="hold"/>
                                        <p:tgtEl>
                                          <p:spTgt spid="8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1337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空间汇交力系平衡的充分必要条件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71560" y="4419720"/>
            <a:ext cx="31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空间汇交力系的平衡方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371600" y="3505320"/>
            <a:ext cx="5241960" cy="609480"/>
            <a:chOff x="1371600" y="3505320"/>
            <a:chExt cx="5241960" cy="609480"/>
          </a:xfrm>
        </p:grpSpPr>
        <p:graphicFrame>
          <p:nvGraphicFramePr>
            <p:cNvPr id="103" name=""/>
            <p:cNvGraphicFramePr/>
            <p:nvPr/>
          </p:nvGraphicFramePr>
          <p:xfrm>
            <a:off x="1371600" y="3505320"/>
            <a:ext cx="1306440" cy="609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71600" y="3505320"/>
                      <a:ext cx="130644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3276720" y="3505320"/>
            <a:ext cx="1309680" cy="609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76720" y="3505320"/>
                      <a:ext cx="13096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5334120" y="3505320"/>
            <a:ext cx="1279440" cy="609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4120" y="3505320"/>
                      <a:ext cx="127944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9" name=""/>
          <p:cNvSpPr/>
          <p:nvPr/>
        </p:nvSpPr>
        <p:spPr>
          <a:xfrm>
            <a:off x="6294600" y="3505320"/>
            <a:ext cx="124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029200" y="2743200"/>
          <a:ext cx="1049400" cy="620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29200" y="2743200"/>
                    <a:ext cx="1049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478520" y="27432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该力系的合力等于零，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838080"/>
            <a:ext cx="81536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空间汇交力系的合力等于各分力的矢量和，合力的作用线通过汇交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51814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空间汇交力系平衡的充要条件：该力系中所有各力在三个坐标轴上的投影的代数和分别为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481680" y="243000"/>
            <a:ext cx="120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-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672120" y="809640"/>
            <a:ext cx="7866720" cy="1047600"/>
            <a:chOff x="672120" y="809640"/>
            <a:chExt cx="7866720" cy="1047600"/>
          </a:xfrm>
        </p:grpSpPr>
        <p:sp>
          <p:nvSpPr>
            <p:cNvPr id="839" name=""/>
            <p:cNvSpPr/>
            <p:nvPr/>
          </p:nvSpPr>
          <p:spPr>
            <a:xfrm>
              <a:off x="672120" y="8096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已知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40" name=""/>
            <p:cNvGraphicFramePr/>
            <p:nvPr/>
          </p:nvGraphicFramePr>
          <p:xfrm>
            <a:off x="1525680" y="874800"/>
            <a:ext cx="1765080" cy="520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4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5680" y="874800"/>
                      <a:ext cx="176508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2" name=""/>
            <p:cNvGraphicFramePr/>
            <p:nvPr/>
          </p:nvGraphicFramePr>
          <p:xfrm>
            <a:off x="3355920" y="880920"/>
            <a:ext cx="1576440" cy="546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4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355920" y="880920"/>
                      <a:ext cx="157644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4" name=""/>
            <p:cNvGraphicFramePr/>
            <p:nvPr/>
          </p:nvGraphicFramePr>
          <p:xfrm>
            <a:off x="5184720" y="868320"/>
            <a:ext cx="1332000" cy="477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4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184720" y="868320"/>
                      <a:ext cx="133200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46" name=""/>
                <p:cNvSpPr txBox="1"/>
                <p:nvPr/>
              </p:nvSpPr>
              <p:spPr>
                <a:xfrm>
                  <a:off x="1501920" y="1332000"/>
                  <a:ext cx="1846080" cy="52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τ</m:t>
                          </m:r>
                        </m:sub>
                      </m:sSub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847" name=""/>
            <p:cNvGraphicFramePr/>
            <p:nvPr/>
          </p:nvGraphicFramePr>
          <p:xfrm>
            <a:off x="3457440" y="1413000"/>
            <a:ext cx="1532160" cy="430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4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457440" y="1413000"/>
                      <a:ext cx="1532160" cy="4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9" name=""/>
            <p:cNvGraphicFramePr/>
            <p:nvPr/>
          </p:nvGraphicFramePr>
          <p:xfrm>
            <a:off x="5189400" y="1341360"/>
            <a:ext cx="1598760" cy="432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5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189400" y="1341360"/>
                      <a:ext cx="159876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1" name=""/>
            <p:cNvSpPr/>
            <p:nvPr/>
          </p:nvSpPr>
          <p:spPr>
            <a:xfrm>
              <a:off x="7291440" y="12193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各尺寸如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601200" y="5562720"/>
            <a:ext cx="7354080" cy="620640"/>
            <a:chOff x="601200" y="5562720"/>
            <a:chExt cx="7354080" cy="620640"/>
          </a:xfrm>
        </p:grpSpPr>
        <p:sp>
          <p:nvSpPr>
            <p:cNvPr id="853" name=""/>
            <p:cNvSpPr/>
            <p:nvPr/>
          </p:nvSpPr>
          <p:spPr>
            <a:xfrm>
              <a:off x="601200" y="558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求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41400" y="5608800"/>
              <a:ext cx="264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处约束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32280" y="5562720"/>
              <a:ext cx="222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处约束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6" name=""/>
            <p:cNvGraphicFramePr/>
            <p:nvPr/>
          </p:nvGraphicFramePr>
          <p:xfrm>
            <a:off x="1828800" y="5649840"/>
            <a:ext cx="800280" cy="5335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85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828800" y="5649840"/>
                      <a:ext cx="80028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8" name=""/>
            <p:cNvSpPr/>
            <p:nvPr/>
          </p:nvSpPr>
          <p:spPr>
            <a:xfrm>
              <a:off x="1234440" y="56530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9" name="" descr=""/>
          <p:cNvPicPr/>
          <p:nvPr/>
        </p:nvPicPr>
        <p:blipFill>
          <a:blip r:embed="rId14"/>
          <a:stretch/>
        </p:blipFill>
        <p:spPr>
          <a:xfrm>
            <a:off x="1676520" y="1981080"/>
            <a:ext cx="4952880" cy="3302280"/>
          </a:xfrm>
          <a:prstGeom prst="rect">
            <a:avLst/>
          </a:prstGeom>
          <a:ln w="0">
            <a:noFill/>
          </a:ln>
        </p:spPr>
      </p:pic>
      <p:sp>
        <p:nvSpPr>
          <p:cNvPr id="860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1752480" y="2057400"/>
          <a:ext cx="4800600" cy="3184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752480" y="2057400"/>
                    <a:ext cx="480060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6" name=""/>
          <p:cNvGrpSpPr/>
          <p:nvPr/>
        </p:nvGrpSpPr>
        <p:grpSpPr>
          <a:xfrm>
            <a:off x="900000" y="2878200"/>
            <a:ext cx="4853160" cy="539640"/>
            <a:chOff x="900000" y="2878200"/>
            <a:chExt cx="4853160" cy="539640"/>
          </a:xfrm>
        </p:grpSpPr>
        <mc:AlternateContent>
          <mc:Choice xmlns:a14="http://schemas.microsoft.com/office/drawing/2010/main" Requires="a14">
            <p:sp>
              <p:nvSpPr>
                <p:cNvPr id="867" name=""/>
                <p:cNvSpPr txBox="1"/>
                <p:nvPr/>
              </p:nvSpPr>
              <p:spPr>
                <a:xfrm>
                  <a:off x="900000" y="2878200"/>
                  <a:ext cx="115092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8" name=""/>
                <p:cNvSpPr txBox="1"/>
                <p:nvPr/>
              </p:nvSpPr>
              <p:spPr>
                <a:xfrm>
                  <a:off x="2514600" y="2924280"/>
                  <a:ext cx="323856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τ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x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69" name=""/>
          <p:cNvGrpSpPr/>
          <p:nvPr/>
        </p:nvGrpSpPr>
        <p:grpSpPr>
          <a:xfrm>
            <a:off x="914400" y="3429000"/>
            <a:ext cx="3400560" cy="523800"/>
            <a:chOff x="914400" y="3429000"/>
            <a:chExt cx="3400560" cy="523800"/>
          </a:xfrm>
        </p:grpSpPr>
        <mc:AlternateContent>
          <mc:Choice xmlns:a14="http://schemas.microsoft.com/office/drawing/2010/main" Requires="a14">
            <p:sp>
              <p:nvSpPr>
                <p:cNvPr id="870" name=""/>
                <p:cNvSpPr txBox="1"/>
                <p:nvPr/>
              </p:nvSpPr>
              <p:spPr>
                <a:xfrm>
                  <a:off x="914400" y="3503520"/>
                  <a:ext cx="106992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1" name=""/>
                <p:cNvSpPr txBox="1"/>
                <p:nvPr/>
              </p:nvSpPr>
              <p:spPr>
                <a:xfrm>
                  <a:off x="2667240" y="3429000"/>
                  <a:ext cx="1647720" cy="52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y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2" name=""/>
          <p:cNvGrpSpPr/>
          <p:nvPr/>
        </p:nvGrpSpPr>
        <p:grpSpPr>
          <a:xfrm>
            <a:off x="838080" y="4111560"/>
            <a:ext cx="4454640" cy="490680"/>
            <a:chOff x="838080" y="4111560"/>
            <a:chExt cx="4454640" cy="490680"/>
          </a:xfrm>
        </p:grpSpPr>
        <mc:AlternateContent>
          <mc:Choice xmlns:a14="http://schemas.microsoft.com/office/drawing/2010/main" Requires="a14">
            <p:sp>
              <p:nvSpPr>
                <p:cNvPr id="873" name=""/>
                <p:cNvSpPr txBox="1"/>
                <p:nvPr/>
              </p:nvSpPr>
              <p:spPr>
                <a:xfrm>
                  <a:off x="838080" y="4111560"/>
                  <a:ext cx="106992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4" name=""/>
                <p:cNvSpPr txBox="1"/>
                <p:nvPr/>
              </p:nvSpPr>
              <p:spPr>
                <a:xfrm>
                  <a:off x="2514600" y="4141800"/>
                  <a:ext cx="277812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τ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z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5" name=""/>
          <p:cNvGrpSpPr/>
          <p:nvPr/>
        </p:nvGrpSpPr>
        <p:grpSpPr>
          <a:xfrm>
            <a:off x="685800" y="4800600"/>
            <a:ext cx="6649920" cy="541440"/>
            <a:chOff x="685800" y="4800600"/>
            <a:chExt cx="6649920" cy="541440"/>
          </a:xfrm>
        </p:grpSpPr>
        <mc:AlternateContent>
          <mc:Choice xmlns:a14="http://schemas.microsoft.com/office/drawing/2010/main" Requires="a14">
            <p:sp>
              <p:nvSpPr>
                <p:cNvPr id="876" name=""/>
                <p:cNvSpPr txBox="1"/>
                <p:nvPr/>
              </p:nvSpPr>
              <p:spPr>
                <a:xfrm>
                  <a:off x="685800" y="4813200"/>
                  <a:ext cx="175248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F</m:t>
                              </m:r>
                            </m:e>
                          </m:d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877" name=""/>
            <p:cNvGraphicFramePr/>
            <p:nvPr/>
          </p:nvGraphicFramePr>
          <p:xfrm>
            <a:off x="2735280" y="4800600"/>
            <a:ext cx="4600440" cy="541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35280" y="4800600"/>
                      <a:ext cx="4600440" cy="54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79" name=""/>
          <p:cNvGrpSpPr/>
          <p:nvPr/>
        </p:nvGrpSpPr>
        <p:grpSpPr>
          <a:xfrm>
            <a:off x="762120" y="5410080"/>
            <a:ext cx="4314600" cy="474840"/>
            <a:chOff x="762120" y="5410080"/>
            <a:chExt cx="4314600" cy="474840"/>
          </a:xfrm>
        </p:grpSpPr>
        <mc:AlternateContent>
          <mc:Choice xmlns:a14="http://schemas.microsoft.com/office/drawing/2010/main" Requires="a14">
            <p:sp>
              <p:nvSpPr>
                <p:cNvPr id="880" name=""/>
                <p:cNvSpPr txBox="1"/>
                <p:nvPr/>
              </p:nvSpPr>
              <p:spPr>
                <a:xfrm>
                  <a:off x="762120" y="5410080"/>
                  <a:ext cx="160020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F</m:t>
                              </m:r>
                            </m:e>
                          </m:d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1" name=""/>
                <p:cNvSpPr txBox="1"/>
                <p:nvPr/>
              </p:nvSpPr>
              <p:spPr>
                <a:xfrm>
                  <a:off x="2971800" y="5410080"/>
                  <a:ext cx="210492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τ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R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2" name=""/>
          <p:cNvGrpSpPr/>
          <p:nvPr/>
        </p:nvGrpSpPr>
        <p:grpSpPr>
          <a:xfrm>
            <a:off x="762120" y="5935680"/>
            <a:ext cx="7626240" cy="577800"/>
            <a:chOff x="762120" y="5935680"/>
            <a:chExt cx="7626240" cy="577800"/>
          </a:xfrm>
        </p:grpSpPr>
        <mc:AlternateContent>
          <mc:Choice xmlns:a14="http://schemas.microsoft.com/office/drawing/2010/main" Requires="a14">
            <p:sp>
              <p:nvSpPr>
                <p:cNvPr id="883" name=""/>
                <p:cNvSpPr txBox="1"/>
                <p:nvPr/>
              </p:nvSpPr>
              <p:spPr>
                <a:xfrm>
                  <a:off x="762120" y="6019920"/>
                  <a:ext cx="167616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F</m:t>
                              </m:r>
                            </m:e>
                          </m:d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884" name=""/>
            <p:cNvGraphicFramePr/>
            <p:nvPr/>
          </p:nvGraphicFramePr>
          <p:xfrm>
            <a:off x="2703600" y="5935680"/>
            <a:ext cx="5684760" cy="561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8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03600" y="5935680"/>
                      <a:ext cx="56847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86" name=""/>
          <p:cNvSpPr/>
          <p:nvPr/>
        </p:nvSpPr>
        <p:spPr>
          <a:xfrm>
            <a:off x="484200" y="90360"/>
            <a:ext cx="73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：研究对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主轴及工件，受力图如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1219320" y="685800"/>
          <a:ext cx="3276360" cy="2216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685800"/>
                    <a:ext cx="32763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3" name=""/>
          <p:cNvGraphicFramePr/>
          <p:nvPr/>
        </p:nvGraphicFramePr>
        <p:xfrm>
          <a:off x="4876920" y="762120"/>
          <a:ext cx="2600280" cy="2133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9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76920" y="762120"/>
                    <a:ext cx="260028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59" dur="indefinite" restart="never" nodeType="tmRoot">
          <p:childTnLst>
            <p:seq>
              <p:cTn id="1560" dur="indefinite" nodeType="mainSeq">
                <p:childTnLst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885600" y="228600"/>
            <a:ext cx="2462400" cy="531720"/>
            <a:chOff x="885600" y="228600"/>
            <a:chExt cx="2462400" cy="531720"/>
          </a:xfrm>
        </p:grpSpPr>
        <p:sp>
          <p:nvSpPr>
            <p:cNvPr id="896" name=""/>
            <p:cNvSpPr/>
            <p:nvPr/>
          </p:nvSpPr>
          <p:spPr>
            <a:xfrm>
              <a:off x="885600" y="22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又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7" name=""/>
                <p:cNvSpPr txBox="1"/>
                <p:nvPr/>
              </p:nvSpPr>
              <p:spPr>
                <a:xfrm>
                  <a:off x="1539720" y="243000"/>
                  <a:ext cx="1808280" cy="51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τ</m:t>
                          </m:r>
                        </m:sub>
                      </m:sSub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8" name=""/>
          <p:cNvGrpSpPr/>
          <p:nvPr/>
        </p:nvGrpSpPr>
        <p:grpSpPr>
          <a:xfrm>
            <a:off x="1666800" y="762120"/>
            <a:ext cx="4043520" cy="525240"/>
            <a:chOff x="1666800" y="762120"/>
            <a:chExt cx="4043520" cy="525240"/>
          </a:xfrm>
        </p:grpSpPr>
        <mc:AlternateContent>
          <mc:Choice xmlns:a14="http://schemas.microsoft.com/office/drawing/2010/main" Requires="a14">
            <p:sp>
              <p:nvSpPr>
                <p:cNvPr id="899" name=""/>
                <p:cNvSpPr txBox="1"/>
                <p:nvPr/>
              </p:nvSpPr>
              <p:spPr>
                <a:xfrm>
                  <a:off x="1666800" y="762120"/>
                  <a:ext cx="1897200" cy="52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τ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900" name=""/>
            <p:cNvGraphicFramePr/>
            <p:nvPr/>
          </p:nvGraphicFramePr>
          <p:xfrm>
            <a:off x="3898800" y="782640"/>
            <a:ext cx="1811520" cy="493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98800" y="782640"/>
                      <a:ext cx="181152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02" name=""/>
          <p:cNvGrpSpPr/>
          <p:nvPr/>
        </p:nvGrpSpPr>
        <p:grpSpPr>
          <a:xfrm>
            <a:off x="1676520" y="1295280"/>
            <a:ext cx="4748040" cy="495360"/>
            <a:chOff x="1676520" y="1295280"/>
            <a:chExt cx="4748040" cy="495360"/>
          </a:xfrm>
        </p:grpSpPr>
        <mc:AlternateContent>
          <mc:Choice xmlns:a14="http://schemas.microsoft.com/office/drawing/2010/main" Requires="a14">
            <p:sp>
              <p:nvSpPr>
                <p:cNvPr id="903" name=""/>
                <p:cNvSpPr txBox="1"/>
                <p:nvPr/>
              </p:nvSpPr>
              <p:spPr>
                <a:xfrm>
                  <a:off x="1676520" y="1295280"/>
                  <a:ext cx="201132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4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4" name=""/>
                <p:cNvSpPr txBox="1"/>
                <p:nvPr/>
              </p:nvSpPr>
              <p:spPr>
                <a:xfrm>
                  <a:off x="4048200" y="1311120"/>
                  <a:ext cx="237636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7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5" name=""/>
          <p:cNvGrpSpPr/>
          <p:nvPr/>
        </p:nvGrpSpPr>
        <p:grpSpPr>
          <a:xfrm>
            <a:off x="1676520" y="1905120"/>
            <a:ext cx="6428880" cy="556920"/>
            <a:chOff x="1676520" y="1905120"/>
            <a:chExt cx="6428880" cy="556920"/>
          </a:xfrm>
        </p:grpSpPr>
        <mc:AlternateContent>
          <mc:Choice xmlns:a14="http://schemas.microsoft.com/office/drawing/2010/main" Requires="a14">
            <p:sp>
              <p:nvSpPr>
                <p:cNvPr id="906" name=""/>
                <p:cNvSpPr txBox="1"/>
                <p:nvPr/>
              </p:nvSpPr>
              <p:spPr>
                <a:xfrm>
                  <a:off x="1676520" y="1905120"/>
                  <a:ext cx="210780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7" name=""/>
                <p:cNvSpPr txBox="1"/>
                <p:nvPr/>
              </p:nvSpPr>
              <p:spPr>
                <a:xfrm>
                  <a:off x="4127400" y="1922400"/>
                  <a:ext cx="181728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8" name=""/>
                <p:cNvSpPr txBox="1"/>
                <p:nvPr/>
              </p:nvSpPr>
              <p:spPr>
                <a:xfrm>
                  <a:off x="6184800" y="1933560"/>
                  <a:ext cx="192060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z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09" name=""/>
          <p:cNvSpPr/>
          <p:nvPr/>
        </p:nvSpPr>
        <p:spPr>
          <a:xfrm>
            <a:off x="533520" y="26668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研究对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工件受力图如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966960" y="3224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列平衡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609480" y="3886200"/>
            <a:ext cx="3124080" cy="609120"/>
            <a:chOff x="609480" y="3886200"/>
            <a:chExt cx="3124080" cy="609120"/>
          </a:xfrm>
        </p:grpSpPr>
        <mc:AlternateContent>
          <mc:Choice xmlns:a14="http://schemas.microsoft.com/office/drawing/2010/main" Requires="a14">
            <p:sp>
              <p:nvSpPr>
                <p:cNvPr id="912" name=""/>
                <p:cNvSpPr txBox="1"/>
                <p:nvPr/>
              </p:nvSpPr>
              <p:spPr>
                <a:xfrm>
                  <a:off x="609480" y="3886200"/>
                  <a:ext cx="1172160" cy="60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3" name=""/>
                <p:cNvSpPr txBox="1"/>
                <p:nvPr/>
              </p:nvSpPr>
              <p:spPr>
                <a:xfrm>
                  <a:off x="2248920" y="3890520"/>
                  <a:ext cx="148464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x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4" name=""/>
          <p:cNvGrpSpPr/>
          <p:nvPr/>
        </p:nvGrpSpPr>
        <p:grpSpPr>
          <a:xfrm>
            <a:off x="685800" y="4648320"/>
            <a:ext cx="2971440" cy="609120"/>
            <a:chOff x="685800" y="4648320"/>
            <a:chExt cx="2971440" cy="609120"/>
          </a:xfrm>
        </p:grpSpPr>
        <mc:AlternateContent>
          <mc:Choice xmlns:a14="http://schemas.microsoft.com/office/drawing/2010/main" Requires="a14">
            <p:sp>
              <p:nvSpPr>
                <p:cNvPr id="915" name=""/>
                <p:cNvSpPr txBox="1"/>
                <p:nvPr/>
              </p:nvSpPr>
              <p:spPr>
                <a:xfrm>
                  <a:off x="685800" y="4686480"/>
                  <a:ext cx="1103760" cy="57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6" name=""/>
                <p:cNvSpPr txBox="1"/>
                <p:nvPr/>
              </p:nvSpPr>
              <p:spPr>
                <a:xfrm>
                  <a:off x="2229840" y="4648320"/>
                  <a:ext cx="142740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y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7" name=""/>
          <p:cNvGrpSpPr/>
          <p:nvPr/>
        </p:nvGrpSpPr>
        <p:grpSpPr>
          <a:xfrm>
            <a:off x="685800" y="5410080"/>
            <a:ext cx="3123720" cy="609480"/>
            <a:chOff x="685800" y="5410080"/>
            <a:chExt cx="3123720" cy="609480"/>
          </a:xfrm>
        </p:grpSpPr>
        <mc:AlternateContent>
          <mc:Choice xmlns:a14="http://schemas.microsoft.com/office/drawing/2010/main" Requires="a14">
            <p:sp>
              <p:nvSpPr>
                <p:cNvPr id="918" name=""/>
                <p:cNvSpPr txBox="1"/>
                <p:nvPr/>
              </p:nvSpPr>
              <p:spPr>
                <a:xfrm>
                  <a:off x="685800" y="5410080"/>
                  <a:ext cx="12686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2270160" y="5470200"/>
                  <a:ext cx="1539360" cy="53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z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20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62120" y="9144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5" name=""/>
          <p:cNvGraphicFramePr/>
          <p:nvPr/>
        </p:nvGraphicFramePr>
        <p:xfrm>
          <a:off x="4495680" y="3352680"/>
          <a:ext cx="4343400" cy="240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95680" y="3352680"/>
                    <a:ext cx="43434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"/>
          <p:cNvGrpSpPr/>
          <p:nvPr/>
        </p:nvGrpSpPr>
        <p:grpSpPr>
          <a:xfrm>
            <a:off x="709560" y="841320"/>
            <a:ext cx="4149720" cy="473040"/>
            <a:chOff x="709560" y="841320"/>
            <a:chExt cx="4149720" cy="473040"/>
          </a:xfrm>
        </p:grpSpPr>
        <mc:AlternateContent>
          <mc:Choice xmlns:a14="http://schemas.microsoft.com/office/drawing/2010/main" Requires="a14">
            <p:sp>
              <p:nvSpPr>
                <p:cNvPr id="928" name=""/>
                <p:cNvSpPr txBox="1"/>
                <p:nvPr/>
              </p:nvSpPr>
              <p:spPr>
                <a:xfrm>
                  <a:off x="709560" y="841320"/>
                  <a:ext cx="16304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F</m:t>
                              </m:r>
                            </m:e>
                          </m:d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9" name=""/>
                <p:cNvSpPr txBox="1"/>
                <p:nvPr/>
              </p:nvSpPr>
              <p:spPr>
                <a:xfrm>
                  <a:off x="2843280" y="851040"/>
                  <a:ext cx="201600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0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0" name=""/>
          <p:cNvGrpSpPr/>
          <p:nvPr/>
        </p:nvGrpSpPr>
        <p:grpSpPr>
          <a:xfrm>
            <a:off x="709560" y="1677960"/>
            <a:ext cx="4222800" cy="504720"/>
            <a:chOff x="709560" y="1677960"/>
            <a:chExt cx="4222800" cy="504720"/>
          </a:xfrm>
        </p:grpSpPr>
        <mc:AlternateContent>
          <mc:Choice xmlns:a14="http://schemas.microsoft.com/office/drawing/2010/main" Requires="a14">
            <p:sp>
              <p:nvSpPr>
                <p:cNvPr id="931" name=""/>
                <p:cNvSpPr txBox="1"/>
                <p:nvPr/>
              </p:nvSpPr>
              <p:spPr>
                <a:xfrm>
                  <a:off x="709560" y="1709640"/>
                  <a:ext cx="16304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F</m:t>
                              </m:r>
                            </m:e>
                          </m:d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2" name=""/>
                <p:cNvSpPr txBox="1"/>
                <p:nvPr/>
              </p:nvSpPr>
              <p:spPr>
                <a:xfrm>
                  <a:off x="2843280" y="1677960"/>
                  <a:ext cx="208908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3" name=""/>
          <p:cNvGrpSpPr/>
          <p:nvPr/>
        </p:nvGrpSpPr>
        <p:grpSpPr>
          <a:xfrm>
            <a:off x="709560" y="2505240"/>
            <a:ext cx="4799160" cy="500040"/>
            <a:chOff x="709560" y="2505240"/>
            <a:chExt cx="4799160" cy="500040"/>
          </a:xfrm>
        </p:grpSpPr>
        <mc:AlternateContent>
          <mc:Choice xmlns:a14="http://schemas.microsoft.com/office/drawing/2010/main" Requires="a14">
            <p:sp>
              <p:nvSpPr>
                <p:cNvPr id="934" name=""/>
                <p:cNvSpPr txBox="1"/>
                <p:nvPr/>
              </p:nvSpPr>
              <p:spPr>
                <a:xfrm>
                  <a:off x="709560" y="2505240"/>
                  <a:ext cx="170172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F</m:t>
                              </m:r>
                            </m:e>
                          </m:d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5" name=""/>
                <p:cNvSpPr txBox="1"/>
                <p:nvPr/>
              </p:nvSpPr>
              <p:spPr>
                <a:xfrm>
                  <a:off x="2843280" y="2514600"/>
                  <a:ext cx="266544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0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1700280" y="3413160"/>
                <a:ext cx="5176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7" name=""/>
              <p:cNvSpPr txBox="1"/>
              <p:nvPr/>
            </p:nvSpPr>
            <p:spPr>
              <a:xfrm>
                <a:off x="785880" y="4264200"/>
                <a:ext cx="69548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8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9480" y="35053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481680" y="228600"/>
            <a:ext cx="120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-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600200" y="304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：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及各尺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972800" y="762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81800" y="76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杆内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70000" y="12952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：研究对象，长方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576440" y="18288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列平衡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304920" y="2286000"/>
            <a:ext cx="5707080" cy="914400"/>
            <a:chOff x="304920" y="2286000"/>
            <a:chExt cx="5707080" cy="914400"/>
          </a:xfrm>
        </p:grpSpPr>
        <p:graphicFrame>
          <p:nvGraphicFramePr>
            <p:cNvPr id="950" name=""/>
            <p:cNvGraphicFramePr/>
            <p:nvPr/>
          </p:nvGraphicFramePr>
          <p:xfrm>
            <a:off x="304920" y="2455920"/>
            <a:ext cx="1768320" cy="55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2455920"/>
                      <a:ext cx="1768320" cy="55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952" name=""/>
                <p:cNvSpPr txBox="1"/>
                <p:nvPr/>
              </p:nvSpPr>
              <p:spPr>
                <a:xfrm>
                  <a:off x="2243160" y="2295360"/>
                  <a:ext cx="2539800" cy="90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6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953" name=""/>
            <p:cNvGraphicFramePr/>
            <p:nvPr/>
          </p:nvGraphicFramePr>
          <p:xfrm>
            <a:off x="4767120" y="2286000"/>
            <a:ext cx="1244880" cy="857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67120" y="2286000"/>
                      <a:ext cx="124488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55" name=""/>
          <p:cNvGrpSpPr/>
          <p:nvPr/>
        </p:nvGrpSpPr>
        <p:grpSpPr>
          <a:xfrm>
            <a:off x="304920" y="3200400"/>
            <a:ext cx="5378040" cy="577800"/>
            <a:chOff x="304920" y="3200400"/>
            <a:chExt cx="5378040" cy="577800"/>
          </a:xfrm>
        </p:grpSpPr>
        <p:graphicFrame>
          <p:nvGraphicFramePr>
            <p:cNvPr id="956" name=""/>
            <p:cNvGraphicFramePr/>
            <p:nvPr/>
          </p:nvGraphicFramePr>
          <p:xfrm>
            <a:off x="304920" y="3200400"/>
            <a:ext cx="1792080" cy="5526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04920" y="3200400"/>
                      <a:ext cx="179208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958" name=""/>
                <p:cNvSpPr txBox="1"/>
                <p:nvPr/>
              </p:nvSpPr>
              <p:spPr>
                <a:xfrm>
                  <a:off x="4770360" y="3279960"/>
                  <a:ext cx="91260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59" name=""/>
          <p:cNvGrpSpPr/>
          <p:nvPr/>
        </p:nvGrpSpPr>
        <p:grpSpPr>
          <a:xfrm>
            <a:off x="347760" y="3786120"/>
            <a:ext cx="5367240" cy="552600"/>
            <a:chOff x="347760" y="3786120"/>
            <a:chExt cx="5367240" cy="552600"/>
          </a:xfrm>
        </p:grpSpPr>
        <p:graphicFrame>
          <p:nvGraphicFramePr>
            <p:cNvPr id="960" name=""/>
            <p:cNvGraphicFramePr/>
            <p:nvPr/>
          </p:nvGraphicFramePr>
          <p:xfrm>
            <a:off x="347760" y="3786120"/>
            <a:ext cx="1790640" cy="552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6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47760" y="3786120"/>
                      <a:ext cx="179064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962" name=""/>
                <p:cNvSpPr txBox="1"/>
                <p:nvPr/>
              </p:nvSpPr>
              <p:spPr>
                <a:xfrm>
                  <a:off x="4802040" y="3809880"/>
                  <a:ext cx="91296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3" name=""/>
          <p:cNvGrpSpPr/>
          <p:nvPr/>
        </p:nvGrpSpPr>
        <p:grpSpPr>
          <a:xfrm>
            <a:off x="318960" y="4275000"/>
            <a:ext cx="7653600" cy="941400"/>
            <a:chOff x="318960" y="4275000"/>
            <a:chExt cx="7653600" cy="941400"/>
          </a:xfrm>
        </p:grpSpPr>
        <p:graphicFrame>
          <p:nvGraphicFramePr>
            <p:cNvPr id="964" name=""/>
            <p:cNvGraphicFramePr/>
            <p:nvPr/>
          </p:nvGraphicFramePr>
          <p:xfrm>
            <a:off x="318960" y="4419720"/>
            <a:ext cx="1791000" cy="5522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6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18960" y="4419720"/>
                      <a:ext cx="1791000" cy="55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966" name=""/>
                <p:cNvSpPr txBox="1"/>
                <p:nvPr/>
              </p:nvSpPr>
              <p:spPr>
                <a:xfrm>
                  <a:off x="2209680" y="4275000"/>
                  <a:ext cx="437040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6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P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7" name=""/>
                <p:cNvSpPr txBox="1"/>
                <p:nvPr/>
              </p:nvSpPr>
              <p:spPr>
                <a:xfrm>
                  <a:off x="7086600" y="4481640"/>
                  <a:ext cx="885960" cy="4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68" name="" descr=""/>
          <p:cNvPicPr/>
          <p:nvPr/>
        </p:nvPicPr>
        <p:blipFill>
          <a:blip r:embed="rId12"/>
          <a:stretch/>
        </p:blipFill>
        <p:spPr>
          <a:xfrm>
            <a:off x="6008760" y="176040"/>
            <a:ext cx="2982960" cy="3481560"/>
          </a:xfrm>
          <a:prstGeom prst="rect">
            <a:avLst/>
          </a:prstGeom>
          <a:ln w="0">
            <a:noFill/>
          </a:ln>
        </p:spPr>
      </p:pic>
      <p:grpSp>
        <p:nvGrpSpPr>
          <p:cNvPr id="969" name=""/>
          <p:cNvGrpSpPr/>
          <p:nvPr/>
        </p:nvGrpSpPr>
        <p:grpSpPr>
          <a:xfrm>
            <a:off x="307800" y="5105520"/>
            <a:ext cx="7998120" cy="817560"/>
            <a:chOff x="307800" y="5105520"/>
            <a:chExt cx="7998120" cy="817560"/>
          </a:xfrm>
        </p:grpSpPr>
        <p:graphicFrame>
          <p:nvGraphicFramePr>
            <p:cNvPr id="970" name=""/>
            <p:cNvGraphicFramePr/>
            <p:nvPr/>
          </p:nvGraphicFramePr>
          <p:xfrm>
            <a:off x="307800" y="5240160"/>
            <a:ext cx="1884600" cy="584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97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07800" y="5240160"/>
                      <a:ext cx="188460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2692440" y="5105520"/>
                  <a:ext cx="250812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b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P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3" name=""/>
                <p:cNvSpPr txBox="1"/>
                <p:nvPr/>
              </p:nvSpPr>
              <p:spPr>
                <a:xfrm>
                  <a:off x="7010280" y="5297400"/>
                  <a:ext cx="129564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4" name=""/>
          <p:cNvGrpSpPr/>
          <p:nvPr/>
        </p:nvGrpSpPr>
        <p:grpSpPr>
          <a:xfrm>
            <a:off x="368280" y="5805360"/>
            <a:ext cx="8394840" cy="804960"/>
            <a:chOff x="368280" y="5805360"/>
            <a:chExt cx="8394840" cy="804960"/>
          </a:xfrm>
        </p:grpSpPr>
        <p:graphicFrame>
          <p:nvGraphicFramePr>
            <p:cNvPr id="975" name=""/>
            <p:cNvGraphicFramePr/>
            <p:nvPr/>
          </p:nvGraphicFramePr>
          <p:xfrm>
            <a:off x="368280" y="5951520"/>
            <a:ext cx="1855800" cy="573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97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68280" y="5951520"/>
                      <a:ext cx="185580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977" name=""/>
                <p:cNvSpPr txBox="1"/>
                <p:nvPr/>
              </p:nvSpPr>
              <p:spPr>
                <a:xfrm>
                  <a:off x="2641680" y="5805360"/>
                  <a:ext cx="412596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P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8" name=""/>
                <p:cNvSpPr txBox="1"/>
                <p:nvPr/>
              </p:nvSpPr>
              <p:spPr>
                <a:xfrm>
                  <a:off x="7010280" y="5886360"/>
                  <a:ext cx="175284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9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3" name=""/>
          <p:cNvGraphicFramePr/>
          <p:nvPr/>
        </p:nvGraphicFramePr>
        <p:xfrm>
          <a:off x="6019920" y="228600"/>
          <a:ext cx="3035160" cy="3352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8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19920" y="228600"/>
                    <a:ext cx="30351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5" name=""/>
          <p:cNvGraphicFramePr/>
          <p:nvPr/>
        </p:nvGraphicFramePr>
        <p:xfrm>
          <a:off x="5950080" y="152280"/>
          <a:ext cx="3193920" cy="3429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8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50080" y="152280"/>
                    <a:ext cx="31939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380880" y="228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261440" y="12193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：其重心坐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481760" y="70020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：均质等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Z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字型薄板尺寸如图所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7240" y="4471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62120" y="22860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虚线分割如图，为三个小矩形，其面积与坐标分别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870280" y="228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1600" y="1752480"/>
            <a:ext cx="894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厚度方向重心坐标已确定，只求重心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坐标即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380880" y="2819520"/>
            <a:ext cx="5257800" cy="571320"/>
            <a:chOff x="380880" y="2819520"/>
            <a:chExt cx="5257800" cy="571320"/>
          </a:xfrm>
        </p:grpSpPr>
        <mc:AlternateContent>
          <mc:Choice xmlns:a14="http://schemas.microsoft.com/office/drawing/2010/main" Requires="a14">
            <p:sp>
              <p:nvSpPr>
                <p:cNvPr id="995" name=""/>
                <p:cNvSpPr txBox="1"/>
                <p:nvPr/>
              </p:nvSpPr>
              <p:spPr>
                <a:xfrm>
                  <a:off x="380880" y="2909880"/>
                  <a:ext cx="17528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rPr>
                          <m:lit/>
                          <m:nor/>
                        </m:rPr>
                        <m:t xml:space="preserve">m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6" name=""/>
                <p:cNvSpPr txBox="1"/>
                <p:nvPr/>
              </p:nvSpPr>
              <p:spPr>
                <a:xfrm>
                  <a:off x="2133720" y="2886120"/>
                  <a:ext cx="158256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rPr>
                          <m:lit/>
                          <m:nor/>
                        </m:rPr>
                        <m:t xml:space="preserve">m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7" name=""/>
                <p:cNvSpPr txBox="1"/>
                <p:nvPr/>
              </p:nvSpPr>
              <p:spPr>
                <a:xfrm>
                  <a:off x="3745080" y="2819520"/>
                  <a:ext cx="189360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0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m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98" name=""/>
          <p:cNvGrpSpPr/>
          <p:nvPr/>
        </p:nvGrpSpPr>
        <p:grpSpPr>
          <a:xfrm>
            <a:off x="380880" y="3429000"/>
            <a:ext cx="5357880" cy="509400"/>
            <a:chOff x="380880" y="3429000"/>
            <a:chExt cx="5357880" cy="509400"/>
          </a:xfrm>
        </p:grpSpPr>
        <mc:AlternateContent>
          <mc:Choice xmlns:a14="http://schemas.microsoft.com/office/drawing/2010/main" Requires="a14">
            <p:sp>
              <p:nvSpPr>
                <p:cNvPr id="999" name=""/>
                <p:cNvSpPr txBox="1"/>
                <p:nvPr/>
              </p:nvSpPr>
              <p:spPr>
                <a:xfrm>
                  <a:off x="380880" y="3443040"/>
                  <a:ext cx="14130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0" name=""/>
                <p:cNvSpPr txBox="1"/>
                <p:nvPr/>
              </p:nvSpPr>
              <p:spPr>
                <a:xfrm>
                  <a:off x="2133720" y="3443040"/>
                  <a:ext cx="161136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m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1" name=""/>
                <p:cNvSpPr txBox="1"/>
                <p:nvPr/>
              </p:nvSpPr>
              <p:spPr>
                <a:xfrm>
                  <a:off x="3787920" y="3429000"/>
                  <a:ext cx="195084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00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m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2" name=""/>
          <p:cNvGrpSpPr/>
          <p:nvPr/>
        </p:nvGrpSpPr>
        <p:grpSpPr>
          <a:xfrm>
            <a:off x="457200" y="3962520"/>
            <a:ext cx="5145120" cy="585720"/>
            <a:chOff x="457200" y="3962520"/>
            <a:chExt cx="5145120" cy="585720"/>
          </a:xfrm>
        </p:grpSpPr>
        <mc:AlternateContent>
          <mc:Choice xmlns:a14="http://schemas.microsoft.com/office/drawing/2010/main" Requires="a14">
            <p:sp>
              <p:nvSpPr>
                <p:cNvPr id="1003" name=""/>
                <p:cNvSpPr txBox="1"/>
                <p:nvPr/>
              </p:nvSpPr>
              <p:spPr>
                <a:xfrm>
                  <a:off x="457200" y="4040280"/>
                  <a:ext cx="155592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rPr>
                          <m:lit/>
                          <m:nor/>
                        </m:rPr>
                        <m:t xml:space="preserve">m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4" name=""/>
                <p:cNvSpPr txBox="1"/>
                <p:nvPr/>
              </p:nvSpPr>
              <p:spPr>
                <a:xfrm>
                  <a:off x="2035440" y="4040280"/>
                  <a:ext cx="141264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5" name=""/>
                <p:cNvSpPr txBox="1"/>
                <p:nvPr/>
              </p:nvSpPr>
              <p:spPr>
                <a:xfrm>
                  <a:off x="3679920" y="3962520"/>
                  <a:ext cx="192240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0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m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304920" y="4800600"/>
                <a:ext cx="53337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206280" y="5715000"/>
                <a:ext cx="55850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y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8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2" name=""/>
          <p:cNvGraphicFramePr/>
          <p:nvPr/>
        </p:nvGraphicFramePr>
        <p:xfrm>
          <a:off x="5867280" y="3048120"/>
          <a:ext cx="2971800" cy="269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3048120"/>
                    <a:ext cx="297180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380880" y="763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-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184400" y="990720"/>
            <a:ext cx="18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：其重心坐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2"/>
          <a:stretch/>
        </p:blipFill>
        <p:spPr>
          <a:xfrm>
            <a:off x="4952880" y="2971800"/>
            <a:ext cx="3683160" cy="310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7" name=""/>
          <p:cNvGraphicFramePr/>
          <p:nvPr/>
        </p:nvGraphicFramePr>
        <p:xfrm>
          <a:off x="609480" y="3733920"/>
          <a:ext cx="4114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733920"/>
                    <a:ext cx="4114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9" name=""/>
          <p:cNvGrpSpPr/>
          <p:nvPr/>
        </p:nvGrpSpPr>
        <p:grpSpPr>
          <a:xfrm>
            <a:off x="457200" y="4724280"/>
            <a:ext cx="1890720" cy="755640"/>
            <a:chOff x="457200" y="4724280"/>
            <a:chExt cx="1890720" cy="755640"/>
          </a:xfrm>
        </p:grpSpPr>
        <p:sp>
          <p:nvSpPr>
            <p:cNvPr id="1020" name=""/>
            <p:cNvSpPr/>
            <p:nvPr/>
          </p:nvSpPr>
          <p:spPr>
            <a:xfrm>
              <a:off x="457200" y="4867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1" name=""/>
            <p:cNvGraphicFramePr/>
            <p:nvPr/>
          </p:nvGraphicFramePr>
          <p:xfrm>
            <a:off x="977760" y="4724280"/>
            <a:ext cx="1370160" cy="75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77760" y="4724280"/>
                      <a:ext cx="1370160" cy="75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23" name=""/>
          <p:cNvGraphicFramePr/>
          <p:nvPr/>
        </p:nvGraphicFramePr>
        <p:xfrm>
          <a:off x="579600" y="2819520"/>
          <a:ext cx="4093920" cy="799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600" y="2819520"/>
                    <a:ext cx="40939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5" name=""/>
          <p:cNvGrpSpPr/>
          <p:nvPr/>
        </p:nvGrpSpPr>
        <p:grpSpPr>
          <a:xfrm>
            <a:off x="1419120" y="2133720"/>
            <a:ext cx="2881440" cy="520560"/>
            <a:chOff x="1419120" y="2133720"/>
            <a:chExt cx="2881440" cy="520560"/>
          </a:xfrm>
        </p:grpSpPr>
        <p:graphicFrame>
          <p:nvGraphicFramePr>
            <p:cNvPr id="1026" name=""/>
            <p:cNvGraphicFramePr/>
            <p:nvPr/>
          </p:nvGraphicFramePr>
          <p:xfrm>
            <a:off x="3317760" y="2133720"/>
            <a:ext cx="982800" cy="506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2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17760" y="2133720"/>
                      <a:ext cx="982800" cy="50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8" name=""/>
            <p:cNvSpPr/>
            <p:nvPr/>
          </p:nvSpPr>
          <p:spPr>
            <a:xfrm>
              <a:off x="1419120" y="21337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由对称性，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9" name=""/>
          <p:cNvSpPr/>
          <p:nvPr/>
        </p:nvSpPr>
        <p:spPr>
          <a:xfrm>
            <a:off x="304920" y="152388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：用负面积法，为三部分组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089000" y="5335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：等厚均质偏心块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4343400" y="609480"/>
                <a:ext cx="4572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32" name=""/>
          <p:cNvGrpSpPr/>
          <p:nvPr/>
        </p:nvGrpSpPr>
        <p:grpSpPr>
          <a:xfrm>
            <a:off x="443520" y="5638680"/>
            <a:ext cx="4491720" cy="806400"/>
            <a:chOff x="443520" y="5638680"/>
            <a:chExt cx="4491720" cy="806400"/>
          </a:xfrm>
        </p:grpSpPr>
        <p:sp>
          <p:nvSpPr>
            <p:cNvPr id="1033" name=""/>
            <p:cNvSpPr/>
            <p:nvPr/>
          </p:nvSpPr>
          <p:spPr>
            <a:xfrm>
              <a:off x="443520" y="5771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4" name=""/>
                <p:cNvSpPr txBox="1"/>
                <p:nvPr/>
              </p:nvSpPr>
              <p:spPr>
                <a:xfrm>
                  <a:off x="902880" y="5638680"/>
                  <a:ext cx="403236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y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  <m:r>
                        <m:rPr>
                          <m:lit/>
                          <m:nor/>
                        </m:rPr>
                        <m:t xml:space="preserve">m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5" name="">
            <a:hlinkClick r:id="" action="ppaction://hlinkshowjump?jump=previous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>
            <a:hlinkClick r:id="" action="ppaction://hlinkshowjump?jump=firstslide"/>
          </p:cNvPr>
          <p:cNvSpPr/>
          <p:nvPr/>
        </p:nvSpPr>
        <p:spPr>
          <a:xfrm>
            <a:off x="8245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5" dur="indefinite" restart="never" nodeType="tmRoot">
          <p:childTnLst>
            <p:seq>
              <p:cTn id="1766" dur="indefinite" nodeType="mainSeq">
                <p:childTnLst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" descr=""/>
          <p:cNvPicPr/>
          <p:nvPr/>
        </p:nvPicPr>
        <p:blipFill>
          <a:blip r:embed="rId2"/>
          <a:stretch/>
        </p:blipFill>
        <p:spPr>
          <a:xfrm>
            <a:off x="2971800" y="2971800"/>
            <a:ext cx="3200400" cy="281448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2034000" y="727200"/>
            <a:ext cx="591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个大小相等的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别与坐标轴平行，且分别在三个坐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面内，其作用点依次为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，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预使该力系合成为合力，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应满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" descr=""/>
          <p:cNvPicPr/>
          <p:nvPr/>
        </p:nvPicPr>
        <p:blipFill>
          <a:blip r:embed="rId2"/>
          <a:stretch/>
        </p:blipFill>
        <p:spPr>
          <a:xfrm>
            <a:off x="2362320" y="2362320"/>
            <a:ext cx="4647960" cy="3876480"/>
          </a:xfrm>
          <a:prstGeom prst="rect">
            <a:avLst/>
          </a:prstGeom>
          <a:ln w="0">
            <a:noFill/>
          </a:ln>
        </p:spPr>
      </p:pic>
      <p:grpSp>
        <p:nvGrpSpPr>
          <p:cNvPr id="1040" name=""/>
          <p:cNvGrpSpPr/>
          <p:nvPr/>
        </p:nvGrpSpPr>
        <p:grpSpPr>
          <a:xfrm>
            <a:off x="1219320" y="380880"/>
            <a:ext cx="6743880" cy="1922760"/>
            <a:chOff x="1219320" y="380880"/>
            <a:chExt cx="6743880" cy="1922760"/>
          </a:xfrm>
        </p:grpSpPr>
        <p:sp>
          <p:nvSpPr>
            <p:cNvPr id="1041" name=""/>
            <p:cNvSpPr/>
            <p:nvPr/>
          </p:nvSpPr>
          <p:spPr>
            <a:xfrm>
              <a:off x="1302840" y="380880"/>
              <a:ext cx="66603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已知：两根均质杆分别重为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端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利用球铰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固定到水平面上，另一端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用球铰链相互连接，并靠在光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铅直墙上，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平行于墙和地的交线，如杆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与水平成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度，                    ，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O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求支座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约束力及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处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约束力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2" name=""/>
            <p:cNvGraphicFramePr/>
            <p:nvPr/>
          </p:nvGraphicFramePr>
          <p:xfrm>
            <a:off x="1219320" y="1523880"/>
            <a:ext cx="1466640" cy="373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9320" y="1523880"/>
                      <a:ext cx="1466640" cy="37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" y="1600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力对点的矩以矢量表示 ——力矩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§4–2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力对点的矩和力对轴的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133720" y="5181480"/>
          <a:ext cx="21492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5181480"/>
                    <a:ext cx="21492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33520" y="42670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作用面：力矩作用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505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方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动方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7432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大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力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力臂的乘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562720" y="2133720"/>
            <a:ext cx="2921040" cy="3174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32080" y="2209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要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54100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334120" y="2209680"/>
            <a:ext cx="307332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886200" y="457200"/>
          <a:ext cx="327672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457200"/>
                    <a:ext cx="3276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762120" y="457200"/>
          <a:ext cx="2568600" cy="64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457200"/>
                    <a:ext cx="25686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066680" y="1905120"/>
          <a:ext cx="5816880" cy="633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66680" y="1905120"/>
                    <a:ext cx="5816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066680" y="1143000"/>
          <a:ext cx="6950160" cy="63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66680" y="1143000"/>
                    <a:ext cx="69501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2952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8195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2666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力对点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矩在三个坐标轴上的投影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116000" y="3429000"/>
          <a:ext cx="3027240" cy="654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16000" y="3429000"/>
                    <a:ext cx="302724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130400" y="4267080"/>
          <a:ext cx="2998800" cy="708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30400" y="4267080"/>
                    <a:ext cx="299880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130400" y="5181480"/>
          <a:ext cx="2921040" cy="631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130400" y="5181480"/>
                    <a:ext cx="292104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16"/>
          <a:stretch/>
        </p:blipFill>
        <p:spPr>
          <a:xfrm>
            <a:off x="5638680" y="3276720"/>
            <a:ext cx="3073680" cy="28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27200" y="533520"/>
            <a:ext cx="16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力对轴的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5181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力与轴相交或与轴平行（力与轴在同一平面内），力对该轴的矩为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427120" y="4114800"/>
          <a:ext cx="3668760" cy="64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7120" y="4114800"/>
                    <a:ext cx="36687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685800" y="1447920"/>
            <a:ext cx="7908840" cy="2311200"/>
            <a:chOff x="685800" y="1447920"/>
            <a:chExt cx="7908840" cy="231120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685800" y="1447920"/>
              <a:ext cx="1508040" cy="23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>
              <a:off x="2286000" y="1447920"/>
              <a:ext cx="1508040" cy="23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6"/>
            <a:stretch/>
          </p:blipFill>
          <p:spPr>
            <a:xfrm>
              <a:off x="3886200" y="1447920"/>
              <a:ext cx="1508040" cy="23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7"/>
            <a:stretch/>
          </p:blipFill>
          <p:spPr>
            <a:xfrm>
              <a:off x="5486400" y="1447920"/>
              <a:ext cx="1508040" cy="23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8"/>
            <a:stretch/>
          </p:blipFill>
          <p:spPr>
            <a:xfrm>
              <a:off x="7086600" y="1447920"/>
              <a:ext cx="1508040" cy="231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838080" y="1143000"/>
          <a:ext cx="7315200" cy="6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143000"/>
                    <a:ext cx="73152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838080" y="1905120"/>
          <a:ext cx="7010640" cy="58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1905120"/>
                    <a:ext cx="701064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802680" y="380880"/>
            <a:ext cx="8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力对点的矩与力对过该点的轴的矩的关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5181480" y="2590920"/>
            <a:ext cx="3556080" cy="380988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828036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23744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lastslide"/>
          </p:cNvPr>
          <p:cNvSpPr/>
          <p:nvPr/>
        </p:nvSpPr>
        <p:spPr>
          <a:xfrm>
            <a:off x="8748720" y="6524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38080" y="2666880"/>
          <a:ext cx="3003840" cy="58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2666880"/>
                    <a:ext cx="3003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82480" y="3886200"/>
          <a:ext cx="4294440" cy="66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2480" y="3886200"/>
                    <a:ext cx="42944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631800" y="4495680"/>
          <a:ext cx="4265640" cy="70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1800" y="4495680"/>
                    <a:ext cx="42656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58800" y="5181480"/>
          <a:ext cx="4218120" cy="660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8800" y="5181480"/>
                    <a:ext cx="421812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438280" y="3276720"/>
            <a:ext cx="228600" cy="533160"/>
          </a:xfrm>
          <a:prstGeom prst="downArrow">
            <a:avLst>
              <a:gd name="adj1" fmla="val 50000"/>
              <a:gd name="adj2" fmla="val 58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l</cp:lastModifiedBy>
  <dcterms:modified xsi:type="dcterms:W3CDTF">2006-09-27T06:07:22Z</dcterms:modified>
  <cp:revision>343</cp:revision>
  <dc:subject/>
  <dc:title>PowerPoint Presentation</dc:title>
</cp:coreProperties>
</file>