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5.wmf" ContentType="image/x-wmf"/>
  <Override PartName="/ppt/media/image58.png" ContentType="image/png"/>
  <Override PartName="/ppt/media/image123.wmf" ContentType="image/x-wmf"/>
  <Override PartName="/ppt/media/image122.wmf" ContentType="image/x-wmf"/>
  <Override PartName="/ppt/media/image121.wmf" ContentType="image/x-wmf"/>
  <Override PartName="/ppt/media/image54.png" ContentType="image/png"/>
  <Override PartName="/ppt/media/image120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79.png" ContentType="image/png"/>
  <Override PartName="/ppt/media/image36.wmf" ContentType="image/x-wmf"/>
  <Override PartName="/ppt/media/image6.wmf" ContentType="image/x-wmf"/>
  <Override PartName="/ppt/media/image3.png" ContentType="image/png"/>
  <Override PartName="/ppt/media/image134.wmf" ContentType="image/x-wmf"/>
  <Override PartName="/ppt/media/image33.png" ContentType="image/png"/>
  <Override PartName="/ppt/media/image7.wmf" ContentType="image/x-wmf"/>
  <Override PartName="/ppt/media/image17.wmf" ContentType="image/x-wmf"/>
  <Override PartName="/ppt/media/image85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3.wmf" ContentType="image/x-wmf"/>
  <Override PartName="/ppt/media/image52.png" ContentType="image/png"/>
  <Override PartName="/ppt/media/image86.wmf" ContentType="image/x-wmf"/>
  <Override PartName="/ppt/media/image115.png" ContentType="image/png"/>
  <Override PartName="/ppt/media/image9.wmf" ContentType="image/x-wmf"/>
  <Override PartName="/ppt/media/image31.wmf" ContentType="image/x-wmf"/>
  <Override PartName="/ppt/media/image128.wmf" ContentType="image/x-wmf"/>
  <Override PartName="/ppt/media/image34.png" ContentType="image/png"/>
  <Override PartName="/ppt/media/image18.png" ContentType="image/png"/>
  <Override PartName="/ppt/media/image40.wmf" ContentType="image/x-wmf"/>
  <Override PartName="/ppt/media/image137.wmf" ContentType="image/x-wmf"/>
  <Override PartName="/ppt/media/image37.png" ContentType="image/png"/>
  <Override PartName="/ppt/media/image38.png" ContentType="image/png"/>
  <Override PartName="/ppt/media/image41.wmf" ContentType="image/x-wmf"/>
  <Override PartName="/ppt/media/image138.wmf" ContentType="image/x-wmf"/>
  <Override PartName="/ppt/media/image2.wmf" ContentType="image/x-wmf"/>
  <Override PartName="/ppt/media/image14.wmf" ContentType="image/x-wmf"/>
  <Override PartName="/ppt/media/image129.wmf" ContentType="image/x-wmf"/>
  <Override PartName="/ppt/media/image32.wmf" ContentType="image/x-wmf"/>
  <Override PartName="/ppt/media/image75.png" ContentType="image/png"/>
  <Override PartName="/ppt/media/image133.png" ContentType="image/png"/>
  <Override PartName="/ppt/media/image61.wmf" ContentType="image/x-wmf"/>
  <Override PartName="/ppt/media/image39.png" ContentType="image/png"/>
  <Override PartName="/ppt/media/image11.wmf" ContentType="image/x-wmf"/>
  <Override PartName="/ppt/media/image48.wmf" ContentType="image/x-wmf"/>
  <Override PartName="/ppt/media/image42.wmf" ContentType="image/x-wmf"/>
  <Override PartName="/ppt/media/image80.png" ContentType="image/png"/>
  <Override PartName="/ppt/media/image12.png" ContentType="image/png"/>
  <Override PartName="/ppt/media/image131.wmf" ContentType="image/x-wmf"/>
  <Override PartName="/ppt/media/image135.png" ContentType="image/png"/>
  <Override PartName="/ppt/media/image45.wmf" ContentType="image/x-wmf"/>
  <Override PartName="/ppt/media/image88.png" ContentType="image/png"/>
  <Override PartName="/ppt/media/image132.wmf" ContentType="image/x-wmf"/>
  <Override PartName="/ppt/media/image46.wmf" ContentType="image/x-wmf"/>
  <Override PartName="/ppt/media/image51.wmf" ContentType="image/x-wmf"/>
  <Override PartName="/ppt/media/image94.png" ContentType="image/png"/>
  <Override PartName="/ppt/media/image49.wmf" ContentType="image/x-wmf"/>
  <Override PartName="/ppt/media/image139.png" ContentType="image/png"/>
  <Override PartName="/ppt/media/image56.wmf" ContentType="image/x-wmf"/>
  <Override PartName="/ppt/media/image55.wmf" ContentType="image/x-wmf"/>
  <Override PartName="/ppt/media/image136.png" ContentType="image/png"/>
  <Override PartName="/ppt/media/image53.wmf" ContentType="image/x-wmf"/>
  <Override PartName="/ppt/media/image96.png" ContentType="image/png"/>
  <Override PartName="/ppt/media/image130.wmf" ContentType="image/x-wmf"/>
  <Override PartName="/ppt/media/image108.png" ContentType="image/png"/>
  <Override PartName="/ppt/media/image44.wmf" ContentType="image/x-wmf"/>
  <Override PartName="/ppt/media/image43.wmf" ContentType="image/x-wmf"/>
  <Override PartName="/ppt/media/image28.wmf" ContentType="image/x-wmf"/>
  <Override PartName="/ppt/media/image93.wmf" ContentType="image/x-wmf"/>
  <Override PartName="/ppt/media/image25.wmf" ContentType="image/x-wmf"/>
  <Override PartName="/ppt/media/image89.png" ContentType="image/png"/>
  <Override PartName="/ppt/media/image4.wmf" ContentType="image/x-wmf"/>
  <Override PartName="/ppt/media/image16.wmf" ContentType="image/x-wmf"/>
  <Override PartName="/ppt/media/image27.wmf" ContentType="image/x-wmf"/>
  <Override PartName="/ppt/media/image98.png" ContentType="image/png"/>
  <Override PartName="/ppt/media/image1.jpeg" ContentType="image/jpeg"/>
  <Override PartName="/ppt/media/image15.wmf" ContentType="image/x-wmf"/>
  <Override PartName="/ppt/media/image21.wmf" ContentType="image/x-wmf"/>
  <Override PartName="/ppt/media/image118.wmf" ContentType="image/x-wmf"/>
  <Override PartName="/ppt/media/image20.wmf" ContentType="image/x-wmf"/>
  <Override PartName="/ppt/media/image117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66.png" ContentType="image/png"/>
  <Override PartName="/ppt/media/image24.wmf" ContentType="image/x-wmf"/>
  <Override PartName="/ppt/media/image26.wmf" ContentType="image/x-wmf"/>
  <Override PartName="/ppt/media/image69.png" ContentType="image/png"/>
  <Override PartName="/ppt/media/image62.wmf" ContentType="image/x-wmf"/>
  <Override PartName="/ppt/media/image60.wmf" ContentType="image/x-wmf"/>
  <Override PartName="/ppt/media/image84.jpeg" ContentType="image/jpeg"/>
  <Override PartName="/ppt/media/image63.wmf" ContentType="image/x-wmf"/>
  <Override PartName="/ppt/media/image64.wmf" ContentType="image/x-wmf"/>
  <Override PartName="/ppt/media/image65.wmf" ContentType="image/x-wmf"/>
  <Override PartName="/ppt/media/image67.wmf" ContentType="image/x-wmf"/>
  <Override PartName="/ppt/media/image68.wmf" ContentType="image/x-wmf"/>
  <Override PartName="/ppt/media/image70.png" ContentType="image/png"/>
  <Override PartName="/ppt/media/image57.png" ContentType="image/png"/>
  <Override PartName="/ppt/media/image124.wmf" ContentType="image/x-wmf"/>
  <Override PartName="/ppt/media/image71.wmf" ContentType="image/x-wmf"/>
  <Override PartName="/ppt/media/image100.png" ContentType="image/png"/>
  <Override PartName="/ppt/media/image72.png" ContentType="image/png"/>
  <Override PartName="/ppt/media/image126.wmf" ContentType="image/x-wmf"/>
  <Override PartName="/ppt/media/image73.wmf" ContentType="image/x-wmf"/>
  <Override PartName="/ppt/media/image102.png" ContentType="image/png"/>
  <Override PartName="/ppt/media/image74.wmf" ContentType="image/x-wmf"/>
  <Override PartName="/ppt/media/image103.png" ContentType="image/png"/>
  <Override PartName="/ppt/media/image76.wmf" ContentType="image/x-wmf"/>
  <Override PartName="/ppt/media/image105.png" ContentType="image/png"/>
  <Override PartName="/ppt/media/image77.wmf" ContentType="image/x-wmf"/>
  <Override PartName="/ppt/media/image106.png" ContentType="image/png"/>
  <Override PartName="/ppt/media/image78.wmf" ContentType="image/x-wmf"/>
  <Override PartName="/ppt/media/image107.png" ContentType="image/png"/>
  <Override PartName="/ppt/media/image81.png" ContentType="image/png"/>
  <Override PartName="/ppt/media/image82.png" ContentType="image/png"/>
  <Override PartName="/ppt/media/image50.wmf" ContentType="image/x-wmf"/>
  <Override PartName="/ppt/media/image83.jpeg" ContentType="image/jpeg"/>
  <Override PartName="/ppt/media/image95.png" ContentType="image/png"/>
  <Override PartName="/ppt/media/image19.wmf" ContentType="image/x-wmf"/>
  <Override PartName="/ppt/media/image87.wmf" ContentType="image/x-wmf"/>
  <Override PartName="/ppt/media/image91.png" ContentType="image/png"/>
  <Override PartName="/ppt/media/image92.png" ContentType="image/png"/>
  <Override PartName="/ppt/media/image97.png" ContentType="image/png"/>
  <Override PartName="/ppt/media/image99.wmf" ContentType="image/x-wmf"/>
  <Override PartName="/ppt/media/image101.png" ContentType="image/png"/>
  <Override PartName="/ppt/media/image104.png" ContentType="image/png"/>
  <Override PartName="/ppt/media/image10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5C5-F5BB-4F62-B59A-3649EE7F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276-1D69-4033-8A94-4E98931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8D0-2B4A-4D18-B9A4-36EA5F42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214-1B22-486C-86C1-B000E4A3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F8D-6F05-4847-910A-218B77F4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699-A2AF-41B0-ADC0-B8FCA8C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96A-ED4B-419B-96DA-30E5A14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ECC-DE9E-433C-9D96-98D24CF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02B-DF6C-442C-BB5A-DDEC38F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35D-CC6E-4CF4-88AF-030AA10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9A3-86AA-4F04-B65F-250F93B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D4E-B110-4F0A-916D-0D6DD7A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E30D-E206-4C1A-9745-8CE21A80F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image" Target="../media/image5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5.wmf"/><Relationship Id="rId16" Type="http://schemas.openxmlformats.org/officeDocument/2006/relationships/image" Target="../media/image66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7.wmf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8.wmf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7.wmf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image" Target="../media/image9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2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5.pn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8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5.png"/><Relationship Id="rId1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5.pn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8.wm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0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2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4.wmf"/><Relationship Id="rId4" Type="http://schemas.openxmlformats.org/officeDocument/2006/relationships/image" Target="../media/image135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8.wmf"/><Relationship Id="rId6" Type="http://schemas.openxmlformats.org/officeDocument/2006/relationships/image" Target="../media/image139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9680"/>
            <a:ext cx="61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十二章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动  量  矩  定  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43000" y="333360"/>
            <a:ext cx="7821720" cy="619200"/>
            <a:chOff x="1143000" y="333360"/>
            <a:chExt cx="7821720" cy="619200"/>
          </a:xfrm>
        </p:grpSpPr>
        <p:sp>
          <p:nvSpPr>
            <p:cNvPr id="191" name=""/>
            <p:cNvSpPr/>
            <p:nvPr/>
          </p:nvSpPr>
          <p:spPr>
            <a:xfrm>
              <a:off x="1143000" y="425520"/>
              <a:ext cx="78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12-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：已知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,   ,    ,    ,  ,   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不计摩擦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3124080" y="476280"/>
                  <a:ext cx="45720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708360" y="476280"/>
                  <a:ext cx="405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4284720" y="333360"/>
                  <a:ext cx="64764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5094360" y="333360"/>
                  <a:ext cx="557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5796000" y="333360"/>
                  <a:ext cx="3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6300720" y="333360"/>
                  <a:ext cx="424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660240" y="907920"/>
            <a:ext cx="2111400" cy="459720"/>
            <a:chOff x="660240" y="907920"/>
            <a:chExt cx="2111400" cy="45972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405160" y="1035000"/>
                  <a:ext cx="366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660240" y="907920"/>
              <a:ext cx="166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求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914400" y="1447920"/>
            <a:ext cx="3441600" cy="612720"/>
            <a:chOff x="914400" y="1447920"/>
            <a:chExt cx="3441600" cy="61272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608280" y="1492200"/>
                  <a:ext cx="747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914400" y="1447920"/>
              <a:ext cx="34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处约束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00000" y="2060640"/>
            <a:ext cx="4103640" cy="576360"/>
            <a:chOff x="900000" y="2060640"/>
            <a:chExt cx="4103640" cy="576360"/>
          </a:xfrm>
        </p:grpSpPr>
        <p:sp>
          <p:nvSpPr>
            <p:cNvPr id="205" name=""/>
            <p:cNvSpPr/>
            <p:nvPr/>
          </p:nvSpPr>
          <p:spPr>
            <a:xfrm>
              <a:off x="900000" y="206064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绳索张力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059280" y="2060640"/>
                  <a:ext cx="52992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708360" y="2060640"/>
                  <a:ext cx="5526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8" name="ShockwaveFlash1"/>
          <p:cNvGraphicFramePr/>
          <p:nvPr/>
        </p:nvGraphicFramePr>
        <p:xfrm>
          <a:off x="2666880" y="2743200"/>
          <a:ext cx="3962520" cy="36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743200"/>
                    <a:ext cx="3962520" cy="364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43120" y="85248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5" name=""/>
          <p:cNvGraphicFramePr/>
          <p:nvPr/>
        </p:nvGraphicFramePr>
        <p:xfrm>
          <a:off x="2014560" y="1577880"/>
          <a:ext cx="4586400" cy="6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4560" y="1577880"/>
                    <a:ext cx="45864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3095640"/>
                <a:ext cx="41702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609480" y="2290680"/>
            <a:ext cx="5907240" cy="922320"/>
            <a:chOff x="609480" y="2290680"/>
            <a:chExt cx="5907240" cy="922320"/>
          </a:xfrm>
        </p:grpSpPr>
        <p:sp>
          <p:nvSpPr>
            <p:cNvPr id="219" name=""/>
            <p:cNvSpPr/>
            <p:nvPr/>
          </p:nvSpPr>
          <p:spPr>
            <a:xfrm>
              <a:off x="609480" y="2451240"/>
              <a:ext cx="590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1995480" y="2290680"/>
            <a:ext cx="2720880" cy="92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95480" y="2290680"/>
                      <a:ext cx="272088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986120" y="260280"/>
                <a:ext cx="517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3" name=""/>
          <p:cNvGrpSpPr/>
          <p:nvPr/>
        </p:nvGrpSpPr>
        <p:grpSpPr>
          <a:xfrm>
            <a:off x="395280" y="260280"/>
            <a:ext cx="1655640" cy="491400"/>
            <a:chOff x="395280" y="260280"/>
            <a:chExt cx="1655640" cy="491400"/>
          </a:xfrm>
        </p:grpSpPr>
        <p:sp>
          <p:nvSpPr>
            <p:cNvPr id="224" name=""/>
            <p:cNvSpPr/>
            <p:nvPr/>
          </p:nvSpPr>
          <p:spPr>
            <a:xfrm>
              <a:off x="395280" y="2919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3640" y="260280"/>
              <a:ext cx="9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562720" y="2362320"/>
            <a:ext cx="3581280" cy="32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87692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质心运动定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7200" y="5715000"/>
                <a:ext cx="63309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762120"/>
                <a:ext cx="73389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651120"/>
                <a:ext cx="40305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676520" y="4191120"/>
                <a:ext cx="30398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1981080"/>
                <a:ext cx="6118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971640" y="3141720"/>
            <a:ext cx="2806560" cy="544320"/>
            <a:chOff x="971640" y="3141720"/>
            <a:chExt cx="2806560" cy="544320"/>
          </a:xfrm>
        </p:grpSpPr>
        <p:sp>
          <p:nvSpPr>
            <p:cNvPr id="238" name=""/>
            <p:cNvSpPr/>
            <p:nvPr/>
          </p:nvSpPr>
          <p:spPr>
            <a:xfrm>
              <a:off x="971640" y="3203640"/>
              <a:ext cx="20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研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3220920" y="3141720"/>
                  <a:ext cx="5572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09480" y="5384880"/>
                <a:ext cx="4322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676520" y="5943600"/>
                <a:ext cx="2895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990720" y="4800600"/>
            <a:ext cx="2533680" cy="544680"/>
            <a:chOff x="990720" y="4800600"/>
            <a:chExt cx="2533680" cy="5446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973240" y="4800600"/>
                  <a:ext cx="55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990720" y="4870440"/>
              <a:ext cx="17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研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105520" y="3357720"/>
            <a:ext cx="2011320" cy="238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902280" y="3357720"/>
            <a:ext cx="2013120" cy="238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47600" y="6634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动量矩守恒定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19440" y="1600200"/>
            <a:ext cx="2884320" cy="530280"/>
            <a:chOff x="919440" y="1600200"/>
            <a:chExt cx="2884320" cy="530280"/>
          </a:xfrm>
        </p:grpSpPr>
        <p:sp>
          <p:nvSpPr>
            <p:cNvPr id="253" name=""/>
            <p:cNvSpPr/>
            <p:nvPr/>
          </p:nvSpPr>
          <p:spPr>
            <a:xfrm>
              <a:off x="919440" y="1600200"/>
              <a:ext cx="28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4" name=""/>
            <p:cNvGraphicFramePr/>
            <p:nvPr/>
          </p:nvGraphicFramePr>
          <p:xfrm>
            <a:off x="1295280" y="1600200"/>
            <a:ext cx="2148120" cy="5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1600200"/>
                      <a:ext cx="214812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6" name=""/>
          <p:cNvGrpSpPr/>
          <p:nvPr/>
        </p:nvGrpSpPr>
        <p:grpSpPr>
          <a:xfrm>
            <a:off x="1113480" y="2209680"/>
            <a:ext cx="4289400" cy="555840"/>
            <a:chOff x="1113480" y="2209680"/>
            <a:chExt cx="4289400" cy="555840"/>
          </a:xfrm>
        </p:grpSpPr>
        <p:sp>
          <p:nvSpPr>
            <p:cNvPr id="257" name=""/>
            <p:cNvSpPr/>
            <p:nvPr/>
          </p:nvSpPr>
          <p:spPr>
            <a:xfrm>
              <a:off x="1113480" y="2271600"/>
              <a:ext cx="42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        常量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295280" y="2209680"/>
            <a:ext cx="2052720" cy="54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95280" y="2209680"/>
                      <a:ext cx="205272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3962520" y="2286000"/>
            <a:ext cx="631800" cy="47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2286000"/>
                      <a:ext cx="6318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2" name=""/>
          <p:cNvSpPr/>
          <p:nvPr/>
        </p:nvSpPr>
        <p:spPr>
          <a:xfrm>
            <a:off x="1416600" y="3038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面积速度定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67320" y="3686040"/>
            <a:ext cx="3256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有心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力作用线始终通过某固定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该点称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力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456200" y="4927680"/>
            <a:ext cx="2457720" cy="547560"/>
            <a:chOff x="1456200" y="4927680"/>
            <a:chExt cx="2457720" cy="547560"/>
          </a:xfrm>
        </p:grpSpPr>
        <p:sp>
          <p:nvSpPr>
            <p:cNvPr id="265" name=""/>
            <p:cNvSpPr/>
            <p:nvPr/>
          </p:nvSpPr>
          <p:spPr>
            <a:xfrm>
              <a:off x="1456200" y="4927680"/>
              <a:ext cx="24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2057400" y="4952880"/>
            <a:ext cx="1498680" cy="522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57400" y="4952880"/>
                      <a:ext cx="14986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8" name=""/>
          <p:cNvGrpSpPr/>
          <p:nvPr/>
        </p:nvGrpSpPr>
        <p:grpSpPr>
          <a:xfrm>
            <a:off x="1452600" y="5586480"/>
            <a:ext cx="3840120" cy="523800"/>
            <a:chOff x="1452600" y="5586480"/>
            <a:chExt cx="3840120" cy="523800"/>
          </a:xfrm>
        </p:grpSpPr>
        <p:graphicFrame>
          <p:nvGraphicFramePr>
            <p:cNvPr id="269" name=""/>
            <p:cNvGraphicFramePr/>
            <p:nvPr/>
          </p:nvGraphicFramePr>
          <p:xfrm>
            <a:off x="1452600" y="5586480"/>
            <a:ext cx="2506680" cy="523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52600" y="5586480"/>
                      <a:ext cx="250668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"/>
            <p:cNvSpPr/>
            <p:nvPr/>
          </p:nvSpPr>
          <p:spPr>
            <a:xfrm>
              <a:off x="3849840" y="5638680"/>
              <a:ext cx="144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79720" y="1600200"/>
            <a:ext cx="1729080" cy="514440"/>
            <a:chOff x="3879720" y="1600200"/>
            <a:chExt cx="1729080" cy="514440"/>
          </a:xfrm>
        </p:grpSpPr>
        <p:graphicFrame>
          <p:nvGraphicFramePr>
            <p:cNvPr id="277" name=""/>
            <p:cNvGraphicFramePr/>
            <p:nvPr/>
          </p:nvGraphicFramePr>
          <p:xfrm>
            <a:off x="3962520" y="1600200"/>
            <a:ext cx="685800" cy="514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962520" y="1600200"/>
                      <a:ext cx="68580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3879720" y="160020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        常矢量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660240" y="1628640"/>
          <a:ext cx="427212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" y="1628640"/>
                    <a:ext cx="42721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914400" y="2637000"/>
            <a:ext cx="3081240" cy="817560"/>
            <a:chOff x="914400" y="2637000"/>
            <a:chExt cx="3081240" cy="817560"/>
          </a:xfrm>
        </p:grpSpPr>
        <p:graphicFrame>
          <p:nvGraphicFramePr>
            <p:cNvPr id="283" name=""/>
            <p:cNvGraphicFramePr/>
            <p:nvPr/>
          </p:nvGraphicFramePr>
          <p:xfrm>
            <a:off x="1922400" y="2637000"/>
            <a:ext cx="1309680" cy="817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22400" y="2637000"/>
                      <a:ext cx="130968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914400" y="2793960"/>
              <a:ext cx="30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                        常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036800" y="3705120"/>
            <a:ext cx="2288880" cy="568440"/>
            <a:chOff x="1036800" y="3705120"/>
            <a:chExt cx="2288880" cy="568440"/>
          </a:xfrm>
        </p:grpSpPr>
        <p:graphicFrame>
          <p:nvGraphicFramePr>
            <p:cNvPr id="287" name=""/>
            <p:cNvGraphicFramePr/>
            <p:nvPr/>
          </p:nvGraphicFramePr>
          <p:xfrm>
            <a:off x="1854360" y="3733920"/>
            <a:ext cx="1471320" cy="539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54360" y="3733920"/>
                      <a:ext cx="147132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1036800" y="370512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由图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14400" y="4495680"/>
            <a:ext cx="2577960" cy="685800"/>
            <a:chOff x="914400" y="4495680"/>
            <a:chExt cx="2577960" cy="685800"/>
          </a:xfrm>
        </p:grpSpPr>
        <p:graphicFrame>
          <p:nvGraphicFramePr>
            <p:cNvPr id="291" name=""/>
            <p:cNvGraphicFramePr/>
            <p:nvPr/>
          </p:nvGraphicFramePr>
          <p:xfrm>
            <a:off x="1954080" y="4495680"/>
            <a:ext cx="719280" cy="685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54080" y="4495680"/>
                      <a:ext cx="719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3" name=""/>
            <p:cNvSpPr/>
            <p:nvPr/>
          </p:nvSpPr>
          <p:spPr>
            <a:xfrm>
              <a:off x="914400" y="4572000"/>
              <a:ext cx="25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085040" y="404640"/>
            <a:ext cx="4748040" cy="1123560"/>
            <a:chOff x="1085040" y="404640"/>
            <a:chExt cx="4748040" cy="1123560"/>
          </a:xfrm>
        </p:grpSpPr>
        <p:sp>
          <p:nvSpPr>
            <p:cNvPr id="295" name=""/>
            <p:cNvSpPr/>
            <p:nvPr/>
          </p:nvSpPr>
          <p:spPr>
            <a:xfrm>
              <a:off x="1085040" y="404640"/>
              <a:ext cx="47480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   与    必在一固定平面内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点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运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轨迹是平面曲线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199880" y="528480"/>
            <a:ext cx="349560" cy="466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199880" y="528480"/>
                      <a:ext cx="349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"/>
            <p:cNvGraphicFramePr/>
            <p:nvPr/>
          </p:nvGraphicFramePr>
          <p:xfrm>
            <a:off x="1861920" y="526680"/>
            <a:ext cx="331920" cy="468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861920" y="526680"/>
                      <a:ext cx="33192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00" name="" descr=""/>
          <p:cNvPicPr/>
          <p:nvPr/>
        </p:nvPicPr>
        <p:blipFill>
          <a:blip r:embed="rId14"/>
          <a:stretch/>
        </p:blipFill>
        <p:spPr>
          <a:xfrm>
            <a:off x="4495680" y="2341440"/>
            <a:ext cx="4267440" cy="331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301" name=""/>
          <p:cNvGrpSpPr/>
          <p:nvPr/>
        </p:nvGrpSpPr>
        <p:grpSpPr>
          <a:xfrm>
            <a:off x="1055520" y="5157720"/>
            <a:ext cx="2579760" cy="719280"/>
            <a:chOff x="1055520" y="5157720"/>
            <a:chExt cx="2579760" cy="719280"/>
          </a:xfrm>
        </p:grpSpPr>
        <p:sp>
          <p:nvSpPr>
            <p:cNvPr id="302" name=""/>
            <p:cNvSpPr/>
            <p:nvPr/>
          </p:nvSpPr>
          <p:spPr>
            <a:xfrm>
              <a:off x="1469880" y="5229360"/>
              <a:ext cx="21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称面积速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1055520" y="5157720"/>
            <a:ext cx="586080" cy="719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055520" y="5157720"/>
                      <a:ext cx="58608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5" name=""/>
          <p:cNvSpPr/>
          <p:nvPr/>
        </p:nvSpPr>
        <p:spPr>
          <a:xfrm>
            <a:off x="179280" y="5805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积速度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质点在有心力作用下其面积速度守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3520" y="1512720"/>
            <a:ext cx="46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：剪断绳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时的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556000" y="1600200"/>
                <a:ext cx="260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657600" y="1600200"/>
                <a:ext cx="380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447920" y="876240"/>
            <a:ext cx="64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两小球质量皆为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始角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00600" y="914400"/>
                <a:ext cx="45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96000" y="836640"/>
                <a:ext cx="468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16" name="ShockwaveFlash1"/>
          <p:cNvGraphicFramePr/>
          <p:nvPr/>
        </p:nvGraphicFramePr>
        <p:xfrm>
          <a:off x="1332000" y="2209680"/>
          <a:ext cx="48765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209680"/>
                    <a:ext cx="4876560" cy="426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692360" y="990720"/>
                <a:ext cx="36748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676520" y="2028960"/>
                <a:ext cx="3659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1714680" y="555480"/>
            <a:ext cx="1504440" cy="520560"/>
            <a:chOff x="1714680" y="555480"/>
            <a:chExt cx="1504440" cy="520560"/>
          </a:xfrm>
        </p:grpSpPr>
        <p:sp>
          <p:nvSpPr>
            <p:cNvPr id="325" name=""/>
            <p:cNvSpPr/>
            <p:nvPr/>
          </p:nvSpPr>
          <p:spPr>
            <a:xfrm>
              <a:off x="2693880" y="5554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6" name=""/>
            <p:cNvGraphicFramePr/>
            <p:nvPr/>
          </p:nvGraphicFramePr>
          <p:xfrm>
            <a:off x="1714680" y="658800"/>
            <a:ext cx="838080" cy="407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14680" y="658800"/>
                      <a:ext cx="8380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8" name=""/>
          <p:cNvGrpSpPr/>
          <p:nvPr/>
        </p:nvGrpSpPr>
        <p:grpSpPr>
          <a:xfrm>
            <a:off x="1733400" y="1530360"/>
            <a:ext cx="1311480" cy="520560"/>
            <a:chOff x="1733400" y="1530360"/>
            <a:chExt cx="1311480" cy="52056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1733400" y="1573200"/>
                  <a:ext cx="7383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2367360" y="153036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21240" y="2349360"/>
                <a:ext cx="293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977040" y="2635200"/>
            <a:ext cx="3186000" cy="631800"/>
            <a:chOff x="977040" y="2635200"/>
            <a:chExt cx="3186000" cy="631800"/>
          </a:xfrm>
        </p:grpSpPr>
        <p:sp>
          <p:nvSpPr>
            <p:cNvPr id="333" name=""/>
            <p:cNvSpPr/>
            <p:nvPr/>
          </p:nvSpPr>
          <p:spPr>
            <a:xfrm>
              <a:off x="977040" y="2635200"/>
              <a:ext cx="31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1500120" y="2652840"/>
            <a:ext cx="1447920" cy="61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0120" y="2652840"/>
                      <a:ext cx="1447920" cy="61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627120" y="3581280"/>
            <a:ext cx="264312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3801960" y="3581280"/>
            <a:ext cx="26416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38" name=""/>
          <p:cNvSpPr/>
          <p:nvPr/>
        </p:nvSpPr>
        <p:spPr>
          <a:xfrm>
            <a:off x="684360" y="53352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38160" y="272880"/>
            <a:ext cx="78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2-3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绕定轴的转动微分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140840" y="977760"/>
            <a:ext cx="3237480" cy="541440"/>
            <a:chOff x="1140840" y="977760"/>
            <a:chExt cx="3237480" cy="541440"/>
          </a:xfrm>
        </p:grpSpPr>
        <p:graphicFrame>
          <p:nvGraphicFramePr>
            <p:cNvPr id="345" name=""/>
            <p:cNvGraphicFramePr/>
            <p:nvPr/>
          </p:nvGraphicFramePr>
          <p:xfrm>
            <a:off x="2401920" y="977760"/>
            <a:ext cx="1976400" cy="54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01920" y="977760"/>
                      <a:ext cx="197640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"/>
            <p:cNvSpPr/>
            <p:nvPr/>
          </p:nvSpPr>
          <p:spPr>
            <a:xfrm>
              <a:off x="1140840" y="1049400"/>
              <a:ext cx="9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主动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40840" y="1635120"/>
            <a:ext cx="2335680" cy="588960"/>
            <a:chOff x="1140840" y="1635120"/>
            <a:chExt cx="2335680" cy="588960"/>
          </a:xfrm>
        </p:grpSpPr>
        <p:graphicFrame>
          <p:nvGraphicFramePr>
            <p:cNvPr id="349" name=""/>
            <p:cNvGraphicFramePr/>
            <p:nvPr/>
          </p:nvGraphicFramePr>
          <p:xfrm>
            <a:off x="2389320" y="1635120"/>
            <a:ext cx="1087200" cy="588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89320" y="1635120"/>
                      <a:ext cx="10872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1140840" y="1668600"/>
              <a:ext cx="9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约束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2" name=""/>
          <p:cNvGraphicFramePr/>
          <p:nvPr/>
        </p:nvGraphicFramePr>
        <p:xfrm>
          <a:off x="1157400" y="2152800"/>
          <a:ext cx="4278240" cy="81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7400" y="2152800"/>
                    <a:ext cx="42782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693880" y="2959200"/>
          <a:ext cx="1517760" cy="51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93880" y="2959200"/>
                    <a:ext cx="15177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1042560" y="3530520"/>
            <a:ext cx="3024720" cy="841320"/>
            <a:chOff x="1042560" y="3530520"/>
            <a:chExt cx="3024720" cy="841320"/>
          </a:xfrm>
        </p:grpSpPr>
        <p:graphicFrame>
          <p:nvGraphicFramePr>
            <p:cNvPr id="357" name=""/>
            <p:cNvGraphicFramePr/>
            <p:nvPr/>
          </p:nvGraphicFramePr>
          <p:xfrm>
            <a:off x="1612800" y="3530520"/>
            <a:ext cx="2454480" cy="841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612800" y="3530520"/>
                      <a:ext cx="2454480" cy="84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1042560" y="37450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990720" y="4510080"/>
            <a:ext cx="2789280" cy="609480"/>
            <a:chOff x="990720" y="4510080"/>
            <a:chExt cx="2789280" cy="609480"/>
          </a:xfrm>
        </p:grpSpPr>
        <p:graphicFrame>
          <p:nvGraphicFramePr>
            <p:cNvPr id="361" name=""/>
            <p:cNvGraphicFramePr/>
            <p:nvPr/>
          </p:nvGraphicFramePr>
          <p:xfrm>
            <a:off x="1565280" y="4552920"/>
            <a:ext cx="2214720" cy="566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65280" y="4552920"/>
                      <a:ext cx="2214720" cy="5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990720" y="451008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990720" y="5319720"/>
            <a:ext cx="3103560" cy="917640"/>
            <a:chOff x="990720" y="5319720"/>
            <a:chExt cx="3103560" cy="917640"/>
          </a:xfrm>
        </p:grpSpPr>
        <p:graphicFrame>
          <p:nvGraphicFramePr>
            <p:cNvPr id="365" name=""/>
            <p:cNvGraphicFramePr/>
            <p:nvPr/>
          </p:nvGraphicFramePr>
          <p:xfrm>
            <a:off x="1547640" y="5319720"/>
            <a:ext cx="2546640" cy="917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47640" y="5319720"/>
                      <a:ext cx="2546640" cy="91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"/>
            <p:cNvSpPr/>
            <p:nvPr/>
          </p:nvSpPr>
          <p:spPr>
            <a:xfrm>
              <a:off x="990720" y="550080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16"/>
          <a:stretch/>
        </p:blipFill>
        <p:spPr>
          <a:xfrm>
            <a:off x="5715000" y="1676520"/>
            <a:ext cx="3048120" cy="406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038480" y="3886200"/>
          <a:ext cx="457200" cy="2057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3886200"/>
                    <a:ext cx="457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495680" y="4267080"/>
            <a:ext cx="17528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030320" y="558720"/>
            <a:ext cx="4765680" cy="507960"/>
            <a:chOff x="1030320" y="558720"/>
            <a:chExt cx="4765680" cy="507960"/>
          </a:xfrm>
        </p:grpSpPr>
        <p:sp>
          <p:nvSpPr>
            <p:cNvPr id="377" name=""/>
            <p:cNvSpPr/>
            <p:nvPr/>
          </p:nvSpPr>
          <p:spPr>
            <a:xfrm>
              <a:off x="1030320" y="558720"/>
              <a:ext cx="476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5: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已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求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8" name=""/>
            <p:cNvGraphicFramePr/>
            <p:nvPr/>
          </p:nvGraphicFramePr>
          <p:xfrm>
            <a:off x="2819520" y="558720"/>
            <a:ext cx="1346040" cy="507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19520" y="558720"/>
                      <a:ext cx="1346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4724280" y="635040"/>
                  <a:ext cx="3812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600200" y="2438280"/>
                <a:ext cx="2611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α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619280" y="3701880"/>
                <a:ext cx="24559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90720" y="152388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4672080" y="1752480"/>
            <a:ext cx="416700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微小摆动的周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57200" y="685800"/>
            <a:ext cx="7124760" cy="496800"/>
            <a:chOff x="457200" y="685800"/>
            <a:chExt cx="7124760" cy="496800"/>
          </a:xfrm>
        </p:grpSpPr>
        <p:sp>
          <p:nvSpPr>
            <p:cNvPr id="391" name=""/>
            <p:cNvSpPr/>
            <p:nvPr/>
          </p:nvSpPr>
          <p:spPr>
            <a:xfrm>
              <a:off x="457200" y="685800"/>
              <a:ext cx="71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 物理摆（复摆），已知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876920" y="685800"/>
                  <a:ext cx="11030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3" name="ShockwaveFlash1"/>
          <p:cNvGraphicFramePr/>
          <p:nvPr/>
        </p:nvGraphicFramePr>
        <p:xfrm>
          <a:off x="1676520" y="1523880"/>
          <a:ext cx="510516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5105160" cy="464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18040" y="27288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2-1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点和质点系的动量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3720" y="12733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质点的动量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48040" y="1828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动量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48520" y="2438280"/>
          <a:ext cx="23842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438280"/>
                    <a:ext cx="2384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90720" y="1981080"/>
            <a:ext cx="4622760" cy="36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800" y="3124080"/>
            <a:ext cx="17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z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轴的动量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91320" y="3886200"/>
          <a:ext cx="3124080" cy="5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886200"/>
                    <a:ext cx="3124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867280" y="4724280"/>
            <a:ext cx="6140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数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正向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逆时针为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时针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778040" y="228600"/>
          <a:ext cx="31543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040" y="228600"/>
                    <a:ext cx="31543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900000" y="51912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529640" y="1362240"/>
            <a:ext cx="3113640" cy="482400"/>
            <a:chOff x="1529640" y="1362240"/>
            <a:chExt cx="3113640" cy="48240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3225960" y="1371600"/>
                  <a:ext cx="141732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ϕ</m:t>
                      </m:r>
                      <m:r>
                        <m:t xml:space="preserve">≈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1529640" y="1362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微小摆动时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285920" y="1833480"/>
                <a:ext cx="26002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ϕ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a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592560" y="2819520"/>
            <a:ext cx="3017520" cy="1030320"/>
            <a:chOff x="592560" y="2819520"/>
            <a:chExt cx="3017520" cy="103032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1201680" y="2819520"/>
                  <a:ext cx="240840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ϕ</m:t>
                          </m:r>
                        </m:num>
                        <m:den>
                          <m:sSup>
                            <m:e>
                              <m: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a</m:t>
                          </m:r>
                        </m:num>
                        <m:den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592560" y="30337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71640" y="3573360"/>
            <a:ext cx="4549680" cy="1090800"/>
            <a:chOff x="971640" y="3573360"/>
            <a:chExt cx="4549680" cy="1090800"/>
          </a:xfrm>
        </p:grpSpPr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2190600" y="3573360"/>
                  <a:ext cx="333072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mga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971640" y="390672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通解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8960" y="4495680"/>
            <a:ext cx="6719760" cy="609840"/>
            <a:chOff x="588960" y="4495680"/>
            <a:chExt cx="6719760" cy="609840"/>
          </a:xfrm>
        </p:grpSpPr>
        <p:sp>
          <p:nvSpPr>
            <p:cNvPr id="413" name=""/>
            <p:cNvSpPr/>
            <p:nvPr/>
          </p:nvSpPr>
          <p:spPr>
            <a:xfrm>
              <a:off x="934920" y="4637160"/>
              <a:ext cx="63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称</a:t>
              </a:r>
              <a:r>
                <a:rPr b="1" i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角振幅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    称</a:t>
              </a:r>
              <a:r>
                <a:rPr b="1" i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初相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由初始条件确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588960" y="4495680"/>
                  <a:ext cx="53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2514600" y="4648320"/>
                  <a:ext cx="312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6" name=""/>
          <p:cNvGrpSpPr/>
          <p:nvPr/>
        </p:nvGrpSpPr>
        <p:grpSpPr>
          <a:xfrm>
            <a:off x="1262160" y="5186520"/>
            <a:ext cx="3309840" cy="1050840"/>
            <a:chOff x="1262160" y="5186520"/>
            <a:chExt cx="3309840" cy="1050840"/>
          </a:xfrm>
        </p:grpSpPr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2335320" y="5186520"/>
                  <a:ext cx="223668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ga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"/>
            <p:cNvSpPr/>
            <p:nvPr/>
          </p:nvSpPr>
          <p:spPr>
            <a:xfrm>
              <a:off x="1262160" y="54054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周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584680" y="304920"/>
            <a:ext cx="3224520" cy="358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2362320" y="1219320"/>
            <a:ext cx="3827520" cy="485640"/>
            <a:chOff x="2362320" y="1219320"/>
            <a:chExt cx="3827520" cy="485640"/>
          </a:xfrm>
        </p:grpSpPr>
        <p:sp>
          <p:nvSpPr>
            <p:cNvPr id="425" name=""/>
            <p:cNvSpPr/>
            <p:nvPr/>
          </p:nvSpPr>
          <p:spPr>
            <a:xfrm>
              <a:off x="2362320" y="1219320"/>
              <a:ext cx="38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：制动所需时间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6" name=""/>
            <p:cNvGraphicFramePr/>
            <p:nvPr/>
          </p:nvGraphicFramePr>
          <p:xfrm>
            <a:off x="4952880" y="1295280"/>
            <a:ext cx="230400" cy="4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1295280"/>
                      <a:ext cx="2304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8" name=""/>
          <p:cNvGrpSpPr/>
          <p:nvPr/>
        </p:nvGrpSpPr>
        <p:grpSpPr>
          <a:xfrm>
            <a:off x="762120" y="609480"/>
            <a:ext cx="7392960" cy="474840"/>
            <a:chOff x="762120" y="609480"/>
            <a:chExt cx="7392960" cy="474840"/>
          </a:xfrm>
        </p:grpSpPr>
        <p:sp>
          <p:nvSpPr>
            <p:cNvPr id="429" name=""/>
            <p:cNvSpPr/>
            <p:nvPr/>
          </p:nvSpPr>
          <p:spPr>
            <a:xfrm>
              <a:off x="762120" y="609480"/>
              <a:ext cx="739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已知：                        ，动滑动摩擦系数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0" name=""/>
            <p:cNvGraphicFramePr/>
            <p:nvPr/>
          </p:nvGraphicFramePr>
          <p:xfrm>
            <a:off x="2895480" y="609480"/>
            <a:ext cx="1828800" cy="474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609480"/>
                      <a:ext cx="182880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7238880" y="609480"/>
                  <a:ext cx="250920" cy="4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33" name="ShockwaveFlash1"/>
          <p:cNvGraphicFramePr/>
          <p:nvPr/>
        </p:nvGraphicFramePr>
        <p:xfrm>
          <a:off x="1828800" y="1981080"/>
          <a:ext cx="51814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4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1981080"/>
                    <a:ext cx="5181480" cy="4114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1371600" y="1600200"/>
          <a:ext cx="38862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600200"/>
                    <a:ext cx="38862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745240" y="1614600"/>
          <a:ext cx="1460520" cy="103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240" y="1614600"/>
                    <a:ext cx="14605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1833480" y="533520"/>
          <a:ext cx="246384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3480" y="533520"/>
                    <a:ext cx="246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755640" y="56520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8"/>
          <a:stretch/>
        </p:blipFill>
        <p:spPr>
          <a:xfrm>
            <a:off x="2057400" y="2895480"/>
            <a:ext cx="4419720" cy="343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905120" y="1263600"/>
                <a:ext cx="23065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495680" y="1219320"/>
                <a:ext cx="2514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477120" y="1600200"/>
                <a:ext cx="228600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762120" y="304920"/>
            <a:ext cx="7238880" cy="939600"/>
            <a:chOff x="762120" y="304920"/>
            <a:chExt cx="7238880" cy="939600"/>
          </a:xfrm>
        </p:grpSpPr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2666880" y="304920"/>
                  <a:ext cx="3124440" cy="93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,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6477120" y="533520"/>
                  <a:ext cx="377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"/>
            <p:cNvSpPr/>
            <p:nvPr/>
          </p:nvSpPr>
          <p:spPr>
            <a:xfrm>
              <a:off x="762120" y="53352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已知                                            求：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971640" y="12193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25400" y="2019240"/>
            <a:ext cx="4505760" cy="814320"/>
            <a:chOff x="725400" y="2019240"/>
            <a:chExt cx="4505760" cy="814320"/>
          </a:xfrm>
        </p:grpSpPr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1066680" y="2165400"/>
                  <a:ext cx="106704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2514600" y="2019240"/>
                  <a:ext cx="2133720" cy="81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"/>
            <p:cNvSpPr/>
            <p:nvPr/>
          </p:nvSpPr>
          <p:spPr>
            <a:xfrm>
              <a:off x="725400" y="2103480"/>
              <a:ext cx="450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，                        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3733920" cy="269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3886200" y="3352680"/>
            <a:ext cx="291636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447920" y="1066680"/>
                <a:ext cx="259056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Low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143000" y="30492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2-4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对轴的转动惯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4480" y="1295280"/>
            <a:ext cx="19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位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kg·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" y="2276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单形状物体的转动惯量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72800" y="2833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均质细直杆对一端的转动惯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3880" y="3429000"/>
                <a:ext cx="2667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981080" y="5029200"/>
                <a:ext cx="16002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6" name=""/>
          <p:cNvGrpSpPr/>
          <p:nvPr/>
        </p:nvGrpSpPr>
        <p:grpSpPr>
          <a:xfrm>
            <a:off x="1600200" y="4433760"/>
            <a:ext cx="1392120" cy="519120"/>
            <a:chOff x="1600200" y="4433760"/>
            <a:chExt cx="1392120" cy="519120"/>
          </a:xfrm>
        </p:grpSpPr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1600200" y="4433760"/>
                  <a:ext cx="1143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>
              <a:off x="1629000" y="444960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由        ，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495680" y="3284640"/>
            <a:ext cx="4419720" cy="294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488960" y="4211640"/>
                <a:ext cx="4111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d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295280" y="1352520"/>
                <a:ext cx="4114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57200" y="669960"/>
            <a:ext cx="57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均质薄圆环对中心轴的转动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285920" y="2828880"/>
                <a:ext cx="23828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d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57200" y="2197080"/>
            <a:ext cx="56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均质圆板对中心轴的转动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16000" y="3400560"/>
            <a:ext cx="2568600" cy="893520"/>
            <a:chOff x="1116000" y="3400560"/>
            <a:chExt cx="2568600" cy="89352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2198520" y="3400560"/>
                  <a:ext cx="14860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116000" y="353844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式中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61720" y="5114880"/>
            <a:ext cx="2115000" cy="750960"/>
            <a:chOff x="1161720" y="5114880"/>
            <a:chExt cx="2115000" cy="75096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828800" y="5114880"/>
                  <a:ext cx="14479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1161720" y="5216400"/>
              <a:ext cx="54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6629400" y="260280"/>
            <a:ext cx="2203560" cy="297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6172200" y="3500280"/>
            <a:ext cx="2724120" cy="272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861840" y="46044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转半径（惯性半径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676520" y="1122480"/>
            <a:ext cx="4335480" cy="938160"/>
            <a:chOff x="1676520" y="1122480"/>
            <a:chExt cx="4335480" cy="93816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1676520" y="1122480"/>
                  <a:ext cx="149544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4516560" y="1353960"/>
                  <a:ext cx="14954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mρ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3682080" y="1401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6" name=""/>
          <p:cNvGraphicFramePr/>
          <p:nvPr/>
        </p:nvGraphicFramePr>
        <p:xfrm>
          <a:off x="2971800" y="2743200"/>
          <a:ext cx="2743200" cy="74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743200"/>
                    <a:ext cx="27432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47800" y="2182680"/>
            <a:ext cx="28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平行轴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62120" y="3429000"/>
            <a:ext cx="7118280" cy="1054800"/>
            <a:chOff x="762120" y="3429000"/>
            <a:chExt cx="7118280" cy="105480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1631880" y="3485880"/>
                  <a:ext cx="3826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6370560" y="3566880"/>
                  <a:ext cx="2890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284720" y="3605040"/>
                  <a:ext cx="2761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6959520" y="3566880"/>
                  <a:ext cx="276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4" name=""/>
            <p:cNvSpPr/>
            <p:nvPr/>
          </p:nvSpPr>
          <p:spPr>
            <a:xfrm>
              <a:off x="762120" y="3429000"/>
              <a:ext cx="711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式中      轴为过质心且与     轴平行的轴，  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1258920" y="4019400"/>
                  <a:ext cx="3826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16" name=""/>
            <p:cNvSpPr/>
            <p:nvPr/>
          </p:nvSpPr>
          <p:spPr>
            <a:xfrm>
              <a:off x="1191600" y="402408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      轴之间的距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762120" y="4572000"/>
            <a:ext cx="7467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：刚体对于任一轴的转动惯量，等于刚体对于通过质心并与该轴平行的轴的转动惯量，加上刚体的质量与两轴间距离平方的乘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1676520" y="457200"/>
          <a:ext cx="2741400" cy="5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457200"/>
                    <a:ext cx="2741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676520" y="1066680"/>
                <a:ext cx="29718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</m:e>
                    </m:nary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</m:e>
                    </m:nary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871640" y="1628640"/>
                <a:ext cx="2700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868400" y="2205000"/>
                <a:ext cx="4791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447920" y="3122640"/>
                <a:ext cx="23619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250920" y="47160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292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521000" y="5151600"/>
          <a:ext cx="213984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5151600"/>
                    <a:ext cx="2139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1143000" y="4338720"/>
            <a:ext cx="2924280" cy="464400"/>
            <a:chOff x="1143000" y="4338720"/>
            <a:chExt cx="2924280" cy="464400"/>
          </a:xfrm>
        </p:grpSpPr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1676520" y="4338720"/>
                  <a:ext cx="14475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4" name=""/>
            <p:cNvSpPr/>
            <p:nvPr/>
          </p:nvSpPr>
          <p:spPr>
            <a:xfrm>
              <a:off x="1143000" y="4343400"/>
              <a:ext cx="29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                     ，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4952880" y="2781360"/>
            <a:ext cx="3708360" cy="351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981080" y="1752480"/>
                <a:ext cx="14479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1" name=""/>
          <p:cNvGrpSpPr/>
          <p:nvPr/>
        </p:nvGrpSpPr>
        <p:grpSpPr>
          <a:xfrm>
            <a:off x="914400" y="228600"/>
            <a:ext cx="5505480" cy="993240"/>
            <a:chOff x="914400" y="228600"/>
            <a:chExt cx="5505480" cy="99324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4648320" y="304920"/>
                  <a:ext cx="4572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3" name=""/>
            <p:cNvSpPr/>
            <p:nvPr/>
          </p:nvSpPr>
          <p:spPr>
            <a:xfrm>
              <a:off x="914400" y="228600"/>
              <a:ext cx="550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均质细直杆，已知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4691160" y="762120"/>
                  <a:ext cx="3175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5" name=""/>
            <p:cNvSpPr/>
            <p:nvPr/>
          </p:nvSpPr>
          <p:spPr>
            <a:xfrm>
              <a:off x="2003760" y="762120"/>
              <a:ext cx="41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：对过质心且垂直于杆的      轴的转动惯量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87520" y="264312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记住三个转动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068840" y="3162240"/>
            <a:ext cx="2838600" cy="1181160"/>
            <a:chOff x="1068840" y="3162240"/>
            <a:chExt cx="2838600" cy="118116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3600360"/>
                  <a:ext cx="627120" cy="74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"/>
            <p:cNvSpPr/>
            <p:nvPr/>
          </p:nvSpPr>
          <p:spPr>
            <a:xfrm>
              <a:off x="1068840" y="3162240"/>
              <a:ext cx="28386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均质圆盘对盘心轴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转动惯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739520" y="4336920"/>
            <a:ext cx="1497600" cy="1105200"/>
            <a:chOff x="1739520" y="4336920"/>
            <a:chExt cx="1497600" cy="1105200"/>
          </a:xfrm>
        </p:grpSpPr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2286000" y="4749840"/>
                  <a:ext cx="51912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2" name=""/>
            <p:cNvSpPr/>
            <p:nvPr/>
          </p:nvSpPr>
          <p:spPr>
            <a:xfrm>
              <a:off x="1739520" y="4336920"/>
              <a:ext cx="14976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均质细直杆对一端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转动惯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7200" y="5448240"/>
            <a:ext cx="4259160" cy="1181160"/>
            <a:chOff x="457200" y="5448240"/>
            <a:chExt cx="4259160" cy="118116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2533680" y="5886360"/>
                  <a:ext cx="584280" cy="74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457200" y="5448240"/>
              <a:ext cx="42591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均质细直杆对中心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转动惯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627360" y="1700280"/>
            <a:ext cx="4737240" cy="799920"/>
            <a:chOff x="3627360" y="1700280"/>
            <a:chExt cx="4737240" cy="799920"/>
          </a:xfrm>
        </p:grpSpPr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4478400" y="1700280"/>
                  <a:ext cx="388620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3627360" y="191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5334120" y="2852640"/>
            <a:ext cx="330192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560" name=""/>
          <p:cNvGrpSpPr/>
          <p:nvPr/>
        </p:nvGrpSpPr>
        <p:grpSpPr>
          <a:xfrm>
            <a:off x="1295280" y="1295280"/>
            <a:ext cx="3223080" cy="469080"/>
            <a:chOff x="1295280" y="1295280"/>
            <a:chExt cx="3223080" cy="469080"/>
          </a:xfrm>
        </p:grpSpPr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3586320" y="1482480"/>
                  <a:ext cx="228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2" name=""/>
            <p:cNvSpPr/>
            <p:nvPr/>
          </p:nvSpPr>
          <p:spPr>
            <a:xfrm>
              <a:off x="2350440" y="130464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对一端的     轴，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95280" y="129528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187280" y="3729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组合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600200" y="19810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685800" y="1981080"/>
            <a:ext cx="25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：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38080" y="1066680"/>
            <a:ext cx="8305920" cy="836640"/>
            <a:chOff x="838080" y="1066680"/>
            <a:chExt cx="8305920" cy="836640"/>
          </a:xfrm>
        </p:grpSpPr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4114800" y="1066680"/>
                  <a:ext cx="19512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7467480" y="1066680"/>
                  <a:ext cx="287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4" name=""/>
            <p:cNvSpPr/>
            <p:nvPr/>
          </p:nvSpPr>
          <p:spPr>
            <a:xfrm>
              <a:off x="838080" y="1066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   已知杆长为     质量为    ，圆盘半径为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质量为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5" name=""/>
            <p:cNvGraphicFramePr/>
            <p:nvPr/>
          </p:nvGraphicFramePr>
          <p:xfrm>
            <a:off x="5257800" y="1066680"/>
            <a:ext cx="392040" cy="455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57800" y="1066680"/>
                      <a:ext cx="39204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905120" y="1447920"/>
                  <a:ext cx="41904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78" name="ShockwaveFlash1"/>
          <p:cNvGraphicFramePr/>
          <p:nvPr/>
        </p:nvGraphicFramePr>
        <p:xfrm>
          <a:off x="2189160" y="2708280"/>
          <a:ext cx="4038480" cy="388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9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89160" y="2708280"/>
                    <a:ext cx="403848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590920" y="609480"/>
          <a:ext cx="3429000" cy="62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609480"/>
                    <a:ext cx="3429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809880" y="2819520"/>
          <a:ext cx="2409840" cy="84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819520"/>
                    <a:ext cx="24098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9880" y="3809880"/>
          <a:ext cx="2441520" cy="90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3809880"/>
                    <a:ext cx="2441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41120" y="144792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g·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34520" y="2057400"/>
            <a:ext cx="22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质点系的动量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7360" y="304812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点的动量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3680" y="40384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轴的动量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5029200"/>
          <a:ext cx="1495440" cy="58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5029200"/>
                    <a:ext cx="14954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4100400" y="5029200"/>
            <a:ext cx="4056120" cy="617400"/>
            <a:chOff x="4100400" y="5029200"/>
            <a:chExt cx="4056120" cy="617400"/>
          </a:xfrm>
        </p:grpSpPr>
        <p:graphicFrame>
          <p:nvGraphicFramePr>
            <p:cNvPr id="75" name=""/>
            <p:cNvGraphicFramePr/>
            <p:nvPr/>
          </p:nvGraphicFramePr>
          <p:xfrm>
            <a:off x="5195880" y="5029200"/>
            <a:ext cx="2960640" cy="617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95880" y="5029200"/>
                      <a:ext cx="2960640" cy="61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4100400" y="5068800"/>
              <a:ext cx="63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即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08040" y="1311120"/>
                <a:ext cx="2416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杆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447920" y="1957320"/>
                <a:ext cx="18288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838080" y="3048120"/>
                <a:ext cx="4310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盘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92280" y="4022640"/>
                <a:ext cx="2763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849240" y="4965840"/>
                <a:ext cx="43704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539640" y="1246320"/>
            <a:ext cx="10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5489640" y="1219320"/>
            <a:ext cx="3349440" cy="368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600200" y="1422360"/>
                <a:ext cx="14907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998720" y="1955880"/>
                <a:ext cx="2286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5640" y="3352680"/>
                <a:ext cx="27003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ρπ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611280" y="129528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581280" y="2895480"/>
                <a:ext cx="16034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1522440" y="2924280"/>
                <a:ext cx="18763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π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539640" y="2871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38400" y="5105520"/>
            <a:ext cx="3638520" cy="520560"/>
            <a:chOff x="1238400" y="5105520"/>
            <a:chExt cx="3638520" cy="520560"/>
          </a:xfrm>
        </p:grpSpPr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1666800" y="5140440"/>
                  <a:ext cx="23050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ρπ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"/>
            <p:cNvSpPr/>
            <p:nvPr/>
          </p:nvSpPr>
          <p:spPr>
            <a:xfrm>
              <a:off x="1238400" y="5105520"/>
              <a:ext cx="363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  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1752480" y="5629320"/>
                <a:ext cx="2590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06" name=""/>
          <p:cNvGraphicFramePr/>
          <p:nvPr/>
        </p:nvGraphicFramePr>
        <p:xfrm>
          <a:off x="2050920" y="4181400"/>
          <a:ext cx="335124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4181400"/>
                    <a:ext cx="33512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8" name="" descr=""/>
          <p:cNvPicPr/>
          <p:nvPr/>
        </p:nvPicPr>
        <p:blipFill>
          <a:blip r:embed="rId4"/>
          <a:stretch/>
        </p:blipFill>
        <p:spPr>
          <a:xfrm>
            <a:off x="5334120" y="1447920"/>
            <a:ext cx="3633840" cy="272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609" name=""/>
          <p:cNvGrpSpPr/>
          <p:nvPr/>
        </p:nvGrpSpPr>
        <p:grpSpPr>
          <a:xfrm>
            <a:off x="1498320" y="609480"/>
            <a:ext cx="4573800" cy="459720"/>
            <a:chOff x="1498320" y="609480"/>
            <a:chExt cx="4573800" cy="45972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3348000" y="623880"/>
                  <a:ext cx="124308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1498320" y="60948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2-1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已知：     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5246640" y="609480"/>
                  <a:ext cx="58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13" name=""/>
            <p:cNvSpPr/>
            <p:nvPr/>
          </p:nvSpPr>
          <p:spPr>
            <a:xfrm>
              <a:off x="4572000" y="609480"/>
              <a:ext cx="15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996840" y="2970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实验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85800" y="838080"/>
            <a:ext cx="4749840" cy="459720"/>
            <a:chOff x="685800" y="838080"/>
            <a:chExt cx="4749840" cy="45972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050920" y="938160"/>
                  <a:ext cx="285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685800" y="838080"/>
              <a:ext cx="47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：求对    轴的转动惯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403280" y="134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曲柄悬挂在轴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，作微幅摆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25480" y="1905120"/>
            <a:ext cx="2070000" cy="801720"/>
            <a:chOff x="825480" y="1905120"/>
            <a:chExt cx="2070000" cy="801720"/>
          </a:xfrm>
        </p:grpSpPr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1405080" y="1905120"/>
                  <a:ext cx="14904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gl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25" name=""/>
            <p:cNvSpPr/>
            <p:nvPr/>
          </p:nvSpPr>
          <p:spPr>
            <a:xfrm>
              <a:off x="825480" y="2057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38080" y="2895480"/>
            <a:ext cx="5821560" cy="459720"/>
            <a:chOff x="838080" y="2895480"/>
            <a:chExt cx="5821560" cy="459720"/>
          </a:xfrm>
        </p:grpSpPr>
        <mc:AlternateContent>
          <mc:Choice xmlns:a14="http://schemas.microsoft.com/office/drawing/2010/main" Requires="a14">
            <p:sp>
              <p:nvSpPr>
                <p:cNvPr id="627" name=""/>
                <p:cNvSpPr txBox="1"/>
                <p:nvPr/>
              </p:nvSpPr>
              <p:spPr>
                <a:xfrm>
                  <a:off x="1523880" y="2952720"/>
                  <a:ext cx="5335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2719440" y="29718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5411880" y="2997360"/>
                  <a:ext cx="239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0" name=""/>
            <p:cNvSpPr/>
            <p:nvPr/>
          </p:nvSpPr>
          <p:spPr>
            <a:xfrm>
              <a:off x="838080" y="2895480"/>
              <a:ext cx="58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      已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可测得，从而求得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1" name="ShockwaveFlash1"/>
          <p:cNvGraphicFramePr/>
          <p:nvPr/>
        </p:nvGraphicFramePr>
        <p:xfrm>
          <a:off x="611280" y="3505320"/>
          <a:ext cx="335268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505320"/>
                    <a:ext cx="3352680" cy="3047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3505320"/>
            <a:ext cx="2571480" cy="3024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4" name=""/>
          <p:cNvSpPr/>
          <p:nvPr/>
        </p:nvSpPr>
        <p:spPr>
          <a:xfrm>
            <a:off x="468360" y="130968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931320" y="2232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查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4311720"/>
            <a:ext cx="10666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67280" y="4311720"/>
            <a:ext cx="14479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91120" y="4311720"/>
            <a:ext cx="167616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76520" y="4311720"/>
            <a:ext cx="25146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7280" y="2330280"/>
            <a:ext cx="1447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1120" y="2330280"/>
            <a:ext cx="16761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76520" y="2330280"/>
            <a:ext cx="2514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958680"/>
            <a:ext cx="7924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233028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431172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" y="6267600"/>
            <a:ext cx="7924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9586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958680"/>
            <a:ext cx="0" cy="530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958680"/>
            <a:ext cx="0" cy="530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7280" y="93348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15200" y="958680"/>
            <a:ext cx="0" cy="530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9586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7200" y="4311720"/>
            <a:ext cx="0" cy="221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2330280"/>
            <a:ext cx="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381880" y="2330280"/>
            <a:ext cx="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1880" y="4311720"/>
            <a:ext cx="0" cy="221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89560" y="115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均质物体的转动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4311720"/>
            <a:ext cx="12193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薄壁圆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315200" y="2330280"/>
            <a:ext cx="1066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2330280"/>
            <a:ext cx="121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直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5200" y="958680"/>
            <a:ext cx="106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67280" y="95868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惯性半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958680"/>
            <a:ext cx="1676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动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1162080"/>
            <a:ext cx="25146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   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95868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物体的形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267080" y="2610000"/>
                <a:ext cx="12956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267080" y="3368520"/>
                <a:ext cx="1143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943600" y="2487600"/>
                <a:ext cx="1295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5943600" y="3255840"/>
                <a:ext cx="1143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267080" y="4695840"/>
                <a:ext cx="1143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095880" y="4579920"/>
                <a:ext cx="990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467480" y="4591080"/>
                <a:ext cx="914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h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7" name="ShockwaveFlash2"/>
          <p:cNvGraphicFramePr/>
          <p:nvPr/>
        </p:nvGraphicFramePr>
        <p:xfrm>
          <a:off x="1752480" y="4362480"/>
          <a:ext cx="22860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8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362480"/>
                    <a:ext cx="2286000" cy="1828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1828800" y="2443320"/>
            <a:ext cx="2133720" cy="1842840"/>
          </a:xfrm>
          <a:prstGeom prst="rect">
            <a:avLst/>
          </a:prstGeom>
          <a:ln w="0">
            <a:noFill/>
          </a:ln>
        </p:spPr>
      </p:pic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20120" y="4319640"/>
            <a:ext cx="1218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67280" y="4319640"/>
            <a:ext cx="17528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4319640"/>
            <a:ext cx="152388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4319640"/>
            <a:ext cx="28195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4319640"/>
            <a:ext cx="11430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薄壁空心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20120" y="2233440"/>
            <a:ext cx="121896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223344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3400" y="2233440"/>
            <a:ext cx="152388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23880" y="2233440"/>
            <a:ext cx="28195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2233440"/>
            <a:ext cx="114300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心圆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0120" y="152280"/>
            <a:ext cx="1218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867280" y="152280"/>
            <a:ext cx="17528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43400" y="152280"/>
            <a:ext cx="152388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152280"/>
            <a:ext cx="28195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152280"/>
            <a:ext cx="11430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152280"/>
            <a:ext cx="8458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0880" y="223344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431964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880" y="6400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15228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23880" y="15228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43400" y="15228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15228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0120" y="15228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839080" y="15228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2233440"/>
            <a:ext cx="0" cy="208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431964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839080" y="2233440"/>
            <a:ext cx="0" cy="208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839080" y="431964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23880" y="6400800"/>
            <a:ext cx="7315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4419720" y="380880"/>
                <a:ext cx="144756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514760" y="31687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6016680" y="355680"/>
                <a:ext cx="1374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7924680" y="838080"/>
                <a:ext cx="68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4356000" y="2644920"/>
                <a:ext cx="1587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943600" y="2560680"/>
                <a:ext cx="16002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720" name=""/>
          <p:cNvGraphicFramePr/>
          <p:nvPr/>
        </p:nvGraphicFramePr>
        <p:xfrm>
          <a:off x="7620120" y="2687760"/>
          <a:ext cx="137160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687760"/>
                    <a:ext cx="1371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419720" y="4711680"/>
                <a:ext cx="12189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242040" y="4748040"/>
                <a:ext cx="107316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7848720" y="4648320"/>
                <a:ext cx="7617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25" name="ShockwaveFlash1"/>
          <p:cNvGraphicFramePr/>
          <p:nvPr/>
        </p:nvGraphicFramePr>
        <p:xfrm>
          <a:off x="1676520" y="228600"/>
          <a:ext cx="259056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6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228600"/>
                    <a:ext cx="259056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7" name="ShockwaveFlash2"/>
          <p:cNvGraphicFramePr/>
          <p:nvPr/>
        </p:nvGraphicFramePr>
        <p:xfrm>
          <a:off x="1600200" y="2362320"/>
          <a:ext cx="2666880" cy="190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8" name="ShockwaveFlash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362320"/>
                    <a:ext cx="266688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9" name="ShockwaveFlash3"/>
          <p:cNvGraphicFramePr/>
          <p:nvPr/>
        </p:nvGraphicFramePr>
        <p:xfrm>
          <a:off x="1600200" y="4419720"/>
          <a:ext cx="266688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0" name="ShockwaveFlash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4419720"/>
                    <a:ext cx="2666880" cy="1828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7543800" y="4282920"/>
            <a:ext cx="121932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248520" y="4282920"/>
            <a:ext cx="129528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48320" y="4282920"/>
            <a:ext cx="16002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76520" y="4282920"/>
            <a:ext cx="29718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3520" y="4282920"/>
            <a:ext cx="11430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43800" y="2197080"/>
            <a:ext cx="121932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48520" y="2197080"/>
            <a:ext cx="129528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48320" y="2249640"/>
            <a:ext cx="16002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2197080"/>
            <a:ext cx="29718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520" y="2197080"/>
            <a:ext cx="11430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543800" y="115920"/>
            <a:ext cx="1219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48520" y="115920"/>
            <a:ext cx="129528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48320" y="115920"/>
            <a:ext cx="16002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76520" y="115920"/>
            <a:ext cx="29718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3520" y="115920"/>
            <a:ext cx="11430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心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3520" y="1159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3520" y="2197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4282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636444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11592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76520" y="11592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48320" y="11592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48520" y="11592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15920"/>
            <a:ext cx="0" cy="624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763120" y="11592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2197080"/>
            <a:ext cx="0" cy="20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4282920"/>
            <a:ext cx="0" cy="208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763120" y="2197080"/>
            <a:ext cx="0" cy="20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763120" y="4282920"/>
            <a:ext cx="0" cy="208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4800600" y="649440"/>
                <a:ext cx="12952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6400800" y="649440"/>
                <a:ext cx="1066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7893000" y="630360"/>
                <a:ext cx="608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4648320" y="2401920"/>
                <a:ext cx="16002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273720" y="2325600"/>
                <a:ext cx="12700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rad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0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7848720" y="2630520"/>
                <a:ext cx="653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648320" y="4840200"/>
                <a:ext cx="1600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48520" y="4745160"/>
                <a:ext cx="1295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7696080" y="4900680"/>
                <a:ext cx="990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3" name="ShockwaveFlash1"/>
          <p:cNvGraphicFramePr/>
          <p:nvPr/>
        </p:nvGraphicFramePr>
        <p:xfrm>
          <a:off x="1752480" y="192240"/>
          <a:ext cx="281952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2240"/>
                    <a:ext cx="281952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75" name="ShockwaveFlash2"/>
          <p:cNvGraphicFramePr/>
          <p:nvPr/>
        </p:nvGraphicFramePr>
        <p:xfrm>
          <a:off x="1752480" y="2249640"/>
          <a:ext cx="281952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6" name="ShockwaveFlash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249640"/>
                    <a:ext cx="2819520" cy="19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77" name="ShockwaveFlash3"/>
          <p:cNvGraphicFramePr/>
          <p:nvPr/>
        </p:nvGraphicFramePr>
        <p:xfrm>
          <a:off x="1752480" y="4307040"/>
          <a:ext cx="2819520" cy="19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8" name="ShockwaveFlash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307040"/>
                    <a:ext cx="2819520" cy="19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7543800" y="4356000"/>
            <a:ext cx="1219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72200" y="4356000"/>
            <a:ext cx="13716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48320" y="4356000"/>
            <a:ext cx="152388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76520" y="4356000"/>
            <a:ext cx="29718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3520" y="4356000"/>
            <a:ext cx="11430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矩形薄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43800" y="2270160"/>
            <a:ext cx="121932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72200" y="2270160"/>
            <a:ext cx="13716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48320" y="2270160"/>
            <a:ext cx="152388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76520" y="2270160"/>
            <a:ext cx="29718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520" y="2270160"/>
            <a:ext cx="11430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43800" y="189000"/>
            <a:ext cx="1219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172200" y="189000"/>
            <a:ext cx="13716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48320" y="189000"/>
            <a:ext cx="152388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676520" y="189000"/>
            <a:ext cx="29718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3520" y="189000"/>
            <a:ext cx="11430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椭圆形薄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3520" y="1890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22701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435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520" y="643716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3520" y="18900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76520" y="189000"/>
            <a:ext cx="0" cy="62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189000"/>
            <a:ext cx="0" cy="62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172200" y="189000"/>
            <a:ext cx="0" cy="62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43800" y="189000"/>
            <a:ext cx="0" cy="62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763120" y="18900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270160"/>
            <a:ext cx="0" cy="20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435600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763120" y="2270160"/>
            <a:ext cx="0" cy="20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4356000"/>
            <a:ext cx="0" cy="20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724280" y="417600"/>
                <a:ext cx="146556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6248520" y="493560"/>
                <a:ext cx="12826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772400" y="102708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ab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711680" y="2550960"/>
                <a:ext cx="14320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194520" y="2475000"/>
                <a:ext cx="13492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829640" y="3135240"/>
                <a:ext cx="628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664160" y="4608360"/>
                <a:ext cx="14317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6210360" y="4719600"/>
                <a:ext cx="13334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772400" y="5218200"/>
                <a:ext cx="6858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h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1" name="ShockwaveFlash1"/>
          <p:cNvGraphicFramePr/>
          <p:nvPr/>
        </p:nvGraphicFramePr>
        <p:xfrm>
          <a:off x="1752480" y="264960"/>
          <a:ext cx="281952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64960"/>
                    <a:ext cx="281952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3" name="ShockwaveFlash2"/>
          <p:cNvGraphicFramePr/>
          <p:nvPr/>
        </p:nvGraphicFramePr>
        <p:xfrm>
          <a:off x="1752480" y="2322360"/>
          <a:ext cx="281952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4" name="ShockwaveFlash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322360"/>
                    <a:ext cx="2819520" cy="198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5" name="ShockwaveFlash3"/>
          <p:cNvGraphicFramePr/>
          <p:nvPr/>
        </p:nvGraphicFramePr>
        <p:xfrm>
          <a:off x="1752480" y="4456080"/>
          <a:ext cx="2819520" cy="190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6" name="ShockwaveFlash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456080"/>
                    <a:ext cx="281952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24000" y="27612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-5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点系相对于质心的动量矩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" y="1030320"/>
            <a:ext cx="36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对质心的动量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079640" y="1722600"/>
          <a:ext cx="3940200" cy="5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722600"/>
                    <a:ext cx="39402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1116000" y="4489560"/>
          <a:ext cx="2454120" cy="8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4489560"/>
                    <a:ext cx="24541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7" name=""/>
          <p:cNvGrpSpPr/>
          <p:nvPr/>
        </p:nvGrpSpPr>
        <p:grpSpPr>
          <a:xfrm>
            <a:off x="1063800" y="5548320"/>
            <a:ext cx="2760480" cy="544680"/>
            <a:chOff x="1063800" y="5548320"/>
            <a:chExt cx="2760480" cy="544680"/>
          </a:xfrm>
        </p:grpSpPr>
        <p:sp>
          <p:nvSpPr>
            <p:cNvPr id="838" name=""/>
            <p:cNvSpPr/>
            <p:nvPr/>
          </p:nvSpPr>
          <p:spPr>
            <a:xfrm>
              <a:off x="1063800" y="5557680"/>
              <a:ext cx="6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9" name=""/>
            <p:cNvGraphicFramePr/>
            <p:nvPr/>
          </p:nvGraphicFramePr>
          <p:xfrm>
            <a:off x="1722600" y="5548320"/>
            <a:ext cx="2101680" cy="544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4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722600" y="5548320"/>
                      <a:ext cx="210168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1" name=""/>
          <p:cNvGrpSpPr/>
          <p:nvPr/>
        </p:nvGrpSpPr>
        <p:grpSpPr>
          <a:xfrm>
            <a:off x="860400" y="2394000"/>
            <a:ext cx="7394760" cy="563400"/>
            <a:chOff x="860400" y="2394000"/>
            <a:chExt cx="7394760" cy="563400"/>
          </a:xfrm>
        </p:grpSpPr>
        <p:grpSp>
          <p:nvGrpSpPr>
            <p:cNvPr id="842" name=""/>
            <p:cNvGrpSpPr/>
            <p:nvPr/>
          </p:nvGrpSpPr>
          <p:grpSpPr>
            <a:xfrm>
              <a:off x="860400" y="2394000"/>
              <a:ext cx="2568600" cy="549360"/>
              <a:chOff x="860400" y="2394000"/>
              <a:chExt cx="2568600" cy="549360"/>
            </a:xfrm>
          </p:grpSpPr>
          <p:sp>
            <p:nvSpPr>
              <p:cNvPr id="843" name=""/>
              <p:cNvSpPr/>
              <p:nvPr/>
            </p:nvSpPr>
            <p:spPr>
              <a:xfrm>
                <a:off x="860400" y="2408400"/>
                <a:ext cx="10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由于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44" name=""/>
              <p:cNvGraphicFramePr/>
              <p:nvPr/>
            </p:nvGraphicFramePr>
            <p:xfrm>
              <a:off x="1720800" y="2394000"/>
              <a:ext cx="1708200" cy="549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4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720800" y="2394000"/>
                        <a:ext cx="170820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46" name=""/>
            <p:cNvGrpSpPr/>
            <p:nvPr/>
          </p:nvGrpSpPr>
          <p:grpSpPr>
            <a:xfrm>
              <a:off x="3657600" y="2409840"/>
              <a:ext cx="4597560" cy="547560"/>
              <a:chOff x="3657600" y="2409840"/>
              <a:chExt cx="4597560" cy="547560"/>
            </a:xfrm>
          </p:grpSpPr>
          <p:graphicFrame>
            <p:nvGraphicFramePr>
              <p:cNvPr id="847" name=""/>
              <p:cNvGraphicFramePr/>
              <p:nvPr/>
            </p:nvGraphicFramePr>
            <p:xfrm>
              <a:off x="4486320" y="2409840"/>
              <a:ext cx="3768840" cy="5475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84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4486320" y="2409840"/>
                        <a:ext cx="3768840" cy="547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9" name=""/>
              <p:cNvSpPr/>
              <p:nvPr/>
            </p:nvSpPr>
            <p:spPr>
              <a:xfrm flipH="1">
                <a:off x="3657600" y="2433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50" name=""/>
          <p:cNvGraphicFramePr/>
          <p:nvPr/>
        </p:nvGraphicFramePr>
        <p:xfrm>
          <a:off x="324000" y="3733920"/>
          <a:ext cx="4394160" cy="57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4000" y="3733920"/>
                    <a:ext cx="4394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"/>
          <p:cNvSpPr/>
          <p:nvPr/>
        </p:nvSpPr>
        <p:spPr>
          <a:xfrm>
            <a:off x="900000" y="3187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4724280" y="3200400"/>
          <a:ext cx="4191120" cy="2819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24280" y="3200400"/>
                    <a:ext cx="4191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533520" y="304920"/>
            <a:ext cx="8610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：无论是以相对速度或以绝对速度计算质点系对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心的动量矩其结果相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944640" y="1905120"/>
          <a:ext cx="7000920" cy="63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4640" y="1905120"/>
                    <a:ext cx="700092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3068640" y="2725560"/>
          <a:ext cx="270000" cy="41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68640" y="2725560"/>
                    <a:ext cx="2700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1066680" y="2666880"/>
          <a:ext cx="513252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2666880"/>
                    <a:ext cx="513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1219320" y="3733920"/>
          <a:ext cx="3109680" cy="68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19320" y="3733920"/>
                    <a:ext cx="31096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1752480" y="4495680"/>
          <a:ext cx="2880000" cy="71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4495680"/>
                    <a:ext cx="2880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1917360" y="1295280"/>
            <a:ext cx="1765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任一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动量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724280" y="3429000"/>
          <a:ext cx="419112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24280" y="3429000"/>
                    <a:ext cx="4191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7" name=""/>
          <p:cNvGraphicFramePr/>
          <p:nvPr/>
        </p:nvGraphicFramePr>
        <p:xfrm>
          <a:off x="779400" y="1050840"/>
          <a:ext cx="588024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050840"/>
                    <a:ext cx="58802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"/>
          <p:cNvSpPr/>
          <p:nvPr/>
        </p:nvSpPr>
        <p:spPr>
          <a:xfrm>
            <a:off x="917640" y="372960"/>
            <a:ext cx="51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质心的动量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685800" y="3733920"/>
          <a:ext cx="388620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733920"/>
                    <a:ext cx="38862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2" name=""/>
          <p:cNvGrpSpPr/>
          <p:nvPr/>
        </p:nvGrpSpPr>
        <p:grpSpPr>
          <a:xfrm>
            <a:off x="880920" y="4802040"/>
            <a:ext cx="4384800" cy="932040"/>
            <a:chOff x="880920" y="4802040"/>
            <a:chExt cx="4384800" cy="932040"/>
          </a:xfrm>
        </p:grpSpPr>
        <p:graphicFrame>
          <p:nvGraphicFramePr>
            <p:cNvPr id="883" name=""/>
            <p:cNvGraphicFramePr/>
            <p:nvPr/>
          </p:nvGraphicFramePr>
          <p:xfrm>
            <a:off x="1452600" y="4802040"/>
            <a:ext cx="3813120" cy="932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52600" y="4802040"/>
                      <a:ext cx="3813120" cy="9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5" name=""/>
            <p:cNvSpPr/>
            <p:nvPr/>
          </p:nvSpPr>
          <p:spPr>
            <a:xfrm>
              <a:off x="880920" y="5116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674640" y="2359080"/>
            <a:ext cx="5626080" cy="1062000"/>
            <a:chOff x="674640" y="2359080"/>
            <a:chExt cx="5626080" cy="1062000"/>
          </a:xfrm>
        </p:grpSpPr>
        <p:graphicFrame>
          <p:nvGraphicFramePr>
            <p:cNvPr id="887" name=""/>
            <p:cNvGraphicFramePr/>
            <p:nvPr/>
          </p:nvGraphicFramePr>
          <p:xfrm>
            <a:off x="1209600" y="2359080"/>
            <a:ext cx="5091120" cy="1062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09600" y="2359080"/>
                      <a:ext cx="509112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674640" y="2719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724280" y="3429000"/>
          <a:ext cx="41911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24280" y="3429000"/>
                    <a:ext cx="4191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71600" y="3124080"/>
                <a:ext cx="4267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76520" y="3962520"/>
                <a:ext cx="3654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ω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71800" y="4724280"/>
                <a:ext cx="1981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90920" y="5638680"/>
                <a:ext cx="1452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457200" y="533520"/>
            <a:ext cx="5558040" cy="1053720"/>
            <a:chOff x="457200" y="533520"/>
            <a:chExt cx="5558040" cy="1053720"/>
          </a:xfrm>
        </p:grpSpPr>
        <p:sp>
          <p:nvSpPr>
            <p:cNvPr id="83" name=""/>
            <p:cNvSpPr/>
            <p:nvPr/>
          </p:nvSpPr>
          <p:spPr>
            <a:xfrm>
              <a:off x="1929960" y="533520"/>
              <a:ext cx="408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 刚体平移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可将全部质量集中于质心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1066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作为一个质点来计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828800" y="1676520"/>
            <a:ext cx="3951360" cy="576000"/>
            <a:chOff x="1828800" y="1676520"/>
            <a:chExt cx="3951360" cy="576000"/>
          </a:xfrm>
        </p:grpSpPr>
        <p:graphicFrame>
          <p:nvGraphicFramePr>
            <p:cNvPr id="86" name=""/>
            <p:cNvGraphicFramePr/>
            <p:nvPr/>
          </p:nvGraphicFramePr>
          <p:xfrm>
            <a:off x="4048200" y="1690560"/>
            <a:ext cx="1731960" cy="52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48200" y="1690560"/>
                      <a:ext cx="1731960" cy="52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1828800" y="1676520"/>
            <a:ext cx="1803600" cy="576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28800" y="1676520"/>
                      <a:ext cx="180360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3702240" y="1690560"/>
              <a:ext cx="32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578600" y="23623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刚体绕定轴转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006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动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299280" y="2133720"/>
            <a:ext cx="2539800" cy="38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1039680" y="79200"/>
          <a:ext cx="3748320" cy="8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9680" y="79200"/>
                    <a:ext cx="37483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1042920" y="1281240"/>
          <a:ext cx="342900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281240"/>
                    <a:ext cx="342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"/>
          <p:cNvSpPr/>
          <p:nvPr/>
        </p:nvSpPr>
        <p:spPr>
          <a:xfrm>
            <a:off x="2092680" y="4538520"/>
            <a:ext cx="408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质点系相对于质心的动量矩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点系相对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心的动量矩对时间的导数，等于作用于质点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外力对质心的主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057320" y="2057400"/>
            <a:ext cx="3585960" cy="973080"/>
            <a:chOff x="1057320" y="2057400"/>
            <a:chExt cx="3585960" cy="973080"/>
          </a:xfrm>
        </p:grpSpPr>
        <p:graphicFrame>
          <p:nvGraphicFramePr>
            <p:cNvPr id="906" name=""/>
            <p:cNvGraphicFramePr/>
            <p:nvPr/>
          </p:nvGraphicFramePr>
          <p:xfrm>
            <a:off x="1859040" y="2057400"/>
            <a:ext cx="2784240" cy="973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59040" y="2057400"/>
                      <a:ext cx="278424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8" name=""/>
            <p:cNvSpPr/>
            <p:nvPr/>
          </p:nvSpPr>
          <p:spPr>
            <a:xfrm>
              <a:off x="1057320" y="2212920"/>
              <a:ext cx="70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1049040" y="3352680"/>
            <a:ext cx="3738960" cy="986040"/>
            <a:chOff x="1049040" y="3352680"/>
            <a:chExt cx="3738960" cy="986040"/>
          </a:xfrm>
        </p:grpSpPr>
        <p:graphicFrame>
          <p:nvGraphicFramePr>
            <p:cNvPr id="910" name=""/>
            <p:cNvGraphicFramePr/>
            <p:nvPr/>
          </p:nvGraphicFramePr>
          <p:xfrm>
            <a:off x="1547640" y="3352680"/>
            <a:ext cx="3240360" cy="98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47640" y="3352680"/>
                      <a:ext cx="324036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2" name=""/>
            <p:cNvSpPr/>
            <p:nvPr/>
          </p:nvSpPr>
          <p:spPr>
            <a:xfrm>
              <a:off x="1049040" y="3510000"/>
              <a:ext cx="36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1938240" y="1946160"/>
          <a:ext cx="3210120" cy="143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8240" y="1946160"/>
                    <a:ext cx="321012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5" name=""/>
          <p:cNvGrpSpPr/>
          <p:nvPr/>
        </p:nvGrpSpPr>
        <p:grpSpPr>
          <a:xfrm>
            <a:off x="977760" y="3754440"/>
            <a:ext cx="4386240" cy="2198520"/>
            <a:chOff x="977760" y="3754440"/>
            <a:chExt cx="4386240" cy="2198520"/>
          </a:xfrm>
        </p:grpSpPr>
        <p:graphicFrame>
          <p:nvGraphicFramePr>
            <p:cNvPr id="916" name=""/>
            <p:cNvGraphicFramePr/>
            <p:nvPr/>
          </p:nvGraphicFramePr>
          <p:xfrm>
            <a:off x="1941480" y="3754440"/>
            <a:ext cx="3422520" cy="2198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41480" y="3754440"/>
                      <a:ext cx="3422520" cy="21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8" name=""/>
            <p:cNvSpPr/>
            <p:nvPr/>
          </p:nvSpPr>
          <p:spPr>
            <a:xfrm>
              <a:off x="977760" y="3809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284120" y="428760"/>
            <a:ext cx="78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2-6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的平面运动微分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990720" y="1989000"/>
          <a:ext cx="3149640" cy="22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9000"/>
                    <a:ext cx="31496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1219320" y="486720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上各组均称为刚体平面运动微分方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4952880" y="1989000"/>
          <a:ext cx="3075120" cy="215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989000"/>
                    <a:ext cx="3075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>
            <a:off x="1349280" y="100476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时一般用投影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838080" y="304920"/>
            <a:ext cx="7696440" cy="1598760"/>
            <a:chOff x="838080" y="304920"/>
            <a:chExt cx="7696440" cy="1598760"/>
          </a:xfrm>
        </p:grpSpPr>
        <p:sp>
          <p:nvSpPr>
            <p:cNvPr id="935" name=""/>
            <p:cNvSpPr/>
            <p:nvPr/>
          </p:nvSpPr>
          <p:spPr>
            <a:xfrm>
              <a:off x="838080" y="304920"/>
              <a:ext cx="769644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12-12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半径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质量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均质圆轮沿水平直线滚动，如图所示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设轮的惯性半径为    ，作用于轮的力偶矩为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求轮心的加速度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如果圆轮对地面的滑动摩擦因数为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问力偶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必须符合什么条件不致使圆轮滑动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6" name=""/>
                <p:cNvSpPr txBox="1"/>
                <p:nvPr/>
              </p:nvSpPr>
              <p:spPr>
                <a:xfrm>
                  <a:off x="6019920" y="914400"/>
                  <a:ext cx="5032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37" name="ShockwaveFlash1"/>
          <p:cNvGraphicFramePr/>
          <p:nvPr/>
        </p:nvGraphicFramePr>
        <p:xfrm>
          <a:off x="1066680" y="2743200"/>
          <a:ext cx="449604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743200"/>
                    <a:ext cx="4496040" cy="3352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248520" y="3505320"/>
            <a:ext cx="1980360" cy="1719000"/>
            <a:chOff x="6248520" y="3505320"/>
            <a:chExt cx="1980360" cy="1719000"/>
          </a:xfrm>
        </p:grpSpPr>
        <p:sp>
          <p:nvSpPr>
            <p:cNvPr id="944" name=""/>
            <p:cNvSpPr/>
            <p:nvPr/>
          </p:nvSpPr>
          <p:spPr>
            <a:xfrm>
              <a:off x="6476760" y="3505320"/>
              <a:ext cx="1523880" cy="1447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48520" y="495288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324480" y="495288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072200" y="497520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629400" y="495288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846840" y="498168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296120" y="498168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521480" y="498960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732080" y="4995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38880" y="4219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73120" y="3657600"/>
              <a:ext cx="4557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324000" y="533520"/>
            <a:ext cx="3600360" cy="1846080"/>
            <a:chOff x="324000" y="533520"/>
            <a:chExt cx="3600360" cy="1846080"/>
          </a:xfrm>
        </p:grpSpPr>
        <p:sp>
          <p:nvSpPr>
            <p:cNvPr id="956" name=""/>
            <p:cNvSpPr/>
            <p:nvPr/>
          </p:nvSpPr>
          <p:spPr>
            <a:xfrm>
              <a:off x="324000" y="623880"/>
              <a:ext cx="107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7" name=""/>
            <p:cNvGraphicFramePr/>
            <p:nvPr/>
          </p:nvGraphicFramePr>
          <p:xfrm>
            <a:off x="1333440" y="533520"/>
            <a:ext cx="2590920" cy="184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3440" y="533520"/>
                      <a:ext cx="2590920" cy="18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9" name=""/>
          <p:cNvGrpSpPr/>
          <p:nvPr/>
        </p:nvGrpSpPr>
        <p:grpSpPr>
          <a:xfrm>
            <a:off x="277560" y="2535120"/>
            <a:ext cx="4932720" cy="565200"/>
            <a:chOff x="277560" y="2535120"/>
            <a:chExt cx="4932720" cy="565200"/>
          </a:xfrm>
        </p:grpSpPr>
        <p:sp>
          <p:nvSpPr>
            <p:cNvPr id="960" name=""/>
            <p:cNvSpPr/>
            <p:nvPr/>
          </p:nvSpPr>
          <p:spPr>
            <a:xfrm>
              <a:off x="277560" y="2567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1" name=""/>
                <p:cNvSpPr txBox="1"/>
                <p:nvPr/>
              </p:nvSpPr>
              <p:spPr>
                <a:xfrm>
                  <a:off x="963720" y="2535120"/>
                  <a:ext cx="424656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2" name=""/>
          <p:cNvGrpSpPr/>
          <p:nvPr/>
        </p:nvGrpSpPr>
        <p:grpSpPr>
          <a:xfrm>
            <a:off x="596880" y="3397320"/>
            <a:ext cx="5415120" cy="1471680"/>
            <a:chOff x="596880" y="3397320"/>
            <a:chExt cx="5415120" cy="1471680"/>
          </a:xfrm>
        </p:grpSpPr>
        <p:sp>
          <p:nvSpPr>
            <p:cNvPr id="963" name=""/>
            <p:cNvSpPr/>
            <p:nvPr/>
          </p:nvSpPr>
          <p:spPr>
            <a:xfrm>
              <a:off x="596880" y="3657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1278000" y="3397320"/>
                  <a:ext cx="4734000" cy="14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ρ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ρ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d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,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5" name=""/>
          <p:cNvGrpSpPr/>
          <p:nvPr/>
        </p:nvGrpSpPr>
        <p:grpSpPr>
          <a:xfrm>
            <a:off x="901080" y="4997520"/>
            <a:ext cx="3310560" cy="520560"/>
            <a:chOff x="901080" y="4997520"/>
            <a:chExt cx="3310560" cy="520560"/>
          </a:xfrm>
        </p:grpSpPr>
        <p:sp>
          <p:nvSpPr>
            <p:cNvPr id="966" name=""/>
            <p:cNvSpPr/>
            <p:nvPr/>
          </p:nvSpPr>
          <p:spPr>
            <a:xfrm>
              <a:off x="901080" y="4997520"/>
              <a:ext cx="149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纯滚动的条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881440" y="5045040"/>
                  <a:ext cx="133020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8" name=""/>
          <p:cNvGrpSpPr/>
          <p:nvPr/>
        </p:nvGrpSpPr>
        <p:grpSpPr>
          <a:xfrm>
            <a:off x="636480" y="5610240"/>
            <a:ext cx="3287880" cy="914400"/>
            <a:chOff x="636480" y="5610240"/>
            <a:chExt cx="3287880" cy="914400"/>
          </a:xfrm>
        </p:grpSpPr>
        <p:sp>
          <p:nvSpPr>
            <p:cNvPr id="969" name=""/>
            <p:cNvSpPr/>
            <p:nvPr/>
          </p:nvSpPr>
          <p:spPr>
            <a:xfrm>
              <a:off x="636480" y="5832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0" name=""/>
                <p:cNvSpPr txBox="1"/>
                <p:nvPr/>
              </p:nvSpPr>
              <p:spPr>
                <a:xfrm>
                  <a:off x="1327320" y="5610240"/>
                  <a:ext cx="25970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mg</m:t>
                      </m:r>
                      <m:f>
                        <m:num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71" name="" descr=""/>
          <p:cNvPicPr/>
          <p:nvPr/>
        </p:nvPicPr>
        <p:blipFill>
          <a:blip r:embed="rId4"/>
          <a:stretch/>
        </p:blipFill>
        <p:spPr>
          <a:xfrm>
            <a:off x="5334120" y="685800"/>
            <a:ext cx="3581280" cy="2584440"/>
          </a:xfrm>
          <a:prstGeom prst="rect">
            <a:avLst/>
          </a:prstGeom>
          <a:ln w="0">
            <a:noFill/>
          </a:ln>
        </p:spPr>
      </p:pic>
      <p:sp>
        <p:nvSpPr>
          <p:cNvPr id="97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6" name="ShockwaveFlash1"/>
          <p:cNvGraphicFramePr/>
          <p:nvPr/>
        </p:nvGraphicFramePr>
        <p:xfrm>
          <a:off x="1143000" y="2852640"/>
          <a:ext cx="59436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852640"/>
                    <a:ext cx="5943600" cy="312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1334520" y="150840"/>
            <a:ext cx="5625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-1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均质圆轮半径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量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到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扰动后，在半径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圆弧上往复滚动，如图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表面足够粗糙，使圆轮在滚动时无滑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08120" y="19162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心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运动规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1614600" y="3571920"/>
                <a:ext cx="1230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5" name=""/>
          <p:cNvGrpSpPr/>
          <p:nvPr/>
        </p:nvGrpSpPr>
        <p:grpSpPr>
          <a:xfrm>
            <a:off x="701280" y="4876920"/>
            <a:ext cx="6380640" cy="884160"/>
            <a:chOff x="701280" y="4876920"/>
            <a:chExt cx="6380640" cy="884160"/>
          </a:xfrm>
        </p:grpSpPr>
        <p:sp>
          <p:nvSpPr>
            <p:cNvPr id="986" name=""/>
            <p:cNvSpPr/>
            <p:nvPr/>
          </p:nvSpPr>
          <p:spPr>
            <a:xfrm>
              <a:off x="701280" y="5075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7" name=""/>
            <p:cNvGraphicFramePr/>
            <p:nvPr/>
          </p:nvGraphicFramePr>
          <p:xfrm>
            <a:off x="1628640" y="4876920"/>
            <a:ext cx="5453280" cy="88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8640" y="4876920"/>
                      <a:ext cx="545328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89" name=""/>
          <p:cNvGrpSpPr/>
          <p:nvPr/>
        </p:nvGrpSpPr>
        <p:grpSpPr>
          <a:xfrm>
            <a:off x="636480" y="1135080"/>
            <a:ext cx="3659400" cy="541440"/>
            <a:chOff x="636480" y="1135080"/>
            <a:chExt cx="3659400" cy="541440"/>
          </a:xfrm>
        </p:grpSpPr>
        <p:sp>
          <p:nvSpPr>
            <p:cNvPr id="990" name=""/>
            <p:cNvSpPr/>
            <p:nvPr/>
          </p:nvSpPr>
          <p:spPr>
            <a:xfrm>
              <a:off x="636480" y="11556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1" name=""/>
                <p:cNvSpPr txBox="1"/>
                <p:nvPr/>
              </p:nvSpPr>
              <p:spPr>
                <a:xfrm>
                  <a:off x="1557360" y="1135080"/>
                  <a:ext cx="27385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92" name=""/>
          <p:cNvGraphicFramePr/>
          <p:nvPr/>
        </p:nvGraphicFramePr>
        <p:xfrm>
          <a:off x="1467000" y="2819520"/>
          <a:ext cx="1596960" cy="51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7000" y="2819520"/>
                    <a:ext cx="15969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1523880" y="1725480"/>
                <a:ext cx="33656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5" name="" descr=""/>
          <p:cNvPicPr/>
          <p:nvPr/>
        </p:nvPicPr>
        <p:blipFill>
          <a:blip r:embed="rId6"/>
          <a:stretch/>
        </p:blipFill>
        <p:spPr>
          <a:xfrm>
            <a:off x="4952880" y="1828800"/>
            <a:ext cx="3911760" cy="293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1523880" y="4343400"/>
                <a:ext cx="1716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755640" y="1542960"/>
            <a:ext cx="4040280" cy="514440"/>
            <a:chOff x="755640" y="1542960"/>
            <a:chExt cx="4040280" cy="514440"/>
          </a:xfrm>
        </p:grpSpPr>
        <p:sp>
          <p:nvSpPr>
            <p:cNvPr id="1002" name=""/>
            <p:cNvSpPr/>
            <p:nvPr/>
          </p:nvSpPr>
          <p:spPr>
            <a:xfrm>
              <a:off x="755640" y="1542960"/>
              <a:ext cx="11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解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2262240" y="1542960"/>
                  <a:ext cx="25336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β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1039680" y="2085840"/>
            <a:ext cx="3227400" cy="962280"/>
            <a:chOff x="1039680" y="2085840"/>
            <a:chExt cx="3227400" cy="962280"/>
          </a:xfrm>
        </p:grpSpPr>
        <p:sp>
          <p:nvSpPr>
            <p:cNvPr id="1005" name=""/>
            <p:cNvSpPr/>
            <p:nvPr/>
          </p:nvSpPr>
          <p:spPr>
            <a:xfrm>
              <a:off x="1039680" y="231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式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2286000" y="2085840"/>
                  <a:ext cx="1981080" cy="96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3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7" name=""/>
          <p:cNvGrpSpPr/>
          <p:nvPr/>
        </p:nvGrpSpPr>
        <p:grpSpPr>
          <a:xfrm>
            <a:off x="1224720" y="4797360"/>
            <a:ext cx="6319080" cy="1055880"/>
            <a:chOff x="1224720" y="4797360"/>
            <a:chExt cx="6319080" cy="1055880"/>
          </a:xfrm>
        </p:grpSpPr>
        <p:sp>
          <p:nvSpPr>
            <p:cNvPr id="1008" name=""/>
            <p:cNvSpPr/>
            <p:nvPr/>
          </p:nvSpPr>
          <p:spPr>
            <a:xfrm>
              <a:off x="1224720" y="50817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运动方程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9" name=""/>
                <p:cNvSpPr txBox="1"/>
                <p:nvPr/>
              </p:nvSpPr>
              <p:spPr>
                <a:xfrm>
                  <a:off x="3241800" y="4797360"/>
                  <a:ext cx="430200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3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</m:e>
                      </m:rad>
                      <m:r>
                        <m:rPr>
                          <m:lit/>
                          <m:nor/>
                        </m:rPr>
                        <m:t xml:space="preserve">s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R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d>
                                </m:den>
                              </m:f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0" name=""/>
          <p:cNvGrpSpPr/>
          <p:nvPr/>
        </p:nvGrpSpPr>
        <p:grpSpPr>
          <a:xfrm>
            <a:off x="958680" y="3789360"/>
            <a:ext cx="4299120" cy="961920"/>
            <a:chOff x="958680" y="3789360"/>
            <a:chExt cx="4299120" cy="961920"/>
          </a:xfrm>
        </p:grpSpPr>
        <mc:AlternateContent>
          <mc:Choice xmlns:a14="http://schemas.microsoft.com/office/drawing/2010/main" Requires="a14">
            <p:sp>
              <p:nvSpPr>
                <p:cNvPr id="1011" name=""/>
                <p:cNvSpPr txBox="1"/>
                <p:nvPr/>
              </p:nvSpPr>
              <p:spPr>
                <a:xfrm>
                  <a:off x="1930320" y="3789360"/>
                  <a:ext cx="332748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3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12" name=""/>
            <p:cNvSpPr/>
            <p:nvPr/>
          </p:nvSpPr>
          <p:spPr>
            <a:xfrm>
              <a:off x="958680" y="409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809640" y="352440"/>
            <a:ext cx="3475080" cy="942840"/>
            <a:chOff x="809640" y="352440"/>
            <a:chExt cx="3475080" cy="942840"/>
          </a:xfrm>
        </p:grpSpPr>
        <mc:AlternateContent>
          <mc:Choice xmlns:a14="http://schemas.microsoft.com/office/drawing/2010/main" Requires="a14">
            <p:sp>
              <p:nvSpPr>
                <p:cNvPr id="1014" name=""/>
                <p:cNvSpPr txBox="1"/>
                <p:nvPr/>
              </p:nvSpPr>
              <p:spPr>
                <a:xfrm>
                  <a:off x="1528920" y="352440"/>
                  <a:ext cx="275580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5" name=""/>
            <p:cNvSpPr/>
            <p:nvPr/>
          </p:nvSpPr>
          <p:spPr>
            <a:xfrm>
              <a:off x="809640" y="6303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58840" y="3200400"/>
            <a:ext cx="4556160" cy="520560"/>
            <a:chOff x="1158840" y="3200400"/>
            <a:chExt cx="4556160" cy="520560"/>
          </a:xfrm>
        </p:grpSpPr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>
                  <a:off x="1692360" y="3257640"/>
                  <a:ext cx="7160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1158840" y="3200400"/>
              <a:ext cx="249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3602160" y="3200400"/>
                  <a:ext cx="211284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0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>
            <a:hlinkClick r:id="" action="ppaction://hlinkshowjump?jump=firs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31840" y="2184480"/>
          <a:ext cx="386712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1840" y="2184480"/>
                    <a:ext cx="386712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187280" y="3068640"/>
          <a:ext cx="3638880" cy="9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3068640"/>
                    <a:ext cx="36388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514600" y="231840"/>
            <a:ext cx="54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2-2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量矩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1400" y="108108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质点的动量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5096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定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90880" y="5989680"/>
          <a:ext cx="176040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0880" y="5989680"/>
                    <a:ext cx="17604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043000" y="4054320"/>
          <a:ext cx="218772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43000" y="4054320"/>
                    <a:ext cx="21877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98400" y="41115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50920" y="4941720"/>
            <a:ext cx="2843640" cy="990720"/>
            <a:chOff x="2050920" y="4941720"/>
            <a:chExt cx="2843640" cy="990720"/>
          </a:xfrm>
        </p:grpSpPr>
        <p:graphicFrame>
          <p:nvGraphicFramePr>
            <p:cNvPr id="111" name=""/>
            <p:cNvGraphicFramePr/>
            <p:nvPr/>
          </p:nvGraphicFramePr>
          <p:xfrm>
            <a:off x="2050920" y="4941720"/>
            <a:ext cx="1005120" cy="990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50920" y="4941720"/>
                      <a:ext cx="1005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3090600" y="519588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定点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5029200" y="2940120"/>
            <a:ext cx="3913200" cy="2793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635200" y="3124080"/>
          <a:ext cx="303696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0" y="3124080"/>
                    <a:ext cx="3036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633760" y="4114800"/>
          <a:ext cx="3041640" cy="89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33760" y="4114800"/>
                    <a:ext cx="30416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49600" y="5181480"/>
          <a:ext cx="3004920" cy="90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9600" y="5181480"/>
                    <a:ext cx="3004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080" y="26128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影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94720" y="228600"/>
            <a:ext cx="3991680" cy="843120"/>
            <a:chOff x="1494720" y="228600"/>
            <a:chExt cx="3991680" cy="843120"/>
          </a:xfrm>
        </p:grpSpPr>
        <p:graphicFrame>
          <p:nvGraphicFramePr>
            <p:cNvPr id="127" name=""/>
            <p:cNvGraphicFramePr/>
            <p:nvPr/>
          </p:nvGraphicFramePr>
          <p:xfrm>
            <a:off x="2589120" y="228600"/>
            <a:ext cx="289728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89120" y="228600"/>
                      <a:ext cx="289728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1494720" y="458640"/>
              <a:ext cx="63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此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39720" y="1306440"/>
            <a:ext cx="7437600" cy="996120"/>
            <a:chOff x="639720" y="1306440"/>
            <a:chExt cx="7437600" cy="996120"/>
          </a:xfrm>
        </p:grpSpPr>
        <p:sp>
          <p:nvSpPr>
            <p:cNvPr id="131" name=""/>
            <p:cNvSpPr/>
            <p:nvPr/>
          </p:nvSpPr>
          <p:spPr>
            <a:xfrm>
              <a:off x="1864800" y="1306440"/>
              <a:ext cx="42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称为</a:t>
              </a:r>
              <a:r>
                <a:rPr b="1" i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质点的动量矩定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质点对某定点的动量矩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720" y="1842840"/>
              <a:ext cx="74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间的一阶导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于作用力对同一点的矩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81280" y="2809800"/>
          <a:ext cx="43034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1280" y="2809800"/>
                    <a:ext cx="43034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977760" y="3630600"/>
            <a:ext cx="3881520" cy="927000"/>
            <a:chOff x="977760" y="3630600"/>
            <a:chExt cx="3881520" cy="927000"/>
          </a:xfrm>
        </p:grpSpPr>
        <p:graphicFrame>
          <p:nvGraphicFramePr>
            <p:cNvPr id="140" name=""/>
            <p:cNvGraphicFramePr/>
            <p:nvPr/>
          </p:nvGraphicFramePr>
          <p:xfrm>
            <a:off x="1765440" y="3630600"/>
            <a:ext cx="309384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65440" y="3630600"/>
                      <a:ext cx="309384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977760" y="3819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48320" y="4502160"/>
            <a:ext cx="4013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质点系的动量矩定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点系对某定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动量矩对时间的导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作用于质点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力对于同一点的矩的矢量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78040" y="720720"/>
          <a:ext cx="4657680" cy="82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040" y="720720"/>
                    <a:ext cx="46576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806480" y="1484280"/>
          <a:ext cx="5213520" cy="84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06480" y="1484280"/>
                    <a:ext cx="52135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692360" y="260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质点系的动量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3400" y="2279520"/>
            <a:ext cx="3000960" cy="573120"/>
            <a:chOff x="923400" y="2279520"/>
            <a:chExt cx="3000960" cy="573120"/>
          </a:xfrm>
        </p:grpSpPr>
        <p:sp>
          <p:nvSpPr>
            <p:cNvPr id="150" name=""/>
            <p:cNvSpPr/>
            <p:nvPr/>
          </p:nvSpPr>
          <p:spPr>
            <a:xfrm>
              <a:off x="923400" y="2279520"/>
              <a:ext cx="7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1843200" y="2308320"/>
            <a:ext cx="2081160" cy="544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43200" y="2308320"/>
                      <a:ext cx="208116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484360" y="1217520"/>
          <a:ext cx="244800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217520"/>
                    <a:ext cx="24480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24240" y="2471760"/>
          <a:ext cx="272412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24240" y="2471760"/>
                    <a:ext cx="27241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280880" y="5796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影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11280" y="3684600"/>
          <a:ext cx="2737080" cy="96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3684600"/>
                    <a:ext cx="273708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39760" y="4973760"/>
            <a:ext cx="45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力不能改变质点系的动量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9400" y="2327400"/>
                <a:ext cx="31086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7880" y="2900520"/>
                <a:ext cx="4289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[</m:t>
                    </m:r>
                    <m:r>
                      <m:t xml:space="preserve">Jω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vR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066680" y="4978440"/>
            <a:ext cx="3218040" cy="100332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219320" y="533520"/>
            <a:ext cx="6665760" cy="992880"/>
            <a:chOff x="1219320" y="533520"/>
            <a:chExt cx="6665760" cy="992880"/>
          </a:xfrm>
        </p:grpSpPr>
        <p:sp>
          <p:nvSpPr>
            <p:cNvPr id="173" name=""/>
            <p:cNvSpPr/>
            <p:nvPr/>
          </p:nvSpPr>
          <p:spPr>
            <a:xfrm>
              <a:off x="1219320" y="533520"/>
              <a:ext cx="66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12-1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已知：　　　　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小车不计摩擦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311640" y="587520"/>
                  <a:ext cx="14968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,</m:t>
                      </m:r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859280" y="685800"/>
                  <a:ext cx="4572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6" name=""/>
            <p:cNvGraphicFramePr/>
            <p:nvPr/>
          </p:nvGraphicFramePr>
          <p:xfrm>
            <a:off x="3505320" y="1219320"/>
            <a:ext cx="26352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1219320"/>
                      <a:ext cx="2635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1274760" y="1066680"/>
              <a:ext cx="29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车的加速度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84520" y="1728720"/>
                <a:ext cx="2427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19320" y="170028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" y="3886200"/>
            <a:ext cx="4259160" cy="954000"/>
            <a:chOff x="457200" y="3886200"/>
            <a:chExt cx="4259160" cy="95400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990720" y="3886200"/>
                  <a:ext cx="106668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286000" y="3933720"/>
                  <a:ext cx="10620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457200" y="4052880"/>
              <a:ext cx="425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，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800600" y="2852640"/>
            <a:ext cx="4191120" cy="304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6:01:37Z</dcterms:created>
  <dc:creator>xhm</dc:creator>
  <dc:description/>
  <dc:language>en-US</dc:language>
  <cp:lastModifiedBy>Billgates</cp:lastModifiedBy>
  <dcterms:modified xsi:type="dcterms:W3CDTF">2005-11-14T14:46:23Z</dcterms:modified>
  <cp:revision>641</cp:revision>
  <dc:subject/>
  <dc:title>PowerPoint 演示文稿</dc:title>
</cp:coreProperties>
</file>