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png" ContentType="image/png"/>
  <Override PartName="/ppt/media/image30.jpeg" ContentType="image/jpeg"/>
  <Override PartName="/ppt/media/image125.png" ContentType="image/png"/>
  <Override PartName="/ppt/media/image124.jpeg" ContentType="image/jpeg"/>
  <Override PartName="/ppt/media/image123.jpeg" ContentType="image/jpeg"/>
  <Override PartName="/ppt/media/image14.wmf" ContentType="image/x-wmf"/>
  <Override PartName="/ppt/media/image121.wmf" ContentType="image/x-wmf"/>
  <Override PartName="/ppt/media/image115.jpeg" ContentType="image/jpeg"/>
  <Override PartName="/ppt/media/image2.jpeg" ContentType="image/jpeg"/>
  <Override PartName="/ppt/media/image128.png" ContentType="image/png"/>
  <Override PartName="/ppt/media/image99.wmf" ContentType="image/x-wmf"/>
  <Override PartName="/ppt/media/image36.jpeg" ContentType="image/jpeg"/>
  <Override PartName="/ppt/media/image3.jpeg" ContentType="image/jpeg"/>
  <Override PartName="/ppt/media/image37.jpeg" ContentType="image/jpeg"/>
  <Override PartName="/ppt/media/image129.png" ContentType="image/png"/>
  <Override PartName="/ppt/media/image93.jpeg" ContentType="image/jpeg"/>
  <Override PartName="/ppt/media/image4.jpeg" ContentType="image/jpeg"/>
  <Override PartName="/ppt/media/image32.jpeg" ContentType="image/jpeg"/>
  <Override PartName="/ppt/media/image132.png" ContentType="image/png"/>
  <Override PartName="/ppt/media/image61.png" ContentType="image/png"/>
  <Override PartName="/ppt/media/image5.jpeg" ContentType="image/jpeg"/>
  <Override PartName="/ppt/media/image29.jpeg" ContentType="image/jpeg"/>
  <Override PartName="/ppt/media/image88.jpeg" ContentType="image/jpeg"/>
  <Override PartName="/ppt/media/image57.wmf" ContentType="image/x-wmf"/>
  <Override PartName="/ppt/media/image108.jpeg" ContentType="image/jpeg"/>
  <Override PartName="/ppt/media/image131.png" ContentType="image/png"/>
  <Override PartName="/ppt/media/image106.jpeg" ContentType="image/jpeg"/>
  <Override PartName="/ppt/media/image10.jpeg" ContentType="image/jpeg"/>
  <Override PartName="/ppt/media/image19.wmf" ContentType="image/x-wmf"/>
  <Override PartName="/ppt/media/image7.wmf" ContentType="image/x-wmf"/>
  <Override PartName="/ppt/media/image116.jpeg" ContentType="image/jpeg"/>
  <Override PartName="/ppt/media/image12.wmf" ContentType="image/x-wmf"/>
  <Override PartName="/ppt/media/image100.wmf" ContentType="image/x-wmf"/>
  <Override PartName="/ppt/media/image49.wmf" ContentType="image/x-wmf"/>
  <Override PartName="/ppt/media/image13.png" ContentType="image/png"/>
  <Override PartName="/ppt/media/image54.jpeg" ContentType="image/jpeg"/>
  <Override PartName="/ppt/media/image107.jpeg" ContentType="image/jpeg"/>
  <Override PartName="/ppt/media/image28.jpeg" ContentType="image/jpeg"/>
  <Override PartName="/ppt/media/image11.jpeg" ContentType="image/jpeg"/>
  <Override PartName="/ppt/media/image51.wmf" ContentType="image/x-wmf"/>
  <Override PartName="/ppt/media/image42.wmf" ContentType="image/x-wmf"/>
  <Override PartName="/ppt/media/image102.jpeg" ContentType="image/jpeg"/>
  <Override PartName="/ppt/media/image23.jpeg" ContentType="image/jpeg"/>
  <Override PartName="/ppt/media/image59.jpeg" ContentType="image/jpeg"/>
  <Override PartName="/ppt/media/image82.jpeg" ContentType="image/jpeg"/>
  <Override PartName="/ppt/media/image40.wmf" ContentType="image/x-wmf"/>
  <Override PartName="/ppt/media/image130.png" ContentType="image/png"/>
  <Override PartName="/ppt/media/image62.jpeg" ContentType="image/jpeg"/>
  <Override PartName="/ppt/media/image41.wmf" ContentType="image/x-wmf"/>
  <Override PartName="/ppt/media/image79.jpeg" ContentType="image/jpeg"/>
  <Override PartName="/ppt/media/image44.wmf" ContentType="image/x-wmf"/>
  <Override PartName="/ppt/media/image56.wmf" ContentType="image/x-wmf"/>
  <Override PartName="/ppt/media/image45.jpeg" ContentType="image/jpeg"/>
  <Override PartName="/ppt/media/image133.png" ContentType="image/png"/>
  <Override PartName="/ppt/media/image9.jpeg" ContentType="image/jpeg"/>
  <Override PartName="/ppt/media/image134.png" ContentType="image/png"/>
  <Override PartName="/ppt/media/image53.jpeg" ContentType="image/jpeg"/>
  <Override PartName="/ppt/media/image63.jpeg" ContentType="image/jpeg"/>
  <Override PartName="/ppt/media/image43.wmf" ContentType="image/x-wmf"/>
  <Override PartName="/ppt/media/image122.jpeg" ContentType="image/jpeg"/>
  <Override PartName="/ppt/media/image39.jpeg" ContentType="image/jpeg"/>
  <Override PartName="/ppt/media/image98.jpeg" ContentType="image/jpeg"/>
  <Override PartName="/ppt/media/image24.jpeg" ContentType="image/jpeg"/>
  <Override PartName="/ppt/media/image52.wmf" ContentType="image/x-wmf"/>
  <Override PartName="/ppt/media/image31.jpeg" ContentType="image/jpeg"/>
  <Override PartName="/ppt/media/image38.jpeg" ContentType="image/jpeg"/>
  <Override PartName="/ppt/media/image97.jpeg" ContentType="image/jpeg"/>
  <Override PartName="/ppt/media/image34.wmf" ContentType="image/x-wmf"/>
  <Override PartName="/ppt/media/image33.jpeg" ContentType="image/jpeg"/>
  <Override PartName="/ppt/media/image83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89.jpeg" ContentType="image/jpeg"/>
  <Override PartName="/ppt/media/image16.jpeg" ContentType="image/jpeg"/>
  <Override PartName="/ppt/media/image77.wmf" ContentType="image/x-wmf"/>
  <Override PartName="/ppt/media/image126.png" ContentType="image/png"/>
  <Override PartName="/ppt/media/image58.wmf" ContentType="image/x-wmf"/>
  <Override PartName="/ppt/media/image6.jpeg" ContentType="image/jpeg"/>
  <Override PartName="/ppt/media/image21.wmf" ContentType="image/x-wmf"/>
  <Override PartName="/ppt/media/image87.jpeg" ContentType="image/jpeg"/>
  <Override PartName="/ppt/media/image22.wmf" ContentType="image/x-wmf"/>
  <Override PartName="/ppt/media/image117.jpeg" ContentType="image/jpeg"/>
  <Override PartName="/ppt/media/image119.wmf" ContentType="image/x-wmf"/>
  <Override PartName="/ppt/media/image80.jpeg" ContentType="image/jpeg"/>
  <Override PartName="/ppt/media/image20.wmf" ContentType="image/x-wmf"/>
  <Override PartName="/ppt/media/image26.wmf" ContentType="image/x-wmf"/>
  <Override PartName="/ppt/media/image67.jpeg" ContentType="image/jpeg"/>
  <Override PartName="/ppt/media/image15.wmf" ContentType="image/x-wmf"/>
  <Override PartName="/ppt/media/image17.jpeg" ContentType="image/jpeg"/>
  <Override PartName="/ppt/media/image60.png" ContentType="image/png"/>
  <Override PartName="/ppt/media/image90.jpeg" ContentType="image/jpeg"/>
  <Override PartName="/ppt/media/image110.jpeg" ContentType="image/jpeg"/>
  <Override PartName="/ppt/media/image64.jpeg" ContentType="image/jpeg"/>
  <Override PartName="/ppt/media/image65.jpeg" ContentType="image/jpeg"/>
  <Override PartName="/ppt/media/image46.jpeg" ContentType="image/jpeg"/>
  <Override PartName="/ppt/media/image66.wmf" ContentType="image/x-wmf"/>
  <Override PartName="/ppt/media/image68.jpeg" ContentType="image/jpeg"/>
  <Override PartName="/ppt/media/image25.wmf" ContentType="image/x-wmf"/>
  <Override PartName="/ppt/media/image27.jpeg" ContentType="image/jpeg"/>
  <Override PartName="/ppt/media/image69.wmf" ContentType="image/x-wmf"/>
  <Override PartName="/ppt/media/image120.wmf" ContentType="image/x-wmf"/>
  <Override PartName="/ppt/media/image71.jpeg" ContentType="image/jpeg"/>
  <Override PartName="/ppt/media/image72.jpeg" ContentType="image/jpeg"/>
  <Override PartName="/ppt/media/image73.jpeg" ContentType="image/jpeg"/>
  <Override PartName="/ppt/media/image74.wmf" ContentType="image/x-wmf"/>
  <Override PartName="/ppt/media/image103.jpeg" ContentType="image/jpeg"/>
  <Override PartName="/ppt/media/image75.wmf" ContentType="image/x-wmf"/>
  <Override PartName="/ppt/media/image47.jpeg" ContentType="image/jpeg"/>
  <Override PartName="/ppt/media/image76.wmf" ContentType="image/x-wmf"/>
  <Override PartName="/ppt/media/image78.jpeg" ContentType="image/jpeg"/>
  <Override PartName="/ppt/media/image8.wmf" ContentType="image/x-wmf"/>
  <Override PartName="/ppt/media/image81.jpeg" ContentType="image/jpeg"/>
  <Override PartName="/ppt/media/image118.jpeg" ContentType="image/jpeg"/>
  <Override PartName="/ppt/media/image101.jpeg" ContentType="image/jpeg"/>
  <Override PartName="/ppt/media/image55.wmf" ContentType="image/x-wmf"/>
  <Override PartName="/ppt/media/image84.jpeg" ContentType="image/jpeg"/>
  <Override PartName="/ppt/media/image104.jpeg" ContentType="image/jpeg"/>
  <Override PartName="/ppt/media/image70.wmf" ContentType="image/x-wmf"/>
  <Override PartName="/ppt/media/image85.jpeg" ContentType="image/jpeg"/>
  <Override PartName="/ppt/media/image105.jpeg" ContentType="image/jpeg"/>
  <Override PartName="/ppt/media/image48.jpeg" ContentType="image/jpeg"/>
  <Override PartName="/ppt/media/image86.wmf" ContentType="image/x-wmf"/>
  <Override PartName="/ppt/media/image18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12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109.jpeg" ContentType="image/jpeg"/>
  <Override PartName="/ppt/media/image113.jpeg" ContentType="image/jpeg"/>
  <Override PartName="/ppt/media/CAMERA.WAV" ContentType="audio/x-wav"/>
  <Override PartName="/ppt/media/image1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391-E7EE-4D3D-8858-47CCD251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53B-3BF1-4BD3-B8B3-4429AC0E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378-2BEF-4411-9FAF-73339121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564-F3C0-4453-9FC9-90FA5372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1D6-C9A4-4C77-9D29-40EBE0D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ABD-6DF6-403A-8948-300A61F3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BB5-878E-4990-A192-6204A0AA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AAE-4E36-45C2-9580-236F6C4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8FE-EDD5-4DFA-A066-EB953B44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CD8-A46B-4721-9323-7D5E0CE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27D-ADB8-49CA-A95F-BC0CC17C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E11-4FE9-4EFA-B0FE-9FBCDE4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22B9-F13D-4294-B8B8-148EBF3DF0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image" Target="../media/image59.jpe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" Target="slide34.xml"/><Relationship Id="rId7" Type="http://schemas.openxmlformats.org/officeDocument/2006/relationships/image" Target="../media/image73.jpe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7.wmf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image" Target="../media/image106.jpeg"/><Relationship Id="rId8" Type="http://schemas.openxmlformats.org/officeDocument/2006/relationships/image" Target="../media/image10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image" Target="../media/image111.jpeg"/><Relationship Id="rId6" Type="http://schemas.openxmlformats.org/officeDocument/2006/relationships/image" Target="../media/image112.jpeg"/><Relationship Id="rId7" Type="http://schemas.openxmlformats.org/officeDocument/2006/relationships/image" Target="../media/image113.jpeg"/><Relationship Id="rId8" Type="http://schemas.openxmlformats.org/officeDocument/2006/relationships/image" Target="../media/image114.jpeg"/><Relationship Id="rId9" Type="http://schemas.openxmlformats.org/officeDocument/2006/relationships/image" Target="../media/image109.jpeg"/><Relationship Id="rId10" Type="http://schemas.openxmlformats.org/officeDocument/2006/relationships/image" Target="../media/image110.jpeg"/><Relationship Id="rId11" Type="http://schemas.openxmlformats.org/officeDocument/2006/relationships/image" Target="../media/image111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6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7.jpeg"/><Relationship Id="rId3" Type="http://schemas.openxmlformats.org/officeDocument/2006/relationships/image" Target="../media/image118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1.wmf"/><Relationship Id="rId8" Type="http://schemas.openxmlformats.org/officeDocument/2006/relationships/image" Target="../media/image122.jpeg"/><Relationship Id="rId9" Type="http://schemas.openxmlformats.org/officeDocument/2006/relationships/image" Target="../media/image123.jpeg"/><Relationship Id="rId10" Type="http://schemas.openxmlformats.org/officeDocument/2006/relationships/image" Target="../media/image124.jpeg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6.png"/><Relationship Id="rId3" Type="http://schemas.openxmlformats.org/officeDocument/2006/relationships/image" Target="../media/image12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1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章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平面汇交力系与平面力偶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2644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lastslide"/>
          </p:cNvPr>
          <p:cNvSpPr/>
          <p:nvPr/>
        </p:nvSpPr>
        <p:spPr>
          <a:xfrm>
            <a:off x="878364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7873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C=C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各杆自重不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223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CD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杆及铰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受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3657600" cy="3094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17600" y="18108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188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6858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为二力杆，取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杆，画受力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1371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几何法，画封闭力三角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2514600" cy="212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490920" y="2268360"/>
            <a:ext cx="2311560" cy="1955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490920" y="2268360"/>
            <a:ext cx="2309760" cy="195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629400" y="2286000"/>
            <a:ext cx="2314440" cy="195912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6" action="ppaction://hlinksldjump"/>
          </p:cNvPr>
          <p:cNvSpPr/>
          <p:nvPr/>
        </p:nvSpPr>
        <p:spPr>
          <a:xfrm>
            <a:off x="838080" y="4800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比例量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05320" y="4876920"/>
                <a:ext cx="3649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1295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在坐标轴上的投影与力沿轴的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12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2-2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面汇交力系合成与平衡的解析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90720" y="2178000"/>
            <a:ext cx="3998880" cy="3465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990720" y="2178000"/>
            <a:ext cx="3998880" cy="346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5562720" y="2347920"/>
          <a:ext cx="2743200" cy="63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2347920"/>
                    <a:ext cx="27432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562720" y="3429000"/>
                <a:ext cx="2666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990720" y="2178000"/>
            <a:ext cx="3998880" cy="3465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990720" y="2178000"/>
            <a:ext cx="3998880" cy="3465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990720" y="2178000"/>
            <a:ext cx="3998880" cy="34657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10080" y="2743200"/>
                <a:ext cx="332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4444920" cy="3809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4444920" cy="38098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220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59560" y="907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二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力在直角坐标轴上的投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35120" y="2268360"/>
          <a:ext cx="3208320" cy="9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5120" y="2268360"/>
                    <a:ext cx="320832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22160" y="3390840"/>
          <a:ext cx="3259440" cy="96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2160" y="3390840"/>
                    <a:ext cx="32594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"/>
          <p:cNvGrpSpPr/>
          <p:nvPr/>
        </p:nvGrpSpPr>
        <p:grpSpPr>
          <a:xfrm>
            <a:off x="4603680" y="1784520"/>
            <a:ext cx="3997440" cy="2916720"/>
            <a:chOff x="4603680" y="1784520"/>
            <a:chExt cx="3997440" cy="2916720"/>
          </a:xfrm>
        </p:grpSpPr>
        <p:grpSp>
          <p:nvGrpSpPr>
            <p:cNvPr id="230" name=""/>
            <p:cNvGrpSpPr/>
            <p:nvPr/>
          </p:nvGrpSpPr>
          <p:grpSpPr>
            <a:xfrm>
              <a:off x="4603680" y="1906200"/>
              <a:ext cx="3947760" cy="2782440"/>
              <a:chOff x="4603680" y="1906200"/>
              <a:chExt cx="3947760" cy="2782440"/>
            </a:xfrm>
          </p:grpSpPr>
          <p:sp>
            <p:nvSpPr>
              <p:cNvPr id="231" name=""/>
              <p:cNvSpPr/>
              <p:nvPr/>
            </p:nvSpPr>
            <p:spPr>
              <a:xfrm>
                <a:off x="4603680" y="4061880"/>
                <a:ext cx="394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447160" y="1906200"/>
                <a:ext cx="0" cy="27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V="1">
              <a:off x="5975280" y="2595600"/>
              <a:ext cx="196236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940520" y="2593800"/>
              <a:ext cx="0" cy="1446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465520" y="2602080"/>
              <a:ext cx="24541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52040" y="2346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468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6560" y="1784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432040" y="3505320"/>
              <a:ext cx="5698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989680" y="3487320"/>
              <a:ext cx="0" cy="5763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989680" y="4098600"/>
              <a:ext cx="0" cy="509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940520" y="4095720"/>
              <a:ext cx="0" cy="50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989320" y="4419720"/>
              <a:ext cx="1941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86640" y="4191120"/>
              <a:ext cx="4442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894200" y="2606760"/>
              <a:ext cx="509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886280" y="3510000"/>
              <a:ext cx="509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87880" y="26020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91160" y="2808360"/>
              <a:ext cx="44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019920" y="3510000"/>
              <a:ext cx="1155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997600" y="2868120"/>
              <a:ext cx="0" cy="63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945400">
              <a:off x="6417720" y="3352680"/>
              <a:ext cx="195120" cy="112680"/>
            </a:xfrm>
            <a:custGeom>
              <a:avLst/>
              <a:gdLst/>
              <a:ahLst/>
              <a:rect l="l" t="t" r="r" b="b"/>
              <a:pathLst>
                <a:path w="819" h="474">
                  <a:moveTo>
                    <a:pt x="0" y="474"/>
                  </a:moveTo>
                  <a:cubicBezTo>
                    <a:pt x="32" y="423"/>
                    <a:pt x="65" y="372"/>
                    <a:pt x="108" y="324"/>
                  </a:cubicBezTo>
                  <a:cubicBezTo>
                    <a:pt x="151" y="276"/>
                    <a:pt x="204" y="226"/>
                    <a:pt x="258" y="186"/>
                  </a:cubicBezTo>
                  <a:cubicBezTo>
                    <a:pt x="312" y="146"/>
                    <a:pt x="369" y="112"/>
                    <a:pt x="432" y="84"/>
                  </a:cubicBezTo>
                  <a:cubicBezTo>
                    <a:pt x="495" y="56"/>
                    <a:pt x="572" y="32"/>
                    <a:pt x="636" y="18"/>
                  </a:cubicBezTo>
                  <a:cubicBezTo>
                    <a:pt x="700" y="4"/>
                    <a:pt x="787" y="2"/>
                    <a:pt x="81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3553800">
              <a:off x="5994000" y="3276360"/>
              <a:ext cx="195120" cy="112680"/>
            </a:xfrm>
            <a:custGeom>
              <a:avLst/>
              <a:gdLst/>
              <a:ahLst/>
              <a:rect l="l" t="t" r="r" b="b"/>
              <a:pathLst>
                <a:path w="819" h="474">
                  <a:moveTo>
                    <a:pt x="0" y="474"/>
                  </a:moveTo>
                  <a:cubicBezTo>
                    <a:pt x="32" y="423"/>
                    <a:pt x="65" y="372"/>
                    <a:pt x="108" y="324"/>
                  </a:cubicBezTo>
                  <a:cubicBezTo>
                    <a:pt x="151" y="276"/>
                    <a:pt x="204" y="226"/>
                    <a:pt x="258" y="186"/>
                  </a:cubicBezTo>
                  <a:cubicBezTo>
                    <a:pt x="312" y="146"/>
                    <a:pt x="369" y="112"/>
                    <a:pt x="432" y="84"/>
                  </a:cubicBezTo>
                  <a:cubicBezTo>
                    <a:pt x="495" y="56"/>
                    <a:pt x="572" y="32"/>
                    <a:pt x="636" y="18"/>
                  </a:cubicBezTo>
                  <a:cubicBezTo>
                    <a:pt x="700" y="4"/>
                    <a:pt x="787" y="2"/>
                    <a:pt x="81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54880" y="30956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5960" y="28479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6520" y="4068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 力的正交分解与力的解析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2760" y="1099800"/>
            <a:ext cx="3947760" cy="2782440"/>
            <a:chOff x="2282760" y="1099800"/>
            <a:chExt cx="3947760" cy="2782440"/>
          </a:xfrm>
        </p:grpSpPr>
        <p:sp>
          <p:nvSpPr>
            <p:cNvPr id="258" name=""/>
            <p:cNvSpPr/>
            <p:nvPr/>
          </p:nvSpPr>
          <p:spPr>
            <a:xfrm>
              <a:off x="2282760" y="3255480"/>
              <a:ext cx="39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126240" y="1099800"/>
              <a:ext cx="0" cy="27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 flipV="1">
            <a:off x="3855960" y="1789200"/>
            <a:ext cx="196236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70360" y="2705040"/>
            <a:ext cx="1954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821200" y="1787040"/>
            <a:ext cx="0" cy="909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867120" y="1781280"/>
            <a:ext cx="0" cy="939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70360" y="1795320"/>
            <a:ext cx="19303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32720" y="14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35400" y="2644920"/>
            <a:ext cx="5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717560"/>
            <a:ext cx="5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63760" y="283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85640" y="97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129120" y="2617920"/>
            <a:ext cx="0" cy="637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10040" y="3260880"/>
            <a:ext cx="637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2600" y="3214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87840" y="250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214280" y="4362480"/>
          <a:ext cx="6262920" cy="10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4362480"/>
                    <a:ext cx="62629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730960" y="3240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7524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合矢量投影定理，得合力投影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590920"/>
                <a:ext cx="23623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2590920"/>
                <a:ext cx="23623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33520" y="35053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力的大小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429000" y="3505320"/>
                <a:ext cx="2133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808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向为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057400" y="4495680"/>
          <a:ext cx="335268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4495680"/>
                    <a:ext cx="335268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点为力的汇交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486400" y="4495680"/>
          <a:ext cx="3276720" cy="92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4495680"/>
                    <a:ext cx="32767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85800" y="457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面汇交力系合成的解析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048120" y="1143000"/>
                <a:ext cx="14540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8906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面汇交力系的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90840" y="1639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衡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733920" y="1600200"/>
                <a:ext cx="1600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1547640" y="2502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733920" y="2590920"/>
                <a:ext cx="152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733920" y="3505320"/>
                <a:ext cx="1523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01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302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24000" y="4508640"/>
            <a:ext cx="844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平面汇交力系平衡的必要和充分条件是：各力在作用面内两个任选的坐标轴上投影的代数和等于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上式称为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平面汇交力系的平衡方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800600" y="7621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：此力系的合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309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用解析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2520" y="1905120"/>
                <a:ext cx="8367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31640" y="2514600"/>
                <a:ext cx="8255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57200" y="3200400"/>
                <a:ext cx="3394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" y="3962520"/>
                <a:ext cx="2746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" y="4952880"/>
                <a:ext cx="281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57200" y="6095880"/>
                <a:ext cx="3898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80880" y="2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3073680" cy="3073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235880" y="7621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图示平面共点力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319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947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系统如图，不计杆、轮自重，忽略滑轮大小，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9640" y="227664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系统平衡时，杆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AB,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受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1428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4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306864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杆为二力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取滑轮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或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，画受力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4495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图示坐标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372360" y="1557360"/>
            <a:ext cx="2442960" cy="244332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330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6400800" y="4119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6400800" y="4114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14600" y="34290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514600" y="342900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个汇交力的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14479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力多边形规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41936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5520"/>
            <a:ext cx="98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2-1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面汇交力系合成与平衡的几何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76720" y="4343400"/>
                <a:ext cx="4051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7" name=""/>
          <p:cNvGraphicFramePr/>
          <p:nvPr/>
        </p:nvGraphicFramePr>
        <p:xfrm>
          <a:off x="1295280" y="4267080"/>
          <a:ext cx="1371600" cy="6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4267080"/>
                    <a:ext cx="13716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181480" y="5715000"/>
                <a:ext cx="2214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352680" y="5029200"/>
                <a:ext cx="1390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362320" y="5791320"/>
                <a:ext cx="2340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1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7" name=""/>
          <p:cNvGraphicFramePr/>
          <p:nvPr/>
        </p:nvGraphicFramePr>
        <p:xfrm>
          <a:off x="1200240" y="3632040"/>
          <a:ext cx="1542960" cy="60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0240" y="3632040"/>
                    <a:ext cx="15429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276720" y="3581280"/>
          <a:ext cx="3886200" cy="60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3581280"/>
                    <a:ext cx="38862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3276720" y="4618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3276720" y="4572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66680" y="5791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09480" y="533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600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平衡时，压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对工件与地面的压力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杆受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10680" y="1066680"/>
            <a:ext cx="70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1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忽略自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2666880"/>
            <a:ext cx="67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杆为二力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取销钉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3880" y="4038480"/>
          <a:ext cx="1303560" cy="5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038480"/>
                    <a:ext cx="13035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62120" y="4724280"/>
                <a:ext cx="33051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6094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523880" y="5486400"/>
                <a:ext cx="1332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4876920" y="2590920"/>
            <a:ext cx="3733560" cy="34383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4876920" y="2590920"/>
            <a:ext cx="3733560" cy="344016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366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62120" y="95076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722600" y="950760"/>
                <a:ext cx="2920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762120" y="1614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压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66680" y="2362320"/>
          <a:ext cx="139392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13939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19520" y="2322360"/>
                <a:ext cx="2544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752480" y="3135240"/>
                <a:ext cx="4259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76212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066680" y="4038480"/>
          <a:ext cx="12956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4038480"/>
                    <a:ext cx="1295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990720" y="4800600"/>
                <a:ext cx="35859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838080" y="5827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846440" y="5827680"/>
          <a:ext cx="213192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46440" y="5827680"/>
                    <a:ext cx="21319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543040" y="264960"/>
                <a:ext cx="3684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5" name=""/>
          <p:cNvGraphicFramePr/>
          <p:nvPr/>
        </p:nvGraphicFramePr>
        <p:xfrm>
          <a:off x="838080" y="228600"/>
          <a:ext cx="1219320" cy="57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228600"/>
                    <a:ext cx="1219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7" name="" descr=""/>
          <p:cNvPicPr/>
          <p:nvPr/>
        </p:nvPicPr>
        <p:blipFill>
          <a:blip r:embed="rId10"/>
          <a:stretch/>
        </p:blipFill>
        <p:spPr>
          <a:xfrm>
            <a:off x="5486400" y="3733920"/>
            <a:ext cx="2971800" cy="2736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389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1012680" y="3071880"/>
            <a:ext cx="4624560" cy="1074600"/>
            <a:chOff x="1012680" y="3071880"/>
            <a:chExt cx="4624560" cy="10746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1012680" y="3127320"/>
                  <a:ext cx="9144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1038240" y="3692520"/>
                  <a:ext cx="8460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Y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2292480" y="3071880"/>
                  <a:ext cx="31176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D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1959120" y="3637080"/>
                  <a:ext cx="367812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D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8" name=""/>
          <p:cNvSpPr/>
          <p:nvPr/>
        </p:nvSpPr>
        <p:spPr>
          <a:xfrm>
            <a:off x="248760" y="498600"/>
            <a:ext cx="434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知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kN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195960" y="857160"/>
            <a:ext cx="2109960" cy="2498760"/>
            <a:chOff x="6195960" y="857160"/>
            <a:chExt cx="2109960" cy="2498760"/>
          </a:xfrm>
        </p:grpSpPr>
        <p:graphicFrame>
          <p:nvGraphicFramePr>
            <p:cNvPr id="400" name=""/>
            <p:cNvGraphicFramePr/>
            <p:nvPr/>
          </p:nvGraphicFramePr>
          <p:xfrm>
            <a:off x="6195960" y="857160"/>
            <a:ext cx="2109960" cy="2498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95960" y="857160"/>
                      <a:ext cx="2109960" cy="24987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02" name=""/>
            <p:cNvSpPr/>
            <p:nvPr/>
          </p:nvSpPr>
          <p:spPr>
            <a:xfrm>
              <a:off x="7937640" y="288612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195960" y="3457440"/>
            <a:ext cx="2514600" cy="2278080"/>
            <a:chOff x="6195960" y="3457440"/>
            <a:chExt cx="2514600" cy="2278080"/>
          </a:xfrm>
        </p:grpSpPr>
        <p:grpSp>
          <p:nvGrpSpPr>
            <p:cNvPr id="404" name=""/>
            <p:cNvGrpSpPr/>
            <p:nvPr/>
          </p:nvGrpSpPr>
          <p:grpSpPr>
            <a:xfrm>
              <a:off x="6195960" y="3457440"/>
              <a:ext cx="2514600" cy="2278080"/>
              <a:chOff x="6195960" y="3457440"/>
              <a:chExt cx="2514600" cy="2278080"/>
            </a:xfrm>
          </p:grpSpPr>
          <p:graphicFrame>
            <p:nvGraphicFramePr>
              <p:cNvPr id="405" name=""/>
              <p:cNvGraphicFramePr/>
              <p:nvPr/>
            </p:nvGraphicFramePr>
            <p:xfrm>
              <a:off x="6195960" y="3457440"/>
              <a:ext cx="2514600" cy="2278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0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195960" y="3457440"/>
                        <a:ext cx="2514600" cy="22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07" name=""/>
              <p:cNvSpPr/>
              <p:nvPr/>
            </p:nvSpPr>
            <p:spPr>
              <a:xfrm>
                <a:off x="6858000" y="4601880"/>
                <a:ext cx="95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8013600" y="491148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99400" y="5062320"/>
              <a:ext cx="2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50160" y="390492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52600" y="116208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82560" y="1214280"/>
            <a:ext cx="31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杆为研究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06440" y="2176560"/>
            <a:ext cx="3759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1828800"/>
            <a:ext cx="34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受力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01640" y="242892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平衡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36400" y="4340160"/>
            <a:ext cx="7848720" cy="2232000"/>
            <a:chOff x="536400" y="4340160"/>
            <a:chExt cx="7848720" cy="2232000"/>
          </a:xfrm>
        </p:grpSpPr>
        <p:sp>
          <p:nvSpPr>
            <p:cNvPr id="417" name=""/>
            <p:cNvSpPr/>
            <p:nvPr/>
          </p:nvSpPr>
          <p:spPr>
            <a:xfrm>
              <a:off x="2097000" y="4398840"/>
              <a:ext cx="254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由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EB=BC=0.4m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2276640" y="4903920"/>
                  <a:ext cx="292068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ϕ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"/>
            <p:cNvSpPr/>
            <p:nvPr/>
          </p:nvSpPr>
          <p:spPr>
            <a:xfrm>
              <a:off x="1004760" y="4981680"/>
              <a:ext cx="13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解得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39640" y="5737320"/>
              <a:ext cx="7845480" cy="834840"/>
              <a:chOff x="539640" y="5737320"/>
              <a:chExt cx="7845480" cy="834840"/>
            </a:xfrm>
          </p:grpSpPr>
          <mc:AlternateContent>
            <mc:Choice xmlns:a14="http://schemas.microsoft.com/office/drawing/2010/main" Requires="a14">
              <p:sp>
                <p:nvSpPr>
                  <p:cNvPr id="421" name=""/>
                  <p:cNvSpPr txBox="1"/>
                  <p:nvPr/>
                </p:nvSpPr>
                <p:spPr>
                  <a:xfrm>
                    <a:off x="539640" y="5737320"/>
                    <a:ext cx="4105440" cy="812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ϕ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 kN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2" name=""/>
                  <p:cNvSpPr txBox="1"/>
                  <p:nvPr/>
                </p:nvSpPr>
                <p:spPr>
                  <a:xfrm>
                    <a:off x="5060880" y="5737320"/>
                    <a:ext cx="3324240" cy="834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kN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3" name=""/>
              <p:cNvSpPr/>
              <p:nvPr/>
            </p:nvSpPr>
            <p:spPr>
              <a:xfrm>
                <a:off x="4645080" y="5943600"/>
                <a:ext cx="44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36400" y="4340160"/>
              <a:ext cx="23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.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解方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-36360" y="152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2-3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面力对点之矩的概念和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914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平面力对点之矩（力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16002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矩作用面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矩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力的作用线的垂直距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力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914400" y="1725480"/>
            <a:ext cx="3174840" cy="31752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914400" y="1725480"/>
            <a:ext cx="3174840" cy="31752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914400" y="1725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495680" y="388620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小：力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力臂的乘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向：转动方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33080" y="3276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要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914400" y="1725480"/>
            <a:ext cx="3174840" cy="317520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435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04920" y="342900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力对点之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一个代数量，它的绝对值等于力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小与力臂的乘积，它的正负：力使物体绕矩心逆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针转向时为正，反之为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用单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·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kN·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895480" y="1905120"/>
          <a:ext cx="3124440" cy="78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905120"/>
                    <a:ext cx="312444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468360" y="476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合力矩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715000" y="12193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8580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汇交力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762120" y="2895480"/>
          <a:ext cx="3962160" cy="70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2895480"/>
                    <a:ext cx="396216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1689840" y="48769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结论适用于任何合力存在的力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533520" y="4572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力矩与合力矩的解析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80880" y="1371600"/>
          <a:ext cx="4648320" cy="201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371600"/>
                    <a:ext cx="464832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04920" y="502920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62120" y="4191120"/>
                <a:ext cx="3276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5029200" y="22860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5029200" y="22860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29200" y="22860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533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5800" y="1981080"/>
            <a:ext cx="1695600" cy="520560"/>
            <a:chOff x="685800" y="1981080"/>
            <a:chExt cx="1695600" cy="520560"/>
          </a:xfrm>
        </p:grpSpPr>
        <p:sp>
          <p:nvSpPr>
            <p:cNvPr id="459" name=""/>
            <p:cNvSpPr/>
            <p:nvPr/>
          </p:nvSpPr>
          <p:spPr>
            <a:xfrm>
              <a:off x="685800" y="1981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求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0" name=""/>
            <p:cNvGraphicFramePr/>
            <p:nvPr/>
          </p:nvGraphicFramePr>
          <p:xfrm>
            <a:off x="1371600" y="2057400"/>
            <a:ext cx="1009800" cy="422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2057400"/>
                      <a:ext cx="100980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2" name=""/>
          <p:cNvSpPr/>
          <p:nvPr/>
        </p:nvSpPr>
        <p:spPr>
          <a:xfrm>
            <a:off x="685800" y="2637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直接按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295280" y="3200400"/>
          <a:ext cx="4267440" cy="13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200400"/>
                    <a:ext cx="426744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219320" y="4419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按合力矩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838080" y="5105520"/>
          <a:ext cx="5029200" cy="123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5105520"/>
                    <a:ext cx="502920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8" name=""/>
          <p:cNvGrpSpPr/>
          <p:nvPr/>
        </p:nvGrpSpPr>
        <p:grpSpPr>
          <a:xfrm>
            <a:off x="889200" y="1219320"/>
            <a:ext cx="5800680" cy="523440"/>
            <a:chOff x="889200" y="1219320"/>
            <a:chExt cx="5800680" cy="523440"/>
          </a:xfrm>
        </p:grpSpPr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3505320" y="1295280"/>
                  <a:ext cx="13586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470" name=""/>
            <p:cNvGraphicFramePr/>
            <p:nvPr/>
          </p:nvGraphicFramePr>
          <p:xfrm>
            <a:off x="4968720" y="1295280"/>
            <a:ext cx="1721160" cy="447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968720" y="1295280"/>
                      <a:ext cx="17211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889200" y="1219320"/>
              <a:ext cx="253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已知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: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=140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3" name="" descr=""/>
          <p:cNvPicPr/>
          <p:nvPr/>
        </p:nvPicPr>
        <p:blipFill>
          <a:blip r:embed="rId10"/>
          <a:stretch/>
        </p:blipFill>
        <p:spPr>
          <a:xfrm>
            <a:off x="6095880" y="2133720"/>
            <a:ext cx="2868840" cy="28684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1"/>
          <a:stretch/>
        </p:blipFill>
        <p:spPr>
          <a:xfrm>
            <a:off x="6095880" y="2133720"/>
            <a:ext cx="2868840" cy="2868480"/>
          </a:xfrm>
          <a:prstGeom prst="rect">
            <a:avLst/>
          </a:prstGeom>
          <a:ln w="0">
            <a:noFill/>
          </a:ln>
        </p:spPr>
      </p:pic>
      <p:grpSp>
        <p:nvGrpSpPr>
          <p:cNvPr id="475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476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0880" y="533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17524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2565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3327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杠杆平衡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371600" y="4165560"/>
                <a:ext cx="5288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457200" y="51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47920" y="5029200"/>
                <a:ext cx="42764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397160" y="1125360"/>
                <a:ext cx="20224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95800" y="111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51600" y="1803240"/>
            <a:ext cx="27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平衡时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杆的拉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48160" y="2565360"/>
            <a:ext cx="24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为二力杆，取踏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3797280" cy="27622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876920" y="1295280"/>
            <a:ext cx="3809880" cy="277200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494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435640" y="0"/>
            <a:ext cx="3352680" cy="31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143000" y="762120"/>
          <a:ext cx="160020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762120"/>
                    <a:ext cx="1600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042920" y="1557360"/>
          <a:ext cx="3816360" cy="122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1557360"/>
                    <a:ext cx="38163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914400" y="3505320"/>
            <a:ext cx="3152880" cy="281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914400" y="3505320"/>
            <a:ext cx="3152880" cy="281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914400" y="3048120"/>
            <a:ext cx="3657600" cy="32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34120" y="3657600"/>
          <a:ext cx="2286000" cy="114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3657600"/>
                    <a:ext cx="22860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68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181480" y="4876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多边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5562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多边形规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533520" y="3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1066680"/>
            <a:ext cx="10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5200" y="1773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696960" y="2438280"/>
                <a:ext cx="16430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685800" y="3429000"/>
                <a:ext cx="27338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533520" y="4876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合力矩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124080" y="4724280"/>
                <a:ext cx="48960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d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533520" y="5824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295280" y="5638680"/>
                <a:ext cx="9003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1800720" y="38088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q,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32040" y="1082520"/>
            <a:ext cx="24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力及合力作用线位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76440" y="1752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取微元如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267080" cy="29876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343400" y="1676520"/>
            <a:ext cx="4267080" cy="2987640"/>
          </a:xfrm>
          <a:prstGeom prst="rect">
            <a:avLst/>
          </a:prstGeom>
          <a:ln w="0">
            <a:noFill/>
          </a:ln>
        </p:spPr>
      </p:pic>
      <p:grpSp>
        <p:nvGrpSpPr>
          <p:cNvPr id="512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513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692360" y="260280"/>
            <a:ext cx="51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2-4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面力偶理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990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偶和力偶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8080" y="1523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3352680" cy="31939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4952880" y="3200400"/>
            <a:ext cx="32004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522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523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339000" y="2133720"/>
            <a:ext cx="2849040" cy="927000"/>
            <a:chOff x="3339000" y="2133720"/>
            <a:chExt cx="2849040" cy="927000"/>
          </a:xfrm>
        </p:grpSpPr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5181480" y="2514600"/>
                  <a:ext cx="100656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,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29" name=""/>
            <p:cNvSpPr/>
            <p:nvPr/>
          </p:nvSpPr>
          <p:spPr>
            <a:xfrm>
              <a:off x="3339000" y="2133720"/>
              <a:ext cx="252756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两个等值、反向、不共线的（平行）力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成的力系称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力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记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684360" y="2381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要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9160" y="2990880"/>
            <a:ext cx="45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小：力与力偶臂乘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95240" y="3676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向：转动方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4360" y="443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力偶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14400" y="5257800"/>
          <a:ext cx="450864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257800"/>
                    <a:ext cx="450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684360" y="10238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偶中两力所在平面称为力偶作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4360" y="16956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偶两力之间的垂直距离称为力偶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55640" y="404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偶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791320" y="2438280"/>
            <a:ext cx="2819160" cy="2819520"/>
          </a:xfrm>
          <a:prstGeom prst="rect">
            <a:avLst/>
          </a:prstGeom>
          <a:ln w="0">
            <a:noFill/>
          </a:ln>
        </p:spPr>
      </p:pic>
      <p:grpSp>
        <p:nvGrpSpPr>
          <p:cNvPr id="540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541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90720" y="5335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偶与力偶矩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力偶在任意坐标轴上的投影等于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360520" y="2362320"/>
            <a:ext cx="3684600" cy="31575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2360520" y="2362320"/>
            <a:ext cx="3684600" cy="31575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2362320" y="2362320"/>
            <a:ext cx="3682800" cy="3157560"/>
          </a:xfrm>
          <a:prstGeom prst="rect">
            <a:avLst/>
          </a:prstGeom>
          <a:ln w="0">
            <a:noFill/>
          </a:ln>
        </p:spPr>
      </p:pic>
      <p:grpSp>
        <p:nvGrpSpPr>
          <p:cNvPr id="550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551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2846520" cy="20336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124080" y="1676520"/>
            <a:ext cx="2846520" cy="20336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>
            <a:off x="6019920" y="1676520"/>
            <a:ext cx="2846160" cy="203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85800" y="4114800"/>
                <a:ext cx="43434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59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560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533520" y="228600"/>
            <a:ext cx="7924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力偶对任意点取矩都等于力偶矩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因矩心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变而改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762120" y="5334120"/>
                <a:ext cx="42321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10080" y="47242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24480" y="4495680"/>
            <a:ext cx="2819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力偶矩的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09480" y="2286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保持力偶矩不变，力偶可在其作用面内任意移转，且可以同时改变力偶中力的大小与力臂的长短，对刚体的作用效果不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998640" y="1905120"/>
            <a:ext cx="3116160" cy="2227320"/>
          </a:xfrm>
          <a:prstGeom prst="rect">
            <a:avLst/>
          </a:prstGeom>
          <a:ln w="0">
            <a:noFill/>
          </a:ln>
        </p:spPr>
      </p:pic>
      <p:grpSp>
        <p:nvGrpSpPr>
          <p:cNvPr id="570" name=""/>
          <p:cNvGrpSpPr/>
          <p:nvPr/>
        </p:nvGrpSpPr>
        <p:grpSpPr>
          <a:xfrm>
            <a:off x="4343400" y="1905120"/>
            <a:ext cx="3733920" cy="2227320"/>
            <a:chOff x="4343400" y="1905120"/>
            <a:chExt cx="3733920" cy="2227320"/>
          </a:xfrm>
        </p:grpSpPr>
        <p:pic>
          <p:nvPicPr>
            <p:cNvPr id="571" name="" descr=""/>
            <p:cNvPicPr/>
            <p:nvPr/>
          </p:nvPicPr>
          <p:blipFill>
            <a:blip r:embed="rId3"/>
            <a:stretch/>
          </p:blipFill>
          <p:spPr>
            <a:xfrm>
              <a:off x="4960800" y="1905120"/>
              <a:ext cx="311652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4343400" y="27608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57200" y="4267080"/>
            <a:ext cx="3649680" cy="2227320"/>
            <a:chOff x="457200" y="4267080"/>
            <a:chExt cx="3649680" cy="2227320"/>
          </a:xfrm>
        </p:grpSpPr>
        <p:pic>
          <p:nvPicPr>
            <p:cNvPr id="574" name="" descr=""/>
            <p:cNvPicPr/>
            <p:nvPr/>
          </p:nvPicPr>
          <p:blipFill>
            <a:blip r:embed="rId4"/>
            <a:stretch/>
          </p:blipFill>
          <p:spPr>
            <a:xfrm>
              <a:off x="990720" y="4267080"/>
              <a:ext cx="311616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57200" y="51987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343400" y="4267080"/>
            <a:ext cx="3726000" cy="2227320"/>
            <a:chOff x="4343400" y="4267080"/>
            <a:chExt cx="3726000" cy="2227320"/>
          </a:xfrm>
        </p:grpSpPr>
        <p:pic>
          <p:nvPicPr>
            <p:cNvPr id="577" name="" descr=""/>
            <p:cNvPicPr/>
            <p:nvPr/>
          </p:nvPicPr>
          <p:blipFill>
            <a:blip r:embed="rId5"/>
            <a:stretch/>
          </p:blipFill>
          <p:spPr>
            <a:xfrm>
              <a:off x="4952880" y="4267080"/>
              <a:ext cx="311652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4343400" y="52131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580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1955880" y="457200"/>
            <a:ext cx="4444920" cy="3174840"/>
          </a:xfrm>
          <a:prstGeom prst="rect">
            <a:avLst/>
          </a:prstGeom>
          <a:ln w="0">
            <a:noFill/>
          </a:ln>
        </p:spPr>
      </p:pic>
      <p:grpSp>
        <p:nvGrpSpPr>
          <p:cNvPr id="585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586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031840" y="4495680"/>
                <a:ext cx="23241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050920" y="4008600"/>
                <a:ext cx="2233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？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2057400" y="4952880"/>
          <a:ext cx="393552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952880"/>
                    <a:ext cx="3935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2057400" y="5715000"/>
          <a:ext cx="350532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715000"/>
                    <a:ext cx="3505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436840" cy="17416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432160" cy="17366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1803240" y="152280"/>
            <a:ext cx="4673880" cy="1868760"/>
          </a:xfrm>
          <a:prstGeom prst="rect">
            <a:avLst/>
          </a:prstGeom>
          <a:ln w="0">
            <a:noFill/>
          </a:ln>
        </p:spPr>
      </p:pic>
      <p:grpSp>
        <p:nvGrpSpPr>
          <p:cNvPr id="599" name=""/>
          <p:cNvGrpSpPr/>
          <p:nvPr/>
        </p:nvGrpSpPr>
        <p:grpSpPr>
          <a:xfrm>
            <a:off x="2945880" y="2209680"/>
            <a:ext cx="2919600" cy="1741320"/>
            <a:chOff x="2945880" y="2209680"/>
            <a:chExt cx="2919600" cy="1741320"/>
          </a:xfrm>
        </p:grpSpPr>
        <p:pic>
          <p:nvPicPr>
            <p:cNvPr id="600" name="" descr=""/>
            <p:cNvPicPr/>
            <p:nvPr/>
          </p:nvPicPr>
          <p:blipFill>
            <a:blip r:embed="rId5"/>
            <a:stretch/>
          </p:blipFill>
          <p:spPr>
            <a:xfrm>
              <a:off x="3428640" y="2209680"/>
              <a:ext cx="2436840" cy="17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2945880" y="284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932440" y="2205000"/>
            <a:ext cx="2901960" cy="1741320"/>
            <a:chOff x="5932440" y="2205000"/>
            <a:chExt cx="2901960" cy="1741320"/>
          </a:xfrm>
        </p:grpSpPr>
        <p:pic>
          <p:nvPicPr>
            <p:cNvPr id="603" name="" descr=""/>
            <p:cNvPicPr/>
            <p:nvPr/>
          </p:nvPicPr>
          <p:blipFill>
            <a:blip r:embed="rId6"/>
            <a:stretch/>
          </p:blipFill>
          <p:spPr>
            <a:xfrm>
              <a:off x="6397560" y="2205000"/>
              <a:ext cx="2436840" cy="17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5932440" y="286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928960" y="4343400"/>
            <a:ext cx="2932200" cy="1736640"/>
            <a:chOff x="2928960" y="4343400"/>
            <a:chExt cx="2932200" cy="1736640"/>
          </a:xfrm>
        </p:grpSpPr>
        <p:pic>
          <p:nvPicPr>
            <p:cNvPr id="606" name="" descr=""/>
            <p:cNvPicPr/>
            <p:nvPr/>
          </p:nvPicPr>
          <p:blipFill>
            <a:blip r:embed="rId7"/>
            <a:stretch/>
          </p:blipFill>
          <p:spPr>
            <a:xfrm>
              <a:off x="3429000" y="4343400"/>
              <a:ext cx="243216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2928960" y="5033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917680" y="4343400"/>
            <a:ext cx="2914920" cy="1736640"/>
            <a:chOff x="5917680" y="4343400"/>
            <a:chExt cx="2914920" cy="1736640"/>
          </a:xfrm>
        </p:grpSpPr>
        <p:pic>
          <p:nvPicPr>
            <p:cNvPr id="609" name="" descr=""/>
            <p:cNvPicPr/>
            <p:nvPr/>
          </p:nvPicPr>
          <p:blipFill>
            <a:blip r:embed="rId8"/>
            <a:stretch/>
          </p:blipFill>
          <p:spPr>
            <a:xfrm>
              <a:off x="6400440" y="4343400"/>
              <a:ext cx="243216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5917680" y="506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612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1066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力偶没有合力，力偶只能由力偶来平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005280" y="4697280"/>
            <a:ext cx="2804760" cy="1600200"/>
            <a:chOff x="3005280" y="4697280"/>
            <a:chExt cx="2804760" cy="1600200"/>
          </a:xfrm>
        </p:grpSpPr>
        <p:pic>
          <p:nvPicPr>
            <p:cNvPr id="618" name="" descr=""/>
            <p:cNvPicPr/>
            <p:nvPr/>
          </p:nvPicPr>
          <p:blipFill>
            <a:blip r:embed="rId2"/>
            <a:stretch/>
          </p:blipFill>
          <p:spPr>
            <a:xfrm>
              <a:off x="3524400" y="4697280"/>
              <a:ext cx="22856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3005280" y="527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084320" y="1101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133720" y="1219320"/>
                <a:ext cx="2322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990720" y="16765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任选一段距离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867120" y="1639800"/>
                <a:ext cx="14256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999040" y="1809720"/>
                <a:ext cx="1381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924360" y="2576520"/>
                <a:ext cx="14968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6014880" y="3780000"/>
                <a:ext cx="1509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895560" y="3570120"/>
                <a:ext cx="168444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035760" y="2800440"/>
                <a:ext cx="14158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533520" y="506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面力偶系的合成和平衡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09480" y="4732200"/>
            <a:ext cx="2227320" cy="15922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609480" y="4732200"/>
            <a:ext cx="2227320" cy="15922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609480" y="4732200"/>
            <a:ext cx="2227320" cy="1592280"/>
          </a:xfrm>
          <a:prstGeom prst="rect">
            <a:avLst/>
          </a:prstGeom>
          <a:ln w="0">
            <a:noFill/>
          </a:ln>
        </p:spPr>
      </p:pic>
      <p:grpSp>
        <p:nvGrpSpPr>
          <p:cNvPr id="633" name=""/>
          <p:cNvGrpSpPr/>
          <p:nvPr/>
        </p:nvGrpSpPr>
        <p:grpSpPr>
          <a:xfrm>
            <a:off x="3003840" y="4697280"/>
            <a:ext cx="2806560" cy="1600200"/>
            <a:chOff x="3003840" y="4697280"/>
            <a:chExt cx="2806560" cy="1600200"/>
          </a:xfrm>
        </p:grpSpPr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3524760" y="4697280"/>
              <a:ext cx="22856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03840" y="527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6" name="" descr=""/>
          <p:cNvPicPr/>
          <p:nvPr/>
        </p:nvPicPr>
        <p:blipFill>
          <a:blip r:embed="rId7"/>
          <a:stretch/>
        </p:blipFill>
        <p:spPr>
          <a:xfrm>
            <a:off x="3581280" y="4724280"/>
            <a:ext cx="22860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6087960" y="4697280"/>
            <a:ext cx="2827440" cy="1586160"/>
            <a:chOff x="6087960" y="4697280"/>
            <a:chExt cx="2827440" cy="1586160"/>
          </a:xfrm>
        </p:grpSpPr>
        <p:pic>
          <p:nvPicPr>
            <p:cNvPr id="638" name="" descr=""/>
            <p:cNvPicPr/>
            <p:nvPr/>
          </p:nvPicPr>
          <p:blipFill>
            <a:blip r:embed="rId8"/>
            <a:stretch/>
          </p:blipFill>
          <p:spPr>
            <a:xfrm>
              <a:off x="6694560" y="4697280"/>
              <a:ext cx="222084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087960" y="5219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641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9"/>
          <a:stretch/>
        </p:blipFill>
        <p:spPr>
          <a:xfrm>
            <a:off x="685800" y="2590920"/>
            <a:ext cx="2227320" cy="15922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10"/>
          <a:stretch/>
        </p:blipFill>
        <p:spPr>
          <a:xfrm>
            <a:off x="685800" y="2590920"/>
            <a:ext cx="2227320" cy="159228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11"/>
          <a:stretch/>
        </p:blipFill>
        <p:spPr>
          <a:xfrm>
            <a:off x="685800" y="2590920"/>
            <a:ext cx="2227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H="1" flipV="1">
            <a:off x="4195440" y="3082680"/>
            <a:ext cx="299880" cy="9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84640" y="2087640"/>
            <a:ext cx="792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10492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31000" y="2093760"/>
            <a:ext cx="69840" cy="58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66320" y="1291320"/>
            <a:ext cx="3628080" cy="3266280"/>
            <a:chOff x="166320" y="1291320"/>
            <a:chExt cx="3628080" cy="3266280"/>
          </a:xfrm>
        </p:grpSpPr>
        <p:sp>
          <p:nvSpPr>
            <p:cNvPr id="79" name=""/>
            <p:cNvSpPr/>
            <p:nvPr/>
          </p:nvSpPr>
          <p:spPr>
            <a:xfrm rot="19782600">
              <a:off x="468000" y="1916280"/>
              <a:ext cx="3024000" cy="2016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000" y="3429000"/>
              <a:ext cx="100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703160" y="2419560"/>
              <a:ext cx="79164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1402560" y="2498400"/>
              <a:ext cx="299880" cy="9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04800" y="294012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60240" y="229248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90400" y="221472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47440" y="348480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69720" y="3257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11080" y="3429000"/>
              <a:ext cx="69480" cy="58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 flipV="1">
            <a:off x="4494240" y="2665440"/>
            <a:ext cx="1515960" cy="132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445520" y="2125800"/>
            <a:ext cx="792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7448400" y="3129120"/>
            <a:ext cx="300240" cy="91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32840" y="2135160"/>
            <a:ext cx="69840" cy="58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64400" y="40338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773760" y="2711520"/>
            <a:ext cx="1528920" cy="13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70360" y="3365640"/>
            <a:ext cx="5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03640" y="2217600"/>
            <a:ext cx="5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53040" y="1627200"/>
            <a:ext cx="5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87880" y="2104920"/>
            <a:ext cx="5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97320" y="3165480"/>
            <a:ext cx="5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9800" y="386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3320" y="283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06640" y="1711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23080" y="173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3520" y="2523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91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02560" y="38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8680" y="2867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12240" y="174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56240" y="2449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97800" y="3408480"/>
            <a:ext cx="5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07280" y="2292480"/>
            <a:ext cx="5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2152800"/>
            <a:ext cx="5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96240" y="3975120"/>
            <a:ext cx="5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5480" y="2917800"/>
            <a:ext cx="5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880" y="4724280"/>
            <a:ext cx="892512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各力矢与合力矢构成的多边形称为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力多边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用力多边形求合力的作图规则称为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力的多边形法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力多边形中表示合力矢量的边称为力多边形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封闭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971640" y="404640"/>
                <a:ext cx="3905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976320" y="1125360"/>
                <a:ext cx="3824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3116520" cy="2227320"/>
          </a:xfrm>
          <a:prstGeom prst="rect">
            <a:avLst/>
          </a:prstGeom>
          <a:ln w="0">
            <a:noFill/>
          </a:ln>
        </p:spPr>
      </p:pic>
      <p:grpSp>
        <p:nvGrpSpPr>
          <p:cNvPr id="651" name=""/>
          <p:cNvGrpSpPr/>
          <p:nvPr/>
        </p:nvGrpSpPr>
        <p:grpSpPr>
          <a:xfrm>
            <a:off x="4259160" y="1752480"/>
            <a:ext cx="3886200" cy="2227320"/>
            <a:chOff x="4259160" y="1752480"/>
            <a:chExt cx="3886200" cy="2227320"/>
          </a:xfrm>
        </p:grpSpPr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5029200" y="1752480"/>
              <a:ext cx="311616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4259160" y="2624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96640" y="4170240"/>
            <a:ext cx="3670560" cy="2227320"/>
            <a:chOff x="296640" y="4170240"/>
            <a:chExt cx="3670560" cy="2227320"/>
          </a:xfrm>
        </p:grpSpPr>
        <p:pic>
          <p:nvPicPr>
            <p:cNvPr id="655" name="" descr=""/>
            <p:cNvPicPr/>
            <p:nvPr/>
          </p:nvPicPr>
          <p:blipFill>
            <a:blip r:embed="rId4"/>
            <a:stretch/>
          </p:blipFill>
          <p:spPr>
            <a:xfrm>
              <a:off x="851040" y="4170240"/>
              <a:ext cx="311616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296640" y="506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335120" y="4170240"/>
            <a:ext cx="3840480" cy="2227320"/>
            <a:chOff x="4335120" y="4170240"/>
            <a:chExt cx="3840480" cy="2227320"/>
          </a:xfrm>
        </p:grpSpPr>
        <p:pic>
          <p:nvPicPr>
            <p:cNvPr id="658" name="" descr=""/>
            <p:cNvPicPr/>
            <p:nvPr/>
          </p:nvPicPr>
          <p:blipFill>
            <a:blip r:embed="rId5"/>
            <a:stretch/>
          </p:blipFill>
          <p:spPr>
            <a:xfrm>
              <a:off x="5059440" y="4170240"/>
              <a:ext cx="311616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4335120" y="513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661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749160" y="692280"/>
            <a:ext cx="6270480" cy="360360"/>
            <a:chOff x="749160" y="692280"/>
            <a:chExt cx="6270480" cy="36036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749160" y="693360"/>
                  <a:ext cx="1145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1965240" y="722520"/>
                  <a:ext cx="24919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d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d</m:t>
                      </m:r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4527720" y="692280"/>
                  <a:ext cx="2491920" cy="34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55640" y="1192320"/>
                <a:ext cx="28796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457200" y="23623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平面力偶系平衡的充要条件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如下平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657600" y="3276720"/>
                <a:ext cx="1698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>
            <a:hlinkClick r:id="rId2" action="ppaction://hlinksldjump"/>
          </p:cNvPr>
          <p:cNvSpPr/>
          <p:nvPr/>
        </p:nvSpPr>
        <p:spPr>
          <a:xfrm>
            <a:off x="533520" y="4191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面力偶系平衡的必要和充分条件是：所有各力偶矩的代数和等于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674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533520" y="457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476360" y="1125360"/>
                <a:ext cx="7056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5335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： 光滑螺柱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受水平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3520" y="1066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3657600"/>
                <a:ext cx="1225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09480" y="4537080"/>
                <a:ext cx="3386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609480" y="5486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600200" y="5334120"/>
                <a:ext cx="49878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2925720" cy="327672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5791320" y="1828800"/>
            <a:ext cx="2925720" cy="327672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533520" y="2514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由力偶只能由力偶平衡的性质，其受力图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690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09480" y="304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1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685800" y="1447920"/>
            <a:ext cx="7848360" cy="520560"/>
            <a:chOff x="685800" y="1447920"/>
            <a:chExt cx="7848360" cy="520560"/>
          </a:xfrm>
        </p:grpSpPr>
        <p:sp>
          <p:nvSpPr>
            <p:cNvPr id="696" name=""/>
            <p:cNvSpPr/>
            <p:nvPr/>
          </p:nvSpPr>
          <p:spPr>
            <a:xfrm>
              <a:off x="685800" y="144792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求：平衡时的     及铰链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处的约束力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3279600" y="1517760"/>
                  <a:ext cx="5806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8" name=""/>
          <p:cNvSpPr/>
          <p:nvPr/>
        </p:nvSpPr>
        <p:spPr>
          <a:xfrm>
            <a:off x="685800" y="2057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取轮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力偶只能由力偶平衡的性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画受力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762120" y="2743200"/>
                <a:ext cx="1145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M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362320" y="2790720"/>
                <a:ext cx="27432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762120" y="40384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取杆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画受力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34290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981080" y="3448080"/>
          <a:ext cx="205740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3448080"/>
                    <a:ext cx="20574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752480" y="914400"/>
                <a:ext cx="5267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"/>
          <p:cNvSpPr/>
          <p:nvPr/>
        </p:nvSpPr>
        <p:spPr>
          <a:xfrm>
            <a:off x="753480" y="852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838080" y="4692600"/>
                <a:ext cx="1212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M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2362320" y="4495680"/>
                <a:ext cx="2496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838080" y="5638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828800" y="5587920"/>
          <a:ext cx="1879560" cy="49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5587920"/>
                    <a:ext cx="18795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1828800" y="6276960"/>
          <a:ext cx="1951200" cy="47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6276960"/>
                    <a:ext cx="19512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" descr=""/>
          <p:cNvPicPr/>
          <p:nvPr/>
        </p:nvPicPr>
        <p:blipFill>
          <a:blip r:embed="rId8"/>
          <a:stretch/>
        </p:blipFill>
        <p:spPr>
          <a:xfrm>
            <a:off x="5562720" y="3149640"/>
            <a:ext cx="3174840" cy="317484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9"/>
          <a:stretch/>
        </p:blipFill>
        <p:spPr>
          <a:xfrm>
            <a:off x="5562720" y="3149640"/>
            <a:ext cx="3174840" cy="31748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10"/>
          <a:stretch/>
        </p:blipFill>
        <p:spPr>
          <a:xfrm>
            <a:off x="5562720" y="3149640"/>
            <a:ext cx="31748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717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718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50920" y="1551600"/>
            <a:ext cx="87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刚体上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点组成一个平行四边形，如在其四个顶点作用有四个力，此四力沿四个边恰好组成封闭的力多边形，如图所示。此刚体是否平衡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038320" y="2363400"/>
            <a:ext cx="4897800" cy="3890160"/>
            <a:chOff x="2038320" y="2363400"/>
            <a:chExt cx="4897800" cy="3890160"/>
          </a:xfrm>
        </p:grpSpPr>
        <p:sp>
          <p:nvSpPr>
            <p:cNvPr id="725" name=""/>
            <p:cNvSpPr/>
            <p:nvPr/>
          </p:nvSpPr>
          <p:spPr>
            <a:xfrm rot="20329800">
              <a:off x="2347920" y="3051000"/>
              <a:ext cx="4278240" cy="2514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3035160" y="3700440"/>
              <a:ext cx="1447920" cy="577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331520" y="4339800"/>
              <a:ext cx="1438200" cy="57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4474800" y="3701520"/>
              <a:ext cx="1312920" cy="622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17040" y="34830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F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  <a:ea typeface="华文新魏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160" y="45878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F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  <a:ea typeface="华文新魏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52920" y="4229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78320" y="3265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81840" y="4908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52160" y="4159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06720" y="4284720"/>
              <a:ext cx="1312920" cy="622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04440" y="45086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F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73040" y="3505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F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  <a:ea typeface="华文新魏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95880" y="4870440"/>
              <a:ext cx="88920" cy="8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37320" y="4286160"/>
              <a:ext cx="88920" cy="8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41680" y="3664080"/>
              <a:ext cx="88920" cy="8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981160" y="4241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317760" y="2693880"/>
            <a:ext cx="2299680" cy="3119400"/>
            <a:chOff x="3317760" y="2693880"/>
            <a:chExt cx="2299680" cy="3119400"/>
          </a:xfrm>
        </p:grpSpPr>
        <p:sp>
          <p:nvSpPr>
            <p:cNvPr id="744" name=""/>
            <p:cNvSpPr/>
            <p:nvPr/>
          </p:nvSpPr>
          <p:spPr>
            <a:xfrm>
              <a:off x="3317760" y="2693880"/>
              <a:ext cx="1859040" cy="1859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1026200">
              <a:off x="3514680" y="2851200"/>
              <a:ext cx="1192320" cy="743040"/>
            </a:xfrm>
            <a:custGeom>
              <a:avLst/>
              <a:gdLst/>
              <a:ahLst/>
              <a:rect l="l" t="t" r="r" b="b"/>
              <a:pathLst>
                <a:path w="902" h="563">
                  <a:moveTo>
                    <a:pt x="0" y="456"/>
                  </a:moveTo>
                  <a:cubicBezTo>
                    <a:pt x="17" y="466"/>
                    <a:pt x="72" y="499"/>
                    <a:pt x="104" y="514"/>
                  </a:cubicBezTo>
                  <a:cubicBezTo>
                    <a:pt x="136" y="529"/>
                    <a:pt x="165" y="540"/>
                    <a:pt x="195" y="547"/>
                  </a:cubicBezTo>
                  <a:cubicBezTo>
                    <a:pt x="225" y="554"/>
                    <a:pt x="250" y="557"/>
                    <a:pt x="283" y="559"/>
                  </a:cubicBezTo>
                  <a:cubicBezTo>
                    <a:pt x="316" y="562"/>
                    <a:pt x="357" y="563"/>
                    <a:pt x="393" y="559"/>
                  </a:cubicBezTo>
                  <a:cubicBezTo>
                    <a:pt x="428" y="556"/>
                    <a:pt x="469" y="547"/>
                    <a:pt x="500" y="537"/>
                  </a:cubicBezTo>
                  <a:cubicBezTo>
                    <a:pt x="531" y="528"/>
                    <a:pt x="551" y="518"/>
                    <a:pt x="582" y="502"/>
                  </a:cubicBezTo>
                  <a:cubicBezTo>
                    <a:pt x="614" y="486"/>
                    <a:pt x="656" y="461"/>
                    <a:pt x="687" y="438"/>
                  </a:cubicBezTo>
                  <a:cubicBezTo>
                    <a:pt x="717" y="415"/>
                    <a:pt x="741" y="390"/>
                    <a:pt x="764" y="362"/>
                  </a:cubicBezTo>
                  <a:cubicBezTo>
                    <a:pt x="787" y="334"/>
                    <a:pt x="810" y="302"/>
                    <a:pt x="828" y="270"/>
                  </a:cubicBezTo>
                  <a:cubicBezTo>
                    <a:pt x="846" y="237"/>
                    <a:pt x="862" y="203"/>
                    <a:pt x="874" y="166"/>
                  </a:cubicBezTo>
                  <a:cubicBezTo>
                    <a:pt x="885" y="128"/>
                    <a:pt x="893" y="69"/>
                    <a:pt x="898" y="42"/>
                  </a:cubicBezTo>
                  <a:cubicBezTo>
                    <a:pt x="902" y="14"/>
                    <a:pt x="901" y="7"/>
                    <a:pt x="90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4041360" y="3555360"/>
              <a:ext cx="429120" cy="381240"/>
              <a:chOff x="4041360" y="3555360"/>
              <a:chExt cx="429120" cy="381240"/>
            </a:xfrm>
          </p:grpSpPr>
          <p:sp>
            <p:nvSpPr>
              <p:cNvPr id="747" name=""/>
              <p:cNvSpPr/>
              <p:nvPr/>
            </p:nvSpPr>
            <p:spPr>
              <a:xfrm rot="5100000">
                <a:off x="4208400" y="3558960"/>
                <a:ext cx="93240" cy="93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295160" y="3638880"/>
                <a:ext cx="95760" cy="19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4120920" y="3638880"/>
                <a:ext cx="95760" cy="19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41720" y="3838320"/>
                <a:ext cx="4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4041720" y="3836880"/>
                <a:ext cx="4752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4041360" y="3836880"/>
                <a:ext cx="9468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4088880" y="3836880"/>
                <a:ext cx="96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4136400" y="3836880"/>
                <a:ext cx="9576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4185360" y="3836880"/>
                <a:ext cx="943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4232160" y="3836880"/>
                <a:ext cx="943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4279680" y="3836880"/>
                <a:ext cx="9576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4326120" y="3836880"/>
                <a:ext cx="96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4375440" y="3836880"/>
                <a:ext cx="9468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4422600" y="3886920"/>
                <a:ext cx="4752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173560" y="3546360"/>
              <a:ext cx="0" cy="12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56200" y="4784760"/>
              <a:ext cx="241200" cy="280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76800" y="4944960"/>
              <a:ext cx="0" cy="722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281480" y="3134880"/>
              <a:ext cx="754200" cy="44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20360" y="52927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07360" y="332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10160" y="3235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83680" y="28209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179280" y="155412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力偶理论知道，一力不能与力偶平衡。图示轮子上的力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能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衡呢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4250520" y="3638160"/>
            <a:ext cx="564840" cy="846720"/>
            <a:chOff x="4250520" y="3638160"/>
            <a:chExt cx="564840" cy="846720"/>
          </a:xfrm>
        </p:grpSpPr>
        <p:sp>
          <p:nvSpPr>
            <p:cNvPr id="771" name=""/>
            <p:cNvSpPr/>
            <p:nvPr/>
          </p:nvSpPr>
          <p:spPr>
            <a:xfrm flipV="1">
              <a:off x="4253040" y="3638160"/>
              <a:ext cx="0" cy="722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50520" y="3905280"/>
              <a:ext cx="56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F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Times New Roman"/>
                  <a:ea typeface="华文新魏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95640" y="2211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2520" y="268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380880" y="355680"/>
            <a:ext cx="8305920" cy="1625400"/>
            <a:chOff x="380880" y="355680"/>
            <a:chExt cx="8305920" cy="1625400"/>
          </a:xfrm>
        </p:grpSpPr>
        <p:sp>
          <p:nvSpPr>
            <p:cNvPr id="776" name=""/>
            <p:cNvSpPr/>
            <p:nvPr/>
          </p:nvSpPr>
          <p:spPr>
            <a:xfrm>
              <a:off x="380880" y="355680"/>
              <a:ext cx="8305920" cy="16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[      ]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在一钻床上水平放置工件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在工件上同时钻四个等直径的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每个钻头的力偶矩为           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工件的总切削力偶矩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端水平反力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967200" y="949320"/>
                  <a:ext cx="311796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5388120" y="2730600"/>
                <a:ext cx="2850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4321080" y="4772160"/>
                <a:ext cx="4029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934920" y="5457960"/>
                <a:ext cx="216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4632480" y="5643720"/>
                <a:ext cx="221112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4643280" y="2205000"/>
            <a:ext cx="370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力偶的合力偶矩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880" y="4772160"/>
            <a:ext cx="427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平面力偶系平衡方程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307800" y="2065320"/>
          <a:ext cx="3954600" cy="26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800" y="2065320"/>
                    <a:ext cx="3954600" cy="26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4572000" y="3733920"/>
            <a:ext cx="4572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力偶只能与力偶平衡的性质，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成一力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63440" y="565200"/>
            <a:ext cx="863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示结构，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=800N.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点的约束反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33560" cy="363672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962520" cy="363672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36352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987480" y="5275440"/>
                <a:ext cx="46101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5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204840" y="5905440"/>
                <a:ext cx="141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2108160" y="6005520"/>
                <a:ext cx="1738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554360" y="5946840"/>
                <a:ext cx="18464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37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452520" y="268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7280" y="334800"/>
            <a:ext cx="83059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示杆系，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约束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457200" y="1295280"/>
          <a:ext cx="3567240" cy="217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95280"/>
                    <a:ext cx="35672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41148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673520" y="1181160"/>
            <a:ext cx="431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研究对象二力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4572000" y="1752480"/>
          <a:ext cx="333864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752480"/>
                    <a:ext cx="3338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"/>
          <p:cNvSpPr/>
          <p:nvPr/>
        </p:nvSpPr>
        <p:spPr>
          <a:xfrm>
            <a:off x="7191360" y="2257560"/>
            <a:ext cx="666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5315040" y="2262240"/>
            <a:ext cx="666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7267680" y="1800360"/>
                <a:ext cx="533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299200" y="1784520"/>
                <a:ext cx="355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4724280" y="2895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研究对象： 整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66920" y="1755720"/>
            <a:ext cx="7146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301920" y="1308240"/>
                <a:ext cx="533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0" name=""/>
          <p:cNvSpPr/>
          <p:nvPr/>
        </p:nvSpPr>
        <p:spPr>
          <a:xfrm flipH="1">
            <a:off x="3195720" y="2998800"/>
            <a:ext cx="71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3513240" y="3014640"/>
                <a:ext cx="355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5130720" y="3352680"/>
                <a:ext cx="1866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0" y="4114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杆受力情况如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5105520" y="4724280"/>
          <a:ext cx="2733480" cy="180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4724280"/>
                    <a:ext cx="27334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"/>
          <p:cNvSpPr/>
          <p:nvPr/>
        </p:nvSpPr>
        <p:spPr>
          <a:xfrm flipH="1">
            <a:off x="7094520" y="6194520"/>
            <a:ext cx="71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7404120" y="5749920"/>
                <a:ext cx="355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5140440" y="4941720"/>
            <a:ext cx="71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411880" y="5032440"/>
                <a:ext cx="355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20" name=""/>
          <p:cNvSpPr/>
          <p:nvPr/>
        </p:nvSpPr>
        <p:spPr>
          <a:xfrm flipH="1" rot="20665800">
            <a:off x="6284880" y="5254920"/>
            <a:ext cx="103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21886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2188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16440" y="5724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4920" y="3657600"/>
            <a:ext cx="135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533520" y="4419720"/>
          <a:ext cx="3571920" cy="21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419720"/>
                    <a:ext cx="357192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380880" y="1147680"/>
          <a:ext cx="3571920" cy="22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47680"/>
                    <a:ext cx="357192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7" name=""/>
          <p:cNvSpPr/>
          <p:nvPr/>
        </p:nvSpPr>
        <p:spPr>
          <a:xfrm>
            <a:off x="4038480" y="10159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48320" y="10414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研究对象二力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35360" y="4257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研究对象： 整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3314880" y="1185840"/>
                <a:ext cx="533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525840" y="2892600"/>
                <a:ext cx="355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832" name=""/>
          <p:cNvGraphicFramePr/>
          <p:nvPr/>
        </p:nvGraphicFramePr>
        <p:xfrm>
          <a:off x="4952880" y="1574640"/>
          <a:ext cx="2733840" cy="231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574640"/>
                    <a:ext cx="273384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7238880" y="3098880"/>
                <a:ext cx="355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5181480" y="1879560"/>
                <a:ext cx="355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6" name=""/>
          <p:cNvSpPr/>
          <p:nvPr/>
        </p:nvSpPr>
        <p:spPr>
          <a:xfrm flipH="1" flipV="1">
            <a:off x="6986520" y="3298680"/>
            <a:ext cx="4572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62480" y="1608120"/>
            <a:ext cx="4572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116160" y="2855880"/>
            <a:ext cx="4572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29120" y="1638360"/>
            <a:ext cx="4572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314280" y="4281480"/>
          <a:ext cx="3338640" cy="12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4280" y="4281480"/>
                    <a:ext cx="333864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3000240" y="4348080"/>
                <a:ext cx="533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 flipH="1" rot="8287200">
            <a:off x="1519560" y="4368600"/>
            <a:ext cx="1031760" cy="91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21886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2188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051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54160" y="4800600"/>
            <a:ext cx="4572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 flipV="1">
            <a:off x="1731960" y="4815000"/>
            <a:ext cx="4572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1714680" y="5105520"/>
                <a:ext cx="355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4591080" y="4959360"/>
                <a:ext cx="3530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m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4572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cc"/>
                </a:solidFill>
                <a:latin typeface="Times New Roman"/>
              </a:rPr>
              <a:t>AD</a:t>
            </a:r>
            <a:r>
              <a:rPr b="1" i="1" lang="zh-CN" sz="2400" spc="-1" strike="noStrike">
                <a:solidFill>
                  <a:srgbClr val="ff33cc"/>
                </a:solidFill>
                <a:latin typeface="Times New Roman"/>
              </a:rPr>
              <a:t>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4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907920"/>
            <a:ext cx="84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结论：平面汇交力系可简化为一合力，其合力的大小与方向等于各分力的矢量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几何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合力的作用线通过汇交点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用矢量式表示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4360" y="3573360"/>
          <a:ext cx="792000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573360"/>
                    <a:ext cx="79200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68360" y="4724280"/>
            <a:ext cx="84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如果一力与某一力系等效，则此力称为该力系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合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91600" y="598320"/>
            <a:ext cx="8534520" cy="17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计自重的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为光滑接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们分别受力偶矩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力偶作用 ，转向如图。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比值为多大，结构才能平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78800" y="2349360"/>
            <a:ext cx="3705840" cy="3944520"/>
            <a:chOff x="2278800" y="2349360"/>
            <a:chExt cx="3705840" cy="3944520"/>
          </a:xfrm>
        </p:grpSpPr>
        <p:grpSp>
          <p:nvGrpSpPr>
            <p:cNvPr id="852" name=""/>
            <p:cNvGrpSpPr/>
            <p:nvPr/>
          </p:nvGrpSpPr>
          <p:grpSpPr>
            <a:xfrm>
              <a:off x="2327040" y="2349360"/>
              <a:ext cx="3657600" cy="3944520"/>
              <a:chOff x="2327040" y="2349360"/>
              <a:chExt cx="3657600" cy="394452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2403360" y="2601360"/>
                <a:ext cx="3423960" cy="3692520"/>
                <a:chOff x="2403360" y="2601360"/>
                <a:chExt cx="3423960" cy="3692520"/>
              </a:xfrm>
            </p:grpSpPr>
            <p:sp>
              <p:nvSpPr>
                <p:cNvPr id="854" name=""/>
                <p:cNvSpPr/>
                <p:nvPr/>
              </p:nvSpPr>
              <p:spPr>
                <a:xfrm rot="3441600">
                  <a:off x="3472200" y="4585320"/>
                  <a:ext cx="261144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7258200">
                  <a:off x="1836720" y="4139280"/>
                  <a:ext cx="3629160" cy="745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6" name=""/>
                <p:cNvGrpSpPr/>
                <p:nvPr/>
              </p:nvGrpSpPr>
              <p:grpSpPr>
                <a:xfrm>
                  <a:off x="2403360" y="5740200"/>
                  <a:ext cx="691920" cy="553680"/>
                  <a:chOff x="2403360" y="5740200"/>
                  <a:chExt cx="691920" cy="553680"/>
                </a:xfrm>
              </p:grpSpPr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2403360" y="6148440"/>
                    <a:ext cx="691920" cy="145440"/>
                    <a:chOff x="2403360" y="6148440"/>
                    <a:chExt cx="691920" cy="14544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 flipH="1">
                      <a:off x="2403360" y="61484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 flipH="1">
                      <a:off x="2457720" y="6148440"/>
                      <a:ext cx="4932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 flipH="1">
                      <a:off x="2513160" y="61484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flipH="1">
                      <a:off x="2568240" y="61484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flipH="1">
                      <a:off x="2622960" y="6148440"/>
                      <a:ext cx="4932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 flipH="1">
                      <a:off x="2678400" y="616356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 flipH="1">
                      <a:off x="2733120" y="61484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flipH="1">
                      <a:off x="2787840" y="6148440"/>
                      <a:ext cx="4932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flipH="1">
                      <a:off x="2843280" y="61484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flipH="1">
                      <a:off x="2898360" y="61484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 flipH="1">
                      <a:off x="2952720" y="6148440"/>
                      <a:ext cx="4932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 flipH="1">
                      <a:off x="3008160" y="61484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 flipV="1">
                      <a:off x="2407680" y="6148440"/>
                      <a:ext cx="687600" cy="5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1" name=""/>
                  <p:cNvSpPr/>
                  <p:nvPr/>
                </p:nvSpPr>
                <p:spPr>
                  <a:xfrm>
                    <a:off x="2566800" y="5757840"/>
                    <a:ext cx="304920" cy="380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682720" y="574020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5135400" y="5698800"/>
                  <a:ext cx="691920" cy="553680"/>
                  <a:chOff x="5135400" y="5698800"/>
                  <a:chExt cx="691920" cy="553680"/>
                </a:xfrm>
              </p:grpSpPr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5135400" y="6107040"/>
                    <a:ext cx="691920" cy="145440"/>
                    <a:chOff x="5135400" y="6107040"/>
                    <a:chExt cx="691920" cy="14544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 flipH="1">
                      <a:off x="5135400" y="61070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 flipH="1">
                      <a:off x="5189760" y="6107040"/>
                      <a:ext cx="4932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 flipH="1">
                      <a:off x="5245200" y="61070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 flipH="1">
                      <a:off x="5300280" y="61070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flipH="1">
                      <a:off x="5355000" y="6107040"/>
                      <a:ext cx="4932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 flipH="1">
                      <a:off x="5410440" y="612216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 flipH="1">
                      <a:off x="5465160" y="61070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 flipH="1">
                      <a:off x="5519880" y="6107040"/>
                      <a:ext cx="4932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 flipH="1">
                      <a:off x="5575320" y="61070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 flipH="1">
                      <a:off x="5630400" y="61070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flipH="1">
                      <a:off x="5684760" y="6107040"/>
                      <a:ext cx="4932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 flipH="1">
                      <a:off x="5740200" y="6107040"/>
                      <a:ext cx="48960" cy="130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 flipV="1">
                      <a:off x="5139720" y="6107040"/>
                      <a:ext cx="687600" cy="5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8" name=""/>
                  <p:cNvSpPr/>
                  <p:nvPr/>
                </p:nvSpPr>
                <p:spPr>
                  <a:xfrm>
                    <a:off x="5298840" y="5716440"/>
                    <a:ext cx="304920" cy="380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414760" y="569880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90" name=""/>
              <p:cNvSpPr/>
              <p:nvPr/>
            </p:nvSpPr>
            <p:spPr>
              <a:xfrm>
                <a:off x="2327040" y="5715000"/>
                <a:ext cx="36576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855880" y="5343480"/>
                <a:ext cx="51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1" lang="en-US" sz="2000" spc="-1" strike="noStrike" baseline="4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830480" y="5394240"/>
                <a:ext cx="51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1" lang="en-US" sz="2000" spc="-1" strike="noStrike" baseline="4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428560" y="53560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34200" y="23493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24160" y="3284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465520" y="5394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 rot="2572200">
              <a:off x="4474800" y="4500000"/>
              <a:ext cx="490680" cy="1020960"/>
            </a:xfrm>
            <a:custGeom>
              <a:avLst/>
              <a:gdLst>
                <a:gd name="textAreaLeft" fmla="*/ 65520 w 490680"/>
                <a:gd name="textAreaRight" fmla="*/ 425160 w 490680"/>
                <a:gd name="textAreaTop" fmla="*/ 176400 h 1020960"/>
                <a:gd name="textAreaBottom" fmla="*/ 668880 h 10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476" stAng="-5400000" swAng="-5400000"/>
                  <a:lnTo>
                    <a:pt x="0" y="10413"/>
                  </a:lnTo>
                  <a:arcTo wR="21600" hR="7476" stAng="10800000" swAng="-2511567"/>
                  <a:lnTo>
                    <a:pt x="13817" y="21098"/>
                  </a:lnTo>
                  <a:lnTo>
                    <a:pt x="21600" y="16420"/>
                  </a:lnTo>
                  <a:lnTo>
                    <a:pt x="13817" y="10737"/>
                  </a:lnTo>
                  <a:lnTo>
                    <a:pt x="13817" y="14449"/>
                  </a:lnTo>
                  <a:arcTo wR="21600" hR="7476" stAng="8288433" swAng="2273584"/>
                  <a:lnTo>
                    <a:pt x="421" y="8944"/>
                  </a:lnTo>
                  <a:arcTo wR="21600" hR="7476" stAng="-10562017" swAng="5162017"/>
                  <a:close/>
                </a:path>
                <a:path fill="darkenLess" w="21600" h="21600">
                  <a:moveTo>
                    <a:pt x="21600" y="0"/>
                  </a:moveTo>
                  <a:arcTo wR="21600" hR="7476" stAng="-5400000" swAng="-5400000"/>
                  <a:lnTo>
                    <a:pt x="0" y="7476"/>
                  </a:lnTo>
                  <a:arcTo wR="21600" hR="7476" stAng="10800000" swAng="-237983"/>
                  <a:lnTo>
                    <a:pt x="421" y="8944"/>
                  </a:lnTo>
                  <a:arcTo wR="21600" hR="7476" stAng="-10562017" swAng="5162017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7358000">
              <a:off x="3136320" y="4399920"/>
              <a:ext cx="609480" cy="91440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175680 h 914400"/>
                <a:gd name="textAreaBottom" fmla="*/ 64728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299" stAng="-5400000" swAng="5400000"/>
                  <a:lnTo>
                    <a:pt x="21600" y="11141"/>
                  </a:lnTo>
                  <a:arcTo wR="21600" hR="8299" stAng="0" swAng="2040590"/>
                  <a:lnTo>
                    <a:pt x="10688" y="20513"/>
                  </a:lnTo>
                  <a:lnTo>
                    <a:pt x="0" y="18019"/>
                  </a:lnTo>
                  <a:lnTo>
                    <a:pt x="10688" y="13351"/>
                  </a:lnTo>
                  <a:lnTo>
                    <a:pt x="10688" y="15511"/>
                  </a:lnTo>
                  <a:arcTo wR="21600" hR="8299" stAng="2040590" swAng="-1811381"/>
                  <a:lnTo>
                    <a:pt x="21281" y="9720"/>
                  </a:lnTo>
                  <a:arcTo wR="21600" hR="8299" stAng="-229209" swAng="-5170791"/>
                  <a:close/>
                </a:path>
                <a:path fill="darkenLess" w="21600" h="21600">
                  <a:moveTo>
                    <a:pt x="0" y="0"/>
                  </a:moveTo>
                  <a:arcTo wR="21600" hR="8299" stAng="-5400000" swAng="5400000"/>
                  <a:lnTo>
                    <a:pt x="21600" y="11141"/>
                  </a:lnTo>
                  <a:arcTo wR="21600" hR="8299" stAng="0" swAng="-229209"/>
                  <a:lnTo>
                    <a:pt x="21281" y="9720"/>
                  </a:lnTo>
                  <a:arcTo wR="21600" hR="8299" stAng="-229209" swAng="-5170791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78800" y="4800600"/>
              <a:ext cx="5997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800" spc="-1" strike="noStrike" baseline="-2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48880" y="4832280"/>
              <a:ext cx="5997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800" spc="-1" strike="noStrike" baseline="-2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8440" y="635040"/>
            <a:ext cx="73249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研究对象画受力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8080" y="1514520"/>
            <a:ext cx="578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受力偶的作用而平衡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为光滑面约束，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约束反力的方位可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5065560" y="2075040"/>
            <a:ext cx="2455200" cy="3465720"/>
            <a:chOff x="5065560" y="2075040"/>
            <a:chExt cx="2455200" cy="3465720"/>
          </a:xfrm>
        </p:grpSpPr>
        <p:sp>
          <p:nvSpPr>
            <p:cNvPr id="904" name=""/>
            <p:cNvSpPr/>
            <p:nvPr/>
          </p:nvSpPr>
          <p:spPr>
            <a:xfrm rot="7258200">
              <a:off x="4481640" y="3928320"/>
              <a:ext cx="3628800" cy="74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65560" y="5081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70840" y="2075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760800" y="3009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7358000">
              <a:off x="5757480" y="4028760"/>
              <a:ext cx="609480" cy="91440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175680 h 914400"/>
                <a:gd name="textAreaBottom" fmla="*/ 64728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299" stAng="-5400000" swAng="5400000"/>
                  <a:lnTo>
                    <a:pt x="21600" y="11141"/>
                  </a:lnTo>
                  <a:arcTo wR="21600" hR="8299" stAng="0" swAng="2040590"/>
                  <a:lnTo>
                    <a:pt x="10688" y="20513"/>
                  </a:lnTo>
                  <a:lnTo>
                    <a:pt x="0" y="18019"/>
                  </a:lnTo>
                  <a:lnTo>
                    <a:pt x="10688" y="13351"/>
                  </a:lnTo>
                  <a:lnTo>
                    <a:pt x="10688" y="15511"/>
                  </a:lnTo>
                  <a:arcTo wR="21600" hR="8299" stAng="2040590" swAng="-1811381"/>
                  <a:lnTo>
                    <a:pt x="21281" y="9720"/>
                  </a:lnTo>
                  <a:arcTo wR="21600" hR="8299" stAng="-229209" swAng="-5170791"/>
                  <a:close/>
                </a:path>
                <a:path fill="darkenLess" w="21600" h="21600">
                  <a:moveTo>
                    <a:pt x="0" y="0"/>
                  </a:moveTo>
                  <a:arcTo wR="21600" hR="8299" stAng="-5400000" swAng="5400000"/>
                  <a:lnTo>
                    <a:pt x="21600" y="11141"/>
                  </a:lnTo>
                  <a:arcTo wR="21600" hR="8299" stAng="0" swAng="-229209"/>
                  <a:lnTo>
                    <a:pt x="21281" y="9720"/>
                  </a:lnTo>
                  <a:arcTo wR="21600" hR="8299" stAng="-229209" swAng="-5170791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46560" y="4445280"/>
              <a:ext cx="55728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6184800" y="3052800"/>
            <a:ext cx="1508400" cy="743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952880" y="5332320"/>
            <a:ext cx="1508400" cy="743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5408280" y="5540040"/>
            <a:ext cx="638280" cy="344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729120" y="3300120"/>
            <a:ext cx="63828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929200" y="5443560"/>
            <a:ext cx="528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59400" y="3665520"/>
            <a:ext cx="517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18600" y="3675240"/>
            <a:ext cx="158868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zh-CN" sz="3200" spc="-1" strike="noStrike" baseline="-2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230480" y="2976480"/>
            <a:ext cx="229176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66960" y="2962440"/>
            <a:ext cx="13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07800" y="4449600"/>
            <a:ext cx="214956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 - M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218240" y="5211720"/>
            <a:ext cx="318744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a R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5848200" y="184320"/>
            <a:ext cx="2435040" cy="2228400"/>
            <a:chOff x="5848200" y="184320"/>
            <a:chExt cx="2435040" cy="2228400"/>
          </a:xfrm>
        </p:grpSpPr>
        <p:sp>
          <p:nvSpPr>
            <p:cNvPr id="922" name=""/>
            <p:cNvSpPr/>
            <p:nvPr/>
          </p:nvSpPr>
          <p:spPr>
            <a:xfrm rot="3441600">
              <a:off x="6705720" y="1429200"/>
              <a:ext cx="1523880" cy="4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7487400">
              <a:off x="5739120" y="1207080"/>
              <a:ext cx="2023920" cy="47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5940360" y="2103480"/>
              <a:ext cx="449280" cy="309240"/>
              <a:chOff x="5940360" y="2103480"/>
              <a:chExt cx="449280" cy="30924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5940360" y="2331360"/>
                <a:ext cx="449280" cy="81360"/>
                <a:chOff x="5940360" y="2331360"/>
                <a:chExt cx="449280" cy="81360"/>
              </a:xfrm>
            </p:grpSpPr>
            <p:sp>
              <p:nvSpPr>
                <p:cNvPr id="926" name=""/>
                <p:cNvSpPr/>
                <p:nvPr/>
              </p:nvSpPr>
              <p:spPr>
                <a:xfrm flipH="1">
                  <a:off x="5940360" y="23317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5975640" y="233172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>
                  <a:off x="6011640" y="23317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6047280" y="23317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6082560" y="233172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6118920" y="23400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6154560" y="23317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6189840" y="233172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>
                  <a:off x="6225840" y="23317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>
                  <a:off x="6261840" y="23317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6297120" y="233172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6333120" y="23317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V="1">
                  <a:off x="5943240" y="2331360"/>
                  <a:ext cx="44640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9" name=""/>
              <p:cNvSpPr/>
              <p:nvPr/>
            </p:nvSpPr>
            <p:spPr>
              <a:xfrm>
                <a:off x="6046200" y="2113200"/>
                <a:ext cx="198000" cy="212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21800" y="2103480"/>
                <a:ext cx="49320" cy="42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7716960" y="2081160"/>
              <a:ext cx="449280" cy="308160"/>
              <a:chOff x="7716960" y="2081160"/>
              <a:chExt cx="449280" cy="30816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7716960" y="2307960"/>
                <a:ext cx="449280" cy="81360"/>
                <a:chOff x="7716960" y="2307960"/>
                <a:chExt cx="449280" cy="81360"/>
              </a:xfrm>
            </p:grpSpPr>
            <p:sp>
              <p:nvSpPr>
                <p:cNvPr id="943" name=""/>
                <p:cNvSpPr/>
                <p:nvPr/>
              </p:nvSpPr>
              <p:spPr>
                <a:xfrm flipH="1">
                  <a:off x="7716960" y="23083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7752240" y="230832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7788240" y="23083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7823880" y="23083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7859160" y="230832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7895520" y="23166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7931160" y="23083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7966440" y="230832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8002440" y="23083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8038440" y="23083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8073720" y="230832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8109720" y="230832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V="1">
                  <a:off x="7719840" y="2307960"/>
                  <a:ext cx="44640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" name=""/>
              <p:cNvSpPr/>
              <p:nvPr/>
            </p:nvSpPr>
            <p:spPr>
              <a:xfrm>
                <a:off x="7822800" y="2090880"/>
                <a:ext cx="198000" cy="211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898400" y="2081160"/>
                <a:ext cx="4932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5891040" y="2089080"/>
              <a:ext cx="2376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76960" y="1744560"/>
              <a:ext cx="5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423200" y="1800360"/>
              <a:ext cx="5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848200" y="1751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813720" y="184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29440" y="596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918200" y="1758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2572200">
              <a:off x="7286400" y="1412640"/>
              <a:ext cx="318960" cy="568080"/>
            </a:xfrm>
            <a:custGeom>
              <a:avLst/>
              <a:gdLst>
                <a:gd name="textAreaLeft" fmla="*/ 42480 w 318960"/>
                <a:gd name="textAreaRight" fmla="*/ 276480 w 318960"/>
                <a:gd name="textAreaTop" fmla="*/ 98280 h 568080"/>
                <a:gd name="textAreaBottom" fmla="*/ 372240 h 56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476" stAng="-5400000" swAng="-5400000"/>
                  <a:lnTo>
                    <a:pt x="0" y="10413"/>
                  </a:lnTo>
                  <a:arcTo wR="21600" hR="7476" stAng="10800000" swAng="-2511567"/>
                  <a:lnTo>
                    <a:pt x="13817" y="21098"/>
                  </a:lnTo>
                  <a:lnTo>
                    <a:pt x="21600" y="16420"/>
                  </a:lnTo>
                  <a:lnTo>
                    <a:pt x="13817" y="10737"/>
                  </a:lnTo>
                  <a:lnTo>
                    <a:pt x="13817" y="14449"/>
                  </a:lnTo>
                  <a:arcTo wR="21600" hR="7476" stAng="8288433" swAng="2273584"/>
                  <a:lnTo>
                    <a:pt x="421" y="8944"/>
                  </a:lnTo>
                  <a:arcTo wR="21600" hR="7476" stAng="-10562017" swAng="5162017"/>
                  <a:close/>
                </a:path>
                <a:path fill="darkenLess" w="21600" h="21600">
                  <a:moveTo>
                    <a:pt x="21600" y="0"/>
                  </a:moveTo>
                  <a:arcTo wR="21600" hR="7476" stAng="-5400000" swAng="-5400000"/>
                  <a:lnTo>
                    <a:pt x="0" y="7476"/>
                  </a:lnTo>
                  <a:arcTo wR="21600" hR="7476" stAng="10800000" swAng="-237983"/>
                  <a:lnTo>
                    <a:pt x="421" y="8944"/>
                  </a:lnTo>
                  <a:arcTo wR="21600" hR="7476" stAng="-10562017" swAng="5162017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17358000">
              <a:off x="6445080" y="1314360"/>
              <a:ext cx="339840" cy="593640"/>
            </a:xfrm>
            <a:custGeom>
              <a:avLst/>
              <a:gdLst>
                <a:gd name="textAreaLeft" fmla="*/ 45360 w 339840"/>
                <a:gd name="textAreaRight" fmla="*/ 294480 w 339840"/>
                <a:gd name="textAreaTop" fmla="*/ 113760 h 593640"/>
                <a:gd name="textAreaBottom" fmla="*/ 42048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299" stAng="-5400000" swAng="5400000"/>
                  <a:lnTo>
                    <a:pt x="21600" y="11141"/>
                  </a:lnTo>
                  <a:arcTo wR="21600" hR="8299" stAng="0" swAng="2040590"/>
                  <a:lnTo>
                    <a:pt x="10688" y="20513"/>
                  </a:lnTo>
                  <a:lnTo>
                    <a:pt x="0" y="18019"/>
                  </a:lnTo>
                  <a:lnTo>
                    <a:pt x="10688" y="13351"/>
                  </a:lnTo>
                  <a:lnTo>
                    <a:pt x="10688" y="15511"/>
                  </a:lnTo>
                  <a:arcTo wR="21600" hR="8299" stAng="2040590" swAng="-1811381"/>
                  <a:lnTo>
                    <a:pt x="21281" y="9720"/>
                  </a:lnTo>
                  <a:arcTo wR="21600" hR="8299" stAng="-229209" swAng="-5170791"/>
                  <a:close/>
                </a:path>
                <a:path fill="darkenLess" w="21600" h="21600">
                  <a:moveTo>
                    <a:pt x="0" y="0"/>
                  </a:moveTo>
                  <a:arcTo wR="21600" hR="8299" stAng="-5400000" swAng="5400000"/>
                  <a:lnTo>
                    <a:pt x="21600" y="11141"/>
                  </a:lnTo>
                  <a:arcTo wR="21600" hR="8299" stAng="0" swAng="-229209"/>
                  <a:lnTo>
                    <a:pt x="21281" y="9720"/>
                  </a:lnTo>
                  <a:arcTo wR="21600" hR="8299" stAng="-229209" swAng="-5170791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78520" y="1482840"/>
              <a:ext cx="523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 baseline="-2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15520" y="1360440"/>
              <a:ext cx="450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 baseline="-2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  <p:sndAc>
      <p:stSnd>
        <p:snd r:embed="rId2" name="CAMERA.WAV"/>
      </p:stSnd>
    </p:sndAc>
  </p:transition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8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9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9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93840" y="498600"/>
            <a:ext cx="5937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研究对象。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约束方位已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约束反力方位亦可确定，画受力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7612200" y="5835240"/>
            <a:ext cx="63792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4478400" y="2563560"/>
            <a:ext cx="3657600" cy="4035240"/>
            <a:chOff x="4478400" y="2563560"/>
            <a:chExt cx="3657600" cy="4035240"/>
          </a:xfrm>
        </p:grpSpPr>
        <p:grpSp>
          <p:nvGrpSpPr>
            <p:cNvPr id="972" name=""/>
            <p:cNvGrpSpPr/>
            <p:nvPr/>
          </p:nvGrpSpPr>
          <p:grpSpPr>
            <a:xfrm>
              <a:off x="4478400" y="2563560"/>
              <a:ext cx="3657600" cy="3332520"/>
              <a:chOff x="4478400" y="2563560"/>
              <a:chExt cx="3657600" cy="3332520"/>
            </a:xfrm>
          </p:grpSpPr>
          <p:sp>
            <p:nvSpPr>
              <p:cNvPr id="973" name=""/>
              <p:cNvSpPr/>
              <p:nvPr/>
            </p:nvSpPr>
            <p:spPr>
              <a:xfrm rot="3441600">
                <a:off x="5638320" y="4676400"/>
                <a:ext cx="2611080" cy="76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78400" y="5843160"/>
                <a:ext cx="36576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957560" y="5495760"/>
                <a:ext cx="51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1" lang="en-US" sz="2000" spc="-1" strike="noStrike" baseline="4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020000" y="5495760"/>
                <a:ext cx="51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1" lang="en-US" sz="2000" spc="-1" strike="noStrike" baseline="4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69080" y="54972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2572200">
                <a:off x="6676560" y="4248000"/>
                <a:ext cx="490680" cy="1020240"/>
              </a:xfrm>
              <a:custGeom>
                <a:avLst/>
                <a:gdLst>
                  <a:gd name="textAreaLeft" fmla="*/ 65520 w 490680"/>
                  <a:gd name="textAreaRight" fmla="*/ 425160 w 490680"/>
                  <a:gd name="textAreaTop" fmla="*/ 176400 h 1020240"/>
                  <a:gd name="textAreaBottom" fmla="*/ 668520 h 102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476" stAng="-5400000" swAng="-5400000"/>
                    <a:lnTo>
                      <a:pt x="0" y="10413"/>
                    </a:lnTo>
                    <a:arcTo wR="21600" hR="7476" stAng="10800000" swAng="-2511567"/>
                    <a:lnTo>
                      <a:pt x="13817" y="21098"/>
                    </a:lnTo>
                    <a:lnTo>
                      <a:pt x="21600" y="16420"/>
                    </a:lnTo>
                    <a:lnTo>
                      <a:pt x="13817" y="10737"/>
                    </a:lnTo>
                    <a:lnTo>
                      <a:pt x="13817" y="14449"/>
                    </a:lnTo>
                    <a:arcTo wR="21600" hR="7476" stAng="8288433" swAng="2273584"/>
                    <a:lnTo>
                      <a:pt x="421" y="8944"/>
                    </a:lnTo>
                    <a:arcTo wR="21600" hR="7476" stAng="-10562017" swAng="5162017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476" stAng="-5400000" swAng="-5400000"/>
                    <a:lnTo>
                      <a:pt x="0" y="7476"/>
                    </a:lnTo>
                    <a:arcTo wR="21600" hR="7476" stAng="10800000" swAng="-237983"/>
                    <a:lnTo>
                      <a:pt x="421" y="8944"/>
                    </a:lnTo>
                    <a:arcTo wR="21600" hR="7476" stAng="-10562017" swAng="5162017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385040" y="4503600"/>
                <a:ext cx="55728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2400" spc="-1" strike="noStrike" baseline="-2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510160" y="4709880"/>
                <a:ext cx="2089080" cy="1126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7258200">
                <a:off x="3975480" y="4209120"/>
                <a:ext cx="3628800" cy="74520"/>
              </a:xfrm>
              <a:prstGeom prst="rect">
                <a:avLst/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718680" y="2563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78400" y="336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54360" y="5473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4889520" y="5856120"/>
              <a:ext cx="1508040" cy="742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906880" y="3446280"/>
              <a:ext cx="1508400" cy="742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 flipV="1">
            <a:off x="5565240" y="3250800"/>
            <a:ext cx="638280" cy="344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37640" y="6111720"/>
            <a:ext cx="528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93160" y="2835360"/>
            <a:ext cx="653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7360" y="2292480"/>
            <a:ext cx="226728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37640" y="3002040"/>
            <a:ext cx="158868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zh-CN" sz="3200" spc="-1" strike="noStrike" baseline="-2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34040" y="3763800"/>
            <a:ext cx="299232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0.5a R + M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34400" y="4449600"/>
            <a:ext cx="380016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.5 a R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3520" y="5413320"/>
            <a:ext cx="48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式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M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208560" y="309600"/>
            <a:ext cx="2435040" cy="2228400"/>
            <a:chOff x="6208560" y="309600"/>
            <a:chExt cx="2435040" cy="2228400"/>
          </a:xfrm>
        </p:grpSpPr>
        <p:sp>
          <p:nvSpPr>
            <p:cNvPr id="996" name=""/>
            <p:cNvSpPr/>
            <p:nvPr/>
          </p:nvSpPr>
          <p:spPr>
            <a:xfrm rot="3441600">
              <a:off x="7066080" y="1554480"/>
              <a:ext cx="1523880" cy="4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7487400">
              <a:off x="6099480" y="1332360"/>
              <a:ext cx="2023920" cy="47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6300720" y="2228760"/>
              <a:ext cx="449280" cy="309240"/>
              <a:chOff x="6300720" y="2228760"/>
              <a:chExt cx="449280" cy="309240"/>
            </a:xfrm>
          </p:grpSpPr>
          <p:grpSp>
            <p:nvGrpSpPr>
              <p:cNvPr id="999" name=""/>
              <p:cNvGrpSpPr/>
              <p:nvPr/>
            </p:nvGrpSpPr>
            <p:grpSpPr>
              <a:xfrm>
                <a:off x="6300720" y="2456640"/>
                <a:ext cx="449280" cy="81360"/>
                <a:chOff x="6300720" y="2456640"/>
                <a:chExt cx="449280" cy="81360"/>
              </a:xfrm>
            </p:grpSpPr>
            <p:sp>
              <p:nvSpPr>
                <p:cNvPr id="1000" name=""/>
                <p:cNvSpPr/>
                <p:nvPr/>
              </p:nvSpPr>
              <p:spPr>
                <a:xfrm flipH="1">
                  <a:off x="6300720" y="24570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6336000" y="245700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>
                  <a:off x="6372000" y="24570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6407640" y="24570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6442920" y="245700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>
                  <a:off x="6479280" y="246528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>
                  <a:off x="6514920" y="24570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>
                  <a:off x="6550200" y="245700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6586200" y="24570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>
                  <a:off x="6622200" y="24570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>
                  <a:off x="6657480" y="245700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6693480" y="24570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303600" y="2456640"/>
                  <a:ext cx="44640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3" name=""/>
              <p:cNvSpPr/>
              <p:nvPr/>
            </p:nvSpPr>
            <p:spPr>
              <a:xfrm>
                <a:off x="6406560" y="2238480"/>
                <a:ext cx="198000" cy="212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82160" y="2228760"/>
                <a:ext cx="49320" cy="42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8077320" y="2206440"/>
              <a:ext cx="449280" cy="308160"/>
              <a:chOff x="8077320" y="2206440"/>
              <a:chExt cx="449280" cy="308160"/>
            </a:xfrm>
          </p:grpSpPr>
          <p:grpSp>
            <p:nvGrpSpPr>
              <p:cNvPr id="1016" name=""/>
              <p:cNvGrpSpPr/>
              <p:nvPr/>
            </p:nvGrpSpPr>
            <p:grpSpPr>
              <a:xfrm>
                <a:off x="8077320" y="2433240"/>
                <a:ext cx="449280" cy="81360"/>
                <a:chOff x="8077320" y="2433240"/>
                <a:chExt cx="449280" cy="81360"/>
              </a:xfrm>
            </p:grpSpPr>
            <p:sp>
              <p:nvSpPr>
                <p:cNvPr id="1017" name=""/>
                <p:cNvSpPr/>
                <p:nvPr/>
              </p:nvSpPr>
              <p:spPr>
                <a:xfrm flipH="1">
                  <a:off x="8077320" y="24336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>
                  <a:off x="8112600" y="243360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>
                  <a:off x="8148600" y="24336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>
                  <a:off x="8184240" y="24336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8219520" y="243360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>
                  <a:off x="8255880" y="244188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H="1">
                  <a:off x="8291520" y="24336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H="1">
                  <a:off x="8326800" y="243360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>
                  <a:off x="8362800" y="24336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H="1">
                  <a:off x="8398800" y="24336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H="1">
                  <a:off x="8434080" y="2433600"/>
                  <a:ext cx="3204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H="1">
                  <a:off x="8470080" y="2433600"/>
                  <a:ext cx="3168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8080200" y="2433240"/>
                  <a:ext cx="44640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8183160" y="2216160"/>
                <a:ext cx="198000" cy="211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258760" y="2206440"/>
                <a:ext cx="4932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2" name=""/>
            <p:cNvSpPr/>
            <p:nvPr/>
          </p:nvSpPr>
          <p:spPr>
            <a:xfrm>
              <a:off x="6251400" y="2214360"/>
              <a:ext cx="2376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637320" y="1869840"/>
              <a:ext cx="5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783560" y="1925640"/>
              <a:ext cx="5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08560" y="1876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174080" y="309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489800" y="722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278560" y="1884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2572200">
              <a:off x="7646760" y="1537920"/>
              <a:ext cx="318960" cy="568080"/>
            </a:xfrm>
            <a:custGeom>
              <a:avLst/>
              <a:gdLst>
                <a:gd name="textAreaLeft" fmla="*/ 42480 w 318960"/>
                <a:gd name="textAreaRight" fmla="*/ 276480 w 318960"/>
                <a:gd name="textAreaTop" fmla="*/ 98280 h 568080"/>
                <a:gd name="textAreaBottom" fmla="*/ 372240 h 56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476" stAng="-5400000" swAng="-5400000"/>
                  <a:lnTo>
                    <a:pt x="0" y="10413"/>
                  </a:lnTo>
                  <a:arcTo wR="21600" hR="7476" stAng="10800000" swAng="-2511567"/>
                  <a:lnTo>
                    <a:pt x="13817" y="21098"/>
                  </a:lnTo>
                  <a:lnTo>
                    <a:pt x="21600" y="16420"/>
                  </a:lnTo>
                  <a:lnTo>
                    <a:pt x="13817" y="10737"/>
                  </a:lnTo>
                  <a:lnTo>
                    <a:pt x="13817" y="14449"/>
                  </a:lnTo>
                  <a:arcTo wR="21600" hR="7476" stAng="8288433" swAng="2273584"/>
                  <a:lnTo>
                    <a:pt x="421" y="8944"/>
                  </a:lnTo>
                  <a:arcTo wR="21600" hR="7476" stAng="-10562017" swAng="5162017"/>
                  <a:close/>
                </a:path>
                <a:path fill="darkenLess" w="21600" h="21600">
                  <a:moveTo>
                    <a:pt x="21600" y="0"/>
                  </a:moveTo>
                  <a:arcTo wR="21600" hR="7476" stAng="-5400000" swAng="-5400000"/>
                  <a:lnTo>
                    <a:pt x="0" y="7476"/>
                  </a:lnTo>
                  <a:arcTo wR="21600" hR="7476" stAng="10800000" swAng="-237983"/>
                  <a:lnTo>
                    <a:pt x="421" y="8944"/>
                  </a:lnTo>
                  <a:arcTo wR="21600" hR="7476" stAng="-10562017" swAng="5162017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7358000">
              <a:off x="6805440" y="1439640"/>
              <a:ext cx="339840" cy="593640"/>
            </a:xfrm>
            <a:custGeom>
              <a:avLst/>
              <a:gdLst>
                <a:gd name="textAreaLeft" fmla="*/ 45360 w 339840"/>
                <a:gd name="textAreaRight" fmla="*/ 294480 w 339840"/>
                <a:gd name="textAreaTop" fmla="*/ 113760 h 593640"/>
                <a:gd name="textAreaBottom" fmla="*/ 42048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299" stAng="-5400000" swAng="5400000"/>
                  <a:lnTo>
                    <a:pt x="21600" y="11141"/>
                  </a:lnTo>
                  <a:arcTo wR="21600" hR="8299" stAng="0" swAng="2040590"/>
                  <a:lnTo>
                    <a:pt x="10688" y="20513"/>
                  </a:lnTo>
                  <a:lnTo>
                    <a:pt x="0" y="18019"/>
                  </a:lnTo>
                  <a:lnTo>
                    <a:pt x="10688" y="13351"/>
                  </a:lnTo>
                  <a:lnTo>
                    <a:pt x="10688" y="15511"/>
                  </a:lnTo>
                  <a:arcTo wR="21600" hR="8299" stAng="2040590" swAng="-1811381"/>
                  <a:lnTo>
                    <a:pt x="21281" y="9720"/>
                  </a:lnTo>
                  <a:arcTo wR="21600" hR="8299" stAng="-229209" swAng="-5170791"/>
                  <a:close/>
                </a:path>
                <a:path fill="darkenLess" w="21600" h="21600">
                  <a:moveTo>
                    <a:pt x="0" y="0"/>
                  </a:moveTo>
                  <a:arcTo wR="21600" hR="8299" stAng="-5400000" swAng="5400000"/>
                  <a:lnTo>
                    <a:pt x="21600" y="11141"/>
                  </a:lnTo>
                  <a:arcTo wR="21600" hR="8299" stAng="0" swAng="-229209"/>
                  <a:lnTo>
                    <a:pt x="21281" y="9720"/>
                  </a:lnTo>
                  <a:arcTo wR="21600" hR="8299" stAng="-229209" swAng="-5170791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38880" y="1608120"/>
              <a:ext cx="523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 baseline="-2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075880" y="1485720"/>
              <a:ext cx="450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 baseline="-2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  <p:sndAc>
      <p:stSnd>
        <p:snd r:embed="rId2" name="CAMERA.WAV"/>
      </p:stSnd>
    </p:sndAc>
  </p:transition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6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7" dur="75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75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75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2647800" y="1927080"/>
            <a:ext cx="36576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本章结束</a:t>
            </a:r>
            <a:endParaRPr b="0" lang="en-US" sz="7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116000" y="1773360"/>
            <a:ext cx="3429000" cy="614160"/>
            <a:chOff x="1116000" y="1773360"/>
            <a:chExt cx="3429000" cy="614160"/>
          </a:xfrm>
        </p:grpSpPr>
        <p:sp>
          <p:nvSpPr>
            <p:cNvPr id="121" name=""/>
            <p:cNvSpPr/>
            <p:nvPr/>
          </p:nvSpPr>
          <p:spPr>
            <a:xfrm>
              <a:off x="1116000" y="17874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平衡条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3097080" y="1773360"/>
            <a:ext cx="1295640" cy="614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97080" y="1773360"/>
                      <a:ext cx="1295640" cy="61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4" name=""/>
          <p:cNvSpPr/>
          <p:nvPr/>
        </p:nvSpPr>
        <p:spPr>
          <a:xfrm>
            <a:off x="685800" y="762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面汇交力系平衡的几何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637000"/>
            <a:ext cx="74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汇交力系平衡的必要和充分条件是：该力系的合力等于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24000" y="4076640"/>
            <a:ext cx="84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平衡的情形下，力多边形中最后一力的终点与第一力的起点重合，此时的力多边形称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封闭的力多边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于是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面汇交力系平衡的必要与充分条件是：该力系的力多边形自行封闭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是平衡的几何条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228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7621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29528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05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水平拉力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5k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碾子对地面及障碍物的压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欲将碾子拉过障碍物，水平拉力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至少多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124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力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沿什么方向拉动碾子最省力，及此时力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大？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90920" y="380988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11000" y="762120"/>
            <a:ext cx="49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20k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6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0.08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141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：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碾子，画受力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380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几何法，按比例画封闭力四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990720" y="4419720"/>
                <a:ext cx="3390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810240" cy="3047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38102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6019920" y="4724280"/>
            <a:ext cx="1904760" cy="1212840"/>
            <a:chOff x="6019920" y="4724280"/>
            <a:chExt cx="1904760" cy="1212840"/>
          </a:xfrm>
        </p:grpSpPr>
        <p:graphicFrame>
          <p:nvGraphicFramePr>
            <p:cNvPr id="151" name=""/>
            <p:cNvGraphicFramePr/>
            <p:nvPr/>
          </p:nvGraphicFramePr>
          <p:xfrm>
            <a:off x="6019920" y="4724280"/>
            <a:ext cx="1828800" cy="506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4724280"/>
                      <a:ext cx="182880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6095880" y="5410080"/>
            <a:ext cx="1828800" cy="527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95880" y="5410080"/>
                      <a:ext cx="182880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648320" y="54100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5486400"/>
          <a:ext cx="2914560" cy="113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486400"/>
                    <a:ext cx="29145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533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碾子拉过障碍物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几何法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57400" y="533520"/>
            <a:ext cx="2131920" cy="459720"/>
            <a:chOff x="3857400" y="533520"/>
            <a:chExt cx="2131920" cy="459720"/>
          </a:xfrm>
        </p:grpSpPr>
        <p:graphicFrame>
          <p:nvGraphicFramePr>
            <p:cNvPr id="166" name=""/>
            <p:cNvGraphicFramePr/>
            <p:nvPr/>
          </p:nvGraphicFramePr>
          <p:xfrm>
            <a:off x="4464720" y="578520"/>
            <a:ext cx="1524600" cy="36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64720" y="578520"/>
                      <a:ext cx="152460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3857400" y="533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应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258920" y="2060640"/>
            <a:ext cx="3505320" cy="2803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952880" y="2057400"/>
            <a:ext cx="3505320" cy="280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3657600" y="1371600"/>
          <a:ext cx="3124080" cy="4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57600" y="1371600"/>
                    <a:ext cx="312408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1676520" y="5105520"/>
            <a:ext cx="4549320" cy="459720"/>
            <a:chOff x="1676520" y="5105520"/>
            <a:chExt cx="4549320" cy="459720"/>
          </a:xfrm>
        </p:grpSpPr>
        <p:sp>
          <p:nvSpPr>
            <p:cNvPr id="174" name=""/>
            <p:cNvSpPr/>
            <p:nvPr/>
          </p:nvSpPr>
          <p:spPr>
            <a:xfrm>
              <a:off x="1676520" y="5105520"/>
              <a:ext cx="9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解得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2538000" y="5118840"/>
            <a:ext cx="3687840" cy="397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38000" y="5118840"/>
                      <a:ext cx="36878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7" name=""/>
          <p:cNvSpPr/>
          <p:nvPr/>
        </p:nvSpPr>
        <p:spPr>
          <a:xfrm>
            <a:off x="1168920" y="51055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412040" y="6570720"/>
            <a:ext cx="1731960" cy="287280"/>
            <a:chOff x="7412040" y="6570720"/>
            <a:chExt cx="1731960" cy="287280"/>
          </a:xfrm>
        </p:grpSpPr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78692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74120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0045" y="10800"/>
                  </a:moveTo>
                  <a:lnTo>
                    <a:pt x="20550" y="3794"/>
                  </a:lnTo>
                  <a:lnTo>
                    <a:pt x="20550" y="17806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8200" y="3794"/>
                  </a:lnTo>
                  <a:lnTo>
                    <a:pt x="8200" y="17806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83264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>
              <a:hlinkClick r:id="" action="ppaction://hlinkshowjump?jump=lastslide"/>
            </p:cNvPr>
            <p:cNvSpPr/>
            <p:nvPr/>
          </p:nvSpPr>
          <p:spPr>
            <a:xfrm>
              <a:off x="8783640" y="657072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17043" y="10800"/>
                  </a:moveTo>
                  <a:lnTo>
                    <a:pt x="6537" y="17806"/>
                  </a:lnTo>
                  <a:lnTo>
                    <a:pt x="6537" y="3794"/>
                  </a:lnTo>
                  <a:close/>
                </a:path>
                <a:path fill="darken" w="27088" h="21600">
                  <a:moveTo>
                    <a:pt x="18888" y="3794"/>
                  </a:moveTo>
                  <a:lnTo>
                    <a:pt x="18888" y="17806"/>
                  </a:lnTo>
                  <a:lnTo>
                    <a:pt x="20550" y="17806"/>
                  </a:lnTo>
                  <a:lnTo>
                    <a:pt x="20550" y="3794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0:20:09Z</dcterms:created>
  <dc:creator>Benny Lee</dc:creator>
  <dc:description/>
  <dc:language>en-US</dc:language>
  <cp:lastModifiedBy>MC SYSTEM</cp:lastModifiedBy>
  <dcterms:modified xsi:type="dcterms:W3CDTF">2009-12-11T09:19:05Z</dcterms:modified>
  <cp:revision>213</cp:revision>
  <dc:subject/>
  <dc:title>PowerPoint 演示文稿</dc:title>
</cp:coreProperties>
</file>