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7.wmf" ContentType="image/x-wmf"/>
  <Override PartName="/ppt/media/image4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31.wmf" ContentType="image/x-wmf"/>
  <Override PartName="/ppt/media/image46.png" ContentType="image/png"/>
  <Override PartName="/ppt/media/image37.wmf" ContentType="image/x-wmf"/>
  <Override PartName="/ppt/media/image43.png" ContentType="image/png"/>
  <Override PartName="/ppt/media/image33.png" ContentType="image/png"/>
  <Override PartName="/ppt/media/image5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51.wmf" ContentType="image/x-wmf"/>
  <Override PartName="/ppt/media/image52.wmf" ContentType="image/x-wmf"/>
  <Override PartName="/ppt/media/image15.wmf" ContentType="image/x-wmf"/>
  <Override PartName="/ppt/media/image41.wmf" ContentType="image/x-wmf"/>
  <Override PartName="/ppt/media/image42.png" ContentType="image/png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jpeg" ContentType="image/jpeg"/>
  <Override PartName="/ppt/media/image50.wmf" ContentType="image/x-wmf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48.wmf" ContentType="image/x-wmf"/>
  <Override PartName="/ppt/media/image11.wmf" ContentType="image/x-wmf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8B-8B57-4336-9D6D-0EF82A7A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85D-B7C7-47BA-8057-70BA3A4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7E6-6A4A-4BF4-BFEF-1BCE3292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ECE-379E-464F-B32B-3870BB0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E73-B125-4B24-BBF1-E95C371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5A9-DC26-471F-A826-6A188E49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ED7-CD8D-4DC8-800A-294874B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F75-80D8-4781-A466-EE2C009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4DC-0067-4065-B407-7DD22CE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EC-4BBE-47D9-B18A-4D94597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D75-F927-412F-8247-E6D391F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7EC-494A-401F-ACDE-0524922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6A6-80CD-4991-ABA5-27DF5DFBD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3160" y="185580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七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刚体的简单运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402760" y="66470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859960" y="66470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104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5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矢量表示角速度和角加速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以矢积表示点的速度和加速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7960" y="13748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速度矢量和角加速度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角速度矢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7680" y="2585880"/>
          <a:ext cx="4100760" cy="21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7680" y="2585880"/>
                    <a:ext cx="410076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82640" y="4832280"/>
          <a:ext cx="98424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82640" y="4832280"/>
                    <a:ext cx="984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2932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角加速度矢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68600" y="5897520"/>
          <a:ext cx="2522520" cy="78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8600" y="5897520"/>
                    <a:ext cx="25225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5486400" y="4114800"/>
            <a:ext cx="3429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5486400" y="144792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68440" y="2206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绕定轴转动刚体上点的速度和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3880" y="2254320"/>
          <a:ext cx="250668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254320"/>
                    <a:ext cx="25066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809720" y="3124080"/>
          <a:ext cx="23050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9720" y="3124080"/>
                    <a:ext cx="2305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828800" y="4065480"/>
          <a:ext cx="201924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065480"/>
                    <a:ext cx="20192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838080" y="5343480"/>
          <a:ext cx="1371600" cy="44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5343480"/>
                    <a:ext cx="137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866960" y="4621320"/>
          <a:ext cx="1257120" cy="495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66960" y="4621320"/>
                    <a:ext cx="1257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339920" y="1089000"/>
          <a:ext cx="5089320" cy="104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9920" y="1089000"/>
                    <a:ext cx="50893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808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5334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点切向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4040" y="6043680"/>
          <a:ext cx="2985840" cy="452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4040" y="6043680"/>
                    <a:ext cx="29858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946680" y="6019920"/>
            <a:ext cx="28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法向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6477120" y="1066680"/>
          <a:ext cx="2189160" cy="2743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77120" y="1066680"/>
                    <a:ext cx="2189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477120" y="3962520"/>
          <a:ext cx="2198520" cy="2666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77120" y="3962520"/>
                    <a:ext cx="2198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28600" y="0"/>
            <a:ext cx="8626320" cy="1401840"/>
            <a:chOff x="228600" y="0"/>
            <a:chExt cx="8626320" cy="1401840"/>
          </a:xfrm>
        </p:grpSpPr>
        <p:sp>
          <p:nvSpPr>
            <p:cNvPr id="212" name=""/>
            <p:cNvSpPr/>
            <p:nvPr/>
          </p:nvSpPr>
          <p:spPr>
            <a:xfrm>
              <a:off x="228600" y="0"/>
              <a:ext cx="8626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7-1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刚体绕定轴转动，已知转轴通过坐标原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角速度矢为                                        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2341440" y="533520"/>
            <a:ext cx="4503960" cy="86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41440" y="533520"/>
                      <a:ext cx="450396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"/>
          <p:cNvSpPr/>
          <p:nvPr/>
        </p:nvSpPr>
        <p:spPr>
          <a:xfrm>
            <a:off x="380880" y="1295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刚体上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的速度矢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速度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62320" y="4114800"/>
          <a:ext cx="3416040" cy="60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114800"/>
                    <a:ext cx="34160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838080" y="2090880"/>
          <a:ext cx="6330960" cy="22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2090880"/>
                    <a:ext cx="63309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073240" y="4724280"/>
          <a:ext cx="5073840" cy="98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3240" y="4724280"/>
                    <a:ext cx="50738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362320" y="5659560"/>
          <a:ext cx="5014800" cy="104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5659560"/>
                    <a:ext cx="5014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2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66000" y="2300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角速度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303640" y="2863800"/>
          <a:ext cx="1277640" cy="4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3640" y="2863800"/>
                    <a:ext cx="1277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272040" y="3429000"/>
            <a:ext cx="212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相对于转轴上一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矢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4267080"/>
          <a:ext cx="624852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4267080"/>
                    <a:ext cx="6248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600200" y="4952880"/>
          <a:ext cx="6759720" cy="165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952880"/>
                    <a:ext cx="67597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875040" y="2849400"/>
          <a:ext cx="427824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75040" y="2849400"/>
                    <a:ext cx="4278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04920" y="16905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刚体上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的速度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41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4920" y="271440"/>
            <a:ext cx="8534160" cy="1006200"/>
            <a:chOff x="304920" y="271440"/>
            <a:chExt cx="8534160" cy="1006200"/>
          </a:xfrm>
        </p:grpSpPr>
        <p:sp>
          <p:nvSpPr>
            <p:cNvPr id="246" name=""/>
            <p:cNvSpPr/>
            <p:nvPr/>
          </p:nvSpPr>
          <p:spPr>
            <a:xfrm>
              <a:off x="304920" y="271440"/>
              <a:ext cx="85341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7-2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某定轴转动刚体通过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，其角速度矢     的方向余弦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48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64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角速度 的大小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ω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5rad/s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2209680" y="685800"/>
            <a:ext cx="384120" cy="447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09680" y="685800"/>
                      <a:ext cx="3841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65680" y="457200"/>
            <a:ext cx="35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刚体的平行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2720" y="1295280"/>
            <a:ext cx="780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刚体内任一直线在运动过程中始终平行于初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置，这种运动称为平行移动，简称平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ShockwaveFlash1"/>
          <p:cNvGraphicFramePr/>
          <p:nvPr/>
        </p:nvGraphicFramePr>
        <p:xfrm>
          <a:off x="1905120" y="2666880"/>
          <a:ext cx="533376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533376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9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速度和加速度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0" y="4419720"/>
          <a:ext cx="257184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419720"/>
                    <a:ext cx="257184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410080" y="4343400"/>
          <a:ext cx="304812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4343400"/>
                    <a:ext cx="30481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50840" y="57150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刚体平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点的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7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35000" y="1442880"/>
          <a:ext cx="1874880" cy="61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35000" y="1442880"/>
                    <a:ext cx="1874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63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66480" y="3048120"/>
            <a:ext cx="2848320" cy="1084320"/>
            <a:chOff x="1266480" y="3048120"/>
            <a:chExt cx="2848320" cy="1084320"/>
          </a:xfrm>
        </p:grpSpPr>
        <p:graphicFrame>
          <p:nvGraphicFramePr>
            <p:cNvPr id="68" name=""/>
            <p:cNvGraphicFramePr/>
            <p:nvPr/>
          </p:nvGraphicFramePr>
          <p:xfrm>
            <a:off x="2514600" y="3048120"/>
            <a:ext cx="1600200" cy="1084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3048120"/>
                      <a:ext cx="160020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1266480" y="3429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50640" y="4668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0" y="762120"/>
          <a:ext cx="3809880" cy="311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762120"/>
                    <a:ext cx="380988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272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7-2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绕定轴的转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352680"/>
            <a:ext cx="26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4114800"/>
                <a:ext cx="1676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295280" y="259092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点连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定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刚体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其扩展部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点保持不动，则这种运动称为刚体绕定轴转动，简称刚体的转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ShockwaveFlash1"/>
          <p:cNvGraphicFramePr/>
          <p:nvPr/>
        </p:nvGraphicFramePr>
        <p:xfrm>
          <a:off x="4038480" y="3276720"/>
          <a:ext cx="441972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276720"/>
                    <a:ext cx="4419720" cy="335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4495680" y="2590920"/>
            <a:ext cx="3469320" cy="459720"/>
            <a:chOff x="4495680" y="2590920"/>
            <a:chExt cx="3469320" cy="459720"/>
          </a:xfrm>
        </p:grpSpPr>
        <p:sp>
          <p:nvSpPr>
            <p:cNvPr id="82" name=""/>
            <p:cNvSpPr/>
            <p:nvPr/>
          </p:nvSpPr>
          <p:spPr>
            <a:xfrm>
              <a:off x="449568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转角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5486400" y="2666880"/>
            <a:ext cx="322200" cy="381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86400" y="2666880"/>
                      <a:ext cx="3222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6153840" y="2590920"/>
              <a:ext cx="18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单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弧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ra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87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28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速度和角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240" y="12333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606760" y="873000"/>
          <a:ext cx="3448080" cy="13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06760" y="873000"/>
                    <a:ext cx="34480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606760" y="2346480"/>
          <a:ext cx="3029040" cy="8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6760" y="2346480"/>
                    <a:ext cx="3029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62120" y="2535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43120" y="3627360"/>
          <a:ext cx="1608120" cy="84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3627360"/>
                    <a:ext cx="16081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43520" y="3817800"/>
          <a:ext cx="1685880" cy="5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43520" y="3817800"/>
                    <a:ext cx="1685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匀速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03520" y="4645080"/>
          <a:ext cx="4770360" cy="1724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03520" y="4645080"/>
                    <a:ext cx="477036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6212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匀变速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07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61400" y="272880"/>
            <a:ext cx="57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7-3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刚体内各点的速度和加速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0280" y="2514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28800" y="3200400"/>
          <a:ext cx="244152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2441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62120" y="3747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60480" y="4419720"/>
                <a:ext cx="370224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α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71640" y="12952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点的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1981080"/>
          <a:ext cx="109404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981080"/>
                    <a:ext cx="1094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724280" y="1447920"/>
            <a:ext cx="40658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22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89320" y="460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速度与加速度分布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4191120"/>
          <a:ext cx="12207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191120"/>
                    <a:ext cx="122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91320" y="4952880"/>
          <a:ext cx="1981080" cy="8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4952880"/>
                    <a:ext cx="198108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33520" y="1371600"/>
            <a:ext cx="406548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724280" y="1371600"/>
            <a:ext cx="406584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05520" y="4114800"/>
          <a:ext cx="3387600" cy="60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4114800"/>
                    <a:ext cx="3387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36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76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４　轮系的传动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175200" cy="2540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91680" y="1295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齿轮传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3080" y="24145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啮合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3276720"/>
          <a:ext cx="27176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276720"/>
                    <a:ext cx="2717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013040" y="43340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传动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5257800"/>
          <a:ext cx="2950920" cy="90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57800"/>
                    <a:ext cx="29509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5181480" y="3505320"/>
            <a:ext cx="317520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44400" y="685800"/>
            <a:ext cx="26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、带轮传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666880" y="4724280"/>
          <a:ext cx="409284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4724280"/>
                    <a:ext cx="40928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09880" y="5410080"/>
          <a:ext cx="1752840" cy="98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5410080"/>
                    <a:ext cx="17528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057400" y="1447920"/>
            <a:ext cx="5181480" cy="2960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62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2:38:11Z</dcterms:created>
  <dc:creator>lll</dc:creator>
  <dc:description/>
  <dc:language>en-US</dc:language>
  <cp:lastModifiedBy>MC SYSTEM</cp:lastModifiedBy>
  <dcterms:modified xsi:type="dcterms:W3CDTF">2009-11-02T09:30:55Z</dcterms:modified>
  <cp:revision>176</cp:revision>
  <dc:subject/>
  <dc:title>第七章</dc:title>
</cp:coreProperties>
</file>