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6.wmf" ContentType="image/x-wmf"/>
  <Override PartName="/ppt/media/image393.wmf" ContentType="image/x-wmf"/>
  <Override PartName="/ppt/media/image252.wmf" ContentType="image/x-wmf"/>
  <Override PartName="/ppt/media/image251.wmf" ContentType="image/x-wmf"/>
  <Override PartName="/ppt/media/image90.jpeg" ContentType="image/jpeg"/>
  <Override PartName="/ppt/media/image250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6.wmf" ContentType="image/x-wmf"/>
  <Override PartName="/ppt/media/image245.wmf" ContentType="image/x-wmf"/>
  <Override PartName="/ppt/media/image243.wmf" ContentType="image/x-wmf"/>
  <Override PartName="/ppt/media/image380.wmf" ContentType="image/x-wmf"/>
  <Override PartName="/ppt/media/image241.wmf" ContentType="image/x-wmf"/>
  <Override PartName="/ppt/media/image239.jpeg" ContentType="image/jpeg"/>
  <Override PartName="/ppt/media/image232.wmf" ContentType="image/x-wmf"/>
  <Override PartName="/ppt/media/image238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jpeg" ContentType="image/jpeg"/>
  <Override PartName="/ppt/media/image309.jpeg" ContentType="image/jpeg"/>
  <Override PartName="/ppt/media/image229.wmf" ContentType="image/x-wmf"/>
  <Override PartName="/ppt/media/image109.jpeg" ContentType="image/jpeg"/>
  <Override PartName="/ppt/media/image101.wmf" ContentType="image/x-wmf"/>
  <Override PartName="/ppt/media/image224.wmf" ContentType="image/x-wmf"/>
  <Override PartName="/ppt/media/image222.jpeg" ContentType="image/jpeg"/>
  <Override PartName="/ppt/media/image221.wmf" ContentType="image/x-wmf"/>
  <Override PartName="/ppt/media/image220.wmf" ContentType="image/x-wmf"/>
  <Override PartName="/ppt/media/image155.jpeg" ContentType="image/jpeg"/>
  <Override PartName="/ppt/media/image219.wmf" ContentType="image/x-wmf"/>
  <Override PartName="/ppt/media/image218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4.wmf" ContentType="image/x-wmf"/>
  <Override PartName="/ppt/media/image319.jpeg" ContentType="image/jpeg"/>
  <Override PartName="/ppt/media/image203.wmf" ContentType="image/x-wmf"/>
  <Override PartName="/ppt/media/image123.jpeg" ContentType="image/jpeg"/>
  <Override PartName="/ppt/media/image202.wmf" ContentType="image/x-wmf"/>
  <Override PartName="/ppt/media/image236.jpeg" ContentType="image/jpeg"/>
  <Override PartName="/ppt/media/image201.wmf" ContentType="image/x-wmf"/>
  <Override PartName="/ppt/media/image119.jpeg" ContentType="image/jpeg"/>
  <Override PartName="/ppt/media/image255.wmf" ContentType="image/x-wmf"/>
  <Override PartName="/ppt/media/image392.wmf" ContentType="image/x-wmf"/>
  <Override PartName="/ppt/media/image200.jpeg" ContentType="image/jpeg"/>
  <Override PartName="/ppt/media/image198.wmf" ContentType="image/x-wmf"/>
  <Override PartName="/ppt/media/image358.jpeg" ContentType="image/jpeg"/>
  <Override PartName="/ppt/media/image191.wmf" ContentType="image/x-wmf"/>
  <Override PartName="/ppt/media/image84.jpeg" ContentType="image/jpeg"/>
  <Override PartName="/ppt/media/image357.wmf" ContentType="image/x-wmf"/>
  <Override PartName="/ppt/media/image189.wmf" ContentType="image/x-wmf"/>
  <Override PartName="/ppt/media/image244.jpeg" ContentType="image/jpeg"/>
  <Override PartName="/ppt/media/image187.jpeg" ContentType="image/jpeg"/>
  <Override PartName="/ppt/media/image181.jpeg" ContentType="image/jpeg"/>
  <Override PartName="/ppt/media/image180.jpeg" ContentType="image/jpeg"/>
  <Override PartName="/ppt/media/image179.wmf" ContentType="image/x-wmf"/>
  <Override PartName="/ppt/media/image178.wmf" ContentType="image/x-wmf"/>
  <Override PartName="/ppt/media/image176.png" ContentType="image/png"/>
  <Override PartName="/ppt/media/image182.wmf" ContentType="image/x-wmf"/>
  <Override PartName="/ppt/media/image172.png" ContentType="image/png"/>
  <Override PartName="/ppt/media/image18.wmf" ContentType="image/x-wmf"/>
  <Override PartName="/ppt/media/image344.wmf" ContentType="image/x-wmf"/>
  <Override PartName="/ppt/media/image171.wmf" ContentType="image/x-wmf"/>
  <Override PartName="/ppt/media/image82.jpeg" ContentType="image/jpeg"/>
  <Override PartName="/ppt/media/image299.wmf" ContentType="image/x-wmf"/>
  <Override PartName="/ppt/media/image169.wmf" ContentType="image/x-wmf"/>
  <Override PartName="/ppt/media/image228.wmf" ContentType="image/x-wmf"/>
  <Override PartName="/ppt/media/image168.png" ContentType="image/png"/>
  <Override PartName="/ppt/media/image174.wmf" ContentType="image/x-wmf"/>
  <Override PartName="/ppt/media/image96.jpeg" ContentType="image/jpeg"/>
  <Override PartName="/ppt/media/image166.wmf" ContentType="image/x-wmf"/>
  <Override PartName="/ppt/media/image2.jpeg" ContentType="image/jpeg"/>
  <Override PartName="/ppt/media/image165.jpeg" ContentType="image/jpeg"/>
  <Override PartName="/ppt/media/image164.jpeg" ContentType="image/jpeg"/>
  <Override PartName="/ppt/media/image161.wmf" ContentType="image/x-wmf"/>
  <Override PartName="/ppt/media/image81.jpeg" ContentType="image/jpeg"/>
  <Override PartName="/ppt/media/image327.wmf" ContentType="image/x-wmf"/>
  <Override PartName="/ppt/media/image159.wmf" ContentType="image/x-wmf"/>
  <Override PartName="/ppt/media/image158.wmf" ContentType="image/x-wmf"/>
  <Override PartName="/ppt/media/image197.jpeg" ContentType="image/jpeg"/>
  <Override PartName="/ppt/media/image383.jpeg" ContentType="image/jpeg"/>
  <Override PartName="/ppt/media/image156.wmf" ContentType="image/x-wmf"/>
  <Override PartName="/ppt/media/image1.jpeg" ContentType="image/jpeg"/>
  <Override PartName="/ppt/media/image154.jpeg" ContentType="image/jpeg"/>
  <Override PartName="/ppt/media/image149.wmf" ContentType="image/x-wmf"/>
  <Override PartName="/ppt/media/image240.jpeg" ContentType="image/jpeg"/>
  <Override PartName="/ppt/media/image148.wmf" ContentType="image/x-wmf"/>
  <Override PartName="/ppt/media/image206.wmf" ContentType="image/x-wmf"/>
  <Override PartName="/ppt/media/image146.png" ContentType="image/png"/>
  <Override PartName="/ppt/media/image152.wmf" ContentType="image/x-wmf"/>
  <Override PartName="/ppt/media/image318.wmf" ContentType="image/x-wmf"/>
  <Override PartName="/ppt/media/image205.wmf" ContentType="image/x-wmf"/>
  <Override PartName="/ppt/media/image145.png" ContentType="image/png"/>
  <Override PartName="/ppt/media/image151.wmf" ContentType="image/x-wmf"/>
  <Override PartName="/ppt/media/image80.jpeg" ContentType="image/jpeg"/>
  <Override PartName="/ppt/media/image317.wmf" ContentType="image/x-wmf"/>
  <Override PartName="/ppt/media/image144.wmf" ContentType="image/x-wmf"/>
  <Override PartName="/ppt/media/image93.jpeg" ContentType="image/jpeg"/>
  <Override PartName="/ppt/media/image139.wmf" ContentType="image/x-wmf"/>
  <Override PartName="/ppt/media/image138.wmf" ContentType="image/x-wmf"/>
  <Override PartName="/ppt/media/image28.jpeg" ContentType="image/jpeg"/>
  <Override PartName="/ppt/media/image136.jpeg" ContentType="image/jpeg"/>
  <Override PartName="/ppt/media/image141.wmf" ContentType="image/x-wmf"/>
  <Override PartName="/ppt/media/image307.wmf" ContentType="image/x-wmf"/>
  <Override PartName="/ppt/media/image135.jpeg" ContentType="image/jpeg"/>
  <Override PartName="/ppt/media/image134.jpeg" ContentType="image/jpeg"/>
  <Override PartName="/ppt/media/image131.wmf" ContentType="image/x-wmf"/>
  <Override PartName="/ppt/media/image259.wmf" ContentType="image/x-wmf"/>
  <Override PartName="/ppt/media/image129.wmf" ContentType="image/x-wmf"/>
  <Override PartName="/ppt/media/image59.jpeg" ContentType="image/jpeg"/>
  <Override PartName="/ppt/media/image42.jpeg" ContentType="image/jpeg"/>
  <Override PartName="/ppt/media/image225.jpeg" ContentType="image/jpeg"/>
  <Override PartName="/ppt/media/image163.wmf" ContentType="image/x-wmf"/>
  <Override PartName="/ppt/media/image329.wmf" ContentType="image/x-wmf"/>
  <Override PartName="/ppt/media/image55.jpeg" ContentType="image/jpeg"/>
  <Override PartName="/ppt/media/image105.wmf" ContentType="image/x-wmf"/>
  <Override PartName="/ppt/media/image153.wmf" ContentType="image/x-wmf"/>
  <Override PartName="/ppt/media/image54.jpeg" ContentType="image/jpeg"/>
  <Override PartName="/ppt/media/image223.jpeg" ContentType="image/jpeg"/>
  <Override PartName="/ppt/media/image143.wmf" ContentType="image/x-wmf"/>
  <Override PartName="/ppt/media/image53.jpeg" ContentType="image/jpeg"/>
  <Override PartName="/ppt/media/image61.wmf" ContentType="image/x-wmf"/>
  <Override PartName="/ppt/media/image49.jpeg" ContentType="image/jpeg"/>
  <Override PartName="/ppt/media/image217.jpeg" ContentType="image/jpeg"/>
  <Override PartName="/ppt/media/image47.jpeg" ContentType="image/jpeg"/>
  <Override PartName="/ppt/media/image46.jpeg" ContentType="image/jpeg"/>
  <Override PartName="/ppt/media/image44.jpeg" ContentType="image/jpeg"/>
  <Override PartName="/ppt/media/image403.jpeg" ContentType="image/jpeg"/>
  <Override PartName="/ppt/media/image43.jpeg" ContentType="image/jpeg"/>
  <Override PartName="/ppt/media/image227.wmf" ContentType="image/x-wmf"/>
  <Override PartName="/ppt/media/image71.jpeg" ContentType="image/jpeg"/>
  <Override PartName="/ppt/media/image167.png" ContentType="image/png"/>
  <Override PartName="/ppt/media/image34.jpeg" ContentType="image/jpeg"/>
  <Override PartName="/ppt/media/image51.wmf" ContentType="image/x-wmf"/>
  <Override PartName="/ppt/media/image63.jpeg" ContentType="image/jpeg"/>
  <Override PartName="/ppt/media/image147.wmf" ContentType="image/x-wmf"/>
  <Override PartName="/ppt/media/image177.wmf" ContentType="image/x-wmf"/>
  <Override PartName="/ppt/media/image66.jpeg" ContentType="image/jpeg"/>
  <Override PartName="/ppt/media/image9.jpeg" ContentType="image/jpeg"/>
  <Override PartName="/ppt/media/image279.jpeg" ContentType="image/jpeg"/>
  <Override PartName="/ppt/media/image173.jpeg" ContentType="image/jpeg"/>
  <Override PartName="/ppt/media/image400.wmf" ContentType="image/x-wmf"/>
  <Override PartName="/ppt/media/image77.jpeg" ContentType="image/jpeg"/>
  <Override PartName="/ppt/media/image325.wmf" ContentType="image/x-wmf"/>
  <Override PartName="/ppt/media/image132.wmf" ContentType="image/x-wmf"/>
  <Override PartName="/ppt/media/image38.jpeg" ContentType="image/jpeg"/>
  <Override PartName="/ppt/media/image379.wmf" ContentType="image/x-wmf"/>
  <Override PartName="/ppt/media/image192.wmf" ContentType="image/x-wmf"/>
  <Override PartName="/ppt/media/image374.jpeg" ContentType="image/jpeg"/>
  <Override PartName="/ppt/media/image114.wmf" ContentType="image/x-wmf"/>
  <Override PartName="/ppt/media/image99.jpeg" ContentType="image/jpeg"/>
  <Override PartName="/ppt/media/image269.jpeg" ContentType="image/jpeg"/>
  <Override PartName="/ppt/media/image133.jpeg" ContentType="image/jpeg"/>
  <Override PartName="/ppt/media/image122.jpeg" ContentType="image/jpeg"/>
  <Override PartName="/ppt/media/image260.wmf" ContentType="image/x-wmf"/>
  <Override PartName="/ppt/media/image262.wmf" ContentType="image/x-wmf"/>
  <Override PartName="/ppt/media/image300.wmf" ContentType="image/x-wmf"/>
  <Override PartName="/ppt/media/image398.jpeg" ContentType="image/jpeg"/>
  <Override PartName="/ppt/media/image113.jpeg" ContentType="image/jpeg"/>
  <Override PartName="/ppt/media/image19.jpeg" ContentType="image/jpeg"/>
  <Override PartName="/ppt/media/image14.wmf" ContentType="image/x-wmf"/>
  <Override PartName="/ppt/media/image340.wmf" ContentType="image/x-wmf"/>
  <Override PartName="/ppt/media/image271.wmf" ContentType="image/x-wmf"/>
  <Override PartName="/ppt/media/image92.jpeg" ContentType="image/jpeg"/>
  <Override PartName="/ppt/media/image94.jpeg" ContentType="image/jpeg"/>
  <Override PartName="/ppt/media/image60.wmf" ContentType="image/x-wmf"/>
  <Override PartName="/ppt/media/image254.jpeg" ContentType="image/jpeg"/>
  <Override PartName="/ppt/media/image270.jpeg" ContentType="image/jpeg"/>
  <Override PartName="/ppt/media/image263.wmf" ContentType="image/x-wmf"/>
  <Override PartName="/ppt/media/image301.wmf" ContentType="image/x-wmf"/>
  <Override PartName="/ppt/media/image272.wmf" ContentType="image/x-wmf"/>
  <Override PartName="/ppt/media/image310.wmf" ContentType="image/x-wmf"/>
  <Override PartName="/ppt/media/image264.wmf" ContentType="image/x-wmf"/>
  <Override PartName="/ppt/media/image302.wmf" ContentType="image/x-wmf"/>
  <Override PartName="/ppt/media/image95.jpeg" ContentType="image/jpeg"/>
  <Override PartName="/ppt/media/image265.wmf" ContentType="image/x-wmf"/>
  <Override PartName="/ppt/media/image303.wmf" ContentType="image/x-wmf"/>
  <Override PartName="/ppt/media/image371.wmf" ContentType="image/x-wmf"/>
  <Override PartName="/ppt/media/image266.wmf" ContentType="image/x-wmf"/>
  <Override PartName="/ppt/media/image304.wmf" ContentType="image/x-wmf"/>
  <Override PartName="/ppt/media/image372.wmf" ContentType="image/x-wmf"/>
  <Override PartName="/ppt/media/image106.wmf" ContentType="image/x-wmf"/>
  <Override PartName="/ppt/media/image314.wmf" ContentType="image/x-wmf"/>
  <Override PartName="/ppt/media/image276.wmf" ContentType="image/x-wmf"/>
  <Override PartName="/ppt/media/image70.jpeg" ContentType="image/jpeg"/>
  <Override PartName="/ppt/media/image275.wmf" ContentType="image/x-wmf"/>
  <Override PartName="/ppt/media/image313.wmf" ContentType="image/x-wmf"/>
  <Override PartName="/ppt/media/image274.wmf" ContentType="image/x-wmf"/>
  <Override PartName="/ppt/media/image312.wmf" ContentType="image/x-wmf"/>
  <Override PartName="/ppt/media/image283.wmf" ContentType="image/x-wmf"/>
  <Override PartName="/ppt/media/image116.wmf" ContentType="image/x-wmf"/>
  <Override PartName="/ppt/media/image366.wmf" ContentType="image/x-wmf"/>
  <Override PartName="/ppt/media/image226.jpeg" ContentType="image/jpeg"/>
  <Override PartName="/ppt/media/image281.jpeg" ContentType="image/jpeg"/>
  <Override PartName="/ppt/media/image298.jpeg" ContentType="image/jpeg"/>
  <Override PartName="/ppt/media/image369.wmf" ContentType="image/x-wmf"/>
  <Override PartName="/ppt/media/image108.wmf" ContentType="image/x-wmf"/>
  <Override PartName="/ppt/media/image199.jpeg" ContentType="image/jpeg"/>
  <Override PartName="/ppt/media/image104.jpeg" ContentType="image/jpeg"/>
  <Override PartName="/ppt/media/image343.wmf" ContentType="image/x-wmf"/>
  <Override PartName="/ppt/media/image17.wmf" ContentType="image/x-wmf"/>
  <Override PartName="/ppt/media/image381.wmf" ContentType="image/x-wmf"/>
  <Override PartName="/ppt/media/image258.jpeg" ContentType="image/jpeg"/>
  <Override PartName="/ppt/media/image32.wmf" ContentType="image/x-wmf"/>
  <Override PartName="/ppt/media/image88.jpeg" ContentType="image/jpeg"/>
  <Override PartName="/ppt/media/image289.jpeg" ContentType="image/jpeg"/>
  <Override PartName="/ppt/media/image3.jpeg" ContentType="image/jpeg"/>
  <Override PartName="/ppt/media/image117.wmf" ContentType="image/x-wmf"/>
  <Override PartName="/ppt/media/image185.wmf" ContentType="image/x-wmf"/>
  <Override PartName="/ppt/media/image390.wmf" ContentType="image/x-wmf"/>
  <Override PartName="/ppt/media/image362.wmf" ContentType="image/x-wmf"/>
  <Override PartName="/ppt/media/image382.jpeg" ContentType="image/jpeg"/>
  <Override PartName="/ppt/media/image375.jpeg" ContentType="image/jpeg"/>
  <Override PartName="/ppt/media/image368.wmf" ContentType="image/x-wmf"/>
  <Override PartName="/ppt/media/image107.wmf" ContentType="image/x-wmf"/>
  <Override PartName="/ppt/media/image175.wmf" ContentType="image/x-wmf"/>
  <Override PartName="/ppt/media/image391.wmf" ContentType="image/x-wmf"/>
  <Override PartName="/ppt/media/image405.png" ContentType="image/png"/>
  <Override PartName="/ppt/media/image378.wmf" ContentType="image/x-wmf"/>
  <Override PartName="/ppt/media/image376.jpeg" ContentType="image/jpeg"/>
  <Override PartName="/ppt/media/image401.wmf" ContentType="image/x-wmf"/>
  <Override PartName="/ppt/media/image399.wmf" ContentType="image/x-wmf"/>
  <Override PartName="/ppt/media/image364.wmf" ContentType="image/x-wmf"/>
  <Override PartName="/ppt/media/image388.wmf" ContentType="image/x-wmf"/>
  <Override PartName="/ppt/media/image24.jpeg" ContentType="image/jpeg"/>
  <Override PartName="/ppt/media/image363.wmf" ContentType="image/x-wmf"/>
  <Override PartName="/ppt/media/image387.wmf" ContentType="image/x-wmf"/>
  <Override PartName="/ppt/media/image286.wmf" ContentType="image/x-wmf"/>
  <Override PartName="/ppt/media/image324.wmf" ContentType="image/x-wmf"/>
  <Override PartName="/ppt/media/image402.wmf" ContentType="image/x-wmf"/>
  <Override PartName="/ppt/media/image320.jpeg" ContentType="image/jpeg"/>
  <Override PartName="/ppt/media/image396.jpeg" ContentType="image/jpeg"/>
  <Override PartName="/ppt/media/image13.jpeg" ContentType="image/jpeg"/>
  <Override PartName="/ppt/media/image395.jpeg" ContentType="image/jpeg"/>
  <Override PartName="/ppt/media/image12.jpeg" ContentType="image/jpeg"/>
  <Override PartName="/ppt/media/image365.wmf" ContentType="image/x-wmf"/>
  <Override PartName="/ppt/media/image112.jpeg" ContentType="image/jpeg"/>
  <Override PartName="/ppt/media/image384.jpeg" ContentType="image/jpeg"/>
  <Override PartName="/ppt/media/image111.jpeg" ContentType="image/jpeg"/>
  <Override PartName="/ppt/media/image361.wmf" ContentType="image/x-wmf"/>
  <Override PartName="/ppt/media/image288.jpeg" ContentType="image/jpeg"/>
  <Override PartName="/ppt/media/image354.wmf" ContentType="image/x-wmf"/>
  <Override PartName="/ppt/media/image353.wmf" ContentType="image/x-wmf"/>
  <Override PartName="/ppt/media/image273.wmf" ContentType="image/x-wmf"/>
  <Override PartName="/ppt/media/image311.wmf" ContentType="image/x-wmf"/>
  <Override PartName="/ppt/media/image282.wmf" ContentType="image/x-wmf"/>
  <Override PartName="/ppt/media/image308.jpeg" ContentType="image/jpeg"/>
  <Override PartName="/ppt/media/image124.wmf" ContentType="image/x-wmf"/>
  <Override PartName="/ppt/media/image389.wmf" ContentType="image/x-wmf"/>
  <Override PartName="/ppt/media/image352.wmf" ContentType="image/x-wmf"/>
  <Override PartName="/ppt/media/image350.wmf" ContentType="image/x-wmf"/>
  <Override PartName="/ppt/media/image162.wmf" ContentType="image/x-wmf"/>
  <Override PartName="/ppt/media/image328.wmf" ContentType="image/x-wmf"/>
  <Override PartName="/ppt/media/image339.jpeg" ContentType="image/jpeg"/>
  <Override PartName="/ppt/media/image338.jpeg" ContentType="image/jpeg"/>
  <Override PartName="/ppt/media/image373.wmf" ContentType="image/x-wmf"/>
  <Override PartName="/ppt/media/image267.wmf" ContentType="image/x-wmf"/>
  <Override PartName="/ppt/media/image75.jpeg" ContentType="image/jpeg"/>
  <Override PartName="/ppt/media/image305.wmf" ContentType="image/x-wmf"/>
  <Override PartName="/ppt/media/image337.jpeg" ContentType="image/jpeg"/>
  <Override PartName="/ppt/media/image293.wmf" ContentType="image/x-wmf"/>
  <Override PartName="/ppt/media/image334.wmf" ContentType="image/x-wmf"/>
  <Override PartName="/ppt/media/image291.wmf" ContentType="image/x-wmf"/>
  <Override PartName="/ppt/media/image295.wmf" ContentType="image/x-wmf"/>
  <Override PartName="/ppt/media/image333.wmf" ContentType="image/x-wmf"/>
  <Override PartName="/ppt/media/image110.jpeg" ContentType="image/jpeg"/>
  <Override PartName="/ppt/media/image348.jpeg" ContentType="image/jpeg"/>
  <Override PartName="/ppt/media/image331.jpeg" ContentType="image/jpeg"/>
  <Override PartName="/ppt/media/image397.jpeg" ContentType="image/jpeg"/>
  <Override PartName="/ppt/media/image321.jpeg" ContentType="image/jpeg"/>
  <Override PartName="/ppt/media/image100.jpeg" ContentType="image/jpeg"/>
  <Override PartName="/ppt/media/image280.jpeg" ContentType="image/jpeg"/>
  <Override PartName="/ppt/media/image37.jpeg" ContentType="image/jpeg"/>
  <Override PartName="/ppt/media/image74.jpeg" ContentType="image/jpeg"/>
  <Override PartName="/ppt/media/image394.wmf" ContentType="image/x-wmf"/>
  <Override PartName="/ppt/media/image257.wmf" ContentType="image/x-wmf"/>
  <Override PartName="/ppt/media/image297.jpeg" ContentType="image/jpeg"/>
  <Override PartName="/ppt/media/image296.jpeg" ContentType="image/jpeg"/>
  <Override PartName="/ppt/media/image290.jpeg" ContentType="image/jpeg"/>
  <Override PartName="/ppt/media/image346.wmf" ContentType="image/x-wmf"/>
  <Override PartName="/ppt/media/image261.wmf" ContentType="image/x-wmf"/>
  <Override PartName="/ppt/media/image91.jpeg" ContentType="image/jpeg"/>
  <Override PartName="/ppt/media/image285.wmf" ContentType="image/x-wmf"/>
  <Override PartName="/ppt/media/image323.wmf" ContentType="image/x-wmf"/>
  <Override PartName="/ppt/media/image130.wmf" ContentType="image/x-wmf"/>
  <Override PartName="/ppt/media/image332.jpeg" ContentType="image/jpeg"/>
  <Override PartName="/ppt/media/image294.wmf" ContentType="image/x-wmf"/>
  <Override PartName="/ppt/media/image284.wmf" ContentType="image/x-wmf"/>
  <Override PartName="/ppt/media/image322.wmf" ContentType="image/x-wmf"/>
  <Override PartName="/ppt/media/image184.wmf" ContentType="image/x-wmf"/>
  <Override PartName="/ppt/media/image97.jpeg" ContentType="image/jpeg"/>
  <Override PartName="/ppt/media/image330.wmf" ContentType="image/x-wmf"/>
  <Override PartName="/ppt/media/image292.wmf" ContentType="image/x-wmf"/>
  <Override PartName="/ppt/media/image287.jpeg" ContentType="image/jpeg"/>
  <Override PartName="/ppt/media/image190.wmf" ContentType="image/x-wmf"/>
  <Override PartName="/ppt/media/image356.wmf" ContentType="image/x-wmf"/>
  <Override PartName="/ppt/media/image315.wmf" ContentType="image/x-wmf"/>
  <Override PartName="/ppt/media/image76.jpeg" ContentType="image/jpeg"/>
  <Override PartName="/ppt/media/image277.wmf" ContentType="image/x-wmf"/>
  <Override PartName="/ppt/media/image170.wmf" ContentType="image/x-wmf"/>
  <Override PartName="/ppt/media/image336.wmf" ContentType="image/x-wmf"/>
  <Override PartName="/ppt/media/image160.wmf" ContentType="image/x-wmf"/>
  <Override PartName="/ppt/media/image326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268.wmf" ContentType="image/x-wmf"/>
  <Override PartName="/ppt/media/image140.wmf" ContentType="image/x-wmf"/>
  <Override PartName="/ppt/media/image306.wmf" ContentType="image/x-wmf"/>
  <Override PartName="/ppt/media/image68.jpeg" ContentType="image/jpeg"/>
  <Override PartName="/ppt/media/image25.wmf" ContentType="image/x-wmf"/>
  <Override PartName="/ppt/media/image351.wmf" ContentType="image/x-wmf"/>
  <Override PartName="/ppt/media/image69.png" ContentType="image/png"/>
  <Override PartName="/ppt/media/image67.jpeg" ContentType="image/jpeg"/>
  <Override PartName="/ppt/media/image341.wmf" ContentType="image/x-wmf"/>
  <Override PartName="/ppt/media/image15.wmf" ContentType="image/x-wmf"/>
  <Override PartName="/ppt/media/image65.jpeg" ContentType="image/jpeg"/>
  <Override PartName="/ppt/media/image216.png" ContentType="image/png"/>
  <Override PartName="/ppt/media/image235.jpeg" ContentType="image/jpeg"/>
  <Override PartName="/ppt/media/image345.wmf" ContentType="image/x-wmf"/>
  <Override PartName="/ppt/media/image79.jpeg" ContentType="image/jpeg"/>
  <Override PartName="/ppt/media/image78.jpeg" ContentType="image/jpeg"/>
  <Override PartName="/ppt/media/image335.wmf" ContentType="image/x-wmf"/>
  <Override PartName="/ppt/media/image33.wmf" ContentType="image/x-wmf"/>
  <Override PartName="/ppt/media/image370.wmf" ContentType="image/x-wmf"/>
  <Override PartName="/ppt/media/image21.jpeg" ContentType="image/jpeg"/>
  <Override PartName="/ppt/media/image360.wmf" ContentType="image/x-wmf"/>
  <Override PartName="/ppt/media/image20.jpeg" ContentType="image/jpeg"/>
  <Override PartName="/ppt/media/image355.wmf" ContentType="image/x-wmf"/>
  <Override PartName="/ppt/media/image29.wmf" ContentType="image/x-wmf"/>
  <Override PartName="/ppt/media/image23.jpeg" ContentType="image/jpeg"/>
  <Override PartName="/ppt/media/image342.wmf" ContentType="image/x-wmf"/>
  <Override PartName="/ppt/media/image16.wmf" ContentType="image/x-wmf"/>
  <Override PartName="/ppt/media/image41.jpeg" ContentType="image/jpeg"/>
  <Override PartName="/ppt/media/image404.jpeg" ContentType="image/jpeg"/>
  <Override PartName="/ppt/media/image45.jpeg" ContentType="image/jpeg"/>
  <Override PartName="/ppt/media/image30.wmf" ContentType="image/x-wmf"/>
  <Override PartName="/ppt/media/image22.jpeg" ContentType="image/jpeg"/>
  <Override PartName="/ppt/media/image142.wmf" ContentType="image/x-wmf"/>
  <Override PartName="/ppt/media/image89.jpeg" ContentType="image/jpeg"/>
  <Override PartName="/ppt/media/image242.wmf" ContentType="image/x-wmf"/>
  <Override PartName="/ppt/media/image35.jpeg" ContentType="image/jpeg"/>
  <Override PartName="/ppt/media/image72.jpeg" ContentType="image/jpeg"/>
  <Override PartName="/ppt/media/image237.wmf" ContentType="image/x-wmf"/>
  <Override PartName="/ppt/media/image102.jpeg" ContentType="image/jpeg"/>
  <Override PartName="/ppt/media/image48.jpeg" ContentType="image/jpeg"/>
  <Override PartName="/ppt/media/image36.jpeg" ContentType="image/jpeg"/>
  <Override PartName="/ppt/media/image73.jpeg" ContentType="image/jpeg"/>
  <Override PartName="/ppt/media/image247.wmf" ContentType="image/x-wmf"/>
  <Override PartName="/ppt/media/image103.jpeg" ContentType="image/jpeg"/>
  <Override PartName="/ppt/media/image347.wmf" ContentType="image/x-wmf"/>
  <Override PartName="/ppt/media/image83.jpeg" ContentType="image/jpeg"/>
  <Override PartName="/ppt/media/image50.wmf" ContentType="image/x-wmf"/>
  <Override PartName="/ppt/media/image253.jpeg" ContentType="image/jpeg"/>
  <Override PartName="/ppt/media/image52.wmf" ContentType="image/x-wmf"/>
  <Override PartName="/ppt/media/image186.wmf" ContentType="image/x-wmf"/>
  <Override PartName="/ppt/media/image4.jpeg" ContentType="image/jpeg"/>
  <Override PartName="/ppt/media/image127.wmf" ContentType="image/x-wmf"/>
  <Override PartName="/ppt/media/image195.wmf" ContentType="image/x-wmf"/>
  <Override PartName="/ppt/media/image367.wmf" ContentType="image/x-wmf"/>
  <Override PartName="/ppt/media/image85.jpeg" ContentType="image/jpeg"/>
  <Override PartName="/ppt/media/image118.wmf" ContentType="image/x-wmf"/>
  <Override PartName="/ppt/media/image26.jpeg" ContentType="image/jpeg"/>
  <Override PartName="/ppt/media/image188.jpeg" ContentType="image/jpeg"/>
  <Override PartName="/ppt/media/image56.jpeg" ContentType="image/jpeg"/>
  <Override PartName="/ppt/media/image115.wmf" ContentType="image/x-wmf"/>
  <Override PartName="/ppt/media/image183.wmf" ContentType="image/x-wmf"/>
  <Override PartName="/ppt/media/image349.wmf" ContentType="image/x-wmf"/>
  <Override PartName="/ppt/media/image62.jpeg" ContentType="image/jpeg"/>
  <Override PartName="/ppt/media/image137.wmf" ContentType="image/x-wmf"/>
  <Override PartName="/ppt/media/image57.jpeg" ContentType="image/jpeg"/>
  <Override PartName="/ppt/media/image125.wmf" ContentType="image/x-wmf"/>
  <Override PartName="/ppt/media/image58.jpeg" ContentType="image/jpeg"/>
  <Override PartName="/ppt/media/image193.wmf" ContentType="image/x-wmf"/>
  <Override PartName="/ppt/media/image359.wmf" ContentType="image/x-wmf"/>
  <Override PartName="/ppt/media/image6.jpeg" ContentType="image/jpeg"/>
  <Override PartName="/ppt/media/image7.jpeg" ContentType="image/jpeg"/>
  <Override PartName="/ppt/media/image157.wmf" ContentType="image/x-wmf"/>
  <Override PartName="/ppt/media/image64.jpeg" ContentType="image/jpeg"/>
  <Override PartName="/ppt/media/image31.wmf" ContentType="image/x-wmf"/>
  <Override PartName="/ppt/media/image126.wmf" ContentType="image/x-wmf"/>
  <Override PartName="/ppt/media/image86.jpeg" ContentType="image/jpeg"/>
  <Override PartName="/ppt/media/image377.jpeg" ContentType="image/jpeg"/>
  <Override PartName="/ppt/media/image10.jpeg" ContentType="image/jpeg"/>
  <Override PartName="/ppt/media/image120.wmf" ContentType="image/x-wmf"/>
  <Override PartName="/ppt/media/image248.wmf" ContentType="image/x-wmf"/>
  <Override PartName="/ppt/media/image385.wmf" ContentType="image/x-wmf"/>
  <Override PartName="/ppt/media/image8.jpeg" ContentType="image/jpeg"/>
  <Override PartName="/ppt/media/image194.wmf" ContentType="image/x-wmf"/>
  <Override PartName="/ppt/media/image98.jpeg" ContentType="image/jpeg"/>
  <Override PartName="/ppt/media/image39.jpeg" ContentType="image/jpeg"/>
  <Override PartName="/ppt/media/image27.jpeg" ContentType="image/jpeg"/>
  <Override PartName="/ppt/media/image128.wmf" ContentType="image/x-wmf"/>
  <Override PartName="/ppt/media/image5.jpeg" ContentType="image/jpeg"/>
  <Override PartName="/ppt/media/image196.wmf" ContentType="image/x-wmf"/>
  <Override PartName="/ppt/media/image40.jpeg" ContentType="image/jpeg"/>
  <Override PartName="/ppt/media/image210.jpeg" ContentType="image/jpeg"/>
  <Override PartName="/ppt/media/image8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217-04B4-468F-882B-EF31C10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294-9385-46B6-B3AA-8367EAB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AFA-771A-4F90-B89F-874AF03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9EC-8178-4460-9C41-21C82867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C92-98EE-48E4-819F-9D8EED4C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075-26E6-4C3D-AB7D-4DBC810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D1E-31D4-45B6-BB5F-AE8B34D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ECB-2D1E-4C76-9E59-880B1F8F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97F-82D8-47C5-829C-630E841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ACC-E7A1-4EA6-A8C8-98B08A0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B9C-C638-4633-9BB9-24CD63C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509-5B5D-499E-B938-0BA1ECE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F428-E851-44AF-8233-D34A89BFFF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59.jpe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" Target="slide41.xml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image" Target="../media/image94.jpeg"/><Relationship Id="rId10" Type="http://schemas.openxmlformats.org/officeDocument/2006/relationships/image" Target="../media/image95.jpeg"/><Relationship Id="rId11" Type="http://schemas.openxmlformats.org/officeDocument/2006/relationships/image" Target="../media/image96.jpeg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1.wmf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image" Target="../media/image109.jpeg"/><Relationship Id="rId11" Type="http://schemas.openxmlformats.org/officeDocument/2006/relationships/image" Target="../media/image110.jpeg"/><Relationship Id="rId12" Type="http://schemas.openxmlformats.org/officeDocument/2006/relationships/image" Target="../media/image111.jpeg"/><Relationship Id="rId13" Type="http://schemas.openxmlformats.org/officeDocument/2006/relationships/image" Target="../media/image112.jpeg"/><Relationship Id="rId14" Type="http://schemas.openxmlformats.org/officeDocument/2006/relationships/image" Target="../media/image113.jpeg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8.wmf"/><Relationship Id="rId12" Type="http://schemas.openxmlformats.org/officeDocument/2006/relationships/image" Target="../media/image119.jpeg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1.wmf"/><Relationship Id="rId6" Type="http://schemas.openxmlformats.org/officeDocument/2006/relationships/image" Target="../media/image119.jpeg"/><Relationship Id="rId7" Type="http://schemas.openxmlformats.org/officeDocument/2006/relationships/image" Target="../media/image122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3.jpeg"/><Relationship Id="rId3" Type="http://schemas.openxmlformats.org/officeDocument/2006/relationships/slide" Target="slide16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6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2.wmf"/><Relationship Id="rId14" Type="http://schemas.openxmlformats.org/officeDocument/2006/relationships/image" Target="../media/image133.jpeg"/><Relationship Id="rId15" Type="http://schemas.openxmlformats.org/officeDocument/2006/relationships/image" Target="../media/image134.jpeg"/><Relationship Id="rId16" Type="http://schemas.openxmlformats.org/officeDocument/2006/relationships/image" Target="../media/image135.jpeg"/><Relationship Id="rId17" Type="http://schemas.openxmlformats.org/officeDocument/2006/relationships/image" Target="../media/image136.jpe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5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6.png"/><Relationship Id="rId2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3.wmf"/><Relationship Id="rId22" Type="http://schemas.openxmlformats.org/officeDocument/2006/relationships/image" Target="../media/image154.jpeg"/><Relationship Id="rId23" Type="http://schemas.openxmlformats.org/officeDocument/2006/relationships/image" Target="../media/image155.jpeg"/><Relationship Id="rId2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63.wmf"/><Relationship Id="rId24" Type="http://schemas.openxmlformats.org/officeDocument/2006/relationships/image" Target="../media/image164.jpeg"/><Relationship Id="rId25" Type="http://schemas.openxmlformats.org/officeDocument/2006/relationships/image" Target="../media/image165.jpeg"/><Relationship Id="rId2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0.wmf"/><Relationship Id="rId6" Type="http://schemas.openxmlformats.org/officeDocument/2006/relationships/slide" Target="slide22.xml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2.png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6.png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9.wmf"/><Relationship Id="rId8" Type="http://schemas.openxmlformats.org/officeDocument/2006/relationships/image" Target="../media/image180.jpeg"/><Relationship Id="rId9" Type="http://schemas.openxmlformats.org/officeDocument/2006/relationships/image" Target="../media/image181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2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83.wmf"/><Relationship Id="rId1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6.wmf"/><Relationship Id="rId8" Type="http://schemas.openxmlformats.org/officeDocument/2006/relationships/image" Target="../media/image187.jpeg"/><Relationship Id="rId9" Type="http://schemas.openxmlformats.org/officeDocument/2006/relationships/image" Target="../media/image188.jpeg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6.wmf"/><Relationship Id="rId18" Type="http://schemas.openxmlformats.org/officeDocument/2006/relationships/image" Target="../media/image197.jpeg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8.wmf"/><Relationship Id="rId4" Type="http://schemas.openxmlformats.org/officeDocument/2006/relationships/image" Target="../media/image199.jpe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08.wmf"/><Relationship Id="rId1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9.wmf"/><Relationship Id="rId4" Type="http://schemas.openxmlformats.org/officeDocument/2006/relationships/image" Target="../media/image210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5.wmf"/><Relationship Id="rId15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6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1.wmf"/><Relationship Id="rId4" Type="http://schemas.openxmlformats.org/officeDocument/2006/relationships/image" Target="../media/image222.jpeg"/><Relationship Id="rId5" Type="http://schemas.openxmlformats.org/officeDocument/2006/relationships/image" Target="../media/image223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4.wmf"/><Relationship Id="rId4" Type="http://schemas.openxmlformats.org/officeDocument/2006/relationships/image" Target="../media/image225.jpe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8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9.wmf"/><Relationship Id="rId4" Type="http://schemas.openxmlformats.org/officeDocument/2006/relationships/slide" Target="slide24.xml"/><Relationship Id="rId5" Type="http://schemas.openxmlformats.org/officeDocument/2006/relationships/image" Target="../media/image230.jpe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4.wmf"/><Relationship Id="rId10" Type="http://schemas.openxmlformats.org/officeDocument/2006/relationships/image" Target="../media/image235.jpeg"/><Relationship Id="rId11" Type="http://schemas.openxmlformats.org/officeDocument/2006/relationships/image" Target="../media/image236.jpeg"/><Relationship Id="rId1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8.wmf"/><Relationship Id="rId6" Type="http://schemas.openxmlformats.org/officeDocument/2006/relationships/image" Target="../media/image239.jpeg"/><Relationship Id="rId7" Type="http://schemas.openxmlformats.org/officeDocument/2006/relationships/image" Target="../media/image240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4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3.wmf"/><Relationship Id="rId4" Type="http://schemas.openxmlformats.org/officeDocument/2006/relationships/image" Target="../media/image244.jpe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2.wmf"/><Relationship Id="rId18" Type="http://schemas.openxmlformats.org/officeDocument/2006/relationships/image" Target="../media/image253.jpeg"/><Relationship Id="rId19" Type="http://schemas.openxmlformats.org/officeDocument/2006/relationships/image" Target="../media/image254.jpeg"/><Relationship Id="rId20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7.wmf"/><Relationship Id="rId8" Type="http://schemas.openxmlformats.org/officeDocument/2006/relationships/image" Target="../media/image258.jpe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6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8.wmf"/><Relationship Id="rId22" Type="http://schemas.openxmlformats.org/officeDocument/2006/relationships/image" Target="../media/image269.jpeg"/><Relationship Id="rId23" Type="http://schemas.openxmlformats.org/officeDocument/2006/relationships/image" Target="../media/image270.jpe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71.wmf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3.wmf"/><Relationship Id="rId6" Type="http://schemas.openxmlformats.org/officeDocument/2006/relationships/image" Target="../media/image270.jpeg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8.wmf"/><Relationship Id="rId12" Type="http://schemas.openxmlformats.org/officeDocument/2006/relationships/image" Target="../media/image279.jpeg"/><Relationship Id="rId13" Type="http://schemas.openxmlformats.org/officeDocument/2006/relationships/image" Target="../media/image280.jpeg"/><Relationship Id="rId14" Type="http://schemas.openxmlformats.org/officeDocument/2006/relationships/image" Target="../media/image281.jpe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2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83.wmf"/><Relationship Id="rId1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6.wmf"/><Relationship Id="rId8" Type="http://schemas.openxmlformats.org/officeDocument/2006/relationships/image" Target="../media/image287.jpeg"/><Relationship Id="rId9" Type="http://schemas.openxmlformats.org/officeDocument/2006/relationships/image" Target="../media/image288.jpeg"/><Relationship Id="rId10" Type="http://schemas.openxmlformats.org/officeDocument/2006/relationships/image" Target="../media/image289.jpeg"/><Relationship Id="rId11" Type="http://schemas.openxmlformats.org/officeDocument/2006/relationships/image" Target="../media/image290.jpeg"/><Relationship Id="rId1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5.wmf"/><Relationship Id="rId12" Type="http://schemas.openxmlformats.org/officeDocument/2006/relationships/image" Target="../media/image296.jpeg"/><Relationship Id="rId13" Type="http://schemas.openxmlformats.org/officeDocument/2006/relationships/image" Target="../media/image297.jpeg"/><Relationship Id="rId14" Type="http://schemas.openxmlformats.org/officeDocument/2006/relationships/image" Target="../media/image298.jpe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99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300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301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02.wmf"/><Relationship Id="rId2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7.wmf"/><Relationship Id="rId12" Type="http://schemas.openxmlformats.org/officeDocument/2006/relationships/image" Target="../media/image308.jpeg"/><Relationship Id="rId13" Type="http://schemas.openxmlformats.org/officeDocument/2006/relationships/image" Target="../media/image309.jpe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10.wmf"/><Relationship Id="rId16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18.wmf"/><Relationship Id="rId18" Type="http://schemas.openxmlformats.org/officeDocument/2006/relationships/image" Target="../media/image319.jpeg"/><Relationship Id="rId19" Type="http://schemas.openxmlformats.org/officeDocument/2006/relationships/image" Target="../media/image320.jpeg"/><Relationship Id="rId20" Type="http://schemas.openxmlformats.org/officeDocument/2006/relationships/image" Target="../media/image321.jpe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2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323.wmf"/><Relationship Id="rId2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30.wmf"/><Relationship Id="rId16" Type="http://schemas.openxmlformats.org/officeDocument/2006/relationships/image" Target="../media/image331.jpeg"/><Relationship Id="rId17" Type="http://schemas.openxmlformats.org/officeDocument/2006/relationships/image" Target="../media/image332.jpeg"/><Relationship Id="rId18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6.wmf"/><Relationship Id="rId10" Type="http://schemas.openxmlformats.org/officeDocument/2006/relationships/image" Target="../media/image337.jpeg"/><Relationship Id="rId11" Type="http://schemas.openxmlformats.org/officeDocument/2006/relationships/image" Target="../media/image338.jpeg"/><Relationship Id="rId1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4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4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4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4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7.wmf"/><Relationship Id="rId19" Type="http://schemas.openxmlformats.org/officeDocument/2006/relationships/image" Target="../media/image348.jpe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49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50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351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352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353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354.wmf"/><Relationship Id="rId3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7.wmf"/><Relationship Id="rId8" Type="http://schemas.openxmlformats.org/officeDocument/2006/relationships/image" Target="../media/image358.jpe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6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6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6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6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64.wmf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7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73.wmf"/><Relationship Id="rId20" Type="http://schemas.openxmlformats.org/officeDocument/2006/relationships/image" Target="../media/image374.jpeg"/><Relationship Id="rId21" Type="http://schemas.openxmlformats.org/officeDocument/2006/relationships/image" Target="../media/image375.jpeg"/><Relationship Id="rId22" Type="http://schemas.openxmlformats.org/officeDocument/2006/relationships/image" Target="../media/image376.jpeg"/><Relationship Id="rId23" Type="http://schemas.openxmlformats.org/officeDocument/2006/relationships/image" Target="../media/image377.jpeg"/><Relationship Id="rId2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1.wmf"/><Relationship Id="rId10" Type="http://schemas.openxmlformats.org/officeDocument/2006/relationships/image" Target="../media/image382.jpeg"/><Relationship Id="rId11" Type="http://schemas.openxmlformats.org/officeDocument/2006/relationships/image" Target="../media/image383.jpeg"/><Relationship Id="rId12" Type="http://schemas.openxmlformats.org/officeDocument/2006/relationships/image" Target="../media/image384.jpeg"/><Relationship Id="rId1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94.wmf"/><Relationship Id="rId22" Type="http://schemas.openxmlformats.org/officeDocument/2006/relationships/image" Target="../media/image395.jpeg"/><Relationship Id="rId23" Type="http://schemas.openxmlformats.org/officeDocument/2006/relationships/image" Target="../media/image396.jpeg"/><Relationship Id="rId24" Type="http://schemas.openxmlformats.org/officeDocument/2006/relationships/image" Target="../media/image397.jpeg"/><Relationship Id="rId25" Type="http://schemas.openxmlformats.org/officeDocument/2006/relationships/image" Target="../media/image398.jpeg"/><Relationship Id="rId2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2.wmf"/><Relationship Id="rId10" Type="http://schemas.openxmlformats.org/officeDocument/2006/relationships/image" Target="../media/image403.jpeg"/><Relationship Id="rId11" Type="http://schemas.openxmlformats.org/officeDocument/2006/relationships/image" Target="../media/image404.jpeg"/><Relationship Id="rId1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三章  平面任意力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0318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3192120" y="1523880"/>
            <a:ext cx="2599200" cy="1524240"/>
            <a:chOff x="3192120" y="1523880"/>
            <a:chExt cx="2599200" cy="15242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759120" y="1523880"/>
              <a:ext cx="20322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192120" y="2019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019920" y="1523880"/>
            <a:ext cx="2590560" cy="1524240"/>
            <a:chOff x="6019920" y="1523880"/>
            <a:chExt cx="2590560" cy="152424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6578640" y="1523880"/>
              <a:ext cx="2031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199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10720" y="3962520"/>
            <a:ext cx="2675880" cy="1523880"/>
            <a:chOff x="4410720" y="3962520"/>
            <a:chExt cx="2675880" cy="15238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5054760" y="3962520"/>
              <a:ext cx="2031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410720" y="447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18120" y="3962520"/>
            <a:ext cx="2647440" cy="1523880"/>
            <a:chOff x="1518120" y="3962520"/>
            <a:chExt cx="2647440" cy="1523880"/>
          </a:xfrm>
        </p:grpSpPr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2133720" y="3962520"/>
              <a:ext cx="2031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518120" y="44956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6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71920" y="83808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 平面任意力系的简化结果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50960" y="2565360"/>
            <a:ext cx="25401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411440" y="2540160"/>
            <a:ext cx="3132360" cy="2539800"/>
            <a:chOff x="4411440" y="2540160"/>
            <a:chExt cx="3132360" cy="253980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003640" y="2540160"/>
              <a:ext cx="254016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11440" y="3586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8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838080"/>
                <a:ext cx="128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07876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8078760" cy="252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85800" y="2895480"/>
            <a:ext cx="8077320" cy="252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0" y="914400"/>
                <a:ext cx="13208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886200" y="1066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21320" y="914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力作用线过简化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733920" y="5943600"/>
          <a:ext cx="352584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5943600"/>
                    <a:ext cx="35258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42416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力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76520" y="5029200"/>
                <a:ext cx="1008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3886200" y="5181480"/>
          <a:ext cx="1447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5181480"/>
                    <a:ext cx="1447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629400" y="5181480"/>
          <a:ext cx="1562040" cy="45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5181480"/>
                    <a:ext cx="1562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457200" y="2209680"/>
            <a:ext cx="8231040" cy="2652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457200" y="2209680"/>
            <a:ext cx="8231040" cy="2652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457200" y="2209680"/>
            <a:ext cx="8231040" cy="2652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457200" y="2209680"/>
            <a:ext cx="8229600" cy="265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62120" y="838080"/>
                <a:ext cx="128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838080"/>
                <a:ext cx="13208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886200" y="914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511960" y="861840"/>
            <a:ext cx="2532600" cy="1276560"/>
            <a:chOff x="5511960" y="861840"/>
            <a:chExt cx="2532600" cy="1276560"/>
          </a:xfrm>
        </p:grpSpPr>
        <p:sp>
          <p:nvSpPr>
            <p:cNvPr id="209" name=""/>
            <p:cNvSpPr/>
            <p:nvPr/>
          </p:nvSpPr>
          <p:spPr>
            <a:xfrm>
              <a:off x="5517000" y="861840"/>
              <a:ext cx="252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力，作用线距简化中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11960" y="9144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943600" y="1447920"/>
                  <a:ext cx="86364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1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2235240"/>
            <a:ext cx="7620120" cy="2539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85800" y="2235240"/>
            <a:ext cx="7620120" cy="2539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59560" y="5257800"/>
            <a:ext cx="223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若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，如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85800" y="2209680"/>
            <a:ext cx="7620120" cy="2540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85800" y="2209680"/>
            <a:ext cx="7620120" cy="25401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8080" y="762120"/>
                <a:ext cx="1289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438280" y="838080"/>
                <a:ext cx="13208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038480" y="914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7032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力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7360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简化中心的位置无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620120" cy="2539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914400" y="2590920"/>
            <a:ext cx="7620120" cy="2539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7620120" cy="2539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080" y="762120"/>
                <a:ext cx="1289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762120"/>
                <a:ext cx="13208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114800" y="914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98320" y="78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673600" y="1447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简化中心的位置无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41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2362320"/>
            <a:ext cx="65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任意力系平衡的充要条件是：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3048120"/>
            <a:ext cx="63244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系的主矢和对任意点的主矩都等于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14600" y="3809880"/>
          <a:ext cx="380988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809880"/>
                    <a:ext cx="3809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410120" y="380880"/>
            <a:ext cx="60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-2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任意力系的平衡条件和平衡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5181480"/>
                <a:ext cx="6096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rad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8380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84520" y="1523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平面任意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5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143000" y="3962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4343400"/>
            <a:ext cx="8305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任意力系平衡的解析条件是：所有各力在两个任选的坐标轴上的投影的代数和分别等于零，以及各力对于任意一点的矩的代数和也等于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76720" y="1523880"/>
          <a:ext cx="213048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523880"/>
                    <a:ext cx="2130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62120" y="609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任意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任意力系的平衡方程另两种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矩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200400" y="274320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200400" y="274320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3200400" y="2743200"/>
            <a:ext cx="5334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7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066680" y="1371600"/>
                <a:ext cx="18288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124080" y="19810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个取矩点连线，不得与投影轴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10552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矩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057400" y="1143000"/>
                <a:ext cx="220968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5257800" y="2286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取矩点，不得共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7760" y="623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面任意力系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540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6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平面平行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82760" y="9907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3403440" cy="255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62120" y="3962520"/>
                <a:ext cx="12189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24080" y="3962520"/>
                <a:ext cx="2895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62120" y="4724280"/>
                <a:ext cx="12189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048120" y="4648320"/>
                <a:ext cx="5105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38080" y="5334120"/>
                <a:ext cx="12193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048120" y="5334120"/>
                <a:ext cx="53337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01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未标题-1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32004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3886200" y="38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连线不得与各力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828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3809880" y="20574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力不得与投影轴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38080" y="1828800"/>
                <a:ext cx="1828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533520" y="762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平行力系的方程为两个，有两种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1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-3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系的平衡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定和超静定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701720" y="10666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283360" y="10666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762120" y="3276720"/>
            <a:ext cx="3809880" cy="1269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4724280" y="3276720"/>
            <a:ext cx="3810240" cy="1269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62120" y="4800600"/>
            <a:ext cx="3809880" cy="1523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4724280" y="4800600"/>
            <a:ext cx="381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2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590920" y="685800"/>
            <a:ext cx="3809880" cy="1523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3809880" cy="1523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4495680"/>
            <a:ext cx="3809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3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9640" y="685800"/>
            <a:ext cx="71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-4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简单桁架的内力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809880" cy="1843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8098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4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987720" y="1600200"/>
            <a:ext cx="155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桁架：一种由杆件彼此在两端用铰链连接而成的结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在受力后几何形状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点：桁架中杆件的铰链接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720720" y="101448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各杆件为直杆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杆轴线位于同一平面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85160" y="16765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杆件与杆件间均用光滑铰链连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2438280"/>
            <a:ext cx="75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载荷作用在节点上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位于桁架几何平面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49040" y="31161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各杆件自重不计或平均分布在节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50720" y="4572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桁架中每根杆件均为二力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40464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平面桁架的几点假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5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9144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99120" y="38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桁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092240" y="990720"/>
            <a:ext cx="6603840" cy="1523880"/>
            <a:chOff x="1092240" y="990720"/>
            <a:chExt cx="6603840" cy="152388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1092240" y="990720"/>
              <a:ext cx="31748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"/>
            <a:stretch/>
          </p:blipFill>
          <p:spPr>
            <a:xfrm>
              <a:off x="4521240" y="990720"/>
              <a:ext cx="3174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1092240" y="2666880"/>
            <a:ext cx="6603840" cy="1524240"/>
            <a:chOff x="1092240" y="2666880"/>
            <a:chExt cx="6603840" cy="1524240"/>
          </a:xfrm>
        </p:grpSpPr>
        <p:pic>
          <p:nvPicPr>
            <p:cNvPr id="362" name="" descr=""/>
            <p:cNvPicPr/>
            <p:nvPr/>
          </p:nvPicPr>
          <p:blipFill>
            <a:blip r:embed="rId4"/>
            <a:stretch/>
          </p:blipFill>
          <p:spPr>
            <a:xfrm>
              <a:off x="1092240" y="2666880"/>
              <a:ext cx="317484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5"/>
            <a:stretch/>
          </p:blipFill>
          <p:spPr>
            <a:xfrm>
              <a:off x="4521240" y="2666880"/>
              <a:ext cx="317484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092240" y="4343400"/>
            <a:ext cx="6603840" cy="1523880"/>
            <a:chOff x="1092240" y="4343400"/>
            <a:chExt cx="6603840" cy="1523880"/>
          </a:xfrm>
        </p:grpSpPr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1092240" y="4343400"/>
              <a:ext cx="31748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4521240" y="4343400"/>
              <a:ext cx="3174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6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244520" y="533520"/>
            <a:ext cx="6578640" cy="1523880"/>
            <a:chOff x="1244520" y="533520"/>
            <a:chExt cx="6578640" cy="1523880"/>
          </a:xfrm>
        </p:grpSpPr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1244520" y="533520"/>
              <a:ext cx="3175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tretch/>
          </p:blipFill>
          <p:spPr>
            <a:xfrm>
              <a:off x="4648320" y="533520"/>
              <a:ext cx="3174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1244520" y="2362320"/>
            <a:ext cx="6578640" cy="1523880"/>
            <a:chOff x="1244520" y="2362320"/>
            <a:chExt cx="6578640" cy="1523880"/>
          </a:xfrm>
        </p:grpSpPr>
        <p:pic>
          <p:nvPicPr>
            <p:cNvPr id="376" name="" descr=""/>
            <p:cNvPicPr/>
            <p:nvPr/>
          </p:nvPicPr>
          <p:blipFill>
            <a:blip r:embed="rId4"/>
            <a:stretch/>
          </p:blipFill>
          <p:spPr>
            <a:xfrm>
              <a:off x="1244520" y="2362320"/>
              <a:ext cx="3175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5"/>
            <a:stretch/>
          </p:blipFill>
          <p:spPr>
            <a:xfrm>
              <a:off x="4648320" y="2362320"/>
              <a:ext cx="317484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2006640" y="4267080"/>
            <a:ext cx="50799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38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3886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048120" y="39625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5257800" y="3886200"/>
            <a:ext cx="2036880" cy="520560"/>
            <a:chOff x="5257800" y="3886200"/>
            <a:chExt cx="2036880" cy="5205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7010280" y="4038480"/>
                  <a:ext cx="2844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"/>
            <p:cNvSpPr/>
            <p:nvPr/>
          </p:nvSpPr>
          <p:spPr>
            <a:xfrm>
              <a:off x="5257800" y="38862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总节点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276720" y="5562720"/>
                <a:ext cx="2133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819520" y="8380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2819520" y="838080"/>
            <a:ext cx="3809880" cy="25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2971800" y="4876920"/>
          <a:ext cx="2654280" cy="54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876920"/>
                    <a:ext cx="2654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33520" y="1143000"/>
                <a:ext cx="167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362320" y="1066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复杂（超静定）桁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09480" y="3124080"/>
                <a:ext cx="1752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2438280" y="3048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简单（静定）桁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85800" y="5029200"/>
                <a:ext cx="182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590920" y="4952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桁架（机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629400" y="60948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629400" y="4470480"/>
            <a:ext cx="1778040" cy="177804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16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371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力的平移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743200" y="3962520"/>
                <a:ext cx="2592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-1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任意力系向作用面内一点简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46640" y="12952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46640" y="12952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46640" y="12952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47920" y="4495680"/>
            <a:ext cx="635004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447920" y="4495680"/>
            <a:ext cx="635004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46640" y="12952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47920" y="4495680"/>
            <a:ext cx="635004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19810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把作用在刚体上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移到任一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必须同时附加一个力偶，这个附加力偶的矩等于原来的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新作用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6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343160" y="114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点法与截面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47000" y="2133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节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2" action="ppaction://hlinksldjump"/>
          </p:cNvPr>
          <p:cNvSpPr/>
          <p:nvPr/>
        </p:nvSpPr>
        <p:spPr>
          <a:xfrm>
            <a:off x="1647000" y="29718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截面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2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802080" y="51120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9560" y="990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763640" y="1119240"/>
          <a:ext cx="158904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119240"/>
                    <a:ext cx="1589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276720" y="1143000"/>
          <a:ext cx="167616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1143000"/>
                    <a:ext cx="1676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952880" y="1143000"/>
          <a:ext cx="167652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1143000"/>
                    <a:ext cx="1676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6705720" y="1066680"/>
          <a:ext cx="160020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05720" y="1066680"/>
                    <a:ext cx="1600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066680" y="16765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33880" y="2895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力作用线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4419720" y="309888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1"/>
          <a:stretch/>
        </p:blipFill>
        <p:spPr>
          <a:xfrm>
            <a:off x="4419720" y="309888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2"/>
          <a:stretch/>
        </p:blipFill>
        <p:spPr>
          <a:xfrm>
            <a:off x="4419720" y="309888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3"/>
          <a:stretch/>
        </p:blipFill>
        <p:spPr>
          <a:xfrm>
            <a:off x="4419720" y="309888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4"/>
          <a:stretch/>
        </p:blipFill>
        <p:spPr>
          <a:xfrm>
            <a:off x="4419720" y="3098880"/>
            <a:ext cx="3809880" cy="3301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824200" y="20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92560" y="1722600"/>
            <a:ext cx="25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系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简化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640" y="2286000"/>
            <a:ext cx="41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力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到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距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4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044000" y="50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42720" y="105084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752480" y="1676520"/>
          <a:ext cx="472464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47246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752480" y="2895480"/>
          <a:ext cx="518184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895480"/>
                    <a:ext cx="51818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838080" y="3124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752480" y="3733920"/>
          <a:ext cx="739152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3733920"/>
                    <a:ext cx="73915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91440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828800" y="4648320"/>
          <a:ext cx="5653080" cy="51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648320"/>
                    <a:ext cx="5653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046240" y="52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676520" y="5867280"/>
          <a:ext cx="7467480" cy="60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6520" y="5867280"/>
                    <a:ext cx="74674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2"/>
          <a:stretch/>
        </p:blipFill>
        <p:spPr>
          <a:xfrm>
            <a:off x="7010280" y="533520"/>
            <a:ext cx="1762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7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16920" y="43488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求合力及其作用线位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19320" y="3962520"/>
          <a:ext cx="563868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962520"/>
                    <a:ext cx="56386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1371600" y="5105520"/>
          <a:ext cx="5257800" cy="105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5105520"/>
                    <a:ext cx="52578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1143000" y="1066680"/>
            <a:ext cx="1762200" cy="2743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6553080" y="609480"/>
            <a:ext cx="23036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8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254320" cy="3505320"/>
          </a:xfrm>
          <a:prstGeom prst="rect">
            <a:avLst/>
          </a:prstGeom>
          <a:ln w="0">
            <a:noFill/>
          </a:ln>
        </p:spPr>
      </p:pic>
      <p:sp>
        <p:nvSpPr>
          <p:cNvPr id="487" name="">
            <a:hlinkClick r:id="rId3" action="ppaction://hlinksldjump"/>
          </p:cNvPr>
          <p:cNvSpPr/>
          <p:nvPr/>
        </p:nvSpPr>
        <p:spPr>
          <a:xfrm>
            <a:off x="1309680" y="7858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求合力作用线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73120" y="1676520"/>
          <a:ext cx="857088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3120" y="1676520"/>
                    <a:ext cx="8570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914400" y="2895480"/>
          <a:ext cx="525780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895480"/>
                    <a:ext cx="52578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1066680" y="3809880"/>
          <a:ext cx="5105520" cy="5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3809880"/>
                    <a:ext cx="51055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304920" y="32004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3962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49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73480" y="13032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0960" y="609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68880" y="7016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72960" y="6922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k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04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55560" y="109224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铰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9080" y="349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2920" y="3505320"/>
            <a:ext cx="24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梁，画受力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219320" y="4114800"/>
          <a:ext cx="1272960" cy="4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114800"/>
                    <a:ext cx="1272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219320" y="4724280"/>
          <a:ext cx="1355760" cy="5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4724280"/>
                    <a:ext cx="1355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790720" y="4038480"/>
          <a:ext cx="2867040" cy="56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90720" y="4038480"/>
                    <a:ext cx="28670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728800" y="4724280"/>
          <a:ext cx="3329280" cy="58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28800" y="4724280"/>
                    <a:ext cx="3329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066680" y="5334120"/>
          <a:ext cx="1524240" cy="57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5334120"/>
                    <a:ext cx="15242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2728800" y="5334120"/>
          <a:ext cx="3500640" cy="587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8800" y="5334120"/>
                    <a:ext cx="35006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1364760" y="594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4"/>
          <a:stretch/>
        </p:blipFill>
        <p:spPr>
          <a:xfrm>
            <a:off x="1295280" y="1711440"/>
            <a:ext cx="2133720" cy="16412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5486400" y="1371600"/>
            <a:ext cx="3225960" cy="24811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6"/>
          <a:stretch/>
        </p:blipFill>
        <p:spPr>
          <a:xfrm>
            <a:off x="5486400" y="1371600"/>
            <a:ext cx="3225960" cy="24811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7"/>
          <a:stretch/>
        </p:blipFill>
        <p:spPr>
          <a:xfrm>
            <a:off x="5486400" y="1371600"/>
            <a:ext cx="3225960" cy="248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362320" y="6019920"/>
                <a:ext cx="51051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52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724320" y="31104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6920" y="77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676520" y="838080"/>
          <a:ext cx="150804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83808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3200400" y="838080"/>
          <a:ext cx="160956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838080"/>
                    <a:ext cx="1609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5085720" y="762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尺寸如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5400" y="13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76680" y="1371600"/>
            <a:ext cx="28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轴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1240" y="1887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30120" y="1909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起重机，画受力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447920" y="2666880"/>
          <a:ext cx="1218960" cy="4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666880"/>
                    <a:ext cx="1218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1447920" y="3581280"/>
          <a:ext cx="121896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3581280"/>
                    <a:ext cx="1218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538280" y="4508640"/>
          <a:ext cx="1162080" cy="50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38280" y="4508640"/>
                    <a:ext cx="116208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124080" y="2666880"/>
          <a:ext cx="17528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2666880"/>
                    <a:ext cx="17528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971800" y="3505320"/>
          <a:ext cx="2286000" cy="549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71800" y="3505320"/>
                    <a:ext cx="22860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3138480" y="4572000"/>
          <a:ext cx="3378240" cy="457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38480" y="4572000"/>
                    <a:ext cx="3378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90756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449360" y="5826240"/>
          <a:ext cx="1538280" cy="493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9360" y="5826240"/>
                    <a:ext cx="1538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3276720" y="5811840"/>
          <a:ext cx="1601640" cy="471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76720" y="5811840"/>
                    <a:ext cx="16016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183280" y="5826240"/>
          <a:ext cx="1522440" cy="471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3280" y="5826240"/>
                    <a:ext cx="15224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56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6477120" y="990720"/>
          <a:ext cx="2286000" cy="2228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77120" y="990720"/>
                    <a:ext cx="2286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629400" y="3581280"/>
          <a:ext cx="2286000" cy="2194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629400" y="3581280"/>
                    <a:ext cx="2286000" cy="21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725760" y="25236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11080" y="779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828800" y="838080"/>
          <a:ext cx="228600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38080"/>
                    <a:ext cx="2286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774000" y="14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37440" y="1447920"/>
            <a:ext cx="28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座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6960" y="214776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梁，画受力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01640" y="2895480"/>
          <a:ext cx="127944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640" y="2895480"/>
                    <a:ext cx="1279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701640" y="3625920"/>
          <a:ext cx="1349280" cy="51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640" y="3625920"/>
                    <a:ext cx="1349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685800" y="5105520"/>
          <a:ext cx="1295280" cy="50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5105520"/>
                    <a:ext cx="1295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133720" y="2895480"/>
          <a:ext cx="990360" cy="47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2895480"/>
                    <a:ext cx="990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"/>
          <p:cNvSpPr/>
          <p:nvPr/>
        </p:nvSpPr>
        <p:spPr>
          <a:xfrm>
            <a:off x="387936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876920" y="2895480"/>
          <a:ext cx="990360" cy="470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76920" y="2895480"/>
                    <a:ext cx="990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209680" y="3645000"/>
          <a:ext cx="4172040" cy="469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09680" y="3645000"/>
                    <a:ext cx="4172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048120" y="4267080"/>
          <a:ext cx="2133360" cy="847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48120" y="4267080"/>
                    <a:ext cx="2133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362320" y="5105520"/>
          <a:ext cx="38098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62320" y="5105520"/>
                    <a:ext cx="3809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3124080" y="5715000"/>
          <a:ext cx="2210040" cy="896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24080" y="5715000"/>
                    <a:ext cx="22100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" descr=""/>
          <p:cNvPicPr/>
          <p:nvPr/>
        </p:nvPicPr>
        <p:blipFill>
          <a:blip r:embed="rId22"/>
          <a:stretch/>
        </p:blipFill>
        <p:spPr>
          <a:xfrm>
            <a:off x="6172200" y="411480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3"/>
          <a:stretch/>
        </p:blipFill>
        <p:spPr>
          <a:xfrm>
            <a:off x="5105520" y="304920"/>
            <a:ext cx="3124080" cy="187488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60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789120" y="20628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98520" y="22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5181480" y="304920"/>
          <a:ext cx="2111400" cy="41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04920"/>
                    <a:ext cx="21114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200400" y="304920"/>
          <a:ext cx="152388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04920"/>
                    <a:ext cx="15238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200400" y="838080"/>
          <a:ext cx="1601640" cy="42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838080"/>
                    <a:ext cx="1601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332000" y="777960"/>
          <a:ext cx="1812960" cy="44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777960"/>
                    <a:ext cx="18129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4876920" y="762120"/>
          <a:ext cx="103320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762120"/>
                    <a:ext cx="10332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750960" y="1305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37880" y="12733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定端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26640" y="1752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93320" y="17748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刚架，画受力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2600" y="2414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752480" y="2209680"/>
          <a:ext cx="251460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52480" y="2209680"/>
                    <a:ext cx="25146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143000" y="2971800"/>
          <a:ext cx="1219320" cy="460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2971800"/>
                    <a:ext cx="12193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143000" y="4267080"/>
          <a:ext cx="1295280" cy="490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3000" y="4267080"/>
                    <a:ext cx="12952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219320" y="3657600"/>
          <a:ext cx="1218960" cy="473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19320" y="3657600"/>
                    <a:ext cx="12189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666880" y="2895480"/>
          <a:ext cx="3353040" cy="568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66880" y="2895480"/>
                    <a:ext cx="33530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1066680" y="5715000"/>
          <a:ext cx="2024280" cy="492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066680" y="5715000"/>
                    <a:ext cx="2024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3" name="" descr=""/>
          <p:cNvPicPr/>
          <p:nvPr/>
        </p:nvPicPr>
        <p:blipFill>
          <a:blip r:embed="rId24"/>
          <a:stretch/>
        </p:blipFill>
        <p:spPr>
          <a:xfrm>
            <a:off x="6248520" y="874800"/>
            <a:ext cx="2666880" cy="21733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5"/>
          <a:stretch/>
        </p:blipFill>
        <p:spPr>
          <a:xfrm>
            <a:off x="6248520" y="3236760"/>
            <a:ext cx="266688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666880" y="3581280"/>
                <a:ext cx="3353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80880" y="4800600"/>
                <a:ext cx="59277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429000" y="5791320"/>
                <a:ext cx="1676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486400" y="5791320"/>
                <a:ext cx="2590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8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64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867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676520" y="304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2895480" y="380880"/>
          <a:ext cx="350532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80880"/>
                    <a:ext cx="35053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6508800" y="32688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9080" y="882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61760" y="939960"/>
            <a:ext cx="531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起重机满载和空载时不翻倒，平衡载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29920" y="1438200"/>
            <a:ext cx="419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轨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起重机轮子的约束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15400" y="202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10960" y="20718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起重机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03280" y="2781360"/>
            <a:ext cx="14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载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819520" y="2819520"/>
                <a:ext cx="990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195696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不安全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504800" y="4114800"/>
                <a:ext cx="1390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143000" y="4724280"/>
                <a:ext cx="3552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1219320" y="5562720"/>
            <a:ext cx="331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75k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9440" y="30492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66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6" name=""/>
          <p:cNvGraphicFramePr/>
          <p:nvPr/>
        </p:nvGraphicFramePr>
        <p:xfrm>
          <a:off x="5943600" y="1981080"/>
          <a:ext cx="2133720" cy="22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981080"/>
                    <a:ext cx="21337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019920" y="4267080"/>
          <a:ext cx="2238120" cy="239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22381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556080" cy="449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181480" y="1066680"/>
            <a:ext cx="3556080" cy="4496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1219320"/>
            <a:ext cx="4647960" cy="20923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7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"/>
          <p:cNvGraphicFramePr/>
          <p:nvPr/>
        </p:nvGraphicFramePr>
        <p:xfrm>
          <a:off x="1600200" y="2514600"/>
          <a:ext cx="28414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14600"/>
                    <a:ext cx="2841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838080" y="320040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80k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95280" y="3886200"/>
                <a:ext cx="152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048120" y="3886200"/>
                <a:ext cx="41148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4204800" y="5486400"/>
            <a:ext cx="174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870k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295280" y="4572000"/>
          <a:ext cx="152424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572000"/>
                    <a:ext cx="1524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124080" y="4572000"/>
                <a:ext cx="4038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2225160" y="5532480"/>
            <a:ext cx="175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10k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6" action="ppaction://hlinksldjump"/>
          </p:cNvPr>
          <p:cNvSpPr/>
          <p:nvPr/>
        </p:nvSpPr>
        <p:spPr>
          <a:xfrm>
            <a:off x="533520" y="457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载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2124000" y="476280"/>
          <a:ext cx="10080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6280"/>
                    <a:ext cx="100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3754080" y="457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不安全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838080" y="1143000"/>
                <a:ext cx="1371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2666880" y="114300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ma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3000" y="1828800"/>
            <a:ext cx="36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ma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50k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68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5791320" y="685800"/>
          <a:ext cx="4343400" cy="307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685800"/>
                    <a:ext cx="434340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405000" y="457200"/>
            <a:ext cx="7861320" cy="1077840"/>
            <a:chOff x="405000" y="457200"/>
            <a:chExt cx="7861320" cy="1077840"/>
          </a:xfrm>
        </p:grpSpPr>
        <p:sp>
          <p:nvSpPr>
            <p:cNvPr id="695" name=""/>
            <p:cNvSpPr/>
            <p:nvPr/>
          </p:nvSpPr>
          <p:spPr>
            <a:xfrm>
              <a:off x="405000" y="457200"/>
              <a:ext cx="9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3-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78120" y="457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83080" y="479520"/>
              <a:ext cx="141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A=R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5000" y="4795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B= 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4876920" y="533520"/>
                  <a:ext cx="39672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"/>
            <p:cNvSpPr/>
            <p:nvPr/>
          </p:nvSpPr>
          <p:spPr>
            <a:xfrm>
              <a:off x="5979600" y="4809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计物体自重与摩擦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98320" y="101448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系统在图示位置平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60680" y="16477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23880" y="1731960"/>
            <a:ext cx="45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偶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，轴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，连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力，冲头给导轨的侧压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0680" y="32767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32480" y="3313080"/>
            <a:ext cx="23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冲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6553080" y="3936960"/>
            <a:ext cx="1905120" cy="25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7" name=""/>
          <p:cNvGraphicFramePr/>
          <p:nvPr/>
        </p:nvGraphicFramePr>
        <p:xfrm>
          <a:off x="934920" y="4114800"/>
          <a:ext cx="209088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920" y="4114800"/>
                    <a:ext cx="20908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3352680" y="4114800"/>
                <a:ext cx="28195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990720" y="5638680"/>
                <a:ext cx="25905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71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6" name=""/>
          <p:cNvGraphicFramePr/>
          <p:nvPr/>
        </p:nvGraphicFramePr>
        <p:xfrm>
          <a:off x="934920" y="4876920"/>
          <a:ext cx="209088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4876920"/>
                    <a:ext cx="20908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52680" y="4876920"/>
                <a:ext cx="28195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809880" y="5715000"/>
                <a:ext cx="2438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20" name=""/>
          <p:cNvGraphicFramePr/>
          <p:nvPr/>
        </p:nvGraphicFramePr>
        <p:xfrm>
          <a:off x="6553080" y="1066680"/>
          <a:ext cx="198432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066680"/>
                    <a:ext cx="19843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993600" y="53352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85800" y="1219320"/>
                <a:ext cx="2438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724" name=""/>
          <p:cNvGraphicFramePr/>
          <p:nvPr/>
        </p:nvGraphicFramePr>
        <p:xfrm>
          <a:off x="3487680" y="1219320"/>
          <a:ext cx="2930760" cy="6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87680" y="1219320"/>
                    <a:ext cx="2930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206360" y="3809880"/>
          <a:ext cx="2451240" cy="99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6360" y="3809880"/>
                    <a:ext cx="24512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838080" y="2133720"/>
                <a:ext cx="2286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729" name=""/>
          <p:cNvGraphicFramePr/>
          <p:nvPr/>
        </p:nvGraphicFramePr>
        <p:xfrm>
          <a:off x="3411360" y="2057400"/>
          <a:ext cx="3083040" cy="67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1360" y="2057400"/>
                    <a:ext cx="3083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1" name="" descr=""/>
          <p:cNvPicPr/>
          <p:nvPr/>
        </p:nvPicPr>
        <p:blipFill>
          <a:blip r:embed="rId8"/>
          <a:stretch/>
        </p:blipFill>
        <p:spPr>
          <a:xfrm>
            <a:off x="6934320" y="365760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9"/>
          <a:stretch/>
        </p:blipFill>
        <p:spPr>
          <a:xfrm>
            <a:off x="6934320" y="457200"/>
            <a:ext cx="1904760" cy="25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3" name=""/>
          <p:cNvGraphicFramePr/>
          <p:nvPr/>
        </p:nvGraphicFramePr>
        <p:xfrm>
          <a:off x="4343400" y="4038480"/>
          <a:ext cx="161460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3400" y="4038480"/>
                    <a:ext cx="16146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966960" y="2895480"/>
          <a:ext cx="169992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66960" y="2895480"/>
                    <a:ext cx="16999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048120" y="2895480"/>
                <a:ext cx="37335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95280" y="5029200"/>
                <a:ext cx="1676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74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24520" y="2430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878840" y="177840"/>
            <a:ext cx="7221240" cy="607680"/>
            <a:chOff x="1878840" y="177840"/>
            <a:chExt cx="7221240" cy="607680"/>
          </a:xfrm>
        </p:grpSpPr>
        <p:sp>
          <p:nvSpPr>
            <p:cNvPr id="746" name=""/>
            <p:cNvSpPr/>
            <p:nvPr/>
          </p:nvSpPr>
          <p:spPr>
            <a:xfrm>
              <a:off x="1878840" y="243000"/>
              <a:ext cx="7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15640" y="26496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0kN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63200" y="18900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10kN/m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9" name=""/>
            <p:cNvGraphicFramePr/>
            <p:nvPr/>
          </p:nvGraphicFramePr>
          <p:xfrm>
            <a:off x="6107040" y="304920"/>
            <a:ext cx="1817640" cy="39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07040" y="304920"/>
                      <a:ext cx="18176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1" name=""/>
            <p:cNvSpPr/>
            <p:nvPr/>
          </p:nvSpPr>
          <p:spPr>
            <a:xfrm>
              <a:off x="8019000" y="1778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63840" y="1081080"/>
            <a:ext cx="3143880" cy="542880"/>
            <a:chOff x="663840" y="1081080"/>
            <a:chExt cx="3143880" cy="542880"/>
          </a:xfrm>
        </p:grpSpPr>
        <p:sp>
          <p:nvSpPr>
            <p:cNvPr id="753" name=""/>
            <p:cNvSpPr/>
            <p:nvPr/>
          </p:nvSpPr>
          <p:spPr>
            <a:xfrm>
              <a:off x="663840" y="108108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求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42040" y="1103400"/>
              <a:ext cx="20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处的约束力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1480" y="198900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31240" y="2003400"/>
            <a:ext cx="25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523880" y="2743200"/>
          <a:ext cx="167652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743200"/>
                    <a:ext cx="16765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685800" y="3733920"/>
          <a:ext cx="5105520" cy="87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3733920"/>
                    <a:ext cx="51055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1690200" y="4952880"/>
            <a:ext cx="201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5.77k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8"/>
          <a:stretch/>
        </p:blipFill>
        <p:spPr>
          <a:xfrm>
            <a:off x="4952880" y="914400"/>
            <a:ext cx="3733920" cy="25448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3429000" cy="233856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76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85800" y="5105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4191120" y="5943600"/>
          <a:ext cx="198108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943600"/>
                    <a:ext cx="19810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711360" y="2819520"/>
          <a:ext cx="2108160" cy="57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1360" y="2819520"/>
                    <a:ext cx="21081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33520" y="3581280"/>
          <a:ext cx="556236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581280"/>
                    <a:ext cx="55623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6400800" y="5943600"/>
          <a:ext cx="2009880" cy="50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5943600"/>
                    <a:ext cx="2009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85800" y="4343400"/>
                <a:ext cx="1600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779" name=""/>
          <p:cNvGraphicFramePr/>
          <p:nvPr/>
        </p:nvGraphicFramePr>
        <p:xfrm>
          <a:off x="762120" y="5029200"/>
          <a:ext cx="7238880" cy="560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120" y="5029200"/>
                    <a:ext cx="72388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1461960" y="5931000"/>
          <a:ext cx="2409840" cy="48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61960" y="5931000"/>
                    <a:ext cx="24098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837000" y="457200"/>
            <a:ext cx="21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555480" y="1219320"/>
          <a:ext cx="2111400" cy="579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5480" y="1219320"/>
                    <a:ext cx="21114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533520" y="1981080"/>
          <a:ext cx="4724280" cy="606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3520" y="1981080"/>
                    <a:ext cx="47242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8" name="" descr=""/>
          <p:cNvPicPr/>
          <p:nvPr/>
        </p:nvPicPr>
        <p:blipFill>
          <a:blip r:embed="rId18"/>
          <a:stretch/>
        </p:blipFill>
        <p:spPr>
          <a:xfrm>
            <a:off x="5181480" y="304920"/>
            <a:ext cx="39625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78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79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85800" y="6019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649440" y="30492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3280" y="838080"/>
            <a:ext cx="6487200" cy="601920"/>
            <a:chOff x="953280" y="838080"/>
            <a:chExt cx="6487200" cy="601920"/>
          </a:xfrm>
        </p:grpSpPr>
        <p:sp>
          <p:nvSpPr>
            <p:cNvPr id="797" name=""/>
            <p:cNvSpPr/>
            <p:nvPr/>
          </p:nvSpPr>
          <p:spPr>
            <a:xfrm>
              <a:off x="953280" y="860400"/>
              <a:ext cx="48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: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0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8" name=""/>
            <p:cNvGraphicFramePr/>
            <p:nvPr/>
          </p:nvGraphicFramePr>
          <p:xfrm>
            <a:off x="6219720" y="838080"/>
            <a:ext cx="1220760" cy="51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19720" y="838080"/>
                      <a:ext cx="122076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0" name=""/>
          <p:cNvSpPr/>
          <p:nvPr/>
        </p:nvSpPr>
        <p:spPr>
          <a:xfrm>
            <a:off x="2033280" y="1447920"/>
            <a:ext cx="549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上升时，作用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轮上的力偶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轴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>
            <a:off x="3048120" y="2438280"/>
            <a:ext cx="35049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80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80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756000" y="3808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9680" y="380880"/>
            <a:ext cx="30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塔轮及重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533520" y="1066680"/>
                <a:ext cx="1600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12" name=""/>
          <p:cNvGraphicFramePr/>
          <p:nvPr/>
        </p:nvGraphicFramePr>
        <p:xfrm>
          <a:off x="2666880" y="1066680"/>
          <a:ext cx="198144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066680"/>
                    <a:ext cx="1981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"/>
          <p:cNvGraphicFramePr/>
          <p:nvPr/>
        </p:nvGraphicFramePr>
        <p:xfrm>
          <a:off x="5105520" y="838080"/>
          <a:ext cx="297180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838080"/>
                    <a:ext cx="2971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"/>
          <p:cNvGraphicFramePr/>
          <p:nvPr/>
        </p:nvGraphicFramePr>
        <p:xfrm>
          <a:off x="1676520" y="1752480"/>
          <a:ext cx="182880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1752480"/>
                    <a:ext cx="18288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910800" y="192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838080" y="2666880"/>
          <a:ext cx="318924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2666880"/>
                    <a:ext cx="3189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82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6" name=""/>
          <p:cNvGraphicFramePr/>
          <p:nvPr/>
        </p:nvGraphicFramePr>
        <p:xfrm>
          <a:off x="533520" y="3276720"/>
          <a:ext cx="158256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3276720"/>
                    <a:ext cx="15825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2362320" y="3276720"/>
                <a:ext cx="2133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9" name=""/>
          <p:cNvGraphicFramePr/>
          <p:nvPr/>
        </p:nvGraphicFramePr>
        <p:xfrm>
          <a:off x="1663560" y="5715000"/>
          <a:ext cx="1689120" cy="49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63560" y="5715000"/>
                    <a:ext cx="16891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33520" y="4038480"/>
          <a:ext cx="1676160" cy="64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4038480"/>
                    <a:ext cx="16761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1387440" y="4648320"/>
          <a:ext cx="3168720" cy="6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87440" y="4648320"/>
                    <a:ext cx="3168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3657600" y="5638680"/>
                <a:ext cx="15238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6" name=""/>
          <p:cNvSpPr/>
          <p:nvPr/>
        </p:nvSpPr>
        <p:spPr>
          <a:xfrm>
            <a:off x="533520" y="5791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335600" y="68904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小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630360" y="1447920"/>
          <a:ext cx="1655640" cy="5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1447920"/>
                    <a:ext cx="16556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0" name="" descr=""/>
          <p:cNvPicPr/>
          <p:nvPr/>
        </p:nvPicPr>
        <p:blipFill>
          <a:blip r:embed="rId4"/>
          <a:stretch/>
        </p:blipFill>
        <p:spPr>
          <a:xfrm>
            <a:off x="5486400" y="2438280"/>
            <a:ext cx="345456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1" name=""/>
          <p:cNvGraphicFramePr/>
          <p:nvPr/>
        </p:nvGraphicFramePr>
        <p:xfrm>
          <a:off x="609480" y="2133720"/>
          <a:ext cx="167652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133720"/>
                    <a:ext cx="1676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85800" y="2819520"/>
                <a:ext cx="1447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44" name=""/>
          <p:cNvGraphicFramePr/>
          <p:nvPr/>
        </p:nvGraphicFramePr>
        <p:xfrm>
          <a:off x="2971800" y="2819520"/>
          <a:ext cx="205740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2819520"/>
                    <a:ext cx="20574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362320" y="4724280"/>
                <a:ext cx="1627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84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2" name=""/>
          <p:cNvGraphicFramePr/>
          <p:nvPr/>
        </p:nvGraphicFramePr>
        <p:xfrm>
          <a:off x="2971800" y="1371600"/>
          <a:ext cx="1946160" cy="58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371600"/>
                    <a:ext cx="19461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2286000" y="3657600"/>
          <a:ext cx="160020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657600"/>
                    <a:ext cx="1600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2971800" y="2133720"/>
          <a:ext cx="215748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2133720"/>
                    <a:ext cx="2157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362320" y="4191120"/>
                <a:ext cx="14493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9" name=""/>
          <p:cNvSpPr/>
          <p:nvPr/>
        </p:nvSpPr>
        <p:spPr>
          <a:xfrm>
            <a:off x="990720" y="36576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61960" y="9036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685800"/>
            <a:ext cx="796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60k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0k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k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k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尺寸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37160" y="17524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86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8" name=""/>
          <p:cNvGraphicFramePr/>
          <p:nvPr/>
        </p:nvGraphicFramePr>
        <p:xfrm>
          <a:off x="2514600" y="2286000"/>
          <a:ext cx="419112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86000"/>
                    <a:ext cx="41911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3498840" cy="36576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527400" y="48096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751400" y="457200"/>
            <a:ext cx="21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33520" y="1295280"/>
                <a:ext cx="15238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362320" y="1295280"/>
                <a:ext cx="533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2438280" y="4648320"/>
                <a:ext cx="1770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76" name=""/>
          <p:cNvGraphicFramePr/>
          <p:nvPr/>
        </p:nvGraphicFramePr>
        <p:xfrm>
          <a:off x="533520" y="2057400"/>
          <a:ext cx="180792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057400"/>
                    <a:ext cx="1807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514600" y="2057400"/>
                <a:ext cx="4038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362320" y="4038480"/>
                <a:ext cx="1765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80" name=""/>
          <p:cNvGraphicFramePr/>
          <p:nvPr/>
        </p:nvGraphicFramePr>
        <p:xfrm>
          <a:off x="533520" y="2819520"/>
          <a:ext cx="1904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819520"/>
                    <a:ext cx="1904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895480" y="2819520"/>
                <a:ext cx="25909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762120" y="4038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2362320" y="5257800"/>
          <a:ext cx="188748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257800"/>
                    <a:ext cx="1887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88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914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平面任意力系向作用面内一点简化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矢和主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76520"/>
          <a:ext cx="318780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31878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1066680" y="2438280"/>
            <a:ext cx="3429000" cy="1860840"/>
            <a:chOff x="1066680" y="2438280"/>
            <a:chExt cx="3429000" cy="1860840"/>
          </a:xfrm>
        </p:grpSpPr>
        <p:graphicFrame>
          <p:nvGraphicFramePr>
            <p:cNvPr id="78" name=""/>
            <p:cNvGraphicFramePr/>
            <p:nvPr/>
          </p:nvGraphicFramePr>
          <p:xfrm>
            <a:off x="1066680" y="2438280"/>
            <a:ext cx="3200400" cy="598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6680" y="2438280"/>
                      <a:ext cx="3200400" cy="5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1066680" y="3657600"/>
            <a:ext cx="3429000" cy="641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66680" y="3657600"/>
                      <a:ext cx="3429000" cy="6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477800" y="3200400"/>
                  <a:ext cx="17845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  <m:r>
                        <m:t xml:space="preserve"> </m:t>
                      </m:r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" name=""/>
          <p:cNvGraphicFramePr/>
          <p:nvPr/>
        </p:nvGraphicFramePr>
        <p:xfrm>
          <a:off x="1143000" y="4724280"/>
          <a:ext cx="259092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4724280"/>
                    <a:ext cx="2590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66680" y="5562720"/>
          <a:ext cx="4496040" cy="51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5562720"/>
                    <a:ext cx="4496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7"/>
          <a:stretch/>
        </p:blipFill>
        <p:spPr>
          <a:xfrm>
            <a:off x="5334120" y="1803240"/>
            <a:ext cx="2539800" cy="25401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969120" y="43956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吊车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09480" y="1143000"/>
                <a:ext cx="1401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514600" y="1066680"/>
                <a:ext cx="26668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4" name=""/>
          <p:cNvGraphicFramePr/>
          <p:nvPr/>
        </p:nvGraphicFramePr>
        <p:xfrm>
          <a:off x="2124000" y="1808280"/>
          <a:ext cx="174780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08280"/>
                    <a:ext cx="17478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1133280" y="2438280"/>
            <a:ext cx="25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右边刚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762120" y="3048120"/>
                <a:ext cx="13255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38080" y="3657600"/>
                <a:ext cx="3641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52480" y="4343400"/>
                <a:ext cx="1828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828800" y="4876920"/>
                <a:ext cx="1663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1" name="" descr=""/>
          <p:cNvPicPr/>
          <p:nvPr/>
        </p:nvPicPr>
        <p:blipFill>
          <a:blip r:embed="rId4"/>
          <a:stretch/>
        </p:blipFill>
        <p:spPr>
          <a:xfrm>
            <a:off x="5562720" y="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3352680" cy="3353040"/>
          </a:xfrm>
          <a:prstGeom prst="rect">
            <a:avLst/>
          </a:prstGeom>
          <a:ln w="0">
            <a:noFill/>
          </a:ln>
        </p:spPr>
      </p:pic>
      <p:grpSp>
        <p:nvGrpSpPr>
          <p:cNvPr id="90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0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838080" y="1981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8080" y="4495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68160" y="1890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09480" y="914400"/>
            <a:ext cx="8153640" cy="968400"/>
            <a:chOff x="609480" y="914400"/>
            <a:chExt cx="8153640" cy="968400"/>
          </a:xfrm>
        </p:grpSpPr>
        <p:sp>
          <p:nvSpPr>
            <p:cNvPr id="912" name=""/>
            <p:cNvSpPr/>
            <p:nvPr/>
          </p:nvSpPr>
          <p:spPr>
            <a:xfrm>
              <a:off x="609480" y="914400"/>
              <a:ext cx="815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C=CE=CA=CB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, R=2r=l, P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各构件自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重不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3" name=""/>
            <p:cNvGraphicFramePr/>
            <p:nvPr/>
          </p:nvGraphicFramePr>
          <p:xfrm>
            <a:off x="2971800" y="1447920"/>
            <a:ext cx="108900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1447920"/>
                      <a:ext cx="108900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5" name=""/>
          <p:cNvSpPr/>
          <p:nvPr/>
        </p:nvSpPr>
        <p:spPr>
          <a:xfrm>
            <a:off x="685800" y="2057400"/>
            <a:ext cx="64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座处约束力及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4"/>
          <a:stretch/>
        </p:blipFill>
        <p:spPr>
          <a:xfrm>
            <a:off x="2590920" y="3276720"/>
            <a:ext cx="3733560" cy="2738160"/>
          </a:xfrm>
          <a:prstGeom prst="rect">
            <a:avLst/>
          </a:prstGeom>
          <a:ln w="0">
            <a:noFill/>
          </a:ln>
        </p:spPr>
      </p:pic>
      <p:grpSp>
        <p:nvGrpSpPr>
          <p:cNvPr id="91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1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4038480" cy="29606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2055960" y="609480"/>
            <a:ext cx="21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32320" y="63324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685800" y="1295280"/>
                <a:ext cx="15238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1905120"/>
                <a:ext cx="3505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1600200" y="5715000"/>
                <a:ext cx="1717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8" name=""/>
          <p:cNvGraphicFramePr/>
          <p:nvPr/>
        </p:nvGraphicFramePr>
        <p:xfrm>
          <a:off x="762120" y="2743200"/>
          <a:ext cx="16761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743200"/>
                    <a:ext cx="16761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838080" y="3429000"/>
                <a:ext cx="2895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1" name=""/>
          <p:cNvGraphicFramePr/>
          <p:nvPr/>
        </p:nvGraphicFramePr>
        <p:xfrm>
          <a:off x="855720" y="4191120"/>
          <a:ext cx="1735200" cy="50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5720" y="4191120"/>
                    <a:ext cx="173520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838080" y="4876920"/>
                <a:ext cx="3141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685800" y="6019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3657600" y="5791320"/>
                <a:ext cx="1214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334120" y="5715000"/>
                <a:ext cx="1398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3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909000" y="16002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990720" y="2590920"/>
          <a:ext cx="1676160" cy="6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1676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80880" y="3733920"/>
                <a:ext cx="5639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1676520" y="4572000"/>
                <a:ext cx="19047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7" name="">
            <a:hlinkClick r:id="rId4" action="ppaction://hlinksldjump"/>
          </p:cNvPr>
          <p:cNvSpPr/>
          <p:nvPr/>
        </p:nvSpPr>
        <p:spPr>
          <a:xfrm>
            <a:off x="4307760" y="48006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5"/>
          <a:stretch/>
        </p:blipFill>
        <p:spPr>
          <a:xfrm>
            <a:off x="5105520" y="685800"/>
            <a:ext cx="3809880" cy="2793960"/>
          </a:xfrm>
          <a:prstGeom prst="rect">
            <a:avLst/>
          </a:prstGeom>
          <a:ln w="0">
            <a:noFill/>
          </a:ln>
        </p:spPr>
      </p:pic>
      <p:grpSp>
        <p:nvGrpSpPr>
          <p:cNvPr id="94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5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333360" y="2286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89200" y="990720"/>
            <a:ext cx="34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尺寸如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56000" y="17002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49760" y="17002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桁架各杆件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27400" y="246204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793160" y="243828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762120" y="3276720"/>
          <a:ext cx="16002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16002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"/>
          <p:cNvGraphicFramePr/>
          <p:nvPr/>
        </p:nvGraphicFramePr>
        <p:xfrm>
          <a:off x="762120" y="4876920"/>
          <a:ext cx="1600200" cy="56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876920"/>
                    <a:ext cx="16002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762120" y="4038480"/>
                <a:ext cx="15238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819520" y="3276720"/>
                <a:ext cx="1218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2819520" y="4038480"/>
                <a:ext cx="2133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7" name=""/>
          <p:cNvGraphicFramePr/>
          <p:nvPr/>
        </p:nvGraphicFramePr>
        <p:xfrm>
          <a:off x="5410080" y="4038480"/>
          <a:ext cx="1600200" cy="5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4038480"/>
                    <a:ext cx="16002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2666880" y="4876920"/>
                <a:ext cx="25146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0" name=""/>
          <p:cNvGraphicFramePr/>
          <p:nvPr/>
        </p:nvGraphicFramePr>
        <p:xfrm>
          <a:off x="5486400" y="4876920"/>
          <a:ext cx="1676520" cy="61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4876920"/>
                    <a:ext cx="167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2" name="" descr=""/>
          <p:cNvPicPr/>
          <p:nvPr/>
        </p:nvPicPr>
        <p:blipFill>
          <a:blip r:embed="rId10"/>
          <a:stretch/>
        </p:blipFill>
        <p:spPr>
          <a:xfrm>
            <a:off x="4495680" y="457200"/>
            <a:ext cx="4648320" cy="232416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11"/>
          <a:stretch/>
        </p:blipFill>
        <p:spPr>
          <a:xfrm>
            <a:off x="4495680" y="457200"/>
            <a:ext cx="4648320" cy="2324160"/>
          </a:xfrm>
          <a:prstGeom prst="rect">
            <a:avLst/>
          </a:prstGeom>
          <a:ln w="0">
            <a:noFill/>
          </a:ln>
        </p:spPr>
      </p:pic>
      <p:grpSp>
        <p:nvGrpSpPr>
          <p:cNvPr id="97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97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3505320" y="2590920"/>
            <a:ext cx="2423160" cy="540720"/>
            <a:chOff x="3505320" y="2590920"/>
            <a:chExt cx="2423160" cy="540720"/>
          </a:xfrm>
        </p:grpSpPr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3505320" y="2660400"/>
                  <a:ext cx="17607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6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1" name=""/>
            <p:cNvSpPr/>
            <p:nvPr/>
          </p:nvSpPr>
          <p:spPr>
            <a:xfrm>
              <a:off x="5211360" y="2590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971800" y="1905120"/>
                <a:ext cx="251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3" name=""/>
          <p:cNvGraphicFramePr/>
          <p:nvPr/>
        </p:nvGraphicFramePr>
        <p:xfrm>
          <a:off x="914400" y="1905120"/>
          <a:ext cx="1600200" cy="52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05120"/>
                    <a:ext cx="16002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990720" y="2590920"/>
            <a:ext cx="2376000" cy="502920"/>
            <a:chOff x="990720" y="2590920"/>
            <a:chExt cx="2376000" cy="502920"/>
          </a:xfrm>
        </p:grpSpPr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990720" y="2639520"/>
                  <a:ext cx="158868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7" name=""/>
            <p:cNvSpPr/>
            <p:nvPr/>
          </p:nvSpPr>
          <p:spPr>
            <a:xfrm>
              <a:off x="2513520" y="2590920"/>
              <a:ext cx="85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2971800" y="1295280"/>
                <a:ext cx="2577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9" name=""/>
          <p:cNvGraphicFramePr/>
          <p:nvPr/>
        </p:nvGraphicFramePr>
        <p:xfrm>
          <a:off x="857160" y="1295280"/>
          <a:ext cx="1657440" cy="51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1295280"/>
                    <a:ext cx="1657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402920" y="63504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6248520" y="5335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1402920" y="335268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7"/>
          <a:stretch/>
        </p:blipFill>
        <p:spPr>
          <a:xfrm>
            <a:off x="6324480" y="3886200"/>
            <a:ext cx="25909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5" name=""/>
          <p:cNvGraphicFramePr/>
          <p:nvPr/>
        </p:nvGraphicFramePr>
        <p:xfrm>
          <a:off x="609480" y="3962520"/>
          <a:ext cx="167652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3962520"/>
                    <a:ext cx="1676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90920" y="3962520"/>
                <a:ext cx="37051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98" name=""/>
          <p:cNvGraphicFramePr/>
          <p:nvPr/>
        </p:nvGraphicFramePr>
        <p:xfrm>
          <a:off x="609480" y="4724280"/>
          <a:ext cx="1738440" cy="56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4724280"/>
                    <a:ext cx="17384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2438280" y="4724280"/>
                <a:ext cx="3810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1" name=""/>
          <p:cNvGrpSpPr/>
          <p:nvPr/>
        </p:nvGrpSpPr>
        <p:grpSpPr>
          <a:xfrm>
            <a:off x="1066680" y="5638680"/>
            <a:ext cx="2282040" cy="500040"/>
            <a:chOff x="1066680" y="5638680"/>
            <a:chExt cx="2282040" cy="500040"/>
          </a:xfrm>
        </p:grpSpPr>
        <mc:AlternateContent>
          <mc:Choice xmlns:a14="http://schemas.microsoft.com/office/drawing/2010/main" Requires="a14">
            <p:sp>
              <p:nvSpPr>
                <p:cNvPr id="1002" name=""/>
                <p:cNvSpPr txBox="1"/>
                <p:nvPr/>
              </p:nvSpPr>
              <p:spPr>
                <a:xfrm>
                  <a:off x="1066680" y="5678280"/>
                  <a:ext cx="16671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3" name=""/>
            <p:cNvSpPr/>
            <p:nvPr/>
          </p:nvSpPr>
          <p:spPr>
            <a:xfrm>
              <a:off x="2631600" y="56386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581280" y="5638680"/>
            <a:ext cx="2059560" cy="530280"/>
            <a:chOff x="3581280" y="5638680"/>
            <a:chExt cx="2059560" cy="530280"/>
          </a:xfrm>
        </p:grpSpPr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3581280" y="5695920"/>
                  <a:ext cx="139392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6" name=""/>
            <p:cNvSpPr/>
            <p:nvPr/>
          </p:nvSpPr>
          <p:spPr>
            <a:xfrm>
              <a:off x="4923720" y="56386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00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1294560" y="939960"/>
            <a:ext cx="23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685800" y="1676520"/>
          <a:ext cx="158256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1582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895480" y="1676520"/>
                <a:ext cx="1905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6" name=""/>
          <p:cNvGrpSpPr/>
          <p:nvPr/>
        </p:nvGrpSpPr>
        <p:grpSpPr>
          <a:xfrm>
            <a:off x="1447920" y="2819520"/>
            <a:ext cx="2438280" cy="532800"/>
            <a:chOff x="1447920" y="2819520"/>
            <a:chExt cx="2438280" cy="532800"/>
          </a:xfrm>
        </p:grpSpPr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>
                  <a:off x="1447920" y="2859120"/>
                  <a:ext cx="1828800" cy="49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6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3169080" y="28195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9" name="" descr=""/>
          <p:cNvPicPr/>
          <p:nvPr/>
        </p:nvPicPr>
        <p:blipFill>
          <a:blip r:embed="rId4"/>
          <a:stretch/>
        </p:blipFill>
        <p:spPr>
          <a:xfrm>
            <a:off x="6019920" y="685800"/>
            <a:ext cx="2590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020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021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561960" y="30492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75720" y="76212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1496880" y="844560"/>
          <a:ext cx="159084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844560"/>
                    <a:ext cx="15908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3119400" y="849240"/>
          <a:ext cx="1467000" cy="50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19400" y="849240"/>
                    <a:ext cx="1467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"/>
          <p:cNvSpPr/>
          <p:nvPr/>
        </p:nvSpPr>
        <p:spPr>
          <a:xfrm>
            <a:off x="4716360" y="814320"/>
            <a:ext cx="33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杆长度均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27400" y="14479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31280" y="14320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,2,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7400" y="21337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42760" y="2133720"/>
            <a:ext cx="25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支座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609480" y="2819520"/>
          <a:ext cx="1371600" cy="58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2819520"/>
                    <a:ext cx="13716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2666880" y="2895480"/>
                <a:ext cx="1020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533520" y="3505320"/>
                <a:ext cx="1644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40" name=""/>
          <p:cNvGraphicFramePr/>
          <p:nvPr/>
        </p:nvGraphicFramePr>
        <p:xfrm>
          <a:off x="2382840" y="3538440"/>
          <a:ext cx="2703600" cy="5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82840" y="3538440"/>
                    <a:ext cx="2703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2057400" y="5181480"/>
          <a:ext cx="1357200" cy="48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181480"/>
                    <a:ext cx="1357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609480" y="4267080"/>
          <a:ext cx="1676520" cy="61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4267080"/>
                    <a:ext cx="167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2514600" y="4343400"/>
          <a:ext cx="320040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14600" y="4343400"/>
                    <a:ext cx="3200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4038480" y="5105520"/>
          <a:ext cx="1343160" cy="490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38480" y="5105520"/>
                    <a:ext cx="13431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0" name="" descr=""/>
          <p:cNvPicPr/>
          <p:nvPr/>
        </p:nvPicPr>
        <p:blipFill>
          <a:blip r:embed="rId18"/>
          <a:stretch/>
        </p:blipFill>
        <p:spPr>
          <a:xfrm>
            <a:off x="5105520" y="2108160"/>
            <a:ext cx="3809880" cy="2158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19"/>
          <a:stretch/>
        </p:blipFill>
        <p:spPr>
          <a:xfrm>
            <a:off x="5105520" y="2108160"/>
            <a:ext cx="38098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05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914400" y="5334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1296000" y="38088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截面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桁架左边部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685800" y="1219320"/>
                <a:ext cx="137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438280" y="1066680"/>
                <a:ext cx="4191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61" name=""/>
          <p:cNvGraphicFramePr/>
          <p:nvPr/>
        </p:nvGraphicFramePr>
        <p:xfrm>
          <a:off x="609480" y="1905120"/>
          <a:ext cx="1428840" cy="5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14288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3" name=""/>
          <p:cNvGraphicFramePr/>
          <p:nvPr/>
        </p:nvGraphicFramePr>
        <p:xfrm>
          <a:off x="2558880" y="1905120"/>
          <a:ext cx="37976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8880" y="1905120"/>
                    <a:ext cx="37976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5" name=""/>
          <p:cNvGrpSpPr/>
          <p:nvPr/>
        </p:nvGrpSpPr>
        <p:grpSpPr>
          <a:xfrm>
            <a:off x="1600200" y="3657600"/>
            <a:ext cx="2256480" cy="482400"/>
            <a:chOff x="1600200" y="3657600"/>
            <a:chExt cx="2256480" cy="482400"/>
          </a:xfrm>
        </p:grpSpPr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1600200" y="3661920"/>
                  <a:ext cx="163908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7" name=""/>
            <p:cNvSpPr/>
            <p:nvPr/>
          </p:nvSpPr>
          <p:spPr>
            <a:xfrm>
              <a:off x="3139560" y="36576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600200" y="4343400"/>
            <a:ext cx="2310480" cy="487440"/>
            <a:chOff x="1600200" y="4343400"/>
            <a:chExt cx="2310480" cy="487440"/>
          </a:xfrm>
        </p:grpSpPr>
        <mc:AlternateContent>
          <mc:Choice xmlns:a14="http://schemas.microsoft.com/office/drawing/2010/main" Requires="a14">
            <p:sp>
              <p:nvSpPr>
                <p:cNvPr id="1069" name=""/>
                <p:cNvSpPr txBox="1"/>
                <p:nvPr/>
              </p:nvSpPr>
              <p:spPr>
                <a:xfrm>
                  <a:off x="1600200" y="4365720"/>
                  <a:ext cx="16970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0" name=""/>
            <p:cNvSpPr/>
            <p:nvPr/>
          </p:nvSpPr>
          <p:spPr>
            <a:xfrm>
              <a:off x="3193560" y="43434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1" name=""/>
          <p:cNvGraphicFramePr/>
          <p:nvPr/>
        </p:nvGraphicFramePr>
        <p:xfrm>
          <a:off x="685800" y="2590920"/>
          <a:ext cx="1447920" cy="61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2590920"/>
                    <a:ext cx="1447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666880" y="2590920"/>
                <a:ext cx="3505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4" name=""/>
          <p:cNvGrpSpPr/>
          <p:nvPr/>
        </p:nvGrpSpPr>
        <p:grpSpPr>
          <a:xfrm>
            <a:off x="1600200" y="4952880"/>
            <a:ext cx="2188080" cy="519120"/>
            <a:chOff x="1600200" y="4952880"/>
            <a:chExt cx="2188080" cy="519120"/>
          </a:xfrm>
        </p:grpSpPr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1600200" y="5008680"/>
                  <a:ext cx="1600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6" name=""/>
            <p:cNvSpPr/>
            <p:nvPr/>
          </p:nvSpPr>
          <p:spPr>
            <a:xfrm>
              <a:off x="3071160" y="49528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7" name="" descr=""/>
          <p:cNvPicPr/>
          <p:nvPr/>
        </p:nvPicPr>
        <p:blipFill>
          <a:blip r:embed="rId8"/>
          <a:stretch/>
        </p:blipFill>
        <p:spPr>
          <a:xfrm>
            <a:off x="4419720" y="3505320"/>
            <a:ext cx="4495680" cy="2547720"/>
          </a:xfrm>
          <a:prstGeom prst="rect">
            <a:avLst/>
          </a:prstGeom>
          <a:ln w="0">
            <a:noFill/>
          </a:ln>
        </p:spPr>
      </p:pic>
      <p:grpSp>
        <p:nvGrpSpPr>
          <p:cNvPr id="107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07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60948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528840" y="763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533520"/>
            <a:ext cx="15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1447920" y="609480"/>
          <a:ext cx="13716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609480"/>
                    <a:ext cx="1371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8" name=""/>
          <p:cNvGraphicFramePr/>
          <p:nvPr/>
        </p:nvGraphicFramePr>
        <p:xfrm>
          <a:off x="2743200" y="609480"/>
          <a:ext cx="1523880" cy="49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609480"/>
                    <a:ext cx="15238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"/>
          <p:cNvSpPr/>
          <p:nvPr/>
        </p:nvSpPr>
        <p:spPr>
          <a:xfrm>
            <a:off x="4267080" y="533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尺寸如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8360" y="10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受力及铰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1676520"/>
            <a:ext cx="49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梁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609480" y="2362320"/>
          <a:ext cx="12956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2362320"/>
                    <a:ext cx="1295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2133720" y="2362320"/>
          <a:ext cx="28954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2362320"/>
                    <a:ext cx="28954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685800" y="3048120"/>
          <a:ext cx="1295280" cy="56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3048120"/>
                    <a:ext cx="12952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"/>
          <p:cNvGraphicFramePr/>
          <p:nvPr/>
        </p:nvGraphicFramePr>
        <p:xfrm>
          <a:off x="838080" y="3581280"/>
          <a:ext cx="4267440" cy="63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581280"/>
                    <a:ext cx="4267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762120" y="4343400"/>
          <a:ext cx="1523880" cy="558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2120" y="4343400"/>
                    <a:ext cx="1523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990720" y="5029200"/>
          <a:ext cx="40384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0720" y="5029200"/>
                    <a:ext cx="4038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"/>
          <p:cNvGraphicFramePr/>
          <p:nvPr/>
        </p:nvGraphicFramePr>
        <p:xfrm>
          <a:off x="1447920" y="6019920"/>
          <a:ext cx="1858680" cy="484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6019920"/>
                    <a:ext cx="1858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7" name=""/>
          <p:cNvGraphicFramePr/>
          <p:nvPr/>
        </p:nvGraphicFramePr>
        <p:xfrm>
          <a:off x="3429000" y="6019920"/>
          <a:ext cx="1746360" cy="496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29000" y="6019920"/>
                    <a:ext cx="1746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9" name="" descr=""/>
          <p:cNvPicPr/>
          <p:nvPr/>
        </p:nvPicPr>
        <p:blipFill>
          <a:blip r:embed="rId22"/>
          <a:stretch/>
        </p:blipFill>
        <p:spPr>
          <a:xfrm>
            <a:off x="5715000" y="1066680"/>
            <a:ext cx="3429000" cy="247032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23"/>
          <a:stretch/>
        </p:blipFill>
        <p:spPr>
          <a:xfrm>
            <a:off x="5943600" y="3733920"/>
            <a:ext cx="32004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11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11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533520" y="6019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5410080" y="6019920"/>
          <a:ext cx="1354320" cy="4712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410080" y="6019920"/>
                    <a:ext cx="13543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5334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矢与简化中心无关，而主矩一般与简化中心有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1219320"/>
            <a:ext cx="2361960" cy="533160"/>
            <a:chOff x="838080" y="1219320"/>
            <a:chExt cx="2361960" cy="533160"/>
          </a:xfrm>
        </p:grpSpPr>
        <p:graphicFrame>
          <p:nvGraphicFramePr>
            <p:cNvPr id="100" name=""/>
            <p:cNvGraphicFramePr/>
            <p:nvPr/>
          </p:nvGraphicFramePr>
          <p:xfrm>
            <a:off x="1836720" y="1219320"/>
            <a:ext cx="1363320" cy="533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36720" y="1219320"/>
                      <a:ext cx="1363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838080" y="1219320"/>
              <a:ext cx="905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主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33920" y="1219320"/>
            <a:ext cx="3123720" cy="554760"/>
            <a:chOff x="3733920" y="1219320"/>
            <a:chExt cx="3123720" cy="55476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562280" y="1265760"/>
                  <a:ext cx="2295360" cy="50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3733920" y="1219320"/>
              <a:ext cx="819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主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62120" y="2158920"/>
            <a:ext cx="7619760" cy="254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62120" y="2158920"/>
            <a:ext cx="7619760" cy="2540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62120" y="2158920"/>
            <a:ext cx="76197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1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1177920" y="3124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可否列下面的方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457200" y="1143000"/>
          <a:ext cx="519444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5194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6118920" y="16365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09480" y="3886200"/>
            <a:ext cx="5822640" cy="1676160"/>
            <a:chOff x="609480" y="3886200"/>
            <a:chExt cx="5822640" cy="1676160"/>
          </a:xfrm>
        </p:grpSpPr>
        <p:graphicFrame>
          <p:nvGraphicFramePr>
            <p:cNvPr id="1124" name=""/>
            <p:cNvGraphicFramePr/>
            <p:nvPr/>
          </p:nvGraphicFramePr>
          <p:xfrm>
            <a:off x="609480" y="3886200"/>
            <a:ext cx="4944600" cy="1676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3886200"/>
                      <a:ext cx="494460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6" name=""/>
            <p:cNvSpPr/>
            <p:nvPr/>
          </p:nvSpPr>
          <p:spPr>
            <a:xfrm>
              <a:off x="6248160" y="425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04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否列下面的方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12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3" name="" descr=""/>
          <p:cNvPicPr/>
          <p:nvPr/>
        </p:nvPicPr>
        <p:blipFill>
          <a:blip r:embed="rId6"/>
          <a:stretch/>
        </p:blipFill>
        <p:spPr>
          <a:xfrm>
            <a:off x="5715000" y="685800"/>
            <a:ext cx="3200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589320" y="29988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041560" y="291960"/>
            <a:ext cx="64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、轮重不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907560" y="990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88280" y="990720"/>
            <a:ext cx="23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座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32960" y="169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9200" y="16905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受力图能否这样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793160" y="245268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520560" y="3048120"/>
            <a:ext cx="4660920" cy="533160"/>
            <a:chOff x="520560" y="3048120"/>
            <a:chExt cx="4660920" cy="533160"/>
          </a:xfrm>
        </p:grpSpPr>
        <p:graphicFrame>
          <p:nvGraphicFramePr>
            <p:cNvPr id="1142" name=""/>
            <p:cNvGraphicFramePr/>
            <p:nvPr/>
          </p:nvGraphicFramePr>
          <p:xfrm>
            <a:off x="520560" y="3048120"/>
            <a:ext cx="1575000" cy="48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0560" y="3048120"/>
                      <a:ext cx="1575000" cy="48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4" name=""/>
            <p:cNvGraphicFramePr/>
            <p:nvPr/>
          </p:nvGraphicFramePr>
          <p:xfrm>
            <a:off x="1927080" y="3048120"/>
            <a:ext cx="3254400" cy="533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27080" y="3048120"/>
                      <a:ext cx="325440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46" name=""/>
          <p:cNvGrpSpPr/>
          <p:nvPr/>
        </p:nvGrpSpPr>
        <p:grpSpPr>
          <a:xfrm>
            <a:off x="1115640" y="3657600"/>
            <a:ext cx="2726280" cy="512280"/>
            <a:chOff x="1115640" y="3657600"/>
            <a:chExt cx="2726280" cy="512280"/>
          </a:xfrm>
        </p:grpSpPr>
        <p:sp>
          <p:nvSpPr>
            <p:cNvPr id="1147" name=""/>
            <p:cNvSpPr/>
            <p:nvPr/>
          </p:nvSpPr>
          <p:spPr>
            <a:xfrm>
              <a:off x="1115640" y="365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8" name=""/>
            <p:cNvGraphicFramePr/>
            <p:nvPr/>
          </p:nvGraphicFramePr>
          <p:xfrm>
            <a:off x="2165400" y="3713040"/>
            <a:ext cx="1676520" cy="456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4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65400" y="3713040"/>
                      <a:ext cx="167652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0" name=""/>
          <p:cNvGraphicFramePr/>
          <p:nvPr/>
        </p:nvGraphicFramePr>
        <p:xfrm>
          <a:off x="838080" y="4191120"/>
          <a:ext cx="3581640" cy="5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91120"/>
                    <a:ext cx="35816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2" name=""/>
          <p:cNvGrpSpPr/>
          <p:nvPr/>
        </p:nvGrpSpPr>
        <p:grpSpPr>
          <a:xfrm>
            <a:off x="1267920" y="4876920"/>
            <a:ext cx="2726280" cy="488880"/>
            <a:chOff x="1267920" y="4876920"/>
            <a:chExt cx="2726280" cy="488880"/>
          </a:xfrm>
        </p:grpSpPr>
        <p:graphicFrame>
          <p:nvGraphicFramePr>
            <p:cNvPr id="1153" name=""/>
            <p:cNvGraphicFramePr/>
            <p:nvPr/>
          </p:nvGraphicFramePr>
          <p:xfrm>
            <a:off x="2394000" y="4876920"/>
            <a:ext cx="1600200" cy="488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394000" y="4876920"/>
                      <a:ext cx="160020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5" name=""/>
            <p:cNvSpPr/>
            <p:nvPr/>
          </p:nvSpPr>
          <p:spPr>
            <a:xfrm>
              <a:off x="1267920" y="489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6" name="" descr=""/>
          <p:cNvPicPr/>
          <p:nvPr/>
        </p:nvPicPr>
        <p:blipFill>
          <a:blip r:embed="rId12"/>
          <a:stretch/>
        </p:blipFill>
        <p:spPr>
          <a:xfrm>
            <a:off x="5410080" y="2514600"/>
            <a:ext cx="3735360" cy="344808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13"/>
          <a:stretch/>
        </p:blipFill>
        <p:spPr>
          <a:xfrm>
            <a:off x="5410080" y="2514600"/>
            <a:ext cx="37353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14"/>
          <a:stretch/>
        </p:blipFill>
        <p:spPr>
          <a:xfrm>
            <a:off x="5410080" y="2514600"/>
            <a:ext cx="3733920" cy="3448080"/>
          </a:xfrm>
          <a:prstGeom prst="rect">
            <a:avLst/>
          </a:prstGeom>
          <a:ln w="0">
            <a:noFill/>
          </a:ln>
        </p:spPr>
      </p:pic>
      <p:grpSp>
        <p:nvGrpSpPr>
          <p:cNvPr id="115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16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4" name=""/>
          <p:cNvGraphicFramePr/>
          <p:nvPr/>
        </p:nvGraphicFramePr>
        <p:xfrm>
          <a:off x="685800" y="5486400"/>
          <a:ext cx="1359000" cy="58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5800" y="5486400"/>
                    <a:ext cx="13590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"/>
          <p:cNvGraphicFramePr/>
          <p:nvPr/>
        </p:nvGraphicFramePr>
        <p:xfrm>
          <a:off x="2209680" y="5410080"/>
          <a:ext cx="3200400" cy="57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5410080"/>
                    <a:ext cx="32004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8" name=""/>
          <p:cNvGraphicFramePr/>
          <p:nvPr/>
        </p:nvGraphicFramePr>
        <p:xfrm>
          <a:off x="3048120" y="2438280"/>
          <a:ext cx="1676160" cy="4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438280"/>
                    <a:ext cx="1676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0" y="5867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杆（不带着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276720" y="57913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带着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35280" y="579132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杆（不带着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954000" y="174600"/>
            <a:ext cx="25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（带着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4" name=""/>
          <p:cNvGraphicFramePr/>
          <p:nvPr/>
        </p:nvGraphicFramePr>
        <p:xfrm>
          <a:off x="609480" y="838080"/>
          <a:ext cx="4595760" cy="100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838080"/>
                    <a:ext cx="4595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6" name=""/>
          <p:cNvSpPr/>
          <p:nvPr/>
        </p:nvSpPr>
        <p:spPr>
          <a:xfrm>
            <a:off x="602640" y="1852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1219320" y="2438280"/>
          <a:ext cx="143964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2438280"/>
                    <a:ext cx="14396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9" name="" descr=""/>
          <p:cNvPicPr/>
          <p:nvPr/>
        </p:nvPicPr>
        <p:blipFill>
          <a:blip r:embed="rId8"/>
          <a:stretch/>
        </p:blipFill>
        <p:spPr>
          <a:xfrm>
            <a:off x="5791320" y="380880"/>
            <a:ext cx="2743200" cy="253224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9"/>
          <a:stretch/>
        </p:blipFill>
        <p:spPr>
          <a:xfrm>
            <a:off x="3276720" y="3276720"/>
            <a:ext cx="2590560" cy="239076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10"/>
          <a:stretch/>
        </p:blipFill>
        <p:spPr>
          <a:xfrm>
            <a:off x="6248520" y="3276720"/>
            <a:ext cx="2590560" cy="239076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11"/>
          <a:stretch/>
        </p:blipFill>
        <p:spPr>
          <a:xfrm>
            <a:off x="380880" y="3276720"/>
            <a:ext cx="25146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1183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184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561960" y="3636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28800" y="3808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 ,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杆重不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5880" y="914400"/>
            <a:ext cx="23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铰处约束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631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20080" y="1523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447920" y="2209680"/>
          <a:ext cx="132372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209680"/>
                    <a:ext cx="1323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"/>
          <p:cNvGraphicFramePr/>
          <p:nvPr/>
        </p:nvGraphicFramePr>
        <p:xfrm>
          <a:off x="3048120" y="2214720"/>
          <a:ext cx="1668240" cy="50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14720"/>
                    <a:ext cx="16682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>
            <a:off x="1212120" y="2843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2209680" y="2895480"/>
          <a:ext cx="1011240" cy="5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895480"/>
                    <a:ext cx="10112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1411200" y="3505320"/>
            <a:ext cx="25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，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762120" y="4114800"/>
          <a:ext cx="1371600" cy="49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4114800"/>
                    <a:ext cx="13716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"/>
          <p:cNvGraphicFramePr/>
          <p:nvPr/>
        </p:nvGraphicFramePr>
        <p:xfrm>
          <a:off x="2362320" y="4114800"/>
          <a:ext cx="3276360" cy="52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4114800"/>
                    <a:ext cx="327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5" name="" descr=""/>
          <p:cNvPicPr/>
          <p:nvPr/>
        </p:nvPicPr>
        <p:blipFill>
          <a:blip r:embed="rId12"/>
          <a:stretch/>
        </p:blipFill>
        <p:spPr>
          <a:xfrm>
            <a:off x="6172200" y="304920"/>
            <a:ext cx="2743200" cy="252396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13"/>
          <a:stretch/>
        </p:blipFill>
        <p:spPr>
          <a:xfrm>
            <a:off x="6172200" y="304920"/>
            <a:ext cx="2743200" cy="252396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14"/>
          <a:stretch/>
        </p:blipFill>
        <p:spPr>
          <a:xfrm>
            <a:off x="6337440" y="3124080"/>
            <a:ext cx="2577960" cy="2373480"/>
          </a:xfrm>
          <a:prstGeom prst="rect">
            <a:avLst/>
          </a:prstGeom>
          <a:ln w="0">
            <a:noFill/>
          </a:ln>
        </p:spPr>
      </p:pic>
      <p:grpSp>
        <p:nvGrpSpPr>
          <p:cNvPr id="120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20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3" name=""/>
          <p:cNvGraphicFramePr/>
          <p:nvPr/>
        </p:nvGraphicFramePr>
        <p:xfrm>
          <a:off x="838080" y="4876920"/>
          <a:ext cx="123048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4876920"/>
                    <a:ext cx="12304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"/>
          <p:cNvGraphicFramePr/>
          <p:nvPr/>
        </p:nvGraphicFramePr>
        <p:xfrm>
          <a:off x="2514600" y="4876920"/>
          <a:ext cx="2819520" cy="558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876920"/>
                    <a:ext cx="2819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914400" y="5638680"/>
          <a:ext cx="121932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5638680"/>
                    <a:ext cx="12193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9" name=""/>
          <p:cNvGraphicFramePr/>
          <p:nvPr/>
        </p:nvGraphicFramePr>
        <p:xfrm>
          <a:off x="2590920" y="5562720"/>
          <a:ext cx="225252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90920" y="5562720"/>
                    <a:ext cx="2252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3657600" y="609480"/>
          <a:ext cx="3027240" cy="5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609480"/>
                    <a:ext cx="3027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3" name=""/>
          <p:cNvGraphicFramePr/>
          <p:nvPr/>
        </p:nvGraphicFramePr>
        <p:xfrm>
          <a:off x="7010280" y="609480"/>
          <a:ext cx="128268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609480"/>
                    <a:ext cx="12826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5" name=""/>
          <p:cNvSpPr/>
          <p:nvPr/>
        </p:nvSpPr>
        <p:spPr>
          <a:xfrm>
            <a:off x="810000" y="1473120"/>
            <a:ext cx="21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85800" y="2209680"/>
          <a:ext cx="12952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2209680"/>
                    <a:ext cx="1295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609480" y="2895480"/>
          <a:ext cx="2971800" cy="56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2895480"/>
                    <a:ext cx="2971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533520" y="3733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1295280" y="3733920"/>
          <a:ext cx="1235160" cy="47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5280" y="3733920"/>
                    <a:ext cx="12351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3" name="" descr=""/>
          <p:cNvPicPr/>
          <p:nvPr/>
        </p:nvPicPr>
        <p:blipFill>
          <a:blip r:embed="rId12"/>
          <a:stretch/>
        </p:blipFill>
        <p:spPr>
          <a:xfrm>
            <a:off x="2971800" y="4267080"/>
            <a:ext cx="2590920" cy="2382840"/>
          </a:xfrm>
          <a:prstGeom prst="rect">
            <a:avLst/>
          </a:prstGeom>
          <a:ln w="0">
            <a:noFill/>
          </a:ln>
        </p:spPr>
      </p:pic>
      <p:grpSp>
        <p:nvGrpSpPr>
          <p:cNvPr id="123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23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9" name="" descr=""/>
          <p:cNvPicPr/>
          <p:nvPr/>
        </p:nvPicPr>
        <p:blipFill>
          <a:blip r:embed="rId13"/>
          <a:stretch/>
        </p:blipFill>
        <p:spPr>
          <a:xfrm>
            <a:off x="4419720" y="1295280"/>
            <a:ext cx="289548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0" name=""/>
          <p:cNvGraphicFramePr/>
          <p:nvPr/>
        </p:nvGraphicFramePr>
        <p:xfrm>
          <a:off x="1371600" y="609480"/>
          <a:ext cx="210348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71600" y="609480"/>
                    <a:ext cx="2103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533520" y="838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409320" y="27288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469960" y="29520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,b ,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杆重不计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光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99320" y="27288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93492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160360" y="9907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始终受压，且大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907560" y="159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142360" y="16146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1293840" y="2387520"/>
          <a:ext cx="1144440" cy="4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3840" y="2387520"/>
                    <a:ext cx="11444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"/>
          <p:cNvGraphicFramePr/>
          <p:nvPr/>
        </p:nvGraphicFramePr>
        <p:xfrm>
          <a:off x="3124080" y="2362320"/>
          <a:ext cx="99072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2362320"/>
                    <a:ext cx="990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"/>
          <p:cNvGraphicFramePr/>
          <p:nvPr/>
        </p:nvGraphicFramePr>
        <p:xfrm>
          <a:off x="1371600" y="3048120"/>
          <a:ext cx="12952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3048120"/>
                    <a:ext cx="1295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6" name=""/>
          <p:cNvGraphicFramePr/>
          <p:nvPr/>
        </p:nvGraphicFramePr>
        <p:xfrm>
          <a:off x="2971800" y="3048120"/>
          <a:ext cx="2895480" cy="52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71800" y="3048120"/>
                    <a:ext cx="28954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1499760" y="37782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2050920" y="3710160"/>
          <a:ext cx="1905120" cy="79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0920" y="3710160"/>
                    <a:ext cx="19051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"/>
          <p:cNvSpPr/>
          <p:nvPr/>
        </p:nvSpPr>
        <p:spPr>
          <a:xfrm>
            <a:off x="1787040" y="449568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1295280" y="5181480"/>
          <a:ext cx="1301760" cy="544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95280" y="5181480"/>
                    <a:ext cx="13017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4" name=""/>
          <p:cNvGraphicFramePr/>
          <p:nvPr/>
        </p:nvGraphicFramePr>
        <p:xfrm>
          <a:off x="3124080" y="5181480"/>
          <a:ext cx="1884600" cy="459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5181480"/>
                    <a:ext cx="1884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6" name=""/>
          <p:cNvGraphicFramePr/>
          <p:nvPr/>
        </p:nvGraphicFramePr>
        <p:xfrm>
          <a:off x="3352680" y="6172200"/>
          <a:ext cx="1295640" cy="496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2680" y="6172200"/>
                    <a:ext cx="12956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"/>
          <p:cNvSpPr/>
          <p:nvPr/>
        </p:nvSpPr>
        <p:spPr>
          <a:xfrm>
            <a:off x="1663560" y="624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8"/>
          <a:stretch/>
        </p:blipFill>
        <p:spPr>
          <a:xfrm>
            <a:off x="6172200" y="914400"/>
            <a:ext cx="2666880" cy="279396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19"/>
          <a:stretch/>
        </p:blipFill>
        <p:spPr>
          <a:xfrm>
            <a:off x="6172200" y="914400"/>
            <a:ext cx="2666880" cy="279396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20"/>
          <a:stretch/>
        </p:blipFill>
        <p:spPr>
          <a:xfrm>
            <a:off x="6172200" y="3809880"/>
            <a:ext cx="2666880" cy="279396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27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77" name=""/>
          <p:cNvGraphicFramePr/>
          <p:nvPr/>
        </p:nvGraphicFramePr>
        <p:xfrm>
          <a:off x="1371600" y="5715000"/>
          <a:ext cx="1108080" cy="477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71600" y="5715000"/>
                    <a:ext cx="11080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3124080" y="5715000"/>
          <a:ext cx="27529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24080" y="5715000"/>
                    <a:ext cx="2752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874440" y="284472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82960" y="55872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3" name=""/>
          <p:cNvGraphicFramePr/>
          <p:nvPr/>
        </p:nvGraphicFramePr>
        <p:xfrm>
          <a:off x="533520" y="1295280"/>
          <a:ext cx="1218960" cy="4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1218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"/>
          <p:cNvGraphicFramePr/>
          <p:nvPr/>
        </p:nvGraphicFramePr>
        <p:xfrm>
          <a:off x="2209680" y="1219320"/>
          <a:ext cx="221004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219320"/>
                    <a:ext cx="2210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7" name=""/>
          <p:cNvSpPr/>
          <p:nvPr/>
        </p:nvSpPr>
        <p:spPr>
          <a:xfrm>
            <a:off x="910800" y="2081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2590920" y="1828800"/>
          <a:ext cx="1296720" cy="8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1828800"/>
                    <a:ext cx="12967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0" name=""/>
          <p:cNvGraphicFramePr/>
          <p:nvPr/>
        </p:nvGraphicFramePr>
        <p:xfrm>
          <a:off x="533520" y="3581280"/>
          <a:ext cx="1447560" cy="52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3581280"/>
                    <a:ext cx="1447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2362320" y="3352680"/>
          <a:ext cx="2819160" cy="89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3352680"/>
                    <a:ext cx="281916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"/>
          <p:cNvSpPr/>
          <p:nvPr/>
        </p:nvSpPr>
        <p:spPr>
          <a:xfrm>
            <a:off x="910800" y="4595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2057400" y="4419720"/>
          <a:ext cx="2209680" cy="815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4419720"/>
                    <a:ext cx="22096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"/>
          <p:cNvSpPr/>
          <p:nvPr/>
        </p:nvSpPr>
        <p:spPr>
          <a:xfrm>
            <a:off x="1136160" y="571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2362320" y="5638680"/>
          <a:ext cx="2209680" cy="56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5638680"/>
                    <a:ext cx="2209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0" name="" descr=""/>
          <p:cNvPicPr/>
          <p:nvPr/>
        </p:nvPicPr>
        <p:blipFill>
          <a:blip r:embed="rId16"/>
          <a:stretch/>
        </p:blipFill>
        <p:spPr>
          <a:xfrm>
            <a:off x="5867280" y="3429000"/>
            <a:ext cx="2765520" cy="289548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17"/>
          <a:stretch/>
        </p:blipFill>
        <p:spPr>
          <a:xfrm>
            <a:off x="5791320" y="304920"/>
            <a:ext cx="28382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30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545760" y="1350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09560" y="68580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 ,a ,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4840" y="9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3124080" y="762120"/>
          <a:ext cx="1828800" cy="56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762120"/>
                    <a:ext cx="1828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"/>
          <p:cNvSpPr/>
          <p:nvPr/>
        </p:nvSpPr>
        <p:spPr>
          <a:xfrm>
            <a:off x="1901880" y="1219320"/>
            <a:ext cx="23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于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38080" y="175248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676520" y="1828800"/>
            <a:ext cx="429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定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约束力和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的作用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0264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41120" y="3149640"/>
            <a:ext cx="25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676520" y="3809880"/>
          <a:ext cx="1752480" cy="6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809880"/>
                    <a:ext cx="17524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"/>
          <p:cNvGraphicFramePr/>
          <p:nvPr/>
        </p:nvGraphicFramePr>
        <p:xfrm>
          <a:off x="1828800" y="4419720"/>
          <a:ext cx="2743200" cy="98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419720"/>
                    <a:ext cx="27432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1" name=""/>
          <p:cNvSpPr/>
          <p:nvPr/>
        </p:nvSpPr>
        <p:spPr>
          <a:xfrm>
            <a:off x="837000" y="556272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2590920" y="5410080"/>
          <a:ext cx="1450800" cy="84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90920" y="5410080"/>
                    <a:ext cx="14508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4" name="" descr=""/>
          <p:cNvPicPr/>
          <p:nvPr/>
        </p:nvPicPr>
        <p:blipFill>
          <a:blip r:embed="rId10"/>
          <a:stretch/>
        </p:blipFill>
        <p:spPr>
          <a:xfrm>
            <a:off x="6019920" y="380880"/>
            <a:ext cx="2620800" cy="327672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11"/>
          <a:stretch/>
        </p:blipFill>
        <p:spPr>
          <a:xfrm>
            <a:off x="6095880" y="3581280"/>
            <a:ext cx="2590920" cy="2895840"/>
          </a:xfrm>
          <a:prstGeom prst="rect">
            <a:avLst/>
          </a:prstGeom>
          <a:ln w="0">
            <a:noFill/>
          </a:ln>
        </p:spPr>
      </p:pic>
      <p:grpSp>
        <p:nvGrpSpPr>
          <p:cNvPr id="1326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327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33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6" name="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43684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7" name=""/>
          <p:cNvGraphicFramePr/>
          <p:nvPr/>
        </p:nvGraphicFramePr>
        <p:xfrm>
          <a:off x="3962520" y="2590920"/>
          <a:ext cx="12952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2590920"/>
                    <a:ext cx="12952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103968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838080" y="1828800"/>
          <a:ext cx="144144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828800"/>
                    <a:ext cx="1441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2" name=""/>
          <p:cNvGraphicFramePr/>
          <p:nvPr/>
        </p:nvGraphicFramePr>
        <p:xfrm>
          <a:off x="2743200" y="1828800"/>
          <a:ext cx="198612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828800"/>
                    <a:ext cx="1986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2057400" y="2438280"/>
          <a:ext cx="1517760" cy="81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438280"/>
                    <a:ext cx="15177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743200" y="1219320"/>
          <a:ext cx="1981080" cy="552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1219320"/>
                    <a:ext cx="1981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941400" y="1219320"/>
          <a:ext cx="120348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41400" y="1219320"/>
                    <a:ext cx="1203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0" name=""/>
          <p:cNvSpPr/>
          <p:nvPr/>
        </p:nvSpPr>
        <p:spPr>
          <a:xfrm>
            <a:off x="1482840" y="482760"/>
            <a:ext cx="40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（不含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402920" y="327672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2" name=""/>
          <p:cNvGraphicFramePr/>
          <p:nvPr/>
        </p:nvGraphicFramePr>
        <p:xfrm>
          <a:off x="1017720" y="3886200"/>
          <a:ext cx="11984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17720" y="3886200"/>
                    <a:ext cx="1198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"/>
          <p:cNvGraphicFramePr/>
          <p:nvPr/>
        </p:nvGraphicFramePr>
        <p:xfrm>
          <a:off x="2743200" y="3809880"/>
          <a:ext cx="2057400" cy="53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3809880"/>
                    <a:ext cx="20574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6" name="" descr=""/>
          <p:cNvPicPr/>
          <p:nvPr/>
        </p:nvPicPr>
        <p:blipFill>
          <a:blip r:embed="rId19"/>
          <a:stretch/>
        </p:blipFill>
        <p:spPr>
          <a:xfrm>
            <a:off x="6477120" y="3429000"/>
            <a:ext cx="23778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7" name=""/>
          <p:cNvGraphicFramePr/>
          <p:nvPr/>
        </p:nvGraphicFramePr>
        <p:xfrm>
          <a:off x="1003320" y="4495680"/>
          <a:ext cx="1219320" cy="525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03320" y="4495680"/>
                    <a:ext cx="12193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2666880" y="4495680"/>
          <a:ext cx="2362320" cy="513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66880" y="4495680"/>
                    <a:ext cx="23623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111564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33720" y="5105520"/>
          <a:ext cx="1523880" cy="815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3720" y="5105520"/>
                    <a:ext cx="15238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4038480" y="5257800"/>
          <a:ext cx="1752840" cy="522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038480" y="5257800"/>
                    <a:ext cx="1752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"/>
          <p:cNvSpPr/>
          <p:nvPr/>
        </p:nvSpPr>
        <p:spPr>
          <a:xfrm>
            <a:off x="11430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2057400" y="5867280"/>
          <a:ext cx="1676520" cy="7876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6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057400" y="5867280"/>
                    <a:ext cx="16765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9" name=""/>
          <p:cNvGraphicFramePr/>
          <p:nvPr/>
        </p:nvGraphicFramePr>
        <p:xfrm>
          <a:off x="4038480" y="6019920"/>
          <a:ext cx="2057400" cy="477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038480" y="6019920"/>
                    <a:ext cx="20574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372680" y="635040"/>
            <a:ext cx="41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杆（不含销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712800" y="1600200"/>
          <a:ext cx="114156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1600200"/>
                    <a:ext cx="1141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"/>
          <p:cNvGraphicFramePr/>
          <p:nvPr/>
        </p:nvGraphicFramePr>
        <p:xfrm>
          <a:off x="2286000" y="1371600"/>
          <a:ext cx="320040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1371600"/>
                    <a:ext cx="32004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6" name=""/>
          <p:cNvSpPr/>
          <p:nvPr/>
        </p:nvSpPr>
        <p:spPr>
          <a:xfrm>
            <a:off x="103968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2514600" y="2286000"/>
          <a:ext cx="152388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2286000"/>
                    <a:ext cx="152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9" name="" descr=""/>
          <p:cNvPicPr/>
          <p:nvPr/>
        </p:nvPicPr>
        <p:blipFill>
          <a:blip r:embed="rId8"/>
          <a:stretch/>
        </p:blipFill>
        <p:spPr>
          <a:xfrm>
            <a:off x="6019920" y="1143000"/>
            <a:ext cx="27432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0" name=""/>
          <p:cNvGraphicFramePr/>
          <p:nvPr/>
        </p:nvGraphicFramePr>
        <p:xfrm>
          <a:off x="774720" y="2971800"/>
          <a:ext cx="114156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720" y="2971800"/>
                    <a:ext cx="11415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2" name=""/>
          <p:cNvGraphicFramePr/>
          <p:nvPr/>
        </p:nvGraphicFramePr>
        <p:xfrm>
          <a:off x="2438280" y="2971800"/>
          <a:ext cx="198144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971800"/>
                    <a:ext cx="1981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4" name=""/>
          <p:cNvSpPr/>
          <p:nvPr/>
        </p:nvSpPr>
        <p:spPr>
          <a:xfrm>
            <a:off x="11919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2514600" y="3657600"/>
          <a:ext cx="17524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4600" y="3657600"/>
                    <a:ext cx="17524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838080" y="4191120"/>
          <a:ext cx="1230480" cy="45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4191120"/>
                    <a:ext cx="12304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9" name=""/>
          <p:cNvGraphicFramePr/>
          <p:nvPr/>
        </p:nvGraphicFramePr>
        <p:xfrm>
          <a:off x="1171440" y="4800600"/>
          <a:ext cx="5278680" cy="858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71440" y="4800600"/>
                    <a:ext cx="52786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1" name=""/>
          <p:cNvSpPr/>
          <p:nvPr/>
        </p:nvSpPr>
        <p:spPr>
          <a:xfrm>
            <a:off x="96336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2666880" y="5867280"/>
          <a:ext cx="208296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5867280"/>
                    <a:ext cx="20829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39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828800" y="609480"/>
          <a:ext cx="45720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609480"/>
                    <a:ext cx="4572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828800" y="1523880"/>
          <a:ext cx="4648320" cy="62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1523880"/>
                    <a:ext cx="46483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348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矢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52680" y="2362320"/>
          <a:ext cx="3505320" cy="63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362320"/>
                    <a:ext cx="35053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13616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14600" y="3581280"/>
          <a:ext cx="2714760" cy="104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3581280"/>
                    <a:ext cx="27147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562720" y="3505320"/>
          <a:ext cx="2930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62720" y="3505320"/>
                    <a:ext cx="2930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841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8880" y="4800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用于简化中心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2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43000" y="5715000"/>
            <a:ext cx="4266720" cy="556920"/>
            <a:chOff x="1143000" y="5715000"/>
            <a:chExt cx="4266720" cy="556920"/>
          </a:xfrm>
        </p:grpSpPr>
        <p:sp>
          <p:nvSpPr>
            <p:cNvPr id="134" name=""/>
            <p:cNvSpPr/>
            <p:nvPr/>
          </p:nvSpPr>
          <p:spPr>
            <a:xfrm>
              <a:off x="1143000" y="5715000"/>
              <a:ext cx="898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主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590560" y="5715000"/>
                  <a:ext cx="281916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e>
                      </m:nary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529920" y="7632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9832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100960" y="533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荷载与尺寸如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24760" y="100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953720" y="10047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根杆所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31240" y="146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97720" y="146196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整体，画受力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6" name=""/>
          <p:cNvGraphicFramePr/>
          <p:nvPr/>
        </p:nvGraphicFramePr>
        <p:xfrm>
          <a:off x="635040" y="2209680"/>
          <a:ext cx="1103400" cy="4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40" y="2209680"/>
                    <a:ext cx="11034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"/>
          <p:cNvGraphicFramePr/>
          <p:nvPr/>
        </p:nvGraphicFramePr>
        <p:xfrm>
          <a:off x="2438280" y="2209680"/>
          <a:ext cx="981360" cy="46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209680"/>
                    <a:ext cx="9813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"/>
          <p:cNvGraphicFramePr/>
          <p:nvPr/>
        </p:nvGraphicFramePr>
        <p:xfrm>
          <a:off x="638280" y="2819520"/>
          <a:ext cx="141264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8280" y="2819520"/>
                    <a:ext cx="1412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2" name=""/>
          <p:cNvGraphicFramePr/>
          <p:nvPr/>
        </p:nvGraphicFramePr>
        <p:xfrm>
          <a:off x="2262240" y="2819520"/>
          <a:ext cx="5100480" cy="50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2240" y="2819520"/>
                    <a:ext cx="5100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4" name=""/>
          <p:cNvSpPr/>
          <p:nvPr/>
        </p:nvSpPr>
        <p:spPr>
          <a:xfrm>
            <a:off x="1050120" y="337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1857240" y="3429000"/>
          <a:ext cx="1490760" cy="47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57240" y="3429000"/>
                    <a:ext cx="1490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762120" y="3962520"/>
          <a:ext cx="1218960" cy="52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2120" y="3962520"/>
                    <a:ext cx="12189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"/>
          <p:cNvGraphicFramePr/>
          <p:nvPr/>
        </p:nvGraphicFramePr>
        <p:xfrm>
          <a:off x="2340000" y="3933720"/>
          <a:ext cx="2260440" cy="49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40000" y="3933720"/>
                    <a:ext cx="2260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/>
          <p:nvPr/>
        </p:nvSpPr>
        <p:spPr>
          <a:xfrm>
            <a:off x="1035000" y="450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2" name=""/>
          <p:cNvGraphicFramePr/>
          <p:nvPr/>
        </p:nvGraphicFramePr>
        <p:xfrm>
          <a:off x="1803240" y="4514760"/>
          <a:ext cx="1616400" cy="52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2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803240" y="4514760"/>
                    <a:ext cx="1616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4" name=""/>
          <p:cNvSpPr/>
          <p:nvPr/>
        </p:nvSpPr>
        <p:spPr>
          <a:xfrm>
            <a:off x="1123200" y="5052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各杆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9907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6" name=""/>
          <p:cNvGraphicFramePr/>
          <p:nvPr/>
        </p:nvGraphicFramePr>
        <p:xfrm>
          <a:off x="2830680" y="5486400"/>
          <a:ext cx="2135160" cy="1004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2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30680" y="5486400"/>
                    <a:ext cx="21351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8" name="" descr=""/>
          <p:cNvPicPr/>
          <p:nvPr/>
        </p:nvPicPr>
        <p:blipFill>
          <a:blip r:embed="rId20"/>
          <a:stretch/>
        </p:blipFill>
        <p:spPr>
          <a:xfrm>
            <a:off x="5410080" y="15228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21"/>
          <a:stretch/>
        </p:blipFill>
        <p:spPr>
          <a:xfrm>
            <a:off x="5410080" y="15228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2"/>
          <a:stretch/>
        </p:blipFill>
        <p:spPr>
          <a:xfrm>
            <a:off x="5410080" y="15228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3"/>
          <a:stretch/>
        </p:blipFill>
        <p:spPr>
          <a:xfrm>
            <a:off x="6781680" y="4876920"/>
            <a:ext cx="1650960" cy="1269720"/>
          </a:xfrm>
          <a:prstGeom prst="rect">
            <a:avLst/>
          </a:prstGeom>
          <a:ln w="0">
            <a:noFill/>
          </a:ln>
        </p:spPr>
      </p:pic>
      <p:grpSp>
        <p:nvGrpSpPr>
          <p:cNvPr id="1432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433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625680" y="60012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2089080" y="824040"/>
          <a:ext cx="2586240" cy="10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9080" y="824040"/>
                    <a:ext cx="25862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0" name=""/>
          <p:cNvSpPr/>
          <p:nvPr/>
        </p:nvSpPr>
        <p:spPr>
          <a:xfrm>
            <a:off x="616680" y="227664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2038320" y="2805120"/>
          <a:ext cx="266076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38320" y="2805120"/>
                    <a:ext cx="26607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3" name=""/>
          <p:cNvSpPr/>
          <p:nvPr/>
        </p:nvSpPr>
        <p:spPr>
          <a:xfrm>
            <a:off x="632160" y="418140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2144880" y="4800600"/>
          <a:ext cx="2135160" cy="100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4880" y="4800600"/>
                    <a:ext cx="21351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6" name=""/>
          <p:cNvGraphicFramePr/>
          <p:nvPr/>
        </p:nvGraphicFramePr>
        <p:xfrm>
          <a:off x="914400" y="6068880"/>
          <a:ext cx="214488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6068880"/>
                    <a:ext cx="214488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8" name="" descr=""/>
          <p:cNvPicPr/>
          <p:nvPr/>
        </p:nvPicPr>
        <p:blipFill>
          <a:blip r:embed="rId10"/>
          <a:stretch/>
        </p:blipFill>
        <p:spPr>
          <a:xfrm>
            <a:off x="6324480" y="990720"/>
            <a:ext cx="1650960" cy="126972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11"/>
          <a:stretch/>
        </p:blipFill>
        <p:spPr>
          <a:xfrm>
            <a:off x="6324480" y="2692440"/>
            <a:ext cx="1650960" cy="1270080"/>
          </a:xfrm>
          <a:prstGeom prst="rect">
            <a:avLst/>
          </a:prstGeom>
          <a:ln w="0">
            <a:noFill/>
          </a:ln>
        </p:spPr>
      </p:pic>
      <p:pic>
        <p:nvPicPr>
          <p:cNvPr id="1450" name="" descr=""/>
          <p:cNvPicPr/>
          <p:nvPr/>
        </p:nvPicPr>
        <p:blipFill>
          <a:blip r:embed="rId12"/>
          <a:stretch/>
        </p:blipFill>
        <p:spPr>
          <a:xfrm>
            <a:off x="6324480" y="4444920"/>
            <a:ext cx="165096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451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452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942480" y="126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009520" y="128592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，２，３杆所受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942480" y="17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007720" y="1766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支座约束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1177920" y="2438280"/>
          <a:ext cx="133668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438280"/>
                    <a:ext cx="1336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2" name=""/>
          <p:cNvGraphicFramePr/>
          <p:nvPr/>
        </p:nvGraphicFramePr>
        <p:xfrm>
          <a:off x="2700360" y="2438280"/>
          <a:ext cx="1338120" cy="58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438280"/>
                    <a:ext cx="13381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4" name=""/>
          <p:cNvGraphicFramePr/>
          <p:nvPr/>
        </p:nvGraphicFramePr>
        <p:xfrm>
          <a:off x="1157400" y="2971800"/>
          <a:ext cx="1458720" cy="6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7400" y="2971800"/>
                    <a:ext cx="1458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6" name=""/>
          <p:cNvGraphicFramePr/>
          <p:nvPr/>
        </p:nvGraphicFramePr>
        <p:xfrm>
          <a:off x="2743200" y="3048120"/>
          <a:ext cx="1219320" cy="63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3200" y="3048120"/>
                    <a:ext cx="12193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939960" y="4648320"/>
          <a:ext cx="1117440" cy="46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39960" y="4648320"/>
                    <a:ext cx="1117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1221840" y="3952800"/>
            <a:ext cx="35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杆处截取左边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2268360" y="4648320"/>
          <a:ext cx="1008360" cy="487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4648320"/>
                    <a:ext cx="10083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3" name=""/>
          <p:cNvGraphicFramePr/>
          <p:nvPr/>
        </p:nvGraphicFramePr>
        <p:xfrm>
          <a:off x="914400" y="5334120"/>
          <a:ext cx="137160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7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400" y="533412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"/>
          <p:cNvGraphicFramePr/>
          <p:nvPr/>
        </p:nvGraphicFramePr>
        <p:xfrm>
          <a:off x="2268360" y="5334120"/>
          <a:ext cx="100836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8360" y="5334120"/>
                    <a:ext cx="10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7" name=""/>
          <p:cNvGraphicFramePr/>
          <p:nvPr/>
        </p:nvGraphicFramePr>
        <p:xfrm>
          <a:off x="941400" y="5904000"/>
          <a:ext cx="1192320" cy="496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41400" y="5904000"/>
                    <a:ext cx="11923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9" name=""/>
          <p:cNvGraphicFramePr/>
          <p:nvPr/>
        </p:nvGraphicFramePr>
        <p:xfrm>
          <a:off x="2286000" y="5943600"/>
          <a:ext cx="1084320" cy="522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8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86000" y="5943600"/>
                    <a:ext cx="10843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1" name=""/>
          <p:cNvSpPr/>
          <p:nvPr/>
        </p:nvSpPr>
        <p:spPr>
          <a:xfrm>
            <a:off x="485640" y="243000"/>
            <a:ext cx="12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44200" y="722160"/>
            <a:ext cx="325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尺寸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22"/>
          <a:stretch/>
        </p:blipFill>
        <p:spPr>
          <a:xfrm>
            <a:off x="4952880" y="1905120"/>
            <a:ext cx="3810240" cy="190476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23"/>
          <a:stretch/>
        </p:blipFill>
        <p:spPr>
          <a:xfrm>
            <a:off x="4952880" y="1905120"/>
            <a:ext cx="3810240" cy="190476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24"/>
          <a:stretch/>
        </p:blipFill>
        <p:spPr>
          <a:xfrm>
            <a:off x="4952880" y="1905120"/>
            <a:ext cx="3810240" cy="190476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5"/>
          <a:stretch/>
        </p:blipFill>
        <p:spPr>
          <a:xfrm>
            <a:off x="5029200" y="4648320"/>
            <a:ext cx="3809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488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1" dur="indefinite" restart="never" nodeType="tmRoot">
          <p:childTnLst>
            <p:seq>
              <p:cTn id="2292" dur="indefinite" nodeType="mainSeq">
                <p:childTnLst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108800" y="32590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节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3" name=""/>
          <p:cNvGraphicFramePr/>
          <p:nvPr/>
        </p:nvGraphicFramePr>
        <p:xfrm>
          <a:off x="874800" y="4303800"/>
          <a:ext cx="1334880" cy="55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00" y="4303800"/>
                    <a:ext cx="13348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5" name=""/>
          <p:cNvGraphicFramePr/>
          <p:nvPr/>
        </p:nvGraphicFramePr>
        <p:xfrm>
          <a:off x="874800" y="5294160"/>
          <a:ext cx="1334880" cy="55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4800" y="5294160"/>
                    <a:ext cx="1334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7" name=""/>
          <p:cNvGraphicFramePr/>
          <p:nvPr/>
        </p:nvGraphicFramePr>
        <p:xfrm>
          <a:off x="2209680" y="4343400"/>
          <a:ext cx="10000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343400"/>
                    <a:ext cx="10000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9" name=""/>
          <p:cNvGraphicFramePr/>
          <p:nvPr/>
        </p:nvGraphicFramePr>
        <p:xfrm>
          <a:off x="2209680" y="5334120"/>
          <a:ext cx="1005120" cy="48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5334120"/>
                    <a:ext cx="1005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1184040" y="1233360"/>
            <a:ext cx="21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再求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５杆受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" descr=""/>
          <p:cNvPicPr/>
          <p:nvPr/>
        </p:nvPicPr>
        <p:blipFill>
          <a:blip r:embed="rId10"/>
          <a:stretch/>
        </p:blipFill>
        <p:spPr>
          <a:xfrm>
            <a:off x="4724280" y="762120"/>
            <a:ext cx="3810240" cy="190476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11"/>
          <a:stretch/>
        </p:blipFill>
        <p:spPr>
          <a:xfrm>
            <a:off x="4724280" y="4038480"/>
            <a:ext cx="381024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505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228600" y="22860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直角曲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直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滑轮组成的结构如图所示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杆上作用有水平均布载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计各构件的重量，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作用一铅垂力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滑轮上悬吊一重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重物，滑轮的半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w Gulim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支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固定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约束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0" name=""/>
          <p:cNvGraphicFramePr/>
          <p:nvPr/>
        </p:nvGraphicFramePr>
        <p:xfrm>
          <a:off x="2057400" y="2819520"/>
          <a:ext cx="5334120" cy="343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819520"/>
                    <a:ext cx="533412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7761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面固定端约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2819520" cy="254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28191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38080" y="660240"/>
            <a:ext cx="3175200" cy="238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30720" y="660240"/>
            <a:ext cx="3175200" cy="2387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838080" y="3632040"/>
            <a:ext cx="3175200" cy="238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105520" y="3632040"/>
            <a:ext cx="3174840" cy="238788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426440" y="6570720"/>
            <a:ext cx="1717560" cy="287280"/>
            <a:chOff x="7426440" y="6570720"/>
            <a:chExt cx="1717560" cy="287280"/>
          </a:xfrm>
        </p:grpSpPr>
        <p:sp>
          <p:nvSpPr>
            <p:cNvPr id="149" name="">
              <a:hlinkClick r:id="" action="ppaction://hlinkshowjump?jump=firstslide"/>
            </p:cNvPr>
            <p:cNvSpPr/>
            <p:nvPr/>
          </p:nvSpPr>
          <p:spPr>
            <a:xfrm>
              <a:off x="74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>
              <a:hlinkClick r:id="" action="ppaction://hlinkshowjump?jump=previousslide"/>
            </p:cNvPr>
            <p:cNvSpPr/>
            <p:nvPr/>
          </p:nvSpPr>
          <p:spPr>
            <a:xfrm>
              <a:off x="78897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>
              <a:hlinkClick r:id="" action="ppaction://hlinkshowjump?jump=nextslide"/>
            </p:cNvPr>
            <p:cNvSpPr/>
            <p:nvPr/>
          </p:nvSpPr>
          <p:spPr>
            <a:xfrm>
              <a:off x="834696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li</cp:lastModifiedBy>
  <dcterms:modified xsi:type="dcterms:W3CDTF">2006-09-13T06:36:20Z</dcterms:modified>
  <cp:revision>342</cp:revision>
  <dc:subject/>
  <dc:title>PowerPoint Presentation</dc:title>
</cp:coreProperties>
</file>