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wmf" ContentType="image/x-wmf"/>
  <Override PartName="/ppt/media/image55.png" ContentType="image/png"/>
  <Override PartName="/ppt/media/image12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49.png" ContentType="image/png"/>
  <Override PartName="/ppt/media/image71.wmf" ContentType="image/x-wmf"/>
  <Override PartName="/ppt/media/image48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86.png" ContentType="image/png"/>
  <Override PartName="/ppt/media/image42.wmf" ContentType="image/x-wmf"/>
  <Override PartName="/ppt/media/image8.png" ContentType="image/png"/>
  <Override PartName="/ppt/media/image40.png" ContentType="image/png"/>
  <Override PartName="/ppt/media/image38.wmf" ContentType="image/x-wmf"/>
  <Override PartName="/ppt/media/image37.wmf" ContentType="image/x-wmf"/>
  <Override PartName="/ppt/media/image35.png" ContentType="image/png"/>
  <Override PartName="/ppt/media/image31.wmf" ContentType="image/x-wmf"/>
  <Override PartName="/ppt/media/image30.wmf" ContentType="image/x-wmf"/>
  <Override PartName="/ppt/media/image50.jpeg" ContentType="image/jpeg"/>
  <Override PartName="/ppt/media/image13.wmf" ContentType="image/x-wmf"/>
  <Override PartName="/ppt/media/image56.png" ContentType="image/png"/>
  <Override PartName="/ppt/media/image9.wmf" ContentType="image/x-wmf"/>
  <Override PartName="/ppt/media/image41.wmf" ContentType="image/x-wmf"/>
  <Override PartName="/ppt/media/image7.png" ContentType="image/png"/>
  <Override PartName="/ppt/media/image39.jpeg" ContentType="image/jpeg"/>
  <Override PartName="/ppt/media/image1.jpeg" ContentType="image/jpeg"/>
  <Override PartName="/ppt/media/image89.wmf" ContentType="image/x-wmf"/>
  <Override PartName="/ppt/media/image15.wmf" ContentType="image/x-wmf"/>
  <Override PartName="/ppt/media/image3.wmf" ContentType="image/x-wmf"/>
  <Override PartName="/ppt/media/image80.wmf" ContentType="image/x-wmf"/>
  <Override PartName="/ppt/media/image36.wmf" ContentType="image/x-wmf"/>
  <Override PartName="/ppt/media/image21.wmf" ContentType="image/x-wmf"/>
  <Override PartName="/ppt/media/image58.wmf" ContentType="image/x-wmf"/>
  <Override PartName="/ppt/media/image24.png" ContentType="image/png"/>
  <Override PartName="/ppt/media/image64.wmf" ContentType="image/x-wmf"/>
  <Override PartName="/ppt/media/image61.png" ContentType="image/png"/>
  <Override PartName="/ppt/media/image25.wmf" ContentType="image/x-wmf"/>
  <Override PartName="/ppt/media/image62.wmf" ContentType="image/x-wmf"/>
  <Override PartName="/ppt/media/image22.png" ContentType="image/png"/>
  <Override PartName="/ppt/media/image63.wmf" ContentType="image/x-wmf"/>
  <Override PartName="/ppt/media/image65.wmf" ContentType="image/x-wmf"/>
  <Override PartName="/ppt/media/image67.wmf" ContentType="image/x-wmf"/>
  <Override PartName="/ppt/media/image69.wmf" ContentType="image/x-wmf"/>
  <Override PartName="/ppt/media/image23.wmf" ContentType="image/x-wmf"/>
  <Override PartName="/ppt/media/image60.wmf" ContentType="image/x-wmf"/>
  <Override PartName="/ppt/media/image95.wmf" ContentType="image/x-wmf"/>
  <Override PartName="/ppt/media/image72.png" ContentType="image/png"/>
  <Override PartName="/ppt/media/image33.wmf" ContentType="image/x-wmf"/>
  <Override PartName="/ppt/media/image78.wmf" ContentType="image/x-wmf"/>
  <Override PartName="/ppt/media/image88.wmf" ContentType="image/x-wmf"/>
  <Override PartName="/ppt/media/image90.png" ContentType="image/png"/>
  <Override PartName="/ppt/media/image51.wmf" ContentType="image/x-wmf"/>
  <Override PartName="/ppt/media/image76.wmf" ContentType="image/x-wmf"/>
  <Override PartName="/ppt/media/image87.wmf" ContentType="image/x-wmf"/>
  <Override PartName="/ppt/media/image75.wmf" ContentType="image/x-wmf"/>
  <Override PartName="/ppt/media/image85.wmf" ContentType="image/x-wmf"/>
  <Override PartName="/ppt/media/image73.wmf" ContentType="image/x-wmf"/>
  <Override PartName="/ppt/media/image77.wmf" ContentType="image/x-wmf"/>
  <Override PartName="/ppt/media/image74.wmf" ContentType="image/x-wmf"/>
  <Override PartName="/ppt/media/image68.wmf" ContentType="image/x-wmf"/>
  <Override PartName="/ppt/media/image70.wmf" ContentType="image/x-wmf"/>
  <Override PartName="/ppt/media/image84.wmf" ContentType="image/x-wmf"/>
  <Override PartName="/ppt/media/image19.wmf" ContentType="image/x-wmf"/>
  <Override PartName="/ppt/media/image20.wmf" ContentType="image/x-wmf"/>
  <Override PartName="/ppt/media/image16.png" ContentType="image/png"/>
  <Override PartName="/ppt/media/image57.png" ContentType="image/png"/>
  <Override PartName="/ppt/media/image14.wmf" ContentType="image/x-wmf"/>
  <Override PartName="/ppt/media/image28.wmf" ContentType="image/x-wmf"/>
  <Override PartName="/ppt/media/image93.wmf" ContentType="image/x-wmf"/>
  <Override PartName="/ppt/media/image92.wmf" ContentType="image/x-wmf"/>
  <Override PartName="/ppt/media/image27.wmf" ContentType="image/x-wmf"/>
  <Override PartName="/ppt/media/image66.jpeg" ContentType="image/jpeg"/>
  <Override PartName="/ppt/media/image81.wmf" ContentType="image/x-wmf"/>
  <Override PartName="/ppt/media/image4.wmf" ContentType="image/x-wmf"/>
  <Override PartName="/ppt/media/image34.wmf" ContentType="image/x-wmf"/>
  <Override PartName="/ppt/media/image91.wmf" ContentType="image/x-wmf"/>
  <Override PartName="/ppt/media/image26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2.png" ContentType="image/png"/>
  <Override PartName="/ppt/media/image32.png" ContentType="image/png"/>
  <Override PartName="/ppt/media/image10.wmf" ContentType="image/x-wmf"/>
  <Override PartName="/ppt/media/image47.wmf" ContentType="image/x-wmf"/>
  <Override PartName="/ppt/media/image94.wmf" ContentType="image/x-wmf"/>
  <Override PartName="/ppt/media/image29.wmf" ContentType="image/x-wmf"/>
  <Override PartName="/ppt/media/image11.png" ContentType="image/png"/>
  <Override PartName="/ppt/media/image79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B18E-5B0E-4427-9949-B5CD4C8C7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2D79-338C-4E71-80A4-02FFBF13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A5F8-FEFD-4869-814E-5DBD04222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5BFE-F964-447C-92A1-BD48D5791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DF95-B45B-4533-8504-A719B6B5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709F-8900-4C2B-A2F2-099968C6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9E86-88E7-42EF-9412-4DB72E46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6BCD-475D-4FFA-90E0-522931D9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FE5E-0982-464C-B50E-198F0293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1055-11AA-411F-BB39-DE62E98C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A476-574D-43FC-ACD8-7978AA60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6049-9959-45C9-84AA-70CCFB71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DEF0-FA32-46E5-9905-68677A8171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5.wm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5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8.wmf"/><Relationship Id="rId6" Type="http://schemas.openxmlformats.org/officeDocument/2006/relationships/image" Target="../media/image39.jpeg"/><Relationship Id="rId7" Type="http://schemas.openxmlformats.org/officeDocument/2006/relationships/oleObject" Target="../embeddings/oleObject3.bin"/><Relationship Id="rId8" Type="http://schemas.openxmlformats.org/officeDocument/2006/relationships/image" Target="../media/image36.wm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3.wmf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9.png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2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3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54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55.pn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60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6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65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69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70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71.wmf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8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79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80.wmf"/><Relationship Id="rId1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4.wmf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6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0.pn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3.wmf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3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image" Target="../media/image24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5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95040" y="2084400"/>
            <a:ext cx="1704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第六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点的运动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838188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lastslide"/>
          </p:cNvPr>
          <p:cNvSpPr/>
          <p:nvPr/>
        </p:nvSpPr>
        <p:spPr>
          <a:xfrm>
            <a:off x="883908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977040" y="1295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加速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685800" y="1676520"/>
                <a:ext cx="53640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l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e>
                    </m:d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685800" y="2362320"/>
                <a:ext cx="532620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33520" y="3019320"/>
                <a:ext cx="83055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l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sSup>
                          <m:e>
                            <m:r>
                              <m:t xml:space="preserve">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ωt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aphicFrame>
        <p:nvGraphicFramePr>
          <p:cNvPr id="183" name=""/>
          <p:cNvGraphicFramePr/>
          <p:nvPr/>
        </p:nvGraphicFramePr>
        <p:xfrm>
          <a:off x="754200" y="3809880"/>
          <a:ext cx="4411440" cy="67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4200" y="3809880"/>
                    <a:ext cx="441144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533520" y="4419720"/>
          <a:ext cx="6926040" cy="1199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4419720"/>
                    <a:ext cx="6926040" cy="119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7" name=""/>
          <p:cNvGrpSpPr/>
          <p:nvPr/>
        </p:nvGrpSpPr>
        <p:grpSpPr>
          <a:xfrm>
            <a:off x="7412040" y="6578640"/>
            <a:ext cx="1731960" cy="287280"/>
            <a:chOff x="7412040" y="6578640"/>
            <a:chExt cx="1731960" cy="287280"/>
          </a:xfrm>
        </p:grpSpPr>
        <p:sp>
          <p:nvSpPr>
            <p:cNvPr id="188" name="">
              <a:hlinkClick r:id="" action="ppaction://hlinkshowjump?jump=firstslide"/>
            </p:cNvPr>
            <p:cNvSpPr/>
            <p:nvPr/>
          </p:nvSpPr>
          <p:spPr>
            <a:xfrm>
              <a:off x="74120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>
              <a:hlinkClick r:id="" action="ppaction://hlinkshowjump?jump=previousslide"/>
            </p:cNvPr>
            <p:cNvSpPr/>
            <p:nvPr/>
          </p:nvSpPr>
          <p:spPr>
            <a:xfrm>
              <a:off x="78692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>
              <a:hlinkClick r:id="" action="ppaction://hlinkshowjump?jump=nextslide"/>
            </p:cNvPr>
            <p:cNvSpPr/>
            <p:nvPr/>
          </p:nvSpPr>
          <p:spPr>
            <a:xfrm>
              <a:off x="83264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>
              <a:hlinkClick r:id="" action="ppaction://hlinkshowjump?jump=lastslide"/>
            </p:cNvPr>
            <p:cNvSpPr/>
            <p:nvPr/>
          </p:nvSpPr>
          <p:spPr>
            <a:xfrm>
              <a:off x="87836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92" name=""/>
          <p:cNvGraphicFramePr/>
          <p:nvPr/>
        </p:nvGraphicFramePr>
        <p:xfrm>
          <a:off x="539640" y="5576760"/>
          <a:ext cx="6962760" cy="1271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5576760"/>
                    <a:ext cx="6962760" cy="12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62120" y="120600"/>
            <a:ext cx="6933960" cy="1023840"/>
            <a:chOff x="762120" y="120600"/>
            <a:chExt cx="6933960" cy="1023840"/>
          </a:xfrm>
        </p:grpSpPr>
        <p:sp>
          <p:nvSpPr>
            <p:cNvPr id="196" name=""/>
            <p:cNvSpPr/>
            <p:nvPr/>
          </p:nvSpPr>
          <p:spPr>
            <a:xfrm>
              <a:off x="762120" y="623880"/>
              <a:ext cx="693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求：运动方程、轨迹、速度和加速度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7" name=""/>
            <p:cNvGraphicFramePr/>
            <p:nvPr/>
          </p:nvGraphicFramePr>
          <p:xfrm>
            <a:off x="1860480" y="228600"/>
            <a:ext cx="5411880" cy="4809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9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860480" y="228600"/>
                      <a:ext cx="541188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9" name=""/>
            <p:cNvSpPr/>
            <p:nvPr/>
          </p:nvSpPr>
          <p:spPr>
            <a:xfrm>
              <a:off x="940320" y="1206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已知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ShockwaveFlash1"/>
          <p:cNvGraphicFramePr/>
          <p:nvPr/>
        </p:nvGraphicFramePr>
        <p:xfrm>
          <a:off x="838080" y="2819520"/>
          <a:ext cx="4572000" cy="320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2819520"/>
                    <a:ext cx="4572000" cy="3200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02" name=""/>
          <p:cNvGrpSpPr/>
          <p:nvPr/>
        </p:nvGrpSpPr>
        <p:grpSpPr>
          <a:xfrm>
            <a:off x="7412040" y="6578640"/>
            <a:ext cx="1731960" cy="287280"/>
            <a:chOff x="7412040" y="6578640"/>
            <a:chExt cx="1731960" cy="287280"/>
          </a:xfrm>
        </p:grpSpPr>
        <p:sp>
          <p:nvSpPr>
            <p:cNvPr id="203" name="">
              <a:hlinkClick r:id="" action="ppaction://hlinkshowjump?jump=firstslide"/>
            </p:cNvPr>
            <p:cNvSpPr/>
            <p:nvPr/>
          </p:nvSpPr>
          <p:spPr>
            <a:xfrm>
              <a:off x="74120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>
              <a:hlinkClick r:id="" action="ppaction://hlinkshowjump?jump=previousslide"/>
            </p:cNvPr>
            <p:cNvSpPr/>
            <p:nvPr/>
          </p:nvSpPr>
          <p:spPr>
            <a:xfrm>
              <a:off x="78692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>
              <a:hlinkClick r:id="" action="ppaction://hlinkshowjump?jump=nextslide"/>
            </p:cNvPr>
            <p:cNvSpPr/>
            <p:nvPr/>
          </p:nvSpPr>
          <p:spPr>
            <a:xfrm>
              <a:off x="83264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>
              <a:hlinkClick r:id="" action="ppaction://hlinkshowjump?jump=lastslide"/>
            </p:cNvPr>
            <p:cNvSpPr/>
            <p:nvPr/>
          </p:nvSpPr>
          <p:spPr>
            <a:xfrm>
              <a:off x="87836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04920" y="163440"/>
            <a:ext cx="8534160" cy="2141640"/>
            <a:chOff x="304920" y="163440"/>
            <a:chExt cx="8534160" cy="2141640"/>
          </a:xfrm>
        </p:grpSpPr>
        <p:sp>
          <p:nvSpPr>
            <p:cNvPr id="208" name=""/>
            <p:cNvSpPr/>
            <p:nvPr/>
          </p:nvSpPr>
          <p:spPr>
            <a:xfrm>
              <a:off x="304920" y="163440"/>
              <a:ext cx="8534160" cy="21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　　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例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6-2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正弦机构如图所示。曲柄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</a:rPr>
                <a:t>OM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长为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，绕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轴匀速转动，它与水平线间的夹角为　　　　　其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为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</a:rPr>
                <a:t>t =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时的夹角，  为一常数。已知动杆上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两点间距离为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。求点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和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的运动方程及点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的速度和加速度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"/>
                <p:cNvSpPr txBox="1"/>
                <p:nvPr/>
              </p:nvSpPr>
              <p:spPr>
                <a:xfrm>
                  <a:off x="6172200" y="762120"/>
                  <a:ext cx="1665360" cy="48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ϕ</m:t>
                      </m:r>
                      <m:r>
                        <m:t xml:space="preserve">=</m:t>
                      </m:r>
                      <m:r>
                        <m:t xml:space="preserve">ωt</m:t>
                      </m:r>
                      <m:r>
                        <m:t xml:space="preserve">+</m:t>
                      </m:r>
                      <m:r>
                        <m:t xml:space="preserve">θ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210" name=""/>
            <p:cNvGraphicFramePr/>
            <p:nvPr/>
          </p:nvGraphicFramePr>
          <p:xfrm>
            <a:off x="3505320" y="1371600"/>
            <a:ext cx="380880" cy="3492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1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505320" y="1371600"/>
                      <a:ext cx="380880" cy="34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2" name=""/>
            <p:cNvGraphicFramePr/>
            <p:nvPr/>
          </p:nvGraphicFramePr>
          <p:xfrm>
            <a:off x="457200" y="1295280"/>
            <a:ext cx="318960" cy="4478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1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57200" y="1295280"/>
                      <a:ext cx="31896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14" name=""/>
          <p:cNvGraphicFramePr/>
          <p:nvPr/>
        </p:nvGraphicFramePr>
        <p:xfrm>
          <a:off x="5486400" y="2919240"/>
          <a:ext cx="3429000" cy="2995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486400" y="2919240"/>
                    <a:ext cx="3429000" cy="29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567160" y="1614600"/>
            <a:ext cx="445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： 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点都作直线运动，取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O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轴如图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00600" y="2209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运动方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57200" y="2901960"/>
                <a:ext cx="57913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469800" y="3733920"/>
                <a:ext cx="47880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0" name=""/>
          <p:cNvGrpSpPr/>
          <p:nvPr/>
        </p:nvGrpSpPr>
        <p:grpSpPr>
          <a:xfrm>
            <a:off x="1215000" y="14400"/>
            <a:ext cx="6776640" cy="1510920"/>
            <a:chOff x="1215000" y="14400"/>
            <a:chExt cx="6776640" cy="1510920"/>
          </a:xfrm>
        </p:grpSpPr>
        <p:sp>
          <p:nvSpPr>
            <p:cNvPr id="221" name=""/>
            <p:cNvSpPr/>
            <p:nvPr/>
          </p:nvSpPr>
          <p:spPr>
            <a:xfrm>
              <a:off x="1737720" y="561960"/>
              <a:ext cx="3045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求：①   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点运动方程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09600" y="1004760"/>
              <a:ext cx="126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②  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点速度、加速度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3" name=""/>
            <p:cNvGraphicFramePr/>
            <p:nvPr/>
          </p:nvGraphicFramePr>
          <p:xfrm>
            <a:off x="1962000" y="54000"/>
            <a:ext cx="6029640" cy="555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2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962000" y="54000"/>
                      <a:ext cx="6029640" cy="55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5" name=""/>
            <p:cNvSpPr/>
            <p:nvPr/>
          </p:nvSpPr>
          <p:spPr>
            <a:xfrm>
              <a:off x="1215000" y="144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已知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7412040" y="6578640"/>
            <a:ext cx="1731960" cy="287280"/>
            <a:chOff x="7412040" y="6578640"/>
            <a:chExt cx="1731960" cy="287280"/>
          </a:xfrm>
        </p:grpSpPr>
        <p:sp>
          <p:nvSpPr>
            <p:cNvPr id="228" name="">
              <a:hlinkClick r:id="" action="ppaction://hlinkshowjump?jump=firstslide"/>
            </p:cNvPr>
            <p:cNvSpPr/>
            <p:nvPr/>
          </p:nvSpPr>
          <p:spPr>
            <a:xfrm>
              <a:off x="74120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>
              <a:hlinkClick r:id="" action="ppaction://hlinkshowjump?jump=previousslide"/>
            </p:cNvPr>
            <p:cNvSpPr/>
            <p:nvPr/>
          </p:nvSpPr>
          <p:spPr>
            <a:xfrm>
              <a:off x="78692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>
              <a:hlinkClick r:id="" action="ppaction://hlinkshowjump?jump=nextslide"/>
            </p:cNvPr>
            <p:cNvSpPr/>
            <p:nvPr/>
          </p:nvSpPr>
          <p:spPr>
            <a:xfrm>
              <a:off x="83264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>
              <a:hlinkClick r:id="" action="ppaction://hlinkshowjump?jump=lastslide"/>
            </p:cNvPr>
            <p:cNvSpPr/>
            <p:nvPr/>
          </p:nvSpPr>
          <p:spPr>
            <a:xfrm>
              <a:off x="87836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32" name=""/>
          <p:cNvGraphicFramePr/>
          <p:nvPr/>
        </p:nvGraphicFramePr>
        <p:xfrm>
          <a:off x="5867280" y="3505320"/>
          <a:ext cx="3276720" cy="2863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3505320"/>
                    <a:ext cx="3276720" cy="28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1295280" y="4419720"/>
          <a:ext cx="2878200" cy="790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4419720"/>
                    <a:ext cx="287820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1671480" y="1690560"/>
            <a:ext cx="218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点的速度和加速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685800" y="2209680"/>
                <a:ext cx="47181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ω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38" name=""/>
          <p:cNvGraphicFramePr/>
          <p:nvPr/>
        </p:nvGraphicFramePr>
        <p:xfrm>
          <a:off x="533520" y="2971800"/>
          <a:ext cx="6500520" cy="787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2971800"/>
                    <a:ext cx="650052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1505160" y="3809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周期运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1371600" y="5334120"/>
                <a:ext cx="220968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频率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42" name="" descr=""/>
          <p:cNvPicPr/>
          <p:nvPr/>
        </p:nvPicPr>
        <p:blipFill>
          <a:blip r:embed="rId6"/>
          <a:stretch/>
        </p:blipFill>
        <p:spPr>
          <a:xfrm>
            <a:off x="4800600" y="3638520"/>
            <a:ext cx="4191120" cy="26859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7412040" y="6578640"/>
            <a:ext cx="1731960" cy="287280"/>
            <a:chOff x="7412040" y="6578640"/>
            <a:chExt cx="1731960" cy="287280"/>
          </a:xfrm>
        </p:grpSpPr>
        <p:sp>
          <p:nvSpPr>
            <p:cNvPr id="245" name="">
              <a:hlinkClick r:id="" action="ppaction://hlinkshowjump?jump=firstslide"/>
            </p:cNvPr>
            <p:cNvSpPr/>
            <p:nvPr/>
          </p:nvSpPr>
          <p:spPr>
            <a:xfrm>
              <a:off x="74120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>
              <a:hlinkClick r:id="" action="ppaction://hlinkshowjump?jump=previousslide"/>
            </p:cNvPr>
            <p:cNvSpPr/>
            <p:nvPr/>
          </p:nvSpPr>
          <p:spPr>
            <a:xfrm>
              <a:off x="78692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>
              <a:hlinkClick r:id="" action="ppaction://hlinkshowjump?jump=nextslide"/>
            </p:cNvPr>
            <p:cNvSpPr/>
            <p:nvPr/>
          </p:nvSpPr>
          <p:spPr>
            <a:xfrm>
              <a:off x="83264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>
              <a:hlinkClick r:id="" action="ppaction://hlinkshowjump?jump=lastslide"/>
            </p:cNvPr>
            <p:cNvSpPr/>
            <p:nvPr/>
          </p:nvSpPr>
          <p:spPr>
            <a:xfrm>
              <a:off x="87836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1215000" y="14400"/>
            <a:ext cx="6776640" cy="1510920"/>
            <a:chOff x="1215000" y="14400"/>
            <a:chExt cx="6776640" cy="1510920"/>
          </a:xfrm>
        </p:grpSpPr>
        <p:sp>
          <p:nvSpPr>
            <p:cNvPr id="250" name=""/>
            <p:cNvSpPr/>
            <p:nvPr/>
          </p:nvSpPr>
          <p:spPr>
            <a:xfrm>
              <a:off x="1737720" y="561960"/>
              <a:ext cx="3045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求：①   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点运动方程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009600" y="1004760"/>
              <a:ext cx="126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②  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点速度、加速度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2" name=""/>
            <p:cNvGraphicFramePr/>
            <p:nvPr/>
          </p:nvGraphicFramePr>
          <p:xfrm>
            <a:off x="1962000" y="54000"/>
            <a:ext cx="6029640" cy="555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5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962000" y="54000"/>
                      <a:ext cx="6029640" cy="55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4" name=""/>
            <p:cNvSpPr/>
            <p:nvPr/>
          </p:nvSpPr>
          <p:spPr>
            <a:xfrm>
              <a:off x="1215000" y="144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已知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5" name="ShockwaveFlash1"/>
          <p:cNvGraphicFramePr/>
          <p:nvPr/>
        </p:nvGraphicFramePr>
        <p:xfrm>
          <a:off x="2590920" y="2819520"/>
          <a:ext cx="4572000" cy="35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6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2819520"/>
                    <a:ext cx="4572000" cy="3581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pSp>
        <p:nvGrpSpPr>
          <p:cNvPr id="257" name=""/>
          <p:cNvGrpSpPr/>
          <p:nvPr/>
        </p:nvGrpSpPr>
        <p:grpSpPr>
          <a:xfrm>
            <a:off x="7412040" y="6578640"/>
            <a:ext cx="1731960" cy="287280"/>
            <a:chOff x="7412040" y="6578640"/>
            <a:chExt cx="1731960" cy="287280"/>
          </a:xfrm>
        </p:grpSpPr>
        <p:sp>
          <p:nvSpPr>
            <p:cNvPr id="258" name="">
              <a:hlinkClick r:id="" action="ppaction://hlinkshowjump?jump=firstslide"/>
            </p:cNvPr>
            <p:cNvSpPr/>
            <p:nvPr/>
          </p:nvSpPr>
          <p:spPr>
            <a:xfrm>
              <a:off x="74120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>
              <a:hlinkClick r:id="" action="ppaction://hlinkshowjump?jump=previousslide"/>
            </p:cNvPr>
            <p:cNvSpPr/>
            <p:nvPr/>
          </p:nvSpPr>
          <p:spPr>
            <a:xfrm>
              <a:off x="78692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>
              <a:hlinkClick r:id="" action="ppaction://hlinkshowjump?jump=nextslide"/>
            </p:cNvPr>
            <p:cNvSpPr/>
            <p:nvPr/>
          </p:nvSpPr>
          <p:spPr>
            <a:xfrm>
              <a:off x="83264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>
              <a:hlinkClick r:id="" action="ppaction://hlinkshowjump?jump=lastslide"/>
            </p:cNvPr>
            <p:cNvSpPr/>
            <p:nvPr/>
          </p:nvSpPr>
          <p:spPr>
            <a:xfrm>
              <a:off x="87836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0" y="404640"/>
            <a:ext cx="9144000" cy="1748160"/>
            <a:chOff x="0" y="404640"/>
            <a:chExt cx="9144000" cy="1748160"/>
          </a:xfrm>
        </p:grpSpPr>
        <p:sp>
          <p:nvSpPr>
            <p:cNvPr id="263" name=""/>
            <p:cNvSpPr/>
            <p:nvPr/>
          </p:nvSpPr>
          <p:spPr>
            <a:xfrm>
              <a:off x="0" y="404640"/>
              <a:ext cx="830592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　　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例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6-3 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如图所示，当液压减振器工作时，它的活塞在套筒内作直线往复运动。设活塞的加速度                   　　　　（    为活塞的速度，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为比例常数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，初速度为      。求活塞的运动规律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64" name=""/>
            <p:cNvGraphicFramePr/>
            <p:nvPr/>
          </p:nvGraphicFramePr>
          <p:xfrm>
            <a:off x="7543800" y="1052640"/>
            <a:ext cx="1600200" cy="544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6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543800" y="1052640"/>
                      <a:ext cx="1600200" cy="54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6" name=""/>
            <p:cNvGraphicFramePr/>
            <p:nvPr/>
          </p:nvGraphicFramePr>
          <p:xfrm>
            <a:off x="395280" y="1628640"/>
            <a:ext cx="374760" cy="5241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6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95280" y="1628640"/>
                      <a:ext cx="374760" cy="52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68" name=""/>
          <p:cNvGraphicFramePr/>
          <p:nvPr/>
        </p:nvGraphicFramePr>
        <p:xfrm>
          <a:off x="7093080" y="1557360"/>
          <a:ext cx="455400" cy="684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093080" y="1557360"/>
                    <a:ext cx="45540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"/>
          <p:cNvGraphicFramePr/>
          <p:nvPr/>
        </p:nvGraphicFramePr>
        <p:xfrm>
          <a:off x="1274760" y="181080"/>
          <a:ext cx="6087960" cy="65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74760" y="181080"/>
                    <a:ext cx="60879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914400" y="92880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：活塞作直线运动，取坐标轴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O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如图所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371600" y="1447920"/>
          <a:ext cx="2678040" cy="977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71600" y="1447920"/>
                    <a:ext cx="267804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1447920" y="2209680"/>
          <a:ext cx="3181320" cy="1060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47920" y="2209680"/>
                    <a:ext cx="318132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1371600" y="2971800"/>
          <a:ext cx="3517920" cy="1138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371600" y="2971800"/>
                    <a:ext cx="3517920" cy="11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1828800" y="3809880"/>
          <a:ext cx="2838600" cy="978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828800" y="3809880"/>
                    <a:ext cx="2838600" cy="9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1066680" y="4724280"/>
                <a:ext cx="35816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得</m:t>
                    </m:r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x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nary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sup>
                    </m:sSup>
                    <m: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1676520" y="5638680"/>
                <a:ext cx="3160440" cy="104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k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83" name="ShockwaveFlash1"/>
          <p:cNvGraphicFramePr/>
          <p:nvPr/>
        </p:nvGraphicFramePr>
        <p:xfrm>
          <a:off x="5334120" y="2209680"/>
          <a:ext cx="3581280" cy="28958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84" name="ShockwaveFlash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334120" y="2209680"/>
                    <a:ext cx="3581280" cy="28958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7412040" y="6578640"/>
            <a:ext cx="1731960" cy="287280"/>
            <a:chOff x="7412040" y="6578640"/>
            <a:chExt cx="1731960" cy="287280"/>
          </a:xfrm>
        </p:grpSpPr>
        <p:sp>
          <p:nvSpPr>
            <p:cNvPr id="287" name="">
              <a:hlinkClick r:id="" action="ppaction://hlinkshowjump?jump=firstslide"/>
            </p:cNvPr>
            <p:cNvSpPr/>
            <p:nvPr/>
          </p:nvSpPr>
          <p:spPr>
            <a:xfrm>
              <a:off x="74120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>
              <a:hlinkClick r:id="" action="ppaction://hlinkshowjump?jump=previousslide"/>
            </p:cNvPr>
            <p:cNvSpPr/>
            <p:nvPr/>
          </p:nvSpPr>
          <p:spPr>
            <a:xfrm>
              <a:off x="78692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>
              <a:hlinkClick r:id="" action="ppaction://hlinkshowjump?jump=nextslide"/>
            </p:cNvPr>
            <p:cNvSpPr/>
            <p:nvPr/>
          </p:nvSpPr>
          <p:spPr>
            <a:xfrm>
              <a:off x="83264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>
              <a:hlinkClick r:id="" action="ppaction://hlinkshowjump?jump=lastslide"/>
            </p:cNvPr>
            <p:cNvSpPr/>
            <p:nvPr/>
          </p:nvSpPr>
          <p:spPr>
            <a:xfrm>
              <a:off x="87836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994840" y="304920"/>
            <a:ext cx="30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§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6-3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4191120" y="1371600"/>
            <a:ext cx="4647960" cy="1574640"/>
          </a:xfrm>
          <a:prstGeom prst="rect">
            <a:avLst/>
          </a:prstGeom>
          <a:ln w="0">
            <a:noFill/>
          </a:ln>
        </p:spPr>
      </p:pic>
      <p:grpSp>
        <p:nvGrpSpPr>
          <p:cNvPr id="293" name=""/>
          <p:cNvGrpSpPr/>
          <p:nvPr/>
        </p:nvGrpSpPr>
        <p:grpSpPr>
          <a:xfrm>
            <a:off x="762120" y="1143000"/>
            <a:ext cx="3216240" cy="527040"/>
            <a:chOff x="762120" y="1143000"/>
            <a:chExt cx="3216240" cy="527040"/>
          </a:xfrm>
        </p:grpSpPr>
        <p:graphicFrame>
          <p:nvGraphicFramePr>
            <p:cNvPr id="294" name=""/>
            <p:cNvGraphicFramePr/>
            <p:nvPr/>
          </p:nvGraphicFramePr>
          <p:xfrm>
            <a:off x="2536920" y="1158840"/>
            <a:ext cx="1441440" cy="511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9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36920" y="1158840"/>
                      <a:ext cx="1441440" cy="51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6" name=""/>
            <p:cNvSpPr/>
            <p:nvPr/>
          </p:nvSpPr>
          <p:spPr>
            <a:xfrm>
              <a:off x="762120" y="1143000"/>
              <a:ext cx="213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、 弧坐标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885600" y="5410080"/>
            <a:ext cx="3603960" cy="507960"/>
            <a:chOff x="885600" y="5410080"/>
            <a:chExt cx="3603960" cy="507960"/>
          </a:xfrm>
        </p:grpSpPr>
        <p:sp>
          <p:nvSpPr>
            <p:cNvPr id="298" name=""/>
            <p:cNvSpPr/>
            <p:nvPr/>
          </p:nvSpPr>
          <p:spPr>
            <a:xfrm>
              <a:off x="885600" y="54435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副法线单位矢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99" name=""/>
            <p:cNvGraphicFramePr/>
            <p:nvPr/>
          </p:nvGraphicFramePr>
          <p:xfrm>
            <a:off x="3067200" y="5410080"/>
            <a:ext cx="1422360" cy="507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67200" y="5410080"/>
                      <a:ext cx="142236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01" name=""/>
          <p:cNvGrpSpPr/>
          <p:nvPr/>
        </p:nvGrpSpPr>
        <p:grpSpPr>
          <a:xfrm>
            <a:off x="685800" y="3886200"/>
            <a:ext cx="2412720" cy="533520"/>
            <a:chOff x="685800" y="3886200"/>
            <a:chExt cx="2412720" cy="533520"/>
          </a:xfrm>
        </p:grpSpPr>
        <p:graphicFrame>
          <p:nvGraphicFramePr>
            <p:cNvPr id="302" name=""/>
            <p:cNvGraphicFramePr/>
            <p:nvPr/>
          </p:nvGraphicFramePr>
          <p:xfrm>
            <a:off x="2666880" y="3926160"/>
            <a:ext cx="431640" cy="493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0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66880" y="3926160"/>
                      <a:ext cx="431640" cy="49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4" name=""/>
            <p:cNvSpPr/>
            <p:nvPr/>
          </p:nvSpPr>
          <p:spPr>
            <a:xfrm>
              <a:off x="685800" y="388620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切向单位矢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762120" y="4648320"/>
            <a:ext cx="2743200" cy="533160"/>
            <a:chOff x="762120" y="4648320"/>
            <a:chExt cx="2743200" cy="533160"/>
          </a:xfrm>
        </p:grpSpPr>
        <p:graphicFrame>
          <p:nvGraphicFramePr>
            <p:cNvPr id="306" name=""/>
            <p:cNvGraphicFramePr/>
            <p:nvPr/>
          </p:nvGraphicFramePr>
          <p:xfrm>
            <a:off x="3052800" y="4664160"/>
            <a:ext cx="452520" cy="517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052800" y="4664160"/>
                      <a:ext cx="452520" cy="51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8" name=""/>
            <p:cNvSpPr/>
            <p:nvPr/>
          </p:nvSpPr>
          <p:spPr>
            <a:xfrm>
              <a:off x="762120" y="464832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主法线单位矢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1559160" y="3048120"/>
            <a:ext cx="7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自然轴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7412040" y="6578640"/>
            <a:ext cx="1731960" cy="287280"/>
            <a:chOff x="7412040" y="6578640"/>
            <a:chExt cx="1731960" cy="287280"/>
          </a:xfrm>
        </p:grpSpPr>
        <p:sp>
          <p:nvSpPr>
            <p:cNvPr id="311" name="">
              <a:hlinkClick r:id="" action="ppaction://hlinkshowjump?jump=firstslide"/>
            </p:cNvPr>
            <p:cNvSpPr/>
            <p:nvPr/>
          </p:nvSpPr>
          <p:spPr>
            <a:xfrm>
              <a:off x="74120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>
              <a:hlinkClick r:id="" action="ppaction://hlinkshowjump?jump=previousslide"/>
            </p:cNvPr>
            <p:cNvSpPr/>
            <p:nvPr/>
          </p:nvSpPr>
          <p:spPr>
            <a:xfrm>
              <a:off x="78692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>
              <a:hlinkClick r:id="" action="ppaction://hlinkshowjump?jump=nextslide"/>
            </p:cNvPr>
            <p:cNvSpPr/>
            <p:nvPr/>
          </p:nvSpPr>
          <p:spPr>
            <a:xfrm>
              <a:off x="83264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>
              <a:hlinkClick r:id="" action="ppaction://hlinkshowjump?jump=lastslide"/>
            </p:cNvPr>
            <p:cNvSpPr/>
            <p:nvPr/>
          </p:nvSpPr>
          <p:spPr>
            <a:xfrm>
              <a:off x="87836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15" name=""/>
          <p:cNvGraphicFramePr/>
          <p:nvPr/>
        </p:nvGraphicFramePr>
        <p:xfrm>
          <a:off x="4495680" y="3048120"/>
          <a:ext cx="4191120" cy="3371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95680" y="3048120"/>
                    <a:ext cx="4191120" cy="33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354480" y="6858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然坐标轴的几何性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8" name="ShockwaveFlash1"/>
          <p:cNvGraphicFramePr/>
          <p:nvPr/>
        </p:nvGraphicFramePr>
        <p:xfrm>
          <a:off x="1447920" y="1447920"/>
          <a:ext cx="640080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9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447920"/>
                    <a:ext cx="6400800" cy="4724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320" name=""/>
          <p:cNvGrpSpPr/>
          <p:nvPr/>
        </p:nvGrpSpPr>
        <p:grpSpPr>
          <a:xfrm>
            <a:off x="7412040" y="6578640"/>
            <a:ext cx="1731960" cy="287280"/>
            <a:chOff x="7412040" y="6578640"/>
            <a:chExt cx="1731960" cy="287280"/>
          </a:xfrm>
        </p:grpSpPr>
        <p:sp>
          <p:nvSpPr>
            <p:cNvPr id="321" name="">
              <a:hlinkClick r:id="" action="ppaction://hlinkshowjump?jump=firstslide"/>
            </p:cNvPr>
            <p:cNvSpPr/>
            <p:nvPr/>
          </p:nvSpPr>
          <p:spPr>
            <a:xfrm>
              <a:off x="74120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>
              <a:hlinkClick r:id="" action="ppaction://hlinkshowjump?jump=previousslide"/>
            </p:cNvPr>
            <p:cNvSpPr/>
            <p:nvPr/>
          </p:nvSpPr>
          <p:spPr>
            <a:xfrm>
              <a:off x="78692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>
              <a:hlinkClick r:id="" action="ppaction://hlinkshowjump?jump=nextslide"/>
            </p:cNvPr>
            <p:cNvSpPr/>
            <p:nvPr/>
          </p:nvSpPr>
          <p:spPr>
            <a:xfrm>
              <a:off x="83264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>
              <a:hlinkClick r:id="" action="ppaction://hlinkshowjump?jump=lastslide"/>
            </p:cNvPr>
            <p:cNvSpPr/>
            <p:nvPr/>
          </p:nvSpPr>
          <p:spPr>
            <a:xfrm>
              <a:off x="87836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2057400" y="3733920"/>
            <a:ext cx="5029200" cy="2320920"/>
          </a:xfrm>
          <a:prstGeom prst="rect">
            <a:avLst/>
          </a:prstGeom>
          <a:ln w="0">
            <a:noFill/>
          </a:ln>
        </p:spPr>
      </p:pic>
      <p:grpSp>
        <p:nvGrpSpPr>
          <p:cNvPr id="326" name=""/>
          <p:cNvGrpSpPr/>
          <p:nvPr/>
        </p:nvGrpSpPr>
        <p:grpSpPr>
          <a:xfrm>
            <a:off x="1037880" y="990720"/>
            <a:ext cx="4861440" cy="1109520"/>
            <a:chOff x="1037880" y="990720"/>
            <a:chExt cx="4861440" cy="1109520"/>
          </a:xfrm>
        </p:grpSpPr>
        <p:graphicFrame>
          <p:nvGraphicFramePr>
            <p:cNvPr id="327" name=""/>
            <p:cNvGraphicFramePr/>
            <p:nvPr/>
          </p:nvGraphicFramePr>
          <p:xfrm>
            <a:off x="1930680" y="990720"/>
            <a:ext cx="3968640" cy="1109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2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30680" y="990720"/>
                      <a:ext cx="3968640" cy="110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9" name=""/>
            <p:cNvSpPr/>
            <p:nvPr/>
          </p:nvSpPr>
          <p:spPr>
            <a:xfrm>
              <a:off x="1037880" y="1347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因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6356880" y="1295280"/>
            <a:ext cx="1223280" cy="459720"/>
            <a:chOff x="6356880" y="1295280"/>
            <a:chExt cx="1223280" cy="459720"/>
          </a:xfrm>
        </p:grpSpPr>
        <p:sp>
          <p:nvSpPr>
            <p:cNvPr id="331" name=""/>
            <p:cNvSpPr/>
            <p:nvPr/>
          </p:nvSpPr>
          <p:spPr>
            <a:xfrm>
              <a:off x="6356880" y="1295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方向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2" name=""/>
            <p:cNvGraphicFramePr/>
            <p:nvPr/>
          </p:nvGraphicFramePr>
          <p:xfrm>
            <a:off x="7315200" y="1319040"/>
            <a:ext cx="264960" cy="371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3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315200" y="1319040"/>
                      <a:ext cx="264960" cy="37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34" name=""/>
          <p:cNvGrpSpPr/>
          <p:nvPr/>
        </p:nvGrpSpPr>
        <p:grpSpPr>
          <a:xfrm>
            <a:off x="1037880" y="2362320"/>
            <a:ext cx="2615040" cy="933480"/>
            <a:chOff x="1037880" y="2362320"/>
            <a:chExt cx="2615040" cy="933480"/>
          </a:xfrm>
        </p:grpSpPr>
        <p:graphicFrame>
          <p:nvGraphicFramePr>
            <p:cNvPr id="335" name=""/>
            <p:cNvGraphicFramePr/>
            <p:nvPr/>
          </p:nvGraphicFramePr>
          <p:xfrm>
            <a:off x="2286000" y="2362320"/>
            <a:ext cx="1366920" cy="933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3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286000" y="2362320"/>
                      <a:ext cx="136692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7" name=""/>
            <p:cNvSpPr/>
            <p:nvPr/>
          </p:nvSpPr>
          <p:spPr>
            <a:xfrm>
              <a:off x="1037880" y="25909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所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114800" y="457200"/>
            <a:ext cx="3352680" cy="15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9" name=""/>
          <p:cNvGraphicFramePr/>
          <p:nvPr/>
        </p:nvGraphicFramePr>
        <p:xfrm>
          <a:off x="1752480" y="2209680"/>
          <a:ext cx="5488200" cy="93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2209680"/>
                    <a:ext cx="548820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1066680" y="5335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速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3200400" y="3124080"/>
          <a:ext cx="3078000" cy="94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3124080"/>
                    <a:ext cx="3078000" cy="9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1066680" y="3276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加速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523880" y="4214880"/>
            <a:ext cx="4114800" cy="976320"/>
            <a:chOff x="1523880" y="4214880"/>
            <a:chExt cx="4114800" cy="976320"/>
          </a:xfrm>
        </p:grpSpPr>
        <p:graphicFrame>
          <p:nvGraphicFramePr>
            <p:cNvPr id="346" name=""/>
            <p:cNvGraphicFramePr/>
            <p:nvPr/>
          </p:nvGraphicFramePr>
          <p:xfrm>
            <a:off x="2919240" y="4214880"/>
            <a:ext cx="2719440" cy="976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4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919240" y="4214880"/>
                      <a:ext cx="2719440" cy="97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8" name=""/>
            <p:cNvSpPr/>
            <p:nvPr/>
          </p:nvSpPr>
          <p:spPr>
            <a:xfrm>
              <a:off x="1523880" y="44197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代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1600200" y="5257800"/>
            <a:ext cx="4675320" cy="992160"/>
            <a:chOff x="1600200" y="5257800"/>
            <a:chExt cx="4675320" cy="992160"/>
          </a:xfrm>
        </p:grpSpPr>
        <p:graphicFrame>
          <p:nvGraphicFramePr>
            <p:cNvPr id="350" name=""/>
            <p:cNvGraphicFramePr/>
            <p:nvPr/>
          </p:nvGraphicFramePr>
          <p:xfrm>
            <a:off x="2590920" y="5257800"/>
            <a:ext cx="3684600" cy="992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5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590920" y="5257800"/>
                      <a:ext cx="3684600" cy="99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2" name=""/>
            <p:cNvSpPr/>
            <p:nvPr/>
          </p:nvSpPr>
          <p:spPr>
            <a:xfrm>
              <a:off x="1600200" y="55627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7412040" y="6578640"/>
            <a:ext cx="1731960" cy="287280"/>
            <a:chOff x="7412040" y="6578640"/>
            <a:chExt cx="1731960" cy="287280"/>
          </a:xfrm>
        </p:grpSpPr>
        <p:sp>
          <p:nvSpPr>
            <p:cNvPr id="354" name="">
              <a:hlinkClick r:id="" action="ppaction://hlinkshowjump?jump=firstslide"/>
            </p:cNvPr>
            <p:cNvSpPr/>
            <p:nvPr/>
          </p:nvSpPr>
          <p:spPr>
            <a:xfrm>
              <a:off x="74120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>
              <a:hlinkClick r:id="" action="ppaction://hlinkshowjump?jump=previousslide"/>
            </p:cNvPr>
            <p:cNvSpPr/>
            <p:nvPr/>
          </p:nvSpPr>
          <p:spPr>
            <a:xfrm>
              <a:off x="78692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>
              <a:hlinkClick r:id="" action="ppaction://hlinkshowjump?jump=nextslide"/>
            </p:cNvPr>
            <p:cNvSpPr/>
            <p:nvPr/>
          </p:nvSpPr>
          <p:spPr>
            <a:xfrm>
              <a:off x="83264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>
              <a:hlinkClick r:id="" action="ppaction://hlinkshowjump?jump=lastslide"/>
            </p:cNvPr>
            <p:cNvSpPr/>
            <p:nvPr/>
          </p:nvSpPr>
          <p:spPr>
            <a:xfrm>
              <a:off x="87836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9092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§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-1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矢量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ShockwaveFlash1"/>
          <p:cNvGraphicFramePr/>
          <p:nvPr/>
        </p:nvGraphicFramePr>
        <p:xfrm>
          <a:off x="4876920" y="1447920"/>
          <a:ext cx="3962160" cy="32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6920" y="1447920"/>
                    <a:ext cx="3962160" cy="3276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47" name=""/>
          <p:cNvGrpSpPr/>
          <p:nvPr/>
        </p:nvGrpSpPr>
        <p:grpSpPr>
          <a:xfrm>
            <a:off x="838080" y="1676520"/>
            <a:ext cx="3210120" cy="914400"/>
            <a:chOff x="838080" y="1676520"/>
            <a:chExt cx="3210120" cy="914400"/>
          </a:xfrm>
        </p:grpSpPr>
        <p:graphicFrame>
          <p:nvGraphicFramePr>
            <p:cNvPr id="48" name=""/>
            <p:cNvGraphicFramePr/>
            <p:nvPr/>
          </p:nvGraphicFramePr>
          <p:xfrm>
            <a:off x="2576520" y="1906560"/>
            <a:ext cx="1471680" cy="6843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576520" y="1906560"/>
                      <a:ext cx="1471680" cy="68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" name=""/>
            <p:cNvSpPr/>
            <p:nvPr/>
          </p:nvSpPr>
          <p:spPr>
            <a:xfrm>
              <a:off x="838080" y="1676520"/>
              <a:ext cx="1371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38080" y="190512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运动方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2590920" y="4038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914400" y="2895480"/>
            <a:ext cx="3276720" cy="928800"/>
            <a:chOff x="914400" y="2895480"/>
            <a:chExt cx="3276720" cy="928800"/>
          </a:xfrm>
        </p:grpSpPr>
        <p:sp>
          <p:nvSpPr>
            <p:cNvPr id="54" name=""/>
            <p:cNvSpPr/>
            <p:nvPr/>
          </p:nvSpPr>
          <p:spPr>
            <a:xfrm>
              <a:off x="914400" y="31240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速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5" name=""/>
            <p:cNvGraphicFramePr/>
            <p:nvPr/>
          </p:nvGraphicFramePr>
          <p:xfrm>
            <a:off x="2438280" y="2895480"/>
            <a:ext cx="1752840" cy="9288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438280" y="2895480"/>
                      <a:ext cx="1752840" cy="9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7" name=""/>
          <p:cNvGrpSpPr/>
          <p:nvPr/>
        </p:nvGrpSpPr>
        <p:grpSpPr>
          <a:xfrm>
            <a:off x="990720" y="4800600"/>
            <a:ext cx="7248240" cy="1322280"/>
            <a:chOff x="990720" y="4800600"/>
            <a:chExt cx="7248240" cy="1322280"/>
          </a:xfrm>
        </p:grpSpPr>
        <p:sp>
          <p:nvSpPr>
            <p:cNvPr id="58" name=""/>
            <p:cNvSpPr/>
            <p:nvPr/>
          </p:nvSpPr>
          <p:spPr>
            <a:xfrm>
              <a:off x="990720" y="51814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加速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752880" y="53341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单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0" name=""/>
            <p:cNvGraphicFramePr/>
            <p:nvPr/>
          </p:nvGraphicFramePr>
          <p:xfrm>
            <a:off x="7543800" y="5334120"/>
            <a:ext cx="695160" cy="4381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7543800" y="5334120"/>
                      <a:ext cx="695160" cy="43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" name=""/>
            <p:cNvGraphicFramePr/>
            <p:nvPr/>
          </p:nvGraphicFramePr>
          <p:xfrm>
            <a:off x="2514600" y="4800600"/>
            <a:ext cx="3589200" cy="13222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514600" y="4800600"/>
                      <a:ext cx="3589200" cy="132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4" name=""/>
          <p:cNvGrpSpPr/>
          <p:nvPr/>
        </p:nvGrpSpPr>
        <p:grpSpPr>
          <a:xfrm>
            <a:off x="7412040" y="6578640"/>
            <a:ext cx="1731960" cy="287280"/>
            <a:chOff x="7412040" y="6578640"/>
            <a:chExt cx="1731960" cy="287280"/>
          </a:xfrm>
        </p:grpSpPr>
        <p:sp>
          <p:nvSpPr>
            <p:cNvPr id="65" name="">
              <a:hlinkClick r:id="" action="ppaction://hlinkshowjump?jump=firstslide"/>
            </p:cNvPr>
            <p:cNvSpPr/>
            <p:nvPr/>
          </p:nvSpPr>
          <p:spPr>
            <a:xfrm>
              <a:off x="74120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>
              <a:hlinkClick r:id="" action="ppaction://hlinkshowjump?jump=previousslide"/>
            </p:cNvPr>
            <p:cNvSpPr/>
            <p:nvPr/>
          </p:nvSpPr>
          <p:spPr>
            <a:xfrm>
              <a:off x="78692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>
              <a:hlinkClick r:id="" action="ppaction://hlinkshowjump?jump=nextslide"/>
            </p:cNvPr>
            <p:cNvSpPr/>
            <p:nvPr/>
          </p:nvSpPr>
          <p:spPr>
            <a:xfrm>
              <a:off x="83264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>
              <a:hlinkClick r:id="" action="ppaction://hlinkshowjump?jump=lastslide"/>
            </p:cNvPr>
            <p:cNvSpPr/>
            <p:nvPr/>
          </p:nvSpPr>
          <p:spPr>
            <a:xfrm>
              <a:off x="87836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4114800" y="2209680"/>
            <a:ext cx="4648320" cy="2351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9" name=""/>
          <p:cNvGraphicFramePr/>
          <p:nvPr/>
        </p:nvGraphicFramePr>
        <p:xfrm>
          <a:off x="1371600" y="2666880"/>
          <a:ext cx="2214720" cy="81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2666880"/>
                    <a:ext cx="221472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1" name=""/>
          <p:cNvGrpSpPr/>
          <p:nvPr/>
        </p:nvGrpSpPr>
        <p:grpSpPr>
          <a:xfrm>
            <a:off x="1341360" y="277920"/>
            <a:ext cx="5592960" cy="990360"/>
            <a:chOff x="1341360" y="277920"/>
            <a:chExt cx="5592960" cy="990360"/>
          </a:xfrm>
        </p:grpSpPr>
        <p:graphicFrame>
          <p:nvGraphicFramePr>
            <p:cNvPr id="362" name=""/>
            <p:cNvGraphicFramePr/>
            <p:nvPr/>
          </p:nvGraphicFramePr>
          <p:xfrm>
            <a:off x="1341360" y="277920"/>
            <a:ext cx="2513160" cy="990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6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341360" y="277920"/>
                      <a:ext cx="2513160" cy="99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4" name=""/>
            <p:cNvSpPr/>
            <p:nvPr/>
          </p:nvSpPr>
          <p:spPr>
            <a:xfrm>
              <a:off x="3962520" y="5335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切向加速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1295280" y="1295280"/>
            <a:ext cx="5852880" cy="1000080"/>
            <a:chOff x="1295280" y="1295280"/>
            <a:chExt cx="5852880" cy="1000080"/>
          </a:xfrm>
        </p:grpSpPr>
        <p:graphicFrame>
          <p:nvGraphicFramePr>
            <p:cNvPr id="366" name=""/>
            <p:cNvGraphicFramePr/>
            <p:nvPr/>
          </p:nvGraphicFramePr>
          <p:xfrm>
            <a:off x="1295280" y="1295280"/>
            <a:ext cx="3033720" cy="1000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6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295280" y="1295280"/>
                      <a:ext cx="3033720" cy="100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8" name=""/>
            <p:cNvSpPr/>
            <p:nvPr/>
          </p:nvSpPr>
          <p:spPr>
            <a:xfrm>
              <a:off x="4404960" y="159984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法向加速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762120" y="4572000"/>
            <a:ext cx="7270560" cy="533160"/>
            <a:chOff x="762120" y="4572000"/>
            <a:chExt cx="7270560" cy="533160"/>
          </a:xfrm>
        </p:grpSpPr>
        <p:sp>
          <p:nvSpPr>
            <p:cNvPr id="370" name=""/>
            <p:cNvSpPr/>
            <p:nvPr/>
          </p:nvSpPr>
          <p:spPr>
            <a:xfrm>
              <a:off x="762120" y="457200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曲线匀速运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71" name=""/>
            <p:cNvGraphicFramePr/>
            <p:nvPr/>
          </p:nvGraphicFramePr>
          <p:xfrm>
            <a:off x="3313080" y="4576680"/>
            <a:ext cx="4719600" cy="528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7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313080" y="4576680"/>
                      <a:ext cx="4719600" cy="52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3" name=""/>
            <p:cNvSpPr/>
            <p:nvPr/>
          </p:nvSpPr>
          <p:spPr>
            <a:xfrm>
              <a:off x="5562720" y="45720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常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762120" y="52578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曲线匀变速运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990720" y="5638680"/>
            <a:ext cx="5734080" cy="920880"/>
            <a:chOff x="990720" y="5638680"/>
            <a:chExt cx="5734080" cy="920880"/>
          </a:xfrm>
        </p:grpSpPr>
        <p:graphicFrame>
          <p:nvGraphicFramePr>
            <p:cNvPr id="376" name=""/>
            <p:cNvGraphicFramePr/>
            <p:nvPr/>
          </p:nvGraphicFramePr>
          <p:xfrm>
            <a:off x="990720" y="5638680"/>
            <a:ext cx="5734080" cy="9208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7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990720" y="5638680"/>
                      <a:ext cx="5734080" cy="92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8" name=""/>
            <p:cNvSpPr/>
            <p:nvPr/>
          </p:nvSpPr>
          <p:spPr>
            <a:xfrm>
              <a:off x="1600200" y="58672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常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7412040" y="6578640"/>
            <a:ext cx="1731960" cy="287280"/>
            <a:chOff x="7412040" y="6578640"/>
            <a:chExt cx="1731960" cy="287280"/>
          </a:xfrm>
        </p:grpSpPr>
        <p:sp>
          <p:nvSpPr>
            <p:cNvPr id="380" name="">
              <a:hlinkClick r:id="" action="ppaction://hlinkshowjump?jump=firstslide"/>
            </p:cNvPr>
            <p:cNvSpPr/>
            <p:nvPr/>
          </p:nvSpPr>
          <p:spPr>
            <a:xfrm>
              <a:off x="74120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>
              <a:hlinkClick r:id="" action="ppaction://hlinkshowjump?jump=previousslide"/>
            </p:cNvPr>
            <p:cNvSpPr/>
            <p:nvPr/>
          </p:nvSpPr>
          <p:spPr>
            <a:xfrm>
              <a:off x="78692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>
              <a:hlinkClick r:id="" action="ppaction://hlinkshowjump?jump=nextslide"/>
            </p:cNvPr>
            <p:cNvSpPr/>
            <p:nvPr/>
          </p:nvSpPr>
          <p:spPr>
            <a:xfrm>
              <a:off x="83264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>
              <a:hlinkClick r:id="" action="ppaction://hlinkshowjump?jump=lastslide"/>
            </p:cNvPr>
            <p:cNvSpPr/>
            <p:nvPr/>
          </p:nvSpPr>
          <p:spPr>
            <a:xfrm>
              <a:off x="87836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09480" y="450720"/>
            <a:ext cx="7925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-4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列车沿半径为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=800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圆弧轨道作匀加速运动。如初速度为零，经过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mi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后，速度到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4km/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求列车起点和未点的加速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2133720" y="2819520"/>
            <a:ext cx="5257800" cy="2627280"/>
          </a:xfrm>
          <a:prstGeom prst="rect">
            <a:avLst/>
          </a:prstGeom>
          <a:ln w="0">
            <a:noFill/>
          </a:ln>
        </p:spPr>
      </p:pic>
      <p:grpSp>
        <p:nvGrpSpPr>
          <p:cNvPr id="386" name=""/>
          <p:cNvGrpSpPr/>
          <p:nvPr/>
        </p:nvGrpSpPr>
        <p:grpSpPr>
          <a:xfrm>
            <a:off x="7412040" y="6578640"/>
            <a:ext cx="1731960" cy="287280"/>
            <a:chOff x="7412040" y="6578640"/>
            <a:chExt cx="1731960" cy="287280"/>
          </a:xfrm>
        </p:grpSpPr>
        <p:sp>
          <p:nvSpPr>
            <p:cNvPr id="387" name="">
              <a:hlinkClick r:id="" action="ppaction://hlinkshowjump?jump=firstslide"/>
            </p:cNvPr>
            <p:cNvSpPr/>
            <p:nvPr/>
          </p:nvSpPr>
          <p:spPr>
            <a:xfrm>
              <a:off x="74120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>
              <a:hlinkClick r:id="" action="ppaction://hlinkshowjump?jump=previousslide"/>
            </p:cNvPr>
            <p:cNvSpPr/>
            <p:nvPr/>
          </p:nvSpPr>
          <p:spPr>
            <a:xfrm>
              <a:off x="78692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>
              <a:hlinkClick r:id="" action="ppaction://hlinkshowjump?jump=nextslide"/>
            </p:cNvPr>
            <p:cNvSpPr/>
            <p:nvPr/>
          </p:nvSpPr>
          <p:spPr>
            <a:xfrm>
              <a:off x="83264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>
              <a:hlinkClick r:id="" action="ppaction://hlinkshowjump?jump=lastslide"/>
            </p:cNvPr>
            <p:cNvSpPr/>
            <p:nvPr/>
          </p:nvSpPr>
          <p:spPr>
            <a:xfrm>
              <a:off x="87836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957680" y="157788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：列车作曲线加速运动，取弧坐标如上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2071800" y="2666880"/>
          <a:ext cx="4127400" cy="92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71800" y="2666880"/>
                    <a:ext cx="412740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1981080" y="5943600"/>
          <a:ext cx="3888000" cy="698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5943600"/>
                    <a:ext cx="38880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6" name=""/>
          <p:cNvGrpSpPr/>
          <p:nvPr/>
        </p:nvGrpSpPr>
        <p:grpSpPr>
          <a:xfrm>
            <a:off x="1320120" y="3581280"/>
            <a:ext cx="5767920" cy="563760"/>
            <a:chOff x="1320120" y="3581280"/>
            <a:chExt cx="5767920" cy="563760"/>
          </a:xfrm>
        </p:grpSpPr>
        <p:sp>
          <p:nvSpPr>
            <p:cNvPr id="397" name=""/>
            <p:cNvSpPr/>
            <p:nvPr/>
          </p:nvSpPr>
          <p:spPr>
            <a:xfrm>
              <a:off x="1320120" y="3605040"/>
              <a:ext cx="49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8" name=""/>
                <p:cNvSpPr txBox="1"/>
                <p:nvPr/>
              </p:nvSpPr>
              <p:spPr>
                <a:xfrm>
                  <a:off x="2057400" y="3657600"/>
                  <a:ext cx="1828800" cy="47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399" name=""/>
            <p:cNvGraphicFramePr/>
            <p:nvPr/>
          </p:nvGraphicFramePr>
          <p:xfrm>
            <a:off x="4267080" y="3581280"/>
            <a:ext cx="2820960" cy="5637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0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267080" y="3581280"/>
                      <a:ext cx="2820960" cy="56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01" name=""/>
          <p:cNvGrpSpPr/>
          <p:nvPr/>
        </p:nvGrpSpPr>
        <p:grpSpPr>
          <a:xfrm>
            <a:off x="1294920" y="4205160"/>
            <a:ext cx="5410800" cy="1509840"/>
            <a:chOff x="1294920" y="4205160"/>
            <a:chExt cx="5410800" cy="1509840"/>
          </a:xfrm>
        </p:grpSpPr>
        <p:grpSp>
          <p:nvGrpSpPr>
            <p:cNvPr id="402" name=""/>
            <p:cNvGrpSpPr/>
            <p:nvPr/>
          </p:nvGrpSpPr>
          <p:grpSpPr>
            <a:xfrm>
              <a:off x="1294920" y="4205160"/>
              <a:ext cx="3184920" cy="520560"/>
              <a:chOff x="1294920" y="4205160"/>
              <a:chExt cx="3184920" cy="520560"/>
            </a:xfrm>
          </p:grpSpPr>
          <p:sp>
            <p:nvSpPr>
              <p:cNvPr id="403" name=""/>
              <p:cNvSpPr/>
              <p:nvPr/>
            </p:nvSpPr>
            <p:spPr>
              <a:xfrm flipH="1">
                <a:off x="1294560" y="4205160"/>
                <a:ext cx="669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②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04" name=""/>
                  <p:cNvSpPr txBox="1"/>
                  <p:nvPr/>
                </p:nvSpPr>
                <p:spPr>
                  <a:xfrm>
                    <a:off x="1965240" y="4267080"/>
                    <a:ext cx="2514600" cy="446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s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aphicFrame>
          <p:nvGraphicFramePr>
            <p:cNvPr id="405" name=""/>
            <p:cNvGraphicFramePr/>
            <p:nvPr/>
          </p:nvGraphicFramePr>
          <p:xfrm>
            <a:off x="1925640" y="4734000"/>
            <a:ext cx="4780080" cy="9810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40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925640" y="4734000"/>
                      <a:ext cx="4780080" cy="98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07" name=""/>
          <p:cNvGrpSpPr/>
          <p:nvPr/>
        </p:nvGrpSpPr>
        <p:grpSpPr>
          <a:xfrm>
            <a:off x="706320" y="228600"/>
            <a:ext cx="7750440" cy="1284120"/>
            <a:chOff x="706320" y="228600"/>
            <a:chExt cx="7750440" cy="1284120"/>
          </a:xfrm>
        </p:grpSpPr>
        <p:graphicFrame>
          <p:nvGraphicFramePr>
            <p:cNvPr id="408" name=""/>
            <p:cNvGraphicFramePr/>
            <p:nvPr/>
          </p:nvGraphicFramePr>
          <p:xfrm>
            <a:off x="4613400" y="228600"/>
            <a:ext cx="3843360" cy="6523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409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613400" y="228600"/>
                      <a:ext cx="3843360" cy="65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10" name=""/>
            <p:cNvSpPr/>
            <p:nvPr/>
          </p:nvSpPr>
          <p:spPr>
            <a:xfrm>
              <a:off x="706320" y="271440"/>
              <a:ext cx="441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已知：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=800m=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常数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11" name=""/>
            <p:cNvGraphicFramePr/>
            <p:nvPr/>
          </p:nvGraphicFramePr>
          <p:xfrm>
            <a:off x="1671480" y="838080"/>
            <a:ext cx="3005280" cy="6541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412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1671480" y="838080"/>
                      <a:ext cx="3005280" cy="65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3" name=""/>
            <p:cNvGraphicFramePr/>
            <p:nvPr/>
          </p:nvGraphicFramePr>
          <p:xfrm>
            <a:off x="4843440" y="838080"/>
            <a:ext cx="3301920" cy="67464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414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4843440" y="838080"/>
                      <a:ext cx="3301920" cy="67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1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7412040" y="6578640"/>
            <a:ext cx="1731960" cy="287280"/>
            <a:chOff x="7412040" y="6578640"/>
            <a:chExt cx="1731960" cy="287280"/>
          </a:xfrm>
        </p:grpSpPr>
        <p:sp>
          <p:nvSpPr>
            <p:cNvPr id="417" name="">
              <a:hlinkClick r:id="" action="ppaction://hlinkshowjump?jump=firstslide"/>
            </p:cNvPr>
            <p:cNvSpPr/>
            <p:nvPr/>
          </p:nvSpPr>
          <p:spPr>
            <a:xfrm>
              <a:off x="74120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>
              <a:hlinkClick r:id="" action="ppaction://hlinkshowjump?jump=previousslide"/>
            </p:cNvPr>
            <p:cNvSpPr/>
            <p:nvPr/>
          </p:nvSpPr>
          <p:spPr>
            <a:xfrm>
              <a:off x="78692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>
              <a:hlinkClick r:id="" action="ppaction://hlinkshowjump?jump=nextslide"/>
            </p:cNvPr>
            <p:cNvSpPr/>
            <p:nvPr/>
          </p:nvSpPr>
          <p:spPr>
            <a:xfrm>
              <a:off x="83264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>
              <a:hlinkClick r:id="" action="ppaction://hlinkshowjump?jump=lastslide"/>
            </p:cNvPr>
            <p:cNvSpPr/>
            <p:nvPr/>
          </p:nvSpPr>
          <p:spPr>
            <a:xfrm>
              <a:off x="87836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1447920" y="2057400"/>
            <a:ext cx="5715000" cy="704880"/>
            <a:chOff x="1447920" y="2057400"/>
            <a:chExt cx="5715000" cy="704880"/>
          </a:xfrm>
        </p:grpSpPr>
        <p:graphicFrame>
          <p:nvGraphicFramePr>
            <p:cNvPr id="422" name=""/>
            <p:cNvGraphicFramePr/>
            <p:nvPr/>
          </p:nvGraphicFramePr>
          <p:xfrm>
            <a:off x="1447920" y="2133720"/>
            <a:ext cx="3274920" cy="59040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423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1447920" y="2133720"/>
                      <a:ext cx="3274920" cy="59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424" name=""/>
                <p:cNvSpPr txBox="1"/>
                <p:nvPr/>
              </p:nvSpPr>
              <p:spPr>
                <a:xfrm>
                  <a:off x="5681520" y="2057400"/>
                  <a:ext cx="1481400" cy="70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25" name=""/>
            <p:cNvSpPr/>
            <p:nvPr/>
          </p:nvSpPr>
          <p:spPr>
            <a:xfrm>
              <a:off x="4949640" y="21337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994400" y="1371600"/>
            <a:ext cx="29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：由点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运动方程，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990720" y="1981080"/>
                <a:ext cx="571500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4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990720" y="2590920"/>
                <a:ext cx="55623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4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29" name=""/>
          <p:cNvGraphicFramePr/>
          <p:nvPr/>
        </p:nvGraphicFramePr>
        <p:xfrm>
          <a:off x="1066680" y="3200400"/>
          <a:ext cx="2971800" cy="54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3200400"/>
                    <a:ext cx="297180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533520" y="3733920"/>
          <a:ext cx="8021520" cy="704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3733920"/>
                    <a:ext cx="802152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"/>
          <p:cNvGraphicFramePr/>
          <p:nvPr/>
        </p:nvGraphicFramePr>
        <p:xfrm>
          <a:off x="685800" y="4419720"/>
          <a:ext cx="5016600" cy="977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5800" y="4419720"/>
                    <a:ext cx="501660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"/>
          <p:cNvGraphicFramePr/>
          <p:nvPr/>
        </p:nvGraphicFramePr>
        <p:xfrm>
          <a:off x="762120" y="5334120"/>
          <a:ext cx="2817720" cy="1114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2120" y="5334120"/>
                    <a:ext cx="2817720" cy="111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7" name=""/>
          <p:cNvGrpSpPr/>
          <p:nvPr/>
        </p:nvGrpSpPr>
        <p:grpSpPr>
          <a:xfrm>
            <a:off x="380880" y="0"/>
            <a:ext cx="8271000" cy="1139400"/>
            <a:chOff x="380880" y="0"/>
            <a:chExt cx="8271000" cy="1139400"/>
          </a:xfrm>
        </p:grpSpPr>
        <p:grpSp>
          <p:nvGrpSpPr>
            <p:cNvPr id="438" name=""/>
            <p:cNvGrpSpPr/>
            <p:nvPr/>
          </p:nvGrpSpPr>
          <p:grpSpPr>
            <a:xfrm>
              <a:off x="380880" y="0"/>
              <a:ext cx="8271000" cy="1117800"/>
              <a:chOff x="380880" y="0"/>
              <a:chExt cx="8271000" cy="1117800"/>
            </a:xfrm>
          </p:grpSpPr>
          <p:sp>
            <p:nvSpPr>
              <p:cNvPr id="439" name=""/>
              <p:cNvSpPr/>
              <p:nvPr/>
            </p:nvSpPr>
            <p:spPr>
              <a:xfrm>
                <a:off x="380880" y="0"/>
                <a:ext cx="7391520" cy="111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Times New Roman"/>
                  </a:rPr>
                  <a:t>　　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</a:rPr>
                  <a:t>例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</a:rPr>
                  <a:t>6-5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</a:rPr>
                  <a:t>已知点的运动方程为</a:t>
                </a:r>
                <a:r>
                  <a:rPr b="0" i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</a:rPr>
                  <a:t>=2sin 4</a:t>
                </a:r>
                <a:r>
                  <a:rPr b="0" i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</a:rPr>
                  <a:t> m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</a:rPr>
                  <a:t>，</a:t>
                </a:r>
                <a:r>
                  <a:rPr b="0" i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</a:rPr>
                  <a:t>=2cos 4</a:t>
                </a:r>
                <a:r>
                  <a:rPr b="0" i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</a:rPr>
                  <a:t> m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</a:rPr>
                  <a:t>，</a:t>
                </a:r>
                <a:r>
                  <a:rPr b="0" i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</a:rPr>
                  <a:t>=4</a:t>
                </a:r>
                <a:r>
                  <a:rPr b="0" i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</a:rPr>
                  <a:t> m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</a:rPr>
                  <a:t>。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40" name=""/>
                  <p:cNvSpPr txBox="1"/>
                  <p:nvPr/>
                </p:nvSpPr>
                <p:spPr>
                  <a:xfrm>
                    <a:off x="8229600" y="609480"/>
                    <a:ext cx="422280" cy="457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ρ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441" name=""/>
            <p:cNvSpPr/>
            <p:nvPr/>
          </p:nvSpPr>
          <p:spPr>
            <a:xfrm>
              <a:off x="5910840" y="533520"/>
              <a:ext cx="11257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求：点运动轨迹的曲率半径      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7412040" y="6578640"/>
            <a:ext cx="1731960" cy="287280"/>
            <a:chOff x="7412040" y="6578640"/>
            <a:chExt cx="1731960" cy="287280"/>
          </a:xfrm>
        </p:grpSpPr>
        <p:sp>
          <p:nvSpPr>
            <p:cNvPr id="443" name="">
              <a:hlinkClick r:id="" action="ppaction://hlinkshowjump?jump=firstslide"/>
            </p:cNvPr>
            <p:cNvSpPr/>
            <p:nvPr/>
          </p:nvSpPr>
          <p:spPr>
            <a:xfrm>
              <a:off x="74120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>
              <a:hlinkClick r:id="" action="ppaction://hlinkshowjump?jump=previousslide"/>
            </p:cNvPr>
            <p:cNvSpPr/>
            <p:nvPr/>
          </p:nvSpPr>
          <p:spPr>
            <a:xfrm>
              <a:off x="78692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>
              <a:hlinkClick r:id="" action="ppaction://hlinkshowjump?jump=nextslide"/>
            </p:cNvPr>
            <p:cNvSpPr/>
            <p:nvPr/>
          </p:nvSpPr>
          <p:spPr>
            <a:xfrm>
              <a:off x="83264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>
              <a:hlinkClick r:id="" action="ppaction://hlinkshowjump?jump=lastslide"/>
            </p:cNvPr>
            <p:cNvSpPr/>
            <p:nvPr/>
          </p:nvSpPr>
          <p:spPr>
            <a:xfrm>
              <a:off x="87836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"/>
          <p:cNvGrpSpPr/>
          <p:nvPr/>
        </p:nvGrpSpPr>
        <p:grpSpPr>
          <a:xfrm>
            <a:off x="289080" y="457200"/>
            <a:ext cx="8550000" cy="1116000"/>
            <a:chOff x="289080" y="457200"/>
            <a:chExt cx="8550000" cy="1116000"/>
          </a:xfrm>
        </p:grpSpPr>
        <p:sp>
          <p:nvSpPr>
            <p:cNvPr id="448" name=""/>
            <p:cNvSpPr/>
            <p:nvPr/>
          </p:nvSpPr>
          <p:spPr>
            <a:xfrm>
              <a:off x="289080" y="457200"/>
              <a:ext cx="855000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　　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例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6-6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半径为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的轮子沿直线轨道无滑动地滚动（称为纯滚动），设轮子转角　                为常值），如图所示。求用直角坐标和弧坐标表示的轮缘上任一点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的运动方程，并求该点的速度、切向加速度及法向加速度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49" name=""/>
            <p:cNvGraphicFramePr/>
            <p:nvPr/>
          </p:nvGraphicFramePr>
          <p:xfrm>
            <a:off x="5181480" y="1066680"/>
            <a:ext cx="1482840" cy="506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5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181480" y="1066680"/>
                      <a:ext cx="1482840" cy="50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51" name="ShockwaveFlash1"/>
          <p:cNvGraphicFramePr/>
          <p:nvPr/>
        </p:nvGraphicFramePr>
        <p:xfrm>
          <a:off x="2286000" y="3352680"/>
          <a:ext cx="5029200" cy="2895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2" name="ShockwaveFlash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0" y="3352680"/>
                    <a:ext cx="5029200" cy="28958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453" name=""/>
          <p:cNvGrpSpPr/>
          <p:nvPr/>
        </p:nvGrpSpPr>
        <p:grpSpPr>
          <a:xfrm>
            <a:off x="7412040" y="6578640"/>
            <a:ext cx="1731960" cy="287280"/>
            <a:chOff x="7412040" y="6578640"/>
            <a:chExt cx="1731960" cy="287280"/>
          </a:xfrm>
        </p:grpSpPr>
        <p:sp>
          <p:nvSpPr>
            <p:cNvPr id="454" name="">
              <a:hlinkClick r:id="" action="ppaction://hlinkshowjump?jump=firstslide"/>
            </p:cNvPr>
            <p:cNvSpPr/>
            <p:nvPr/>
          </p:nvSpPr>
          <p:spPr>
            <a:xfrm>
              <a:off x="74120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>
              <a:hlinkClick r:id="" action="ppaction://hlinkshowjump?jump=previousslide"/>
            </p:cNvPr>
            <p:cNvSpPr/>
            <p:nvPr/>
          </p:nvSpPr>
          <p:spPr>
            <a:xfrm>
              <a:off x="78692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>
              <a:hlinkClick r:id="" action="ppaction://hlinkshowjump?jump=nextslide"/>
            </p:cNvPr>
            <p:cNvSpPr/>
            <p:nvPr/>
          </p:nvSpPr>
          <p:spPr>
            <a:xfrm>
              <a:off x="83264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>
              <a:hlinkClick r:id="" action="ppaction://hlinkshowjump?jump=lastslide"/>
            </p:cNvPr>
            <p:cNvSpPr/>
            <p:nvPr/>
          </p:nvSpPr>
          <p:spPr>
            <a:xfrm>
              <a:off x="87836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609480" y="1974960"/>
            <a:ext cx="4343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点作曲线运动，取直角坐标系如图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1371600" y="4114800"/>
          <a:ext cx="3352680" cy="58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4114800"/>
                    <a:ext cx="335268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990720" y="5029200"/>
                <a:ext cx="65530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从而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OC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  <m:r>
                      <m:t xml:space="preserve">=</m:t>
                    </m:r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2057400" y="5715000"/>
                <a:ext cx="53816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C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=</m:t>
                    </m:r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63" name=""/>
          <p:cNvGrpSpPr/>
          <p:nvPr/>
        </p:nvGrpSpPr>
        <p:grpSpPr>
          <a:xfrm>
            <a:off x="0" y="228600"/>
            <a:ext cx="9144000" cy="1143000"/>
            <a:chOff x="0" y="228600"/>
            <a:chExt cx="9144000" cy="1143000"/>
          </a:xfrm>
        </p:grpSpPr>
        <p:graphicFrame>
          <p:nvGraphicFramePr>
            <p:cNvPr id="464" name=""/>
            <p:cNvGraphicFramePr/>
            <p:nvPr/>
          </p:nvGraphicFramePr>
          <p:xfrm>
            <a:off x="1084320" y="228600"/>
            <a:ext cx="4308480" cy="5256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6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084320" y="228600"/>
                      <a:ext cx="4308480" cy="52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6" name=""/>
            <p:cNvSpPr/>
            <p:nvPr/>
          </p:nvSpPr>
          <p:spPr>
            <a:xfrm>
              <a:off x="1143000" y="685800"/>
              <a:ext cx="76960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求：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点的运动方程、速度、切向和法向加速度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0" y="137160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7412040" y="6578640"/>
            <a:ext cx="1731960" cy="287280"/>
            <a:chOff x="7412040" y="6578640"/>
            <a:chExt cx="1731960" cy="287280"/>
          </a:xfrm>
        </p:grpSpPr>
        <p:sp>
          <p:nvSpPr>
            <p:cNvPr id="469" name="">
              <a:hlinkClick r:id="" action="ppaction://hlinkshowjump?jump=firstslide"/>
            </p:cNvPr>
            <p:cNvSpPr/>
            <p:nvPr/>
          </p:nvSpPr>
          <p:spPr>
            <a:xfrm>
              <a:off x="74120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>
              <a:hlinkClick r:id="" action="ppaction://hlinkshowjump?jump=previousslide"/>
            </p:cNvPr>
            <p:cNvSpPr/>
            <p:nvPr/>
          </p:nvSpPr>
          <p:spPr>
            <a:xfrm>
              <a:off x="78692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>
              <a:hlinkClick r:id="" action="ppaction://hlinkshowjump?jump=nextslide"/>
            </p:cNvPr>
            <p:cNvSpPr/>
            <p:nvPr/>
          </p:nvSpPr>
          <p:spPr>
            <a:xfrm>
              <a:off x="83264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>
              <a:hlinkClick r:id="" action="ppaction://hlinkshowjump?jump=lastslide"/>
            </p:cNvPr>
            <p:cNvSpPr/>
            <p:nvPr/>
          </p:nvSpPr>
          <p:spPr>
            <a:xfrm>
              <a:off x="87836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73" name=""/>
          <p:cNvGraphicFramePr/>
          <p:nvPr/>
        </p:nvGraphicFramePr>
        <p:xfrm>
          <a:off x="1523880" y="3276720"/>
          <a:ext cx="2286000" cy="493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23880" y="3276720"/>
                    <a:ext cx="228600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"/>
          <p:cNvGraphicFramePr/>
          <p:nvPr/>
        </p:nvGraphicFramePr>
        <p:xfrm>
          <a:off x="4952880" y="2438280"/>
          <a:ext cx="4191120" cy="1793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952880" y="2438280"/>
                    <a:ext cx="4191120" cy="17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7" name=""/>
          <p:cNvGraphicFramePr/>
          <p:nvPr/>
        </p:nvGraphicFramePr>
        <p:xfrm>
          <a:off x="695160" y="1868400"/>
          <a:ext cx="6832800" cy="663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5160" y="1868400"/>
                    <a:ext cx="683280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544680" y="2789280"/>
                <a:ext cx="836604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  <m:r>
                      <m:t xml:space="preserve">=</m:t>
                    </m:r>
                    <m:r>
                      <m:t xml:space="preserve">rω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rω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（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≤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80" name=""/>
          <p:cNvGraphicFramePr/>
          <p:nvPr/>
        </p:nvGraphicFramePr>
        <p:xfrm>
          <a:off x="765000" y="3886200"/>
          <a:ext cx="6789960" cy="609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5000" y="3886200"/>
                    <a:ext cx="67899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685800" y="4648320"/>
                <a:ext cx="312408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  <m:r>
                      <m:t xml:space="preserve">=</m:t>
                    </m:r>
                    <m:sSup>
                      <m:e>
                        <m:r>
                          <m:t xml:space="preserve">r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483" name=""/>
          <p:cNvGrpSpPr/>
          <p:nvPr/>
        </p:nvGrpSpPr>
        <p:grpSpPr>
          <a:xfrm>
            <a:off x="0" y="228600"/>
            <a:ext cx="9144000" cy="1143000"/>
            <a:chOff x="0" y="228600"/>
            <a:chExt cx="9144000" cy="1143000"/>
          </a:xfrm>
        </p:grpSpPr>
        <p:graphicFrame>
          <p:nvGraphicFramePr>
            <p:cNvPr id="484" name=""/>
            <p:cNvGraphicFramePr/>
            <p:nvPr/>
          </p:nvGraphicFramePr>
          <p:xfrm>
            <a:off x="852480" y="228600"/>
            <a:ext cx="4368960" cy="5335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8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2480" y="228600"/>
                      <a:ext cx="43689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6" name=""/>
            <p:cNvSpPr/>
            <p:nvPr/>
          </p:nvSpPr>
          <p:spPr>
            <a:xfrm>
              <a:off x="838080" y="685800"/>
              <a:ext cx="800100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求：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点的运动方程、速度、切向和法向加速度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0" y="137160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7412040" y="6578640"/>
            <a:ext cx="1731960" cy="287280"/>
            <a:chOff x="7412040" y="6578640"/>
            <a:chExt cx="1731960" cy="287280"/>
          </a:xfrm>
        </p:grpSpPr>
        <p:sp>
          <p:nvSpPr>
            <p:cNvPr id="489" name="">
              <a:hlinkClick r:id="" action="ppaction://hlinkshowjump?jump=firstslide"/>
            </p:cNvPr>
            <p:cNvSpPr/>
            <p:nvPr/>
          </p:nvSpPr>
          <p:spPr>
            <a:xfrm>
              <a:off x="74120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>
              <a:hlinkClick r:id="" action="ppaction://hlinkshowjump?jump=previousslide"/>
            </p:cNvPr>
            <p:cNvSpPr/>
            <p:nvPr/>
          </p:nvSpPr>
          <p:spPr>
            <a:xfrm>
              <a:off x="78692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>
              <a:hlinkClick r:id="" action="ppaction://hlinkshowjump?jump=nextslide"/>
            </p:cNvPr>
            <p:cNvSpPr/>
            <p:nvPr/>
          </p:nvSpPr>
          <p:spPr>
            <a:xfrm>
              <a:off x="83264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>
              <a:hlinkClick r:id="" action="ppaction://hlinkshowjump?jump=lastslide"/>
            </p:cNvPr>
            <p:cNvSpPr/>
            <p:nvPr/>
          </p:nvSpPr>
          <p:spPr>
            <a:xfrm>
              <a:off x="87836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1395000" y="1981080"/>
            <a:ext cx="25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又点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切向加速度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2666880" y="2590920"/>
          <a:ext cx="2971800" cy="98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2590920"/>
                    <a:ext cx="297180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6" name=""/>
          <p:cNvGrpSpPr/>
          <p:nvPr/>
        </p:nvGrpSpPr>
        <p:grpSpPr>
          <a:xfrm>
            <a:off x="1067760" y="3809880"/>
            <a:ext cx="5713920" cy="973080"/>
            <a:chOff x="1067760" y="3809880"/>
            <a:chExt cx="5713920" cy="973080"/>
          </a:xfrm>
        </p:grpSpPr>
        <p:sp>
          <p:nvSpPr>
            <p:cNvPr id="497" name=""/>
            <p:cNvSpPr/>
            <p:nvPr/>
          </p:nvSpPr>
          <p:spPr>
            <a:xfrm>
              <a:off x="1067760" y="385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则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98" name=""/>
            <p:cNvGraphicFramePr/>
            <p:nvPr/>
          </p:nvGraphicFramePr>
          <p:xfrm>
            <a:off x="2666880" y="3809880"/>
            <a:ext cx="4114800" cy="9730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9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666880" y="3809880"/>
                      <a:ext cx="4114800" cy="97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00" name="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7162920" y="6400800"/>
            <a:ext cx="1731960" cy="287280"/>
            <a:chOff x="7162920" y="6400800"/>
            <a:chExt cx="1731960" cy="287280"/>
          </a:xfrm>
        </p:grpSpPr>
        <p:sp>
          <p:nvSpPr>
            <p:cNvPr id="502" name="">
              <a:hlinkClick r:id="" action="ppaction://hlinkshowjump?jump=firstslide"/>
            </p:cNvPr>
            <p:cNvSpPr/>
            <p:nvPr/>
          </p:nvSpPr>
          <p:spPr>
            <a:xfrm>
              <a:off x="7162920" y="640080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>
              <a:hlinkClick r:id="" action="ppaction://hlinkshowjump?jump=previousslide"/>
            </p:cNvPr>
            <p:cNvSpPr/>
            <p:nvPr/>
          </p:nvSpPr>
          <p:spPr>
            <a:xfrm>
              <a:off x="7620120" y="640080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>
              <a:hlinkClick r:id="" action="ppaction://hlinkshowjump?jump=nextslide"/>
            </p:cNvPr>
            <p:cNvSpPr/>
            <p:nvPr/>
          </p:nvSpPr>
          <p:spPr>
            <a:xfrm>
              <a:off x="8077320" y="640080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>
              <a:hlinkClick r:id="" action="ppaction://hlinkshowjump?jump=lastslide"/>
            </p:cNvPr>
            <p:cNvSpPr/>
            <p:nvPr/>
          </p:nvSpPr>
          <p:spPr>
            <a:xfrm>
              <a:off x="8534520" y="640080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0" y="228600"/>
            <a:ext cx="9144000" cy="1143000"/>
            <a:chOff x="0" y="228600"/>
            <a:chExt cx="9144000" cy="1143000"/>
          </a:xfrm>
        </p:grpSpPr>
        <p:graphicFrame>
          <p:nvGraphicFramePr>
            <p:cNvPr id="507" name=""/>
            <p:cNvGraphicFramePr/>
            <p:nvPr/>
          </p:nvGraphicFramePr>
          <p:xfrm>
            <a:off x="852480" y="228600"/>
            <a:ext cx="4368960" cy="5335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0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2480" y="228600"/>
                      <a:ext cx="43689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9" name=""/>
            <p:cNvSpPr/>
            <p:nvPr/>
          </p:nvSpPr>
          <p:spPr>
            <a:xfrm>
              <a:off x="838080" y="685800"/>
              <a:ext cx="800100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求：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点的运动方程、速度、切向和法向加速度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0" y="137160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8380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矢端曲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49528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速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矢径矢端曲线切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502920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加速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速度矢端曲线切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811680" cy="2539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684360" y="1905120"/>
            <a:ext cx="3811320" cy="253980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7412040" y="6578640"/>
            <a:ext cx="1731960" cy="287280"/>
            <a:chOff x="7412040" y="6578640"/>
            <a:chExt cx="1731960" cy="287280"/>
          </a:xfrm>
        </p:grpSpPr>
        <p:sp>
          <p:nvSpPr>
            <p:cNvPr id="75" name="">
              <a:hlinkClick r:id="" action="ppaction://hlinkshowjump?jump=firstslide"/>
            </p:cNvPr>
            <p:cNvSpPr/>
            <p:nvPr/>
          </p:nvSpPr>
          <p:spPr>
            <a:xfrm>
              <a:off x="74120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>
              <a:hlinkClick r:id="" action="ppaction://hlinkshowjump?jump=previousslide"/>
            </p:cNvPr>
            <p:cNvSpPr/>
            <p:nvPr/>
          </p:nvSpPr>
          <p:spPr>
            <a:xfrm>
              <a:off x="78692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>
              <a:hlinkClick r:id="" action="ppaction://hlinkshowjump?jump=nextslide"/>
            </p:cNvPr>
            <p:cNvSpPr/>
            <p:nvPr/>
          </p:nvSpPr>
          <p:spPr>
            <a:xfrm>
              <a:off x="83264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>
              <a:hlinkClick r:id="" action="ppaction://hlinkshowjump?jump=lastslide"/>
            </p:cNvPr>
            <p:cNvSpPr/>
            <p:nvPr/>
          </p:nvSpPr>
          <p:spPr>
            <a:xfrm>
              <a:off x="87836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756080" y="486108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直角坐标与矢径坐标之间的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932120" y="5622840"/>
          <a:ext cx="5814720" cy="70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32120" y="5622840"/>
                    <a:ext cx="58147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143360" y="1770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运动方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152800" y="2701800"/>
          <a:ext cx="1352520" cy="164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52800" y="2701800"/>
                    <a:ext cx="1352520" cy="16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2828160" y="425520"/>
            <a:ext cx="330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§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-2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角坐标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ShockwaveFlash1"/>
          <p:cNvGraphicFramePr/>
          <p:nvPr/>
        </p:nvGraphicFramePr>
        <p:xfrm>
          <a:off x="4572000" y="1752480"/>
          <a:ext cx="3962520" cy="2971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7" name="ShockwaveFlash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0" y="1752480"/>
                    <a:ext cx="3962520" cy="2971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88" name=""/>
          <p:cNvGrpSpPr/>
          <p:nvPr/>
        </p:nvGrpSpPr>
        <p:grpSpPr>
          <a:xfrm>
            <a:off x="7412040" y="6578640"/>
            <a:ext cx="1731960" cy="287280"/>
            <a:chOff x="7412040" y="6578640"/>
            <a:chExt cx="1731960" cy="287280"/>
          </a:xfrm>
        </p:grpSpPr>
        <p:sp>
          <p:nvSpPr>
            <p:cNvPr id="89" name="">
              <a:hlinkClick r:id="" action="ppaction://hlinkshowjump?jump=firstslide"/>
            </p:cNvPr>
            <p:cNvSpPr/>
            <p:nvPr/>
          </p:nvSpPr>
          <p:spPr>
            <a:xfrm>
              <a:off x="74120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>
              <a:hlinkClick r:id="" action="ppaction://hlinkshowjump?jump=previousslide"/>
            </p:cNvPr>
            <p:cNvSpPr/>
            <p:nvPr/>
          </p:nvSpPr>
          <p:spPr>
            <a:xfrm>
              <a:off x="78692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>
              <a:hlinkClick r:id="" action="ppaction://hlinkshowjump?jump=nextslide"/>
            </p:cNvPr>
            <p:cNvSpPr/>
            <p:nvPr/>
          </p:nvSpPr>
          <p:spPr>
            <a:xfrm>
              <a:off x="83264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>
              <a:hlinkClick r:id="" action="ppaction://hlinkshowjump?jump=lastslide"/>
            </p:cNvPr>
            <p:cNvSpPr/>
            <p:nvPr/>
          </p:nvSpPr>
          <p:spPr>
            <a:xfrm>
              <a:off x="87836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922400" y="1855800"/>
          <a:ext cx="1257480" cy="101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2400" y="1855800"/>
                    <a:ext cx="1257480" cy="10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1981080" y="3200400"/>
          <a:ext cx="1324080" cy="1033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3200400"/>
                    <a:ext cx="132408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2057400" y="4572000"/>
          <a:ext cx="1287360" cy="1038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57400" y="4572000"/>
                    <a:ext cx="128736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1828800" y="498600"/>
          <a:ext cx="6292800" cy="949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828800" y="498600"/>
                    <a:ext cx="629280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ShockwaveFlash1"/>
          <p:cNvGraphicFramePr/>
          <p:nvPr/>
        </p:nvGraphicFramePr>
        <p:xfrm>
          <a:off x="4419720" y="2286000"/>
          <a:ext cx="4114800" cy="2895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2" name="ShockwaveFlash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419720" y="2286000"/>
                    <a:ext cx="4114800" cy="2895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62120" y="6858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速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7412040" y="6578640"/>
            <a:ext cx="1731960" cy="287280"/>
            <a:chOff x="7412040" y="6578640"/>
            <a:chExt cx="1731960" cy="287280"/>
          </a:xfrm>
        </p:grpSpPr>
        <p:sp>
          <p:nvSpPr>
            <p:cNvPr id="105" name="">
              <a:hlinkClick r:id="" action="ppaction://hlinkshowjump?jump=firstslide"/>
            </p:cNvPr>
            <p:cNvSpPr/>
            <p:nvPr/>
          </p:nvSpPr>
          <p:spPr>
            <a:xfrm>
              <a:off x="74120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>
              <a:hlinkClick r:id="" action="ppaction://hlinkshowjump?jump=previousslide"/>
            </p:cNvPr>
            <p:cNvSpPr/>
            <p:nvPr/>
          </p:nvSpPr>
          <p:spPr>
            <a:xfrm>
              <a:off x="78692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>
              <a:hlinkClick r:id="" action="ppaction://hlinkshowjump?jump=nextslide"/>
            </p:cNvPr>
            <p:cNvSpPr/>
            <p:nvPr/>
          </p:nvSpPr>
          <p:spPr>
            <a:xfrm>
              <a:off x="83264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>
              <a:hlinkClick r:id="" action="ppaction://hlinkshowjump?jump=lastslide"/>
            </p:cNvPr>
            <p:cNvSpPr/>
            <p:nvPr/>
          </p:nvSpPr>
          <p:spPr>
            <a:xfrm>
              <a:off x="87836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1251000" y="3706920"/>
          <a:ext cx="2254320" cy="979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1000" y="3706920"/>
                    <a:ext cx="225432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295280" y="5029200"/>
          <a:ext cx="2133720" cy="103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5280" y="5029200"/>
                    <a:ext cx="2133720" cy="10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1295280" y="2362320"/>
          <a:ext cx="2284560" cy="1020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95280" y="2362320"/>
                    <a:ext cx="228456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900720" y="4809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加速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247760" y="1219320"/>
          <a:ext cx="6797520" cy="990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47760" y="1219320"/>
                    <a:ext cx="67975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ShockwaveFlash1"/>
          <p:cNvGraphicFramePr/>
          <p:nvPr/>
        </p:nvGraphicFramePr>
        <p:xfrm>
          <a:off x="4495680" y="3200400"/>
          <a:ext cx="4114800" cy="2895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9" name="ShockwaveFlash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495680" y="3200400"/>
                    <a:ext cx="4114800" cy="2895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20" name=""/>
          <p:cNvGrpSpPr/>
          <p:nvPr/>
        </p:nvGrpSpPr>
        <p:grpSpPr>
          <a:xfrm>
            <a:off x="7412040" y="6578640"/>
            <a:ext cx="1731960" cy="287280"/>
            <a:chOff x="7412040" y="6578640"/>
            <a:chExt cx="1731960" cy="287280"/>
          </a:xfrm>
        </p:grpSpPr>
        <p:sp>
          <p:nvSpPr>
            <p:cNvPr id="121" name="">
              <a:hlinkClick r:id="" action="ppaction://hlinkshowjump?jump=firstslide"/>
            </p:cNvPr>
            <p:cNvSpPr/>
            <p:nvPr/>
          </p:nvSpPr>
          <p:spPr>
            <a:xfrm>
              <a:off x="74120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>
              <a:hlinkClick r:id="" action="ppaction://hlinkshowjump?jump=previousslide"/>
            </p:cNvPr>
            <p:cNvSpPr/>
            <p:nvPr/>
          </p:nvSpPr>
          <p:spPr>
            <a:xfrm>
              <a:off x="78692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>
              <a:hlinkClick r:id="" action="ppaction://hlinkshowjump?jump=nextslide"/>
            </p:cNvPr>
            <p:cNvSpPr/>
            <p:nvPr/>
          </p:nvSpPr>
          <p:spPr>
            <a:xfrm>
              <a:off x="83264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>
              <a:hlinkClick r:id="" action="ppaction://hlinkshowjump?jump=lastslide"/>
            </p:cNvPr>
            <p:cNvSpPr/>
            <p:nvPr/>
          </p:nvSpPr>
          <p:spPr>
            <a:xfrm>
              <a:off x="87836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339840" y="228600"/>
            <a:ext cx="8076960" cy="2459160"/>
            <a:chOff x="339840" y="228600"/>
            <a:chExt cx="8076960" cy="2459160"/>
          </a:xfrm>
        </p:grpSpPr>
        <p:sp>
          <p:nvSpPr>
            <p:cNvPr id="126" name=""/>
            <p:cNvSpPr/>
            <p:nvPr/>
          </p:nvSpPr>
          <p:spPr>
            <a:xfrm>
              <a:off x="339840" y="228600"/>
              <a:ext cx="807696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例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6-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椭圆规的曲柄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</a:rPr>
                <a:t>OC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可绕定轴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</a:rPr>
                <a:t>O 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转动，其端点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</a:rPr>
                <a:t>C 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与规尺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的中点以铰链相连接，而规尺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，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</a:rPr>
                <a:t>B 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两端分别在相互垂直的滑槽中运动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7" name=""/>
            <p:cNvGraphicFramePr/>
            <p:nvPr/>
          </p:nvGraphicFramePr>
          <p:xfrm>
            <a:off x="804960" y="2133720"/>
            <a:ext cx="6459480" cy="5540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04960" y="2133720"/>
                      <a:ext cx="645948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9" name=""/>
          <p:cNvSpPr/>
          <p:nvPr/>
        </p:nvSpPr>
        <p:spPr>
          <a:xfrm>
            <a:off x="1178640" y="3048120"/>
            <a:ext cx="264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求：①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点的运动方程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24000" y="373392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②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轨迹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77560" y="4495680"/>
            <a:ext cx="14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③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速度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48480" y="518148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④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加速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ShockwaveFlash1"/>
          <p:cNvGraphicFramePr/>
          <p:nvPr/>
        </p:nvGraphicFramePr>
        <p:xfrm>
          <a:off x="4419720" y="2743200"/>
          <a:ext cx="4724280" cy="3505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4" name="ShockwaveFlash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19720" y="2743200"/>
                    <a:ext cx="4724280" cy="3505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35" name=""/>
          <p:cNvGrpSpPr/>
          <p:nvPr/>
        </p:nvGrpSpPr>
        <p:grpSpPr>
          <a:xfrm>
            <a:off x="7412040" y="6578640"/>
            <a:ext cx="1731960" cy="287280"/>
            <a:chOff x="7412040" y="6578640"/>
            <a:chExt cx="1731960" cy="287280"/>
          </a:xfrm>
        </p:grpSpPr>
        <p:sp>
          <p:nvSpPr>
            <p:cNvPr id="136" name="">
              <a:hlinkClick r:id="" action="ppaction://hlinkshowjump?jump=firstslide"/>
            </p:cNvPr>
            <p:cNvSpPr/>
            <p:nvPr/>
          </p:nvSpPr>
          <p:spPr>
            <a:xfrm>
              <a:off x="74120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>
              <a:hlinkClick r:id="" action="ppaction://hlinkshowjump?jump=previousslide"/>
            </p:cNvPr>
            <p:cNvSpPr/>
            <p:nvPr/>
          </p:nvSpPr>
          <p:spPr>
            <a:xfrm>
              <a:off x="78692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>
              <a:hlinkClick r:id="" action="ppaction://hlinkshowjump?jump=nextslide"/>
            </p:cNvPr>
            <p:cNvSpPr/>
            <p:nvPr/>
          </p:nvSpPr>
          <p:spPr>
            <a:xfrm>
              <a:off x="83264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>
              <a:hlinkClick r:id="" action="ppaction://hlinkshowjump?jump=lastslide"/>
            </p:cNvPr>
            <p:cNvSpPr/>
            <p:nvPr/>
          </p:nvSpPr>
          <p:spPr>
            <a:xfrm>
              <a:off x="87836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353960" y="1371600"/>
            <a:ext cx="733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：点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作曲线运动，取坐标系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Ox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如图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95680" y="1968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运动方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2590920"/>
          <a:ext cx="5408640" cy="48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590920"/>
                    <a:ext cx="5408640" cy="48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85800" y="3124080"/>
                <a:ext cx="47242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M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1148400" y="4025880"/>
            <a:ext cx="17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消去</a:t>
            </a:r>
            <a:r>
              <a:rPr b="0" i="1" lang="zh-CN" sz="2800" spc="-1" strike="noStrike">
                <a:solidFill>
                  <a:srgbClr val="000000"/>
                </a:solidFill>
                <a:latin typeface="宋体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得轨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685800" y="4708440"/>
                <a:ext cx="3581280" cy="11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sSup>
                          <m:e>
                            <m:r>
                              <m:t xml:space="preserve">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724280" y="3514680"/>
            <a:ext cx="4091040" cy="30384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0" y="1295280"/>
            <a:ext cx="922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762120" y="120600"/>
            <a:ext cx="6933960" cy="1023840"/>
            <a:chOff x="762120" y="120600"/>
            <a:chExt cx="6933960" cy="1023840"/>
          </a:xfrm>
        </p:grpSpPr>
        <p:sp>
          <p:nvSpPr>
            <p:cNvPr id="150" name=""/>
            <p:cNvSpPr/>
            <p:nvPr/>
          </p:nvSpPr>
          <p:spPr>
            <a:xfrm>
              <a:off x="762120" y="623880"/>
              <a:ext cx="693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求：运动方程、轨迹、速度和加速度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1" name=""/>
            <p:cNvGraphicFramePr/>
            <p:nvPr/>
          </p:nvGraphicFramePr>
          <p:xfrm>
            <a:off x="1860480" y="228600"/>
            <a:ext cx="5411880" cy="480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860480" y="228600"/>
                      <a:ext cx="541188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3" name=""/>
            <p:cNvSpPr/>
            <p:nvPr/>
          </p:nvSpPr>
          <p:spPr>
            <a:xfrm>
              <a:off x="940320" y="1206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已知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7412040" y="6578640"/>
            <a:ext cx="1731960" cy="287280"/>
            <a:chOff x="7412040" y="6578640"/>
            <a:chExt cx="1731960" cy="287280"/>
          </a:xfrm>
        </p:grpSpPr>
        <p:sp>
          <p:nvSpPr>
            <p:cNvPr id="155" name="">
              <a:hlinkClick r:id="" action="ppaction://hlinkshowjump?jump=firstslide"/>
            </p:cNvPr>
            <p:cNvSpPr/>
            <p:nvPr/>
          </p:nvSpPr>
          <p:spPr>
            <a:xfrm>
              <a:off x="74120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>
              <a:hlinkClick r:id="" action="ppaction://hlinkshowjump?jump=previousslide"/>
            </p:cNvPr>
            <p:cNvSpPr/>
            <p:nvPr/>
          </p:nvSpPr>
          <p:spPr>
            <a:xfrm>
              <a:off x="78692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>
              <a:hlinkClick r:id="" action="ppaction://hlinkshowjump?jump=nextslide"/>
            </p:cNvPr>
            <p:cNvSpPr/>
            <p:nvPr/>
          </p:nvSpPr>
          <p:spPr>
            <a:xfrm>
              <a:off x="83264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>
              <a:hlinkClick r:id="" action="ppaction://hlinkshowjump?jump=lastslide"/>
            </p:cNvPr>
            <p:cNvSpPr/>
            <p:nvPr/>
          </p:nvSpPr>
          <p:spPr>
            <a:xfrm>
              <a:off x="87836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50400" y="1295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速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838080" y="1676520"/>
                <a:ext cx="409572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l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838080" y="2324160"/>
                <a:ext cx="3886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2" name=""/>
          <p:cNvGraphicFramePr/>
          <p:nvPr/>
        </p:nvGraphicFramePr>
        <p:xfrm>
          <a:off x="838080" y="4287960"/>
          <a:ext cx="6400800" cy="112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4287960"/>
                    <a:ext cx="6400800" cy="11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838080" y="5349960"/>
          <a:ext cx="6782040" cy="1297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8080" y="5349960"/>
                    <a:ext cx="678204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838080" y="2819520"/>
          <a:ext cx="7848720" cy="1606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38080" y="2819520"/>
                    <a:ext cx="7848720" cy="16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7412040" y="6578640"/>
            <a:ext cx="1731960" cy="287280"/>
            <a:chOff x="7412040" y="6578640"/>
            <a:chExt cx="1731960" cy="287280"/>
          </a:xfrm>
        </p:grpSpPr>
        <p:sp>
          <p:nvSpPr>
            <p:cNvPr id="170" name="">
              <a:hlinkClick r:id="" action="ppaction://hlinkshowjump?jump=firstslide"/>
            </p:cNvPr>
            <p:cNvSpPr/>
            <p:nvPr/>
          </p:nvSpPr>
          <p:spPr>
            <a:xfrm>
              <a:off x="74120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>
              <a:hlinkClick r:id="" action="ppaction://hlinkshowjump?jump=previousslide"/>
            </p:cNvPr>
            <p:cNvSpPr/>
            <p:nvPr/>
          </p:nvSpPr>
          <p:spPr>
            <a:xfrm>
              <a:off x="78692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>
              <a:hlinkClick r:id="" action="ppaction://hlinkshowjump?jump=nextslide"/>
            </p:cNvPr>
            <p:cNvSpPr/>
            <p:nvPr/>
          </p:nvSpPr>
          <p:spPr>
            <a:xfrm>
              <a:off x="83264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>
              <a:hlinkClick r:id="" action="ppaction://hlinkshowjump?jump=lastslide"/>
            </p:cNvPr>
            <p:cNvSpPr/>
            <p:nvPr/>
          </p:nvSpPr>
          <p:spPr>
            <a:xfrm>
              <a:off x="8783640" y="6578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762120" y="120600"/>
            <a:ext cx="6933960" cy="1023840"/>
            <a:chOff x="762120" y="120600"/>
            <a:chExt cx="6933960" cy="1023840"/>
          </a:xfrm>
        </p:grpSpPr>
        <p:sp>
          <p:nvSpPr>
            <p:cNvPr id="175" name=""/>
            <p:cNvSpPr/>
            <p:nvPr/>
          </p:nvSpPr>
          <p:spPr>
            <a:xfrm>
              <a:off x="762120" y="623880"/>
              <a:ext cx="693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求：运动方程、轨迹、速度和加速度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6" name=""/>
            <p:cNvGraphicFramePr/>
            <p:nvPr/>
          </p:nvGraphicFramePr>
          <p:xfrm>
            <a:off x="1860480" y="228600"/>
            <a:ext cx="5411880" cy="4809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77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860480" y="228600"/>
                      <a:ext cx="541188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8" name=""/>
            <p:cNvSpPr/>
            <p:nvPr/>
          </p:nvSpPr>
          <p:spPr>
            <a:xfrm>
              <a:off x="940320" y="1206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已知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2T01:43:34Z</dcterms:created>
  <dc:creator>lll</dc:creator>
  <dc:description/>
  <dc:language>en-US</dc:language>
  <cp:lastModifiedBy>MC SYSTEM</cp:lastModifiedBy>
  <dcterms:modified xsi:type="dcterms:W3CDTF">2009-10-28T09:33:44Z</dcterms:modified>
  <cp:revision>295</cp:revision>
  <dc:subject/>
  <dc:title>第六章</dc:title>
</cp:coreProperties>
</file>