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2D6-49AD-4140-9CF5-C110CA5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1EB-BD67-43F8-827F-6D3A271E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F8D35-3317-4957-BA89-6DC52C3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50267-6AFD-4F42-B10D-19C0BF4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DE2CF-B26C-4D5F-9C29-C84AD08B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4110-128F-4E97-B651-AA6F9BF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B79E0-2127-4E1D-B49D-F15AE51F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B4C85-6097-49FA-BC80-63EFDA3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934B6-6959-4ED6-92A5-C587DEB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B86D6-A18E-48AB-B9E9-C92F053C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36066-692A-4670-8AD6-37DDAF06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14BA3-498E-45A7-8285-E137A8E0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826-7F6B-4A5E-A60B-F03F173F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DC867-C5BE-4F7A-AC27-DB510F19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8B891-9D53-4AE8-9808-28C4A17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CC288-601A-4C2F-9194-4456EEC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E758-EB46-47D6-93FC-3A40C67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3910A-0395-4572-8A28-3A8B7BF2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6DEA-C8E6-4467-AD99-EE53831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02B9E-93D9-43AC-AFEB-D2956F2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B28D0-D678-4F23-8849-7DBD8ED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7D86E-7E81-4330-AFBE-FEA28DF6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267FC-8D47-4764-AB35-AF3090F0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24A-5551-474C-B8AF-542CFE5B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B9D9-2E73-4A16-A2BE-646C9623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15B6-B7D0-4A61-AD62-0DBC0B42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90AE2-A363-4FA6-869A-28F8CF9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CDEDF-FC7A-4FD4-8474-6037ABA8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11E3D-3D63-46F5-BAEC-3C0E7E56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F28DC-A115-48C7-8222-5CD4B22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15864-67D0-45AA-AB7B-5FFB317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88411-9FF3-4BB1-825C-8B99B35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4E4A2-A46E-406A-8B45-564C24DD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9E8D-0FC7-4626-BF13-3DB9490D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9B0-6F7E-45D7-BDB3-BDEE37E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013E-59EC-47BC-87FC-44CBA986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79C5D-1275-42A5-8169-5A656286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FC9FD-DD60-4AC0-A42B-EB1DF663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D0B4E-4DAF-4100-95AF-93D574AD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1817A-35A6-4ABF-9DD3-CFA2A1FE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4A702-F5C4-4D07-8762-BF9598F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FC8D-3720-4BE3-B86A-13869D5A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24CE9-B997-4930-9709-D83E4FE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34DEB-BF46-4F8F-A18A-E66D2361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BF59-1812-49CC-A991-FAC225E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4299-1EDF-469F-AA39-B4D6912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B92C-B2A0-4B3A-9561-980E0533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65850-224E-461D-ABDE-A028048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BAA4B-2A7B-43C8-A358-22031F5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E709B-F2D8-476F-A5F0-FF956AB6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3F4EF-C83F-4C3E-8F7C-AFE69404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36A82-DFC6-4504-BD44-9E0C43B0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C8897-9988-46C7-AF00-4EEB42A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EE175-1B63-4C39-88F4-66CDDADC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F63BD-F1C2-4AEB-84F4-111528F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5F5FC-B6F8-42DF-864A-D60AE7D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A01-DADF-45A1-8A26-D757FC1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24C55-890F-42B3-9B05-C716B84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1A32B-CA54-4FE1-B2E6-F8F3E3F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6C45C-6E00-4AAC-B387-9C7D284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29BDF-6B71-4EDD-A108-F211A28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D8EFC-3FA0-4E98-8969-AFDCB03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363A1-4311-4689-8FB7-CF4EA369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8DA65-B304-48FD-B8AE-B535D41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9AB1-254F-41FC-A8B0-1A9C7CE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2F84-87C7-481B-980E-C6D4435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D2F5-8FFD-4690-AA8E-C762DE49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4CD-4D79-45EC-9997-DC7B657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C63-3DD1-4DCC-A386-64AD6F94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BA68-7562-4824-A5CB-63DC93D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631-216D-47E6-A517-9F14D54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E11-D12E-48F7-BBE9-9EC89DF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B16-397B-4DE5-9384-F96518D1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305-91E7-444B-88C2-2AF39EF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86D9-723A-4865-8D8E-C5FF622C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CF02-5333-4881-A4DF-1D5B774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22D5-1022-4E73-BDFD-6409FA35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84B0-98C3-444C-8610-D98392D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AD94-B472-438E-A199-68BC489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881-7945-4276-B59E-68D7ED3E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5E0E-270C-4F83-9570-4DC7399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97FA-67DE-46EA-9F49-E820018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7814-EE0B-47A9-9B36-07E51DB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9C69-631B-4B9A-999C-1C0E34BA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E849-508F-41D8-A68E-DAE4EBA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F89B-AB97-4161-9883-CCD76F80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DD0E-F48B-415F-A012-0770F3B6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3194-7248-4DEA-9928-902B8DD1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BCA6-D1F9-4573-9296-B9A0A1D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3810-257C-4F27-BF28-4CCEC5C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8CF-E82D-4884-BC5E-0DC834D0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6568-1D47-45DD-A811-C4CA3FB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1FC7-C047-4D07-85F3-1F44C45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5234-596B-4602-9E17-E860ED4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D72D-0308-4BED-95DA-B33A7E1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90AA-234A-479F-88B2-49BEFCE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AFA6-47EA-4BEE-A994-E764F0F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4D07-A0EF-4058-95F1-672D3447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881B-45DD-4222-B1F1-A694724A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8DEC8-FCD7-40F5-8D57-66F026A1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F6FF-0103-4746-A624-B502DA2B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D63-F7CF-40B7-8974-DD05BA0D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5552-4392-4F8C-B551-FDB92DFD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B215-90E7-4372-A94D-3930C3A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8AED8-C6BA-498A-BBDF-242F64A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FEE7-2AB3-4F17-BB40-F0EF794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0A2D-A7F2-40A0-818E-6CAEB140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7C88-9E74-4D94-8761-D47B94E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EDD0-23EE-4ABE-95C9-EE115ED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62BC-F210-40F0-9216-2284269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B68C-41A4-4D98-BE0F-7080DFF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F67B-7C4B-4BA7-89E6-8569D448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A01-51A1-442E-9DEA-027F60ED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364E-658F-4BCD-B610-4C998A64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2ACF-3871-42E3-B26C-257E51DD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10CB-CBAC-4D9E-BBED-6B2F2EB7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A17C-E359-424F-8AF1-12A4C1F5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ED8F-6688-4267-A984-23B3404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E116-608F-46A9-9D1A-F433EC22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AEB0-A622-4343-BAB9-9A67F70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6D921-0663-48BA-B126-3ADC7BC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05C4-48BB-4B28-8EE3-938360E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8723-FC01-4AB2-8948-2AC8C4A4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E9D-24F7-4AA6-B83F-2FB49AB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5021-D75E-4952-B54D-6C014A1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32575-8055-436F-BE62-EC6EB115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2D3C-B847-4261-A67F-2C47891A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DE90-2619-4DAB-907D-0FA629AD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DC27-174D-4DA5-A93A-3B489AC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FA3E-7ECD-411F-9D0B-A371FF7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5E2A-06E5-46F4-99AA-5443768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F39E4-9C43-4775-99B0-743ABCC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C5B2-CA83-4DE1-93C8-4B81963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003F-B81D-4E9C-A36D-D6E1271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D67-74E1-4F31-A65B-D8ECB02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B32D1-C35C-42CA-8CD6-9ABC048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5957C-D1D3-4622-9B08-3AC9ABC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3A50D-592D-4681-B72D-15F2773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D2CB-21E5-4940-A79E-EF220B28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40C9-46E5-4320-9F87-EE805C2C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1809-78C2-4BB6-B4E6-2FF858DC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7FF2A-0636-4211-9FAC-9E1C9FC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BEF8-CCFB-438A-9C52-5997324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2A41-E04F-479E-9B4D-908D893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C6D02-E7CC-43B4-BD17-8F25C65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5E2-A25C-4D1E-B4A1-61E4D12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11F8-2550-4695-ACA7-1B098AC3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AD54-9257-4FB4-846E-C0AAAD7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9007-59B4-4CEF-9311-99EA20E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4C645-A3C2-44DF-A2AA-32B22ED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B122-AE18-4AC8-8364-F007B033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FC4A9-1C49-44F7-A0D1-4D2F67A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03F4-4343-431E-BB2E-A7E9141D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D647D-771F-4B14-800F-1F59E774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0A77-E03D-4DDE-B840-5880B35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58C4D-1F75-445B-864B-DA50AC1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393-FE7A-4CDD-8521-D4FDCD26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6BD-056B-4255-BC06-AA9E5D5CD0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A63-116A-4A01-8CCE-C83448D8DD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1FF-A666-463F-A8BC-D2720ECE0A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5405-88AE-4AB1-8AA1-3DFFC11BD4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60F0-0472-4B4E-B20A-13031EAC2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646-5467-4BF5-AF21-ACD5BE9E69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575D-9521-4680-8039-5AE5A89542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DCFC-AC8B-490C-9E8B-D8C8E53CAB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EF0-2013-48C4-89AB-E1CA171A26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6987-EC84-4E26-B7FE-75467DCFEF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6FC-70D6-428D-914A-7C5C9942DA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29CA-F47D-40C7-9C71-51882F26AD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2268360" y="2276640"/>
            <a:ext cx="4392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活见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97164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 五年级 语文 下册  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2445480" y="595008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24000" y="27082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因为两人互相怀疑对方是鬼，其中一人还把另一人推下桥去，被推下桥的人又怀疑推他的人是鬼，就这样两人互相怀疑，当看到对方不是鬼时，于是恍然大悟。原来是自己疑心太中，疑神疑鬼的，世上哪里有什么鬼呀？明白之后都大笑起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细读"/>
          <p:cNvPicPr/>
          <p:nvPr/>
        </p:nvPicPr>
        <p:blipFill>
          <a:blip r:embed="rId1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3132000" y="2349000"/>
            <a:ext cx="49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联系实际具体说说从这则故事中你受到什么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拓展学习"/>
          <p:cNvPicPr/>
          <p:nvPr/>
        </p:nvPicPr>
        <p:blipFill>
          <a:blip r:embed="rId1"/>
          <a:stretch/>
        </p:blipFill>
        <p:spPr>
          <a:xfrm>
            <a:off x="395280" y="1341360"/>
            <a:ext cx="2222640" cy="549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小女孩"/>
          <p:cNvPicPr/>
          <p:nvPr/>
        </p:nvPicPr>
        <p:blipFill>
          <a:blip r:embed="rId2"/>
          <a:stretch/>
        </p:blipFill>
        <p:spPr>
          <a:xfrm>
            <a:off x="1116000" y="27082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4"/>
          <p:cNvSpPr txBox="1"/>
          <p:nvPr/>
        </p:nvSpPr>
        <p:spPr>
          <a:xfrm>
            <a:off x="2627280" y="2421000"/>
            <a:ext cx="37958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9" descr=""/>
          <p:cNvPicPr/>
          <p:nvPr/>
        </p:nvPicPr>
        <p:blipFill>
          <a:blip r:embed="rId9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png-0644"/>
          <p:cNvPicPr/>
          <p:nvPr/>
        </p:nvPicPr>
        <p:blipFill>
          <a:blip r:embed="rId10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png-0652"/>
          <p:cNvPicPr/>
          <p:nvPr/>
        </p:nvPicPr>
        <p:blipFill>
          <a:blip r:embed="rId11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68360" y="2133720"/>
            <a:ext cx="817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学习能学会本课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正确断句，流利地朗读。力争达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熟读成诵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根据现代文、工具书理解文章内容，在反复诵读课文中，能产生自己的独特感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746280" y="1484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8"/>
          <p:cNvSpPr/>
          <p:nvPr/>
        </p:nvSpPr>
        <p:spPr>
          <a:xfrm>
            <a:off x="1535040" y="4532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2916360" y="404640"/>
            <a:ext cx="6048360" cy="2880000"/>
          </a:xfrm>
          <a:prstGeom prst="cloudCallout">
            <a:avLst>
              <a:gd name="adj1" fmla="val -49476"/>
              <a:gd name="adj2" fmla="val 5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844720" y="1052640"/>
            <a:ext cx="56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世界上有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说没有，你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说有，你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小男孩1"/>
          <p:cNvPicPr/>
          <p:nvPr/>
        </p:nvPicPr>
        <p:blipFill>
          <a:blip r:embed="rId1"/>
          <a:stretch/>
        </p:blipFill>
        <p:spPr>
          <a:xfrm>
            <a:off x="1187280" y="2997360"/>
            <a:ext cx="1352880" cy="3016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创设情境"/>
          <p:cNvPicPr/>
          <p:nvPr/>
        </p:nvPicPr>
        <p:blipFill>
          <a:blip r:embed="rId2"/>
          <a:stretch/>
        </p:blipFill>
        <p:spPr>
          <a:xfrm>
            <a:off x="468360" y="765000"/>
            <a:ext cx="2146320" cy="588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971640" y="278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借助工具书独立地自主学习这篇文言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971640" y="364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照下面的译文，看看自己的翻译有那些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面，还有哪些不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7" descr="初读感知"/>
          <p:cNvPicPr/>
          <p:nvPr/>
        </p:nvPicPr>
        <p:blipFill>
          <a:blip r:embed="rId1"/>
          <a:stretch/>
        </p:blipFill>
        <p:spPr>
          <a:xfrm>
            <a:off x="755640" y="134136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2340000" y="2781360"/>
            <a:ext cx="720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趋     炊      沾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踉      跄      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读一读"/>
          <p:cNvPicPr/>
          <p:nvPr/>
        </p:nvPicPr>
        <p:blipFill>
          <a:blip r:embed="rId1"/>
          <a:stretch/>
        </p:blipFill>
        <p:spPr>
          <a:xfrm>
            <a:off x="179280" y="404640"/>
            <a:ext cx="1514520" cy="18003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41128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q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3564000" y="2276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c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5076720" y="2276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68360" y="422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370836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435640" y="42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547640" y="2276640"/>
            <a:ext cx="640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赴饮：赴宴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值：正赶上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蔽：遮盖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趋：跑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俄顷：不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读一读"/>
          <p:cNvPicPr/>
          <p:nvPr/>
        </p:nvPicPr>
        <p:blipFill>
          <a:blip r:embed="rId1"/>
          <a:stretch/>
        </p:blipFill>
        <p:spPr>
          <a:xfrm>
            <a:off x="179280" y="404640"/>
            <a:ext cx="151452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966600" y="26362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疑为鬼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1838160" y="349956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说为何疑为鬼？说说你的理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2774520" y="436032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夜黑、偶遇、且久之不语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细读"/>
          <p:cNvPicPr/>
          <p:nvPr/>
        </p:nvPicPr>
        <p:blipFill>
          <a:blip r:embed="rId1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254960" y="263628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因奋力挤之桥下而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2053800" y="443628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以足撩之，偶不相值，便肯定遇上鬼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1406520" y="3499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说为何会这么做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8" descr="细读"/>
          <p:cNvPicPr/>
          <p:nvPr/>
        </p:nvPicPr>
        <p:blipFill>
          <a:blip r:embed="rId1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1731240" y="30679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两人为什么“相视愕然，不觉大笑”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细读"/>
          <p:cNvPicPr/>
          <p:nvPr/>
        </p:nvPicPr>
        <p:blipFill>
          <a:blip r:embed="rId1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23:46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4-12-28T05:50:03Z</dcterms:modified>
  <cp:revision>4</cp:revision>
  <dc:subject>第一PPT模板网-WWW.1PPT.COM</dc:subject>
  <dc:title>第一PPT模板网-WWW.1PPT.COM</dc:title>
</cp:coreProperties>
</file>