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breeze.wav" ContentType="audio/x-wav"/>
  <Override PartName="/ppt/media/image27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5D4-4226-4557-9F1E-D9E408A0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7DF-13E2-4F6B-BD66-F6E1081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C41-1866-4725-AAEE-C770AAB0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B45-8EB4-4A7F-AA8B-DF220ADD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8CB-18D2-4ADC-B1B8-F3EBF00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22E-3EB0-4B67-AE1D-DFA2C67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92C-5DF8-4F5D-987F-321CEEA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6DA-8EA9-4508-8F2E-E92F03B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65F-D523-4DA1-AE9B-BBE51A6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6F9-91EE-41C0-B0A2-D89C52E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6FB-B3AD-4364-9CB7-8750D0C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22D-3E40-416B-A1C8-E99EDBB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9C4E-7447-4BAB-BC70-0581C9AA49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95280" y="2133720"/>
            <a:ext cx="3810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鸿门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Picture 6" descr="鸿门宴图04"/>
          <p:cNvPicPr/>
          <p:nvPr/>
        </p:nvPicPr>
        <p:blipFill>
          <a:blip r:embed="rId1"/>
          <a:stretch/>
        </p:blipFill>
        <p:spPr>
          <a:xfrm>
            <a:off x="5334120" y="1905120"/>
            <a:ext cx="3276360" cy="2603520"/>
          </a:xfrm>
          <a:prstGeom prst="rect">
            <a:avLst/>
          </a:prstGeom>
          <a:ln w="0">
            <a:noFill/>
          </a:ln>
        </p:spPr>
      </p:pic>
      <p:sp>
        <p:nvSpPr>
          <p:cNvPr id="44" name="矩形 8"/>
          <p:cNvSpPr/>
          <p:nvPr/>
        </p:nvSpPr>
        <p:spPr>
          <a:xfrm>
            <a:off x="3745800" y="441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司马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项羽与爱妃虞姬.jpg"/>
          <p:cNvPicPr/>
          <p:nvPr/>
        </p:nvPicPr>
        <p:blipFill>
          <a:blip r:embed="rId1"/>
          <a:stretch/>
        </p:blipFill>
        <p:spPr>
          <a:xfrm>
            <a:off x="380880" y="304920"/>
            <a:ext cx="4086360" cy="5630760"/>
          </a:xfrm>
          <a:prstGeom prst="rect">
            <a:avLst/>
          </a:prstGeom>
          <a:ln w="0">
            <a:noFill/>
          </a:ln>
        </p:spPr>
      </p:pic>
      <p:sp>
        <p:nvSpPr>
          <p:cNvPr id="76" name="矩形 2"/>
          <p:cNvSpPr/>
          <p:nvPr/>
        </p:nvSpPr>
        <p:spPr>
          <a:xfrm>
            <a:off x="1890000" y="6019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羽与虞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项羽乌江自刎-0.jpg"/>
          <p:cNvPicPr/>
          <p:nvPr/>
        </p:nvPicPr>
        <p:blipFill>
          <a:blip r:embed="rId2"/>
          <a:stretch/>
        </p:blipFill>
        <p:spPr>
          <a:xfrm>
            <a:off x="4572000" y="304920"/>
            <a:ext cx="4191120" cy="5581440"/>
          </a:xfrm>
          <a:prstGeom prst="rect">
            <a:avLst/>
          </a:prstGeom>
          <a:ln w="0">
            <a:noFill/>
          </a:ln>
        </p:spPr>
      </p:pic>
      <p:sp>
        <p:nvSpPr>
          <p:cNvPr id="78" name="矩形 4"/>
          <p:cNvSpPr/>
          <p:nvPr/>
        </p:nvSpPr>
        <p:spPr>
          <a:xfrm>
            <a:off x="58672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乌江自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31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秦汉之际大事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85800" y="1905120"/>
            <a:ext cx="78487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陈涉起义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项羽、刘邦起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陈涉死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立楚怀王为共主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怀王遣项羽北救赵，遣刘邦西击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秦将章邯破邯郸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项羽渡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大破秦军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章邯投降项羽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秦二世为赵高所弑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子婴为秦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子婴投降刘邦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刘、项会于鸿门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戏下之会，会后刘邦迁南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838080" y="1295280"/>
            <a:ext cx="74678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刘邦合诸侯兵伐羽至彭城，羽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兵破汉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刘邦逃至荥阳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项羽围刘邦于荥阳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刘邦逃离荥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刘、项讲和，划鸿沟为界，以东归楚，以西归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用张良、陈平计追项羽，大败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韩信、彭越来援，项羽兵败垓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《鸿门宴》连环画1"/>
          <p:cNvPicPr/>
          <p:nvPr/>
        </p:nvPicPr>
        <p:blipFill>
          <a:blip r:embed="rId1"/>
          <a:srcRect l="0" t="0" r="3552" b="0"/>
          <a:stretch/>
        </p:blipFill>
        <p:spPr>
          <a:xfrm>
            <a:off x="685800" y="914400"/>
            <a:ext cx="7772400" cy="541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6920" y="5638680"/>
            <a:ext cx="25909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无伤告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2362320" y="76320"/>
            <a:ext cx="4495680" cy="70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鸿门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连环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《鸿门宴》连环画2"/>
          <p:cNvPicPr/>
          <p:nvPr/>
        </p:nvPicPr>
        <p:blipFill>
          <a:blip r:embed="rId1"/>
          <a:stretch/>
        </p:blipFill>
        <p:spPr>
          <a:xfrm>
            <a:off x="574560" y="762120"/>
            <a:ext cx="795996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2514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亚父定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《鸿门宴》连环画3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19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90960" y="990360"/>
            <a:ext cx="25146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项伯夜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《鸿门宴》连环画4"/>
          <p:cNvPicPr/>
          <p:nvPr/>
        </p:nvPicPr>
        <p:blipFill>
          <a:blip r:embed="rId1"/>
          <a:stretch/>
        </p:blipFill>
        <p:spPr>
          <a:xfrm>
            <a:off x="685800" y="914400"/>
            <a:ext cx="7880400" cy="5486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2514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刘邦定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《鸿门宴》连环画5"/>
          <p:cNvPicPr/>
          <p:nvPr/>
        </p:nvPicPr>
        <p:blipFill>
          <a:blip r:embed="rId1"/>
          <a:stretch/>
        </p:blipFill>
        <p:spPr>
          <a:xfrm>
            <a:off x="728640" y="914400"/>
            <a:ext cx="7815240" cy="5454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43240" y="99036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项王许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《鸿门宴》连环画6"/>
          <p:cNvPicPr/>
          <p:nvPr/>
        </p:nvPicPr>
        <p:blipFill>
          <a:blip r:embed="rId1"/>
          <a:stretch/>
        </p:blipFill>
        <p:spPr>
          <a:xfrm>
            <a:off x="514440" y="838080"/>
            <a:ext cx="8020080" cy="556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2514600" cy="63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刘邦谢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《鸿门宴》连环画7"/>
          <p:cNvPicPr/>
          <p:nvPr/>
        </p:nvPicPr>
        <p:blipFill>
          <a:blip r:embed="rId1"/>
          <a:stretch/>
        </p:blipFill>
        <p:spPr>
          <a:xfrm>
            <a:off x="428760" y="838080"/>
            <a:ext cx="8150040" cy="5585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5714640"/>
            <a:ext cx="2590920" cy="56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范增示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"/>
          <p:cNvSpPr/>
          <p:nvPr/>
        </p:nvSpPr>
        <p:spPr>
          <a:xfrm>
            <a:off x="2045880" y="160020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  <a:hlinkClick r:id="rId1" action="ppaction://hlinksldjump"/>
              </a:rPr>
              <a:t>课文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2045880" y="229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045880" y="298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品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20458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背景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243160" y="4343400"/>
            <a:ext cx="17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鸿门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045880" y="503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课文插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2045880" y="5724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5474880" y="1609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整体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5620320" y="228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物形象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5474880" y="298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艺术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5757120" y="4343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后人对项羽的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398560" y="3666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词句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5474880" y="502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伸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3799800" y="685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《鸿门宴》连环画8"/>
          <p:cNvPicPr/>
          <p:nvPr/>
        </p:nvPicPr>
        <p:blipFill>
          <a:blip r:embed="rId1"/>
          <a:stretch/>
        </p:blipFill>
        <p:spPr>
          <a:xfrm>
            <a:off x="903240" y="533520"/>
            <a:ext cx="7554960" cy="5734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611320"/>
            <a:ext cx="2666880" cy="63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项庄舞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《鸿门宴》连环画9"/>
          <p:cNvPicPr/>
          <p:nvPr/>
        </p:nvPicPr>
        <p:blipFill>
          <a:blip r:embed="rId1"/>
          <a:stretch/>
        </p:blipFill>
        <p:spPr>
          <a:xfrm>
            <a:off x="914400" y="685800"/>
            <a:ext cx="7664400" cy="5565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251460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张良召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《鸿门宴》连环画10"/>
          <p:cNvPicPr/>
          <p:nvPr/>
        </p:nvPicPr>
        <p:blipFill>
          <a:blip r:embed="rId1"/>
          <a:stretch/>
        </p:blipFill>
        <p:spPr>
          <a:xfrm>
            <a:off x="685800" y="685800"/>
            <a:ext cx="7810560" cy="5459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743200" cy="56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义责项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《鸿门宴》连环画11"/>
          <p:cNvPicPr/>
          <p:nvPr/>
        </p:nvPicPr>
        <p:blipFill>
          <a:blip r:embed="rId1"/>
          <a:stretch/>
        </p:blipFill>
        <p:spPr>
          <a:xfrm>
            <a:off x="685800" y="685800"/>
            <a:ext cx="7915320" cy="558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27432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沛公脱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《鸿门宴》连环画12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790960"/>
            <a:ext cx="26668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诛杀内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插图01-项伯报信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5524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3"/>
          <p:cNvSpPr/>
          <p:nvPr/>
        </p:nvSpPr>
        <p:spPr>
          <a:xfrm>
            <a:off x="7397640" y="5867280"/>
            <a:ext cx="631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项伯报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971800" y="152280"/>
            <a:ext cx="2286000" cy="685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课文插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插图02-项庄舞剑  意在沛公"/>
          <p:cNvPicPr/>
          <p:nvPr/>
        </p:nvPicPr>
        <p:blipFill>
          <a:blip r:embed="rId1"/>
          <a:stretch/>
        </p:blipFill>
        <p:spPr>
          <a:xfrm>
            <a:off x="334800" y="685800"/>
            <a:ext cx="8504280" cy="554364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7362720" y="5638680"/>
            <a:ext cx="631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项庄舞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插图03-竖子不足与谋"/>
          <p:cNvPicPr/>
          <p:nvPr/>
        </p:nvPicPr>
        <p:blipFill>
          <a:blip r:embed="rId1"/>
          <a:stretch/>
        </p:blipFill>
        <p:spPr>
          <a:xfrm>
            <a:off x="2362320" y="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2362320" y="152280"/>
            <a:ext cx="2971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竖子不足与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项庄舞剑，意在沛公　（戴敦邦绘）"/>
          <p:cNvPicPr/>
          <p:nvPr/>
        </p:nvPicPr>
        <p:blipFill>
          <a:blip r:embed="rId1"/>
          <a:stretch/>
        </p:blipFill>
        <p:spPr>
          <a:xfrm>
            <a:off x="3255840" y="228600"/>
            <a:ext cx="4059360" cy="640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鸿门宴图02"/>
          <p:cNvPicPr/>
          <p:nvPr/>
        </p:nvPicPr>
        <p:blipFill>
          <a:blip r:embed="rId2"/>
          <a:stretch/>
        </p:blipFill>
        <p:spPr>
          <a:xfrm>
            <a:off x="1276200" y="990720"/>
            <a:ext cx="6039000" cy="477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西汉壁画《鸿门宴图》01"/>
          <p:cNvPicPr/>
          <p:nvPr/>
        </p:nvPicPr>
        <p:blipFill>
          <a:blip r:embed="rId3"/>
          <a:stretch/>
        </p:blipFill>
        <p:spPr>
          <a:xfrm>
            <a:off x="1276200" y="990720"/>
            <a:ext cx="6039000" cy="440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西汉壁画《鸿门宴图》02"/>
          <p:cNvPicPr/>
          <p:nvPr/>
        </p:nvPicPr>
        <p:blipFill>
          <a:blip r:embed="rId4"/>
          <a:stretch/>
        </p:blipFill>
        <p:spPr>
          <a:xfrm>
            <a:off x="1276200" y="990720"/>
            <a:ext cx="6039000" cy="387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《鸿门宴图》"/>
          <p:cNvPicPr/>
          <p:nvPr/>
        </p:nvPicPr>
        <p:blipFill>
          <a:blip r:embed="rId5"/>
          <a:stretch/>
        </p:blipFill>
        <p:spPr>
          <a:xfrm>
            <a:off x="3379680" y="228600"/>
            <a:ext cx="393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343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鸿门宴人物及座位安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57800" y="1066680"/>
            <a:ext cx="3581280" cy="5486400"/>
          </a:xfrm>
          <a:prstGeom prst="rect">
            <a:avLst/>
          </a:prstGeom>
          <a:noFill/>
          <a:ln w="19080">
            <a:solidFill>
              <a:srgbClr val="4d3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f497d"/>
                </a:solidFill>
                <a:latin typeface="Calibri"/>
                <a:ea typeface="楷体_GB2312"/>
              </a:rPr>
              <a:t>                 </a:t>
            </a:r>
            <a:r>
              <a:rPr b="1" lang="zh-CN" sz="2500" spc="-1" strike="noStrike">
                <a:solidFill>
                  <a:srgbClr val="000000"/>
                </a:solidFill>
                <a:latin typeface="Calibri"/>
                <a:ea typeface="楷体_GB2312"/>
              </a:rPr>
              <a:t>文化常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</a:t>
            </a:r>
            <a:r>
              <a:rPr b="1" lang="zh-CN" sz="2500" spc="-1" strike="noStrike">
                <a:solidFill>
                  <a:srgbClr val="000000"/>
                </a:solidFill>
                <a:latin typeface="Calibri"/>
                <a:ea typeface="楷体_GB2312"/>
              </a:rPr>
              <a:t>按古代礼仪，帝王与臣下相对时，帝王面南，臣下面北；宾主之间相对时，则为宾东向，主西向；长幼之间相对时，长者东向，幼者西向。宴席的四面座位，以东向最尊，次为南向，再次为北向，西向侍坐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鸿门宴图03"/>
          <p:cNvPicPr/>
          <p:nvPr/>
        </p:nvPicPr>
        <p:blipFill>
          <a:blip r:embed="rId1"/>
          <a:stretch/>
        </p:blipFill>
        <p:spPr>
          <a:xfrm>
            <a:off x="457200" y="1143000"/>
            <a:ext cx="465120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066680" y="4800600"/>
            <a:ext cx="3810240" cy="1800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王、项伯东向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亚父南向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沛公北向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张良西向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540800" y="144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438080" y="27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项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14200" y="1676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项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5188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刘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761560" y="350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4209480" y="12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范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914400"/>
            <a:ext cx="2286000" cy="83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课文导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1981080"/>
            <a:ext cx="4419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   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生当作人杰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死亦为鬼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至今思项羽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不肯过江东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6" descr="项羽吴江自刎.jpg"/>
          <p:cNvPicPr/>
          <p:nvPr/>
        </p:nvPicPr>
        <p:blipFill>
          <a:blip r:embed="rId1"/>
          <a:stretch/>
        </p:blipFill>
        <p:spPr>
          <a:xfrm>
            <a:off x="5181480" y="2133720"/>
            <a:ext cx="28720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71840" y="304920"/>
            <a:ext cx="685800" cy="2286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生字注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0" y="152280"/>
            <a:ext cx="14479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09520" y="152280"/>
            <a:ext cx="1600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iǎ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hu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ī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ō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hē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hē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8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2286000" cy="60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整体把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1219320"/>
            <a:ext cx="2514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交代鸿门宴的由来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写鸿门宴上的斗争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述宴后余事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24080" y="914400"/>
            <a:ext cx="304920" cy="1644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040 h 1644480"/>
              <a:gd name="textAreaBottom" fmla="*/ 1621440 h 16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9"/>
                  <a:pt x="10800" y="978"/>
                </a:cubicBezTo>
                <a:lnTo>
                  <a:pt x="10800" y="9822"/>
                </a:lnTo>
                <a:cubicBezTo>
                  <a:pt x="10800" y="10311"/>
                  <a:pt x="5400" y="10800"/>
                  <a:pt x="0" y="10800"/>
                </a:cubicBezTo>
                <a:cubicBezTo>
                  <a:pt x="5400" y="10800"/>
                  <a:pt x="10800" y="11289"/>
                  <a:pt x="10800" y="11778"/>
                </a:cubicBezTo>
                <a:lnTo>
                  <a:pt x="10800" y="20622"/>
                </a:lnTo>
                <a:cubicBezTo>
                  <a:pt x="10800" y="211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124080" y="51055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280 h 1143000"/>
              <a:gd name="textAreaBottom" fmla="*/ 1125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6"/>
                </a:cubicBezTo>
                <a:lnTo>
                  <a:pt x="10800" y="9744"/>
                </a:lnTo>
                <a:cubicBezTo>
                  <a:pt x="10800" y="10272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6"/>
                </a:cubicBezTo>
                <a:lnTo>
                  <a:pt x="10800" y="20544"/>
                </a:lnTo>
                <a:cubicBezTo>
                  <a:pt x="10800" y="2107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048120" y="3200400"/>
            <a:ext cx="304560" cy="1187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0520 h 1187280"/>
              <a:gd name="textAreaBottom" fmla="*/ 116676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038480" y="2819520"/>
            <a:ext cx="228600" cy="958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720 h 958680"/>
              <a:gd name="textAreaBottom" fmla="*/ 93996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038480" y="4146480"/>
            <a:ext cx="228600" cy="882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920 h 882720"/>
              <a:gd name="textAreaBottom" fmla="*/ 865800 h 88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459600" y="3108960"/>
            <a:ext cx="5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59600" y="4175640"/>
            <a:ext cx="5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777120" y="5193720"/>
            <a:ext cx="12596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刘邦脱身逃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张良入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刘邦诛杀内奸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3429000" y="838080"/>
            <a:ext cx="4572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曹无伤告密（导火线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范增分析情况（激化矛盾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项伯夜访张良（形势有所转化）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张良与刘邦商讨对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项伯劝项羽勿击刘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4191120" y="2778120"/>
            <a:ext cx="457200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范增数目项王”暗示动手（紧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范增让项庄舞剑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刺杀刘邦（严峻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樊哙闯帐（紧张到极点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6"/>
          <p:cNvSpPr/>
          <p:nvPr/>
        </p:nvSpPr>
        <p:spPr>
          <a:xfrm>
            <a:off x="4267080" y="3997440"/>
            <a:ext cx="35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项羽不怒樊哙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称之壮士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项羽赐樊哙酒肉，赐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刘邦以“如厕”为名逃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1905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内容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914400" y="190512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文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鸿门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中心，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杀不杀刘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线索，按时间顺序来展开故事情节，以项羽欲击刘邦始，到刘邦被放终；以曹无伤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始，到曹无伤被杀终；以范增劝说项羽始，到范增怒骂项羽终。矛盾复杂，波澜起伏，虽是节选，却结构严谨，前后呼应紧密，是一个动人的完整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项羽04"/>
          <p:cNvPicPr/>
          <p:nvPr/>
        </p:nvPicPr>
        <p:blipFill>
          <a:blip r:embed="rId1"/>
          <a:stretch/>
        </p:blipFill>
        <p:spPr>
          <a:xfrm>
            <a:off x="304920" y="1981080"/>
            <a:ext cx="3924360" cy="4419720"/>
          </a:xfrm>
          <a:prstGeom prst="rect">
            <a:avLst/>
          </a:prstGeom>
          <a:ln w="0">
            <a:noFill/>
          </a:ln>
        </p:spPr>
      </p:pic>
      <p:sp>
        <p:nvSpPr>
          <p:cNvPr id="151" name="矩形 7"/>
          <p:cNvSpPr/>
          <p:nvPr/>
        </p:nvSpPr>
        <p:spPr>
          <a:xfrm>
            <a:off x="970200" y="1219320"/>
            <a:ext cx="664920" cy="50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800000"/>
                </a:solidFill>
                <a:latin typeface="黑体"/>
                <a:ea typeface="黑体"/>
              </a:rPr>
              <a:t>、项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572000" y="1295280"/>
            <a:ext cx="43434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优柔寡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改变进攻刘邦的决定、对范增在席间杀死刘邦的企图不表态、沛公逃席而安然受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率直粗犷，政治上无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闻刘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谢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说出告密人姓名、闻樊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责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有以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善用人，刚愎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在关键时刻不听范增劝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骄傲自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宴会上的排座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13336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、刘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7621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坚决果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亲往鸿门谢罪阻止项羽进攻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军，立诛杀曹无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能屈能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在项羽面前谦词卑礼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觉得于礼不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善于用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初见项伯，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兄事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约为婚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使其为己所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刘邦01"/>
          <p:cNvPicPr/>
          <p:nvPr/>
        </p:nvPicPr>
        <p:blipFill>
          <a:blip r:embed="rId1"/>
          <a:stretch/>
        </p:blipFill>
        <p:spPr>
          <a:xfrm>
            <a:off x="457200" y="1295280"/>
            <a:ext cx="410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张良02"/>
          <p:cNvPicPr/>
          <p:nvPr/>
        </p:nvPicPr>
        <p:blipFill>
          <a:blip r:embed="rId1"/>
          <a:stretch/>
        </p:blipFill>
        <p:spPr>
          <a:xfrm>
            <a:off x="457200" y="1066680"/>
            <a:ext cx="258768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20061088500661"/>
          <p:cNvPicPr/>
          <p:nvPr/>
        </p:nvPicPr>
        <p:blipFill>
          <a:blip r:embed="rId2"/>
          <a:stretch/>
        </p:blipFill>
        <p:spPr>
          <a:xfrm>
            <a:off x="3124080" y="106668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舞阳侯樊哙樊哙(—前189年)"/>
          <p:cNvPicPr/>
          <p:nvPr/>
        </p:nvPicPr>
        <p:blipFill>
          <a:blip r:embed="rId3"/>
          <a:stretch/>
        </p:blipFill>
        <p:spPr>
          <a:xfrm>
            <a:off x="7010280" y="1066680"/>
            <a:ext cx="1670040" cy="3276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984960" y="4447440"/>
            <a:ext cx="10936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谋善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精通韬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临变不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处事有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386480" y="4556160"/>
            <a:ext cx="1127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勇猛豪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粗中有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4334760" y="4429800"/>
            <a:ext cx="1034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老谋深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人不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妄自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盲目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1046160" y="336600"/>
            <a:ext cx="664920" cy="55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0613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600613"/>
                </a:solidFill>
                <a:latin typeface="黑体"/>
                <a:ea typeface="黑体"/>
              </a:rPr>
              <a:t>、张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322880" y="304920"/>
            <a:ext cx="856800" cy="55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00613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600613"/>
                </a:solidFill>
                <a:latin typeface="黑体"/>
                <a:ea typeface="黑体"/>
              </a:rPr>
              <a:t>、范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523280" y="304920"/>
            <a:ext cx="664920" cy="55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0613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600613"/>
                </a:solidFill>
                <a:latin typeface="黑体"/>
                <a:ea typeface="黑体"/>
              </a:rPr>
              <a:t>、樊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2362320" cy="712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艺术特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85800" y="1676520"/>
            <a:ext cx="7924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作者善于把人物放在尖锐的矛盾冲突中，通过个性化的语言、动作来表现人物的精神世界和性格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鸿门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始至终充满矛盾，推波涌澜，扣人心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善于运用对比手法，使人物性格特点更为鲜明、突出。如主帅项羽和刘邦，谋士范增和张良，部将项庄和樊哙，内奸项伯与曹无伤无不栩栩如生，互相映衬，跃然于纸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685800" y="129528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其次，语言精练生动，绘声绘色，常常寥寥几笔，就能刻画出人物的突出个性。例如，项羽的话骄横气盛；刘邦的话礼仪备至。再如对樊哙闯宴的描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戟之卫士欲止不内。樊哙侧其盾以撞，卫士仆地。哙遂入，披帷西向立，瞋目视项王，头发上指，目眦尽裂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紧张场面的描绘着墨虽不多，却使读者有如身临其境，心情顿感紧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762120" y="19130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沛公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霸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95288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驻军 ，名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62120" y="2514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沛公欲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王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(w</a:t>
            </a:r>
            <a:r>
              <a:rPr b="1" lang="en-US" sz="2800" spc="-1" strike="noStrike">
                <a:solidFill>
                  <a:srgbClr val="0404fc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ng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952880" y="2514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称王，名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动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62120" y="3193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为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(w</a:t>
            </a:r>
            <a:r>
              <a:rPr b="1" lang="en-US" sz="2800" spc="-1" strike="noStrike">
                <a:solidFill>
                  <a:srgbClr val="0404fc"/>
                </a:solidFill>
                <a:latin typeface="宋体"/>
                <a:ea typeface="黑体"/>
              </a:rPr>
              <a:t>è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i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击破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95288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替、给，介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762120" y="38037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范增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说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(shu</a:t>
            </a:r>
            <a:r>
              <a:rPr b="1" lang="en-US" sz="2800" spc="-1" strike="noStrike">
                <a:solidFill>
                  <a:srgbClr val="0404fc"/>
                </a:solidFill>
                <a:latin typeface="宋体"/>
                <a:ea typeface="黑体"/>
              </a:rPr>
              <a:t>ì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羽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528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说 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62120" y="441324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沛公居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山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952880" y="4419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崤山以东，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62120" y="5037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好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(h</a:t>
            </a:r>
            <a:r>
              <a:rPr b="1" lang="en-US" sz="2800" spc="-1" strike="noStrike">
                <a:solidFill>
                  <a:srgbClr val="0404fc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0404fc"/>
                </a:solidFill>
                <a:latin typeface="黑体"/>
                <a:ea typeface="黑体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572000" y="57466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952880" y="5029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喜好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62120" y="5646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此天子气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952880" y="5638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语气助词，表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914400" y="152280"/>
            <a:ext cx="2286000" cy="70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词句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1436040" y="1066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、解释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457200" y="3352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4d3fff"/>
                </a:solidFill>
                <a:latin typeface="黑体"/>
                <a:ea typeface="黑体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</a:t>
            </a:r>
            <a:r>
              <a:rPr b="1" lang="zh-CN" sz="2800" spc="-1" strike="noStrike">
                <a:solidFill>
                  <a:srgbClr val="4d3fff"/>
                </a:solidFill>
                <a:latin typeface="黑体"/>
                <a:ea typeface="黑体"/>
              </a:rPr>
              <a:t>以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897920" y="17524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楚左尹项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项羽季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042200" y="259092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留侯张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744080" y="2590920"/>
            <a:ext cx="31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善：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交好 ，形容词作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698000" y="33526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具通“俱”，全部；状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189440" y="411480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计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911840" y="4114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替，介词；制定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820800" y="487692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臣</a:t>
            </a:r>
            <a:r>
              <a:rPr b="1" lang="zh-CN" sz="2800" spc="-1" strike="noStrike">
                <a:solidFill>
                  <a:srgbClr val="4d3fff"/>
                </a:solidFill>
                <a:latin typeface="黑体"/>
                <a:ea typeface="黑体"/>
              </a:rPr>
              <a:t>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417560" y="48769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活，使动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862200" y="556272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孰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少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074600" y="106668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吾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670280" y="10666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像对待兄长那样，名词作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4541760" y="5562720"/>
            <a:ext cx="27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固定结构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相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600960" y="1828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语气词，表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05720" y="533520"/>
            <a:ext cx="761760" cy="2286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史马迁"/>
          <p:cNvPicPr/>
          <p:nvPr/>
        </p:nvPicPr>
        <p:blipFill>
          <a:blip r:embed="rId1"/>
          <a:stretch/>
        </p:blipFill>
        <p:spPr>
          <a:xfrm>
            <a:off x="1752480" y="285840"/>
            <a:ext cx="48006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339200" y="76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596960" y="1752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具以事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132640" y="24382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距关，毋内诸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132640" y="30481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张良出，要项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2489760" y="37339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具言臣之不敢倍德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489760" y="4419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可不蚤自来谢项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5225400" y="175248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800600" y="2362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269320" y="30481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25400" y="37339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225400" y="44197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132640" y="51055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令将军与臣有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5277240" y="5105520"/>
            <a:ext cx="171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黑体"/>
                <a:ea typeface="黑体"/>
              </a:rPr>
              <a:t>郤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c00000"/>
                </a:solidFill>
                <a:latin typeface="黑体"/>
                <a:ea typeface="黑体"/>
              </a:rPr>
              <a:t>隙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隔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1954080" y="57913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因击沛公于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314680" y="57913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座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（三）词类活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914040"/>
            <a:ext cx="5562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名词用作动词：籍吏民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范增数目项王　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刑人如恐不胜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道芷阳间行　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名词用作状语：于是项伯复夜去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吾得兄事之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日夜望将军至　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常以身翼蔽沛公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头发上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动词使动用法：项伯杀人，臣活之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从百余骑　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形容词用作动词：素善留侯张良</a:t>
            </a: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867280" y="914400"/>
            <a:ext cx="281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造户籍册或登记 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使眼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处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取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连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象对待兄长那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每日每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像翅膀那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向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使</a:t>
            </a:r>
            <a:r>
              <a:rPr b="1" lang="en-US" sz="2400" spc="-1" strike="noStrike">
                <a:solidFill>
                  <a:srgbClr val="080363"/>
                </a:solidFill>
                <a:latin typeface="宋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使</a:t>
            </a:r>
            <a:r>
              <a:rPr b="1" lang="en-US" sz="2400" spc="-1" strike="noStrike">
                <a:solidFill>
                  <a:srgbClr val="080363"/>
                </a:solidFill>
                <a:latin typeface="宋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跟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363"/>
                </a:solidFill>
                <a:latin typeface="黑体"/>
                <a:ea typeface="黑体"/>
              </a:rPr>
              <a:t>交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（四）古今异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9320" y="17524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沛公居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山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崤山以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指山东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约为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婚姻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由婚姻关系而形成的亲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由结婚而形成的夫妻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备他盗之出入与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非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不同一般的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副词，很、非常</a:t>
            </a:r>
            <a:br>
              <a:rPr sz="3100"/>
            </a:b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2210400" y="8380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“为”、“之”用法汇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2389320" y="1752480"/>
            <a:ext cx="65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380880" y="2438280"/>
            <a:ext cx="3886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为我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属皆且为所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何辞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方为刀俎，我为鱼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谁为大王为此计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子婴为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4419720" y="2438280"/>
            <a:ext cx="4267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介，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介，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气词，无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词，像是，如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二个“为”，动，制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，做、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2765520" y="990720"/>
            <a:ext cx="66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838080" y="1676520"/>
            <a:ext cx="4114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得兄事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切而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之奈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伯乃夜驰之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日之事何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愿伯具言臣之不敢背德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4952880" y="1676520"/>
            <a:ext cx="33530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，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，代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，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，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结构助词，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结构助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使主谓结构词组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4343400" cy="63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人对项羽的评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80880" y="1143000"/>
            <a:ext cx="822960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乌江亭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杜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败兵家事不期，包羞忍耻是男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东弟子多才俊，卷土重来未可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乌江亭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安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战疲劳壮士哀，中原一败势难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东弟子今虽在，肯与君王卷土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民解放军占领南京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毛泽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山风雨起苍黄，百万雄师过大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踞龙盘今胜昔，天翻地覆慨而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宜将剩勇追穷寇，不可沽名学霸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若有情天亦老，人间正道是沧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8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8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8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8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8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8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8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99036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秦失其政，陈涉首难，豪杰蜂起，相与并争，不可胜数。然羽非有尺寸，乘势起陇亩之中，三年，将遂五诸侯灭秦，分裂天下，而封王侯，政由羽出，号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霸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位虽不终，近古以来未尝有也。及项羽背关怀楚，放逐义帝而自立，怨王侯叛已，难矣。自矜功伐，奋起私智而不师古，谓霸王之业，欲以力征经营天下，五年卒亡其国，身死东城，尚不觉悟而不自责，过矣。乃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亡我，非用兵之罪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岂不谬哉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羽本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2438280" cy="63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延伸阅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520" y="16761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风歌</a:t>
            </a:r>
            <a:r>
              <a:rPr b="1" lang="zh-CN" sz="3200" spc="-1" strike="noStrike">
                <a:solidFill>
                  <a:srgbClr val="4d3fff"/>
                </a:solidFill>
                <a:latin typeface="楷体_GB2312"/>
                <a:ea typeface="楷体_GB2312"/>
              </a:rPr>
              <a:t>   刘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风起兮云飞扬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加海内兮归故乡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得猛士兮守四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垓下歌</a:t>
            </a:r>
            <a:r>
              <a:rPr b="1" lang="zh-CN" sz="3200" spc="-1" strike="noStrike">
                <a:solidFill>
                  <a:srgbClr val="4d3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d3fff"/>
                </a:solidFill>
                <a:latin typeface="楷体_GB2312"/>
                <a:ea typeface="楷体_GB2312"/>
              </a:rPr>
              <a:t>项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拔山兮气盖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不利兮骓不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骓不逝兮可奈何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兮虞兮奈若何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8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8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914400" y="1066680"/>
            <a:ext cx="7238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司马迁（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西汉著名史学家、文学家。字子长，左冯翊夏阳（今陕西韩城）人。其父司马谈是汉朝太史令。司马迁生于龙门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时，随父亲司马谈到长安，开始了对古代文献的研读，并直接受学于当时著名儒学大师董仲舒、孔安国。初任郎中、中书令。后因替投降匈奴的李陵辩护，受腐刑，出狱后任中书令，发奋著书，在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完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00640" y="1218960"/>
            <a:ext cx="762120" cy="2514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作品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《史记》03"/>
          <p:cNvPicPr/>
          <p:nvPr/>
        </p:nvPicPr>
        <p:blipFill>
          <a:blip r:embed="rId1"/>
          <a:stretch/>
        </p:blipFill>
        <p:spPr>
          <a:xfrm>
            <a:off x="4267080" y="1219320"/>
            <a:ext cx="3456000" cy="480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《史记》04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31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710105772-02"/>
          <p:cNvPicPr/>
          <p:nvPr/>
        </p:nvPicPr>
        <p:blipFill>
          <a:blip r:embed="rId3"/>
          <a:stretch/>
        </p:blipFill>
        <p:spPr>
          <a:xfrm>
            <a:off x="457200" y="1219320"/>
            <a:ext cx="352116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中国第一部纪传体通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记述了中国上自黄帝，下至汉武帝太初年间，大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年的历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创了中国历史学和历史传记文学的纪传体体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中国民族文化作出了极其重要的贡献。全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包括本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世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列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年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265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。本纪记帝王，世家述诸侯，列传叙人臣，书记礼、乐、音律、历法、天文、封禅、水利、财用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685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背景知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33520" y="914400"/>
            <a:ext cx="79246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，刘邦入关，降秦王子婴，还军霸上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项羽破关而入，刘、项在鸿门会面，双方斗争开始。不久，项羽以盟主身份召开戏下（今陕西临潼东）之会，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为诸侯王。自封为西楚霸王，都彭城（今江苏徐州），刘邦为汉王，都南郑（今陕西省南境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邦到南郑后，积极准备反攻。先夺取关中三秦之地作为根据地，然后出兵东向，进攻项羽，曾多次被项羽打败。到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秋，得到韩信的帮助，才形成足以跟项羽抗衡的力量；项羽乃与刘邦约定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分天下，割鸿沟以西为汉，以东为楚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约后，项羽东归，刘邦也准备西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685800" y="533520"/>
            <a:ext cx="800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时张良、陈平向刘邦提出建议，趁此时机消灭项羽。后在韩信、彭越帮助下，围项羽于垓下（今安徽灵壁市）。项羽兵败突围，至乌江（今安徽和县东北）自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5" descr="图片4.jpg"/>
          <p:cNvPicPr/>
          <p:nvPr/>
        </p:nvPicPr>
        <p:blipFill>
          <a:blip r:embed="rId1"/>
          <a:stretch/>
        </p:blipFill>
        <p:spPr>
          <a:xfrm>
            <a:off x="1905120" y="2819520"/>
            <a:ext cx="53337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31T09:49:3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