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CHIMES.WAV" ContentType="audio/x-wav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CAMERA.WAV" ContentType="audio/x-wav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498-8CA7-46B3-B593-4703AE1F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368-79C4-4C7F-86A4-5BAAD7B2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0A0-53C8-46C9-AC7E-71B49859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048-F92B-4173-81DF-0E3DC244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E0B-1B96-4AF9-A6A2-41D9BA7D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03B-5A61-4777-8F84-19EF2ADD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623-AAB9-4495-84B0-501D45F8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EDF-B5F8-4CD2-87C4-C8F93A14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7E1-2E47-4969-9753-DE79AE8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5B9-3D64-4BC3-92BC-190D2EFD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E8A-0D13-4A3A-8C1B-4DDBE5BE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15A-644A-4B54-B038-DC7B1A18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8343-59BD-4878-86D3-D00D9446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D:\My Documents\shuangfeng.jpg"/>
          <p:cNvPicPr/>
          <p:nvPr/>
        </p:nvPicPr>
        <p:blipFill>
          <a:blip r:embed="rId16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762120" y="2362320"/>
            <a:ext cx="2666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宋体"/>
              </a:rPr>
              <a:t>黄山</a:t>
            </a:r>
            <a:endParaRPr b="1" lang="en-US" sz="2400" spc="-1" strike="noStrike">
              <a:ln w="0">
                <a:noFill/>
              </a:ln>
              <a:blipFill rotWithShape="0">
                <a:blip r:embed="rId1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4343400" y="182880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幼圆"/>
              </a:rPr>
              <a:t>奇石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幼圆"/>
              <a:ea typeface="幼圆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2033280" y="595008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f"/>
            </a:gs>
            <a:gs pos="50000">
              <a:srgbClr val="ccccff"/>
            </a:gs>
            <a:gs pos="100000">
              <a:srgbClr val="f8f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Documents and Settings\Administrator\My Documents\My Pictures\黄山.jpg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3f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My Documents\My Pictures\复件 云中峭壁.jpg"/>
          <p:cNvPicPr/>
          <p:nvPr/>
        </p:nvPicPr>
        <p:blipFill>
          <a:blip r:embed="rId1"/>
          <a:stretch/>
        </p:blipFill>
        <p:spPr>
          <a:xfrm>
            <a:off x="1143000" y="3581280"/>
            <a:ext cx="3246480" cy="243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My Documents\My Pictures\松1.jpg"/>
          <p:cNvPicPr/>
          <p:nvPr/>
        </p:nvPicPr>
        <p:blipFill>
          <a:blip r:embed="rId2"/>
          <a:stretch/>
        </p:blipFill>
        <p:spPr>
          <a:xfrm>
            <a:off x="5029200" y="380880"/>
            <a:ext cx="3267000" cy="240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:\My Documents\My Pictures\温泉1.jpg"/>
          <p:cNvPicPr/>
          <p:nvPr/>
        </p:nvPicPr>
        <p:blipFill>
          <a:blip r:embed="rId3"/>
          <a:stretch/>
        </p:blipFill>
        <p:spPr>
          <a:xfrm>
            <a:off x="5029200" y="3610080"/>
            <a:ext cx="3276720" cy="251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:\My Documents\My Pictures\猴子观海.jpg"/>
          <p:cNvPicPr/>
          <p:nvPr/>
        </p:nvPicPr>
        <p:blipFill>
          <a:blip r:embed="rId4"/>
          <a:stretch/>
        </p:blipFill>
        <p:spPr>
          <a:xfrm>
            <a:off x="1066680" y="380880"/>
            <a:ext cx="3353040" cy="2467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2133720" y="2666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奇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172200" y="5943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温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2096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云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095880" y="2635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怪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ecff"/>
            </a:gs>
            <a:gs pos="100000">
              <a:srgbClr val="00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2362320" y="60948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仙 桃 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397240" y="1889280"/>
            <a:ext cx="446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猴 子 观 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905120" y="335268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金 鸡 叫 天 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05120" y="4724280"/>
            <a:ext cx="6172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五 老 奔 天 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istrator\My Documents\My Pictures\拳头.jpg"/>
          <p:cNvPicPr/>
          <p:nvPr/>
        </p:nvPicPr>
        <p:blipFill>
          <a:blip r:embed="rId1"/>
          <a:stretch/>
        </p:blipFill>
        <p:spPr>
          <a:xfrm>
            <a:off x="609480" y="685800"/>
            <a:ext cx="2505240" cy="229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Administrator\My Documents\My Pictures\shi16.jpg"/>
          <p:cNvPicPr/>
          <p:nvPr/>
        </p:nvPicPr>
        <p:blipFill>
          <a:blip r:embed="rId2"/>
          <a:stretch/>
        </p:blipFill>
        <p:spPr>
          <a:xfrm>
            <a:off x="5943600" y="685800"/>
            <a:ext cx="2514600" cy="236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Administrator\My Documents\My Pictures\shi2.jpg"/>
          <p:cNvPicPr/>
          <p:nvPr/>
        </p:nvPicPr>
        <p:blipFill>
          <a:blip r:embed="rId3"/>
          <a:stretch/>
        </p:blipFill>
        <p:spPr>
          <a:xfrm>
            <a:off x="3276720" y="2286000"/>
            <a:ext cx="2361960" cy="212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Documents and Settings\Administrator\My Documents\My Pictures\gs3.jpg"/>
          <p:cNvPicPr/>
          <p:nvPr/>
        </p:nvPicPr>
        <p:blipFill>
          <a:blip r:embed="rId4"/>
          <a:stretch/>
        </p:blipFill>
        <p:spPr>
          <a:xfrm>
            <a:off x="609480" y="3886200"/>
            <a:ext cx="2514600" cy="2212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Documents and Settings\Administrator\My Documents\My Pictures\shi17.jpg"/>
          <p:cNvPicPr/>
          <p:nvPr/>
        </p:nvPicPr>
        <p:blipFill>
          <a:blip r:embed="rId5"/>
          <a:stretch/>
        </p:blipFill>
        <p:spPr>
          <a:xfrm>
            <a:off x="5791320" y="4114800"/>
            <a:ext cx="2971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10666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3919"/>
                </a:solidFill>
                <a:latin typeface="Times New Roman"/>
                <a:ea typeface="隶书"/>
              </a:rPr>
              <a:t>出示句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12"/>
          <p:cNvGrpSpPr/>
          <p:nvPr/>
        </p:nvGrpSpPr>
        <p:grpSpPr>
          <a:xfrm>
            <a:off x="990720" y="2133720"/>
            <a:ext cx="7391160" cy="914400"/>
            <a:chOff x="990720" y="2133720"/>
            <a:chExt cx="7391160" cy="914400"/>
          </a:xfrm>
        </p:grpSpPr>
        <p:sp>
          <p:nvSpPr>
            <p:cNvPr id="57" name="Text Box 4"/>
            <p:cNvSpPr/>
            <p:nvPr/>
          </p:nvSpPr>
          <p:spPr>
            <a:xfrm>
              <a:off x="990720" y="2133720"/>
              <a:ext cx="739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①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真是形象逼真，（特别有意思）           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600200" y="2590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1676520" y="3048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Picture 9" descr="F:\Clipart\OFFICE\Z.WMF"/>
          <p:cNvPicPr/>
          <p:nvPr/>
        </p:nvPicPr>
        <p:blipFill>
          <a:blip r:embed="rId1"/>
          <a:stretch/>
        </p:blipFill>
        <p:spPr>
          <a:xfrm>
            <a:off x="6477120" y="4648320"/>
            <a:ext cx="1353960" cy="13158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1066680" y="3733920"/>
            <a:ext cx="7696440" cy="1373760"/>
            <a:chOff x="1066680" y="3733920"/>
            <a:chExt cx="7696440" cy="1373760"/>
          </a:xfrm>
        </p:grpSpPr>
        <p:sp>
          <p:nvSpPr>
            <p:cNvPr id="62" name="Text Box 7"/>
            <p:cNvSpPr/>
            <p:nvPr/>
          </p:nvSpPr>
          <p:spPr>
            <a:xfrm>
              <a:off x="1066680" y="3733920"/>
              <a:ext cx="7696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②</a:t>
              </a:r>
              <a:r>
                <a:rPr b="0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我喜欢            ，因为              。                                      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2590920" y="422604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5791320" y="42321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907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课件下载地址：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TRAVEL"/>
          <p:cNvPicPr/>
          <p:nvPr/>
        </p:nvPicPr>
        <p:blipFill>
          <a:blip r:embed="rId2"/>
          <a:stretch/>
        </p:blipFill>
        <p:spPr>
          <a:xfrm>
            <a:off x="6248520" y="411480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e4fff6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95280" y="1203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a5d00"/>
                </a:solidFill>
                <a:latin typeface="Times New Roman"/>
                <a:ea typeface="楷体_GB2312"/>
              </a:rPr>
              <a:t>仙桃石是一块形状像桃子一样的巨石。它似乎是从天上仙人那儿飞下来的。也许它飞的太急，落地太快，所以只有底部小块挨着下面的石盘子。尽管这样，多少年来，他还是牢牢地站在那里</a:t>
            </a:r>
            <a:r>
              <a:rPr b="0" lang="zh-CN" sz="3600" spc="-1" strike="noStrike">
                <a:solidFill>
                  <a:srgbClr val="ba5d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6095880" y="18525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7145280" y="428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2556000" y="42735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4079880" y="2438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24"/>
          <p:cNvGrpSpPr/>
          <p:nvPr/>
        </p:nvGrpSpPr>
        <p:grpSpPr>
          <a:xfrm>
            <a:off x="1430280" y="4876920"/>
            <a:ext cx="6418440" cy="609480"/>
            <a:chOff x="1430280" y="4876920"/>
            <a:chExt cx="6418440" cy="609480"/>
          </a:xfrm>
        </p:grpSpPr>
        <p:sp>
          <p:nvSpPr>
            <p:cNvPr id="73" name="Line 22"/>
            <p:cNvSpPr/>
            <p:nvPr/>
          </p:nvSpPr>
          <p:spPr>
            <a:xfrm>
              <a:off x="7162920" y="48769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3"/>
            <p:cNvSpPr/>
            <p:nvPr/>
          </p:nvSpPr>
          <p:spPr>
            <a:xfrm>
              <a:off x="1430280" y="548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3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6858000" y="4724280"/>
            <a:ext cx="990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变</a:t>
            </a:r>
            <a:endParaRPr b="0" lang="en-US" sz="4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1600200" y="4572000"/>
            <a:ext cx="990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伸</a:t>
            </a:r>
            <a:endParaRPr b="0" lang="en-US" sz="4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267080" y="4648320"/>
            <a:ext cx="990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啼</a:t>
            </a:r>
            <a:endParaRPr b="0" lang="en-US" sz="4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8" name="Picture 8" descr="D:\My Documents\My Pictures\SHI13.JPG"/>
          <p:cNvPicPr/>
          <p:nvPr/>
        </p:nvPicPr>
        <p:blipFill>
          <a:blip r:embed="rId7"/>
          <a:stretch/>
        </p:blipFill>
        <p:spPr>
          <a:xfrm>
            <a:off x="2438280" y="914400"/>
            <a:ext cx="441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f"/>
            </a:gs>
            <a:gs pos="50000">
              <a:srgbClr val="ccccff"/>
            </a:gs>
            <a:gs pos="100000">
              <a:srgbClr val="f9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A:\houziguanhai.jpg"/>
          <p:cNvPicPr/>
          <p:nvPr/>
        </p:nvPicPr>
        <p:blipFill>
          <a:blip r:embed="rId1"/>
          <a:stretch/>
        </p:blipFill>
        <p:spPr>
          <a:xfrm>
            <a:off x="1371600" y="1600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6477120" y="91440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抱</a:t>
            </a:r>
            <a:endParaRPr b="0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6477120" y="274320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蹲</a:t>
            </a:r>
            <a:endParaRPr b="0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6553080" y="4648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观</a:t>
            </a:r>
            <a:endParaRPr b="0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f"/>
            </a:gs>
            <a:gs pos="50000">
              <a:srgbClr val="ccccff"/>
            </a:gs>
            <a:gs pos="100000">
              <a:srgbClr val="fa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istrator\My Documents\My Pictures\仙桃石.jpg"/>
          <p:cNvPicPr/>
          <p:nvPr/>
        </p:nvPicPr>
        <p:blipFill>
          <a:blip r:embed="rId1"/>
          <a:stretch/>
        </p:blipFill>
        <p:spPr>
          <a:xfrm>
            <a:off x="990720" y="160020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6019920" y="106668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飞</a:t>
            </a:r>
            <a:endParaRPr b="0" lang="en-US" sz="4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6019920" y="281952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隶书"/>
              </a:rPr>
              <a:t>落</a:t>
            </a:r>
            <a:endParaRPr b="0" lang="en-US" sz="48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5943600" y="449568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隶书"/>
              </a:rPr>
              <a:t>站</a:t>
            </a:r>
            <a:endParaRPr b="0" lang="en-US" sz="4800" spc="-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1:03:08Z</dcterms:created>
  <dc:creator>第一PPT模板网-WWW.1PPT.COM</dc:creator>
  <dc:description>第一PPT模板网-WWW.1PPT.COM
</dc:description>
  <dc:language>en-US</dc:language>
  <cp:lastModifiedBy>wuhan</cp:lastModifiedBy>
  <dcterms:modified xsi:type="dcterms:W3CDTF">2017-09-04T03:55:36Z</dcterms:modified>
  <cp:revision>12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