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38.jpeg" ContentType="image/jpeg"/>
  <Override PartName="/ppt/media/image7.jpeg" ContentType="image/jpeg"/>
  <Override PartName="/ppt/media/image35.gif" ContentType="image/gif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991-07B4-4394-A09E-D944BE21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A0E-7074-4A1E-8CAE-0CBA6607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C5F-ADC9-46F1-BEF5-7A2D8D81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3EE-545C-4933-A2B6-ECC4F46B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58A-87B5-4563-B2A6-F268A6CE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44A-0F16-4FFC-848D-C07FEC70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FE0-B6A1-49BC-8A67-7F62EC95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1CB-EDBB-4716-9FD2-81B38870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F22-D6A5-4D11-A6A8-FFFF2BCC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16E-E1C4-408F-9B7A-B3FCA6E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081-36D7-4A75-A7C0-8602E18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7D3-74F6-4A01-B783-6370776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492D-E105-4305-B2F8-5D0A81FFF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3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37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31.jpeg"/><Relationship Id="rId3" Type="http://schemas.openxmlformats.org/officeDocument/2006/relationships/slide" Target="slide38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4.jpeg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8600" y="914400"/>
            <a:ext cx="7696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赏鲜花绽放 感花钟奥妙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义务教育课程标准语文三年级上册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33526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导学教师：苏小盘    班级：三（</a:t>
            </a:r>
            <a:r>
              <a:rPr b="0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X</a:t>
            </a:r>
            <a:r>
              <a:rPr b="0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）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花钟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1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402264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这些花在二十四小时内陆续开放。你只要看看什么花刚刚开放，就知道大致是几点钟，这是不是很有趣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7391520" y="4648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5562720" y="5334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1600200" y="6019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828800" y="685800"/>
            <a:ext cx="5638680" cy="5486400"/>
            <a:chOff x="1828800" y="685800"/>
            <a:chExt cx="5638680" cy="5486400"/>
          </a:xfrm>
        </p:grpSpPr>
        <p:sp>
          <p:nvSpPr>
            <p:cNvPr id="79" name=""/>
            <p:cNvSpPr/>
            <p:nvPr/>
          </p:nvSpPr>
          <p:spPr>
            <a:xfrm>
              <a:off x="1828800" y="685800"/>
              <a:ext cx="5638680" cy="5486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685800"/>
              <a:ext cx="609840" cy="457200"/>
            </a:xfrm>
            <a:custGeom>
              <a:avLst/>
              <a:gdLst>
                <a:gd name="textAreaLeft" fmla="*/ 133920 w 609840"/>
                <a:gd name="textAreaRight" fmla="*/ 475920 w 60984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239200">
              <a:off x="6858000" y="3124080"/>
              <a:ext cx="609480" cy="457200"/>
            </a:xfrm>
            <a:custGeom>
              <a:avLst/>
              <a:gdLst>
                <a:gd name="textAreaLeft" fmla="*/ 126000 w 609480"/>
                <a:gd name="textAreaRight" fmla="*/ 483480 w 609480"/>
                <a:gd name="textAreaTop" fmla="*/ 94320 h 457200"/>
                <a:gd name="textAreaBottom" fmla="*/ 3628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06" y="21600"/>
                  </a:lnTo>
                  <a:lnTo>
                    <a:pt x="4894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752480" y="3123720"/>
              <a:ext cx="609480" cy="457200"/>
            </a:xfrm>
            <a:custGeom>
              <a:avLst/>
              <a:gdLst>
                <a:gd name="textAreaLeft" fmla="*/ 133920 w 609480"/>
                <a:gd name="textAreaRight" fmla="*/ 475560 w 60948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4419360" y="5715000"/>
              <a:ext cx="609480" cy="457200"/>
            </a:xfrm>
            <a:custGeom>
              <a:avLst/>
              <a:gdLst>
                <a:gd name="textAreaLeft" fmla="*/ 133920 w 609480"/>
                <a:gd name="textAreaRight" fmla="*/ 475560 w 60948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371600">
              <a:off x="5562360" y="990360"/>
              <a:ext cx="609480" cy="457200"/>
            </a:xfrm>
            <a:custGeom>
              <a:avLst/>
              <a:gdLst>
                <a:gd name="textAreaLeft" fmla="*/ 133920 w 609480"/>
                <a:gd name="textAreaRight" fmla="*/ 475560 w 60948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3105600">
              <a:off x="6553080" y="1904400"/>
              <a:ext cx="609480" cy="457200"/>
            </a:xfrm>
            <a:custGeom>
              <a:avLst/>
              <a:gdLst>
                <a:gd name="textAreaLeft" fmla="*/ 133920 w 609480"/>
                <a:gd name="textAreaRight" fmla="*/ 475560 w 60948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9302600">
              <a:off x="2895480" y="1143000"/>
              <a:ext cx="609840" cy="457200"/>
            </a:xfrm>
            <a:custGeom>
              <a:avLst/>
              <a:gdLst>
                <a:gd name="textAreaLeft" fmla="*/ 133920 w 609840"/>
                <a:gd name="textAreaRight" fmla="*/ 475920 w 60984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8037800">
              <a:off x="2057040" y="2057040"/>
              <a:ext cx="609840" cy="457200"/>
            </a:xfrm>
            <a:custGeom>
              <a:avLst/>
              <a:gdLst>
                <a:gd name="textAreaLeft" fmla="*/ 133920 w 609840"/>
                <a:gd name="textAreaRight" fmla="*/ 475920 w 60984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4235000">
              <a:off x="2057040" y="4343400"/>
              <a:ext cx="609840" cy="457200"/>
            </a:xfrm>
            <a:custGeom>
              <a:avLst/>
              <a:gdLst>
                <a:gd name="textAreaLeft" fmla="*/ 133920 w 609840"/>
                <a:gd name="textAreaRight" fmla="*/ 475920 w 60984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2918600">
              <a:off x="2971440" y="5257440"/>
              <a:ext cx="609480" cy="457200"/>
            </a:xfrm>
            <a:custGeom>
              <a:avLst/>
              <a:gdLst>
                <a:gd name="textAreaLeft" fmla="*/ 133920 w 609480"/>
                <a:gd name="textAreaRight" fmla="*/ 475560 w 60948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6973200">
              <a:off x="6552720" y="4419360"/>
              <a:ext cx="609480" cy="457200"/>
            </a:xfrm>
            <a:custGeom>
              <a:avLst/>
              <a:gdLst>
                <a:gd name="textAreaLeft" fmla="*/ 133920 w 609480"/>
                <a:gd name="textAreaRight" fmla="*/ 475560 w 60948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8883000">
              <a:off x="5714640" y="5257800"/>
              <a:ext cx="609480" cy="457200"/>
            </a:xfrm>
            <a:custGeom>
              <a:avLst/>
              <a:gdLst>
                <a:gd name="textAreaLeft" fmla="*/ 133920 w 609480"/>
                <a:gd name="textAreaRight" fmla="*/ 475560 w 60948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5f5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5680" y="327672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724280" y="2057040"/>
              <a:ext cx="609840" cy="1219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00600" y="3429000"/>
              <a:ext cx="838080" cy="76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267080" y="1295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1523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600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22860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4800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4191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124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5105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876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3124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7086600" y="4648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牵牛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172200" y="5791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蔷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1981080" y="571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睡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3733920" y="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午时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7467480" y="2971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万寿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" action="ppaction://hlinksldjump"/>
          </p:cNvPr>
          <p:cNvSpPr/>
          <p:nvPr/>
        </p:nvSpPr>
        <p:spPr>
          <a:xfrm>
            <a:off x="3733920" y="62164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烟草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7" action="ppaction://hlinksldjump"/>
          </p:cNvPr>
          <p:cNvSpPr/>
          <p:nvPr/>
        </p:nvSpPr>
        <p:spPr>
          <a:xfrm>
            <a:off x="228600" y="5867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月光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89480" y="5410080"/>
            <a:ext cx="3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8" action="ppaction://hlinksldjump"/>
          </p:cNvPr>
          <p:cNvSpPr/>
          <p:nvPr/>
        </p:nvSpPr>
        <p:spPr>
          <a:xfrm>
            <a:off x="228600" y="4495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夜来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9" action="ppaction://hlinksldjump"/>
          </p:cNvPr>
          <p:cNvSpPr/>
          <p:nvPr/>
        </p:nvSpPr>
        <p:spPr>
          <a:xfrm>
            <a:off x="15228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昙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238511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1144080"/>
            <a:ext cx="86104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凌晨四点，牵牛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吹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起了紫色的小喇叭；五点左右，艳丽的蔷薇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绽开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了笑脸；七点，睡莲从梦中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醒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来；中午十二点左右，午时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开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放了；下午三点，万寿菊欣然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怒放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；傍晚六点，烟草花在暮色中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苏醒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；月光花在七点左右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舒展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开自己的花瓣；夜来香在晚上八点开花；昙花却在九点左右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含笑一现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……</a:t>
            </a:r>
            <a:br>
              <a:rPr sz="36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990720" y="6324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5638680" y="54864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238511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520" y="330840"/>
            <a:ext cx="861048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凌晨四点，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牵牛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   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五点左右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）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蔷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七点，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睡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中午十二点左右，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午时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下午三点，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万寿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傍晚六点，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烟草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月光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七点左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夜来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晚上八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昙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却在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九点左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br>
              <a:rPr sz="36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3200400" y="5943600"/>
            <a:ext cx="914400" cy="228600"/>
          </a:xfrm>
          <a:custGeom>
            <a:avLst/>
            <a:gdLst>
              <a:gd name="textAreaLeft" fmla="*/ 14760 w 914400"/>
              <a:gd name="textAreaRight" fmla="*/ 899640 w 914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98" h="21600">
                <a:moveTo>
                  <a:pt x="36143" y="3794"/>
                </a:moveTo>
                <a:lnTo>
                  <a:pt x="50156" y="10800"/>
                </a:lnTo>
                <a:lnTo>
                  <a:pt x="361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23851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14400" y="23623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下午三点，万寿菊欣然怒放。</a:t>
            </a:r>
            <a:r>
              <a:rPr b="1" lang="en-US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3886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月光花在七点左右舒展开自己的花瓣。</a:t>
            </a:r>
            <a:r>
              <a:rPr b="0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880" y="380880"/>
            <a:ext cx="4114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你发现了吗？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23851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14400" y="23623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午三点，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万寿菊欣然怒放。</a:t>
            </a:r>
            <a:r>
              <a:rPr b="1" lang="en-US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886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月光花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七点左右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舒展开自己的花瓣。</a:t>
            </a:r>
            <a:r>
              <a:rPr b="0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380880"/>
            <a:ext cx="4114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你发现了吗？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990720"/>
            <a:ext cx="36860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说一说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267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、中午十二点左右，午时花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               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380880" y="5410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（花）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（时间）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（怎样开放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午时花2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41136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6781680" y="6095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7543800" y="6095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23851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4920" y="533520"/>
            <a:ext cx="38862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合作学习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590920"/>
            <a:ext cx="876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默读第二自然段，议一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不同的花为什么开花的时间不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23851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90720" y="2666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        ）的花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23851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28600" y="53352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动手实践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20176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 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运用植物学家的方法，为城南小学设计一个花钟，比比谁的设计方案最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7" descr=""/>
          <p:cNvPicPr/>
          <p:nvPr/>
        </p:nvPicPr>
        <p:blipFill>
          <a:blip r:embed="rId1"/>
          <a:stretch/>
        </p:blipFill>
        <p:spPr>
          <a:xfrm>
            <a:off x="250920" y="0"/>
            <a:ext cx="410508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08" descr=""/>
          <p:cNvPicPr/>
          <p:nvPr/>
        </p:nvPicPr>
        <p:blipFill>
          <a:blip r:embed="rId2"/>
          <a:stretch/>
        </p:blipFill>
        <p:spPr>
          <a:xfrm>
            <a:off x="4716360" y="0"/>
            <a:ext cx="4170600" cy="3127320"/>
          </a:xfrm>
          <a:prstGeom prst="rect">
            <a:avLst/>
          </a:prstGeom>
          <a:ln w="0">
            <a:noFill/>
          </a:ln>
        </p:spPr>
      </p:pic>
      <p:pic>
        <p:nvPicPr>
          <p:cNvPr id="47" name="10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4176720" cy="3240000"/>
          </a:xfrm>
          <a:prstGeom prst="rect">
            <a:avLst/>
          </a:prstGeom>
          <a:ln w="0">
            <a:noFill/>
          </a:ln>
        </p:spPr>
      </p:pic>
      <p:pic>
        <p:nvPicPr>
          <p:cNvPr id="48" name="200405261111" descr=""/>
          <p:cNvPicPr/>
          <p:nvPr/>
        </p:nvPicPr>
        <p:blipFill>
          <a:blip r:embed="rId4"/>
          <a:stretch/>
        </p:blipFill>
        <p:spPr>
          <a:xfrm>
            <a:off x="4714920" y="3429000"/>
            <a:ext cx="4249800" cy="32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2841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133720" y="2362320"/>
            <a:ext cx="4733640" cy="21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谢谢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mages" descr="">
            <a:hlinkClick r:id="rId1" action="ppaction://hlinksldjump"/>
          </p:cNvPr>
          <p:cNvPicPr/>
          <p:nvPr/>
        </p:nvPicPr>
        <p:blipFill>
          <a:blip r:embed="rId2"/>
          <a:srcRect l="0" t="0" r="16787" b="0"/>
          <a:stretch/>
        </p:blipFill>
        <p:spPr>
          <a:xfrm>
            <a:off x="762120" y="0"/>
            <a:ext cx="5867280" cy="4419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47760" y="609480"/>
            <a:ext cx="1094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幼圆"/>
              </a:rPr>
              <a:t>牵牛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724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凌晨四点，牵牛花吹起了紫色的小喇叭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4724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蔷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044480" y="609480"/>
            <a:ext cx="1399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幼圆"/>
              </a:rPr>
              <a:t>蔷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87692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五点左右，艳丽的蔷薇绽开了笑脸。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4952880" y="57913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001000" y="5715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蔷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044480" y="609480"/>
            <a:ext cx="1399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幼圆"/>
              </a:rPr>
              <a:t>蔷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87692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五点左右，艳丽的蔷薇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绽开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了笑脸。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蔷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044480" y="609480"/>
            <a:ext cx="1399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幼圆"/>
              </a:rPr>
              <a:t>蔷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87692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五点左右，艳丽的蔷薇绽开了笑脸。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01800" y="4981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绽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933520" y="3733920"/>
            <a:ext cx="2191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幼圆"/>
              </a:rPr>
              <a:t>睡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778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  <a:ea typeface="楷体_GB2312"/>
              </a:rPr>
              <a:t>七点，睡莲从梦中醒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2006040793444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972040" y="685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f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629400" cy="509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68880" y="838080"/>
            <a:ext cx="2374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幼圆"/>
              </a:rPr>
              <a:t>午时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5425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中午十二点左右，午时花开花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34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23520" y="3200400"/>
            <a:ext cx="20091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幼圆"/>
              </a:rPr>
              <a:t>万寿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685800"/>
            <a:ext cx="98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下午三点，万寿菊欣然怒放。</a:t>
            </a: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91160" y="6858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欣然怒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1775909064810168" descr=""/>
          <p:cNvPicPr/>
          <p:nvPr/>
        </p:nvPicPr>
        <p:blipFill>
          <a:blip r:embed="rId1"/>
          <a:stretch/>
        </p:blipFill>
        <p:spPr>
          <a:xfrm>
            <a:off x="0" y="1905120"/>
            <a:ext cx="5943600" cy="4952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947560" y="2819520"/>
            <a:ext cx="2009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幼圆"/>
              </a:rPr>
              <a:t>烟草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08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傍晚六点，烟草花在暮色中苏醒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62760" y="380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苏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yueguanghua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4703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085800" y="457200"/>
            <a:ext cx="2191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月光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48769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月光花在七点左右舒展开自己的花瓣。</a:t>
            </a:r>
            <a:r>
              <a:rPr b="0" lang="en-US" sz="5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4876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舒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4245120" cy="3182760"/>
          </a:xfrm>
          <a:prstGeom prst="rect">
            <a:avLst/>
          </a:prstGeom>
          <a:ln w="0">
            <a:noFill/>
          </a:ln>
        </p:spPr>
      </p:pic>
      <p:pic>
        <p:nvPicPr>
          <p:cNvPr id="50" name="57" descr=""/>
          <p:cNvPicPr/>
          <p:nvPr/>
        </p:nvPicPr>
        <p:blipFill>
          <a:blip r:embed="rId2"/>
          <a:stretch/>
        </p:blipFill>
        <p:spPr>
          <a:xfrm>
            <a:off x="4716360" y="115920"/>
            <a:ext cx="414036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62" descr=""/>
          <p:cNvPicPr/>
          <p:nvPr/>
        </p:nvPicPr>
        <p:blipFill>
          <a:blip r:embed="rId3"/>
          <a:stretch/>
        </p:blipFill>
        <p:spPr>
          <a:xfrm>
            <a:off x="179280" y="3506760"/>
            <a:ext cx="4248360" cy="3162240"/>
          </a:xfrm>
          <a:prstGeom prst="rect">
            <a:avLst/>
          </a:prstGeom>
          <a:ln w="0">
            <a:noFill/>
          </a:ln>
        </p:spPr>
      </p:pic>
      <p:pic>
        <p:nvPicPr>
          <p:cNvPr id="52" name="83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11796471887724729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857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71720" y="838080"/>
            <a:ext cx="1185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幼圆"/>
              </a:rPr>
              <a:t>夜来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5486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夜来香在晚上八点开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2006817171049482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4952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46600" y="685800"/>
            <a:ext cx="1277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幼圆"/>
              </a:rPr>
              <a:t>昙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5562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昙花却在九点左右含笑一现……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14800" y="55339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含笑一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44480" y="3245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艳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194946_b764b1f348" descr=""/>
          <p:cNvPicPr/>
          <p:nvPr/>
        </p:nvPicPr>
        <p:blipFill>
          <a:blip r:embed="rId1"/>
          <a:stretch/>
        </p:blipFill>
        <p:spPr>
          <a:xfrm>
            <a:off x="2590920" y="0"/>
            <a:ext cx="3809880" cy="4724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280" y="5105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到了那时，便悄悄绽开淡雅的花蕾，向人们展示美丽的笑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5073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淡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花钟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10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402264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这些花在二十四小时内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陆续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开放。你只要看看什么花刚刚开放，就知道大致是几点钟，这是不是很有趣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花钟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1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402264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这些花在二十四小时内陆续开放。你只要看看什么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刚刚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开放，就知道大致是几点钟，这是不是很有趣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花钟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10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02264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这些花在二十四小时内陆续开放。你只要看看什么花刚刚开放，就知道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大致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是几点钟，这是不是很有趣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228672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1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蒲公英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在早晨六点开花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2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紫茉莉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约下午四点开放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3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、下午五点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白香水百合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开放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4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、晚上六点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丝瓜花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开放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5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、中午十二点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太阳花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开了…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600" y="0"/>
            <a:ext cx="304812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资料袋</a:t>
            </a:r>
            <a:endParaRPr b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3" name=""/>
          <p:cNvSpPr/>
          <p:nvPr/>
        </p:nvSpPr>
        <p:spPr>
          <a:xfrm>
            <a:off x="7543800" y="63244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23851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380880" y="380880"/>
            <a:ext cx="2743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说一说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" y="1523880"/>
            <a:ext cx="5181480" cy="2635200"/>
            <a:chOff x="228600" y="1523880"/>
            <a:chExt cx="5181480" cy="2635200"/>
          </a:xfrm>
        </p:grpSpPr>
        <p:sp>
          <p:nvSpPr>
            <p:cNvPr id="207" name=""/>
            <p:cNvSpPr/>
            <p:nvPr/>
          </p:nvSpPr>
          <p:spPr>
            <a:xfrm>
              <a:off x="228600" y="1523880"/>
              <a:ext cx="213372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牵牛花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7400" y="2057400"/>
              <a:ext cx="3352680" cy="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0" y="4876920"/>
            <a:ext cx="3962520" cy="2635200"/>
            <a:chOff x="0" y="4876920"/>
            <a:chExt cx="3962520" cy="2635200"/>
          </a:xfrm>
        </p:grpSpPr>
        <p:sp>
          <p:nvSpPr>
            <p:cNvPr id="210" name=""/>
            <p:cNvSpPr/>
            <p:nvPr/>
          </p:nvSpPr>
          <p:spPr>
            <a:xfrm>
              <a:off x="0" y="4876920"/>
              <a:ext cx="213372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月光花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28800" y="5410080"/>
              <a:ext cx="2133720" cy="108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343400" y="2743200"/>
            <a:ext cx="3962520" cy="2635200"/>
            <a:chOff x="4343400" y="2743200"/>
            <a:chExt cx="3962520" cy="2635200"/>
          </a:xfrm>
        </p:grpSpPr>
        <p:sp>
          <p:nvSpPr>
            <p:cNvPr id="213" name=""/>
            <p:cNvSpPr/>
            <p:nvPr/>
          </p:nvSpPr>
          <p:spPr>
            <a:xfrm>
              <a:off x="4343400" y="2743200"/>
              <a:ext cx="213372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睡    莲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2200" y="3276720"/>
              <a:ext cx="2133720" cy="144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0" y="3809880"/>
            <a:ext cx="3962520" cy="2635200"/>
            <a:chOff x="0" y="3809880"/>
            <a:chExt cx="3962520" cy="2635200"/>
          </a:xfrm>
        </p:grpSpPr>
        <p:sp>
          <p:nvSpPr>
            <p:cNvPr id="216" name=""/>
            <p:cNvSpPr/>
            <p:nvPr/>
          </p:nvSpPr>
          <p:spPr>
            <a:xfrm>
              <a:off x="0" y="3809880"/>
              <a:ext cx="213372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万寿菊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28800" y="4343400"/>
              <a:ext cx="2133720" cy="144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343400" y="3733920"/>
            <a:ext cx="3962520" cy="2635200"/>
            <a:chOff x="4343400" y="3733920"/>
            <a:chExt cx="3962520" cy="2635200"/>
          </a:xfrm>
        </p:grpSpPr>
        <p:sp>
          <p:nvSpPr>
            <p:cNvPr id="219" name=""/>
            <p:cNvSpPr/>
            <p:nvPr/>
          </p:nvSpPr>
          <p:spPr>
            <a:xfrm>
              <a:off x="4343400" y="3733920"/>
              <a:ext cx="213372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烟草花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72200" y="4267080"/>
              <a:ext cx="2133720" cy="108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0" y="2666880"/>
            <a:ext cx="3962520" cy="3183840"/>
            <a:chOff x="0" y="2666880"/>
            <a:chExt cx="3962520" cy="3183840"/>
          </a:xfrm>
        </p:grpSpPr>
        <p:sp>
          <p:nvSpPr>
            <p:cNvPr id="222" name=""/>
            <p:cNvSpPr/>
            <p:nvPr/>
          </p:nvSpPr>
          <p:spPr>
            <a:xfrm>
              <a:off x="0" y="2666880"/>
              <a:ext cx="2133720" cy="31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蔷    薇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28800" y="3200400"/>
              <a:ext cx="2133720" cy="144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343400" y="4724280"/>
            <a:ext cx="3962520" cy="2635200"/>
            <a:chOff x="4343400" y="4724280"/>
            <a:chExt cx="3962520" cy="2635200"/>
          </a:xfrm>
        </p:grpSpPr>
        <p:sp>
          <p:nvSpPr>
            <p:cNvPr id="225" name=""/>
            <p:cNvSpPr/>
            <p:nvPr/>
          </p:nvSpPr>
          <p:spPr>
            <a:xfrm>
              <a:off x="4343400" y="4724280"/>
              <a:ext cx="213372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昙   花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2200" y="5257800"/>
              <a:ext cx="2133720" cy="144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82296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u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5334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776360" y="304920"/>
            <a:ext cx="1094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  <a:ea typeface="隶书"/>
              </a:rPr>
              <a:t>蒲公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71500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297180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早晨六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5715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（花）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（时间）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（怎样开放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CA4TIER3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2819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中午十二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13716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隶书"/>
              </a:rPr>
              <a:t>太阳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5486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（时间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） 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花）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（怎样开放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8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047760"/>
          </a:xfrm>
          <a:prstGeom prst="rect">
            <a:avLst/>
          </a:prstGeom>
          <a:ln w="0">
            <a:noFill/>
          </a:ln>
        </p:spPr>
      </p:pic>
      <p:pic>
        <p:nvPicPr>
          <p:cNvPr id="54" name="gma248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392720" cy="3024000"/>
          </a:xfrm>
          <a:prstGeom prst="rect">
            <a:avLst/>
          </a:prstGeom>
          <a:ln w="0">
            <a:noFill/>
          </a:ln>
        </p:spPr>
      </p:pic>
      <p:pic>
        <p:nvPicPr>
          <p:cNvPr id="55" name="牵牛花" descr=""/>
          <p:cNvPicPr/>
          <p:nvPr/>
        </p:nvPicPr>
        <p:blipFill>
          <a:blip r:embed="rId3"/>
          <a:stretch/>
        </p:blipFill>
        <p:spPr>
          <a:xfrm>
            <a:off x="179280" y="3433680"/>
            <a:ext cx="4248360" cy="3235320"/>
          </a:xfrm>
          <a:prstGeom prst="rect">
            <a:avLst/>
          </a:prstGeom>
          <a:ln w="0">
            <a:noFill/>
          </a:ln>
        </p:spPr>
      </p:pic>
      <p:pic>
        <p:nvPicPr>
          <p:cNvPr id="56" name="ssb02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3927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蔷薇花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3066840"/>
          </a:xfrm>
          <a:prstGeom prst="rect">
            <a:avLst/>
          </a:prstGeom>
          <a:ln w="0">
            <a:noFill/>
          </a:ln>
        </p:spPr>
      </p:pic>
      <p:pic>
        <p:nvPicPr>
          <p:cNvPr id="58" name="睡莲" descr=""/>
          <p:cNvPicPr/>
          <p:nvPr/>
        </p:nvPicPr>
        <p:blipFill>
          <a:blip r:embed="rId2"/>
          <a:stretch/>
        </p:blipFill>
        <p:spPr>
          <a:xfrm>
            <a:off x="4714920" y="18900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昙花" descr=""/>
          <p:cNvPicPr/>
          <p:nvPr/>
        </p:nvPicPr>
        <p:blipFill>
          <a:blip r:embed="rId3"/>
          <a:stretch/>
        </p:blipFill>
        <p:spPr>
          <a:xfrm>
            <a:off x="179280" y="3362400"/>
            <a:ext cx="4248360" cy="3306600"/>
          </a:xfrm>
          <a:prstGeom prst="rect">
            <a:avLst/>
          </a:prstGeom>
          <a:ln w="0">
            <a:noFill/>
          </a:ln>
        </p:spPr>
      </p:pic>
      <p:pic>
        <p:nvPicPr>
          <p:cNvPr id="60" name="万寿菊" descr=""/>
          <p:cNvPicPr/>
          <p:nvPr/>
        </p:nvPicPr>
        <p:blipFill>
          <a:blip r:embed="rId4"/>
          <a:stretch/>
        </p:blipFill>
        <p:spPr>
          <a:xfrm>
            <a:off x="4643280" y="3405240"/>
            <a:ext cx="4321440" cy="32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午时花1" descr=""/>
          <p:cNvPicPr/>
          <p:nvPr/>
        </p:nvPicPr>
        <p:blipFill>
          <a:blip r:embed="rId1"/>
          <a:stretch/>
        </p:blipFill>
        <p:spPr>
          <a:xfrm>
            <a:off x="250920" y="214200"/>
            <a:ext cx="4033800" cy="3214800"/>
          </a:xfrm>
          <a:prstGeom prst="rect">
            <a:avLst/>
          </a:prstGeom>
          <a:ln w="0">
            <a:noFill/>
          </a:ln>
        </p:spPr>
      </p:pic>
      <p:pic>
        <p:nvPicPr>
          <p:cNvPr id="62" name="午时花2" descr=""/>
          <p:cNvPicPr/>
          <p:nvPr/>
        </p:nvPicPr>
        <p:blipFill>
          <a:blip r:embed="rId2"/>
          <a:stretch/>
        </p:blipFill>
        <p:spPr>
          <a:xfrm>
            <a:off x="4572000" y="244440"/>
            <a:ext cx="4340160" cy="3184560"/>
          </a:xfrm>
          <a:prstGeom prst="rect">
            <a:avLst/>
          </a:prstGeom>
          <a:ln w="0">
            <a:noFill/>
          </a:ln>
        </p:spPr>
      </p:pic>
      <p:pic>
        <p:nvPicPr>
          <p:cNvPr id="63" name="烟草花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4033800" cy="3024000"/>
          </a:xfrm>
          <a:prstGeom prst="rect">
            <a:avLst/>
          </a:prstGeom>
          <a:ln w="0">
            <a:noFill/>
          </a:ln>
        </p:spPr>
      </p:pic>
      <p:pic>
        <p:nvPicPr>
          <p:cNvPr id="64" name="夜来香1" descr=""/>
          <p:cNvPicPr/>
          <p:nvPr/>
        </p:nvPicPr>
        <p:blipFill>
          <a:blip r:embed="rId4"/>
          <a:stretch/>
        </p:blipFill>
        <p:spPr>
          <a:xfrm>
            <a:off x="4572000" y="3618000"/>
            <a:ext cx="4321080" cy="30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夜来香2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2663640" cy="3384360"/>
          </a:xfrm>
          <a:prstGeom prst="rect">
            <a:avLst/>
          </a:prstGeom>
          <a:ln w="0">
            <a:noFill/>
          </a:ln>
        </p:spPr>
      </p:pic>
      <p:pic>
        <p:nvPicPr>
          <p:cNvPr id="66" name="月光花" descr=""/>
          <p:cNvPicPr/>
          <p:nvPr/>
        </p:nvPicPr>
        <p:blipFill>
          <a:blip r:embed="rId2"/>
          <a:stretch/>
        </p:blipFill>
        <p:spPr>
          <a:xfrm>
            <a:off x="466560" y="115920"/>
            <a:ext cx="4969080" cy="3146400"/>
          </a:xfrm>
          <a:prstGeom prst="rect">
            <a:avLst/>
          </a:prstGeom>
          <a:ln w="0">
            <a:noFill/>
          </a:ln>
        </p:spPr>
      </p:pic>
      <p:pic>
        <p:nvPicPr>
          <p:cNvPr id="67" name="蒲公英" descr=""/>
          <p:cNvPicPr/>
          <p:nvPr/>
        </p:nvPicPr>
        <p:blipFill>
          <a:blip r:embed="rId3"/>
          <a:stretch/>
        </p:blipFill>
        <p:spPr>
          <a:xfrm>
            <a:off x="466560" y="3357720"/>
            <a:ext cx="4969080" cy="3384360"/>
          </a:xfrm>
          <a:prstGeom prst="rect">
            <a:avLst/>
          </a:prstGeom>
          <a:ln w="0">
            <a:noFill/>
          </a:ln>
        </p:spPr>
      </p:pic>
      <p:pic>
        <p:nvPicPr>
          <p:cNvPr id="68" name="半枝莲1" descr=""/>
          <p:cNvPicPr/>
          <p:nvPr/>
        </p:nvPicPr>
        <p:blipFill>
          <a:blip r:embed="rId4"/>
          <a:stretch/>
        </p:blipFill>
        <p:spPr>
          <a:xfrm>
            <a:off x="5796000" y="115920"/>
            <a:ext cx="266364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82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鲜花朵朵，争奇斗艳，芬芳迷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2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imeiwahuazho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209680" y="1828800"/>
            <a:ext cx="4267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13 </a:t>
            </a: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花钟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5:04:23Z</dcterms:created>
  <dc:creator/>
  <dc:description/>
  <dc:language>en-US</dc:language>
  <cp:lastModifiedBy>微软用户</cp:lastModifiedBy>
  <dcterms:modified xsi:type="dcterms:W3CDTF">2014-07-18T15:04:3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