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chimes.wav" ContentType="audio/x-wav"/>
  <Override PartName="/ppt/media/image29.png" ContentType="image/png"/>
  <Override PartName="/ppt/media/image36.gif" ContentType="image/gif"/>
  <Override PartName="/ppt/media/image16.jpeg" ContentType="image/jpeg"/>
  <Override PartName="/ppt/media/image39.gif" ContentType="image/gif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10.jpeg" ContentType="image/jpeg"/>
  <Override PartName="/ppt/media/image13.jpeg" ContentType="image/jpeg"/>
  <Override PartName="/ppt/media/image5.png" ContentType="image/png"/>
  <Override PartName="/ppt/media/image42.gif" ContentType="image/gif"/>
  <Override PartName="/ppt/media/image6.jpeg" ContentType="image/jpeg"/>
  <Override PartName="/ppt/media/image27.jpeg" ContentType="image/jpeg"/>
  <Override PartName="/ppt/media/image30.gif" ContentType="image/gif"/>
  <Override PartName="/ppt/media/image14.jpeg" ContentType="image/jpeg"/>
  <Override PartName="/ppt/media/image33.gif" ContentType="image/gif"/>
  <Override PartName="/ppt/media/image37.gif" ContentType="image/gif"/>
  <Override PartName="/ppt/media/image38.gif" ContentType="image/gif"/>
  <Override PartName="/ppt/media/image41.gif" ContentType="image/gif"/>
  <Override PartName="/ppt/media/image12.jpeg" ContentType="image/jpeg"/>
  <Override PartName="/ppt/media/image8.png" ContentType="image/png"/>
  <Override PartName="/ppt/media/image45.gif" ContentType="image/gif"/>
  <Override PartName="/ppt/media/camera.wav" ContentType="audio/x-wav"/>
  <Override PartName="/ppt/media/image43.gif" ContentType="image/gif"/>
  <Override PartName="/ppt/media/image44.gif" ContentType="image/gif"/>
  <Override PartName="/ppt/media/image9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11.jpeg" ContentType="image/jpeg"/>
  <Override PartName="/ppt/media/image31.gif" ContentType="image/gif"/>
  <Override PartName="/ppt/media/image34.gif" ContentType="image/gif"/>
  <Override PartName="/ppt/media/image4.gif" ContentType="image/gif"/>
  <Override PartName="/ppt/media/image22.jpeg" ContentType="image/jpeg"/>
  <Override PartName="/ppt/media/image40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B03-6A82-4EBD-B058-2F0FCD24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1E5-BBA1-485F-9DC7-C13F5E1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1AE-D53F-45B8-8FCE-6159B9DB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FD7-F9F8-4E97-BE40-E6204507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7D0-41D7-4D4D-85AD-E0AE8CAF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A3F-9024-4648-BA94-C206081E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CB9-CCE4-4CBB-B129-D646AD4D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53A-9202-45B1-A004-C2DF1CCA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221-8CFB-4D14-9943-59BF7A2F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8BA-49CB-40BC-AF92-8B64EA3A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6E2-BE3D-4CE5-835F-E4E6B48E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1DE-E566-4CB2-B959-829FE73F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9B3A-C2F3-4F3D-9EF6-559BEB7546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image" Target="../media/image2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jpeg"/><Relationship Id="rId3" Type="http://schemas.openxmlformats.org/officeDocument/2006/relationships/image" Target="../media/image25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image" Target="../media/image1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1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16.xml"/><Relationship Id="rId3" Type="http://schemas.openxmlformats.org/officeDocument/2006/relationships/image" Target="../media/image30.gif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image" Target="../media/image39.gif"/><Relationship Id="rId10" Type="http://schemas.openxmlformats.org/officeDocument/2006/relationships/image" Target="../media/image40.gif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gif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484280"/>
            <a:ext cx="5214960" cy="253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上课啦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cc"/>
                </a:solidFill>
                <a:latin typeface="Times New Roman"/>
              </a:rPr>
              <a:t>日内瓦花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世界上最早发明、最著名的日内瓦大花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个季节装点不同的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约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盆。花钟是（瑞士）日内瓦著名景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6985080" cy="299268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028000" y="59500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26028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凌晨四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牵牛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吹起了紫色的小喇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7840" y="533520"/>
            <a:ext cx="1643400" cy="5410080"/>
          </a:xfrm>
          <a:prstGeom prst="rect">
            <a:avLst/>
          </a:prstGeom>
          <a:solidFill>
            <a:srgbClr val="ffff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点左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艳丽的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蔷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绽开了笑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533520"/>
            <a:ext cx="6400800" cy="825120"/>
          </a:xfrm>
          <a:prstGeom prst="rect">
            <a:avLst/>
          </a:prstGeom>
          <a:solidFill>
            <a:srgbClr val="ffff99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七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睡莲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梦中醒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0" y="304920"/>
            <a:ext cx="4248000" cy="1526400"/>
          </a:xfrm>
          <a:prstGeom prst="rect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中午十二点左右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午时花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开花了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内容占位符 3" descr="万寿菊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189000"/>
            <a:ext cx="76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午三点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万寿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欣然怒放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285264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傍晚六点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烟草花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zh-CN" sz="4000" spc="-1" strike="noStrike">
                <a:solidFill>
                  <a:srgbClr val="6666ff"/>
                </a:solidFill>
                <a:latin typeface="黑体"/>
                <a:ea typeface="黑体"/>
              </a:rPr>
              <a:t>暮色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苏醒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月光花</a:t>
            </a: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七点左右舒展开自己的花瓣</a:t>
            </a: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59640" y="333360"/>
            <a:ext cx="24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华文新魏"/>
              </a:rPr>
              <a:t>夜来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6660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12000" y="189000"/>
            <a:ext cx="29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夜来香</a:t>
            </a:r>
            <a:r>
              <a:rPr b="1" lang="zh-CN" sz="4000" spc="-1" strike="noStrike">
                <a:solidFill>
                  <a:srgbClr val="ff9933"/>
                </a:solidFill>
                <a:latin typeface="黑体"/>
                <a:ea typeface="黑体"/>
              </a:rPr>
              <a:t>在晚上八点开花</a:t>
            </a:r>
            <a:r>
              <a:rPr b="1" lang="zh-CN" sz="4000" spc="-1" strike="noStrike">
                <a:solidFill>
                  <a:srgbClr val="ff9933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80200" y="152280"/>
            <a:ext cx="91152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昙花却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在九点左右含笑一现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311640" cy="33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80000" y="907920"/>
            <a:ext cx="619272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匹马儿三条腿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日夜奔忙不停歇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马蹄嗒嗒提醒你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爱惜时间不浪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284640"/>
            <a:ext cx="302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钟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600200" y="609480"/>
            <a:ext cx="5409720" cy="5486400"/>
            <a:chOff x="1600200" y="609480"/>
            <a:chExt cx="5409720" cy="5486400"/>
          </a:xfrm>
        </p:grpSpPr>
        <p:sp>
          <p:nvSpPr>
            <p:cNvPr id="102" name=""/>
            <p:cNvSpPr/>
            <p:nvPr/>
          </p:nvSpPr>
          <p:spPr>
            <a:xfrm>
              <a:off x="1600200" y="609480"/>
              <a:ext cx="5257440" cy="5257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5840" y="609480"/>
              <a:ext cx="73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48040" y="938160"/>
              <a:ext cx="799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24480" y="2971800"/>
              <a:ext cx="6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89440" y="5181480"/>
              <a:ext cx="789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0200" y="28954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7080" y="3200400"/>
              <a:ext cx="19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267080" y="2057040"/>
              <a:ext cx="304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914400" cy="853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1230480" cy="733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5334120"/>
            <a:ext cx="990360" cy="742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57800" y="5105520"/>
            <a:ext cx="990720" cy="742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505320" y="-152280"/>
            <a:ext cx="1346040" cy="898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219320" y="4267080"/>
            <a:ext cx="990360" cy="970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304920" y="2819520"/>
            <a:ext cx="1341360" cy="1006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809880" y="5770440"/>
            <a:ext cx="1087560" cy="1087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828800" y="5105520"/>
            <a:ext cx="1066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0200" y="3429000"/>
            <a:ext cx="9164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凌晨四点，牵牛花吹起了紫色的小喇叭；五点左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艳丽的蔷薇绽开了笑脸；七点，睡莲从梦中醒来；中午十二点左右，午时花开花了；下午三点，万寿菊欣然怒放；傍晚六点，烟草花在暮色中苏醒；月光花在七点左右舒展开自己的花瓣；夜来香在晚上八点开花；昙花却在九点左右含笑一现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7480" y="71280"/>
            <a:ext cx="89978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凌晨四点，牵牛花开了；五点左右，蔷薇开了；七点，睡莲开了；中午十二点左右，午时花开了；下午三点，万寿菊开了；傍晚六点，烟草花开了；月光花在七点左右开花；夜来香在晚上八点左右开花；昙花却在九点左右开放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569080" cy="777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8720" y="2565360"/>
            <a:ext cx="39528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92360" y="3500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吹起了紫色的小喇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080" y="4005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艳丽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400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绽开了笑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400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梦中醒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4508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欣然怒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50706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暮色中苏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200" y="55738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开自己的花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60786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含笑一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2328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53440" y="50706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舒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9280" y="1413000"/>
            <a:ext cx="8496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牵牛花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吹起了紫色的小喇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蔷薇</a:t>
            </a:r>
            <a:r>
              <a:rPr b="1" lang="zh-CN" sz="4800" spc="-1" strike="noStrike">
                <a:solidFill>
                  <a:srgbClr val="00ffff"/>
                </a:solidFill>
                <a:latin typeface="Arial"/>
              </a:rPr>
              <a:t>绽开了笑脸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睡莲</a:t>
            </a:r>
            <a:r>
              <a:rPr b="1" lang="zh-CN" sz="4800" spc="-1" strike="noStrike">
                <a:solidFill>
                  <a:srgbClr val="ff99ff"/>
                </a:solidFill>
                <a:latin typeface="Arial"/>
              </a:rPr>
              <a:t>从梦中醒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万寿菊</a:t>
            </a:r>
            <a:r>
              <a:rPr b="1" lang="zh-CN" sz="4800" spc="-1" strike="noStrike">
                <a:solidFill>
                  <a:srgbClr val="ff9933"/>
                </a:solidFill>
                <a:latin typeface="Arial"/>
              </a:rPr>
              <a:t>欣然怒放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烟草花</a:t>
            </a:r>
            <a:r>
              <a:rPr b="1" lang="zh-CN" sz="4800" spc="-1" strike="noStrike">
                <a:solidFill>
                  <a:srgbClr val="33ccff"/>
                </a:solidFill>
                <a:latin typeface="Arial"/>
              </a:rPr>
              <a:t>在暮色中苏醒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光花</a:t>
            </a: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舒展开自己的花瓣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昙花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含笑一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47628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用不同的说法来表达鲜花的开放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784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43828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952880" y="3808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45360" y="0"/>
            <a:ext cx="1474920" cy="190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4520" y="4419720"/>
            <a:ext cx="118908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371600" y="5029200"/>
            <a:ext cx="1325520" cy="1165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3124080" y="5181480"/>
            <a:ext cx="1219320" cy="115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4952880" y="5181480"/>
            <a:ext cx="1069920" cy="1123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632448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7467480" y="4876920"/>
            <a:ext cx="1312920" cy="1439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220500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同的植物为什么开花的时间不同呢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8000" y="189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不同的植物开花时间不同的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两个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原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523880" cy="1320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19162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、开花时间与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温度、湿度、光照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有关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、开花时间与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昆虫的活动时间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有关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556272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00400" y="5486400"/>
            <a:ext cx="1447920" cy="1012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10526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节课我们欣赏了瑞士“花园之国”的花钟，这是我们植物学家别出心裁的杰作，只要看到什么花刚刚开放，就大致知道是几点钟。其实大自然中还有很多的奥秘，只要我们善于观察，勤于思考，一定会有更多的发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187280" y="620640"/>
            <a:ext cx="1828800" cy="933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：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6000" y="3068640"/>
            <a:ext cx="658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花园里，不同季节的鲜花开放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春天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夏天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秋天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冬天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8720" y="1989000"/>
            <a:ext cx="15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你也来试一试，用不同的表达方法来说“花开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2680"/>
            <a:ext cx="2438280" cy="2130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34320" y="27000"/>
            <a:ext cx="2209680" cy="213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57600" y="0"/>
            <a:ext cx="2022480" cy="2754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54200" y="1981080"/>
            <a:ext cx="334800" cy="4648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8001000" y="1905120"/>
            <a:ext cx="334800" cy="4647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21480000">
            <a:off x="609120" y="3581280"/>
            <a:ext cx="7007400" cy="22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cc"/>
                    </a:gs>
                    <a:gs pos="50000">
                      <a:srgbClr val="755e5e"/>
                    </a:gs>
                    <a:gs pos="100000">
                      <a:srgbClr val="ffcccc"/>
                    </a:gs>
                  </a:gsLst>
                  <a:lin ang="5400000"/>
                </a:gradFill>
                <a:latin typeface="宋体"/>
              </a:rPr>
              <a:t>13    </a:t>
            </a: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cc"/>
                    </a:gs>
                    <a:gs pos="50000">
                      <a:srgbClr val="755e5e"/>
                    </a:gs>
                    <a:gs pos="100000">
                      <a:srgbClr val="ffcccc"/>
                    </a:gs>
                  </a:gsLst>
                  <a:lin ang="5400000"/>
                </a:gradFill>
                <a:latin typeface="宋体"/>
              </a:rPr>
              <a:t>花  钟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cc"/>
                  </a:gs>
                  <a:gs pos="50000">
                    <a:srgbClr val="755e5e"/>
                  </a:gs>
                  <a:gs pos="100000">
                    <a:srgbClr val="ffcc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62485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幻灯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27280" y="549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一位植物学家曾有意把不同时间开放的花种在一起，把花圃修建得像钟一样，组成花的“时钟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21337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些花在二十四小时内陆续开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2781360"/>
            <a:ext cx="59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你只要看看什么花刚刚开放，就知道大致是几点钟，这是不是很有趣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2781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刚刚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3284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大致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8101080" y="623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635280" y="1413000"/>
            <a:ext cx="4826160" cy="10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隶书"/>
              </a:rPr>
              <a:t>花钟</a:t>
            </a:r>
            <a:endParaRPr b="0" i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502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500720" y="3500280"/>
            <a:ext cx="46432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3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141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284720" y="3068640"/>
            <a:ext cx="4859280" cy="3789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157560"/>
            <a:ext cx="43560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7400" y="2286000"/>
            <a:ext cx="4800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鲜花朵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争奇斗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芬芳迷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07732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15:01:21Z</dcterms:created>
  <dc:creator>Billgates</dc:creator>
  <dc:description/>
  <dc:language>en-US</dc:language>
  <cp:lastModifiedBy>微软系统</cp:lastModifiedBy>
  <dcterms:modified xsi:type="dcterms:W3CDTF">2012-10-09T09:24:34Z</dcterms:modified>
  <cp:revision>22</cp:revision>
  <dc:subject/>
  <dc:title>PowerPoint 演示文稿</dc:title>
</cp:coreProperties>
</file>