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CD9-08E7-4E78-B357-8C205ADD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FF8-B87E-4C93-B244-CA8F6B81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0B0-B481-4930-8544-D169CD4B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0E9-51AB-4DDE-AB89-A3FE7D62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F96-6029-4F88-BA7A-71E6AA12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0F3-AFAF-4AE5-9E57-75FD6A14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12B-335E-4955-AB48-0ACC54C5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DBB-5187-42AA-A050-C687F750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BB5-299B-41AC-80CD-0B1894C3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51C-5228-438F-A54A-50EC762A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CAB-5B0D-4E39-8CD7-096BC2AF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874-CCE9-4ECB-A18F-12068B7A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0124-E7BC-45C8-9B10-C35AE24017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gif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gif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476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人教版语文  三年级上册  第二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58920" y="155736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只胸脯是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粉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，一只胸脯是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深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。它们在树枝间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来回跳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婉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歌唱，非常惹人喜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57800" y="1619280"/>
            <a:ext cx="49266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默读课文边读边用“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画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表现列宁喜爱灰雀的句子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词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13280" y="476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03280" y="90792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列宁每次走到白桦树下，都要停下来，仰望这三只欢快的灰雀，经常给它们带来面包渣和谷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03280" y="90792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列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每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走到白桦树下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都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停下来，仰望这三只欢快的灰雀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经常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给它们带来面包渣和谷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61120" y="765000"/>
            <a:ext cx="5968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 ，列宁又来到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到白桦树下，发现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胸脯深红的灰雀不见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周围的树林中找遍了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没有找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72608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0000" y="47260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6560" y="620640"/>
            <a:ext cx="79218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时，列宁看见一个小男孩，就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孩子，你看见过一只深红色胸脯的灰雀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一定是飞走了或者是冻死了。天气严寒，它怕冷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自言自语地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多好的灰雀呀，可惜再也飞不回来了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会飞回来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1125360"/>
            <a:ext cx="5977080" cy="3816360"/>
          </a:xfrm>
          <a:prstGeom prst="cloudCallout">
            <a:avLst>
              <a:gd name="adj1" fmla="val -39939"/>
              <a:gd name="adj2" fmla="val 79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四处找遍了也不见鸟儿的踪影，这时列宁说的每一句话都包含着什么样的心情呢？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再读，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6560" y="620640"/>
            <a:ext cx="79218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时，列宁看见一个小男孩，就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孩子，你看见过一只深红色胸脯的灰雀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一定是飞走了或者是冻死了。天气严寒，它怕冷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自言自语地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多好的灰雀呀，可惜再也飞不回来了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会飞回来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28800" y="1981080"/>
            <a:ext cx="5715000" cy="2667240"/>
          </a:xfrm>
          <a:prstGeom prst="cloudCallout">
            <a:avLst>
              <a:gd name="adj1" fmla="val -24500"/>
              <a:gd name="adj2" fmla="val 89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明的孩子，有谁知道灰雀到底去了哪里了？你从课文哪儿看出来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197000"/>
            <a:ext cx="82105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男孩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“没……我没看见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男孩看着列宁，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“会飞回来的，一定会飞回来的。它还活着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定会飞回来！”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男孩肯定地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680000">
            <a:off x="1584360" y="4528800"/>
            <a:ext cx="5324400" cy="178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4797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时候，小男孩在想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126828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，列宁来到白桦树下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看到那只灰雀欢蹦乱跳地在枝头歌唱。那个男孩站在白桦树旁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着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看看男孩，又看看灰雀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说：“你好！灰雀，昨天你到哪儿去了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，灰雀没有告诉列宁昨天它去哪儿了。列宁也没再问那个男孩，因为他已经知道男孩是诚实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7691" t="4639" r="6209" b="14273"/>
          <a:stretch/>
        </p:blipFill>
        <p:spPr>
          <a:xfrm>
            <a:off x="5508720" y="3483000"/>
            <a:ext cx="3635280" cy="337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234936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一开始就说了谎话，为什么还说他是个诚实的孩子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549360"/>
            <a:ext cx="482616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7650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最聪明，我知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836640"/>
            <a:ext cx="8785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桦树    胸脯   婉转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包渣    仰望   谷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诚实      肯定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郊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或者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蹦乱跳  惹人喜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208160"/>
            <a:ext cx="4267080" cy="806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列宁（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870-1924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）是全世界无产阶级的革命导师和领袖，马克思主义理论家，俄国共产党和苏维埃社会主义共和国的主要创建人。他出生在俄国伏尔加河边的辛比尔斯克。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924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日，因脑溢血去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liening4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1700280"/>
            <a:ext cx="88200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练习分角色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收集列宁或其他名人的故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读一读，开展讲故事比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41600" y="40464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课下作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27280" y="2565360"/>
            <a:ext cx="5327640" cy="23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009800"/>
            <a:ext cx="91440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 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胸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包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渣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仰望   谷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诚实     肯定    郊外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惹人喜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欢蹦乱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-171360"/>
            <a:ext cx="9144000" cy="6858000"/>
            <a:chOff x="0" y="-171360"/>
            <a:chExt cx="9144000" cy="6858000"/>
          </a:xfrm>
        </p:grpSpPr>
        <p:grpSp>
          <p:nvGrpSpPr>
            <p:cNvPr id="48" name="Group 3"/>
            <p:cNvGrpSpPr/>
            <p:nvPr/>
          </p:nvGrpSpPr>
          <p:grpSpPr>
            <a:xfrm>
              <a:off x="0" y="-171360"/>
              <a:ext cx="1292400" cy="6858000"/>
              <a:chOff x="0" y="-171360"/>
              <a:chExt cx="1292400" cy="6858000"/>
            </a:xfrm>
          </p:grpSpPr>
          <p:pic>
            <p:nvPicPr>
              <p:cNvPr id="49" name="Picture 4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-1713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Picture 5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8193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180972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7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280044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8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3791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9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478152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10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0" y="5635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" name="Group 11"/>
            <p:cNvGrpSpPr/>
            <p:nvPr/>
          </p:nvGrpSpPr>
          <p:grpSpPr>
            <a:xfrm>
              <a:off x="7851600" y="-171360"/>
              <a:ext cx="1292400" cy="6858000"/>
              <a:chOff x="7851600" y="-171360"/>
              <a:chExt cx="1292400" cy="6858000"/>
            </a:xfrm>
          </p:grpSpPr>
          <p:pic>
            <p:nvPicPr>
              <p:cNvPr id="57" name="Picture 12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-1713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13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8193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4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180972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5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280044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6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3791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7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478152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18" descr="8HANA1"/>
              <p:cNvPicPr/>
              <p:nvPr/>
            </p:nvPicPr>
            <p:blipFill>
              <a:blip r:embed="rId15"/>
              <a:stretch/>
            </p:blipFill>
            <p:spPr>
              <a:xfrm>
                <a:off x="7851600" y="5635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4" name="Picture 19" descr="8HANA1"/>
            <p:cNvPicPr/>
            <p:nvPr/>
          </p:nvPicPr>
          <p:blipFill>
            <a:blip r:embed="rId16"/>
            <a:stretch/>
          </p:blipFill>
          <p:spPr>
            <a:xfrm>
              <a:off x="1219320" y="563580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0" descr="8HANA1"/>
            <p:cNvPicPr/>
            <p:nvPr/>
          </p:nvPicPr>
          <p:blipFill>
            <a:blip r:embed="rId17"/>
            <a:stretch/>
          </p:blipFill>
          <p:spPr>
            <a:xfrm>
              <a:off x="2514600" y="563580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1" descr="8HANA1"/>
            <p:cNvPicPr/>
            <p:nvPr/>
          </p:nvPicPr>
          <p:blipFill>
            <a:blip r:embed="rId18"/>
            <a:stretch/>
          </p:blipFill>
          <p:spPr>
            <a:xfrm>
              <a:off x="3733920" y="563580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2" descr="8HANA1"/>
            <p:cNvPicPr/>
            <p:nvPr/>
          </p:nvPicPr>
          <p:blipFill>
            <a:blip r:embed="rId19"/>
            <a:stretch/>
          </p:blipFill>
          <p:spPr>
            <a:xfrm>
              <a:off x="4952880" y="563580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3" descr="8HANA1"/>
            <p:cNvPicPr/>
            <p:nvPr/>
          </p:nvPicPr>
          <p:blipFill>
            <a:blip r:embed="rId20"/>
            <a:stretch/>
          </p:blipFill>
          <p:spPr>
            <a:xfrm>
              <a:off x="6172200" y="563580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4" descr="8HANA1"/>
            <p:cNvPicPr/>
            <p:nvPr/>
          </p:nvPicPr>
          <p:blipFill>
            <a:blip r:embed="rId21"/>
            <a:stretch/>
          </p:blipFill>
          <p:spPr>
            <a:xfrm>
              <a:off x="2438280" y="-1713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5" descr="8HANA1"/>
            <p:cNvPicPr/>
            <p:nvPr/>
          </p:nvPicPr>
          <p:blipFill>
            <a:blip r:embed="rId22"/>
            <a:stretch/>
          </p:blipFill>
          <p:spPr>
            <a:xfrm>
              <a:off x="1219320" y="-1713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6" descr="8HANA1"/>
            <p:cNvPicPr/>
            <p:nvPr/>
          </p:nvPicPr>
          <p:blipFill>
            <a:blip r:embed="rId23"/>
            <a:stretch/>
          </p:blipFill>
          <p:spPr>
            <a:xfrm>
              <a:off x="7238880" y="-1713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7" descr="8HANA1"/>
            <p:cNvPicPr/>
            <p:nvPr/>
          </p:nvPicPr>
          <p:blipFill>
            <a:blip r:embed="rId24"/>
            <a:stretch/>
          </p:blipFill>
          <p:spPr>
            <a:xfrm>
              <a:off x="3657600" y="-1713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8" descr="8HANA1"/>
            <p:cNvPicPr/>
            <p:nvPr/>
          </p:nvPicPr>
          <p:blipFill>
            <a:blip r:embed="rId25"/>
            <a:stretch/>
          </p:blipFill>
          <p:spPr>
            <a:xfrm>
              <a:off x="4876920" y="-1713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9" descr="8HANA1"/>
            <p:cNvPicPr/>
            <p:nvPr/>
          </p:nvPicPr>
          <p:blipFill>
            <a:blip r:embed="rId26"/>
            <a:stretch/>
          </p:blipFill>
          <p:spPr>
            <a:xfrm>
              <a:off x="6095880" y="-1713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0" descr="8HANA1"/>
            <p:cNvPicPr/>
            <p:nvPr/>
          </p:nvPicPr>
          <p:blipFill>
            <a:blip r:embed="rId27"/>
            <a:stretch/>
          </p:blipFill>
          <p:spPr>
            <a:xfrm>
              <a:off x="7315200" y="563580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31" descr="book9"/>
          <p:cNvPicPr/>
          <p:nvPr/>
        </p:nvPicPr>
        <p:blipFill>
          <a:blip r:embed="rId28"/>
          <a:stretch/>
        </p:blipFill>
        <p:spPr>
          <a:xfrm>
            <a:off x="685800" y="304920"/>
            <a:ext cx="1523880" cy="1261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2"/>
          <p:cNvSpPr/>
          <p:nvPr/>
        </p:nvSpPr>
        <p:spPr>
          <a:xfrm>
            <a:off x="2058840" y="68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华文琥珀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1700280"/>
            <a:ext cx="749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郊    散    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脯    渣    低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敢    惜    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0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81" name="Picture 4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5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6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7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8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9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10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89" name="Picture 12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13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14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6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7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8" descr="8HANA1"/>
              <p:cNvPicPr/>
              <p:nvPr/>
            </p:nvPicPr>
            <p:blipFill>
              <a:blip r:embed="rId15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6" name="Picture 19" descr="8HANA1"/>
            <p:cNvPicPr/>
            <p:nvPr/>
          </p:nvPicPr>
          <p:blipFill>
            <a:blip r:embed="rId16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20" descr="8HANA1"/>
            <p:cNvPicPr/>
            <p:nvPr/>
          </p:nvPicPr>
          <p:blipFill>
            <a:blip r:embed="rId17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1" descr="8HANA1"/>
            <p:cNvPicPr/>
            <p:nvPr/>
          </p:nvPicPr>
          <p:blipFill>
            <a:blip r:embed="rId18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2" descr="8HANA1"/>
            <p:cNvPicPr/>
            <p:nvPr/>
          </p:nvPicPr>
          <p:blipFill>
            <a:blip r:embed="rId19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3" descr="8HANA1"/>
            <p:cNvPicPr/>
            <p:nvPr/>
          </p:nvPicPr>
          <p:blipFill>
            <a:blip r:embed="rId20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4" descr="8HANA1"/>
            <p:cNvPicPr/>
            <p:nvPr/>
          </p:nvPicPr>
          <p:blipFill>
            <a:blip r:embed="rId21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5" descr="8HANA1"/>
            <p:cNvPicPr/>
            <p:nvPr/>
          </p:nvPicPr>
          <p:blipFill>
            <a:blip r:embed="rId22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6" descr="8HANA1"/>
            <p:cNvPicPr/>
            <p:nvPr/>
          </p:nvPicPr>
          <p:blipFill>
            <a:blip r:embed="rId23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7" descr="8HANA1"/>
            <p:cNvPicPr/>
            <p:nvPr/>
          </p:nvPicPr>
          <p:blipFill>
            <a:blip r:embed="rId24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8" descr="8HANA1"/>
            <p:cNvPicPr/>
            <p:nvPr/>
          </p:nvPicPr>
          <p:blipFill>
            <a:blip r:embed="rId25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9" descr="8HANA1"/>
            <p:cNvPicPr/>
            <p:nvPr/>
          </p:nvPicPr>
          <p:blipFill>
            <a:blip r:embed="rId26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30" descr="8HANA1"/>
            <p:cNvPicPr/>
            <p:nvPr/>
          </p:nvPicPr>
          <p:blipFill>
            <a:blip r:embed="rId27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31" descr="book9"/>
          <p:cNvPicPr/>
          <p:nvPr/>
        </p:nvPicPr>
        <p:blipFill>
          <a:blip r:embed="rId28"/>
          <a:stretch/>
        </p:blipFill>
        <p:spPr>
          <a:xfrm>
            <a:off x="685800" y="304920"/>
            <a:ext cx="1523880" cy="1261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2"/>
          <p:cNvSpPr/>
          <p:nvPr/>
        </p:nvSpPr>
        <p:spPr>
          <a:xfrm>
            <a:off x="2058840" y="68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Calibri"/>
                <a:ea typeface="华文琥珀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57400" y="1295280"/>
          <a:ext cx="4952880" cy="447048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44"/>
          <p:cNvSpPr/>
          <p:nvPr/>
        </p:nvSpPr>
        <p:spPr>
          <a:xfrm>
            <a:off x="3373560" y="12924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Calibri"/>
                <a:ea typeface="楷体_GB2312"/>
              </a:rPr>
              <a:t>惜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19162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朗读课文，注意读准字音读通句子，思考：课文讲了一件什么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00"/>
                </a:solidFill>
                <a:latin typeface="Arial"/>
                <a:ea typeface="楷体_GB2312"/>
              </a:rPr>
              <a:t>我知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60960" y="2308320"/>
            <a:ext cx="613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课文讲述的是（      ）、（      ）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）之间的故事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2276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列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7720" y="227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男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20160" y="302904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灰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rcRect l="102" t="3556" r="0" b="0"/>
          <a:stretch/>
        </p:blipFill>
        <p:spPr>
          <a:xfrm>
            <a:off x="250920" y="0"/>
            <a:ext cx="4105080" cy="4076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219640" y="333360"/>
            <a:ext cx="3313080" cy="345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846520" y="443700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轻声读课文第一段用“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—”画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描写灰雀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155736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只胸脯是粉红的，一只胸脯是深红的。它们在树枝间来回跳动，婉转地歌唱，非常惹人喜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49:08Z</dcterms:created>
  <dc:creator>微软用户</dc:creator>
  <dc:description/>
  <dc:language>en-US</dc:language>
  <cp:lastModifiedBy>Administrator</cp:lastModifiedBy>
  <dcterms:modified xsi:type="dcterms:W3CDTF">2016-06-12T06:40:29Z</dcterms:modified>
  <cp:revision>51</cp:revision>
  <dc:subject/>
  <dc:title>幻灯片 1</dc:title>
</cp:coreProperties>
</file>