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13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639-A0A6-47B0-A134-B1CCFEFD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C39-B392-4613-B86A-7D40940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7BC-7020-4700-87C2-50636E60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1BF-A515-4B9F-B009-DCBC083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F3C-E6C0-409D-819C-3191EDC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5F3-6445-4356-B024-8CD22051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DD2-46C1-4AA1-B638-6155BA63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72C-49D9-4470-96E9-E1DC7E1C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FA7-D673-4979-BCB2-C62AB59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033-5FF0-44DE-AD09-98FFF6F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918-ED87-4488-8223-7B34A93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468-F138-409A-9421-69EA29D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8585-F25F-48CD-8617-8112E3207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2" t="3556" r="0" b="0"/>
          <a:stretch/>
        </p:blipFill>
        <p:spPr>
          <a:xfrm>
            <a:off x="250920" y="260280"/>
            <a:ext cx="4510080" cy="640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737080" cy="263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4081320" cy="219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2000" y="1341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时，列宁看见一个小男孩，就问：“孩子，你看见过一只深红胸脯的灰雀吗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32000" y="1341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时，列宁看见一个小男孩，就（　　　）地问：“孩子，你看见过一只深红胸脯的灰雀吗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148428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列宁说：“一定是飞走了或者是冻死了。天气严寒，它怕冷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59280" y="3789360"/>
          <a:ext cx="2952720" cy="2214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3789360"/>
                    <a:ext cx="29527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9280" y="141300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列宁自言自语地说：“多好的灰雀呀，可惜再也飞不回来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24360" y="4005360"/>
          <a:ext cx="2274840" cy="1706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005360"/>
                    <a:ext cx="227484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47640" y="1484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列宁问：“会飞回来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71640" y="2781360"/>
          <a:ext cx="3167280" cy="2376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781360"/>
                    <a:ext cx="31672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42920" y="134136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981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男孩说；“没……没看见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-2366" t="3831" r="0" b="0"/>
          <a:stretch/>
        </p:blipFill>
        <p:spPr>
          <a:xfrm>
            <a:off x="2627280" y="1989000"/>
            <a:ext cx="3086280" cy="358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03280" y="1484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男孩看看列宁，说：“会飞回来的，一定会飞回来的。它还活着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19640" y="4005360"/>
          <a:ext cx="2523960" cy="18986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005360"/>
                    <a:ext cx="252396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7640" y="14842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定会飞回来的！”男孩肯定地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29988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2622600" cy="178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4000" y="134136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灰   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4081320" cy="219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人教新课标三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76500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树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胸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面包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渣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诚实     肯定    欢蹦乱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郊外    惹人喜爱     或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1557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只胸脯是粉红的，一只胸脯是深红的。它们在树枝间来回跳动，婉转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1557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，一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深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。它们在树枝间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来回跳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婉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0792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列宁每次走到白桦树下，都要停下来，仰望这三只欢快的灰雀，经常给它们带来面包渣和谷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03280" y="90792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列宁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每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走到白桦树下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都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停下来，仰望这三只欢快的灰雀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经常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给它们带来面包渣和谷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1916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讲了一件什么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76500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白桦树    胸脯   婉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面包渣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诚实     肯定    欢蹦乱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郊外    惹人喜爱     或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49:08Z</dcterms:created>
  <dc:creator>微软用户</dc:creator>
  <dc:description/>
  <dc:language>en-US</dc:language>
  <cp:lastModifiedBy>雨林木风</cp:lastModifiedBy>
  <dcterms:modified xsi:type="dcterms:W3CDTF">2010-08-10T03:52:15Z</dcterms:modified>
  <cp:revision>18</cp:revision>
  <dc:subject/>
  <dc:title>幻灯片 1</dc:title>
</cp:coreProperties>
</file>