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7.gif" ContentType="image/gif"/>
  <Override PartName="/ppt/media/image13.png" ContentType="image/png"/>
  <Override PartName="/ppt/media/cashreg.wav" ContentType="audio/x-wav"/>
  <Override PartName="/ppt/media/image11.jpeg" ContentType="image/jpeg"/>
  <Override PartName="/ppt/media/image6.jpeg" ContentType="image/jpeg"/>
  <Override PartName="/ppt/media/image10.png" ContentType="image/png"/>
  <Override PartName="/ppt/media/image9.png" ContentType="image/png"/>
  <Override PartName="/ppt/media/image5.gif" ContentType="image/gif"/>
  <Override PartName="/ppt/media/image8.jpeg" ContentType="image/jpeg"/>
  <Override PartName="/ppt/media/image2.gif" ContentType="image/gif"/>
  <Override PartName="/ppt/media/image4.png" ContentType="image/png"/>
  <Override PartName="/ppt/media/projctor.wav" ContentType="audio/x-wav"/>
  <Override PartName="/ppt/media/image21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15.gif" ContentType="image/gif"/>
  <Override PartName="/ppt/media/image14.gif" ContentType="image/gif"/>
  <Override PartName="/ppt/media/image22.png" ContentType="image/png"/>
  <Override PartName="/ppt/media/image17.gif" ContentType="image/gif"/>
  <Override PartName="/ppt/media/camera.wav" ContentType="audio/x-wav"/>
  <Override PartName="/ppt/media/chimes.wav" ContentType="audio/x-wav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C06-B460-41FE-A200-F2E75489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258-4BC9-4D4F-B199-63452006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77C-F887-46EF-9A2F-7E588633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973-76E7-48BA-81BE-B6B13D25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E150-25F9-4D79-B848-0179B402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B5D0-6B9B-4399-9A65-E22B7E39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88F6-2F47-4634-90DF-9D8F1864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050C-1E69-494D-B431-3D8294B3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17D9-55A8-45B3-B46C-1636E931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C066-11F5-4D6E-BA72-326E43C0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A512-D6A7-42D6-B321-6156C0CC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EFA-E13F-46AD-8529-D4935B01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009D-5232-4289-8E38-DF677EC9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4E35-A737-4FEE-8FDE-662C3AB0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2210-D4B2-4D64-A621-4BEC5B7B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A7DF-1336-4975-9E71-A1E16D0A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33B6-EDF0-4CF0-B9F8-2E7FC0C9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29E-6E77-478D-B103-DFC44D76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926-EF63-403B-92E5-0C7FC12A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084-87AA-41E2-B506-E421CF30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B29-1195-42A5-9F2F-9E5DA034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B8B-D504-4670-9281-14A0FC9B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F14-609D-4647-8DDC-B5030B3C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CD6-AA80-45C2-B0F8-3D0F17DC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1DAD-0026-4E8A-A90E-FB5A465104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079-9FA2-45D9-BF27-E6615AF6F09F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9.gif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0.gif"/><Relationship Id="rId3" Type="http://schemas.openxmlformats.org/officeDocument/2006/relationships/audio" Target="../media/projctor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okejian.com/soft/174/list174_1.html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hyperlink" Target="Documents%20and%20Settings%5Cly%5CLocal%20Settings%5CTemporary%20Internet%20Files%5CContent.IE5%5C0L27G96N%5C&#28784;&#38592;.exe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Documents%20and%20Settings%5Cly%5CLocal%20Settings%5CTemporary%20Internet%20Files%5CContent.IE5%5C0L27G96N%5C&#28784;&#38592;1%5C&#28784;&#38592;%5C&#38382;&#39064;&#19968;.swf" TargetMode="External"/><Relationship Id="rId2" Type="http://schemas.openxmlformats.org/officeDocument/2006/relationships/image" Target="../media/image14.gi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Documents%20and%20Settings%5Cly%5CLocal%20Settings%5CTemporary%20Internet%20Files%5CContent.IE5%5C0L27G96N%5C&#28784;&#38592;.exe" TargetMode="Externa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5601"/>
          <p:cNvSpPr txBox="1"/>
          <p:nvPr/>
        </p:nvSpPr>
        <p:spPr>
          <a:xfrm>
            <a:off x="1981080" y="914400"/>
            <a:ext cx="4800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灰雀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25602"/>
          <p:cNvSpPr/>
          <p:nvPr/>
        </p:nvSpPr>
        <p:spPr>
          <a:xfrm>
            <a:off x="1711440" y="5159520"/>
            <a:ext cx="4911480" cy="825120"/>
          </a:xfrm>
          <a:prstGeom prst="rect">
            <a:avLst/>
          </a:prstGeom>
          <a:solidFill>
            <a:srgbClr val="daca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ww.downcc.com</a:t>
            </a:r>
            <a:endParaRPr b="1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4" name="图片 25603" descr="BOUNCHOM"/>
          <p:cNvPicPr/>
          <p:nvPr/>
        </p:nvPicPr>
        <p:blipFill>
          <a:blip r:embed="rId1"/>
          <a:stretch/>
        </p:blipFill>
        <p:spPr>
          <a:xfrm>
            <a:off x="3200400" y="3200400"/>
            <a:ext cx="2438280" cy="1501920"/>
          </a:xfrm>
          <a:prstGeom prst="rect">
            <a:avLst/>
          </a:prstGeom>
          <a:ln w="0">
            <a:noFill/>
          </a:ln>
        </p:spPr>
      </p:pic>
      <p:sp>
        <p:nvSpPr>
          <p:cNvPr id="85" name="矩形 25604"/>
          <p:cNvSpPr txBox="1"/>
          <p:nvPr/>
        </p:nvSpPr>
        <p:spPr>
          <a:xfrm>
            <a:off x="3200400" y="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1" lang="en-US" sz="24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         </a:t>
            </a:r>
            <a:r>
              <a:rPr b="1" lang="zh-CN" sz="32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这时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列宁</a:t>
            </a:r>
            <a:r>
              <a:rPr b="1" lang="zh-CN" sz="32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看见一个小男孩，就问：“孩子，你看见过一只深红色胸脯的灰雀吗？”</a:t>
            </a:r>
            <a:br>
              <a:rPr sz="3200"/>
            </a:br>
            <a:r>
              <a:rPr b="1" lang="zh-CN" sz="32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男孩</a:t>
            </a:r>
            <a:r>
              <a:rPr b="1" lang="zh-CN" sz="32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说：“没看见，我没看见。”</a:t>
            </a:r>
            <a:br>
              <a:rPr sz="3200"/>
            </a:br>
            <a:r>
              <a:rPr b="1" lang="zh-CN" sz="32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列宁</a:t>
            </a:r>
            <a:r>
              <a:rPr b="1" lang="zh-CN" sz="32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说：“那一定是飞走了或者是冻死了。天气严寒，它怕冷。”</a:t>
            </a:r>
            <a:br>
              <a:rPr sz="3200"/>
            </a:br>
            <a:r>
              <a:rPr b="1" lang="zh-CN" sz="32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那个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男孩</a:t>
            </a:r>
            <a:r>
              <a:rPr b="1" lang="zh-CN" sz="32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本来想告诉列宁灰雀没有死，但又不敢讲。</a:t>
            </a:r>
            <a:br>
              <a:rPr sz="3200"/>
            </a:br>
            <a:r>
              <a:rPr b="1" lang="zh-CN" sz="32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列宁</a:t>
            </a:r>
            <a:r>
              <a:rPr b="1" lang="zh-CN" sz="32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自言自语地说：“多好的灰雀呀，可惜再也不会飞回来了。”</a:t>
            </a:r>
            <a:br>
              <a:rPr sz="3200"/>
            </a:br>
            <a:r>
              <a:rPr b="1" lang="zh-CN" sz="32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男孩</a:t>
            </a:r>
            <a:r>
              <a:rPr b="1" lang="zh-CN" sz="32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看看列宁，说：“会飞回来的，一定会飞回来的。它还活着。”</a:t>
            </a:r>
            <a:br>
              <a:rPr sz="3200"/>
            </a:br>
            <a:r>
              <a:rPr b="1" lang="zh-CN" sz="32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列宁</a:t>
            </a:r>
            <a:r>
              <a:rPr b="1" lang="zh-CN" sz="32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问：“会飞回来？” </a:t>
            </a:r>
            <a:br>
              <a:rPr sz="3200"/>
            </a:br>
            <a:r>
              <a:rPr b="1" lang="zh-CN" sz="32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“一定会飞回来的！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男孩</a:t>
            </a:r>
            <a:r>
              <a:rPr b="1" lang="zh-CN" sz="32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肯定地说。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437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问题一：灰雀回去了，男孩为什么还低着头？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问题二：列宁为什么不问男孩，却问不会说话的灰雀？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520" y="4343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Times New Roman"/>
                <a:ea typeface="华文隶书"/>
              </a:rPr>
              <a:t>问题三：为什么列宁认为男孩是个诚实的孩子？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矩形 21507"/>
          <p:cNvSpPr txBox="1"/>
          <p:nvPr/>
        </p:nvSpPr>
        <p:spPr>
          <a:xfrm>
            <a:off x="533520" y="3049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讨论：</a:t>
            </a:r>
            <a:endParaRPr b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8198" descr="彩灯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197" descr="画笔1"/>
          <p:cNvPicPr/>
          <p:nvPr/>
        </p:nvPicPr>
        <p:blipFill>
          <a:blip r:embed="rId3"/>
          <a:stretch/>
        </p:blipFill>
        <p:spPr>
          <a:xfrm>
            <a:off x="6095880" y="609480"/>
            <a:ext cx="925560" cy="1154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扩展一：聪明的同学们：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华文楷体"/>
              </a:rPr>
              <a:t>        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华文楷体"/>
              </a:rPr>
              <a:t>课文中写了第一天列宁和男孩关于那只失踪了的灰雀的对话，紧接着直接写了第二天两人果然又看到那只灰雀的情景。这中间发生了什么事情？男孩想了些什么？做了些什么？请根据你的想象把它写下来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3" name="图片 8202" descr="按钮10"/>
          <p:cNvPicPr/>
          <p:nvPr/>
        </p:nvPicPr>
        <p:blipFill>
          <a:blip r:embed="rId4"/>
          <a:stretch/>
        </p:blipFill>
        <p:spPr>
          <a:xfrm>
            <a:off x="8229600" y="563868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1267" descr="彩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宋体"/>
              </a:rPr>
              <a:t>续写：</a:t>
            </a: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28240" y="19047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a947e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99"/>
                </a:solidFill>
                <a:latin typeface="华文楷体"/>
                <a:ea typeface="华文楷体"/>
              </a:rPr>
              <a:t>那个男孩回到家中后，走到阳台上，望着笼中的小鸟，小鸟的样子是那么凄惨：耷拉着它那无精打采的脑袋，翅膀也无力地拖着，也听不到它那欢快的歌声了。小男孩不禁想起列宁的话：“多好的灰雀呀，可惜再也不会飞回来了。”脸一下子红了。男孩心想：那么美丽的灰雀，不应该关在笼子里，应该和它的伙伴一起生活在大自然中，用欢快的歌声迎接每一个清晨，去沐浴温暖的阳光。想到这，他马上打开鸟笼，把小鸟捧出来，让它自由地飞走了。因为他知道，小鸟一定会飞回去的。</a:t>
            </a:r>
            <a:r>
              <a:rPr b="1" lang="zh-CN" sz="2800" spc="-1" strike="noStrike">
                <a:solidFill>
                  <a:srgbClr val="aa947e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矩形 11268"/>
          <p:cNvSpPr txBox="1"/>
          <p:nvPr/>
        </p:nvSpPr>
        <p:spPr>
          <a:xfrm>
            <a:off x="533520" y="990720"/>
            <a:ext cx="2514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续写：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243" descr="彩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ff"/>
                </a:solidFill>
                <a:latin typeface="华文隶书"/>
                <a:ea typeface="华文隶书"/>
              </a:rPr>
              <a:t>扩展二：续写《灰雀》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ff"/>
                </a:solidFill>
                <a:latin typeface="华文隶书"/>
                <a:ea typeface="华文隶书"/>
              </a:rPr>
              <a:t>        </a:t>
            </a:r>
            <a:r>
              <a:rPr b="1" lang="zh-CN" sz="5400" spc="-1" strike="noStrike">
                <a:solidFill>
                  <a:srgbClr val="00ccff"/>
                </a:solidFill>
                <a:latin typeface="华文隶书"/>
                <a:ea typeface="华文隶书"/>
              </a:rPr>
              <a:t>后来列宁、男孩和灰雀之间又发生了什么事？发挥你的想象，并把它写下来！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41" name="图片 10246" descr="画笔"/>
          <p:cNvPicPr/>
          <p:nvPr/>
        </p:nvPicPr>
        <p:blipFill>
          <a:blip r:embed="rId2"/>
          <a:stretch/>
        </p:blipFill>
        <p:spPr>
          <a:xfrm>
            <a:off x="3124080" y="4419720"/>
            <a:ext cx="36576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2291" descr="彩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81080" y="609120"/>
            <a:ext cx="7772400" cy="114300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ff"/>
                </a:solidFill>
                <a:latin typeface="Times New Roman"/>
                <a:ea typeface="华文隶书"/>
              </a:rPr>
              <a:t>扩展三：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2133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ff"/>
                </a:solidFill>
                <a:latin typeface="Times New Roman"/>
                <a:ea typeface="华文隶书"/>
              </a:rPr>
              <a:t>          </a:t>
            </a:r>
            <a:r>
              <a:rPr b="1" lang="zh-CN" sz="5400" spc="-1" strike="noStrike">
                <a:solidFill>
                  <a:srgbClr val="00ccff"/>
                </a:solidFill>
                <a:latin typeface="Times New Roman"/>
                <a:ea typeface="华文隶书"/>
              </a:rPr>
              <a:t>自找伙伴分角色表演课本剧，看谁演得最棒！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5" name="图片 12292" descr="3猫"/>
          <p:cNvPicPr/>
          <p:nvPr/>
        </p:nvPicPr>
        <p:blipFill>
          <a:blip r:embed="rId2"/>
          <a:stretch/>
        </p:blipFill>
        <p:spPr>
          <a:xfrm>
            <a:off x="6477120" y="3733920"/>
            <a:ext cx="237780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20481" descr="彩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矩形 20482"/>
          <p:cNvSpPr txBox="1"/>
          <p:nvPr/>
        </p:nvSpPr>
        <p:spPr>
          <a:xfrm>
            <a:off x="609480" y="838080"/>
            <a:ext cx="2362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扩展四：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8" name="矩形 20483"/>
          <p:cNvSpPr txBox="1"/>
          <p:nvPr/>
        </p:nvSpPr>
        <p:spPr>
          <a:xfrm>
            <a:off x="-533520" y="25146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    </a:t>
            </a: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搜集关于诚实的小故事！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9" name="图片 20486" descr="f"/>
          <p:cNvPicPr/>
          <p:nvPr/>
        </p:nvPicPr>
        <p:blipFill>
          <a:blip r:embed="rId2"/>
          <a:stretch/>
        </p:blipFill>
        <p:spPr>
          <a:xfrm>
            <a:off x="7848720" y="3352680"/>
            <a:ext cx="971280" cy="2651400"/>
          </a:xfrm>
          <a:prstGeom prst="rect">
            <a:avLst/>
          </a:prstGeom>
          <a:ln w="0">
            <a:noFill/>
          </a:ln>
        </p:spPr>
      </p:pic>
      <p:sp>
        <p:nvSpPr>
          <p:cNvPr id="150" name="矩形 20488"/>
          <p:cNvSpPr txBox="1"/>
          <p:nvPr/>
        </p:nvSpPr>
        <p:spPr>
          <a:xfrm>
            <a:off x="3200400" y="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淘课件网 </a:t>
            </a:r>
            <a:r>
              <a:rPr b="0" lang="en-US" sz="24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ww.taokejian.com</a:t>
            </a:r>
            <a:endParaRPr b="0" lang="en-US" sz="24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28673"/>
          <p:cNvSpPr txBox="1"/>
          <p:nvPr/>
        </p:nvSpPr>
        <p:spPr>
          <a:xfrm>
            <a:off x="1258920" y="1341360"/>
            <a:ext cx="5905440" cy="23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淘课件网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矩形 28674"/>
          <p:cNvSpPr txBox="1"/>
          <p:nvPr/>
        </p:nvSpPr>
        <p:spPr>
          <a:xfrm>
            <a:off x="1476360" y="3716280"/>
            <a:ext cx="619128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ww.taokejian.com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文本框 28675"/>
          <p:cNvSpPr/>
          <p:nvPr/>
        </p:nvSpPr>
        <p:spPr>
          <a:xfrm>
            <a:off x="1476360" y="501336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淘课件网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免费提供课件、教案、试题、论文、计划、总结、说课、反思、手抄报、等资源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并且所有资料无须注册免费下载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63634"/>
                </a:solidFill>
                <a:latin typeface="Arial"/>
              </a:rPr>
              <a:t>淘课件网</a:t>
            </a:r>
            <a:r>
              <a:rPr b="0" lang="zh-CN" sz="1800" spc="-1" strike="noStrike">
                <a:solidFill>
                  <a:srgbClr val="463634"/>
                </a:solidFill>
                <a:latin typeface="Arial"/>
              </a:rPr>
              <a:t>是您永远的学习伴侣</a:t>
            </a:r>
            <a:r>
              <a:rPr b="0" lang="en-US" sz="1800" spc="-1" strike="noStrike">
                <a:solidFill>
                  <a:srgbClr val="463634"/>
                </a:solidFill>
                <a:latin typeface="Arial"/>
              </a:rPr>
              <a:t>!</a:t>
            </a:r>
            <a:endParaRPr b="1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29697">
            <a:hlinkClick r:id="rId1"/>
          </p:cNvPr>
          <p:cNvSpPr/>
          <p:nvPr/>
        </p:nvSpPr>
        <p:spPr>
          <a:xfrm>
            <a:off x="946080" y="314172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ttp://www.taokejian.com/soft/174/list174_1.html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矩形 29698"/>
          <p:cNvSpPr txBox="1"/>
          <p:nvPr/>
        </p:nvSpPr>
        <p:spPr>
          <a:xfrm>
            <a:off x="1258920" y="1052640"/>
            <a:ext cx="64008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学三年级语文全册课件下载地址：</a:t>
            </a:r>
            <a:endParaRPr b="1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文本框 29699"/>
          <p:cNvSpPr/>
          <p:nvPr/>
        </p:nvSpPr>
        <p:spPr>
          <a:xfrm>
            <a:off x="4242960" y="450864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Arial"/>
              </a:rPr>
              <a:t>每一课的都有好几个课件供您选，快用上面的地址去下载吧</a:t>
            </a:r>
            <a:r>
              <a:rPr b="1" lang="en-US" sz="2400" spc="-1" strike="noStrike">
                <a:solidFill>
                  <a:srgbClr val="463634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457200"/>
            <a:ext cx="4267080" cy="78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列宁（</a:t>
            </a:r>
            <a:r>
              <a:rPr b="1" lang="zh-CN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1870-1924</a:t>
            </a:r>
            <a:r>
              <a:rPr b="1" lang="zh-CN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年）是全世界无产阶级的革命导师和领袖，马克思主义理论家，俄国共产党和苏维埃社会主义共和国的主要创建人。他出生在俄国伏尔加河边的辛比尔斯克。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1924</a:t>
            </a:r>
            <a:r>
              <a:rPr b="1" lang="zh-CN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年</a:t>
            </a:r>
            <a:r>
              <a:rPr b="1" lang="zh-CN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月</a:t>
            </a:r>
            <a:r>
              <a:rPr b="1" lang="zh-CN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21</a:t>
            </a:r>
            <a:r>
              <a:rPr b="1" lang="zh-CN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日，因脑溢血去世。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图片 19459" descr="liening4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099" descr="彩灯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097" descr="10149186_279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609480"/>
            <a:ext cx="4191120" cy="56390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098" descr="i"/>
          <p:cNvPicPr/>
          <p:nvPr/>
        </p:nvPicPr>
        <p:blipFill>
          <a:blip r:embed="rId5"/>
          <a:stretch/>
        </p:blipFill>
        <p:spPr>
          <a:xfrm>
            <a:off x="7696080" y="457200"/>
            <a:ext cx="125748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矩形 4100"/>
          <p:cNvSpPr txBox="1"/>
          <p:nvPr/>
        </p:nvSpPr>
        <p:spPr>
          <a:xfrm>
            <a:off x="5867280" y="685800"/>
            <a:ext cx="1600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aa947e"/>
                  </a:solidFill>
                  <a:round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灰雀</a:t>
            </a:r>
            <a:endParaRPr b="1" lang="en-US" sz="2400" spc="1" strike="noStrike">
              <a:ln w="9360">
                <a:solidFill>
                  <a:srgbClr val="aa947e"/>
                </a:solidFill>
                <a:round/>
              </a:ln>
              <a:solidFill>
                <a:srgbClr val="00cc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43040" y="18288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aa947e"/>
                </a:solidFill>
                <a:latin typeface="华文隶书"/>
                <a:ea typeface="华文隶书"/>
              </a:rPr>
              <a:t>         </a:t>
            </a:r>
            <a:r>
              <a:rPr b="1" lang="zh-CN" sz="3200" spc="-1" strike="noStrike">
                <a:solidFill>
                  <a:srgbClr val="99ccff"/>
                </a:solidFill>
                <a:latin typeface="华文隶书"/>
                <a:ea typeface="华文隶书"/>
              </a:rPr>
              <a:t>灰雀，是一种鸟，体形小，像麻雀，羽色多样。鸣声悦耳，可以喂养观赏。野生的灰雀一群一群住在河谷、溪流、树林中。食桦树、柳树、榆树的叶子和种子。课文中说的灰雀为红腹灰雀，在我国东北小兴安岭和乌苏里江一带都能见到。</a:t>
            </a:r>
            <a:br>
              <a:rPr sz="3200"/>
            </a:b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7" name="图片 6147" descr="彩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148" descr="10149186_28000"/>
          <p:cNvPicPr/>
          <p:nvPr/>
        </p:nvPicPr>
        <p:blipFill>
          <a:blip r:embed="rId2"/>
          <a:stretch/>
        </p:blipFill>
        <p:spPr>
          <a:xfrm>
            <a:off x="152280" y="609480"/>
            <a:ext cx="4343400" cy="5639040"/>
          </a:xfrm>
          <a:prstGeom prst="rect">
            <a:avLst/>
          </a:prstGeom>
          <a:ln w="0">
            <a:noFill/>
          </a:ln>
        </p:spPr>
      </p:pic>
      <p:pic>
        <p:nvPicPr>
          <p:cNvPr id="99" name="矩形 6151" descr=""/>
          <p:cNvPicPr/>
          <p:nvPr/>
        </p:nvPicPr>
        <p:blipFill>
          <a:blip r:embed="rId3"/>
          <a:stretch/>
        </p:blipFill>
        <p:spPr>
          <a:xfrm>
            <a:off x="4572000" y="1214280"/>
            <a:ext cx="4157640" cy="46069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152" descr="按钮21"/>
          <p:cNvPicPr/>
          <p:nvPr/>
        </p:nvPicPr>
        <p:blipFill>
          <a:blip r:embed="rId4"/>
          <a:stretch/>
        </p:blipFill>
        <p:spPr>
          <a:xfrm>
            <a:off x="8001000" y="5486400"/>
            <a:ext cx="9032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郊外      散步      胸脯</a:t>
            </a:r>
            <a:br>
              <a:rPr sz="6600"/>
            </a:br>
            <a:r>
              <a:rPr b="1" lang="zh-CN" sz="6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仰望      一定      或者  但是     肯定      面包</a:t>
            </a:r>
            <a:br>
              <a:rPr sz="6600"/>
            </a:br>
            <a:r>
              <a:rPr b="1" lang="zh-CN" sz="6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自言自语     欢蹦乱跳     惹人喜爱</a:t>
            </a:r>
            <a:endParaRPr b="0" i="1" lang="en-US" sz="6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3" name="图片 7172" descr="小鸟"/>
          <p:cNvPicPr/>
          <p:nvPr/>
        </p:nvPicPr>
        <p:blipFill>
          <a:blip r:embed="rId2"/>
          <a:stretch/>
        </p:blipFill>
        <p:spPr>
          <a:xfrm>
            <a:off x="0" y="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7173" descr="音符2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434880"/>
          </a:xfrm>
          <a:prstGeom prst="rect">
            <a:avLst/>
          </a:prstGeom>
          <a:ln w="0">
            <a:noFill/>
          </a:ln>
        </p:spPr>
      </p:pic>
      <p:sp>
        <p:nvSpPr>
          <p:cNvPr id="105" name="矩形 7175"/>
          <p:cNvSpPr txBox="1"/>
          <p:nvPr/>
        </p:nvSpPr>
        <p:spPr>
          <a:xfrm>
            <a:off x="1600200" y="3808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看谁认得准：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6" name="矩形 7176"/>
          <p:cNvSpPr txBox="1"/>
          <p:nvPr/>
        </p:nvSpPr>
        <p:spPr>
          <a:xfrm>
            <a:off x="3200400" y="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淘课件网 </a:t>
            </a:r>
            <a:r>
              <a:rPr b="1" lang="en-US" sz="24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ww.taokejian.com</a:t>
            </a:r>
            <a:endParaRPr b="1" lang="en-US" sz="24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533880"/>
            <a:ext cx="9296280" cy="81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第三段：</a:t>
            </a:r>
            <a:r>
              <a:rPr b="1" lang="zh-CN" sz="44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这时，列宁看见一个小男孩，就问：“孩子，你看见过一只深红色胸脯的灰雀吗？”</a:t>
            </a:r>
            <a:br>
              <a:rPr sz="44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第五段：</a:t>
            </a:r>
            <a:r>
              <a:rPr b="1" lang="zh-CN" sz="44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列宁说：“那一定是飞走了或者是冻死了。天气严寒，它怕冷。”</a:t>
            </a:r>
            <a:br>
              <a:rPr sz="44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第七段：</a:t>
            </a:r>
            <a:r>
              <a:rPr b="1" lang="zh-CN" sz="44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列宁自言自语地说：“多好的灰雀呀，可惜再也不会飞回来了。”</a:t>
            </a:r>
            <a:br>
              <a:rPr sz="44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第九段：</a:t>
            </a:r>
            <a:r>
              <a:rPr b="1" lang="zh-CN" sz="4400" spc="-1" strike="noStrike">
                <a:solidFill>
                  <a:srgbClr val="1a0272"/>
                </a:solidFill>
                <a:latin typeface="Times New Roman"/>
                <a:ea typeface="华文楷体"/>
              </a:rPr>
              <a:t>列宁问：“会飞回来？”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  <a:ea typeface="华文楷体"/>
              </a:rPr>
              <a:t>          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9448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760205"/>
                </a:solidFill>
                <a:latin typeface="华文楷体"/>
                <a:ea typeface="华文楷体"/>
              </a:rPr>
              <a:t>试着填一填：</a:t>
            </a:r>
            <a:endParaRPr b="0" lang="en-US" sz="6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60205"/>
                </a:solidFill>
                <a:latin typeface="华文楷体"/>
                <a:ea typeface="华文楷体"/>
              </a:rPr>
              <a:t>  </a:t>
            </a:r>
            <a:endParaRPr b="0" lang="en-US" sz="6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60205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760205"/>
                </a:solidFill>
                <a:latin typeface="华文楷体"/>
                <a:ea typeface="华文楷体"/>
              </a:rPr>
              <a:t>列宁（          ）说：“多好的灰雀呀，（     ）再也不会飞回来了。”</a:t>
            </a:r>
            <a:endParaRPr b="0" lang="en-US" sz="6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矩形 22531"/>
          <p:cNvSpPr txBox="1"/>
          <p:nvPr/>
        </p:nvSpPr>
        <p:spPr>
          <a:xfrm>
            <a:off x="2895480" y="2895480"/>
            <a:ext cx="2333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楷体"/>
              </a:rPr>
              <a:t>自言自语地</a:t>
            </a:r>
            <a:endParaRPr b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112" name="矩形 22532"/>
          <p:cNvSpPr txBox="1"/>
          <p:nvPr/>
        </p:nvSpPr>
        <p:spPr>
          <a:xfrm>
            <a:off x="6248520" y="3809880"/>
            <a:ext cx="108576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楷体"/>
              </a:rPr>
              <a:t>可惜</a:t>
            </a:r>
            <a:endParaRPr b="1" lang="en-US" sz="24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620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第四段：</a:t>
            </a:r>
            <a:r>
              <a:rPr b="1" lang="zh-CN" sz="4400" spc="-1" strike="noStrike">
                <a:solidFill>
                  <a:srgbClr val="795241"/>
                </a:solidFill>
                <a:latin typeface="Times New Roman"/>
                <a:ea typeface="华文楷体"/>
              </a:rPr>
              <a:t> </a:t>
            </a:r>
            <a:r>
              <a:rPr b="1" lang="zh-CN" sz="44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男孩说：“没看见，我没看见。”</a:t>
            </a:r>
            <a:br>
              <a:rPr sz="44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第六段：</a:t>
            </a:r>
            <a:r>
              <a:rPr b="1" lang="zh-CN" sz="44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那个男孩本来想告诉列宁灰雀没有死，但又不敢讲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第八段：</a:t>
            </a:r>
            <a:r>
              <a:rPr b="1" lang="zh-CN" sz="44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男孩看看列宁，说：“会飞回来的，一定会飞回来的。它还活着。”</a:t>
            </a:r>
            <a:br>
              <a:rPr sz="44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第十段：</a:t>
            </a:r>
            <a:r>
              <a:rPr b="1" lang="zh-CN" sz="4400" spc="-1" strike="noStrike">
                <a:solidFill>
                  <a:srgbClr val="1f0260"/>
                </a:solidFill>
                <a:latin typeface="Times New Roman"/>
                <a:ea typeface="华文楷体"/>
              </a:rPr>
              <a:t>“一定会飞回来的！”男孩肯定地说。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直接连接符 1027"/>
          <p:cNvSpPr/>
          <p:nvPr/>
        </p:nvSpPr>
        <p:spPr>
          <a:xfrm>
            <a:off x="5105520" y="114300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直接连接符 1030"/>
          <p:cNvSpPr/>
          <p:nvPr/>
        </p:nvSpPr>
        <p:spPr>
          <a:xfrm>
            <a:off x="5943600" y="31240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直接连接符 1032"/>
          <p:cNvSpPr/>
          <p:nvPr/>
        </p:nvSpPr>
        <p:spPr>
          <a:xfrm>
            <a:off x="1600200" y="6477120"/>
            <a:ext cx="198108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直接连接符 1033"/>
          <p:cNvSpPr/>
          <p:nvPr/>
        </p:nvSpPr>
        <p:spPr>
          <a:xfrm>
            <a:off x="4038480" y="44956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直接连接符 1035"/>
          <p:cNvSpPr/>
          <p:nvPr/>
        </p:nvSpPr>
        <p:spPr>
          <a:xfrm>
            <a:off x="990720" y="1828800"/>
            <a:ext cx="144756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20" name="图片 1036" descr="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257800"/>
            <a:ext cx="1163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1f0260"/>
              </a:solidFill>
              <a:latin typeface="Times New Roman"/>
              <a:ea typeface="华文楷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3059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孩子，你看见过一只深红色胸脯的灰雀吗？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没看见，我没看见。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那一定是飞走了或者是冻死了。天气严寒，它怕冷。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多好的灰雀呀，可惜再也不会飞回来了。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会飞回来的，一定会飞回来的。它还活着。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会飞回来？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楷体"/>
              </a:rPr>
              <a:t>一定会飞回来的！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23" name="图片 23555" descr="a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6151680"/>
            <a:ext cx="10591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4T09:23:52Z</dcterms:created>
  <dc:creator/>
  <dc:description>淘课件网 http://www.taokejian.com
</dc:description>
  <dc:language>en-US</dc:language>
  <cp:lastModifiedBy>wuhan</cp:lastModifiedBy>
  <dcterms:modified xsi:type="dcterms:W3CDTF">2017-09-04T09:25:01Z</dcterms:modified>
  <cp:revision>16</cp:revision>
  <dc:subject/>
  <dc:title>淘课件网 http://www.taokej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