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himes.wav" ContentType="audio/x-wav"/>
  <Override PartName="/ppt/media/image8.png" ContentType="image/png"/>
  <Override PartName="/ppt/media/type.wav" ContentType="audio/x-wav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64A-B5FB-42D5-91D7-0F68F58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4B9-084D-4DAA-B25E-F441CEE5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192-8239-49C1-927C-0E3F6F83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800-18FA-4E87-B8D4-2AF84502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3250-FAAC-470F-B974-B9379CDC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E6F7-95C8-4F5A-A5B5-5B6FD056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FD6B-6299-48EC-B118-D54127E9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1AFA-4359-4C38-921A-A21E0EED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4688-2166-4D0A-9981-7CE0D5F2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C58D-C83C-403D-B887-C8419E42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B436-94D8-4C92-AAC8-BCCD906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DDC-FB99-4E82-9DA0-2901EBBF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0D57-2F16-473E-A633-0324896F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3F1F-8EAC-405D-B960-513A1CA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4583-15B4-4FF2-B457-A706F5DA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7861-E866-4057-829C-8B51F22C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D962-039B-4E90-B409-FA61E1A6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BE99-7C89-4756-B7F8-35D103FF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2470E-7666-41DA-A20E-274E310E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F9748-76AC-4BEC-B847-866F7B2D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46A9-A8C8-434E-BFF0-40B69754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B18F-9931-42F3-B624-9C4E845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502-8579-4FFB-A680-C4CEB263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9A19-FD75-4E0B-A417-DD240C6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21AF-5A18-44D4-9802-3C05452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31B0-FE4A-4EE5-BDCD-7F107D0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BFA4-FE2A-4A4F-BB50-A8CCED1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D0A0-4E15-4D38-9EF6-E7362A5D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2B33-DCBE-4A4F-B965-9F4A8BAF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E013-9C5A-4140-B885-82F5C28D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6314-24D1-4153-B160-678912B9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2203-AA89-47B9-8C56-CB6C1D92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D195-B5FF-4391-ADE6-440685D0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4C5-9279-4C37-943E-412D08C7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5DF6B-B961-4C9D-A009-8A0756B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745D-AD37-4912-9865-3BB4F6DD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7487-01FF-4812-8081-3A88FE11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8AEA-34E3-4DDD-8517-2DE82A2F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1375-7E5D-48DF-A67A-98D127E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B3E18-B9BC-4C28-983C-57DE91DA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3DDB-959B-4460-8B1F-46BAE5AD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7DD47-6AF4-4E77-8DB5-A5B083E3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28DE7-4F87-4CE6-8475-A32DD8B2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6567-ACA7-4899-BEA5-A5587E64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9C7-EB1B-4603-A5F3-B6640A8F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447F1-DB44-416A-AB28-89A7A444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E614-9B3B-4062-9A09-3D8D716D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762E2-44B7-4E02-9E2C-F80F5F1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6A85C-3A68-49C9-8EA5-E1EED4AE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B213E-9CB3-4BE2-81E9-D15B36B4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768BA-5A30-4151-896F-1EC1845F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0975-51BF-4089-A4EE-E6B866BF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291FC-9E72-41BE-AFC4-4BF368C5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71B8-34DC-427D-B2E1-0B28EF2F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53859-DBAF-45B4-B1C3-E53B9CE7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DA2-6E46-4899-9607-AEC18E05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66DC-2613-4E7E-AC03-736611EF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38B-E494-47F8-96D8-D2BD32A7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C04-5E62-4E6B-8334-77C4D8C8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9B7-8C3C-40F5-AD6A-F6BC30CD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B7DB-7CDD-4358-A514-9E0AC8E0B5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5B73-0ED6-4765-851D-43592C4860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A269-5D69-4D78-AE1A-A94074F05E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23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69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83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97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11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5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39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34320" y="-4680"/>
            <a:ext cx="2317680" cy="2060280"/>
            <a:chOff x="6934320" y="-4680"/>
            <a:chExt cx="2317680" cy="2060280"/>
          </a:xfrm>
        </p:grpSpPr>
        <p:sp>
          <p:nvSpPr>
            <p:cNvPr id="353" name="未知"/>
            <p:cNvSpPr/>
            <p:nvPr/>
          </p:nvSpPr>
          <p:spPr>
            <a:xfrm>
              <a:off x="7041600" y="-4680"/>
              <a:ext cx="2102760" cy="19105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934320" y="1800"/>
              <a:ext cx="2317680" cy="2053800"/>
              <a:chOff x="6934320" y="1800"/>
              <a:chExt cx="2317680" cy="2053800"/>
            </a:xfrm>
          </p:grpSpPr>
          <p:sp>
            <p:nvSpPr>
              <p:cNvPr id="355" name="未知"/>
              <p:cNvSpPr/>
              <p:nvPr/>
            </p:nvSpPr>
            <p:spPr>
              <a:xfrm>
                <a:off x="7045200" y="180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6934320" y="1800"/>
                <a:ext cx="2317680" cy="20538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7485120" y="96732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7314120" y="1055520"/>
                <a:ext cx="162720" cy="28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7211520" y="47880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7818120" y="1163880"/>
                <a:ext cx="383760" cy="39168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>
                <a:off x="8701200" y="7671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8831880" y="75204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8820360" y="90180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8566200" y="103644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8625960" y="115992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>
                <a:off x="859860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>
                <a:off x="8895600" y="1101960"/>
                <a:ext cx="257400" cy="64980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BACB-BCA1-4226-B49C-BE1A82C057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11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25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1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82FF-A596-4897-B231-CA0FBF0C91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75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34920" y="-2376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826920" y="126828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天，列宁来到白桦树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果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看到那只灰雀欢蹦乱跳地在枝头歌唱。那个男孩站在白桦树旁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低着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列宁看看男孩，又看看灰雀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微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着说：“你好！灰雀，昨天你到哪儿去了？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然，灰雀没有告诉列宁昨天它去哪儿了。列宁也没再问那个男孩，因为他已经知道男孩是诚实的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451640" y="6381720"/>
            <a:ext cx="647640" cy="47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2"/>
          <a:srcRect l="7691" t="4639" r="6209" b="14273"/>
          <a:stretch/>
        </p:blipFill>
        <p:spPr>
          <a:xfrm>
            <a:off x="5292720" y="2997360"/>
            <a:ext cx="3635280" cy="36352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4360" y="21337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列宁为什么不问男孩却问灰雀呢？你能替灰雀回答吗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9640" y="3502080"/>
            <a:ext cx="64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男孩一开始就说了谎话，为什么还说他是个诚实的孩子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50920" y="549360"/>
            <a:ext cx="48261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27280" y="7650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最聪明，我知道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187280" y="198900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学完了课文，你最想说的是什么？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164360" y="5229360"/>
            <a:ext cx="94464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1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2765520" y="0"/>
            <a:ext cx="6378480" cy="6840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68800" y="4149720"/>
            <a:ext cx="458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16080" y="5362560"/>
            <a:ext cx="4590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5" name="">
            <a:hlinkClick r:id="rId3" action="ppaction://hlinksldjump"/>
          </p:cNvPr>
          <p:cNvSpPr/>
          <p:nvPr/>
        </p:nvSpPr>
        <p:spPr>
          <a:xfrm>
            <a:off x="588600" y="3141720"/>
            <a:ext cx="45486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0066"/>
                </a:solidFill>
                <a:uFillTx/>
                <a:latin typeface="Times New Roman"/>
                <a:ea typeface="华文行楷"/>
              </a:rPr>
              <a:t>三只灰雀闹枝头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0066"/>
                </a:solidFill>
                <a:uFillTx/>
                <a:latin typeface="Times New Roman"/>
                <a:ea typeface="华文行楷"/>
              </a:rPr>
              <a:t>跳跃飞舞唱不休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0066"/>
                </a:solidFill>
                <a:uFillTx/>
                <a:latin typeface="Times New Roman"/>
                <a:ea typeface="华文行楷"/>
              </a:rPr>
              <a:t>灰背红胸惹人爱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0066"/>
                </a:solidFill>
                <a:uFillTx/>
                <a:latin typeface="Times New Roman"/>
                <a:ea typeface="华文行楷"/>
              </a:rPr>
              <a:t>忽然失踪让我忧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548320" cy="5950080"/>
          </a:xfrm>
          <a:prstGeom prst="rect">
            <a:avLst/>
          </a:prstGeom>
          <a:ln w="0">
            <a:noFill/>
          </a:ln>
        </p:spPr>
      </p:pic>
      <p:sp>
        <p:nvSpPr>
          <p:cNvPr id="667" name="">
            <a:hlinkClick r:id="rId2" action="ppaction://hlinksldjump"/>
          </p:cNvPr>
          <p:cNvSpPr/>
          <p:nvPr/>
        </p:nvSpPr>
        <p:spPr>
          <a:xfrm>
            <a:off x="4819680" y="1917720"/>
            <a:ext cx="3717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树下问男孩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灰雀今何在</a:t>
            </a: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保证鸟平安</a:t>
            </a: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赶快放回来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600360" cy="14414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584360" y="2276640"/>
            <a:ext cx="6873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收集列宁或其他名人的故事，读一读，开展讲故事比赛。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887480" y="168120"/>
            <a:ext cx="585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列宁每次走到白桦树下，都要停下来，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仰望这三只欢快的灰雀，还经常给它们带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面包渣和谷粒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84360" y="765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88000" y="765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84720" y="134136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43120" y="5772240"/>
            <a:ext cx="74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     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761120" y="765000"/>
            <a:ext cx="5968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 ，列宁又来到公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到白桦树下，发现那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胸脯深红的灰雀不见了。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周围的树林中找遍了，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没有找到。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72360" y="472608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020000" y="47260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971640" y="1197000"/>
            <a:ext cx="7029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自由轻声读一读课文 </a:t>
            </a: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－</a:t>
            </a: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10</a:t>
            </a: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自然段，用“—”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画</a:t>
            </a: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出列宁说的话，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读</a:t>
            </a: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一读，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体会</a:t>
            </a: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列宁这时的心情。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466560" y="620640"/>
            <a:ext cx="792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时，列宁看见一个小男孩，就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孩子，你看见过一只深红色胸脯的灰雀吗？”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列宁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一定是飞走了或者是冻死了。天气严寒，它怕冷。”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列宁自言自语地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多好的灰雀呀，可惜再也飞不回来了。”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列宁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会飞回来？”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19280" y="1125360"/>
            <a:ext cx="5977080" cy="3816360"/>
          </a:xfrm>
          <a:prstGeom prst="cloudCallout">
            <a:avLst>
              <a:gd name="adj1" fmla="val -39939"/>
              <a:gd name="adj2" fmla="val 79407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四处找遍了也不见鸟儿的踪影，这是列宁说的每一句话都包含着什么样的心情呢？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再读，体会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828800" y="1981080"/>
            <a:ext cx="5715000" cy="2667240"/>
          </a:xfrm>
          <a:prstGeom prst="cloudCallout">
            <a:avLst>
              <a:gd name="adj1" fmla="val -24500"/>
              <a:gd name="adj2" fmla="val 89166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聪明的孩子，有谁知道灰雀到底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去了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哪里了？你从课文哪儿看出来的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1280" y="1125360"/>
            <a:ext cx="82105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男孩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没……我没看见。”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男孩看着列宁，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会飞回来的，一定会飞回来的。它还活着。”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定会飞回来！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男孩肯定地说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10680000">
            <a:off x="1584360" y="4528800"/>
            <a:ext cx="5324400" cy="178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27280" y="47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时候，小男孩在想什么呢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24000" y="2565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男孩为什么要捉走这只灰雀？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56000" y="765000"/>
            <a:ext cx="3384360" cy="1440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92360" y="90792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讨论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4360" y="3573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他对灰雀的喜爱和列宁对灰雀的喜爱有什么不同？你赞同谁的做法？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826920" y="765000"/>
            <a:ext cx="792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时，列宁看见一个小男孩，就问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：“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孩子，你看见过一只深红色胸脯的灰雀吗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？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男孩说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：“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没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我没看见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宁说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：“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那一定是飞走了或者冻死了。天气严寒，它怕冷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个男孩本来想告诉列宁灰雀没有死，但又不敢讲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宁自言自语地说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：“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多好的灰雀呀，可惜再也不会飞回来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男孩看看列宁，说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：“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会飞回来的，一定会飞回来的。它还活着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宁问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：“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会飞回来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？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 “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一定会飞回来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！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男孩肯定地说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044720" y="907920"/>
            <a:ext cx="740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孩子，你看见过一只深红色胸脯的灰雀吗？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没……我没看见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一定是飞走了或者冻死了。天气严寒，它怕冷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好的灰雀呀，可惜再也不会飞回来了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会飞回来的，一定会飞回来的。它还活着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飞回来？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定会飞回来！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7:33:16Z</dcterms:created>
  <dc:creator/>
  <dc:description/>
  <cp:keywords/>
  <dc:language>en-US</dc:language>
  <cp:lastModifiedBy>User</cp:lastModifiedBy>
  <cp:lastPrinted>1899-12-30T00:00:00Z</cp:lastPrinted>
  <dcterms:modified xsi:type="dcterms:W3CDTF">2011-10-10T10:48:42Z</dcterms:modified>
  <cp:revision>1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