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C1EC-5445-42D4-82FB-180DEC6F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FB1F-FFCE-4706-94BD-09F482CC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0909-8DD6-4B7E-9289-535FE0BA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26DD-8254-441D-9E99-0ACAAFFB3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000F-5001-4118-8138-41B3358A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D028-8144-4F54-BB8B-E45B78F5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B36C-0F30-4664-858A-E42A1AC7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F50A-CA71-4176-B773-D48B8447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EEC6-9D5E-452D-B403-487682A8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E939-97C3-4AEB-BB8A-3C2BCE9B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BE58-AF85-4206-A4F6-8A6E3907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2D85-3290-413C-97CD-08FE0F30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2DDE-6E43-4B22-BA3F-077B362BF610}" type="slidenum">
              <a:rPr b="0" lang="fr-FR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27280" y="1197000"/>
            <a:ext cx="4392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  <a:ea typeface="宋体"/>
              </a:rPr>
              <a:t>Wedding</a:t>
            </a:r>
            <a:br>
              <a:rPr sz="4800"/>
            </a:br>
            <a:r>
              <a:rPr b="1" lang="fr-FR" sz="4800" spc="-1" strike="noStrike">
                <a:solidFill>
                  <a:srgbClr val="000000"/>
                </a:solidFill>
                <a:latin typeface="Arial"/>
                <a:ea typeface="宋体"/>
              </a:rPr>
              <a:t> templ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6200" y="475920"/>
            <a:ext cx="6913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宋体"/>
              </a:rPr>
              <a:t>Example of a bullet point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69560" y="2204640"/>
            <a:ext cx="61311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宋体"/>
              </a:rPr>
              <a:t>Sub bu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14:06:24Z</dcterms:created>
  <dc:creator>mourad</dc:creator>
  <dc:description/>
  <dc:language>en-US</dc:language>
  <cp:lastModifiedBy>姚军</cp:lastModifiedBy>
  <dcterms:modified xsi:type="dcterms:W3CDTF">2011-09-10T00:41:55Z</dcterms:modified>
  <cp:revision>42</cp:revision>
  <dc:subject/>
  <dc:title>Diapositive 1</dc:title>
</cp:coreProperties>
</file>