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7F0-5E6D-4F63-A00B-E60A4B6E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7D4C-77D9-481C-AD4E-EE593100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61AB-AE7E-488B-961D-2B4298C9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012-D63F-4FCD-8B21-B45A231B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F4E8-11B0-4872-9C82-ADC793E8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E3A1-B79C-4807-9E00-D25B27A2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2ECC-5082-4F85-8AEF-44064614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7CDF-0D1D-459E-B390-43FBA997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B02D-9AB6-4125-9317-661DC006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6C0-26A3-4A16-BB45-D36A2023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EB31-F7B6-4142-B2F5-39E45F7B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D6C-99FC-4714-940C-490ABEE6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BB4C-5E74-4892-B2F2-691162642132}" type="slidenum">
              <a:rPr b="0" lang="fr-FR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4508640"/>
            <a:ext cx="4608360" cy="19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宋体"/>
              </a:rPr>
              <a:t>WEDDING</a:t>
            </a:r>
            <a:br>
              <a:rPr sz="66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宋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92000" y="907560"/>
            <a:ext cx="54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宋体"/>
              </a:rPr>
              <a:t>Example of a bullet point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2636640"/>
            <a:ext cx="74739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Sub bu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14:06:24Z</dcterms:created>
  <dc:creator>mourad</dc:creator>
  <dc:description/>
  <dc:language>en-US</dc:language>
  <cp:lastModifiedBy>姚军</cp:lastModifiedBy>
  <dcterms:modified xsi:type="dcterms:W3CDTF">2011-09-10T00:41:39Z</dcterms:modified>
  <cp:revision>39</cp:revision>
  <dc:subject/>
  <dc:title>Diapositive 1</dc:title>
</cp:coreProperties>
</file>