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C9C4C-87BE-4F69-B3D5-F476626D4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18546-E689-4042-9441-69D690E0B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BF4D5-B176-4DCE-AAC3-5B1845FB8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AD751-A417-4CDC-8186-3DAD38634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D077D-7D54-4A30-8C17-EBB8ACCE4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3F5F4-8220-4EDB-BF8A-B6BE8F16A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FF00F-F15A-4CDE-88C3-B073E90F9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7CE74-50D6-4783-A2DC-50D17BE11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FEB16-C6D5-4C06-B4D4-790E415F9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21D8E-3A25-4A89-9669-3C518A296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37A8D-BEA5-4C00-95E3-CF91E0C48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DB58D-111B-4EE1-A0DF-D29942924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6107C-6627-4DF6-8EA4-E54146F2C7B7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000" y="907920"/>
            <a:ext cx="460836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Wedding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Plan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Hea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Venue lo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chedule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ating pl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ntact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ate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ress fi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Invi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283520" cy="25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ntent of invite, include names of families, date, time and venue, and wedding messa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2T13:52:35Z</dcterms:created>
  <dc:creator>mourad</dc:creator>
  <dc:description/>
  <dc:language>en-US</dc:language>
  <cp:lastModifiedBy>mourad</cp:lastModifiedBy>
  <dcterms:modified xsi:type="dcterms:W3CDTF">2008-07-15T09:25:02Z</dcterms:modified>
  <cp:revision>7</cp:revision>
  <dc:subject/>
  <dc:title>Wedding Plans</dc:title>
</cp:coreProperties>
</file>