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1B5-FD7F-403C-8F71-3B03BD49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D03-C5CF-45E9-847E-B37A760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6C2-500F-4B66-A286-D29111B6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2E6-C3E9-40AB-ABF6-C59573D5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760-B677-4A0A-90EC-05923AEF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D0E-3C67-49A1-9F44-9A202CD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E69-19CD-45F7-91B1-57D0E78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A66-B587-4EF7-BD67-2C3A461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8A6-A6F3-47AB-8774-1D75A0DC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431-CBD7-490A-B5CA-1EF6F77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0EC-CBF7-496D-934D-B59A3DC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E7E-3783-403D-BBE9-58BB2FB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504-F0BC-40C4-9DB5-483B85A6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532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dding </a:t>
            </a:r>
            <a:br>
              <a:rPr sz="60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773360"/>
            <a:ext cx="6264360" cy="4321080"/>
          </a:xfrm>
          <a:prstGeom prst="foldedCorner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413000"/>
            <a:ext cx="6264360" cy="4321080"/>
          </a:xfrm>
          <a:prstGeom prst="foldedCorner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3:57:43Z</dcterms:created>
  <dc:creator>mourad</dc:creator>
  <dc:description/>
  <dc:language>en-US</dc:language>
  <cp:lastModifiedBy>mourad</cp:lastModifiedBy>
  <dcterms:modified xsi:type="dcterms:W3CDTF">2008-07-09T08:14:00Z</dcterms:modified>
  <cp:revision>4</cp:revision>
  <dc:subject/>
  <dc:title>Diapositive 1</dc:title>
</cp:coreProperties>
</file>