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F201-5BA7-4EFA-B882-43C647CF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84E-FF1D-401B-91F9-75D7C1D8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9FA-055C-4C84-A240-A847DBA1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AF5-9F05-4EEA-99DF-B60354BB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ED9C-2010-4402-BFCE-3FD6F612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9E6-0DA5-4B82-BB36-669E733E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86AF-E0DC-4E3B-A0D2-1E128381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619-C754-4BBD-B29E-02ACE0AB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AE8-F7AD-456A-B975-4C1AF6BA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CF4-7DD0-4FD7-A7A6-9DFACCF5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991D-358A-4C44-A1B2-92C78248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B2A4-8C99-456F-B862-0E7C16BB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DD2A-BB28-45B7-ABA4-FFA66EEA7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468144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dding </a:t>
            </a:r>
            <a:br>
              <a:rPr sz="6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ue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hedule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ting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ess fi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v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invite, include names of families, date, time and venue, and wedding mes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5T08:53:19Z</dcterms:created>
  <dc:creator>mourad</dc:creator>
  <dc:description/>
  <dc:language>en-US</dc:language>
  <cp:lastModifiedBy>mourad</cp:lastModifiedBy>
  <dcterms:modified xsi:type="dcterms:W3CDTF">2008-07-15T09:26:10Z</dcterms:modified>
  <cp:revision>5</cp:revision>
  <dc:subject/>
  <dc:title>Diapositive 1</dc:title>
</cp:coreProperties>
</file>