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B7B-6BCC-4D91-86A8-061212E5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4F8-A213-4036-BEA9-52160A06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E0C-D991-4893-8625-3E43FFB4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511-286F-4CF5-9D9C-23FBE57A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A64-73AC-499E-B4D4-87ACCFFD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40B-A2DD-41F2-84B7-B65F9B8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560-EA94-4A48-86B5-5B686B57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425-3A79-45F6-8956-A84C3CD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C24-32E7-457B-A92E-0F8E4CA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CFA-F75B-430A-AC10-85230C9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B40-8414-42BA-83DA-ED3692B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A9C-21E6-4BFC-BCC1-3E974F7A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0530-67B3-45B6-868E-3840A3AC6CE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484280"/>
            <a:ext cx="44640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  <a:ea typeface="宋体"/>
              </a:rPr>
              <a:t>WEDDING</a:t>
            </a:r>
            <a:br>
              <a:rPr sz="6000"/>
            </a:b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宋体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  <a:ea typeface="宋体"/>
              </a:rPr>
              <a:t>Example of a bullet point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272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4:06:24Z</dcterms:created>
  <dc:creator>mourad</dc:creator>
  <dc:description/>
  <dc:language>en-US</dc:language>
  <cp:lastModifiedBy>姚军</cp:lastModifiedBy>
  <dcterms:modified xsi:type="dcterms:W3CDTF">2011-09-10T00:40:58Z</dcterms:modified>
  <cp:revision>31</cp:revision>
  <dc:subject/>
  <dc:title>Diapositive 1</dc:title>
</cp:coreProperties>
</file>