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270-D759-4F82-9240-2342A7CB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4E93-4275-45DE-8675-1B4E13FD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D5E-FBDF-4787-BE51-6744C725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642-3445-4730-ABDA-47D446C0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0B4-144F-4B2D-B333-512C49E9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D7E-91A6-4C98-BC24-442DD52D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35D-2012-4DFC-A3F5-79D4F9B9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B1C-125C-4A43-862F-D63391B4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85C-7B9E-48E9-A9D2-43E89A46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032-5D54-410D-BD42-4B8C2D21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256-028D-4497-AAEF-5F33F53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836-7628-49E1-9D7E-F638E2FA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2760-538D-46FE-995A-2C20EFD3BD4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4286160"/>
            <a:ext cx="4500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WEDDING 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  <a:ea typeface="宋体"/>
              </a:rPr>
              <a:t>Example of a bullet poin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6800" y="2428560"/>
            <a:ext cx="645156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1:47:34Z</dcterms:created>
  <dc:creator>ounough</dc:creator>
  <dc:description/>
  <dc:language>en-US</dc:language>
  <cp:lastModifiedBy>姚军</cp:lastModifiedBy>
  <dcterms:modified xsi:type="dcterms:W3CDTF">2011-09-10T00:42:43Z</dcterms:modified>
  <cp:revision>8</cp:revision>
  <dc:subject/>
  <dc:title>BACTERIA Template</dc:title>
</cp:coreProperties>
</file>