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464-92F2-4E11-B099-13A4487D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753F-42D5-4F0A-B1C5-D49622C5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6BC-8810-459C-9FB1-82113804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489-3529-4C70-9595-62C08D78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C3E-4A06-4D41-AE4C-48AB7226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40C-9B34-40BE-AF0F-DD709874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08E-4C5D-4567-A306-C7F1DB6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CA6-658F-4288-AC98-8C971CAA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CB2-E733-4E22-B857-6342B0E2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83D-5BB8-4743-AD69-8CD3B1A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17C-0BC5-493B-9D38-684C10B1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64D-B4FC-4D31-B1D4-4010FE38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1E3-1049-4B31-851D-3162D9010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66"/>
                </a:solidFill>
                <a:latin typeface="Arial"/>
              </a:rPr>
              <a:t>Wedding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66"/>
                </a:solidFill>
                <a:latin typeface="Arial"/>
              </a:rPr>
              <a:t>H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3754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Venu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Schedule of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Seat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Ca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95d93"/>
                </a:solidFill>
                <a:latin typeface="Arial"/>
              </a:rPr>
              <a:t>Dress fi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4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66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5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95d93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8:10:08Z</dcterms:created>
  <dc:creator>mourad</dc:creator>
  <dc:description/>
  <dc:language>en-US</dc:language>
  <cp:lastModifiedBy>mourad</cp:lastModifiedBy>
  <dcterms:modified xsi:type="dcterms:W3CDTF">2008-07-15T09:27:11Z</dcterms:modified>
  <cp:revision>5</cp:revision>
  <dc:subject/>
  <dc:title>Title </dc:title>
</cp:coreProperties>
</file>